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9D1-ED55-443E-BB4E-5A760C3F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22C-9391-46FD-B17C-30B13CD1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13E-4BD0-48B9-9245-D1DD3753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416-4E5F-489D-A86A-9C992FBB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4AB-5E5A-4C1B-ACBB-ED068DFC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927-E68E-4FF1-B514-2A91877F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0E7-F90E-4C3A-9DE9-ED4C40C4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075-6E13-4829-8700-ADEA6FA7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415-EF3D-449D-96DD-9FBEC5AB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0FD-0624-451B-A9F8-D7F072C8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07F-956B-41FB-994D-800F50D9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DEE-EFE2-4B21-8935-1162DD9A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5339-8434-4C42-844D-5DE36E23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460520" cy="1014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2920" y="1700280"/>
            <a:ext cx="1849320" cy="17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27280" y="1557360"/>
            <a:ext cx="266076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560" y="3860640"/>
            <a:ext cx="1614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Acetyl-1-pyrr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52283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1640" y="386064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a-carot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528048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1280" y="3860640"/>
            <a:ext cx="8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sby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n.a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2000" y="611352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zed from 400% Mar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5438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609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871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179280" y="2060640"/>
            <a:ext cx="8820360" cy="3024000"/>
            <a:chOff x="179280" y="2060640"/>
            <a:chExt cx="8820360" cy="3024000"/>
          </a:xfrm>
        </p:grpSpPr>
        <p:sp>
          <p:nvSpPr>
            <p:cNvPr id="572" name=""/>
            <p:cNvSpPr/>
            <p:nvPr/>
          </p:nvSpPr>
          <p:spPr>
            <a:xfrm>
              <a:off x="179280" y="2060640"/>
              <a:ext cx="8820360" cy="30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298080" y="2967120"/>
              <a:ext cx="2498760" cy="1739880"/>
              <a:chOff x="298080" y="2967120"/>
              <a:chExt cx="2498760" cy="173988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324720" y="4233960"/>
                <a:ext cx="2268360" cy="380880"/>
              </a:xfrm>
              <a:custGeom>
                <a:avLst/>
                <a:gdLst/>
                <a:ahLst/>
                <a:rect l="l" t="t" r="r" b="b"/>
                <a:pathLst>
                  <a:path w="2858" h="479">
                    <a:moveTo>
                      <a:pt x="2533" y="125"/>
                    </a:moveTo>
                    <a:lnTo>
                      <a:pt x="2527" y="129"/>
                    </a:lnTo>
                    <a:lnTo>
                      <a:pt x="2521" y="133"/>
                    </a:lnTo>
                    <a:lnTo>
                      <a:pt x="2514" y="135"/>
                    </a:lnTo>
                    <a:lnTo>
                      <a:pt x="2504" y="139"/>
                    </a:lnTo>
                    <a:lnTo>
                      <a:pt x="2495" y="141"/>
                    </a:lnTo>
                    <a:lnTo>
                      <a:pt x="2485" y="143"/>
                    </a:lnTo>
                    <a:lnTo>
                      <a:pt x="2478" y="144"/>
                    </a:lnTo>
                    <a:lnTo>
                      <a:pt x="2474" y="144"/>
                    </a:lnTo>
                    <a:lnTo>
                      <a:pt x="2466" y="146"/>
                    </a:lnTo>
                    <a:lnTo>
                      <a:pt x="2462" y="146"/>
                    </a:lnTo>
                    <a:lnTo>
                      <a:pt x="2455" y="146"/>
                    </a:lnTo>
                    <a:lnTo>
                      <a:pt x="2447" y="146"/>
                    </a:lnTo>
                    <a:lnTo>
                      <a:pt x="2440" y="146"/>
                    </a:lnTo>
                    <a:lnTo>
                      <a:pt x="2432" y="148"/>
                    </a:lnTo>
                    <a:lnTo>
                      <a:pt x="2426" y="148"/>
                    </a:lnTo>
                    <a:lnTo>
                      <a:pt x="2419" y="148"/>
                    </a:lnTo>
                    <a:lnTo>
                      <a:pt x="2411" y="148"/>
                    </a:lnTo>
                    <a:lnTo>
                      <a:pt x="2403" y="150"/>
                    </a:lnTo>
                    <a:lnTo>
                      <a:pt x="2396" y="148"/>
                    </a:lnTo>
                    <a:lnTo>
                      <a:pt x="2388" y="148"/>
                    </a:lnTo>
                    <a:lnTo>
                      <a:pt x="2381" y="148"/>
                    </a:lnTo>
                    <a:lnTo>
                      <a:pt x="2373" y="148"/>
                    </a:lnTo>
                    <a:lnTo>
                      <a:pt x="2363" y="146"/>
                    </a:lnTo>
                    <a:lnTo>
                      <a:pt x="2356" y="146"/>
                    </a:lnTo>
                    <a:lnTo>
                      <a:pt x="2348" y="146"/>
                    </a:lnTo>
                    <a:lnTo>
                      <a:pt x="2341" y="146"/>
                    </a:lnTo>
                    <a:lnTo>
                      <a:pt x="2331" y="146"/>
                    </a:lnTo>
                    <a:lnTo>
                      <a:pt x="2324" y="144"/>
                    </a:lnTo>
                    <a:lnTo>
                      <a:pt x="2314" y="144"/>
                    </a:lnTo>
                    <a:lnTo>
                      <a:pt x="2306" y="143"/>
                    </a:lnTo>
                    <a:lnTo>
                      <a:pt x="2299" y="143"/>
                    </a:lnTo>
                    <a:lnTo>
                      <a:pt x="2289" y="141"/>
                    </a:lnTo>
                    <a:lnTo>
                      <a:pt x="2282" y="141"/>
                    </a:lnTo>
                    <a:lnTo>
                      <a:pt x="2274" y="141"/>
                    </a:lnTo>
                    <a:lnTo>
                      <a:pt x="2265" y="137"/>
                    </a:lnTo>
                    <a:lnTo>
                      <a:pt x="2259" y="137"/>
                    </a:lnTo>
                    <a:lnTo>
                      <a:pt x="2249" y="135"/>
                    </a:lnTo>
                    <a:lnTo>
                      <a:pt x="2242" y="135"/>
                    </a:lnTo>
                    <a:lnTo>
                      <a:pt x="2234" y="133"/>
                    </a:lnTo>
                    <a:lnTo>
                      <a:pt x="2227" y="133"/>
                    </a:lnTo>
                    <a:lnTo>
                      <a:pt x="2219" y="131"/>
                    </a:lnTo>
                    <a:lnTo>
                      <a:pt x="2213" y="131"/>
                    </a:lnTo>
                    <a:lnTo>
                      <a:pt x="2204" y="127"/>
                    </a:lnTo>
                    <a:lnTo>
                      <a:pt x="2196" y="125"/>
                    </a:lnTo>
                    <a:lnTo>
                      <a:pt x="2190" y="124"/>
                    </a:lnTo>
                    <a:lnTo>
                      <a:pt x="2185" y="124"/>
                    </a:lnTo>
                    <a:lnTo>
                      <a:pt x="2177" y="122"/>
                    </a:lnTo>
                    <a:lnTo>
                      <a:pt x="2170" y="120"/>
                    </a:lnTo>
                    <a:lnTo>
                      <a:pt x="2164" y="118"/>
                    </a:lnTo>
                    <a:lnTo>
                      <a:pt x="2158" y="116"/>
                    </a:lnTo>
                    <a:lnTo>
                      <a:pt x="2147" y="112"/>
                    </a:lnTo>
                    <a:lnTo>
                      <a:pt x="2137" y="108"/>
                    </a:lnTo>
                    <a:lnTo>
                      <a:pt x="2128" y="104"/>
                    </a:lnTo>
                    <a:lnTo>
                      <a:pt x="2122" y="101"/>
                    </a:lnTo>
                    <a:lnTo>
                      <a:pt x="2114" y="97"/>
                    </a:lnTo>
                    <a:lnTo>
                      <a:pt x="2105" y="95"/>
                    </a:lnTo>
                    <a:lnTo>
                      <a:pt x="2095" y="91"/>
                    </a:lnTo>
                    <a:lnTo>
                      <a:pt x="2086" y="89"/>
                    </a:lnTo>
                    <a:lnTo>
                      <a:pt x="2080" y="87"/>
                    </a:lnTo>
                    <a:lnTo>
                      <a:pt x="2074" y="87"/>
                    </a:lnTo>
                    <a:lnTo>
                      <a:pt x="2067" y="85"/>
                    </a:lnTo>
                    <a:lnTo>
                      <a:pt x="2063" y="85"/>
                    </a:lnTo>
                    <a:lnTo>
                      <a:pt x="2055" y="82"/>
                    </a:lnTo>
                    <a:lnTo>
                      <a:pt x="2050" y="82"/>
                    </a:lnTo>
                    <a:lnTo>
                      <a:pt x="2042" y="80"/>
                    </a:lnTo>
                    <a:lnTo>
                      <a:pt x="2036" y="80"/>
                    </a:lnTo>
                    <a:lnTo>
                      <a:pt x="2029" y="78"/>
                    </a:lnTo>
                    <a:lnTo>
                      <a:pt x="2021" y="78"/>
                    </a:lnTo>
                    <a:lnTo>
                      <a:pt x="2014" y="76"/>
                    </a:lnTo>
                    <a:lnTo>
                      <a:pt x="2008" y="76"/>
                    </a:lnTo>
                    <a:lnTo>
                      <a:pt x="1998" y="72"/>
                    </a:lnTo>
                    <a:lnTo>
                      <a:pt x="1991" y="72"/>
                    </a:lnTo>
                    <a:lnTo>
                      <a:pt x="1983" y="70"/>
                    </a:lnTo>
                    <a:lnTo>
                      <a:pt x="1976" y="70"/>
                    </a:lnTo>
                    <a:lnTo>
                      <a:pt x="1968" y="68"/>
                    </a:lnTo>
                    <a:lnTo>
                      <a:pt x="1959" y="66"/>
                    </a:lnTo>
                    <a:lnTo>
                      <a:pt x="1951" y="66"/>
                    </a:lnTo>
                    <a:lnTo>
                      <a:pt x="1943" y="65"/>
                    </a:lnTo>
                    <a:lnTo>
                      <a:pt x="1936" y="63"/>
                    </a:lnTo>
                    <a:lnTo>
                      <a:pt x="1928" y="63"/>
                    </a:lnTo>
                    <a:lnTo>
                      <a:pt x="1919" y="61"/>
                    </a:lnTo>
                    <a:lnTo>
                      <a:pt x="1911" y="61"/>
                    </a:lnTo>
                    <a:lnTo>
                      <a:pt x="1901" y="59"/>
                    </a:lnTo>
                    <a:lnTo>
                      <a:pt x="1894" y="57"/>
                    </a:lnTo>
                    <a:lnTo>
                      <a:pt x="1886" y="57"/>
                    </a:lnTo>
                    <a:lnTo>
                      <a:pt x="1879" y="55"/>
                    </a:lnTo>
                    <a:lnTo>
                      <a:pt x="1871" y="53"/>
                    </a:lnTo>
                    <a:lnTo>
                      <a:pt x="1863" y="53"/>
                    </a:lnTo>
                    <a:lnTo>
                      <a:pt x="1854" y="51"/>
                    </a:lnTo>
                    <a:lnTo>
                      <a:pt x="1846" y="51"/>
                    </a:lnTo>
                    <a:lnTo>
                      <a:pt x="1839" y="49"/>
                    </a:lnTo>
                    <a:lnTo>
                      <a:pt x="1831" y="47"/>
                    </a:lnTo>
                    <a:lnTo>
                      <a:pt x="1824" y="47"/>
                    </a:lnTo>
                    <a:lnTo>
                      <a:pt x="1816" y="46"/>
                    </a:lnTo>
                    <a:lnTo>
                      <a:pt x="1808" y="44"/>
                    </a:lnTo>
                    <a:lnTo>
                      <a:pt x="1801" y="44"/>
                    </a:lnTo>
                    <a:lnTo>
                      <a:pt x="1795" y="42"/>
                    </a:lnTo>
                    <a:lnTo>
                      <a:pt x="1787" y="42"/>
                    </a:lnTo>
                    <a:lnTo>
                      <a:pt x="1780" y="40"/>
                    </a:lnTo>
                    <a:lnTo>
                      <a:pt x="1772" y="38"/>
                    </a:lnTo>
                    <a:lnTo>
                      <a:pt x="1767" y="38"/>
                    </a:lnTo>
                    <a:lnTo>
                      <a:pt x="1761" y="36"/>
                    </a:lnTo>
                    <a:lnTo>
                      <a:pt x="1753" y="34"/>
                    </a:lnTo>
                    <a:lnTo>
                      <a:pt x="1747" y="34"/>
                    </a:lnTo>
                    <a:lnTo>
                      <a:pt x="1742" y="32"/>
                    </a:lnTo>
                    <a:lnTo>
                      <a:pt x="1738" y="32"/>
                    </a:lnTo>
                    <a:lnTo>
                      <a:pt x="1727" y="30"/>
                    </a:lnTo>
                    <a:lnTo>
                      <a:pt x="1719" y="27"/>
                    </a:lnTo>
                    <a:lnTo>
                      <a:pt x="1711" y="25"/>
                    </a:lnTo>
                    <a:lnTo>
                      <a:pt x="1706" y="25"/>
                    </a:lnTo>
                    <a:lnTo>
                      <a:pt x="1696" y="34"/>
                    </a:lnTo>
                    <a:lnTo>
                      <a:pt x="1687" y="44"/>
                    </a:lnTo>
                    <a:lnTo>
                      <a:pt x="1677" y="51"/>
                    </a:lnTo>
                    <a:lnTo>
                      <a:pt x="1668" y="59"/>
                    </a:lnTo>
                    <a:lnTo>
                      <a:pt x="1656" y="65"/>
                    </a:lnTo>
                    <a:lnTo>
                      <a:pt x="1647" y="70"/>
                    </a:lnTo>
                    <a:lnTo>
                      <a:pt x="1637" y="76"/>
                    </a:lnTo>
                    <a:lnTo>
                      <a:pt x="1630" y="78"/>
                    </a:lnTo>
                    <a:lnTo>
                      <a:pt x="1622" y="78"/>
                    </a:lnTo>
                    <a:lnTo>
                      <a:pt x="1616" y="78"/>
                    </a:lnTo>
                    <a:lnTo>
                      <a:pt x="1614" y="72"/>
                    </a:lnTo>
                    <a:lnTo>
                      <a:pt x="1614" y="68"/>
                    </a:lnTo>
                    <a:lnTo>
                      <a:pt x="1616" y="59"/>
                    </a:lnTo>
                    <a:lnTo>
                      <a:pt x="1622" y="49"/>
                    </a:lnTo>
                    <a:lnTo>
                      <a:pt x="1626" y="44"/>
                    </a:lnTo>
                    <a:lnTo>
                      <a:pt x="1632" y="38"/>
                    </a:lnTo>
                    <a:lnTo>
                      <a:pt x="1639" y="28"/>
                    </a:lnTo>
                    <a:lnTo>
                      <a:pt x="1647" y="21"/>
                    </a:lnTo>
                    <a:lnTo>
                      <a:pt x="1641" y="21"/>
                    </a:lnTo>
                    <a:lnTo>
                      <a:pt x="1633" y="23"/>
                    </a:lnTo>
                    <a:lnTo>
                      <a:pt x="1628" y="25"/>
                    </a:lnTo>
                    <a:lnTo>
                      <a:pt x="1622" y="30"/>
                    </a:lnTo>
                    <a:lnTo>
                      <a:pt x="1613" y="38"/>
                    </a:lnTo>
                    <a:lnTo>
                      <a:pt x="1603" y="47"/>
                    </a:lnTo>
                    <a:lnTo>
                      <a:pt x="1592" y="55"/>
                    </a:lnTo>
                    <a:lnTo>
                      <a:pt x="1582" y="63"/>
                    </a:lnTo>
                    <a:lnTo>
                      <a:pt x="1574" y="66"/>
                    </a:lnTo>
                    <a:lnTo>
                      <a:pt x="1569" y="70"/>
                    </a:lnTo>
                    <a:lnTo>
                      <a:pt x="1563" y="72"/>
                    </a:lnTo>
                    <a:lnTo>
                      <a:pt x="1557" y="74"/>
                    </a:lnTo>
                    <a:lnTo>
                      <a:pt x="1555" y="70"/>
                    </a:lnTo>
                    <a:lnTo>
                      <a:pt x="1559" y="61"/>
                    </a:lnTo>
                    <a:lnTo>
                      <a:pt x="1565" y="55"/>
                    </a:lnTo>
                    <a:lnTo>
                      <a:pt x="1567" y="47"/>
                    </a:lnTo>
                    <a:lnTo>
                      <a:pt x="1571" y="42"/>
                    </a:lnTo>
                    <a:lnTo>
                      <a:pt x="1573" y="32"/>
                    </a:lnTo>
                    <a:lnTo>
                      <a:pt x="1573" y="27"/>
                    </a:lnTo>
                    <a:lnTo>
                      <a:pt x="1569" y="21"/>
                    </a:lnTo>
                    <a:lnTo>
                      <a:pt x="1565" y="19"/>
                    </a:lnTo>
                    <a:lnTo>
                      <a:pt x="1557" y="19"/>
                    </a:lnTo>
                    <a:lnTo>
                      <a:pt x="1550" y="21"/>
                    </a:lnTo>
                    <a:lnTo>
                      <a:pt x="1540" y="23"/>
                    </a:lnTo>
                    <a:lnTo>
                      <a:pt x="1531" y="27"/>
                    </a:lnTo>
                    <a:lnTo>
                      <a:pt x="1519" y="32"/>
                    </a:lnTo>
                    <a:lnTo>
                      <a:pt x="1510" y="40"/>
                    </a:lnTo>
                    <a:lnTo>
                      <a:pt x="1498" y="47"/>
                    </a:lnTo>
                    <a:lnTo>
                      <a:pt x="1489" y="55"/>
                    </a:lnTo>
                    <a:lnTo>
                      <a:pt x="1479" y="65"/>
                    </a:lnTo>
                    <a:lnTo>
                      <a:pt x="1472" y="74"/>
                    </a:lnTo>
                    <a:lnTo>
                      <a:pt x="1468" y="70"/>
                    </a:lnTo>
                    <a:lnTo>
                      <a:pt x="1470" y="63"/>
                    </a:lnTo>
                    <a:lnTo>
                      <a:pt x="1472" y="57"/>
                    </a:lnTo>
                    <a:lnTo>
                      <a:pt x="1474" y="49"/>
                    </a:lnTo>
                    <a:lnTo>
                      <a:pt x="1478" y="42"/>
                    </a:lnTo>
                    <a:lnTo>
                      <a:pt x="1481" y="36"/>
                    </a:lnTo>
                    <a:lnTo>
                      <a:pt x="1485" y="30"/>
                    </a:lnTo>
                    <a:lnTo>
                      <a:pt x="1489" y="23"/>
                    </a:lnTo>
                    <a:lnTo>
                      <a:pt x="1495" y="17"/>
                    </a:lnTo>
                    <a:lnTo>
                      <a:pt x="1493" y="13"/>
                    </a:lnTo>
                    <a:lnTo>
                      <a:pt x="1493" y="11"/>
                    </a:lnTo>
                    <a:lnTo>
                      <a:pt x="1485" y="11"/>
                    </a:lnTo>
                    <a:lnTo>
                      <a:pt x="1478" y="13"/>
                    </a:lnTo>
                    <a:lnTo>
                      <a:pt x="1474" y="13"/>
                    </a:lnTo>
                    <a:lnTo>
                      <a:pt x="1468" y="17"/>
                    </a:lnTo>
                    <a:lnTo>
                      <a:pt x="1457" y="21"/>
                    </a:lnTo>
                    <a:lnTo>
                      <a:pt x="1447" y="27"/>
                    </a:lnTo>
                    <a:lnTo>
                      <a:pt x="1443" y="25"/>
                    </a:lnTo>
                    <a:lnTo>
                      <a:pt x="1440" y="17"/>
                    </a:lnTo>
                    <a:lnTo>
                      <a:pt x="1438" y="11"/>
                    </a:lnTo>
                    <a:lnTo>
                      <a:pt x="1436" y="8"/>
                    </a:lnTo>
                    <a:lnTo>
                      <a:pt x="1436" y="4"/>
                    </a:lnTo>
                    <a:lnTo>
                      <a:pt x="1428" y="0"/>
                    </a:lnTo>
                    <a:lnTo>
                      <a:pt x="1422" y="0"/>
                    </a:lnTo>
                    <a:lnTo>
                      <a:pt x="1413" y="0"/>
                    </a:lnTo>
                    <a:lnTo>
                      <a:pt x="1407" y="4"/>
                    </a:lnTo>
                    <a:lnTo>
                      <a:pt x="1398" y="9"/>
                    </a:lnTo>
                    <a:lnTo>
                      <a:pt x="1388" y="17"/>
                    </a:lnTo>
                    <a:lnTo>
                      <a:pt x="1375" y="23"/>
                    </a:lnTo>
                    <a:lnTo>
                      <a:pt x="1365" y="30"/>
                    </a:lnTo>
                    <a:lnTo>
                      <a:pt x="1354" y="38"/>
                    </a:lnTo>
                    <a:lnTo>
                      <a:pt x="1344" y="44"/>
                    </a:lnTo>
                    <a:lnTo>
                      <a:pt x="1333" y="49"/>
                    </a:lnTo>
                    <a:lnTo>
                      <a:pt x="1324" y="51"/>
                    </a:lnTo>
                    <a:lnTo>
                      <a:pt x="1312" y="53"/>
                    </a:lnTo>
                    <a:lnTo>
                      <a:pt x="1305" y="53"/>
                    </a:lnTo>
                    <a:lnTo>
                      <a:pt x="1306" y="47"/>
                    </a:lnTo>
                    <a:lnTo>
                      <a:pt x="1310" y="42"/>
                    </a:lnTo>
                    <a:lnTo>
                      <a:pt x="1314" y="38"/>
                    </a:lnTo>
                    <a:lnTo>
                      <a:pt x="1320" y="34"/>
                    </a:lnTo>
                    <a:lnTo>
                      <a:pt x="1325" y="28"/>
                    </a:lnTo>
                    <a:lnTo>
                      <a:pt x="1329" y="25"/>
                    </a:lnTo>
                    <a:lnTo>
                      <a:pt x="1333" y="19"/>
                    </a:lnTo>
                    <a:lnTo>
                      <a:pt x="1335" y="13"/>
                    </a:lnTo>
                    <a:lnTo>
                      <a:pt x="1333" y="11"/>
                    </a:lnTo>
                    <a:lnTo>
                      <a:pt x="1325" y="13"/>
                    </a:lnTo>
                    <a:lnTo>
                      <a:pt x="1316" y="17"/>
                    </a:lnTo>
                    <a:lnTo>
                      <a:pt x="1306" y="21"/>
                    </a:lnTo>
                    <a:lnTo>
                      <a:pt x="1297" y="23"/>
                    </a:lnTo>
                    <a:lnTo>
                      <a:pt x="1287" y="27"/>
                    </a:lnTo>
                    <a:lnTo>
                      <a:pt x="1276" y="30"/>
                    </a:lnTo>
                    <a:lnTo>
                      <a:pt x="1270" y="30"/>
                    </a:lnTo>
                    <a:lnTo>
                      <a:pt x="1265" y="32"/>
                    </a:lnTo>
                    <a:lnTo>
                      <a:pt x="1259" y="34"/>
                    </a:lnTo>
                    <a:lnTo>
                      <a:pt x="1253" y="38"/>
                    </a:lnTo>
                    <a:lnTo>
                      <a:pt x="1246" y="38"/>
                    </a:lnTo>
                    <a:lnTo>
                      <a:pt x="1240" y="40"/>
                    </a:lnTo>
                    <a:lnTo>
                      <a:pt x="1232" y="42"/>
                    </a:lnTo>
                    <a:lnTo>
                      <a:pt x="1227" y="44"/>
                    </a:lnTo>
                    <a:lnTo>
                      <a:pt x="1219" y="44"/>
                    </a:lnTo>
                    <a:lnTo>
                      <a:pt x="1213" y="47"/>
                    </a:lnTo>
                    <a:lnTo>
                      <a:pt x="1206" y="49"/>
                    </a:lnTo>
                    <a:lnTo>
                      <a:pt x="1200" y="51"/>
                    </a:lnTo>
                    <a:lnTo>
                      <a:pt x="1192" y="51"/>
                    </a:lnTo>
                    <a:lnTo>
                      <a:pt x="1187" y="53"/>
                    </a:lnTo>
                    <a:lnTo>
                      <a:pt x="1179" y="55"/>
                    </a:lnTo>
                    <a:lnTo>
                      <a:pt x="1171" y="59"/>
                    </a:lnTo>
                    <a:lnTo>
                      <a:pt x="1166" y="59"/>
                    </a:lnTo>
                    <a:lnTo>
                      <a:pt x="1158" y="61"/>
                    </a:lnTo>
                    <a:lnTo>
                      <a:pt x="1151" y="63"/>
                    </a:lnTo>
                    <a:lnTo>
                      <a:pt x="1145" y="66"/>
                    </a:lnTo>
                    <a:lnTo>
                      <a:pt x="1135" y="66"/>
                    </a:lnTo>
                    <a:lnTo>
                      <a:pt x="1130" y="68"/>
                    </a:lnTo>
                    <a:lnTo>
                      <a:pt x="1122" y="68"/>
                    </a:lnTo>
                    <a:lnTo>
                      <a:pt x="1114" y="70"/>
                    </a:lnTo>
                    <a:lnTo>
                      <a:pt x="1107" y="72"/>
                    </a:lnTo>
                    <a:lnTo>
                      <a:pt x="1099" y="74"/>
                    </a:lnTo>
                    <a:lnTo>
                      <a:pt x="1092" y="76"/>
                    </a:lnTo>
                    <a:lnTo>
                      <a:pt x="1086" y="78"/>
                    </a:lnTo>
                    <a:lnTo>
                      <a:pt x="1078" y="78"/>
                    </a:lnTo>
                    <a:lnTo>
                      <a:pt x="1071" y="80"/>
                    </a:lnTo>
                    <a:lnTo>
                      <a:pt x="1063" y="80"/>
                    </a:lnTo>
                    <a:lnTo>
                      <a:pt x="1057" y="82"/>
                    </a:lnTo>
                    <a:lnTo>
                      <a:pt x="1050" y="84"/>
                    </a:lnTo>
                    <a:lnTo>
                      <a:pt x="1042" y="85"/>
                    </a:lnTo>
                    <a:lnTo>
                      <a:pt x="1036" y="87"/>
                    </a:lnTo>
                    <a:lnTo>
                      <a:pt x="1031" y="89"/>
                    </a:lnTo>
                    <a:lnTo>
                      <a:pt x="1023" y="89"/>
                    </a:lnTo>
                    <a:lnTo>
                      <a:pt x="1016" y="89"/>
                    </a:lnTo>
                    <a:lnTo>
                      <a:pt x="1010" y="91"/>
                    </a:lnTo>
                    <a:lnTo>
                      <a:pt x="1002" y="93"/>
                    </a:lnTo>
                    <a:lnTo>
                      <a:pt x="997" y="93"/>
                    </a:lnTo>
                    <a:lnTo>
                      <a:pt x="991" y="95"/>
                    </a:lnTo>
                    <a:lnTo>
                      <a:pt x="983" y="95"/>
                    </a:lnTo>
                    <a:lnTo>
                      <a:pt x="978" y="97"/>
                    </a:lnTo>
                    <a:lnTo>
                      <a:pt x="972" y="97"/>
                    </a:lnTo>
                    <a:lnTo>
                      <a:pt x="964" y="99"/>
                    </a:lnTo>
                    <a:lnTo>
                      <a:pt x="959" y="99"/>
                    </a:lnTo>
                    <a:lnTo>
                      <a:pt x="955" y="99"/>
                    </a:lnTo>
                    <a:lnTo>
                      <a:pt x="945" y="101"/>
                    </a:lnTo>
                    <a:lnTo>
                      <a:pt x="936" y="103"/>
                    </a:lnTo>
                    <a:lnTo>
                      <a:pt x="928" y="106"/>
                    </a:lnTo>
                    <a:lnTo>
                      <a:pt x="919" y="110"/>
                    </a:lnTo>
                    <a:lnTo>
                      <a:pt x="911" y="112"/>
                    </a:lnTo>
                    <a:lnTo>
                      <a:pt x="905" y="114"/>
                    </a:lnTo>
                    <a:lnTo>
                      <a:pt x="896" y="116"/>
                    </a:lnTo>
                    <a:lnTo>
                      <a:pt x="888" y="118"/>
                    </a:lnTo>
                    <a:lnTo>
                      <a:pt x="879" y="118"/>
                    </a:lnTo>
                    <a:lnTo>
                      <a:pt x="869" y="120"/>
                    </a:lnTo>
                    <a:lnTo>
                      <a:pt x="860" y="122"/>
                    </a:lnTo>
                    <a:lnTo>
                      <a:pt x="848" y="124"/>
                    </a:lnTo>
                    <a:lnTo>
                      <a:pt x="837" y="124"/>
                    </a:lnTo>
                    <a:lnTo>
                      <a:pt x="825" y="125"/>
                    </a:lnTo>
                    <a:lnTo>
                      <a:pt x="816" y="125"/>
                    </a:lnTo>
                    <a:lnTo>
                      <a:pt x="805" y="127"/>
                    </a:lnTo>
                    <a:lnTo>
                      <a:pt x="799" y="127"/>
                    </a:lnTo>
                    <a:lnTo>
                      <a:pt x="791" y="127"/>
                    </a:lnTo>
                    <a:lnTo>
                      <a:pt x="787" y="127"/>
                    </a:lnTo>
                    <a:lnTo>
                      <a:pt x="782" y="127"/>
                    </a:lnTo>
                    <a:lnTo>
                      <a:pt x="770" y="127"/>
                    </a:lnTo>
                    <a:lnTo>
                      <a:pt x="759" y="129"/>
                    </a:lnTo>
                    <a:lnTo>
                      <a:pt x="748" y="127"/>
                    </a:lnTo>
                    <a:lnTo>
                      <a:pt x="738" y="127"/>
                    </a:lnTo>
                    <a:lnTo>
                      <a:pt x="728" y="127"/>
                    </a:lnTo>
                    <a:lnTo>
                      <a:pt x="721" y="127"/>
                    </a:lnTo>
                    <a:lnTo>
                      <a:pt x="711" y="127"/>
                    </a:lnTo>
                    <a:lnTo>
                      <a:pt x="704" y="125"/>
                    </a:lnTo>
                    <a:lnTo>
                      <a:pt x="696" y="125"/>
                    </a:lnTo>
                    <a:lnTo>
                      <a:pt x="692" y="125"/>
                    </a:lnTo>
                    <a:lnTo>
                      <a:pt x="683" y="122"/>
                    </a:lnTo>
                    <a:lnTo>
                      <a:pt x="681" y="118"/>
                    </a:lnTo>
                    <a:lnTo>
                      <a:pt x="673" y="124"/>
                    </a:lnTo>
                    <a:lnTo>
                      <a:pt x="666" y="127"/>
                    </a:lnTo>
                    <a:lnTo>
                      <a:pt x="658" y="131"/>
                    </a:lnTo>
                    <a:lnTo>
                      <a:pt x="651" y="135"/>
                    </a:lnTo>
                    <a:lnTo>
                      <a:pt x="643" y="137"/>
                    </a:lnTo>
                    <a:lnTo>
                      <a:pt x="635" y="139"/>
                    </a:lnTo>
                    <a:lnTo>
                      <a:pt x="628" y="139"/>
                    </a:lnTo>
                    <a:lnTo>
                      <a:pt x="620" y="139"/>
                    </a:lnTo>
                    <a:lnTo>
                      <a:pt x="611" y="137"/>
                    </a:lnTo>
                    <a:lnTo>
                      <a:pt x="601" y="135"/>
                    </a:lnTo>
                    <a:lnTo>
                      <a:pt x="594" y="131"/>
                    </a:lnTo>
                    <a:lnTo>
                      <a:pt x="584" y="129"/>
                    </a:lnTo>
                    <a:lnTo>
                      <a:pt x="574" y="125"/>
                    </a:lnTo>
                    <a:lnTo>
                      <a:pt x="565" y="122"/>
                    </a:lnTo>
                    <a:lnTo>
                      <a:pt x="555" y="118"/>
                    </a:lnTo>
                    <a:lnTo>
                      <a:pt x="548" y="114"/>
                    </a:lnTo>
                    <a:lnTo>
                      <a:pt x="536" y="108"/>
                    </a:lnTo>
                    <a:lnTo>
                      <a:pt x="527" y="103"/>
                    </a:lnTo>
                    <a:lnTo>
                      <a:pt x="517" y="97"/>
                    </a:lnTo>
                    <a:lnTo>
                      <a:pt x="508" y="93"/>
                    </a:lnTo>
                    <a:lnTo>
                      <a:pt x="498" y="87"/>
                    </a:lnTo>
                    <a:lnTo>
                      <a:pt x="489" y="84"/>
                    </a:lnTo>
                    <a:lnTo>
                      <a:pt x="478" y="80"/>
                    </a:lnTo>
                    <a:lnTo>
                      <a:pt x="468" y="76"/>
                    </a:lnTo>
                    <a:lnTo>
                      <a:pt x="459" y="72"/>
                    </a:lnTo>
                    <a:lnTo>
                      <a:pt x="449" y="68"/>
                    </a:lnTo>
                    <a:lnTo>
                      <a:pt x="440" y="66"/>
                    </a:lnTo>
                    <a:lnTo>
                      <a:pt x="430" y="63"/>
                    </a:lnTo>
                    <a:lnTo>
                      <a:pt x="421" y="61"/>
                    </a:lnTo>
                    <a:lnTo>
                      <a:pt x="411" y="61"/>
                    </a:lnTo>
                    <a:lnTo>
                      <a:pt x="401" y="61"/>
                    </a:lnTo>
                    <a:lnTo>
                      <a:pt x="392" y="61"/>
                    </a:lnTo>
                    <a:lnTo>
                      <a:pt x="392" y="63"/>
                    </a:lnTo>
                    <a:lnTo>
                      <a:pt x="392" y="66"/>
                    </a:lnTo>
                    <a:lnTo>
                      <a:pt x="401" y="66"/>
                    </a:lnTo>
                    <a:lnTo>
                      <a:pt x="411" y="70"/>
                    </a:lnTo>
                    <a:lnTo>
                      <a:pt x="421" y="72"/>
                    </a:lnTo>
                    <a:lnTo>
                      <a:pt x="430" y="78"/>
                    </a:lnTo>
                    <a:lnTo>
                      <a:pt x="438" y="82"/>
                    </a:lnTo>
                    <a:lnTo>
                      <a:pt x="445" y="87"/>
                    </a:lnTo>
                    <a:lnTo>
                      <a:pt x="455" y="91"/>
                    </a:lnTo>
                    <a:lnTo>
                      <a:pt x="464" y="95"/>
                    </a:lnTo>
                    <a:lnTo>
                      <a:pt x="464" y="97"/>
                    </a:lnTo>
                    <a:lnTo>
                      <a:pt x="464" y="101"/>
                    </a:lnTo>
                    <a:lnTo>
                      <a:pt x="453" y="101"/>
                    </a:lnTo>
                    <a:lnTo>
                      <a:pt x="443" y="101"/>
                    </a:lnTo>
                    <a:lnTo>
                      <a:pt x="434" y="99"/>
                    </a:lnTo>
                    <a:lnTo>
                      <a:pt x="424" y="97"/>
                    </a:lnTo>
                    <a:lnTo>
                      <a:pt x="415" y="91"/>
                    </a:lnTo>
                    <a:lnTo>
                      <a:pt x="407" y="89"/>
                    </a:lnTo>
                    <a:lnTo>
                      <a:pt x="398" y="85"/>
                    </a:lnTo>
                    <a:lnTo>
                      <a:pt x="388" y="82"/>
                    </a:lnTo>
                    <a:lnTo>
                      <a:pt x="379" y="78"/>
                    </a:lnTo>
                    <a:lnTo>
                      <a:pt x="371" y="76"/>
                    </a:lnTo>
                    <a:lnTo>
                      <a:pt x="362" y="72"/>
                    </a:lnTo>
                    <a:lnTo>
                      <a:pt x="354" y="72"/>
                    </a:lnTo>
                    <a:lnTo>
                      <a:pt x="344" y="72"/>
                    </a:lnTo>
                    <a:lnTo>
                      <a:pt x="337" y="74"/>
                    </a:lnTo>
                    <a:lnTo>
                      <a:pt x="327" y="78"/>
                    </a:lnTo>
                    <a:lnTo>
                      <a:pt x="320" y="85"/>
                    </a:lnTo>
                    <a:lnTo>
                      <a:pt x="320" y="87"/>
                    </a:lnTo>
                    <a:lnTo>
                      <a:pt x="320" y="89"/>
                    </a:lnTo>
                    <a:lnTo>
                      <a:pt x="329" y="89"/>
                    </a:lnTo>
                    <a:lnTo>
                      <a:pt x="337" y="93"/>
                    </a:lnTo>
                    <a:lnTo>
                      <a:pt x="344" y="99"/>
                    </a:lnTo>
                    <a:lnTo>
                      <a:pt x="354" y="106"/>
                    </a:lnTo>
                    <a:lnTo>
                      <a:pt x="354" y="110"/>
                    </a:lnTo>
                    <a:lnTo>
                      <a:pt x="354" y="114"/>
                    </a:lnTo>
                    <a:lnTo>
                      <a:pt x="346" y="114"/>
                    </a:lnTo>
                    <a:lnTo>
                      <a:pt x="341" y="114"/>
                    </a:lnTo>
                    <a:lnTo>
                      <a:pt x="335" y="112"/>
                    </a:lnTo>
                    <a:lnTo>
                      <a:pt x="329" y="112"/>
                    </a:lnTo>
                    <a:lnTo>
                      <a:pt x="324" y="108"/>
                    </a:lnTo>
                    <a:lnTo>
                      <a:pt x="316" y="108"/>
                    </a:lnTo>
                    <a:lnTo>
                      <a:pt x="310" y="106"/>
                    </a:lnTo>
                    <a:lnTo>
                      <a:pt x="305" y="106"/>
                    </a:lnTo>
                    <a:lnTo>
                      <a:pt x="293" y="104"/>
                    </a:lnTo>
                    <a:lnTo>
                      <a:pt x="284" y="106"/>
                    </a:lnTo>
                    <a:lnTo>
                      <a:pt x="278" y="106"/>
                    </a:lnTo>
                    <a:lnTo>
                      <a:pt x="274" y="112"/>
                    </a:lnTo>
                    <a:lnTo>
                      <a:pt x="272" y="116"/>
                    </a:lnTo>
                    <a:lnTo>
                      <a:pt x="270" y="124"/>
                    </a:lnTo>
                    <a:lnTo>
                      <a:pt x="276" y="124"/>
                    </a:lnTo>
                    <a:lnTo>
                      <a:pt x="282" y="125"/>
                    </a:lnTo>
                    <a:lnTo>
                      <a:pt x="286" y="125"/>
                    </a:lnTo>
                    <a:lnTo>
                      <a:pt x="289" y="129"/>
                    </a:lnTo>
                    <a:lnTo>
                      <a:pt x="289" y="131"/>
                    </a:lnTo>
                    <a:lnTo>
                      <a:pt x="289" y="137"/>
                    </a:lnTo>
                    <a:lnTo>
                      <a:pt x="282" y="137"/>
                    </a:lnTo>
                    <a:lnTo>
                      <a:pt x="274" y="137"/>
                    </a:lnTo>
                    <a:lnTo>
                      <a:pt x="267" y="137"/>
                    </a:lnTo>
                    <a:lnTo>
                      <a:pt x="259" y="139"/>
                    </a:lnTo>
                    <a:lnTo>
                      <a:pt x="251" y="137"/>
                    </a:lnTo>
                    <a:lnTo>
                      <a:pt x="244" y="137"/>
                    </a:lnTo>
                    <a:lnTo>
                      <a:pt x="234" y="137"/>
                    </a:lnTo>
                    <a:lnTo>
                      <a:pt x="228" y="139"/>
                    </a:lnTo>
                    <a:lnTo>
                      <a:pt x="221" y="139"/>
                    </a:lnTo>
                    <a:lnTo>
                      <a:pt x="213" y="141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194" y="150"/>
                    </a:lnTo>
                    <a:lnTo>
                      <a:pt x="189" y="156"/>
                    </a:lnTo>
                    <a:lnTo>
                      <a:pt x="185" y="162"/>
                    </a:lnTo>
                    <a:lnTo>
                      <a:pt x="183" y="171"/>
                    </a:lnTo>
                    <a:lnTo>
                      <a:pt x="189" y="171"/>
                    </a:lnTo>
                    <a:lnTo>
                      <a:pt x="194" y="171"/>
                    </a:lnTo>
                    <a:lnTo>
                      <a:pt x="198" y="173"/>
                    </a:lnTo>
                    <a:lnTo>
                      <a:pt x="204" y="177"/>
                    </a:lnTo>
                    <a:lnTo>
                      <a:pt x="204" y="179"/>
                    </a:lnTo>
                    <a:lnTo>
                      <a:pt x="204" y="181"/>
                    </a:lnTo>
                    <a:lnTo>
                      <a:pt x="192" y="179"/>
                    </a:lnTo>
                    <a:lnTo>
                      <a:pt x="181" y="177"/>
                    </a:lnTo>
                    <a:lnTo>
                      <a:pt x="170" y="175"/>
                    </a:lnTo>
                    <a:lnTo>
                      <a:pt x="160" y="175"/>
                    </a:lnTo>
                    <a:lnTo>
                      <a:pt x="151" y="175"/>
                    </a:lnTo>
                    <a:lnTo>
                      <a:pt x="139" y="175"/>
                    </a:lnTo>
                    <a:lnTo>
                      <a:pt x="130" y="177"/>
                    </a:lnTo>
                    <a:lnTo>
                      <a:pt x="120" y="179"/>
                    </a:lnTo>
                    <a:lnTo>
                      <a:pt x="109" y="179"/>
                    </a:lnTo>
                    <a:lnTo>
                      <a:pt x="97" y="181"/>
                    </a:lnTo>
                    <a:lnTo>
                      <a:pt x="88" y="182"/>
                    </a:lnTo>
                    <a:lnTo>
                      <a:pt x="78" y="186"/>
                    </a:lnTo>
                    <a:lnTo>
                      <a:pt x="67" y="188"/>
                    </a:lnTo>
                    <a:lnTo>
                      <a:pt x="57" y="192"/>
                    </a:lnTo>
                    <a:lnTo>
                      <a:pt x="48" y="196"/>
                    </a:lnTo>
                    <a:lnTo>
                      <a:pt x="38" y="200"/>
                    </a:lnTo>
                    <a:lnTo>
                      <a:pt x="40" y="205"/>
                    </a:lnTo>
                    <a:lnTo>
                      <a:pt x="46" y="213"/>
                    </a:lnTo>
                    <a:lnTo>
                      <a:pt x="50" y="217"/>
                    </a:lnTo>
                    <a:lnTo>
                      <a:pt x="57" y="224"/>
                    </a:lnTo>
                    <a:lnTo>
                      <a:pt x="57" y="226"/>
                    </a:lnTo>
                    <a:lnTo>
                      <a:pt x="57" y="228"/>
                    </a:lnTo>
                    <a:lnTo>
                      <a:pt x="48" y="228"/>
                    </a:lnTo>
                    <a:lnTo>
                      <a:pt x="42" y="226"/>
                    </a:lnTo>
                    <a:lnTo>
                      <a:pt x="35" y="224"/>
                    </a:lnTo>
                    <a:lnTo>
                      <a:pt x="29" y="222"/>
                    </a:lnTo>
                    <a:lnTo>
                      <a:pt x="21" y="217"/>
                    </a:lnTo>
                    <a:lnTo>
                      <a:pt x="14" y="215"/>
                    </a:lnTo>
                    <a:lnTo>
                      <a:pt x="6" y="209"/>
                    </a:lnTo>
                    <a:lnTo>
                      <a:pt x="0" y="207"/>
                    </a:lnTo>
                    <a:lnTo>
                      <a:pt x="0" y="215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6" y="232"/>
                    </a:lnTo>
                    <a:lnTo>
                      <a:pt x="12" y="234"/>
                    </a:lnTo>
                    <a:lnTo>
                      <a:pt x="19" y="238"/>
                    </a:lnTo>
                    <a:lnTo>
                      <a:pt x="27" y="241"/>
                    </a:lnTo>
                    <a:lnTo>
                      <a:pt x="33" y="243"/>
                    </a:lnTo>
                    <a:lnTo>
                      <a:pt x="38" y="245"/>
                    </a:lnTo>
                    <a:lnTo>
                      <a:pt x="46" y="249"/>
                    </a:lnTo>
                    <a:lnTo>
                      <a:pt x="52" y="253"/>
                    </a:lnTo>
                    <a:lnTo>
                      <a:pt x="59" y="257"/>
                    </a:lnTo>
                    <a:lnTo>
                      <a:pt x="65" y="260"/>
                    </a:lnTo>
                    <a:lnTo>
                      <a:pt x="71" y="264"/>
                    </a:lnTo>
                    <a:lnTo>
                      <a:pt x="78" y="268"/>
                    </a:lnTo>
                    <a:lnTo>
                      <a:pt x="84" y="272"/>
                    </a:lnTo>
                    <a:lnTo>
                      <a:pt x="92" y="277"/>
                    </a:lnTo>
                    <a:lnTo>
                      <a:pt x="97" y="279"/>
                    </a:lnTo>
                    <a:lnTo>
                      <a:pt x="105" y="285"/>
                    </a:lnTo>
                    <a:lnTo>
                      <a:pt x="111" y="289"/>
                    </a:lnTo>
                    <a:lnTo>
                      <a:pt x="116" y="293"/>
                    </a:lnTo>
                    <a:lnTo>
                      <a:pt x="124" y="297"/>
                    </a:lnTo>
                    <a:lnTo>
                      <a:pt x="130" y="300"/>
                    </a:lnTo>
                    <a:lnTo>
                      <a:pt x="135" y="304"/>
                    </a:lnTo>
                    <a:lnTo>
                      <a:pt x="143" y="306"/>
                    </a:lnTo>
                    <a:lnTo>
                      <a:pt x="149" y="310"/>
                    </a:lnTo>
                    <a:lnTo>
                      <a:pt x="156" y="314"/>
                    </a:lnTo>
                    <a:lnTo>
                      <a:pt x="162" y="316"/>
                    </a:lnTo>
                    <a:lnTo>
                      <a:pt x="170" y="319"/>
                    </a:lnTo>
                    <a:lnTo>
                      <a:pt x="175" y="321"/>
                    </a:lnTo>
                    <a:lnTo>
                      <a:pt x="181" y="325"/>
                    </a:lnTo>
                    <a:lnTo>
                      <a:pt x="189" y="325"/>
                    </a:lnTo>
                    <a:lnTo>
                      <a:pt x="196" y="327"/>
                    </a:lnTo>
                    <a:lnTo>
                      <a:pt x="202" y="329"/>
                    </a:lnTo>
                    <a:lnTo>
                      <a:pt x="209" y="331"/>
                    </a:lnTo>
                    <a:lnTo>
                      <a:pt x="198" y="325"/>
                    </a:lnTo>
                    <a:lnTo>
                      <a:pt x="189" y="319"/>
                    </a:lnTo>
                    <a:lnTo>
                      <a:pt x="179" y="316"/>
                    </a:lnTo>
                    <a:lnTo>
                      <a:pt x="170" y="310"/>
                    </a:lnTo>
                    <a:lnTo>
                      <a:pt x="160" y="304"/>
                    </a:lnTo>
                    <a:lnTo>
                      <a:pt x="151" y="298"/>
                    </a:lnTo>
                    <a:lnTo>
                      <a:pt x="141" y="293"/>
                    </a:lnTo>
                    <a:lnTo>
                      <a:pt x="133" y="289"/>
                    </a:lnTo>
                    <a:lnTo>
                      <a:pt x="124" y="281"/>
                    </a:lnTo>
                    <a:lnTo>
                      <a:pt x="114" y="276"/>
                    </a:lnTo>
                    <a:lnTo>
                      <a:pt x="105" y="270"/>
                    </a:lnTo>
                    <a:lnTo>
                      <a:pt x="95" y="264"/>
                    </a:lnTo>
                    <a:lnTo>
                      <a:pt x="86" y="258"/>
                    </a:lnTo>
                    <a:lnTo>
                      <a:pt x="78" y="251"/>
                    </a:lnTo>
                    <a:lnTo>
                      <a:pt x="69" y="245"/>
                    </a:lnTo>
                    <a:lnTo>
                      <a:pt x="59" y="239"/>
                    </a:lnTo>
                    <a:lnTo>
                      <a:pt x="59" y="234"/>
                    </a:lnTo>
                    <a:lnTo>
                      <a:pt x="59" y="232"/>
                    </a:lnTo>
                    <a:lnTo>
                      <a:pt x="67" y="232"/>
                    </a:lnTo>
                    <a:lnTo>
                      <a:pt x="75" y="234"/>
                    </a:lnTo>
                    <a:lnTo>
                      <a:pt x="82" y="236"/>
                    </a:lnTo>
                    <a:lnTo>
                      <a:pt x="90" y="239"/>
                    </a:lnTo>
                    <a:lnTo>
                      <a:pt x="97" y="243"/>
                    </a:lnTo>
                    <a:lnTo>
                      <a:pt x="105" y="245"/>
                    </a:lnTo>
                    <a:lnTo>
                      <a:pt x="113" y="249"/>
                    </a:lnTo>
                    <a:lnTo>
                      <a:pt x="120" y="253"/>
                    </a:lnTo>
                    <a:lnTo>
                      <a:pt x="126" y="255"/>
                    </a:lnTo>
                    <a:lnTo>
                      <a:pt x="135" y="258"/>
                    </a:lnTo>
                    <a:lnTo>
                      <a:pt x="141" y="260"/>
                    </a:lnTo>
                    <a:lnTo>
                      <a:pt x="151" y="264"/>
                    </a:lnTo>
                    <a:lnTo>
                      <a:pt x="156" y="268"/>
                    </a:lnTo>
                    <a:lnTo>
                      <a:pt x="166" y="272"/>
                    </a:lnTo>
                    <a:lnTo>
                      <a:pt x="171" y="276"/>
                    </a:lnTo>
                    <a:lnTo>
                      <a:pt x="179" y="279"/>
                    </a:lnTo>
                    <a:lnTo>
                      <a:pt x="187" y="283"/>
                    </a:lnTo>
                    <a:lnTo>
                      <a:pt x="194" y="287"/>
                    </a:lnTo>
                    <a:lnTo>
                      <a:pt x="200" y="289"/>
                    </a:lnTo>
                    <a:lnTo>
                      <a:pt x="208" y="293"/>
                    </a:lnTo>
                    <a:lnTo>
                      <a:pt x="213" y="297"/>
                    </a:lnTo>
                    <a:lnTo>
                      <a:pt x="221" y="300"/>
                    </a:lnTo>
                    <a:lnTo>
                      <a:pt x="228" y="306"/>
                    </a:lnTo>
                    <a:lnTo>
                      <a:pt x="236" y="310"/>
                    </a:lnTo>
                    <a:lnTo>
                      <a:pt x="242" y="314"/>
                    </a:lnTo>
                    <a:lnTo>
                      <a:pt x="249" y="317"/>
                    </a:lnTo>
                    <a:lnTo>
                      <a:pt x="255" y="323"/>
                    </a:lnTo>
                    <a:lnTo>
                      <a:pt x="263" y="327"/>
                    </a:lnTo>
                    <a:lnTo>
                      <a:pt x="270" y="331"/>
                    </a:lnTo>
                    <a:lnTo>
                      <a:pt x="278" y="335"/>
                    </a:lnTo>
                    <a:lnTo>
                      <a:pt x="286" y="338"/>
                    </a:lnTo>
                    <a:lnTo>
                      <a:pt x="291" y="344"/>
                    </a:lnTo>
                    <a:lnTo>
                      <a:pt x="299" y="348"/>
                    </a:lnTo>
                    <a:lnTo>
                      <a:pt x="305" y="354"/>
                    </a:lnTo>
                    <a:lnTo>
                      <a:pt x="310" y="355"/>
                    </a:lnTo>
                    <a:lnTo>
                      <a:pt x="318" y="361"/>
                    </a:lnTo>
                    <a:lnTo>
                      <a:pt x="325" y="365"/>
                    </a:lnTo>
                    <a:lnTo>
                      <a:pt x="333" y="371"/>
                    </a:lnTo>
                    <a:lnTo>
                      <a:pt x="339" y="374"/>
                    </a:lnTo>
                    <a:lnTo>
                      <a:pt x="346" y="380"/>
                    </a:lnTo>
                    <a:lnTo>
                      <a:pt x="354" y="382"/>
                    </a:lnTo>
                    <a:lnTo>
                      <a:pt x="360" y="388"/>
                    </a:lnTo>
                    <a:lnTo>
                      <a:pt x="367" y="392"/>
                    </a:lnTo>
                    <a:lnTo>
                      <a:pt x="375" y="397"/>
                    </a:lnTo>
                    <a:lnTo>
                      <a:pt x="381" y="401"/>
                    </a:lnTo>
                    <a:lnTo>
                      <a:pt x="388" y="405"/>
                    </a:lnTo>
                    <a:lnTo>
                      <a:pt x="396" y="409"/>
                    </a:lnTo>
                    <a:lnTo>
                      <a:pt x="403" y="414"/>
                    </a:lnTo>
                    <a:lnTo>
                      <a:pt x="409" y="418"/>
                    </a:lnTo>
                    <a:lnTo>
                      <a:pt x="417" y="422"/>
                    </a:lnTo>
                    <a:lnTo>
                      <a:pt x="424" y="426"/>
                    </a:lnTo>
                    <a:lnTo>
                      <a:pt x="430" y="430"/>
                    </a:lnTo>
                    <a:lnTo>
                      <a:pt x="438" y="435"/>
                    </a:lnTo>
                    <a:lnTo>
                      <a:pt x="445" y="439"/>
                    </a:lnTo>
                    <a:lnTo>
                      <a:pt x="453" y="443"/>
                    </a:lnTo>
                    <a:lnTo>
                      <a:pt x="459" y="447"/>
                    </a:lnTo>
                    <a:lnTo>
                      <a:pt x="466" y="450"/>
                    </a:lnTo>
                    <a:lnTo>
                      <a:pt x="474" y="454"/>
                    </a:lnTo>
                    <a:lnTo>
                      <a:pt x="481" y="458"/>
                    </a:lnTo>
                    <a:lnTo>
                      <a:pt x="489" y="462"/>
                    </a:lnTo>
                    <a:lnTo>
                      <a:pt x="495" y="466"/>
                    </a:lnTo>
                    <a:lnTo>
                      <a:pt x="502" y="470"/>
                    </a:lnTo>
                    <a:lnTo>
                      <a:pt x="510" y="473"/>
                    </a:lnTo>
                    <a:lnTo>
                      <a:pt x="519" y="479"/>
                    </a:lnTo>
                    <a:lnTo>
                      <a:pt x="554" y="475"/>
                    </a:lnTo>
                    <a:lnTo>
                      <a:pt x="592" y="473"/>
                    </a:lnTo>
                    <a:lnTo>
                      <a:pt x="628" y="471"/>
                    </a:lnTo>
                    <a:lnTo>
                      <a:pt x="664" y="470"/>
                    </a:lnTo>
                    <a:lnTo>
                      <a:pt x="700" y="468"/>
                    </a:lnTo>
                    <a:lnTo>
                      <a:pt x="736" y="466"/>
                    </a:lnTo>
                    <a:lnTo>
                      <a:pt x="772" y="464"/>
                    </a:lnTo>
                    <a:lnTo>
                      <a:pt x="810" y="464"/>
                    </a:lnTo>
                    <a:lnTo>
                      <a:pt x="846" y="464"/>
                    </a:lnTo>
                    <a:lnTo>
                      <a:pt x="882" y="462"/>
                    </a:lnTo>
                    <a:lnTo>
                      <a:pt x="919" y="462"/>
                    </a:lnTo>
                    <a:lnTo>
                      <a:pt x="957" y="462"/>
                    </a:lnTo>
                    <a:lnTo>
                      <a:pt x="993" y="462"/>
                    </a:lnTo>
                    <a:lnTo>
                      <a:pt x="1031" y="462"/>
                    </a:lnTo>
                    <a:lnTo>
                      <a:pt x="1067" y="462"/>
                    </a:lnTo>
                    <a:lnTo>
                      <a:pt x="1105" y="462"/>
                    </a:lnTo>
                    <a:lnTo>
                      <a:pt x="1141" y="460"/>
                    </a:lnTo>
                    <a:lnTo>
                      <a:pt x="1177" y="460"/>
                    </a:lnTo>
                    <a:lnTo>
                      <a:pt x="1215" y="460"/>
                    </a:lnTo>
                    <a:lnTo>
                      <a:pt x="1251" y="460"/>
                    </a:lnTo>
                    <a:lnTo>
                      <a:pt x="1287" y="460"/>
                    </a:lnTo>
                    <a:lnTo>
                      <a:pt x="1325" y="462"/>
                    </a:lnTo>
                    <a:lnTo>
                      <a:pt x="1362" y="462"/>
                    </a:lnTo>
                    <a:lnTo>
                      <a:pt x="1400" y="462"/>
                    </a:lnTo>
                    <a:lnTo>
                      <a:pt x="1436" y="462"/>
                    </a:lnTo>
                    <a:lnTo>
                      <a:pt x="1474" y="462"/>
                    </a:lnTo>
                    <a:lnTo>
                      <a:pt x="1510" y="464"/>
                    </a:lnTo>
                    <a:lnTo>
                      <a:pt x="1548" y="464"/>
                    </a:lnTo>
                    <a:lnTo>
                      <a:pt x="1584" y="464"/>
                    </a:lnTo>
                    <a:lnTo>
                      <a:pt x="1622" y="464"/>
                    </a:lnTo>
                    <a:lnTo>
                      <a:pt x="1658" y="466"/>
                    </a:lnTo>
                    <a:lnTo>
                      <a:pt x="1696" y="466"/>
                    </a:lnTo>
                    <a:lnTo>
                      <a:pt x="1732" y="466"/>
                    </a:lnTo>
                    <a:lnTo>
                      <a:pt x="1768" y="466"/>
                    </a:lnTo>
                    <a:lnTo>
                      <a:pt x="1805" y="466"/>
                    </a:lnTo>
                    <a:lnTo>
                      <a:pt x="1843" y="466"/>
                    </a:lnTo>
                    <a:lnTo>
                      <a:pt x="1879" y="466"/>
                    </a:lnTo>
                    <a:lnTo>
                      <a:pt x="1917" y="466"/>
                    </a:lnTo>
                    <a:lnTo>
                      <a:pt x="1953" y="466"/>
                    </a:lnTo>
                    <a:lnTo>
                      <a:pt x="1991" y="468"/>
                    </a:lnTo>
                    <a:lnTo>
                      <a:pt x="2027" y="466"/>
                    </a:lnTo>
                    <a:lnTo>
                      <a:pt x="2063" y="466"/>
                    </a:lnTo>
                    <a:lnTo>
                      <a:pt x="2099" y="466"/>
                    </a:lnTo>
                    <a:lnTo>
                      <a:pt x="2135" y="466"/>
                    </a:lnTo>
                    <a:lnTo>
                      <a:pt x="2171" y="466"/>
                    </a:lnTo>
                    <a:lnTo>
                      <a:pt x="2209" y="466"/>
                    </a:lnTo>
                    <a:lnTo>
                      <a:pt x="2246" y="466"/>
                    </a:lnTo>
                    <a:lnTo>
                      <a:pt x="2282" y="466"/>
                    </a:lnTo>
                    <a:lnTo>
                      <a:pt x="2318" y="464"/>
                    </a:lnTo>
                    <a:lnTo>
                      <a:pt x="2354" y="462"/>
                    </a:lnTo>
                    <a:lnTo>
                      <a:pt x="2390" y="462"/>
                    </a:lnTo>
                    <a:lnTo>
                      <a:pt x="2426" y="460"/>
                    </a:lnTo>
                    <a:lnTo>
                      <a:pt x="2462" y="458"/>
                    </a:lnTo>
                    <a:lnTo>
                      <a:pt x="2498" y="456"/>
                    </a:lnTo>
                    <a:lnTo>
                      <a:pt x="2535" y="454"/>
                    </a:lnTo>
                    <a:lnTo>
                      <a:pt x="2571" y="454"/>
                    </a:lnTo>
                    <a:lnTo>
                      <a:pt x="2607" y="450"/>
                    </a:lnTo>
                    <a:lnTo>
                      <a:pt x="2643" y="449"/>
                    </a:lnTo>
                    <a:lnTo>
                      <a:pt x="2679" y="445"/>
                    </a:lnTo>
                    <a:lnTo>
                      <a:pt x="2715" y="443"/>
                    </a:lnTo>
                    <a:lnTo>
                      <a:pt x="2749" y="441"/>
                    </a:lnTo>
                    <a:lnTo>
                      <a:pt x="2786" y="437"/>
                    </a:lnTo>
                    <a:lnTo>
                      <a:pt x="2822" y="433"/>
                    </a:lnTo>
                    <a:lnTo>
                      <a:pt x="2858" y="430"/>
                    </a:lnTo>
                    <a:lnTo>
                      <a:pt x="2850" y="428"/>
                    </a:lnTo>
                    <a:lnTo>
                      <a:pt x="2843" y="426"/>
                    </a:lnTo>
                    <a:lnTo>
                      <a:pt x="2835" y="424"/>
                    </a:lnTo>
                    <a:lnTo>
                      <a:pt x="2829" y="422"/>
                    </a:lnTo>
                    <a:lnTo>
                      <a:pt x="2822" y="420"/>
                    </a:lnTo>
                    <a:lnTo>
                      <a:pt x="2816" y="420"/>
                    </a:lnTo>
                    <a:lnTo>
                      <a:pt x="2808" y="420"/>
                    </a:lnTo>
                    <a:lnTo>
                      <a:pt x="2801" y="420"/>
                    </a:lnTo>
                    <a:lnTo>
                      <a:pt x="2795" y="420"/>
                    </a:lnTo>
                    <a:lnTo>
                      <a:pt x="2787" y="420"/>
                    </a:lnTo>
                    <a:lnTo>
                      <a:pt x="2780" y="420"/>
                    </a:lnTo>
                    <a:lnTo>
                      <a:pt x="2772" y="422"/>
                    </a:lnTo>
                    <a:lnTo>
                      <a:pt x="2765" y="422"/>
                    </a:lnTo>
                    <a:lnTo>
                      <a:pt x="2759" y="424"/>
                    </a:lnTo>
                    <a:lnTo>
                      <a:pt x="2751" y="424"/>
                    </a:lnTo>
                    <a:lnTo>
                      <a:pt x="2744" y="426"/>
                    </a:lnTo>
                    <a:lnTo>
                      <a:pt x="2736" y="426"/>
                    </a:lnTo>
                    <a:lnTo>
                      <a:pt x="2728" y="428"/>
                    </a:lnTo>
                    <a:lnTo>
                      <a:pt x="2721" y="428"/>
                    </a:lnTo>
                    <a:lnTo>
                      <a:pt x="2715" y="428"/>
                    </a:lnTo>
                    <a:lnTo>
                      <a:pt x="2708" y="428"/>
                    </a:lnTo>
                    <a:lnTo>
                      <a:pt x="2700" y="430"/>
                    </a:lnTo>
                    <a:lnTo>
                      <a:pt x="2694" y="430"/>
                    </a:lnTo>
                    <a:lnTo>
                      <a:pt x="2687" y="430"/>
                    </a:lnTo>
                    <a:lnTo>
                      <a:pt x="2679" y="430"/>
                    </a:lnTo>
                    <a:lnTo>
                      <a:pt x="2673" y="430"/>
                    </a:lnTo>
                    <a:lnTo>
                      <a:pt x="2668" y="428"/>
                    </a:lnTo>
                    <a:lnTo>
                      <a:pt x="2660" y="428"/>
                    </a:lnTo>
                    <a:lnTo>
                      <a:pt x="2654" y="426"/>
                    </a:lnTo>
                    <a:lnTo>
                      <a:pt x="2649" y="424"/>
                    </a:lnTo>
                    <a:lnTo>
                      <a:pt x="2643" y="422"/>
                    </a:lnTo>
                    <a:lnTo>
                      <a:pt x="2637" y="420"/>
                    </a:lnTo>
                    <a:lnTo>
                      <a:pt x="2643" y="418"/>
                    </a:lnTo>
                    <a:lnTo>
                      <a:pt x="2649" y="416"/>
                    </a:lnTo>
                    <a:lnTo>
                      <a:pt x="2656" y="414"/>
                    </a:lnTo>
                    <a:lnTo>
                      <a:pt x="2662" y="414"/>
                    </a:lnTo>
                    <a:lnTo>
                      <a:pt x="2668" y="412"/>
                    </a:lnTo>
                    <a:lnTo>
                      <a:pt x="2675" y="411"/>
                    </a:lnTo>
                    <a:lnTo>
                      <a:pt x="2681" y="411"/>
                    </a:lnTo>
                    <a:lnTo>
                      <a:pt x="2687" y="411"/>
                    </a:lnTo>
                    <a:lnTo>
                      <a:pt x="2694" y="409"/>
                    </a:lnTo>
                    <a:lnTo>
                      <a:pt x="2700" y="409"/>
                    </a:lnTo>
                    <a:lnTo>
                      <a:pt x="2706" y="407"/>
                    </a:lnTo>
                    <a:lnTo>
                      <a:pt x="2713" y="407"/>
                    </a:lnTo>
                    <a:lnTo>
                      <a:pt x="2719" y="407"/>
                    </a:lnTo>
                    <a:lnTo>
                      <a:pt x="2725" y="407"/>
                    </a:lnTo>
                    <a:lnTo>
                      <a:pt x="2732" y="405"/>
                    </a:lnTo>
                    <a:lnTo>
                      <a:pt x="2738" y="405"/>
                    </a:lnTo>
                    <a:lnTo>
                      <a:pt x="2744" y="405"/>
                    </a:lnTo>
                    <a:lnTo>
                      <a:pt x="2749" y="403"/>
                    </a:lnTo>
                    <a:lnTo>
                      <a:pt x="2755" y="401"/>
                    </a:lnTo>
                    <a:lnTo>
                      <a:pt x="2763" y="401"/>
                    </a:lnTo>
                    <a:lnTo>
                      <a:pt x="2768" y="401"/>
                    </a:lnTo>
                    <a:lnTo>
                      <a:pt x="2774" y="399"/>
                    </a:lnTo>
                    <a:lnTo>
                      <a:pt x="2782" y="399"/>
                    </a:lnTo>
                    <a:lnTo>
                      <a:pt x="2787" y="399"/>
                    </a:lnTo>
                    <a:lnTo>
                      <a:pt x="2795" y="397"/>
                    </a:lnTo>
                    <a:lnTo>
                      <a:pt x="2801" y="395"/>
                    </a:lnTo>
                    <a:lnTo>
                      <a:pt x="2806" y="393"/>
                    </a:lnTo>
                    <a:lnTo>
                      <a:pt x="2814" y="392"/>
                    </a:lnTo>
                    <a:lnTo>
                      <a:pt x="2820" y="390"/>
                    </a:lnTo>
                    <a:lnTo>
                      <a:pt x="2825" y="390"/>
                    </a:lnTo>
                    <a:lnTo>
                      <a:pt x="2833" y="388"/>
                    </a:lnTo>
                    <a:lnTo>
                      <a:pt x="2839" y="386"/>
                    </a:lnTo>
                    <a:lnTo>
                      <a:pt x="2835" y="378"/>
                    </a:lnTo>
                    <a:lnTo>
                      <a:pt x="2831" y="374"/>
                    </a:lnTo>
                    <a:lnTo>
                      <a:pt x="2827" y="371"/>
                    </a:lnTo>
                    <a:lnTo>
                      <a:pt x="2825" y="369"/>
                    </a:lnTo>
                    <a:lnTo>
                      <a:pt x="2816" y="365"/>
                    </a:lnTo>
                    <a:lnTo>
                      <a:pt x="2808" y="365"/>
                    </a:lnTo>
                    <a:lnTo>
                      <a:pt x="2799" y="365"/>
                    </a:lnTo>
                    <a:lnTo>
                      <a:pt x="2789" y="367"/>
                    </a:lnTo>
                    <a:lnTo>
                      <a:pt x="2780" y="365"/>
                    </a:lnTo>
                    <a:lnTo>
                      <a:pt x="2770" y="363"/>
                    </a:lnTo>
                    <a:lnTo>
                      <a:pt x="2770" y="359"/>
                    </a:lnTo>
                    <a:lnTo>
                      <a:pt x="2778" y="355"/>
                    </a:lnTo>
                    <a:lnTo>
                      <a:pt x="2784" y="354"/>
                    </a:lnTo>
                    <a:lnTo>
                      <a:pt x="2787" y="352"/>
                    </a:lnTo>
                    <a:lnTo>
                      <a:pt x="2793" y="348"/>
                    </a:lnTo>
                    <a:lnTo>
                      <a:pt x="2799" y="342"/>
                    </a:lnTo>
                    <a:lnTo>
                      <a:pt x="2801" y="335"/>
                    </a:lnTo>
                    <a:lnTo>
                      <a:pt x="2801" y="327"/>
                    </a:lnTo>
                    <a:lnTo>
                      <a:pt x="2799" y="319"/>
                    </a:lnTo>
                    <a:lnTo>
                      <a:pt x="2793" y="310"/>
                    </a:lnTo>
                    <a:lnTo>
                      <a:pt x="2787" y="304"/>
                    </a:lnTo>
                    <a:lnTo>
                      <a:pt x="2780" y="293"/>
                    </a:lnTo>
                    <a:lnTo>
                      <a:pt x="2770" y="287"/>
                    </a:lnTo>
                    <a:lnTo>
                      <a:pt x="2759" y="279"/>
                    </a:lnTo>
                    <a:lnTo>
                      <a:pt x="2749" y="276"/>
                    </a:lnTo>
                    <a:lnTo>
                      <a:pt x="2738" y="272"/>
                    </a:lnTo>
                    <a:lnTo>
                      <a:pt x="2728" y="270"/>
                    </a:lnTo>
                    <a:lnTo>
                      <a:pt x="2719" y="268"/>
                    </a:lnTo>
                    <a:lnTo>
                      <a:pt x="2709" y="270"/>
                    </a:lnTo>
                    <a:lnTo>
                      <a:pt x="2709" y="268"/>
                    </a:lnTo>
                    <a:lnTo>
                      <a:pt x="2717" y="266"/>
                    </a:lnTo>
                    <a:lnTo>
                      <a:pt x="2727" y="262"/>
                    </a:lnTo>
                    <a:lnTo>
                      <a:pt x="2732" y="257"/>
                    </a:lnTo>
                    <a:lnTo>
                      <a:pt x="2740" y="251"/>
                    </a:lnTo>
                    <a:lnTo>
                      <a:pt x="2744" y="243"/>
                    </a:lnTo>
                    <a:lnTo>
                      <a:pt x="2744" y="236"/>
                    </a:lnTo>
                    <a:lnTo>
                      <a:pt x="2742" y="226"/>
                    </a:lnTo>
                    <a:lnTo>
                      <a:pt x="2736" y="220"/>
                    </a:lnTo>
                    <a:lnTo>
                      <a:pt x="2728" y="226"/>
                    </a:lnTo>
                    <a:lnTo>
                      <a:pt x="2719" y="232"/>
                    </a:lnTo>
                    <a:lnTo>
                      <a:pt x="2708" y="230"/>
                    </a:lnTo>
                    <a:lnTo>
                      <a:pt x="2698" y="224"/>
                    </a:lnTo>
                    <a:lnTo>
                      <a:pt x="2698" y="220"/>
                    </a:lnTo>
                    <a:lnTo>
                      <a:pt x="2706" y="219"/>
                    </a:lnTo>
                    <a:lnTo>
                      <a:pt x="2715" y="215"/>
                    </a:lnTo>
                    <a:lnTo>
                      <a:pt x="2721" y="209"/>
                    </a:lnTo>
                    <a:lnTo>
                      <a:pt x="2725" y="203"/>
                    </a:lnTo>
                    <a:lnTo>
                      <a:pt x="2725" y="196"/>
                    </a:lnTo>
                    <a:lnTo>
                      <a:pt x="2725" y="188"/>
                    </a:lnTo>
                    <a:lnTo>
                      <a:pt x="2721" y="181"/>
                    </a:lnTo>
                    <a:lnTo>
                      <a:pt x="2713" y="173"/>
                    </a:lnTo>
                    <a:lnTo>
                      <a:pt x="2704" y="179"/>
                    </a:lnTo>
                    <a:lnTo>
                      <a:pt x="2694" y="182"/>
                    </a:lnTo>
                    <a:lnTo>
                      <a:pt x="2681" y="182"/>
                    </a:lnTo>
                    <a:lnTo>
                      <a:pt x="2675" y="177"/>
                    </a:lnTo>
                    <a:lnTo>
                      <a:pt x="2675" y="173"/>
                    </a:lnTo>
                    <a:lnTo>
                      <a:pt x="2679" y="169"/>
                    </a:lnTo>
                    <a:lnTo>
                      <a:pt x="2685" y="169"/>
                    </a:lnTo>
                    <a:lnTo>
                      <a:pt x="2689" y="169"/>
                    </a:lnTo>
                    <a:lnTo>
                      <a:pt x="2694" y="171"/>
                    </a:lnTo>
                    <a:lnTo>
                      <a:pt x="2690" y="163"/>
                    </a:lnTo>
                    <a:lnTo>
                      <a:pt x="2685" y="158"/>
                    </a:lnTo>
                    <a:lnTo>
                      <a:pt x="2677" y="154"/>
                    </a:lnTo>
                    <a:lnTo>
                      <a:pt x="2668" y="152"/>
                    </a:lnTo>
                    <a:lnTo>
                      <a:pt x="2658" y="150"/>
                    </a:lnTo>
                    <a:lnTo>
                      <a:pt x="2647" y="150"/>
                    </a:lnTo>
                    <a:lnTo>
                      <a:pt x="2635" y="148"/>
                    </a:lnTo>
                    <a:lnTo>
                      <a:pt x="2626" y="148"/>
                    </a:lnTo>
                    <a:lnTo>
                      <a:pt x="2614" y="146"/>
                    </a:lnTo>
                    <a:lnTo>
                      <a:pt x="2605" y="144"/>
                    </a:lnTo>
                    <a:lnTo>
                      <a:pt x="2595" y="143"/>
                    </a:lnTo>
                    <a:lnTo>
                      <a:pt x="2588" y="141"/>
                    </a:lnTo>
                    <a:lnTo>
                      <a:pt x="2582" y="135"/>
                    </a:lnTo>
                    <a:lnTo>
                      <a:pt x="2578" y="127"/>
                    </a:lnTo>
                    <a:lnTo>
                      <a:pt x="2578" y="122"/>
                    </a:lnTo>
                    <a:lnTo>
                      <a:pt x="2580" y="112"/>
                    </a:lnTo>
                    <a:lnTo>
                      <a:pt x="2578" y="106"/>
                    </a:lnTo>
                    <a:lnTo>
                      <a:pt x="2576" y="103"/>
                    </a:lnTo>
                    <a:lnTo>
                      <a:pt x="2571" y="106"/>
                    </a:lnTo>
                    <a:lnTo>
                      <a:pt x="2565" y="112"/>
                    </a:lnTo>
                    <a:lnTo>
                      <a:pt x="2559" y="116"/>
                    </a:lnTo>
                    <a:lnTo>
                      <a:pt x="2555" y="120"/>
                    </a:lnTo>
                    <a:lnTo>
                      <a:pt x="2550" y="122"/>
                    </a:lnTo>
                    <a:lnTo>
                      <a:pt x="2546" y="125"/>
                    </a:lnTo>
                    <a:lnTo>
                      <a:pt x="2538" y="125"/>
                    </a:lnTo>
                    <a:lnTo>
                      <a:pt x="2533" y="125"/>
                    </a:lnTo>
                    <a:lnTo>
                      <a:pt x="253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358920" y="2967120"/>
                <a:ext cx="2427120" cy="1404720"/>
              </a:xfrm>
              <a:custGeom>
                <a:avLst/>
                <a:gdLst/>
                <a:ahLst/>
                <a:rect l="l" t="t" r="r" b="b"/>
                <a:pathLst>
                  <a:path w="3057" h="1770">
                    <a:moveTo>
                      <a:pt x="2753" y="1770"/>
                    </a:moveTo>
                    <a:lnTo>
                      <a:pt x="2751" y="1762"/>
                    </a:lnTo>
                    <a:lnTo>
                      <a:pt x="2751" y="1755"/>
                    </a:lnTo>
                    <a:lnTo>
                      <a:pt x="2749" y="1747"/>
                    </a:lnTo>
                    <a:lnTo>
                      <a:pt x="2749" y="1740"/>
                    </a:lnTo>
                    <a:lnTo>
                      <a:pt x="2747" y="1730"/>
                    </a:lnTo>
                    <a:lnTo>
                      <a:pt x="2747" y="1722"/>
                    </a:lnTo>
                    <a:lnTo>
                      <a:pt x="2747" y="1715"/>
                    </a:lnTo>
                    <a:lnTo>
                      <a:pt x="2747" y="1709"/>
                    </a:lnTo>
                    <a:lnTo>
                      <a:pt x="2747" y="1700"/>
                    </a:lnTo>
                    <a:lnTo>
                      <a:pt x="2747" y="1692"/>
                    </a:lnTo>
                    <a:lnTo>
                      <a:pt x="2745" y="1682"/>
                    </a:lnTo>
                    <a:lnTo>
                      <a:pt x="2745" y="1675"/>
                    </a:lnTo>
                    <a:lnTo>
                      <a:pt x="2745" y="1667"/>
                    </a:lnTo>
                    <a:lnTo>
                      <a:pt x="2745" y="1660"/>
                    </a:lnTo>
                    <a:lnTo>
                      <a:pt x="2745" y="1650"/>
                    </a:lnTo>
                    <a:lnTo>
                      <a:pt x="2745" y="1644"/>
                    </a:lnTo>
                    <a:lnTo>
                      <a:pt x="2745" y="1635"/>
                    </a:lnTo>
                    <a:lnTo>
                      <a:pt x="2745" y="1627"/>
                    </a:lnTo>
                    <a:lnTo>
                      <a:pt x="2745" y="1618"/>
                    </a:lnTo>
                    <a:lnTo>
                      <a:pt x="2745" y="1610"/>
                    </a:lnTo>
                    <a:lnTo>
                      <a:pt x="2745" y="1601"/>
                    </a:lnTo>
                    <a:lnTo>
                      <a:pt x="2745" y="1593"/>
                    </a:lnTo>
                    <a:lnTo>
                      <a:pt x="2745" y="1586"/>
                    </a:lnTo>
                    <a:lnTo>
                      <a:pt x="2745" y="1578"/>
                    </a:lnTo>
                    <a:lnTo>
                      <a:pt x="2745" y="1568"/>
                    </a:lnTo>
                    <a:lnTo>
                      <a:pt x="2745" y="1561"/>
                    </a:lnTo>
                    <a:lnTo>
                      <a:pt x="2745" y="1551"/>
                    </a:lnTo>
                    <a:lnTo>
                      <a:pt x="2747" y="1546"/>
                    </a:lnTo>
                    <a:lnTo>
                      <a:pt x="2747" y="1536"/>
                    </a:lnTo>
                    <a:lnTo>
                      <a:pt x="2747" y="1528"/>
                    </a:lnTo>
                    <a:lnTo>
                      <a:pt x="2747" y="1521"/>
                    </a:lnTo>
                    <a:lnTo>
                      <a:pt x="2749" y="1513"/>
                    </a:lnTo>
                    <a:lnTo>
                      <a:pt x="2749" y="1504"/>
                    </a:lnTo>
                    <a:lnTo>
                      <a:pt x="2749" y="1496"/>
                    </a:lnTo>
                    <a:lnTo>
                      <a:pt x="2749" y="1487"/>
                    </a:lnTo>
                    <a:lnTo>
                      <a:pt x="2749" y="1479"/>
                    </a:lnTo>
                    <a:lnTo>
                      <a:pt x="2749" y="1471"/>
                    </a:lnTo>
                    <a:lnTo>
                      <a:pt x="2751" y="1464"/>
                    </a:lnTo>
                    <a:lnTo>
                      <a:pt x="2751" y="1454"/>
                    </a:lnTo>
                    <a:lnTo>
                      <a:pt x="2751" y="1447"/>
                    </a:lnTo>
                    <a:lnTo>
                      <a:pt x="2751" y="1437"/>
                    </a:lnTo>
                    <a:lnTo>
                      <a:pt x="2753" y="1430"/>
                    </a:lnTo>
                    <a:lnTo>
                      <a:pt x="2753" y="1422"/>
                    </a:lnTo>
                    <a:lnTo>
                      <a:pt x="2753" y="1414"/>
                    </a:lnTo>
                    <a:lnTo>
                      <a:pt x="2753" y="1407"/>
                    </a:lnTo>
                    <a:lnTo>
                      <a:pt x="2755" y="1399"/>
                    </a:lnTo>
                    <a:lnTo>
                      <a:pt x="2755" y="1392"/>
                    </a:lnTo>
                    <a:lnTo>
                      <a:pt x="2757" y="1384"/>
                    </a:lnTo>
                    <a:lnTo>
                      <a:pt x="2757" y="1376"/>
                    </a:lnTo>
                    <a:lnTo>
                      <a:pt x="2758" y="1369"/>
                    </a:lnTo>
                    <a:lnTo>
                      <a:pt x="2758" y="1361"/>
                    </a:lnTo>
                    <a:lnTo>
                      <a:pt x="2760" y="1354"/>
                    </a:lnTo>
                    <a:lnTo>
                      <a:pt x="2760" y="1346"/>
                    </a:lnTo>
                    <a:lnTo>
                      <a:pt x="2760" y="1338"/>
                    </a:lnTo>
                    <a:lnTo>
                      <a:pt x="2762" y="1331"/>
                    </a:lnTo>
                    <a:lnTo>
                      <a:pt x="2762" y="1325"/>
                    </a:lnTo>
                    <a:lnTo>
                      <a:pt x="2762" y="1317"/>
                    </a:lnTo>
                    <a:lnTo>
                      <a:pt x="2764" y="1310"/>
                    </a:lnTo>
                    <a:lnTo>
                      <a:pt x="2764" y="1302"/>
                    </a:lnTo>
                    <a:lnTo>
                      <a:pt x="2768" y="1297"/>
                    </a:lnTo>
                    <a:lnTo>
                      <a:pt x="2768" y="1289"/>
                    </a:lnTo>
                    <a:lnTo>
                      <a:pt x="2768" y="1283"/>
                    </a:lnTo>
                    <a:lnTo>
                      <a:pt x="2770" y="1276"/>
                    </a:lnTo>
                    <a:lnTo>
                      <a:pt x="2772" y="1270"/>
                    </a:lnTo>
                    <a:lnTo>
                      <a:pt x="2768" y="1264"/>
                    </a:lnTo>
                    <a:lnTo>
                      <a:pt x="2766" y="1257"/>
                    </a:lnTo>
                    <a:lnTo>
                      <a:pt x="2764" y="1251"/>
                    </a:lnTo>
                    <a:lnTo>
                      <a:pt x="2762" y="1245"/>
                    </a:lnTo>
                    <a:lnTo>
                      <a:pt x="2758" y="1240"/>
                    </a:lnTo>
                    <a:lnTo>
                      <a:pt x="2758" y="1234"/>
                    </a:lnTo>
                    <a:lnTo>
                      <a:pt x="2755" y="1228"/>
                    </a:lnTo>
                    <a:lnTo>
                      <a:pt x="2753" y="1222"/>
                    </a:lnTo>
                    <a:lnTo>
                      <a:pt x="2751" y="1217"/>
                    </a:lnTo>
                    <a:lnTo>
                      <a:pt x="2749" y="1209"/>
                    </a:lnTo>
                    <a:lnTo>
                      <a:pt x="2745" y="1205"/>
                    </a:lnTo>
                    <a:lnTo>
                      <a:pt x="2745" y="1200"/>
                    </a:lnTo>
                    <a:lnTo>
                      <a:pt x="2743" y="1192"/>
                    </a:lnTo>
                    <a:lnTo>
                      <a:pt x="2741" y="1186"/>
                    </a:lnTo>
                    <a:lnTo>
                      <a:pt x="2738" y="1181"/>
                    </a:lnTo>
                    <a:lnTo>
                      <a:pt x="2738" y="1175"/>
                    </a:lnTo>
                    <a:lnTo>
                      <a:pt x="2734" y="1169"/>
                    </a:lnTo>
                    <a:lnTo>
                      <a:pt x="2734" y="1163"/>
                    </a:lnTo>
                    <a:lnTo>
                      <a:pt x="2732" y="1156"/>
                    </a:lnTo>
                    <a:lnTo>
                      <a:pt x="2730" y="1152"/>
                    </a:lnTo>
                    <a:lnTo>
                      <a:pt x="2728" y="1144"/>
                    </a:lnTo>
                    <a:lnTo>
                      <a:pt x="2726" y="1139"/>
                    </a:lnTo>
                    <a:lnTo>
                      <a:pt x="2724" y="1133"/>
                    </a:lnTo>
                    <a:lnTo>
                      <a:pt x="2724" y="1127"/>
                    </a:lnTo>
                    <a:lnTo>
                      <a:pt x="2722" y="1120"/>
                    </a:lnTo>
                    <a:lnTo>
                      <a:pt x="2720" y="1114"/>
                    </a:lnTo>
                    <a:lnTo>
                      <a:pt x="2719" y="1108"/>
                    </a:lnTo>
                    <a:lnTo>
                      <a:pt x="2717" y="1103"/>
                    </a:lnTo>
                    <a:lnTo>
                      <a:pt x="2715" y="1097"/>
                    </a:lnTo>
                    <a:lnTo>
                      <a:pt x="2715" y="1091"/>
                    </a:lnTo>
                    <a:lnTo>
                      <a:pt x="2713" y="1084"/>
                    </a:lnTo>
                    <a:lnTo>
                      <a:pt x="2713" y="1080"/>
                    </a:lnTo>
                    <a:lnTo>
                      <a:pt x="2711" y="1072"/>
                    </a:lnTo>
                    <a:lnTo>
                      <a:pt x="2709" y="1067"/>
                    </a:lnTo>
                    <a:lnTo>
                      <a:pt x="2709" y="1061"/>
                    </a:lnTo>
                    <a:lnTo>
                      <a:pt x="2709" y="1053"/>
                    </a:lnTo>
                    <a:lnTo>
                      <a:pt x="2707" y="1048"/>
                    </a:lnTo>
                    <a:lnTo>
                      <a:pt x="2707" y="1042"/>
                    </a:lnTo>
                    <a:lnTo>
                      <a:pt x="2707" y="1034"/>
                    </a:lnTo>
                    <a:lnTo>
                      <a:pt x="2707" y="1029"/>
                    </a:lnTo>
                    <a:lnTo>
                      <a:pt x="2705" y="1023"/>
                    </a:lnTo>
                    <a:lnTo>
                      <a:pt x="2705" y="1015"/>
                    </a:lnTo>
                    <a:lnTo>
                      <a:pt x="2705" y="1010"/>
                    </a:lnTo>
                    <a:lnTo>
                      <a:pt x="2705" y="1004"/>
                    </a:lnTo>
                    <a:lnTo>
                      <a:pt x="2705" y="996"/>
                    </a:lnTo>
                    <a:lnTo>
                      <a:pt x="2705" y="990"/>
                    </a:lnTo>
                    <a:lnTo>
                      <a:pt x="2705" y="985"/>
                    </a:lnTo>
                    <a:lnTo>
                      <a:pt x="2707" y="979"/>
                    </a:lnTo>
                    <a:lnTo>
                      <a:pt x="2707" y="971"/>
                    </a:lnTo>
                    <a:lnTo>
                      <a:pt x="2707" y="964"/>
                    </a:lnTo>
                    <a:lnTo>
                      <a:pt x="2707" y="958"/>
                    </a:lnTo>
                    <a:lnTo>
                      <a:pt x="2709" y="952"/>
                    </a:lnTo>
                    <a:lnTo>
                      <a:pt x="2709" y="945"/>
                    </a:lnTo>
                    <a:lnTo>
                      <a:pt x="2711" y="939"/>
                    </a:lnTo>
                    <a:lnTo>
                      <a:pt x="2713" y="933"/>
                    </a:lnTo>
                    <a:lnTo>
                      <a:pt x="2715" y="926"/>
                    </a:lnTo>
                    <a:lnTo>
                      <a:pt x="2715" y="918"/>
                    </a:lnTo>
                    <a:lnTo>
                      <a:pt x="2717" y="913"/>
                    </a:lnTo>
                    <a:lnTo>
                      <a:pt x="2719" y="907"/>
                    </a:lnTo>
                    <a:lnTo>
                      <a:pt x="2722" y="899"/>
                    </a:lnTo>
                    <a:lnTo>
                      <a:pt x="2724" y="894"/>
                    </a:lnTo>
                    <a:lnTo>
                      <a:pt x="2726" y="886"/>
                    </a:lnTo>
                    <a:lnTo>
                      <a:pt x="2728" y="880"/>
                    </a:lnTo>
                    <a:lnTo>
                      <a:pt x="2732" y="873"/>
                    </a:lnTo>
                    <a:lnTo>
                      <a:pt x="2738" y="876"/>
                    </a:lnTo>
                    <a:lnTo>
                      <a:pt x="2743" y="882"/>
                    </a:lnTo>
                    <a:lnTo>
                      <a:pt x="2745" y="888"/>
                    </a:lnTo>
                    <a:lnTo>
                      <a:pt x="2749" y="894"/>
                    </a:lnTo>
                    <a:lnTo>
                      <a:pt x="2751" y="899"/>
                    </a:lnTo>
                    <a:lnTo>
                      <a:pt x="2751" y="907"/>
                    </a:lnTo>
                    <a:lnTo>
                      <a:pt x="2751" y="914"/>
                    </a:lnTo>
                    <a:lnTo>
                      <a:pt x="2753" y="922"/>
                    </a:lnTo>
                    <a:lnTo>
                      <a:pt x="2758" y="930"/>
                    </a:lnTo>
                    <a:lnTo>
                      <a:pt x="2762" y="937"/>
                    </a:lnTo>
                    <a:lnTo>
                      <a:pt x="2768" y="947"/>
                    </a:lnTo>
                    <a:lnTo>
                      <a:pt x="2774" y="958"/>
                    </a:lnTo>
                    <a:lnTo>
                      <a:pt x="2777" y="968"/>
                    </a:lnTo>
                    <a:lnTo>
                      <a:pt x="2781" y="977"/>
                    </a:lnTo>
                    <a:lnTo>
                      <a:pt x="2785" y="987"/>
                    </a:lnTo>
                    <a:lnTo>
                      <a:pt x="2789" y="998"/>
                    </a:lnTo>
                    <a:lnTo>
                      <a:pt x="2791" y="1008"/>
                    </a:lnTo>
                    <a:lnTo>
                      <a:pt x="2795" y="1017"/>
                    </a:lnTo>
                    <a:lnTo>
                      <a:pt x="2796" y="1029"/>
                    </a:lnTo>
                    <a:lnTo>
                      <a:pt x="2800" y="1040"/>
                    </a:lnTo>
                    <a:lnTo>
                      <a:pt x="2802" y="1051"/>
                    </a:lnTo>
                    <a:lnTo>
                      <a:pt x="2804" y="1063"/>
                    </a:lnTo>
                    <a:lnTo>
                      <a:pt x="2806" y="1072"/>
                    </a:lnTo>
                    <a:lnTo>
                      <a:pt x="2808" y="1084"/>
                    </a:lnTo>
                    <a:lnTo>
                      <a:pt x="2810" y="1095"/>
                    </a:lnTo>
                    <a:lnTo>
                      <a:pt x="2810" y="1106"/>
                    </a:lnTo>
                    <a:lnTo>
                      <a:pt x="2812" y="1118"/>
                    </a:lnTo>
                    <a:lnTo>
                      <a:pt x="2812" y="1129"/>
                    </a:lnTo>
                    <a:lnTo>
                      <a:pt x="2814" y="1139"/>
                    </a:lnTo>
                    <a:lnTo>
                      <a:pt x="2815" y="1152"/>
                    </a:lnTo>
                    <a:lnTo>
                      <a:pt x="2815" y="1162"/>
                    </a:lnTo>
                    <a:lnTo>
                      <a:pt x="2817" y="1175"/>
                    </a:lnTo>
                    <a:lnTo>
                      <a:pt x="2817" y="1186"/>
                    </a:lnTo>
                    <a:lnTo>
                      <a:pt x="2817" y="1198"/>
                    </a:lnTo>
                    <a:lnTo>
                      <a:pt x="2819" y="1207"/>
                    </a:lnTo>
                    <a:lnTo>
                      <a:pt x="2819" y="1219"/>
                    </a:lnTo>
                    <a:lnTo>
                      <a:pt x="2819" y="1230"/>
                    </a:lnTo>
                    <a:lnTo>
                      <a:pt x="2821" y="1241"/>
                    </a:lnTo>
                    <a:lnTo>
                      <a:pt x="2821" y="1253"/>
                    </a:lnTo>
                    <a:lnTo>
                      <a:pt x="2825" y="1264"/>
                    </a:lnTo>
                    <a:lnTo>
                      <a:pt x="2825" y="1274"/>
                    </a:lnTo>
                    <a:lnTo>
                      <a:pt x="2827" y="1285"/>
                    </a:lnTo>
                    <a:lnTo>
                      <a:pt x="2827" y="1297"/>
                    </a:lnTo>
                    <a:lnTo>
                      <a:pt x="2829" y="1308"/>
                    </a:lnTo>
                    <a:lnTo>
                      <a:pt x="2831" y="1317"/>
                    </a:lnTo>
                    <a:lnTo>
                      <a:pt x="2833" y="1327"/>
                    </a:lnTo>
                    <a:lnTo>
                      <a:pt x="2834" y="1338"/>
                    </a:lnTo>
                    <a:lnTo>
                      <a:pt x="2838" y="1348"/>
                    </a:lnTo>
                    <a:lnTo>
                      <a:pt x="2840" y="1357"/>
                    </a:lnTo>
                    <a:lnTo>
                      <a:pt x="2844" y="1367"/>
                    </a:lnTo>
                    <a:lnTo>
                      <a:pt x="2846" y="1376"/>
                    </a:lnTo>
                    <a:lnTo>
                      <a:pt x="2852" y="1388"/>
                    </a:lnTo>
                    <a:lnTo>
                      <a:pt x="2854" y="1395"/>
                    </a:lnTo>
                    <a:lnTo>
                      <a:pt x="2857" y="1405"/>
                    </a:lnTo>
                    <a:lnTo>
                      <a:pt x="2863" y="1414"/>
                    </a:lnTo>
                    <a:lnTo>
                      <a:pt x="2869" y="1424"/>
                    </a:lnTo>
                    <a:lnTo>
                      <a:pt x="2873" y="1432"/>
                    </a:lnTo>
                    <a:lnTo>
                      <a:pt x="2878" y="1439"/>
                    </a:lnTo>
                    <a:lnTo>
                      <a:pt x="2884" y="1449"/>
                    </a:lnTo>
                    <a:lnTo>
                      <a:pt x="2892" y="1456"/>
                    </a:lnTo>
                    <a:lnTo>
                      <a:pt x="2897" y="1464"/>
                    </a:lnTo>
                    <a:lnTo>
                      <a:pt x="2907" y="1471"/>
                    </a:lnTo>
                    <a:lnTo>
                      <a:pt x="2912" y="1479"/>
                    </a:lnTo>
                    <a:lnTo>
                      <a:pt x="2922" y="1487"/>
                    </a:lnTo>
                    <a:lnTo>
                      <a:pt x="2931" y="1492"/>
                    </a:lnTo>
                    <a:lnTo>
                      <a:pt x="2941" y="1498"/>
                    </a:lnTo>
                    <a:lnTo>
                      <a:pt x="2950" y="1504"/>
                    </a:lnTo>
                    <a:lnTo>
                      <a:pt x="2962" y="1511"/>
                    </a:lnTo>
                    <a:lnTo>
                      <a:pt x="2973" y="1517"/>
                    </a:lnTo>
                    <a:lnTo>
                      <a:pt x="2985" y="1521"/>
                    </a:lnTo>
                    <a:lnTo>
                      <a:pt x="2998" y="1527"/>
                    </a:lnTo>
                    <a:lnTo>
                      <a:pt x="3011" y="1532"/>
                    </a:lnTo>
                    <a:lnTo>
                      <a:pt x="3002" y="1521"/>
                    </a:lnTo>
                    <a:lnTo>
                      <a:pt x="2992" y="1511"/>
                    </a:lnTo>
                    <a:lnTo>
                      <a:pt x="2981" y="1502"/>
                    </a:lnTo>
                    <a:lnTo>
                      <a:pt x="2971" y="1494"/>
                    </a:lnTo>
                    <a:lnTo>
                      <a:pt x="2962" y="1485"/>
                    </a:lnTo>
                    <a:lnTo>
                      <a:pt x="2952" y="1475"/>
                    </a:lnTo>
                    <a:lnTo>
                      <a:pt x="2945" y="1466"/>
                    </a:lnTo>
                    <a:lnTo>
                      <a:pt x="2939" y="1456"/>
                    </a:lnTo>
                    <a:lnTo>
                      <a:pt x="2947" y="1454"/>
                    </a:lnTo>
                    <a:lnTo>
                      <a:pt x="2954" y="1456"/>
                    </a:lnTo>
                    <a:lnTo>
                      <a:pt x="2962" y="1458"/>
                    </a:lnTo>
                    <a:lnTo>
                      <a:pt x="2971" y="1464"/>
                    </a:lnTo>
                    <a:lnTo>
                      <a:pt x="2977" y="1468"/>
                    </a:lnTo>
                    <a:lnTo>
                      <a:pt x="2985" y="1475"/>
                    </a:lnTo>
                    <a:lnTo>
                      <a:pt x="2990" y="1483"/>
                    </a:lnTo>
                    <a:lnTo>
                      <a:pt x="2998" y="1490"/>
                    </a:lnTo>
                    <a:lnTo>
                      <a:pt x="3004" y="1498"/>
                    </a:lnTo>
                    <a:lnTo>
                      <a:pt x="3011" y="1504"/>
                    </a:lnTo>
                    <a:lnTo>
                      <a:pt x="3017" y="1509"/>
                    </a:lnTo>
                    <a:lnTo>
                      <a:pt x="3025" y="1513"/>
                    </a:lnTo>
                    <a:lnTo>
                      <a:pt x="3030" y="1517"/>
                    </a:lnTo>
                    <a:lnTo>
                      <a:pt x="3040" y="1519"/>
                    </a:lnTo>
                    <a:lnTo>
                      <a:pt x="3047" y="1519"/>
                    </a:lnTo>
                    <a:lnTo>
                      <a:pt x="3057" y="1517"/>
                    </a:lnTo>
                    <a:lnTo>
                      <a:pt x="3049" y="1506"/>
                    </a:lnTo>
                    <a:lnTo>
                      <a:pt x="3044" y="1494"/>
                    </a:lnTo>
                    <a:lnTo>
                      <a:pt x="3038" y="1485"/>
                    </a:lnTo>
                    <a:lnTo>
                      <a:pt x="3030" y="1477"/>
                    </a:lnTo>
                    <a:lnTo>
                      <a:pt x="3027" y="1462"/>
                    </a:lnTo>
                    <a:lnTo>
                      <a:pt x="3025" y="1449"/>
                    </a:lnTo>
                    <a:lnTo>
                      <a:pt x="3021" y="1433"/>
                    </a:lnTo>
                    <a:lnTo>
                      <a:pt x="3019" y="1420"/>
                    </a:lnTo>
                    <a:lnTo>
                      <a:pt x="3015" y="1405"/>
                    </a:lnTo>
                    <a:lnTo>
                      <a:pt x="3013" y="1392"/>
                    </a:lnTo>
                    <a:lnTo>
                      <a:pt x="3011" y="1376"/>
                    </a:lnTo>
                    <a:lnTo>
                      <a:pt x="3009" y="1365"/>
                    </a:lnTo>
                    <a:lnTo>
                      <a:pt x="3004" y="1350"/>
                    </a:lnTo>
                    <a:lnTo>
                      <a:pt x="3002" y="1336"/>
                    </a:lnTo>
                    <a:lnTo>
                      <a:pt x="2998" y="1321"/>
                    </a:lnTo>
                    <a:lnTo>
                      <a:pt x="2994" y="1308"/>
                    </a:lnTo>
                    <a:lnTo>
                      <a:pt x="2992" y="1295"/>
                    </a:lnTo>
                    <a:lnTo>
                      <a:pt x="2988" y="1281"/>
                    </a:lnTo>
                    <a:lnTo>
                      <a:pt x="2985" y="1266"/>
                    </a:lnTo>
                    <a:lnTo>
                      <a:pt x="2983" y="1255"/>
                    </a:lnTo>
                    <a:lnTo>
                      <a:pt x="2977" y="1240"/>
                    </a:lnTo>
                    <a:lnTo>
                      <a:pt x="2973" y="1226"/>
                    </a:lnTo>
                    <a:lnTo>
                      <a:pt x="2971" y="1211"/>
                    </a:lnTo>
                    <a:lnTo>
                      <a:pt x="2968" y="1200"/>
                    </a:lnTo>
                    <a:lnTo>
                      <a:pt x="2964" y="1186"/>
                    </a:lnTo>
                    <a:lnTo>
                      <a:pt x="2958" y="1171"/>
                    </a:lnTo>
                    <a:lnTo>
                      <a:pt x="2956" y="1158"/>
                    </a:lnTo>
                    <a:lnTo>
                      <a:pt x="2952" y="1144"/>
                    </a:lnTo>
                    <a:lnTo>
                      <a:pt x="2949" y="1131"/>
                    </a:lnTo>
                    <a:lnTo>
                      <a:pt x="2945" y="1118"/>
                    </a:lnTo>
                    <a:lnTo>
                      <a:pt x="2941" y="1105"/>
                    </a:lnTo>
                    <a:lnTo>
                      <a:pt x="2937" y="1091"/>
                    </a:lnTo>
                    <a:lnTo>
                      <a:pt x="2933" y="1078"/>
                    </a:lnTo>
                    <a:lnTo>
                      <a:pt x="2930" y="1063"/>
                    </a:lnTo>
                    <a:lnTo>
                      <a:pt x="2928" y="1049"/>
                    </a:lnTo>
                    <a:lnTo>
                      <a:pt x="2924" y="1036"/>
                    </a:lnTo>
                    <a:lnTo>
                      <a:pt x="2920" y="1023"/>
                    </a:lnTo>
                    <a:lnTo>
                      <a:pt x="2916" y="1008"/>
                    </a:lnTo>
                    <a:lnTo>
                      <a:pt x="2912" y="994"/>
                    </a:lnTo>
                    <a:lnTo>
                      <a:pt x="2909" y="981"/>
                    </a:lnTo>
                    <a:lnTo>
                      <a:pt x="2907" y="966"/>
                    </a:lnTo>
                    <a:lnTo>
                      <a:pt x="2903" y="952"/>
                    </a:lnTo>
                    <a:lnTo>
                      <a:pt x="2899" y="937"/>
                    </a:lnTo>
                    <a:lnTo>
                      <a:pt x="2897" y="926"/>
                    </a:lnTo>
                    <a:lnTo>
                      <a:pt x="2893" y="911"/>
                    </a:lnTo>
                    <a:lnTo>
                      <a:pt x="2892" y="897"/>
                    </a:lnTo>
                    <a:lnTo>
                      <a:pt x="2888" y="884"/>
                    </a:lnTo>
                    <a:lnTo>
                      <a:pt x="2886" y="871"/>
                    </a:lnTo>
                    <a:lnTo>
                      <a:pt x="2882" y="856"/>
                    </a:lnTo>
                    <a:lnTo>
                      <a:pt x="2880" y="842"/>
                    </a:lnTo>
                    <a:lnTo>
                      <a:pt x="2878" y="829"/>
                    </a:lnTo>
                    <a:lnTo>
                      <a:pt x="2876" y="816"/>
                    </a:lnTo>
                    <a:lnTo>
                      <a:pt x="2874" y="800"/>
                    </a:lnTo>
                    <a:lnTo>
                      <a:pt x="2873" y="787"/>
                    </a:lnTo>
                    <a:lnTo>
                      <a:pt x="2871" y="772"/>
                    </a:lnTo>
                    <a:lnTo>
                      <a:pt x="2869" y="759"/>
                    </a:lnTo>
                    <a:lnTo>
                      <a:pt x="2867" y="743"/>
                    </a:lnTo>
                    <a:lnTo>
                      <a:pt x="2865" y="730"/>
                    </a:lnTo>
                    <a:lnTo>
                      <a:pt x="2863" y="715"/>
                    </a:lnTo>
                    <a:lnTo>
                      <a:pt x="2863" y="702"/>
                    </a:lnTo>
                    <a:lnTo>
                      <a:pt x="2863" y="686"/>
                    </a:lnTo>
                    <a:lnTo>
                      <a:pt x="2861" y="671"/>
                    </a:lnTo>
                    <a:lnTo>
                      <a:pt x="2861" y="656"/>
                    </a:lnTo>
                    <a:lnTo>
                      <a:pt x="2861" y="643"/>
                    </a:lnTo>
                    <a:lnTo>
                      <a:pt x="2861" y="627"/>
                    </a:lnTo>
                    <a:lnTo>
                      <a:pt x="2861" y="614"/>
                    </a:lnTo>
                    <a:lnTo>
                      <a:pt x="2861" y="599"/>
                    </a:lnTo>
                    <a:lnTo>
                      <a:pt x="2863" y="586"/>
                    </a:lnTo>
                    <a:lnTo>
                      <a:pt x="2863" y="574"/>
                    </a:lnTo>
                    <a:lnTo>
                      <a:pt x="2865" y="563"/>
                    </a:lnTo>
                    <a:lnTo>
                      <a:pt x="2865" y="551"/>
                    </a:lnTo>
                    <a:lnTo>
                      <a:pt x="2865" y="540"/>
                    </a:lnTo>
                    <a:lnTo>
                      <a:pt x="2865" y="530"/>
                    </a:lnTo>
                    <a:lnTo>
                      <a:pt x="2865" y="519"/>
                    </a:lnTo>
                    <a:lnTo>
                      <a:pt x="2865" y="510"/>
                    </a:lnTo>
                    <a:lnTo>
                      <a:pt x="2865" y="500"/>
                    </a:lnTo>
                    <a:lnTo>
                      <a:pt x="2863" y="491"/>
                    </a:lnTo>
                    <a:lnTo>
                      <a:pt x="2863" y="479"/>
                    </a:lnTo>
                    <a:lnTo>
                      <a:pt x="2861" y="468"/>
                    </a:lnTo>
                    <a:lnTo>
                      <a:pt x="2861" y="458"/>
                    </a:lnTo>
                    <a:lnTo>
                      <a:pt x="2857" y="449"/>
                    </a:lnTo>
                    <a:lnTo>
                      <a:pt x="2855" y="439"/>
                    </a:lnTo>
                    <a:lnTo>
                      <a:pt x="2854" y="430"/>
                    </a:lnTo>
                    <a:lnTo>
                      <a:pt x="2852" y="422"/>
                    </a:lnTo>
                    <a:lnTo>
                      <a:pt x="2848" y="413"/>
                    </a:lnTo>
                    <a:lnTo>
                      <a:pt x="2844" y="403"/>
                    </a:lnTo>
                    <a:lnTo>
                      <a:pt x="2842" y="394"/>
                    </a:lnTo>
                    <a:lnTo>
                      <a:pt x="2838" y="384"/>
                    </a:lnTo>
                    <a:lnTo>
                      <a:pt x="2834" y="375"/>
                    </a:lnTo>
                    <a:lnTo>
                      <a:pt x="2831" y="367"/>
                    </a:lnTo>
                    <a:lnTo>
                      <a:pt x="2827" y="357"/>
                    </a:lnTo>
                    <a:lnTo>
                      <a:pt x="2821" y="350"/>
                    </a:lnTo>
                    <a:lnTo>
                      <a:pt x="2817" y="340"/>
                    </a:lnTo>
                    <a:lnTo>
                      <a:pt x="2812" y="333"/>
                    </a:lnTo>
                    <a:lnTo>
                      <a:pt x="2806" y="325"/>
                    </a:lnTo>
                    <a:lnTo>
                      <a:pt x="2802" y="319"/>
                    </a:lnTo>
                    <a:lnTo>
                      <a:pt x="2796" y="310"/>
                    </a:lnTo>
                    <a:lnTo>
                      <a:pt x="2791" y="302"/>
                    </a:lnTo>
                    <a:lnTo>
                      <a:pt x="2783" y="297"/>
                    </a:lnTo>
                    <a:lnTo>
                      <a:pt x="2779" y="291"/>
                    </a:lnTo>
                    <a:lnTo>
                      <a:pt x="2772" y="283"/>
                    </a:lnTo>
                    <a:lnTo>
                      <a:pt x="2764" y="276"/>
                    </a:lnTo>
                    <a:lnTo>
                      <a:pt x="2758" y="268"/>
                    </a:lnTo>
                    <a:lnTo>
                      <a:pt x="2751" y="264"/>
                    </a:lnTo>
                    <a:lnTo>
                      <a:pt x="2743" y="257"/>
                    </a:lnTo>
                    <a:lnTo>
                      <a:pt x="2736" y="251"/>
                    </a:lnTo>
                    <a:lnTo>
                      <a:pt x="2728" y="245"/>
                    </a:lnTo>
                    <a:lnTo>
                      <a:pt x="2722" y="240"/>
                    </a:lnTo>
                    <a:lnTo>
                      <a:pt x="2713" y="234"/>
                    </a:lnTo>
                    <a:lnTo>
                      <a:pt x="2705" y="230"/>
                    </a:lnTo>
                    <a:lnTo>
                      <a:pt x="2696" y="224"/>
                    </a:lnTo>
                    <a:lnTo>
                      <a:pt x="2688" y="221"/>
                    </a:lnTo>
                    <a:lnTo>
                      <a:pt x="2679" y="217"/>
                    </a:lnTo>
                    <a:lnTo>
                      <a:pt x="2671" y="213"/>
                    </a:lnTo>
                    <a:lnTo>
                      <a:pt x="2661" y="209"/>
                    </a:lnTo>
                    <a:lnTo>
                      <a:pt x="2654" y="207"/>
                    </a:lnTo>
                    <a:lnTo>
                      <a:pt x="2644" y="203"/>
                    </a:lnTo>
                    <a:lnTo>
                      <a:pt x="2635" y="200"/>
                    </a:lnTo>
                    <a:lnTo>
                      <a:pt x="2625" y="198"/>
                    </a:lnTo>
                    <a:lnTo>
                      <a:pt x="2616" y="194"/>
                    </a:lnTo>
                    <a:lnTo>
                      <a:pt x="2606" y="192"/>
                    </a:lnTo>
                    <a:lnTo>
                      <a:pt x="2597" y="190"/>
                    </a:lnTo>
                    <a:lnTo>
                      <a:pt x="2587" y="188"/>
                    </a:lnTo>
                    <a:lnTo>
                      <a:pt x="2578" y="188"/>
                    </a:lnTo>
                    <a:lnTo>
                      <a:pt x="2566" y="186"/>
                    </a:lnTo>
                    <a:lnTo>
                      <a:pt x="2557" y="184"/>
                    </a:lnTo>
                    <a:lnTo>
                      <a:pt x="2546" y="184"/>
                    </a:lnTo>
                    <a:lnTo>
                      <a:pt x="2536" y="184"/>
                    </a:lnTo>
                    <a:lnTo>
                      <a:pt x="2525" y="184"/>
                    </a:lnTo>
                    <a:lnTo>
                      <a:pt x="2515" y="186"/>
                    </a:lnTo>
                    <a:lnTo>
                      <a:pt x="2504" y="188"/>
                    </a:lnTo>
                    <a:lnTo>
                      <a:pt x="2494" y="190"/>
                    </a:lnTo>
                    <a:lnTo>
                      <a:pt x="2487" y="190"/>
                    </a:lnTo>
                    <a:lnTo>
                      <a:pt x="2479" y="190"/>
                    </a:lnTo>
                    <a:lnTo>
                      <a:pt x="2475" y="190"/>
                    </a:lnTo>
                    <a:lnTo>
                      <a:pt x="2473" y="192"/>
                    </a:lnTo>
                    <a:lnTo>
                      <a:pt x="2468" y="192"/>
                    </a:lnTo>
                    <a:lnTo>
                      <a:pt x="2466" y="194"/>
                    </a:lnTo>
                    <a:lnTo>
                      <a:pt x="2468" y="194"/>
                    </a:lnTo>
                    <a:lnTo>
                      <a:pt x="2469" y="194"/>
                    </a:lnTo>
                    <a:lnTo>
                      <a:pt x="2270" y="205"/>
                    </a:lnTo>
                    <a:lnTo>
                      <a:pt x="2258" y="207"/>
                    </a:lnTo>
                    <a:lnTo>
                      <a:pt x="2249" y="209"/>
                    </a:lnTo>
                    <a:lnTo>
                      <a:pt x="2238" y="211"/>
                    </a:lnTo>
                    <a:lnTo>
                      <a:pt x="2228" y="215"/>
                    </a:lnTo>
                    <a:lnTo>
                      <a:pt x="2217" y="217"/>
                    </a:lnTo>
                    <a:lnTo>
                      <a:pt x="2205" y="219"/>
                    </a:lnTo>
                    <a:lnTo>
                      <a:pt x="2196" y="221"/>
                    </a:lnTo>
                    <a:lnTo>
                      <a:pt x="2186" y="222"/>
                    </a:lnTo>
                    <a:lnTo>
                      <a:pt x="2175" y="224"/>
                    </a:lnTo>
                    <a:lnTo>
                      <a:pt x="2165" y="224"/>
                    </a:lnTo>
                    <a:lnTo>
                      <a:pt x="2152" y="226"/>
                    </a:lnTo>
                    <a:lnTo>
                      <a:pt x="2142" y="226"/>
                    </a:lnTo>
                    <a:lnTo>
                      <a:pt x="2133" y="228"/>
                    </a:lnTo>
                    <a:lnTo>
                      <a:pt x="2122" y="228"/>
                    </a:lnTo>
                    <a:lnTo>
                      <a:pt x="2112" y="230"/>
                    </a:lnTo>
                    <a:lnTo>
                      <a:pt x="2103" y="230"/>
                    </a:lnTo>
                    <a:lnTo>
                      <a:pt x="2091" y="230"/>
                    </a:lnTo>
                    <a:lnTo>
                      <a:pt x="2082" y="230"/>
                    </a:lnTo>
                    <a:lnTo>
                      <a:pt x="2068" y="230"/>
                    </a:lnTo>
                    <a:lnTo>
                      <a:pt x="2059" y="232"/>
                    </a:lnTo>
                    <a:lnTo>
                      <a:pt x="2049" y="232"/>
                    </a:lnTo>
                    <a:lnTo>
                      <a:pt x="2038" y="232"/>
                    </a:lnTo>
                    <a:lnTo>
                      <a:pt x="2028" y="232"/>
                    </a:lnTo>
                    <a:lnTo>
                      <a:pt x="2019" y="232"/>
                    </a:lnTo>
                    <a:lnTo>
                      <a:pt x="2006" y="230"/>
                    </a:lnTo>
                    <a:lnTo>
                      <a:pt x="1996" y="230"/>
                    </a:lnTo>
                    <a:lnTo>
                      <a:pt x="1985" y="230"/>
                    </a:lnTo>
                    <a:lnTo>
                      <a:pt x="1975" y="230"/>
                    </a:lnTo>
                    <a:lnTo>
                      <a:pt x="1966" y="230"/>
                    </a:lnTo>
                    <a:lnTo>
                      <a:pt x="1954" y="230"/>
                    </a:lnTo>
                    <a:lnTo>
                      <a:pt x="1945" y="230"/>
                    </a:lnTo>
                    <a:lnTo>
                      <a:pt x="1935" y="230"/>
                    </a:lnTo>
                    <a:lnTo>
                      <a:pt x="1922" y="230"/>
                    </a:lnTo>
                    <a:lnTo>
                      <a:pt x="1912" y="228"/>
                    </a:lnTo>
                    <a:lnTo>
                      <a:pt x="1901" y="228"/>
                    </a:lnTo>
                    <a:lnTo>
                      <a:pt x="1892" y="228"/>
                    </a:lnTo>
                    <a:lnTo>
                      <a:pt x="1880" y="228"/>
                    </a:lnTo>
                    <a:lnTo>
                      <a:pt x="1869" y="226"/>
                    </a:lnTo>
                    <a:lnTo>
                      <a:pt x="1857" y="226"/>
                    </a:lnTo>
                    <a:lnTo>
                      <a:pt x="1848" y="226"/>
                    </a:lnTo>
                    <a:lnTo>
                      <a:pt x="1836" y="226"/>
                    </a:lnTo>
                    <a:lnTo>
                      <a:pt x="1825" y="224"/>
                    </a:lnTo>
                    <a:lnTo>
                      <a:pt x="1814" y="224"/>
                    </a:lnTo>
                    <a:lnTo>
                      <a:pt x="1802" y="224"/>
                    </a:lnTo>
                    <a:lnTo>
                      <a:pt x="1791" y="224"/>
                    </a:lnTo>
                    <a:lnTo>
                      <a:pt x="1781" y="224"/>
                    </a:lnTo>
                    <a:lnTo>
                      <a:pt x="1770" y="224"/>
                    </a:lnTo>
                    <a:lnTo>
                      <a:pt x="1760" y="224"/>
                    </a:lnTo>
                    <a:lnTo>
                      <a:pt x="1749" y="222"/>
                    </a:lnTo>
                    <a:lnTo>
                      <a:pt x="1736" y="222"/>
                    </a:lnTo>
                    <a:lnTo>
                      <a:pt x="1724" y="221"/>
                    </a:lnTo>
                    <a:lnTo>
                      <a:pt x="1715" y="221"/>
                    </a:lnTo>
                    <a:lnTo>
                      <a:pt x="1703" y="221"/>
                    </a:lnTo>
                    <a:lnTo>
                      <a:pt x="1692" y="221"/>
                    </a:lnTo>
                    <a:lnTo>
                      <a:pt x="1681" y="221"/>
                    </a:lnTo>
                    <a:lnTo>
                      <a:pt x="1669" y="221"/>
                    </a:lnTo>
                    <a:lnTo>
                      <a:pt x="1658" y="221"/>
                    </a:lnTo>
                    <a:lnTo>
                      <a:pt x="1646" y="221"/>
                    </a:lnTo>
                    <a:lnTo>
                      <a:pt x="1633" y="221"/>
                    </a:lnTo>
                    <a:lnTo>
                      <a:pt x="1623" y="222"/>
                    </a:lnTo>
                    <a:lnTo>
                      <a:pt x="1610" y="222"/>
                    </a:lnTo>
                    <a:lnTo>
                      <a:pt x="1599" y="224"/>
                    </a:lnTo>
                    <a:lnTo>
                      <a:pt x="1587" y="224"/>
                    </a:lnTo>
                    <a:lnTo>
                      <a:pt x="1576" y="226"/>
                    </a:lnTo>
                    <a:lnTo>
                      <a:pt x="1561" y="224"/>
                    </a:lnTo>
                    <a:lnTo>
                      <a:pt x="1547" y="221"/>
                    </a:lnTo>
                    <a:lnTo>
                      <a:pt x="1534" y="219"/>
                    </a:lnTo>
                    <a:lnTo>
                      <a:pt x="1521" y="217"/>
                    </a:lnTo>
                    <a:lnTo>
                      <a:pt x="1506" y="215"/>
                    </a:lnTo>
                    <a:lnTo>
                      <a:pt x="1492" y="215"/>
                    </a:lnTo>
                    <a:lnTo>
                      <a:pt x="1481" y="213"/>
                    </a:lnTo>
                    <a:lnTo>
                      <a:pt x="1468" y="213"/>
                    </a:lnTo>
                    <a:lnTo>
                      <a:pt x="1454" y="211"/>
                    </a:lnTo>
                    <a:lnTo>
                      <a:pt x="1439" y="211"/>
                    </a:lnTo>
                    <a:lnTo>
                      <a:pt x="1426" y="211"/>
                    </a:lnTo>
                    <a:lnTo>
                      <a:pt x="1412" y="211"/>
                    </a:lnTo>
                    <a:lnTo>
                      <a:pt x="1401" y="211"/>
                    </a:lnTo>
                    <a:lnTo>
                      <a:pt x="1388" y="211"/>
                    </a:lnTo>
                    <a:lnTo>
                      <a:pt x="1374" y="211"/>
                    </a:lnTo>
                    <a:lnTo>
                      <a:pt x="1363" y="211"/>
                    </a:lnTo>
                    <a:lnTo>
                      <a:pt x="1348" y="211"/>
                    </a:lnTo>
                    <a:lnTo>
                      <a:pt x="1336" y="211"/>
                    </a:lnTo>
                    <a:lnTo>
                      <a:pt x="1321" y="213"/>
                    </a:lnTo>
                    <a:lnTo>
                      <a:pt x="1310" y="215"/>
                    </a:lnTo>
                    <a:lnTo>
                      <a:pt x="1296" y="215"/>
                    </a:lnTo>
                    <a:lnTo>
                      <a:pt x="1283" y="215"/>
                    </a:lnTo>
                    <a:lnTo>
                      <a:pt x="1272" y="217"/>
                    </a:lnTo>
                    <a:lnTo>
                      <a:pt x="1258" y="217"/>
                    </a:lnTo>
                    <a:lnTo>
                      <a:pt x="1245" y="217"/>
                    </a:lnTo>
                    <a:lnTo>
                      <a:pt x="1234" y="219"/>
                    </a:lnTo>
                    <a:lnTo>
                      <a:pt x="1220" y="219"/>
                    </a:lnTo>
                    <a:lnTo>
                      <a:pt x="1209" y="221"/>
                    </a:lnTo>
                    <a:lnTo>
                      <a:pt x="1196" y="222"/>
                    </a:lnTo>
                    <a:lnTo>
                      <a:pt x="1184" y="224"/>
                    </a:lnTo>
                    <a:lnTo>
                      <a:pt x="1171" y="224"/>
                    </a:lnTo>
                    <a:lnTo>
                      <a:pt x="1160" y="226"/>
                    </a:lnTo>
                    <a:lnTo>
                      <a:pt x="1146" y="226"/>
                    </a:lnTo>
                    <a:lnTo>
                      <a:pt x="1133" y="228"/>
                    </a:lnTo>
                    <a:lnTo>
                      <a:pt x="1122" y="228"/>
                    </a:lnTo>
                    <a:lnTo>
                      <a:pt x="1108" y="228"/>
                    </a:lnTo>
                    <a:lnTo>
                      <a:pt x="1095" y="228"/>
                    </a:lnTo>
                    <a:lnTo>
                      <a:pt x="1084" y="230"/>
                    </a:lnTo>
                    <a:lnTo>
                      <a:pt x="1072" y="230"/>
                    </a:lnTo>
                    <a:lnTo>
                      <a:pt x="1059" y="232"/>
                    </a:lnTo>
                    <a:lnTo>
                      <a:pt x="1047" y="232"/>
                    </a:lnTo>
                    <a:lnTo>
                      <a:pt x="1034" y="232"/>
                    </a:lnTo>
                    <a:lnTo>
                      <a:pt x="1021" y="232"/>
                    </a:lnTo>
                    <a:lnTo>
                      <a:pt x="1009" y="232"/>
                    </a:lnTo>
                    <a:lnTo>
                      <a:pt x="998" y="232"/>
                    </a:lnTo>
                    <a:lnTo>
                      <a:pt x="985" y="232"/>
                    </a:lnTo>
                    <a:lnTo>
                      <a:pt x="973" y="232"/>
                    </a:lnTo>
                    <a:lnTo>
                      <a:pt x="962" y="232"/>
                    </a:lnTo>
                    <a:lnTo>
                      <a:pt x="949" y="230"/>
                    </a:lnTo>
                    <a:lnTo>
                      <a:pt x="935" y="228"/>
                    </a:lnTo>
                    <a:lnTo>
                      <a:pt x="922" y="228"/>
                    </a:lnTo>
                    <a:lnTo>
                      <a:pt x="911" y="226"/>
                    </a:lnTo>
                    <a:lnTo>
                      <a:pt x="899" y="224"/>
                    </a:lnTo>
                    <a:lnTo>
                      <a:pt x="888" y="222"/>
                    </a:lnTo>
                    <a:lnTo>
                      <a:pt x="874" y="221"/>
                    </a:lnTo>
                    <a:lnTo>
                      <a:pt x="863" y="219"/>
                    </a:lnTo>
                    <a:lnTo>
                      <a:pt x="850" y="217"/>
                    </a:lnTo>
                    <a:lnTo>
                      <a:pt x="836" y="213"/>
                    </a:lnTo>
                    <a:lnTo>
                      <a:pt x="825" y="209"/>
                    </a:lnTo>
                    <a:lnTo>
                      <a:pt x="814" y="207"/>
                    </a:lnTo>
                    <a:lnTo>
                      <a:pt x="800" y="203"/>
                    </a:lnTo>
                    <a:lnTo>
                      <a:pt x="789" y="200"/>
                    </a:lnTo>
                    <a:lnTo>
                      <a:pt x="777" y="196"/>
                    </a:lnTo>
                    <a:lnTo>
                      <a:pt x="764" y="192"/>
                    </a:lnTo>
                    <a:lnTo>
                      <a:pt x="758" y="183"/>
                    </a:lnTo>
                    <a:lnTo>
                      <a:pt x="753" y="173"/>
                    </a:lnTo>
                    <a:lnTo>
                      <a:pt x="749" y="164"/>
                    </a:lnTo>
                    <a:lnTo>
                      <a:pt x="743" y="156"/>
                    </a:lnTo>
                    <a:lnTo>
                      <a:pt x="739" y="148"/>
                    </a:lnTo>
                    <a:lnTo>
                      <a:pt x="734" y="141"/>
                    </a:lnTo>
                    <a:lnTo>
                      <a:pt x="730" y="135"/>
                    </a:lnTo>
                    <a:lnTo>
                      <a:pt x="726" y="127"/>
                    </a:lnTo>
                    <a:lnTo>
                      <a:pt x="720" y="122"/>
                    </a:lnTo>
                    <a:lnTo>
                      <a:pt x="717" y="116"/>
                    </a:lnTo>
                    <a:lnTo>
                      <a:pt x="713" y="110"/>
                    </a:lnTo>
                    <a:lnTo>
                      <a:pt x="707" y="106"/>
                    </a:lnTo>
                    <a:lnTo>
                      <a:pt x="698" y="97"/>
                    </a:lnTo>
                    <a:lnTo>
                      <a:pt x="688" y="91"/>
                    </a:lnTo>
                    <a:lnTo>
                      <a:pt x="677" y="87"/>
                    </a:lnTo>
                    <a:lnTo>
                      <a:pt x="667" y="84"/>
                    </a:lnTo>
                    <a:lnTo>
                      <a:pt x="660" y="82"/>
                    </a:lnTo>
                    <a:lnTo>
                      <a:pt x="652" y="82"/>
                    </a:lnTo>
                    <a:lnTo>
                      <a:pt x="646" y="82"/>
                    </a:lnTo>
                    <a:lnTo>
                      <a:pt x="641" y="82"/>
                    </a:lnTo>
                    <a:lnTo>
                      <a:pt x="631" y="82"/>
                    </a:lnTo>
                    <a:lnTo>
                      <a:pt x="623" y="82"/>
                    </a:lnTo>
                    <a:lnTo>
                      <a:pt x="614" y="84"/>
                    </a:lnTo>
                    <a:lnTo>
                      <a:pt x="606" y="86"/>
                    </a:lnTo>
                    <a:lnTo>
                      <a:pt x="597" y="87"/>
                    </a:lnTo>
                    <a:lnTo>
                      <a:pt x="587" y="89"/>
                    </a:lnTo>
                    <a:lnTo>
                      <a:pt x="576" y="93"/>
                    </a:lnTo>
                    <a:lnTo>
                      <a:pt x="566" y="97"/>
                    </a:lnTo>
                    <a:lnTo>
                      <a:pt x="559" y="91"/>
                    </a:lnTo>
                    <a:lnTo>
                      <a:pt x="555" y="84"/>
                    </a:lnTo>
                    <a:lnTo>
                      <a:pt x="547" y="80"/>
                    </a:lnTo>
                    <a:lnTo>
                      <a:pt x="542" y="74"/>
                    </a:lnTo>
                    <a:lnTo>
                      <a:pt x="536" y="68"/>
                    </a:lnTo>
                    <a:lnTo>
                      <a:pt x="530" y="65"/>
                    </a:lnTo>
                    <a:lnTo>
                      <a:pt x="525" y="61"/>
                    </a:lnTo>
                    <a:lnTo>
                      <a:pt x="519" y="57"/>
                    </a:lnTo>
                    <a:lnTo>
                      <a:pt x="513" y="53"/>
                    </a:lnTo>
                    <a:lnTo>
                      <a:pt x="506" y="51"/>
                    </a:lnTo>
                    <a:lnTo>
                      <a:pt x="500" y="48"/>
                    </a:lnTo>
                    <a:lnTo>
                      <a:pt x="494" y="44"/>
                    </a:lnTo>
                    <a:lnTo>
                      <a:pt x="487" y="42"/>
                    </a:lnTo>
                    <a:lnTo>
                      <a:pt x="481" y="38"/>
                    </a:lnTo>
                    <a:lnTo>
                      <a:pt x="475" y="36"/>
                    </a:lnTo>
                    <a:lnTo>
                      <a:pt x="469" y="36"/>
                    </a:lnTo>
                    <a:lnTo>
                      <a:pt x="462" y="32"/>
                    </a:lnTo>
                    <a:lnTo>
                      <a:pt x="456" y="32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35" y="27"/>
                    </a:lnTo>
                    <a:lnTo>
                      <a:pt x="428" y="27"/>
                    </a:lnTo>
                    <a:lnTo>
                      <a:pt x="420" y="25"/>
                    </a:lnTo>
                    <a:lnTo>
                      <a:pt x="414" y="25"/>
                    </a:lnTo>
                    <a:lnTo>
                      <a:pt x="407" y="25"/>
                    </a:lnTo>
                    <a:lnTo>
                      <a:pt x="399" y="23"/>
                    </a:lnTo>
                    <a:lnTo>
                      <a:pt x="392" y="23"/>
                    </a:lnTo>
                    <a:lnTo>
                      <a:pt x="386" y="23"/>
                    </a:lnTo>
                    <a:lnTo>
                      <a:pt x="378" y="23"/>
                    </a:lnTo>
                    <a:lnTo>
                      <a:pt x="373" y="23"/>
                    </a:lnTo>
                    <a:lnTo>
                      <a:pt x="365" y="23"/>
                    </a:lnTo>
                    <a:lnTo>
                      <a:pt x="357" y="23"/>
                    </a:lnTo>
                    <a:lnTo>
                      <a:pt x="350" y="23"/>
                    </a:lnTo>
                    <a:lnTo>
                      <a:pt x="342" y="23"/>
                    </a:lnTo>
                    <a:lnTo>
                      <a:pt x="335" y="23"/>
                    </a:lnTo>
                    <a:lnTo>
                      <a:pt x="327" y="23"/>
                    </a:lnTo>
                    <a:lnTo>
                      <a:pt x="319" y="23"/>
                    </a:lnTo>
                    <a:lnTo>
                      <a:pt x="312" y="23"/>
                    </a:lnTo>
                    <a:lnTo>
                      <a:pt x="304" y="23"/>
                    </a:lnTo>
                    <a:lnTo>
                      <a:pt x="298" y="23"/>
                    </a:lnTo>
                    <a:lnTo>
                      <a:pt x="289" y="23"/>
                    </a:lnTo>
                    <a:lnTo>
                      <a:pt x="283" y="23"/>
                    </a:lnTo>
                    <a:lnTo>
                      <a:pt x="274" y="23"/>
                    </a:lnTo>
                    <a:lnTo>
                      <a:pt x="268" y="23"/>
                    </a:lnTo>
                    <a:lnTo>
                      <a:pt x="260" y="23"/>
                    </a:lnTo>
                    <a:lnTo>
                      <a:pt x="253" y="23"/>
                    </a:lnTo>
                    <a:lnTo>
                      <a:pt x="245" y="23"/>
                    </a:lnTo>
                    <a:lnTo>
                      <a:pt x="238" y="23"/>
                    </a:lnTo>
                    <a:lnTo>
                      <a:pt x="230" y="23"/>
                    </a:lnTo>
                    <a:lnTo>
                      <a:pt x="222" y="21"/>
                    </a:lnTo>
                    <a:lnTo>
                      <a:pt x="215" y="19"/>
                    </a:lnTo>
                    <a:lnTo>
                      <a:pt x="207" y="19"/>
                    </a:lnTo>
                    <a:lnTo>
                      <a:pt x="200" y="19"/>
                    </a:lnTo>
                    <a:lnTo>
                      <a:pt x="194" y="17"/>
                    </a:lnTo>
                    <a:lnTo>
                      <a:pt x="184" y="17"/>
                    </a:lnTo>
                    <a:lnTo>
                      <a:pt x="179" y="17"/>
                    </a:lnTo>
                    <a:lnTo>
                      <a:pt x="169" y="15"/>
                    </a:lnTo>
                    <a:lnTo>
                      <a:pt x="162" y="13"/>
                    </a:lnTo>
                    <a:lnTo>
                      <a:pt x="154" y="10"/>
                    </a:lnTo>
                    <a:lnTo>
                      <a:pt x="148" y="10"/>
                    </a:lnTo>
                    <a:lnTo>
                      <a:pt x="141" y="8"/>
                    </a:lnTo>
                    <a:lnTo>
                      <a:pt x="133" y="6"/>
                    </a:lnTo>
                    <a:lnTo>
                      <a:pt x="125" y="4"/>
                    </a:lnTo>
                    <a:lnTo>
                      <a:pt x="120" y="0"/>
                    </a:lnTo>
                    <a:lnTo>
                      <a:pt x="118" y="8"/>
                    </a:lnTo>
                    <a:lnTo>
                      <a:pt x="118" y="15"/>
                    </a:lnTo>
                    <a:lnTo>
                      <a:pt x="118" y="21"/>
                    </a:lnTo>
                    <a:lnTo>
                      <a:pt x="120" y="27"/>
                    </a:lnTo>
                    <a:lnTo>
                      <a:pt x="122" y="36"/>
                    </a:lnTo>
                    <a:lnTo>
                      <a:pt x="129" y="48"/>
                    </a:lnTo>
                    <a:lnTo>
                      <a:pt x="133" y="55"/>
                    </a:lnTo>
                    <a:lnTo>
                      <a:pt x="142" y="67"/>
                    </a:lnTo>
                    <a:lnTo>
                      <a:pt x="146" y="72"/>
                    </a:lnTo>
                    <a:lnTo>
                      <a:pt x="152" y="78"/>
                    </a:lnTo>
                    <a:lnTo>
                      <a:pt x="156" y="84"/>
                    </a:lnTo>
                    <a:lnTo>
                      <a:pt x="162" y="91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54" y="95"/>
                    </a:lnTo>
                    <a:lnTo>
                      <a:pt x="148" y="93"/>
                    </a:lnTo>
                    <a:lnTo>
                      <a:pt x="141" y="93"/>
                    </a:lnTo>
                    <a:lnTo>
                      <a:pt x="135" y="93"/>
                    </a:lnTo>
                    <a:lnTo>
                      <a:pt x="123" y="91"/>
                    </a:lnTo>
                    <a:lnTo>
                      <a:pt x="114" y="91"/>
                    </a:lnTo>
                    <a:lnTo>
                      <a:pt x="104" y="89"/>
                    </a:lnTo>
                    <a:lnTo>
                      <a:pt x="97" y="89"/>
                    </a:lnTo>
                    <a:lnTo>
                      <a:pt x="87" y="89"/>
                    </a:lnTo>
                    <a:lnTo>
                      <a:pt x="80" y="89"/>
                    </a:lnTo>
                    <a:lnTo>
                      <a:pt x="72" y="87"/>
                    </a:lnTo>
                    <a:lnTo>
                      <a:pt x="65" y="87"/>
                    </a:lnTo>
                    <a:lnTo>
                      <a:pt x="55" y="86"/>
                    </a:lnTo>
                    <a:lnTo>
                      <a:pt x="47" y="84"/>
                    </a:lnTo>
                    <a:lnTo>
                      <a:pt x="36" y="82"/>
                    </a:lnTo>
                    <a:lnTo>
                      <a:pt x="27" y="80"/>
                    </a:lnTo>
                    <a:lnTo>
                      <a:pt x="19" y="80"/>
                    </a:lnTo>
                    <a:lnTo>
                      <a:pt x="13" y="78"/>
                    </a:lnTo>
                    <a:lnTo>
                      <a:pt x="8" y="78"/>
                    </a:lnTo>
                    <a:lnTo>
                      <a:pt x="0" y="78"/>
                    </a:lnTo>
                    <a:lnTo>
                      <a:pt x="4" y="84"/>
                    </a:lnTo>
                    <a:lnTo>
                      <a:pt x="8" y="91"/>
                    </a:lnTo>
                    <a:lnTo>
                      <a:pt x="9" y="99"/>
                    </a:lnTo>
                    <a:lnTo>
                      <a:pt x="13" y="106"/>
                    </a:lnTo>
                    <a:lnTo>
                      <a:pt x="17" y="112"/>
                    </a:lnTo>
                    <a:lnTo>
                      <a:pt x="21" y="118"/>
                    </a:lnTo>
                    <a:lnTo>
                      <a:pt x="23" y="125"/>
                    </a:lnTo>
                    <a:lnTo>
                      <a:pt x="28" y="131"/>
                    </a:lnTo>
                    <a:lnTo>
                      <a:pt x="34" y="141"/>
                    </a:lnTo>
                    <a:lnTo>
                      <a:pt x="42" y="152"/>
                    </a:lnTo>
                    <a:lnTo>
                      <a:pt x="51" y="160"/>
                    </a:lnTo>
                    <a:lnTo>
                      <a:pt x="61" y="169"/>
                    </a:lnTo>
                    <a:lnTo>
                      <a:pt x="70" y="175"/>
                    </a:lnTo>
                    <a:lnTo>
                      <a:pt x="82" y="183"/>
                    </a:lnTo>
                    <a:lnTo>
                      <a:pt x="87" y="184"/>
                    </a:lnTo>
                    <a:lnTo>
                      <a:pt x="93" y="188"/>
                    </a:lnTo>
                    <a:lnTo>
                      <a:pt x="101" y="190"/>
                    </a:lnTo>
                    <a:lnTo>
                      <a:pt x="106" y="192"/>
                    </a:lnTo>
                    <a:lnTo>
                      <a:pt x="114" y="194"/>
                    </a:lnTo>
                    <a:lnTo>
                      <a:pt x="120" y="196"/>
                    </a:lnTo>
                    <a:lnTo>
                      <a:pt x="127" y="198"/>
                    </a:lnTo>
                    <a:lnTo>
                      <a:pt x="135" y="200"/>
                    </a:lnTo>
                    <a:lnTo>
                      <a:pt x="142" y="200"/>
                    </a:lnTo>
                    <a:lnTo>
                      <a:pt x="150" y="202"/>
                    </a:lnTo>
                    <a:lnTo>
                      <a:pt x="160" y="203"/>
                    </a:lnTo>
                    <a:lnTo>
                      <a:pt x="169" y="205"/>
                    </a:lnTo>
                    <a:lnTo>
                      <a:pt x="171" y="213"/>
                    </a:lnTo>
                    <a:lnTo>
                      <a:pt x="171" y="221"/>
                    </a:lnTo>
                    <a:lnTo>
                      <a:pt x="171" y="230"/>
                    </a:lnTo>
                    <a:lnTo>
                      <a:pt x="171" y="240"/>
                    </a:lnTo>
                    <a:lnTo>
                      <a:pt x="169" y="247"/>
                    </a:lnTo>
                    <a:lnTo>
                      <a:pt x="167" y="257"/>
                    </a:lnTo>
                    <a:lnTo>
                      <a:pt x="163" y="266"/>
                    </a:lnTo>
                    <a:lnTo>
                      <a:pt x="162" y="276"/>
                    </a:lnTo>
                    <a:lnTo>
                      <a:pt x="156" y="285"/>
                    </a:lnTo>
                    <a:lnTo>
                      <a:pt x="152" y="295"/>
                    </a:lnTo>
                    <a:lnTo>
                      <a:pt x="148" y="304"/>
                    </a:lnTo>
                    <a:lnTo>
                      <a:pt x="142" y="314"/>
                    </a:lnTo>
                    <a:lnTo>
                      <a:pt x="137" y="323"/>
                    </a:lnTo>
                    <a:lnTo>
                      <a:pt x="131" y="333"/>
                    </a:lnTo>
                    <a:lnTo>
                      <a:pt x="123" y="342"/>
                    </a:lnTo>
                    <a:lnTo>
                      <a:pt x="120" y="354"/>
                    </a:lnTo>
                    <a:lnTo>
                      <a:pt x="110" y="363"/>
                    </a:lnTo>
                    <a:lnTo>
                      <a:pt x="103" y="373"/>
                    </a:lnTo>
                    <a:lnTo>
                      <a:pt x="95" y="382"/>
                    </a:lnTo>
                    <a:lnTo>
                      <a:pt x="87" y="392"/>
                    </a:lnTo>
                    <a:lnTo>
                      <a:pt x="80" y="401"/>
                    </a:lnTo>
                    <a:lnTo>
                      <a:pt x="74" y="411"/>
                    </a:lnTo>
                    <a:lnTo>
                      <a:pt x="65" y="420"/>
                    </a:lnTo>
                    <a:lnTo>
                      <a:pt x="59" y="432"/>
                    </a:lnTo>
                    <a:lnTo>
                      <a:pt x="49" y="441"/>
                    </a:lnTo>
                    <a:lnTo>
                      <a:pt x="42" y="451"/>
                    </a:lnTo>
                    <a:lnTo>
                      <a:pt x="36" y="460"/>
                    </a:lnTo>
                    <a:lnTo>
                      <a:pt x="28" y="471"/>
                    </a:lnTo>
                    <a:lnTo>
                      <a:pt x="23" y="481"/>
                    </a:lnTo>
                    <a:lnTo>
                      <a:pt x="17" y="491"/>
                    </a:lnTo>
                    <a:lnTo>
                      <a:pt x="9" y="502"/>
                    </a:lnTo>
                    <a:lnTo>
                      <a:pt x="4" y="511"/>
                    </a:lnTo>
                    <a:lnTo>
                      <a:pt x="4" y="523"/>
                    </a:lnTo>
                    <a:lnTo>
                      <a:pt x="6" y="534"/>
                    </a:lnTo>
                    <a:lnTo>
                      <a:pt x="8" y="544"/>
                    </a:lnTo>
                    <a:lnTo>
                      <a:pt x="9" y="555"/>
                    </a:lnTo>
                    <a:lnTo>
                      <a:pt x="9" y="563"/>
                    </a:lnTo>
                    <a:lnTo>
                      <a:pt x="13" y="572"/>
                    </a:lnTo>
                    <a:lnTo>
                      <a:pt x="17" y="578"/>
                    </a:lnTo>
                    <a:lnTo>
                      <a:pt x="19" y="587"/>
                    </a:lnTo>
                    <a:lnTo>
                      <a:pt x="23" y="593"/>
                    </a:lnTo>
                    <a:lnTo>
                      <a:pt x="27" y="599"/>
                    </a:lnTo>
                    <a:lnTo>
                      <a:pt x="28" y="605"/>
                    </a:lnTo>
                    <a:lnTo>
                      <a:pt x="34" y="610"/>
                    </a:lnTo>
                    <a:lnTo>
                      <a:pt x="42" y="620"/>
                    </a:lnTo>
                    <a:lnTo>
                      <a:pt x="55" y="627"/>
                    </a:lnTo>
                    <a:lnTo>
                      <a:pt x="59" y="629"/>
                    </a:lnTo>
                    <a:lnTo>
                      <a:pt x="65" y="631"/>
                    </a:lnTo>
                    <a:lnTo>
                      <a:pt x="70" y="633"/>
                    </a:lnTo>
                    <a:lnTo>
                      <a:pt x="76" y="637"/>
                    </a:lnTo>
                    <a:lnTo>
                      <a:pt x="84" y="637"/>
                    </a:lnTo>
                    <a:lnTo>
                      <a:pt x="89" y="639"/>
                    </a:lnTo>
                    <a:lnTo>
                      <a:pt x="95" y="639"/>
                    </a:lnTo>
                    <a:lnTo>
                      <a:pt x="103" y="641"/>
                    </a:lnTo>
                    <a:lnTo>
                      <a:pt x="110" y="639"/>
                    </a:lnTo>
                    <a:lnTo>
                      <a:pt x="116" y="639"/>
                    </a:lnTo>
                    <a:lnTo>
                      <a:pt x="123" y="639"/>
                    </a:lnTo>
                    <a:lnTo>
                      <a:pt x="131" y="639"/>
                    </a:lnTo>
                    <a:lnTo>
                      <a:pt x="139" y="639"/>
                    </a:lnTo>
                    <a:lnTo>
                      <a:pt x="148" y="637"/>
                    </a:lnTo>
                    <a:lnTo>
                      <a:pt x="154" y="637"/>
                    </a:lnTo>
                    <a:lnTo>
                      <a:pt x="163" y="637"/>
                    </a:lnTo>
                    <a:lnTo>
                      <a:pt x="171" y="633"/>
                    </a:lnTo>
                    <a:lnTo>
                      <a:pt x="181" y="631"/>
                    </a:lnTo>
                    <a:lnTo>
                      <a:pt x="188" y="629"/>
                    </a:lnTo>
                    <a:lnTo>
                      <a:pt x="196" y="629"/>
                    </a:lnTo>
                    <a:lnTo>
                      <a:pt x="203" y="627"/>
                    </a:lnTo>
                    <a:lnTo>
                      <a:pt x="213" y="625"/>
                    </a:lnTo>
                    <a:lnTo>
                      <a:pt x="219" y="624"/>
                    </a:lnTo>
                    <a:lnTo>
                      <a:pt x="228" y="622"/>
                    </a:lnTo>
                    <a:lnTo>
                      <a:pt x="236" y="620"/>
                    </a:lnTo>
                    <a:lnTo>
                      <a:pt x="245" y="618"/>
                    </a:lnTo>
                    <a:lnTo>
                      <a:pt x="253" y="614"/>
                    </a:lnTo>
                    <a:lnTo>
                      <a:pt x="262" y="614"/>
                    </a:lnTo>
                    <a:lnTo>
                      <a:pt x="270" y="612"/>
                    </a:lnTo>
                    <a:lnTo>
                      <a:pt x="279" y="610"/>
                    </a:lnTo>
                    <a:lnTo>
                      <a:pt x="287" y="608"/>
                    </a:lnTo>
                    <a:lnTo>
                      <a:pt x="296" y="608"/>
                    </a:lnTo>
                    <a:lnTo>
                      <a:pt x="304" y="606"/>
                    </a:lnTo>
                    <a:lnTo>
                      <a:pt x="312" y="605"/>
                    </a:lnTo>
                    <a:lnTo>
                      <a:pt x="319" y="603"/>
                    </a:lnTo>
                    <a:lnTo>
                      <a:pt x="329" y="603"/>
                    </a:lnTo>
                    <a:lnTo>
                      <a:pt x="336" y="603"/>
                    </a:lnTo>
                    <a:lnTo>
                      <a:pt x="344" y="603"/>
                    </a:lnTo>
                    <a:lnTo>
                      <a:pt x="352" y="603"/>
                    </a:lnTo>
                    <a:lnTo>
                      <a:pt x="361" y="603"/>
                    </a:lnTo>
                    <a:lnTo>
                      <a:pt x="367" y="603"/>
                    </a:lnTo>
                    <a:lnTo>
                      <a:pt x="374" y="603"/>
                    </a:lnTo>
                    <a:lnTo>
                      <a:pt x="382" y="603"/>
                    </a:lnTo>
                    <a:lnTo>
                      <a:pt x="390" y="605"/>
                    </a:lnTo>
                    <a:lnTo>
                      <a:pt x="395" y="606"/>
                    </a:lnTo>
                    <a:lnTo>
                      <a:pt x="403" y="608"/>
                    </a:lnTo>
                    <a:lnTo>
                      <a:pt x="409" y="610"/>
                    </a:lnTo>
                    <a:lnTo>
                      <a:pt x="416" y="614"/>
                    </a:lnTo>
                    <a:lnTo>
                      <a:pt x="426" y="622"/>
                    </a:lnTo>
                    <a:lnTo>
                      <a:pt x="437" y="629"/>
                    </a:lnTo>
                    <a:lnTo>
                      <a:pt x="447" y="637"/>
                    </a:lnTo>
                    <a:lnTo>
                      <a:pt x="456" y="646"/>
                    </a:lnTo>
                    <a:lnTo>
                      <a:pt x="466" y="652"/>
                    </a:lnTo>
                    <a:lnTo>
                      <a:pt x="475" y="662"/>
                    </a:lnTo>
                    <a:lnTo>
                      <a:pt x="485" y="669"/>
                    </a:lnTo>
                    <a:lnTo>
                      <a:pt x="494" y="679"/>
                    </a:lnTo>
                    <a:lnTo>
                      <a:pt x="502" y="688"/>
                    </a:lnTo>
                    <a:lnTo>
                      <a:pt x="511" y="696"/>
                    </a:lnTo>
                    <a:lnTo>
                      <a:pt x="519" y="705"/>
                    </a:lnTo>
                    <a:lnTo>
                      <a:pt x="528" y="715"/>
                    </a:lnTo>
                    <a:lnTo>
                      <a:pt x="536" y="722"/>
                    </a:lnTo>
                    <a:lnTo>
                      <a:pt x="546" y="732"/>
                    </a:lnTo>
                    <a:lnTo>
                      <a:pt x="553" y="740"/>
                    </a:lnTo>
                    <a:lnTo>
                      <a:pt x="561" y="749"/>
                    </a:lnTo>
                    <a:lnTo>
                      <a:pt x="568" y="759"/>
                    </a:lnTo>
                    <a:lnTo>
                      <a:pt x="576" y="766"/>
                    </a:lnTo>
                    <a:lnTo>
                      <a:pt x="584" y="776"/>
                    </a:lnTo>
                    <a:lnTo>
                      <a:pt x="591" y="785"/>
                    </a:lnTo>
                    <a:lnTo>
                      <a:pt x="597" y="795"/>
                    </a:lnTo>
                    <a:lnTo>
                      <a:pt x="604" y="804"/>
                    </a:lnTo>
                    <a:lnTo>
                      <a:pt x="610" y="814"/>
                    </a:lnTo>
                    <a:lnTo>
                      <a:pt x="618" y="823"/>
                    </a:lnTo>
                    <a:lnTo>
                      <a:pt x="623" y="831"/>
                    </a:lnTo>
                    <a:lnTo>
                      <a:pt x="631" y="840"/>
                    </a:lnTo>
                    <a:lnTo>
                      <a:pt x="637" y="850"/>
                    </a:lnTo>
                    <a:lnTo>
                      <a:pt x="642" y="859"/>
                    </a:lnTo>
                    <a:lnTo>
                      <a:pt x="648" y="869"/>
                    </a:lnTo>
                    <a:lnTo>
                      <a:pt x="654" y="878"/>
                    </a:lnTo>
                    <a:lnTo>
                      <a:pt x="662" y="888"/>
                    </a:lnTo>
                    <a:lnTo>
                      <a:pt x="667" y="899"/>
                    </a:lnTo>
                    <a:lnTo>
                      <a:pt x="673" y="909"/>
                    </a:lnTo>
                    <a:lnTo>
                      <a:pt x="679" y="918"/>
                    </a:lnTo>
                    <a:lnTo>
                      <a:pt x="684" y="928"/>
                    </a:lnTo>
                    <a:lnTo>
                      <a:pt x="688" y="937"/>
                    </a:lnTo>
                    <a:lnTo>
                      <a:pt x="694" y="947"/>
                    </a:lnTo>
                    <a:lnTo>
                      <a:pt x="700" y="958"/>
                    </a:lnTo>
                    <a:lnTo>
                      <a:pt x="705" y="968"/>
                    </a:lnTo>
                    <a:lnTo>
                      <a:pt x="711" y="977"/>
                    </a:lnTo>
                    <a:lnTo>
                      <a:pt x="715" y="987"/>
                    </a:lnTo>
                    <a:lnTo>
                      <a:pt x="722" y="996"/>
                    </a:lnTo>
                    <a:lnTo>
                      <a:pt x="726" y="1008"/>
                    </a:lnTo>
                    <a:lnTo>
                      <a:pt x="732" y="1017"/>
                    </a:lnTo>
                    <a:lnTo>
                      <a:pt x="736" y="1027"/>
                    </a:lnTo>
                    <a:lnTo>
                      <a:pt x="743" y="1038"/>
                    </a:lnTo>
                    <a:lnTo>
                      <a:pt x="747" y="1049"/>
                    </a:lnTo>
                    <a:lnTo>
                      <a:pt x="753" y="1059"/>
                    </a:lnTo>
                    <a:lnTo>
                      <a:pt x="758" y="1068"/>
                    </a:lnTo>
                    <a:lnTo>
                      <a:pt x="762" y="1080"/>
                    </a:lnTo>
                    <a:lnTo>
                      <a:pt x="768" y="1089"/>
                    </a:lnTo>
                    <a:lnTo>
                      <a:pt x="774" y="1101"/>
                    </a:lnTo>
                    <a:lnTo>
                      <a:pt x="779" y="1110"/>
                    </a:lnTo>
                    <a:lnTo>
                      <a:pt x="783" y="1120"/>
                    </a:lnTo>
                    <a:lnTo>
                      <a:pt x="789" y="1131"/>
                    </a:lnTo>
                    <a:lnTo>
                      <a:pt x="796" y="1143"/>
                    </a:lnTo>
                    <a:lnTo>
                      <a:pt x="800" y="1152"/>
                    </a:lnTo>
                    <a:lnTo>
                      <a:pt x="806" y="1163"/>
                    </a:lnTo>
                    <a:lnTo>
                      <a:pt x="810" y="1175"/>
                    </a:lnTo>
                    <a:lnTo>
                      <a:pt x="817" y="1186"/>
                    </a:lnTo>
                    <a:lnTo>
                      <a:pt x="823" y="1198"/>
                    </a:lnTo>
                    <a:lnTo>
                      <a:pt x="827" y="1209"/>
                    </a:lnTo>
                    <a:lnTo>
                      <a:pt x="835" y="1219"/>
                    </a:lnTo>
                    <a:lnTo>
                      <a:pt x="840" y="1232"/>
                    </a:lnTo>
                    <a:lnTo>
                      <a:pt x="833" y="1234"/>
                    </a:lnTo>
                    <a:lnTo>
                      <a:pt x="827" y="1241"/>
                    </a:lnTo>
                    <a:lnTo>
                      <a:pt x="823" y="1247"/>
                    </a:lnTo>
                    <a:lnTo>
                      <a:pt x="823" y="1257"/>
                    </a:lnTo>
                    <a:lnTo>
                      <a:pt x="821" y="1264"/>
                    </a:lnTo>
                    <a:lnTo>
                      <a:pt x="823" y="1276"/>
                    </a:lnTo>
                    <a:lnTo>
                      <a:pt x="823" y="1281"/>
                    </a:lnTo>
                    <a:lnTo>
                      <a:pt x="825" y="1285"/>
                    </a:lnTo>
                    <a:lnTo>
                      <a:pt x="827" y="1293"/>
                    </a:lnTo>
                    <a:lnTo>
                      <a:pt x="831" y="1298"/>
                    </a:lnTo>
                    <a:lnTo>
                      <a:pt x="835" y="1310"/>
                    </a:lnTo>
                    <a:lnTo>
                      <a:pt x="838" y="1321"/>
                    </a:lnTo>
                    <a:lnTo>
                      <a:pt x="844" y="1331"/>
                    </a:lnTo>
                    <a:lnTo>
                      <a:pt x="852" y="1344"/>
                    </a:lnTo>
                    <a:lnTo>
                      <a:pt x="855" y="1354"/>
                    </a:lnTo>
                    <a:lnTo>
                      <a:pt x="861" y="1363"/>
                    </a:lnTo>
                    <a:lnTo>
                      <a:pt x="867" y="1373"/>
                    </a:lnTo>
                    <a:lnTo>
                      <a:pt x="873" y="1380"/>
                    </a:lnTo>
                    <a:lnTo>
                      <a:pt x="874" y="1376"/>
                    </a:lnTo>
                    <a:lnTo>
                      <a:pt x="871" y="1369"/>
                    </a:lnTo>
                    <a:lnTo>
                      <a:pt x="869" y="1361"/>
                    </a:lnTo>
                    <a:lnTo>
                      <a:pt x="867" y="1354"/>
                    </a:lnTo>
                    <a:lnTo>
                      <a:pt x="865" y="1346"/>
                    </a:lnTo>
                    <a:lnTo>
                      <a:pt x="863" y="1338"/>
                    </a:lnTo>
                    <a:lnTo>
                      <a:pt x="861" y="1331"/>
                    </a:lnTo>
                    <a:lnTo>
                      <a:pt x="859" y="1323"/>
                    </a:lnTo>
                    <a:lnTo>
                      <a:pt x="857" y="1317"/>
                    </a:lnTo>
                    <a:lnTo>
                      <a:pt x="855" y="1308"/>
                    </a:lnTo>
                    <a:lnTo>
                      <a:pt x="854" y="1300"/>
                    </a:lnTo>
                    <a:lnTo>
                      <a:pt x="852" y="1293"/>
                    </a:lnTo>
                    <a:lnTo>
                      <a:pt x="852" y="1285"/>
                    </a:lnTo>
                    <a:lnTo>
                      <a:pt x="848" y="1279"/>
                    </a:lnTo>
                    <a:lnTo>
                      <a:pt x="846" y="1272"/>
                    </a:lnTo>
                    <a:lnTo>
                      <a:pt x="844" y="1264"/>
                    </a:lnTo>
                    <a:lnTo>
                      <a:pt x="844" y="1257"/>
                    </a:lnTo>
                    <a:lnTo>
                      <a:pt x="850" y="1255"/>
                    </a:lnTo>
                    <a:lnTo>
                      <a:pt x="857" y="1255"/>
                    </a:lnTo>
                    <a:lnTo>
                      <a:pt x="863" y="1257"/>
                    </a:lnTo>
                    <a:lnTo>
                      <a:pt x="871" y="1259"/>
                    </a:lnTo>
                    <a:lnTo>
                      <a:pt x="878" y="1260"/>
                    </a:lnTo>
                    <a:lnTo>
                      <a:pt x="884" y="1264"/>
                    </a:lnTo>
                    <a:lnTo>
                      <a:pt x="892" y="1266"/>
                    </a:lnTo>
                    <a:lnTo>
                      <a:pt x="899" y="1270"/>
                    </a:lnTo>
                    <a:lnTo>
                      <a:pt x="899" y="1279"/>
                    </a:lnTo>
                    <a:lnTo>
                      <a:pt x="899" y="1291"/>
                    </a:lnTo>
                    <a:lnTo>
                      <a:pt x="899" y="1297"/>
                    </a:lnTo>
                    <a:lnTo>
                      <a:pt x="901" y="1302"/>
                    </a:lnTo>
                    <a:lnTo>
                      <a:pt x="901" y="1308"/>
                    </a:lnTo>
                    <a:lnTo>
                      <a:pt x="903" y="1316"/>
                    </a:lnTo>
                    <a:lnTo>
                      <a:pt x="903" y="1319"/>
                    </a:lnTo>
                    <a:lnTo>
                      <a:pt x="903" y="1327"/>
                    </a:lnTo>
                    <a:lnTo>
                      <a:pt x="905" y="1331"/>
                    </a:lnTo>
                    <a:lnTo>
                      <a:pt x="907" y="1338"/>
                    </a:lnTo>
                    <a:lnTo>
                      <a:pt x="907" y="1344"/>
                    </a:lnTo>
                    <a:lnTo>
                      <a:pt x="909" y="1350"/>
                    </a:lnTo>
                    <a:lnTo>
                      <a:pt x="911" y="1355"/>
                    </a:lnTo>
                    <a:lnTo>
                      <a:pt x="912" y="1363"/>
                    </a:lnTo>
                    <a:lnTo>
                      <a:pt x="912" y="1367"/>
                    </a:lnTo>
                    <a:lnTo>
                      <a:pt x="914" y="1375"/>
                    </a:lnTo>
                    <a:lnTo>
                      <a:pt x="916" y="1380"/>
                    </a:lnTo>
                    <a:lnTo>
                      <a:pt x="918" y="1386"/>
                    </a:lnTo>
                    <a:lnTo>
                      <a:pt x="918" y="1392"/>
                    </a:lnTo>
                    <a:lnTo>
                      <a:pt x="920" y="1399"/>
                    </a:lnTo>
                    <a:lnTo>
                      <a:pt x="922" y="1405"/>
                    </a:lnTo>
                    <a:lnTo>
                      <a:pt x="924" y="1411"/>
                    </a:lnTo>
                    <a:lnTo>
                      <a:pt x="926" y="1416"/>
                    </a:lnTo>
                    <a:lnTo>
                      <a:pt x="928" y="1422"/>
                    </a:lnTo>
                    <a:lnTo>
                      <a:pt x="928" y="1430"/>
                    </a:lnTo>
                    <a:lnTo>
                      <a:pt x="930" y="1435"/>
                    </a:lnTo>
                    <a:lnTo>
                      <a:pt x="931" y="1443"/>
                    </a:lnTo>
                    <a:lnTo>
                      <a:pt x="933" y="1449"/>
                    </a:lnTo>
                    <a:lnTo>
                      <a:pt x="935" y="1454"/>
                    </a:lnTo>
                    <a:lnTo>
                      <a:pt x="937" y="1462"/>
                    </a:lnTo>
                    <a:lnTo>
                      <a:pt x="937" y="1466"/>
                    </a:lnTo>
                    <a:lnTo>
                      <a:pt x="939" y="1473"/>
                    </a:lnTo>
                    <a:lnTo>
                      <a:pt x="939" y="1479"/>
                    </a:lnTo>
                    <a:lnTo>
                      <a:pt x="941" y="1485"/>
                    </a:lnTo>
                    <a:lnTo>
                      <a:pt x="943" y="1490"/>
                    </a:lnTo>
                    <a:lnTo>
                      <a:pt x="943" y="1498"/>
                    </a:lnTo>
                    <a:lnTo>
                      <a:pt x="945" y="1504"/>
                    </a:lnTo>
                    <a:lnTo>
                      <a:pt x="947" y="1509"/>
                    </a:lnTo>
                    <a:lnTo>
                      <a:pt x="947" y="1515"/>
                    </a:lnTo>
                    <a:lnTo>
                      <a:pt x="949" y="1521"/>
                    </a:lnTo>
                    <a:lnTo>
                      <a:pt x="949" y="1527"/>
                    </a:lnTo>
                    <a:lnTo>
                      <a:pt x="950" y="1532"/>
                    </a:lnTo>
                    <a:lnTo>
                      <a:pt x="950" y="1538"/>
                    </a:lnTo>
                    <a:lnTo>
                      <a:pt x="952" y="1546"/>
                    </a:lnTo>
                    <a:lnTo>
                      <a:pt x="952" y="1551"/>
                    </a:lnTo>
                    <a:lnTo>
                      <a:pt x="954" y="1557"/>
                    </a:lnTo>
                    <a:lnTo>
                      <a:pt x="954" y="1563"/>
                    </a:lnTo>
                    <a:lnTo>
                      <a:pt x="956" y="1568"/>
                    </a:lnTo>
                    <a:lnTo>
                      <a:pt x="956" y="1574"/>
                    </a:lnTo>
                    <a:lnTo>
                      <a:pt x="956" y="1582"/>
                    </a:lnTo>
                    <a:lnTo>
                      <a:pt x="956" y="1586"/>
                    </a:lnTo>
                    <a:lnTo>
                      <a:pt x="956" y="1591"/>
                    </a:lnTo>
                    <a:lnTo>
                      <a:pt x="956" y="1599"/>
                    </a:lnTo>
                    <a:lnTo>
                      <a:pt x="958" y="1605"/>
                    </a:lnTo>
                    <a:lnTo>
                      <a:pt x="956" y="1614"/>
                    </a:lnTo>
                    <a:lnTo>
                      <a:pt x="956" y="1625"/>
                    </a:lnTo>
                    <a:lnTo>
                      <a:pt x="956" y="1637"/>
                    </a:lnTo>
                    <a:lnTo>
                      <a:pt x="956" y="1648"/>
                    </a:lnTo>
                    <a:lnTo>
                      <a:pt x="952" y="1654"/>
                    </a:lnTo>
                    <a:lnTo>
                      <a:pt x="949" y="1660"/>
                    </a:lnTo>
                    <a:lnTo>
                      <a:pt x="947" y="1665"/>
                    </a:lnTo>
                    <a:lnTo>
                      <a:pt x="945" y="1673"/>
                    </a:lnTo>
                    <a:lnTo>
                      <a:pt x="939" y="1679"/>
                    </a:lnTo>
                    <a:lnTo>
                      <a:pt x="937" y="1686"/>
                    </a:lnTo>
                    <a:lnTo>
                      <a:pt x="933" y="1694"/>
                    </a:lnTo>
                    <a:lnTo>
                      <a:pt x="930" y="1701"/>
                    </a:lnTo>
                    <a:lnTo>
                      <a:pt x="926" y="1709"/>
                    </a:lnTo>
                    <a:lnTo>
                      <a:pt x="922" y="1715"/>
                    </a:lnTo>
                    <a:lnTo>
                      <a:pt x="920" y="1721"/>
                    </a:lnTo>
                    <a:lnTo>
                      <a:pt x="916" y="1728"/>
                    </a:lnTo>
                    <a:lnTo>
                      <a:pt x="912" y="1732"/>
                    </a:lnTo>
                    <a:lnTo>
                      <a:pt x="911" y="1738"/>
                    </a:lnTo>
                    <a:lnTo>
                      <a:pt x="907" y="1741"/>
                    </a:lnTo>
                    <a:lnTo>
                      <a:pt x="907" y="1747"/>
                    </a:lnTo>
                    <a:lnTo>
                      <a:pt x="1076" y="1753"/>
                    </a:lnTo>
                    <a:lnTo>
                      <a:pt x="1078" y="1747"/>
                    </a:lnTo>
                    <a:lnTo>
                      <a:pt x="1078" y="1741"/>
                    </a:lnTo>
                    <a:lnTo>
                      <a:pt x="1080" y="1734"/>
                    </a:lnTo>
                    <a:lnTo>
                      <a:pt x="1082" y="1728"/>
                    </a:lnTo>
                    <a:lnTo>
                      <a:pt x="1084" y="1721"/>
                    </a:lnTo>
                    <a:lnTo>
                      <a:pt x="1085" y="1713"/>
                    </a:lnTo>
                    <a:lnTo>
                      <a:pt x="1085" y="1703"/>
                    </a:lnTo>
                    <a:lnTo>
                      <a:pt x="1087" y="1696"/>
                    </a:lnTo>
                    <a:lnTo>
                      <a:pt x="1089" y="1686"/>
                    </a:lnTo>
                    <a:lnTo>
                      <a:pt x="1091" y="1677"/>
                    </a:lnTo>
                    <a:lnTo>
                      <a:pt x="1093" y="1667"/>
                    </a:lnTo>
                    <a:lnTo>
                      <a:pt x="1095" y="1660"/>
                    </a:lnTo>
                    <a:lnTo>
                      <a:pt x="1095" y="1648"/>
                    </a:lnTo>
                    <a:lnTo>
                      <a:pt x="1097" y="1639"/>
                    </a:lnTo>
                    <a:lnTo>
                      <a:pt x="1099" y="1629"/>
                    </a:lnTo>
                    <a:lnTo>
                      <a:pt x="1103" y="1620"/>
                    </a:lnTo>
                    <a:lnTo>
                      <a:pt x="1103" y="1610"/>
                    </a:lnTo>
                    <a:lnTo>
                      <a:pt x="1104" y="1599"/>
                    </a:lnTo>
                    <a:lnTo>
                      <a:pt x="1106" y="1589"/>
                    </a:lnTo>
                    <a:lnTo>
                      <a:pt x="1108" y="1580"/>
                    </a:lnTo>
                    <a:lnTo>
                      <a:pt x="1110" y="1568"/>
                    </a:lnTo>
                    <a:lnTo>
                      <a:pt x="1112" y="1559"/>
                    </a:lnTo>
                    <a:lnTo>
                      <a:pt x="1112" y="1551"/>
                    </a:lnTo>
                    <a:lnTo>
                      <a:pt x="1116" y="1542"/>
                    </a:lnTo>
                    <a:lnTo>
                      <a:pt x="1116" y="1532"/>
                    </a:lnTo>
                    <a:lnTo>
                      <a:pt x="1120" y="1527"/>
                    </a:lnTo>
                    <a:lnTo>
                      <a:pt x="1122" y="1519"/>
                    </a:lnTo>
                    <a:lnTo>
                      <a:pt x="1123" y="1511"/>
                    </a:lnTo>
                    <a:lnTo>
                      <a:pt x="1125" y="1504"/>
                    </a:lnTo>
                    <a:lnTo>
                      <a:pt x="1127" y="1500"/>
                    </a:lnTo>
                    <a:lnTo>
                      <a:pt x="1131" y="1492"/>
                    </a:lnTo>
                    <a:lnTo>
                      <a:pt x="1133" y="1490"/>
                    </a:lnTo>
                    <a:lnTo>
                      <a:pt x="1141" y="1492"/>
                    </a:lnTo>
                    <a:lnTo>
                      <a:pt x="1146" y="1494"/>
                    </a:lnTo>
                    <a:lnTo>
                      <a:pt x="1152" y="1498"/>
                    </a:lnTo>
                    <a:lnTo>
                      <a:pt x="1158" y="1504"/>
                    </a:lnTo>
                    <a:lnTo>
                      <a:pt x="1162" y="1509"/>
                    </a:lnTo>
                    <a:lnTo>
                      <a:pt x="1167" y="1513"/>
                    </a:lnTo>
                    <a:lnTo>
                      <a:pt x="1171" y="1521"/>
                    </a:lnTo>
                    <a:lnTo>
                      <a:pt x="1175" y="1528"/>
                    </a:lnTo>
                    <a:lnTo>
                      <a:pt x="1177" y="1534"/>
                    </a:lnTo>
                    <a:lnTo>
                      <a:pt x="1179" y="1542"/>
                    </a:lnTo>
                    <a:lnTo>
                      <a:pt x="1181" y="1549"/>
                    </a:lnTo>
                    <a:lnTo>
                      <a:pt x="1184" y="1557"/>
                    </a:lnTo>
                    <a:lnTo>
                      <a:pt x="1184" y="1565"/>
                    </a:lnTo>
                    <a:lnTo>
                      <a:pt x="1186" y="1574"/>
                    </a:lnTo>
                    <a:lnTo>
                      <a:pt x="1186" y="1582"/>
                    </a:lnTo>
                    <a:lnTo>
                      <a:pt x="1188" y="1591"/>
                    </a:lnTo>
                    <a:lnTo>
                      <a:pt x="1186" y="1601"/>
                    </a:lnTo>
                    <a:lnTo>
                      <a:pt x="1186" y="1608"/>
                    </a:lnTo>
                    <a:lnTo>
                      <a:pt x="1186" y="1618"/>
                    </a:lnTo>
                    <a:lnTo>
                      <a:pt x="1186" y="1627"/>
                    </a:lnTo>
                    <a:lnTo>
                      <a:pt x="1184" y="1635"/>
                    </a:lnTo>
                    <a:lnTo>
                      <a:pt x="1184" y="1644"/>
                    </a:lnTo>
                    <a:lnTo>
                      <a:pt x="1184" y="1652"/>
                    </a:lnTo>
                    <a:lnTo>
                      <a:pt x="1184" y="1662"/>
                    </a:lnTo>
                    <a:lnTo>
                      <a:pt x="1181" y="1669"/>
                    </a:lnTo>
                    <a:lnTo>
                      <a:pt x="1181" y="1677"/>
                    </a:lnTo>
                    <a:lnTo>
                      <a:pt x="1179" y="1684"/>
                    </a:lnTo>
                    <a:lnTo>
                      <a:pt x="1179" y="1694"/>
                    </a:lnTo>
                    <a:lnTo>
                      <a:pt x="1177" y="1700"/>
                    </a:lnTo>
                    <a:lnTo>
                      <a:pt x="1177" y="1707"/>
                    </a:lnTo>
                    <a:lnTo>
                      <a:pt x="1177" y="1713"/>
                    </a:lnTo>
                    <a:lnTo>
                      <a:pt x="1177" y="1721"/>
                    </a:lnTo>
                    <a:lnTo>
                      <a:pt x="1327" y="1713"/>
                    </a:lnTo>
                    <a:lnTo>
                      <a:pt x="1327" y="1701"/>
                    </a:lnTo>
                    <a:lnTo>
                      <a:pt x="1329" y="1690"/>
                    </a:lnTo>
                    <a:lnTo>
                      <a:pt x="1329" y="1679"/>
                    </a:lnTo>
                    <a:lnTo>
                      <a:pt x="1331" y="1667"/>
                    </a:lnTo>
                    <a:lnTo>
                      <a:pt x="1333" y="1656"/>
                    </a:lnTo>
                    <a:lnTo>
                      <a:pt x="1335" y="1646"/>
                    </a:lnTo>
                    <a:lnTo>
                      <a:pt x="1335" y="1635"/>
                    </a:lnTo>
                    <a:lnTo>
                      <a:pt x="1336" y="1624"/>
                    </a:lnTo>
                    <a:lnTo>
                      <a:pt x="1336" y="1612"/>
                    </a:lnTo>
                    <a:lnTo>
                      <a:pt x="1338" y="1603"/>
                    </a:lnTo>
                    <a:lnTo>
                      <a:pt x="1340" y="1591"/>
                    </a:lnTo>
                    <a:lnTo>
                      <a:pt x="1342" y="1582"/>
                    </a:lnTo>
                    <a:lnTo>
                      <a:pt x="1344" y="1570"/>
                    </a:lnTo>
                    <a:lnTo>
                      <a:pt x="1346" y="1559"/>
                    </a:lnTo>
                    <a:lnTo>
                      <a:pt x="1346" y="1549"/>
                    </a:lnTo>
                    <a:lnTo>
                      <a:pt x="1348" y="1540"/>
                    </a:lnTo>
                    <a:lnTo>
                      <a:pt x="1350" y="1528"/>
                    </a:lnTo>
                    <a:lnTo>
                      <a:pt x="1352" y="1519"/>
                    </a:lnTo>
                    <a:lnTo>
                      <a:pt x="1354" y="1508"/>
                    </a:lnTo>
                    <a:lnTo>
                      <a:pt x="1355" y="1498"/>
                    </a:lnTo>
                    <a:lnTo>
                      <a:pt x="1355" y="1489"/>
                    </a:lnTo>
                    <a:lnTo>
                      <a:pt x="1357" y="1479"/>
                    </a:lnTo>
                    <a:lnTo>
                      <a:pt x="1361" y="1470"/>
                    </a:lnTo>
                    <a:lnTo>
                      <a:pt x="1363" y="1460"/>
                    </a:lnTo>
                    <a:lnTo>
                      <a:pt x="1365" y="1451"/>
                    </a:lnTo>
                    <a:lnTo>
                      <a:pt x="1367" y="1441"/>
                    </a:lnTo>
                    <a:lnTo>
                      <a:pt x="1371" y="1433"/>
                    </a:lnTo>
                    <a:lnTo>
                      <a:pt x="1374" y="1424"/>
                    </a:lnTo>
                    <a:lnTo>
                      <a:pt x="1376" y="1414"/>
                    </a:lnTo>
                    <a:lnTo>
                      <a:pt x="1380" y="1407"/>
                    </a:lnTo>
                    <a:lnTo>
                      <a:pt x="1384" y="1399"/>
                    </a:lnTo>
                    <a:lnTo>
                      <a:pt x="1388" y="1392"/>
                    </a:lnTo>
                    <a:lnTo>
                      <a:pt x="1392" y="1382"/>
                    </a:lnTo>
                    <a:lnTo>
                      <a:pt x="1393" y="1375"/>
                    </a:lnTo>
                    <a:lnTo>
                      <a:pt x="1399" y="1367"/>
                    </a:lnTo>
                    <a:lnTo>
                      <a:pt x="1403" y="1361"/>
                    </a:lnTo>
                    <a:lnTo>
                      <a:pt x="1407" y="1354"/>
                    </a:lnTo>
                    <a:lnTo>
                      <a:pt x="1412" y="1346"/>
                    </a:lnTo>
                    <a:lnTo>
                      <a:pt x="1416" y="1340"/>
                    </a:lnTo>
                    <a:lnTo>
                      <a:pt x="1422" y="1335"/>
                    </a:lnTo>
                    <a:lnTo>
                      <a:pt x="1428" y="1327"/>
                    </a:lnTo>
                    <a:lnTo>
                      <a:pt x="1431" y="1321"/>
                    </a:lnTo>
                    <a:lnTo>
                      <a:pt x="1439" y="1316"/>
                    </a:lnTo>
                    <a:lnTo>
                      <a:pt x="1445" y="1312"/>
                    </a:lnTo>
                    <a:lnTo>
                      <a:pt x="1450" y="1308"/>
                    </a:lnTo>
                    <a:lnTo>
                      <a:pt x="1458" y="1302"/>
                    </a:lnTo>
                    <a:lnTo>
                      <a:pt x="1466" y="1300"/>
                    </a:lnTo>
                    <a:lnTo>
                      <a:pt x="1473" y="1297"/>
                    </a:lnTo>
                    <a:lnTo>
                      <a:pt x="1481" y="1293"/>
                    </a:lnTo>
                    <a:lnTo>
                      <a:pt x="1488" y="1289"/>
                    </a:lnTo>
                    <a:lnTo>
                      <a:pt x="1496" y="1285"/>
                    </a:lnTo>
                    <a:lnTo>
                      <a:pt x="1506" y="1285"/>
                    </a:lnTo>
                    <a:lnTo>
                      <a:pt x="1513" y="1281"/>
                    </a:lnTo>
                    <a:lnTo>
                      <a:pt x="1523" y="1281"/>
                    </a:lnTo>
                    <a:lnTo>
                      <a:pt x="1532" y="1279"/>
                    </a:lnTo>
                    <a:lnTo>
                      <a:pt x="1544" y="1279"/>
                    </a:lnTo>
                    <a:lnTo>
                      <a:pt x="1553" y="1279"/>
                    </a:lnTo>
                    <a:lnTo>
                      <a:pt x="1565" y="1279"/>
                    </a:lnTo>
                    <a:lnTo>
                      <a:pt x="1576" y="1279"/>
                    </a:lnTo>
                    <a:lnTo>
                      <a:pt x="1587" y="1281"/>
                    </a:lnTo>
                    <a:lnTo>
                      <a:pt x="1599" y="1281"/>
                    </a:lnTo>
                    <a:lnTo>
                      <a:pt x="1612" y="1283"/>
                    </a:lnTo>
                    <a:lnTo>
                      <a:pt x="1625" y="1287"/>
                    </a:lnTo>
                    <a:lnTo>
                      <a:pt x="1639" y="1291"/>
                    </a:lnTo>
                    <a:lnTo>
                      <a:pt x="1644" y="1289"/>
                    </a:lnTo>
                    <a:lnTo>
                      <a:pt x="1652" y="1289"/>
                    </a:lnTo>
                    <a:lnTo>
                      <a:pt x="1660" y="1287"/>
                    </a:lnTo>
                    <a:lnTo>
                      <a:pt x="1667" y="1287"/>
                    </a:lnTo>
                    <a:lnTo>
                      <a:pt x="1675" y="1285"/>
                    </a:lnTo>
                    <a:lnTo>
                      <a:pt x="1681" y="1285"/>
                    </a:lnTo>
                    <a:lnTo>
                      <a:pt x="1688" y="1285"/>
                    </a:lnTo>
                    <a:lnTo>
                      <a:pt x="1696" y="1285"/>
                    </a:lnTo>
                    <a:lnTo>
                      <a:pt x="1703" y="1283"/>
                    </a:lnTo>
                    <a:lnTo>
                      <a:pt x="1709" y="1283"/>
                    </a:lnTo>
                    <a:lnTo>
                      <a:pt x="1717" y="1283"/>
                    </a:lnTo>
                    <a:lnTo>
                      <a:pt x="1724" y="1283"/>
                    </a:lnTo>
                    <a:lnTo>
                      <a:pt x="1732" y="1283"/>
                    </a:lnTo>
                    <a:lnTo>
                      <a:pt x="1739" y="1283"/>
                    </a:lnTo>
                    <a:lnTo>
                      <a:pt x="1747" y="1283"/>
                    </a:lnTo>
                    <a:lnTo>
                      <a:pt x="1755" y="1283"/>
                    </a:lnTo>
                    <a:lnTo>
                      <a:pt x="1760" y="1283"/>
                    </a:lnTo>
                    <a:lnTo>
                      <a:pt x="1768" y="1283"/>
                    </a:lnTo>
                    <a:lnTo>
                      <a:pt x="1774" y="1283"/>
                    </a:lnTo>
                    <a:lnTo>
                      <a:pt x="1781" y="1283"/>
                    </a:lnTo>
                    <a:lnTo>
                      <a:pt x="1789" y="1281"/>
                    </a:lnTo>
                    <a:lnTo>
                      <a:pt x="1796" y="1281"/>
                    </a:lnTo>
                    <a:lnTo>
                      <a:pt x="1802" y="1281"/>
                    </a:lnTo>
                    <a:lnTo>
                      <a:pt x="1810" y="1281"/>
                    </a:lnTo>
                    <a:lnTo>
                      <a:pt x="1817" y="1281"/>
                    </a:lnTo>
                    <a:lnTo>
                      <a:pt x="1825" y="1281"/>
                    </a:lnTo>
                    <a:lnTo>
                      <a:pt x="1831" y="1281"/>
                    </a:lnTo>
                    <a:lnTo>
                      <a:pt x="1838" y="1281"/>
                    </a:lnTo>
                    <a:lnTo>
                      <a:pt x="1844" y="1281"/>
                    </a:lnTo>
                    <a:lnTo>
                      <a:pt x="1852" y="1281"/>
                    </a:lnTo>
                    <a:lnTo>
                      <a:pt x="1859" y="1281"/>
                    </a:lnTo>
                    <a:lnTo>
                      <a:pt x="1867" y="1281"/>
                    </a:lnTo>
                    <a:lnTo>
                      <a:pt x="1873" y="1279"/>
                    </a:lnTo>
                    <a:lnTo>
                      <a:pt x="1880" y="1279"/>
                    </a:lnTo>
                    <a:lnTo>
                      <a:pt x="1886" y="1278"/>
                    </a:lnTo>
                    <a:lnTo>
                      <a:pt x="1893" y="1278"/>
                    </a:lnTo>
                    <a:lnTo>
                      <a:pt x="1899" y="1276"/>
                    </a:lnTo>
                    <a:lnTo>
                      <a:pt x="1907" y="1276"/>
                    </a:lnTo>
                    <a:lnTo>
                      <a:pt x="1912" y="1276"/>
                    </a:lnTo>
                    <a:lnTo>
                      <a:pt x="1920" y="1276"/>
                    </a:lnTo>
                    <a:lnTo>
                      <a:pt x="1928" y="1274"/>
                    </a:lnTo>
                    <a:lnTo>
                      <a:pt x="1935" y="1274"/>
                    </a:lnTo>
                    <a:lnTo>
                      <a:pt x="1941" y="1272"/>
                    </a:lnTo>
                    <a:lnTo>
                      <a:pt x="1949" y="1272"/>
                    </a:lnTo>
                    <a:lnTo>
                      <a:pt x="1954" y="1270"/>
                    </a:lnTo>
                    <a:lnTo>
                      <a:pt x="1962" y="1270"/>
                    </a:lnTo>
                    <a:lnTo>
                      <a:pt x="1968" y="1268"/>
                    </a:lnTo>
                    <a:lnTo>
                      <a:pt x="1975" y="1268"/>
                    </a:lnTo>
                    <a:lnTo>
                      <a:pt x="1983" y="1266"/>
                    </a:lnTo>
                    <a:lnTo>
                      <a:pt x="1988" y="1264"/>
                    </a:lnTo>
                    <a:lnTo>
                      <a:pt x="1994" y="1262"/>
                    </a:lnTo>
                    <a:lnTo>
                      <a:pt x="2002" y="1260"/>
                    </a:lnTo>
                    <a:lnTo>
                      <a:pt x="2008" y="1259"/>
                    </a:lnTo>
                    <a:lnTo>
                      <a:pt x="2015" y="1257"/>
                    </a:lnTo>
                    <a:lnTo>
                      <a:pt x="2021" y="1255"/>
                    </a:lnTo>
                    <a:lnTo>
                      <a:pt x="2028" y="1253"/>
                    </a:lnTo>
                    <a:lnTo>
                      <a:pt x="2036" y="1251"/>
                    </a:lnTo>
                    <a:lnTo>
                      <a:pt x="2042" y="1247"/>
                    </a:lnTo>
                    <a:lnTo>
                      <a:pt x="2047" y="1245"/>
                    </a:lnTo>
                    <a:lnTo>
                      <a:pt x="2055" y="1243"/>
                    </a:lnTo>
                    <a:lnTo>
                      <a:pt x="2061" y="1241"/>
                    </a:lnTo>
                    <a:lnTo>
                      <a:pt x="2068" y="1238"/>
                    </a:lnTo>
                    <a:lnTo>
                      <a:pt x="2074" y="1236"/>
                    </a:lnTo>
                    <a:lnTo>
                      <a:pt x="2082" y="1234"/>
                    </a:lnTo>
                    <a:lnTo>
                      <a:pt x="2085" y="1240"/>
                    </a:lnTo>
                    <a:lnTo>
                      <a:pt x="2089" y="1249"/>
                    </a:lnTo>
                    <a:lnTo>
                      <a:pt x="2091" y="1257"/>
                    </a:lnTo>
                    <a:lnTo>
                      <a:pt x="2095" y="1268"/>
                    </a:lnTo>
                    <a:lnTo>
                      <a:pt x="2095" y="1278"/>
                    </a:lnTo>
                    <a:lnTo>
                      <a:pt x="2095" y="1289"/>
                    </a:lnTo>
                    <a:lnTo>
                      <a:pt x="2095" y="1297"/>
                    </a:lnTo>
                    <a:lnTo>
                      <a:pt x="2095" y="1302"/>
                    </a:lnTo>
                    <a:lnTo>
                      <a:pt x="2093" y="1308"/>
                    </a:lnTo>
                    <a:lnTo>
                      <a:pt x="2093" y="1316"/>
                    </a:lnTo>
                    <a:lnTo>
                      <a:pt x="2091" y="1321"/>
                    </a:lnTo>
                    <a:lnTo>
                      <a:pt x="2091" y="1327"/>
                    </a:lnTo>
                    <a:lnTo>
                      <a:pt x="2087" y="1335"/>
                    </a:lnTo>
                    <a:lnTo>
                      <a:pt x="2087" y="1340"/>
                    </a:lnTo>
                    <a:lnTo>
                      <a:pt x="2085" y="1346"/>
                    </a:lnTo>
                    <a:lnTo>
                      <a:pt x="2084" y="1354"/>
                    </a:lnTo>
                    <a:lnTo>
                      <a:pt x="2082" y="1361"/>
                    </a:lnTo>
                    <a:lnTo>
                      <a:pt x="2080" y="1369"/>
                    </a:lnTo>
                    <a:lnTo>
                      <a:pt x="2076" y="1375"/>
                    </a:lnTo>
                    <a:lnTo>
                      <a:pt x="2074" y="1382"/>
                    </a:lnTo>
                    <a:lnTo>
                      <a:pt x="2070" y="1390"/>
                    </a:lnTo>
                    <a:lnTo>
                      <a:pt x="2068" y="1397"/>
                    </a:lnTo>
                    <a:lnTo>
                      <a:pt x="2066" y="1405"/>
                    </a:lnTo>
                    <a:lnTo>
                      <a:pt x="2063" y="1413"/>
                    </a:lnTo>
                    <a:lnTo>
                      <a:pt x="2059" y="1420"/>
                    </a:lnTo>
                    <a:lnTo>
                      <a:pt x="2057" y="1428"/>
                    </a:lnTo>
                    <a:lnTo>
                      <a:pt x="2053" y="1435"/>
                    </a:lnTo>
                    <a:lnTo>
                      <a:pt x="2049" y="1443"/>
                    </a:lnTo>
                    <a:lnTo>
                      <a:pt x="2047" y="1449"/>
                    </a:lnTo>
                    <a:lnTo>
                      <a:pt x="2044" y="1458"/>
                    </a:lnTo>
                    <a:lnTo>
                      <a:pt x="2040" y="1464"/>
                    </a:lnTo>
                    <a:lnTo>
                      <a:pt x="2036" y="1473"/>
                    </a:lnTo>
                    <a:lnTo>
                      <a:pt x="2032" y="1479"/>
                    </a:lnTo>
                    <a:lnTo>
                      <a:pt x="2028" y="1487"/>
                    </a:lnTo>
                    <a:lnTo>
                      <a:pt x="2025" y="1494"/>
                    </a:lnTo>
                    <a:lnTo>
                      <a:pt x="2021" y="1502"/>
                    </a:lnTo>
                    <a:lnTo>
                      <a:pt x="2017" y="1509"/>
                    </a:lnTo>
                    <a:lnTo>
                      <a:pt x="2013" y="1517"/>
                    </a:lnTo>
                    <a:lnTo>
                      <a:pt x="2009" y="1523"/>
                    </a:lnTo>
                    <a:lnTo>
                      <a:pt x="2004" y="1530"/>
                    </a:lnTo>
                    <a:lnTo>
                      <a:pt x="2000" y="1538"/>
                    </a:lnTo>
                    <a:lnTo>
                      <a:pt x="1996" y="1546"/>
                    </a:lnTo>
                    <a:lnTo>
                      <a:pt x="1992" y="1551"/>
                    </a:lnTo>
                    <a:lnTo>
                      <a:pt x="1988" y="1557"/>
                    </a:lnTo>
                    <a:lnTo>
                      <a:pt x="1985" y="1565"/>
                    </a:lnTo>
                    <a:lnTo>
                      <a:pt x="1981" y="1570"/>
                    </a:lnTo>
                    <a:lnTo>
                      <a:pt x="1977" y="1576"/>
                    </a:lnTo>
                    <a:lnTo>
                      <a:pt x="1973" y="1584"/>
                    </a:lnTo>
                    <a:lnTo>
                      <a:pt x="1968" y="1589"/>
                    </a:lnTo>
                    <a:lnTo>
                      <a:pt x="1966" y="1595"/>
                    </a:lnTo>
                    <a:lnTo>
                      <a:pt x="1958" y="1606"/>
                    </a:lnTo>
                    <a:lnTo>
                      <a:pt x="1950" y="1618"/>
                    </a:lnTo>
                    <a:lnTo>
                      <a:pt x="1945" y="1627"/>
                    </a:lnTo>
                    <a:lnTo>
                      <a:pt x="1937" y="1637"/>
                    </a:lnTo>
                    <a:lnTo>
                      <a:pt x="2135" y="1688"/>
                    </a:lnTo>
                    <a:lnTo>
                      <a:pt x="2139" y="1681"/>
                    </a:lnTo>
                    <a:lnTo>
                      <a:pt x="2144" y="1673"/>
                    </a:lnTo>
                    <a:lnTo>
                      <a:pt x="2150" y="1665"/>
                    </a:lnTo>
                    <a:lnTo>
                      <a:pt x="2156" y="1658"/>
                    </a:lnTo>
                    <a:lnTo>
                      <a:pt x="2161" y="1648"/>
                    </a:lnTo>
                    <a:lnTo>
                      <a:pt x="2167" y="1641"/>
                    </a:lnTo>
                    <a:lnTo>
                      <a:pt x="2175" y="1633"/>
                    </a:lnTo>
                    <a:lnTo>
                      <a:pt x="2181" y="1625"/>
                    </a:lnTo>
                    <a:lnTo>
                      <a:pt x="2188" y="1616"/>
                    </a:lnTo>
                    <a:lnTo>
                      <a:pt x="2194" y="1608"/>
                    </a:lnTo>
                    <a:lnTo>
                      <a:pt x="2201" y="1599"/>
                    </a:lnTo>
                    <a:lnTo>
                      <a:pt x="2209" y="1591"/>
                    </a:lnTo>
                    <a:lnTo>
                      <a:pt x="2215" y="1584"/>
                    </a:lnTo>
                    <a:lnTo>
                      <a:pt x="2222" y="1574"/>
                    </a:lnTo>
                    <a:lnTo>
                      <a:pt x="2230" y="1567"/>
                    </a:lnTo>
                    <a:lnTo>
                      <a:pt x="2239" y="1559"/>
                    </a:lnTo>
                    <a:lnTo>
                      <a:pt x="2245" y="1549"/>
                    </a:lnTo>
                    <a:lnTo>
                      <a:pt x="2253" y="1542"/>
                    </a:lnTo>
                    <a:lnTo>
                      <a:pt x="2260" y="1532"/>
                    </a:lnTo>
                    <a:lnTo>
                      <a:pt x="2268" y="1525"/>
                    </a:lnTo>
                    <a:lnTo>
                      <a:pt x="2274" y="1517"/>
                    </a:lnTo>
                    <a:lnTo>
                      <a:pt x="2281" y="1509"/>
                    </a:lnTo>
                    <a:lnTo>
                      <a:pt x="2289" y="1500"/>
                    </a:lnTo>
                    <a:lnTo>
                      <a:pt x="2296" y="1492"/>
                    </a:lnTo>
                    <a:lnTo>
                      <a:pt x="2302" y="1485"/>
                    </a:lnTo>
                    <a:lnTo>
                      <a:pt x="2308" y="1477"/>
                    </a:lnTo>
                    <a:lnTo>
                      <a:pt x="2315" y="1468"/>
                    </a:lnTo>
                    <a:lnTo>
                      <a:pt x="2323" y="1462"/>
                    </a:lnTo>
                    <a:lnTo>
                      <a:pt x="2327" y="1454"/>
                    </a:lnTo>
                    <a:lnTo>
                      <a:pt x="2335" y="1447"/>
                    </a:lnTo>
                    <a:lnTo>
                      <a:pt x="2340" y="1439"/>
                    </a:lnTo>
                    <a:lnTo>
                      <a:pt x="2346" y="1433"/>
                    </a:lnTo>
                    <a:lnTo>
                      <a:pt x="2346" y="1430"/>
                    </a:lnTo>
                    <a:lnTo>
                      <a:pt x="2348" y="1428"/>
                    </a:lnTo>
                    <a:lnTo>
                      <a:pt x="2352" y="1422"/>
                    </a:lnTo>
                    <a:lnTo>
                      <a:pt x="2355" y="1418"/>
                    </a:lnTo>
                    <a:lnTo>
                      <a:pt x="2361" y="1413"/>
                    </a:lnTo>
                    <a:lnTo>
                      <a:pt x="2367" y="1411"/>
                    </a:lnTo>
                    <a:lnTo>
                      <a:pt x="2373" y="1411"/>
                    </a:lnTo>
                    <a:lnTo>
                      <a:pt x="2380" y="1414"/>
                    </a:lnTo>
                    <a:lnTo>
                      <a:pt x="2390" y="1420"/>
                    </a:lnTo>
                    <a:lnTo>
                      <a:pt x="2397" y="1426"/>
                    </a:lnTo>
                    <a:lnTo>
                      <a:pt x="2405" y="1430"/>
                    </a:lnTo>
                    <a:lnTo>
                      <a:pt x="2412" y="1433"/>
                    </a:lnTo>
                    <a:lnTo>
                      <a:pt x="2418" y="1435"/>
                    </a:lnTo>
                    <a:lnTo>
                      <a:pt x="2426" y="1437"/>
                    </a:lnTo>
                    <a:lnTo>
                      <a:pt x="2430" y="1439"/>
                    </a:lnTo>
                    <a:lnTo>
                      <a:pt x="2437" y="1439"/>
                    </a:lnTo>
                    <a:lnTo>
                      <a:pt x="2447" y="1437"/>
                    </a:lnTo>
                    <a:lnTo>
                      <a:pt x="2456" y="1432"/>
                    </a:lnTo>
                    <a:lnTo>
                      <a:pt x="2460" y="1426"/>
                    </a:lnTo>
                    <a:lnTo>
                      <a:pt x="2466" y="1422"/>
                    </a:lnTo>
                    <a:lnTo>
                      <a:pt x="2471" y="1416"/>
                    </a:lnTo>
                    <a:lnTo>
                      <a:pt x="2477" y="1409"/>
                    </a:lnTo>
                    <a:lnTo>
                      <a:pt x="2483" y="1409"/>
                    </a:lnTo>
                    <a:lnTo>
                      <a:pt x="2490" y="1411"/>
                    </a:lnTo>
                    <a:lnTo>
                      <a:pt x="2496" y="1413"/>
                    </a:lnTo>
                    <a:lnTo>
                      <a:pt x="2502" y="1416"/>
                    </a:lnTo>
                    <a:lnTo>
                      <a:pt x="2508" y="1416"/>
                    </a:lnTo>
                    <a:lnTo>
                      <a:pt x="2513" y="1420"/>
                    </a:lnTo>
                    <a:lnTo>
                      <a:pt x="2519" y="1422"/>
                    </a:lnTo>
                    <a:lnTo>
                      <a:pt x="2525" y="1426"/>
                    </a:lnTo>
                    <a:lnTo>
                      <a:pt x="2532" y="1433"/>
                    </a:lnTo>
                    <a:lnTo>
                      <a:pt x="2542" y="1439"/>
                    </a:lnTo>
                    <a:lnTo>
                      <a:pt x="2549" y="1449"/>
                    </a:lnTo>
                    <a:lnTo>
                      <a:pt x="2557" y="1458"/>
                    </a:lnTo>
                    <a:lnTo>
                      <a:pt x="2563" y="1466"/>
                    </a:lnTo>
                    <a:lnTo>
                      <a:pt x="2568" y="1477"/>
                    </a:lnTo>
                    <a:lnTo>
                      <a:pt x="2570" y="1481"/>
                    </a:lnTo>
                    <a:lnTo>
                      <a:pt x="2572" y="1487"/>
                    </a:lnTo>
                    <a:lnTo>
                      <a:pt x="2574" y="1492"/>
                    </a:lnTo>
                    <a:lnTo>
                      <a:pt x="2578" y="1500"/>
                    </a:lnTo>
                    <a:lnTo>
                      <a:pt x="2578" y="1504"/>
                    </a:lnTo>
                    <a:lnTo>
                      <a:pt x="2580" y="1509"/>
                    </a:lnTo>
                    <a:lnTo>
                      <a:pt x="2580" y="1517"/>
                    </a:lnTo>
                    <a:lnTo>
                      <a:pt x="2584" y="1523"/>
                    </a:lnTo>
                    <a:lnTo>
                      <a:pt x="2584" y="1528"/>
                    </a:lnTo>
                    <a:lnTo>
                      <a:pt x="2585" y="1536"/>
                    </a:lnTo>
                    <a:lnTo>
                      <a:pt x="2585" y="1542"/>
                    </a:lnTo>
                    <a:lnTo>
                      <a:pt x="2587" y="1549"/>
                    </a:lnTo>
                    <a:lnTo>
                      <a:pt x="2587" y="1555"/>
                    </a:lnTo>
                    <a:lnTo>
                      <a:pt x="2587" y="1563"/>
                    </a:lnTo>
                    <a:lnTo>
                      <a:pt x="2587" y="1568"/>
                    </a:lnTo>
                    <a:lnTo>
                      <a:pt x="2587" y="1574"/>
                    </a:lnTo>
                    <a:lnTo>
                      <a:pt x="2585" y="1582"/>
                    </a:lnTo>
                    <a:lnTo>
                      <a:pt x="2585" y="1589"/>
                    </a:lnTo>
                    <a:lnTo>
                      <a:pt x="2585" y="1595"/>
                    </a:lnTo>
                    <a:lnTo>
                      <a:pt x="2585" y="1603"/>
                    </a:lnTo>
                    <a:lnTo>
                      <a:pt x="2585" y="1608"/>
                    </a:lnTo>
                    <a:lnTo>
                      <a:pt x="2584" y="1616"/>
                    </a:lnTo>
                    <a:lnTo>
                      <a:pt x="2584" y="1622"/>
                    </a:lnTo>
                    <a:lnTo>
                      <a:pt x="2584" y="1629"/>
                    </a:lnTo>
                    <a:lnTo>
                      <a:pt x="2580" y="1637"/>
                    </a:lnTo>
                    <a:lnTo>
                      <a:pt x="2580" y="1644"/>
                    </a:lnTo>
                    <a:lnTo>
                      <a:pt x="2578" y="1650"/>
                    </a:lnTo>
                    <a:lnTo>
                      <a:pt x="2578" y="1658"/>
                    </a:lnTo>
                    <a:lnTo>
                      <a:pt x="2576" y="1665"/>
                    </a:lnTo>
                    <a:lnTo>
                      <a:pt x="2576" y="1671"/>
                    </a:lnTo>
                    <a:lnTo>
                      <a:pt x="2574" y="1677"/>
                    </a:lnTo>
                    <a:lnTo>
                      <a:pt x="2572" y="1684"/>
                    </a:lnTo>
                    <a:lnTo>
                      <a:pt x="2570" y="1692"/>
                    </a:lnTo>
                    <a:lnTo>
                      <a:pt x="2568" y="1698"/>
                    </a:lnTo>
                    <a:lnTo>
                      <a:pt x="2566" y="1703"/>
                    </a:lnTo>
                    <a:lnTo>
                      <a:pt x="2566" y="1711"/>
                    </a:lnTo>
                    <a:lnTo>
                      <a:pt x="2565" y="1717"/>
                    </a:lnTo>
                    <a:lnTo>
                      <a:pt x="2561" y="1722"/>
                    </a:lnTo>
                    <a:lnTo>
                      <a:pt x="2559" y="1730"/>
                    </a:lnTo>
                    <a:lnTo>
                      <a:pt x="2559" y="1736"/>
                    </a:lnTo>
                    <a:lnTo>
                      <a:pt x="2557" y="1741"/>
                    </a:lnTo>
                    <a:lnTo>
                      <a:pt x="2555" y="1747"/>
                    </a:lnTo>
                    <a:lnTo>
                      <a:pt x="2551" y="1753"/>
                    </a:lnTo>
                    <a:lnTo>
                      <a:pt x="2551" y="1760"/>
                    </a:lnTo>
                    <a:lnTo>
                      <a:pt x="2753" y="1770"/>
                    </a:lnTo>
                    <a:lnTo>
                      <a:pt x="2753" y="17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723400" y="299736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7" y="2"/>
                    </a:moveTo>
                    <a:lnTo>
                      <a:pt x="17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4"/>
                    </a:lnTo>
                    <a:lnTo>
                      <a:pt x="83" y="8"/>
                    </a:lnTo>
                    <a:lnTo>
                      <a:pt x="93" y="17"/>
                    </a:lnTo>
                    <a:lnTo>
                      <a:pt x="87" y="19"/>
                    </a:lnTo>
                    <a:lnTo>
                      <a:pt x="81" y="23"/>
                    </a:lnTo>
                    <a:lnTo>
                      <a:pt x="74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7" y="25"/>
                    </a:lnTo>
                    <a:lnTo>
                      <a:pt x="51" y="23"/>
                    </a:lnTo>
                    <a:lnTo>
                      <a:pt x="45" y="23"/>
                    </a:lnTo>
                    <a:lnTo>
                      <a:pt x="40" y="21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23" y="15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378880" y="2989440"/>
                <a:ext cx="276120" cy="85680"/>
              </a:xfrm>
              <a:custGeom>
                <a:avLst/>
                <a:gdLst/>
                <a:ahLst/>
                <a:rect l="l" t="t" r="r" b="b"/>
                <a:pathLst>
                  <a:path w="348" h="108">
                    <a:moveTo>
                      <a:pt x="10" y="0"/>
                    </a:moveTo>
                    <a:lnTo>
                      <a:pt x="19" y="5"/>
                    </a:lnTo>
                    <a:lnTo>
                      <a:pt x="29" y="9"/>
                    </a:lnTo>
                    <a:lnTo>
                      <a:pt x="40" y="13"/>
                    </a:lnTo>
                    <a:lnTo>
                      <a:pt x="50" y="17"/>
                    </a:lnTo>
                    <a:lnTo>
                      <a:pt x="61" y="19"/>
                    </a:lnTo>
                    <a:lnTo>
                      <a:pt x="73" y="22"/>
                    </a:lnTo>
                    <a:lnTo>
                      <a:pt x="78" y="22"/>
                    </a:lnTo>
                    <a:lnTo>
                      <a:pt x="84" y="22"/>
                    </a:lnTo>
                    <a:lnTo>
                      <a:pt x="90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7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70" y="24"/>
                    </a:lnTo>
                    <a:lnTo>
                      <a:pt x="175" y="24"/>
                    </a:lnTo>
                    <a:lnTo>
                      <a:pt x="181" y="24"/>
                    </a:lnTo>
                    <a:lnTo>
                      <a:pt x="189" y="24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17" y="24"/>
                    </a:lnTo>
                    <a:lnTo>
                      <a:pt x="221" y="24"/>
                    </a:lnTo>
                    <a:lnTo>
                      <a:pt x="229" y="24"/>
                    </a:lnTo>
                    <a:lnTo>
                      <a:pt x="234" y="26"/>
                    </a:lnTo>
                    <a:lnTo>
                      <a:pt x="240" y="26"/>
                    </a:lnTo>
                    <a:lnTo>
                      <a:pt x="249" y="28"/>
                    </a:lnTo>
                    <a:lnTo>
                      <a:pt x="263" y="32"/>
                    </a:lnTo>
                    <a:lnTo>
                      <a:pt x="272" y="34"/>
                    </a:lnTo>
                    <a:lnTo>
                      <a:pt x="284" y="39"/>
                    </a:lnTo>
                    <a:lnTo>
                      <a:pt x="291" y="41"/>
                    </a:lnTo>
                    <a:lnTo>
                      <a:pt x="301" y="49"/>
                    </a:lnTo>
                    <a:lnTo>
                      <a:pt x="310" y="55"/>
                    </a:lnTo>
                    <a:lnTo>
                      <a:pt x="320" y="62"/>
                    </a:lnTo>
                    <a:lnTo>
                      <a:pt x="327" y="72"/>
                    </a:lnTo>
                    <a:lnTo>
                      <a:pt x="333" y="81"/>
                    </a:lnTo>
                    <a:lnTo>
                      <a:pt x="337" y="87"/>
                    </a:lnTo>
                    <a:lnTo>
                      <a:pt x="341" y="93"/>
                    </a:lnTo>
                    <a:lnTo>
                      <a:pt x="343" y="100"/>
                    </a:lnTo>
                    <a:lnTo>
                      <a:pt x="348" y="108"/>
                    </a:lnTo>
                    <a:lnTo>
                      <a:pt x="337" y="100"/>
                    </a:lnTo>
                    <a:lnTo>
                      <a:pt x="327" y="96"/>
                    </a:lnTo>
                    <a:lnTo>
                      <a:pt x="316" y="93"/>
                    </a:lnTo>
                    <a:lnTo>
                      <a:pt x="305" y="89"/>
                    </a:lnTo>
                    <a:lnTo>
                      <a:pt x="299" y="87"/>
                    </a:lnTo>
                    <a:lnTo>
                      <a:pt x="293" y="85"/>
                    </a:lnTo>
                    <a:lnTo>
                      <a:pt x="287" y="83"/>
                    </a:lnTo>
                    <a:lnTo>
                      <a:pt x="282" y="81"/>
                    </a:lnTo>
                    <a:lnTo>
                      <a:pt x="270" y="79"/>
                    </a:lnTo>
                    <a:lnTo>
                      <a:pt x="259" y="79"/>
                    </a:lnTo>
                    <a:lnTo>
                      <a:pt x="253" y="77"/>
                    </a:lnTo>
                    <a:lnTo>
                      <a:pt x="248" y="76"/>
                    </a:lnTo>
                    <a:lnTo>
                      <a:pt x="240" y="74"/>
                    </a:lnTo>
                    <a:lnTo>
                      <a:pt x="236" y="74"/>
                    </a:lnTo>
                    <a:lnTo>
                      <a:pt x="229" y="74"/>
                    </a:lnTo>
                    <a:lnTo>
                      <a:pt x="225" y="72"/>
                    </a:lnTo>
                    <a:lnTo>
                      <a:pt x="217" y="72"/>
                    </a:lnTo>
                    <a:lnTo>
                      <a:pt x="211" y="72"/>
                    </a:lnTo>
                    <a:lnTo>
                      <a:pt x="206" y="72"/>
                    </a:lnTo>
                    <a:lnTo>
                      <a:pt x="200" y="70"/>
                    </a:lnTo>
                    <a:lnTo>
                      <a:pt x="192" y="70"/>
                    </a:lnTo>
                    <a:lnTo>
                      <a:pt x="189" y="70"/>
                    </a:lnTo>
                    <a:lnTo>
                      <a:pt x="181" y="68"/>
                    </a:lnTo>
                    <a:lnTo>
                      <a:pt x="175" y="68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58" y="68"/>
                    </a:lnTo>
                    <a:lnTo>
                      <a:pt x="153" y="66"/>
                    </a:lnTo>
                    <a:lnTo>
                      <a:pt x="145" y="64"/>
                    </a:lnTo>
                    <a:lnTo>
                      <a:pt x="139" y="64"/>
                    </a:lnTo>
                    <a:lnTo>
                      <a:pt x="133" y="62"/>
                    </a:lnTo>
                    <a:lnTo>
                      <a:pt x="128" y="62"/>
                    </a:lnTo>
                    <a:lnTo>
                      <a:pt x="122" y="60"/>
                    </a:lnTo>
                    <a:lnTo>
                      <a:pt x="116" y="60"/>
                    </a:lnTo>
                    <a:lnTo>
                      <a:pt x="105" y="58"/>
                    </a:lnTo>
                    <a:lnTo>
                      <a:pt x="95" y="57"/>
                    </a:lnTo>
                    <a:lnTo>
                      <a:pt x="82" y="53"/>
                    </a:lnTo>
                    <a:lnTo>
                      <a:pt x="73" y="51"/>
                    </a:lnTo>
                    <a:lnTo>
                      <a:pt x="63" y="47"/>
                    </a:lnTo>
                    <a:lnTo>
                      <a:pt x="52" y="43"/>
                    </a:lnTo>
                    <a:lnTo>
                      <a:pt x="42" y="39"/>
                    </a:lnTo>
                    <a:lnTo>
                      <a:pt x="35" y="36"/>
                    </a:lnTo>
                    <a:lnTo>
                      <a:pt x="25" y="28"/>
                    </a:lnTo>
                    <a:lnTo>
                      <a:pt x="16" y="24"/>
                    </a:lnTo>
                    <a:lnTo>
                      <a:pt x="8" y="17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175840" y="305424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0" y="2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7" y="10"/>
                    </a:lnTo>
                    <a:lnTo>
                      <a:pt x="25" y="15"/>
                    </a:lnTo>
                    <a:lnTo>
                      <a:pt x="25" y="21"/>
                    </a:lnTo>
                    <a:lnTo>
                      <a:pt x="25" y="29"/>
                    </a:lnTo>
                    <a:lnTo>
                      <a:pt x="27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2608200" y="3062160"/>
                <a:ext cx="115920" cy="3204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7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2" y="2"/>
                    </a:lnTo>
                    <a:lnTo>
                      <a:pt x="82" y="4"/>
                    </a:lnTo>
                    <a:lnTo>
                      <a:pt x="89" y="4"/>
                    </a:lnTo>
                    <a:lnTo>
                      <a:pt x="95" y="5"/>
                    </a:lnTo>
                    <a:lnTo>
                      <a:pt x="103" y="7"/>
                    </a:lnTo>
                    <a:lnTo>
                      <a:pt x="112" y="9"/>
                    </a:lnTo>
                    <a:lnTo>
                      <a:pt x="118" y="11"/>
                    </a:lnTo>
                    <a:lnTo>
                      <a:pt x="125" y="15"/>
                    </a:lnTo>
                    <a:lnTo>
                      <a:pt x="129" y="17"/>
                    </a:lnTo>
                    <a:lnTo>
                      <a:pt x="135" y="21"/>
                    </a:lnTo>
                    <a:lnTo>
                      <a:pt x="141" y="25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39" y="38"/>
                    </a:lnTo>
                    <a:lnTo>
                      <a:pt x="135" y="38"/>
                    </a:lnTo>
                    <a:lnTo>
                      <a:pt x="129" y="40"/>
                    </a:lnTo>
                    <a:lnTo>
                      <a:pt x="122" y="40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3" y="40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6"/>
                    </a:lnTo>
                    <a:lnTo>
                      <a:pt x="80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7" y="34"/>
                    </a:lnTo>
                    <a:lnTo>
                      <a:pt x="47" y="32"/>
                    </a:lnTo>
                    <a:lnTo>
                      <a:pt x="42" y="26"/>
                    </a:lnTo>
                    <a:lnTo>
                      <a:pt x="34" y="23"/>
                    </a:lnTo>
                    <a:lnTo>
                      <a:pt x="25" y="17"/>
                    </a:lnTo>
                    <a:lnTo>
                      <a:pt x="17" y="15"/>
                    </a:lnTo>
                    <a:lnTo>
                      <a:pt x="9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243880" y="3065400"/>
                <a:ext cx="125640" cy="139680"/>
              </a:xfrm>
              <a:custGeom>
                <a:avLst/>
                <a:gdLst/>
                <a:ahLst/>
                <a:rect l="l" t="t" r="r" b="b"/>
                <a:pathLst>
                  <a:path w="158" h="176">
                    <a:moveTo>
                      <a:pt x="118" y="0"/>
                    </a:moveTo>
                    <a:lnTo>
                      <a:pt x="127" y="0"/>
                    </a:lnTo>
                    <a:lnTo>
                      <a:pt x="135" y="1"/>
                    </a:lnTo>
                    <a:lnTo>
                      <a:pt x="139" y="3"/>
                    </a:lnTo>
                    <a:lnTo>
                      <a:pt x="146" y="7"/>
                    </a:lnTo>
                    <a:lnTo>
                      <a:pt x="154" y="15"/>
                    </a:lnTo>
                    <a:lnTo>
                      <a:pt x="158" y="26"/>
                    </a:lnTo>
                    <a:lnTo>
                      <a:pt x="156" y="32"/>
                    </a:lnTo>
                    <a:lnTo>
                      <a:pt x="156" y="38"/>
                    </a:lnTo>
                    <a:lnTo>
                      <a:pt x="154" y="45"/>
                    </a:lnTo>
                    <a:lnTo>
                      <a:pt x="152" y="53"/>
                    </a:lnTo>
                    <a:lnTo>
                      <a:pt x="148" y="59"/>
                    </a:lnTo>
                    <a:lnTo>
                      <a:pt x="146" y="66"/>
                    </a:lnTo>
                    <a:lnTo>
                      <a:pt x="142" y="74"/>
                    </a:lnTo>
                    <a:lnTo>
                      <a:pt x="137" y="83"/>
                    </a:lnTo>
                    <a:lnTo>
                      <a:pt x="131" y="89"/>
                    </a:lnTo>
                    <a:lnTo>
                      <a:pt x="125" y="97"/>
                    </a:lnTo>
                    <a:lnTo>
                      <a:pt x="119" y="104"/>
                    </a:lnTo>
                    <a:lnTo>
                      <a:pt x="112" y="112"/>
                    </a:lnTo>
                    <a:lnTo>
                      <a:pt x="106" y="119"/>
                    </a:lnTo>
                    <a:lnTo>
                      <a:pt x="99" y="125"/>
                    </a:lnTo>
                    <a:lnTo>
                      <a:pt x="93" y="133"/>
                    </a:lnTo>
                    <a:lnTo>
                      <a:pt x="87" y="140"/>
                    </a:lnTo>
                    <a:lnTo>
                      <a:pt x="78" y="144"/>
                    </a:lnTo>
                    <a:lnTo>
                      <a:pt x="72" y="152"/>
                    </a:lnTo>
                    <a:lnTo>
                      <a:pt x="64" y="157"/>
                    </a:lnTo>
                    <a:lnTo>
                      <a:pt x="57" y="161"/>
                    </a:lnTo>
                    <a:lnTo>
                      <a:pt x="51" y="165"/>
                    </a:lnTo>
                    <a:lnTo>
                      <a:pt x="43" y="169"/>
                    </a:lnTo>
                    <a:lnTo>
                      <a:pt x="38" y="173"/>
                    </a:lnTo>
                    <a:lnTo>
                      <a:pt x="32" y="176"/>
                    </a:lnTo>
                    <a:lnTo>
                      <a:pt x="36" y="167"/>
                    </a:lnTo>
                    <a:lnTo>
                      <a:pt x="43" y="159"/>
                    </a:lnTo>
                    <a:lnTo>
                      <a:pt x="49" y="150"/>
                    </a:lnTo>
                    <a:lnTo>
                      <a:pt x="57" y="142"/>
                    </a:lnTo>
                    <a:lnTo>
                      <a:pt x="64" y="133"/>
                    </a:lnTo>
                    <a:lnTo>
                      <a:pt x="74" y="123"/>
                    </a:lnTo>
                    <a:lnTo>
                      <a:pt x="83" y="116"/>
                    </a:lnTo>
                    <a:lnTo>
                      <a:pt x="93" y="106"/>
                    </a:lnTo>
                    <a:lnTo>
                      <a:pt x="100" y="97"/>
                    </a:lnTo>
                    <a:lnTo>
                      <a:pt x="108" y="87"/>
                    </a:lnTo>
                    <a:lnTo>
                      <a:pt x="116" y="78"/>
                    </a:lnTo>
                    <a:lnTo>
                      <a:pt x="123" y="68"/>
                    </a:lnTo>
                    <a:lnTo>
                      <a:pt x="129" y="57"/>
                    </a:lnTo>
                    <a:lnTo>
                      <a:pt x="133" y="45"/>
                    </a:lnTo>
                    <a:lnTo>
                      <a:pt x="135" y="34"/>
                    </a:lnTo>
                    <a:lnTo>
                      <a:pt x="137" y="22"/>
                    </a:lnTo>
                    <a:lnTo>
                      <a:pt x="127" y="24"/>
                    </a:lnTo>
                    <a:lnTo>
                      <a:pt x="118" y="28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3" y="47"/>
                    </a:lnTo>
                    <a:lnTo>
                      <a:pt x="76" y="51"/>
                    </a:lnTo>
                    <a:lnTo>
                      <a:pt x="68" y="59"/>
                    </a:lnTo>
                    <a:lnTo>
                      <a:pt x="61" y="62"/>
                    </a:lnTo>
                    <a:lnTo>
                      <a:pt x="51" y="68"/>
                    </a:lnTo>
                    <a:lnTo>
                      <a:pt x="43" y="72"/>
                    </a:lnTo>
                    <a:lnTo>
                      <a:pt x="36" y="78"/>
                    </a:lnTo>
                    <a:lnTo>
                      <a:pt x="26" y="81"/>
                    </a:lnTo>
                    <a:lnTo>
                      <a:pt x="17" y="85"/>
                    </a:lnTo>
                    <a:lnTo>
                      <a:pt x="9" y="87"/>
                    </a:lnTo>
                    <a:lnTo>
                      <a:pt x="0" y="93"/>
                    </a:lnTo>
                    <a:lnTo>
                      <a:pt x="4" y="83"/>
                    </a:lnTo>
                    <a:lnTo>
                      <a:pt x="7" y="74"/>
                    </a:lnTo>
                    <a:lnTo>
                      <a:pt x="13" y="66"/>
                    </a:lnTo>
                    <a:lnTo>
                      <a:pt x="19" y="60"/>
                    </a:lnTo>
                    <a:lnTo>
                      <a:pt x="24" y="53"/>
                    </a:lnTo>
                    <a:lnTo>
                      <a:pt x="32" y="47"/>
                    </a:lnTo>
                    <a:lnTo>
                      <a:pt x="40" y="41"/>
                    </a:lnTo>
                    <a:lnTo>
                      <a:pt x="47" y="38"/>
                    </a:lnTo>
                    <a:lnTo>
                      <a:pt x="55" y="32"/>
                    </a:lnTo>
                    <a:lnTo>
                      <a:pt x="64" y="28"/>
                    </a:lnTo>
                    <a:lnTo>
                      <a:pt x="72" y="22"/>
                    </a:lnTo>
                    <a:lnTo>
                      <a:pt x="81" y="19"/>
                    </a:lnTo>
                    <a:lnTo>
                      <a:pt x="91" y="13"/>
                    </a:lnTo>
                    <a:lnTo>
                      <a:pt x="100" y="9"/>
                    </a:lnTo>
                    <a:lnTo>
                      <a:pt x="108" y="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531720" y="3081240"/>
                <a:ext cx="331920" cy="71640"/>
              </a:xfrm>
              <a:custGeom>
                <a:avLst/>
                <a:gdLst/>
                <a:ahLst/>
                <a:rect l="l" t="t" r="r" b="b"/>
                <a:pathLst>
                  <a:path w="418" h="89">
                    <a:moveTo>
                      <a:pt x="8" y="1"/>
                    </a:move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6" y="1"/>
                    </a:lnTo>
                    <a:lnTo>
                      <a:pt x="152" y="1"/>
                    </a:lnTo>
                    <a:lnTo>
                      <a:pt x="160" y="1"/>
                    </a:lnTo>
                    <a:lnTo>
                      <a:pt x="165" y="3"/>
                    </a:lnTo>
                    <a:lnTo>
                      <a:pt x="173" y="5"/>
                    </a:lnTo>
                    <a:lnTo>
                      <a:pt x="179" y="5"/>
                    </a:lnTo>
                    <a:lnTo>
                      <a:pt x="186" y="7"/>
                    </a:lnTo>
                    <a:lnTo>
                      <a:pt x="192" y="7"/>
                    </a:lnTo>
                    <a:lnTo>
                      <a:pt x="198" y="9"/>
                    </a:lnTo>
                    <a:lnTo>
                      <a:pt x="205" y="9"/>
                    </a:lnTo>
                    <a:lnTo>
                      <a:pt x="211" y="11"/>
                    </a:lnTo>
                    <a:lnTo>
                      <a:pt x="219" y="13"/>
                    </a:lnTo>
                    <a:lnTo>
                      <a:pt x="224" y="15"/>
                    </a:lnTo>
                    <a:lnTo>
                      <a:pt x="230" y="15"/>
                    </a:lnTo>
                    <a:lnTo>
                      <a:pt x="238" y="17"/>
                    </a:lnTo>
                    <a:lnTo>
                      <a:pt x="243" y="17"/>
                    </a:lnTo>
                    <a:lnTo>
                      <a:pt x="249" y="19"/>
                    </a:lnTo>
                    <a:lnTo>
                      <a:pt x="257" y="20"/>
                    </a:lnTo>
                    <a:lnTo>
                      <a:pt x="262" y="22"/>
                    </a:lnTo>
                    <a:lnTo>
                      <a:pt x="268" y="24"/>
                    </a:lnTo>
                    <a:lnTo>
                      <a:pt x="276" y="26"/>
                    </a:lnTo>
                    <a:lnTo>
                      <a:pt x="280" y="28"/>
                    </a:lnTo>
                    <a:lnTo>
                      <a:pt x="287" y="30"/>
                    </a:lnTo>
                    <a:lnTo>
                      <a:pt x="293" y="30"/>
                    </a:lnTo>
                    <a:lnTo>
                      <a:pt x="299" y="34"/>
                    </a:lnTo>
                    <a:lnTo>
                      <a:pt x="304" y="36"/>
                    </a:lnTo>
                    <a:lnTo>
                      <a:pt x="312" y="38"/>
                    </a:lnTo>
                    <a:lnTo>
                      <a:pt x="318" y="39"/>
                    </a:lnTo>
                    <a:lnTo>
                      <a:pt x="323" y="43"/>
                    </a:lnTo>
                    <a:lnTo>
                      <a:pt x="329" y="45"/>
                    </a:lnTo>
                    <a:lnTo>
                      <a:pt x="335" y="47"/>
                    </a:lnTo>
                    <a:lnTo>
                      <a:pt x="340" y="49"/>
                    </a:lnTo>
                    <a:lnTo>
                      <a:pt x="348" y="53"/>
                    </a:lnTo>
                    <a:lnTo>
                      <a:pt x="352" y="55"/>
                    </a:lnTo>
                    <a:lnTo>
                      <a:pt x="359" y="57"/>
                    </a:lnTo>
                    <a:lnTo>
                      <a:pt x="365" y="60"/>
                    </a:lnTo>
                    <a:lnTo>
                      <a:pt x="371" y="64"/>
                    </a:lnTo>
                    <a:lnTo>
                      <a:pt x="376" y="66"/>
                    </a:lnTo>
                    <a:lnTo>
                      <a:pt x="382" y="70"/>
                    </a:lnTo>
                    <a:lnTo>
                      <a:pt x="388" y="72"/>
                    </a:lnTo>
                    <a:lnTo>
                      <a:pt x="395" y="76"/>
                    </a:lnTo>
                    <a:lnTo>
                      <a:pt x="399" y="79"/>
                    </a:lnTo>
                    <a:lnTo>
                      <a:pt x="407" y="81"/>
                    </a:lnTo>
                    <a:lnTo>
                      <a:pt x="413" y="85"/>
                    </a:lnTo>
                    <a:lnTo>
                      <a:pt x="418" y="89"/>
                    </a:lnTo>
                    <a:lnTo>
                      <a:pt x="413" y="85"/>
                    </a:lnTo>
                    <a:lnTo>
                      <a:pt x="407" y="83"/>
                    </a:lnTo>
                    <a:lnTo>
                      <a:pt x="399" y="81"/>
                    </a:lnTo>
                    <a:lnTo>
                      <a:pt x="394" y="79"/>
                    </a:lnTo>
                    <a:lnTo>
                      <a:pt x="388" y="77"/>
                    </a:lnTo>
                    <a:lnTo>
                      <a:pt x="380" y="76"/>
                    </a:lnTo>
                    <a:lnTo>
                      <a:pt x="375" y="74"/>
                    </a:lnTo>
                    <a:lnTo>
                      <a:pt x="369" y="72"/>
                    </a:lnTo>
                    <a:lnTo>
                      <a:pt x="363" y="70"/>
                    </a:lnTo>
                    <a:lnTo>
                      <a:pt x="357" y="70"/>
                    </a:lnTo>
                    <a:lnTo>
                      <a:pt x="350" y="66"/>
                    </a:lnTo>
                    <a:lnTo>
                      <a:pt x="344" y="66"/>
                    </a:lnTo>
                    <a:lnTo>
                      <a:pt x="338" y="64"/>
                    </a:lnTo>
                    <a:lnTo>
                      <a:pt x="331" y="62"/>
                    </a:lnTo>
                    <a:lnTo>
                      <a:pt x="325" y="60"/>
                    </a:lnTo>
                    <a:lnTo>
                      <a:pt x="319" y="60"/>
                    </a:lnTo>
                    <a:lnTo>
                      <a:pt x="314" y="57"/>
                    </a:lnTo>
                    <a:lnTo>
                      <a:pt x="306" y="57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7" y="51"/>
                    </a:lnTo>
                    <a:lnTo>
                      <a:pt x="281" y="49"/>
                    </a:lnTo>
                    <a:lnTo>
                      <a:pt x="276" y="47"/>
                    </a:lnTo>
                    <a:lnTo>
                      <a:pt x="268" y="47"/>
                    </a:lnTo>
                    <a:lnTo>
                      <a:pt x="262" y="45"/>
                    </a:lnTo>
                    <a:lnTo>
                      <a:pt x="257" y="43"/>
                    </a:lnTo>
                    <a:lnTo>
                      <a:pt x="249" y="43"/>
                    </a:lnTo>
                    <a:lnTo>
                      <a:pt x="243" y="41"/>
                    </a:lnTo>
                    <a:lnTo>
                      <a:pt x="238" y="39"/>
                    </a:lnTo>
                    <a:lnTo>
                      <a:pt x="230" y="39"/>
                    </a:lnTo>
                    <a:lnTo>
                      <a:pt x="224" y="38"/>
                    </a:lnTo>
                    <a:lnTo>
                      <a:pt x="219" y="38"/>
                    </a:lnTo>
                    <a:lnTo>
                      <a:pt x="211" y="36"/>
                    </a:lnTo>
                    <a:lnTo>
                      <a:pt x="203" y="34"/>
                    </a:lnTo>
                    <a:lnTo>
                      <a:pt x="196" y="34"/>
                    </a:lnTo>
                    <a:lnTo>
                      <a:pt x="190" y="32"/>
                    </a:lnTo>
                    <a:lnTo>
                      <a:pt x="183" y="30"/>
                    </a:lnTo>
                    <a:lnTo>
                      <a:pt x="177" y="30"/>
                    </a:lnTo>
                    <a:lnTo>
                      <a:pt x="169" y="28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6"/>
                    </a:lnTo>
                    <a:lnTo>
                      <a:pt x="145" y="24"/>
                    </a:lnTo>
                    <a:lnTo>
                      <a:pt x="137" y="24"/>
                    </a:lnTo>
                    <a:lnTo>
                      <a:pt x="129" y="22"/>
                    </a:lnTo>
                    <a:lnTo>
                      <a:pt x="124" y="20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3" y="19"/>
                    </a:lnTo>
                    <a:lnTo>
                      <a:pt x="95" y="19"/>
                    </a:lnTo>
                    <a:lnTo>
                      <a:pt x="89" y="17"/>
                    </a:lnTo>
                    <a:lnTo>
                      <a:pt x="84" y="17"/>
                    </a:lnTo>
                    <a:lnTo>
                      <a:pt x="76" y="17"/>
                    </a:lnTo>
                    <a:lnTo>
                      <a:pt x="68" y="15"/>
                    </a:lnTo>
                    <a:lnTo>
                      <a:pt x="63" y="15"/>
                    </a:lnTo>
                    <a:lnTo>
                      <a:pt x="55" y="15"/>
                    </a:lnTo>
                    <a:lnTo>
                      <a:pt x="48" y="13"/>
                    </a:lnTo>
                    <a:lnTo>
                      <a:pt x="40" y="13"/>
                    </a:lnTo>
                    <a:lnTo>
                      <a:pt x="34" y="11"/>
                    </a:lnTo>
                    <a:lnTo>
                      <a:pt x="27" y="11"/>
                    </a:lnTo>
                    <a:lnTo>
                      <a:pt x="19" y="11"/>
                    </a:lnTo>
                    <a:lnTo>
                      <a:pt x="13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23960" y="3113280"/>
                <a:ext cx="113040" cy="115560"/>
              </a:xfrm>
              <a:custGeom>
                <a:avLst/>
                <a:gdLst/>
                <a:ahLst/>
                <a:rect l="l" t="t" r="r" b="b"/>
                <a:pathLst>
                  <a:path w="143" h="147">
                    <a:moveTo>
                      <a:pt x="116" y="2"/>
                    </a:moveTo>
                    <a:lnTo>
                      <a:pt x="126" y="0"/>
                    </a:lnTo>
                    <a:lnTo>
                      <a:pt x="131" y="6"/>
                    </a:lnTo>
                    <a:lnTo>
                      <a:pt x="137" y="12"/>
                    </a:lnTo>
                    <a:lnTo>
                      <a:pt x="143" y="18"/>
                    </a:lnTo>
                    <a:lnTo>
                      <a:pt x="143" y="27"/>
                    </a:lnTo>
                    <a:lnTo>
                      <a:pt x="139" y="37"/>
                    </a:lnTo>
                    <a:lnTo>
                      <a:pt x="133" y="46"/>
                    </a:lnTo>
                    <a:lnTo>
                      <a:pt x="130" y="59"/>
                    </a:lnTo>
                    <a:lnTo>
                      <a:pt x="124" y="63"/>
                    </a:lnTo>
                    <a:lnTo>
                      <a:pt x="120" y="71"/>
                    </a:lnTo>
                    <a:lnTo>
                      <a:pt x="114" y="75"/>
                    </a:lnTo>
                    <a:lnTo>
                      <a:pt x="110" y="82"/>
                    </a:lnTo>
                    <a:lnTo>
                      <a:pt x="105" y="88"/>
                    </a:lnTo>
                    <a:lnTo>
                      <a:pt x="99" y="94"/>
                    </a:lnTo>
                    <a:lnTo>
                      <a:pt x="93" y="99"/>
                    </a:lnTo>
                    <a:lnTo>
                      <a:pt x="88" y="107"/>
                    </a:lnTo>
                    <a:lnTo>
                      <a:pt x="82" y="111"/>
                    </a:lnTo>
                    <a:lnTo>
                      <a:pt x="76" y="116"/>
                    </a:lnTo>
                    <a:lnTo>
                      <a:pt x="69" y="120"/>
                    </a:lnTo>
                    <a:lnTo>
                      <a:pt x="65" y="126"/>
                    </a:lnTo>
                    <a:lnTo>
                      <a:pt x="57" y="128"/>
                    </a:lnTo>
                    <a:lnTo>
                      <a:pt x="52" y="134"/>
                    </a:lnTo>
                    <a:lnTo>
                      <a:pt x="46" y="135"/>
                    </a:lnTo>
                    <a:lnTo>
                      <a:pt x="40" y="139"/>
                    </a:lnTo>
                    <a:lnTo>
                      <a:pt x="33" y="143"/>
                    </a:lnTo>
                    <a:lnTo>
                      <a:pt x="27" y="145"/>
                    </a:lnTo>
                    <a:lnTo>
                      <a:pt x="21" y="145"/>
                    </a:lnTo>
                    <a:lnTo>
                      <a:pt x="17" y="147"/>
                    </a:lnTo>
                    <a:lnTo>
                      <a:pt x="8" y="147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4" y="126"/>
                    </a:lnTo>
                    <a:lnTo>
                      <a:pt x="8" y="114"/>
                    </a:lnTo>
                    <a:lnTo>
                      <a:pt x="14" y="105"/>
                    </a:lnTo>
                    <a:lnTo>
                      <a:pt x="19" y="94"/>
                    </a:lnTo>
                    <a:lnTo>
                      <a:pt x="27" y="84"/>
                    </a:lnTo>
                    <a:lnTo>
                      <a:pt x="33" y="75"/>
                    </a:lnTo>
                    <a:lnTo>
                      <a:pt x="42" y="65"/>
                    </a:lnTo>
                    <a:lnTo>
                      <a:pt x="50" y="56"/>
                    </a:lnTo>
                    <a:lnTo>
                      <a:pt x="59" y="46"/>
                    </a:lnTo>
                    <a:lnTo>
                      <a:pt x="69" y="37"/>
                    </a:lnTo>
                    <a:lnTo>
                      <a:pt x="78" y="31"/>
                    </a:lnTo>
                    <a:lnTo>
                      <a:pt x="88" y="21"/>
                    </a:lnTo>
                    <a:lnTo>
                      <a:pt x="97" y="14"/>
                    </a:lnTo>
                    <a:lnTo>
                      <a:pt x="107" y="8"/>
                    </a:lnTo>
                    <a:lnTo>
                      <a:pt x="116" y="2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287360" y="310032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33" y="4"/>
                    </a:moveTo>
                    <a:lnTo>
                      <a:pt x="34" y="4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7" y="2"/>
                    </a:lnTo>
                    <a:lnTo>
                      <a:pt x="101" y="4"/>
                    </a:lnTo>
                    <a:lnTo>
                      <a:pt x="103" y="6"/>
                    </a:lnTo>
                    <a:lnTo>
                      <a:pt x="107" y="12"/>
                    </a:lnTo>
                    <a:lnTo>
                      <a:pt x="107" y="17"/>
                    </a:lnTo>
                    <a:lnTo>
                      <a:pt x="107" y="25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6" y="25"/>
                    </a:lnTo>
                    <a:lnTo>
                      <a:pt x="80" y="25"/>
                    </a:lnTo>
                    <a:lnTo>
                      <a:pt x="73" y="25"/>
                    </a:lnTo>
                    <a:lnTo>
                      <a:pt x="65" y="25"/>
                    </a:lnTo>
                    <a:lnTo>
                      <a:pt x="59" y="25"/>
                    </a:lnTo>
                    <a:lnTo>
                      <a:pt x="54" y="25"/>
                    </a:lnTo>
                    <a:lnTo>
                      <a:pt x="46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19" y="25"/>
                    </a:lnTo>
                    <a:lnTo>
                      <a:pt x="12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1" y="8"/>
                    </a:lnTo>
                    <a:lnTo>
                      <a:pt x="33" y="4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700360" y="3130560"/>
                <a:ext cx="77760" cy="185760"/>
              </a:xfrm>
              <a:custGeom>
                <a:avLst/>
                <a:gdLst/>
                <a:ahLst/>
                <a:rect l="l" t="t" r="r" b="b"/>
                <a:pathLst>
                  <a:path w="97" h="234">
                    <a:moveTo>
                      <a:pt x="31" y="0"/>
                    </a:moveTo>
                    <a:lnTo>
                      <a:pt x="37" y="0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6" y="6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0" y="19"/>
                    </a:lnTo>
                    <a:lnTo>
                      <a:pt x="88" y="25"/>
                    </a:lnTo>
                    <a:lnTo>
                      <a:pt x="92" y="31"/>
                    </a:lnTo>
                    <a:lnTo>
                      <a:pt x="95" y="38"/>
                    </a:lnTo>
                    <a:lnTo>
                      <a:pt x="97" y="44"/>
                    </a:lnTo>
                    <a:lnTo>
                      <a:pt x="97" y="52"/>
                    </a:lnTo>
                    <a:lnTo>
                      <a:pt x="97" y="59"/>
                    </a:lnTo>
                    <a:lnTo>
                      <a:pt x="97" y="69"/>
                    </a:lnTo>
                    <a:lnTo>
                      <a:pt x="95" y="76"/>
                    </a:lnTo>
                    <a:lnTo>
                      <a:pt x="95" y="86"/>
                    </a:lnTo>
                    <a:lnTo>
                      <a:pt x="92" y="93"/>
                    </a:lnTo>
                    <a:lnTo>
                      <a:pt x="88" y="103"/>
                    </a:lnTo>
                    <a:lnTo>
                      <a:pt x="84" y="113"/>
                    </a:lnTo>
                    <a:lnTo>
                      <a:pt x="78" y="120"/>
                    </a:lnTo>
                    <a:lnTo>
                      <a:pt x="73" y="128"/>
                    </a:lnTo>
                    <a:lnTo>
                      <a:pt x="67" y="139"/>
                    </a:lnTo>
                    <a:lnTo>
                      <a:pt x="61" y="147"/>
                    </a:lnTo>
                    <a:lnTo>
                      <a:pt x="56" y="154"/>
                    </a:lnTo>
                    <a:lnTo>
                      <a:pt x="48" y="164"/>
                    </a:lnTo>
                    <a:lnTo>
                      <a:pt x="42" y="173"/>
                    </a:lnTo>
                    <a:lnTo>
                      <a:pt x="37" y="181"/>
                    </a:lnTo>
                    <a:lnTo>
                      <a:pt x="31" y="189"/>
                    </a:lnTo>
                    <a:lnTo>
                      <a:pt x="23" y="198"/>
                    </a:lnTo>
                    <a:lnTo>
                      <a:pt x="19" y="206"/>
                    </a:lnTo>
                    <a:lnTo>
                      <a:pt x="12" y="213"/>
                    </a:lnTo>
                    <a:lnTo>
                      <a:pt x="8" y="221"/>
                    </a:lnTo>
                    <a:lnTo>
                      <a:pt x="4" y="227"/>
                    </a:lnTo>
                    <a:lnTo>
                      <a:pt x="0" y="234"/>
                    </a:lnTo>
                    <a:lnTo>
                      <a:pt x="2" y="225"/>
                    </a:lnTo>
                    <a:lnTo>
                      <a:pt x="6" y="217"/>
                    </a:lnTo>
                    <a:lnTo>
                      <a:pt x="10" y="211"/>
                    </a:lnTo>
                    <a:lnTo>
                      <a:pt x="12" y="204"/>
                    </a:lnTo>
                    <a:lnTo>
                      <a:pt x="16" y="194"/>
                    </a:lnTo>
                    <a:lnTo>
                      <a:pt x="19" y="187"/>
                    </a:lnTo>
                    <a:lnTo>
                      <a:pt x="21" y="179"/>
                    </a:lnTo>
                    <a:lnTo>
                      <a:pt x="25" y="171"/>
                    </a:lnTo>
                    <a:lnTo>
                      <a:pt x="27" y="164"/>
                    </a:lnTo>
                    <a:lnTo>
                      <a:pt x="31" y="156"/>
                    </a:lnTo>
                    <a:lnTo>
                      <a:pt x="33" y="149"/>
                    </a:lnTo>
                    <a:lnTo>
                      <a:pt x="37" y="141"/>
                    </a:lnTo>
                    <a:lnTo>
                      <a:pt x="38" y="132"/>
                    </a:lnTo>
                    <a:lnTo>
                      <a:pt x="40" y="124"/>
                    </a:lnTo>
                    <a:lnTo>
                      <a:pt x="42" y="116"/>
                    </a:lnTo>
                    <a:lnTo>
                      <a:pt x="46" y="109"/>
                    </a:lnTo>
                    <a:lnTo>
                      <a:pt x="48" y="101"/>
                    </a:lnTo>
                    <a:lnTo>
                      <a:pt x="48" y="93"/>
                    </a:lnTo>
                    <a:lnTo>
                      <a:pt x="50" y="86"/>
                    </a:lnTo>
                    <a:lnTo>
                      <a:pt x="52" y="78"/>
                    </a:lnTo>
                    <a:lnTo>
                      <a:pt x="52" y="71"/>
                    </a:lnTo>
                    <a:lnTo>
                      <a:pt x="52" y="63"/>
                    </a:lnTo>
                    <a:lnTo>
                      <a:pt x="52" y="57"/>
                    </a:lnTo>
                    <a:lnTo>
                      <a:pt x="52" y="50"/>
                    </a:lnTo>
                    <a:lnTo>
                      <a:pt x="50" y="42"/>
                    </a:lnTo>
                    <a:lnTo>
                      <a:pt x="48" y="35"/>
                    </a:lnTo>
                    <a:lnTo>
                      <a:pt x="46" y="29"/>
                    </a:lnTo>
                    <a:lnTo>
                      <a:pt x="44" y="23"/>
                    </a:lnTo>
                    <a:lnTo>
                      <a:pt x="40" y="16"/>
                    </a:lnTo>
                    <a:lnTo>
                      <a:pt x="38" y="10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04200" y="3159000"/>
                <a:ext cx="979560" cy="120960"/>
              </a:xfrm>
              <a:custGeom>
                <a:avLst/>
                <a:gdLst/>
                <a:ahLst/>
                <a:rect l="l" t="t" r="r" b="b"/>
                <a:pathLst>
                  <a:path w="1233" h="153">
                    <a:moveTo>
                      <a:pt x="437" y="0"/>
                    </a:moveTo>
                    <a:lnTo>
                      <a:pt x="448" y="2"/>
                    </a:lnTo>
                    <a:lnTo>
                      <a:pt x="460" y="4"/>
                    </a:lnTo>
                    <a:lnTo>
                      <a:pt x="471" y="4"/>
                    </a:lnTo>
                    <a:lnTo>
                      <a:pt x="482" y="6"/>
                    </a:lnTo>
                    <a:lnTo>
                      <a:pt x="494" y="8"/>
                    </a:lnTo>
                    <a:lnTo>
                      <a:pt x="505" y="10"/>
                    </a:lnTo>
                    <a:lnTo>
                      <a:pt x="517" y="12"/>
                    </a:lnTo>
                    <a:lnTo>
                      <a:pt x="530" y="14"/>
                    </a:lnTo>
                    <a:lnTo>
                      <a:pt x="541" y="14"/>
                    </a:lnTo>
                    <a:lnTo>
                      <a:pt x="553" y="16"/>
                    </a:lnTo>
                    <a:lnTo>
                      <a:pt x="564" y="18"/>
                    </a:lnTo>
                    <a:lnTo>
                      <a:pt x="578" y="19"/>
                    </a:lnTo>
                    <a:lnTo>
                      <a:pt x="589" y="19"/>
                    </a:lnTo>
                    <a:lnTo>
                      <a:pt x="600" y="21"/>
                    </a:lnTo>
                    <a:lnTo>
                      <a:pt x="612" y="23"/>
                    </a:lnTo>
                    <a:lnTo>
                      <a:pt x="625" y="25"/>
                    </a:lnTo>
                    <a:lnTo>
                      <a:pt x="636" y="25"/>
                    </a:lnTo>
                    <a:lnTo>
                      <a:pt x="648" y="25"/>
                    </a:lnTo>
                    <a:lnTo>
                      <a:pt x="659" y="27"/>
                    </a:lnTo>
                    <a:lnTo>
                      <a:pt x="673" y="27"/>
                    </a:lnTo>
                    <a:lnTo>
                      <a:pt x="684" y="27"/>
                    </a:lnTo>
                    <a:lnTo>
                      <a:pt x="697" y="29"/>
                    </a:lnTo>
                    <a:lnTo>
                      <a:pt x="709" y="31"/>
                    </a:lnTo>
                    <a:lnTo>
                      <a:pt x="722" y="31"/>
                    </a:lnTo>
                    <a:lnTo>
                      <a:pt x="733" y="31"/>
                    </a:lnTo>
                    <a:lnTo>
                      <a:pt x="747" y="33"/>
                    </a:lnTo>
                    <a:lnTo>
                      <a:pt x="758" y="33"/>
                    </a:lnTo>
                    <a:lnTo>
                      <a:pt x="771" y="33"/>
                    </a:lnTo>
                    <a:lnTo>
                      <a:pt x="783" y="33"/>
                    </a:lnTo>
                    <a:lnTo>
                      <a:pt x="796" y="35"/>
                    </a:lnTo>
                    <a:lnTo>
                      <a:pt x="809" y="35"/>
                    </a:lnTo>
                    <a:lnTo>
                      <a:pt x="821" y="37"/>
                    </a:lnTo>
                    <a:lnTo>
                      <a:pt x="832" y="37"/>
                    </a:lnTo>
                    <a:lnTo>
                      <a:pt x="846" y="37"/>
                    </a:lnTo>
                    <a:lnTo>
                      <a:pt x="859" y="37"/>
                    </a:lnTo>
                    <a:lnTo>
                      <a:pt x="872" y="38"/>
                    </a:lnTo>
                    <a:lnTo>
                      <a:pt x="884" y="38"/>
                    </a:lnTo>
                    <a:lnTo>
                      <a:pt x="897" y="38"/>
                    </a:lnTo>
                    <a:lnTo>
                      <a:pt x="910" y="38"/>
                    </a:lnTo>
                    <a:lnTo>
                      <a:pt x="922" y="38"/>
                    </a:lnTo>
                    <a:lnTo>
                      <a:pt x="935" y="38"/>
                    </a:lnTo>
                    <a:lnTo>
                      <a:pt x="948" y="38"/>
                    </a:lnTo>
                    <a:lnTo>
                      <a:pt x="960" y="38"/>
                    </a:lnTo>
                    <a:lnTo>
                      <a:pt x="973" y="38"/>
                    </a:lnTo>
                    <a:lnTo>
                      <a:pt x="986" y="38"/>
                    </a:lnTo>
                    <a:lnTo>
                      <a:pt x="998" y="38"/>
                    </a:lnTo>
                    <a:lnTo>
                      <a:pt x="1011" y="38"/>
                    </a:lnTo>
                    <a:lnTo>
                      <a:pt x="1024" y="38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2" y="38"/>
                    </a:lnTo>
                    <a:lnTo>
                      <a:pt x="1076" y="38"/>
                    </a:lnTo>
                    <a:lnTo>
                      <a:pt x="1087" y="37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27" y="37"/>
                    </a:lnTo>
                    <a:lnTo>
                      <a:pt x="1140" y="35"/>
                    </a:lnTo>
                    <a:lnTo>
                      <a:pt x="1154" y="35"/>
                    </a:lnTo>
                    <a:lnTo>
                      <a:pt x="1165" y="35"/>
                    </a:lnTo>
                    <a:lnTo>
                      <a:pt x="1180" y="35"/>
                    </a:lnTo>
                    <a:lnTo>
                      <a:pt x="1192" y="35"/>
                    </a:lnTo>
                    <a:lnTo>
                      <a:pt x="1207" y="35"/>
                    </a:lnTo>
                    <a:lnTo>
                      <a:pt x="1220" y="35"/>
                    </a:lnTo>
                    <a:lnTo>
                      <a:pt x="1233" y="35"/>
                    </a:lnTo>
                    <a:lnTo>
                      <a:pt x="1224" y="37"/>
                    </a:lnTo>
                    <a:lnTo>
                      <a:pt x="1216" y="38"/>
                    </a:lnTo>
                    <a:lnTo>
                      <a:pt x="1207" y="40"/>
                    </a:lnTo>
                    <a:lnTo>
                      <a:pt x="1199" y="44"/>
                    </a:lnTo>
                    <a:lnTo>
                      <a:pt x="1190" y="44"/>
                    </a:lnTo>
                    <a:lnTo>
                      <a:pt x="1182" y="48"/>
                    </a:lnTo>
                    <a:lnTo>
                      <a:pt x="1173" y="48"/>
                    </a:lnTo>
                    <a:lnTo>
                      <a:pt x="1165" y="50"/>
                    </a:lnTo>
                    <a:lnTo>
                      <a:pt x="1155" y="52"/>
                    </a:lnTo>
                    <a:lnTo>
                      <a:pt x="1146" y="52"/>
                    </a:lnTo>
                    <a:lnTo>
                      <a:pt x="1136" y="54"/>
                    </a:lnTo>
                    <a:lnTo>
                      <a:pt x="1129" y="56"/>
                    </a:lnTo>
                    <a:lnTo>
                      <a:pt x="1119" y="56"/>
                    </a:lnTo>
                    <a:lnTo>
                      <a:pt x="1110" y="57"/>
                    </a:lnTo>
                    <a:lnTo>
                      <a:pt x="1100" y="57"/>
                    </a:lnTo>
                    <a:lnTo>
                      <a:pt x="1093" y="59"/>
                    </a:lnTo>
                    <a:lnTo>
                      <a:pt x="1083" y="59"/>
                    </a:lnTo>
                    <a:lnTo>
                      <a:pt x="1074" y="61"/>
                    </a:lnTo>
                    <a:lnTo>
                      <a:pt x="1064" y="61"/>
                    </a:lnTo>
                    <a:lnTo>
                      <a:pt x="1055" y="61"/>
                    </a:lnTo>
                    <a:lnTo>
                      <a:pt x="1045" y="61"/>
                    </a:lnTo>
                    <a:lnTo>
                      <a:pt x="1036" y="63"/>
                    </a:lnTo>
                    <a:lnTo>
                      <a:pt x="1026" y="63"/>
                    </a:lnTo>
                    <a:lnTo>
                      <a:pt x="1017" y="63"/>
                    </a:lnTo>
                    <a:lnTo>
                      <a:pt x="1007" y="63"/>
                    </a:lnTo>
                    <a:lnTo>
                      <a:pt x="998" y="63"/>
                    </a:lnTo>
                    <a:lnTo>
                      <a:pt x="988" y="63"/>
                    </a:lnTo>
                    <a:lnTo>
                      <a:pt x="979" y="65"/>
                    </a:lnTo>
                    <a:lnTo>
                      <a:pt x="969" y="65"/>
                    </a:lnTo>
                    <a:lnTo>
                      <a:pt x="960" y="67"/>
                    </a:lnTo>
                    <a:lnTo>
                      <a:pt x="950" y="67"/>
                    </a:lnTo>
                    <a:lnTo>
                      <a:pt x="943" y="67"/>
                    </a:lnTo>
                    <a:lnTo>
                      <a:pt x="933" y="67"/>
                    </a:lnTo>
                    <a:lnTo>
                      <a:pt x="924" y="67"/>
                    </a:lnTo>
                    <a:lnTo>
                      <a:pt x="914" y="67"/>
                    </a:lnTo>
                    <a:lnTo>
                      <a:pt x="905" y="69"/>
                    </a:lnTo>
                    <a:lnTo>
                      <a:pt x="895" y="69"/>
                    </a:lnTo>
                    <a:lnTo>
                      <a:pt x="885" y="69"/>
                    </a:lnTo>
                    <a:lnTo>
                      <a:pt x="876" y="71"/>
                    </a:lnTo>
                    <a:lnTo>
                      <a:pt x="866" y="71"/>
                    </a:lnTo>
                    <a:lnTo>
                      <a:pt x="857" y="71"/>
                    </a:lnTo>
                    <a:lnTo>
                      <a:pt x="847" y="73"/>
                    </a:lnTo>
                    <a:lnTo>
                      <a:pt x="838" y="73"/>
                    </a:lnTo>
                    <a:lnTo>
                      <a:pt x="830" y="75"/>
                    </a:lnTo>
                    <a:lnTo>
                      <a:pt x="821" y="77"/>
                    </a:lnTo>
                    <a:lnTo>
                      <a:pt x="811" y="78"/>
                    </a:lnTo>
                    <a:lnTo>
                      <a:pt x="804" y="78"/>
                    </a:lnTo>
                    <a:lnTo>
                      <a:pt x="794" y="82"/>
                    </a:lnTo>
                    <a:lnTo>
                      <a:pt x="785" y="82"/>
                    </a:lnTo>
                    <a:lnTo>
                      <a:pt x="777" y="86"/>
                    </a:lnTo>
                    <a:lnTo>
                      <a:pt x="768" y="86"/>
                    </a:lnTo>
                    <a:lnTo>
                      <a:pt x="762" y="90"/>
                    </a:lnTo>
                    <a:lnTo>
                      <a:pt x="752" y="92"/>
                    </a:lnTo>
                    <a:lnTo>
                      <a:pt x="745" y="96"/>
                    </a:lnTo>
                    <a:lnTo>
                      <a:pt x="737" y="97"/>
                    </a:lnTo>
                    <a:lnTo>
                      <a:pt x="730" y="101"/>
                    </a:lnTo>
                    <a:lnTo>
                      <a:pt x="720" y="105"/>
                    </a:lnTo>
                    <a:lnTo>
                      <a:pt x="714" y="107"/>
                    </a:lnTo>
                    <a:lnTo>
                      <a:pt x="707" y="111"/>
                    </a:lnTo>
                    <a:lnTo>
                      <a:pt x="699" y="115"/>
                    </a:lnTo>
                    <a:lnTo>
                      <a:pt x="692" y="118"/>
                    </a:lnTo>
                    <a:lnTo>
                      <a:pt x="686" y="124"/>
                    </a:lnTo>
                    <a:lnTo>
                      <a:pt x="680" y="128"/>
                    </a:lnTo>
                    <a:lnTo>
                      <a:pt x="673" y="134"/>
                    </a:lnTo>
                    <a:lnTo>
                      <a:pt x="671" y="132"/>
                    </a:lnTo>
                    <a:lnTo>
                      <a:pt x="674" y="122"/>
                    </a:lnTo>
                    <a:lnTo>
                      <a:pt x="684" y="115"/>
                    </a:lnTo>
                    <a:lnTo>
                      <a:pt x="692" y="105"/>
                    </a:lnTo>
                    <a:lnTo>
                      <a:pt x="697" y="96"/>
                    </a:lnTo>
                    <a:lnTo>
                      <a:pt x="686" y="92"/>
                    </a:lnTo>
                    <a:lnTo>
                      <a:pt x="676" y="92"/>
                    </a:lnTo>
                    <a:lnTo>
                      <a:pt x="667" y="92"/>
                    </a:lnTo>
                    <a:lnTo>
                      <a:pt x="657" y="92"/>
                    </a:lnTo>
                    <a:lnTo>
                      <a:pt x="648" y="92"/>
                    </a:lnTo>
                    <a:lnTo>
                      <a:pt x="638" y="96"/>
                    </a:lnTo>
                    <a:lnTo>
                      <a:pt x="629" y="96"/>
                    </a:lnTo>
                    <a:lnTo>
                      <a:pt x="621" y="99"/>
                    </a:lnTo>
                    <a:lnTo>
                      <a:pt x="612" y="101"/>
                    </a:lnTo>
                    <a:lnTo>
                      <a:pt x="604" y="105"/>
                    </a:lnTo>
                    <a:lnTo>
                      <a:pt x="595" y="107"/>
                    </a:lnTo>
                    <a:lnTo>
                      <a:pt x="587" y="113"/>
                    </a:lnTo>
                    <a:lnTo>
                      <a:pt x="578" y="116"/>
                    </a:lnTo>
                    <a:lnTo>
                      <a:pt x="570" y="122"/>
                    </a:lnTo>
                    <a:lnTo>
                      <a:pt x="562" y="126"/>
                    </a:lnTo>
                    <a:lnTo>
                      <a:pt x="555" y="132"/>
                    </a:lnTo>
                    <a:lnTo>
                      <a:pt x="558" y="124"/>
                    </a:lnTo>
                    <a:lnTo>
                      <a:pt x="560" y="118"/>
                    </a:lnTo>
                    <a:lnTo>
                      <a:pt x="564" y="113"/>
                    </a:lnTo>
                    <a:lnTo>
                      <a:pt x="568" y="105"/>
                    </a:lnTo>
                    <a:lnTo>
                      <a:pt x="574" y="94"/>
                    </a:lnTo>
                    <a:lnTo>
                      <a:pt x="578" y="84"/>
                    </a:lnTo>
                    <a:lnTo>
                      <a:pt x="579" y="73"/>
                    </a:lnTo>
                    <a:lnTo>
                      <a:pt x="583" y="67"/>
                    </a:lnTo>
                    <a:lnTo>
                      <a:pt x="583" y="59"/>
                    </a:lnTo>
                    <a:lnTo>
                      <a:pt x="583" y="56"/>
                    </a:lnTo>
                    <a:lnTo>
                      <a:pt x="579" y="52"/>
                    </a:lnTo>
                    <a:lnTo>
                      <a:pt x="576" y="50"/>
                    </a:lnTo>
                    <a:lnTo>
                      <a:pt x="568" y="50"/>
                    </a:lnTo>
                    <a:lnTo>
                      <a:pt x="560" y="52"/>
                    </a:lnTo>
                    <a:lnTo>
                      <a:pt x="555" y="54"/>
                    </a:lnTo>
                    <a:lnTo>
                      <a:pt x="549" y="57"/>
                    </a:lnTo>
                    <a:lnTo>
                      <a:pt x="543" y="59"/>
                    </a:lnTo>
                    <a:lnTo>
                      <a:pt x="538" y="63"/>
                    </a:lnTo>
                    <a:lnTo>
                      <a:pt x="530" y="69"/>
                    </a:lnTo>
                    <a:lnTo>
                      <a:pt x="522" y="73"/>
                    </a:lnTo>
                    <a:lnTo>
                      <a:pt x="513" y="80"/>
                    </a:lnTo>
                    <a:lnTo>
                      <a:pt x="505" y="88"/>
                    </a:lnTo>
                    <a:lnTo>
                      <a:pt x="498" y="92"/>
                    </a:lnTo>
                    <a:lnTo>
                      <a:pt x="492" y="97"/>
                    </a:lnTo>
                    <a:lnTo>
                      <a:pt x="484" y="103"/>
                    </a:lnTo>
                    <a:lnTo>
                      <a:pt x="479" y="107"/>
                    </a:lnTo>
                    <a:lnTo>
                      <a:pt x="471" y="111"/>
                    </a:lnTo>
                    <a:lnTo>
                      <a:pt x="463" y="115"/>
                    </a:lnTo>
                    <a:lnTo>
                      <a:pt x="456" y="116"/>
                    </a:lnTo>
                    <a:lnTo>
                      <a:pt x="450" y="122"/>
                    </a:lnTo>
                    <a:lnTo>
                      <a:pt x="448" y="118"/>
                    </a:lnTo>
                    <a:lnTo>
                      <a:pt x="448" y="111"/>
                    </a:lnTo>
                    <a:lnTo>
                      <a:pt x="450" y="105"/>
                    </a:lnTo>
                    <a:lnTo>
                      <a:pt x="452" y="97"/>
                    </a:lnTo>
                    <a:lnTo>
                      <a:pt x="458" y="94"/>
                    </a:lnTo>
                    <a:lnTo>
                      <a:pt x="463" y="88"/>
                    </a:lnTo>
                    <a:lnTo>
                      <a:pt x="469" y="82"/>
                    </a:lnTo>
                    <a:lnTo>
                      <a:pt x="477" y="78"/>
                    </a:lnTo>
                    <a:lnTo>
                      <a:pt x="482" y="75"/>
                    </a:lnTo>
                    <a:lnTo>
                      <a:pt x="488" y="69"/>
                    </a:lnTo>
                    <a:lnTo>
                      <a:pt x="494" y="65"/>
                    </a:lnTo>
                    <a:lnTo>
                      <a:pt x="500" y="59"/>
                    </a:lnTo>
                    <a:lnTo>
                      <a:pt x="505" y="56"/>
                    </a:lnTo>
                    <a:lnTo>
                      <a:pt x="509" y="50"/>
                    </a:lnTo>
                    <a:lnTo>
                      <a:pt x="513" y="44"/>
                    </a:lnTo>
                    <a:lnTo>
                      <a:pt x="515" y="40"/>
                    </a:lnTo>
                    <a:lnTo>
                      <a:pt x="515" y="35"/>
                    </a:lnTo>
                    <a:lnTo>
                      <a:pt x="509" y="35"/>
                    </a:lnTo>
                    <a:lnTo>
                      <a:pt x="503" y="38"/>
                    </a:lnTo>
                    <a:lnTo>
                      <a:pt x="496" y="40"/>
                    </a:lnTo>
                    <a:lnTo>
                      <a:pt x="490" y="42"/>
                    </a:lnTo>
                    <a:lnTo>
                      <a:pt x="484" y="44"/>
                    </a:lnTo>
                    <a:lnTo>
                      <a:pt x="479" y="46"/>
                    </a:lnTo>
                    <a:lnTo>
                      <a:pt x="471" y="50"/>
                    </a:lnTo>
                    <a:lnTo>
                      <a:pt x="467" y="52"/>
                    </a:lnTo>
                    <a:lnTo>
                      <a:pt x="456" y="57"/>
                    </a:lnTo>
                    <a:lnTo>
                      <a:pt x="444" y="63"/>
                    </a:lnTo>
                    <a:lnTo>
                      <a:pt x="433" y="71"/>
                    </a:lnTo>
                    <a:lnTo>
                      <a:pt x="422" y="78"/>
                    </a:lnTo>
                    <a:lnTo>
                      <a:pt x="410" y="86"/>
                    </a:lnTo>
                    <a:lnTo>
                      <a:pt x="401" y="94"/>
                    </a:lnTo>
                    <a:lnTo>
                      <a:pt x="389" y="101"/>
                    </a:lnTo>
                    <a:lnTo>
                      <a:pt x="380" y="111"/>
                    </a:lnTo>
                    <a:lnTo>
                      <a:pt x="368" y="120"/>
                    </a:lnTo>
                    <a:lnTo>
                      <a:pt x="359" y="130"/>
                    </a:lnTo>
                    <a:lnTo>
                      <a:pt x="355" y="135"/>
                    </a:lnTo>
                    <a:lnTo>
                      <a:pt x="349" y="141"/>
                    </a:lnTo>
                    <a:lnTo>
                      <a:pt x="346" y="147"/>
                    </a:lnTo>
                    <a:lnTo>
                      <a:pt x="340" y="153"/>
                    </a:lnTo>
                    <a:lnTo>
                      <a:pt x="338" y="143"/>
                    </a:lnTo>
                    <a:lnTo>
                      <a:pt x="338" y="135"/>
                    </a:lnTo>
                    <a:lnTo>
                      <a:pt x="338" y="126"/>
                    </a:lnTo>
                    <a:lnTo>
                      <a:pt x="342" y="118"/>
                    </a:lnTo>
                    <a:lnTo>
                      <a:pt x="346" y="111"/>
                    </a:lnTo>
                    <a:lnTo>
                      <a:pt x="351" y="103"/>
                    </a:lnTo>
                    <a:lnTo>
                      <a:pt x="357" y="96"/>
                    </a:lnTo>
                    <a:lnTo>
                      <a:pt x="366" y="88"/>
                    </a:lnTo>
                    <a:lnTo>
                      <a:pt x="372" y="80"/>
                    </a:lnTo>
                    <a:lnTo>
                      <a:pt x="382" y="73"/>
                    </a:lnTo>
                    <a:lnTo>
                      <a:pt x="389" y="67"/>
                    </a:lnTo>
                    <a:lnTo>
                      <a:pt x="399" y="61"/>
                    </a:lnTo>
                    <a:lnTo>
                      <a:pt x="408" y="54"/>
                    </a:lnTo>
                    <a:lnTo>
                      <a:pt x="416" y="48"/>
                    </a:lnTo>
                    <a:lnTo>
                      <a:pt x="424" y="42"/>
                    </a:lnTo>
                    <a:lnTo>
                      <a:pt x="431" y="40"/>
                    </a:lnTo>
                    <a:lnTo>
                      <a:pt x="424" y="40"/>
                    </a:lnTo>
                    <a:lnTo>
                      <a:pt x="418" y="42"/>
                    </a:lnTo>
                    <a:lnTo>
                      <a:pt x="410" y="42"/>
                    </a:lnTo>
                    <a:lnTo>
                      <a:pt x="405" y="44"/>
                    </a:lnTo>
                    <a:lnTo>
                      <a:pt x="397" y="44"/>
                    </a:lnTo>
                    <a:lnTo>
                      <a:pt x="389" y="46"/>
                    </a:lnTo>
                    <a:lnTo>
                      <a:pt x="384" y="48"/>
                    </a:lnTo>
                    <a:lnTo>
                      <a:pt x="376" y="50"/>
                    </a:lnTo>
                    <a:lnTo>
                      <a:pt x="368" y="50"/>
                    </a:lnTo>
                    <a:lnTo>
                      <a:pt x="363" y="52"/>
                    </a:lnTo>
                    <a:lnTo>
                      <a:pt x="355" y="52"/>
                    </a:lnTo>
                    <a:lnTo>
                      <a:pt x="349" y="54"/>
                    </a:lnTo>
                    <a:lnTo>
                      <a:pt x="342" y="54"/>
                    </a:lnTo>
                    <a:lnTo>
                      <a:pt x="336" y="56"/>
                    </a:lnTo>
                    <a:lnTo>
                      <a:pt x="328" y="57"/>
                    </a:lnTo>
                    <a:lnTo>
                      <a:pt x="323" y="59"/>
                    </a:lnTo>
                    <a:lnTo>
                      <a:pt x="315" y="59"/>
                    </a:lnTo>
                    <a:lnTo>
                      <a:pt x="309" y="59"/>
                    </a:lnTo>
                    <a:lnTo>
                      <a:pt x="302" y="61"/>
                    </a:lnTo>
                    <a:lnTo>
                      <a:pt x="294" y="61"/>
                    </a:lnTo>
                    <a:lnTo>
                      <a:pt x="289" y="63"/>
                    </a:lnTo>
                    <a:lnTo>
                      <a:pt x="281" y="63"/>
                    </a:lnTo>
                    <a:lnTo>
                      <a:pt x="275" y="65"/>
                    </a:lnTo>
                    <a:lnTo>
                      <a:pt x="270" y="67"/>
                    </a:lnTo>
                    <a:lnTo>
                      <a:pt x="262" y="67"/>
                    </a:lnTo>
                    <a:lnTo>
                      <a:pt x="254" y="67"/>
                    </a:lnTo>
                    <a:lnTo>
                      <a:pt x="247" y="67"/>
                    </a:lnTo>
                    <a:lnTo>
                      <a:pt x="241" y="69"/>
                    </a:lnTo>
                    <a:lnTo>
                      <a:pt x="233" y="69"/>
                    </a:lnTo>
                    <a:lnTo>
                      <a:pt x="228" y="69"/>
                    </a:lnTo>
                    <a:lnTo>
                      <a:pt x="220" y="71"/>
                    </a:lnTo>
                    <a:lnTo>
                      <a:pt x="214" y="71"/>
                    </a:lnTo>
                    <a:lnTo>
                      <a:pt x="207" y="71"/>
                    </a:lnTo>
                    <a:lnTo>
                      <a:pt x="201" y="71"/>
                    </a:lnTo>
                    <a:lnTo>
                      <a:pt x="193" y="71"/>
                    </a:lnTo>
                    <a:lnTo>
                      <a:pt x="188" y="71"/>
                    </a:lnTo>
                    <a:lnTo>
                      <a:pt x="180" y="71"/>
                    </a:lnTo>
                    <a:lnTo>
                      <a:pt x="173" y="71"/>
                    </a:lnTo>
                    <a:lnTo>
                      <a:pt x="167" y="71"/>
                    </a:lnTo>
                    <a:lnTo>
                      <a:pt x="161" y="71"/>
                    </a:lnTo>
                    <a:lnTo>
                      <a:pt x="154" y="71"/>
                    </a:lnTo>
                    <a:lnTo>
                      <a:pt x="146" y="69"/>
                    </a:lnTo>
                    <a:lnTo>
                      <a:pt x="140" y="69"/>
                    </a:lnTo>
                    <a:lnTo>
                      <a:pt x="133" y="69"/>
                    </a:lnTo>
                    <a:lnTo>
                      <a:pt x="125" y="67"/>
                    </a:lnTo>
                    <a:lnTo>
                      <a:pt x="119" y="67"/>
                    </a:lnTo>
                    <a:lnTo>
                      <a:pt x="114" y="65"/>
                    </a:lnTo>
                    <a:lnTo>
                      <a:pt x="106" y="65"/>
                    </a:lnTo>
                    <a:lnTo>
                      <a:pt x="98" y="63"/>
                    </a:lnTo>
                    <a:lnTo>
                      <a:pt x="93" y="61"/>
                    </a:lnTo>
                    <a:lnTo>
                      <a:pt x="85" y="59"/>
                    </a:lnTo>
                    <a:lnTo>
                      <a:pt x="79" y="59"/>
                    </a:lnTo>
                    <a:lnTo>
                      <a:pt x="72" y="57"/>
                    </a:lnTo>
                    <a:lnTo>
                      <a:pt x="66" y="54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5" y="48"/>
                    </a:lnTo>
                    <a:lnTo>
                      <a:pt x="39" y="46"/>
                    </a:lnTo>
                    <a:lnTo>
                      <a:pt x="32" y="44"/>
                    </a:lnTo>
                    <a:lnTo>
                      <a:pt x="24" y="42"/>
                    </a:lnTo>
                    <a:lnTo>
                      <a:pt x="19" y="38"/>
                    </a:lnTo>
                    <a:lnTo>
                      <a:pt x="13" y="35"/>
                    </a:lnTo>
                    <a:lnTo>
                      <a:pt x="5" y="3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3" y="31"/>
                    </a:lnTo>
                    <a:lnTo>
                      <a:pt x="20" y="31"/>
                    </a:lnTo>
                    <a:lnTo>
                      <a:pt x="26" y="31"/>
                    </a:lnTo>
                    <a:lnTo>
                      <a:pt x="34" y="31"/>
                    </a:lnTo>
                    <a:lnTo>
                      <a:pt x="41" y="31"/>
                    </a:lnTo>
                    <a:lnTo>
                      <a:pt x="49" y="31"/>
                    </a:lnTo>
                    <a:lnTo>
                      <a:pt x="57" y="33"/>
                    </a:lnTo>
                    <a:lnTo>
                      <a:pt x="62" y="33"/>
                    </a:lnTo>
                    <a:lnTo>
                      <a:pt x="70" y="33"/>
                    </a:lnTo>
                    <a:lnTo>
                      <a:pt x="78" y="33"/>
                    </a:lnTo>
                    <a:lnTo>
                      <a:pt x="85" y="33"/>
                    </a:lnTo>
                    <a:lnTo>
                      <a:pt x="91" y="33"/>
                    </a:lnTo>
                    <a:lnTo>
                      <a:pt x="98" y="35"/>
                    </a:lnTo>
                    <a:lnTo>
                      <a:pt x="106" y="35"/>
                    </a:lnTo>
                    <a:lnTo>
                      <a:pt x="114" y="37"/>
                    </a:lnTo>
                    <a:lnTo>
                      <a:pt x="119" y="37"/>
                    </a:lnTo>
                    <a:lnTo>
                      <a:pt x="125" y="37"/>
                    </a:lnTo>
                    <a:lnTo>
                      <a:pt x="133" y="37"/>
                    </a:lnTo>
                    <a:lnTo>
                      <a:pt x="140" y="38"/>
                    </a:lnTo>
                    <a:lnTo>
                      <a:pt x="146" y="38"/>
                    </a:lnTo>
                    <a:lnTo>
                      <a:pt x="154" y="38"/>
                    </a:lnTo>
                    <a:lnTo>
                      <a:pt x="161" y="38"/>
                    </a:lnTo>
                    <a:lnTo>
                      <a:pt x="169" y="40"/>
                    </a:lnTo>
                    <a:lnTo>
                      <a:pt x="174" y="40"/>
                    </a:lnTo>
                    <a:lnTo>
                      <a:pt x="180" y="40"/>
                    </a:lnTo>
                    <a:lnTo>
                      <a:pt x="188" y="40"/>
                    </a:lnTo>
                    <a:lnTo>
                      <a:pt x="195" y="40"/>
                    </a:lnTo>
                    <a:lnTo>
                      <a:pt x="201" y="40"/>
                    </a:lnTo>
                    <a:lnTo>
                      <a:pt x="209" y="42"/>
                    </a:lnTo>
                    <a:lnTo>
                      <a:pt x="216" y="42"/>
                    </a:lnTo>
                    <a:lnTo>
                      <a:pt x="224" y="42"/>
                    </a:lnTo>
                    <a:lnTo>
                      <a:pt x="230" y="42"/>
                    </a:lnTo>
                    <a:lnTo>
                      <a:pt x="235" y="42"/>
                    </a:lnTo>
                    <a:lnTo>
                      <a:pt x="243" y="42"/>
                    </a:lnTo>
                    <a:lnTo>
                      <a:pt x="251" y="42"/>
                    </a:lnTo>
                    <a:lnTo>
                      <a:pt x="256" y="40"/>
                    </a:lnTo>
                    <a:lnTo>
                      <a:pt x="262" y="40"/>
                    </a:lnTo>
                    <a:lnTo>
                      <a:pt x="270" y="40"/>
                    </a:lnTo>
                    <a:lnTo>
                      <a:pt x="275" y="40"/>
                    </a:lnTo>
                    <a:lnTo>
                      <a:pt x="283" y="40"/>
                    </a:lnTo>
                    <a:lnTo>
                      <a:pt x="289" y="38"/>
                    </a:lnTo>
                    <a:lnTo>
                      <a:pt x="294" y="38"/>
                    </a:lnTo>
                    <a:lnTo>
                      <a:pt x="302" y="38"/>
                    </a:lnTo>
                    <a:lnTo>
                      <a:pt x="309" y="37"/>
                    </a:lnTo>
                    <a:lnTo>
                      <a:pt x="317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6" y="33"/>
                    </a:lnTo>
                    <a:lnTo>
                      <a:pt x="344" y="31"/>
                    </a:lnTo>
                    <a:lnTo>
                      <a:pt x="349" y="29"/>
                    </a:lnTo>
                    <a:lnTo>
                      <a:pt x="357" y="27"/>
                    </a:lnTo>
                    <a:lnTo>
                      <a:pt x="363" y="25"/>
                    </a:lnTo>
                    <a:lnTo>
                      <a:pt x="368" y="23"/>
                    </a:lnTo>
                    <a:lnTo>
                      <a:pt x="376" y="21"/>
                    </a:lnTo>
                    <a:lnTo>
                      <a:pt x="384" y="21"/>
                    </a:lnTo>
                    <a:lnTo>
                      <a:pt x="389" y="18"/>
                    </a:lnTo>
                    <a:lnTo>
                      <a:pt x="395" y="16"/>
                    </a:lnTo>
                    <a:lnTo>
                      <a:pt x="403" y="14"/>
                    </a:lnTo>
                    <a:lnTo>
                      <a:pt x="410" y="12"/>
                    </a:lnTo>
                    <a:lnTo>
                      <a:pt x="416" y="8"/>
                    </a:lnTo>
                    <a:lnTo>
                      <a:pt x="424" y="6"/>
                    </a:lnTo>
                    <a:lnTo>
                      <a:pt x="429" y="2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627120" y="3184560"/>
                <a:ext cx="1077840" cy="1198440"/>
              </a:xfrm>
              <a:custGeom>
                <a:avLst/>
                <a:gdLst/>
                <a:ahLst/>
                <a:rect l="l" t="t" r="r" b="b"/>
                <a:pathLst>
                  <a:path w="1358" h="1509">
                    <a:moveTo>
                      <a:pt x="993" y="2"/>
                    </a:moveTo>
                    <a:lnTo>
                      <a:pt x="1000" y="0"/>
                    </a:lnTo>
                    <a:lnTo>
                      <a:pt x="1006" y="0"/>
                    </a:lnTo>
                    <a:lnTo>
                      <a:pt x="1013" y="0"/>
                    </a:lnTo>
                    <a:lnTo>
                      <a:pt x="1023" y="0"/>
                    </a:lnTo>
                    <a:lnTo>
                      <a:pt x="1031" y="0"/>
                    </a:lnTo>
                    <a:lnTo>
                      <a:pt x="1038" y="0"/>
                    </a:lnTo>
                    <a:lnTo>
                      <a:pt x="1046" y="0"/>
                    </a:lnTo>
                    <a:lnTo>
                      <a:pt x="1055" y="0"/>
                    </a:lnTo>
                    <a:lnTo>
                      <a:pt x="1061" y="0"/>
                    </a:lnTo>
                    <a:lnTo>
                      <a:pt x="1069" y="0"/>
                    </a:lnTo>
                    <a:lnTo>
                      <a:pt x="1076" y="0"/>
                    </a:lnTo>
                    <a:lnTo>
                      <a:pt x="1086" y="2"/>
                    </a:lnTo>
                    <a:lnTo>
                      <a:pt x="1093" y="2"/>
                    </a:lnTo>
                    <a:lnTo>
                      <a:pt x="1101" y="5"/>
                    </a:lnTo>
                    <a:lnTo>
                      <a:pt x="1108" y="5"/>
                    </a:lnTo>
                    <a:lnTo>
                      <a:pt x="1116" y="9"/>
                    </a:lnTo>
                    <a:lnTo>
                      <a:pt x="1124" y="9"/>
                    </a:lnTo>
                    <a:lnTo>
                      <a:pt x="1131" y="11"/>
                    </a:lnTo>
                    <a:lnTo>
                      <a:pt x="1137" y="15"/>
                    </a:lnTo>
                    <a:lnTo>
                      <a:pt x="1145" y="17"/>
                    </a:lnTo>
                    <a:lnTo>
                      <a:pt x="1150" y="21"/>
                    </a:lnTo>
                    <a:lnTo>
                      <a:pt x="1158" y="24"/>
                    </a:lnTo>
                    <a:lnTo>
                      <a:pt x="1164" y="26"/>
                    </a:lnTo>
                    <a:lnTo>
                      <a:pt x="1169" y="32"/>
                    </a:lnTo>
                    <a:lnTo>
                      <a:pt x="1179" y="40"/>
                    </a:lnTo>
                    <a:lnTo>
                      <a:pt x="1190" y="53"/>
                    </a:lnTo>
                    <a:lnTo>
                      <a:pt x="1194" y="59"/>
                    </a:lnTo>
                    <a:lnTo>
                      <a:pt x="1198" y="64"/>
                    </a:lnTo>
                    <a:lnTo>
                      <a:pt x="1202" y="72"/>
                    </a:lnTo>
                    <a:lnTo>
                      <a:pt x="1205" y="82"/>
                    </a:lnTo>
                    <a:lnTo>
                      <a:pt x="1194" y="72"/>
                    </a:lnTo>
                    <a:lnTo>
                      <a:pt x="1186" y="64"/>
                    </a:lnTo>
                    <a:lnTo>
                      <a:pt x="1177" y="59"/>
                    </a:lnTo>
                    <a:lnTo>
                      <a:pt x="1169" y="55"/>
                    </a:lnTo>
                    <a:lnTo>
                      <a:pt x="1164" y="51"/>
                    </a:lnTo>
                    <a:lnTo>
                      <a:pt x="1158" y="49"/>
                    </a:lnTo>
                    <a:lnTo>
                      <a:pt x="1154" y="47"/>
                    </a:lnTo>
                    <a:lnTo>
                      <a:pt x="1152" y="49"/>
                    </a:lnTo>
                    <a:lnTo>
                      <a:pt x="1148" y="51"/>
                    </a:lnTo>
                    <a:lnTo>
                      <a:pt x="1147" y="57"/>
                    </a:lnTo>
                    <a:lnTo>
                      <a:pt x="1148" y="64"/>
                    </a:lnTo>
                    <a:lnTo>
                      <a:pt x="1154" y="74"/>
                    </a:lnTo>
                    <a:lnTo>
                      <a:pt x="1160" y="83"/>
                    </a:lnTo>
                    <a:lnTo>
                      <a:pt x="1169" y="97"/>
                    </a:lnTo>
                    <a:lnTo>
                      <a:pt x="1175" y="101"/>
                    </a:lnTo>
                    <a:lnTo>
                      <a:pt x="1181" y="106"/>
                    </a:lnTo>
                    <a:lnTo>
                      <a:pt x="1186" y="112"/>
                    </a:lnTo>
                    <a:lnTo>
                      <a:pt x="1194" y="118"/>
                    </a:lnTo>
                    <a:lnTo>
                      <a:pt x="1200" y="121"/>
                    </a:lnTo>
                    <a:lnTo>
                      <a:pt x="1207" y="127"/>
                    </a:lnTo>
                    <a:lnTo>
                      <a:pt x="1215" y="131"/>
                    </a:lnTo>
                    <a:lnTo>
                      <a:pt x="1223" y="137"/>
                    </a:lnTo>
                    <a:lnTo>
                      <a:pt x="1230" y="139"/>
                    </a:lnTo>
                    <a:lnTo>
                      <a:pt x="1238" y="142"/>
                    </a:lnTo>
                    <a:lnTo>
                      <a:pt x="1245" y="144"/>
                    </a:lnTo>
                    <a:lnTo>
                      <a:pt x="1255" y="146"/>
                    </a:lnTo>
                    <a:lnTo>
                      <a:pt x="1262" y="148"/>
                    </a:lnTo>
                    <a:lnTo>
                      <a:pt x="1272" y="154"/>
                    </a:lnTo>
                    <a:lnTo>
                      <a:pt x="1280" y="161"/>
                    </a:lnTo>
                    <a:lnTo>
                      <a:pt x="1287" y="167"/>
                    </a:lnTo>
                    <a:lnTo>
                      <a:pt x="1293" y="175"/>
                    </a:lnTo>
                    <a:lnTo>
                      <a:pt x="1302" y="182"/>
                    </a:lnTo>
                    <a:lnTo>
                      <a:pt x="1310" y="188"/>
                    </a:lnTo>
                    <a:lnTo>
                      <a:pt x="1318" y="196"/>
                    </a:lnTo>
                    <a:lnTo>
                      <a:pt x="1310" y="192"/>
                    </a:lnTo>
                    <a:lnTo>
                      <a:pt x="1300" y="190"/>
                    </a:lnTo>
                    <a:lnTo>
                      <a:pt x="1293" y="184"/>
                    </a:lnTo>
                    <a:lnTo>
                      <a:pt x="1285" y="180"/>
                    </a:lnTo>
                    <a:lnTo>
                      <a:pt x="1276" y="175"/>
                    </a:lnTo>
                    <a:lnTo>
                      <a:pt x="1268" y="171"/>
                    </a:lnTo>
                    <a:lnTo>
                      <a:pt x="1259" y="165"/>
                    </a:lnTo>
                    <a:lnTo>
                      <a:pt x="1251" y="161"/>
                    </a:lnTo>
                    <a:lnTo>
                      <a:pt x="1242" y="156"/>
                    </a:lnTo>
                    <a:lnTo>
                      <a:pt x="1232" y="152"/>
                    </a:lnTo>
                    <a:lnTo>
                      <a:pt x="1223" y="146"/>
                    </a:lnTo>
                    <a:lnTo>
                      <a:pt x="1213" y="142"/>
                    </a:lnTo>
                    <a:lnTo>
                      <a:pt x="1204" y="139"/>
                    </a:lnTo>
                    <a:lnTo>
                      <a:pt x="1196" y="135"/>
                    </a:lnTo>
                    <a:lnTo>
                      <a:pt x="1186" y="131"/>
                    </a:lnTo>
                    <a:lnTo>
                      <a:pt x="1177" y="131"/>
                    </a:lnTo>
                    <a:lnTo>
                      <a:pt x="1171" y="137"/>
                    </a:lnTo>
                    <a:lnTo>
                      <a:pt x="1169" y="144"/>
                    </a:lnTo>
                    <a:lnTo>
                      <a:pt x="1171" y="152"/>
                    </a:lnTo>
                    <a:lnTo>
                      <a:pt x="1173" y="158"/>
                    </a:lnTo>
                    <a:lnTo>
                      <a:pt x="1177" y="165"/>
                    </a:lnTo>
                    <a:lnTo>
                      <a:pt x="1181" y="173"/>
                    </a:lnTo>
                    <a:lnTo>
                      <a:pt x="1183" y="180"/>
                    </a:lnTo>
                    <a:lnTo>
                      <a:pt x="1185" y="188"/>
                    </a:lnTo>
                    <a:lnTo>
                      <a:pt x="1190" y="188"/>
                    </a:lnTo>
                    <a:lnTo>
                      <a:pt x="1196" y="190"/>
                    </a:lnTo>
                    <a:lnTo>
                      <a:pt x="1204" y="192"/>
                    </a:lnTo>
                    <a:lnTo>
                      <a:pt x="1209" y="196"/>
                    </a:lnTo>
                    <a:lnTo>
                      <a:pt x="1219" y="203"/>
                    </a:lnTo>
                    <a:lnTo>
                      <a:pt x="1230" y="217"/>
                    </a:lnTo>
                    <a:lnTo>
                      <a:pt x="1234" y="220"/>
                    </a:lnTo>
                    <a:lnTo>
                      <a:pt x="1238" y="226"/>
                    </a:lnTo>
                    <a:lnTo>
                      <a:pt x="1243" y="232"/>
                    </a:lnTo>
                    <a:lnTo>
                      <a:pt x="1247" y="239"/>
                    </a:lnTo>
                    <a:lnTo>
                      <a:pt x="1251" y="245"/>
                    </a:lnTo>
                    <a:lnTo>
                      <a:pt x="1255" y="249"/>
                    </a:lnTo>
                    <a:lnTo>
                      <a:pt x="1259" y="255"/>
                    </a:lnTo>
                    <a:lnTo>
                      <a:pt x="1262" y="260"/>
                    </a:lnTo>
                    <a:lnTo>
                      <a:pt x="1261" y="264"/>
                    </a:lnTo>
                    <a:lnTo>
                      <a:pt x="1253" y="258"/>
                    </a:lnTo>
                    <a:lnTo>
                      <a:pt x="1245" y="253"/>
                    </a:lnTo>
                    <a:lnTo>
                      <a:pt x="1238" y="247"/>
                    </a:lnTo>
                    <a:lnTo>
                      <a:pt x="1232" y="241"/>
                    </a:lnTo>
                    <a:lnTo>
                      <a:pt x="1223" y="236"/>
                    </a:lnTo>
                    <a:lnTo>
                      <a:pt x="1215" y="230"/>
                    </a:lnTo>
                    <a:lnTo>
                      <a:pt x="1207" y="224"/>
                    </a:lnTo>
                    <a:lnTo>
                      <a:pt x="1202" y="218"/>
                    </a:lnTo>
                    <a:lnTo>
                      <a:pt x="1194" y="213"/>
                    </a:lnTo>
                    <a:lnTo>
                      <a:pt x="1186" y="209"/>
                    </a:lnTo>
                    <a:lnTo>
                      <a:pt x="1177" y="203"/>
                    </a:lnTo>
                    <a:lnTo>
                      <a:pt x="1169" y="199"/>
                    </a:lnTo>
                    <a:lnTo>
                      <a:pt x="1160" y="196"/>
                    </a:lnTo>
                    <a:lnTo>
                      <a:pt x="1152" y="192"/>
                    </a:lnTo>
                    <a:lnTo>
                      <a:pt x="1143" y="190"/>
                    </a:lnTo>
                    <a:lnTo>
                      <a:pt x="1135" y="188"/>
                    </a:lnTo>
                    <a:lnTo>
                      <a:pt x="1137" y="197"/>
                    </a:lnTo>
                    <a:lnTo>
                      <a:pt x="1143" y="207"/>
                    </a:lnTo>
                    <a:lnTo>
                      <a:pt x="1148" y="217"/>
                    </a:lnTo>
                    <a:lnTo>
                      <a:pt x="1154" y="226"/>
                    </a:lnTo>
                    <a:lnTo>
                      <a:pt x="1162" y="236"/>
                    </a:lnTo>
                    <a:lnTo>
                      <a:pt x="1169" y="245"/>
                    </a:lnTo>
                    <a:lnTo>
                      <a:pt x="1177" y="253"/>
                    </a:lnTo>
                    <a:lnTo>
                      <a:pt x="1186" y="262"/>
                    </a:lnTo>
                    <a:lnTo>
                      <a:pt x="1194" y="272"/>
                    </a:lnTo>
                    <a:lnTo>
                      <a:pt x="1204" y="279"/>
                    </a:lnTo>
                    <a:lnTo>
                      <a:pt x="1211" y="287"/>
                    </a:lnTo>
                    <a:lnTo>
                      <a:pt x="1219" y="298"/>
                    </a:lnTo>
                    <a:lnTo>
                      <a:pt x="1226" y="306"/>
                    </a:lnTo>
                    <a:lnTo>
                      <a:pt x="1234" y="315"/>
                    </a:lnTo>
                    <a:lnTo>
                      <a:pt x="1238" y="325"/>
                    </a:lnTo>
                    <a:lnTo>
                      <a:pt x="1245" y="336"/>
                    </a:lnTo>
                    <a:lnTo>
                      <a:pt x="1236" y="329"/>
                    </a:lnTo>
                    <a:lnTo>
                      <a:pt x="1228" y="321"/>
                    </a:lnTo>
                    <a:lnTo>
                      <a:pt x="1219" y="315"/>
                    </a:lnTo>
                    <a:lnTo>
                      <a:pt x="1213" y="312"/>
                    </a:lnTo>
                    <a:lnTo>
                      <a:pt x="1205" y="308"/>
                    </a:lnTo>
                    <a:lnTo>
                      <a:pt x="1198" y="304"/>
                    </a:lnTo>
                    <a:lnTo>
                      <a:pt x="1192" y="300"/>
                    </a:lnTo>
                    <a:lnTo>
                      <a:pt x="1186" y="300"/>
                    </a:lnTo>
                    <a:lnTo>
                      <a:pt x="1181" y="296"/>
                    </a:lnTo>
                    <a:lnTo>
                      <a:pt x="1175" y="294"/>
                    </a:lnTo>
                    <a:lnTo>
                      <a:pt x="1169" y="294"/>
                    </a:lnTo>
                    <a:lnTo>
                      <a:pt x="1167" y="294"/>
                    </a:lnTo>
                    <a:lnTo>
                      <a:pt x="1160" y="298"/>
                    </a:lnTo>
                    <a:lnTo>
                      <a:pt x="1154" y="302"/>
                    </a:lnTo>
                    <a:lnTo>
                      <a:pt x="1152" y="306"/>
                    </a:lnTo>
                    <a:lnTo>
                      <a:pt x="1152" y="313"/>
                    </a:lnTo>
                    <a:lnTo>
                      <a:pt x="1154" y="321"/>
                    </a:lnTo>
                    <a:lnTo>
                      <a:pt x="1160" y="331"/>
                    </a:lnTo>
                    <a:lnTo>
                      <a:pt x="1164" y="336"/>
                    </a:lnTo>
                    <a:lnTo>
                      <a:pt x="1167" y="342"/>
                    </a:lnTo>
                    <a:lnTo>
                      <a:pt x="1173" y="348"/>
                    </a:lnTo>
                    <a:lnTo>
                      <a:pt x="1179" y="355"/>
                    </a:lnTo>
                    <a:lnTo>
                      <a:pt x="1186" y="363"/>
                    </a:lnTo>
                    <a:lnTo>
                      <a:pt x="1194" y="369"/>
                    </a:lnTo>
                    <a:lnTo>
                      <a:pt x="1204" y="376"/>
                    </a:lnTo>
                    <a:lnTo>
                      <a:pt x="1213" y="384"/>
                    </a:lnTo>
                    <a:lnTo>
                      <a:pt x="1219" y="384"/>
                    </a:lnTo>
                    <a:lnTo>
                      <a:pt x="1226" y="388"/>
                    </a:lnTo>
                    <a:lnTo>
                      <a:pt x="1230" y="393"/>
                    </a:lnTo>
                    <a:lnTo>
                      <a:pt x="1234" y="399"/>
                    </a:lnTo>
                    <a:lnTo>
                      <a:pt x="1238" y="405"/>
                    </a:lnTo>
                    <a:lnTo>
                      <a:pt x="1242" y="412"/>
                    </a:lnTo>
                    <a:lnTo>
                      <a:pt x="1245" y="418"/>
                    </a:lnTo>
                    <a:lnTo>
                      <a:pt x="1251" y="424"/>
                    </a:lnTo>
                    <a:lnTo>
                      <a:pt x="1247" y="429"/>
                    </a:lnTo>
                    <a:lnTo>
                      <a:pt x="1242" y="426"/>
                    </a:lnTo>
                    <a:lnTo>
                      <a:pt x="1234" y="422"/>
                    </a:lnTo>
                    <a:lnTo>
                      <a:pt x="1228" y="418"/>
                    </a:lnTo>
                    <a:lnTo>
                      <a:pt x="1223" y="412"/>
                    </a:lnTo>
                    <a:lnTo>
                      <a:pt x="1211" y="405"/>
                    </a:lnTo>
                    <a:lnTo>
                      <a:pt x="1200" y="395"/>
                    </a:lnTo>
                    <a:lnTo>
                      <a:pt x="1194" y="391"/>
                    </a:lnTo>
                    <a:lnTo>
                      <a:pt x="1188" y="386"/>
                    </a:lnTo>
                    <a:lnTo>
                      <a:pt x="1183" y="382"/>
                    </a:lnTo>
                    <a:lnTo>
                      <a:pt x="1177" y="378"/>
                    </a:lnTo>
                    <a:lnTo>
                      <a:pt x="1171" y="374"/>
                    </a:lnTo>
                    <a:lnTo>
                      <a:pt x="1164" y="372"/>
                    </a:lnTo>
                    <a:lnTo>
                      <a:pt x="1158" y="369"/>
                    </a:lnTo>
                    <a:lnTo>
                      <a:pt x="1152" y="367"/>
                    </a:lnTo>
                    <a:lnTo>
                      <a:pt x="1145" y="376"/>
                    </a:lnTo>
                    <a:lnTo>
                      <a:pt x="1145" y="386"/>
                    </a:lnTo>
                    <a:lnTo>
                      <a:pt x="1150" y="393"/>
                    </a:lnTo>
                    <a:lnTo>
                      <a:pt x="1160" y="403"/>
                    </a:lnTo>
                    <a:lnTo>
                      <a:pt x="1164" y="405"/>
                    </a:lnTo>
                    <a:lnTo>
                      <a:pt x="1171" y="410"/>
                    </a:lnTo>
                    <a:lnTo>
                      <a:pt x="1177" y="412"/>
                    </a:lnTo>
                    <a:lnTo>
                      <a:pt x="1183" y="418"/>
                    </a:lnTo>
                    <a:lnTo>
                      <a:pt x="1194" y="428"/>
                    </a:lnTo>
                    <a:lnTo>
                      <a:pt x="1204" y="437"/>
                    </a:lnTo>
                    <a:lnTo>
                      <a:pt x="1198" y="439"/>
                    </a:lnTo>
                    <a:lnTo>
                      <a:pt x="1188" y="431"/>
                    </a:lnTo>
                    <a:lnTo>
                      <a:pt x="1179" y="424"/>
                    </a:lnTo>
                    <a:lnTo>
                      <a:pt x="1167" y="420"/>
                    </a:lnTo>
                    <a:lnTo>
                      <a:pt x="1158" y="414"/>
                    </a:lnTo>
                    <a:lnTo>
                      <a:pt x="1147" y="410"/>
                    </a:lnTo>
                    <a:lnTo>
                      <a:pt x="1135" y="407"/>
                    </a:lnTo>
                    <a:lnTo>
                      <a:pt x="1126" y="403"/>
                    </a:lnTo>
                    <a:lnTo>
                      <a:pt x="1116" y="397"/>
                    </a:lnTo>
                    <a:lnTo>
                      <a:pt x="1110" y="405"/>
                    </a:lnTo>
                    <a:lnTo>
                      <a:pt x="1105" y="412"/>
                    </a:lnTo>
                    <a:lnTo>
                      <a:pt x="1097" y="420"/>
                    </a:lnTo>
                    <a:lnTo>
                      <a:pt x="1093" y="428"/>
                    </a:lnTo>
                    <a:lnTo>
                      <a:pt x="1086" y="433"/>
                    </a:lnTo>
                    <a:lnTo>
                      <a:pt x="1080" y="441"/>
                    </a:lnTo>
                    <a:lnTo>
                      <a:pt x="1074" y="448"/>
                    </a:lnTo>
                    <a:lnTo>
                      <a:pt x="1070" y="458"/>
                    </a:lnTo>
                    <a:lnTo>
                      <a:pt x="1065" y="464"/>
                    </a:lnTo>
                    <a:lnTo>
                      <a:pt x="1059" y="473"/>
                    </a:lnTo>
                    <a:lnTo>
                      <a:pt x="1055" y="479"/>
                    </a:lnTo>
                    <a:lnTo>
                      <a:pt x="1051" y="486"/>
                    </a:lnTo>
                    <a:lnTo>
                      <a:pt x="1048" y="494"/>
                    </a:lnTo>
                    <a:lnTo>
                      <a:pt x="1046" y="502"/>
                    </a:lnTo>
                    <a:lnTo>
                      <a:pt x="1042" y="509"/>
                    </a:lnTo>
                    <a:lnTo>
                      <a:pt x="1042" y="517"/>
                    </a:lnTo>
                    <a:lnTo>
                      <a:pt x="1040" y="523"/>
                    </a:lnTo>
                    <a:lnTo>
                      <a:pt x="1040" y="530"/>
                    </a:lnTo>
                    <a:lnTo>
                      <a:pt x="1038" y="536"/>
                    </a:lnTo>
                    <a:lnTo>
                      <a:pt x="1040" y="542"/>
                    </a:lnTo>
                    <a:lnTo>
                      <a:pt x="1040" y="547"/>
                    </a:lnTo>
                    <a:lnTo>
                      <a:pt x="1044" y="555"/>
                    </a:lnTo>
                    <a:lnTo>
                      <a:pt x="1048" y="559"/>
                    </a:lnTo>
                    <a:lnTo>
                      <a:pt x="1051" y="564"/>
                    </a:lnTo>
                    <a:lnTo>
                      <a:pt x="1057" y="568"/>
                    </a:lnTo>
                    <a:lnTo>
                      <a:pt x="1063" y="574"/>
                    </a:lnTo>
                    <a:lnTo>
                      <a:pt x="1069" y="578"/>
                    </a:lnTo>
                    <a:lnTo>
                      <a:pt x="1078" y="583"/>
                    </a:lnTo>
                    <a:lnTo>
                      <a:pt x="1088" y="585"/>
                    </a:lnTo>
                    <a:lnTo>
                      <a:pt x="1097" y="587"/>
                    </a:lnTo>
                    <a:lnTo>
                      <a:pt x="1105" y="589"/>
                    </a:lnTo>
                    <a:lnTo>
                      <a:pt x="1110" y="591"/>
                    </a:lnTo>
                    <a:lnTo>
                      <a:pt x="1116" y="593"/>
                    </a:lnTo>
                    <a:lnTo>
                      <a:pt x="1124" y="595"/>
                    </a:lnTo>
                    <a:lnTo>
                      <a:pt x="1131" y="597"/>
                    </a:lnTo>
                    <a:lnTo>
                      <a:pt x="1137" y="602"/>
                    </a:lnTo>
                    <a:lnTo>
                      <a:pt x="1143" y="604"/>
                    </a:lnTo>
                    <a:lnTo>
                      <a:pt x="1150" y="610"/>
                    </a:lnTo>
                    <a:lnTo>
                      <a:pt x="1156" y="614"/>
                    </a:lnTo>
                    <a:lnTo>
                      <a:pt x="1162" y="620"/>
                    </a:lnTo>
                    <a:lnTo>
                      <a:pt x="1169" y="623"/>
                    </a:lnTo>
                    <a:lnTo>
                      <a:pt x="1177" y="629"/>
                    </a:lnTo>
                    <a:lnTo>
                      <a:pt x="1183" y="633"/>
                    </a:lnTo>
                    <a:lnTo>
                      <a:pt x="1188" y="637"/>
                    </a:lnTo>
                    <a:lnTo>
                      <a:pt x="1196" y="640"/>
                    </a:lnTo>
                    <a:lnTo>
                      <a:pt x="1204" y="644"/>
                    </a:lnTo>
                    <a:lnTo>
                      <a:pt x="1209" y="648"/>
                    </a:lnTo>
                    <a:lnTo>
                      <a:pt x="1215" y="650"/>
                    </a:lnTo>
                    <a:lnTo>
                      <a:pt x="1223" y="652"/>
                    </a:lnTo>
                    <a:lnTo>
                      <a:pt x="1232" y="654"/>
                    </a:lnTo>
                    <a:lnTo>
                      <a:pt x="1223" y="656"/>
                    </a:lnTo>
                    <a:lnTo>
                      <a:pt x="1213" y="658"/>
                    </a:lnTo>
                    <a:lnTo>
                      <a:pt x="1204" y="654"/>
                    </a:lnTo>
                    <a:lnTo>
                      <a:pt x="1194" y="652"/>
                    </a:lnTo>
                    <a:lnTo>
                      <a:pt x="1183" y="648"/>
                    </a:lnTo>
                    <a:lnTo>
                      <a:pt x="1171" y="644"/>
                    </a:lnTo>
                    <a:lnTo>
                      <a:pt x="1162" y="639"/>
                    </a:lnTo>
                    <a:lnTo>
                      <a:pt x="1150" y="633"/>
                    </a:lnTo>
                    <a:lnTo>
                      <a:pt x="1145" y="629"/>
                    </a:lnTo>
                    <a:lnTo>
                      <a:pt x="1139" y="625"/>
                    </a:lnTo>
                    <a:lnTo>
                      <a:pt x="1133" y="623"/>
                    </a:lnTo>
                    <a:lnTo>
                      <a:pt x="1127" y="620"/>
                    </a:lnTo>
                    <a:lnTo>
                      <a:pt x="1116" y="614"/>
                    </a:lnTo>
                    <a:lnTo>
                      <a:pt x="1105" y="610"/>
                    </a:lnTo>
                    <a:lnTo>
                      <a:pt x="1099" y="606"/>
                    </a:lnTo>
                    <a:lnTo>
                      <a:pt x="1093" y="604"/>
                    </a:lnTo>
                    <a:lnTo>
                      <a:pt x="1088" y="602"/>
                    </a:lnTo>
                    <a:lnTo>
                      <a:pt x="1082" y="601"/>
                    </a:lnTo>
                    <a:lnTo>
                      <a:pt x="1076" y="599"/>
                    </a:lnTo>
                    <a:lnTo>
                      <a:pt x="1069" y="597"/>
                    </a:lnTo>
                    <a:lnTo>
                      <a:pt x="1065" y="597"/>
                    </a:lnTo>
                    <a:lnTo>
                      <a:pt x="1059" y="597"/>
                    </a:lnTo>
                    <a:lnTo>
                      <a:pt x="1067" y="606"/>
                    </a:lnTo>
                    <a:lnTo>
                      <a:pt x="1078" y="618"/>
                    </a:lnTo>
                    <a:lnTo>
                      <a:pt x="1082" y="621"/>
                    </a:lnTo>
                    <a:lnTo>
                      <a:pt x="1088" y="627"/>
                    </a:lnTo>
                    <a:lnTo>
                      <a:pt x="1093" y="631"/>
                    </a:lnTo>
                    <a:lnTo>
                      <a:pt x="1099" y="637"/>
                    </a:lnTo>
                    <a:lnTo>
                      <a:pt x="1105" y="640"/>
                    </a:lnTo>
                    <a:lnTo>
                      <a:pt x="1110" y="644"/>
                    </a:lnTo>
                    <a:lnTo>
                      <a:pt x="1116" y="650"/>
                    </a:lnTo>
                    <a:lnTo>
                      <a:pt x="1124" y="654"/>
                    </a:lnTo>
                    <a:lnTo>
                      <a:pt x="1129" y="658"/>
                    </a:lnTo>
                    <a:lnTo>
                      <a:pt x="1135" y="663"/>
                    </a:lnTo>
                    <a:lnTo>
                      <a:pt x="1143" y="667"/>
                    </a:lnTo>
                    <a:lnTo>
                      <a:pt x="1150" y="671"/>
                    </a:lnTo>
                    <a:lnTo>
                      <a:pt x="1156" y="675"/>
                    </a:lnTo>
                    <a:lnTo>
                      <a:pt x="1162" y="678"/>
                    </a:lnTo>
                    <a:lnTo>
                      <a:pt x="1169" y="682"/>
                    </a:lnTo>
                    <a:lnTo>
                      <a:pt x="1175" y="686"/>
                    </a:lnTo>
                    <a:lnTo>
                      <a:pt x="1181" y="690"/>
                    </a:lnTo>
                    <a:lnTo>
                      <a:pt x="1188" y="694"/>
                    </a:lnTo>
                    <a:lnTo>
                      <a:pt x="1194" y="696"/>
                    </a:lnTo>
                    <a:lnTo>
                      <a:pt x="1202" y="701"/>
                    </a:lnTo>
                    <a:lnTo>
                      <a:pt x="1207" y="703"/>
                    </a:lnTo>
                    <a:lnTo>
                      <a:pt x="1215" y="707"/>
                    </a:lnTo>
                    <a:lnTo>
                      <a:pt x="1221" y="711"/>
                    </a:lnTo>
                    <a:lnTo>
                      <a:pt x="1228" y="713"/>
                    </a:lnTo>
                    <a:lnTo>
                      <a:pt x="1234" y="716"/>
                    </a:lnTo>
                    <a:lnTo>
                      <a:pt x="1242" y="720"/>
                    </a:lnTo>
                    <a:lnTo>
                      <a:pt x="1247" y="722"/>
                    </a:lnTo>
                    <a:lnTo>
                      <a:pt x="1255" y="726"/>
                    </a:lnTo>
                    <a:lnTo>
                      <a:pt x="1255" y="728"/>
                    </a:lnTo>
                    <a:lnTo>
                      <a:pt x="1249" y="730"/>
                    </a:lnTo>
                    <a:lnTo>
                      <a:pt x="1243" y="732"/>
                    </a:lnTo>
                    <a:lnTo>
                      <a:pt x="1238" y="732"/>
                    </a:lnTo>
                    <a:lnTo>
                      <a:pt x="1232" y="732"/>
                    </a:lnTo>
                    <a:lnTo>
                      <a:pt x="1226" y="732"/>
                    </a:lnTo>
                    <a:lnTo>
                      <a:pt x="1221" y="732"/>
                    </a:lnTo>
                    <a:lnTo>
                      <a:pt x="1215" y="730"/>
                    </a:lnTo>
                    <a:lnTo>
                      <a:pt x="1209" y="730"/>
                    </a:lnTo>
                    <a:lnTo>
                      <a:pt x="1204" y="726"/>
                    </a:lnTo>
                    <a:lnTo>
                      <a:pt x="1196" y="724"/>
                    </a:lnTo>
                    <a:lnTo>
                      <a:pt x="1190" y="722"/>
                    </a:lnTo>
                    <a:lnTo>
                      <a:pt x="1185" y="722"/>
                    </a:lnTo>
                    <a:lnTo>
                      <a:pt x="1173" y="716"/>
                    </a:lnTo>
                    <a:lnTo>
                      <a:pt x="1164" y="715"/>
                    </a:lnTo>
                    <a:lnTo>
                      <a:pt x="1160" y="722"/>
                    </a:lnTo>
                    <a:lnTo>
                      <a:pt x="1158" y="730"/>
                    </a:lnTo>
                    <a:lnTo>
                      <a:pt x="1158" y="736"/>
                    </a:lnTo>
                    <a:lnTo>
                      <a:pt x="1162" y="743"/>
                    </a:lnTo>
                    <a:lnTo>
                      <a:pt x="1167" y="749"/>
                    </a:lnTo>
                    <a:lnTo>
                      <a:pt x="1173" y="756"/>
                    </a:lnTo>
                    <a:lnTo>
                      <a:pt x="1181" y="760"/>
                    </a:lnTo>
                    <a:lnTo>
                      <a:pt x="1188" y="768"/>
                    </a:lnTo>
                    <a:lnTo>
                      <a:pt x="1196" y="772"/>
                    </a:lnTo>
                    <a:lnTo>
                      <a:pt x="1204" y="777"/>
                    </a:lnTo>
                    <a:lnTo>
                      <a:pt x="1211" y="785"/>
                    </a:lnTo>
                    <a:lnTo>
                      <a:pt x="1219" y="791"/>
                    </a:lnTo>
                    <a:lnTo>
                      <a:pt x="1224" y="796"/>
                    </a:lnTo>
                    <a:lnTo>
                      <a:pt x="1226" y="802"/>
                    </a:lnTo>
                    <a:lnTo>
                      <a:pt x="1228" y="808"/>
                    </a:lnTo>
                    <a:lnTo>
                      <a:pt x="1228" y="817"/>
                    </a:lnTo>
                    <a:lnTo>
                      <a:pt x="1223" y="817"/>
                    </a:lnTo>
                    <a:lnTo>
                      <a:pt x="1217" y="815"/>
                    </a:lnTo>
                    <a:lnTo>
                      <a:pt x="1211" y="813"/>
                    </a:lnTo>
                    <a:lnTo>
                      <a:pt x="1207" y="808"/>
                    </a:lnTo>
                    <a:lnTo>
                      <a:pt x="1200" y="804"/>
                    </a:lnTo>
                    <a:lnTo>
                      <a:pt x="1196" y="800"/>
                    </a:lnTo>
                    <a:lnTo>
                      <a:pt x="1190" y="798"/>
                    </a:lnTo>
                    <a:lnTo>
                      <a:pt x="1185" y="802"/>
                    </a:lnTo>
                    <a:lnTo>
                      <a:pt x="1188" y="812"/>
                    </a:lnTo>
                    <a:lnTo>
                      <a:pt x="1196" y="821"/>
                    </a:lnTo>
                    <a:lnTo>
                      <a:pt x="1204" y="831"/>
                    </a:lnTo>
                    <a:lnTo>
                      <a:pt x="1213" y="840"/>
                    </a:lnTo>
                    <a:lnTo>
                      <a:pt x="1223" y="850"/>
                    </a:lnTo>
                    <a:lnTo>
                      <a:pt x="1230" y="859"/>
                    </a:lnTo>
                    <a:lnTo>
                      <a:pt x="1232" y="863"/>
                    </a:lnTo>
                    <a:lnTo>
                      <a:pt x="1236" y="869"/>
                    </a:lnTo>
                    <a:lnTo>
                      <a:pt x="1238" y="874"/>
                    </a:lnTo>
                    <a:lnTo>
                      <a:pt x="1240" y="880"/>
                    </a:lnTo>
                    <a:lnTo>
                      <a:pt x="1236" y="882"/>
                    </a:lnTo>
                    <a:lnTo>
                      <a:pt x="1228" y="880"/>
                    </a:lnTo>
                    <a:lnTo>
                      <a:pt x="1224" y="878"/>
                    </a:lnTo>
                    <a:lnTo>
                      <a:pt x="1223" y="880"/>
                    </a:lnTo>
                    <a:lnTo>
                      <a:pt x="1223" y="882"/>
                    </a:lnTo>
                    <a:lnTo>
                      <a:pt x="1223" y="891"/>
                    </a:lnTo>
                    <a:lnTo>
                      <a:pt x="1226" y="905"/>
                    </a:lnTo>
                    <a:lnTo>
                      <a:pt x="1226" y="908"/>
                    </a:lnTo>
                    <a:lnTo>
                      <a:pt x="1226" y="914"/>
                    </a:lnTo>
                    <a:lnTo>
                      <a:pt x="1228" y="922"/>
                    </a:lnTo>
                    <a:lnTo>
                      <a:pt x="1230" y="928"/>
                    </a:lnTo>
                    <a:lnTo>
                      <a:pt x="1232" y="937"/>
                    </a:lnTo>
                    <a:lnTo>
                      <a:pt x="1236" y="950"/>
                    </a:lnTo>
                    <a:lnTo>
                      <a:pt x="1238" y="960"/>
                    </a:lnTo>
                    <a:lnTo>
                      <a:pt x="1245" y="971"/>
                    </a:lnTo>
                    <a:lnTo>
                      <a:pt x="1255" y="971"/>
                    </a:lnTo>
                    <a:lnTo>
                      <a:pt x="1264" y="977"/>
                    </a:lnTo>
                    <a:lnTo>
                      <a:pt x="1272" y="981"/>
                    </a:lnTo>
                    <a:lnTo>
                      <a:pt x="1280" y="988"/>
                    </a:lnTo>
                    <a:lnTo>
                      <a:pt x="1287" y="996"/>
                    </a:lnTo>
                    <a:lnTo>
                      <a:pt x="1297" y="1004"/>
                    </a:lnTo>
                    <a:lnTo>
                      <a:pt x="1302" y="1009"/>
                    </a:lnTo>
                    <a:lnTo>
                      <a:pt x="1312" y="1017"/>
                    </a:lnTo>
                    <a:lnTo>
                      <a:pt x="1316" y="1005"/>
                    </a:lnTo>
                    <a:lnTo>
                      <a:pt x="1316" y="996"/>
                    </a:lnTo>
                    <a:lnTo>
                      <a:pt x="1316" y="988"/>
                    </a:lnTo>
                    <a:lnTo>
                      <a:pt x="1314" y="983"/>
                    </a:lnTo>
                    <a:lnTo>
                      <a:pt x="1312" y="977"/>
                    </a:lnTo>
                    <a:lnTo>
                      <a:pt x="1312" y="969"/>
                    </a:lnTo>
                    <a:lnTo>
                      <a:pt x="1310" y="962"/>
                    </a:lnTo>
                    <a:lnTo>
                      <a:pt x="1308" y="956"/>
                    </a:lnTo>
                    <a:lnTo>
                      <a:pt x="1306" y="950"/>
                    </a:lnTo>
                    <a:lnTo>
                      <a:pt x="1306" y="943"/>
                    </a:lnTo>
                    <a:lnTo>
                      <a:pt x="1302" y="937"/>
                    </a:lnTo>
                    <a:lnTo>
                      <a:pt x="1302" y="931"/>
                    </a:lnTo>
                    <a:lnTo>
                      <a:pt x="1300" y="924"/>
                    </a:lnTo>
                    <a:lnTo>
                      <a:pt x="1300" y="920"/>
                    </a:lnTo>
                    <a:lnTo>
                      <a:pt x="1297" y="908"/>
                    </a:lnTo>
                    <a:lnTo>
                      <a:pt x="1297" y="903"/>
                    </a:lnTo>
                    <a:lnTo>
                      <a:pt x="1299" y="897"/>
                    </a:lnTo>
                    <a:lnTo>
                      <a:pt x="1302" y="897"/>
                    </a:lnTo>
                    <a:lnTo>
                      <a:pt x="1308" y="899"/>
                    </a:lnTo>
                    <a:lnTo>
                      <a:pt x="1318" y="905"/>
                    </a:lnTo>
                    <a:lnTo>
                      <a:pt x="1321" y="908"/>
                    </a:lnTo>
                    <a:lnTo>
                      <a:pt x="1329" y="916"/>
                    </a:lnTo>
                    <a:lnTo>
                      <a:pt x="1337" y="924"/>
                    </a:lnTo>
                    <a:lnTo>
                      <a:pt x="1346" y="933"/>
                    </a:lnTo>
                    <a:lnTo>
                      <a:pt x="1350" y="943"/>
                    </a:lnTo>
                    <a:lnTo>
                      <a:pt x="1354" y="952"/>
                    </a:lnTo>
                    <a:lnTo>
                      <a:pt x="1356" y="962"/>
                    </a:lnTo>
                    <a:lnTo>
                      <a:pt x="1358" y="971"/>
                    </a:lnTo>
                    <a:lnTo>
                      <a:pt x="1358" y="979"/>
                    </a:lnTo>
                    <a:lnTo>
                      <a:pt x="1358" y="988"/>
                    </a:lnTo>
                    <a:lnTo>
                      <a:pt x="1356" y="998"/>
                    </a:lnTo>
                    <a:lnTo>
                      <a:pt x="1356" y="1007"/>
                    </a:lnTo>
                    <a:lnTo>
                      <a:pt x="1354" y="1015"/>
                    </a:lnTo>
                    <a:lnTo>
                      <a:pt x="1352" y="1024"/>
                    </a:lnTo>
                    <a:lnTo>
                      <a:pt x="1348" y="1032"/>
                    </a:lnTo>
                    <a:lnTo>
                      <a:pt x="1346" y="1042"/>
                    </a:lnTo>
                    <a:lnTo>
                      <a:pt x="1344" y="1051"/>
                    </a:lnTo>
                    <a:lnTo>
                      <a:pt x="1340" y="1059"/>
                    </a:lnTo>
                    <a:lnTo>
                      <a:pt x="1337" y="1066"/>
                    </a:lnTo>
                    <a:lnTo>
                      <a:pt x="1335" y="1076"/>
                    </a:lnTo>
                    <a:lnTo>
                      <a:pt x="1333" y="1083"/>
                    </a:lnTo>
                    <a:lnTo>
                      <a:pt x="1329" y="1093"/>
                    </a:lnTo>
                    <a:lnTo>
                      <a:pt x="1325" y="1101"/>
                    </a:lnTo>
                    <a:lnTo>
                      <a:pt x="1325" y="1110"/>
                    </a:lnTo>
                    <a:lnTo>
                      <a:pt x="1321" y="1118"/>
                    </a:lnTo>
                    <a:lnTo>
                      <a:pt x="1320" y="1127"/>
                    </a:lnTo>
                    <a:lnTo>
                      <a:pt x="1320" y="1137"/>
                    </a:lnTo>
                    <a:lnTo>
                      <a:pt x="1320" y="1146"/>
                    </a:lnTo>
                    <a:lnTo>
                      <a:pt x="1320" y="1154"/>
                    </a:lnTo>
                    <a:lnTo>
                      <a:pt x="1321" y="1163"/>
                    </a:lnTo>
                    <a:lnTo>
                      <a:pt x="1323" y="1173"/>
                    </a:lnTo>
                    <a:lnTo>
                      <a:pt x="1327" y="1182"/>
                    </a:lnTo>
                    <a:lnTo>
                      <a:pt x="1331" y="1190"/>
                    </a:lnTo>
                    <a:lnTo>
                      <a:pt x="1337" y="1199"/>
                    </a:lnTo>
                    <a:lnTo>
                      <a:pt x="1344" y="1211"/>
                    </a:lnTo>
                    <a:lnTo>
                      <a:pt x="1352" y="1220"/>
                    </a:lnTo>
                    <a:lnTo>
                      <a:pt x="1354" y="1230"/>
                    </a:lnTo>
                    <a:lnTo>
                      <a:pt x="1354" y="1241"/>
                    </a:lnTo>
                    <a:lnTo>
                      <a:pt x="1354" y="1251"/>
                    </a:lnTo>
                    <a:lnTo>
                      <a:pt x="1356" y="1262"/>
                    </a:lnTo>
                    <a:lnTo>
                      <a:pt x="1354" y="1272"/>
                    </a:lnTo>
                    <a:lnTo>
                      <a:pt x="1354" y="1281"/>
                    </a:lnTo>
                    <a:lnTo>
                      <a:pt x="1354" y="1291"/>
                    </a:lnTo>
                    <a:lnTo>
                      <a:pt x="1354" y="1300"/>
                    </a:lnTo>
                    <a:lnTo>
                      <a:pt x="1352" y="1308"/>
                    </a:lnTo>
                    <a:lnTo>
                      <a:pt x="1348" y="1317"/>
                    </a:lnTo>
                    <a:lnTo>
                      <a:pt x="1346" y="1327"/>
                    </a:lnTo>
                    <a:lnTo>
                      <a:pt x="1344" y="1336"/>
                    </a:lnTo>
                    <a:lnTo>
                      <a:pt x="1340" y="1344"/>
                    </a:lnTo>
                    <a:lnTo>
                      <a:pt x="1337" y="1353"/>
                    </a:lnTo>
                    <a:lnTo>
                      <a:pt x="1335" y="1363"/>
                    </a:lnTo>
                    <a:lnTo>
                      <a:pt x="1333" y="1372"/>
                    </a:lnTo>
                    <a:lnTo>
                      <a:pt x="1327" y="1380"/>
                    </a:lnTo>
                    <a:lnTo>
                      <a:pt x="1323" y="1389"/>
                    </a:lnTo>
                    <a:lnTo>
                      <a:pt x="1320" y="1395"/>
                    </a:lnTo>
                    <a:lnTo>
                      <a:pt x="1316" y="1405"/>
                    </a:lnTo>
                    <a:lnTo>
                      <a:pt x="1312" y="1412"/>
                    </a:lnTo>
                    <a:lnTo>
                      <a:pt x="1308" y="1422"/>
                    </a:lnTo>
                    <a:lnTo>
                      <a:pt x="1302" y="1429"/>
                    </a:lnTo>
                    <a:lnTo>
                      <a:pt x="1300" y="1439"/>
                    </a:lnTo>
                    <a:lnTo>
                      <a:pt x="1295" y="1447"/>
                    </a:lnTo>
                    <a:lnTo>
                      <a:pt x="1291" y="1456"/>
                    </a:lnTo>
                    <a:lnTo>
                      <a:pt x="1287" y="1464"/>
                    </a:lnTo>
                    <a:lnTo>
                      <a:pt x="1283" y="1473"/>
                    </a:lnTo>
                    <a:lnTo>
                      <a:pt x="1280" y="1483"/>
                    </a:lnTo>
                    <a:lnTo>
                      <a:pt x="1274" y="1490"/>
                    </a:lnTo>
                    <a:lnTo>
                      <a:pt x="1272" y="1500"/>
                    </a:lnTo>
                    <a:lnTo>
                      <a:pt x="1268" y="1509"/>
                    </a:lnTo>
                    <a:lnTo>
                      <a:pt x="1262" y="1507"/>
                    </a:lnTo>
                    <a:lnTo>
                      <a:pt x="1259" y="1505"/>
                    </a:lnTo>
                    <a:lnTo>
                      <a:pt x="1255" y="1500"/>
                    </a:lnTo>
                    <a:lnTo>
                      <a:pt x="1255" y="1496"/>
                    </a:lnTo>
                    <a:lnTo>
                      <a:pt x="1255" y="1488"/>
                    </a:lnTo>
                    <a:lnTo>
                      <a:pt x="1255" y="1485"/>
                    </a:lnTo>
                    <a:lnTo>
                      <a:pt x="1255" y="1477"/>
                    </a:lnTo>
                    <a:lnTo>
                      <a:pt x="1255" y="1473"/>
                    </a:lnTo>
                    <a:lnTo>
                      <a:pt x="1249" y="1471"/>
                    </a:lnTo>
                    <a:lnTo>
                      <a:pt x="1243" y="1473"/>
                    </a:lnTo>
                    <a:lnTo>
                      <a:pt x="1240" y="1475"/>
                    </a:lnTo>
                    <a:lnTo>
                      <a:pt x="1236" y="1479"/>
                    </a:lnTo>
                    <a:lnTo>
                      <a:pt x="1238" y="1473"/>
                    </a:lnTo>
                    <a:lnTo>
                      <a:pt x="1240" y="1467"/>
                    </a:lnTo>
                    <a:lnTo>
                      <a:pt x="1242" y="1460"/>
                    </a:lnTo>
                    <a:lnTo>
                      <a:pt x="1243" y="1456"/>
                    </a:lnTo>
                    <a:lnTo>
                      <a:pt x="1245" y="1448"/>
                    </a:lnTo>
                    <a:lnTo>
                      <a:pt x="1247" y="1445"/>
                    </a:lnTo>
                    <a:lnTo>
                      <a:pt x="1249" y="1437"/>
                    </a:lnTo>
                    <a:lnTo>
                      <a:pt x="1253" y="1431"/>
                    </a:lnTo>
                    <a:lnTo>
                      <a:pt x="1253" y="1426"/>
                    </a:lnTo>
                    <a:lnTo>
                      <a:pt x="1255" y="1420"/>
                    </a:lnTo>
                    <a:lnTo>
                      <a:pt x="1257" y="1414"/>
                    </a:lnTo>
                    <a:lnTo>
                      <a:pt x="1261" y="1408"/>
                    </a:lnTo>
                    <a:lnTo>
                      <a:pt x="1261" y="1403"/>
                    </a:lnTo>
                    <a:lnTo>
                      <a:pt x="1264" y="1397"/>
                    </a:lnTo>
                    <a:lnTo>
                      <a:pt x="1264" y="1391"/>
                    </a:lnTo>
                    <a:lnTo>
                      <a:pt x="1268" y="1386"/>
                    </a:lnTo>
                    <a:lnTo>
                      <a:pt x="1270" y="1380"/>
                    </a:lnTo>
                    <a:lnTo>
                      <a:pt x="1272" y="1372"/>
                    </a:lnTo>
                    <a:lnTo>
                      <a:pt x="1272" y="1367"/>
                    </a:lnTo>
                    <a:lnTo>
                      <a:pt x="1274" y="1361"/>
                    </a:lnTo>
                    <a:lnTo>
                      <a:pt x="1276" y="1355"/>
                    </a:lnTo>
                    <a:lnTo>
                      <a:pt x="1278" y="1348"/>
                    </a:lnTo>
                    <a:lnTo>
                      <a:pt x="1280" y="1342"/>
                    </a:lnTo>
                    <a:lnTo>
                      <a:pt x="1281" y="1336"/>
                    </a:lnTo>
                    <a:lnTo>
                      <a:pt x="1281" y="1331"/>
                    </a:lnTo>
                    <a:lnTo>
                      <a:pt x="1283" y="1325"/>
                    </a:lnTo>
                    <a:lnTo>
                      <a:pt x="1283" y="1317"/>
                    </a:lnTo>
                    <a:lnTo>
                      <a:pt x="1287" y="1312"/>
                    </a:lnTo>
                    <a:lnTo>
                      <a:pt x="1287" y="1306"/>
                    </a:lnTo>
                    <a:lnTo>
                      <a:pt x="1289" y="1300"/>
                    </a:lnTo>
                    <a:lnTo>
                      <a:pt x="1289" y="1293"/>
                    </a:lnTo>
                    <a:lnTo>
                      <a:pt x="1291" y="1289"/>
                    </a:lnTo>
                    <a:lnTo>
                      <a:pt x="1291" y="1281"/>
                    </a:lnTo>
                    <a:lnTo>
                      <a:pt x="1293" y="1275"/>
                    </a:lnTo>
                    <a:lnTo>
                      <a:pt x="1293" y="1268"/>
                    </a:lnTo>
                    <a:lnTo>
                      <a:pt x="1293" y="1262"/>
                    </a:lnTo>
                    <a:lnTo>
                      <a:pt x="1293" y="1256"/>
                    </a:lnTo>
                    <a:lnTo>
                      <a:pt x="1293" y="1249"/>
                    </a:lnTo>
                    <a:lnTo>
                      <a:pt x="1293" y="1243"/>
                    </a:lnTo>
                    <a:lnTo>
                      <a:pt x="1295" y="1237"/>
                    </a:lnTo>
                    <a:lnTo>
                      <a:pt x="1293" y="1232"/>
                    </a:lnTo>
                    <a:lnTo>
                      <a:pt x="1293" y="1226"/>
                    </a:lnTo>
                    <a:lnTo>
                      <a:pt x="1293" y="1218"/>
                    </a:lnTo>
                    <a:lnTo>
                      <a:pt x="1293" y="1213"/>
                    </a:lnTo>
                    <a:lnTo>
                      <a:pt x="1293" y="1207"/>
                    </a:lnTo>
                    <a:lnTo>
                      <a:pt x="1293" y="1199"/>
                    </a:lnTo>
                    <a:lnTo>
                      <a:pt x="1291" y="1194"/>
                    </a:lnTo>
                    <a:lnTo>
                      <a:pt x="1291" y="1188"/>
                    </a:lnTo>
                    <a:lnTo>
                      <a:pt x="1289" y="1182"/>
                    </a:lnTo>
                    <a:lnTo>
                      <a:pt x="1289" y="1175"/>
                    </a:lnTo>
                    <a:lnTo>
                      <a:pt x="1287" y="1169"/>
                    </a:lnTo>
                    <a:lnTo>
                      <a:pt x="1285" y="1163"/>
                    </a:lnTo>
                    <a:lnTo>
                      <a:pt x="1283" y="1158"/>
                    </a:lnTo>
                    <a:lnTo>
                      <a:pt x="1281" y="1152"/>
                    </a:lnTo>
                    <a:lnTo>
                      <a:pt x="1280" y="1144"/>
                    </a:lnTo>
                    <a:lnTo>
                      <a:pt x="1280" y="1139"/>
                    </a:lnTo>
                    <a:lnTo>
                      <a:pt x="1276" y="1133"/>
                    </a:lnTo>
                    <a:lnTo>
                      <a:pt x="1274" y="1127"/>
                    </a:lnTo>
                    <a:lnTo>
                      <a:pt x="1270" y="1120"/>
                    </a:lnTo>
                    <a:lnTo>
                      <a:pt x="1268" y="1116"/>
                    </a:lnTo>
                    <a:lnTo>
                      <a:pt x="1262" y="1102"/>
                    </a:lnTo>
                    <a:lnTo>
                      <a:pt x="1255" y="1093"/>
                    </a:lnTo>
                    <a:lnTo>
                      <a:pt x="1249" y="1085"/>
                    </a:lnTo>
                    <a:lnTo>
                      <a:pt x="1243" y="1080"/>
                    </a:lnTo>
                    <a:lnTo>
                      <a:pt x="1238" y="1072"/>
                    </a:lnTo>
                    <a:lnTo>
                      <a:pt x="1234" y="1066"/>
                    </a:lnTo>
                    <a:lnTo>
                      <a:pt x="1226" y="1059"/>
                    </a:lnTo>
                    <a:lnTo>
                      <a:pt x="1223" y="1051"/>
                    </a:lnTo>
                    <a:lnTo>
                      <a:pt x="1217" y="1043"/>
                    </a:lnTo>
                    <a:lnTo>
                      <a:pt x="1213" y="1038"/>
                    </a:lnTo>
                    <a:lnTo>
                      <a:pt x="1205" y="1028"/>
                    </a:lnTo>
                    <a:lnTo>
                      <a:pt x="1202" y="1023"/>
                    </a:lnTo>
                    <a:lnTo>
                      <a:pt x="1196" y="1015"/>
                    </a:lnTo>
                    <a:lnTo>
                      <a:pt x="1190" y="1007"/>
                    </a:lnTo>
                    <a:lnTo>
                      <a:pt x="1186" y="998"/>
                    </a:lnTo>
                    <a:lnTo>
                      <a:pt x="1181" y="992"/>
                    </a:lnTo>
                    <a:lnTo>
                      <a:pt x="1177" y="983"/>
                    </a:lnTo>
                    <a:lnTo>
                      <a:pt x="1171" y="977"/>
                    </a:lnTo>
                    <a:lnTo>
                      <a:pt x="1166" y="969"/>
                    </a:lnTo>
                    <a:lnTo>
                      <a:pt x="1162" y="962"/>
                    </a:lnTo>
                    <a:lnTo>
                      <a:pt x="1154" y="952"/>
                    </a:lnTo>
                    <a:lnTo>
                      <a:pt x="1150" y="945"/>
                    </a:lnTo>
                    <a:lnTo>
                      <a:pt x="1145" y="937"/>
                    </a:lnTo>
                    <a:lnTo>
                      <a:pt x="1141" y="931"/>
                    </a:lnTo>
                    <a:lnTo>
                      <a:pt x="1135" y="924"/>
                    </a:lnTo>
                    <a:lnTo>
                      <a:pt x="1131" y="916"/>
                    </a:lnTo>
                    <a:lnTo>
                      <a:pt x="1124" y="908"/>
                    </a:lnTo>
                    <a:lnTo>
                      <a:pt x="1120" y="901"/>
                    </a:lnTo>
                    <a:lnTo>
                      <a:pt x="1114" y="895"/>
                    </a:lnTo>
                    <a:lnTo>
                      <a:pt x="1108" y="888"/>
                    </a:lnTo>
                    <a:lnTo>
                      <a:pt x="1103" y="880"/>
                    </a:lnTo>
                    <a:lnTo>
                      <a:pt x="1099" y="874"/>
                    </a:lnTo>
                    <a:lnTo>
                      <a:pt x="1093" y="869"/>
                    </a:lnTo>
                    <a:lnTo>
                      <a:pt x="1088" y="863"/>
                    </a:lnTo>
                    <a:lnTo>
                      <a:pt x="1082" y="855"/>
                    </a:lnTo>
                    <a:lnTo>
                      <a:pt x="1076" y="850"/>
                    </a:lnTo>
                    <a:lnTo>
                      <a:pt x="1070" y="844"/>
                    </a:lnTo>
                    <a:lnTo>
                      <a:pt x="1065" y="840"/>
                    </a:lnTo>
                    <a:lnTo>
                      <a:pt x="1059" y="832"/>
                    </a:lnTo>
                    <a:lnTo>
                      <a:pt x="1051" y="829"/>
                    </a:lnTo>
                    <a:lnTo>
                      <a:pt x="1046" y="823"/>
                    </a:lnTo>
                    <a:lnTo>
                      <a:pt x="1040" y="821"/>
                    </a:lnTo>
                    <a:lnTo>
                      <a:pt x="1032" y="815"/>
                    </a:lnTo>
                    <a:lnTo>
                      <a:pt x="1025" y="812"/>
                    </a:lnTo>
                    <a:lnTo>
                      <a:pt x="1019" y="808"/>
                    </a:lnTo>
                    <a:lnTo>
                      <a:pt x="1013" y="806"/>
                    </a:lnTo>
                    <a:lnTo>
                      <a:pt x="1006" y="802"/>
                    </a:lnTo>
                    <a:lnTo>
                      <a:pt x="1000" y="800"/>
                    </a:lnTo>
                    <a:lnTo>
                      <a:pt x="993" y="798"/>
                    </a:lnTo>
                    <a:lnTo>
                      <a:pt x="985" y="796"/>
                    </a:lnTo>
                    <a:lnTo>
                      <a:pt x="977" y="794"/>
                    </a:lnTo>
                    <a:lnTo>
                      <a:pt x="970" y="794"/>
                    </a:lnTo>
                    <a:lnTo>
                      <a:pt x="962" y="794"/>
                    </a:lnTo>
                    <a:lnTo>
                      <a:pt x="954" y="794"/>
                    </a:lnTo>
                    <a:lnTo>
                      <a:pt x="945" y="794"/>
                    </a:lnTo>
                    <a:lnTo>
                      <a:pt x="937" y="794"/>
                    </a:lnTo>
                    <a:lnTo>
                      <a:pt x="928" y="794"/>
                    </a:lnTo>
                    <a:lnTo>
                      <a:pt x="920" y="798"/>
                    </a:lnTo>
                    <a:lnTo>
                      <a:pt x="911" y="798"/>
                    </a:lnTo>
                    <a:lnTo>
                      <a:pt x="901" y="802"/>
                    </a:lnTo>
                    <a:lnTo>
                      <a:pt x="892" y="806"/>
                    </a:lnTo>
                    <a:lnTo>
                      <a:pt x="884" y="810"/>
                    </a:lnTo>
                    <a:lnTo>
                      <a:pt x="873" y="813"/>
                    </a:lnTo>
                    <a:lnTo>
                      <a:pt x="863" y="817"/>
                    </a:lnTo>
                    <a:lnTo>
                      <a:pt x="854" y="825"/>
                    </a:lnTo>
                    <a:lnTo>
                      <a:pt x="844" y="831"/>
                    </a:lnTo>
                    <a:lnTo>
                      <a:pt x="833" y="834"/>
                    </a:lnTo>
                    <a:lnTo>
                      <a:pt x="823" y="838"/>
                    </a:lnTo>
                    <a:lnTo>
                      <a:pt x="810" y="842"/>
                    </a:lnTo>
                    <a:lnTo>
                      <a:pt x="800" y="848"/>
                    </a:lnTo>
                    <a:lnTo>
                      <a:pt x="789" y="851"/>
                    </a:lnTo>
                    <a:lnTo>
                      <a:pt x="778" y="855"/>
                    </a:lnTo>
                    <a:lnTo>
                      <a:pt x="766" y="861"/>
                    </a:lnTo>
                    <a:lnTo>
                      <a:pt x="755" y="865"/>
                    </a:lnTo>
                    <a:lnTo>
                      <a:pt x="743" y="869"/>
                    </a:lnTo>
                    <a:lnTo>
                      <a:pt x="734" y="874"/>
                    </a:lnTo>
                    <a:lnTo>
                      <a:pt x="723" y="878"/>
                    </a:lnTo>
                    <a:lnTo>
                      <a:pt x="713" y="886"/>
                    </a:lnTo>
                    <a:lnTo>
                      <a:pt x="702" y="889"/>
                    </a:lnTo>
                    <a:lnTo>
                      <a:pt x="690" y="895"/>
                    </a:lnTo>
                    <a:lnTo>
                      <a:pt x="681" y="901"/>
                    </a:lnTo>
                    <a:lnTo>
                      <a:pt x="671" y="907"/>
                    </a:lnTo>
                    <a:lnTo>
                      <a:pt x="669" y="905"/>
                    </a:lnTo>
                    <a:lnTo>
                      <a:pt x="675" y="895"/>
                    </a:lnTo>
                    <a:lnTo>
                      <a:pt x="683" y="888"/>
                    </a:lnTo>
                    <a:lnTo>
                      <a:pt x="690" y="878"/>
                    </a:lnTo>
                    <a:lnTo>
                      <a:pt x="700" y="872"/>
                    </a:lnTo>
                    <a:lnTo>
                      <a:pt x="707" y="865"/>
                    </a:lnTo>
                    <a:lnTo>
                      <a:pt x="715" y="859"/>
                    </a:lnTo>
                    <a:lnTo>
                      <a:pt x="724" y="853"/>
                    </a:lnTo>
                    <a:lnTo>
                      <a:pt x="734" y="848"/>
                    </a:lnTo>
                    <a:lnTo>
                      <a:pt x="743" y="842"/>
                    </a:lnTo>
                    <a:lnTo>
                      <a:pt x="753" y="836"/>
                    </a:lnTo>
                    <a:lnTo>
                      <a:pt x="762" y="832"/>
                    </a:lnTo>
                    <a:lnTo>
                      <a:pt x="772" y="829"/>
                    </a:lnTo>
                    <a:lnTo>
                      <a:pt x="781" y="825"/>
                    </a:lnTo>
                    <a:lnTo>
                      <a:pt x="791" y="823"/>
                    </a:lnTo>
                    <a:lnTo>
                      <a:pt x="802" y="821"/>
                    </a:lnTo>
                    <a:lnTo>
                      <a:pt x="814" y="821"/>
                    </a:lnTo>
                    <a:lnTo>
                      <a:pt x="806" y="819"/>
                    </a:lnTo>
                    <a:lnTo>
                      <a:pt x="800" y="817"/>
                    </a:lnTo>
                    <a:lnTo>
                      <a:pt x="795" y="817"/>
                    </a:lnTo>
                    <a:lnTo>
                      <a:pt x="789" y="817"/>
                    </a:lnTo>
                    <a:lnTo>
                      <a:pt x="781" y="817"/>
                    </a:lnTo>
                    <a:lnTo>
                      <a:pt x="776" y="817"/>
                    </a:lnTo>
                    <a:lnTo>
                      <a:pt x="770" y="819"/>
                    </a:lnTo>
                    <a:lnTo>
                      <a:pt x="764" y="821"/>
                    </a:lnTo>
                    <a:lnTo>
                      <a:pt x="759" y="821"/>
                    </a:lnTo>
                    <a:lnTo>
                      <a:pt x="751" y="821"/>
                    </a:lnTo>
                    <a:lnTo>
                      <a:pt x="745" y="821"/>
                    </a:lnTo>
                    <a:lnTo>
                      <a:pt x="740" y="823"/>
                    </a:lnTo>
                    <a:lnTo>
                      <a:pt x="734" y="823"/>
                    </a:lnTo>
                    <a:lnTo>
                      <a:pt x="726" y="825"/>
                    </a:lnTo>
                    <a:lnTo>
                      <a:pt x="721" y="827"/>
                    </a:lnTo>
                    <a:lnTo>
                      <a:pt x="715" y="829"/>
                    </a:lnTo>
                    <a:lnTo>
                      <a:pt x="709" y="831"/>
                    </a:lnTo>
                    <a:lnTo>
                      <a:pt x="704" y="832"/>
                    </a:lnTo>
                    <a:lnTo>
                      <a:pt x="696" y="832"/>
                    </a:lnTo>
                    <a:lnTo>
                      <a:pt x="690" y="834"/>
                    </a:lnTo>
                    <a:lnTo>
                      <a:pt x="685" y="836"/>
                    </a:lnTo>
                    <a:lnTo>
                      <a:pt x="677" y="838"/>
                    </a:lnTo>
                    <a:lnTo>
                      <a:pt x="671" y="840"/>
                    </a:lnTo>
                    <a:lnTo>
                      <a:pt x="666" y="842"/>
                    </a:lnTo>
                    <a:lnTo>
                      <a:pt x="658" y="844"/>
                    </a:lnTo>
                    <a:lnTo>
                      <a:pt x="652" y="846"/>
                    </a:lnTo>
                    <a:lnTo>
                      <a:pt x="645" y="848"/>
                    </a:lnTo>
                    <a:lnTo>
                      <a:pt x="639" y="851"/>
                    </a:lnTo>
                    <a:lnTo>
                      <a:pt x="633" y="853"/>
                    </a:lnTo>
                    <a:lnTo>
                      <a:pt x="626" y="855"/>
                    </a:lnTo>
                    <a:lnTo>
                      <a:pt x="620" y="857"/>
                    </a:lnTo>
                    <a:lnTo>
                      <a:pt x="614" y="861"/>
                    </a:lnTo>
                    <a:lnTo>
                      <a:pt x="607" y="861"/>
                    </a:lnTo>
                    <a:lnTo>
                      <a:pt x="601" y="863"/>
                    </a:lnTo>
                    <a:lnTo>
                      <a:pt x="595" y="865"/>
                    </a:lnTo>
                    <a:lnTo>
                      <a:pt x="588" y="869"/>
                    </a:lnTo>
                    <a:lnTo>
                      <a:pt x="582" y="870"/>
                    </a:lnTo>
                    <a:lnTo>
                      <a:pt x="576" y="872"/>
                    </a:lnTo>
                    <a:lnTo>
                      <a:pt x="569" y="874"/>
                    </a:lnTo>
                    <a:lnTo>
                      <a:pt x="563" y="878"/>
                    </a:lnTo>
                    <a:lnTo>
                      <a:pt x="555" y="878"/>
                    </a:lnTo>
                    <a:lnTo>
                      <a:pt x="550" y="882"/>
                    </a:lnTo>
                    <a:lnTo>
                      <a:pt x="542" y="882"/>
                    </a:lnTo>
                    <a:lnTo>
                      <a:pt x="536" y="886"/>
                    </a:lnTo>
                    <a:lnTo>
                      <a:pt x="531" y="888"/>
                    </a:lnTo>
                    <a:lnTo>
                      <a:pt x="523" y="889"/>
                    </a:lnTo>
                    <a:lnTo>
                      <a:pt x="517" y="891"/>
                    </a:lnTo>
                    <a:lnTo>
                      <a:pt x="512" y="895"/>
                    </a:lnTo>
                    <a:lnTo>
                      <a:pt x="504" y="895"/>
                    </a:lnTo>
                    <a:lnTo>
                      <a:pt x="496" y="897"/>
                    </a:lnTo>
                    <a:lnTo>
                      <a:pt x="491" y="897"/>
                    </a:lnTo>
                    <a:lnTo>
                      <a:pt x="485" y="899"/>
                    </a:lnTo>
                    <a:lnTo>
                      <a:pt x="477" y="901"/>
                    </a:lnTo>
                    <a:lnTo>
                      <a:pt x="472" y="903"/>
                    </a:lnTo>
                    <a:lnTo>
                      <a:pt x="466" y="905"/>
                    </a:lnTo>
                    <a:lnTo>
                      <a:pt x="458" y="907"/>
                    </a:lnTo>
                    <a:lnTo>
                      <a:pt x="453" y="907"/>
                    </a:lnTo>
                    <a:lnTo>
                      <a:pt x="445" y="907"/>
                    </a:lnTo>
                    <a:lnTo>
                      <a:pt x="439" y="907"/>
                    </a:lnTo>
                    <a:lnTo>
                      <a:pt x="432" y="908"/>
                    </a:lnTo>
                    <a:lnTo>
                      <a:pt x="426" y="908"/>
                    </a:lnTo>
                    <a:lnTo>
                      <a:pt x="420" y="908"/>
                    </a:lnTo>
                    <a:lnTo>
                      <a:pt x="413" y="910"/>
                    </a:lnTo>
                    <a:lnTo>
                      <a:pt x="407" y="912"/>
                    </a:lnTo>
                    <a:lnTo>
                      <a:pt x="413" y="908"/>
                    </a:lnTo>
                    <a:lnTo>
                      <a:pt x="420" y="905"/>
                    </a:lnTo>
                    <a:lnTo>
                      <a:pt x="428" y="901"/>
                    </a:lnTo>
                    <a:lnTo>
                      <a:pt x="435" y="899"/>
                    </a:lnTo>
                    <a:lnTo>
                      <a:pt x="441" y="895"/>
                    </a:lnTo>
                    <a:lnTo>
                      <a:pt x="451" y="893"/>
                    </a:lnTo>
                    <a:lnTo>
                      <a:pt x="458" y="891"/>
                    </a:lnTo>
                    <a:lnTo>
                      <a:pt x="466" y="889"/>
                    </a:lnTo>
                    <a:lnTo>
                      <a:pt x="474" y="886"/>
                    </a:lnTo>
                    <a:lnTo>
                      <a:pt x="483" y="884"/>
                    </a:lnTo>
                    <a:lnTo>
                      <a:pt x="491" y="880"/>
                    </a:lnTo>
                    <a:lnTo>
                      <a:pt x="498" y="878"/>
                    </a:lnTo>
                    <a:lnTo>
                      <a:pt x="506" y="874"/>
                    </a:lnTo>
                    <a:lnTo>
                      <a:pt x="513" y="872"/>
                    </a:lnTo>
                    <a:lnTo>
                      <a:pt x="521" y="870"/>
                    </a:lnTo>
                    <a:lnTo>
                      <a:pt x="531" y="869"/>
                    </a:lnTo>
                    <a:lnTo>
                      <a:pt x="538" y="865"/>
                    </a:lnTo>
                    <a:lnTo>
                      <a:pt x="548" y="863"/>
                    </a:lnTo>
                    <a:lnTo>
                      <a:pt x="555" y="859"/>
                    </a:lnTo>
                    <a:lnTo>
                      <a:pt x="563" y="855"/>
                    </a:lnTo>
                    <a:lnTo>
                      <a:pt x="570" y="851"/>
                    </a:lnTo>
                    <a:lnTo>
                      <a:pt x="578" y="850"/>
                    </a:lnTo>
                    <a:lnTo>
                      <a:pt x="586" y="846"/>
                    </a:lnTo>
                    <a:lnTo>
                      <a:pt x="595" y="842"/>
                    </a:lnTo>
                    <a:lnTo>
                      <a:pt x="601" y="836"/>
                    </a:lnTo>
                    <a:lnTo>
                      <a:pt x="610" y="832"/>
                    </a:lnTo>
                    <a:lnTo>
                      <a:pt x="616" y="829"/>
                    </a:lnTo>
                    <a:lnTo>
                      <a:pt x="624" y="825"/>
                    </a:lnTo>
                    <a:lnTo>
                      <a:pt x="631" y="819"/>
                    </a:lnTo>
                    <a:lnTo>
                      <a:pt x="639" y="813"/>
                    </a:lnTo>
                    <a:lnTo>
                      <a:pt x="645" y="808"/>
                    </a:lnTo>
                    <a:lnTo>
                      <a:pt x="652" y="802"/>
                    </a:lnTo>
                    <a:lnTo>
                      <a:pt x="645" y="802"/>
                    </a:lnTo>
                    <a:lnTo>
                      <a:pt x="639" y="802"/>
                    </a:lnTo>
                    <a:lnTo>
                      <a:pt x="631" y="804"/>
                    </a:lnTo>
                    <a:lnTo>
                      <a:pt x="626" y="804"/>
                    </a:lnTo>
                    <a:lnTo>
                      <a:pt x="618" y="806"/>
                    </a:lnTo>
                    <a:lnTo>
                      <a:pt x="612" y="806"/>
                    </a:lnTo>
                    <a:lnTo>
                      <a:pt x="605" y="808"/>
                    </a:lnTo>
                    <a:lnTo>
                      <a:pt x="599" y="810"/>
                    </a:lnTo>
                    <a:lnTo>
                      <a:pt x="591" y="810"/>
                    </a:lnTo>
                    <a:lnTo>
                      <a:pt x="586" y="812"/>
                    </a:lnTo>
                    <a:lnTo>
                      <a:pt x="578" y="813"/>
                    </a:lnTo>
                    <a:lnTo>
                      <a:pt x="570" y="815"/>
                    </a:lnTo>
                    <a:lnTo>
                      <a:pt x="565" y="815"/>
                    </a:lnTo>
                    <a:lnTo>
                      <a:pt x="559" y="819"/>
                    </a:lnTo>
                    <a:lnTo>
                      <a:pt x="551" y="821"/>
                    </a:lnTo>
                    <a:lnTo>
                      <a:pt x="546" y="823"/>
                    </a:lnTo>
                    <a:lnTo>
                      <a:pt x="538" y="825"/>
                    </a:lnTo>
                    <a:lnTo>
                      <a:pt x="532" y="827"/>
                    </a:lnTo>
                    <a:lnTo>
                      <a:pt x="527" y="829"/>
                    </a:lnTo>
                    <a:lnTo>
                      <a:pt x="519" y="831"/>
                    </a:lnTo>
                    <a:lnTo>
                      <a:pt x="512" y="832"/>
                    </a:lnTo>
                    <a:lnTo>
                      <a:pt x="506" y="834"/>
                    </a:lnTo>
                    <a:lnTo>
                      <a:pt x="500" y="836"/>
                    </a:lnTo>
                    <a:lnTo>
                      <a:pt x="493" y="840"/>
                    </a:lnTo>
                    <a:lnTo>
                      <a:pt x="485" y="842"/>
                    </a:lnTo>
                    <a:lnTo>
                      <a:pt x="479" y="844"/>
                    </a:lnTo>
                    <a:lnTo>
                      <a:pt x="474" y="846"/>
                    </a:lnTo>
                    <a:lnTo>
                      <a:pt x="466" y="850"/>
                    </a:lnTo>
                    <a:lnTo>
                      <a:pt x="460" y="851"/>
                    </a:lnTo>
                    <a:lnTo>
                      <a:pt x="454" y="855"/>
                    </a:lnTo>
                    <a:lnTo>
                      <a:pt x="447" y="857"/>
                    </a:lnTo>
                    <a:lnTo>
                      <a:pt x="441" y="861"/>
                    </a:lnTo>
                    <a:lnTo>
                      <a:pt x="434" y="861"/>
                    </a:lnTo>
                    <a:lnTo>
                      <a:pt x="428" y="865"/>
                    </a:lnTo>
                    <a:lnTo>
                      <a:pt x="420" y="865"/>
                    </a:lnTo>
                    <a:lnTo>
                      <a:pt x="413" y="869"/>
                    </a:lnTo>
                    <a:lnTo>
                      <a:pt x="407" y="870"/>
                    </a:lnTo>
                    <a:lnTo>
                      <a:pt x="399" y="872"/>
                    </a:lnTo>
                    <a:lnTo>
                      <a:pt x="394" y="874"/>
                    </a:lnTo>
                    <a:lnTo>
                      <a:pt x="388" y="878"/>
                    </a:lnTo>
                    <a:lnTo>
                      <a:pt x="380" y="880"/>
                    </a:lnTo>
                    <a:lnTo>
                      <a:pt x="373" y="882"/>
                    </a:lnTo>
                    <a:lnTo>
                      <a:pt x="365" y="884"/>
                    </a:lnTo>
                    <a:lnTo>
                      <a:pt x="359" y="886"/>
                    </a:lnTo>
                    <a:lnTo>
                      <a:pt x="352" y="888"/>
                    </a:lnTo>
                    <a:lnTo>
                      <a:pt x="346" y="889"/>
                    </a:lnTo>
                    <a:lnTo>
                      <a:pt x="339" y="891"/>
                    </a:lnTo>
                    <a:lnTo>
                      <a:pt x="333" y="895"/>
                    </a:lnTo>
                    <a:lnTo>
                      <a:pt x="325" y="895"/>
                    </a:lnTo>
                    <a:lnTo>
                      <a:pt x="320" y="897"/>
                    </a:lnTo>
                    <a:lnTo>
                      <a:pt x="312" y="897"/>
                    </a:lnTo>
                    <a:lnTo>
                      <a:pt x="306" y="899"/>
                    </a:lnTo>
                    <a:lnTo>
                      <a:pt x="299" y="901"/>
                    </a:lnTo>
                    <a:lnTo>
                      <a:pt x="291" y="903"/>
                    </a:lnTo>
                    <a:lnTo>
                      <a:pt x="283" y="905"/>
                    </a:lnTo>
                    <a:lnTo>
                      <a:pt x="278" y="907"/>
                    </a:lnTo>
                    <a:lnTo>
                      <a:pt x="270" y="907"/>
                    </a:lnTo>
                    <a:lnTo>
                      <a:pt x="264" y="907"/>
                    </a:lnTo>
                    <a:lnTo>
                      <a:pt x="257" y="907"/>
                    </a:lnTo>
                    <a:lnTo>
                      <a:pt x="251" y="908"/>
                    </a:lnTo>
                    <a:lnTo>
                      <a:pt x="243" y="908"/>
                    </a:lnTo>
                    <a:lnTo>
                      <a:pt x="236" y="908"/>
                    </a:lnTo>
                    <a:lnTo>
                      <a:pt x="228" y="910"/>
                    </a:lnTo>
                    <a:lnTo>
                      <a:pt x="223" y="912"/>
                    </a:lnTo>
                    <a:lnTo>
                      <a:pt x="228" y="907"/>
                    </a:lnTo>
                    <a:lnTo>
                      <a:pt x="236" y="901"/>
                    </a:lnTo>
                    <a:lnTo>
                      <a:pt x="243" y="899"/>
                    </a:lnTo>
                    <a:lnTo>
                      <a:pt x="253" y="895"/>
                    </a:lnTo>
                    <a:lnTo>
                      <a:pt x="262" y="891"/>
                    </a:lnTo>
                    <a:lnTo>
                      <a:pt x="272" y="889"/>
                    </a:lnTo>
                    <a:lnTo>
                      <a:pt x="281" y="888"/>
                    </a:lnTo>
                    <a:lnTo>
                      <a:pt x="291" y="886"/>
                    </a:lnTo>
                    <a:lnTo>
                      <a:pt x="301" y="882"/>
                    </a:lnTo>
                    <a:lnTo>
                      <a:pt x="310" y="880"/>
                    </a:lnTo>
                    <a:lnTo>
                      <a:pt x="320" y="878"/>
                    </a:lnTo>
                    <a:lnTo>
                      <a:pt x="331" y="874"/>
                    </a:lnTo>
                    <a:lnTo>
                      <a:pt x="340" y="872"/>
                    </a:lnTo>
                    <a:lnTo>
                      <a:pt x="350" y="870"/>
                    </a:lnTo>
                    <a:lnTo>
                      <a:pt x="359" y="869"/>
                    </a:lnTo>
                    <a:lnTo>
                      <a:pt x="371" y="867"/>
                    </a:lnTo>
                    <a:lnTo>
                      <a:pt x="363" y="861"/>
                    </a:lnTo>
                    <a:lnTo>
                      <a:pt x="358" y="859"/>
                    </a:lnTo>
                    <a:lnTo>
                      <a:pt x="352" y="855"/>
                    </a:lnTo>
                    <a:lnTo>
                      <a:pt x="346" y="853"/>
                    </a:lnTo>
                    <a:lnTo>
                      <a:pt x="340" y="851"/>
                    </a:lnTo>
                    <a:lnTo>
                      <a:pt x="335" y="850"/>
                    </a:lnTo>
                    <a:lnTo>
                      <a:pt x="327" y="850"/>
                    </a:lnTo>
                    <a:lnTo>
                      <a:pt x="321" y="851"/>
                    </a:lnTo>
                    <a:lnTo>
                      <a:pt x="314" y="851"/>
                    </a:lnTo>
                    <a:lnTo>
                      <a:pt x="308" y="851"/>
                    </a:lnTo>
                    <a:lnTo>
                      <a:pt x="301" y="853"/>
                    </a:lnTo>
                    <a:lnTo>
                      <a:pt x="295" y="855"/>
                    </a:lnTo>
                    <a:lnTo>
                      <a:pt x="287" y="857"/>
                    </a:lnTo>
                    <a:lnTo>
                      <a:pt x="281" y="859"/>
                    </a:lnTo>
                    <a:lnTo>
                      <a:pt x="274" y="863"/>
                    </a:lnTo>
                    <a:lnTo>
                      <a:pt x="268" y="865"/>
                    </a:lnTo>
                    <a:lnTo>
                      <a:pt x="259" y="869"/>
                    </a:lnTo>
                    <a:lnTo>
                      <a:pt x="253" y="870"/>
                    </a:lnTo>
                    <a:lnTo>
                      <a:pt x="243" y="872"/>
                    </a:lnTo>
                    <a:lnTo>
                      <a:pt x="238" y="874"/>
                    </a:lnTo>
                    <a:lnTo>
                      <a:pt x="228" y="878"/>
                    </a:lnTo>
                    <a:lnTo>
                      <a:pt x="223" y="880"/>
                    </a:lnTo>
                    <a:lnTo>
                      <a:pt x="215" y="882"/>
                    </a:lnTo>
                    <a:lnTo>
                      <a:pt x="207" y="886"/>
                    </a:lnTo>
                    <a:lnTo>
                      <a:pt x="200" y="886"/>
                    </a:lnTo>
                    <a:lnTo>
                      <a:pt x="192" y="888"/>
                    </a:lnTo>
                    <a:lnTo>
                      <a:pt x="185" y="888"/>
                    </a:lnTo>
                    <a:lnTo>
                      <a:pt x="177" y="889"/>
                    </a:lnTo>
                    <a:lnTo>
                      <a:pt x="169" y="889"/>
                    </a:lnTo>
                    <a:lnTo>
                      <a:pt x="162" y="889"/>
                    </a:lnTo>
                    <a:lnTo>
                      <a:pt x="154" y="888"/>
                    </a:lnTo>
                    <a:lnTo>
                      <a:pt x="148" y="888"/>
                    </a:lnTo>
                    <a:lnTo>
                      <a:pt x="154" y="882"/>
                    </a:lnTo>
                    <a:lnTo>
                      <a:pt x="162" y="878"/>
                    </a:lnTo>
                    <a:lnTo>
                      <a:pt x="169" y="872"/>
                    </a:lnTo>
                    <a:lnTo>
                      <a:pt x="179" y="870"/>
                    </a:lnTo>
                    <a:lnTo>
                      <a:pt x="186" y="865"/>
                    </a:lnTo>
                    <a:lnTo>
                      <a:pt x="196" y="863"/>
                    </a:lnTo>
                    <a:lnTo>
                      <a:pt x="205" y="861"/>
                    </a:lnTo>
                    <a:lnTo>
                      <a:pt x="217" y="859"/>
                    </a:lnTo>
                    <a:lnTo>
                      <a:pt x="226" y="855"/>
                    </a:lnTo>
                    <a:lnTo>
                      <a:pt x="236" y="853"/>
                    </a:lnTo>
                    <a:lnTo>
                      <a:pt x="245" y="851"/>
                    </a:lnTo>
                    <a:lnTo>
                      <a:pt x="257" y="850"/>
                    </a:lnTo>
                    <a:lnTo>
                      <a:pt x="266" y="848"/>
                    </a:lnTo>
                    <a:lnTo>
                      <a:pt x="278" y="846"/>
                    </a:lnTo>
                    <a:lnTo>
                      <a:pt x="287" y="844"/>
                    </a:lnTo>
                    <a:lnTo>
                      <a:pt x="297" y="844"/>
                    </a:lnTo>
                    <a:lnTo>
                      <a:pt x="293" y="836"/>
                    </a:lnTo>
                    <a:lnTo>
                      <a:pt x="289" y="832"/>
                    </a:lnTo>
                    <a:lnTo>
                      <a:pt x="283" y="827"/>
                    </a:lnTo>
                    <a:lnTo>
                      <a:pt x="280" y="825"/>
                    </a:lnTo>
                    <a:lnTo>
                      <a:pt x="270" y="821"/>
                    </a:lnTo>
                    <a:lnTo>
                      <a:pt x="259" y="817"/>
                    </a:lnTo>
                    <a:lnTo>
                      <a:pt x="251" y="817"/>
                    </a:lnTo>
                    <a:lnTo>
                      <a:pt x="245" y="817"/>
                    </a:lnTo>
                    <a:lnTo>
                      <a:pt x="238" y="817"/>
                    </a:lnTo>
                    <a:lnTo>
                      <a:pt x="232" y="821"/>
                    </a:lnTo>
                    <a:lnTo>
                      <a:pt x="224" y="821"/>
                    </a:lnTo>
                    <a:lnTo>
                      <a:pt x="219" y="823"/>
                    </a:lnTo>
                    <a:lnTo>
                      <a:pt x="211" y="825"/>
                    </a:lnTo>
                    <a:lnTo>
                      <a:pt x="205" y="829"/>
                    </a:lnTo>
                    <a:lnTo>
                      <a:pt x="196" y="831"/>
                    </a:lnTo>
                    <a:lnTo>
                      <a:pt x="188" y="832"/>
                    </a:lnTo>
                    <a:lnTo>
                      <a:pt x="181" y="834"/>
                    </a:lnTo>
                    <a:lnTo>
                      <a:pt x="173" y="838"/>
                    </a:lnTo>
                    <a:lnTo>
                      <a:pt x="166" y="840"/>
                    </a:lnTo>
                    <a:lnTo>
                      <a:pt x="158" y="842"/>
                    </a:lnTo>
                    <a:lnTo>
                      <a:pt x="150" y="844"/>
                    </a:lnTo>
                    <a:lnTo>
                      <a:pt x="143" y="848"/>
                    </a:lnTo>
                    <a:lnTo>
                      <a:pt x="135" y="850"/>
                    </a:lnTo>
                    <a:lnTo>
                      <a:pt x="127" y="851"/>
                    </a:lnTo>
                    <a:lnTo>
                      <a:pt x="120" y="851"/>
                    </a:lnTo>
                    <a:lnTo>
                      <a:pt x="114" y="853"/>
                    </a:lnTo>
                    <a:lnTo>
                      <a:pt x="107" y="853"/>
                    </a:lnTo>
                    <a:lnTo>
                      <a:pt x="99" y="853"/>
                    </a:lnTo>
                    <a:lnTo>
                      <a:pt x="93" y="853"/>
                    </a:lnTo>
                    <a:lnTo>
                      <a:pt x="88" y="853"/>
                    </a:lnTo>
                    <a:lnTo>
                      <a:pt x="93" y="850"/>
                    </a:lnTo>
                    <a:lnTo>
                      <a:pt x="99" y="844"/>
                    </a:lnTo>
                    <a:lnTo>
                      <a:pt x="107" y="840"/>
                    </a:lnTo>
                    <a:lnTo>
                      <a:pt x="114" y="836"/>
                    </a:lnTo>
                    <a:lnTo>
                      <a:pt x="122" y="832"/>
                    </a:lnTo>
                    <a:lnTo>
                      <a:pt x="131" y="827"/>
                    </a:lnTo>
                    <a:lnTo>
                      <a:pt x="139" y="825"/>
                    </a:lnTo>
                    <a:lnTo>
                      <a:pt x="148" y="821"/>
                    </a:lnTo>
                    <a:lnTo>
                      <a:pt x="158" y="817"/>
                    </a:lnTo>
                    <a:lnTo>
                      <a:pt x="167" y="815"/>
                    </a:lnTo>
                    <a:lnTo>
                      <a:pt x="177" y="812"/>
                    </a:lnTo>
                    <a:lnTo>
                      <a:pt x="186" y="810"/>
                    </a:lnTo>
                    <a:lnTo>
                      <a:pt x="194" y="808"/>
                    </a:lnTo>
                    <a:lnTo>
                      <a:pt x="204" y="808"/>
                    </a:lnTo>
                    <a:lnTo>
                      <a:pt x="213" y="808"/>
                    </a:lnTo>
                    <a:lnTo>
                      <a:pt x="223" y="808"/>
                    </a:lnTo>
                    <a:lnTo>
                      <a:pt x="219" y="798"/>
                    </a:lnTo>
                    <a:lnTo>
                      <a:pt x="215" y="793"/>
                    </a:lnTo>
                    <a:lnTo>
                      <a:pt x="209" y="787"/>
                    </a:lnTo>
                    <a:lnTo>
                      <a:pt x="205" y="783"/>
                    </a:lnTo>
                    <a:lnTo>
                      <a:pt x="200" y="779"/>
                    </a:lnTo>
                    <a:lnTo>
                      <a:pt x="196" y="777"/>
                    </a:lnTo>
                    <a:lnTo>
                      <a:pt x="188" y="774"/>
                    </a:lnTo>
                    <a:lnTo>
                      <a:pt x="185" y="774"/>
                    </a:lnTo>
                    <a:lnTo>
                      <a:pt x="177" y="772"/>
                    </a:lnTo>
                    <a:lnTo>
                      <a:pt x="169" y="772"/>
                    </a:lnTo>
                    <a:lnTo>
                      <a:pt x="162" y="772"/>
                    </a:lnTo>
                    <a:lnTo>
                      <a:pt x="156" y="774"/>
                    </a:lnTo>
                    <a:lnTo>
                      <a:pt x="148" y="774"/>
                    </a:lnTo>
                    <a:lnTo>
                      <a:pt x="141" y="775"/>
                    </a:lnTo>
                    <a:lnTo>
                      <a:pt x="133" y="777"/>
                    </a:lnTo>
                    <a:lnTo>
                      <a:pt x="126" y="781"/>
                    </a:lnTo>
                    <a:lnTo>
                      <a:pt x="116" y="781"/>
                    </a:lnTo>
                    <a:lnTo>
                      <a:pt x="108" y="785"/>
                    </a:lnTo>
                    <a:lnTo>
                      <a:pt x="99" y="787"/>
                    </a:lnTo>
                    <a:lnTo>
                      <a:pt x="93" y="791"/>
                    </a:lnTo>
                    <a:lnTo>
                      <a:pt x="84" y="793"/>
                    </a:lnTo>
                    <a:lnTo>
                      <a:pt x="76" y="794"/>
                    </a:lnTo>
                    <a:lnTo>
                      <a:pt x="67" y="796"/>
                    </a:lnTo>
                    <a:lnTo>
                      <a:pt x="59" y="800"/>
                    </a:lnTo>
                    <a:lnTo>
                      <a:pt x="51" y="800"/>
                    </a:lnTo>
                    <a:lnTo>
                      <a:pt x="44" y="804"/>
                    </a:lnTo>
                    <a:lnTo>
                      <a:pt x="34" y="804"/>
                    </a:lnTo>
                    <a:lnTo>
                      <a:pt x="29" y="806"/>
                    </a:lnTo>
                    <a:lnTo>
                      <a:pt x="21" y="806"/>
                    </a:lnTo>
                    <a:lnTo>
                      <a:pt x="13" y="808"/>
                    </a:lnTo>
                    <a:lnTo>
                      <a:pt x="6" y="808"/>
                    </a:lnTo>
                    <a:lnTo>
                      <a:pt x="0" y="808"/>
                    </a:lnTo>
                    <a:lnTo>
                      <a:pt x="8" y="800"/>
                    </a:lnTo>
                    <a:lnTo>
                      <a:pt x="19" y="794"/>
                    </a:lnTo>
                    <a:lnTo>
                      <a:pt x="29" y="789"/>
                    </a:lnTo>
                    <a:lnTo>
                      <a:pt x="40" y="785"/>
                    </a:lnTo>
                    <a:lnTo>
                      <a:pt x="50" y="779"/>
                    </a:lnTo>
                    <a:lnTo>
                      <a:pt x="61" y="777"/>
                    </a:lnTo>
                    <a:lnTo>
                      <a:pt x="69" y="775"/>
                    </a:lnTo>
                    <a:lnTo>
                      <a:pt x="74" y="774"/>
                    </a:lnTo>
                    <a:lnTo>
                      <a:pt x="80" y="772"/>
                    </a:lnTo>
                    <a:lnTo>
                      <a:pt x="88" y="770"/>
                    </a:lnTo>
                    <a:lnTo>
                      <a:pt x="93" y="768"/>
                    </a:lnTo>
                    <a:lnTo>
                      <a:pt x="99" y="766"/>
                    </a:lnTo>
                    <a:lnTo>
                      <a:pt x="105" y="762"/>
                    </a:lnTo>
                    <a:lnTo>
                      <a:pt x="110" y="762"/>
                    </a:lnTo>
                    <a:lnTo>
                      <a:pt x="116" y="758"/>
                    </a:lnTo>
                    <a:lnTo>
                      <a:pt x="122" y="758"/>
                    </a:lnTo>
                    <a:lnTo>
                      <a:pt x="129" y="755"/>
                    </a:lnTo>
                    <a:lnTo>
                      <a:pt x="135" y="753"/>
                    </a:lnTo>
                    <a:lnTo>
                      <a:pt x="145" y="747"/>
                    </a:lnTo>
                    <a:lnTo>
                      <a:pt x="158" y="741"/>
                    </a:lnTo>
                    <a:lnTo>
                      <a:pt x="167" y="734"/>
                    </a:lnTo>
                    <a:lnTo>
                      <a:pt x="179" y="728"/>
                    </a:lnTo>
                    <a:lnTo>
                      <a:pt x="171" y="724"/>
                    </a:lnTo>
                    <a:lnTo>
                      <a:pt x="164" y="724"/>
                    </a:lnTo>
                    <a:lnTo>
                      <a:pt x="158" y="724"/>
                    </a:lnTo>
                    <a:lnTo>
                      <a:pt x="152" y="726"/>
                    </a:lnTo>
                    <a:lnTo>
                      <a:pt x="145" y="726"/>
                    </a:lnTo>
                    <a:lnTo>
                      <a:pt x="139" y="726"/>
                    </a:lnTo>
                    <a:lnTo>
                      <a:pt x="133" y="728"/>
                    </a:lnTo>
                    <a:lnTo>
                      <a:pt x="126" y="730"/>
                    </a:lnTo>
                    <a:lnTo>
                      <a:pt x="120" y="732"/>
                    </a:lnTo>
                    <a:lnTo>
                      <a:pt x="112" y="732"/>
                    </a:lnTo>
                    <a:lnTo>
                      <a:pt x="107" y="734"/>
                    </a:lnTo>
                    <a:lnTo>
                      <a:pt x="99" y="734"/>
                    </a:lnTo>
                    <a:lnTo>
                      <a:pt x="93" y="734"/>
                    </a:lnTo>
                    <a:lnTo>
                      <a:pt x="88" y="734"/>
                    </a:lnTo>
                    <a:lnTo>
                      <a:pt x="80" y="734"/>
                    </a:lnTo>
                    <a:lnTo>
                      <a:pt x="74" y="734"/>
                    </a:lnTo>
                    <a:lnTo>
                      <a:pt x="74" y="730"/>
                    </a:lnTo>
                    <a:lnTo>
                      <a:pt x="74" y="728"/>
                    </a:lnTo>
                    <a:lnTo>
                      <a:pt x="82" y="724"/>
                    </a:lnTo>
                    <a:lnTo>
                      <a:pt x="89" y="722"/>
                    </a:lnTo>
                    <a:lnTo>
                      <a:pt x="99" y="718"/>
                    </a:lnTo>
                    <a:lnTo>
                      <a:pt x="107" y="716"/>
                    </a:lnTo>
                    <a:lnTo>
                      <a:pt x="114" y="713"/>
                    </a:lnTo>
                    <a:lnTo>
                      <a:pt x="124" y="711"/>
                    </a:lnTo>
                    <a:lnTo>
                      <a:pt x="131" y="709"/>
                    </a:lnTo>
                    <a:lnTo>
                      <a:pt x="141" y="707"/>
                    </a:lnTo>
                    <a:lnTo>
                      <a:pt x="148" y="703"/>
                    </a:lnTo>
                    <a:lnTo>
                      <a:pt x="158" y="701"/>
                    </a:lnTo>
                    <a:lnTo>
                      <a:pt x="166" y="699"/>
                    </a:lnTo>
                    <a:lnTo>
                      <a:pt x="175" y="697"/>
                    </a:lnTo>
                    <a:lnTo>
                      <a:pt x="185" y="696"/>
                    </a:lnTo>
                    <a:lnTo>
                      <a:pt x="192" y="694"/>
                    </a:lnTo>
                    <a:lnTo>
                      <a:pt x="200" y="692"/>
                    </a:lnTo>
                    <a:lnTo>
                      <a:pt x="209" y="692"/>
                    </a:lnTo>
                    <a:lnTo>
                      <a:pt x="204" y="686"/>
                    </a:lnTo>
                    <a:lnTo>
                      <a:pt x="196" y="680"/>
                    </a:lnTo>
                    <a:lnTo>
                      <a:pt x="188" y="678"/>
                    </a:lnTo>
                    <a:lnTo>
                      <a:pt x="181" y="678"/>
                    </a:lnTo>
                    <a:lnTo>
                      <a:pt x="171" y="677"/>
                    </a:lnTo>
                    <a:lnTo>
                      <a:pt x="162" y="677"/>
                    </a:lnTo>
                    <a:lnTo>
                      <a:pt x="154" y="678"/>
                    </a:lnTo>
                    <a:lnTo>
                      <a:pt x="145" y="680"/>
                    </a:lnTo>
                    <a:lnTo>
                      <a:pt x="135" y="680"/>
                    </a:lnTo>
                    <a:lnTo>
                      <a:pt x="127" y="682"/>
                    </a:lnTo>
                    <a:lnTo>
                      <a:pt x="118" y="684"/>
                    </a:lnTo>
                    <a:lnTo>
                      <a:pt x="110" y="686"/>
                    </a:lnTo>
                    <a:lnTo>
                      <a:pt x="99" y="686"/>
                    </a:lnTo>
                    <a:lnTo>
                      <a:pt x="89" y="688"/>
                    </a:lnTo>
                    <a:lnTo>
                      <a:pt x="82" y="688"/>
                    </a:lnTo>
                    <a:lnTo>
                      <a:pt x="74" y="688"/>
                    </a:lnTo>
                    <a:lnTo>
                      <a:pt x="76" y="678"/>
                    </a:lnTo>
                    <a:lnTo>
                      <a:pt x="80" y="671"/>
                    </a:lnTo>
                    <a:lnTo>
                      <a:pt x="84" y="663"/>
                    </a:lnTo>
                    <a:lnTo>
                      <a:pt x="89" y="658"/>
                    </a:lnTo>
                    <a:lnTo>
                      <a:pt x="97" y="652"/>
                    </a:lnTo>
                    <a:lnTo>
                      <a:pt x="105" y="648"/>
                    </a:lnTo>
                    <a:lnTo>
                      <a:pt x="112" y="644"/>
                    </a:lnTo>
                    <a:lnTo>
                      <a:pt x="122" y="640"/>
                    </a:lnTo>
                    <a:lnTo>
                      <a:pt x="129" y="639"/>
                    </a:lnTo>
                    <a:lnTo>
                      <a:pt x="139" y="635"/>
                    </a:lnTo>
                    <a:lnTo>
                      <a:pt x="148" y="631"/>
                    </a:lnTo>
                    <a:lnTo>
                      <a:pt x="158" y="629"/>
                    </a:lnTo>
                    <a:lnTo>
                      <a:pt x="166" y="625"/>
                    </a:lnTo>
                    <a:lnTo>
                      <a:pt x="175" y="623"/>
                    </a:lnTo>
                    <a:lnTo>
                      <a:pt x="185" y="621"/>
                    </a:lnTo>
                    <a:lnTo>
                      <a:pt x="194" y="620"/>
                    </a:lnTo>
                    <a:lnTo>
                      <a:pt x="194" y="616"/>
                    </a:lnTo>
                    <a:lnTo>
                      <a:pt x="194" y="614"/>
                    </a:lnTo>
                    <a:lnTo>
                      <a:pt x="185" y="610"/>
                    </a:lnTo>
                    <a:lnTo>
                      <a:pt x="177" y="608"/>
                    </a:lnTo>
                    <a:lnTo>
                      <a:pt x="167" y="608"/>
                    </a:lnTo>
                    <a:lnTo>
                      <a:pt x="160" y="608"/>
                    </a:lnTo>
                    <a:lnTo>
                      <a:pt x="150" y="608"/>
                    </a:lnTo>
                    <a:lnTo>
                      <a:pt x="141" y="608"/>
                    </a:lnTo>
                    <a:lnTo>
                      <a:pt x="131" y="606"/>
                    </a:lnTo>
                    <a:lnTo>
                      <a:pt x="124" y="604"/>
                    </a:lnTo>
                    <a:lnTo>
                      <a:pt x="127" y="595"/>
                    </a:lnTo>
                    <a:lnTo>
                      <a:pt x="133" y="587"/>
                    </a:lnTo>
                    <a:lnTo>
                      <a:pt x="141" y="580"/>
                    </a:lnTo>
                    <a:lnTo>
                      <a:pt x="148" y="574"/>
                    </a:lnTo>
                    <a:lnTo>
                      <a:pt x="154" y="566"/>
                    </a:lnTo>
                    <a:lnTo>
                      <a:pt x="164" y="559"/>
                    </a:lnTo>
                    <a:lnTo>
                      <a:pt x="171" y="551"/>
                    </a:lnTo>
                    <a:lnTo>
                      <a:pt x="181" y="545"/>
                    </a:lnTo>
                    <a:lnTo>
                      <a:pt x="188" y="538"/>
                    </a:lnTo>
                    <a:lnTo>
                      <a:pt x="198" y="530"/>
                    </a:lnTo>
                    <a:lnTo>
                      <a:pt x="205" y="523"/>
                    </a:lnTo>
                    <a:lnTo>
                      <a:pt x="213" y="515"/>
                    </a:lnTo>
                    <a:lnTo>
                      <a:pt x="217" y="505"/>
                    </a:lnTo>
                    <a:lnTo>
                      <a:pt x="224" y="500"/>
                    </a:lnTo>
                    <a:lnTo>
                      <a:pt x="228" y="490"/>
                    </a:lnTo>
                    <a:lnTo>
                      <a:pt x="234" y="483"/>
                    </a:lnTo>
                    <a:lnTo>
                      <a:pt x="223" y="483"/>
                    </a:lnTo>
                    <a:lnTo>
                      <a:pt x="211" y="485"/>
                    </a:lnTo>
                    <a:lnTo>
                      <a:pt x="200" y="486"/>
                    </a:lnTo>
                    <a:lnTo>
                      <a:pt x="190" y="492"/>
                    </a:lnTo>
                    <a:lnTo>
                      <a:pt x="181" y="498"/>
                    </a:lnTo>
                    <a:lnTo>
                      <a:pt x="171" y="504"/>
                    </a:lnTo>
                    <a:lnTo>
                      <a:pt x="162" y="511"/>
                    </a:lnTo>
                    <a:lnTo>
                      <a:pt x="152" y="517"/>
                    </a:lnTo>
                    <a:lnTo>
                      <a:pt x="141" y="523"/>
                    </a:lnTo>
                    <a:lnTo>
                      <a:pt x="131" y="528"/>
                    </a:lnTo>
                    <a:lnTo>
                      <a:pt x="122" y="534"/>
                    </a:lnTo>
                    <a:lnTo>
                      <a:pt x="112" y="540"/>
                    </a:lnTo>
                    <a:lnTo>
                      <a:pt x="103" y="543"/>
                    </a:lnTo>
                    <a:lnTo>
                      <a:pt x="93" y="547"/>
                    </a:lnTo>
                    <a:lnTo>
                      <a:pt x="84" y="551"/>
                    </a:lnTo>
                    <a:lnTo>
                      <a:pt x="74" y="553"/>
                    </a:lnTo>
                    <a:lnTo>
                      <a:pt x="74" y="547"/>
                    </a:lnTo>
                    <a:lnTo>
                      <a:pt x="76" y="542"/>
                    </a:lnTo>
                    <a:lnTo>
                      <a:pt x="78" y="536"/>
                    </a:lnTo>
                    <a:lnTo>
                      <a:pt x="82" y="532"/>
                    </a:lnTo>
                    <a:lnTo>
                      <a:pt x="88" y="523"/>
                    </a:lnTo>
                    <a:lnTo>
                      <a:pt x="97" y="515"/>
                    </a:lnTo>
                    <a:lnTo>
                      <a:pt x="105" y="509"/>
                    </a:lnTo>
                    <a:lnTo>
                      <a:pt x="114" y="502"/>
                    </a:lnTo>
                    <a:lnTo>
                      <a:pt x="126" y="496"/>
                    </a:lnTo>
                    <a:lnTo>
                      <a:pt x="135" y="492"/>
                    </a:lnTo>
                    <a:lnTo>
                      <a:pt x="145" y="485"/>
                    </a:lnTo>
                    <a:lnTo>
                      <a:pt x="154" y="481"/>
                    </a:lnTo>
                    <a:lnTo>
                      <a:pt x="164" y="475"/>
                    </a:lnTo>
                    <a:lnTo>
                      <a:pt x="173" y="469"/>
                    </a:lnTo>
                    <a:lnTo>
                      <a:pt x="179" y="464"/>
                    </a:lnTo>
                    <a:lnTo>
                      <a:pt x="186" y="458"/>
                    </a:lnTo>
                    <a:lnTo>
                      <a:pt x="190" y="450"/>
                    </a:lnTo>
                    <a:lnTo>
                      <a:pt x="194" y="445"/>
                    </a:lnTo>
                    <a:lnTo>
                      <a:pt x="186" y="447"/>
                    </a:lnTo>
                    <a:lnTo>
                      <a:pt x="179" y="448"/>
                    </a:lnTo>
                    <a:lnTo>
                      <a:pt x="171" y="450"/>
                    </a:lnTo>
                    <a:lnTo>
                      <a:pt x="166" y="454"/>
                    </a:lnTo>
                    <a:lnTo>
                      <a:pt x="158" y="456"/>
                    </a:lnTo>
                    <a:lnTo>
                      <a:pt x="152" y="458"/>
                    </a:lnTo>
                    <a:lnTo>
                      <a:pt x="145" y="460"/>
                    </a:lnTo>
                    <a:lnTo>
                      <a:pt x="139" y="464"/>
                    </a:lnTo>
                    <a:lnTo>
                      <a:pt x="129" y="466"/>
                    </a:lnTo>
                    <a:lnTo>
                      <a:pt x="122" y="467"/>
                    </a:lnTo>
                    <a:lnTo>
                      <a:pt x="114" y="469"/>
                    </a:lnTo>
                    <a:lnTo>
                      <a:pt x="108" y="473"/>
                    </a:lnTo>
                    <a:lnTo>
                      <a:pt x="99" y="475"/>
                    </a:lnTo>
                    <a:lnTo>
                      <a:pt x="93" y="479"/>
                    </a:lnTo>
                    <a:lnTo>
                      <a:pt x="86" y="483"/>
                    </a:lnTo>
                    <a:lnTo>
                      <a:pt x="78" y="486"/>
                    </a:lnTo>
                    <a:lnTo>
                      <a:pt x="76" y="485"/>
                    </a:lnTo>
                    <a:lnTo>
                      <a:pt x="82" y="475"/>
                    </a:lnTo>
                    <a:lnTo>
                      <a:pt x="88" y="467"/>
                    </a:lnTo>
                    <a:lnTo>
                      <a:pt x="95" y="460"/>
                    </a:lnTo>
                    <a:lnTo>
                      <a:pt x="105" y="454"/>
                    </a:lnTo>
                    <a:lnTo>
                      <a:pt x="112" y="448"/>
                    </a:lnTo>
                    <a:lnTo>
                      <a:pt x="122" y="443"/>
                    </a:lnTo>
                    <a:lnTo>
                      <a:pt x="131" y="439"/>
                    </a:lnTo>
                    <a:lnTo>
                      <a:pt x="141" y="437"/>
                    </a:lnTo>
                    <a:lnTo>
                      <a:pt x="150" y="431"/>
                    </a:lnTo>
                    <a:lnTo>
                      <a:pt x="158" y="428"/>
                    </a:lnTo>
                    <a:lnTo>
                      <a:pt x="166" y="422"/>
                    </a:lnTo>
                    <a:lnTo>
                      <a:pt x="173" y="416"/>
                    </a:lnTo>
                    <a:lnTo>
                      <a:pt x="179" y="410"/>
                    </a:lnTo>
                    <a:lnTo>
                      <a:pt x="186" y="403"/>
                    </a:lnTo>
                    <a:lnTo>
                      <a:pt x="190" y="395"/>
                    </a:lnTo>
                    <a:lnTo>
                      <a:pt x="194" y="388"/>
                    </a:lnTo>
                    <a:lnTo>
                      <a:pt x="185" y="391"/>
                    </a:lnTo>
                    <a:lnTo>
                      <a:pt x="175" y="393"/>
                    </a:lnTo>
                    <a:lnTo>
                      <a:pt x="164" y="395"/>
                    </a:lnTo>
                    <a:lnTo>
                      <a:pt x="154" y="395"/>
                    </a:lnTo>
                    <a:lnTo>
                      <a:pt x="143" y="395"/>
                    </a:lnTo>
                    <a:lnTo>
                      <a:pt x="131" y="395"/>
                    </a:lnTo>
                    <a:lnTo>
                      <a:pt x="120" y="393"/>
                    </a:lnTo>
                    <a:lnTo>
                      <a:pt x="110" y="395"/>
                    </a:lnTo>
                    <a:lnTo>
                      <a:pt x="118" y="388"/>
                    </a:lnTo>
                    <a:lnTo>
                      <a:pt x="126" y="384"/>
                    </a:lnTo>
                    <a:lnTo>
                      <a:pt x="131" y="376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0" y="359"/>
                    </a:lnTo>
                    <a:lnTo>
                      <a:pt x="156" y="353"/>
                    </a:lnTo>
                    <a:lnTo>
                      <a:pt x="162" y="348"/>
                    </a:lnTo>
                    <a:lnTo>
                      <a:pt x="167" y="340"/>
                    </a:lnTo>
                    <a:lnTo>
                      <a:pt x="171" y="332"/>
                    </a:lnTo>
                    <a:lnTo>
                      <a:pt x="175" y="325"/>
                    </a:lnTo>
                    <a:lnTo>
                      <a:pt x="179" y="319"/>
                    </a:lnTo>
                    <a:lnTo>
                      <a:pt x="183" y="312"/>
                    </a:lnTo>
                    <a:lnTo>
                      <a:pt x="186" y="304"/>
                    </a:lnTo>
                    <a:lnTo>
                      <a:pt x="190" y="296"/>
                    </a:lnTo>
                    <a:lnTo>
                      <a:pt x="194" y="291"/>
                    </a:lnTo>
                    <a:lnTo>
                      <a:pt x="196" y="281"/>
                    </a:lnTo>
                    <a:lnTo>
                      <a:pt x="200" y="274"/>
                    </a:lnTo>
                    <a:lnTo>
                      <a:pt x="202" y="266"/>
                    </a:lnTo>
                    <a:lnTo>
                      <a:pt x="205" y="258"/>
                    </a:lnTo>
                    <a:lnTo>
                      <a:pt x="207" y="249"/>
                    </a:lnTo>
                    <a:lnTo>
                      <a:pt x="209" y="241"/>
                    </a:lnTo>
                    <a:lnTo>
                      <a:pt x="213" y="236"/>
                    </a:lnTo>
                    <a:lnTo>
                      <a:pt x="215" y="228"/>
                    </a:lnTo>
                    <a:lnTo>
                      <a:pt x="217" y="218"/>
                    </a:lnTo>
                    <a:lnTo>
                      <a:pt x="219" y="211"/>
                    </a:lnTo>
                    <a:lnTo>
                      <a:pt x="221" y="203"/>
                    </a:lnTo>
                    <a:lnTo>
                      <a:pt x="224" y="196"/>
                    </a:lnTo>
                    <a:lnTo>
                      <a:pt x="226" y="186"/>
                    </a:lnTo>
                    <a:lnTo>
                      <a:pt x="228" y="180"/>
                    </a:lnTo>
                    <a:lnTo>
                      <a:pt x="230" y="171"/>
                    </a:lnTo>
                    <a:lnTo>
                      <a:pt x="234" y="165"/>
                    </a:lnTo>
                    <a:lnTo>
                      <a:pt x="236" y="171"/>
                    </a:lnTo>
                    <a:lnTo>
                      <a:pt x="238" y="177"/>
                    </a:lnTo>
                    <a:lnTo>
                      <a:pt x="240" y="182"/>
                    </a:lnTo>
                    <a:lnTo>
                      <a:pt x="242" y="190"/>
                    </a:lnTo>
                    <a:lnTo>
                      <a:pt x="242" y="197"/>
                    </a:lnTo>
                    <a:lnTo>
                      <a:pt x="242" y="207"/>
                    </a:lnTo>
                    <a:lnTo>
                      <a:pt x="240" y="213"/>
                    </a:lnTo>
                    <a:lnTo>
                      <a:pt x="238" y="222"/>
                    </a:lnTo>
                    <a:lnTo>
                      <a:pt x="236" y="230"/>
                    </a:lnTo>
                    <a:lnTo>
                      <a:pt x="234" y="239"/>
                    </a:lnTo>
                    <a:lnTo>
                      <a:pt x="232" y="247"/>
                    </a:lnTo>
                    <a:lnTo>
                      <a:pt x="230" y="256"/>
                    </a:lnTo>
                    <a:lnTo>
                      <a:pt x="226" y="264"/>
                    </a:lnTo>
                    <a:lnTo>
                      <a:pt x="226" y="272"/>
                    </a:lnTo>
                    <a:lnTo>
                      <a:pt x="224" y="277"/>
                    </a:lnTo>
                    <a:lnTo>
                      <a:pt x="223" y="285"/>
                    </a:lnTo>
                    <a:lnTo>
                      <a:pt x="224" y="287"/>
                    </a:lnTo>
                    <a:lnTo>
                      <a:pt x="228" y="291"/>
                    </a:lnTo>
                    <a:lnTo>
                      <a:pt x="236" y="283"/>
                    </a:lnTo>
                    <a:lnTo>
                      <a:pt x="245" y="277"/>
                    </a:lnTo>
                    <a:lnTo>
                      <a:pt x="251" y="272"/>
                    </a:lnTo>
                    <a:lnTo>
                      <a:pt x="259" y="264"/>
                    </a:lnTo>
                    <a:lnTo>
                      <a:pt x="262" y="255"/>
                    </a:lnTo>
                    <a:lnTo>
                      <a:pt x="268" y="247"/>
                    </a:lnTo>
                    <a:lnTo>
                      <a:pt x="272" y="237"/>
                    </a:lnTo>
                    <a:lnTo>
                      <a:pt x="278" y="228"/>
                    </a:lnTo>
                    <a:lnTo>
                      <a:pt x="280" y="218"/>
                    </a:lnTo>
                    <a:lnTo>
                      <a:pt x="283" y="209"/>
                    </a:lnTo>
                    <a:lnTo>
                      <a:pt x="287" y="199"/>
                    </a:lnTo>
                    <a:lnTo>
                      <a:pt x="291" y="190"/>
                    </a:lnTo>
                    <a:lnTo>
                      <a:pt x="293" y="180"/>
                    </a:lnTo>
                    <a:lnTo>
                      <a:pt x="297" y="171"/>
                    </a:lnTo>
                    <a:lnTo>
                      <a:pt x="301" y="161"/>
                    </a:lnTo>
                    <a:lnTo>
                      <a:pt x="308" y="154"/>
                    </a:lnTo>
                    <a:lnTo>
                      <a:pt x="314" y="154"/>
                    </a:lnTo>
                    <a:lnTo>
                      <a:pt x="314" y="159"/>
                    </a:lnTo>
                    <a:lnTo>
                      <a:pt x="316" y="165"/>
                    </a:lnTo>
                    <a:lnTo>
                      <a:pt x="318" y="173"/>
                    </a:lnTo>
                    <a:lnTo>
                      <a:pt x="318" y="178"/>
                    </a:lnTo>
                    <a:lnTo>
                      <a:pt x="318" y="184"/>
                    </a:lnTo>
                    <a:lnTo>
                      <a:pt x="318" y="190"/>
                    </a:lnTo>
                    <a:lnTo>
                      <a:pt x="318" y="196"/>
                    </a:lnTo>
                    <a:lnTo>
                      <a:pt x="318" y="203"/>
                    </a:lnTo>
                    <a:lnTo>
                      <a:pt x="316" y="213"/>
                    </a:lnTo>
                    <a:lnTo>
                      <a:pt x="314" y="226"/>
                    </a:lnTo>
                    <a:lnTo>
                      <a:pt x="312" y="230"/>
                    </a:lnTo>
                    <a:lnTo>
                      <a:pt x="310" y="237"/>
                    </a:lnTo>
                    <a:lnTo>
                      <a:pt x="310" y="241"/>
                    </a:lnTo>
                    <a:lnTo>
                      <a:pt x="308" y="249"/>
                    </a:lnTo>
                    <a:lnTo>
                      <a:pt x="302" y="258"/>
                    </a:lnTo>
                    <a:lnTo>
                      <a:pt x="301" y="272"/>
                    </a:lnTo>
                    <a:lnTo>
                      <a:pt x="295" y="281"/>
                    </a:lnTo>
                    <a:lnTo>
                      <a:pt x="291" y="293"/>
                    </a:lnTo>
                    <a:lnTo>
                      <a:pt x="289" y="304"/>
                    </a:lnTo>
                    <a:lnTo>
                      <a:pt x="285" y="315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83" y="332"/>
                    </a:lnTo>
                    <a:lnTo>
                      <a:pt x="283" y="340"/>
                    </a:lnTo>
                    <a:lnTo>
                      <a:pt x="293" y="336"/>
                    </a:lnTo>
                    <a:lnTo>
                      <a:pt x="302" y="332"/>
                    </a:lnTo>
                    <a:lnTo>
                      <a:pt x="310" y="327"/>
                    </a:lnTo>
                    <a:lnTo>
                      <a:pt x="320" y="319"/>
                    </a:lnTo>
                    <a:lnTo>
                      <a:pt x="325" y="310"/>
                    </a:lnTo>
                    <a:lnTo>
                      <a:pt x="333" y="300"/>
                    </a:lnTo>
                    <a:lnTo>
                      <a:pt x="339" y="291"/>
                    </a:lnTo>
                    <a:lnTo>
                      <a:pt x="346" y="279"/>
                    </a:lnTo>
                    <a:lnTo>
                      <a:pt x="348" y="274"/>
                    </a:lnTo>
                    <a:lnTo>
                      <a:pt x="350" y="266"/>
                    </a:lnTo>
                    <a:lnTo>
                      <a:pt x="352" y="260"/>
                    </a:lnTo>
                    <a:lnTo>
                      <a:pt x="356" y="255"/>
                    </a:lnTo>
                    <a:lnTo>
                      <a:pt x="358" y="249"/>
                    </a:lnTo>
                    <a:lnTo>
                      <a:pt x="359" y="241"/>
                    </a:lnTo>
                    <a:lnTo>
                      <a:pt x="361" y="236"/>
                    </a:lnTo>
                    <a:lnTo>
                      <a:pt x="365" y="230"/>
                    </a:lnTo>
                    <a:lnTo>
                      <a:pt x="365" y="224"/>
                    </a:lnTo>
                    <a:lnTo>
                      <a:pt x="369" y="218"/>
                    </a:lnTo>
                    <a:lnTo>
                      <a:pt x="371" y="213"/>
                    </a:lnTo>
                    <a:lnTo>
                      <a:pt x="373" y="207"/>
                    </a:lnTo>
                    <a:lnTo>
                      <a:pt x="377" y="196"/>
                    </a:lnTo>
                    <a:lnTo>
                      <a:pt x="382" y="188"/>
                    </a:lnTo>
                    <a:lnTo>
                      <a:pt x="390" y="190"/>
                    </a:lnTo>
                    <a:lnTo>
                      <a:pt x="397" y="194"/>
                    </a:lnTo>
                    <a:lnTo>
                      <a:pt x="401" y="199"/>
                    </a:lnTo>
                    <a:lnTo>
                      <a:pt x="405" y="207"/>
                    </a:lnTo>
                    <a:lnTo>
                      <a:pt x="407" y="213"/>
                    </a:lnTo>
                    <a:lnTo>
                      <a:pt x="407" y="220"/>
                    </a:lnTo>
                    <a:lnTo>
                      <a:pt x="407" y="230"/>
                    </a:lnTo>
                    <a:lnTo>
                      <a:pt x="405" y="239"/>
                    </a:lnTo>
                    <a:lnTo>
                      <a:pt x="401" y="249"/>
                    </a:lnTo>
                    <a:lnTo>
                      <a:pt x="399" y="260"/>
                    </a:lnTo>
                    <a:lnTo>
                      <a:pt x="394" y="272"/>
                    </a:lnTo>
                    <a:lnTo>
                      <a:pt x="390" y="283"/>
                    </a:lnTo>
                    <a:lnTo>
                      <a:pt x="384" y="293"/>
                    </a:lnTo>
                    <a:lnTo>
                      <a:pt x="380" y="304"/>
                    </a:lnTo>
                    <a:lnTo>
                      <a:pt x="377" y="310"/>
                    </a:lnTo>
                    <a:lnTo>
                      <a:pt x="375" y="317"/>
                    </a:lnTo>
                    <a:lnTo>
                      <a:pt x="373" y="321"/>
                    </a:lnTo>
                    <a:lnTo>
                      <a:pt x="371" y="329"/>
                    </a:lnTo>
                    <a:lnTo>
                      <a:pt x="363" y="338"/>
                    </a:lnTo>
                    <a:lnTo>
                      <a:pt x="358" y="348"/>
                    </a:lnTo>
                    <a:lnTo>
                      <a:pt x="354" y="355"/>
                    </a:lnTo>
                    <a:lnTo>
                      <a:pt x="350" y="365"/>
                    </a:lnTo>
                    <a:lnTo>
                      <a:pt x="346" y="372"/>
                    </a:lnTo>
                    <a:lnTo>
                      <a:pt x="344" y="380"/>
                    </a:lnTo>
                    <a:lnTo>
                      <a:pt x="342" y="386"/>
                    </a:lnTo>
                    <a:lnTo>
                      <a:pt x="342" y="391"/>
                    </a:lnTo>
                    <a:lnTo>
                      <a:pt x="344" y="397"/>
                    </a:lnTo>
                    <a:lnTo>
                      <a:pt x="354" y="399"/>
                    </a:lnTo>
                    <a:lnTo>
                      <a:pt x="358" y="395"/>
                    </a:lnTo>
                    <a:lnTo>
                      <a:pt x="367" y="393"/>
                    </a:lnTo>
                    <a:lnTo>
                      <a:pt x="373" y="390"/>
                    </a:lnTo>
                    <a:lnTo>
                      <a:pt x="377" y="386"/>
                    </a:lnTo>
                    <a:lnTo>
                      <a:pt x="384" y="384"/>
                    </a:lnTo>
                    <a:lnTo>
                      <a:pt x="392" y="380"/>
                    </a:lnTo>
                    <a:lnTo>
                      <a:pt x="397" y="369"/>
                    </a:lnTo>
                    <a:lnTo>
                      <a:pt x="401" y="359"/>
                    </a:lnTo>
                    <a:lnTo>
                      <a:pt x="407" y="350"/>
                    </a:lnTo>
                    <a:lnTo>
                      <a:pt x="413" y="340"/>
                    </a:lnTo>
                    <a:lnTo>
                      <a:pt x="418" y="329"/>
                    </a:lnTo>
                    <a:lnTo>
                      <a:pt x="426" y="319"/>
                    </a:lnTo>
                    <a:lnTo>
                      <a:pt x="432" y="310"/>
                    </a:lnTo>
                    <a:lnTo>
                      <a:pt x="437" y="300"/>
                    </a:lnTo>
                    <a:lnTo>
                      <a:pt x="445" y="289"/>
                    </a:lnTo>
                    <a:lnTo>
                      <a:pt x="451" y="279"/>
                    </a:lnTo>
                    <a:lnTo>
                      <a:pt x="458" y="270"/>
                    </a:lnTo>
                    <a:lnTo>
                      <a:pt x="466" y="260"/>
                    </a:lnTo>
                    <a:lnTo>
                      <a:pt x="474" y="251"/>
                    </a:lnTo>
                    <a:lnTo>
                      <a:pt x="481" y="241"/>
                    </a:lnTo>
                    <a:lnTo>
                      <a:pt x="489" y="232"/>
                    </a:lnTo>
                    <a:lnTo>
                      <a:pt x="498" y="226"/>
                    </a:lnTo>
                    <a:lnTo>
                      <a:pt x="498" y="232"/>
                    </a:lnTo>
                    <a:lnTo>
                      <a:pt x="498" y="241"/>
                    </a:lnTo>
                    <a:lnTo>
                      <a:pt x="496" y="249"/>
                    </a:lnTo>
                    <a:lnTo>
                      <a:pt x="494" y="258"/>
                    </a:lnTo>
                    <a:lnTo>
                      <a:pt x="493" y="266"/>
                    </a:lnTo>
                    <a:lnTo>
                      <a:pt x="491" y="274"/>
                    </a:lnTo>
                    <a:lnTo>
                      <a:pt x="487" y="283"/>
                    </a:lnTo>
                    <a:lnTo>
                      <a:pt x="483" y="291"/>
                    </a:lnTo>
                    <a:lnTo>
                      <a:pt x="477" y="298"/>
                    </a:lnTo>
                    <a:lnTo>
                      <a:pt x="474" y="308"/>
                    </a:lnTo>
                    <a:lnTo>
                      <a:pt x="470" y="313"/>
                    </a:lnTo>
                    <a:lnTo>
                      <a:pt x="466" y="323"/>
                    </a:lnTo>
                    <a:lnTo>
                      <a:pt x="460" y="331"/>
                    </a:lnTo>
                    <a:lnTo>
                      <a:pt x="454" y="340"/>
                    </a:lnTo>
                    <a:lnTo>
                      <a:pt x="449" y="348"/>
                    </a:lnTo>
                    <a:lnTo>
                      <a:pt x="445" y="357"/>
                    </a:lnTo>
                    <a:lnTo>
                      <a:pt x="439" y="365"/>
                    </a:lnTo>
                    <a:lnTo>
                      <a:pt x="435" y="372"/>
                    </a:lnTo>
                    <a:lnTo>
                      <a:pt x="430" y="380"/>
                    </a:lnTo>
                    <a:lnTo>
                      <a:pt x="426" y="390"/>
                    </a:lnTo>
                    <a:lnTo>
                      <a:pt x="420" y="397"/>
                    </a:lnTo>
                    <a:lnTo>
                      <a:pt x="416" y="405"/>
                    </a:lnTo>
                    <a:lnTo>
                      <a:pt x="413" y="412"/>
                    </a:lnTo>
                    <a:lnTo>
                      <a:pt x="411" y="422"/>
                    </a:lnTo>
                    <a:lnTo>
                      <a:pt x="407" y="429"/>
                    </a:lnTo>
                    <a:lnTo>
                      <a:pt x="403" y="439"/>
                    </a:lnTo>
                    <a:lnTo>
                      <a:pt x="401" y="447"/>
                    </a:lnTo>
                    <a:lnTo>
                      <a:pt x="401" y="456"/>
                    </a:lnTo>
                    <a:lnTo>
                      <a:pt x="401" y="466"/>
                    </a:lnTo>
                    <a:lnTo>
                      <a:pt x="403" y="473"/>
                    </a:lnTo>
                    <a:lnTo>
                      <a:pt x="403" y="483"/>
                    </a:lnTo>
                    <a:lnTo>
                      <a:pt x="407" y="492"/>
                    </a:lnTo>
                    <a:lnTo>
                      <a:pt x="409" y="485"/>
                    </a:lnTo>
                    <a:lnTo>
                      <a:pt x="413" y="479"/>
                    </a:lnTo>
                    <a:lnTo>
                      <a:pt x="416" y="471"/>
                    </a:lnTo>
                    <a:lnTo>
                      <a:pt x="420" y="464"/>
                    </a:lnTo>
                    <a:lnTo>
                      <a:pt x="426" y="456"/>
                    </a:lnTo>
                    <a:lnTo>
                      <a:pt x="430" y="447"/>
                    </a:lnTo>
                    <a:lnTo>
                      <a:pt x="435" y="439"/>
                    </a:lnTo>
                    <a:lnTo>
                      <a:pt x="441" y="429"/>
                    </a:lnTo>
                    <a:lnTo>
                      <a:pt x="447" y="420"/>
                    </a:lnTo>
                    <a:lnTo>
                      <a:pt x="453" y="412"/>
                    </a:lnTo>
                    <a:lnTo>
                      <a:pt x="458" y="403"/>
                    </a:lnTo>
                    <a:lnTo>
                      <a:pt x="464" y="395"/>
                    </a:lnTo>
                    <a:lnTo>
                      <a:pt x="470" y="388"/>
                    </a:lnTo>
                    <a:lnTo>
                      <a:pt x="475" y="380"/>
                    </a:lnTo>
                    <a:lnTo>
                      <a:pt x="481" y="374"/>
                    </a:lnTo>
                    <a:lnTo>
                      <a:pt x="487" y="369"/>
                    </a:lnTo>
                    <a:lnTo>
                      <a:pt x="493" y="363"/>
                    </a:lnTo>
                    <a:lnTo>
                      <a:pt x="496" y="357"/>
                    </a:lnTo>
                    <a:lnTo>
                      <a:pt x="500" y="353"/>
                    </a:lnTo>
                    <a:lnTo>
                      <a:pt x="504" y="350"/>
                    </a:lnTo>
                    <a:lnTo>
                      <a:pt x="512" y="346"/>
                    </a:lnTo>
                    <a:lnTo>
                      <a:pt x="515" y="350"/>
                    </a:lnTo>
                    <a:lnTo>
                      <a:pt x="515" y="351"/>
                    </a:lnTo>
                    <a:lnTo>
                      <a:pt x="515" y="355"/>
                    </a:lnTo>
                    <a:lnTo>
                      <a:pt x="513" y="363"/>
                    </a:lnTo>
                    <a:lnTo>
                      <a:pt x="513" y="369"/>
                    </a:lnTo>
                    <a:lnTo>
                      <a:pt x="510" y="378"/>
                    </a:lnTo>
                    <a:lnTo>
                      <a:pt x="506" y="390"/>
                    </a:lnTo>
                    <a:lnTo>
                      <a:pt x="504" y="395"/>
                    </a:lnTo>
                    <a:lnTo>
                      <a:pt x="502" y="403"/>
                    </a:lnTo>
                    <a:lnTo>
                      <a:pt x="498" y="410"/>
                    </a:lnTo>
                    <a:lnTo>
                      <a:pt x="496" y="420"/>
                    </a:lnTo>
                    <a:lnTo>
                      <a:pt x="489" y="429"/>
                    </a:lnTo>
                    <a:lnTo>
                      <a:pt x="481" y="441"/>
                    </a:lnTo>
                    <a:lnTo>
                      <a:pt x="474" y="450"/>
                    </a:lnTo>
                    <a:lnTo>
                      <a:pt x="466" y="462"/>
                    </a:lnTo>
                    <a:lnTo>
                      <a:pt x="464" y="467"/>
                    </a:lnTo>
                    <a:lnTo>
                      <a:pt x="460" y="473"/>
                    </a:lnTo>
                    <a:lnTo>
                      <a:pt x="456" y="479"/>
                    </a:lnTo>
                    <a:lnTo>
                      <a:pt x="456" y="486"/>
                    </a:lnTo>
                    <a:lnTo>
                      <a:pt x="454" y="492"/>
                    </a:lnTo>
                    <a:lnTo>
                      <a:pt x="454" y="500"/>
                    </a:lnTo>
                    <a:lnTo>
                      <a:pt x="454" y="505"/>
                    </a:lnTo>
                    <a:lnTo>
                      <a:pt x="456" y="513"/>
                    </a:lnTo>
                    <a:lnTo>
                      <a:pt x="458" y="513"/>
                    </a:lnTo>
                    <a:lnTo>
                      <a:pt x="462" y="513"/>
                    </a:lnTo>
                    <a:lnTo>
                      <a:pt x="472" y="504"/>
                    </a:lnTo>
                    <a:lnTo>
                      <a:pt x="483" y="492"/>
                    </a:lnTo>
                    <a:lnTo>
                      <a:pt x="493" y="483"/>
                    </a:lnTo>
                    <a:lnTo>
                      <a:pt x="502" y="471"/>
                    </a:lnTo>
                    <a:lnTo>
                      <a:pt x="510" y="460"/>
                    </a:lnTo>
                    <a:lnTo>
                      <a:pt x="519" y="448"/>
                    </a:lnTo>
                    <a:lnTo>
                      <a:pt x="527" y="439"/>
                    </a:lnTo>
                    <a:lnTo>
                      <a:pt x="536" y="428"/>
                    </a:lnTo>
                    <a:lnTo>
                      <a:pt x="544" y="416"/>
                    </a:lnTo>
                    <a:lnTo>
                      <a:pt x="551" y="405"/>
                    </a:lnTo>
                    <a:lnTo>
                      <a:pt x="561" y="393"/>
                    </a:lnTo>
                    <a:lnTo>
                      <a:pt x="570" y="384"/>
                    </a:lnTo>
                    <a:lnTo>
                      <a:pt x="578" y="372"/>
                    </a:lnTo>
                    <a:lnTo>
                      <a:pt x="588" y="361"/>
                    </a:lnTo>
                    <a:lnTo>
                      <a:pt x="599" y="350"/>
                    </a:lnTo>
                    <a:lnTo>
                      <a:pt x="610" y="340"/>
                    </a:lnTo>
                    <a:lnTo>
                      <a:pt x="610" y="348"/>
                    </a:lnTo>
                    <a:lnTo>
                      <a:pt x="610" y="355"/>
                    </a:lnTo>
                    <a:lnTo>
                      <a:pt x="610" y="365"/>
                    </a:lnTo>
                    <a:lnTo>
                      <a:pt x="608" y="372"/>
                    </a:lnTo>
                    <a:lnTo>
                      <a:pt x="605" y="380"/>
                    </a:lnTo>
                    <a:lnTo>
                      <a:pt x="603" y="388"/>
                    </a:lnTo>
                    <a:lnTo>
                      <a:pt x="601" y="395"/>
                    </a:lnTo>
                    <a:lnTo>
                      <a:pt x="597" y="405"/>
                    </a:lnTo>
                    <a:lnTo>
                      <a:pt x="593" y="410"/>
                    </a:lnTo>
                    <a:lnTo>
                      <a:pt x="589" y="418"/>
                    </a:lnTo>
                    <a:lnTo>
                      <a:pt x="584" y="426"/>
                    </a:lnTo>
                    <a:lnTo>
                      <a:pt x="580" y="433"/>
                    </a:lnTo>
                    <a:lnTo>
                      <a:pt x="576" y="439"/>
                    </a:lnTo>
                    <a:lnTo>
                      <a:pt x="572" y="447"/>
                    </a:lnTo>
                    <a:lnTo>
                      <a:pt x="569" y="454"/>
                    </a:lnTo>
                    <a:lnTo>
                      <a:pt x="567" y="462"/>
                    </a:lnTo>
                    <a:lnTo>
                      <a:pt x="563" y="467"/>
                    </a:lnTo>
                    <a:lnTo>
                      <a:pt x="559" y="475"/>
                    </a:lnTo>
                    <a:lnTo>
                      <a:pt x="557" y="481"/>
                    </a:lnTo>
                    <a:lnTo>
                      <a:pt x="557" y="488"/>
                    </a:lnTo>
                    <a:lnTo>
                      <a:pt x="555" y="494"/>
                    </a:lnTo>
                    <a:lnTo>
                      <a:pt x="555" y="502"/>
                    </a:lnTo>
                    <a:lnTo>
                      <a:pt x="557" y="507"/>
                    </a:lnTo>
                    <a:lnTo>
                      <a:pt x="559" y="515"/>
                    </a:lnTo>
                    <a:lnTo>
                      <a:pt x="561" y="521"/>
                    </a:lnTo>
                    <a:lnTo>
                      <a:pt x="567" y="528"/>
                    </a:lnTo>
                    <a:lnTo>
                      <a:pt x="570" y="534"/>
                    </a:lnTo>
                    <a:lnTo>
                      <a:pt x="578" y="542"/>
                    </a:lnTo>
                    <a:lnTo>
                      <a:pt x="586" y="549"/>
                    </a:lnTo>
                    <a:lnTo>
                      <a:pt x="595" y="557"/>
                    </a:lnTo>
                    <a:lnTo>
                      <a:pt x="601" y="559"/>
                    </a:lnTo>
                    <a:lnTo>
                      <a:pt x="607" y="564"/>
                    </a:lnTo>
                    <a:lnTo>
                      <a:pt x="614" y="566"/>
                    </a:lnTo>
                    <a:lnTo>
                      <a:pt x="622" y="570"/>
                    </a:lnTo>
                    <a:lnTo>
                      <a:pt x="626" y="570"/>
                    </a:lnTo>
                    <a:lnTo>
                      <a:pt x="633" y="572"/>
                    </a:lnTo>
                    <a:lnTo>
                      <a:pt x="639" y="574"/>
                    </a:lnTo>
                    <a:lnTo>
                      <a:pt x="645" y="574"/>
                    </a:lnTo>
                    <a:lnTo>
                      <a:pt x="650" y="574"/>
                    </a:lnTo>
                    <a:lnTo>
                      <a:pt x="658" y="574"/>
                    </a:lnTo>
                    <a:lnTo>
                      <a:pt x="662" y="574"/>
                    </a:lnTo>
                    <a:lnTo>
                      <a:pt x="669" y="576"/>
                    </a:lnTo>
                    <a:lnTo>
                      <a:pt x="679" y="574"/>
                    </a:lnTo>
                    <a:lnTo>
                      <a:pt x="690" y="574"/>
                    </a:lnTo>
                    <a:lnTo>
                      <a:pt x="700" y="574"/>
                    </a:lnTo>
                    <a:lnTo>
                      <a:pt x="711" y="572"/>
                    </a:lnTo>
                    <a:lnTo>
                      <a:pt x="721" y="568"/>
                    </a:lnTo>
                    <a:lnTo>
                      <a:pt x="730" y="566"/>
                    </a:lnTo>
                    <a:lnTo>
                      <a:pt x="738" y="563"/>
                    </a:lnTo>
                    <a:lnTo>
                      <a:pt x="747" y="559"/>
                    </a:lnTo>
                    <a:lnTo>
                      <a:pt x="755" y="555"/>
                    </a:lnTo>
                    <a:lnTo>
                      <a:pt x="764" y="551"/>
                    </a:lnTo>
                    <a:lnTo>
                      <a:pt x="772" y="545"/>
                    </a:lnTo>
                    <a:lnTo>
                      <a:pt x="781" y="542"/>
                    </a:lnTo>
                    <a:lnTo>
                      <a:pt x="789" y="534"/>
                    </a:lnTo>
                    <a:lnTo>
                      <a:pt x="797" y="528"/>
                    </a:lnTo>
                    <a:lnTo>
                      <a:pt x="804" y="523"/>
                    </a:lnTo>
                    <a:lnTo>
                      <a:pt x="810" y="515"/>
                    </a:lnTo>
                    <a:lnTo>
                      <a:pt x="818" y="509"/>
                    </a:lnTo>
                    <a:lnTo>
                      <a:pt x="825" y="502"/>
                    </a:lnTo>
                    <a:lnTo>
                      <a:pt x="831" y="494"/>
                    </a:lnTo>
                    <a:lnTo>
                      <a:pt x="839" y="486"/>
                    </a:lnTo>
                    <a:lnTo>
                      <a:pt x="844" y="477"/>
                    </a:lnTo>
                    <a:lnTo>
                      <a:pt x="852" y="469"/>
                    </a:lnTo>
                    <a:lnTo>
                      <a:pt x="859" y="460"/>
                    </a:lnTo>
                    <a:lnTo>
                      <a:pt x="865" y="452"/>
                    </a:lnTo>
                    <a:lnTo>
                      <a:pt x="873" y="443"/>
                    </a:lnTo>
                    <a:lnTo>
                      <a:pt x="878" y="433"/>
                    </a:lnTo>
                    <a:lnTo>
                      <a:pt x="886" y="424"/>
                    </a:lnTo>
                    <a:lnTo>
                      <a:pt x="894" y="416"/>
                    </a:lnTo>
                    <a:lnTo>
                      <a:pt x="888" y="412"/>
                    </a:lnTo>
                    <a:lnTo>
                      <a:pt x="880" y="410"/>
                    </a:lnTo>
                    <a:lnTo>
                      <a:pt x="873" y="410"/>
                    </a:lnTo>
                    <a:lnTo>
                      <a:pt x="867" y="410"/>
                    </a:lnTo>
                    <a:lnTo>
                      <a:pt x="859" y="410"/>
                    </a:lnTo>
                    <a:lnTo>
                      <a:pt x="852" y="410"/>
                    </a:lnTo>
                    <a:lnTo>
                      <a:pt x="846" y="410"/>
                    </a:lnTo>
                    <a:lnTo>
                      <a:pt x="839" y="409"/>
                    </a:lnTo>
                    <a:lnTo>
                      <a:pt x="839" y="405"/>
                    </a:lnTo>
                    <a:lnTo>
                      <a:pt x="839" y="403"/>
                    </a:lnTo>
                    <a:lnTo>
                      <a:pt x="846" y="401"/>
                    </a:lnTo>
                    <a:lnTo>
                      <a:pt x="854" y="397"/>
                    </a:lnTo>
                    <a:lnTo>
                      <a:pt x="861" y="395"/>
                    </a:lnTo>
                    <a:lnTo>
                      <a:pt x="869" y="393"/>
                    </a:lnTo>
                    <a:lnTo>
                      <a:pt x="877" y="390"/>
                    </a:lnTo>
                    <a:lnTo>
                      <a:pt x="884" y="388"/>
                    </a:lnTo>
                    <a:lnTo>
                      <a:pt x="892" y="386"/>
                    </a:lnTo>
                    <a:lnTo>
                      <a:pt x="901" y="384"/>
                    </a:lnTo>
                    <a:lnTo>
                      <a:pt x="909" y="378"/>
                    </a:lnTo>
                    <a:lnTo>
                      <a:pt x="916" y="376"/>
                    </a:lnTo>
                    <a:lnTo>
                      <a:pt x="922" y="372"/>
                    </a:lnTo>
                    <a:lnTo>
                      <a:pt x="930" y="369"/>
                    </a:lnTo>
                    <a:lnTo>
                      <a:pt x="935" y="363"/>
                    </a:lnTo>
                    <a:lnTo>
                      <a:pt x="943" y="357"/>
                    </a:lnTo>
                    <a:lnTo>
                      <a:pt x="947" y="350"/>
                    </a:lnTo>
                    <a:lnTo>
                      <a:pt x="954" y="344"/>
                    </a:lnTo>
                    <a:lnTo>
                      <a:pt x="943" y="340"/>
                    </a:lnTo>
                    <a:lnTo>
                      <a:pt x="934" y="340"/>
                    </a:lnTo>
                    <a:lnTo>
                      <a:pt x="926" y="338"/>
                    </a:lnTo>
                    <a:lnTo>
                      <a:pt x="920" y="338"/>
                    </a:lnTo>
                    <a:lnTo>
                      <a:pt x="915" y="338"/>
                    </a:lnTo>
                    <a:lnTo>
                      <a:pt x="909" y="340"/>
                    </a:lnTo>
                    <a:lnTo>
                      <a:pt x="903" y="340"/>
                    </a:lnTo>
                    <a:lnTo>
                      <a:pt x="897" y="340"/>
                    </a:lnTo>
                    <a:lnTo>
                      <a:pt x="890" y="340"/>
                    </a:lnTo>
                    <a:lnTo>
                      <a:pt x="884" y="340"/>
                    </a:lnTo>
                    <a:lnTo>
                      <a:pt x="878" y="338"/>
                    </a:lnTo>
                    <a:lnTo>
                      <a:pt x="873" y="338"/>
                    </a:lnTo>
                    <a:lnTo>
                      <a:pt x="867" y="338"/>
                    </a:lnTo>
                    <a:lnTo>
                      <a:pt x="863" y="338"/>
                    </a:lnTo>
                    <a:lnTo>
                      <a:pt x="863" y="334"/>
                    </a:lnTo>
                    <a:lnTo>
                      <a:pt x="863" y="332"/>
                    </a:lnTo>
                    <a:lnTo>
                      <a:pt x="869" y="331"/>
                    </a:lnTo>
                    <a:lnTo>
                      <a:pt x="875" y="331"/>
                    </a:lnTo>
                    <a:lnTo>
                      <a:pt x="880" y="329"/>
                    </a:lnTo>
                    <a:lnTo>
                      <a:pt x="888" y="329"/>
                    </a:lnTo>
                    <a:lnTo>
                      <a:pt x="892" y="329"/>
                    </a:lnTo>
                    <a:lnTo>
                      <a:pt x="899" y="329"/>
                    </a:lnTo>
                    <a:lnTo>
                      <a:pt x="905" y="327"/>
                    </a:lnTo>
                    <a:lnTo>
                      <a:pt x="911" y="327"/>
                    </a:lnTo>
                    <a:lnTo>
                      <a:pt x="916" y="325"/>
                    </a:lnTo>
                    <a:lnTo>
                      <a:pt x="922" y="323"/>
                    </a:lnTo>
                    <a:lnTo>
                      <a:pt x="928" y="323"/>
                    </a:lnTo>
                    <a:lnTo>
                      <a:pt x="935" y="321"/>
                    </a:lnTo>
                    <a:lnTo>
                      <a:pt x="939" y="319"/>
                    </a:lnTo>
                    <a:lnTo>
                      <a:pt x="947" y="317"/>
                    </a:lnTo>
                    <a:lnTo>
                      <a:pt x="953" y="315"/>
                    </a:lnTo>
                    <a:lnTo>
                      <a:pt x="958" y="313"/>
                    </a:lnTo>
                    <a:lnTo>
                      <a:pt x="958" y="312"/>
                    </a:lnTo>
                    <a:lnTo>
                      <a:pt x="958" y="310"/>
                    </a:lnTo>
                    <a:lnTo>
                      <a:pt x="947" y="308"/>
                    </a:lnTo>
                    <a:lnTo>
                      <a:pt x="937" y="308"/>
                    </a:lnTo>
                    <a:lnTo>
                      <a:pt x="928" y="306"/>
                    </a:lnTo>
                    <a:lnTo>
                      <a:pt x="918" y="306"/>
                    </a:lnTo>
                    <a:lnTo>
                      <a:pt x="909" y="304"/>
                    </a:lnTo>
                    <a:lnTo>
                      <a:pt x="899" y="302"/>
                    </a:lnTo>
                    <a:lnTo>
                      <a:pt x="890" y="300"/>
                    </a:lnTo>
                    <a:lnTo>
                      <a:pt x="880" y="300"/>
                    </a:lnTo>
                    <a:lnTo>
                      <a:pt x="871" y="296"/>
                    </a:lnTo>
                    <a:lnTo>
                      <a:pt x="861" y="294"/>
                    </a:lnTo>
                    <a:lnTo>
                      <a:pt x="852" y="293"/>
                    </a:lnTo>
                    <a:lnTo>
                      <a:pt x="842" y="293"/>
                    </a:lnTo>
                    <a:lnTo>
                      <a:pt x="831" y="291"/>
                    </a:lnTo>
                    <a:lnTo>
                      <a:pt x="821" y="291"/>
                    </a:lnTo>
                    <a:lnTo>
                      <a:pt x="812" y="291"/>
                    </a:lnTo>
                    <a:lnTo>
                      <a:pt x="802" y="291"/>
                    </a:lnTo>
                    <a:lnTo>
                      <a:pt x="802" y="287"/>
                    </a:lnTo>
                    <a:lnTo>
                      <a:pt x="802" y="285"/>
                    </a:lnTo>
                    <a:lnTo>
                      <a:pt x="808" y="283"/>
                    </a:lnTo>
                    <a:lnTo>
                      <a:pt x="816" y="283"/>
                    </a:lnTo>
                    <a:lnTo>
                      <a:pt x="823" y="281"/>
                    </a:lnTo>
                    <a:lnTo>
                      <a:pt x="829" y="281"/>
                    </a:lnTo>
                    <a:lnTo>
                      <a:pt x="837" y="281"/>
                    </a:lnTo>
                    <a:lnTo>
                      <a:pt x="846" y="281"/>
                    </a:lnTo>
                    <a:lnTo>
                      <a:pt x="854" y="281"/>
                    </a:lnTo>
                    <a:lnTo>
                      <a:pt x="861" y="283"/>
                    </a:lnTo>
                    <a:lnTo>
                      <a:pt x="869" y="283"/>
                    </a:lnTo>
                    <a:lnTo>
                      <a:pt x="877" y="283"/>
                    </a:lnTo>
                    <a:lnTo>
                      <a:pt x="884" y="283"/>
                    </a:lnTo>
                    <a:lnTo>
                      <a:pt x="892" y="283"/>
                    </a:lnTo>
                    <a:lnTo>
                      <a:pt x="899" y="281"/>
                    </a:lnTo>
                    <a:lnTo>
                      <a:pt x="907" y="281"/>
                    </a:lnTo>
                    <a:lnTo>
                      <a:pt x="915" y="281"/>
                    </a:lnTo>
                    <a:lnTo>
                      <a:pt x="922" y="281"/>
                    </a:lnTo>
                    <a:lnTo>
                      <a:pt x="922" y="277"/>
                    </a:lnTo>
                    <a:lnTo>
                      <a:pt x="922" y="275"/>
                    </a:lnTo>
                    <a:lnTo>
                      <a:pt x="915" y="268"/>
                    </a:lnTo>
                    <a:lnTo>
                      <a:pt x="907" y="264"/>
                    </a:lnTo>
                    <a:lnTo>
                      <a:pt x="897" y="260"/>
                    </a:lnTo>
                    <a:lnTo>
                      <a:pt x="890" y="256"/>
                    </a:lnTo>
                    <a:lnTo>
                      <a:pt x="882" y="253"/>
                    </a:lnTo>
                    <a:lnTo>
                      <a:pt x="873" y="249"/>
                    </a:lnTo>
                    <a:lnTo>
                      <a:pt x="865" y="247"/>
                    </a:lnTo>
                    <a:lnTo>
                      <a:pt x="858" y="245"/>
                    </a:lnTo>
                    <a:lnTo>
                      <a:pt x="848" y="241"/>
                    </a:lnTo>
                    <a:lnTo>
                      <a:pt x="840" y="237"/>
                    </a:lnTo>
                    <a:lnTo>
                      <a:pt x="831" y="236"/>
                    </a:lnTo>
                    <a:lnTo>
                      <a:pt x="823" y="234"/>
                    </a:lnTo>
                    <a:lnTo>
                      <a:pt x="814" y="230"/>
                    </a:lnTo>
                    <a:lnTo>
                      <a:pt x="806" y="230"/>
                    </a:lnTo>
                    <a:lnTo>
                      <a:pt x="797" y="226"/>
                    </a:lnTo>
                    <a:lnTo>
                      <a:pt x="789" y="226"/>
                    </a:lnTo>
                    <a:lnTo>
                      <a:pt x="793" y="217"/>
                    </a:lnTo>
                    <a:lnTo>
                      <a:pt x="799" y="211"/>
                    </a:lnTo>
                    <a:lnTo>
                      <a:pt x="806" y="203"/>
                    </a:lnTo>
                    <a:lnTo>
                      <a:pt x="818" y="201"/>
                    </a:lnTo>
                    <a:lnTo>
                      <a:pt x="821" y="199"/>
                    </a:lnTo>
                    <a:lnTo>
                      <a:pt x="827" y="197"/>
                    </a:lnTo>
                    <a:lnTo>
                      <a:pt x="833" y="196"/>
                    </a:lnTo>
                    <a:lnTo>
                      <a:pt x="839" y="194"/>
                    </a:lnTo>
                    <a:lnTo>
                      <a:pt x="846" y="194"/>
                    </a:lnTo>
                    <a:lnTo>
                      <a:pt x="852" y="192"/>
                    </a:lnTo>
                    <a:lnTo>
                      <a:pt x="859" y="192"/>
                    </a:lnTo>
                    <a:lnTo>
                      <a:pt x="867" y="192"/>
                    </a:lnTo>
                    <a:lnTo>
                      <a:pt x="873" y="192"/>
                    </a:lnTo>
                    <a:lnTo>
                      <a:pt x="880" y="190"/>
                    </a:lnTo>
                    <a:lnTo>
                      <a:pt x="888" y="190"/>
                    </a:lnTo>
                    <a:lnTo>
                      <a:pt x="894" y="190"/>
                    </a:lnTo>
                    <a:lnTo>
                      <a:pt x="901" y="188"/>
                    </a:lnTo>
                    <a:lnTo>
                      <a:pt x="909" y="188"/>
                    </a:lnTo>
                    <a:lnTo>
                      <a:pt x="916" y="186"/>
                    </a:lnTo>
                    <a:lnTo>
                      <a:pt x="924" y="186"/>
                    </a:lnTo>
                    <a:lnTo>
                      <a:pt x="930" y="186"/>
                    </a:lnTo>
                    <a:lnTo>
                      <a:pt x="937" y="184"/>
                    </a:lnTo>
                    <a:lnTo>
                      <a:pt x="943" y="184"/>
                    </a:lnTo>
                    <a:lnTo>
                      <a:pt x="951" y="182"/>
                    </a:lnTo>
                    <a:lnTo>
                      <a:pt x="956" y="180"/>
                    </a:lnTo>
                    <a:lnTo>
                      <a:pt x="962" y="180"/>
                    </a:lnTo>
                    <a:lnTo>
                      <a:pt x="968" y="178"/>
                    </a:lnTo>
                    <a:lnTo>
                      <a:pt x="975" y="177"/>
                    </a:lnTo>
                    <a:lnTo>
                      <a:pt x="968" y="171"/>
                    </a:lnTo>
                    <a:lnTo>
                      <a:pt x="962" y="163"/>
                    </a:lnTo>
                    <a:lnTo>
                      <a:pt x="954" y="158"/>
                    </a:lnTo>
                    <a:lnTo>
                      <a:pt x="947" y="156"/>
                    </a:lnTo>
                    <a:lnTo>
                      <a:pt x="937" y="152"/>
                    </a:lnTo>
                    <a:lnTo>
                      <a:pt x="930" y="148"/>
                    </a:lnTo>
                    <a:lnTo>
                      <a:pt x="920" y="146"/>
                    </a:lnTo>
                    <a:lnTo>
                      <a:pt x="911" y="144"/>
                    </a:lnTo>
                    <a:lnTo>
                      <a:pt x="901" y="142"/>
                    </a:lnTo>
                    <a:lnTo>
                      <a:pt x="892" y="140"/>
                    </a:lnTo>
                    <a:lnTo>
                      <a:pt x="882" y="139"/>
                    </a:lnTo>
                    <a:lnTo>
                      <a:pt x="873" y="139"/>
                    </a:lnTo>
                    <a:lnTo>
                      <a:pt x="863" y="137"/>
                    </a:lnTo>
                    <a:lnTo>
                      <a:pt x="854" y="135"/>
                    </a:lnTo>
                    <a:lnTo>
                      <a:pt x="846" y="131"/>
                    </a:lnTo>
                    <a:lnTo>
                      <a:pt x="839" y="131"/>
                    </a:lnTo>
                    <a:lnTo>
                      <a:pt x="846" y="127"/>
                    </a:lnTo>
                    <a:lnTo>
                      <a:pt x="856" y="123"/>
                    </a:lnTo>
                    <a:lnTo>
                      <a:pt x="865" y="121"/>
                    </a:lnTo>
                    <a:lnTo>
                      <a:pt x="875" y="121"/>
                    </a:lnTo>
                    <a:lnTo>
                      <a:pt x="884" y="121"/>
                    </a:lnTo>
                    <a:lnTo>
                      <a:pt x="896" y="125"/>
                    </a:lnTo>
                    <a:lnTo>
                      <a:pt x="901" y="125"/>
                    </a:lnTo>
                    <a:lnTo>
                      <a:pt x="907" y="127"/>
                    </a:lnTo>
                    <a:lnTo>
                      <a:pt x="913" y="129"/>
                    </a:lnTo>
                    <a:lnTo>
                      <a:pt x="918" y="131"/>
                    </a:lnTo>
                    <a:lnTo>
                      <a:pt x="930" y="135"/>
                    </a:lnTo>
                    <a:lnTo>
                      <a:pt x="941" y="137"/>
                    </a:lnTo>
                    <a:lnTo>
                      <a:pt x="947" y="139"/>
                    </a:lnTo>
                    <a:lnTo>
                      <a:pt x="953" y="140"/>
                    </a:lnTo>
                    <a:lnTo>
                      <a:pt x="958" y="142"/>
                    </a:lnTo>
                    <a:lnTo>
                      <a:pt x="966" y="144"/>
                    </a:lnTo>
                    <a:lnTo>
                      <a:pt x="972" y="144"/>
                    </a:lnTo>
                    <a:lnTo>
                      <a:pt x="977" y="146"/>
                    </a:lnTo>
                    <a:lnTo>
                      <a:pt x="983" y="148"/>
                    </a:lnTo>
                    <a:lnTo>
                      <a:pt x="989" y="150"/>
                    </a:lnTo>
                    <a:lnTo>
                      <a:pt x="994" y="150"/>
                    </a:lnTo>
                    <a:lnTo>
                      <a:pt x="1000" y="152"/>
                    </a:lnTo>
                    <a:lnTo>
                      <a:pt x="1006" y="152"/>
                    </a:lnTo>
                    <a:lnTo>
                      <a:pt x="1012" y="154"/>
                    </a:lnTo>
                    <a:lnTo>
                      <a:pt x="1006" y="148"/>
                    </a:lnTo>
                    <a:lnTo>
                      <a:pt x="1000" y="142"/>
                    </a:lnTo>
                    <a:lnTo>
                      <a:pt x="993" y="137"/>
                    </a:lnTo>
                    <a:lnTo>
                      <a:pt x="985" y="133"/>
                    </a:lnTo>
                    <a:lnTo>
                      <a:pt x="977" y="129"/>
                    </a:lnTo>
                    <a:lnTo>
                      <a:pt x="970" y="125"/>
                    </a:lnTo>
                    <a:lnTo>
                      <a:pt x="962" y="121"/>
                    </a:lnTo>
                    <a:lnTo>
                      <a:pt x="954" y="118"/>
                    </a:lnTo>
                    <a:lnTo>
                      <a:pt x="945" y="116"/>
                    </a:lnTo>
                    <a:lnTo>
                      <a:pt x="935" y="112"/>
                    </a:lnTo>
                    <a:lnTo>
                      <a:pt x="928" y="108"/>
                    </a:lnTo>
                    <a:lnTo>
                      <a:pt x="920" y="106"/>
                    </a:lnTo>
                    <a:lnTo>
                      <a:pt x="911" y="102"/>
                    </a:lnTo>
                    <a:lnTo>
                      <a:pt x="903" y="101"/>
                    </a:lnTo>
                    <a:lnTo>
                      <a:pt x="896" y="99"/>
                    </a:lnTo>
                    <a:lnTo>
                      <a:pt x="890" y="97"/>
                    </a:lnTo>
                    <a:lnTo>
                      <a:pt x="896" y="93"/>
                    </a:lnTo>
                    <a:lnTo>
                      <a:pt x="903" y="91"/>
                    </a:lnTo>
                    <a:lnTo>
                      <a:pt x="913" y="91"/>
                    </a:lnTo>
                    <a:lnTo>
                      <a:pt x="922" y="93"/>
                    </a:lnTo>
                    <a:lnTo>
                      <a:pt x="932" y="93"/>
                    </a:lnTo>
                    <a:lnTo>
                      <a:pt x="941" y="97"/>
                    </a:lnTo>
                    <a:lnTo>
                      <a:pt x="951" y="99"/>
                    </a:lnTo>
                    <a:lnTo>
                      <a:pt x="962" y="102"/>
                    </a:lnTo>
                    <a:lnTo>
                      <a:pt x="972" y="104"/>
                    </a:lnTo>
                    <a:lnTo>
                      <a:pt x="981" y="108"/>
                    </a:lnTo>
                    <a:lnTo>
                      <a:pt x="993" y="110"/>
                    </a:lnTo>
                    <a:lnTo>
                      <a:pt x="1004" y="114"/>
                    </a:lnTo>
                    <a:lnTo>
                      <a:pt x="1013" y="116"/>
                    </a:lnTo>
                    <a:lnTo>
                      <a:pt x="1025" y="118"/>
                    </a:lnTo>
                    <a:lnTo>
                      <a:pt x="1036" y="120"/>
                    </a:lnTo>
                    <a:lnTo>
                      <a:pt x="1048" y="120"/>
                    </a:lnTo>
                    <a:lnTo>
                      <a:pt x="1040" y="116"/>
                    </a:lnTo>
                    <a:lnTo>
                      <a:pt x="1032" y="110"/>
                    </a:lnTo>
                    <a:lnTo>
                      <a:pt x="1025" y="106"/>
                    </a:lnTo>
                    <a:lnTo>
                      <a:pt x="1019" y="101"/>
                    </a:lnTo>
                    <a:lnTo>
                      <a:pt x="1012" y="97"/>
                    </a:lnTo>
                    <a:lnTo>
                      <a:pt x="1004" y="93"/>
                    </a:lnTo>
                    <a:lnTo>
                      <a:pt x="996" y="87"/>
                    </a:lnTo>
                    <a:lnTo>
                      <a:pt x="989" y="83"/>
                    </a:lnTo>
                    <a:lnTo>
                      <a:pt x="981" y="80"/>
                    </a:lnTo>
                    <a:lnTo>
                      <a:pt x="974" y="76"/>
                    </a:lnTo>
                    <a:lnTo>
                      <a:pt x="964" y="72"/>
                    </a:lnTo>
                    <a:lnTo>
                      <a:pt x="956" y="68"/>
                    </a:lnTo>
                    <a:lnTo>
                      <a:pt x="949" y="64"/>
                    </a:lnTo>
                    <a:lnTo>
                      <a:pt x="941" y="61"/>
                    </a:lnTo>
                    <a:lnTo>
                      <a:pt x="934" y="57"/>
                    </a:lnTo>
                    <a:lnTo>
                      <a:pt x="926" y="55"/>
                    </a:lnTo>
                    <a:lnTo>
                      <a:pt x="916" y="49"/>
                    </a:lnTo>
                    <a:lnTo>
                      <a:pt x="909" y="47"/>
                    </a:lnTo>
                    <a:lnTo>
                      <a:pt x="899" y="44"/>
                    </a:lnTo>
                    <a:lnTo>
                      <a:pt x="892" y="42"/>
                    </a:lnTo>
                    <a:lnTo>
                      <a:pt x="882" y="38"/>
                    </a:lnTo>
                    <a:lnTo>
                      <a:pt x="875" y="36"/>
                    </a:lnTo>
                    <a:lnTo>
                      <a:pt x="865" y="34"/>
                    </a:lnTo>
                    <a:lnTo>
                      <a:pt x="859" y="32"/>
                    </a:lnTo>
                    <a:lnTo>
                      <a:pt x="848" y="28"/>
                    </a:lnTo>
                    <a:lnTo>
                      <a:pt x="840" y="26"/>
                    </a:lnTo>
                    <a:lnTo>
                      <a:pt x="833" y="24"/>
                    </a:lnTo>
                    <a:lnTo>
                      <a:pt x="823" y="24"/>
                    </a:lnTo>
                    <a:lnTo>
                      <a:pt x="816" y="23"/>
                    </a:lnTo>
                    <a:lnTo>
                      <a:pt x="806" y="23"/>
                    </a:lnTo>
                    <a:lnTo>
                      <a:pt x="799" y="23"/>
                    </a:lnTo>
                    <a:lnTo>
                      <a:pt x="789" y="23"/>
                    </a:lnTo>
                    <a:lnTo>
                      <a:pt x="789" y="19"/>
                    </a:lnTo>
                    <a:lnTo>
                      <a:pt x="789" y="17"/>
                    </a:lnTo>
                    <a:lnTo>
                      <a:pt x="795" y="15"/>
                    </a:lnTo>
                    <a:lnTo>
                      <a:pt x="800" y="15"/>
                    </a:lnTo>
                    <a:lnTo>
                      <a:pt x="806" y="13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825" y="11"/>
                    </a:lnTo>
                    <a:lnTo>
                      <a:pt x="833" y="11"/>
                    </a:lnTo>
                    <a:lnTo>
                      <a:pt x="839" y="11"/>
                    </a:lnTo>
                    <a:lnTo>
                      <a:pt x="844" y="11"/>
                    </a:lnTo>
                    <a:lnTo>
                      <a:pt x="852" y="11"/>
                    </a:lnTo>
                    <a:lnTo>
                      <a:pt x="858" y="11"/>
                    </a:lnTo>
                    <a:lnTo>
                      <a:pt x="865" y="11"/>
                    </a:lnTo>
                    <a:lnTo>
                      <a:pt x="871" y="11"/>
                    </a:lnTo>
                    <a:lnTo>
                      <a:pt x="878" y="13"/>
                    </a:lnTo>
                    <a:lnTo>
                      <a:pt x="884" y="13"/>
                    </a:lnTo>
                    <a:lnTo>
                      <a:pt x="892" y="15"/>
                    </a:lnTo>
                    <a:lnTo>
                      <a:pt x="897" y="13"/>
                    </a:lnTo>
                    <a:lnTo>
                      <a:pt x="903" y="13"/>
                    </a:lnTo>
                    <a:lnTo>
                      <a:pt x="911" y="13"/>
                    </a:lnTo>
                    <a:lnTo>
                      <a:pt x="916" y="13"/>
                    </a:lnTo>
                    <a:lnTo>
                      <a:pt x="922" y="11"/>
                    </a:lnTo>
                    <a:lnTo>
                      <a:pt x="930" y="11"/>
                    </a:lnTo>
                    <a:lnTo>
                      <a:pt x="935" y="11"/>
                    </a:lnTo>
                    <a:lnTo>
                      <a:pt x="943" y="11"/>
                    </a:lnTo>
                    <a:lnTo>
                      <a:pt x="949" y="11"/>
                    </a:lnTo>
                    <a:lnTo>
                      <a:pt x="954" y="9"/>
                    </a:lnTo>
                    <a:lnTo>
                      <a:pt x="962" y="9"/>
                    </a:lnTo>
                    <a:lnTo>
                      <a:pt x="968" y="7"/>
                    </a:lnTo>
                    <a:lnTo>
                      <a:pt x="974" y="5"/>
                    </a:lnTo>
                    <a:lnTo>
                      <a:pt x="981" y="5"/>
                    </a:lnTo>
                    <a:lnTo>
                      <a:pt x="987" y="2"/>
                    </a:lnTo>
                    <a:lnTo>
                      <a:pt x="993" y="2"/>
                    </a:lnTo>
                    <a:lnTo>
                      <a:pt x="99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1012680" y="380700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6" y="25"/>
                    </a:moveTo>
                    <a:lnTo>
                      <a:pt x="13" y="25"/>
                    </a:lnTo>
                    <a:lnTo>
                      <a:pt x="19" y="25"/>
                    </a:lnTo>
                    <a:lnTo>
                      <a:pt x="25" y="21"/>
                    </a:lnTo>
                    <a:lnTo>
                      <a:pt x="30" y="19"/>
                    </a:lnTo>
                    <a:lnTo>
                      <a:pt x="36" y="15"/>
                    </a:lnTo>
                    <a:lnTo>
                      <a:pt x="44" y="13"/>
                    </a:lnTo>
                    <a:lnTo>
                      <a:pt x="49" y="10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9" y="6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19" y="6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843840" y="327816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0" y="7"/>
                    </a:moveTo>
                    <a:lnTo>
                      <a:pt x="7" y="11"/>
                    </a:lnTo>
                    <a:lnTo>
                      <a:pt x="13" y="17"/>
                    </a:lnTo>
                    <a:lnTo>
                      <a:pt x="19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6" y="21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2481120" y="319392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19" y="0"/>
                    </a:moveTo>
                    <a:lnTo>
                      <a:pt x="28" y="0"/>
                    </a:lnTo>
                    <a:lnTo>
                      <a:pt x="38" y="4"/>
                    </a:lnTo>
                    <a:lnTo>
                      <a:pt x="47" y="8"/>
                    </a:lnTo>
                    <a:lnTo>
                      <a:pt x="55" y="17"/>
                    </a:lnTo>
                    <a:lnTo>
                      <a:pt x="47" y="19"/>
                    </a:lnTo>
                    <a:lnTo>
                      <a:pt x="42" y="23"/>
                    </a:lnTo>
                    <a:lnTo>
                      <a:pt x="34" y="23"/>
                    </a:lnTo>
                    <a:lnTo>
                      <a:pt x="28" y="25"/>
                    </a:lnTo>
                    <a:lnTo>
                      <a:pt x="21" y="23"/>
                    </a:lnTo>
                    <a:lnTo>
                      <a:pt x="13" y="23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581040" y="32050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0"/>
                    </a:moveTo>
                    <a:lnTo>
                      <a:pt x="10" y="0"/>
                    </a:lnTo>
                    <a:lnTo>
                      <a:pt x="21" y="2"/>
                    </a:lnTo>
                    <a:lnTo>
                      <a:pt x="31" y="8"/>
                    </a:lnTo>
                    <a:lnTo>
                      <a:pt x="44" y="14"/>
                    </a:lnTo>
                    <a:lnTo>
                      <a:pt x="53" y="19"/>
                    </a:lnTo>
                    <a:lnTo>
                      <a:pt x="63" y="27"/>
                    </a:lnTo>
                    <a:lnTo>
                      <a:pt x="74" y="33"/>
                    </a:lnTo>
                    <a:lnTo>
                      <a:pt x="84" y="44"/>
                    </a:lnTo>
                    <a:lnTo>
                      <a:pt x="91" y="52"/>
                    </a:lnTo>
                    <a:lnTo>
                      <a:pt x="101" y="61"/>
                    </a:lnTo>
                    <a:lnTo>
                      <a:pt x="107" y="71"/>
                    </a:lnTo>
                    <a:lnTo>
                      <a:pt x="114" y="82"/>
                    </a:lnTo>
                    <a:lnTo>
                      <a:pt x="118" y="92"/>
                    </a:lnTo>
                    <a:lnTo>
                      <a:pt x="122" y="103"/>
                    </a:lnTo>
                    <a:lnTo>
                      <a:pt x="124" y="113"/>
                    </a:lnTo>
                    <a:lnTo>
                      <a:pt x="127" y="126"/>
                    </a:lnTo>
                    <a:lnTo>
                      <a:pt x="118" y="116"/>
                    </a:lnTo>
                    <a:lnTo>
                      <a:pt x="110" y="109"/>
                    </a:lnTo>
                    <a:lnTo>
                      <a:pt x="103" y="99"/>
                    </a:lnTo>
                    <a:lnTo>
                      <a:pt x="93" y="92"/>
                    </a:lnTo>
                    <a:lnTo>
                      <a:pt x="84" y="84"/>
                    </a:lnTo>
                    <a:lnTo>
                      <a:pt x="76" y="75"/>
                    </a:lnTo>
                    <a:lnTo>
                      <a:pt x="67" y="67"/>
                    </a:lnTo>
                    <a:lnTo>
                      <a:pt x="57" y="59"/>
                    </a:lnTo>
                    <a:lnTo>
                      <a:pt x="48" y="50"/>
                    </a:lnTo>
                    <a:lnTo>
                      <a:pt x="38" y="40"/>
                    </a:lnTo>
                    <a:lnTo>
                      <a:pt x="31" y="33"/>
                    </a:lnTo>
                    <a:lnTo>
                      <a:pt x="23" y="27"/>
                    </a:lnTo>
                    <a:lnTo>
                      <a:pt x="15" y="18"/>
                    </a:lnTo>
                    <a:lnTo>
                      <a:pt x="10" y="12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04960" y="323064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4" y="0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2" y="2"/>
                    </a:lnTo>
                    <a:lnTo>
                      <a:pt x="61" y="4"/>
                    </a:lnTo>
                    <a:lnTo>
                      <a:pt x="71" y="7"/>
                    </a:lnTo>
                    <a:lnTo>
                      <a:pt x="80" y="11"/>
                    </a:lnTo>
                    <a:lnTo>
                      <a:pt x="88" y="15"/>
                    </a:lnTo>
                    <a:lnTo>
                      <a:pt x="95" y="21"/>
                    </a:lnTo>
                    <a:lnTo>
                      <a:pt x="103" y="24"/>
                    </a:lnTo>
                    <a:lnTo>
                      <a:pt x="109" y="32"/>
                    </a:lnTo>
                    <a:lnTo>
                      <a:pt x="113" y="40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20" y="68"/>
                    </a:lnTo>
                    <a:lnTo>
                      <a:pt x="113" y="62"/>
                    </a:lnTo>
                    <a:lnTo>
                      <a:pt x="103" y="59"/>
                    </a:lnTo>
                    <a:lnTo>
                      <a:pt x="94" y="57"/>
                    </a:lnTo>
                    <a:lnTo>
                      <a:pt x="86" y="53"/>
                    </a:lnTo>
                    <a:lnTo>
                      <a:pt x="75" y="49"/>
                    </a:lnTo>
                    <a:lnTo>
                      <a:pt x="65" y="45"/>
                    </a:lnTo>
                    <a:lnTo>
                      <a:pt x="54" y="42"/>
                    </a:lnTo>
                    <a:lnTo>
                      <a:pt x="44" y="38"/>
                    </a:lnTo>
                    <a:lnTo>
                      <a:pt x="33" y="34"/>
                    </a:lnTo>
                    <a:lnTo>
                      <a:pt x="25" y="30"/>
                    </a:lnTo>
                    <a:lnTo>
                      <a:pt x="16" y="24"/>
                    </a:lnTo>
                    <a:lnTo>
                      <a:pt x="10" y="23"/>
                    </a:lnTo>
                    <a:lnTo>
                      <a:pt x="6" y="17"/>
                    </a:lnTo>
                    <a:lnTo>
                      <a:pt x="2" y="11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2488320" y="3251160"/>
                <a:ext cx="24120" cy="111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25" y="10"/>
                    </a:lnTo>
                    <a:lnTo>
                      <a:pt x="19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2215440" y="328788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92" y="0"/>
                    </a:moveTo>
                    <a:lnTo>
                      <a:pt x="92" y="8"/>
                    </a:lnTo>
                    <a:lnTo>
                      <a:pt x="94" y="15"/>
                    </a:lnTo>
                    <a:lnTo>
                      <a:pt x="90" y="23"/>
                    </a:lnTo>
                    <a:lnTo>
                      <a:pt x="88" y="30"/>
                    </a:lnTo>
                    <a:lnTo>
                      <a:pt x="82" y="36"/>
                    </a:lnTo>
                    <a:lnTo>
                      <a:pt x="77" y="42"/>
                    </a:lnTo>
                    <a:lnTo>
                      <a:pt x="69" y="47"/>
                    </a:lnTo>
                    <a:lnTo>
                      <a:pt x="61" y="53"/>
                    </a:lnTo>
                    <a:lnTo>
                      <a:pt x="54" y="59"/>
                    </a:lnTo>
                    <a:lnTo>
                      <a:pt x="44" y="63"/>
                    </a:lnTo>
                    <a:lnTo>
                      <a:pt x="35" y="66"/>
                    </a:lnTo>
                    <a:lnTo>
                      <a:pt x="27" y="72"/>
                    </a:lnTo>
                    <a:lnTo>
                      <a:pt x="19" y="74"/>
                    </a:lnTo>
                    <a:lnTo>
                      <a:pt x="12" y="78"/>
                    </a:lnTo>
                    <a:lnTo>
                      <a:pt x="6" y="80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6" y="70"/>
                    </a:lnTo>
                    <a:lnTo>
                      <a:pt x="10" y="63"/>
                    </a:lnTo>
                    <a:lnTo>
                      <a:pt x="16" y="57"/>
                    </a:lnTo>
                    <a:lnTo>
                      <a:pt x="19" y="51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9" y="36"/>
                    </a:lnTo>
                    <a:lnTo>
                      <a:pt x="44" y="32"/>
                    </a:lnTo>
                    <a:lnTo>
                      <a:pt x="52" y="27"/>
                    </a:lnTo>
                    <a:lnTo>
                      <a:pt x="58" y="23"/>
                    </a:lnTo>
                    <a:lnTo>
                      <a:pt x="65" y="17"/>
                    </a:lnTo>
                    <a:lnTo>
                      <a:pt x="73" y="13"/>
                    </a:lnTo>
                    <a:lnTo>
                      <a:pt x="78" y="8"/>
                    </a:lnTo>
                    <a:lnTo>
                      <a:pt x="84" y="4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167920" y="3306960"/>
                <a:ext cx="122040" cy="120600"/>
              </a:xfrm>
              <a:custGeom>
                <a:avLst/>
                <a:gdLst/>
                <a:ahLst/>
                <a:rect l="l" t="t" r="r" b="b"/>
                <a:pathLst>
                  <a:path w="154" h="152">
                    <a:moveTo>
                      <a:pt x="141" y="0"/>
                    </a:moveTo>
                    <a:lnTo>
                      <a:pt x="149" y="7"/>
                    </a:lnTo>
                    <a:lnTo>
                      <a:pt x="154" y="17"/>
                    </a:lnTo>
                    <a:lnTo>
                      <a:pt x="154" y="28"/>
                    </a:lnTo>
                    <a:lnTo>
                      <a:pt x="151" y="38"/>
                    </a:lnTo>
                    <a:lnTo>
                      <a:pt x="143" y="49"/>
                    </a:lnTo>
                    <a:lnTo>
                      <a:pt x="134" y="61"/>
                    </a:lnTo>
                    <a:lnTo>
                      <a:pt x="128" y="66"/>
                    </a:lnTo>
                    <a:lnTo>
                      <a:pt x="122" y="72"/>
                    </a:lnTo>
                    <a:lnTo>
                      <a:pt x="116" y="78"/>
                    </a:lnTo>
                    <a:lnTo>
                      <a:pt x="109" y="83"/>
                    </a:lnTo>
                    <a:lnTo>
                      <a:pt x="101" y="87"/>
                    </a:lnTo>
                    <a:lnTo>
                      <a:pt x="94" y="93"/>
                    </a:lnTo>
                    <a:lnTo>
                      <a:pt x="86" y="99"/>
                    </a:lnTo>
                    <a:lnTo>
                      <a:pt x="78" y="104"/>
                    </a:lnTo>
                    <a:lnTo>
                      <a:pt x="71" y="108"/>
                    </a:lnTo>
                    <a:lnTo>
                      <a:pt x="63" y="114"/>
                    </a:lnTo>
                    <a:lnTo>
                      <a:pt x="56" y="120"/>
                    </a:lnTo>
                    <a:lnTo>
                      <a:pt x="48" y="123"/>
                    </a:lnTo>
                    <a:lnTo>
                      <a:pt x="40" y="127"/>
                    </a:lnTo>
                    <a:lnTo>
                      <a:pt x="33" y="131"/>
                    </a:lnTo>
                    <a:lnTo>
                      <a:pt x="27" y="135"/>
                    </a:lnTo>
                    <a:lnTo>
                      <a:pt x="19" y="139"/>
                    </a:lnTo>
                    <a:lnTo>
                      <a:pt x="14" y="142"/>
                    </a:lnTo>
                    <a:lnTo>
                      <a:pt x="8" y="146"/>
                    </a:lnTo>
                    <a:lnTo>
                      <a:pt x="2" y="148"/>
                    </a:lnTo>
                    <a:lnTo>
                      <a:pt x="0" y="152"/>
                    </a:lnTo>
                    <a:lnTo>
                      <a:pt x="2" y="146"/>
                    </a:lnTo>
                    <a:lnTo>
                      <a:pt x="4" y="139"/>
                    </a:lnTo>
                    <a:lnTo>
                      <a:pt x="8" y="133"/>
                    </a:lnTo>
                    <a:lnTo>
                      <a:pt x="10" y="127"/>
                    </a:lnTo>
                    <a:lnTo>
                      <a:pt x="18" y="116"/>
                    </a:lnTo>
                    <a:lnTo>
                      <a:pt x="23" y="106"/>
                    </a:lnTo>
                    <a:lnTo>
                      <a:pt x="29" y="95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8"/>
                    </a:lnTo>
                    <a:lnTo>
                      <a:pt x="63" y="59"/>
                    </a:lnTo>
                    <a:lnTo>
                      <a:pt x="73" y="49"/>
                    </a:lnTo>
                    <a:lnTo>
                      <a:pt x="82" y="42"/>
                    </a:lnTo>
                    <a:lnTo>
                      <a:pt x="94" y="34"/>
                    </a:lnTo>
                    <a:lnTo>
                      <a:pt x="103" y="24"/>
                    </a:lnTo>
                    <a:lnTo>
                      <a:pt x="116" y="17"/>
                    </a:lnTo>
                    <a:lnTo>
                      <a:pt x="122" y="11"/>
                    </a:lnTo>
                    <a:lnTo>
                      <a:pt x="128" y="7"/>
                    </a:lnTo>
                    <a:lnTo>
                      <a:pt x="135" y="4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095560" y="3333960"/>
                <a:ext cx="141120" cy="131760"/>
              </a:xfrm>
              <a:custGeom>
                <a:avLst/>
                <a:gdLst/>
                <a:ahLst/>
                <a:rect l="l" t="t" r="r" b="b"/>
                <a:pathLst>
                  <a:path w="177" h="165">
                    <a:moveTo>
                      <a:pt x="169" y="0"/>
                    </a:moveTo>
                    <a:lnTo>
                      <a:pt x="175" y="9"/>
                    </a:lnTo>
                    <a:lnTo>
                      <a:pt x="177" y="19"/>
                    </a:lnTo>
                    <a:lnTo>
                      <a:pt x="171" y="29"/>
                    </a:lnTo>
                    <a:lnTo>
                      <a:pt x="163" y="36"/>
                    </a:lnTo>
                    <a:lnTo>
                      <a:pt x="158" y="40"/>
                    </a:lnTo>
                    <a:lnTo>
                      <a:pt x="152" y="44"/>
                    </a:lnTo>
                    <a:lnTo>
                      <a:pt x="144" y="48"/>
                    </a:lnTo>
                    <a:lnTo>
                      <a:pt x="139" y="53"/>
                    </a:lnTo>
                    <a:lnTo>
                      <a:pt x="131" y="57"/>
                    </a:lnTo>
                    <a:lnTo>
                      <a:pt x="123" y="61"/>
                    </a:lnTo>
                    <a:lnTo>
                      <a:pt x="114" y="65"/>
                    </a:lnTo>
                    <a:lnTo>
                      <a:pt x="106" y="70"/>
                    </a:lnTo>
                    <a:lnTo>
                      <a:pt x="97" y="72"/>
                    </a:lnTo>
                    <a:lnTo>
                      <a:pt x="89" y="78"/>
                    </a:lnTo>
                    <a:lnTo>
                      <a:pt x="80" y="84"/>
                    </a:lnTo>
                    <a:lnTo>
                      <a:pt x="70" y="87"/>
                    </a:lnTo>
                    <a:lnTo>
                      <a:pt x="63" y="93"/>
                    </a:lnTo>
                    <a:lnTo>
                      <a:pt x="53" y="97"/>
                    </a:lnTo>
                    <a:lnTo>
                      <a:pt x="46" y="105"/>
                    </a:lnTo>
                    <a:lnTo>
                      <a:pt x="40" y="110"/>
                    </a:lnTo>
                    <a:lnTo>
                      <a:pt x="32" y="116"/>
                    </a:lnTo>
                    <a:lnTo>
                      <a:pt x="25" y="122"/>
                    </a:lnTo>
                    <a:lnTo>
                      <a:pt x="19" y="127"/>
                    </a:lnTo>
                    <a:lnTo>
                      <a:pt x="15" y="135"/>
                    </a:lnTo>
                    <a:lnTo>
                      <a:pt x="9" y="141"/>
                    </a:lnTo>
                    <a:lnTo>
                      <a:pt x="8" y="148"/>
                    </a:lnTo>
                    <a:lnTo>
                      <a:pt x="4" y="156"/>
                    </a:lnTo>
                    <a:lnTo>
                      <a:pt x="4" y="165"/>
                    </a:lnTo>
                    <a:lnTo>
                      <a:pt x="2" y="160"/>
                    </a:lnTo>
                    <a:lnTo>
                      <a:pt x="2" y="152"/>
                    </a:lnTo>
                    <a:lnTo>
                      <a:pt x="0" y="146"/>
                    </a:lnTo>
                    <a:lnTo>
                      <a:pt x="2" y="141"/>
                    </a:lnTo>
                    <a:lnTo>
                      <a:pt x="2" y="133"/>
                    </a:lnTo>
                    <a:lnTo>
                      <a:pt x="4" y="127"/>
                    </a:lnTo>
                    <a:lnTo>
                      <a:pt x="8" y="122"/>
                    </a:lnTo>
                    <a:lnTo>
                      <a:pt x="11" y="116"/>
                    </a:lnTo>
                    <a:lnTo>
                      <a:pt x="15" y="110"/>
                    </a:lnTo>
                    <a:lnTo>
                      <a:pt x="19" y="103"/>
                    </a:lnTo>
                    <a:lnTo>
                      <a:pt x="25" y="97"/>
                    </a:lnTo>
                    <a:lnTo>
                      <a:pt x="30" y="93"/>
                    </a:lnTo>
                    <a:lnTo>
                      <a:pt x="36" y="86"/>
                    </a:lnTo>
                    <a:lnTo>
                      <a:pt x="42" y="80"/>
                    </a:lnTo>
                    <a:lnTo>
                      <a:pt x="49" y="76"/>
                    </a:lnTo>
                    <a:lnTo>
                      <a:pt x="57" y="70"/>
                    </a:lnTo>
                    <a:lnTo>
                      <a:pt x="63" y="65"/>
                    </a:lnTo>
                    <a:lnTo>
                      <a:pt x="70" y="61"/>
                    </a:lnTo>
                    <a:lnTo>
                      <a:pt x="78" y="53"/>
                    </a:lnTo>
                    <a:lnTo>
                      <a:pt x="87" y="49"/>
                    </a:lnTo>
                    <a:lnTo>
                      <a:pt x="93" y="44"/>
                    </a:lnTo>
                    <a:lnTo>
                      <a:pt x="103" y="40"/>
                    </a:lnTo>
                    <a:lnTo>
                      <a:pt x="108" y="34"/>
                    </a:lnTo>
                    <a:lnTo>
                      <a:pt x="118" y="32"/>
                    </a:lnTo>
                    <a:lnTo>
                      <a:pt x="123" y="27"/>
                    </a:lnTo>
                    <a:lnTo>
                      <a:pt x="131" y="23"/>
                    </a:lnTo>
                    <a:lnTo>
                      <a:pt x="137" y="19"/>
                    </a:lnTo>
                    <a:lnTo>
                      <a:pt x="144" y="15"/>
                    </a:lnTo>
                    <a:lnTo>
                      <a:pt x="152" y="11"/>
                    </a:lnTo>
                    <a:lnTo>
                      <a:pt x="158" y="6"/>
                    </a:lnTo>
                    <a:lnTo>
                      <a:pt x="163" y="4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54000" y="3344760"/>
                <a:ext cx="3672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2647080" y="335124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1" h="91">
                    <a:moveTo>
                      <a:pt x="57" y="0"/>
                    </a:moveTo>
                    <a:lnTo>
                      <a:pt x="62" y="0"/>
                    </a:lnTo>
                    <a:lnTo>
                      <a:pt x="66" y="2"/>
                    </a:lnTo>
                    <a:lnTo>
                      <a:pt x="68" y="6"/>
                    </a:lnTo>
                    <a:lnTo>
                      <a:pt x="68" y="9"/>
                    </a:lnTo>
                    <a:lnTo>
                      <a:pt x="66" y="13"/>
                    </a:lnTo>
                    <a:lnTo>
                      <a:pt x="64" y="19"/>
                    </a:lnTo>
                    <a:lnTo>
                      <a:pt x="61" y="25"/>
                    </a:lnTo>
                    <a:lnTo>
                      <a:pt x="59" y="30"/>
                    </a:lnTo>
                    <a:lnTo>
                      <a:pt x="55" y="36"/>
                    </a:lnTo>
                    <a:lnTo>
                      <a:pt x="53" y="44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49" y="61"/>
                    </a:lnTo>
                    <a:lnTo>
                      <a:pt x="51" y="66"/>
                    </a:lnTo>
                    <a:lnTo>
                      <a:pt x="55" y="72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8" y="72"/>
                    </a:lnTo>
                    <a:lnTo>
                      <a:pt x="87" y="66"/>
                    </a:lnTo>
                    <a:lnTo>
                      <a:pt x="97" y="63"/>
                    </a:lnTo>
                    <a:lnTo>
                      <a:pt x="106" y="61"/>
                    </a:lnTo>
                    <a:lnTo>
                      <a:pt x="114" y="61"/>
                    </a:lnTo>
                    <a:lnTo>
                      <a:pt x="118" y="61"/>
                    </a:lnTo>
                    <a:lnTo>
                      <a:pt x="121" y="64"/>
                    </a:lnTo>
                    <a:lnTo>
                      <a:pt x="127" y="68"/>
                    </a:lnTo>
                    <a:lnTo>
                      <a:pt x="131" y="74"/>
                    </a:lnTo>
                    <a:lnTo>
                      <a:pt x="123" y="80"/>
                    </a:lnTo>
                    <a:lnTo>
                      <a:pt x="118" y="83"/>
                    </a:lnTo>
                    <a:lnTo>
                      <a:pt x="110" y="87"/>
                    </a:lnTo>
                    <a:lnTo>
                      <a:pt x="102" y="89"/>
                    </a:lnTo>
                    <a:lnTo>
                      <a:pt x="93" y="89"/>
                    </a:lnTo>
                    <a:lnTo>
                      <a:pt x="87" y="91"/>
                    </a:lnTo>
                    <a:lnTo>
                      <a:pt x="80" y="91"/>
                    </a:lnTo>
                    <a:lnTo>
                      <a:pt x="72" y="91"/>
                    </a:lnTo>
                    <a:lnTo>
                      <a:pt x="62" y="89"/>
                    </a:lnTo>
                    <a:lnTo>
                      <a:pt x="55" y="87"/>
                    </a:lnTo>
                    <a:lnTo>
                      <a:pt x="49" y="83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7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7" y="15"/>
                    </a:lnTo>
                    <a:lnTo>
                      <a:pt x="11" y="11"/>
                    </a:lnTo>
                    <a:lnTo>
                      <a:pt x="17" y="7"/>
                    </a:lnTo>
                    <a:lnTo>
                      <a:pt x="24" y="6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26920" y="3360960"/>
                <a:ext cx="114480" cy="23760"/>
              </a:xfrm>
              <a:custGeom>
                <a:avLst/>
                <a:gdLst/>
                <a:ahLst/>
                <a:rect l="l" t="t" r="r" b="b"/>
                <a:pathLst>
                  <a:path w="145" h="31">
                    <a:moveTo>
                      <a:pt x="55" y="4"/>
                    </a:move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9" y="4"/>
                    </a:lnTo>
                    <a:lnTo>
                      <a:pt x="99" y="8"/>
                    </a:lnTo>
                    <a:lnTo>
                      <a:pt x="110" y="12"/>
                    </a:lnTo>
                    <a:lnTo>
                      <a:pt x="122" y="17"/>
                    </a:lnTo>
                    <a:lnTo>
                      <a:pt x="126" y="19"/>
                    </a:lnTo>
                    <a:lnTo>
                      <a:pt x="131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35" y="29"/>
                    </a:lnTo>
                    <a:lnTo>
                      <a:pt x="126" y="31"/>
                    </a:lnTo>
                    <a:lnTo>
                      <a:pt x="116" y="31"/>
                    </a:lnTo>
                    <a:lnTo>
                      <a:pt x="108" y="31"/>
                    </a:lnTo>
                    <a:lnTo>
                      <a:pt x="99" y="29"/>
                    </a:lnTo>
                    <a:lnTo>
                      <a:pt x="89" y="29"/>
                    </a:lnTo>
                    <a:lnTo>
                      <a:pt x="80" y="27"/>
                    </a:lnTo>
                    <a:lnTo>
                      <a:pt x="72" y="27"/>
                    </a:lnTo>
                    <a:lnTo>
                      <a:pt x="63" y="25"/>
                    </a:lnTo>
                    <a:lnTo>
                      <a:pt x="53" y="25"/>
                    </a:lnTo>
                    <a:lnTo>
                      <a:pt x="44" y="23"/>
                    </a:lnTo>
                    <a:lnTo>
                      <a:pt x="36" y="21"/>
                    </a:lnTo>
                    <a:lnTo>
                      <a:pt x="27" y="19"/>
                    </a:lnTo>
                    <a:lnTo>
                      <a:pt x="19" y="19"/>
                    </a:lnTo>
                    <a:lnTo>
                      <a:pt x="10" y="1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21" y="12"/>
                    </a:lnTo>
                    <a:lnTo>
                      <a:pt x="29" y="12"/>
                    </a:lnTo>
                    <a:lnTo>
                      <a:pt x="34" y="10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2039040" y="337032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50" y="2"/>
                    </a:moveTo>
                    <a:lnTo>
                      <a:pt x="154" y="0"/>
                    </a:lnTo>
                    <a:lnTo>
                      <a:pt x="160" y="2"/>
                    </a:lnTo>
                    <a:lnTo>
                      <a:pt x="162" y="2"/>
                    </a:lnTo>
                    <a:lnTo>
                      <a:pt x="163" y="3"/>
                    </a:lnTo>
                    <a:lnTo>
                      <a:pt x="163" y="7"/>
                    </a:lnTo>
                    <a:lnTo>
                      <a:pt x="162" y="17"/>
                    </a:lnTo>
                    <a:lnTo>
                      <a:pt x="156" y="22"/>
                    </a:lnTo>
                    <a:lnTo>
                      <a:pt x="150" y="32"/>
                    </a:lnTo>
                    <a:lnTo>
                      <a:pt x="148" y="40"/>
                    </a:lnTo>
                    <a:lnTo>
                      <a:pt x="150" y="47"/>
                    </a:lnTo>
                    <a:lnTo>
                      <a:pt x="160" y="43"/>
                    </a:lnTo>
                    <a:lnTo>
                      <a:pt x="169" y="43"/>
                    </a:lnTo>
                    <a:lnTo>
                      <a:pt x="177" y="43"/>
                    </a:lnTo>
                    <a:lnTo>
                      <a:pt x="182" y="43"/>
                    </a:lnTo>
                    <a:lnTo>
                      <a:pt x="188" y="47"/>
                    </a:lnTo>
                    <a:lnTo>
                      <a:pt x="190" y="53"/>
                    </a:lnTo>
                    <a:lnTo>
                      <a:pt x="184" y="59"/>
                    </a:lnTo>
                    <a:lnTo>
                      <a:pt x="175" y="68"/>
                    </a:lnTo>
                    <a:lnTo>
                      <a:pt x="167" y="72"/>
                    </a:lnTo>
                    <a:lnTo>
                      <a:pt x="162" y="78"/>
                    </a:lnTo>
                    <a:lnTo>
                      <a:pt x="154" y="83"/>
                    </a:lnTo>
                    <a:lnTo>
                      <a:pt x="146" y="89"/>
                    </a:lnTo>
                    <a:lnTo>
                      <a:pt x="137" y="95"/>
                    </a:lnTo>
                    <a:lnTo>
                      <a:pt x="127" y="100"/>
                    </a:lnTo>
                    <a:lnTo>
                      <a:pt x="118" y="106"/>
                    </a:lnTo>
                    <a:lnTo>
                      <a:pt x="108" y="114"/>
                    </a:lnTo>
                    <a:lnTo>
                      <a:pt x="99" y="119"/>
                    </a:lnTo>
                    <a:lnTo>
                      <a:pt x="89" y="125"/>
                    </a:lnTo>
                    <a:lnTo>
                      <a:pt x="80" y="133"/>
                    </a:lnTo>
                    <a:lnTo>
                      <a:pt x="70" y="140"/>
                    </a:lnTo>
                    <a:lnTo>
                      <a:pt x="61" y="144"/>
                    </a:lnTo>
                    <a:lnTo>
                      <a:pt x="51" y="152"/>
                    </a:lnTo>
                    <a:lnTo>
                      <a:pt x="42" y="157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5" y="176"/>
                    </a:lnTo>
                    <a:lnTo>
                      <a:pt x="19" y="180"/>
                    </a:lnTo>
                    <a:lnTo>
                      <a:pt x="15" y="188"/>
                    </a:lnTo>
                    <a:lnTo>
                      <a:pt x="11" y="178"/>
                    </a:lnTo>
                    <a:lnTo>
                      <a:pt x="13" y="169"/>
                    </a:lnTo>
                    <a:lnTo>
                      <a:pt x="21" y="157"/>
                    </a:lnTo>
                    <a:lnTo>
                      <a:pt x="25" y="148"/>
                    </a:lnTo>
                    <a:lnTo>
                      <a:pt x="25" y="144"/>
                    </a:lnTo>
                    <a:lnTo>
                      <a:pt x="23" y="142"/>
                    </a:lnTo>
                    <a:lnTo>
                      <a:pt x="17" y="140"/>
                    </a:lnTo>
                    <a:lnTo>
                      <a:pt x="11" y="142"/>
                    </a:lnTo>
                    <a:lnTo>
                      <a:pt x="6" y="144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6" y="135"/>
                    </a:lnTo>
                    <a:lnTo>
                      <a:pt x="13" y="125"/>
                    </a:lnTo>
                    <a:lnTo>
                      <a:pt x="21" y="116"/>
                    </a:lnTo>
                    <a:lnTo>
                      <a:pt x="30" y="106"/>
                    </a:lnTo>
                    <a:lnTo>
                      <a:pt x="38" y="97"/>
                    </a:lnTo>
                    <a:lnTo>
                      <a:pt x="47" y="87"/>
                    </a:lnTo>
                    <a:lnTo>
                      <a:pt x="57" y="79"/>
                    </a:lnTo>
                    <a:lnTo>
                      <a:pt x="68" y="70"/>
                    </a:lnTo>
                    <a:lnTo>
                      <a:pt x="78" y="60"/>
                    </a:lnTo>
                    <a:lnTo>
                      <a:pt x="87" y="51"/>
                    </a:lnTo>
                    <a:lnTo>
                      <a:pt x="97" y="43"/>
                    </a:lnTo>
                    <a:lnTo>
                      <a:pt x="108" y="34"/>
                    </a:lnTo>
                    <a:lnTo>
                      <a:pt x="118" y="26"/>
                    </a:lnTo>
                    <a:lnTo>
                      <a:pt x="129" y="17"/>
                    </a:lnTo>
                    <a:lnTo>
                      <a:pt x="139" y="9"/>
                    </a:lnTo>
                    <a:lnTo>
                      <a:pt x="150" y="2"/>
                    </a:lnTo>
                    <a:lnTo>
                      <a:pt x="15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1835280" y="3368880"/>
                <a:ext cx="311040" cy="28872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352" y="4"/>
                    </a:moveTo>
                    <a:lnTo>
                      <a:pt x="361" y="0"/>
                    </a:lnTo>
                    <a:lnTo>
                      <a:pt x="371" y="0"/>
                    </a:lnTo>
                    <a:lnTo>
                      <a:pt x="378" y="2"/>
                    </a:lnTo>
                    <a:lnTo>
                      <a:pt x="386" y="5"/>
                    </a:lnTo>
                    <a:lnTo>
                      <a:pt x="390" y="7"/>
                    </a:lnTo>
                    <a:lnTo>
                      <a:pt x="392" y="15"/>
                    </a:lnTo>
                    <a:lnTo>
                      <a:pt x="392" y="19"/>
                    </a:lnTo>
                    <a:lnTo>
                      <a:pt x="392" y="23"/>
                    </a:lnTo>
                    <a:lnTo>
                      <a:pt x="392" y="28"/>
                    </a:lnTo>
                    <a:lnTo>
                      <a:pt x="392" y="34"/>
                    </a:lnTo>
                    <a:lnTo>
                      <a:pt x="382" y="36"/>
                    </a:lnTo>
                    <a:lnTo>
                      <a:pt x="375" y="38"/>
                    </a:lnTo>
                    <a:lnTo>
                      <a:pt x="367" y="40"/>
                    </a:lnTo>
                    <a:lnTo>
                      <a:pt x="361" y="42"/>
                    </a:lnTo>
                    <a:lnTo>
                      <a:pt x="354" y="43"/>
                    </a:lnTo>
                    <a:lnTo>
                      <a:pt x="346" y="47"/>
                    </a:lnTo>
                    <a:lnTo>
                      <a:pt x="338" y="51"/>
                    </a:lnTo>
                    <a:lnTo>
                      <a:pt x="333" y="53"/>
                    </a:lnTo>
                    <a:lnTo>
                      <a:pt x="325" y="57"/>
                    </a:lnTo>
                    <a:lnTo>
                      <a:pt x="317" y="61"/>
                    </a:lnTo>
                    <a:lnTo>
                      <a:pt x="310" y="62"/>
                    </a:lnTo>
                    <a:lnTo>
                      <a:pt x="304" y="66"/>
                    </a:lnTo>
                    <a:lnTo>
                      <a:pt x="297" y="70"/>
                    </a:lnTo>
                    <a:lnTo>
                      <a:pt x="289" y="74"/>
                    </a:lnTo>
                    <a:lnTo>
                      <a:pt x="283" y="78"/>
                    </a:lnTo>
                    <a:lnTo>
                      <a:pt x="278" y="83"/>
                    </a:lnTo>
                    <a:lnTo>
                      <a:pt x="270" y="87"/>
                    </a:lnTo>
                    <a:lnTo>
                      <a:pt x="262" y="91"/>
                    </a:lnTo>
                    <a:lnTo>
                      <a:pt x="255" y="95"/>
                    </a:lnTo>
                    <a:lnTo>
                      <a:pt x="249" y="99"/>
                    </a:lnTo>
                    <a:lnTo>
                      <a:pt x="243" y="104"/>
                    </a:lnTo>
                    <a:lnTo>
                      <a:pt x="236" y="108"/>
                    </a:lnTo>
                    <a:lnTo>
                      <a:pt x="230" y="114"/>
                    </a:lnTo>
                    <a:lnTo>
                      <a:pt x="224" y="118"/>
                    </a:lnTo>
                    <a:lnTo>
                      <a:pt x="217" y="123"/>
                    </a:lnTo>
                    <a:lnTo>
                      <a:pt x="211" y="127"/>
                    </a:lnTo>
                    <a:lnTo>
                      <a:pt x="205" y="133"/>
                    </a:lnTo>
                    <a:lnTo>
                      <a:pt x="198" y="138"/>
                    </a:lnTo>
                    <a:lnTo>
                      <a:pt x="192" y="144"/>
                    </a:lnTo>
                    <a:lnTo>
                      <a:pt x="186" y="150"/>
                    </a:lnTo>
                    <a:lnTo>
                      <a:pt x="179" y="154"/>
                    </a:lnTo>
                    <a:lnTo>
                      <a:pt x="173" y="161"/>
                    </a:lnTo>
                    <a:lnTo>
                      <a:pt x="183" y="158"/>
                    </a:lnTo>
                    <a:lnTo>
                      <a:pt x="194" y="154"/>
                    </a:lnTo>
                    <a:lnTo>
                      <a:pt x="203" y="150"/>
                    </a:lnTo>
                    <a:lnTo>
                      <a:pt x="215" y="144"/>
                    </a:lnTo>
                    <a:lnTo>
                      <a:pt x="226" y="138"/>
                    </a:lnTo>
                    <a:lnTo>
                      <a:pt x="238" y="133"/>
                    </a:lnTo>
                    <a:lnTo>
                      <a:pt x="249" y="127"/>
                    </a:lnTo>
                    <a:lnTo>
                      <a:pt x="260" y="121"/>
                    </a:lnTo>
                    <a:lnTo>
                      <a:pt x="270" y="116"/>
                    </a:lnTo>
                    <a:lnTo>
                      <a:pt x="281" y="110"/>
                    </a:lnTo>
                    <a:lnTo>
                      <a:pt x="287" y="106"/>
                    </a:lnTo>
                    <a:lnTo>
                      <a:pt x="295" y="106"/>
                    </a:lnTo>
                    <a:lnTo>
                      <a:pt x="300" y="104"/>
                    </a:lnTo>
                    <a:lnTo>
                      <a:pt x="306" y="102"/>
                    </a:lnTo>
                    <a:lnTo>
                      <a:pt x="314" y="100"/>
                    </a:lnTo>
                    <a:lnTo>
                      <a:pt x="319" y="99"/>
                    </a:lnTo>
                    <a:lnTo>
                      <a:pt x="325" y="97"/>
                    </a:lnTo>
                    <a:lnTo>
                      <a:pt x="333" y="97"/>
                    </a:lnTo>
                    <a:lnTo>
                      <a:pt x="338" y="97"/>
                    </a:lnTo>
                    <a:lnTo>
                      <a:pt x="344" y="97"/>
                    </a:lnTo>
                    <a:lnTo>
                      <a:pt x="352" y="97"/>
                    </a:lnTo>
                    <a:lnTo>
                      <a:pt x="359" y="99"/>
                    </a:lnTo>
                    <a:lnTo>
                      <a:pt x="350" y="104"/>
                    </a:lnTo>
                    <a:lnTo>
                      <a:pt x="338" y="112"/>
                    </a:lnTo>
                    <a:lnTo>
                      <a:pt x="327" y="118"/>
                    </a:lnTo>
                    <a:lnTo>
                      <a:pt x="317" y="123"/>
                    </a:lnTo>
                    <a:lnTo>
                      <a:pt x="310" y="127"/>
                    </a:lnTo>
                    <a:lnTo>
                      <a:pt x="306" y="131"/>
                    </a:lnTo>
                    <a:lnTo>
                      <a:pt x="298" y="133"/>
                    </a:lnTo>
                    <a:lnTo>
                      <a:pt x="295" y="137"/>
                    </a:lnTo>
                    <a:lnTo>
                      <a:pt x="287" y="140"/>
                    </a:lnTo>
                    <a:lnTo>
                      <a:pt x="281" y="142"/>
                    </a:lnTo>
                    <a:lnTo>
                      <a:pt x="276" y="146"/>
                    </a:lnTo>
                    <a:lnTo>
                      <a:pt x="270" y="150"/>
                    </a:lnTo>
                    <a:lnTo>
                      <a:pt x="264" y="152"/>
                    </a:lnTo>
                    <a:lnTo>
                      <a:pt x="259" y="156"/>
                    </a:lnTo>
                    <a:lnTo>
                      <a:pt x="251" y="159"/>
                    </a:lnTo>
                    <a:lnTo>
                      <a:pt x="245" y="161"/>
                    </a:lnTo>
                    <a:lnTo>
                      <a:pt x="240" y="165"/>
                    </a:lnTo>
                    <a:lnTo>
                      <a:pt x="232" y="169"/>
                    </a:lnTo>
                    <a:lnTo>
                      <a:pt x="226" y="171"/>
                    </a:lnTo>
                    <a:lnTo>
                      <a:pt x="221" y="175"/>
                    </a:lnTo>
                    <a:lnTo>
                      <a:pt x="213" y="178"/>
                    </a:lnTo>
                    <a:lnTo>
                      <a:pt x="207" y="180"/>
                    </a:lnTo>
                    <a:lnTo>
                      <a:pt x="202" y="184"/>
                    </a:lnTo>
                    <a:lnTo>
                      <a:pt x="194" y="188"/>
                    </a:lnTo>
                    <a:lnTo>
                      <a:pt x="188" y="190"/>
                    </a:lnTo>
                    <a:lnTo>
                      <a:pt x="181" y="196"/>
                    </a:lnTo>
                    <a:lnTo>
                      <a:pt x="175" y="199"/>
                    </a:lnTo>
                    <a:lnTo>
                      <a:pt x="169" y="203"/>
                    </a:lnTo>
                    <a:lnTo>
                      <a:pt x="163" y="207"/>
                    </a:lnTo>
                    <a:lnTo>
                      <a:pt x="158" y="209"/>
                    </a:lnTo>
                    <a:lnTo>
                      <a:pt x="150" y="213"/>
                    </a:lnTo>
                    <a:lnTo>
                      <a:pt x="144" y="216"/>
                    </a:lnTo>
                    <a:lnTo>
                      <a:pt x="139" y="220"/>
                    </a:lnTo>
                    <a:lnTo>
                      <a:pt x="131" y="224"/>
                    </a:lnTo>
                    <a:lnTo>
                      <a:pt x="127" y="228"/>
                    </a:lnTo>
                    <a:lnTo>
                      <a:pt x="122" y="234"/>
                    </a:lnTo>
                    <a:lnTo>
                      <a:pt x="110" y="243"/>
                    </a:lnTo>
                    <a:lnTo>
                      <a:pt x="99" y="251"/>
                    </a:lnTo>
                    <a:lnTo>
                      <a:pt x="87" y="260"/>
                    </a:lnTo>
                    <a:lnTo>
                      <a:pt x="78" y="272"/>
                    </a:lnTo>
                    <a:lnTo>
                      <a:pt x="68" y="281"/>
                    </a:lnTo>
                    <a:lnTo>
                      <a:pt x="59" y="291"/>
                    </a:lnTo>
                    <a:lnTo>
                      <a:pt x="51" y="302"/>
                    </a:lnTo>
                    <a:lnTo>
                      <a:pt x="46" y="313"/>
                    </a:lnTo>
                    <a:lnTo>
                      <a:pt x="42" y="319"/>
                    </a:lnTo>
                    <a:lnTo>
                      <a:pt x="38" y="325"/>
                    </a:lnTo>
                    <a:lnTo>
                      <a:pt x="36" y="332"/>
                    </a:lnTo>
                    <a:lnTo>
                      <a:pt x="32" y="338"/>
                    </a:lnTo>
                    <a:lnTo>
                      <a:pt x="29" y="344"/>
                    </a:lnTo>
                    <a:lnTo>
                      <a:pt x="27" y="351"/>
                    </a:lnTo>
                    <a:lnTo>
                      <a:pt x="25" y="357"/>
                    </a:lnTo>
                    <a:lnTo>
                      <a:pt x="23" y="365"/>
                    </a:lnTo>
                    <a:lnTo>
                      <a:pt x="17" y="365"/>
                    </a:lnTo>
                    <a:lnTo>
                      <a:pt x="13" y="365"/>
                    </a:lnTo>
                    <a:lnTo>
                      <a:pt x="8" y="363"/>
                    </a:lnTo>
                    <a:lnTo>
                      <a:pt x="0" y="363"/>
                    </a:lnTo>
                    <a:lnTo>
                      <a:pt x="2" y="351"/>
                    </a:lnTo>
                    <a:lnTo>
                      <a:pt x="6" y="342"/>
                    </a:lnTo>
                    <a:lnTo>
                      <a:pt x="8" y="332"/>
                    </a:lnTo>
                    <a:lnTo>
                      <a:pt x="9" y="323"/>
                    </a:lnTo>
                    <a:lnTo>
                      <a:pt x="11" y="313"/>
                    </a:lnTo>
                    <a:lnTo>
                      <a:pt x="13" y="304"/>
                    </a:lnTo>
                    <a:lnTo>
                      <a:pt x="15" y="294"/>
                    </a:lnTo>
                    <a:lnTo>
                      <a:pt x="17" y="285"/>
                    </a:lnTo>
                    <a:lnTo>
                      <a:pt x="17" y="273"/>
                    </a:lnTo>
                    <a:lnTo>
                      <a:pt x="19" y="264"/>
                    </a:lnTo>
                    <a:lnTo>
                      <a:pt x="19" y="254"/>
                    </a:lnTo>
                    <a:lnTo>
                      <a:pt x="21" y="245"/>
                    </a:lnTo>
                    <a:lnTo>
                      <a:pt x="21" y="234"/>
                    </a:lnTo>
                    <a:lnTo>
                      <a:pt x="21" y="224"/>
                    </a:lnTo>
                    <a:lnTo>
                      <a:pt x="21" y="213"/>
                    </a:lnTo>
                    <a:lnTo>
                      <a:pt x="21" y="201"/>
                    </a:lnTo>
                    <a:lnTo>
                      <a:pt x="13" y="201"/>
                    </a:lnTo>
                    <a:lnTo>
                      <a:pt x="6" y="207"/>
                    </a:lnTo>
                    <a:lnTo>
                      <a:pt x="2" y="207"/>
                    </a:lnTo>
                    <a:lnTo>
                      <a:pt x="0" y="205"/>
                    </a:lnTo>
                    <a:lnTo>
                      <a:pt x="8" y="196"/>
                    </a:lnTo>
                    <a:lnTo>
                      <a:pt x="13" y="188"/>
                    </a:lnTo>
                    <a:lnTo>
                      <a:pt x="23" y="177"/>
                    </a:lnTo>
                    <a:lnTo>
                      <a:pt x="32" y="165"/>
                    </a:lnTo>
                    <a:lnTo>
                      <a:pt x="42" y="154"/>
                    </a:lnTo>
                    <a:lnTo>
                      <a:pt x="51" y="144"/>
                    </a:lnTo>
                    <a:lnTo>
                      <a:pt x="63" y="133"/>
                    </a:lnTo>
                    <a:lnTo>
                      <a:pt x="72" y="123"/>
                    </a:lnTo>
                    <a:lnTo>
                      <a:pt x="82" y="114"/>
                    </a:lnTo>
                    <a:lnTo>
                      <a:pt x="93" y="106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3" y="95"/>
                    </a:lnTo>
                    <a:lnTo>
                      <a:pt x="141" y="99"/>
                    </a:lnTo>
                    <a:lnTo>
                      <a:pt x="150" y="106"/>
                    </a:lnTo>
                    <a:lnTo>
                      <a:pt x="160" y="97"/>
                    </a:lnTo>
                    <a:lnTo>
                      <a:pt x="171" y="89"/>
                    </a:lnTo>
                    <a:lnTo>
                      <a:pt x="177" y="85"/>
                    </a:lnTo>
                    <a:lnTo>
                      <a:pt x="184" y="80"/>
                    </a:lnTo>
                    <a:lnTo>
                      <a:pt x="190" y="76"/>
                    </a:lnTo>
                    <a:lnTo>
                      <a:pt x="196" y="72"/>
                    </a:lnTo>
                    <a:lnTo>
                      <a:pt x="202" y="68"/>
                    </a:lnTo>
                    <a:lnTo>
                      <a:pt x="207" y="64"/>
                    </a:lnTo>
                    <a:lnTo>
                      <a:pt x="215" y="61"/>
                    </a:lnTo>
                    <a:lnTo>
                      <a:pt x="221" y="59"/>
                    </a:lnTo>
                    <a:lnTo>
                      <a:pt x="226" y="53"/>
                    </a:lnTo>
                    <a:lnTo>
                      <a:pt x="234" y="51"/>
                    </a:lnTo>
                    <a:lnTo>
                      <a:pt x="240" y="47"/>
                    </a:lnTo>
                    <a:lnTo>
                      <a:pt x="245" y="43"/>
                    </a:lnTo>
                    <a:lnTo>
                      <a:pt x="251" y="40"/>
                    </a:lnTo>
                    <a:lnTo>
                      <a:pt x="259" y="36"/>
                    </a:lnTo>
                    <a:lnTo>
                      <a:pt x="264" y="34"/>
                    </a:lnTo>
                    <a:lnTo>
                      <a:pt x="270" y="30"/>
                    </a:lnTo>
                    <a:lnTo>
                      <a:pt x="278" y="26"/>
                    </a:lnTo>
                    <a:lnTo>
                      <a:pt x="283" y="24"/>
                    </a:lnTo>
                    <a:lnTo>
                      <a:pt x="289" y="23"/>
                    </a:lnTo>
                    <a:lnTo>
                      <a:pt x="297" y="19"/>
                    </a:lnTo>
                    <a:lnTo>
                      <a:pt x="304" y="17"/>
                    </a:lnTo>
                    <a:lnTo>
                      <a:pt x="310" y="13"/>
                    </a:lnTo>
                    <a:lnTo>
                      <a:pt x="316" y="11"/>
                    </a:lnTo>
                    <a:lnTo>
                      <a:pt x="323" y="9"/>
                    </a:lnTo>
                    <a:lnTo>
                      <a:pt x="329" y="7"/>
                    </a:lnTo>
                    <a:lnTo>
                      <a:pt x="336" y="5"/>
                    </a:lnTo>
                    <a:lnTo>
                      <a:pt x="344" y="4"/>
                    </a:lnTo>
                    <a:lnTo>
                      <a:pt x="352" y="4"/>
                    </a:lnTo>
                    <a:lnTo>
                      <a:pt x="3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35960" y="3398760"/>
                <a:ext cx="37800" cy="128880"/>
              </a:xfrm>
              <a:custGeom>
                <a:avLst/>
                <a:gdLst/>
                <a:ahLst/>
                <a:rect l="l" t="t" r="r" b="b"/>
                <a:pathLst>
                  <a:path w="49" h="161">
                    <a:moveTo>
                      <a:pt x="9" y="0"/>
                    </a:moveTo>
                    <a:lnTo>
                      <a:pt x="15" y="4"/>
                    </a:lnTo>
                    <a:lnTo>
                      <a:pt x="20" y="11"/>
                    </a:lnTo>
                    <a:lnTo>
                      <a:pt x="26" y="17"/>
                    </a:lnTo>
                    <a:lnTo>
                      <a:pt x="30" y="28"/>
                    </a:lnTo>
                    <a:lnTo>
                      <a:pt x="32" y="38"/>
                    </a:lnTo>
                    <a:lnTo>
                      <a:pt x="34" y="47"/>
                    </a:lnTo>
                    <a:lnTo>
                      <a:pt x="34" y="53"/>
                    </a:lnTo>
                    <a:lnTo>
                      <a:pt x="36" y="59"/>
                    </a:lnTo>
                    <a:lnTo>
                      <a:pt x="36" y="64"/>
                    </a:lnTo>
                    <a:lnTo>
                      <a:pt x="38" y="70"/>
                    </a:lnTo>
                    <a:lnTo>
                      <a:pt x="38" y="76"/>
                    </a:lnTo>
                    <a:lnTo>
                      <a:pt x="38" y="81"/>
                    </a:lnTo>
                    <a:lnTo>
                      <a:pt x="38" y="87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9" y="106"/>
                    </a:lnTo>
                    <a:lnTo>
                      <a:pt x="39" y="112"/>
                    </a:lnTo>
                    <a:lnTo>
                      <a:pt x="39" y="118"/>
                    </a:lnTo>
                    <a:lnTo>
                      <a:pt x="39" y="123"/>
                    </a:lnTo>
                    <a:lnTo>
                      <a:pt x="41" y="129"/>
                    </a:lnTo>
                    <a:lnTo>
                      <a:pt x="43" y="135"/>
                    </a:lnTo>
                    <a:lnTo>
                      <a:pt x="43" y="140"/>
                    </a:lnTo>
                    <a:lnTo>
                      <a:pt x="45" y="152"/>
                    </a:lnTo>
                    <a:lnTo>
                      <a:pt x="49" y="161"/>
                    </a:lnTo>
                    <a:lnTo>
                      <a:pt x="38" y="158"/>
                    </a:lnTo>
                    <a:lnTo>
                      <a:pt x="30" y="152"/>
                    </a:lnTo>
                    <a:lnTo>
                      <a:pt x="22" y="144"/>
                    </a:lnTo>
                    <a:lnTo>
                      <a:pt x="17" y="137"/>
                    </a:lnTo>
                    <a:lnTo>
                      <a:pt x="11" y="125"/>
                    </a:lnTo>
                    <a:lnTo>
                      <a:pt x="7" y="116"/>
                    </a:lnTo>
                    <a:lnTo>
                      <a:pt x="5" y="108"/>
                    </a:lnTo>
                    <a:lnTo>
                      <a:pt x="5" y="102"/>
                    </a:lnTo>
                    <a:lnTo>
                      <a:pt x="3" y="97"/>
                    </a:lnTo>
                    <a:lnTo>
                      <a:pt x="3" y="91"/>
                    </a:lnTo>
                    <a:lnTo>
                      <a:pt x="1" y="83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7" y="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442080" y="3416400"/>
                <a:ext cx="133560" cy="665280"/>
              </a:xfrm>
              <a:custGeom>
                <a:avLst/>
                <a:gdLst/>
                <a:ahLst/>
                <a:rect l="l" t="t" r="r" b="b"/>
                <a:pathLst>
                  <a:path w="167" h="836">
                    <a:moveTo>
                      <a:pt x="0" y="0"/>
                    </a:moveTo>
                    <a:lnTo>
                      <a:pt x="4" y="7"/>
                    </a:lnTo>
                    <a:lnTo>
                      <a:pt x="6" y="17"/>
                    </a:lnTo>
                    <a:lnTo>
                      <a:pt x="8" y="24"/>
                    </a:lnTo>
                    <a:lnTo>
                      <a:pt x="12" y="34"/>
                    </a:lnTo>
                    <a:lnTo>
                      <a:pt x="13" y="43"/>
                    </a:lnTo>
                    <a:lnTo>
                      <a:pt x="17" y="51"/>
                    </a:lnTo>
                    <a:lnTo>
                      <a:pt x="19" y="60"/>
                    </a:lnTo>
                    <a:lnTo>
                      <a:pt x="23" y="70"/>
                    </a:lnTo>
                    <a:lnTo>
                      <a:pt x="23" y="79"/>
                    </a:lnTo>
                    <a:lnTo>
                      <a:pt x="25" y="89"/>
                    </a:lnTo>
                    <a:lnTo>
                      <a:pt x="27" y="98"/>
                    </a:lnTo>
                    <a:lnTo>
                      <a:pt x="29" y="108"/>
                    </a:lnTo>
                    <a:lnTo>
                      <a:pt x="31" y="117"/>
                    </a:lnTo>
                    <a:lnTo>
                      <a:pt x="32" y="127"/>
                    </a:lnTo>
                    <a:lnTo>
                      <a:pt x="34" y="136"/>
                    </a:lnTo>
                    <a:lnTo>
                      <a:pt x="36" y="146"/>
                    </a:lnTo>
                    <a:lnTo>
                      <a:pt x="38" y="155"/>
                    </a:lnTo>
                    <a:lnTo>
                      <a:pt x="38" y="165"/>
                    </a:lnTo>
                    <a:lnTo>
                      <a:pt x="40" y="174"/>
                    </a:lnTo>
                    <a:lnTo>
                      <a:pt x="42" y="184"/>
                    </a:lnTo>
                    <a:lnTo>
                      <a:pt x="44" y="193"/>
                    </a:lnTo>
                    <a:lnTo>
                      <a:pt x="46" y="205"/>
                    </a:lnTo>
                    <a:lnTo>
                      <a:pt x="46" y="214"/>
                    </a:lnTo>
                    <a:lnTo>
                      <a:pt x="50" y="226"/>
                    </a:lnTo>
                    <a:lnTo>
                      <a:pt x="50" y="235"/>
                    </a:lnTo>
                    <a:lnTo>
                      <a:pt x="51" y="245"/>
                    </a:lnTo>
                    <a:lnTo>
                      <a:pt x="51" y="254"/>
                    </a:lnTo>
                    <a:lnTo>
                      <a:pt x="53" y="266"/>
                    </a:lnTo>
                    <a:lnTo>
                      <a:pt x="55" y="275"/>
                    </a:lnTo>
                    <a:lnTo>
                      <a:pt x="57" y="285"/>
                    </a:lnTo>
                    <a:lnTo>
                      <a:pt x="59" y="296"/>
                    </a:lnTo>
                    <a:lnTo>
                      <a:pt x="61" y="306"/>
                    </a:lnTo>
                    <a:lnTo>
                      <a:pt x="61" y="317"/>
                    </a:lnTo>
                    <a:lnTo>
                      <a:pt x="63" y="327"/>
                    </a:lnTo>
                    <a:lnTo>
                      <a:pt x="63" y="336"/>
                    </a:lnTo>
                    <a:lnTo>
                      <a:pt x="65" y="346"/>
                    </a:lnTo>
                    <a:lnTo>
                      <a:pt x="67" y="355"/>
                    </a:lnTo>
                    <a:lnTo>
                      <a:pt x="69" y="366"/>
                    </a:lnTo>
                    <a:lnTo>
                      <a:pt x="71" y="376"/>
                    </a:lnTo>
                    <a:lnTo>
                      <a:pt x="72" y="385"/>
                    </a:lnTo>
                    <a:lnTo>
                      <a:pt x="74" y="395"/>
                    </a:lnTo>
                    <a:lnTo>
                      <a:pt x="76" y="404"/>
                    </a:lnTo>
                    <a:lnTo>
                      <a:pt x="78" y="414"/>
                    </a:lnTo>
                    <a:lnTo>
                      <a:pt x="80" y="425"/>
                    </a:lnTo>
                    <a:lnTo>
                      <a:pt x="82" y="435"/>
                    </a:lnTo>
                    <a:lnTo>
                      <a:pt x="84" y="446"/>
                    </a:lnTo>
                    <a:lnTo>
                      <a:pt x="88" y="456"/>
                    </a:lnTo>
                    <a:lnTo>
                      <a:pt x="91" y="465"/>
                    </a:lnTo>
                    <a:lnTo>
                      <a:pt x="93" y="475"/>
                    </a:lnTo>
                    <a:lnTo>
                      <a:pt x="97" y="484"/>
                    </a:lnTo>
                    <a:lnTo>
                      <a:pt x="99" y="494"/>
                    </a:lnTo>
                    <a:lnTo>
                      <a:pt x="103" y="503"/>
                    </a:lnTo>
                    <a:lnTo>
                      <a:pt x="107" y="513"/>
                    </a:lnTo>
                    <a:lnTo>
                      <a:pt x="109" y="522"/>
                    </a:lnTo>
                    <a:lnTo>
                      <a:pt x="112" y="532"/>
                    </a:lnTo>
                    <a:lnTo>
                      <a:pt x="116" y="541"/>
                    </a:lnTo>
                    <a:lnTo>
                      <a:pt x="120" y="549"/>
                    </a:lnTo>
                    <a:lnTo>
                      <a:pt x="124" y="558"/>
                    </a:lnTo>
                    <a:lnTo>
                      <a:pt x="128" y="568"/>
                    </a:lnTo>
                    <a:lnTo>
                      <a:pt x="133" y="577"/>
                    </a:lnTo>
                    <a:lnTo>
                      <a:pt x="137" y="587"/>
                    </a:lnTo>
                    <a:lnTo>
                      <a:pt x="143" y="596"/>
                    </a:lnTo>
                    <a:lnTo>
                      <a:pt x="147" y="604"/>
                    </a:lnTo>
                    <a:lnTo>
                      <a:pt x="152" y="614"/>
                    </a:lnTo>
                    <a:lnTo>
                      <a:pt x="154" y="623"/>
                    </a:lnTo>
                    <a:lnTo>
                      <a:pt x="156" y="633"/>
                    </a:lnTo>
                    <a:lnTo>
                      <a:pt x="158" y="642"/>
                    </a:lnTo>
                    <a:lnTo>
                      <a:pt x="160" y="652"/>
                    </a:lnTo>
                    <a:lnTo>
                      <a:pt x="162" y="661"/>
                    </a:lnTo>
                    <a:lnTo>
                      <a:pt x="162" y="673"/>
                    </a:lnTo>
                    <a:lnTo>
                      <a:pt x="164" y="684"/>
                    </a:lnTo>
                    <a:lnTo>
                      <a:pt x="166" y="695"/>
                    </a:lnTo>
                    <a:lnTo>
                      <a:pt x="166" y="705"/>
                    </a:lnTo>
                    <a:lnTo>
                      <a:pt x="166" y="714"/>
                    </a:lnTo>
                    <a:lnTo>
                      <a:pt x="166" y="726"/>
                    </a:lnTo>
                    <a:lnTo>
                      <a:pt x="166" y="735"/>
                    </a:lnTo>
                    <a:lnTo>
                      <a:pt x="166" y="747"/>
                    </a:lnTo>
                    <a:lnTo>
                      <a:pt x="166" y="758"/>
                    </a:lnTo>
                    <a:lnTo>
                      <a:pt x="166" y="764"/>
                    </a:lnTo>
                    <a:lnTo>
                      <a:pt x="166" y="769"/>
                    </a:lnTo>
                    <a:lnTo>
                      <a:pt x="166" y="775"/>
                    </a:lnTo>
                    <a:lnTo>
                      <a:pt x="166" y="781"/>
                    </a:lnTo>
                    <a:lnTo>
                      <a:pt x="162" y="781"/>
                    </a:lnTo>
                    <a:lnTo>
                      <a:pt x="158" y="781"/>
                    </a:lnTo>
                    <a:lnTo>
                      <a:pt x="156" y="771"/>
                    </a:lnTo>
                    <a:lnTo>
                      <a:pt x="154" y="762"/>
                    </a:lnTo>
                    <a:lnTo>
                      <a:pt x="152" y="756"/>
                    </a:lnTo>
                    <a:lnTo>
                      <a:pt x="152" y="750"/>
                    </a:lnTo>
                    <a:lnTo>
                      <a:pt x="147" y="743"/>
                    </a:lnTo>
                    <a:lnTo>
                      <a:pt x="145" y="739"/>
                    </a:lnTo>
                    <a:lnTo>
                      <a:pt x="139" y="739"/>
                    </a:lnTo>
                    <a:lnTo>
                      <a:pt x="137" y="743"/>
                    </a:lnTo>
                    <a:lnTo>
                      <a:pt x="133" y="749"/>
                    </a:lnTo>
                    <a:lnTo>
                      <a:pt x="133" y="758"/>
                    </a:lnTo>
                    <a:lnTo>
                      <a:pt x="129" y="766"/>
                    </a:lnTo>
                    <a:lnTo>
                      <a:pt x="129" y="777"/>
                    </a:lnTo>
                    <a:lnTo>
                      <a:pt x="129" y="783"/>
                    </a:lnTo>
                    <a:lnTo>
                      <a:pt x="129" y="788"/>
                    </a:lnTo>
                    <a:lnTo>
                      <a:pt x="131" y="794"/>
                    </a:lnTo>
                    <a:lnTo>
                      <a:pt x="135" y="800"/>
                    </a:lnTo>
                    <a:lnTo>
                      <a:pt x="139" y="809"/>
                    </a:lnTo>
                    <a:lnTo>
                      <a:pt x="147" y="821"/>
                    </a:lnTo>
                    <a:lnTo>
                      <a:pt x="148" y="825"/>
                    </a:lnTo>
                    <a:lnTo>
                      <a:pt x="156" y="830"/>
                    </a:lnTo>
                    <a:lnTo>
                      <a:pt x="162" y="832"/>
                    </a:lnTo>
                    <a:lnTo>
                      <a:pt x="167" y="836"/>
                    </a:lnTo>
                    <a:lnTo>
                      <a:pt x="162" y="834"/>
                    </a:lnTo>
                    <a:lnTo>
                      <a:pt x="156" y="830"/>
                    </a:lnTo>
                    <a:lnTo>
                      <a:pt x="150" y="827"/>
                    </a:lnTo>
                    <a:lnTo>
                      <a:pt x="147" y="825"/>
                    </a:lnTo>
                    <a:lnTo>
                      <a:pt x="137" y="817"/>
                    </a:lnTo>
                    <a:lnTo>
                      <a:pt x="129" y="811"/>
                    </a:lnTo>
                    <a:lnTo>
                      <a:pt x="122" y="804"/>
                    </a:lnTo>
                    <a:lnTo>
                      <a:pt x="116" y="796"/>
                    </a:lnTo>
                    <a:lnTo>
                      <a:pt x="110" y="787"/>
                    </a:lnTo>
                    <a:lnTo>
                      <a:pt x="107" y="779"/>
                    </a:lnTo>
                    <a:lnTo>
                      <a:pt x="103" y="769"/>
                    </a:lnTo>
                    <a:lnTo>
                      <a:pt x="99" y="760"/>
                    </a:lnTo>
                    <a:lnTo>
                      <a:pt x="97" y="750"/>
                    </a:lnTo>
                    <a:lnTo>
                      <a:pt x="97" y="741"/>
                    </a:lnTo>
                    <a:lnTo>
                      <a:pt x="93" y="730"/>
                    </a:lnTo>
                    <a:lnTo>
                      <a:pt x="93" y="718"/>
                    </a:lnTo>
                    <a:lnTo>
                      <a:pt x="93" y="709"/>
                    </a:lnTo>
                    <a:lnTo>
                      <a:pt x="93" y="699"/>
                    </a:lnTo>
                    <a:lnTo>
                      <a:pt x="93" y="693"/>
                    </a:lnTo>
                    <a:lnTo>
                      <a:pt x="93" y="688"/>
                    </a:lnTo>
                    <a:lnTo>
                      <a:pt x="93" y="680"/>
                    </a:lnTo>
                    <a:lnTo>
                      <a:pt x="93" y="676"/>
                    </a:lnTo>
                    <a:lnTo>
                      <a:pt x="93" y="665"/>
                    </a:lnTo>
                    <a:lnTo>
                      <a:pt x="95" y="654"/>
                    </a:lnTo>
                    <a:lnTo>
                      <a:pt x="95" y="642"/>
                    </a:lnTo>
                    <a:lnTo>
                      <a:pt x="97" y="631"/>
                    </a:lnTo>
                    <a:lnTo>
                      <a:pt x="97" y="619"/>
                    </a:lnTo>
                    <a:lnTo>
                      <a:pt x="99" y="610"/>
                    </a:lnTo>
                    <a:lnTo>
                      <a:pt x="97" y="598"/>
                    </a:lnTo>
                    <a:lnTo>
                      <a:pt x="97" y="587"/>
                    </a:lnTo>
                    <a:lnTo>
                      <a:pt x="97" y="576"/>
                    </a:lnTo>
                    <a:lnTo>
                      <a:pt x="97" y="566"/>
                    </a:lnTo>
                    <a:lnTo>
                      <a:pt x="95" y="557"/>
                    </a:lnTo>
                    <a:lnTo>
                      <a:pt x="93" y="545"/>
                    </a:lnTo>
                    <a:lnTo>
                      <a:pt x="91" y="536"/>
                    </a:lnTo>
                    <a:lnTo>
                      <a:pt x="90" y="528"/>
                    </a:lnTo>
                    <a:lnTo>
                      <a:pt x="82" y="519"/>
                    </a:lnTo>
                    <a:lnTo>
                      <a:pt x="74" y="511"/>
                    </a:lnTo>
                    <a:lnTo>
                      <a:pt x="69" y="501"/>
                    </a:lnTo>
                    <a:lnTo>
                      <a:pt x="65" y="492"/>
                    </a:lnTo>
                    <a:lnTo>
                      <a:pt x="59" y="479"/>
                    </a:lnTo>
                    <a:lnTo>
                      <a:pt x="53" y="469"/>
                    </a:lnTo>
                    <a:lnTo>
                      <a:pt x="51" y="458"/>
                    </a:lnTo>
                    <a:lnTo>
                      <a:pt x="48" y="446"/>
                    </a:lnTo>
                    <a:lnTo>
                      <a:pt x="44" y="439"/>
                    </a:lnTo>
                    <a:lnTo>
                      <a:pt x="44" y="433"/>
                    </a:lnTo>
                    <a:lnTo>
                      <a:pt x="42" y="427"/>
                    </a:lnTo>
                    <a:lnTo>
                      <a:pt x="40" y="420"/>
                    </a:lnTo>
                    <a:lnTo>
                      <a:pt x="38" y="412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3"/>
                    </a:lnTo>
                    <a:lnTo>
                      <a:pt x="34" y="385"/>
                    </a:lnTo>
                    <a:lnTo>
                      <a:pt x="34" y="378"/>
                    </a:lnTo>
                    <a:lnTo>
                      <a:pt x="32" y="370"/>
                    </a:lnTo>
                    <a:lnTo>
                      <a:pt x="32" y="365"/>
                    </a:lnTo>
                    <a:lnTo>
                      <a:pt x="32" y="357"/>
                    </a:lnTo>
                    <a:lnTo>
                      <a:pt x="31" y="351"/>
                    </a:lnTo>
                    <a:lnTo>
                      <a:pt x="31" y="344"/>
                    </a:lnTo>
                    <a:lnTo>
                      <a:pt x="31" y="338"/>
                    </a:lnTo>
                    <a:lnTo>
                      <a:pt x="29" y="328"/>
                    </a:lnTo>
                    <a:lnTo>
                      <a:pt x="29" y="321"/>
                    </a:lnTo>
                    <a:lnTo>
                      <a:pt x="27" y="313"/>
                    </a:lnTo>
                    <a:lnTo>
                      <a:pt x="27" y="306"/>
                    </a:lnTo>
                    <a:lnTo>
                      <a:pt x="27" y="300"/>
                    </a:lnTo>
                    <a:lnTo>
                      <a:pt x="25" y="292"/>
                    </a:lnTo>
                    <a:lnTo>
                      <a:pt x="25" y="285"/>
                    </a:lnTo>
                    <a:lnTo>
                      <a:pt x="25" y="277"/>
                    </a:lnTo>
                    <a:lnTo>
                      <a:pt x="25" y="270"/>
                    </a:lnTo>
                    <a:lnTo>
                      <a:pt x="25" y="262"/>
                    </a:lnTo>
                    <a:lnTo>
                      <a:pt x="23" y="254"/>
                    </a:lnTo>
                    <a:lnTo>
                      <a:pt x="23" y="247"/>
                    </a:lnTo>
                    <a:lnTo>
                      <a:pt x="23" y="239"/>
                    </a:lnTo>
                    <a:lnTo>
                      <a:pt x="23" y="231"/>
                    </a:lnTo>
                    <a:lnTo>
                      <a:pt x="23" y="226"/>
                    </a:lnTo>
                    <a:lnTo>
                      <a:pt x="23" y="218"/>
                    </a:lnTo>
                    <a:lnTo>
                      <a:pt x="21" y="211"/>
                    </a:lnTo>
                    <a:lnTo>
                      <a:pt x="19" y="203"/>
                    </a:lnTo>
                    <a:lnTo>
                      <a:pt x="19" y="195"/>
                    </a:lnTo>
                    <a:lnTo>
                      <a:pt x="19" y="190"/>
                    </a:lnTo>
                    <a:lnTo>
                      <a:pt x="17" y="182"/>
                    </a:lnTo>
                    <a:lnTo>
                      <a:pt x="17" y="174"/>
                    </a:lnTo>
                    <a:lnTo>
                      <a:pt x="17" y="167"/>
                    </a:lnTo>
                    <a:lnTo>
                      <a:pt x="17" y="161"/>
                    </a:lnTo>
                    <a:lnTo>
                      <a:pt x="15" y="154"/>
                    </a:lnTo>
                    <a:lnTo>
                      <a:pt x="15" y="148"/>
                    </a:lnTo>
                    <a:lnTo>
                      <a:pt x="13" y="140"/>
                    </a:lnTo>
                    <a:lnTo>
                      <a:pt x="13" y="135"/>
                    </a:lnTo>
                    <a:lnTo>
                      <a:pt x="10" y="129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8" y="110"/>
                    </a:lnTo>
                    <a:lnTo>
                      <a:pt x="8" y="102"/>
                    </a:lnTo>
                    <a:lnTo>
                      <a:pt x="8" y="95"/>
                    </a:lnTo>
                    <a:lnTo>
                      <a:pt x="8" y="87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4" y="43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18480" y="3446640"/>
                <a:ext cx="60120" cy="239400"/>
              </a:xfrm>
              <a:custGeom>
                <a:avLst/>
                <a:gdLst/>
                <a:ahLst/>
                <a:rect l="l" t="t" r="r" b="b"/>
                <a:pathLst>
                  <a:path w="74" h="302">
                    <a:moveTo>
                      <a:pt x="70" y="0"/>
                    </a:moveTo>
                    <a:lnTo>
                      <a:pt x="70" y="9"/>
                    </a:lnTo>
                    <a:lnTo>
                      <a:pt x="72" y="19"/>
                    </a:lnTo>
                    <a:lnTo>
                      <a:pt x="72" y="28"/>
                    </a:lnTo>
                    <a:lnTo>
                      <a:pt x="74" y="38"/>
                    </a:lnTo>
                    <a:lnTo>
                      <a:pt x="74" y="47"/>
                    </a:lnTo>
                    <a:lnTo>
                      <a:pt x="74" y="57"/>
                    </a:lnTo>
                    <a:lnTo>
                      <a:pt x="72" y="66"/>
                    </a:lnTo>
                    <a:lnTo>
                      <a:pt x="72" y="78"/>
                    </a:lnTo>
                    <a:lnTo>
                      <a:pt x="70" y="87"/>
                    </a:lnTo>
                    <a:lnTo>
                      <a:pt x="68" y="97"/>
                    </a:lnTo>
                    <a:lnTo>
                      <a:pt x="66" y="106"/>
                    </a:lnTo>
                    <a:lnTo>
                      <a:pt x="65" y="116"/>
                    </a:lnTo>
                    <a:lnTo>
                      <a:pt x="61" y="125"/>
                    </a:lnTo>
                    <a:lnTo>
                      <a:pt x="59" y="135"/>
                    </a:lnTo>
                    <a:lnTo>
                      <a:pt x="55" y="144"/>
                    </a:lnTo>
                    <a:lnTo>
                      <a:pt x="53" y="154"/>
                    </a:lnTo>
                    <a:lnTo>
                      <a:pt x="49" y="163"/>
                    </a:lnTo>
                    <a:lnTo>
                      <a:pt x="46" y="173"/>
                    </a:lnTo>
                    <a:lnTo>
                      <a:pt x="42" y="180"/>
                    </a:lnTo>
                    <a:lnTo>
                      <a:pt x="40" y="190"/>
                    </a:lnTo>
                    <a:lnTo>
                      <a:pt x="34" y="199"/>
                    </a:lnTo>
                    <a:lnTo>
                      <a:pt x="32" y="209"/>
                    </a:lnTo>
                    <a:lnTo>
                      <a:pt x="28" y="218"/>
                    </a:lnTo>
                    <a:lnTo>
                      <a:pt x="25" y="228"/>
                    </a:lnTo>
                    <a:lnTo>
                      <a:pt x="21" y="237"/>
                    </a:lnTo>
                    <a:lnTo>
                      <a:pt x="17" y="247"/>
                    </a:lnTo>
                    <a:lnTo>
                      <a:pt x="15" y="254"/>
                    </a:lnTo>
                    <a:lnTo>
                      <a:pt x="11" y="264"/>
                    </a:lnTo>
                    <a:lnTo>
                      <a:pt x="7" y="273"/>
                    </a:lnTo>
                    <a:lnTo>
                      <a:pt x="6" y="283"/>
                    </a:lnTo>
                    <a:lnTo>
                      <a:pt x="4" y="292"/>
                    </a:lnTo>
                    <a:lnTo>
                      <a:pt x="2" y="30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0" y="275"/>
                    </a:lnTo>
                    <a:lnTo>
                      <a:pt x="0" y="268"/>
                    </a:lnTo>
                    <a:lnTo>
                      <a:pt x="0" y="258"/>
                    </a:lnTo>
                    <a:lnTo>
                      <a:pt x="2" y="249"/>
                    </a:lnTo>
                    <a:lnTo>
                      <a:pt x="4" y="239"/>
                    </a:lnTo>
                    <a:lnTo>
                      <a:pt x="6" y="232"/>
                    </a:lnTo>
                    <a:lnTo>
                      <a:pt x="7" y="222"/>
                    </a:lnTo>
                    <a:lnTo>
                      <a:pt x="9" y="212"/>
                    </a:lnTo>
                    <a:lnTo>
                      <a:pt x="13" y="203"/>
                    </a:lnTo>
                    <a:lnTo>
                      <a:pt x="15" y="193"/>
                    </a:lnTo>
                    <a:lnTo>
                      <a:pt x="19" y="184"/>
                    </a:lnTo>
                    <a:lnTo>
                      <a:pt x="23" y="174"/>
                    </a:lnTo>
                    <a:lnTo>
                      <a:pt x="25" y="165"/>
                    </a:lnTo>
                    <a:lnTo>
                      <a:pt x="28" y="155"/>
                    </a:lnTo>
                    <a:lnTo>
                      <a:pt x="32" y="144"/>
                    </a:lnTo>
                    <a:lnTo>
                      <a:pt x="34" y="135"/>
                    </a:lnTo>
                    <a:lnTo>
                      <a:pt x="38" y="125"/>
                    </a:lnTo>
                    <a:lnTo>
                      <a:pt x="42" y="116"/>
                    </a:lnTo>
                    <a:lnTo>
                      <a:pt x="44" y="106"/>
                    </a:lnTo>
                    <a:lnTo>
                      <a:pt x="47" y="97"/>
                    </a:lnTo>
                    <a:lnTo>
                      <a:pt x="51" y="87"/>
                    </a:lnTo>
                    <a:lnTo>
                      <a:pt x="53" y="78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1" y="47"/>
                    </a:lnTo>
                    <a:lnTo>
                      <a:pt x="63" y="38"/>
                    </a:lnTo>
                    <a:lnTo>
                      <a:pt x="65" y="28"/>
                    </a:lnTo>
                    <a:lnTo>
                      <a:pt x="66" y="19"/>
                    </a:lnTo>
                    <a:lnTo>
                      <a:pt x="68" y="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224080" y="3454560"/>
                <a:ext cx="131760" cy="147600"/>
              </a:xfrm>
              <a:custGeom>
                <a:avLst/>
                <a:gdLst/>
                <a:ahLst/>
                <a:rect l="l" t="t" r="r" b="b"/>
                <a:pathLst>
                  <a:path w="165" h="186">
                    <a:moveTo>
                      <a:pt x="0" y="0"/>
                    </a:moveTo>
                    <a:lnTo>
                      <a:pt x="9" y="8"/>
                    </a:lnTo>
                    <a:lnTo>
                      <a:pt x="19" y="17"/>
                    </a:lnTo>
                    <a:lnTo>
                      <a:pt x="24" y="23"/>
                    </a:lnTo>
                    <a:lnTo>
                      <a:pt x="32" y="29"/>
                    </a:lnTo>
                    <a:lnTo>
                      <a:pt x="38" y="32"/>
                    </a:lnTo>
                    <a:lnTo>
                      <a:pt x="43" y="38"/>
                    </a:lnTo>
                    <a:lnTo>
                      <a:pt x="51" y="44"/>
                    </a:lnTo>
                    <a:lnTo>
                      <a:pt x="57" y="48"/>
                    </a:lnTo>
                    <a:lnTo>
                      <a:pt x="62" y="53"/>
                    </a:lnTo>
                    <a:lnTo>
                      <a:pt x="70" y="61"/>
                    </a:lnTo>
                    <a:lnTo>
                      <a:pt x="76" y="65"/>
                    </a:lnTo>
                    <a:lnTo>
                      <a:pt x="81" y="72"/>
                    </a:lnTo>
                    <a:lnTo>
                      <a:pt x="89" y="78"/>
                    </a:lnTo>
                    <a:lnTo>
                      <a:pt x="95" y="84"/>
                    </a:lnTo>
                    <a:lnTo>
                      <a:pt x="100" y="89"/>
                    </a:lnTo>
                    <a:lnTo>
                      <a:pt x="106" y="97"/>
                    </a:lnTo>
                    <a:lnTo>
                      <a:pt x="110" y="101"/>
                    </a:lnTo>
                    <a:lnTo>
                      <a:pt x="118" y="108"/>
                    </a:lnTo>
                    <a:lnTo>
                      <a:pt x="123" y="114"/>
                    </a:lnTo>
                    <a:lnTo>
                      <a:pt x="127" y="120"/>
                    </a:lnTo>
                    <a:lnTo>
                      <a:pt x="133" y="127"/>
                    </a:lnTo>
                    <a:lnTo>
                      <a:pt x="139" y="133"/>
                    </a:lnTo>
                    <a:lnTo>
                      <a:pt x="142" y="139"/>
                    </a:lnTo>
                    <a:lnTo>
                      <a:pt x="146" y="146"/>
                    </a:lnTo>
                    <a:lnTo>
                      <a:pt x="148" y="152"/>
                    </a:lnTo>
                    <a:lnTo>
                      <a:pt x="154" y="160"/>
                    </a:lnTo>
                    <a:lnTo>
                      <a:pt x="156" y="165"/>
                    </a:lnTo>
                    <a:lnTo>
                      <a:pt x="159" y="173"/>
                    </a:lnTo>
                    <a:lnTo>
                      <a:pt x="161" y="179"/>
                    </a:lnTo>
                    <a:lnTo>
                      <a:pt x="165" y="186"/>
                    </a:lnTo>
                    <a:lnTo>
                      <a:pt x="156" y="181"/>
                    </a:lnTo>
                    <a:lnTo>
                      <a:pt x="148" y="177"/>
                    </a:lnTo>
                    <a:lnTo>
                      <a:pt x="142" y="173"/>
                    </a:lnTo>
                    <a:lnTo>
                      <a:pt x="135" y="169"/>
                    </a:lnTo>
                    <a:lnTo>
                      <a:pt x="127" y="164"/>
                    </a:lnTo>
                    <a:lnTo>
                      <a:pt x="120" y="158"/>
                    </a:lnTo>
                    <a:lnTo>
                      <a:pt x="112" y="152"/>
                    </a:lnTo>
                    <a:lnTo>
                      <a:pt x="106" y="148"/>
                    </a:lnTo>
                    <a:lnTo>
                      <a:pt x="99" y="143"/>
                    </a:lnTo>
                    <a:lnTo>
                      <a:pt x="91" y="137"/>
                    </a:lnTo>
                    <a:lnTo>
                      <a:pt x="85" y="131"/>
                    </a:lnTo>
                    <a:lnTo>
                      <a:pt x="80" y="126"/>
                    </a:lnTo>
                    <a:lnTo>
                      <a:pt x="72" y="120"/>
                    </a:lnTo>
                    <a:lnTo>
                      <a:pt x="64" y="114"/>
                    </a:lnTo>
                    <a:lnTo>
                      <a:pt x="61" y="108"/>
                    </a:lnTo>
                    <a:lnTo>
                      <a:pt x="55" y="103"/>
                    </a:lnTo>
                    <a:lnTo>
                      <a:pt x="49" y="97"/>
                    </a:lnTo>
                    <a:lnTo>
                      <a:pt x="42" y="89"/>
                    </a:lnTo>
                    <a:lnTo>
                      <a:pt x="36" y="84"/>
                    </a:lnTo>
                    <a:lnTo>
                      <a:pt x="32" y="78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19" y="57"/>
                    </a:lnTo>
                    <a:lnTo>
                      <a:pt x="15" y="51"/>
                    </a:lnTo>
                    <a:lnTo>
                      <a:pt x="11" y="44"/>
                    </a:lnTo>
                    <a:lnTo>
                      <a:pt x="7" y="38"/>
                    </a:lnTo>
                    <a:lnTo>
                      <a:pt x="5" y="32"/>
                    </a:lnTo>
                    <a:lnTo>
                      <a:pt x="4" y="25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434320" y="3471840"/>
                <a:ext cx="179640" cy="31680"/>
              </a:xfrm>
              <a:custGeom>
                <a:avLst/>
                <a:gdLst/>
                <a:ahLst/>
                <a:rect l="l" t="t" r="r" b="b"/>
                <a:pathLst>
                  <a:path w="226" h="40">
                    <a:moveTo>
                      <a:pt x="118" y="2"/>
                    </a:moveTo>
                    <a:lnTo>
                      <a:pt x="123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4" y="2"/>
                    </a:lnTo>
                    <a:lnTo>
                      <a:pt x="192" y="2"/>
                    </a:lnTo>
                    <a:lnTo>
                      <a:pt x="197" y="6"/>
                    </a:lnTo>
                    <a:lnTo>
                      <a:pt x="205" y="7"/>
                    </a:lnTo>
                    <a:lnTo>
                      <a:pt x="211" y="13"/>
                    </a:lnTo>
                    <a:lnTo>
                      <a:pt x="216" y="17"/>
                    </a:lnTo>
                    <a:lnTo>
                      <a:pt x="220" y="23"/>
                    </a:lnTo>
                    <a:lnTo>
                      <a:pt x="224" y="30"/>
                    </a:lnTo>
                    <a:lnTo>
                      <a:pt x="226" y="40"/>
                    </a:lnTo>
                    <a:lnTo>
                      <a:pt x="220" y="40"/>
                    </a:lnTo>
                    <a:lnTo>
                      <a:pt x="213" y="38"/>
                    </a:lnTo>
                    <a:lnTo>
                      <a:pt x="205" y="38"/>
                    </a:lnTo>
                    <a:lnTo>
                      <a:pt x="199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78" y="36"/>
                    </a:lnTo>
                    <a:lnTo>
                      <a:pt x="173" y="36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0" y="34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29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06" y="34"/>
                    </a:lnTo>
                    <a:lnTo>
                      <a:pt x="99" y="34"/>
                    </a:lnTo>
                    <a:lnTo>
                      <a:pt x="91" y="34"/>
                    </a:lnTo>
                    <a:lnTo>
                      <a:pt x="85" y="34"/>
                    </a:lnTo>
                    <a:lnTo>
                      <a:pt x="76" y="32"/>
                    </a:lnTo>
                    <a:lnTo>
                      <a:pt x="68" y="32"/>
                    </a:lnTo>
                    <a:lnTo>
                      <a:pt x="62" y="32"/>
                    </a:lnTo>
                    <a:lnTo>
                      <a:pt x="55" y="32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19" y="32"/>
                    </a:lnTo>
                    <a:lnTo>
                      <a:pt x="11" y="32"/>
                    </a:lnTo>
                    <a:lnTo>
                      <a:pt x="5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5" y="23"/>
                    </a:lnTo>
                    <a:lnTo>
                      <a:pt x="11" y="19"/>
                    </a:lnTo>
                    <a:lnTo>
                      <a:pt x="19" y="17"/>
                    </a:lnTo>
                    <a:lnTo>
                      <a:pt x="26" y="15"/>
                    </a:lnTo>
                    <a:lnTo>
                      <a:pt x="32" y="15"/>
                    </a:lnTo>
                    <a:lnTo>
                      <a:pt x="42" y="13"/>
                    </a:lnTo>
                    <a:lnTo>
                      <a:pt x="49" y="13"/>
                    </a:lnTo>
                    <a:lnTo>
                      <a:pt x="57" y="13"/>
                    </a:lnTo>
                    <a:lnTo>
                      <a:pt x="64" y="13"/>
                    </a:lnTo>
                    <a:lnTo>
                      <a:pt x="72" y="11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6"/>
                    </a:lnTo>
                    <a:lnTo>
                      <a:pt x="110" y="4"/>
                    </a:lnTo>
                    <a:lnTo>
                      <a:pt x="118" y="2"/>
                    </a:lnTo>
                    <a:lnTo>
                      <a:pt x="1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905760" y="3492720"/>
                <a:ext cx="142920" cy="139680"/>
              </a:xfrm>
              <a:custGeom>
                <a:avLst/>
                <a:gdLst/>
                <a:ahLst/>
                <a:rect l="l" t="t" r="r" b="b"/>
                <a:pathLst>
                  <a:path w="181" h="176">
                    <a:moveTo>
                      <a:pt x="168" y="0"/>
                    </a:moveTo>
                    <a:lnTo>
                      <a:pt x="169" y="0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75" y="5"/>
                    </a:lnTo>
                    <a:lnTo>
                      <a:pt x="169" y="11"/>
                    </a:lnTo>
                    <a:lnTo>
                      <a:pt x="166" y="17"/>
                    </a:lnTo>
                    <a:lnTo>
                      <a:pt x="160" y="24"/>
                    </a:lnTo>
                    <a:lnTo>
                      <a:pt x="156" y="32"/>
                    </a:lnTo>
                    <a:lnTo>
                      <a:pt x="150" y="40"/>
                    </a:lnTo>
                    <a:lnTo>
                      <a:pt x="147" y="47"/>
                    </a:lnTo>
                    <a:lnTo>
                      <a:pt x="143" y="55"/>
                    </a:lnTo>
                    <a:lnTo>
                      <a:pt x="139" y="62"/>
                    </a:lnTo>
                    <a:lnTo>
                      <a:pt x="137" y="72"/>
                    </a:lnTo>
                    <a:lnTo>
                      <a:pt x="131" y="79"/>
                    </a:lnTo>
                    <a:lnTo>
                      <a:pt x="129" y="87"/>
                    </a:lnTo>
                    <a:lnTo>
                      <a:pt x="124" y="95"/>
                    </a:lnTo>
                    <a:lnTo>
                      <a:pt x="120" y="104"/>
                    </a:lnTo>
                    <a:lnTo>
                      <a:pt x="116" y="112"/>
                    </a:lnTo>
                    <a:lnTo>
                      <a:pt x="112" y="119"/>
                    </a:lnTo>
                    <a:lnTo>
                      <a:pt x="109" y="125"/>
                    </a:lnTo>
                    <a:lnTo>
                      <a:pt x="103" y="133"/>
                    </a:lnTo>
                    <a:lnTo>
                      <a:pt x="97" y="138"/>
                    </a:lnTo>
                    <a:lnTo>
                      <a:pt x="93" y="146"/>
                    </a:lnTo>
                    <a:lnTo>
                      <a:pt x="88" y="152"/>
                    </a:lnTo>
                    <a:lnTo>
                      <a:pt x="82" y="157"/>
                    </a:lnTo>
                    <a:lnTo>
                      <a:pt x="76" y="161"/>
                    </a:lnTo>
                    <a:lnTo>
                      <a:pt x="71" y="167"/>
                    </a:lnTo>
                    <a:lnTo>
                      <a:pt x="63" y="169"/>
                    </a:lnTo>
                    <a:lnTo>
                      <a:pt x="55" y="173"/>
                    </a:lnTo>
                    <a:lnTo>
                      <a:pt x="48" y="175"/>
                    </a:lnTo>
                    <a:lnTo>
                      <a:pt x="40" y="176"/>
                    </a:lnTo>
                    <a:lnTo>
                      <a:pt x="31" y="176"/>
                    </a:lnTo>
                    <a:lnTo>
                      <a:pt x="21" y="176"/>
                    </a:lnTo>
                    <a:lnTo>
                      <a:pt x="10" y="176"/>
                    </a:lnTo>
                    <a:lnTo>
                      <a:pt x="0" y="176"/>
                    </a:lnTo>
                    <a:lnTo>
                      <a:pt x="2" y="169"/>
                    </a:lnTo>
                    <a:lnTo>
                      <a:pt x="6" y="161"/>
                    </a:lnTo>
                    <a:lnTo>
                      <a:pt x="10" y="155"/>
                    </a:lnTo>
                    <a:lnTo>
                      <a:pt x="12" y="150"/>
                    </a:lnTo>
                    <a:lnTo>
                      <a:pt x="21" y="136"/>
                    </a:lnTo>
                    <a:lnTo>
                      <a:pt x="31" y="127"/>
                    </a:lnTo>
                    <a:lnTo>
                      <a:pt x="40" y="116"/>
                    </a:lnTo>
                    <a:lnTo>
                      <a:pt x="50" y="104"/>
                    </a:lnTo>
                    <a:lnTo>
                      <a:pt x="55" y="98"/>
                    </a:lnTo>
                    <a:lnTo>
                      <a:pt x="63" y="95"/>
                    </a:lnTo>
                    <a:lnTo>
                      <a:pt x="69" y="89"/>
                    </a:lnTo>
                    <a:lnTo>
                      <a:pt x="74" y="85"/>
                    </a:lnTo>
                    <a:lnTo>
                      <a:pt x="80" y="78"/>
                    </a:lnTo>
                    <a:lnTo>
                      <a:pt x="86" y="72"/>
                    </a:lnTo>
                    <a:lnTo>
                      <a:pt x="91" y="68"/>
                    </a:lnTo>
                    <a:lnTo>
                      <a:pt x="97" y="62"/>
                    </a:lnTo>
                    <a:lnTo>
                      <a:pt x="103" y="57"/>
                    </a:lnTo>
                    <a:lnTo>
                      <a:pt x="110" y="51"/>
                    </a:lnTo>
                    <a:lnTo>
                      <a:pt x="116" y="45"/>
                    </a:lnTo>
                    <a:lnTo>
                      <a:pt x="122" y="41"/>
                    </a:lnTo>
                    <a:lnTo>
                      <a:pt x="128" y="36"/>
                    </a:lnTo>
                    <a:lnTo>
                      <a:pt x="133" y="32"/>
                    </a:lnTo>
                    <a:lnTo>
                      <a:pt x="139" y="24"/>
                    </a:lnTo>
                    <a:lnTo>
                      <a:pt x="147" y="21"/>
                    </a:lnTo>
                    <a:lnTo>
                      <a:pt x="156" y="9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867600" y="350064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91" h="141">
                    <a:moveTo>
                      <a:pt x="91" y="0"/>
                    </a:moveTo>
                    <a:lnTo>
                      <a:pt x="86" y="8"/>
                    </a:lnTo>
                    <a:lnTo>
                      <a:pt x="82" y="15"/>
                    </a:lnTo>
                    <a:lnTo>
                      <a:pt x="78" y="25"/>
                    </a:lnTo>
                    <a:lnTo>
                      <a:pt x="74" y="34"/>
                    </a:lnTo>
                    <a:lnTo>
                      <a:pt x="70" y="44"/>
                    </a:lnTo>
                    <a:lnTo>
                      <a:pt x="67" y="53"/>
                    </a:lnTo>
                    <a:lnTo>
                      <a:pt x="61" y="65"/>
                    </a:lnTo>
                    <a:lnTo>
                      <a:pt x="57" y="76"/>
                    </a:lnTo>
                    <a:lnTo>
                      <a:pt x="51" y="86"/>
                    </a:lnTo>
                    <a:lnTo>
                      <a:pt x="48" y="95"/>
                    </a:lnTo>
                    <a:lnTo>
                      <a:pt x="40" y="105"/>
                    </a:lnTo>
                    <a:lnTo>
                      <a:pt x="34" y="114"/>
                    </a:lnTo>
                    <a:lnTo>
                      <a:pt x="27" y="122"/>
                    </a:lnTo>
                    <a:lnTo>
                      <a:pt x="19" y="129"/>
                    </a:lnTo>
                    <a:lnTo>
                      <a:pt x="10" y="135"/>
                    </a:lnTo>
                    <a:lnTo>
                      <a:pt x="0" y="141"/>
                    </a:lnTo>
                    <a:lnTo>
                      <a:pt x="4" y="131"/>
                    </a:lnTo>
                    <a:lnTo>
                      <a:pt x="8" y="122"/>
                    </a:lnTo>
                    <a:lnTo>
                      <a:pt x="12" y="112"/>
                    </a:lnTo>
                    <a:lnTo>
                      <a:pt x="19" y="103"/>
                    </a:lnTo>
                    <a:lnTo>
                      <a:pt x="23" y="93"/>
                    </a:lnTo>
                    <a:lnTo>
                      <a:pt x="29" y="86"/>
                    </a:lnTo>
                    <a:lnTo>
                      <a:pt x="32" y="76"/>
                    </a:lnTo>
                    <a:lnTo>
                      <a:pt x="40" y="69"/>
                    </a:lnTo>
                    <a:lnTo>
                      <a:pt x="44" y="59"/>
                    </a:lnTo>
                    <a:lnTo>
                      <a:pt x="51" y="51"/>
                    </a:lnTo>
                    <a:lnTo>
                      <a:pt x="57" y="42"/>
                    </a:lnTo>
                    <a:lnTo>
                      <a:pt x="63" y="34"/>
                    </a:lnTo>
                    <a:lnTo>
                      <a:pt x="70" y="25"/>
                    </a:lnTo>
                    <a:lnTo>
                      <a:pt x="78" y="17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1865160" y="3510000"/>
                <a:ext cx="255600" cy="297000"/>
              </a:xfrm>
              <a:custGeom>
                <a:avLst/>
                <a:gdLst/>
                <a:ahLst/>
                <a:rect l="l" t="t" r="r" b="b"/>
                <a:pathLst>
                  <a:path w="324" h="373">
                    <a:moveTo>
                      <a:pt x="261" y="0"/>
                    </a:moveTo>
                    <a:lnTo>
                      <a:pt x="268" y="0"/>
                    </a:lnTo>
                    <a:lnTo>
                      <a:pt x="276" y="0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4" y="0"/>
                    </a:lnTo>
                    <a:lnTo>
                      <a:pt x="324" y="2"/>
                    </a:lnTo>
                    <a:lnTo>
                      <a:pt x="324" y="6"/>
                    </a:lnTo>
                    <a:lnTo>
                      <a:pt x="312" y="12"/>
                    </a:lnTo>
                    <a:lnTo>
                      <a:pt x="303" y="19"/>
                    </a:lnTo>
                    <a:lnTo>
                      <a:pt x="289" y="25"/>
                    </a:lnTo>
                    <a:lnTo>
                      <a:pt x="280" y="31"/>
                    </a:lnTo>
                    <a:lnTo>
                      <a:pt x="274" y="33"/>
                    </a:lnTo>
                    <a:lnTo>
                      <a:pt x="267" y="37"/>
                    </a:lnTo>
                    <a:lnTo>
                      <a:pt x="261" y="38"/>
                    </a:lnTo>
                    <a:lnTo>
                      <a:pt x="255" y="40"/>
                    </a:lnTo>
                    <a:lnTo>
                      <a:pt x="249" y="42"/>
                    </a:lnTo>
                    <a:lnTo>
                      <a:pt x="244" y="46"/>
                    </a:lnTo>
                    <a:lnTo>
                      <a:pt x="238" y="46"/>
                    </a:lnTo>
                    <a:lnTo>
                      <a:pt x="232" y="50"/>
                    </a:lnTo>
                    <a:lnTo>
                      <a:pt x="225" y="50"/>
                    </a:lnTo>
                    <a:lnTo>
                      <a:pt x="219" y="52"/>
                    </a:lnTo>
                    <a:lnTo>
                      <a:pt x="213" y="56"/>
                    </a:lnTo>
                    <a:lnTo>
                      <a:pt x="208" y="57"/>
                    </a:lnTo>
                    <a:lnTo>
                      <a:pt x="196" y="63"/>
                    </a:lnTo>
                    <a:lnTo>
                      <a:pt x="185" y="69"/>
                    </a:lnTo>
                    <a:lnTo>
                      <a:pt x="173" y="75"/>
                    </a:lnTo>
                    <a:lnTo>
                      <a:pt x="164" y="82"/>
                    </a:lnTo>
                    <a:lnTo>
                      <a:pt x="153" y="90"/>
                    </a:lnTo>
                    <a:lnTo>
                      <a:pt x="143" y="101"/>
                    </a:lnTo>
                    <a:lnTo>
                      <a:pt x="149" y="99"/>
                    </a:lnTo>
                    <a:lnTo>
                      <a:pt x="156" y="99"/>
                    </a:lnTo>
                    <a:lnTo>
                      <a:pt x="164" y="99"/>
                    </a:lnTo>
                    <a:lnTo>
                      <a:pt x="173" y="99"/>
                    </a:lnTo>
                    <a:lnTo>
                      <a:pt x="181" y="99"/>
                    </a:lnTo>
                    <a:lnTo>
                      <a:pt x="191" y="97"/>
                    </a:lnTo>
                    <a:lnTo>
                      <a:pt x="198" y="95"/>
                    </a:lnTo>
                    <a:lnTo>
                      <a:pt x="208" y="95"/>
                    </a:lnTo>
                    <a:lnTo>
                      <a:pt x="215" y="94"/>
                    </a:lnTo>
                    <a:lnTo>
                      <a:pt x="225" y="94"/>
                    </a:lnTo>
                    <a:lnTo>
                      <a:pt x="232" y="92"/>
                    </a:lnTo>
                    <a:lnTo>
                      <a:pt x="242" y="92"/>
                    </a:lnTo>
                    <a:lnTo>
                      <a:pt x="251" y="92"/>
                    </a:lnTo>
                    <a:lnTo>
                      <a:pt x="261" y="92"/>
                    </a:lnTo>
                    <a:lnTo>
                      <a:pt x="270" y="94"/>
                    </a:lnTo>
                    <a:lnTo>
                      <a:pt x="280" y="95"/>
                    </a:lnTo>
                    <a:lnTo>
                      <a:pt x="272" y="95"/>
                    </a:lnTo>
                    <a:lnTo>
                      <a:pt x="265" y="95"/>
                    </a:lnTo>
                    <a:lnTo>
                      <a:pt x="259" y="95"/>
                    </a:lnTo>
                    <a:lnTo>
                      <a:pt x="251" y="97"/>
                    </a:lnTo>
                    <a:lnTo>
                      <a:pt x="246" y="97"/>
                    </a:lnTo>
                    <a:lnTo>
                      <a:pt x="238" y="99"/>
                    </a:lnTo>
                    <a:lnTo>
                      <a:pt x="232" y="101"/>
                    </a:lnTo>
                    <a:lnTo>
                      <a:pt x="229" y="103"/>
                    </a:lnTo>
                    <a:lnTo>
                      <a:pt x="221" y="103"/>
                    </a:lnTo>
                    <a:lnTo>
                      <a:pt x="215" y="105"/>
                    </a:lnTo>
                    <a:lnTo>
                      <a:pt x="210" y="109"/>
                    </a:lnTo>
                    <a:lnTo>
                      <a:pt x="204" y="111"/>
                    </a:lnTo>
                    <a:lnTo>
                      <a:pt x="194" y="118"/>
                    </a:lnTo>
                    <a:lnTo>
                      <a:pt x="185" y="124"/>
                    </a:lnTo>
                    <a:lnTo>
                      <a:pt x="175" y="130"/>
                    </a:lnTo>
                    <a:lnTo>
                      <a:pt x="166" y="137"/>
                    </a:lnTo>
                    <a:lnTo>
                      <a:pt x="156" y="145"/>
                    </a:lnTo>
                    <a:lnTo>
                      <a:pt x="149" y="154"/>
                    </a:lnTo>
                    <a:lnTo>
                      <a:pt x="141" y="162"/>
                    </a:lnTo>
                    <a:lnTo>
                      <a:pt x="135" y="172"/>
                    </a:lnTo>
                    <a:lnTo>
                      <a:pt x="128" y="181"/>
                    </a:lnTo>
                    <a:lnTo>
                      <a:pt x="122" y="192"/>
                    </a:lnTo>
                    <a:lnTo>
                      <a:pt x="116" y="202"/>
                    </a:lnTo>
                    <a:lnTo>
                      <a:pt x="111" y="211"/>
                    </a:lnTo>
                    <a:lnTo>
                      <a:pt x="103" y="223"/>
                    </a:lnTo>
                    <a:lnTo>
                      <a:pt x="99" y="234"/>
                    </a:lnTo>
                    <a:lnTo>
                      <a:pt x="94" y="244"/>
                    </a:lnTo>
                    <a:lnTo>
                      <a:pt x="90" y="257"/>
                    </a:lnTo>
                    <a:lnTo>
                      <a:pt x="86" y="261"/>
                    </a:lnTo>
                    <a:lnTo>
                      <a:pt x="84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78" y="286"/>
                    </a:lnTo>
                    <a:lnTo>
                      <a:pt x="76" y="291"/>
                    </a:lnTo>
                    <a:lnTo>
                      <a:pt x="75" y="297"/>
                    </a:lnTo>
                    <a:lnTo>
                      <a:pt x="75" y="303"/>
                    </a:lnTo>
                    <a:lnTo>
                      <a:pt x="73" y="308"/>
                    </a:lnTo>
                    <a:lnTo>
                      <a:pt x="71" y="314"/>
                    </a:lnTo>
                    <a:lnTo>
                      <a:pt x="69" y="320"/>
                    </a:lnTo>
                    <a:lnTo>
                      <a:pt x="67" y="326"/>
                    </a:lnTo>
                    <a:lnTo>
                      <a:pt x="65" y="331"/>
                    </a:lnTo>
                    <a:lnTo>
                      <a:pt x="65" y="339"/>
                    </a:lnTo>
                    <a:lnTo>
                      <a:pt x="63" y="343"/>
                    </a:lnTo>
                    <a:lnTo>
                      <a:pt x="61" y="350"/>
                    </a:lnTo>
                    <a:lnTo>
                      <a:pt x="59" y="356"/>
                    </a:lnTo>
                    <a:lnTo>
                      <a:pt x="59" y="362"/>
                    </a:lnTo>
                    <a:lnTo>
                      <a:pt x="57" y="367"/>
                    </a:lnTo>
                    <a:lnTo>
                      <a:pt x="57" y="373"/>
                    </a:lnTo>
                    <a:lnTo>
                      <a:pt x="54" y="367"/>
                    </a:lnTo>
                    <a:lnTo>
                      <a:pt x="52" y="360"/>
                    </a:lnTo>
                    <a:lnTo>
                      <a:pt x="48" y="354"/>
                    </a:lnTo>
                    <a:lnTo>
                      <a:pt x="46" y="348"/>
                    </a:lnTo>
                    <a:lnTo>
                      <a:pt x="44" y="341"/>
                    </a:lnTo>
                    <a:lnTo>
                      <a:pt x="44" y="335"/>
                    </a:lnTo>
                    <a:lnTo>
                      <a:pt x="44" y="329"/>
                    </a:lnTo>
                    <a:lnTo>
                      <a:pt x="44" y="324"/>
                    </a:lnTo>
                    <a:lnTo>
                      <a:pt x="44" y="316"/>
                    </a:lnTo>
                    <a:lnTo>
                      <a:pt x="44" y="310"/>
                    </a:lnTo>
                    <a:lnTo>
                      <a:pt x="44" y="303"/>
                    </a:lnTo>
                    <a:lnTo>
                      <a:pt x="46" y="297"/>
                    </a:lnTo>
                    <a:lnTo>
                      <a:pt x="46" y="289"/>
                    </a:lnTo>
                    <a:lnTo>
                      <a:pt x="48" y="284"/>
                    </a:lnTo>
                    <a:lnTo>
                      <a:pt x="48" y="276"/>
                    </a:lnTo>
                    <a:lnTo>
                      <a:pt x="52" y="270"/>
                    </a:lnTo>
                    <a:lnTo>
                      <a:pt x="54" y="263"/>
                    </a:lnTo>
                    <a:lnTo>
                      <a:pt x="56" y="257"/>
                    </a:lnTo>
                    <a:lnTo>
                      <a:pt x="57" y="249"/>
                    </a:lnTo>
                    <a:lnTo>
                      <a:pt x="61" y="242"/>
                    </a:lnTo>
                    <a:lnTo>
                      <a:pt x="65" y="234"/>
                    </a:lnTo>
                    <a:lnTo>
                      <a:pt x="67" y="229"/>
                    </a:lnTo>
                    <a:lnTo>
                      <a:pt x="71" y="223"/>
                    </a:lnTo>
                    <a:lnTo>
                      <a:pt x="75" y="215"/>
                    </a:lnTo>
                    <a:lnTo>
                      <a:pt x="78" y="210"/>
                    </a:lnTo>
                    <a:lnTo>
                      <a:pt x="82" y="204"/>
                    </a:lnTo>
                    <a:lnTo>
                      <a:pt x="86" y="196"/>
                    </a:lnTo>
                    <a:lnTo>
                      <a:pt x="90" y="191"/>
                    </a:lnTo>
                    <a:lnTo>
                      <a:pt x="97" y="179"/>
                    </a:lnTo>
                    <a:lnTo>
                      <a:pt x="107" y="168"/>
                    </a:lnTo>
                    <a:lnTo>
                      <a:pt x="99" y="168"/>
                    </a:lnTo>
                    <a:lnTo>
                      <a:pt x="94" y="168"/>
                    </a:lnTo>
                    <a:lnTo>
                      <a:pt x="88" y="168"/>
                    </a:lnTo>
                    <a:lnTo>
                      <a:pt x="82" y="170"/>
                    </a:lnTo>
                    <a:lnTo>
                      <a:pt x="73" y="175"/>
                    </a:lnTo>
                    <a:lnTo>
                      <a:pt x="65" y="183"/>
                    </a:lnTo>
                    <a:lnTo>
                      <a:pt x="57" y="189"/>
                    </a:lnTo>
                    <a:lnTo>
                      <a:pt x="54" y="198"/>
                    </a:lnTo>
                    <a:lnTo>
                      <a:pt x="48" y="208"/>
                    </a:lnTo>
                    <a:lnTo>
                      <a:pt x="44" y="219"/>
                    </a:lnTo>
                    <a:lnTo>
                      <a:pt x="38" y="229"/>
                    </a:lnTo>
                    <a:lnTo>
                      <a:pt x="37" y="240"/>
                    </a:lnTo>
                    <a:lnTo>
                      <a:pt x="35" y="246"/>
                    </a:lnTo>
                    <a:lnTo>
                      <a:pt x="33" y="251"/>
                    </a:lnTo>
                    <a:lnTo>
                      <a:pt x="31" y="257"/>
                    </a:lnTo>
                    <a:lnTo>
                      <a:pt x="31" y="263"/>
                    </a:lnTo>
                    <a:lnTo>
                      <a:pt x="27" y="274"/>
                    </a:lnTo>
                    <a:lnTo>
                      <a:pt x="25" y="286"/>
                    </a:lnTo>
                    <a:lnTo>
                      <a:pt x="21" y="295"/>
                    </a:lnTo>
                    <a:lnTo>
                      <a:pt x="19" y="305"/>
                    </a:lnTo>
                    <a:lnTo>
                      <a:pt x="12" y="293"/>
                    </a:lnTo>
                    <a:lnTo>
                      <a:pt x="8" y="284"/>
                    </a:lnTo>
                    <a:lnTo>
                      <a:pt x="2" y="270"/>
                    </a:lnTo>
                    <a:lnTo>
                      <a:pt x="2" y="261"/>
                    </a:lnTo>
                    <a:lnTo>
                      <a:pt x="0" y="253"/>
                    </a:lnTo>
                    <a:lnTo>
                      <a:pt x="0" y="248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6" y="213"/>
                    </a:lnTo>
                    <a:lnTo>
                      <a:pt x="8" y="208"/>
                    </a:lnTo>
                    <a:lnTo>
                      <a:pt x="10" y="202"/>
                    </a:lnTo>
                    <a:lnTo>
                      <a:pt x="10" y="194"/>
                    </a:lnTo>
                    <a:lnTo>
                      <a:pt x="14" y="189"/>
                    </a:lnTo>
                    <a:lnTo>
                      <a:pt x="19" y="177"/>
                    </a:lnTo>
                    <a:lnTo>
                      <a:pt x="27" y="168"/>
                    </a:lnTo>
                    <a:lnTo>
                      <a:pt x="29" y="160"/>
                    </a:lnTo>
                    <a:lnTo>
                      <a:pt x="33" y="154"/>
                    </a:lnTo>
                    <a:lnTo>
                      <a:pt x="37" y="149"/>
                    </a:lnTo>
                    <a:lnTo>
                      <a:pt x="42" y="145"/>
                    </a:lnTo>
                    <a:lnTo>
                      <a:pt x="52" y="132"/>
                    </a:lnTo>
                    <a:lnTo>
                      <a:pt x="63" y="122"/>
                    </a:lnTo>
                    <a:lnTo>
                      <a:pt x="73" y="111"/>
                    </a:lnTo>
                    <a:lnTo>
                      <a:pt x="82" y="101"/>
                    </a:lnTo>
                    <a:lnTo>
                      <a:pt x="88" y="95"/>
                    </a:lnTo>
                    <a:lnTo>
                      <a:pt x="94" y="92"/>
                    </a:lnTo>
                    <a:lnTo>
                      <a:pt x="101" y="86"/>
                    </a:lnTo>
                    <a:lnTo>
                      <a:pt x="107" y="82"/>
                    </a:lnTo>
                    <a:lnTo>
                      <a:pt x="113" y="76"/>
                    </a:lnTo>
                    <a:lnTo>
                      <a:pt x="118" y="73"/>
                    </a:lnTo>
                    <a:lnTo>
                      <a:pt x="126" y="67"/>
                    </a:lnTo>
                    <a:lnTo>
                      <a:pt x="132" y="63"/>
                    </a:lnTo>
                    <a:lnTo>
                      <a:pt x="137" y="57"/>
                    </a:lnTo>
                    <a:lnTo>
                      <a:pt x="145" y="54"/>
                    </a:lnTo>
                    <a:lnTo>
                      <a:pt x="151" y="50"/>
                    </a:lnTo>
                    <a:lnTo>
                      <a:pt x="158" y="46"/>
                    </a:lnTo>
                    <a:lnTo>
                      <a:pt x="164" y="42"/>
                    </a:lnTo>
                    <a:lnTo>
                      <a:pt x="172" y="38"/>
                    </a:lnTo>
                    <a:lnTo>
                      <a:pt x="177" y="33"/>
                    </a:lnTo>
                    <a:lnTo>
                      <a:pt x="183" y="31"/>
                    </a:lnTo>
                    <a:lnTo>
                      <a:pt x="191" y="27"/>
                    </a:lnTo>
                    <a:lnTo>
                      <a:pt x="196" y="23"/>
                    </a:lnTo>
                    <a:lnTo>
                      <a:pt x="202" y="21"/>
                    </a:lnTo>
                    <a:lnTo>
                      <a:pt x="210" y="19"/>
                    </a:lnTo>
                    <a:lnTo>
                      <a:pt x="215" y="16"/>
                    </a:lnTo>
                    <a:lnTo>
                      <a:pt x="223" y="12"/>
                    </a:lnTo>
                    <a:lnTo>
                      <a:pt x="229" y="10"/>
                    </a:lnTo>
                    <a:lnTo>
                      <a:pt x="236" y="8"/>
                    </a:lnTo>
                    <a:lnTo>
                      <a:pt x="242" y="4"/>
                    </a:lnTo>
                    <a:lnTo>
                      <a:pt x="248" y="4"/>
                    </a:lnTo>
                    <a:lnTo>
                      <a:pt x="255" y="2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315440" y="3619440"/>
                <a:ext cx="75960" cy="5256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59" y="2"/>
                    </a:moveTo>
                    <a:lnTo>
                      <a:pt x="64" y="0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4" y="19"/>
                    </a:lnTo>
                    <a:lnTo>
                      <a:pt x="78" y="25"/>
                    </a:lnTo>
                    <a:lnTo>
                      <a:pt x="81" y="29"/>
                    </a:lnTo>
                    <a:lnTo>
                      <a:pt x="74" y="36"/>
                    </a:lnTo>
                    <a:lnTo>
                      <a:pt x="66" y="36"/>
                    </a:lnTo>
                    <a:lnTo>
                      <a:pt x="59" y="36"/>
                    </a:lnTo>
                    <a:lnTo>
                      <a:pt x="49" y="40"/>
                    </a:lnTo>
                    <a:lnTo>
                      <a:pt x="49" y="42"/>
                    </a:lnTo>
                    <a:lnTo>
                      <a:pt x="55" y="46"/>
                    </a:lnTo>
                    <a:lnTo>
                      <a:pt x="60" y="48"/>
                    </a:lnTo>
                    <a:lnTo>
                      <a:pt x="66" y="50"/>
                    </a:lnTo>
                    <a:lnTo>
                      <a:pt x="72" y="54"/>
                    </a:lnTo>
                    <a:lnTo>
                      <a:pt x="78" y="55"/>
                    </a:lnTo>
                    <a:lnTo>
                      <a:pt x="83" y="57"/>
                    </a:lnTo>
                    <a:lnTo>
                      <a:pt x="91" y="59"/>
                    </a:lnTo>
                    <a:lnTo>
                      <a:pt x="97" y="63"/>
                    </a:lnTo>
                    <a:lnTo>
                      <a:pt x="97" y="67"/>
                    </a:lnTo>
                    <a:lnTo>
                      <a:pt x="91" y="67"/>
                    </a:lnTo>
                    <a:lnTo>
                      <a:pt x="83" y="67"/>
                    </a:lnTo>
                    <a:lnTo>
                      <a:pt x="78" y="67"/>
                    </a:lnTo>
                    <a:lnTo>
                      <a:pt x="72" y="67"/>
                    </a:lnTo>
                    <a:lnTo>
                      <a:pt x="60" y="65"/>
                    </a:lnTo>
                    <a:lnTo>
                      <a:pt x="49" y="65"/>
                    </a:lnTo>
                    <a:lnTo>
                      <a:pt x="43" y="63"/>
                    </a:lnTo>
                    <a:lnTo>
                      <a:pt x="36" y="61"/>
                    </a:lnTo>
                    <a:lnTo>
                      <a:pt x="30" y="59"/>
                    </a:lnTo>
                    <a:lnTo>
                      <a:pt x="24" y="59"/>
                    </a:lnTo>
                    <a:lnTo>
                      <a:pt x="19" y="57"/>
                    </a:lnTo>
                    <a:lnTo>
                      <a:pt x="13" y="57"/>
                    </a:lnTo>
                    <a:lnTo>
                      <a:pt x="5" y="57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5" y="46"/>
                    </a:lnTo>
                    <a:lnTo>
                      <a:pt x="13" y="40"/>
                    </a:lnTo>
                    <a:lnTo>
                      <a:pt x="19" y="40"/>
                    </a:lnTo>
                    <a:lnTo>
                      <a:pt x="24" y="38"/>
                    </a:lnTo>
                    <a:lnTo>
                      <a:pt x="32" y="38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41" y="27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45" y="10"/>
                    </a:lnTo>
                    <a:lnTo>
                      <a:pt x="51" y="6"/>
                    </a:lnTo>
                    <a:lnTo>
                      <a:pt x="59" y="2"/>
                    </a:lnTo>
                    <a:lnTo>
                      <a:pt x="5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1259640" y="3632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0"/>
                    </a:moveTo>
                    <a:lnTo>
                      <a:pt x="13" y="4"/>
                    </a:lnTo>
                    <a:lnTo>
                      <a:pt x="21" y="10"/>
                    </a:lnTo>
                    <a:lnTo>
                      <a:pt x="26" y="16"/>
                    </a:lnTo>
                    <a:lnTo>
                      <a:pt x="32" y="25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2" y="29"/>
                    </a:lnTo>
                    <a:lnTo>
                      <a:pt x="17" y="27"/>
                    </a:lnTo>
                    <a:lnTo>
                      <a:pt x="11" y="23"/>
                    </a:lnTo>
                    <a:lnTo>
                      <a:pt x="5" y="19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148760" y="3651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4" y="6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923760" y="3665520"/>
                <a:ext cx="238320" cy="36720"/>
              </a:xfrm>
              <a:custGeom>
                <a:avLst/>
                <a:gdLst/>
                <a:ahLst/>
                <a:rect l="l" t="t" r="r" b="b"/>
                <a:pathLst>
                  <a:path w="300" h="46">
                    <a:moveTo>
                      <a:pt x="0" y="4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4" y="4"/>
                    </a:lnTo>
                    <a:lnTo>
                      <a:pt x="155" y="4"/>
                    </a:lnTo>
                    <a:lnTo>
                      <a:pt x="163" y="4"/>
                    </a:lnTo>
                    <a:lnTo>
                      <a:pt x="174" y="6"/>
                    </a:lnTo>
                    <a:lnTo>
                      <a:pt x="182" y="6"/>
                    </a:lnTo>
                    <a:lnTo>
                      <a:pt x="192" y="8"/>
                    </a:lnTo>
                    <a:lnTo>
                      <a:pt x="199" y="8"/>
                    </a:lnTo>
                    <a:lnTo>
                      <a:pt x="209" y="10"/>
                    </a:lnTo>
                    <a:lnTo>
                      <a:pt x="218" y="12"/>
                    </a:lnTo>
                    <a:lnTo>
                      <a:pt x="228" y="15"/>
                    </a:lnTo>
                    <a:lnTo>
                      <a:pt x="237" y="15"/>
                    </a:lnTo>
                    <a:lnTo>
                      <a:pt x="247" y="17"/>
                    </a:lnTo>
                    <a:lnTo>
                      <a:pt x="254" y="21"/>
                    </a:lnTo>
                    <a:lnTo>
                      <a:pt x="264" y="25"/>
                    </a:lnTo>
                    <a:lnTo>
                      <a:pt x="273" y="27"/>
                    </a:lnTo>
                    <a:lnTo>
                      <a:pt x="283" y="29"/>
                    </a:lnTo>
                    <a:lnTo>
                      <a:pt x="290" y="34"/>
                    </a:lnTo>
                    <a:lnTo>
                      <a:pt x="300" y="38"/>
                    </a:lnTo>
                    <a:lnTo>
                      <a:pt x="292" y="38"/>
                    </a:lnTo>
                    <a:lnTo>
                      <a:pt x="285" y="40"/>
                    </a:lnTo>
                    <a:lnTo>
                      <a:pt x="277" y="42"/>
                    </a:lnTo>
                    <a:lnTo>
                      <a:pt x="268" y="44"/>
                    </a:lnTo>
                    <a:lnTo>
                      <a:pt x="258" y="44"/>
                    </a:lnTo>
                    <a:lnTo>
                      <a:pt x="249" y="44"/>
                    </a:lnTo>
                    <a:lnTo>
                      <a:pt x="239" y="44"/>
                    </a:lnTo>
                    <a:lnTo>
                      <a:pt x="231" y="46"/>
                    </a:lnTo>
                    <a:lnTo>
                      <a:pt x="218" y="46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8" y="46"/>
                    </a:lnTo>
                    <a:lnTo>
                      <a:pt x="176" y="44"/>
                    </a:lnTo>
                    <a:lnTo>
                      <a:pt x="167" y="44"/>
                    </a:lnTo>
                    <a:lnTo>
                      <a:pt x="154" y="42"/>
                    </a:lnTo>
                    <a:lnTo>
                      <a:pt x="144" y="42"/>
                    </a:lnTo>
                    <a:lnTo>
                      <a:pt x="133" y="40"/>
                    </a:lnTo>
                    <a:lnTo>
                      <a:pt x="123" y="38"/>
                    </a:lnTo>
                    <a:lnTo>
                      <a:pt x="112" y="36"/>
                    </a:lnTo>
                    <a:lnTo>
                      <a:pt x="102" y="36"/>
                    </a:lnTo>
                    <a:lnTo>
                      <a:pt x="89" y="34"/>
                    </a:lnTo>
                    <a:lnTo>
                      <a:pt x="79" y="33"/>
                    </a:lnTo>
                    <a:lnTo>
                      <a:pt x="70" y="29"/>
                    </a:lnTo>
                    <a:lnTo>
                      <a:pt x="60" y="27"/>
                    </a:lnTo>
                    <a:lnTo>
                      <a:pt x="51" y="25"/>
                    </a:lnTo>
                    <a:lnTo>
                      <a:pt x="41" y="23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19" y="14"/>
                    </a:lnTo>
                    <a:lnTo>
                      <a:pt x="11" y="10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256400" y="3686040"/>
                <a:ext cx="157320" cy="30240"/>
              </a:xfrm>
              <a:custGeom>
                <a:avLst/>
                <a:gdLst/>
                <a:ahLst/>
                <a:rect l="l" t="t" r="r" b="b"/>
                <a:pathLst>
                  <a:path w="200" h="38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6" y="4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5" y="6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4" y="9"/>
                    </a:lnTo>
                    <a:lnTo>
                      <a:pt x="80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9" y="13"/>
                    </a:lnTo>
                    <a:lnTo>
                      <a:pt x="105" y="13"/>
                    </a:lnTo>
                    <a:lnTo>
                      <a:pt x="110" y="15"/>
                    </a:lnTo>
                    <a:lnTo>
                      <a:pt x="118" y="15"/>
                    </a:lnTo>
                    <a:lnTo>
                      <a:pt x="124" y="17"/>
                    </a:lnTo>
                    <a:lnTo>
                      <a:pt x="129" y="17"/>
                    </a:lnTo>
                    <a:lnTo>
                      <a:pt x="137" y="19"/>
                    </a:lnTo>
                    <a:lnTo>
                      <a:pt x="143" y="19"/>
                    </a:lnTo>
                    <a:lnTo>
                      <a:pt x="148" y="21"/>
                    </a:lnTo>
                    <a:lnTo>
                      <a:pt x="154" y="21"/>
                    </a:lnTo>
                    <a:lnTo>
                      <a:pt x="162" y="25"/>
                    </a:lnTo>
                    <a:lnTo>
                      <a:pt x="167" y="25"/>
                    </a:lnTo>
                    <a:lnTo>
                      <a:pt x="173" y="26"/>
                    </a:lnTo>
                    <a:lnTo>
                      <a:pt x="181" y="28"/>
                    </a:lnTo>
                    <a:lnTo>
                      <a:pt x="186" y="30"/>
                    </a:lnTo>
                    <a:lnTo>
                      <a:pt x="192" y="32"/>
                    </a:lnTo>
                    <a:lnTo>
                      <a:pt x="200" y="36"/>
                    </a:lnTo>
                    <a:lnTo>
                      <a:pt x="200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1" y="36"/>
                    </a:lnTo>
                    <a:lnTo>
                      <a:pt x="175" y="36"/>
                    </a:lnTo>
                    <a:lnTo>
                      <a:pt x="167" y="36"/>
                    </a:lnTo>
                    <a:lnTo>
                      <a:pt x="162" y="36"/>
                    </a:lnTo>
                    <a:lnTo>
                      <a:pt x="154" y="36"/>
                    </a:lnTo>
                    <a:lnTo>
                      <a:pt x="147" y="36"/>
                    </a:lnTo>
                    <a:lnTo>
                      <a:pt x="139" y="36"/>
                    </a:lnTo>
                    <a:lnTo>
                      <a:pt x="131" y="36"/>
                    </a:lnTo>
                    <a:lnTo>
                      <a:pt x="124" y="34"/>
                    </a:lnTo>
                    <a:lnTo>
                      <a:pt x="118" y="34"/>
                    </a:lnTo>
                    <a:lnTo>
                      <a:pt x="109" y="34"/>
                    </a:lnTo>
                    <a:lnTo>
                      <a:pt x="101" y="34"/>
                    </a:lnTo>
                    <a:lnTo>
                      <a:pt x="93" y="34"/>
                    </a:lnTo>
                    <a:lnTo>
                      <a:pt x="88" y="34"/>
                    </a:lnTo>
                    <a:lnTo>
                      <a:pt x="80" y="30"/>
                    </a:lnTo>
                    <a:lnTo>
                      <a:pt x="72" y="30"/>
                    </a:lnTo>
                    <a:lnTo>
                      <a:pt x="65" y="28"/>
                    </a:lnTo>
                    <a:lnTo>
                      <a:pt x="57" y="28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38" y="25"/>
                    </a:lnTo>
                    <a:lnTo>
                      <a:pt x="34" y="23"/>
                    </a:lnTo>
                    <a:lnTo>
                      <a:pt x="27" y="21"/>
                    </a:lnTo>
                    <a:lnTo>
                      <a:pt x="23" y="19"/>
                    </a:lnTo>
                    <a:lnTo>
                      <a:pt x="17" y="15"/>
                    </a:lnTo>
                    <a:lnTo>
                      <a:pt x="12" y="13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002680" y="3695760"/>
                <a:ext cx="42840" cy="13644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0"/>
                    </a:moveTo>
                    <a:lnTo>
                      <a:pt x="54" y="6"/>
                    </a:lnTo>
                    <a:lnTo>
                      <a:pt x="54" y="14"/>
                    </a:lnTo>
                    <a:lnTo>
                      <a:pt x="54" y="21"/>
                    </a:lnTo>
                    <a:lnTo>
                      <a:pt x="54" y="31"/>
                    </a:lnTo>
                    <a:lnTo>
                      <a:pt x="52" y="40"/>
                    </a:lnTo>
                    <a:lnTo>
                      <a:pt x="50" y="50"/>
                    </a:lnTo>
                    <a:lnTo>
                      <a:pt x="48" y="61"/>
                    </a:lnTo>
                    <a:lnTo>
                      <a:pt x="46" y="71"/>
                    </a:lnTo>
                    <a:lnTo>
                      <a:pt x="44" y="80"/>
                    </a:lnTo>
                    <a:lnTo>
                      <a:pt x="40" y="92"/>
                    </a:lnTo>
                    <a:lnTo>
                      <a:pt x="37" y="101"/>
                    </a:lnTo>
                    <a:lnTo>
                      <a:pt x="35" y="112"/>
                    </a:lnTo>
                    <a:lnTo>
                      <a:pt x="33" y="120"/>
                    </a:lnTo>
                    <a:lnTo>
                      <a:pt x="29" y="130"/>
                    </a:lnTo>
                    <a:lnTo>
                      <a:pt x="25" y="137"/>
                    </a:lnTo>
                    <a:lnTo>
                      <a:pt x="23" y="145"/>
                    </a:lnTo>
                    <a:lnTo>
                      <a:pt x="19" y="150"/>
                    </a:lnTo>
                    <a:lnTo>
                      <a:pt x="16" y="156"/>
                    </a:lnTo>
                    <a:lnTo>
                      <a:pt x="14" y="162"/>
                    </a:lnTo>
                    <a:lnTo>
                      <a:pt x="10" y="166"/>
                    </a:lnTo>
                    <a:lnTo>
                      <a:pt x="4" y="171"/>
                    </a:lnTo>
                    <a:lnTo>
                      <a:pt x="2" y="171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2" y="128"/>
                    </a:lnTo>
                    <a:lnTo>
                      <a:pt x="4" y="120"/>
                    </a:lnTo>
                    <a:lnTo>
                      <a:pt x="6" y="114"/>
                    </a:lnTo>
                    <a:lnTo>
                      <a:pt x="6" y="105"/>
                    </a:lnTo>
                    <a:lnTo>
                      <a:pt x="8" y="97"/>
                    </a:lnTo>
                    <a:lnTo>
                      <a:pt x="8" y="90"/>
                    </a:lnTo>
                    <a:lnTo>
                      <a:pt x="8" y="82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2" y="61"/>
                    </a:lnTo>
                    <a:lnTo>
                      <a:pt x="14" y="55"/>
                    </a:lnTo>
                    <a:lnTo>
                      <a:pt x="16" y="50"/>
                    </a:lnTo>
                    <a:lnTo>
                      <a:pt x="18" y="44"/>
                    </a:lnTo>
                    <a:lnTo>
                      <a:pt x="21" y="36"/>
                    </a:lnTo>
                    <a:lnTo>
                      <a:pt x="23" y="31"/>
                    </a:lnTo>
                    <a:lnTo>
                      <a:pt x="27" y="25"/>
                    </a:lnTo>
                    <a:lnTo>
                      <a:pt x="31" y="19"/>
                    </a:lnTo>
                    <a:lnTo>
                      <a:pt x="35" y="14"/>
                    </a:lnTo>
                    <a:lnTo>
                      <a:pt x="40" y="10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1003320" y="3711600"/>
                <a:ext cx="177840" cy="95400"/>
              </a:xfrm>
              <a:custGeom>
                <a:avLst/>
                <a:gdLst/>
                <a:ahLst/>
                <a:rect l="l" t="t" r="r" b="b"/>
                <a:pathLst>
                  <a:path w="224" h="120">
                    <a:moveTo>
                      <a:pt x="0" y="6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37" y="2"/>
                    </a:lnTo>
                    <a:lnTo>
                      <a:pt x="142" y="4"/>
                    </a:lnTo>
                    <a:lnTo>
                      <a:pt x="148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5" y="6"/>
                    </a:lnTo>
                    <a:lnTo>
                      <a:pt x="177" y="6"/>
                    </a:lnTo>
                    <a:lnTo>
                      <a:pt x="186" y="10"/>
                    </a:lnTo>
                    <a:lnTo>
                      <a:pt x="194" y="10"/>
                    </a:lnTo>
                    <a:lnTo>
                      <a:pt x="203" y="14"/>
                    </a:lnTo>
                    <a:lnTo>
                      <a:pt x="209" y="15"/>
                    </a:lnTo>
                    <a:lnTo>
                      <a:pt x="215" y="19"/>
                    </a:lnTo>
                    <a:lnTo>
                      <a:pt x="222" y="25"/>
                    </a:lnTo>
                    <a:lnTo>
                      <a:pt x="224" y="33"/>
                    </a:lnTo>
                    <a:lnTo>
                      <a:pt x="220" y="36"/>
                    </a:lnTo>
                    <a:lnTo>
                      <a:pt x="217" y="42"/>
                    </a:lnTo>
                    <a:lnTo>
                      <a:pt x="211" y="46"/>
                    </a:lnTo>
                    <a:lnTo>
                      <a:pt x="203" y="52"/>
                    </a:lnTo>
                    <a:lnTo>
                      <a:pt x="198" y="53"/>
                    </a:lnTo>
                    <a:lnTo>
                      <a:pt x="192" y="57"/>
                    </a:lnTo>
                    <a:lnTo>
                      <a:pt x="186" y="59"/>
                    </a:lnTo>
                    <a:lnTo>
                      <a:pt x="179" y="63"/>
                    </a:lnTo>
                    <a:lnTo>
                      <a:pt x="173" y="67"/>
                    </a:lnTo>
                    <a:lnTo>
                      <a:pt x="165" y="69"/>
                    </a:lnTo>
                    <a:lnTo>
                      <a:pt x="156" y="73"/>
                    </a:lnTo>
                    <a:lnTo>
                      <a:pt x="148" y="76"/>
                    </a:lnTo>
                    <a:lnTo>
                      <a:pt x="139" y="78"/>
                    </a:lnTo>
                    <a:lnTo>
                      <a:pt x="131" y="80"/>
                    </a:lnTo>
                    <a:lnTo>
                      <a:pt x="121" y="82"/>
                    </a:lnTo>
                    <a:lnTo>
                      <a:pt x="114" y="86"/>
                    </a:lnTo>
                    <a:lnTo>
                      <a:pt x="106" y="88"/>
                    </a:lnTo>
                    <a:lnTo>
                      <a:pt x="99" y="90"/>
                    </a:lnTo>
                    <a:lnTo>
                      <a:pt x="91" y="93"/>
                    </a:lnTo>
                    <a:lnTo>
                      <a:pt x="83" y="97"/>
                    </a:lnTo>
                    <a:lnTo>
                      <a:pt x="74" y="99"/>
                    </a:lnTo>
                    <a:lnTo>
                      <a:pt x="66" y="103"/>
                    </a:lnTo>
                    <a:lnTo>
                      <a:pt x="57" y="105"/>
                    </a:lnTo>
                    <a:lnTo>
                      <a:pt x="49" y="107"/>
                    </a:lnTo>
                    <a:lnTo>
                      <a:pt x="42" y="111"/>
                    </a:lnTo>
                    <a:lnTo>
                      <a:pt x="34" y="114"/>
                    </a:lnTo>
                    <a:lnTo>
                      <a:pt x="26" y="116"/>
                    </a:lnTo>
                    <a:lnTo>
                      <a:pt x="19" y="120"/>
                    </a:lnTo>
                    <a:lnTo>
                      <a:pt x="23" y="111"/>
                    </a:lnTo>
                    <a:lnTo>
                      <a:pt x="28" y="105"/>
                    </a:lnTo>
                    <a:lnTo>
                      <a:pt x="34" y="97"/>
                    </a:lnTo>
                    <a:lnTo>
                      <a:pt x="40" y="92"/>
                    </a:lnTo>
                    <a:lnTo>
                      <a:pt x="45" y="86"/>
                    </a:lnTo>
                    <a:lnTo>
                      <a:pt x="53" y="80"/>
                    </a:lnTo>
                    <a:lnTo>
                      <a:pt x="61" y="76"/>
                    </a:lnTo>
                    <a:lnTo>
                      <a:pt x="68" y="73"/>
                    </a:lnTo>
                    <a:lnTo>
                      <a:pt x="74" y="67"/>
                    </a:lnTo>
                    <a:lnTo>
                      <a:pt x="83" y="63"/>
                    </a:lnTo>
                    <a:lnTo>
                      <a:pt x="89" y="57"/>
                    </a:lnTo>
                    <a:lnTo>
                      <a:pt x="99" y="53"/>
                    </a:lnTo>
                    <a:lnTo>
                      <a:pt x="104" y="48"/>
                    </a:lnTo>
                    <a:lnTo>
                      <a:pt x="112" y="42"/>
                    </a:lnTo>
                    <a:lnTo>
                      <a:pt x="118" y="36"/>
                    </a:lnTo>
                    <a:lnTo>
                      <a:pt x="123" y="31"/>
                    </a:lnTo>
                    <a:lnTo>
                      <a:pt x="116" y="27"/>
                    </a:lnTo>
                    <a:lnTo>
                      <a:pt x="108" y="27"/>
                    </a:lnTo>
                    <a:lnTo>
                      <a:pt x="99" y="27"/>
                    </a:lnTo>
                    <a:lnTo>
                      <a:pt x="91" y="27"/>
                    </a:lnTo>
                    <a:lnTo>
                      <a:pt x="80" y="27"/>
                    </a:lnTo>
                    <a:lnTo>
                      <a:pt x="70" y="27"/>
                    </a:lnTo>
                    <a:lnTo>
                      <a:pt x="61" y="27"/>
                    </a:lnTo>
                    <a:lnTo>
                      <a:pt x="49" y="27"/>
                    </a:lnTo>
                    <a:lnTo>
                      <a:pt x="40" y="27"/>
                    </a:lnTo>
                    <a:lnTo>
                      <a:pt x="30" y="27"/>
                    </a:lnTo>
                    <a:lnTo>
                      <a:pt x="21" y="25"/>
                    </a:lnTo>
                    <a:lnTo>
                      <a:pt x="15" y="23"/>
                    </a:lnTo>
                    <a:lnTo>
                      <a:pt x="9" y="19"/>
                    </a:lnTo>
                    <a:lnTo>
                      <a:pt x="6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225520" y="372276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7" y="0"/>
                    </a:moveTo>
                    <a:lnTo>
                      <a:pt x="13" y="0"/>
                    </a:lnTo>
                    <a:lnTo>
                      <a:pt x="19" y="2"/>
                    </a:lnTo>
                    <a:lnTo>
                      <a:pt x="23" y="6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2" y="18"/>
                    </a:lnTo>
                    <a:lnTo>
                      <a:pt x="34" y="25"/>
                    </a:lnTo>
                    <a:lnTo>
                      <a:pt x="36" y="31"/>
                    </a:lnTo>
                    <a:lnTo>
                      <a:pt x="38" y="37"/>
                    </a:lnTo>
                    <a:lnTo>
                      <a:pt x="38" y="42"/>
                    </a:lnTo>
                    <a:lnTo>
                      <a:pt x="40" y="48"/>
                    </a:lnTo>
                    <a:lnTo>
                      <a:pt x="40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3" y="73"/>
                    </a:lnTo>
                    <a:lnTo>
                      <a:pt x="47" y="80"/>
                    </a:lnTo>
                    <a:lnTo>
                      <a:pt x="36" y="73"/>
                    </a:lnTo>
                    <a:lnTo>
                      <a:pt x="26" y="65"/>
                    </a:lnTo>
                    <a:lnTo>
                      <a:pt x="17" y="54"/>
                    </a:lnTo>
                    <a:lnTo>
                      <a:pt x="9" y="44"/>
                    </a:lnTo>
                    <a:lnTo>
                      <a:pt x="5" y="37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1386000" y="3733920"/>
                <a:ext cx="61920" cy="3312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0"/>
                    </a:moveTo>
                    <a:lnTo>
                      <a:pt x="52" y="4"/>
                    </a:lnTo>
                    <a:lnTo>
                      <a:pt x="61" y="5"/>
                    </a:lnTo>
                    <a:lnTo>
                      <a:pt x="67" y="9"/>
                    </a:lnTo>
                    <a:lnTo>
                      <a:pt x="74" y="13"/>
                    </a:lnTo>
                    <a:lnTo>
                      <a:pt x="78" y="19"/>
                    </a:lnTo>
                    <a:lnTo>
                      <a:pt x="76" y="24"/>
                    </a:lnTo>
                    <a:lnTo>
                      <a:pt x="71" y="30"/>
                    </a:lnTo>
                    <a:lnTo>
                      <a:pt x="61" y="34"/>
                    </a:lnTo>
                    <a:lnTo>
                      <a:pt x="55" y="36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8" y="42"/>
                    </a:lnTo>
                    <a:lnTo>
                      <a:pt x="33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6" y="21"/>
                    </a:lnTo>
                    <a:lnTo>
                      <a:pt x="12" y="15"/>
                    </a:lnTo>
                    <a:lnTo>
                      <a:pt x="19" y="11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906480" y="37512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10" y="5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0" y="15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1318320" y="3759120"/>
                <a:ext cx="63720" cy="3348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46" y="2"/>
                    </a:move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0" y="8"/>
                    </a:lnTo>
                    <a:lnTo>
                      <a:pt x="80" y="10"/>
                    </a:lnTo>
                    <a:lnTo>
                      <a:pt x="78" y="15"/>
                    </a:lnTo>
                    <a:lnTo>
                      <a:pt x="76" y="21"/>
                    </a:lnTo>
                    <a:lnTo>
                      <a:pt x="70" y="27"/>
                    </a:lnTo>
                    <a:lnTo>
                      <a:pt x="63" y="32"/>
                    </a:lnTo>
                    <a:lnTo>
                      <a:pt x="55" y="36"/>
                    </a:lnTo>
                    <a:lnTo>
                      <a:pt x="46" y="38"/>
                    </a:lnTo>
                    <a:lnTo>
                      <a:pt x="34" y="42"/>
                    </a:lnTo>
                    <a:lnTo>
                      <a:pt x="25" y="42"/>
                    </a:lnTo>
                    <a:lnTo>
                      <a:pt x="15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7" y="15"/>
                    </a:lnTo>
                    <a:lnTo>
                      <a:pt x="23" y="12"/>
                    </a:lnTo>
                    <a:lnTo>
                      <a:pt x="30" y="10"/>
                    </a:lnTo>
                    <a:lnTo>
                      <a:pt x="38" y="6"/>
                    </a:lnTo>
                    <a:lnTo>
                      <a:pt x="46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947160" y="3759120"/>
                <a:ext cx="68040" cy="2376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1" y="2"/>
                    </a:moveTo>
                    <a:lnTo>
                      <a:pt x="21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5" y="17"/>
                    </a:lnTo>
                    <a:lnTo>
                      <a:pt x="78" y="19"/>
                    </a:lnTo>
                    <a:lnTo>
                      <a:pt x="74" y="23"/>
                    </a:lnTo>
                    <a:lnTo>
                      <a:pt x="66" y="25"/>
                    </a:lnTo>
                    <a:lnTo>
                      <a:pt x="59" y="27"/>
                    </a:lnTo>
                    <a:lnTo>
                      <a:pt x="49" y="27"/>
                    </a:lnTo>
                    <a:lnTo>
                      <a:pt x="40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29"/>
                    </a:lnTo>
                    <a:lnTo>
                      <a:pt x="9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4" y="8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1755720" y="3778200"/>
                <a:ext cx="393840" cy="665280"/>
              </a:xfrm>
              <a:custGeom>
                <a:avLst/>
                <a:gdLst/>
                <a:ahLst/>
                <a:rect l="l" t="t" r="r" b="b"/>
                <a:pathLst>
                  <a:path w="496" h="836">
                    <a:moveTo>
                      <a:pt x="0" y="0"/>
                    </a:moveTo>
                    <a:lnTo>
                      <a:pt x="6" y="7"/>
                    </a:lnTo>
                    <a:lnTo>
                      <a:pt x="10" y="13"/>
                    </a:lnTo>
                    <a:lnTo>
                      <a:pt x="17" y="21"/>
                    </a:lnTo>
                    <a:lnTo>
                      <a:pt x="23" y="28"/>
                    </a:lnTo>
                    <a:lnTo>
                      <a:pt x="29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5"/>
                    </a:lnTo>
                    <a:lnTo>
                      <a:pt x="57" y="61"/>
                    </a:lnTo>
                    <a:lnTo>
                      <a:pt x="63" y="66"/>
                    </a:lnTo>
                    <a:lnTo>
                      <a:pt x="71" y="72"/>
                    </a:lnTo>
                    <a:lnTo>
                      <a:pt x="78" y="78"/>
                    </a:lnTo>
                    <a:lnTo>
                      <a:pt x="86" y="83"/>
                    </a:lnTo>
                    <a:lnTo>
                      <a:pt x="93" y="87"/>
                    </a:lnTo>
                    <a:lnTo>
                      <a:pt x="101" y="93"/>
                    </a:lnTo>
                    <a:lnTo>
                      <a:pt x="111" y="101"/>
                    </a:lnTo>
                    <a:lnTo>
                      <a:pt x="118" y="104"/>
                    </a:lnTo>
                    <a:lnTo>
                      <a:pt x="126" y="108"/>
                    </a:lnTo>
                    <a:lnTo>
                      <a:pt x="133" y="112"/>
                    </a:lnTo>
                    <a:lnTo>
                      <a:pt x="143" y="116"/>
                    </a:lnTo>
                    <a:lnTo>
                      <a:pt x="149" y="121"/>
                    </a:lnTo>
                    <a:lnTo>
                      <a:pt x="158" y="125"/>
                    </a:lnTo>
                    <a:lnTo>
                      <a:pt x="166" y="129"/>
                    </a:lnTo>
                    <a:lnTo>
                      <a:pt x="175" y="133"/>
                    </a:lnTo>
                    <a:lnTo>
                      <a:pt x="183" y="137"/>
                    </a:lnTo>
                    <a:lnTo>
                      <a:pt x="190" y="140"/>
                    </a:lnTo>
                    <a:lnTo>
                      <a:pt x="198" y="144"/>
                    </a:lnTo>
                    <a:lnTo>
                      <a:pt x="208" y="148"/>
                    </a:lnTo>
                    <a:lnTo>
                      <a:pt x="213" y="152"/>
                    </a:lnTo>
                    <a:lnTo>
                      <a:pt x="223" y="156"/>
                    </a:lnTo>
                    <a:lnTo>
                      <a:pt x="230" y="158"/>
                    </a:lnTo>
                    <a:lnTo>
                      <a:pt x="240" y="163"/>
                    </a:lnTo>
                    <a:lnTo>
                      <a:pt x="236" y="156"/>
                    </a:lnTo>
                    <a:lnTo>
                      <a:pt x="232" y="148"/>
                    </a:lnTo>
                    <a:lnTo>
                      <a:pt x="230" y="140"/>
                    </a:lnTo>
                    <a:lnTo>
                      <a:pt x="227" y="135"/>
                    </a:lnTo>
                    <a:lnTo>
                      <a:pt x="223" y="127"/>
                    </a:lnTo>
                    <a:lnTo>
                      <a:pt x="219" y="121"/>
                    </a:lnTo>
                    <a:lnTo>
                      <a:pt x="217" y="114"/>
                    </a:lnTo>
                    <a:lnTo>
                      <a:pt x="213" y="108"/>
                    </a:lnTo>
                    <a:lnTo>
                      <a:pt x="209" y="101"/>
                    </a:lnTo>
                    <a:lnTo>
                      <a:pt x="208" y="93"/>
                    </a:lnTo>
                    <a:lnTo>
                      <a:pt x="204" y="85"/>
                    </a:lnTo>
                    <a:lnTo>
                      <a:pt x="204" y="80"/>
                    </a:lnTo>
                    <a:lnTo>
                      <a:pt x="202" y="72"/>
                    </a:lnTo>
                    <a:lnTo>
                      <a:pt x="202" y="64"/>
                    </a:lnTo>
                    <a:lnTo>
                      <a:pt x="202" y="55"/>
                    </a:lnTo>
                    <a:lnTo>
                      <a:pt x="204" y="47"/>
                    </a:lnTo>
                    <a:lnTo>
                      <a:pt x="209" y="55"/>
                    </a:lnTo>
                    <a:lnTo>
                      <a:pt x="215" y="64"/>
                    </a:lnTo>
                    <a:lnTo>
                      <a:pt x="221" y="74"/>
                    </a:lnTo>
                    <a:lnTo>
                      <a:pt x="228" y="83"/>
                    </a:lnTo>
                    <a:lnTo>
                      <a:pt x="232" y="93"/>
                    </a:lnTo>
                    <a:lnTo>
                      <a:pt x="240" y="104"/>
                    </a:lnTo>
                    <a:lnTo>
                      <a:pt x="242" y="110"/>
                    </a:lnTo>
                    <a:lnTo>
                      <a:pt x="246" y="116"/>
                    </a:lnTo>
                    <a:lnTo>
                      <a:pt x="249" y="123"/>
                    </a:lnTo>
                    <a:lnTo>
                      <a:pt x="253" y="129"/>
                    </a:lnTo>
                    <a:lnTo>
                      <a:pt x="259" y="140"/>
                    </a:lnTo>
                    <a:lnTo>
                      <a:pt x="266" y="150"/>
                    </a:lnTo>
                    <a:lnTo>
                      <a:pt x="276" y="159"/>
                    </a:lnTo>
                    <a:lnTo>
                      <a:pt x="285" y="171"/>
                    </a:lnTo>
                    <a:lnTo>
                      <a:pt x="293" y="179"/>
                    </a:lnTo>
                    <a:lnTo>
                      <a:pt x="304" y="186"/>
                    </a:lnTo>
                    <a:lnTo>
                      <a:pt x="308" y="190"/>
                    </a:lnTo>
                    <a:lnTo>
                      <a:pt x="314" y="194"/>
                    </a:lnTo>
                    <a:lnTo>
                      <a:pt x="320" y="196"/>
                    </a:lnTo>
                    <a:lnTo>
                      <a:pt x="325" y="199"/>
                    </a:lnTo>
                    <a:lnTo>
                      <a:pt x="320" y="190"/>
                    </a:lnTo>
                    <a:lnTo>
                      <a:pt x="316" y="182"/>
                    </a:lnTo>
                    <a:lnTo>
                      <a:pt x="312" y="173"/>
                    </a:lnTo>
                    <a:lnTo>
                      <a:pt x="308" y="163"/>
                    </a:lnTo>
                    <a:lnTo>
                      <a:pt x="304" y="152"/>
                    </a:lnTo>
                    <a:lnTo>
                      <a:pt x="303" y="142"/>
                    </a:lnTo>
                    <a:lnTo>
                      <a:pt x="303" y="131"/>
                    </a:lnTo>
                    <a:lnTo>
                      <a:pt x="303" y="121"/>
                    </a:lnTo>
                    <a:lnTo>
                      <a:pt x="301" y="112"/>
                    </a:lnTo>
                    <a:lnTo>
                      <a:pt x="301" y="101"/>
                    </a:lnTo>
                    <a:lnTo>
                      <a:pt x="301" y="91"/>
                    </a:lnTo>
                    <a:lnTo>
                      <a:pt x="303" y="82"/>
                    </a:lnTo>
                    <a:lnTo>
                      <a:pt x="304" y="72"/>
                    </a:lnTo>
                    <a:lnTo>
                      <a:pt x="306" y="63"/>
                    </a:lnTo>
                    <a:lnTo>
                      <a:pt x="310" y="55"/>
                    </a:lnTo>
                    <a:lnTo>
                      <a:pt x="312" y="47"/>
                    </a:lnTo>
                    <a:lnTo>
                      <a:pt x="316" y="40"/>
                    </a:lnTo>
                    <a:lnTo>
                      <a:pt x="320" y="34"/>
                    </a:lnTo>
                    <a:lnTo>
                      <a:pt x="323" y="28"/>
                    </a:lnTo>
                    <a:lnTo>
                      <a:pt x="329" y="25"/>
                    </a:lnTo>
                    <a:lnTo>
                      <a:pt x="333" y="21"/>
                    </a:lnTo>
                    <a:lnTo>
                      <a:pt x="339" y="19"/>
                    </a:lnTo>
                    <a:lnTo>
                      <a:pt x="344" y="19"/>
                    </a:lnTo>
                    <a:lnTo>
                      <a:pt x="350" y="19"/>
                    </a:lnTo>
                    <a:lnTo>
                      <a:pt x="358" y="21"/>
                    </a:lnTo>
                    <a:lnTo>
                      <a:pt x="363" y="23"/>
                    </a:lnTo>
                    <a:lnTo>
                      <a:pt x="369" y="28"/>
                    </a:lnTo>
                    <a:lnTo>
                      <a:pt x="379" y="36"/>
                    </a:lnTo>
                    <a:lnTo>
                      <a:pt x="384" y="45"/>
                    </a:lnTo>
                    <a:lnTo>
                      <a:pt x="394" y="55"/>
                    </a:lnTo>
                    <a:lnTo>
                      <a:pt x="396" y="61"/>
                    </a:lnTo>
                    <a:lnTo>
                      <a:pt x="400" y="68"/>
                    </a:lnTo>
                    <a:lnTo>
                      <a:pt x="405" y="76"/>
                    </a:lnTo>
                    <a:lnTo>
                      <a:pt x="409" y="83"/>
                    </a:lnTo>
                    <a:lnTo>
                      <a:pt x="415" y="87"/>
                    </a:lnTo>
                    <a:lnTo>
                      <a:pt x="420" y="91"/>
                    </a:lnTo>
                    <a:lnTo>
                      <a:pt x="426" y="95"/>
                    </a:lnTo>
                    <a:lnTo>
                      <a:pt x="434" y="99"/>
                    </a:lnTo>
                    <a:lnTo>
                      <a:pt x="439" y="102"/>
                    </a:lnTo>
                    <a:lnTo>
                      <a:pt x="445" y="108"/>
                    </a:lnTo>
                    <a:lnTo>
                      <a:pt x="451" y="114"/>
                    </a:lnTo>
                    <a:lnTo>
                      <a:pt x="457" y="121"/>
                    </a:lnTo>
                    <a:lnTo>
                      <a:pt x="455" y="123"/>
                    </a:lnTo>
                    <a:lnTo>
                      <a:pt x="447" y="120"/>
                    </a:lnTo>
                    <a:lnTo>
                      <a:pt x="441" y="116"/>
                    </a:lnTo>
                    <a:lnTo>
                      <a:pt x="434" y="114"/>
                    </a:lnTo>
                    <a:lnTo>
                      <a:pt x="428" y="110"/>
                    </a:lnTo>
                    <a:lnTo>
                      <a:pt x="422" y="106"/>
                    </a:lnTo>
                    <a:lnTo>
                      <a:pt x="415" y="106"/>
                    </a:lnTo>
                    <a:lnTo>
                      <a:pt x="407" y="104"/>
                    </a:lnTo>
                    <a:lnTo>
                      <a:pt x="401" y="104"/>
                    </a:lnTo>
                    <a:lnTo>
                      <a:pt x="405" y="114"/>
                    </a:lnTo>
                    <a:lnTo>
                      <a:pt x="413" y="123"/>
                    </a:lnTo>
                    <a:lnTo>
                      <a:pt x="417" y="131"/>
                    </a:lnTo>
                    <a:lnTo>
                      <a:pt x="424" y="140"/>
                    </a:lnTo>
                    <a:lnTo>
                      <a:pt x="430" y="146"/>
                    </a:lnTo>
                    <a:lnTo>
                      <a:pt x="438" y="152"/>
                    </a:lnTo>
                    <a:lnTo>
                      <a:pt x="445" y="159"/>
                    </a:lnTo>
                    <a:lnTo>
                      <a:pt x="457" y="165"/>
                    </a:lnTo>
                    <a:lnTo>
                      <a:pt x="455" y="169"/>
                    </a:lnTo>
                    <a:lnTo>
                      <a:pt x="455" y="173"/>
                    </a:lnTo>
                    <a:lnTo>
                      <a:pt x="445" y="169"/>
                    </a:lnTo>
                    <a:lnTo>
                      <a:pt x="439" y="167"/>
                    </a:lnTo>
                    <a:lnTo>
                      <a:pt x="434" y="163"/>
                    </a:lnTo>
                    <a:lnTo>
                      <a:pt x="430" y="163"/>
                    </a:lnTo>
                    <a:lnTo>
                      <a:pt x="422" y="163"/>
                    </a:lnTo>
                    <a:lnTo>
                      <a:pt x="419" y="165"/>
                    </a:lnTo>
                    <a:lnTo>
                      <a:pt x="417" y="167"/>
                    </a:lnTo>
                    <a:lnTo>
                      <a:pt x="417" y="173"/>
                    </a:lnTo>
                    <a:lnTo>
                      <a:pt x="420" y="179"/>
                    </a:lnTo>
                    <a:lnTo>
                      <a:pt x="426" y="188"/>
                    </a:lnTo>
                    <a:lnTo>
                      <a:pt x="432" y="194"/>
                    </a:lnTo>
                    <a:lnTo>
                      <a:pt x="438" y="203"/>
                    </a:lnTo>
                    <a:lnTo>
                      <a:pt x="445" y="211"/>
                    </a:lnTo>
                    <a:lnTo>
                      <a:pt x="455" y="218"/>
                    </a:lnTo>
                    <a:lnTo>
                      <a:pt x="462" y="222"/>
                    </a:lnTo>
                    <a:lnTo>
                      <a:pt x="472" y="228"/>
                    </a:lnTo>
                    <a:lnTo>
                      <a:pt x="479" y="232"/>
                    </a:lnTo>
                    <a:lnTo>
                      <a:pt x="489" y="234"/>
                    </a:lnTo>
                    <a:lnTo>
                      <a:pt x="481" y="237"/>
                    </a:lnTo>
                    <a:lnTo>
                      <a:pt x="476" y="237"/>
                    </a:lnTo>
                    <a:lnTo>
                      <a:pt x="470" y="237"/>
                    </a:lnTo>
                    <a:lnTo>
                      <a:pt x="464" y="237"/>
                    </a:lnTo>
                    <a:lnTo>
                      <a:pt x="458" y="234"/>
                    </a:lnTo>
                    <a:lnTo>
                      <a:pt x="451" y="230"/>
                    </a:lnTo>
                    <a:lnTo>
                      <a:pt x="445" y="226"/>
                    </a:lnTo>
                    <a:lnTo>
                      <a:pt x="439" y="222"/>
                    </a:lnTo>
                    <a:lnTo>
                      <a:pt x="432" y="215"/>
                    </a:lnTo>
                    <a:lnTo>
                      <a:pt x="426" y="211"/>
                    </a:lnTo>
                    <a:lnTo>
                      <a:pt x="419" y="205"/>
                    </a:lnTo>
                    <a:lnTo>
                      <a:pt x="413" y="201"/>
                    </a:lnTo>
                    <a:lnTo>
                      <a:pt x="407" y="196"/>
                    </a:lnTo>
                    <a:lnTo>
                      <a:pt x="400" y="194"/>
                    </a:lnTo>
                    <a:lnTo>
                      <a:pt x="394" y="194"/>
                    </a:lnTo>
                    <a:lnTo>
                      <a:pt x="388" y="194"/>
                    </a:lnTo>
                    <a:lnTo>
                      <a:pt x="390" y="199"/>
                    </a:lnTo>
                    <a:lnTo>
                      <a:pt x="394" y="205"/>
                    </a:lnTo>
                    <a:lnTo>
                      <a:pt x="398" y="211"/>
                    </a:lnTo>
                    <a:lnTo>
                      <a:pt x="403" y="218"/>
                    </a:lnTo>
                    <a:lnTo>
                      <a:pt x="409" y="222"/>
                    </a:lnTo>
                    <a:lnTo>
                      <a:pt x="415" y="228"/>
                    </a:lnTo>
                    <a:lnTo>
                      <a:pt x="422" y="232"/>
                    </a:lnTo>
                    <a:lnTo>
                      <a:pt x="428" y="239"/>
                    </a:lnTo>
                    <a:lnTo>
                      <a:pt x="434" y="243"/>
                    </a:lnTo>
                    <a:lnTo>
                      <a:pt x="439" y="249"/>
                    </a:lnTo>
                    <a:lnTo>
                      <a:pt x="445" y="253"/>
                    </a:lnTo>
                    <a:lnTo>
                      <a:pt x="453" y="258"/>
                    </a:lnTo>
                    <a:lnTo>
                      <a:pt x="457" y="264"/>
                    </a:lnTo>
                    <a:lnTo>
                      <a:pt x="462" y="270"/>
                    </a:lnTo>
                    <a:lnTo>
                      <a:pt x="466" y="277"/>
                    </a:lnTo>
                    <a:lnTo>
                      <a:pt x="470" y="283"/>
                    </a:lnTo>
                    <a:lnTo>
                      <a:pt x="468" y="285"/>
                    </a:lnTo>
                    <a:lnTo>
                      <a:pt x="464" y="289"/>
                    </a:lnTo>
                    <a:lnTo>
                      <a:pt x="457" y="287"/>
                    </a:lnTo>
                    <a:lnTo>
                      <a:pt x="451" y="283"/>
                    </a:lnTo>
                    <a:lnTo>
                      <a:pt x="445" y="279"/>
                    </a:lnTo>
                    <a:lnTo>
                      <a:pt x="439" y="275"/>
                    </a:lnTo>
                    <a:lnTo>
                      <a:pt x="434" y="270"/>
                    </a:lnTo>
                    <a:lnTo>
                      <a:pt x="426" y="266"/>
                    </a:lnTo>
                    <a:lnTo>
                      <a:pt x="419" y="266"/>
                    </a:lnTo>
                    <a:lnTo>
                      <a:pt x="413" y="268"/>
                    </a:lnTo>
                    <a:lnTo>
                      <a:pt x="419" y="275"/>
                    </a:lnTo>
                    <a:lnTo>
                      <a:pt x="426" y="285"/>
                    </a:lnTo>
                    <a:lnTo>
                      <a:pt x="432" y="294"/>
                    </a:lnTo>
                    <a:lnTo>
                      <a:pt x="438" y="304"/>
                    </a:lnTo>
                    <a:lnTo>
                      <a:pt x="439" y="313"/>
                    </a:lnTo>
                    <a:lnTo>
                      <a:pt x="441" y="323"/>
                    </a:lnTo>
                    <a:lnTo>
                      <a:pt x="443" y="332"/>
                    </a:lnTo>
                    <a:lnTo>
                      <a:pt x="445" y="342"/>
                    </a:lnTo>
                    <a:lnTo>
                      <a:pt x="445" y="352"/>
                    </a:lnTo>
                    <a:lnTo>
                      <a:pt x="447" y="361"/>
                    </a:lnTo>
                    <a:lnTo>
                      <a:pt x="449" y="371"/>
                    </a:lnTo>
                    <a:lnTo>
                      <a:pt x="451" y="382"/>
                    </a:lnTo>
                    <a:lnTo>
                      <a:pt x="453" y="391"/>
                    </a:lnTo>
                    <a:lnTo>
                      <a:pt x="458" y="403"/>
                    </a:lnTo>
                    <a:lnTo>
                      <a:pt x="462" y="412"/>
                    </a:lnTo>
                    <a:lnTo>
                      <a:pt x="470" y="422"/>
                    </a:lnTo>
                    <a:lnTo>
                      <a:pt x="464" y="428"/>
                    </a:lnTo>
                    <a:lnTo>
                      <a:pt x="458" y="424"/>
                    </a:lnTo>
                    <a:lnTo>
                      <a:pt x="455" y="420"/>
                    </a:lnTo>
                    <a:lnTo>
                      <a:pt x="451" y="422"/>
                    </a:lnTo>
                    <a:lnTo>
                      <a:pt x="449" y="428"/>
                    </a:lnTo>
                    <a:lnTo>
                      <a:pt x="457" y="437"/>
                    </a:lnTo>
                    <a:lnTo>
                      <a:pt x="464" y="448"/>
                    </a:lnTo>
                    <a:lnTo>
                      <a:pt x="466" y="452"/>
                    </a:lnTo>
                    <a:lnTo>
                      <a:pt x="470" y="460"/>
                    </a:lnTo>
                    <a:lnTo>
                      <a:pt x="472" y="466"/>
                    </a:lnTo>
                    <a:lnTo>
                      <a:pt x="476" y="471"/>
                    </a:lnTo>
                    <a:lnTo>
                      <a:pt x="477" y="479"/>
                    </a:lnTo>
                    <a:lnTo>
                      <a:pt x="479" y="485"/>
                    </a:lnTo>
                    <a:lnTo>
                      <a:pt x="481" y="492"/>
                    </a:lnTo>
                    <a:lnTo>
                      <a:pt x="485" y="500"/>
                    </a:lnTo>
                    <a:lnTo>
                      <a:pt x="487" y="505"/>
                    </a:lnTo>
                    <a:lnTo>
                      <a:pt x="489" y="515"/>
                    </a:lnTo>
                    <a:lnTo>
                      <a:pt x="489" y="523"/>
                    </a:lnTo>
                    <a:lnTo>
                      <a:pt x="491" y="530"/>
                    </a:lnTo>
                    <a:lnTo>
                      <a:pt x="491" y="536"/>
                    </a:lnTo>
                    <a:lnTo>
                      <a:pt x="493" y="545"/>
                    </a:lnTo>
                    <a:lnTo>
                      <a:pt x="493" y="553"/>
                    </a:lnTo>
                    <a:lnTo>
                      <a:pt x="495" y="561"/>
                    </a:lnTo>
                    <a:lnTo>
                      <a:pt x="495" y="568"/>
                    </a:lnTo>
                    <a:lnTo>
                      <a:pt x="495" y="578"/>
                    </a:lnTo>
                    <a:lnTo>
                      <a:pt x="495" y="585"/>
                    </a:lnTo>
                    <a:lnTo>
                      <a:pt x="496" y="595"/>
                    </a:lnTo>
                    <a:lnTo>
                      <a:pt x="495" y="601"/>
                    </a:lnTo>
                    <a:lnTo>
                      <a:pt x="495" y="610"/>
                    </a:lnTo>
                    <a:lnTo>
                      <a:pt x="495" y="618"/>
                    </a:lnTo>
                    <a:lnTo>
                      <a:pt x="495" y="627"/>
                    </a:lnTo>
                    <a:lnTo>
                      <a:pt x="493" y="635"/>
                    </a:lnTo>
                    <a:lnTo>
                      <a:pt x="493" y="644"/>
                    </a:lnTo>
                    <a:lnTo>
                      <a:pt x="491" y="652"/>
                    </a:lnTo>
                    <a:lnTo>
                      <a:pt x="491" y="661"/>
                    </a:lnTo>
                    <a:lnTo>
                      <a:pt x="489" y="669"/>
                    </a:lnTo>
                    <a:lnTo>
                      <a:pt x="487" y="677"/>
                    </a:lnTo>
                    <a:lnTo>
                      <a:pt x="485" y="682"/>
                    </a:lnTo>
                    <a:lnTo>
                      <a:pt x="483" y="692"/>
                    </a:lnTo>
                    <a:lnTo>
                      <a:pt x="481" y="698"/>
                    </a:lnTo>
                    <a:lnTo>
                      <a:pt x="479" y="707"/>
                    </a:lnTo>
                    <a:lnTo>
                      <a:pt x="477" y="713"/>
                    </a:lnTo>
                    <a:lnTo>
                      <a:pt x="474" y="720"/>
                    </a:lnTo>
                    <a:lnTo>
                      <a:pt x="472" y="728"/>
                    </a:lnTo>
                    <a:lnTo>
                      <a:pt x="468" y="736"/>
                    </a:lnTo>
                    <a:lnTo>
                      <a:pt x="464" y="743"/>
                    </a:lnTo>
                    <a:lnTo>
                      <a:pt x="462" y="751"/>
                    </a:lnTo>
                    <a:lnTo>
                      <a:pt x="458" y="756"/>
                    </a:lnTo>
                    <a:lnTo>
                      <a:pt x="455" y="762"/>
                    </a:lnTo>
                    <a:lnTo>
                      <a:pt x="453" y="770"/>
                    </a:lnTo>
                    <a:lnTo>
                      <a:pt x="449" y="775"/>
                    </a:lnTo>
                    <a:lnTo>
                      <a:pt x="441" y="787"/>
                    </a:lnTo>
                    <a:lnTo>
                      <a:pt x="434" y="796"/>
                    </a:lnTo>
                    <a:lnTo>
                      <a:pt x="424" y="806"/>
                    </a:lnTo>
                    <a:lnTo>
                      <a:pt x="415" y="815"/>
                    </a:lnTo>
                    <a:lnTo>
                      <a:pt x="405" y="821"/>
                    </a:lnTo>
                    <a:lnTo>
                      <a:pt x="394" y="827"/>
                    </a:lnTo>
                    <a:lnTo>
                      <a:pt x="384" y="832"/>
                    </a:lnTo>
                    <a:lnTo>
                      <a:pt x="373" y="836"/>
                    </a:lnTo>
                    <a:lnTo>
                      <a:pt x="369" y="832"/>
                    </a:lnTo>
                    <a:lnTo>
                      <a:pt x="367" y="823"/>
                    </a:lnTo>
                    <a:lnTo>
                      <a:pt x="363" y="813"/>
                    </a:lnTo>
                    <a:lnTo>
                      <a:pt x="360" y="810"/>
                    </a:lnTo>
                    <a:lnTo>
                      <a:pt x="352" y="812"/>
                    </a:lnTo>
                    <a:lnTo>
                      <a:pt x="342" y="817"/>
                    </a:lnTo>
                    <a:lnTo>
                      <a:pt x="333" y="819"/>
                    </a:lnTo>
                    <a:lnTo>
                      <a:pt x="325" y="821"/>
                    </a:lnTo>
                    <a:lnTo>
                      <a:pt x="329" y="812"/>
                    </a:lnTo>
                    <a:lnTo>
                      <a:pt x="335" y="802"/>
                    </a:lnTo>
                    <a:lnTo>
                      <a:pt x="339" y="793"/>
                    </a:lnTo>
                    <a:lnTo>
                      <a:pt x="346" y="785"/>
                    </a:lnTo>
                    <a:lnTo>
                      <a:pt x="350" y="777"/>
                    </a:lnTo>
                    <a:lnTo>
                      <a:pt x="356" y="770"/>
                    </a:lnTo>
                    <a:lnTo>
                      <a:pt x="362" y="762"/>
                    </a:lnTo>
                    <a:lnTo>
                      <a:pt x="367" y="756"/>
                    </a:lnTo>
                    <a:lnTo>
                      <a:pt x="373" y="749"/>
                    </a:lnTo>
                    <a:lnTo>
                      <a:pt x="379" y="743"/>
                    </a:lnTo>
                    <a:lnTo>
                      <a:pt x="384" y="736"/>
                    </a:lnTo>
                    <a:lnTo>
                      <a:pt x="390" y="730"/>
                    </a:lnTo>
                    <a:lnTo>
                      <a:pt x="396" y="724"/>
                    </a:lnTo>
                    <a:lnTo>
                      <a:pt x="400" y="717"/>
                    </a:lnTo>
                    <a:lnTo>
                      <a:pt x="405" y="711"/>
                    </a:lnTo>
                    <a:lnTo>
                      <a:pt x="413" y="705"/>
                    </a:lnTo>
                    <a:lnTo>
                      <a:pt x="417" y="698"/>
                    </a:lnTo>
                    <a:lnTo>
                      <a:pt x="420" y="692"/>
                    </a:lnTo>
                    <a:lnTo>
                      <a:pt x="424" y="686"/>
                    </a:lnTo>
                    <a:lnTo>
                      <a:pt x="430" y="678"/>
                    </a:lnTo>
                    <a:lnTo>
                      <a:pt x="434" y="671"/>
                    </a:lnTo>
                    <a:lnTo>
                      <a:pt x="438" y="665"/>
                    </a:lnTo>
                    <a:lnTo>
                      <a:pt x="441" y="658"/>
                    </a:lnTo>
                    <a:lnTo>
                      <a:pt x="443" y="650"/>
                    </a:lnTo>
                    <a:lnTo>
                      <a:pt x="445" y="642"/>
                    </a:lnTo>
                    <a:lnTo>
                      <a:pt x="447" y="633"/>
                    </a:lnTo>
                    <a:lnTo>
                      <a:pt x="449" y="625"/>
                    </a:lnTo>
                    <a:lnTo>
                      <a:pt x="449" y="616"/>
                    </a:lnTo>
                    <a:lnTo>
                      <a:pt x="449" y="606"/>
                    </a:lnTo>
                    <a:lnTo>
                      <a:pt x="449" y="597"/>
                    </a:lnTo>
                    <a:lnTo>
                      <a:pt x="449" y="585"/>
                    </a:lnTo>
                    <a:lnTo>
                      <a:pt x="447" y="576"/>
                    </a:lnTo>
                    <a:lnTo>
                      <a:pt x="445" y="563"/>
                    </a:lnTo>
                    <a:lnTo>
                      <a:pt x="445" y="553"/>
                    </a:lnTo>
                    <a:lnTo>
                      <a:pt x="443" y="542"/>
                    </a:lnTo>
                    <a:lnTo>
                      <a:pt x="441" y="532"/>
                    </a:lnTo>
                    <a:lnTo>
                      <a:pt x="439" y="521"/>
                    </a:lnTo>
                    <a:lnTo>
                      <a:pt x="436" y="509"/>
                    </a:lnTo>
                    <a:lnTo>
                      <a:pt x="434" y="500"/>
                    </a:lnTo>
                    <a:lnTo>
                      <a:pt x="432" y="488"/>
                    </a:lnTo>
                    <a:lnTo>
                      <a:pt x="426" y="477"/>
                    </a:lnTo>
                    <a:lnTo>
                      <a:pt x="422" y="467"/>
                    </a:lnTo>
                    <a:lnTo>
                      <a:pt x="419" y="454"/>
                    </a:lnTo>
                    <a:lnTo>
                      <a:pt x="415" y="445"/>
                    </a:lnTo>
                    <a:lnTo>
                      <a:pt x="409" y="433"/>
                    </a:lnTo>
                    <a:lnTo>
                      <a:pt x="405" y="422"/>
                    </a:lnTo>
                    <a:lnTo>
                      <a:pt x="400" y="410"/>
                    </a:lnTo>
                    <a:lnTo>
                      <a:pt x="396" y="399"/>
                    </a:lnTo>
                    <a:lnTo>
                      <a:pt x="388" y="388"/>
                    </a:lnTo>
                    <a:lnTo>
                      <a:pt x="384" y="378"/>
                    </a:lnTo>
                    <a:lnTo>
                      <a:pt x="379" y="367"/>
                    </a:lnTo>
                    <a:lnTo>
                      <a:pt x="375" y="355"/>
                    </a:lnTo>
                    <a:lnTo>
                      <a:pt x="369" y="344"/>
                    </a:lnTo>
                    <a:lnTo>
                      <a:pt x="365" y="332"/>
                    </a:lnTo>
                    <a:lnTo>
                      <a:pt x="360" y="321"/>
                    </a:lnTo>
                    <a:lnTo>
                      <a:pt x="356" y="312"/>
                    </a:lnTo>
                    <a:lnTo>
                      <a:pt x="350" y="302"/>
                    </a:lnTo>
                    <a:lnTo>
                      <a:pt x="346" y="291"/>
                    </a:lnTo>
                    <a:lnTo>
                      <a:pt x="342" y="279"/>
                    </a:lnTo>
                    <a:lnTo>
                      <a:pt x="341" y="270"/>
                    </a:lnTo>
                    <a:lnTo>
                      <a:pt x="337" y="260"/>
                    </a:lnTo>
                    <a:lnTo>
                      <a:pt x="335" y="251"/>
                    </a:lnTo>
                    <a:lnTo>
                      <a:pt x="333" y="241"/>
                    </a:lnTo>
                    <a:lnTo>
                      <a:pt x="331" y="234"/>
                    </a:lnTo>
                    <a:lnTo>
                      <a:pt x="323" y="230"/>
                    </a:lnTo>
                    <a:lnTo>
                      <a:pt x="316" y="230"/>
                    </a:lnTo>
                    <a:lnTo>
                      <a:pt x="310" y="228"/>
                    </a:lnTo>
                    <a:lnTo>
                      <a:pt x="304" y="226"/>
                    </a:lnTo>
                    <a:lnTo>
                      <a:pt x="297" y="222"/>
                    </a:lnTo>
                    <a:lnTo>
                      <a:pt x="289" y="222"/>
                    </a:lnTo>
                    <a:lnTo>
                      <a:pt x="284" y="220"/>
                    </a:lnTo>
                    <a:lnTo>
                      <a:pt x="276" y="218"/>
                    </a:lnTo>
                    <a:lnTo>
                      <a:pt x="268" y="215"/>
                    </a:lnTo>
                    <a:lnTo>
                      <a:pt x="263" y="215"/>
                    </a:lnTo>
                    <a:lnTo>
                      <a:pt x="255" y="213"/>
                    </a:lnTo>
                    <a:lnTo>
                      <a:pt x="249" y="211"/>
                    </a:lnTo>
                    <a:lnTo>
                      <a:pt x="242" y="209"/>
                    </a:lnTo>
                    <a:lnTo>
                      <a:pt x="236" y="207"/>
                    </a:lnTo>
                    <a:lnTo>
                      <a:pt x="228" y="205"/>
                    </a:lnTo>
                    <a:lnTo>
                      <a:pt x="223" y="203"/>
                    </a:lnTo>
                    <a:lnTo>
                      <a:pt x="215" y="201"/>
                    </a:lnTo>
                    <a:lnTo>
                      <a:pt x="209" y="199"/>
                    </a:lnTo>
                    <a:lnTo>
                      <a:pt x="202" y="196"/>
                    </a:lnTo>
                    <a:lnTo>
                      <a:pt x="194" y="194"/>
                    </a:lnTo>
                    <a:lnTo>
                      <a:pt x="189" y="192"/>
                    </a:lnTo>
                    <a:lnTo>
                      <a:pt x="183" y="188"/>
                    </a:lnTo>
                    <a:lnTo>
                      <a:pt x="175" y="186"/>
                    </a:lnTo>
                    <a:lnTo>
                      <a:pt x="169" y="184"/>
                    </a:lnTo>
                    <a:lnTo>
                      <a:pt x="164" y="182"/>
                    </a:lnTo>
                    <a:lnTo>
                      <a:pt x="156" y="179"/>
                    </a:lnTo>
                    <a:lnTo>
                      <a:pt x="150" y="177"/>
                    </a:lnTo>
                    <a:lnTo>
                      <a:pt x="145" y="175"/>
                    </a:lnTo>
                    <a:lnTo>
                      <a:pt x="133" y="167"/>
                    </a:lnTo>
                    <a:lnTo>
                      <a:pt x="122" y="163"/>
                    </a:lnTo>
                    <a:lnTo>
                      <a:pt x="116" y="158"/>
                    </a:lnTo>
                    <a:lnTo>
                      <a:pt x="109" y="156"/>
                    </a:lnTo>
                    <a:lnTo>
                      <a:pt x="103" y="152"/>
                    </a:lnTo>
                    <a:lnTo>
                      <a:pt x="99" y="148"/>
                    </a:lnTo>
                    <a:lnTo>
                      <a:pt x="88" y="140"/>
                    </a:lnTo>
                    <a:lnTo>
                      <a:pt x="78" y="133"/>
                    </a:lnTo>
                    <a:lnTo>
                      <a:pt x="69" y="123"/>
                    </a:lnTo>
                    <a:lnTo>
                      <a:pt x="57" y="116"/>
                    </a:lnTo>
                    <a:lnTo>
                      <a:pt x="50" y="106"/>
                    </a:lnTo>
                    <a:lnTo>
                      <a:pt x="42" y="97"/>
                    </a:lnTo>
                    <a:lnTo>
                      <a:pt x="35" y="85"/>
                    </a:lnTo>
                    <a:lnTo>
                      <a:pt x="27" y="76"/>
                    </a:lnTo>
                    <a:lnTo>
                      <a:pt x="21" y="64"/>
                    </a:lnTo>
                    <a:lnTo>
                      <a:pt x="15" y="53"/>
                    </a:lnTo>
                    <a:lnTo>
                      <a:pt x="14" y="47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6" y="28"/>
                    </a:lnTo>
                    <a:lnTo>
                      <a:pt x="4" y="21"/>
                    </a:lnTo>
                    <a:lnTo>
                      <a:pt x="4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1041480" y="377820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118" h="53">
                    <a:moveTo>
                      <a:pt x="101" y="0"/>
                    </a:move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2"/>
                    </a:lnTo>
                    <a:lnTo>
                      <a:pt x="118" y="6"/>
                    </a:lnTo>
                    <a:lnTo>
                      <a:pt x="108" y="7"/>
                    </a:lnTo>
                    <a:lnTo>
                      <a:pt x="101" y="11"/>
                    </a:lnTo>
                    <a:lnTo>
                      <a:pt x="95" y="13"/>
                    </a:lnTo>
                    <a:lnTo>
                      <a:pt x="87" y="17"/>
                    </a:lnTo>
                    <a:lnTo>
                      <a:pt x="80" y="21"/>
                    </a:lnTo>
                    <a:lnTo>
                      <a:pt x="72" y="23"/>
                    </a:lnTo>
                    <a:lnTo>
                      <a:pt x="64" y="26"/>
                    </a:lnTo>
                    <a:lnTo>
                      <a:pt x="59" y="30"/>
                    </a:lnTo>
                    <a:lnTo>
                      <a:pt x="51" y="32"/>
                    </a:lnTo>
                    <a:lnTo>
                      <a:pt x="43" y="36"/>
                    </a:lnTo>
                    <a:lnTo>
                      <a:pt x="36" y="40"/>
                    </a:lnTo>
                    <a:lnTo>
                      <a:pt x="30" y="42"/>
                    </a:lnTo>
                    <a:lnTo>
                      <a:pt x="23" y="45"/>
                    </a:lnTo>
                    <a:lnTo>
                      <a:pt x="15" y="47"/>
                    </a:lnTo>
                    <a:lnTo>
                      <a:pt x="7" y="49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4" y="44"/>
                    </a:lnTo>
                    <a:lnTo>
                      <a:pt x="7" y="3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6" y="28"/>
                    </a:lnTo>
                    <a:lnTo>
                      <a:pt x="32" y="25"/>
                    </a:lnTo>
                    <a:lnTo>
                      <a:pt x="40" y="23"/>
                    </a:lnTo>
                    <a:lnTo>
                      <a:pt x="47" y="21"/>
                    </a:lnTo>
                    <a:lnTo>
                      <a:pt x="53" y="19"/>
                    </a:lnTo>
                    <a:lnTo>
                      <a:pt x="61" y="17"/>
                    </a:lnTo>
                    <a:lnTo>
                      <a:pt x="68" y="13"/>
                    </a:lnTo>
                    <a:lnTo>
                      <a:pt x="76" y="13"/>
                    </a:lnTo>
                    <a:lnTo>
                      <a:pt x="81" y="9"/>
                    </a:lnTo>
                    <a:lnTo>
                      <a:pt x="87" y="7"/>
                    </a:lnTo>
                    <a:lnTo>
                      <a:pt x="95" y="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1463760" y="3787920"/>
                <a:ext cx="46080" cy="1728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8" y="0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2" y="15"/>
                    </a:lnTo>
                    <a:lnTo>
                      <a:pt x="46" y="17"/>
                    </a:lnTo>
                    <a:lnTo>
                      <a:pt x="42" y="19"/>
                    </a:lnTo>
                    <a:lnTo>
                      <a:pt x="35" y="21"/>
                    </a:lnTo>
                    <a:lnTo>
                      <a:pt x="29" y="21"/>
                    </a:lnTo>
                    <a:lnTo>
                      <a:pt x="23" y="21"/>
                    </a:lnTo>
                    <a:lnTo>
                      <a:pt x="17" y="21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1249200" y="379584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57" y="2"/>
                    </a:moveTo>
                    <a:lnTo>
                      <a:pt x="66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3" y="19"/>
                    </a:lnTo>
                    <a:lnTo>
                      <a:pt x="74" y="21"/>
                    </a:lnTo>
                    <a:lnTo>
                      <a:pt x="64" y="24"/>
                    </a:lnTo>
                    <a:lnTo>
                      <a:pt x="55" y="26"/>
                    </a:lnTo>
                    <a:lnTo>
                      <a:pt x="45" y="30"/>
                    </a:lnTo>
                    <a:lnTo>
                      <a:pt x="36" y="34"/>
                    </a:lnTo>
                    <a:lnTo>
                      <a:pt x="26" y="36"/>
                    </a:lnTo>
                    <a:lnTo>
                      <a:pt x="17" y="40"/>
                    </a:lnTo>
                    <a:lnTo>
                      <a:pt x="7" y="45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6" y="11"/>
                    </a:lnTo>
                    <a:lnTo>
                      <a:pt x="30" y="11"/>
                    </a:lnTo>
                    <a:lnTo>
                      <a:pt x="38" y="11"/>
                    </a:lnTo>
                    <a:lnTo>
                      <a:pt x="47" y="7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799920" y="379728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7"/>
                    </a:lnTo>
                    <a:lnTo>
                      <a:pt x="55" y="22"/>
                    </a:lnTo>
                    <a:lnTo>
                      <a:pt x="62" y="28"/>
                    </a:lnTo>
                    <a:lnTo>
                      <a:pt x="66" y="32"/>
                    </a:lnTo>
                    <a:lnTo>
                      <a:pt x="68" y="38"/>
                    </a:lnTo>
                    <a:lnTo>
                      <a:pt x="72" y="43"/>
                    </a:lnTo>
                    <a:lnTo>
                      <a:pt x="74" y="51"/>
                    </a:lnTo>
                    <a:lnTo>
                      <a:pt x="72" y="53"/>
                    </a:lnTo>
                    <a:lnTo>
                      <a:pt x="70" y="55"/>
                    </a:lnTo>
                    <a:lnTo>
                      <a:pt x="60" y="49"/>
                    </a:lnTo>
                    <a:lnTo>
                      <a:pt x="49" y="43"/>
                    </a:lnTo>
                    <a:lnTo>
                      <a:pt x="43" y="41"/>
                    </a:lnTo>
                    <a:lnTo>
                      <a:pt x="38" y="38"/>
                    </a:lnTo>
                    <a:lnTo>
                      <a:pt x="32" y="34"/>
                    </a:lnTo>
                    <a:lnTo>
                      <a:pt x="26" y="32"/>
                    </a:lnTo>
                    <a:lnTo>
                      <a:pt x="15" y="22"/>
                    </a:lnTo>
                    <a:lnTo>
                      <a:pt x="7" y="15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406520" y="3807000"/>
                <a:ext cx="55440" cy="2196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33" y="0"/>
                    </a:moveTo>
                    <a:lnTo>
                      <a:pt x="42" y="0"/>
                    </a:lnTo>
                    <a:lnTo>
                      <a:pt x="52" y="2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1" y="13"/>
                    </a:lnTo>
                    <a:lnTo>
                      <a:pt x="67" y="15"/>
                    </a:lnTo>
                    <a:lnTo>
                      <a:pt x="59" y="21"/>
                    </a:lnTo>
                    <a:lnTo>
                      <a:pt x="50" y="23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29" y="27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0" y="27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5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1343880" y="3836880"/>
                <a:ext cx="66600" cy="1908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30" y="0"/>
                    </a:move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0" y="25"/>
                    </a:lnTo>
                    <a:lnTo>
                      <a:pt x="21" y="25"/>
                    </a:lnTo>
                    <a:lnTo>
                      <a:pt x="9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13" y="6"/>
                    </a:lnTo>
                    <a:lnTo>
                      <a:pt x="21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849240" y="3855960"/>
                <a:ext cx="209520" cy="228600"/>
              </a:xfrm>
              <a:custGeom>
                <a:avLst/>
                <a:gdLst/>
                <a:ahLst/>
                <a:rect l="l" t="t" r="r" b="b"/>
                <a:pathLst>
                  <a:path w="264" h="289">
                    <a:moveTo>
                      <a:pt x="121" y="11"/>
                    </a:moveTo>
                    <a:lnTo>
                      <a:pt x="133" y="5"/>
                    </a:lnTo>
                    <a:lnTo>
                      <a:pt x="144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8" y="4"/>
                    </a:lnTo>
                    <a:lnTo>
                      <a:pt x="198" y="5"/>
                    </a:lnTo>
                    <a:lnTo>
                      <a:pt x="207" y="9"/>
                    </a:lnTo>
                    <a:lnTo>
                      <a:pt x="215" y="13"/>
                    </a:lnTo>
                    <a:lnTo>
                      <a:pt x="222" y="17"/>
                    </a:lnTo>
                    <a:lnTo>
                      <a:pt x="230" y="23"/>
                    </a:lnTo>
                    <a:lnTo>
                      <a:pt x="237" y="28"/>
                    </a:lnTo>
                    <a:lnTo>
                      <a:pt x="243" y="36"/>
                    </a:lnTo>
                    <a:lnTo>
                      <a:pt x="249" y="42"/>
                    </a:lnTo>
                    <a:lnTo>
                      <a:pt x="253" y="49"/>
                    </a:lnTo>
                    <a:lnTo>
                      <a:pt x="258" y="55"/>
                    </a:lnTo>
                    <a:lnTo>
                      <a:pt x="260" y="62"/>
                    </a:lnTo>
                    <a:lnTo>
                      <a:pt x="262" y="68"/>
                    </a:lnTo>
                    <a:lnTo>
                      <a:pt x="262" y="76"/>
                    </a:lnTo>
                    <a:lnTo>
                      <a:pt x="262" y="82"/>
                    </a:lnTo>
                    <a:lnTo>
                      <a:pt x="262" y="87"/>
                    </a:lnTo>
                    <a:lnTo>
                      <a:pt x="260" y="93"/>
                    </a:lnTo>
                    <a:lnTo>
                      <a:pt x="255" y="97"/>
                    </a:lnTo>
                    <a:lnTo>
                      <a:pt x="253" y="102"/>
                    </a:lnTo>
                    <a:lnTo>
                      <a:pt x="245" y="104"/>
                    </a:lnTo>
                    <a:lnTo>
                      <a:pt x="237" y="108"/>
                    </a:lnTo>
                    <a:lnTo>
                      <a:pt x="230" y="110"/>
                    </a:lnTo>
                    <a:lnTo>
                      <a:pt x="222" y="112"/>
                    </a:lnTo>
                    <a:lnTo>
                      <a:pt x="215" y="110"/>
                    </a:lnTo>
                    <a:lnTo>
                      <a:pt x="209" y="110"/>
                    </a:lnTo>
                    <a:lnTo>
                      <a:pt x="203" y="108"/>
                    </a:lnTo>
                    <a:lnTo>
                      <a:pt x="198" y="108"/>
                    </a:lnTo>
                    <a:lnTo>
                      <a:pt x="190" y="106"/>
                    </a:lnTo>
                    <a:lnTo>
                      <a:pt x="184" y="106"/>
                    </a:lnTo>
                    <a:lnTo>
                      <a:pt x="177" y="104"/>
                    </a:lnTo>
                    <a:lnTo>
                      <a:pt x="169" y="102"/>
                    </a:lnTo>
                    <a:lnTo>
                      <a:pt x="160" y="99"/>
                    </a:lnTo>
                    <a:lnTo>
                      <a:pt x="150" y="95"/>
                    </a:lnTo>
                    <a:lnTo>
                      <a:pt x="140" y="91"/>
                    </a:lnTo>
                    <a:lnTo>
                      <a:pt x="131" y="89"/>
                    </a:lnTo>
                    <a:lnTo>
                      <a:pt x="120" y="85"/>
                    </a:lnTo>
                    <a:lnTo>
                      <a:pt x="108" y="85"/>
                    </a:lnTo>
                    <a:lnTo>
                      <a:pt x="102" y="85"/>
                    </a:lnTo>
                    <a:lnTo>
                      <a:pt x="97" y="85"/>
                    </a:lnTo>
                    <a:lnTo>
                      <a:pt x="89" y="87"/>
                    </a:lnTo>
                    <a:lnTo>
                      <a:pt x="85" y="89"/>
                    </a:lnTo>
                    <a:lnTo>
                      <a:pt x="91" y="97"/>
                    </a:lnTo>
                    <a:lnTo>
                      <a:pt x="99" y="104"/>
                    </a:lnTo>
                    <a:lnTo>
                      <a:pt x="106" y="106"/>
                    </a:lnTo>
                    <a:lnTo>
                      <a:pt x="116" y="110"/>
                    </a:lnTo>
                    <a:lnTo>
                      <a:pt x="123" y="112"/>
                    </a:lnTo>
                    <a:lnTo>
                      <a:pt x="133" y="114"/>
                    </a:lnTo>
                    <a:lnTo>
                      <a:pt x="142" y="118"/>
                    </a:lnTo>
                    <a:lnTo>
                      <a:pt x="154" y="123"/>
                    </a:lnTo>
                    <a:lnTo>
                      <a:pt x="160" y="125"/>
                    </a:lnTo>
                    <a:lnTo>
                      <a:pt x="165" y="129"/>
                    </a:lnTo>
                    <a:lnTo>
                      <a:pt x="169" y="131"/>
                    </a:lnTo>
                    <a:lnTo>
                      <a:pt x="173" y="135"/>
                    </a:lnTo>
                    <a:lnTo>
                      <a:pt x="179" y="137"/>
                    </a:lnTo>
                    <a:lnTo>
                      <a:pt x="182" y="140"/>
                    </a:lnTo>
                    <a:lnTo>
                      <a:pt x="179" y="140"/>
                    </a:lnTo>
                    <a:lnTo>
                      <a:pt x="173" y="142"/>
                    </a:lnTo>
                    <a:lnTo>
                      <a:pt x="167" y="140"/>
                    </a:lnTo>
                    <a:lnTo>
                      <a:pt x="160" y="140"/>
                    </a:lnTo>
                    <a:lnTo>
                      <a:pt x="152" y="137"/>
                    </a:lnTo>
                    <a:lnTo>
                      <a:pt x="144" y="135"/>
                    </a:lnTo>
                    <a:lnTo>
                      <a:pt x="137" y="131"/>
                    </a:lnTo>
                    <a:lnTo>
                      <a:pt x="131" y="129"/>
                    </a:lnTo>
                    <a:lnTo>
                      <a:pt x="121" y="125"/>
                    </a:lnTo>
                    <a:lnTo>
                      <a:pt x="116" y="123"/>
                    </a:lnTo>
                    <a:lnTo>
                      <a:pt x="108" y="121"/>
                    </a:lnTo>
                    <a:lnTo>
                      <a:pt x="104" y="121"/>
                    </a:lnTo>
                    <a:lnTo>
                      <a:pt x="99" y="121"/>
                    </a:lnTo>
                    <a:lnTo>
                      <a:pt x="97" y="123"/>
                    </a:lnTo>
                    <a:lnTo>
                      <a:pt x="97" y="125"/>
                    </a:lnTo>
                    <a:lnTo>
                      <a:pt x="99" y="131"/>
                    </a:lnTo>
                    <a:lnTo>
                      <a:pt x="101" y="137"/>
                    </a:lnTo>
                    <a:lnTo>
                      <a:pt x="102" y="142"/>
                    </a:lnTo>
                    <a:lnTo>
                      <a:pt x="106" y="146"/>
                    </a:lnTo>
                    <a:lnTo>
                      <a:pt x="108" y="150"/>
                    </a:lnTo>
                    <a:lnTo>
                      <a:pt x="116" y="156"/>
                    </a:lnTo>
                    <a:lnTo>
                      <a:pt x="125" y="159"/>
                    </a:lnTo>
                    <a:lnTo>
                      <a:pt x="133" y="159"/>
                    </a:lnTo>
                    <a:lnTo>
                      <a:pt x="142" y="161"/>
                    </a:lnTo>
                    <a:lnTo>
                      <a:pt x="152" y="159"/>
                    </a:lnTo>
                    <a:lnTo>
                      <a:pt x="163" y="158"/>
                    </a:lnTo>
                    <a:lnTo>
                      <a:pt x="173" y="154"/>
                    </a:lnTo>
                    <a:lnTo>
                      <a:pt x="182" y="154"/>
                    </a:lnTo>
                    <a:lnTo>
                      <a:pt x="192" y="152"/>
                    </a:lnTo>
                    <a:lnTo>
                      <a:pt x="201" y="154"/>
                    </a:lnTo>
                    <a:lnTo>
                      <a:pt x="209" y="154"/>
                    </a:lnTo>
                    <a:lnTo>
                      <a:pt x="218" y="156"/>
                    </a:lnTo>
                    <a:lnTo>
                      <a:pt x="224" y="159"/>
                    </a:lnTo>
                    <a:lnTo>
                      <a:pt x="232" y="163"/>
                    </a:lnTo>
                    <a:lnTo>
                      <a:pt x="237" y="165"/>
                    </a:lnTo>
                    <a:lnTo>
                      <a:pt x="243" y="171"/>
                    </a:lnTo>
                    <a:lnTo>
                      <a:pt x="247" y="177"/>
                    </a:lnTo>
                    <a:lnTo>
                      <a:pt x="253" y="182"/>
                    </a:lnTo>
                    <a:lnTo>
                      <a:pt x="255" y="190"/>
                    </a:lnTo>
                    <a:lnTo>
                      <a:pt x="256" y="196"/>
                    </a:lnTo>
                    <a:lnTo>
                      <a:pt x="260" y="201"/>
                    </a:lnTo>
                    <a:lnTo>
                      <a:pt x="262" y="209"/>
                    </a:lnTo>
                    <a:lnTo>
                      <a:pt x="262" y="216"/>
                    </a:lnTo>
                    <a:lnTo>
                      <a:pt x="264" y="222"/>
                    </a:lnTo>
                    <a:lnTo>
                      <a:pt x="264" y="228"/>
                    </a:lnTo>
                    <a:lnTo>
                      <a:pt x="264" y="235"/>
                    </a:lnTo>
                    <a:lnTo>
                      <a:pt x="262" y="241"/>
                    </a:lnTo>
                    <a:lnTo>
                      <a:pt x="262" y="247"/>
                    </a:lnTo>
                    <a:lnTo>
                      <a:pt x="260" y="253"/>
                    </a:lnTo>
                    <a:lnTo>
                      <a:pt x="258" y="256"/>
                    </a:lnTo>
                    <a:lnTo>
                      <a:pt x="253" y="262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34" y="262"/>
                    </a:lnTo>
                    <a:lnTo>
                      <a:pt x="228" y="256"/>
                    </a:lnTo>
                    <a:lnTo>
                      <a:pt x="226" y="255"/>
                    </a:lnTo>
                    <a:lnTo>
                      <a:pt x="220" y="247"/>
                    </a:lnTo>
                    <a:lnTo>
                      <a:pt x="217" y="243"/>
                    </a:lnTo>
                    <a:lnTo>
                      <a:pt x="211" y="234"/>
                    </a:lnTo>
                    <a:lnTo>
                      <a:pt x="209" y="226"/>
                    </a:lnTo>
                    <a:lnTo>
                      <a:pt x="203" y="216"/>
                    </a:lnTo>
                    <a:lnTo>
                      <a:pt x="199" y="205"/>
                    </a:lnTo>
                    <a:lnTo>
                      <a:pt x="196" y="197"/>
                    </a:lnTo>
                    <a:lnTo>
                      <a:pt x="192" y="192"/>
                    </a:lnTo>
                    <a:lnTo>
                      <a:pt x="188" y="190"/>
                    </a:lnTo>
                    <a:lnTo>
                      <a:pt x="184" y="188"/>
                    </a:lnTo>
                    <a:lnTo>
                      <a:pt x="175" y="190"/>
                    </a:lnTo>
                    <a:lnTo>
                      <a:pt x="169" y="197"/>
                    </a:lnTo>
                    <a:lnTo>
                      <a:pt x="163" y="201"/>
                    </a:lnTo>
                    <a:lnTo>
                      <a:pt x="161" y="207"/>
                    </a:lnTo>
                    <a:lnTo>
                      <a:pt x="160" y="215"/>
                    </a:lnTo>
                    <a:lnTo>
                      <a:pt x="158" y="224"/>
                    </a:lnTo>
                    <a:lnTo>
                      <a:pt x="156" y="230"/>
                    </a:lnTo>
                    <a:lnTo>
                      <a:pt x="156" y="241"/>
                    </a:lnTo>
                    <a:lnTo>
                      <a:pt x="156" y="251"/>
                    </a:lnTo>
                    <a:lnTo>
                      <a:pt x="160" y="260"/>
                    </a:lnTo>
                    <a:lnTo>
                      <a:pt x="160" y="266"/>
                    </a:lnTo>
                    <a:lnTo>
                      <a:pt x="160" y="272"/>
                    </a:lnTo>
                    <a:lnTo>
                      <a:pt x="158" y="277"/>
                    </a:lnTo>
                    <a:lnTo>
                      <a:pt x="154" y="283"/>
                    </a:lnTo>
                    <a:lnTo>
                      <a:pt x="146" y="289"/>
                    </a:lnTo>
                    <a:lnTo>
                      <a:pt x="137" y="289"/>
                    </a:lnTo>
                    <a:lnTo>
                      <a:pt x="131" y="287"/>
                    </a:lnTo>
                    <a:lnTo>
                      <a:pt x="125" y="281"/>
                    </a:lnTo>
                    <a:lnTo>
                      <a:pt x="120" y="275"/>
                    </a:lnTo>
                    <a:lnTo>
                      <a:pt x="116" y="270"/>
                    </a:lnTo>
                    <a:lnTo>
                      <a:pt x="112" y="260"/>
                    </a:lnTo>
                    <a:lnTo>
                      <a:pt x="110" y="249"/>
                    </a:lnTo>
                    <a:lnTo>
                      <a:pt x="108" y="241"/>
                    </a:lnTo>
                    <a:lnTo>
                      <a:pt x="108" y="235"/>
                    </a:lnTo>
                    <a:lnTo>
                      <a:pt x="108" y="228"/>
                    </a:lnTo>
                    <a:lnTo>
                      <a:pt x="108" y="220"/>
                    </a:lnTo>
                    <a:lnTo>
                      <a:pt x="104" y="213"/>
                    </a:lnTo>
                    <a:lnTo>
                      <a:pt x="101" y="207"/>
                    </a:lnTo>
                    <a:lnTo>
                      <a:pt x="95" y="199"/>
                    </a:lnTo>
                    <a:lnTo>
                      <a:pt x="91" y="194"/>
                    </a:lnTo>
                    <a:lnTo>
                      <a:pt x="85" y="188"/>
                    </a:lnTo>
                    <a:lnTo>
                      <a:pt x="78" y="182"/>
                    </a:lnTo>
                    <a:lnTo>
                      <a:pt x="72" y="177"/>
                    </a:lnTo>
                    <a:lnTo>
                      <a:pt x="66" y="171"/>
                    </a:lnTo>
                    <a:lnTo>
                      <a:pt x="59" y="163"/>
                    </a:lnTo>
                    <a:lnTo>
                      <a:pt x="51" y="159"/>
                    </a:lnTo>
                    <a:lnTo>
                      <a:pt x="45" y="154"/>
                    </a:lnTo>
                    <a:lnTo>
                      <a:pt x="38" y="148"/>
                    </a:lnTo>
                    <a:lnTo>
                      <a:pt x="30" y="142"/>
                    </a:lnTo>
                    <a:lnTo>
                      <a:pt x="25" y="137"/>
                    </a:lnTo>
                    <a:lnTo>
                      <a:pt x="19" y="131"/>
                    </a:lnTo>
                    <a:lnTo>
                      <a:pt x="15" y="125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2" y="108"/>
                    </a:lnTo>
                    <a:lnTo>
                      <a:pt x="2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11" y="66"/>
                    </a:lnTo>
                    <a:lnTo>
                      <a:pt x="19" y="61"/>
                    </a:lnTo>
                    <a:lnTo>
                      <a:pt x="26" y="55"/>
                    </a:lnTo>
                    <a:lnTo>
                      <a:pt x="30" y="51"/>
                    </a:lnTo>
                    <a:lnTo>
                      <a:pt x="36" y="49"/>
                    </a:lnTo>
                    <a:lnTo>
                      <a:pt x="42" y="45"/>
                    </a:lnTo>
                    <a:lnTo>
                      <a:pt x="49" y="42"/>
                    </a:lnTo>
                    <a:lnTo>
                      <a:pt x="55" y="40"/>
                    </a:lnTo>
                    <a:lnTo>
                      <a:pt x="63" y="36"/>
                    </a:lnTo>
                    <a:lnTo>
                      <a:pt x="70" y="32"/>
                    </a:lnTo>
                    <a:lnTo>
                      <a:pt x="80" y="28"/>
                    </a:lnTo>
                    <a:lnTo>
                      <a:pt x="83" y="26"/>
                    </a:lnTo>
                    <a:lnTo>
                      <a:pt x="89" y="24"/>
                    </a:lnTo>
                    <a:lnTo>
                      <a:pt x="95" y="23"/>
                    </a:lnTo>
                    <a:lnTo>
                      <a:pt x="102" y="23"/>
                    </a:lnTo>
                    <a:lnTo>
                      <a:pt x="106" y="19"/>
                    </a:lnTo>
                    <a:lnTo>
                      <a:pt x="114" y="17"/>
                    </a:lnTo>
                    <a:lnTo>
                      <a:pt x="118" y="13"/>
                    </a:lnTo>
                    <a:lnTo>
                      <a:pt x="121" y="11"/>
                    </a:lnTo>
                    <a:lnTo>
                      <a:pt x="12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1666080" y="3889440"/>
                <a:ext cx="27000" cy="98280"/>
              </a:xfrm>
              <a:custGeom>
                <a:avLst/>
                <a:gdLst/>
                <a:ahLst/>
                <a:rect l="l" t="t" r="r" b="b"/>
                <a:pathLst>
                  <a:path w="35" h="123">
                    <a:moveTo>
                      <a:pt x="29" y="0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31" y="20"/>
                    </a:lnTo>
                    <a:lnTo>
                      <a:pt x="33" y="30"/>
                    </a:lnTo>
                    <a:lnTo>
                      <a:pt x="33" y="40"/>
                    </a:lnTo>
                    <a:lnTo>
                      <a:pt x="33" y="47"/>
                    </a:lnTo>
                    <a:lnTo>
                      <a:pt x="35" y="57"/>
                    </a:lnTo>
                    <a:lnTo>
                      <a:pt x="35" y="66"/>
                    </a:lnTo>
                    <a:lnTo>
                      <a:pt x="33" y="74"/>
                    </a:lnTo>
                    <a:lnTo>
                      <a:pt x="33" y="81"/>
                    </a:lnTo>
                    <a:lnTo>
                      <a:pt x="29" y="91"/>
                    </a:lnTo>
                    <a:lnTo>
                      <a:pt x="27" y="98"/>
                    </a:lnTo>
                    <a:lnTo>
                      <a:pt x="21" y="104"/>
                    </a:lnTo>
                    <a:lnTo>
                      <a:pt x="18" y="112"/>
                    </a:lnTo>
                    <a:lnTo>
                      <a:pt x="10" y="117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6" y="106"/>
                    </a:lnTo>
                    <a:lnTo>
                      <a:pt x="6" y="98"/>
                    </a:lnTo>
                    <a:lnTo>
                      <a:pt x="8" y="91"/>
                    </a:lnTo>
                    <a:lnTo>
                      <a:pt x="8" y="81"/>
                    </a:lnTo>
                    <a:lnTo>
                      <a:pt x="8" y="74"/>
                    </a:lnTo>
                    <a:lnTo>
                      <a:pt x="8" y="64"/>
                    </a:lnTo>
                    <a:lnTo>
                      <a:pt x="8" y="57"/>
                    </a:lnTo>
                    <a:lnTo>
                      <a:pt x="8" y="47"/>
                    </a:lnTo>
                    <a:lnTo>
                      <a:pt x="8" y="38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6" y="17"/>
                    </a:lnTo>
                    <a:lnTo>
                      <a:pt x="19" y="9"/>
                    </a:lnTo>
                    <a:lnTo>
                      <a:pt x="23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1991520" y="389880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0"/>
                    </a:moveTo>
                    <a:lnTo>
                      <a:pt x="15" y="0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8" y="9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38" y="17"/>
                    </a:lnTo>
                    <a:lnTo>
                      <a:pt x="31" y="19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858240" y="39178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8" y="2"/>
                    </a:moveTo>
                    <a:lnTo>
                      <a:pt x="17" y="0"/>
                    </a:lnTo>
                    <a:lnTo>
                      <a:pt x="27" y="2"/>
                    </a:lnTo>
                    <a:lnTo>
                      <a:pt x="36" y="7"/>
                    </a:lnTo>
                    <a:lnTo>
                      <a:pt x="44" y="13"/>
                    </a:lnTo>
                    <a:lnTo>
                      <a:pt x="42" y="19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28" y="21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96320" y="399096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2" y="0"/>
                    </a:moveTo>
                    <a:lnTo>
                      <a:pt x="11" y="4"/>
                    </a:lnTo>
                    <a:lnTo>
                      <a:pt x="17" y="9"/>
                    </a:lnTo>
                    <a:lnTo>
                      <a:pt x="25" y="15"/>
                    </a:lnTo>
                    <a:lnTo>
                      <a:pt x="30" y="21"/>
                    </a:lnTo>
                    <a:lnTo>
                      <a:pt x="38" y="30"/>
                    </a:lnTo>
                    <a:lnTo>
                      <a:pt x="44" y="40"/>
                    </a:lnTo>
                    <a:lnTo>
                      <a:pt x="44" y="45"/>
                    </a:lnTo>
                    <a:lnTo>
                      <a:pt x="42" y="53"/>
                    </a:lnTo>
                    <a:lnTo>
                      <a:pt x="40" y="57"/>
                    </a:lnTo>
                    <a:lnTo>
                      <a:pt x="34" y="63"/>
                    </a:lnTo>
                    <a:lnTo>
                      <a:pt x="28" y="63"/>
                    </a:lnTo>
                    <a:lnTo>
                      <a:pt x="23" y="63"/>
                    </a:lnTo>
                    <a:lnTo>
                      <a:pt x="15" y="59"/>
                    </a:lnTo>
                    <a:lnTo>
                      <a:pt x="9" y="53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1932840" y="4002120"/>
                <a:ext cx="98280" cy="388800"/>
              </a:xfrm>
              <a:custGeom>
                <a:avLst/>
                <a:gdLst/>
                <a:ahLst/>
                <a:rect l="l" t="t" r="r" b="b"/>
                <a:pathLst>
                  <a:path w="123" h="491">
                    <a:moveTo>
                      <a:pt x="24" y="0"/>
                    </a:moveTo>
                    <a:lnTo>
                      <a:pt x="32" y="4"/>
                    </a:lnTo>
                    <a:lnTo>
                      <a:pt x="38" y="8"/>
                    </a:lnTo>
                    <a:lnTo>
                      <a:pt x="45" y="13"/>
                    </a:lnTo>
                    <a:lnTo>
                      <a:pt x="51" y="17"/>
                    </a:lnTo>
                    <a:lnTo>
                      <a:pt x="55" y="23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72" y="44"/>
                    </a:lnTo>
                    <a:lnTo>
                      <a:pt x="74" y="50"/>
                    </a:lnTo>
                    <a:lnTo>
                      <a:pt x="79" y="57"/>
                    </a:lnTo>
                    <a:lnTo>
                      <a:pt x="83" y="63"/>
                    </a:lnTo>
                    <a:lnTo>
                      <a:pt x="89" y="71"/>
                    </a:lnTo>
                    <a:lnTo>
                      <a:pt x="93" y="76"/>
                    </a:lnTo>
                    <a:lnTo>
                      <a:pt x="98" y="84"/>
                    </a:lnTo>
                    <a:lnTo>
                      <a:pt x="106" y="90"/>
                    </a:lnTo>
                    <a:lnTo>
                      <a:pt x="112" y="97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95" y="101"/>
                    </a:lnTo>
                    <a:lnTo>
                      <a:pt x="91" y="105"/>
                    </a:lnTo>
                    <a:lnTo>
                      <a:pt x="93" y="112"/>
                    </a:lnTo>
                    <a:lnTo>
                      <a:pt x="98" y="118"/>
                    </a:lnTo>
                    <a:lnTo>
                      <a:pt x="106" y="124"/>
                    </a:lnTo>
                    <a:lnTo>
                      <a:pt x="112" y="131"/>
                    </a:lnTo>
                    <a:lnTo>
                      <a:pt x="108" y="135"/>
                    </a:lnTo>
                    <a:lnTo>
                      <a:pt x="102" y="135"/>
                    </a:lnTo>
                    <a:lnTo>
                      <a:pt x="95" y="135"/>
                    </a:lnTo>
                    <a:lnTo>
                      <a:pt x="91" y="139"/>
                    </a:lnTo>
                    <a:lnTo>
                      <a:pt x="97" y="148"/>
                    </a:lnTo>
                    <a:lnTo>
                      <a:pt x="102" y="160"/>
                    </a:lnTo>
                    <a:lnTo>
                      <a:pt x="108" y="169"/>
                    </a:lnTo>
                    <a:lnTo>
                      <a:pt x="112" y="181"/>
                    </a:lnTo>
                    <a:lnTo>
                      <a:pt x="116" y="192"/>
                    </a:lnTo>
                    <a:lnTo>
                      <a:pt x="119" y="204"/>
                    </a:lnTo>
                    <a:lnTo>
                      <a:pt x="121" y="213"/>
                    </a:lnTo>
                    <a:lnTo>
                      <a:pt x="123" y="224"/>
                    </a:lnTo>
                    <a:lnTo>
                      <a:pt x="123" y="236"/>
                    </a:lnTo>
                    <a:lnTo>
                      <a:pt x="123" y="245"/>
                    </a:lnTo>
                    <a:lnTo>
                      <a:pt x="123" y="257"/>
                    </a:lnTo>
                    <a:lnTo>
                      <a:pt x="123" y="268"/>
                    </a:lnTo>
                    <a:lnTo>
                      <a:pt x="119" y="280"/>
                    </a:lnTo>
                    <a:lnTo>
                      <a:pt x="119" y="289"/>
                    </a:lnTo>
                    <a:lnTo>
                      <a:pt x="117" y="301"/>
                    </a:lnTo>
                    <a:lnTo>
                      <a:pt x="116" y="312"/>
                    </a:lnTo>
                    <a:lnTo>
                      <a:pt x="110" y="321"/>
                    </a:lnTo>
                    <a:lnTo>
                      <a:pt x="108" y="333"/>
                    </a:lnTo>
                    <a:lnTo>
                      <a:pt x="104" y="344"/>
                    </a:lnTo>
                    <a:lnTo>
                      <a:pt x="100" y="356"/>
                    </a:lnTo>
                    <a:lnTo>
                      <a:pt x="97" y="365"/>
                    </a:lnTo>
                    <a:lnTo>
                      <a:pt x="93" y="377"/>
                    </a:lnTo>
                    <a:lnTo>
                      <a:pt x="89" y="388"/>
                    </a:lnTo>
                    <a:lnTo>
                      <a:pt x="85" y="399"/>
                    </a:lnTo>
                    <a:lnTo>
                      <a:pt x="79" y="409"/>
                    </a:lnTo>
                    <a:lnTo>
                      <a:pt x="76" y="420"/>
                    </a:lnTo>
                    <a:lnTo>
                      <a:pt x="72" y="432"/>
                    </a:lnTo>
                    <a:lnTo>
                      <a:pt x="68" y="443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2" y="460"/>
                    </a:lnTo>
                    <a:lnTo>
                      <a:pt x="60" y="466"/>
                    </a:lnTo>
                    <a:lnTo>
                      <a:pt x="59" y="472"/>
                    </a:lnTo>
                    <a:lnTo>
                      <a:pt x="59" y="477"/>
                    </a:lnTo>
                    <a:lnTo>
                      <a:pt x="55" y="483"/>
                    </a:lnTo>
                    <a:lnTo>
                      <a:pt x="55" y="491"/>
                    </a:lnTo>
                    <a:lnTo>
                      <a:pt x="7" y="477"/>
                    </a:lnTo>
                    <a:lnTo>
                      <a:pt x="3" y="470"/>
                    </a:lnTo>
                    <a:lnTo>
                      <a:pt x="0" y="464"/>
                    </a:lnTo>
                    <a:lnTo>
                      <a:pt x="0" y="456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3" y="432"/>
                    </a:lnTo>
                    <a:lnTo>
                      <a:pt x="5" y="424"/>
                    </a:lnTo>
                    <a:lnTo>
                      <a:pt x="9" y="415"/>
                    </a:lnTo>
                    <a:lnTo>
                      <a:pt x="13" y="405"/>
                    </a:lnTo>
                    <a:lnTo>
                      <a:pt x="19" y="396"/>
                    </a:lnTo>
                    <a:lnTo>
                      <a:pt x="22" y="384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0" y="356"/>
                    </a:lnTo>
                    <a:lnTo>
                      <a:pt x="45" y="344"/>
                    </a:lnTo>
                    <a:lnTo>
                      <a:pt x="51" y="335"/>
                    </a:lnTo>
                    <a:lnTo>
                      <a:pt x="55" y="323"/>
                    </a:lnTo>
                    <a:lnTo>
                      <a:pt x="60" y="314"/>
                    </a:lnTo>
                    <a:lnTo>
                      <a:pt x="64" y="302"/>
                    </a:lnTo>
                    <a:lnTo>
                      <a:pt x="68" y="293"/>
                    </a:lnTo>
                    <a:lnTo>
                      <a:pt x="70" y="282"/>
                    </a:lnTo>
                    <a:lnTo>
                      <a:pt x="74" y="272"/>
                    </a:lnTo>
                    <a:lnTo>
                      <a:pt x="74" y="261"/>
                    </a:lnTo>
                    <a:lnTo>
                      <a:pt x="76" y="251"/>
                    </a:lnTo>
                    <a:lnTo>
                      <a:pt x="74" y="242"/>
                    </a:lnTo>
                    <a:lnTo>
                      <a:pt x="72" y="232"/>
                    </a:lnTo>
                    <a:lnTo>
                      <a:pt x="68" y="223"/>
                    </a:lnTo>
                    <a:lnTo>
                      <a:pt x="64" y="213"/>
                    </a:lnTo>
                    <a:lnTo>
                      <a:pt x="59" y="204"/>
                    </a:lnTo>
                    <a:lnTo>
                      <a:pt x="51" y="194"/>
                    </a:lnTo>
                    <a:lnTo>
                      <a:pt x="41" y="186"/>
                    </a:lnTo>
                    <a:lnTo>
                      <a:pt x="30" y="179"/>
                    </a:lnTo>
                    <a:lnTo>
                      <a:pt x="28" y="171"/>
                    </a:lnTo>
                    <a:lnTo>
                      <a:pt x="26" y="166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26" y="143"/>
                    </a:lnTo>
                    <a:lnTo>
                      <a:pt x="26" y="131"/>
                    </a:lnTo>
                    <a:lnTo>
                      <a:pt x="26" y="120"/>
                    </a:lnTo>
                    <a:lnTo>
                      <a:pt x="26" y="109"/>
                    </a:lnTo>
                    <a:lnTo>
                      <a:pt x="26" y="97"/>
                    </a:lnTo>
                    <a:lnTo>
                      <a:pt x="26" y="88"/>
                    </a:lnTo>
                    <a:lnTo>
                      <a:pt x="26" y="76"/>
                    </a:lnTo>
                    <a:lnTo>
                      <a:pt x="26" y="67"/>
                    </a:lnTo>
                    <a:lnTo>
                      <a:pt x="26" y="53"/>
                    </a:lnTo>
                    <a:lnTo>
                      <a:pt x="28" y="44"/>
                    </a:lnTo>
                    <a:lnTo>
                      <a:pt x="26" y="32"/>
                    </a:lnTo>
                    <a:lnTo>
                      <a:pt x="26" y="21"/>
                    </a:lnTo>
                    <a:lnTo>
                      <a:pt x="26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173960" y="40021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5" h="173">
                    <a:moveTo>
                      <a:pt x="266" y="0"/>
                    </a:moveTo>
                    <a:lnTo>
                      <a:pt x="274" y="2"/>
                    </a:lnTo>
                    <a:lnTo>
                      <a:pt x="280" y="8"/>
                    </a:lnTo>
                    <a:lnTo>
                      <a:pt x="280" y="12"/>
                    </a:lnTo>
                    <a:lnTo>
                      <a:pt x="284" y="17"/>
                    </a:lnTo>
                    <a:lnTo>
                      <a:pt x="284" y="23"/>
                    </a:lnTo>
                    <a:lnTo>
                      <a:pt x="285" y="31"/>
                    </a:lnTo>
                    <a:lnTo>
                      <a:pt x="284" y="34"/>
                    </a:lnTo>
                    <a:lnTo>
                      <a:pt x="284" y="42"/>
                    </a:lnTo>
                    <a:lnTo>
                      <a:pt x="284" y="50"/>
                    </a:lnTo>
                    <a:lnTo>
                      <a:pt x="282" y="57"/>
                    </a:lnTo>
                    <a:lnTo>
                      <a:pt x="280" y="63"/>
                    </a:lnTo>
                    <a:lnTo>
                      <a:pt x="278" y="72"/>
                    </a:lnTo>
                    <a:lnTo>
                      <a:pt x="274" y="80"/>
                    </a:lnTo>
                    <a:lnTo>
                      <a:pt x="272" y="90"/>
                    </a:lnTo>
                    <a:lnTo>
                      <a:pt x="268" y="97"/>
                    </a:lnTo>
                    <a:lnTo>
                      <a:pt x="265" y="105"/>
                    </a:lnTo>
                    <a:lnTo>
                      <a:pt x="261" y="112"/>
                    </a:lnTo>
                    <a:lnTo>
                      <a:pt x="257" y="120"/>
                    </a:lnTo>
                    <a:lnTo>
                      <a:pt x="251" y="126"/>
                    </a:lnTo>
                    <a:lnTo>
                      <a:pt x="247" y="133"/>
                    </a:lnTo>
                    <a:lnTo>
                      <a:pt x="242" y="141"/>
                    </a:lnTo>
                    <a:lnTo>
                      <a:pt x="238" y="148"/>
                    </a:lnTo>
                    <a:lnTo>
                      <a:pt x="228" y="158"/>
                    </a:lnTo>
                    <a:lnTo>
                      <a:pt x="219" y="166"/>
                    </a:lnTo>
                    <a:lnTo>
                      <a:pt x="207" y="171"/>
                    </a:lnTo>
                    <a:lnTo>
                      <a:pt x="198" y="173"/>
                    </a:lnTo>
                    <a:lnTo>
                      <a:pt x="198" y="167"/>
                    </a:lnTo>
                    <a:lnTo>
                      <a:pt x="198" y="166"/>
                    </a:lnTo>
                    <a:lnTo>
                      <a:pt x="204" y="156"/>
                    </a:lnTo>
                    <a:lnTo>
                      <a:pt x="207" y="150"/>
                    </a:lnTo>
                    <a:lnTo>
                      <a:pt x="204" y="143"/>
                    </a:lnTo>
                    <a:lnTo>
                      <a:pt x="198" y="139"/>
                    </a:lnTo>
                    <a:lnTo>
                      <a:pt x="192" y="135"/>
                    </a:lnTo>
                    <a:lnTo>
                      <a:pt x="187" y="131"/>
                    </a:lnTo>
                    <a:lnTo>
                      <a:pt x="179" y="129"/>
                    </a:lnTo>
                    <a:lnTo>
                      <a:pt x="173" y="129"/>
                    </a:lnTo>
                    <a:lnTo>
                      <a:pt x="166" y="126"/>
                    </a:lnTo>
                    <a:lnTo>
                      <a:pt x="158" y="124"/>
                    </a:lnTo>
                    <a:lnTo>
                      <a:pt x="149" y="122"/>
                    </a:lnTo>
                    <a:lnTo>
                      <a:pt x="141" y="122"/>
                    </a:lnTo>
                    <a:lnTo>
                      <a:pt x="130" y="120"/>
                    </a:lnTo>
                    <a:lnTo>
                      <a:pt x="120" y="118"/>
                    </a:lnTo>
                    <a:lnTo>
                      <a:pt x="111" y="116"/>
                    </a:lnTo>
                    <a:lnTo>
                      <a:pt x="101" y="116"/>
                    </a:lnTo>
                    <a:lnTo>
                      <a:pt x="92" y="116"/>
                    </a:lnTo>
                    <a:lnTo>
                      <a:pt x="82" y="114"/>
                    </a:lnTo>
                    <a:lnTo>
                      <a:pt x="72" y="114"/>
                    </a:lnTo>
                    <a:lnTo>
                      <a:pt x="63" y="114"/>
                    </a:lnTo>
                    <a:lnTo>
                      <a:pt x="53" y="114"/>
                    </a:lnTo>
                    <a:lnTo>
                      <a:pt x="44" y="114"/>
                    </a:lnTo>
                    <a:lnTo>
                      <a:pt x="34" y="114"/>
                    </a:lnTo>
                    <a:lnTo>
                      <a:pt x="27" y="114"/>
                    </a:lnTo>
                    <a:lnTo>
                      <a:pt x="19" y="114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0" y="116"/>
                    </a:lnTo>
                    <a:lnTo>
                      <a:pt x="6" y="109"/>
                    </a:lnTo>
                    <a:lnTo>
                      <a:pt x="12" y="105"/>
                    </a:lnTo>
                    <a:lnTo>
                      <a:pt x="17" y="101"/>
                    </a:lnTo>
                    <a:lnTo>
                      <a:pt x="25" y="97"/>
                    </a:lnTo>
                    <a:lnTo>
                      <a:pt x="31" y="95"/>
                    </a:lnTo>
                    <a:lnTo>
                      <a:pt x="38" y="93"/>
                    </a:lnTo>
                    <a:lnTo>
                      <a:pt x="46" y="91"/>
                    </a:lnTo>
                    <a:lnTo>
                      <a:pt x="53" y="91"/>
                    </a:lnTo>
                    <a:lnTo>
                      <a:pt x="59" y="90"/>
                    </a:lnTo>
                    <a:lnTo>
                      <a:pt x="69" y="90"/>
                    </a:lnTo>
                    <a:lnTo>
                      <a:pt x="76" y="91"/>
                    </a:lnTo>
                    <a:lnTo>
                      <a:pt x="84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11" y="95"/>
                    </a:lnTo>
                    <a:lnTo>
                      <a:pt x="120" y="97"/>
                    </a:lnTo>
                    <a:lnTo>
                      <a:pt x="128" y="97"/>
                    </a:lnTo>
                    <a:lnTo>
                      <a:pt x="135" y="99"/>
                    </a:lnTo>
                    <a:lnTo>
                      <a:pt x="145" y="99"/>
                    </a:lnTo>
                    <a:lnTo>
                      <a:pt x="152" y="101"/>
                    </a:lnTo>
                    <a:lnTo>
                      <a:pt x="160" y="101"/>
                    </a:lnTo>
                    <a:lnTo>
                      <a:pt x="169" y="101"/>
                    </a:lnTo>
                    <a:lnTo>
                      <a:pt x="177" y="101"/>
                    </a:lnTo>
                    <a:lnTo>
                      <a:pt x="187" y="103"/>
                    </a:lnTo>
                    <a:lnTo>
                      <a:pt x="194" y="101"/>
                    </a:lnTo>
                    <a:lnTo>
                      <a:pt x="202" y="101"/>
                    </a:lnTo>
                    <a:lnTo>
                      <a:pt x="209" y="99"/>
                    </a:lnTo>
                    <a:lnTo>
                      <a:pt x="217" y="97"/>
                    </a:lnTo>
                    <a:lnTo>
                      <a:pt x="225" y="95"/>
                    </a:lnTo>
                    <a:lnTo>
                      <a:pt x="232" y="93"/>
                    </a:lnTo>
                    <a:lnTo>
                      <a:pt x="240" y="90"/>
                    </a:lnTo>
                    <a:lnTo>
                      <a:pt x="247" y="86"/>
                    </a:lnTo>
                    <a:lnTo>
                      <a:pt x="236" y="82"/>
                    </a:lnTo>
                    <a:lnTo>
                      <a:pt x="225" y="80"/>
                    </a:lnTo>
                    <a:lnTo>
                      <a:pt x="215" y="80"/>
                    </a:lnTo>
                    <a:lnTo>
                      <a:pt x="204" y="80"/>
                    </a:lnTo>
                    <a:lnTo>
                      <a:pt x="198" y="80"/>
                    </a:lnTo>
                    <a:lnTo>
                      <a:pt x="192" y="80"/>
                    </a:lnTo>
                    <a:lnTo>
                      <a:pt x="187" y="80"/>
                    </a:lnTo>
                    <a:lnTo>
                      <a:pt x="181" y="80"/>
                    </a:lnTo>
                    <a:lnTo>
                      <a:pt x="169" y="80"/>
                    </a:lnTo>
                    <a:lnTo>
                      <a:pt x="158" y="82"/>
                    </a:lnTo>
                    <a:lnTo>
                      <a:pt x="152" y="80"/>
                    </a:lnTo>
                    <a:lnTo>
                      <a:pt x="147" y="80"/>
                    </a:lnTo>
                    <a:lnTo>
                      <a:pt x="141" y="80"/>
                    </a:lnTo>
                    <a:lnTo>
                      <a:pt x="135" y="80"/>
                    </a:lnTo>
                    <a:lnTo>
                      <a:pt x="124" y="80"/>
                    </a:lnTo>
                    <a:lnTo>
                      <a:pt x="112" y="80"/>
                    </a:lnTo>
                    <a:lnTo>
                      <a:pt x="103" y="76"/>
                    </a:lnTo>
                    <a:lnTo>
                      <a:pt x="93" y="72"/>
                    </a:lnTo>
                    <a:lnTo>
                      <a:pt x="84" y="69"/>
                    </a:lnTo>
                    <a:lnTo>
                      <a:pt x="74" y="63"/>
                    </a:lnTo>
                    <a:lnTo>
                      <a:pt x="82" y="57"/>
                    </a:lnTo>
                    <a:lnTo>
                      <a:pt x="90" y="53"/>
                    </a:lnTo>
                    <a:lnTo>
                      <a:pt x="97" y="50"/>
                    </a:lnTo>
                    <a:lnTo>
                      <a:pt x="105" y="50"/>
                    </a:lnTo>
                    <a:lnTo>
                      <a:pt x="114" y="46"/>
                    </a:lnTo>
                    <a:lnTo>
                      <a:pt x="124" y="46"/>
                    </a:lnTo>
                    <a:lnTo>
                      <a:pt x="133" y="46"/>
                    </a:lnTo>
                    <a:lnTo>
                      <a:pt x="143" y="46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9" y="46"/>
                    </a:lnTo>
                    <a:lnTo>
                      <a:pt x="179" y="46"/>
                    </a:lnTo>
                    <a:lnTo>
                      <a:pt x="188" y="44"/>
                    </a:lnTo>
                    <a:lnTo>
                      <a:pt x="198" y="44"/>
                    </a:lnTo>
                    <a:lnTo>
                      <a:pt x="209" y="44"/>
                    </a:lnTo>
                    <a:lnTo>
                      <a:pt x="219" y="44"/>
                    </a:lnTo>
                    <a:lnTo>
                      <a:pt x="219" y="40"/>
                    </a:lnTo>
                    <a:lnTo>
                      <a:pt x="219" y="36"/>
                    </a:lnTo>
                    <a:lnTo>
                      <a:pt x="211" y="32"/>
                    </a:lnTo>
                    <a:lnTo>
                      <a:pt x="204" y="32"/>
                    </a:lnTo>
                    <a:lnTo>
                      <a:pt x="196" y="32"/>
                    </a:lnTo>
                    <a:lnTo>
                      <a:pt x="188" y="32"/>
                    </a:lnTo>
                    <a:lnTo>
                      <a:pt x="181" y="32"/>
                    </a:lnTo>
                    <a:lnTo>
                      <a:pt x="173" y="32"/>
                    </a:lnTo>
                    <a:lnTo>
                      <a:pt x="168" y="31"/>
                    </a:lnTo>
                    <a:lnTo>
                      <a:pt x="160" y="31"/>
                    </a:lnTo>
                    <a:lnTo>
                      <a:pt x="160" y="27"/>
                    </a:lnTo>
                    <a:lnTo>
                      <a:pt x="160" y="25"/>
                    </a:lnTo>
                    <a:lnTo>
                      <a:pt x="166" y="21"/>
                    </a:lnTo>
                    <a:lnTo>
                      <a:pt x="173" y="17"/>
                    </a:lnTo>
                    <a:lnTo>
                      <a:pt x="179" y="13"/>
                    </a:lnTo>
                    <a:lnTo>
                      <a:pt x="185" y="13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6" y="12"/>
                    </a:lnTo>
                    <a:lnTo>
                      <a:pt x="213" y="12"/>
                    </a:lnTo>
                    <a:lnTo>
                      <a:pt x="219" y="12"/>
                    </a:lnTo>
                    <a:lnTo>
                      <a:pt x="225" y="12"/>
                    </a:lnTo>
                    <a:lnTo>
                      <a:pt x="232" y="10"/>
                    </a:lnTo>
                    <a:lnTo>
                      <a:pt x="240" y="10"/>
                    </a:lnTo>
                    <a:lnTo>
                      <a:pt x="245" y="8"/>
                    </a:lnTo>
                    <a:lnTo>
                      <a:pt x="251" y="6"/>
                    </a:lnTo>
                    <a:lnTo>
                      <a:pt x="259" y="4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027800" y="4011480"/>
                <a:ext cx="219240" cy="343080"/>
              </a:xfrm>
              <a:custGeom>
                <a:avLst/>
                <a:gdLst/>
                <a:ahLst/>
                <a:rect l="l" t="t" r="r" b="b"/>
                <a:pathLst>
                  <a:path w="276" h="431">
                    <a:moveTo>
                      <a:pt x="232" y="0"/>
                    </a:moveTo>
                    <a:lnTo>
                      <a:pt x="238" y="0"/>
                    </a:lnTo>
                    <a:lnTo>
                      <a:pt x="242" y="1"/>
                    </a:lnTo>
                    <a:lnTo>
                      <a:pt x="247" y="3"/>
                    </a:lnTo>
                    <a:lnTo>
                      <a:pt x="251" y="5"/>
                    </a:lnTo>
                    <a:lnTo>
                      <a:pt x="259" y="11"/>
                    </a:lnTo>
                    <a:lnTo>
                      <a:pt x="266" y="17"/>
                    </a:lnTo>
                    <a:lnTo>
                      <a:pt x="270" y="22"/>
                    </a:lnTo>
                    <a:lnTo>
                      <a:pt x="272" y="28"/>
                    </a:lnTo>
                    <a:lnTo>
                      <a:pt x="274" y="34"/>
                    </a:lnTo>
                    <a:lnTo>
                      <a:pt x="276" y="41"/>
                    </a:lnTo>
                    <a:lnTo>
                      <a:pt x="276" y="49"/>
                    </a:lnTo>
                    <a:lnTo>
                      <a:pt x="274" y="57"/>
                    </a:lnTo>
                    <a:lnTo>
                      <a:pt x="272" y="64"/>
                    </a:lnTo>
                    <a:lnTo>
                      <a:pt x="272" y="74"/>
                    </a:lnTo>
                    <a:lnTo>
                      <a:pt x="270" y="81"/>
                    </a:lnTo>
                    <a:lnTo>
                      <a:pt x="270" y="91"/>
                    </a:lnTo>
                    <a:lnTo>
                      <a:pt x="270" y="100"/>
                    </a:lnTo>
                    <a:lnTo>
                      <a:pt x="272" y="110"/>
                    </a:lnTo>
                    <a:lnTo>
                      <a:pt x="274" y="117"/>
                    </a:lnTo>
                    <a:lnTo>
                      <a:pt x="276" y="127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2" y="152"/>
                    </a:lnTo>
                    <a:lnTo>
                      <a:pt x="272" y="161"/>
                    </a:lnTo>
                    <a:lnTo>
                      <a:pt x="268" y="171"/>
                    </a:lnTo>
                    <a:lnTo>
                      <a:pt x="266" y="182"/>
                    </a:lnTo>
                    <a:lnTo>
                      <a:pt x="261" y="192"/>
                    </a:lnTo>
                    <a:lnTo>
                      <a:pt x="257" y="201"/>
                    </a:lnTo>
                    <a:lnTo>
                      <a:pt x="249" y="211"/>
                    </a:lnTo>
                    <a:lnTo>
                      <a:pt x="244" y="220"/>
                    </a:lnTo>
                    <a:lnTo>
                      <a:pt x="238" y="230"/>
                    </a:lnTo>
                    <a:lnTo>
                      <a:pt x="230" y="239"/>
                    </a:lnTo>
                    <a:lnTo>
                      <a:pt x="223" y="249"/>
                    </a:lnTo>
                    <a:lnTo>
                      <a:pt x="217" y="258"/>
                    </a:lnTo>
                    <a:lnTo>
                      <a:pt x="207" y="268"/>
                    </a:lnTo>
                    <a:lnTo>
                      <a:pt x="200" y="277"/>
                    </a:lnTo>
                    <a:lnTo>
                      <a:pt x="192" y="287"/>
                    </a:lnTo>
                    <a:lnTo>
                      <a:pt x="183" y="296"/>
                    </a:lnTo>
                    <a:lnTo>
                      <a:pt x="173" y="306"/>
                    </a:lnTo>
                    <a:lnTo>
                      <a:pt x="166" y="315"/>
                    </a:lnTo>
                    <a:lnTo>
                      <a:pt x="156" y="325"/>
                    </a:lnTo>
                    <a:lnTo>
                      <a:pt x="148" y="334"/>
                    </a:lnTo>
                    <a:lnTo>
                      <a:pt x="139" y="344"/>
                    </a:lnTo>
                    <a:lnTo>
                      <a:pt x="131" y="353"/>
                    </a:lnTo>
                    <a:lnTo>
                      <a:pt x="122" y="363"/>
                    </a:lnTo>
                    <a:lnTo>
                      <a:pt x="114" y="372"/>
                    </a:lnTo>
                    <a:lnTo>
                      <a:pt x="109" y="382"/>
                    </a:lnTo>
                    <a:lnTo>
                      <a:pt x="101" y="391"/>
                    </a:lnTo>
                    <a:lnTo>
                      <a:pt x="93" y="401"/>
                    </a:lnTo>
                    <a:lnTo>
                      <a:pt x="88" y="410"/>
                    </a:lnTo>
                    <a:lnTo>
                      <a:pt x="80" y="418"/>
                    </a:lnTo>
                    <a:lnTo>
                      <a:pt x="72" y="425"/>
                    </a:lnTo>
                    <a:lnTo>
                      <a:pt x="63" y="429"/>
                    </a:lnTo>
                    <a:lnTo>
                      <a:pt x="53" y="431"/>
                    </a:lnTo>
                    <a:lnTo>
                      <a:pt x="55" y="425"/>
                    </a:lnTo>
                    <a:lnTo>
                      <a:pt x="57" y="422"/>
                    </a:lnTo>
                    <a:lnTo>
                      <a:pt x="57" y="416"/>
                    </a:lnTo>
                    <a:lnTo>
                      <a:pt x="57" y="414"/>
                    </a:lnTo>
                    <a:lnTo>
                      <a:pt x="55" y="408"/>
                    </a:lnTo>
                    <a:lnTo>
                      <a:pt x="50" y="406"/>
                    </a:lnTo>
                    <a:lnTo>
                      <a:pt x="44" y="406"/>
                    </a:lnTo>
                    <a:lnTo>
                      <a:pt x="36" y="406"/>
                    </a:lnTo>
                    <a:lnTo>
                      <a:pt x="27" y="406"/>
                    </a:lnTo>
                    <a:lnTo>
                      <a:pt x="19" y="408"/>
                    </a:lnTo>
                    <a:lnTo>
                      <a:pt x="10" y="408"/>
                    </a:lnTo>
                    <a:lnTo>
                      <a:pt x="4" y="408"/>
                    </a:lnTo>
                    <a:lnTo>
                      <a:pt x="0" y="406"/>
                    </a:lnTo>
                    <a:lnTo>
                      <a:pt x="0" y="405"/>
                    </a:lnTo>
                    <a:lnTo>
                      <a:pt x="0" y="399"/>
                    </a:lnTo>
                    <a:lnTo>
                      <a:pt x="8" y="391"/>
                    </a:lnTo>
                    <a:lnTo>
                      <a:pt x="12" y="385"/>
                    </a:lnTo>
                    <a:lnTo>
                      <a:pt x="19" y="380"/>
                    </a:lnTo>
                    <a:lnTo>
                      <a:pt x="27" y="372"/>
                    </a:lnTo>
                    <a:lnTo>
                      <a:pt x="38" y="366"/>
                    </a:lnTo>
                    <a:lnTo>
                      <a:pt x="44" y="361"/>
                    </a:lnTo>
                    <a:lnTo>
                      <a:pt x="50" y="357"/>
                    </a:lnTo>
                    <a:lnTo>
                      <a:pt x="55" y="353"/>
                    </a:lnTo>
                    <a:lnTo>
                      <a:pt x="63" y="349"/>
                    </a:lnTo>
                    <a:lnTo>
                      <a:pt x="72" y="342"/>
                    </a:lnTo>
                    <a:lnTo>
                      <a:pt x="84" y="332"/>
                    </a:lnTo>
                    <a:lnTo>
                      <a:pt x="93" y="323"/>
                    </a:lnTo>
                    <a:lnTo>
                      <a:pt x="103" y="313"/>
                    </a:lnTo>
                    <a:lnTo>
                      <a:pt x="110" y="304"/>
                    </a:lnTo>
                    <a:lnTo>
                      <a:pt x="120" y="294"/>
                    </a:lnTo>
                    <a:lnTo>
                      <a:pt x="122" y="287"/>
                    </a:lnTo>
                    <a:lnTo>
                      <a:pt x="126" y="283"/>
                    </a:lnTo>
                    <a:lnTo>
                      <a:pt x="129" y="275"/>
                    </a:lnTo>
                    <a:lnTo>
                      <a:pt x="131" y="270"/>
                    </a:lnTo>
                    <a:lnTo>
                      <a:pt x="139" y="258"/>
                    </a:lnTo>
                    <a:lnTo>
                      <a:pt x="145" y="249"/>
                    </a:lnTo>
                    <a:lnTo>
                      <a:pt x="147" y="241"/>
                    </a:lnTo>
                    <a:lnTo>
                      <a:pt x="148" y="235"/>
                    </a:lnTo>
                    <a:lnTo>
                      <a:pt x="150" y="230"/>
                    </a:lnTo>
                    <a:lnTo>
                      <a:pt x="154" y="224"/>
                    </a:lnTo>
                    <a:lnTo>
                      <a:pt x="156" y="216"/>
                    </a:lnTo>
                    <a:lnTo>
                      <a:pt x="160" y="211"/>
                    </a:lnTo>
                    <a:lnTo>
                      <a:pt x="162" y="205"/>
                    </a:lnTo>
                    <a:lnTo>
                      <a:pt x="166" y="199"/>
                    </a:lnTo>
                    <a:lnTo>
                      <a:pt x="166" y="192"/>
                    </a:lnTo>
                    <a:lnTo>
                      <a:pt x="167" y="186"/>
                    </a:lnTo>
                    <a:lnTo>
                      <a:pt x="169" y="178"/>
                    </a:lnTo>
                    <a:lnTo>
                      <a:pt x="173" y="173"/>
                    </a:lnTo>
                    <a:lnTo>
                      <a:pt x="173" y="167"/>
                    </a:lnTo>
                    <a:lnTo>
                      <a:pt x="175" y="159"/>
                    </a:lnTo>
                    <a:lnTo>
                      <a:pt x="177" y="154"/>
                    </a:lnTo>
                    <a:lnTo>
                      <a:pt x="179" y="148"/>
                    </a:lnTo>
                    <a:lnTo>
                      <a:pt x="181" y="140"/>
                    </a:lnTo>
                    <a:lnTo>
                      <a:pt x="183" y="133"/>
                    </a:lnTo>
                    <a:lnTo>
                      <a:pt x="185" y="127"/>
                    </a:lnTo>
                    <a:lnTo>
                      <a:pt x="186" y="121"/>
                    </a:lnTo>
                    <a:lnTo>
                      <a:pt x="186" y="114"/>
                    </a:lnTo>
                    <a:lnTo>
                      <a:pt x="190" y="108"/>
                    </a:lnTo>
                    <a:lnTo>
                      <a:pt x="192" y="102"/>
                    </a:lnTo>
                    <a:lnTo>
                      <a:pt x="194" y="95"/>
                    </a:lnTo>
                    <a:lnTo>
                      <a:pt x="196" y="87"/>
                    </a:lnTo>
                    <a:lnTo>
                      <a:pt x="198" y="81"/>
                    </a:lnTo>
                    <a:lnTo>
                      <a:pt x="198" y="76"/>
                    </a:lnTo>
                    <a:lnTo>
                      <a:pt x="202" y="68"/>
                    </a:lnTo>
                    <a:lnTo>
                      <a:pt x="204" y="62"/>
                    </a:lnTo>
                    <a:lnTo>
                      <a:pt x="205" y="57"/>
                    </a:lnTo>
                    <a:lnTo>
                      <a:pt x="207" y="49"/>
                    </a:lnTo>
                    <a:lnTo>
                      <a:pt x="211" y="45"/>
                    </a:lnTo>
                    <a:lnTo>
                      <a:pt x="213" y="38"/>
                    </a:lnTo>
                    <a:lnTo>
                      <a:pt x="215" y="32"/>
                    </a:lnTo>
                    <a:lnTo>
                      <a:pt x="217" y="24"/>
                    </a:lnTo>
                    <a:lnTo>
                      <a:pt x="221" y="20"/>
                    </a:lnTo>
                    <a:lnTo>
                      <a:pt x="224" y="9"/>
                    </a:lnTo>
                    <a:lnTo>
                      <a:pt x="232" y="0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442880" y="4019760"/>
                <a:ext cx="198720" cy="5076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48" y="0"/>
                    </a:moveTo>
                    <a:lnTo>
                      <a:pt x="154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5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3" y="0"/>
                    </a:lnTo>
                    <a:lnTo>
                      <a:pt x="251" y="0"/>
                    </a:lnTo>
                    <a:lnTo>
                      <a:pt x="251" y="2"/>
                    </a:lnTo>
                    <a:lnTo>
                      <a:pt x="251" y="6"/>
                    </a:lnTo>
                    <a:lnTo>
                      <a:pt x="241" y="4"/>
                    </a:lnTo>
                    <a:lnTo>
                      <a:pt x="234" y="4"/>
                    </a:lnTo>
                    <a:lnTo>
                      <a:pt x="222" y="4"/>
                    </a:lnTo>
                    <a:lnTo>
                      <a:pt x="213" y="8"/>
                    </a:lnTo>
                    <a:lnTo>
                      <a:pt x="207" y="8"/>
                    </a:lnTo>
                    <a:lnTo>
                      <a:pt x="201" y="9"/>
                    </a:lnTo>
                    <a:lnTo>
                      <a:pt x="194" y="9"/>
                    </a:lnTo>
                    <a:lnTo>
                      <a:pt x="190" y="11"/>
                    </a:lnTo>
                    <a:lnTo>
                      <a:pt x="182" y="13"/>
                    </a:lnTo>
                    <a:lnTo>
                      <a:pt x="179" y="15"/>
                    </a:lnTo>
                    <a:lnTo>
                      <a:pt x="171" y="17"/>
                    </a:lnTo>
                    <a:lnTo>
                      <a:pt x="165" y="19"/>
                    </a:lnTo>
                    <a:lnTo>
                      <a:pt x="160" y="21"/>
                    </a:lnTo>
                    <a:lnTo>
                      <a:pt x="154" y="23"/>
                    </a:lnTo>
                    <a:lnTo>
                      <a:pt x="146" y="23"/>
                    </a:lnTo>
                    <a:lnTo>
                      <a:pt x="141" y="27"/>
                    </a:lnTo>
                    <a:lnTo>
                      <a:pt x="135" y="28"/>
                    </a:lnTo>
                    <a:lnTo>
                      <a:pt x="127" y="30"/>
                    </a:lnTo>
                    <a:lnTo>
                      <a:pt x="122" y="32"/>
                    </a:lnTo>
                    <a:lnTo>
                      <a:pt x="116" y="36"/>
                    </a:lnTo>
                    <a:lnTo>
                      <a:pt x="108" y="36"/>
                    </a:lnTo>
                    <a:lnTo>
                      <a:pt x="103" y="38"/>
                    </a:lnTo>
                    <a:lnTo>
                      <a:pt x="97" y="40"/>
                    </a:lnTo>
                    <a:lnTo>
                      <a:pt x="91" y="44"/>
                    </a:lnTo>
                    <a:lnTo>
                      <a:pt x="80" y="48"/>
                    </a:lnTo>
                    <a:lnTo>
                      <a:pt x="68" y="51"/>
                    </a:lnTo>
                    <a:lnTo>
                      <a:pt x="57" y="53"/>
                    </a:lnTo>
                    <a:lnTo>
                      <a:pt x="47" y="57"/>
                    </a:lnTo>
                    <a:lnTo>
                      <a:pt x="36" y="59"/>
                    </a:lnTo>
                    <a:lnTo>
                      <a:pt x="30" y="61"/>
                    </a:lnTo>
                    <a:lnTo>
                      <a:pt x="21" y="61"/>
                    </a:lnTo>
                    <a:lnTo>
                      <a:pt x="15" y="63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4" y="38"/>
                    </a:lnTo>
                    <a:lnTo>
                      <a:pt x="9" y="30"/>
                    </a:lnTo>
                    <a:lnTo>
                      <a:pt x="15" y="21"/>
                    </a:lnTo>
                    <a:lnTo>
                      <a:pt x="25" y="11"/>
                    </a:lnTo>
                    <a:lnTo>
                      <a:pt x="32" y="9"/>
                    </a:lnTo>
                    <a:lnTo>
                      <a:pt x="40" y="9"/>
                    </a:lnTo>
                    <a:lnTo>
                      <a:pt x="46" y="9"/>
                    </a:lnTo>
                    <a:lnTo>
                      <a:pt x="55" y="9"/>
                    </a:lnTo>
                    <a:lnTo>
                      <a:pt x="63" y="9"/>
                    </a:lnTo>
                    <a:lnTo>
                      <a:pt x="70" y="11"/>
                    </a:lnTo>
                    <a:lnTo>
                      <a:pt x="80" y="11"/>
                    </a:lnTo>
                    <a:lnTo>
                      <a:pt x="87" y="11"/>
                    </a:lnTo>
                    <a:lnTo>
                      <a:pt x="95" y="11"/>
                    </a:lnTo>
                    <a:lnTo>
                      <a:pt x="105" y="11"/>
                    </a:lnTo>
                    <a:lnTo>
                      <a:pt x="110" y="9"/>
                    </a:lnTo>
                    <a:lnTo>
                      <a:pt x="120" y="9"/>
                    </a:lnTo>
                    <a:lnTo>
                      <a:pt x="127" y="8"/>
                    </a:lnTo>
                    <a:lnTo>
                      <a:pt x="135" y="6"/>
                    </a:lnTo>
                    <a:lnTo>
                      <a:pt x="141" y="2"/>
                    </a:lnTo>
                    <a:lnTo>
                      <a:pt x="148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465200" y="426240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0"/>
                    </a:moveTo>
                    <a:lnTo>
                      <a:pt x="40" y="4"/>
                    </a:lnTo>
                    <a:lnTo>
                      <a:pt x="40" y="8"/>
                    </a:lnTo>
                    <a:lnTo>
                      <a:pt x="35" y="12"/>
                    </a:lnTo>
                    <a:lnTo>
                      <a:pt x="29" y="15"/>
                    </a:lnTo>
                    <a:lnTo>
                      <a:pt x="21" y="19"/>
                    </a:lnTo>
                    <a:lnTo>
                      <a:pt x="16" y="23"/>
                    </a:lnTo>
                    <a:lnTo>
                      <a:pt x="8" y="25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5" y="4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2460600" y="432612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54" y="0"/>
                    </a:moveTo>
                    <a:lnTo>
                      <a:pt x="59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63" y="8"/>
                    </a:lnTo>
                    <a:lnTo>
                      <a:pt x="57" y="15"/>
                    </a:lnTo>
                    <a:lnTo>
                      <a:pt x="50" y="19"/>
                    </a:lnTo>
                    <a:lnTo>
                      <a:pt x="40" y="25"/>
                    </a:lnTo>
                    <a:lnTo>
                      <a:pt x="29" y="25"/>
                    </a:lnTo>
                    <a:lnTo>
                      <a:pt x="19" y="25"/>
                    </a:lnTo>
                    <a:lnTo>
                      <a:pt x="10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5" y="8"/>
                    </a:lnTo>
                    <a:lnTo>
                      <a:pt x="42" y="6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243800" y="4326120"/>
                <a:ext cx="841320" cy="217440"/>
              </a:xfrm>
              <a:custGeom>
                <a:avLst/>
                <a:gdLst/>
                <a:ahLst/>
                <a:rect l="l" t="t" r="r" b="b"/>
                <a:pathLst>
                  <a:path w="1061" h="274">
                    <a:moveTo>
                      <a:pt x="783" y="0"/>
                    </a:moveTo>
                    <a:lnTo>
                      <a:pt x="787" y="8"/>
                    </a:lnTo>
                    <a:lnTo>
                      <a:pt x="787" y="15"/>
                    </a:lnTo>
                    <a:lnTo>
                      <a:pt x="783" y="21"/>
                    </a:lnTo>
                    <a:lnTo>
                      <a:pt x="780" y="27"/>
                    </a:lnTo>
                    <a:lnTo>
                      <a:pt x="774" y="30"/>
                    </a:lnTo>
                    <a:lnTo>
                      <a:pt x="768" y="36"/>
                    </a:lnTo>
                    <a:lnTo>
                      <a:pt x="759" y="42"/>
                    </a:lnTo>
                    <a:lnTo>
                      <a:pt x="751" y="47"/>
                    </a:lnTo>
                    <a:lnTo>
                      <a:pt x="742" y="51"/>
                    </a:lnTo>
                    <a:lnTo>
                      <a:pt x="734" y="57"/>
                    </a:lnTo>
                    <a:lnTo>
                      <a:pt x="726" y="63"/>
                    </a:lnTo>
                    <a:lnTo>
                      <a:pt x="719" y="70"/>
                    </a:lnTo>
                    <a:lnTo>
                      <a:pt x="713" y="76"/>
                    </a:lnTo>
                    <a:lnTo>
                      <a:pt x="709" y="84"/>
                    </a:lnTo>
                    <a:lnTo>
                      <a:pt x="707" y="91"/>
                    </a:lnTo>
                    <a:lnTo>
                      <a:pt x="709" y="103"/>
                    </a:lnTo>
                    <a:lnTo>
                      <a:pt x="719" y="99"/>
                    </a:lnTo>
                    <a:lnTo>
                      <a:pt x="732" y="97"/>
                    </a:lnTo>
                    <a:lnTo>
                      <a:pt x="742" y="93"/>
                    </a:lnTo>
                    <a:lnTo>
                      <a:pt x="753" y="91"/>
                    </a:lnTo>
                    <a:lnTo>
                      <a:pt x="764" y="87"/>
                    </a:lnTo>
                    <a:lnTo>
                      <a:pt x="776" y="84"/>
                    </a:lnTo>
                    <a:lnTo>
                      <a:pt x="787" y="82"/>
                    </a:lnTo>
                    <a:lnTo>
                      <a:pt x="799" y="78"/>
                    </a:lnTo>
                    <a:lnTo>
                      <a:pt x="808" y="74"/>
                    </a:lnTo>
                    <a:lnTo>
                      <a:pt x="820" y="70"/>
                    </a:lnTo>
                    <a:lnTo>
                      <a:pt x="831" y="66"/>
                    </a:lnTo>
                    <a:lnTo>
                      <a:pt x="842" y="65"/>
                    </a:lnTo>
                    <a:lnTo>
                      <a:pt x="854" y="61"/>
                    </a:lnTo>
                    <a:lnTo>
                      <a:pt x="865" y="57"/>
                    </a:lnTo>
                    <a:lnTo>
                      <a:pt x="871" y="55"/>
                    </a:lnTo>
                    <a:lnTo>
                      <a:pt x="877" y="55"/>
                    </a:lnTo>
                    <a:lnTo>
                      <a:pt x="882" y="53"/>
                    </a:lnTo>
                    <a:lnTo>
                      <a:pt x="888" y="53"/>
                    </a:lnTo>
                    <a:lnTo>
                      <a:pt x="899" y="49"/>
                    </a:lnTo>
                    <a:lnTo>
                      <a:pt x="909" y="47"/>
                    </a:lnTo>
                    <a:lnTo>
                      <a:pt x="920" y="46"/>
                    </a:lnTo>
                    <a:lnTo>
                      <a:pt x="932" y="46"/>
                    </a:lnTo>
                    <a:lnTo>
                      <a:pt x="943" y="44"/>
                    </a:lnTo>
                    <a:lnTo>
                      <a:pt x="955" y="42"/>
                    </a:lnTo>
                    <a:lnTo>
                      <a:pt x="964" y="42"/>
                    </a:lnTo>
                    <a:lnTo>
                      <a:pt x="975" y="44"/>
                    </a:lnTo>
                    <a:lnTo>
                      <a:pt x="987" y="44"/>
                    </a:lnTo>
                    <a:lnTo>
                      <a:pt x="998" y="44"/>
                    </a:lnTo>
                    <a:lnTo>
                      <a:pt x="1008" y="46"/>
                    </a:lnTo>
                    <a:lnTo>
                      <a:pt x="1019" y="47"/>
                    </a:lnTo>
                    <a:lnTo>
                      <a:pt x="1029" y="49"/>
                    </a:lnTo>
                    <a:lnTo>
                      <a:pt x="1040" y="53"/>
                    </a:lnTo>
                    <a:lnTo>
                      <a:pt x="1050" y="57"/>
                    </a:lnTo>
                    <a:lnTo>
                      <a:pt x="1061" y="63"/>
                    </a:lnTo>
                    <a:lnTo>
                      <a:pt x="1051" y="65"/>
                    </a:lnTo>
                    <a:lnTo>
                      <a:pt x="1046" y="66"/>
                    </a:lnTo>
                    <a:lnTo>
                      <a:pt x="1036" y="66"/>
                    </a:lnTo>
                    <a:lnTo>
                      <a:pt x="1029" y="70"/>
                    </a:lnTo>
                    <a:lnTo>
                      <a:pt x="1021" y="72"/>
                    </a:lnTo>
                    <a:lnTo>
                      <a:pt x="1013" y="74"/>
                    </a:lnTo>
                    <a:lnTo>
                      <a:pt x="1006" y="76"/>
                    </a:lnTo>
                    <a:lnTo>
                      <a:pt x="1000" y="80"/>
                    </a:lnTo>
                    <a:lnTo>
                      <a:pt x="991" y="80"/>
                    </a:lnTo>
                    <a:lnTo>
                      <a:pt x="983" y="82"/>
                    </a:lnTo>
                    <a:lnTo>
                      <a:pt x="975" y="84"/>
                    </a:lnTo>
                    <a:lnTo>
                      <a:pt x="968" y="87"/>
                    </a:lnTo>
                    <a:lnTo>
                      <a:pt x="962" y="89"/>
                    </a:lnTo>
                    <a:lnTo>
                      <a:pt x="955" y="91"/>
                    </a:lnTo>
                    <a:lnTo>
                      <a:pt x="947" y="95"/>
                    </a:lnTo>
                    <a:lnTo>
                      <a:pt x="939" y="99"/>
                    </a:lnTo>
                    <a:lnTo>
                      <a:pt x="932" y="101"/>
                    </a:lnTo>
                    <a:lnTo>
                      <a:pt x="924" y="103"/>
                    </a:lnTo>
                    <a:lnTo>
                      <a:pt x="916" y="104"/>
                    </a:lnTo>
                    <a:lnTo>
                      <a:pt x="909" y="108"/>
                    </a:lnTo>
                    <a:lnTo>
                      <a:pt x="901" y="110"/>
                    </a:lnTo>
                    <a:lnTo>
                      <a:pt x="894" y="112"/>
                    </a:lnTo>
                    <a:lnTo>
                      <a:pt x="886" y="116"/>
                    </a:lnTo>
                    <a:lnTo>
                      <a:pt x="880" y="120"/>
                    </a:lnTo>
                    <a:lnTo>
                      <a:pt x="873" y="122"/>
                    </a:lnTo>
                    <a:lnTo>
                      <a:pt x="865" y="125"/>
                    </a:lnTo>
                    <a:lnTo>
                      <a:pt x="858" y="127"/>
                    </a:lnTo>
                    <a:lnTo>
                      <a:pt x="852" y="131"/>
                    </a:lnTo>
                    <a:lnTo>
                      <a:pt x="844" y="135"/>
                    </a:lnTo>
                    <a:lnTo>
                      <a:pt x="837" y="137"/>
                    </a:lnTo>
                    <a:lnTo>
                      <a:pt x="829" y="141"/>
                    </a:lnTo>
                    <a:lnTo>
                      <a:pt x="823" y="144"/>
                    </a:lnTo>
                    <a:lnTo>
                      <a:pt x="814" y="146"/>
                    </a:lnTo>
                    <a:lnTo>
                      <a:pt x="806" y="148"/>
                    </a:lnTo>
                    <a:lnTo>
                      <a:pt x="799" y="152"/>
                    </a:lnTo>
                    <a:lnTo>
                      <a:pt x="793" y="156"/>
                    </a:lnTo>
                    <a:lnTo>
                      <a:pt x="785" y="158"/>
                    </a:lnTo>
                    <a:lnTo>
                      <a:pt x="778" y="161"/>
                    </a:lnTo>
                    <a:lnTo>
                      <a:pt x="770" y="163"/>
                    </a:lnTo>
                    <a:lnTo>
                      <a:pt x="764" y="167"/>
                    </a:lnTo>
                    <a:lnTo>
                      <a:pt x="757" y="171"/>
                    </a:lnTo>
                    <a:lnTo>
                      <a:pt x="749" y="173"/>
                    </a:lnTo>
                    <a:lnTo>
                      <a:pt x="742" y="177"/>
                    </a:lnTo>
                    <a:lnTo>
                      <a:pt x="736" y="181"/>
                    </a:lnTo>
                    <a:lnTo>
                      <a:pt x="728" y="182"/>
                    </a:lnTo>
                    <a:lnTo>
                      <a:pt x="721" y="186"/>
                    </a:lnTo>
                    <a:lnTo>
                      <a:pt x="713" y="190"/>
                    </a:lnTo>
                    <a:lnTo>
                      <a:pt x="707" y="192"/>
                    </a:lnTo>
                    <a:lnTo>
                      <a:pt x="698" y="196"/>
                    </a:lnTo>
                    <a:lnTo>
                      <a:pt x="690" y="200"/>
                    </a:lnTo>
                    <a:lnTo>
                      <a:pt x="685" y="201"/>
                    </a:lnTo>
                    <a:lnTo>
                      <a:pt x="677" y="205"/>
                    </a:lnTo>
                    <a:lnTo>
                      <a:pt x="669" y="209"/>
                    </a:lnTo>
                    <a:lnTo>
                      <a:pt x="662" y="211"/>
                    </a:lnTo>
                    <a:lnTo>
                      <a:pt x="654" y="215"/>
                    </a:lnTo>
                    <a:lnTo>
                      <a:pt x="648" y="219"/>
                    </a:lnTo>
                    <a:lnTo>
                      <a:pt x="641" y="220"/>
                    </a:lnTo>
                    <a:lnTo>
                      <a:pt x="633" y="224"/>
                    </a:lnTo>
                    <a:lnTo>
                      <a:pt x="626" y="228"/>
                    </a:lnTo>
                    <a:lnTo>
                      <a:pt x="620" y="230"/>
                    </a:lnTo>
                    <a:lnTo>
                      <a:pt x="612" y="234"/>
                    </a:lnTo>
                    <a:lnTo>
                      <a:pt x="605" y="238"/>
                    </a:lnTo>
                    <a:lnTo>
                      <a:pt x="597" y="239"/>
                    </a:lnTo>
                    <a:lnTo>
                      <a:pt x="591" y="243"/>
                    </a:lnTo>
                    <a:lnTo>
                      <a:pt x="597" y="238"/>
                    </a:lnTo>
                    <a:lnTo>
                      <a:pt x="605" y="232"/>
                    </a:lnTo>
                    <a:lnTo>
                      <a:pt x="610" y="226"/>
                    </a:lnTo>
                    <a:lnTo>
                      <a:pt x="618" y="222"/>
                    </a:lnTo>
                    <a:lnTo>
                      <a:pt x="624" y="217"/>
                    </a:lnTo>
                    <a:lnTo>
                      <a:pt x="631" y="211"/>
                    </a:lnTo>
                    <a:lnTo>
                      <a:pt x="639" y="207"/>
                    </a:lnTo>
                    <a:lnTo>
                      <a:pt x="647" y="201"/>
                    </a:lnTo>
                    <a:lnTo>
                      <a:pt x="652" y="198"/>
                    </a:lnTo>
                    <a:lnTo>
                      <a:pt x="660" y="192"/>
                    </a:lnTo>
                    <a:lnTo>
                      <a:pt x="667" y="188"/>
                    </a:lnTo>
                    <a:lnTo>
                      <a:pt x="677" y="182"/>
                    </a:lnTo>
                    <a:lnTo>
                      <a:pt x="685" y="177"/>
                    </a:lnTo>
                    <a:lnTo>
                      <a:pt x="692" y="173"/>
                    </a:lnTo>
                    <a:lnTo>
                      <a:pt x="700" y="167"/>
                    </a:lnTo>
                    <a:lnTo>
                      <a:pt x="707" y="165"/>
                    </a:lnTo>
                    <a:lnTo>
                      <a:pt x="715" y="160"/>
                    </a:lnTo>
                    <a:lnTo>
                      <a:pt x="723" y="156"/>
                    </a:lnTo>
                    <a:lnTo>
                      <a:pt x="730" y="152"/>
                    </a:lnTo>
                    <a:lnTo>
                      <a:pt x="740" y="148"/>
                    </a:lnTo>
                    <a:lnTo>
                      <a:pt x="745" y="144"/>
                    </a:lnTo>
                    <a:lnTo>
                      <a:pt x="755" y="139"/>
                    </a:lnTo>
                    <a:lnTo>
                      <a:pt x="762" y="137"/>
                    </a:lnTo>
                    <a:lnTo>
                      <a:pt x="772" y="133"/>
                    </a:lnTo>
                    <a:lnTo>
                      <a:pt x="780" y="129"/>
                    </a:lnTo>
                    <a:lnTo>
                      <a:pt x="787" y="127"/>
                    </a:lnTo>
                    <a:lnTo>
                      <a:pt x="797" y="123"/>
                    </a:lnTo>
                    <a:lnTo>
                      <a:pt x="804" y="122"/>
                    </a:lnTo>
                    <a:lnTo>
                      <a:pt x="812" y="118"/>
                    </a:lnTo>
                    <a:lnTo>
                      <a:pt x="821" y="118"/>
                    </a:lnTo>
                    <a:lnTo>
                      <a:pt x="829" y="116"/>
                    </a:lnTo>
                    <a:lnTo>
                      <a:pt x="839" y="116"/>
                    </a:lnTo>
                    <a:lnTo>
                      <a:pt x="833" y="112"/>
                    </a:lnTo>
                    <a:lnTo>
                      <a:pt x="825" y="112"/>
                    </a:lnTo>
                    <a:lnTo>
                      <a:pt x="820" y="112"/>
                    </a:lnTo>
                    <a:lnTo>
                      <a:pt x="816" y="112"/>
                    </a:lnTo>
                    <a:lnTo>
                      <a:pt x="808" y="112"/>
                    </a:lnTo>
                    <a:lnTo>
                      <a:pt x="802" y="112"/>
                    </a:lnTo>
                    <a:lnTo>
                      <a:pt x="797" y="112"/>
                    </a:lnTo>
                    <a:lnTo>
                      <a:pt x="791" y="112"/>
                    </a:lnTo>
                    <a:lnTo>
                      <a:pt x="785" y="112"/>
                    </a:lnTo>
                    <a:lnTo>
                      <a:pt x="780" y="112"/>
                    </a:lnTo>
                    <a:lnTo>
                      <a:pt x="774" y="112"/>
                    </a:lnTo>
                    <a:lnTo>
                      <a:pt x="768" y="114"/>
                    </a:lnTo>
                    <a:lnTo>
                      <a:pt x="757" y="116"/>
                    </a:lnTo>
                    <a:lnTo>
                      <a:pt x="745" y="120"/>
                    </a:lnTo>
                    <a:lnTo>
                      <a:pt x="740" y="120"/>
                    </a:lnTo>
                    <a:lnTo>
                      <a:pt x="734" y="122"/>
                    </a:lnTo>
                    <a:lnTo>
                      <a:pt x="728" y="123"/>
                    </a:lnTo>
                    <a:lnTo>
                      <a:pt x="723" y="125"/>
                    </a:lnTo>
                    <a:lnTo>
                      <a:pt x="717" y="125"/>
                    </a:lnTo>
                    <a:lnTo>
                      <a:pt x="709" y="129"/>
                    </a:lnTo>
                    <a:lnTo>
                      <a:pt x="705" y="129"/>
                    </a:lnTo>
                    <a:lnTo>
                      <a:pt x="700" y="133"/>
                    </a:lnTo>
                    <a:lnTo>
                      <a:pt x="694" y="135"/>
                    </a:lnTo>
                    <a:lnTo>
                      <a:pt x="688" y="137"/>
                    </a:lnTo>
                    <a:lnTo>
                      <a:pt x="681" y="139"/>
                    </a:lnTo>
                    <a:lnTo>
                      <a:pt x="677" y="142"/>
                    </a:lnTo>
                    <a:lnTo>
                      <a:pt x="666" y="146"/>
                    </a:lnTo>
                    <a:lnTo>
                      <a:pt x="654" y="154"/>
                    </a:lnTo>
                    <a:lnTo>
                      <a:pt x="648" y="156"/>
                    </a:lnTo>
                    <a:lnTo>
                      <a:pt x="641" y="158"/>
                    </a:lnTo>
                    <a:lnTo>
                      <a:pt x="635" y="160"/>
                    </a:lnTo>
                    <a:lnTo>
                      <a:pt x="631" y="163"/>
                    </a:lnTo>
                    <a:lnTo>
                      <a:pt x="624" y="165"/>
                    </a:lnTo>
                    <a:lnTo>
                      <a:pt x="618" y="167"/>
                    </a:lnTo>
                    <a:lnTo>
                      <a:pt x="612" y="171"/>
                    </a:lnTo>
                    <a:lnTo>
                      <a:pt x="607" y="175"/>
                    </a:lnTo>
                    <a:lnTo>
                      <a:pt x="595" y="181"/>
                    </a:lnTo>
                    <a:lnTo>
                      <a:pt x="586" y="186"/>
                    </a:lnTo>
                    <a:lnTo>
                      <a:pt x="574" y="192"/>
                    </a:lnTo>
                    <a:lnTo>
                      <a:pt x="563" y="200"/>
                    </a:lnTo>
                    <a:lnTo>
                      <a:pt x="557" y="201"/>
                    </a:lnTo>
                    <a:lnTo>
                      <a:pt x="550" y="203"/>
                    </a:lnTo>
                    <a:lnTo>
                      <a:pt x="546" y="207"/>
                    </a:lnTo>
                    <a:lnTo>
                      <a:pt x="540" y="211"/>
                    </a:lnTo>
                    <a:lnTo>
                      <a:pt x="529" y="217"/>
                    </a:lnTo>
                    <a:lnTo>
                      <a:pt x="517" y="222"/>
                    </a:lnTo>
                    <a:lnTo>
                      <a:pt x="506" y="228"/>
                    </a:lnTo>
                    <a:lnTo>
                      <a:pt x="494" y="232"/>
                    </a:lnTo>
                    <a:lnTo>
                      <a:pt x="483" y="238"/>
                    </a:lnTo>
                    <a:lnTo>
                      <a:pt x="474" y="243"/>
                    </a:lnTo>
                    <a:lnTo>
                      <a:pt x="477" y="236"/>
                    </a:lnTo>
                    <a:lnTo>
                      <a:pt x="483" y="228"/>
                    </a:lnTo>
                    <a:lnTo>
                      <a:pt x="489" y="220"/>
                    </a:lnTo>
                    <a:lnTo>
                      <a:pt x="494" y="215"/>
                    </a:lnTo>
                    <a:lnTo>
                      <a:pt x="502" y="207"/>
                    </a:lnTo>
                    <a:lnTo>
                      <a:pt x="510" y="200"/>
                    </a:lnTo>
                    <a:lnTo>
                      <a:pt x="515" y="192"/>
                    </a:lnTo>
                    <a:lnTo>
                      <a:pt x="525" y="186"/>
                    </a:lnTo>
                    <a:lnTo>
                      <a:pt x="531" y="179"/>
                    </a:lnTo>
                    <a:lnTo>
                      <a:pt x="540" y="171"/>
                    </a:lnTo>
                    <a:lnTo>
                      <a:pt x="548" y="165"/>
                    </a:lnTo>
                    <a:lnTo>
                      <a:pt x="557" y="158"/>
                    </a:lnTo>
                    <a:lnTo>
                      <a:pt x="565" y="152"/>
                    </a:lnTo>
                    <a:lnTo>
                      <a:pt x="574" y="144"/>
                    </a:lnTo>
                    <a:lnTo>
                      <a:pt x="582" y="139"/>
                    </a:lnTo>
                    <a:lnTo>
                      <a:pt x="591" y="135"/>
                    </a:lnTo>
                    <a:lnTo>
                      <a:pt x="586" y="135"/>
                    </a:lnTo>
                    <a:lnTo>
                      <a:pt x="578" y="135"/>
                    </a:lnTo>
                    <a:lnTo>
                      <a:pt x="574" y="137"/>
                    </a:lnTo>
                    <a:lnTo>
                      <a:pt x="569" y="139"/>
                    </a:lnTo>
                    <a:lnTo>
                      <a:pt x="557" y="142"/>
                    </a:lnTo>
                    <a:lnTo>
                      <a:pt x="546" y="144"/>
                    </a:lnTo>
                    <a:lnTo>
                      <a:pt x="534" y="148"/>
                    </a:lnTo>
                    <a:lnTo>
                      <a:pt x="523" y="154"/>
                    </a:lnTo>
                    <a:lnTo>
                      <a:pt x="512" y="158"/>
                    </a:lnTo>
                    <a:lnTo>
                      <a:pt x="502" y="163"/>
                    </a:lnTo>
                    <a:lnTo>
                      <a:pt x="491" y="165"/>
                    </a:lnTo>
                    <a:lnTo>
                      <a:pt x="481" y="171"/>
                    </a:lnTo>
                    <a:lnTo>
                      <a:pt x="468" y="175"/>
                    </a:lnTo>
                    <a:lnTo>
                      <a:pt x="458" y="182"/>
                    </a:lnTo>
                    <a:lnTo>
                      <a:pt x="449" y="186"/>
                    </a:lnTo>
                    <a:lnTo>
                      <a:pt x="437" y="192"/>
                    </a:lnTo>
                    <a:lnTo>
                      <a:pt x="428" y="198"/>
                    </a:lnTo>
                    <a:lnTo>
                      <a:pt x="418" y="201"/>
                    </a:lnTo>
                    <a:lnTo>
                      <a:pt x="407" y="207"/>
                    </a:lnTo>
                    <a:lnTo>
                      <a:pt x="396" y="211"/>
                    </a:lnTo>
                    <a:lnTo>
                      <a:pt x="384" y="215"/>
                    </a:lnTo>
                    <a:lnTo>
                      <a:pt x="375" y="219"/>
                    </a:lnTo>
                    <a:lnTo>
                      <a:pt x="365" y="222"/>
                    </a:lnTo>
                    <a:lnTo>
                      <a:pt x="354" y="226"/>
                    </a:lnTo>
                    <a:lnTo>
                      <a:pt x="344" y="228"/>
                    </a:lnTo>
                    <a:lnTo>
                      <a:pt x="335" y="232"/>
                    </a:lnTo>
                    <a:lnTo>
                      <a:pt x="323" y="232"/>
                    </a:lnTo>
                    <a:lnTo>
                      <a:pt x="314" y="236"/>
                    </a:lnTo>
                    <a:lnTo>
                      <a:pt x="304" y="236"/>
                    </a:lnTo>
                    <a:lnTo>
                      <a:pt x="295" y="238"/>
                    </a:lnTo>
                    <a:lnTo>
                      <a:pt x="283" y="238"/>
                    </a:lnTo>
                    <a:lnTo>
                      <a:pt x="272" y="238"/>
                    </a:lnTo>
                    <a:lnTo>
                      <a:pt x="262" y="236"/>
                    </a:lnTo>
                    <a:lnTo>
                      <a:pt x="253" y="234"/>
                    </a:lnTo>
                    <a:lnTo>
                      <a:pt x="247" y="236"/>
                    </a:lnTo>
                    <a:lnTo>
                      <a:pt x="242" y="239"/>
                    </a:lnTo>
                    <a:lnTo>
                      <a:pt x="238" y="245"/>
                    </a:lnTo>
                    <a:lnTo>
                      <a:pt x="236" y="249"/>
                    </a:lnTo>
                    <a:lnTo>
                      <a:pt x="234" y="258"/>
                    </a:lnTo>
                    <a:lnTo>
                      <a:pt x="242" y="270"/>
                    </a:lnTo>
                    <a:lnTo>
                      <a:pt x="238" y="274"/>
                    </a:lnTo>
                    <a:lnTo>
                      <a:pt x="230" y="268"/>
                    </a:lnTo>
                    <a:lnTo>
                      <a:pt x="224" y="268"/>
                    </a:lnTo>
                    <a:lnTo>
                      <a:pt x="219" y="268"/>
                    </a:lnTo>
                    <a:lnTo>
                      <a:pt x="213" y="268"/>
                    </a:lnTo>
                    <a:lnTo>
                      <a:pt x="211" y="264"/>
                    </a:lnTo>
                    <a:lnTo>
                      <a:pt x="211" y="258"/>
                    </a:lnTo>
                    <a:lnTo>
                      <a:pt x="209" y="251"/>
                    </a:lnTo>
                    <a:lnTo>
                      <a:pt x="209" y="243"/>
                    </a:lnTo>
                    <a:lnTo>
                      <a:pt x="207" y="234"/>
                    </a:lnTo>
                    <a:lnTo>
                      <a:pt x="207" y="226"/>
                    </a:lnTo>
                    <a:lnTo>
                      <a:pt x="207" y="220"/>
                    </a:lnTo>
                    <a:lnTo>
                      <a:pt x="207" y="220"/>
                    </a:lnTo>
                    <a:lnTo>
                      <a:pt x="202" y="219"/>
                    </a:lnTo>
                    <a:lnTo>
                      <a:pt x="196" y="220"/>
                    </a:lnTo>
                    <a:lnTo>
                      <a:pt x="188" y="222"/>
                    </a:lnTo>
                    <a:lnTo>
                      <a:pt x="181" y="226"/>
                    </a:lnTo>
                    <a:lnTo>
                      <a:pt x="175" y="228"/>
                    </a:lnTo>
                    <a:lnTo>
                      <a:pt x="167" y="232"/>
                    </a:lnTo>
                    <a:lnTo>
                      <a:pt x="160" y="238"/>
                    </a:lnTo>
                    <a:lnTo>
                      <a:pt x="154" y="241"/>
                    </a:lnTo>
                    <a:lnTo>
                      <a:pt x="148" y="241"/>
                    </a:lnTo>
                    <a:lnTo>
                      <a:pt x="143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3" y="239"/>
                    </a:lnTo>
                    <a:lnTo>
                      <a:pt x="133" y="234"/>
                    </a:lnTo>
                    <a:lnTo>
                      <a:pt x="133" y="230"/>
                    </a:lnTo>
                    <a:lnTo>
                      <a:pt x="137" y="226"/>
                    </a:lnTo>
                    <a:lnTo>
                      <a:pt x="139" y="220"/>
                    </a:lnTo>
                    <a:lnTo>
                      <a:pt x="141" y="215"/>
                    </a:lnTo>
                    <a:lnTo>
                      <a:pt x="135" y="211"/>
                    </a:lnTo>
                    <a:lnTo>
                      <a:pt x="129" y="213"/>
                    </a:lnTo>
                    <a:lnTo>
                      <a:pt x="122" y="215"/>
                    </a:lnTo>
                    <a:lnTo>
                      <a:pt x="116" y="220"/>
                    </a:lnTo>
                    <a:lnTo>
                      <a:pt x="109" y="226"/>
                    </a:lnTo>
                    <a:lnTo>
                      <a:pt x="103" y="230"/>
                    </a:lnTo>
                    <a:lnTo>
                      <a:pt x="97" y="236"/>
                    </a:lnTo>
                    <a:lnTo>
                      <a:pt x="93" y="239"/>
                    </a:lnTo>
                    <a:lnTo>
                      <a:pt x="91" y="230"/>
                    </a:lnTo>
                    <a:lnTo>
                      <a:pt x="88" y="220"/>
                    </a:lnTo>
                    <a:lnTo>
                      <a:pt x="84" y="213"/>
                    </a:lnTo>
                    <a:lnTo>
                      <a:pt x="82" y="203"/>
                    </a:lnTo>
                    <a:lnTo>
                      <a:pt x="76" y="194"/>
                    </a:lnTo>
                    <a:lnTo>
                      <a:pt x="72" y="186"/>
                    </a:lnTo>
                    <a:lnTo>
                      <a:pt x="67" y="177"/>
                    </a:lnTo>
                    <a:lnTo>
                      <a:pt x="63" y="171"/>
                    </a:lnTo>
                    <a:lnTo>
                      <a:pt x="55" y="163"/>
                    </a:lnTo>
                    <a:lnTo>
                      <a:pt x="48" y="156"/>
                    </a:lnTo>
                    <a:lnTo>
                      <a:pt x="40" y="150"/>
                    </a:lnTo>
                    <a:lnTo>
                      <a:pt x="34" y="146"/>
                    </a:lnTo>
                    <a:lnTo>
                      <a:pt x="27" y="141"/>
                    </a:lnTo>
                    <a:lnTo>
                      <a:pt x="17" y="139"/>
                    </a:lnTo>
                    <a:lnTo>
                      <a:pt x="8" y="137"/>
                    </a:lnTo>
                    <a:lnTo>
                      <a:pt x="0" y="137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8" y="127"/>
                    </a:lnTo>
                    <a:lnTo>
                      <a:pt x="17" y="125"/>
                    </a:lnTo>
                    <a:lnTo>
                      <a:pt x="25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5" y="133"/>
                    </a:lnTo>
                    <a:lnTo>
                      <a:pt x="63" y="139"/>
                    </a:lnTo>
                    <a:lnTo>
                      <a:pt x="69" y="144"/>
                    </a:lnTo>
                    <a:lnTo>
                      <a:pt x="74" y="150"/>
                    </a:lnTo>
                    <a:lnTo>
                      <a:pt x="80" y="158"/>
                    </a:lnTo>
                    <a:lnTo>
                      <a:pt x="86" y="165"/>
                    </a:lnTo>
                    <a:lnTo>
                      <a:pt x="88" y="171"/>
                    </a:lnTo>
                    <a:lnTo>
                      <a:pt x="93" y="179"/>
                    </a:lnTo>
                    <a:lnTo>
                      <a:pt x="95" y="186"/>
                    </a:lnTo>
                    <a:lnTo>
                      <a:pt x="99" y="194"/>
                    </a:lnTo>
                    <a:lnTo>
                      <a:pt x="105" y="190"/>
                    </a:lnTo>
                    <a:lnTo>
                      <a:pt x="110" y="184"/>
                    </a:lnTo>
                    <a:lnTo>
                      <a:pt x="118" y="181"/>
                    </a:lnTo>
                    <a:lnTo>
                      <a:pt x="126" y="175"/>
                    </a:lnTo>
                    <a:lnTo>
                      <a:pt x="131" y="169"/>
                    </a:lnTo>
                    <a:lnTo>
                      <a:pt x="141" y="163"/>
                    </a:lnTo>
                    <a:lnTo>
                      <a:pt x="147" y="160"/>
                    </a:lnTo>
                    <a:lnTo>
                      <a:pt x="156" y="156"/>
                    </a:lnTo>
                    <a:lnTo>
                      <a:pt x="162" y="154"/>
                    </a:lnTo>
                    <a:lnTo>
                      <a:pt x="167" y="152"/>
                    </a:lnTo>
                    <a:lnTo>
                      <a:pt x="173" y="152"/>
                    </a:lnTo>
                    <a:lnTo>
                      <a:pt x="179" y="154"/>
                    </a:lnTo>
                    <a:lnTo>
                      <a:pt x="181" y="156"/>
                    </a:lnTo>
                    <a:lnTo>
                      <a:pt x="185" y="163"/>
                    </a:lnTo>
                    <a:lnTo>
                      <a:pt x="185" y="165"/>
                    </a:lnTo>
                    <a:lnTo>
                      <a:pt x="185" y="171"/>
                    </a:lnTo>
                    <a:lnTo>
                      <a:pt x="185" y="177"/>
                    </a:lnTo>
                    <a:lnTo>
                      <a:pt x="186" y="184"/>
                    </a:lnTo>
                    <a:lnTo>
                      <a:pt x="188" y="182"/>
                    </a:lnTo>
                    <a:lnTo>
                      <a:pt x="192" y="181"/>
                    </a:lnTo>
                    <a:lnTo>
                      <a:pt x="196" y="177"/>
                    </a:lnTo>
                    <a:lnTo>
                      <a:pt x="202" y="175"/>
                    </a:lnTo>
                    <a:lnTo>
                      <a:pt x="207" y="177"/>
                    </a:lnTo>
                    <a:lnTo>
                      <a:pt x="215" y="181"/>
                    </a:lnTo>
                    <a:lnTo>
                      <a:pt x="221" y="184"/>
                    </a:lnTo>
                    <a:lnTo>
                      <a:pt x="226" y="188"/>
                    </a:lnTo>
                    <a:lnTo>
                      <a:pt x="234" y="188"/>
                    </a:lnTo>
                    <a:lnTo>
                      <a:pt x="240" y="190"/>
                    </a:lnTo>
                    <a:lnTo>
                      <a:pt x="245" y="192"/>
                    </a:lnTo>
                    <a:lnTo>
                      <a:pt x="253" y="194"/>
                    </a:lnTo>
                    <a:lnTo>
                      <a:pt x="259" y="194"/>
                    </a:lnTo>
                    <a:lnTo>
                      <a:pt x="266" y="194"/>
                    </a:lnTo>
                    <a:lnTo>
                      <a:pt x="272" y="194"/>
                    </a:lnTo>
                    <a:lnTo>
                      <a:pt x="278" y="196"/>
                    </a:lnTo>
                    <a:lnTo>
                      <a:pt x="285" y="194"/>
                    </a:lnTo>
                    <a:lnTo>
                      <a:pt x="291" y="194"/>
                    </a:lnTo>
                    <a:lnTo>
                      <a:pt x="297" y="194"/>
                    </a:lnTo>
                    <a:lnTo>
                      <a:pt x="304" y="194"/>
                    </a:lnTo>
                    <a:lnTo>
                      <a:pt x="310" y="192"/>
                    </a:lnTo>
                    <a:lnTo>
                      <a:pt x="316" y="192"/>
                    </a:lnTo>
                    <a:lnTo>
                      <a:pt x="323" y="190"/>
                    </a:lnTo>
                    <a:lnTo>
                      <a:pt x="329" y="188"/>
                    </a:lnTo>
                    <a:lnTo>
                      <a:pt x="335" y="184"/>
                    </a:lnTo>
                    <a:lnTo>
                      <a:pt x="342" y="182"/>
                    </a:lnTo>
                    <a:lnTo>
                      <a:pt x="348" y="181"/>
                    </a:lnTo>
                    <a:lnTo>
                      <a:pt x="354" y="179"/>
                    </a:lnTo>
                    <a:lnTo>
                      <a:pt x="361" y="175"/>
                    </a:lnTo>
                    <a:lnTo>
                      <a:pt x="367" y="173"/>
                    </a:lnTo>
                    <a:lnTo>
                      <a:pt x="373" y="169"/>
                    </a:lnTo>
                    <a:lnTo>
                      <a:pt x="380" y="167"/>
                    </a:lnTo>
                    <a:lnTo>
                      <a:pt x="386" y="163"/>
                    </a:lnTo>
                    <a:lnTo>
                      <a:pt x="392" y="161"/>
                    </a:lnTo>
                    <a:lnTo>
                      <a:pt x="399" y="158"/>
                    </a:lnTo>
                    <a:lnTo>
                      <a:pt x="407" y="154"/>
                    </a:lnTo>
                    <a:lnTo>
                      <a:pt x="411" y="150"/>
                    </a:lnTo>
                    <a:lnTo>
                      <a:pt x="418" y="146"/>
                    </a:lnTo>
                    <a:lnTo>
                      <a:pt x="424" y="142"/>
                    </a:lnTo>
                    <a:lnTo>
                      <a:pt x="430" y="139"/>
                    </a:lnTo>
                    <a:lnTo>
                      <a:pt x="437" y="135"/>
                    </a:lnTo>
                    <a:lnTo>
                      <a:pt x="443" y="129"/>
                    </a:lnTo>
                    <a:lnTo>
                      <a:pt x="449" y="125"/>
                    </a:lnTo>
                    <a:lnTo>
                      <a:pt x="456" y="123"/>
                    </a:lnTo>
                    <a:lnTo>
                      <a:pt x="462" y="118"/>
                    </a:lnTo>
                    <a:lnTo>
                      <a:pt x="468" y="112"/>
                    </a:lnTo>
                    <a:lnTo>
                      <a:pt x="475" y="108"/>
                    </a:lnTo>
                    <a:lnTo>
                      <a:pt x="481" y="106"/>
                    </a:lnTo>
                    <a:lnTo>
                      <a:pt x="487" y="101"/>
                    </a:lnTo>
                    <a:lnTo>
                      <a:pt x="494" y="97"/>
                    </a:lnTo>
                    <a:lnTo>
                      <a:pt x="500" y="93"/>
                    </a:lnTo>
                    <a:lnTo>
                      <a:pt x="506" y="89"/>
                    </a:lnTo>
                    <a:lnTo>
                      <a:pt x="512" y="84"/>
                    </a:lnTo>
                    <a:lnTo>
                      <a:pt x="519" y="80"/>
                    </a:lnTo>
                    <a:lnTo>
                      <a:pt x="525" y="76"/>
                    </a:lnTo>
                    <a:lnTo>
                      <a:pt x="531" y="72"/>
                    </a:lnTo>
                    <a:lnTo>
                      <a:pt x="538" y="68"/>
                    </a:lnTo>
                    <a:lnTo>
                      <a:pt x="544" y="65"/>
                    </a:lnTo>
                    <a:lnTo>
                      <a:pt x="550" y="61"/>
                    </a:lnTo>
                    <a:lnTo>
                      <a:pt x="557" y="57"/>
                    </a:lnTo>
                    <a:lnTo>
                      <a:pt x="561" y="53"/>
                    </a:lnTo>
                    <a:lnTo>
                      <a:pt x="569" y="49"/>
                    </a:lnTo>
                    <a:lnTo>
                      <a:pt x="574" y="47"/>
                    </a:lnTo>
                    <a:lnTo>
                      <a:pt x="580" y="44"/>
                    </a:lnTo>
                    <a:lnTo>
                      <a:pt x="586" y="40"/>
                    </a:lnTo>
                    <a:lnTo>
                      <a:pt x="593" y="38"/>
                    </a:lnTo>
                    <a:lnTo>
                      <a:pt x="599" y="36"/>
                    </a:lnTo>
                    <a:lnTo>
                      <a:pt x="605" y="34"/>
                    </a:lnTo>
                    <a:lnTo>
                      <a:pt x="601" y="40"/>
                    </a:lnTo>
                    <a:lnTo>
                      <a:pt x="595" y="47"/>
                    </a:lnTo>
                    <a:lnTo>
                      <a:pt x="589" y="55"/>
                    </a:lnTo>
                    <a:lnTo>
                      <a:pt x="584" y="63"/>
                    </a:lnTo>
                    <a:lnTo>
                      <a:pt x="576" y="68"/>
                    </a:lnTo>
                    <a:lnTo>
                      <a:pt x="569" y="74"/>
                    </a:lnTo>
                    <a:lnTo>
                      <a:pt x="561" y="82"/>
                    </a:lnTo>
                    <a:lnTo>
                      <a:pt x="551" y="89"/>
                    </a:lnTo>
                    <a:lnTo>
                      <a:pt x="542" y="93"/>
                    </a:lnTo>
                    <a:lnTo>
                      <a:pt x="532" y="101"/>
                    </a:lnTo>
                    <a:lnTo>
                      <a:pt x="523" y="106"/>
                    </a:lnTo>
                    <a:lnTo>
                      <a:pt x="515" y="110"/>
                    </a:lnTo>
                    <a:lnTo>
                      <a:pt x="506" y="116"/>
                    </a:lnTo>
                    <a:lnTo>
                      <a:pt x="496" y="120"/>
                    </a:lnTo>
                    <a:lnTo>
                      <a:pt x="489" y="125"/>
                    </a:lnTo>
                    <a:lnTo>
                      <a:pt x="481" y="129"/>
                    </a:lnTo>
                    <a:lnTo>
                      <a:pt x="491" y="127"/>
                    </a:lnTo>
                    <a:lnTo>
                      <a:pt x="498" y="127"/>
                    </a:lnTo>
                    <a:lnTo>
                      <a:pt x="506" y="125"/>
                    </a:lnTo>
                    <a:lnTo>
                      <a:pt x="515" y="123"/>
                    </a:lnTo>
                    <a:lnTo>
                      <a:pt x="525" y="120"/>
                    </a:lnTo>
                    <a:lnTo>
                      <a:pt x="532" y="118"/>
                    </a:lnTo>
                    <a:lnTo>
                      <a:pt x="542" y="114"/>
                    </a:lnTo>
                    <a:lnTo>
                      <a:pt x="551" y="110"/>
                    </a:lnTo>
                    <a:lnTo>
                      <a:pt x="561" y="106"/>
                    </a:lnTo>
                    <a:lnTo>
                      <a:pt x="570" y="101"/>
                    </a:lnTo>
                    <a:lnTo>
                      <a:pt x="580" y="97"/>
                    </a:lnTo>
                    <a:lnTo>
                      <a:pt x="589" y="93"/>
                    </a:lnTo>
                    <a:lnTo>
                      <a:pt x="599" y="87"/>
                    </a:lnTo>
                    <a:lnTo>
                      <a:pt x="608" y="82"/>
                    </a:lnTo>
                    <a:lnTo>
                      <a:pt x="618" y="76"/>
                    </a:lnTo>
                    <a:lnTo>
                      <a:pt x="628" y="72"/>
                    </a:lnTo>
                    <a:lnTo>
                      <a:pt x="637" y="65"/>
                    </a:lnTo>
                    <a:lnTo>
                      <a:pt x="647" y="61"/>
                    </a:lnTo>
                    <a:lnTo>
                      <a:pt x="656" y="53"/>
                    </a:lnTo>
                    <a:lnTo>
                      <a:pt x="666" y="47"/>
                    </a:lnTo>
                    <a:lnTo>
                      <a:pt x="675" y="42"/>
                    </a:lnTo>
                    <a:lnTo>
                      <a:pt x="685" y="38"/>
                    </a:lnTo>
                    <a:lnTo>
                      <a:pt x="694" y="32"/>
                    </a:lnTo>
                    <a:lnTo>
                      <a:pt x="704" y="28"/>
                    </a:lnTo>
                    <a:lnTo>
                      <a:pt x="713" y="23"/>
                    </a:lnTo>
                    <a:lnTo>
                      <a:pt x="723" y="19"/>
                    </a:lnTo>
                    <a:lnTo>
                      <a:pt x="732" y="13"/>
                    </a:lnTo>
                    <a:lnTo>
                      <a:pt x="743" y="9"/>
                    </a:lnTo>
                    <a:lnTo>
                      <a:pt x="753" y="8"/>
                    </a:lnTo>
                    <a:lnTo>
                      <a:pt x="762" y="4"/>
                    </a:lnTo>
                    <a:lnTo>
                      <a:pt x="772" y="0"/>
                    </a:lnTo>
                    <a:lnTo>
                      <a:pt x="783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035000" y="4346640"/>
                <a:ext cx="130320" cy="5868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163" y="0"/>
                    </a:moveTo>
                    <a:lnTo>
                      <a:pt x="163" y="3"/>
                    </a:lnTo>
                    <a:lnTo>
                      <a:pt x="163" y="11"/>
                    </a:lnTo>
                    <a:lnTo>
                      <a:pt x="161" y="17"/>
                    </a:lnTo>
                    <a:lnTo>
                      <a:pt x="158" y="22"/>
                    </a:lnTo>
                    <a:lnTo>
                      <a:pt x="152" y="28"/>
                    </a:lnTo>
                    <a:lnTo>
                      <a:pt x="146" y="36"/>
                    </a:lnTo>
                    <a:lnTo>
                      <a:pt x="139" y="40"/>
                    </a:lnTo>
                    <a:lnTo>
                      <a:pt x="131" y="45"/>
                    </a:lnTo>
                    <a:lnTo>
                      <a:pt x="119" y="49"/>
                    </a:lnTo>
                    <a:lnTo>
                      <a:pt x="110" y="55"/>
                    </a:lnTo>
                    <a:lnTo>
                      <a:pt x="100" y="57"/>
                    </a:lnTo>
                    <a:lnTo>
                      <a:pt x="89" y="62"/>
                    </a:lnTo>
                    <a:lnTo>
                      <a:pt x="78" y="64"/>
                    </a:lnTo>
                    <a:lnTo>
                      <a:pt x="68" y="66"/>
                    </a:lnTo>
                    <a:lnTo>
                      <a:pt x="59" y="68"/>
                    </a:lnTo>
                    <a:lnTo>
                      <a:pt x="49" y="72"/>
                    </a:lnTo>
                    <a:lnTo>
                      <a:pt x="38" y="72"/>
                    </a:lnTo>
                    <a:lnTo>
                      <a:pt x="28" y="74"/>
                    </a:lnTo>
                    <a:lnTo>
                      <a:pt x="21" y="74"/>
                    </a:lnTo>
                    <a:lnTo>
                      <a:pt x="15" y="74"/>
                    </a:lnTo>
                    <a:lnTo>
                      <a:pt x="7" y="74"/>
                    </a:lnTo>
                    <a:lnTo>
                      <a:pt x="4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4" y="62"/>
                    </a:lnTo>
                    <a:lnTo>
                      <a:pt x="7" y="59"/>
                    </a:lnTo>
                    <a:lnTo>
                      <a:pt x="17" y="55"/>
                    </a:lnTo>
                    <a:lnTo>
                      <a:pt x="19" y="51"/>
                    </a:lnTo>
                    <a:lnTo>
                      <a:pt x="26" y="47"/>
                    </a:lnTo>
                    <a:lnTo>
                      <a:pt x="32" y="45"/>
                    </a:lnTo>
                    <a:lnTo>
                      <a:pt x="40" y="41"/>
                    </a:lnTo>
                    <a:lnTo>
                      <a:pt x="45" y="40"/>
                    </a:lnTo>
                    <a:lnTo>
                      <a:pt x="55" y="36"/>
                    </a:lnTo>
                    <a:lnTo>
                      <a:pt x="62" y="32"/>
                    </a:lnTo>
                    <a:lnTo>
                      <a:pt x="74" y="30"/>
                    </a:lnTo>
                    <a:lnTo>
                      <a:pt x="80" y="28"/>
                    </a:lnTo>
                    <a:lnTo>
                      <a:pt x="85" y="26"/>
                    </a:lnTo>
                    <a:lnTo>
                      <a:pt x="91" y="24"/>
                    </a:lnTo>
                    <a:lnTo>
                      <a:pt x="97" y="22"/>
                    </a:lnTo>
                    <a:lnTo>
                      <a:pt x="102" y="21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7"/>
                    </a:lnTo>
                    <a:lnTo>
                      <a:pt x="131" y="13"/>
                    </a:lnTo>
                    <a:lnTo>
                      <a:pt x="142" y="9"/>
                    </a:lnTo>
                    <a:lnTo>
                      <a:pt x="152" y="3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2529000" y="4353120"/>
                <a:ext cx="56880" cy="25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32" y="2"/>
                    </a:moveTo>
                    <a:lnTo>
                      <a:pt x="38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1" y="2"/>
                    </a:lnTo>
                    <a:lnTo>
                      <a:pt x="66" y="2"/>
                    </a:lnTo>
                    <a:lnTo>
                      <a:pt x="72" y="6"/>
                    </a:lnTo>
                    <a:lnTo>
                      <a:pt x="72" y="14"/>
                    </a:lnTo>
                    <a:lnTo>
                      <a:pt x="72" y="23"/>
                    </a:lnTo>
                    <a:lnTo>
                      <a:pt x="61" y="21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6" y="25"/>
                    </a:lnTo>
                    <a:lnTo>
                      <a:pt x="26" y="29"/>
                    </a:lnTo>
                    <a:lnTo>
                      <a:pt x="1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4" y="23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2064600" y="4354560"/>
                <a:ext cx="144360" cy="15732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0" y="0"/>
                    </a:moveTo>
                    <a:lnTo>
                      <a:pt x="8" y="4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4" y="21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lnTo>
                      <a:pt x="63" y="42"/>
                    </a:lnTo>
                    <a:lnTo>
                      <a:pt x="71" y="48"/>
                    </a:lnTo>
                    <a:lnTo>
                      <a:pt x="76" y="53"/>
                    </a:lnTo>
                    <a:lnTo>
                      <a:pt x="84" y="59"/>
                    </a:lnTo>
                    <a:lnTo>
                      <a:pt x="91" y="65"/>
                    </a:lnTo>
                    <a:lnTo>
                      <a:pt x="97" y="72"/>
                    </a:lnTo>
                    <a:lnTo>
                      <a:pt x="103" y="78"/>
                    </a:lnTo>
                    <a:lnTo>
                      <a:pt x="111" y="86"/>
                    </a:lnTo>
                    <a:lnTo>
                      <a:pt x="116" y="91"/>
                    </a:lnTo>
                    <a:lnTo>
                      <a:pt x="122" y="99"/>
                    </a:lnTo>
                    <a:lnTo>
                      <a:pt x="128" y="105"/>
                    </a:lnTo>
                    <a:lnTo>
                      <a:pt x="133" y="112"/>
                    </a:lnTo>
                    <a:lnTo>
                      <a:pt x="139" y="118"/>
                    </a:lnTo>
                    <a:lnTo>
                      <a:pt x="145" y="126"/>
                    </a:lnTo>
                    <a:lnTo>
                      <a:pt x="149" y="133"/>
                    </a:lnTo>
                    <a:lnTo>
                      <a:pt x="154" y="141"/>
                    </a:lnTo>
                    <a:lnTo>
                      <a:pt x="158" y="147"/>
                    </a:lnTo>
                    <a:lnTo>
                      <a:pt x="162" y="154"/>
                    </a:lnTo>
                    <a:lnTo>
                      <a:pt x="166" y="162"/>
                    </a:lnTo>
                    <a:lnTo>
                      <a:pt x="169" y="169"/>
                    </a:lnTo>
                    <a:lnTo>
                      <a:pt x="173" y="177"/>
                    </a:lnTo>
                    <a:lnTo>
                      <a:pt x="175" y="185"/>
                    </a:lnTo>
                    <a:lnTo>
                      <a:pt x="179" y="192"/>
                    </a:lnTo>
                    <a:lnTo>
                      <a:pt x="183" y="200"/>
                    </a:lnTo>
                    <a:lnTo>
                      <a:pt x="177" y="194"/>
                    </a:lnTo>
                    <a:lnTo>
                      <a:pt x="171" y="186"/>
                    </a:lnTo>
                    <a:lnTo>
                      <a:pt x="166" y="181"/>
                    </a:lnTo>
                    <a:lnTo>
                      <a:pt x="160" y="175"/>
                    </a:lnTo>
                    <a:lnTo>
                      <a:pt x="154" y="167"/>
                    </a:lnTo>
                    <a:lnTo>
                      <a:pt x="149" y="162"/>
                    </a:lnTo>
                    <a:lnTo>
                      <a:pt x="143" y="156"/>
                    </a:lnTo>
                    <a:lnTo>
                      <a:pt x="137" y="150"/>
                    </a:lnTo>
                    <a:lnTo>
                      <a:pt x="131" y="143"/>
                    </a:lnTo>
                    <a:lnTo>
                      <a:pt x="124" y="137"/>
                    </a:lnTo>
                    <a:lnTo>
                      <a:pt x="118" y="131"/>
                    </a:lnTo>
                    <a:lnTo>
                      <a:pt x="112" y="124"/>
                    </a:lnTo>
                    <a:lnTo>
                      <a:pt x="105" y="118"/>
                    </a:lnTo>
                    <a:lnTo>
                      <a:pt x="99" y="112"/>
                    </a:lnTo>
                    <a:lnTo>
                      <a:pt x="93" y="105"/>
                    </a:lnTo>
                    <a:lnTo>
                      <a:pt x="88" y="101"/>
                    </a:lnTo>
                    <a:lnTo>
                      <a:pt x="82" y="93"/>
                    </a:lnTo>
                    <a:lnTo>
                      <a:pt x="74" y="88"/>
                    </a:lnTo>
                    <a:lnTo>
                      <a:pt x="69" y="82"/>
                    </a:lnTo>
                    <a:lnTo>
                      <a:pt x="63" y="74"/>
                    </a:lnTo>
                    <a:lnTo>
                      <a:pt x="55" y="69"/>
                    </a:lnTo>
                    <a:lnTo>
                      <a:pt x="50" y="63"/>
                    </a:lnTo>
                    <a:lnTo>
                      <a:pt x="44" y="55"/>
                    </a:lnTo>
                    <a:lnTo>
                      <a:pt x="38" y="50"/>
                    </a:lnTo>
                    <a:lnTo>
                      <a:pt x="33" y="42"/>
                    </a:lnTo>
                    <a:lnTo>
                      <a:pt x="27" y="36"/>
                    </a:lnTo>
                    <a:lnTo>
                      <a:pt x="21" y="31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2177280" y="4371840"/>
                <a:ext cx="166680" cy="144720"/>
              </a:xfrm>
              <a:custGeom>
                <a:avLst/>
                <a:gdLst/>
                <a:ahLst/>
                <a:rect l="l" t="t" r="r" b="b"/>
                <a:pathLst>
                  <a:path w="209" h="182">
                    <a:moveTo>
                      <a:pt x="0" y="0"/>
                    </a:moveTo>
                    <a:lnTo>
                      <a:pt x="10" y="6"/>
                    </a:lnTo>
                    <a:lnTo>
                      <a:pt x="21" y="9"/>
                    </a:lnTo>
                    <a:lnTo>
                      <a:pt x="27" y="13"/>
                    </a:lnTo>
                    <a:lnTo>
                      <a:pt x="32" y="15"/>
                    </a:lnTo>
                    <a:lnTo>
                      <a:pt x="40" y="19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7" y="28"/>
                    </a:lnTo>
                    <a:lnTo>
                      <a:pt x="63" y="32"/>
                    </a:lnTo>
                    <a:lnTo>
                      <a:pt x="68" y="34"/>
                    </a:lnTo>
                    <a:lnTo>
                      <a:pt x="74" y="38"/>
                    </a:lnTo>
                    <a:lnTo>
                      <a:pt x="80" y="42"/>
                    </a:lnTo>
                    <a:lnTo>
                      <a:pt x="87" y="44"/>
                    </a:lnTo>
                    <a:lnTo>
                      <a:pt x="93" y="49"/>
                    </a:lnTo>
                    <a:lnTo>
                      <a:pt x="105" y="55"/>
                    </a:lnTo>
                    <a:lnTo>
                      <a:pt x="116" y="63"/>
                    </a:lnTo>
                    <a:lnTo>
                      <a:pt x="126" y="72"/>
                    </a:lnTo>
                    <a:lnTo>
                      <a:pt x="135" y="82"/>
                    </a:lnTo>
                    <a:lnTo>
                      <a:pt x="141" y="87"/>
                    </a:lnTo>
                    <a:lnTo>
                      <a:pt x="145" y="91"/>
                    </a:lnTo>
                    <a:lnTo>
                      <a:pt x="148" y="97"/>
                    </a:lnTo>
                    <a:lnTo>
                      <a:pt x="152" y="104"/>
                    </a:lnTo>
                    <a:lnTo>
                      <a:pt x="154" y="108"/>
                    </a:lnTo>
                    <a:lnTo>
                      <a:pt x="158" y="116"/>
                    </a:lnTo>
                    <a:lnTo>
                      <a:pt x="162" y="122"/>
                    </a:lnTo>
                    <a:lnTo>
                      <a:pt x="165" y="129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9" y="127"/>
                    </a:lnTo>
                    <a:lnTo>
                      <a:pt x="184" y="131"/>
                    </a:lnTo>
                    <a:lnTo>
                      <a:pt x="188" y="135"/>
                    </a:lnTo>
                    <a:lnTo>
                      <a:pt x="194" y="144"/>
                    </a:lnTo>
                    <a:lnTo>
                      <a:pt x="198" y="152"/>
                    </a:lnTo>
                    <a:lnTo>
                      <a:pt x="200" y="162"/>
                    </a:lnTo>
                    <a:lnTo>
                      <a:pt x="203" y="171"/>
                    </a:lnTo>
                    <a:lnTo>
                      <a:pt x="209" y="179"/>
                    </a:lnTo>
                    <a:lnTo>
                      <a:pt x="205" y="182"/>
                    </a:lnTo>
                    <a:lnTo>
                      <a:pt x="198" y="175"/>
                    </a:lnTo>
                    <a:lnTo>
                      <a:pt x="192" y="169"/>
                    </a:lnTo>
                    <a:lnTo>
                      <a:pt x="186" y="162"/>
                    </a:lnTo>
                    <a:lnTo>
                      <a:pt x="179" y="154"/>
                    </a:lnTo>
                    <a:lnTo>
                      <a:pt x="171" y="148"/>
                    </a:lnTo>
                    <a:lnTo>
                      <a:pt x="165" y="143"/>
                    </a:lnTo>
                    <a:lnTo>
                      <a:pt x="158" y="135"/>
                    </a:lnTo>
                    <a:lnTo>
                      <a:pt x="152" y="129"/>
                    </a:lnTo>
                    <a:lnTo>
                      <a:pt x="143" y="124"/>
                    </a:lnTo>
                    <a:lnTo>
                      <a:pt x="135" y="116"/>
                    </a:lnTo>
                    <a:lnTo>
                      <a:pt x="129" y="110"/>
                    </a:lnTo>
                    <a:lnTo>
                      <a:pt x="122" y="104"/>
                    </a:lnTo>
                    <a:lnTo>
                      <a:pt x="112" y="97"/>
                    </a:lnTo>
                    <a:lnTo>
                      <a:pt x="107" y="91"/>
                    </a:lnTo>
                    <a:lnTo>
                      <a:pt x="97" y="87"/>
                    </a:lnTo>
                    <a:lnTo>
                      <a:pt x="91" y="82"/>
                    </a:lnTo>
                    <a:lnTo>
                      <a:pt x="84" y="76"/>
                    </a:lnTo>
                    <a:lnTo>
                      <a:pt x="76" y="70"/>
                    </a:lnTo>
                    <a:lnTo>
                      <a:pt x="68" y="65"/>
                    </a:lnTo>
                    <a:lnTo>
                      <a:pt x="61" y="59"/>
                    </a:lnTo>
                    <a:lnTo>
                      <a:pt x="55" y="53"/>
                    </a:lnTo>
                    <a:lnTo>
                      <a:pt x="48" y="47"/>
                    </a:lnTo>
                    <a:lnTo>
                      <a:pt x="40" y="42"/>
                    </a:lnTo>
                    <a:lnTo>
                      <a:pt x="36" y="38"/>
                    </a:lnTo>
                    <a:lnTo>
                      <a:pt x="29" y="32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3" y="1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2127240" y="4371840"/>
                <a:ext cx="130320" cy="136800"/>
              </a:xfrm>
              <a:custGeom>
                <a:avLst/>
                <a:gdLst/>
                <a:ahLst/>
                <a:rect l="l" t="t" r="r" b="b"/>
                <a:pathLst>
                  <a:path w="164" h="171">
                    <a:moveTo>
                      <a:pt x="0" y="0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5" y="15"/>
                    </a:lnTo>
                    <a:lnTo>
                      <a:pt x="40" y="19"/>
                    </a:lnTo>
                    <a:lnTo>
                      <a:pt x="48" y="23"/>
                    </a:lnTo>
                    <a:lnTo>
                      <a:pt x="54" y="28"/>
                    </a:lnTo>
                    <a:lnTo>
                      <a:pt x="65" y="38"/>
                    </a:lnTo>
                    <a:lnTo>
                      <a:pt x="76" y="49"/>
                    </a:lnTo>
                    <a:lnTo>
                      <a:pt x="80" y="53"/>
                    </a:lnTo>
                    <a:lnTo>
                      <a:pt x="86" y="61"/>
                    </a:lnTo>
                    <a:lnTo>
                      <a:pt x="90" y="66"/>
                    </a:lnTo>
                    <a:lnTo>
                      <a:pt x="95" y="72"/>
                    </a:lnTo>
                    <a:lnTo>
                      <a:pt x="99" y="78"/>
                    </a:lnTo>
                    <a:lnTo>
                      <a:pt x="105" y="85"/>
                    </a:lnTo>
                    <a:lnTo>
                      <a:pt x="109" y="91"/>
                    </a:lnTo>
                    <a:lnTo>
                      <a:pt x="114" y="97"/>
                    </a:lnTo>
                    <a:lnTo>
                      <a:pt x="116" y="104"/>
                    </a:lnTo>
                    <a:lnTo>
                      <a:pt x="122" y="110"/>
                    </a:lnTo>
                    <a:lnTo>
                      <a:pt x="126" y="116"/>
                    </a:lnTo>
                    <a:lnTo>
                      <a:pt x="131" y="124"/>
                    </a:lnTo>
                    <a:lnTo>
                      <a:pt x="133" y="127"/>
                    </a:lnTo>
                    <a:lnTo>
                      <a:pt x="139" y="135"/>
                    </a:lnTo>
                    <a:lnTo>
                      <a:pt x="143" y="141"/>
                    </a:lnTo>
                    <a:lnTo>
                      <a:pt x="149" y="146"/>
                    </a:lnTo>
                    <a:lnTo>
                      <a:pt x="150" y="152"/>
                    </a:lnTo>
                    <a:lnTo>
                      <a:pt x="154" y="160"/>
                    </a:lnTo>
                    <a:lnTo>
                      <a:pt x="160" y="165"/>
                    </a:lnTo>
                    <a:lnTo>
                      <a:pt x="164" y="171"/>
                    </a:lnTo>
                    <a:lnTo>
                      <a:pt x="158" y="167"/>
                    </a:lnTo>
                    <a:lnTo>
                      <a:pt x="152" y="163"/>
                    </a:lnTo>
                    <a:lnTo>
                      <a:pt x="145" y="162"/>
                    </a:lnTo>
                    <a:lnTo>
                      <a:pt x="141" y="158"/>
                    </a:lnTo>
                    <a:lnTo>
                      <a:pt x="133" y="154"/>
                    </a:lnTo>
                    <a:lnTo>
                      <a:pt x="130" y="150"/>
                    </a:lnTo>
                    <a:lnTo>
                      <a:pt x="122" y="144"/>
                    </a:lnTo>
                    <a:lnTo>
                      <a:pt x="116" y="141"/>
                    </a:lnTo>
                    <a:lnTo>
                      <a:pt x="105" y="131"/>
                    </a:lnTo>
                    <a:lnTo>
                      <a:pt x="95" y="120"/>
                    </a:lnTo>
                    <a:lnTo>
                      <a:pt x="88" y="114"/>
                    </a:lnTo>
                    <a:lnTo>
                      <a:pt x="84" y="108"/>
                    </a:lnTo>
                    <a:lnTo>
                      <a:pt x="78" y="101"/>
                    </a:lnTo>
                    <a:lnTo>
                      <a:pt x="74" y="97"/>
                    </a:lnTo>
                    <a:lnTo>
                      <a:pt x="67" y="89"/>
                    </a:lnTo>
                    <a:lnTo>
                      <a:pt x="61" y="84"/>
                    </a:lnTo>
                    <a:lnTo>
                      <a:pt x="57" y="78"/>
                    </a:lnTo>
                    <a:lnTo>
                      <a:pt x="52" y="70"/>
                    </a:lnTo>
                    <a:lnTo>
                      <a:pt x="46" y="65"/>
                    </a:lnTo>
                    <a:lnTo>
                      <a:pt x="42" y="59"/>
                    </a:lnTo>
                    <a:lnTo>
                      <a:pt x="36" y="51"/>
                    </a:lnTo>
                    <a:lnTo>
                      <a:pt x="33" y="46"/>
                    </a:lnTo>
                    <a:lnTo>
                      <a:pt x="29" y="40"/>
                    </a:lnTo>
                    <a:lnTo>
                      <a:pt x="23" y="34"/>
                    </a:lnTo>
                    <a:lnTo>
                      <a:pt x="19" y="27"/>
                    </a:lnTo>
                    <a:lnTo>
                      <a:pt x="16" y="23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893880" y="4370400"/>
                <a:ext cx="444240" cy="168480"/>
              </a:xfrm>
              <a:custGeom>
                <a:avLst/>
                <a:gdLst/>
                <a:ahLst/>
                <a:rect l="l" t="t" r="r" b="b"/>
                <a:pathLst>
                  <a:path w="559" h="213">
                    <a:moveTo>
                      <a:pt x="542" y="2"/>
                    </a:moveTo>
                    <a:lnTo>
                      <a:pt x="548" y="0"/>
                    </a:lnTo>
                    <a:lnTo>
                      <a:pt x="553" y="0"/>
                    </a:lnTo>
                    <a:lnTo>
                      <a:pt x="557" y="0"/>
                    </a:lnTo>
                    <a:lnTo>
                      <a:pt x="559" y="6"/>
                    </a:lnTo>
                    <a:lnTo>
                      <a:pt x="557" y="11"/>
                    </a:lnTo>
                    <a:lnTo>
                      <a:pt x="557" y="25"/>
                    </a:lnTo>
                    <a:lnTo>
                      <a:pt x="548" y="25"/>
                    </a:lnTo>
                    <a:lnTo>
                      <a:pt x="538" y="25"/>
                    </a:lnTo>
                    <a:lnTo>
                      <a:pt x="529" y="27"/>
                    </a:lnTo>
                    <a:lnTo>
                      <a:pt x="519" y="27"/>
                    </a:lnTo>
                    <a:lnTo>
                      <a:pt x="510" y="29"/>
                    </a:lnTo>
                    <a:lnTo>
                      <a:pt x="500" y="30"/>
                    </a:lnTo>
                    <a:lnTo>
                      <a:pt x="491" y="32"/>
                    </a:lnTo>
                    <a:lnTo>
                      <a:pt x="483" y="34"/>
                    </a:lnTo>
                    <a:lnTo>
                      <a:pt x="473" y="34"/>
                    </a:lnTo>
                    <a:lnTo>
                      <a:pt x="464" y="36"/>
                    </a:lnTo>
                    <a:lnTo>
                      <a:pt x="454" y="38"/>
                    </a:lnTo>
                    <a:lnTo>
                      <a:pt x="447" y="40"/>
                    </a:lnTo>
                    <a:lnTo>
                      <a:pt x="437" y="42"/>
                    </a:lnTo>
                    <a:lnTo>
                      <a:pt x="428" y="44"/>
                    </a:lnTo>
                    <a:lnTo>
                      <a:pt x="420" y="46"/>
                    </a:lnTo>
                    <a:lnTo>
                      <a:pt x="411" y="49"/>
                    </a:lnTo>
                    <a:lnTo>
                      <a:pt x="401" y="51"/>
                    </a:lnTo>
                    <a:lnTo>
                      <a:pt x="392" y="53"/>
                    </a:lnTo>
                    <a:lnTo>
                      <a:pt x="384" y="55"/>
                    </a:lnTo>
                    <a:lnTo>
                      <a:pt x="375" y="59"/>
                    </a:lnTo>
                    <a:lnTo>
                      <a:pt x="365" y="61"/>
                    </a:lnTo>
                    <a:lnTo>
                      <a:pt x="358" y="65"/>
                    </a:lnTo>
                    <a:lnTo>
                      <a:pt x="348" y="68"/>
                    </a:lnTo>
                    <a:lnTo>
                      <a:pt x="340" y="70"/>
                    </a:lnTo>
                    <a:lnTo>
                      <a:pt x="331" y="74"/>
                    </a:lnTo>
                    <a:lnTo>
                      <a:pt x="321" y="78"/>
                    </a:lnTo>
                    <a:lnTo>
                      <a:pt x="314" y="80"/>
                    </a:lnTo>
                    <a:lnTo>
                      <a:pt x="306" y="84"/>
                    </a:lnTo>
                    <a:lnTo>
                      <a:pt x="297" y="87"/>
                    </a:lnTo>
                    <a:lnTo>
                      <a:pt x="289" y="89"/>
                    </a:lnTo>
                    <a:lnTo>
                      <a:pt x="280" y="93"/>
                    </a:lnTo>
                    <a:lnTo>
                      <a:pt x="272" y="97"/>
                    </a:lnTo>
                    <a:lnTo>
                      <a:pt x="262" y="101"/>
                    </a:lnTo>
                    <a:lnTo>
                      <a:pt x="255" y="103"/>
                    </a:lnTo>
                    <a:lnTo>
                      <a:pt x="245" y="106"/>
                    </a:lnTo>
                    <a:lnTo>
                      <a:pt x="238" y="110"/>
                    </a:lnTo>
                    <a:lnTo>
                      <a:pt x="228" y="112"/>
                    </a:lnTo>
                    <a:lnTo>
                      <a:pt x="221" y="116"/>
                    </a:lnTo>
                    <a:lnTo>
                      <a:pt x="211" y="120"/>
                    </a:lnTo>
                    <a:lnTo>
                      <a:pt x="204" y="124"/>
                    </a:lnTo>
                    <a:lnTo>
                      <a:pt x="194" y="127"/>
                    </a:lnTo>
                    <a:lnTo>
                      <a:pt x="186" y="129"/>
                    </a:lnTo>
                    <a:lnTo>
                      <a:pt x="177" y="135"/>
                    </a:lnTo>
                    <a:lnTo>
                      <a:pt x="169" y="139"/>
                    </a:lnTo>
                    <a:lnTo>
                      <a:pt x="160" y="143"/>
                    </a:lnTo>
                    <a:lnTo>
                      <a:pt x="152" y="145"/>
                    </a:lnTo>
                    <a:lnTo>
                      <a:pt x="143" y="148"/>
                    </a:lnTo>
                    <a:lnTo>
                      <a:pt x="135" y="154"/>
                    </a:lnTo>
                    <a:lnTo>
                      <a:pt x="126" y="156"/>
                    </a:lnTo>
                    <a:lnTo>
                      <a:pt x="118" y="160"/>
                    </a:lnTo>
                    <a:lnTo>
                      <a:pt x="108" y="164"/>
                    </a:lnTo>
                    <a:lnTo>
                      <a:pt x="103" y="167"/>
                    </a:lnTo>
                    <a:lnTo>
                      <a:pt x="93" y="171"/>
                    </a:lnTo>
                    <a:lnTo>
                      <a:pt x="84" y="175"/>
                    </a:lnTo>
                    <a:lnTo>
                      <a:pt x="76" y="179"/>
                    </a:lnTo>
                    <a:lnTo>
                      <a:pt x="69" y="183"/>
                    </a:lnTo>
                    <a:lnTo>
                      <a:pt x="59" y="186"/>
                    </a:lnTo>
                    <a:lnTo>
                      <a:pt x="50" y="190"/>
                    </a:lnTo>
                    <a:lnTo>
                      <a:pt x="42" y="194"/>
                    </a:lnTo>
                    <a:lnTo>
                      <a:pt x="34" y="198"/>
                    </a:lnTo>
                    <a:lnTo>
                      <a:pt x="25" y="202"/>
                    </a:lnTo>
                    <a:lnTo>
                      <a:pt x="15" y="203"/>
                    </a:lnTo>
                    <a:lnTo>
                      <a:pt x="8" y="209"/>
                    </a:lnTo>
                    <a:lnTo>
                      <a:pt x="0" y="213"/>
                    </a:lnTo>
                    <a:lnTo>
                      <a:pt x="6" y="207"/>
                    </a:lnTo>
                    <a:lnTo>
                      <a:pt x="13" y="200"/>
                    </a:lnTo>
                    <a:lnTo>
                      <a:pt x="19" y="194"/>
                    </a:lnTo>
                    <a:lnTo>
                      <a:pt x="25" y="188"/>
                    </a:lnTo>
                    <a:lnTo>
                      <a:pt x="32" y="183"/>
                    </a:lnTo>
                    <a:lnTo>
                      <a:pt x="40" y="177"/>
                    </a:lnTo>
                    <a:lnTo>
                      <a:pt x="48" y="173"/>
                    </a:lnTo>
                    <a:lnTo>
                      <a:pt x="55" y="167"/>
                    </a:lnTo>
                    <a:lnTo>
                      <a:pt x="61" y="164"/>
                    </a:lnTo>
                    <a:lnTo>
                      <a:pt x="69" y="158"/>
                    </a:lnTo>
                    <a:lnTo>
                      <a:pt x="76" y="154"/>
                    </a:lnTo>
                    <a:lnTo>
                      <a:pt x="84" y="148"/>
                    </a:lnTo>
                    <a:lnTo>
                      <a:pt x="91" y="145"/>
                    </a:lnTo>
                    <a:lnTo>
                      <a:pt x="99" y="141"/>
                    </a:lnTo>
                    <a:lnTo>
                      <a:pt x="107" y="137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31" y="126"/>
                    </a:lnTo>
                    <a:lnTo>
                      <a:pt x="139" y="120"/>
                    </a:lnTo>
                    <a:lnTo>
                      <a:pt x="148" y="118"/>
                    </a:lnTo>
                    <a:lnTo>
                      <a:pt x="156" y="112"/>
                    </a:lnTo>
                    <a:lnTo>
                      <a:pt x="164" y="110"/>
                    </a:lnTo>
                    <a:lnTo>
                      <a:pt x="173" y="106"/>
                    </a:lnTo>
                    <a:lnTo>
                      <a:pt x="183" y="103"/>
                    </a:lnTo>
                    <a:lnTo>
                      <a:pt x="190" y="101"/>
                    </a:lnTo>
                    <a:lnTo>
                      <a:pt x="200" y="97"/>
                    </a:lnTo>
                    <a:lnTo>
                      <a:pt x="207" y="93"/>
                    </a:lnTo>
                    <a:lnTo>
                      <a:pt x="217" y="91"/>
                    </a:lnTo>
                    <a:lnTo>
                      <a:pt x="226" y="87"/>
                    </a:lnTo>
                    <a:lnTo>
                      <a:pt x="234" y="86"/>
                    </a:lnTo>
                    <a:lnTo>
                      <a:pt x="243" y="82"/>
                    </a:lnTo>
                    <a:lnTo>
                      <a:pt x="253" y="80"/>
                    </a:lnTo>
                    <a:lnTo>
                      <a:pt x="262" y="78"/>
                    </a:lnTo>
                    <a:lnTo>
                      <a:pt x="270" y="74"/>
                    </a:lnTo>
                    <a:lnTo>
                      <a:pt x="280" y="70"/>
                    </a:lnTo>
                    <a:lnTo>
                      <a:pt x="289" y="68"/>
                    </a:lnTo>
                    <a:lnTo>
                      <a:pt x="297" y="65"/>
                    </a:lnTo>
                    <a:lnTo>
                      <a:pt x="306" y="63"/>
                    </a:lnTo>
                    <a:lnTo>
                      <a:pt x="316" y="61"/>
                    </a:lnTo>
                    <a:lnTo>
                      <a:pt x="325" y="59"/>
                    </a:lnTo>
                    <a:lnTo>
                      <a:pt x="335" y="55"/>
                    </a:lnTo>
                    <a:lnTo>
                      <a:pt x="344" y="53"/>
                    </a:lnTo>
                    <a:lnTo>
                      <a:pt x="354" y="51"/>
                    </a:lnTo>
                    <a:lnTo>
                      <a:pt x="363" y="49"/>
                    </a:lnTo>
                    <a:lnTo>
                      <a:pt x="371" y="46"/>
                    </a:lnTo>
                    <a:lnTo>
                      <a:pt x="380" y="44"/>
                    </a:lnTo>
                    <a:lnTo>
                      <a:pt x="390" y="42"/>
                    </a:lnTo>
                    <a:lnTo>
                      <a:pt x="399" y="40"/>
                    </a:lnTo>
                    <a:lnTo>
                      <a:pt x="409" y="36"/>
                    </a:lnTo>
                    <a:lnTo>
                      <a:pt x="416" y="34"/>
                    </a:lnTo>
                    <a:lnTo>
                      <a:pt x="426" y="32"/>
                    </a:lnTo>
                    <a:lnTo>
                      <a:pt x="435" y="30"/>
                    </a:lnTo>
                    <a:lnTo>
                      <a:pt x="445" y="27"/>
                    </a:lnTo>
                    <a:lnTo>
                      <a:pt x="453" y="27"/>
                    </a:lnTo>
                    <a:lnTo>
                      <a:pt x="462" y="23"/>
                    </a:lnTo>
                    <a:lnTo>
                      <a:pt x="472" y="21"/>
                    </a:lnTo>
                    <a:lnTo>
                      <a:pt x="481" y="19"/>
                    </a:lnTo>
                    <a:lnTo>
                      <a:pt x="489" y="17"/>
                    </a:lnTo>
                    <a:lnTo>
                      <a:pt x="496" y="15"/>
                    </a:lnTo>
                    <a:lnTo>
                      <a:pt x="506" y="11"/>
                    </a:lnTo>
                    <a:lnTo>
                      <a:pt x="515" y="10"/>
                    </a:lnTo>
                    <a:lnTo>
                      <a:pt x="523" y="8"/>
                    </a:lnTo>
                    <a:lnTo>
                      <a:pt x="532" y="6"/>
                    </a:lnTo>
                    <a:lnTo>
                      <a:pt x="542" y="2"/>
                    </a:lnTo>
                    <a:lnTo>
                      <a:pt x="5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385200" y="4371840"/>
                <a:ext cx="29880" cy="144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9" y="0"/>
                    </a:moveTo>
                    <a:lnTo>
                      <a:pt x="15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0" y="13"/>
                    </a:lnTo>
                    <a:lnTo>
                      <a:pt x="24" y="17"/>
                    </a:lnTo>
                    <a:lnTo>
                      <a:pt x="15" y="19"/>
                    </a:lnTo>
                    <a:lnTo>
                      <a:pt x="9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523800" y="4398840"/>
                <a:ext cx="495360" cy="140040"/>
              </a:xfrm>
              <a:custGeom>
                <a:avLst/>
                <a:gdLst/>
                <a:ahLst/>
                <a:rect l="l" t="t" r="r" b="b"/>
                <a:pathLst>
                  <a:path w="626" h="177">
                    <a:moveTo>
                      <a:pt x="536" y="0"/>
                    </a:moveTo>
                    <a:lnTo>
                      <a:pt x="540" y="0"/>
                    </a:lnTo>
                    <a:lnTo>
                      <a:pt x="548" y="2"/>
                    </a:lnTo>
                    <a:lnTo>
                      <a:pt x="553" y="2"/>
                    </a:lnTo>
                    <a:lnTo>
                      <a:pt x="561" y="2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7" y="0"/>
                    </a:lnTo>
                    <a:lnTo>
                      <a:pt x="605" y="0"/>
                    </a:lnTo>
                    <a:lnTo>
                      <a:pt x="610" y="0"/>
                    </a:lnTo>
                    <a:lnTo>
                      <a:pt x="616" y="2"/>
                    </a:lnTo>
                    <a:lnTo>
                      <a:pt x="620" y="6"/>
                    </a:lnTo>
                    <a:lnTo>
                      <a:pt x="624" y="10"/>
                    </a:lnTo>
                    <a:lnTo>
                      <a:pt x="624" y="15"/>
                    </a:lnTo>
                    <a:lnTo>
                      <a:pt x="626" y="21"/>
                    </a:lnTo>
                    <a:lnTo>
                      <a:pt x="618" y="21"/>
                    </a:lnTo>
                    <a:lnTo>
                      <a:pt x="610" y="21"/>
                    </a:lnTo>
                    <a:lnTo>
                      <a:pt x="603" y="21"/>
                    </a:lnTo>
                    <a:lnTo>
                      <a:pt x="595" y="23"/>
                    </a:lnTo>
                    <a:lnTo>
                      <a:pt x="586" y="23"/>
                    </a:lnTo>
                    <a:lnTo>
                      <a:pt x="580" y="25"/>
                    </a:lnTo>
                    <a:lnTo>
                      <a:pt x="572" y="25"/>
                    </a:lnTo>
                    <a:lnTo>
                      <a:pt x="565" y="27"/>
                    </a:lnTo>
                    <a:lnTo>
                      <a:pt x="557" y="27"/>
                    </a:lnTo>
                    <a:lnTo>
                      <a:pt x="550" y="27"/>
                    </a:lnTo>
                    <a:lnTo>
                      <a:pt x="542" y="29"/>
                    </a:lnTo>
                    <a:lnTo>
                      <a:pt x="536" y="29"/>
                    </a:lnTo>
                    <a:lnTo>
                      <a:pt x="529" y="31"/>
                    </a:lnTo>
                    <a:lnTo>
                      <a:pt x="521" y="32"/>
                    </a:lnTo>
                    <a:lnTo>
                      <a:pt x="514" y="32"/>
                    </a:lnTo>
                    <a:lnTo>
                      <a:pt x="508" y="34"/>
                    </a:lnTo>
                    <a:lnTo>
                      <a:pt x="500" y="34"/>
                    </a:lnTo>
                    <a:lnTo>
                      <a:pt x="493" y="36"/>
                    </a:lnTo>
                    <a:lnTo>
                      <a:pt x="485" y="36"/>
                    </a:lnTo>
                    <a:lnTo>
                      <a:pt x="479" y="38"/>
                    </a:lnTo>
                    <a:lnTo>
                      <a:pt x="472" y="40"/>
                    </a:lnTo>
                    <a:lnTo>
                      <a:pt x="464" y="42"/>
                    </a:lnTo>
                    <a:lnTo>
                      <a:pt x="457" y="42"/>
                    </a:lnTo>
                    <a:lnTo>
                      <a:pt x="449" y="44"/>
                    </a:lnTo>
                    <a:lnTo>
                      <a:pt x="443" y="46"/>
                    </a:lnTo>
                    <a:lnTo>
                      <a:pt x="436" y="48"/>
                    </a:lnTo>
                    <a:lnTo>
                      <a:pt x="428" y="48"/>
                    </a:lnTo>
                    <a:lnTo>
                      <a:pt x="422" y="51"/>
                    </a:lnTo>
                    <a:lnTo>
                      <a:pt x="415" y="51"/>
                    </a:lnTo>
                    <a:lnTo>
                      <a:pt x="407" y="53"/>
                    </a:lnTo>
                    <a:lnTo>
                      <a:pt x="401" y="55"/>
                    </a:lnTo>
                    <a:lnTo>
                      <a:pt x="394" y="57"/>
                    </a:lnTo>
                    <a:lnTo>
                      <a:pt x="388" y="57"/>
                    </a:lnTo>
                    <a:lnTo>
                      <a:pt x="380" y="61"/>
                    </a:lnTo>
                    <a:lnTo>
                      <a:pt x="373" y="61"/>
                    </a:lnTo>
                    <a:lnTo>
                      <a:pt x="365" y="63"/>
                    </a:lnTo>
                    <a:lnTo>
                      <a:pt x="360" y="65"/>
                    </a:lnTo>
                    <a:lnTo>
                      <a:pt x="352" y="67"/>
                    </a:lnTo>
                    <a:lnTo>
                      <a:pt x="344" y="67"/>
                    </a:lnTo>
                    <a:lnTo>
                      <a:pt x="337" y="70"/>
                    </a:lnTo>
                    <a:lnTo>
                      <a:pt x="331" y="70"/>
                    </a:lnTo>
                    <a:lnTo>
                      <a:pt x="323" y="72"/>
                    </a:lnTo>
                    <a:lnTo>
                      <a:pt x="316" y="74"/>
                    </a:lnTo>
                    <a:lnTo>
                      <a:pt x="310" y="76"/>
                    </a:lnTo>
                    <a:lnTo>
                      <a:pt x="303" y="78"/>
                    </a:lnTo>
                    <a:lnTo>
                      <a:pt x="295" y="82"/>
                    </a:lnTo>
                    <a:lnTo>
                      <a:pt x="289" y="82"/>
                    </a:lnTo>
                    <a:lnTo>
                      <a:pt x="282" y="86"/>
                    </a:lnTo>
                    <a:lnTo>
                      <a:pt x="276" y="86"/>
                    </a:lnTo>
                    <a:lnTo>
                      <a:pt x="268" y="90"/>
                    </a:lnTo>
                    <a:lnTo>
                      <a:pt x="261" y="91"/>
                    </a:lnTo>
                    <a:lnTo>
                      <a:pt x="253" y="93"/>
                    </a:lnTo>
                    <a:lnTo>
                      <a:pt x="245" y="93"/>
                    </a:lnTo>
                    <a:lnTo>
                      <a:pt x="240" y="97"/>
                    </a:lnTo>
                    <a:lnTo>
                      <a:pt x="234" y="99"/>
                    </a:lnTo>
                    <a:lnTo>
                      <a:pt x="226" y="101"/>
                    </a:lnTo>
                    <a:lnTo>
                      <a:pt x="221" y="103"/>
                    </a:lnTo>
                    <a:lnTo>
                      <a:pt x="213" y="105"/>
                    </a:lnTo>
                    <a:lnTo>
                      <a:pt x="206" y="107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5" y="112"/>
                    </a:lnTo>
                    <a:lnTo>
                      <a:pt x="179" y="116"/>
                    </a:lnTo>
                    <a:lnTo>
                      <a:pt x="173" y="118"/>
                    </a:lnTo>
                    <a:lnTo>
                      <a:pt x="173" y="122"/>
                    </a:lnTo>
                    <a:lnTo>
                      <a:pt x="177" y="126"/>
                    </a:lnTo>
                    <a:lnTo>
                      <a:pt x="185" y="128"/>
                    </a:lnTo>
                    <a:lnTo>
                      <a:pt x="194" y="128"/>
                    </a:lnTo>
                    <a:lnTo>
                      <a:pt x="202" y="128"/>
                    </a:lnTo>
                    <a:lnTo>
                      <a:pt x="209" y="126"/>
                    </a:lnTo>
                    <a:lnTo>
                      <a:pt x="217" y="126"/>
                    </a:lnTo>
                    <a:lnTo>
                      <a:pt x="223" y="126"/>
                    </a:lnTo>
                    <a:lnTo>
                      <a:pt x="230" y="129"/>
                    </a:lnTo>
                    <a:lnTo>
                      <a:pt x="230" y="135"/>
                    </a:lnTo>
                    <a:lnTo>
                      <a:pt x="223" y="137"/>
                    </a:lnTo>
                    <a:lnTo>
                      <a:pt x="215" y="139"/>
                    </a:lnTo>
                    <a:lnTo>
                      <a:pt x="207" y="139"/>
                    </a:lnTo>
                    <a:lnTo>
                      <a:pt x="202" y="139"/>
                    </a:lnTo>
                    <a:lnTo>
                      <a:pt x="194" y="139"/>
                    </a:lnTo>
                    <a:lnTo>
                      <a:pt x="188" y="137"/>
                    </a:lnTo>
                    <a:lnTo>
                      <a:pt x="183" y="137"/>
                    </a:lnTo>
                    <a:lnTo>
                      <a:pt x="175" y="135"/>
                    </a:lnTo>
                    <a:lnTo>
                      <a:pt x="168" y="133"/>
                    </a:lnTo>
                    <a:lnTo>
                      <a:pt x="162" y="131"/>
                    </a:lnTo>
                    <a:lnTo>
                      <a:pt x="156" y="129"/>
                    </a:lnTo>
                    <a:lnTo>
                      <a:pt x="149" y="129"/>
                    </a:lnTo>
                    <a:lnTo>
                      <a:pt x="141" y="128"/>
                    </a:lnTo>
                    <a:lnTo>
                      <a:pt x="135" y="128"/>
                    </a:lnTo>
                    <a:lnTo>
                      <a:pt x="130" y="128"/>
                    </a:lnTo>
                    <a:lnTo>
                      <a:pt x="122" y="129"/>
                    </a:lnTo>
                    <a:lnTo>
                      <a:pt x="122" y="133"/>
                    </a:lnTo>
                    <a:lnTo>
                      <a:pt x="122" y="137"/>
                    </a:lnTo>
                    <a:lnTo>
                      <a:pt x="128" y="139"/>
                    </a:lnTo>
                    <a:lnTo>
                      <a:pt x="133" y="139"/>
                    </a:lnTo>
                    <a:lnTo>
                      <a:pt x="139" y="139"/>
                    </a:lnTo>
                    <a:lnTo>
                      <a:pt x="143" y="143"/>
                    </a:lnTo>
                    <a:lnTo>
                      <a:pt x="143" y="145"/>
                    </a:lnTo>
                    <a:lnTo>
                      <a:pt x="133" y="147"/>
                    </a:lnTo>
                    <a:lnTo>
                      <a:pt x="126" y="148"/>
                    </a:lnTo>
                    <a:lnTo>
                      <a:pt x="118" y="150"/>
                    </a:lnTo>
                    <a:lnTo>
                      <a:pt x="109" y="154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2"/>
                    </a:lnTo>
                    <a:lnTo>
                      <a:pt x="63" y="164"/>
                    </a:lnTo>
                    <a:lnTo>
                      <a:pt x="53" y="166"/>
                    </a:lnTo>
                    <a:lnTo>
                      <a:pt x="44" y="166"/>
                    </a:lnTo>
                    <a:lnTo>
                      <a:pt x="36" y="169"/>
                    </a:lnTo>
                    <a:lnTo>
                      <a:pt x="27" y="171"/>
                    </a:lnTo>
                    <a:lnTo>
                      <a:pt x="17" y="173"/>
                    </a:lnTo>
                    <a:lnTo>
                      <a:pt x="8" y="173"/>
                    </a:lnTo>
                    <a:lnTo>
                      <a:pt x="0" y="177"/>
                    </a:lnTo>
                    <a:lnTo>
                      <a:pt x="6" y="171"/>
                    </a:lnTo>
                    <a:lnTo>
                      <a:pt x="14" y="166"/>
                    </a:lnTo>
                    <a:lnTo>
                      <a:pt x="21" y="160"/>
                    </a:lnTo>
                    <a:lnTo>
                      <a:pt x="29" y="156"/>
                    </a:lnTo>
                    <a:lnTo>
                      <a:pt x="34" y="150"/>
                    </a:lnTo>
                    <a:lnTo>
                      <a:pt x="44" y="147"/>
                    </a:lnTo>
                    <a:lnTo>
                      <a:pt x="50" y="141"/>
                    </a:lnTo>
                    <a:lnTo>
                      <a:pt x="59" y="139"/>
                    </a:lnTo>
                    <a:lnTo>
                      <a:pt x="65" y="133"/>
                    </a:lnTo>
                    <a:lnTo>
                      <a:pt x="74" y="129"/>
                    </a:lnTo>
                    <a:lnTo>
                      <a:pt x="82" y="126"/>
                    </a:lnTo>
                    <a:lnTo>
                      <a:pt x="90" y="122"/>
                    </a:lnTo>
                    <a:lnTo>
                      <a:pt x="97" y="118"/>
                    </a:lnTo>
                    <a:lnTo>
                      <a:pt x="105" y="114"/>
                    </a:lnTo>
                    <a:lnTo>
                      <a:pt x="112" y="110"/>
                    </a:lnTo>
                    <a:lnTo>
                      <a:pt x="122" y="109"/>
                    </a:lnTo>
                    <a:lnTo>
                      <a:pt x="130" y="103"/>
                    </a:lnTo>
                    <a:lnTo>
                      <a:pt x="137" y="101"/>
                    </a:lnTo>
                    <a:lnTo>
                      <a:pt x="145" y="97"/>
                    </a:lnTo>
                    <a:lnTo>
                      <a:pt x="152" y="93"/>
                    </a:lnTo>
                    <a:lnTo>
                      <a:pt x="160" y="91"/>
                    </a:lnTo>
                    <a:lnTo>
                      <a:pt x="169" y="88"/>
                    </a:lnTo>
                    <a:lnTo>
                      <a:pt x="177" y="84"/>
                    </a:lnTo>
                    <a:lnTo>
                      <a:pt x="187" y="82"/>
                    </a:lnTo>
                    <a:lnTo>
                      <a:pt x="194" y="80"/>
                    </a:lnTo>
                    <a:lnTo>
                      <a:pt x="204" y="76"/>
                    </a:lnTo>
                    <a:lnTo>
                      <a:pt x="211" y="72"/>
                    </a:lnTo>
                    <a:lnTo>
                      <a:pt x="221" y="70"/>
                    </a:lnTo>
                    <a:lnTo>
                      <a:pt x="230" y="67"/>
                    </a:lnTo>
                    <a:lnTo>
                      <a:pt x="238" y="65"/>
                    </a:lnTo>
                    <a:lnTo>
                      <a:pt x="245" y="63"/>
                    </a:lnTo>
                    <a:lnTo>
                      <a:pt x="255" y="61"/>
                    </a:lnTo>
                    <a:lnTo>
                      <a:pt x="263" y="57"/>
                    </a:lnTo>
                    <a:lnTo>
                      <a:pt x="272" y="55"/>
                    </a:lnTo>
                    <a:lnTo>
                      <a:pt x="280" y="53"/>
                    </a:lnTo>
                    <a:lnTo>
                      <a:pt x="289" y="51"/>
                    </a:lnTo>
                    <a:lnTo>
                      <a:pt x="299" y="48"/>
                    </a:lnTo>
                    <a:lnTo>
                      <a:pt x="306" y="46"/>
                    </a:lnTo>
                    <a:lnTo>
                      <a:pt x="316" y="44"/>
                    </a:lnTo>
                    <a:lnTo>
                      <a:pt x="325" y="44"/>
                    </a:lnTo>
                    <a:lnTo>
                      <a:pt x="333" y="40"/>
                    </a:lnTo>
                    <a:lnTo>
                      <a:pt x="342" y="38"/>
                    </a:lnTo>
                    <a:lnTo>
                      <a:pt x="350" y="36"/>
                    </a:lnTo>
                    <a:lnTo>
                      <a:pt x="360" y="34"/>
                    </a:lnTo>
                    <a:lnTo>
                      <a:pt x="369" y="32"/>
                    </a:lnTo>
                    <a:lnTo>
                      <a:pt x="377" y="31"/>
                    </a:lnTo>
                    <a:lnTo>
                      <a:pt x="384" y="29"/>
                    </a:lnTo>
                    <a:lnTo>
                      <a:pt x="394" y="27"/>
                    </a:lnTo>
                    <a:lnTo>
                      <a:pt x="403" y="25"/>
                    </a:lnTo>
                    <a:lnTo>
                      <a:pt x="411" y="23"/>
                    </a:lnTo>
                    <a:lnTo>
                      <a:pt x="420" y="21"/>
                    </a:lnTo>
                    <a:lnTo>
                      <a:pt x="430" y="19"/>
                    </a:lnTo>
                    <a:lnTo>
                      <a:pt x="437" y="17"/>
                    </a:lnTo>
                    <a:lnTo>
                      <a:pt x="447" y="17"/>
                    </a:lnTo>
                    <a:lnTo>
                      <a:pt x="457" y="15"/>
                    </a:lnTo>
                    <a:lnTo>
                      <a:pt x="466" y="13"/>
                    </a:lnTo>
                    <a:lnTo>
                      <a:pt x="474" y="12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500" y="8"/>
                    </a:lnTo>
                    <a:lnTo>
                      <a:pt x="510" y="6"/>
                    </a:lnTo>
                    <a:lnTo>
                      <a:pt x="519" y="4"/>
                    </a:lnTo>
                    <a:lnTo>
                      <a:pt x="527" y="2"/>
                    </a:lnTo>
                    <a:lnTo>
                      <a:pt x="536" y="0"/>
                    </a:lnTo>
                    <a:lnTo>
                      <a:pt x="5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58200" y="43988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1" y="0"/>
                    </a:moveTo>
                    <a:lnTo>
                      <a:pt x="28" y="2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26" y="19"/>
                    </a:lnTo>
                    <a:lnTo>
                      <a:pt x="17" y="27"/>
                    </a:lnTo>
                    <a:lnTo>
                      <a:pt x="5" y="2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190520" y="4410000"/>
                <a:ext cx="284400" cy="147600"/>
              </a:xfrm>
              <a:custGeom>
                <a:avLst/>
                <a:gdLst/>
                <a:ahLst/>
                <a:rect l="l" t="t" r="r" b="b"/>
                <a:pathLst>
                  <a:path w="359" h="187">
                    <a:moveTo>
                      <a:pt x="359" y="0"/>
                    </a:moveTo>
                    <a:lnTo>
                      <a:pt x="350" y="6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325" y="27"/>
                    </a:lnTo>
                    <a:lnTo>
                      <a:pt x="316" y="33"/>
                    </a:lnTo>
                    <a:lnTo>
                      <a:pt x="306" y="38"/>
                    </a:lnTo>
                    <a:lnTo>
                      <a:pt x="297" y="42"/>
                    </a:lnTo>
                    <a:lnTo>
                      <a:pt x="285" y="48"/>
                    </a:lnTo>
                    <a:lnTo>
                      <a:pt x="280" y="50"/>
                    </a:lnTo>
                    <a:lnTo>
                      <a:pt x="274" y="52"/>
                    </a:lnTo>
                    <a:lnTo>
                      <a:pt x="268" y="54"/>
                    </a:lnTo>
                    <a:lnTo>
                      <a:pt x="262" y="57"/>
                    </a:lnTo>
                    <a:lnTo>
                      <a:pt x="257" y="57"/>
                    </a:lnTo>
                    <a:lnTo>
                      <a:pt x="249" y="61"/>
                    </a:lnTo>
                    <a:lnTo>
                      <a:pt x="243" y="61"/>
                    </a:lnTo>
                    <a:lnTo>
                      <a:pt x="238" y="65"/>
                    </a:lnTo>
                    <a:lnTo>
                      <a:pt x="232" y="67"/>
                    </a:lnTo>
                    <a:lnTo>
                      <a:pt x="224" y="69"/>
                    </a:lnTo>
                    <a:lnTo>
                      <a:pt x="219" y="71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200" y="77"/>
                    </a:lnTo>
                    <a:lnTo>
                      <a:pt x="194" y="78"/>
                    </a:lnTo>
                    <a:lnTo>
                      <a:pt x="186" y="80"/>
                    </a:lnTo>
                    <a:lnTo>
                      <a:pt x="179" y="82"/>
                    </a:lnTo>
                    <a:lnTo>
                      <a:pt x="173" y="84"/>
                    </a:lnTo>
                    <a:lnTo>
                      <a:pt x="167" y="86"/>
                    </a:lnTo>
                    <a:lnTo>
                      <a:pt x="160" y="88"/>
                    </a:lnTo>
                    <a:lnTo>
                      <a:pt x="152" y="90"/>
                    </a:lnTo>
                    <a:lnTo>
                      <a:pt x="146" y="92"/>
                    </a:lnTo>
                    <a:lnTo>
                      <a:pt x="141" y="94"/>
                    </a:lnTo>
                    <a:lnTo>
                      <a:pt x="133" y="97"/>
                    </a:lnTo>
                    <a:lnTo>
                      <a:pt x="127" y="99"/>
                    </a:lnTo>
                    <a:lnTo>
                      <a:pt x="122" y="101"/>
                    </a:lnTo>
                    <a:lnTo>
                      <a:pt x="114" y="103"/>
                    </a:lnTo>
                    <a:lnTo>
                      <a:pt x="108" y="107"/>
                    </a:lnTo>
                    <a:lnTo>
                      <a:pt x="103" y="109"/>
                    </a:lnTo>
                    <a:lnTo>
                      <a:pt x="95" y="113"/>
                    </a:lnTo>
                    <a:lnTo>
                      <a:pt x="89" y="115"/>
                    </a:lnTo>
                    <a:lnTo>
                      <a:pt x="84" y="118"/>
                    </a:lnTo>
                    <a:lnTo>
                      <a:pt x="78" y="122"/>
                    </a:lnTo>
                    <a:lnTo>
                      <a:pt x="72" y="124"/>
                    </a:lnTo>
                    <a:lnTo>
                      <a:pt x="65" y="128"/>
                    </a:lnTo>
                    <a:lnTo>
                      <a:pt x="59" y="132"/>
                    </a:lnTo>
                    <a:lnTo>
                      <a:pt x="48" y="137"/>
                    </a:lnTo>
                    <a:lnTo>
                      <a:pt x="38" y="147"/>
                    </a:lnTo>
                    <a:lnTo>
                      <a:pt x="27" y="154"/>
                    </a:lnTo>
                    <a:lnTo>
                      <a:pt x="17" y="164"/>
                    </a:lnTo>
                    <a:lnTo>
                      <a:pt x="12" y="170"/>
                    </a:lnTo>
                    <a:lnTo>
                      <a:pt x="8" y="173"/>
                    </a:lnTo>
                    <a:lnTo>
                      <a:pt x="2" y="181"/>
                    </a:lnTo>
                    <a:lnTo>
                      <a:pt x="0" y="187"/>
                    </a:lnTo>
                    <a:lnTo>
                      <a:pt x="2" y="181"/>
                    </a:lnTo>
                    <a:lnTo>
                      <a:pt x="4" y="173"/>
                    </a:lnTo>
                    <a:lnTo>
                      <a:pt x="8" y="168"/>
                    </a:lnTo>
                    <a:lnTo>
                      <a:pt x="12" y="162"/>
                    </a:lnTo>
                    <a:lnTo>
                      <a:pt x="17" y="153"/>
                    </a:lnTo>
                    <a:lnTo>
                      <a:pt x="27" y="143"/>
                    </a:lnTo>
                    <a:lnTo>
                      <a:pt x="34" y="134"/>
                    </a:lnTo>
                    <a:lnTo>
                      <a:pt x="42" y="124"/>
                    </a:lnTo>
                    <a:lnTo>
                      <a:pt x="51" y="115"/>
                    </a:lnTo>
                    <a:lnTo>
                      <a:pt x="63" y="107"/>
                    </a:lnTo>
                    <a:lnTo>
                      <a:pt x="72" y="99"/>
                    </a:lnTo>
                    <a:lnTo>
                      <a:pt x="82" y="92"/>
                    </a:lnTo>
                    <a:lnTo>
                      <a:pt x="93" y="86"/>
                    </a:lnTo>
                    <a:lnTo>
                      <a:pt x="105" y="78"/>
                    </a:lnTo>
                    <a:lnTo>
                      <a:pt x="110" y="77"/>
                    </a:lnTo>
                    <a:lnTo>
                      <a:pt x="116" y="73"/>
                    </a:lnTo>
                    <a:lnTo>
                      <a:pt x="122" y="69"/>
                    </a:lnTo>
                    <a:lnTo>
                      <a:pt x="129" y="67"/>
                    </a:lnTo>
                    <a:lnTo>
                      <a:pt x="135" y="63"/>
                    </a:lnTo>
                    <a:lnTo>
                      <a:pt x="141" y="61"/>
                    </a:lnTo>
                    <a:lnTo>
                      <a:pt x="148" y="59"/>
                    </a:lnTo>
                    <a:lnTo>
                      <a:pt x="154" y="57"/>
                    </a:lnTo>
                    <a:lnTo>
                      <a:pt x="160" y="54"/>
                    </a:lnTo>
                    <a:lnTo>
                      <a:pt x="167" y="50"/>
                    </a:lnTo>
                    <a:lnTo>
                      <a:pt x="173" y="48"/>
                    </a:lnTo>
                    <a:lnTo>
                      <a:pt x="179" y="46"/>
                    </a:lnTo>
                    <a:lnTo>
                      <a:pt x="186" y="42"/>
                    </a:lnTo>
                    <a:lnTo>
                      <a:pt x="192" y="40"/>
                    </a:lnTo>
                    <a:lnTo>
                      <a:pt x="198" y="38"/>
                    </a:lnTo>
                    <a:lnTo>
                      <a:pt x="205" y="38"/>
                    </a:lnTo>
                    <a:lnTo>
                      <a:pt x="211" y="35"/>
                    </a:lnTo>
                    <a:lnTo>
                      <a:pt x="217" y="33"/>
                    </a:lnTo>
                    <a:lnTo>
                      <a:pt x="224" y="31"/>
                    </a:lnTo>
                    <a:lnTo>
                      <a:pt x="232" y="31"/>
                    </a:lnTo>
                    <a:lnTo>
                      <a:pt x="238" y="29"/>
                    </a:lnTo>
                    <a:lnTo>
                      <a:pt x="243" y="27"/>
                    </a:lnTo>
                    <a:lnTo>
                      <a:pt x="251" y="25"/>
                    </a:lnTo>
                    <a:lnTo>
                      <a:pt x="259" y="23"/>
                    </a:lnTo>
                    <a:lnTo>
                      <a:pt x="264" y="21"/>
                    </a:lnTo>
                    <a:lnTo>
                      <a:pt x="270" y="19"/>
                    </a:lnTo>
                    <a:lnTo>
                      <a:pt x="278" y="18"/>
                    </a:lnTo>
                    <a:lnTo>
                      <a:pt x="283" y="16"/>
                    </a:lnTo>
                    <a:lnTo>
                      <a:pt x="289" y="14"/>
                    </a:lnTo>
                    <a:lnTo>
                      <a:pt x="297" y="14"/>
                    </a:lnTo>
                    <a:lnTo>
                      <a:pt x="302" y="12"/>
                    </a:lnTo>
                    <a:lnTo>
                      <a:pt x="310" y="12"/>
                    </a:lnTo>
                    <a:lnTo>
                      <a:pt x="316" y="8"/>
                    </a:lnTo>
                    <a:lnTo>
                      <a:pt x="321" y="8"/>
                    </a:lnTo>
                    <a:lnTo>
                      <a:pt x="327" y="6"/>
                    </a:lnTo>
                    <a:lnTo>
                      <a:pt x="335" y="4"/>
                    </a:lnTo>
                    <a:lnTo>
                      <a:pt x="340" y="2"/>
                    </a:lnTo>
                    <a:lnTo>
                      <a:pt x="346" y="2"/>
                    </a:lnTo>
                    <a:lnTo>
                      <a:pt x="352" y="0"/>
                    </a:lnTo>
                    <a:lnTo>
                      <a:pt x="359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786600" y="4410000"/>
                <a:ext cx="399960" cy="120600"/>
              </a:xfrm>
              <a:custGeom>
                <a:avLst/>
                <a:gdLst/>
                <a:ahLst/>
                <a:rect l="l" t="t" r="r" b="b"/>
                <a:pathLst>
                  <a:path w="504" h="153">
                    <a:moveTo>
                      <a:pt x="401" y="0"/>
                    </a:moveTo>
                    <a:lnTo>
                      <a:pt x="407" y="0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3" y="0"/>
                    </a:lnTo>
                    <a:lnTo>
                      <a:pt x="458" y="0"/>
                    </a:lnTo>
                    <a:lnTo>
                      <a:pt x="464" y="0"/>
                    </a:lnTo>
                    <a:lnTo>
                      <a:pt x="472" y="0"/>
                    </a:lnTo>
                    <a:lnTo>
                      <a:pt x="477" y="0"/>
                    </a:lnTo>
                    <a:lnTo>
                      <a:pt x="483" y="0"/>
                    </a:lnTo>
                    <a:lnTo>
                      <a:pt x="491" y="0"/>
                    </a:lnTo>
                    <a:lnTo>
                      <a:pt x="496" y="0"/>
                    </a:lnTo>
                    <a:lnTo>
                      <a:pt x="504" y="0"/>
                    </a:lnTo>
                    <a:lnTo>
                      <a:pt x="504" y="2"/>
                    </a:lnTo>
                    <a:lnTo>
                      <a:pt x="504" y="6"/>
                    </a:lnTo>
                    <a:lnTo>
                      <a:pt x="495" y="6"/>
                    </a:lnTo>
                    <a:lnTo>
                      <a:pt x="487" y="8"/>
                    </a:lnTo>
                    <a:lnTo>
                      <a:pt x="479" y="10"/>
                    </a:lnTo>
                    <a:lnTo>
                      <a:pt x="472" y="12"/>
                    </a:lnTo>
                    <a:lnTo>
                      <a:pt x="462" y="14"/>
                    </a:lnTo>
                    <a:lnTo>
                      <a:pt x="455" y="16"/>
                    </a:lnTo>
                    <a:lnTo>
                      <a:pt x="447" y="16"/>
                    </a:lnTo>
                    <a:lnTo>
                      <a:pt x="439" y="19"/>
                    </a:lnTo>
                    <a:lnTo>
                      <a:pt x="432" y="19"/>
                    </a:lnTo>
                    <a:lnTo>
                      <a:pt x="424" y="21"/>
                    </a:lnTo>
                    <a:lnTo>
                      <a:pt x="415" y="23"/>
                    </a:lnTo>
                    <a:lnTo>
                      <a:pt x="407" y="25"/>
                    </a:lnTo>
                    <a:lnTo>
                      <a:pt x="399" y="29"/>
                    </a:lnTo>
                    <a:lnTo>
                      <a:pt x="392" y="31"/>
                    </a:lnTo>
                    <a:lnTo>
                      <a:pt x="384" y="33"/>
                    </a:lnTo>
                    <a:lnTo>
                      <a:pt x="377" y="35"/>
                    </a:lnTo>
                    <a:lnTo>
                      <a:pt x="367" y="37"/>
                    </a:lnTo>
                    <a:lnTo>
                      <a:pt x="360" y="38"/>
                    </a:lnTo>
                    <a:lnTo>
                      <a:pt x="352" y="40"/>
                    </a:lnTo>
                    <a:lnTo>
                      <a:pt x="344" y="44"/>
                    </a:lnTo>
                    <a:lnTo>
                      <a:pt x="335" y="46"/>
                    </a:lnTo>
                    <a:lnTo>
                      <a:pt x="329" y="48"/>
                    </a:lnTo>
                    <a:lnTo>
                      <a:pt x="320" y="50"/>
                    </a:lnTo>
                    <a:lnTo>
                      <a:pt x="312" y="54"/>
                    </a:lnTo>
                    <a:lnTo>
                      <a:pt x="304" y="56"/>
                    </a:lnTo>
                    <a:lnTo>
                      <a:pt x="297" y="57"/>
                    </a:lnTo>
                    <a:lnTo>
                      <a:pt x="287" y="59"/>
                    </a:lnTo>
                    <a:lnTo>
                      <a:pt x="282" y="63"/>
                    </a:lnTo>
                    <a:lnTo>
                      <a:pt x="274" y="65"/>
                    </a:lnTo>
                    <a:lnTo>
                      <a:pt x="266" y="67"/>
                    </a:lnTo>
                    <a:lnTo>
                      <a:pt x="257" y="71"/>
                    </a:lnTo>
                    <a:lnTo>
                      <a:pt x="251" y="73"/>
                    </a:lnTo>
                    <a:lnTo>
                      <a:pt x="242" y="77"/>
                    </a:lnTo>
                    <a:lnTo>
                      <a:pt x="236" y="78"/>
                    </a:lnTo>
                    <a:lnTo>
                      <a:pt x="226" y="80"/>
                    </a:lnTo>
                    <a:lnTo>
                      <a:pt x="219" y="84"/>
                    </a:lnTo>
                    <a:lnTo>
                      <a:pt x="211" y="86"/>
                    </a:lnTo>
                    <a:lnTo>
                      <a:pt x="204" y="88"/>
                    </a:lnTo>
                    <a:lnTo>
                      <a:pt x="196" y="90"/>
                    </a:lnTo>
                    <a:lnTo>
                      <a:pt x="188" y="94"/>
                    </a:lnTo>
                    <a:lnTo>
                      <a:pt x="181" y="96"/>
                    </a:lnTo>
                    <a:lnTo>
                      <a:pt x="173" y="97"/>
                    </a:lnTo>
                    <a:lnTo>
                      <a:pt x="164" y="99"/>
                    </a:lnTo>
                    <a:lnTo>
                      <a:pt x="156" y="103"/>
                    </a:lnTo>
                    <a:lnTo>
                      <a:pt x="148" y="105"/>
                    </a:lnTo>
                    <a:lnTo>
                      <a:pt x="141" y="107"/>
                    </a:lnTo>
                    <a:lnTo>
                      <a:pt x="133" y="111"/>
                    </a:lnTo>
                    <a:lnTo>
                      <a:pt x="126" y="115"/>
                    </a:lnTo>
                    <a:lnTo>
                      <a:pt x="118" y="116"/>
                    </a:lnTo>
                    <a:lnTo>
                      <a:pt x="110" y="118"/>
                    </a:lnTo>
                    <a:lnTo>
                      <a:pt x="101" y="120"/>
                    </a:lnTo>
                    <a:lnTo>
                      <a:pt x="93" y="124"/>
                    </a:lnTo>
                    <a:lnTo>
                      <a:pt x="86" y="126"/>
                    </a:lnTo>
                    <a:lnTo>
                      <a:pt x="78" y="128"/>
                    </a:lnTo>
                    <a:lnTo>
                      <a:pt x="71" y="130"/>
                    </a:lnTo>
                    <a:lnTo>
                      <a:pt x="63" y="134"/>
                    </a:lnTo>
                    <a:lnTo>
                      <a:pt x="55" y="135"/>
                    </a:lnTo>
                    <a:lnTo>
                      <a:pt x="48" y="137"/>
                    </a:lnTo>
                    <a:lnTo>
                      <a:pt x="38" y="139"/>
                    </a:lnTo>
                    <a:lnTo>
                      <a:pt x="33" y="143"/>
                    </a:lnTo>
                    <a:lnTo>
                      <a:pt x="23" y="145"/>
                    </a:lnTo>
                    <a:lnTo>
                      <a:pt x="15" y="147"/>
                    </a:lnTo>
                    <a:lnTo>
                      <a:pt x="8" y="151"/>
                    </a:lnTo>
                    <a:lnTo>
                      <a:pt x="0" y="153"/>
                    </a:lnTo>
                    <a:lnTo>
                      <a:pt x="10" y="145"/>
                    </a:lnTo>
                    <a:lnTo>
                      <a:pt x="23" y="137"/>
                    </a:lnTo>
                    <a:lnTo>
                      <a:pt x="27" y="135"/>
                    </a:lnTo>
                    <a:lnTo>
                      <a:pt x="33" y="132"/>
                    </a:lnTo>
                    <a:lnTo>
                      <a:pt x="38" y="128"/>
                    </a:lnTo>
                    <a:lnTo>
                      <a:pt x="46" y="126"/>
                    </a:lnTo>
                    <a:lnTo>
                      <a:pt x="55" y="118"/>
                    </a:lnTo>
                    <a:lnTo>
                      <a:pt x="69" y="113"/>
                    </a:lnTo>
                    <a:lnTo>
                      <a:pt x="74" y="109"/>
                    </a:lnTo>
                    <a:lnTo>
                      <a:pt x="80" y="107"/>
                    </a:lnTo>
                    <a:lnTo>
                      <a:pt x="88" y="103"/>
                    </a:lnTo>
                    <a:lnTo>
                      <a:pt x="93" y="101"/>
                    </a:lnTo>
                    <a:lnTo>
                      <a:pt x="99" y="97"/>
                    </a:lnTo>
                    <a:lnTo>
                      <a:pt x="105" y="96"/>
                    </a:lnTo>
                    <a:lnTo>
                      <a:pt x="110" y="92"/>
                    </a:lnTo>
                    <a:lnTo>
                      <a:pt x="116" y="90"/>
                    </a:lnTo>
                    <a:lnTo>
                      <a:pt x="122" y="86"/>
                    </a:lnTo>
                    <a:lnTo>
                      <a:pt x="129" y="84"/>
                    </a:lnTo>
                    <a:lnTo>
                      <a:pt x="135" y="82"/>
                    </a:lnTo>
                    <a:lnTo>
                      <a:pt x="143" y="80"/>
                    </a:lnTo>
                    <a:lnTo>
                      <a:pt x="148" y="77"/>
                    </a:lnTo>
                    <a:lnTo>
                      <a:pt x="154" y="75"/>
                    </a:lnTo>
                    <a:lnTo>
                      <a:pt x="162" y="73"/>
                    </a:lnTo>
                    <a:lnTo>
                      <a:pt x="168" y="71"/>
                    </a:lnTo>
                    <a:lnTo>
                      <a:pt x="173" y="67"/>
                    </a:lnTo>
                    <a:lnTo>
                      <a:pt x="181" y="65"/>
                    </a:lnTo>
                    <a:lnTo>
                      <a:pt x="187" y="63"/>
                    </a:lnTo>
                    <a:lnTo>
                      <a:pt x="192" y="61"/>
                    </a:lnTo>
                    <a:lnTo>
                      <a:pt x="200" y="59"/>
                    </a:lnTo>
                    <a:lnTo>
                      <a:pt x="206" y="57"/>
                    </a:lnTo>
                    <a:lnTo>
                      <a:pt x="211" y="54"/>
                    </a:lnTo>
                    <a:lnTo>
                      <a:pt x="219" y="52"/>
                    </a:lnTo>
                    <a:lnTo>
                      <a:pt x="225" y="50"/>
                    </a:lnTo>
                    <a:lnTo>
                      <a:pt x="230" y="48"/>
                    </a:lnTo>
                    <a:lnTo>
                      <a:pt x="238" y="44"/>
                    </a:lnTo>
                    <a:lnTo>
                      <a:pt x="244" y="44"/>
                    </a:lnTo>
                    <a:lnTo>
                      <a:pt x="249" y="40"/>
                    </a:lnTo>
                    <a:lnTo>
                      <a:pt x="257" y="40"/>
                    </a:lnTo>
                    <a:lnTo>
                      <a:pt x="263" y="37"/>
                    </a:lnTo>
                    <a:lnTo>
                      <a:pt x="268" y="35"/>
                    </a:lnTo>
                    <a:lnTo>
                      <a:pt x="276" y="33"/>
                    </a:lnTo>
                    <a:lnTo>
                      <a:pt x="282" y="31"/>
                    </a:lnTo>
                    <a:lnTo>
                      <a:pt x="287" y="29"/>
                    </a:lnTo>
                    <a:lnTo>
                      <a:pt x="295" y="29"/>
                    </a:lnTo>
                    <a:lnTo>
                      <a:pt x="302" y="25"/>
                    </a:lnTo>
                    <a:lnTo>
                      <a:pt x="308" y="23"/>
                    </a:lnTo>
                    <a:lnTo>
                      <a:pt x="314" y="21"/>
                    </a:lnTo>
                    <a:lnTo>
                      <a:pt x="322" y="21"/>
                    </a:lnTo>
                    <a:lnTo>
                      <a:pt x="327" y="18"/>
                    </a:lnTo>
                    <a:lnTo>
                      <a:pt x="335" y="16"/>
                    </a:lnTo>
                    <a:lnTo>
                      <a:pt x="341" y="14"/>
                    </a:lnTo>
                    <a:lnTo>
                      <a:pt x="348" y="14"/>
                    </a:lnTo>
                    <a:lnTo>
                      <a:pt x="354" y="12"/>
                    </a:lnTo>
                    <a:lnTo>
                      <a:pt x="361" y="10"/>
                    </a:lnTo>
                    <a:lnTo>
                      <a:pt x="367" y="8"/>
                    </a:lnTo>
                    <a:lnTo>
                      <a:pt x="373" y="6"/>
                    </a:lnTo>
                    <a:lnTo>
                      <a:pt x="380" y="4"/>
                    </a:lnTo>
                    <a:lnTo>
                      <a:pt x="388" y="4"/>
                    </a:lnTo>
                    <a:lnTo>
                      <a:pt x="394" y="2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2257560" y="4416480"/>
                <a:ext cx="141120" cy="81000"/>
              </a:xfrm>
              <a:custGeom>
                <a:avLst/>
                <a:gdLst/>
                <a:ahLst/>
                <a:rect l="l" t="t" r="r" b="b"/>
                <a:pathLst>
                  <a:path w="178" h="101">
                    <a:moveTo>
                      <a:pt x="5" y="2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7" y="6"/>
                    </a:lnTo>
                    <a:lnTo>
                      <a:pt x="53" y="8"/>
                    </a:lnTo>
                    <a:lnTo>
                      <a:pt x="64" y="11"/>
                    </a:lnTo>
                    <a:lnTo>
                      <a:pt x="76" y="17"/>
                    </a:lnTo>
                    <a:lnTo>
                      <a:pt x="87" y="23"/>
                    </a:lnTo>
                    <a:lnTo>
                      <a:pt x="98" y="30"/>
                    </a:lnTo>
                    <a:lnTo>
                      <a:pt x="108" y="36"/>
                    </a:lnTo>
                    <a:lnTo>
                      <a:pt x="117" y="44"/>
                    </a:lnTo>
                    <a:lnTo>
                      <a:pt x="127" y="51"/>
                    </a:lnTo>
                    <a:lnTo>
                      <a:pt x="138" y="61"/>
                    </a:lnTo>
                    <a:lnTo>
                      <a:pt x="148" y="70"/>
                    </a:lnTo>
                    <a:lnTo>
                      <a:pt x="157" y="80"/>
                    </a:lnTo>
                    <a:lnTo>
                      <a:pt x="167" y="89"/>
                    </a:lnTo>
                    <a:lnTo>
                      <a:pt x="178" y="99"/>
                    </a:lnTo>
                    <a:lnTo>
                      <a:pt x="175" y="101"/>
                    </a:lnTo>
                    <a:lnTo>
                      <a:pt x="163" y="93"/>
                    </a:lnTo>
                    <a:lnTo>
                      <a:pt x="154" y="86"/>
                    </a:lnTo>
                    <a:lnTo>
                      <a:pt x="142" y="78"/>
                    </a:lnTo>
                    <a:lnTo>
                      <a:pt x="133" y="72"/>
                    </a:lnTo>
                    <a:lnTo>
                      <a:pt x="119" y="65"/>
                    </a:lnTo>
                    <a:lnTo>
                      <a:pt x="110" y="59"/>
                    </a:lnTo>
                    <a:lnTo>
                      <a:pt x="98" y="53"/>
                    </a:lnTo>
                    <a:lnTo>
                      <a:pt x="89" y="47"/>
                    </a:lnTo>
                    <a:lnTo>
                      <a:pt x="78" y="42"/>
                    </a:lnTo>
                    <a:lnTo>
                      <a:pt x="66" y="36"/>
                    </a:lnTo>
                    <a:lnTo>
                      <a:pt x="55" y="30"/>
                    </a:lnTo>
                    <a:lnTo>
                      <a:pt x="43" y="27"/>
                    </a:lnTo>
                    <a:lnTo>
                      <a:pt x="32" y="23"/>
                    </a:lnTo>
                    <a:lnTo>
                      <a:pt x="22" y="19"/>
                    </a:lnTo>
                    <a:lnTo>
                      <a:pt x="9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328680" y="4446720"/>
                <a:ext cx="33120" cy="140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0"/>
                    </a:moveTo>
                    <a:lnTo>
                      <a:pt x="12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3" y="17"/>
                    </a:lnTo>
                    <a:lnTo>
                      <a:pt x="15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483480" y="4456080"/>
                <a:ext cx="330120" cy="46080"/>
              </a:xfrm>
              <a:custGeom>
                <a:avLst/>
                <a:gdLst/>
                <a:ahLst/>
                <a:rect l="l" t="t" r="r" b="b"/>
                <a:pathLst>
                  <a:path w="416" h="57">
                    <a:moveTo>
                      <a:pt x="313" y="0"/>
                    </a:moveTo>
                    <a:lnTo>
                      <a:pt x="319" y="0"/>
                    </a:lnTo>
                    <a:lnTo>
                      <a:pt x="327" y="0"/>
                    </a:lnTo>
                    <a:lnTo>
                      <a:pt x="332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1" y="0"/>
                    </a:lnTo>
                    <a:lnTo>
                      <a:pt x="359" y="0"/>
                    </a:lnTo>
                    <a:lnTo>
                      <a:pt x="365" y="0"/>
                    </a:lnTo>
                    <a:lnTo>
                      <a:pt x="371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6" y="0"/>
                    </a:lnTo>
                    <a:lnTo>
                      <a:pt x="416" y="2"/>
                    </a:lnTo>
                    <a:lnTo>
                      <a:pt x="416" y="4"/>
                    </a:lnTo>
                    <a:lnTo>
                      <a:pt x="410" y="6"/>
                    </a:lnTo>
                    <a:lnTo>
                      <a:pt x="403" y="8"/>
                    </a:lnTo>
                    <a:lnTo>
                      <a:pt x="397" y="10"/>
                    </a:lnTo>
                    <a:lnTo>
                      <a:pt x="391" y="12"/>
                    </a:lnTo>
                    <a:lnTo>
                      <a:pt x="384" y="12"/>
                    </a:lnTo>
                    <a:lnTo>
                      <a:pt x="378" y="14"/>
                    </a:lnTo>
                    <a:lnTo>
                      <a:pt x="372" y="16"/>
                    </a:lnTo>
                    <a:lnTo>
                      <a:pt x="365" y="18"/>
                    </a:lnTo>
                    <a:lnTo>
                      <a:pt x="359" y="19"/>
                    </a:lnTo>
                    <a:lnTo>
                      <a:pt x="353" y="19"/>
                    </a:lnTo>
                    <a:lnTo>
                      <a:pt x="346" y="21"/>
                    </a:lnTo>
                    <a:lnTo>
                      <a:pt x="340" y="23"/>
                    </a:lnTo>
                    <a:lnTo>
                      <a:pt x="334" y="25"/>
                    </a:lnTo>
                    <a:lnTo>
                      <a:pt x="327" y="25"/>
                    </a:lnTo>
                    <a:lnTo>
                      <a:pt x="321" y="27"/>
                    </a:lnTo>
                    <a:lnTo>
                      <a:pt x="315" y="29"/>
                    </a:lnTo>
                    <a:lnTo>
                      <a:pt x="308" y="29"/>
                    </a:lnTo>
                    <a:lnTo>
                      <a:pt x="300" y="29"/>
                    </a:lnTo>
                    <a:lnTo>
                      <a:pt x="294" y="29"/>
                    </a:lnTo>
                    <a:lnTo>
                      <a:pt x="289" y="31"/>
                    </a:lnTo>
                    <a:lnTo>
                      <a:pt x="281" y="31"/>
                    </a:lnTo>
                    <a:lnTo>
                      <a:pt x="275" y="31"/>
                    </a:lnTo>
                    <a:lnTo>
                      <a:pt x="268" y="33"/>
                    </a:lnTo>
                    <a:lnTo>
                      <a:pt x="262" y="35"/>
                    </a:lnTo>
                    <a:lnTo>
                      <a:pt x="255" y="35"/>
                    </a:lnTo>
                    <a:lnTo>
                      <a:pt x="249" y="35"/>
                    </a:lnTo>
                    <a:lnTo>
                      <a:pt x="241" y="35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2" y="37"/>
                    </a:lnTo>
                    <a:lnTo>
                      <a:pt x="217" y="38"/>
                    </a:lnTo>
                    <a:lnTo>
                      <a:pt x="211" y="38"/>
                    </a:lnTo>
                    <a:lnTo>
                      <a:pt x="203" y="38"/>
                    </a:lnTo>
                    <a:lnTo>
                      <a:pt x="196" y="38"/>
                    </a:lnTo>
                    <a:lnTo>
                      <a:pt x="188" y="38"/>
                    </a:lnTo>
                    <a:lnTo>
                      <a:pt x="182" y="40"/>
                    </a:lnTo>
                    <a:lnTo>
                      <a:pt x="175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56" y="40"/>
                    </a:lnTo>
                    <a:lnTo>
                      <a:pt x="148" y="40"/>
                    </a:lnTo>
                    <a:lnTo>
                      <a:pt x="142" y="40"/>
                    </a:lnTo>
                    <a:lnTo>
                      <a:pt x="135" y="40"/>
                    </a:lnTo>
                    <a:lnTo>
                      <a:pt x="129" y="42"/>
                    </a:lnTo>
                    <a:lnTo>
                      <a:pt x="121" y="42"/>
                    </a:lnTo>
                    <a:lnTo>
                      <a:pt x="116" y="44"/>
                    </a:lnTo>
                    <a:lnTo>
                      <a:pt x="110" y="44"/>
                    </a:lnTo>
                    <a:lnTo>
                      <a:pt x="102" y="44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3" y="46"/>
                    </a:lnTo>
                    <a:lnTo>
                      <a:pt x="76" y="46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38" y="50"/>
                    </a:lnTo>
                    <a:lnTo>
                      <a:pt x="32" y="50"/>
                    </a:lnTo>
                    <a:lnTo>
                      <a:pt x="26" y="52"/>
                    </a:lnTo>
                    <a:lnTo>
                      <a:pt x="19" y="54"/>
                    </a:lnTo>
                    <a:lnTo>
                      <a:pt x="13" y="54"/>
                    </a:lnTo>
                    <a:lnTo>
                      <a:pt x="7" y="56"/>
                    </a:lnTo>
                    <a:lnTo>
                      <a:pt x="0" y="57"/>
                    </a:lnTo>
                    <a:lnTo>
                      <a:pt x="7" y="54"/>
                    </a:lnTo>
                    <a:lnTo>
                      <a:pt x="17" y="50"/>
                    </a:lnTo>
                    <a:lnTo>
                      <a:pt x="26" y="48"/>
                    </a:lnTo>
                    <a:lnTo>
                      <a:pt x="36" y="46"/>
                    </a:lnTo>
                    <a:lnTo>
                      <a:pt x="44" y="42"/>
                    </a:lnTo>
                    <a:lnTo>
                      <a:pt x="53" y="40"/>
                    </a:lnTo>
                    <a:lnTo>
                      <a:pt x="63" y="38"/>
                    </a:lnTo>
                    <a:lnTo>
                      <a:pt x="74" y="37"/>
                    </a:lnTo>
                    <a:lnTo>
                      <a:pt x="83" y="35"/>
                    </a:lnTo>
                    <a:lnTo>
                      <a:pt x="93" y="35"/>
                    </a:lnTo>
                    <a:lnTo>
                      <a:pt x="102" y="31"/>
                    </a:lnTo>
                    <a:lnTo>
                      <a:pt x="112" y="31"/>
                    </a:lnTo>
                    <a:lnTo>
                      <a:pt x="121" y="29"/>
                    </a:lnTo>
                    <a:lnTo>
                      <a:pt x="133" y="29"/>
                    </a:lnTo>
                    <a:lnTo>
                      <a:pt x="142" y="27"/>
                    </a:lnTo>
                    <a:lnTo>
                      <a:pt x="154" y="27"/>
                    </a:lnTo>
                    <a:lnTo>
                      <a:pt x="163" y="25"/>
                    </a:lnTo>
                    <a:lnTo>
                      <a:pt x="173" y="23"/>
                    </a:lnTo>
                    <a:lnTo>
                      <a:pt x="184" y="21"/>
                    </a:lnTo>
                    <a:lnTo>
                      <a:pt x="194" y="21"/>
                    </a:lnTo>
                    <a:lnTo>
                      <a:pt x="203" y="19"/>
                    </a:lnTo>
                    <a:lnTo>
                      <a:pt x="215" y="18"/>
                    </a:lnTo>
                    <a:lnTo>
                      <a:pt x="224" y="18"/>
                    </a:lnTo>
                    <a:lnTo>
                      <a:pt x="236" y="16"/>
                    </a:lnTo>
                    <a:lnTo>
                      <a:pt x="245" y="14"/>
                    </a:lnTo>
                    <a:lnTo>
                      <a:pt x="255" y="12"/>
                    </a:lnTo>
                    <a:lnTo>
                      <a:pt x="264" y="10"/>
                    </a:lnTo>
                    <a:lnTo>
                      <a:pt x="275" y="10"/>
                    </a:lnTo>
                    <a:lnTo>
                      <a:pt x="285" y="6"/>
                    </a:lnTo>
                    <a:lnTo>
                      <a:pt x="294" y="4"/>
                    </a:lnTo>
                    <a:lnTo>
                      <a:pt x="304" y="2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2286000" y="4475160"/>
                <a:ext cx="317520" cy="158760"/>
              </a:xfrm>
              <a:custGeom>
                <a:avLst/>
                <a:gdLst/>
                <a:ahLst/>
                <a:rect l="l" t="t" r="r" b="b"/>
                <a:pathLst>
                  <a:path w="401" h="202">
                    <a:moveTo>
                      <a:pt x="6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12"/>
                    </a:lnTo>
                    <a:lnTo>
                      <a:pt x="49" y="14"/>
                    </a:lnTo>
                    <a:lnTo>
                      <a:pt x="55" y="15"/>
                    </a:lnTo>
                    <a:lnTo>
                      <a:pt x="61" y="17"/>
                    </a:lnTo>
                    <a:lnTo>
                      <a:pt x="67" y="21"/>
                    </a:lnTo>
                    <a:lnTo>
                      <a:pt x="72" y="23"/>
                    </a:lnTo>
                    <a:lnTo>
                      <a:pt x="80" y="25"/>
                    </a:lnTo>
                    <a:lnTo>
                      <a:pt x="86" y="27"/>
                    </a:lnTo>
                    <a:lnTo>
                      <a:pt x="91" y="31"/>
                    </a:lnTo>
                    <a:lnTo>
                      <a:pt x="99" y="33"/>
                    </a:lnTo>
                    <a:lnTo>
                      <a:pt x="105" y="34"/>
                    </a:lnTo>
                    <a:lnTo>
                      <a:pt x="110" y="36"/>
                    </a:lnTo>
                    <a:lnTo>
                      <a:pt x="116" y="40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5" y="46"/>
                    </a:lnTo>
                    <a:lnTo>
                      <a:pt x="141" y="50"/>
                    </a:lnTo>
                    <a:lnTo>
                      <a:pt x="146" y="52"/>
                    </a:lnTo>
                    <a:lnTo>
                      <a:pt x="154" y="53"/>
                    </a:lnTo>
                    <a:lnTo>
                      <a:pt x="160" y="55"/>
                    </a:lnTo>
                    <a:lnTo>
                      <a:pt x="165" y="59"/>
                    </a:lnTo>
                    <a:lnTo>
                      <a:pt x="171" y="61"/>
                    </a:lnTo>
                    <a:lnTo>
                      <a:pt x="177" y="65"/>
                    </a:lnTo>
                    <a:lnTo>
                      <a:pt x="183" y="67"/>
                    </a:lnTo>
                    <a:lnTo>
                      <a:pt x="190" y="71"/>
                    </a:lnTo>
                    <a:lnTo>
                      <a:pt x="196" y="72"/>
                    </a:lnTo>
                    <a:lnTo>
                      <a:pt x="202" y="76"/>
                    </a:lnTo>
                    <a:lnTo>
                      <a:pt x="207" y="78"/>
                    </a:lnTo>
                    <a:lnTo>
                      <a:pt x="213" y="82"/>
                    </a:lnTo>
                    <a:lnTo>
                      <a:pt x="219" y="84"/>
                    </a:lnTo>
                    <a:lnTo>
                      <a:pt x="226" y="88"/>
                    </a:lnTo>
                    <a:lnTo>
                      <a:pt x="230" y="90"/>
                    </a:lnTo>
                    <a:lnTo>
                      <a:pt x="238" y="91"/>
                    </a:lnTo>
                    <a:lnTo>
                      <a:pt x="243" y="95"/>
                    </a:lnTo>
                    <a:lnTo>
                      <a:pt x="249" y="99"/>
                    </a:lnTo>
                    <a:lnTo>
                      <a:pt x="255" y="103"/>
                    </a:lnTo>
                    <a:lnTo>
                      <a:pt x="262" y="105"/>
                    </a:lnTo>
                    <a:lnTo>
                      <a:pt x="266" y="109"/>
                    </a:lnTo>
                    <a:lnTo>
                      <a:pt x="274" y="112"/>
                    </a:lnTo>
                    <a:lnTo>
                      <a:pt x="280" y="114"/>
                    </a:lnTo>
                    <a:lnTo>
                      <a:pt x="285" y="118"/>
                    </a:lnTo>
                    <a:lnTo>
                      <a:pt x="293" y="122"/>
                    </a:lnTo>
                    <a:lnTo>
                      <a:pt x="299" y="124"/>
                    </a:lnTo>
                    <a:lnTo>
                      <a:pt x="304" y="126"/>
                    </a:lnTo>
                    <a:lnTo>
                      <a:pt x="310" y="129"/>
                    </a:lnTo>
                    <a:lnTo>
                      <a:pt x="316" y="133"/>
                    </a:lnTo>
                    <a:lnTo>
                      <a:pt x="321" y="135"/>
                    </a:lnTo>
                    <a:lnTo>
                      <a:pt x="327" y="139"/>
                    </a:lnTo>
                    <a:lnTo>
                      <a:pt x="333" y="143"/>
                    </a:lnTo>
                    <a:lnTo>
                      <a:pt x="340" y="145"/>
                    </a:lnTo>
                    <a:lnTo>
                      <a:pt x="346" y="148"/>
                    </a:lnTo>
                    <a:lnTo>
                      <a:pt x="352" y="152"/>
                    </a:lnTo>
                    <a:lnTo>
                      <a:pt x="357" y="154"/>
                    </a:lnTo>
                    <a:lnTo>
                      <a:pt x="363" y="158"/>
                    </a:lnTo>
                    <a:lnTo>
                      <a:pt x="369" y="162"/>
                    </a:lnTo>
                    <a:lnTo>
                      <a:pt x="376" y="166"/>
                    </a:lnTo>
                    <a:lnTo>
                      <a:pt x="382" y="169"/>
                    </a:lnTo>
                    <a:lnTo>
                      <a:pt x="388" y="171"/>
                    </a:lnTo>
                    <a:lnTo>
                      <a:pt x="395" y="177"/>
                    </a:lnTo>
                    <a:lnTo>
                      <a:pt x="395" y="181"/>
                    </a:lnTo>
                    <a:lnTo>
                      <a:pt x="395" y="188"/>
                    </a:lnTo>
                    <a:lnTo>
                      <a:pt x="395" y="196"/>
                    </a:lnTo>
                    <a:lnTo>
                      <a:pt x="401" y="202"/>
                    </a:lnTo>
                    <a:lnTo>
                      <a:pt x="394" y="200"/>
                    </a:lnTo>
                    <a:lnTo>
                      <a:pt x="386" y="198"/>
                    </a:lnTo>
                    <a:lnTo>
                      <a:pt x="380" y="196"/>
                    </a:lnTo>
                    <a:lnTo>
                      <a:pt x="375" y="196"/>
                    </a:lnTo>
                    <a:lnTo>
                      <a:pt x="367" y="192"/>
                    </a:lnTo>
                    <a:lnTo>
                      <a:pt x="361" y="190"/>
                    </a:lnTo>
                    <a:lnTo>
                      <a:pt x="356" y="188"/>
                    </a:lnTo>
                    <a:lnTo>
                      <a:pt x="348" y="188"/>
                    </a:lnTo>
                    <a:lnTo>
                      <a:pt x="342" y="185"/>
                    </a:lnTo>
                    <a:lnTo>
                      <a:pt x="337" y="183"/>
                    </a:lnTo>
                    <a:lnTo>
                      <a:pt x="329" y="179"/>
                    </a:lnTo>
                    <a:lnTo>
                      <a:pt x="323" y="177"/>
                    </a:lnTo>
                    <a:lnTo>
                      <a:pt x="318" y="173"/>
                    </a:lnTo>
                    <a:lnTo>
                      <a:pt x="310" y="171"/>
                    </a:lnTo>
                    <a:lnTo>
                      <a:pt x="304" y="169"/>
                    </a:lnTo>
                    <a:lnTo>
                      <a:pt x="299" y="168"/>
                    </a:lnTo>
                    <a:lnTo>
                      <a:pt x="291" y="164"/>
                    </a:lnTo>
                    <a:lnTo>
                      <a:pt x="285" y="162"/>
                    </a:lnTo>
                    <a:lnTo>
                      <a:pt x="278" y="158"/>
                    </a:lnTo>
                    <a:lnTo>
                      <a:pt x="272" y="154"/>
                    </a:lnTo>
                    <a:lnTo>
                      <a:pt x="266" y="152"/>
                    </a:lnTo>
                    <a:lnTo>
                      <a:pt x="259" y="148"/>
                    </a:lnTo>
                    <a:lnTo>
                      <a:pt x="253" y="145"/>
                    </a:lnTo>
                    <a:lnTo>
                      <a:pt x="247" y="143"/>
                    </a:lnTo>
                    <a:lnTo>
                      <a:pt x="241" y="139"/>
                    </a:lnTo>
                    <a:lnTo>
                      <a:pt x="236" y="135"/>
                    </a:lnTo>
                    <a:lnTo>
                      <a:pt x="228" y="131"/>
                    </a:lnTo>
                    <a:lnTo>
                      <a:pt x="222" y="128"/>
                    </a:lnTo>
                    <a:lnTo>
                      <a:pt x="217" y="124"/>
                    </a:lnTo>
                    <a:lnTo>
                      <a:pt x="211" y="122"/>
                    </a:lnTo>
                    <a:lnTo>
                      <a:pt x="205" y="118"/>
                    </a:lnTo>
                    <a:lnTo>
                      <a:pt x="200" y="114"/>
                    </a:lnTo>
                    <a:lnTo>
                      <a:pt x="194" y="110"/>
                    </a:lnTo>
                    <a:lnTo>
                      <a:pt x="188" y="107"/>
                    </a:lnTo>
                    <a:lnTo>
                      <a:pt x="181" y="103"/>
                    </a:lnTo>
                    <a:lnTo>
                      <a:pt x="175" y="99"/>
                    </a:lnTo>
                    <a:lnTo>
                      <a:pt x="169" y="95"/>
                    </a:lnTo>
                    <a:lnTo>
                      <a:pt x="162" y="91"/>
                    </a:lnTo>
                    <a:lnTo>
                      <a:pt x="156" y="88"/>
                    </a:lnTo>
                    <a:lnTo>
                      <a:pt x="150" y="84"/>
                    </a:lnTo>
                    <a:lnTo>
                      <a:pt x="145" y="80"/>
                    </a:lnTo>
                    <a:lnTo>
                      <a:pt x="137" y="76"/>
                    </a:lnTo>
                    <a:lnTo>
                      <a:pt x="131" y="72"/>
                    </a:lnTo>
                    <a:lnTo>
                      <a:pt x="126" y="69"/>
                    </a:lnTo>
                    <a:lnTo>
                      <a:pt x="118" y="65"/>
                    </a:lnTo>
                    <a:lnTo>
                      <a:pt x="112" y="63"/>
                    </a:lnTo>
                    <a:lnTo>
                      <a:pt x="107" y="59"/>
                    </a:lnTo>
                    <a:lnTo>
                      <a:pt x="101" y="55"/>
                    </a:lnTo>
                    <a:lnTo>
                      <a:pt x="95" y="52"/>
                    </a:lnTo>
                    <a:lnTo>
                      <a:pt x="88" y="50"/>
                    </a:lnTo>
                    <a:lnTo>
                      <a:pt x="82" y="44"/>
                    </a:lnTo>
                    <a:lnTo>
                      <a:pt x="74" y="42"/>
                    </a:lnTo>
                    <a:lnTo>
                      <a:pt x="68" y="38"/>
                    </a:lnTo>
                    <a:lnTo>
                      <a:pt x="63" y="34"/>
                    </a:lnTo>
                    <a:lnTo>
                      <a:pt x="55" y="33"/>
                    </a:lnTo>
                    <a:lnTo>
                      <a:pt x="49" y="29"/>
                    </a:lnTo>
                    <a:lnTo>
                      <a:pt x="44" y="25"/>
                    </a:lnTo>
                    <a:lnTo>
                      <a:pt x="36" y="23"/>
                    </a:lnTo>
                    <a:lnTo>
                      <a:pt x="30" y="19"/>
                    </a:lnTo>
                    <a:lnTo>
                      <a:pt x="25" y="17"/>
                    </a:lnTo>
                    <a:lnTo>
                      <a:pt x="17" y="14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97720" y="4473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6" y="2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8"/>
                    </a:lnTo>
                    <a:lnTo>
                      <a:pt x="40" y="12"/>
                    </a:lnTo>
                    <a:lnTo>
                      <a:pt x="44" y="19"/>
                    </a:lnTo>
                    <a:lnTo>
                      <a:pt x="46" y="25"/>
                    </a:lnTo>
                    <a:lnTo>
                      <a:pt x="46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9" y="33"/>
                    </a:lnTo>
                    <a:lnTo>
                      <a:pt x="10" y="27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455040" y="4502160"/>
                <a:ext cx="446040" cy="73080"/>
              </a:xfrm>
              <a:custGeom>
                <a:avLst/>
                <a:gdLst/>
                <a:ahLst/>
                <a:rect l="l" t="t" r="r" b="b"/>
                <a:pathLst>
                  <a:path w="562" h="94">
                    <a:moveTo>
                      <a:pt x="484" y="0"/>
                    </a:moveTo>
                    <a:lnTo>
                      <a:pt x="494" y="0"/>
                    </a:lnTo>
                    <a:lnTo>
                      <a:pt x="503" y="0"/>
                    </a:lnTo>
                    <a:lnTo>
                      <a:pt x="513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3" y="0"/>
                    </a:lnTo>
                    <a:lnTo>
                      <a:pt x="553" y="0"/>
                    </a:lnTo>
                    <a:lnTo>
                      <a:pt x="562" y="0"/>
                    </a:lnTo>
                    <a:lnTo>
                      <a:pt x="562" y="4"/>
                    </a:lnTo>
                    <a:lnTo>
                      <a:pt x="562" y="8"/>
                    </a:lnTo>
                    <a:lnTo>
                      <a:pt x="553" y="10"/>
                    </a:lnTo>
                    <a:lnTo>
                      <a:pt x="545" y="12"/>
                    </a:lnTo>
                    <a:lnTo>
                      <a:pt x="536" y="12"/>
                    </a:lnTo>
                    <a:lnTo>
                      <a:pt x="526" y="16"/>
                    </a:lnTo>
                    <a:lnTo>
                      <a:pt x="517" y="16"/>
                    </a:lnTo>
                    <a:lnTo>
                      <a:pt x="509" y="18"/>
                    </a:lnTo>
                    <a:lnTo>
                      <a:pt x="500" y="19"/>
                    </a:lnTo>
                    <a:lnTo>
                      <a:pt x="492" y="21"/>
                    </a:lnTo>
                    <a:lnTo>
                      <a:pt x="482" y="21"/>
                    </a:lnTo>
                    <a:lnTo>
                      <a:pt x="473" y="23"/>
                    </a:lnTo>
                    <a:lnTo>
                      <a:pt x="465" y="25"/>
                    </a:lnTo>
                    <a:lnTo>
                      <a:pt x="456" y="27"/>
                    </a:lnTo>
                    <a:lnTo>
                      <a:pt x="446" y="27"/>
                    </a:lnTo>
                    <a:lnTo>
                      <a:pt x="439" y="29"/>
                    </a:lnTo>
                    <a:lnTo>
                      <a:pt x="429" y="29"/>
                    </a:lnTo>
                    <a:lnTo>
                      <a:pt x="422" y="31"/>
                    </a:lnTo>
                    <a:lnTo>
                      <a:pt x="412" y="31"/>
                    </a:lnTo>
                    <a:lnTo>
                      <a:pt x="403" y="33"/>
                    </a:lnTo>
                    <a:lnTo>
                      <a:pt x="395" y="35"/>
                    </a:lnTo>
                    <a:lnTo>
                      <a:pt x="385" y="37"/>
                    </a:lnTo>
                    <a:lnTo>
                      <a:pt x="376" y="37"/>
                    </a:lnTo>
                    <a:lnTo>
                      <a:pt x="368" y="37"/>
                    </a:lnTo>
                    <a:lnTo>
                      <a:pt x="359" y="38"/>
                    </a:lnTo>
                    <a:lnTo>
                      <a:pt x="351" y="40"/>
                    </a:lnTo>
                    <a:lnTo>
                      <a:pt x="342" y="40"/>
                    </a:lnTo>
                    <a:lnTo>
                      <a:pt x="332" y="42"/>
                    </a:lnTo>
                    <a:lnTo>
                      <a:pt x="323" y="42"/>
                    </a:lnTo>
                    <a:lnTo>
                      <a:pt x="315" y="44"/>
                    </a:lnTo>
                    <a:lnTo>
                      <a:pt x="306" y="44"/>
                    </a:lnTo>
                    <a:lnTo>
                      <a:pt x="296" y="46"/>
                    </a:lnTo>
                    <a:lnTo>
                      <a:pt x="288" y="46"/>
                    </a:lnTo>
                    <a:lnTo>
                      <a:pt x="279" y="48"/>
                    </a:lnTo>
                    <a:lnTo>
                      <a:pt x="269" y="48"/>
                    </a:lnTo>
                    <a:lnTo>
                      <a:pt x="260" y="50"/>
                    </a:lnTo>
                    <a:lnTo>
                      <a:pt x="252" y="52"/>
                    </a:lnTo>
                    <a:lnTo>
                      <a:pt x="243" y="52"/>
                    </a:lnTo>
                    <a:lnTo>
                      <a:pt x="233" y="54"/>
                    </a:lnTo>
                    <a:lnTo>
                      <a:pt x="226" y="54"/>
                    </a:lnTo>
                    <a:lnTo>
                      <a:pt x="216" y="56"/>
                    </a:lnTo>
                    <a:lnTo>
                      <a:pt x="209" y="57"/>
                    </a:lnTo>
                    <a:lnTo>
                      <a:pt x="199" y="57"/>
                    </a:lnTo>
                    <a:lnTo>
                      <a:pt x="190" y="59"/>
                    </a:lnTo>
                    <a:lnTo>
                      <a:pt x="182" y="59"/>
                    </a:lnTo>
                    <a:lnTo>
                      <a:pt x="173" y="61"/>
                    </a:lnTo>
                    <a:lnTo>
                      <a:pt x="163" y="63"/>
                    </a:lnTo>
                    <a:lnTo>
                      <a:pt x="155" y="63"/>
                    </a:lnTo>
                    <a:lnTo>
                      <a:pt x="146" y="65"/>
                    </a:lnTo>
                    <a:lnTo>
                      <a:pt x="138" y="67"/>
                    </a:lnTo>
                    <a:lnTo>
                      <a:pt x="129" y="67"/>
                    </a:lnTo>
                    <a:lnTo>
                      <a:pt x="119" y="69"/>
                    </a:lnTo>
                    <a:lnTo>
                      <a:pt x="112" y="71"/>
                    </a:lnTo>
                    <a:lnTo>
                      <a:pt x="102" y="73"/>
                    </a:lnTo>
                    <a:lnTo>
                      <a:pt x="93" y="73"/>
                    </a:lnTo>
                    <a:lnTo>
                      <a:pt x="85" y="75"/>
                    </a:lnTo>
                    <a:lnTo>
                      <a:pt x="76" y="76"/>
                    </a:lnTo>
                    <a:lnTo>
                      <a:pt x="68" y="78"/>
                    </a:lnTo>
                    <a:lnTo>
                      <a:pt x="58" y="80"/>
                    </a:lnTo>
                    <a:lnTo>
                      <a:pt x="49" y="82"/>
                    </a:lnTo>
                    <a:lnTo>
                      <a:pt x="41" y="82"/>
                    </a:lnTo>
                    <a:lnTo>
                      <a:pt x="34" y="84"/>
                    </a:lnTo>
                    <a:lnTo>
                      <a:pt x="24" y="88"/>
                    </a:lnTo>
                    <a:lnTo>
                      <a:pt x="17" y="90"/>
                    </a:lnTo>
                    <a:lnTo>
                      <a:pt x="7" y="92"/>
                    </a:lnTo>
                    <a:lnTo>
                      <a:pt x="0" y="94"/>
                    </a:lnTo>
                    <a:lnTo>
                      <a:pt x="7" y="92"/>
                    </a:lnTo>
                    <a:lnTo>
                      <a:pt x="13" y="88"/>
                    </a:lnTo>
                    <a:lnTo>
                      <a:pt x="19" y="84"/>
                    </a:lnTo>
                    <a:lnTo>
                      <a:pt x="26" y="82"/>
                    </a:lnTo>
                    <a:lnTo>
                      <a:pt x="34" y="80"/>
                    </a:lnTo>
                    <a:lnTo>
                      <a:pt x="39" y="78"/>
                    </a:lnTo>
                    <a:lnTo>
                      <a:pt x="47" y="75"/>
                    </a:lnTo>
                    <a:lnTo>
                      <a:pt x="55" y="73"/>
                    </a:lnTo>
                    <a:lnTo>
                      <a:pt x="62" y="71"/>
                    </a:lnTo>
                    <a:lnTo>
                      <a:pt x="68" y="69"/>
                    </a:lnTo>
                    <a:lnTo>
                      <a:pt x="76" y="65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6" y="61"/>
                    </a:lnTo>
                    <a:lnTo>
                      <a:pt x="104" y="57"/>
                    </a:lnTo>
                    <a:lnTo>
                      <a:pt x="114" y="57"/>
                    </a:lnTo>
                    <a:lnTo>
                      <a:pt x="119" y="56"/>
                    </a:lnTo>
                    <a:lnTo>
                      <a:pt x="127" y="54"/>
                    </a:lnTo>
                    <a:lnTo>
                      <a:pt x="135" y="52"/>
                    </a:lnTo>
                    <a:lnTo>
                      <a:pt x="142" y="52"/>
                    </a:lnTo>
                    <a:lnTo>
                      <a:pt x="150" y="48"/>
                    </a:lnTo>
                    <a:lnTo>
                      <a:pt x="157" y="48"/>
                    </a:lnTo>
                    <a:lnTo>
                      <a:pt x="165" y="46"/>
                    </a:lnTo>
                    <a:lnTo>
                      <a:pt x="173" y="44"/>
                    </a:lnTo>
                    <a:lnTo>
                      <a:pt x="180" y="42"/>
                    </a:lnTo>
                    <a:lnTo>
                      <a:pt x="188" y="42"/>
                    </a:lnTo>
                    <a:lnTo>
                      <a:pt x="195" y="40"/>
                    </a:lnTo>
                    <a:lnTo>
                      <a:pt x="203" y="38"/>
                    </a:lnTo>
                    <a:lnTo>
                      <a:pt x="211" y="38"/>
                    </a:lnTo>
                    <a:lnTo>
                      <a:pt x="220" y="37"/>
                    </a:lnTo>
                    <a:lnTo>
                      <a:pt x="226" y="37"/>
                    </a:lnTo>
                    <a:lnTo>
                      <a:pt x="235" y="37"/>
                    </a:lnTo>
                    <a:lnTo>
                      <a:pt x="241" y="35"/>
                    </a:lnTo>
                    <a:lnTo>
                      <a:pt x="250" y="33"/>
                    </a:lnTo>
                    <a:lnTo>
                      <a:pt x="258" y="31"/>
                    </a:lnTo>
                    <a:lnTo>
                      <a:pt x="266" y="31"/>
                    </a:lnTo>
                    <a:lnTo>
                      <a:pt x="271" y="29"/>
                    </a:lnTo>
                    <a:lnTo>
                      <a:pt x="281" y="29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304" y="25"/>
                    </a:lnTo>
                    <a:lnTo>
                      <a:pt x="311" y="25"/>
                    </a:lnTo>
                    <a:lnTo>
                      <a:pt x="319" y="21"/>
                    </a:lnTo>
                    <a:lnTo>
                      <a:pt x="327" y="21"/>
                    </a:lnTo>
                    <a:lnTo>
                      <a:pt x="334" y="21"/>
                    </a:lnTo>
                    <a:lnTo>
                      <a:pt x="344" y="19"/>
                    </a:lnTo>
                    <a:lnTo>
                      <a:pt x="351" y="19"/>
                    </a:lnTo>
                    <a:lnTo>
                      <a:pt x="359" y="19"/>
                    </a:lnTo>
                    <a:lnTo>
                      <a:pt x="366" y="18"/>
                    </a:lnTo>
                    <a:lnTo>
                      <a:pt x="374" y="16"/>
                    </a:lnTo>
                    <a:lnTo>
                      <a:pt x="382" y="16"/>
                    </a:lnTo>
                    <a:lnTo>
                      <a:pt x="389" y="14"/>
                    </a:lnTo>
                    <a:lnTo>
                      <a:pt x="397" y="12"/>
                    </a:lnTo>
                    <a:lnTo>
                      <a:pt x="406" y="12"/>
                    </a:lnTo>
                    <a:lnTo>
                      <a:pt x="414" y="10"/>
                    </a:lnTo>
                    <a:lnTo>
                      <a:pt x="422" y="10"/>
                    </a:lnTo>
                    <a:lnTo>
                      <a:pt x="429" y="8"/>
                    </a:lnTo>
                    <a:lnTo>
                      <a:pt x="437" y="6"/>
                    </a:lnTo>
                    <a:lnTo>
                      <a:pt x="444" y="6"/>
                    </a:lnTo>
                    <a:lnTo>
                      <a:pt x="452" y="4"/>
                    </a:lnTo>
                    <a:lnTo>
                      <a:pt x="460" y="2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306360" y="4610160"/>
                <a:ext cx="447840" cy="58680"/>
              </a:xfrm>
              <a:custGeom>
                <a:avLst/>
                <a:gdLst/>
                <a:ahLst/>
                <a:rect l="l" t="t" r="r" b="b"/>
                <a:pathLst>
                  <a:path w="564" h="74">
                    <a:moveTo>
                      <a:pt x="188" y="6"/>
                    </a:moveTo>
                    <a:lnTo>
                      <a:pt x="199" y="6"/>
                    </a:lnTo>
                    <a:lnTo>
                      <a:pt x="211" y="6"/>
                    </a:lnTo>
                    <a:lnTo>
                      <a:pt x="215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39" y="6"/>
                    </a:lnTo>
                    <a:lnTo>
                      <a:pt x="247" y="6"/>
                    </a:lnTo>
                    <a:lnTo>
                      <a:pt x="251" y="6"/>
                    </a:lnTo>
                    <a:lnTo>
                      <a:pt x="258" y="6"/>
                    </a:lnTo>
                    <a:lnTo>
                      <a:pt x="262" y="6"/>
                    </a:lnTo>
                    <a:lnTo>
                      <a:pt x="270" y="6"/>
                    </a:lnTo>
                    <a:lnTo>
                      <a:pt x="275" y="6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5" y="6"/>
                    </a:lnTo>
                    <a:lnTo>
                      <a:pt x="298" y="4"/>
                    </a:lnTo>
                    <a:lnTo>
                      <a:pt x="306" y="4"/>
                    </a:lnTo>
                    <a:lnTo>
                      <a:pt x="312" y="4"/>
                    </a:lnTo>
                    <a:lnTo>
                      <a:pt x="317" y="4"/>
                    </a:lnTo>
                    <a:lnTo>
                      <a:pt x="323" y="4"/>
                    </a:lnTo>
                    <a:lnTo>
                      <a:pt x="331" y="4"/>
                    </a:lnTo>
                    <a:lnTo>
                      <a:pt x="334" y="2"/>
                    </a:lnTo>
                    <a:lnTo>
                      <a:pt x="342" y="2"/>
                    </a:lnTo>
                    <a:lnTo>
                      <a:pt x="348" y="2"/>
                    </a:lnTo>
                    <a:lnTo>
                      <a:pt x="353" y="2"/>
                    </a:lnTo>
                    <a:lnTo>
                      <a:pt x="361" y="2"/>
                    </a:lnTo>
                    <a:lnTo>
                      <a:pt x="367" y="2"/>
                    </a:lnTo>
                    <a:lnTo>
                      <a:pt x="372" y="2"/>
                    </a:lnTo>
                    <a:lnTo>
                      <a:pt x="380" y="2"/>
                    </a:lnTo>
                    <a:lnTo>
                      <a:pt x="386" y="0"/>
                    </a:lnTo>
                    <a:lnTo>
                      <a:pt x="391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4" y="0"/>
                    </a:lnTo>
                    <a:lnTo>
                      <a:pt x="422" y="0"/>
                    </a:lnTo>
                    <a:lnTo>
                      <a:pt x="428" y="0"/>
                    </a:lnTo>
                    <a:lnTo>
                      <a:pt x="433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2"/>
                    </a:lnTo>
                    <a:lnTo>
                      <a:pt x="469" y="2"/>
                    </a:lnTo>
                    <a:lnTo>
                      <a:pt x="475" y="2"/>
                    </a:lnTo>
                    <a:lnTo>
                      <a:pt x="487" y="2"/>
                    </a:lnTo>
                    <a:lnTo>
                      <a:pt x="498" y="6"/>
                    </a:lnTo>
                    <a:lnTo>
                      <a:pt x="502" y="6"/>
                    </a:lnTo>
                    <a:lnTo>
                      <a:pt x="509" y="6"/>
                    </a:lnTo>
                    <a:lnTo>
                      <a:pt x="515" y="8"/>
                    </a:lnTo>
                    <a:lnTo>
                      <a:pt x="521" y="10"/>
                    </a:lnTo>
                    <a:lnTo>
                      <a:pt x="530" y="12"/>
                    </a:lnTo>
                    <a:lnTo>
                      <a:pt x="544" y="16"/>
                    </a:lnTo>
                    <a:lnTo>
                      <a:pt x="553" y="19"/>
                    </a:lnTo>
                    <a:lnTo>
                      <a:pt x="564" y="23"/>
                    </a:lnTo>
                    <a:lnTo>
                      <a:pt x="557" y="23"/>
                    </a:lnTo>
                    <a:lnTo>
                      <a:pt x="549" y="23"/>
                    </a:lnTo>
                    <a:lnTo>
                      <a:pt x="542" y="23"/>
                    </a:lnTo>
                    <a:lnTo>
                      <a:pt x="534" y="23"/>
                    </a:lnTo>
                    <a:lnTo>
                      <a:pt x="525" y="23"/>
                    </a:lnTo>
                    <a:lnTo>
                      <a:pt x="517" y="23"/>
                    </a:lnTo>
                    <a:lnTo>
                      <a:pt x="509" y="25"/>
                    </a:lnTo>
                    <a:lnTo>
                      <a:pt x="502" y="25"/>
                    </a:lnTo>
                    <a:lnTo>
                      <a:pt x="494" y="25"/>
                    </a:lnTo>
                    <a:lnTo>
                      <a:pt x="487" y="25"/>
                    </a:lnTo>
                    <a:lnTo>
                      <a:pt x="479" y="27"/>
                    </a:lnTo>
                    <a:lnTo>
                      <a:pt x="471" y="27"/>
                    </a:lnTo>
                    <a:lnTo>
                      <a:pt x="464" y="27"/>
                    </a:lnTo>
                    <a:lnTo>
                      <a:pt x="456" y="29"/>
                    </a:lnTo>
                    <a:lnTo>
                      <a:pt x="449" y="29"/>
                    </a:lnTo>
                    <a:lnTo>
                      <a:pt x="443" y="31"/>
                    </a:lnTo>
                    <a:lnTo>
                      <a:pt x="433" y="31"/>
                    </a:lnTo>
                    <a:lnTo>
                      <a:pt x="426" y="31"/>
                    </a:lnTo>
                    <a:lnTo>
                      <a:pt x="418" y="33"/>
                    </a:lnTo>
                    <a:lnTo>
                      <a:pt x="412" y="35"/>
                    </a:lnTo>
                    <a:lnTo>
                      <a:pt x="405" y="35"/>
                    </a:lnTo>
                    <a:lnTo>
                      <a:pt x="397" y="35"/>
                    </a:lnTo>
                    <a:lnTo>
                      <a:pt x="390" y="36"/>
                    </a:lnTo>
                    <a:lnTo>
                      <a:pt x="382" y="36"/>
                    </a:lnTo>
                    <a:lnTo>
                      <a:pt x="374" y="36"/>
                    </a:lnTo>
                    <a:lnTo>
                      <a:pt x="367" y="38"/>
                    </a:lnTo>
                    <a:lnTo>
                      <a:pt x="359" y="38"/>
                    </a:lnTo>
                    <a:lnTo>
                      <a:pt x="352" y="42"/>
                    </a:lnTo>
                    <a:lnTo>
                      <a:pt x="344" y="42"/>
                    </a:lnTo>
                    <a:lnTo>
                      <a:pt x="338" y="44"/>
                    </a:lnTo>
                    <a:lnTo>
                      <a:pt x="331" y="44"/>
                    </a:lnTo>
                    <a:lnTo>
                      <a:pt x="323" y="46"/>
                    </a:lnTo>
                    <a:lnTo>
                      <a:pt x="315" y="46"/>
                    </a:lnTo>
                    <a:lnTo>
                      <a:pt x="308" y="48"/>
                    </a:lnTo>
                    <a:lnTo>
                      <a:pt x="300" y="48"/>
                    </a:lnTo>
                    <a:lnTo>
                      <a:pt x="293" y="50"/>
                    </a:lnTo>
                    <a:lnTo>
                      <a:pt x="285" y="50"/>
                    </a:lnTo>
                    <a:lnTo>
                      <a:pt x="277" y="52"/>
                    </a:lnTo>
                    <a:lnTo>
                      <a:pt x="270" y="52"/>
                    </a:lnTo>
                    <a:lnTo>
                      <a:pt x="262" y="54"/>
                    </a:lnTo>
                    <a:lnTo>
                      <a:pt x="255" y="54"/>
                    </a:lnTo>
                    <a:lnTo>
                      <a:pt x="247" y="55"/>
                    </a:lnTo>
                    <a:lnTo>
                      <a:pt x="239" y="55"/>
                    </a:lnTo>
                    <a:lnTo>
                      <a:pt x="234" y="57"/>
                    </a:lnTo>
                    <a:lnTo>
                      <a:pt x="224" y="57"/>
                    </a:lnTo>
                    <a:lnTo>
                      <a:pt x="218" y="61"/>
                    </a:lnTo>
                    <a:lnTo>
                      <a:pt x="211" y="61"/>
                    </a:lnTo>
                    <a:lnTo>
                      <a:pt x="203" y="63"/>
                    </a:lnTo>
                    <a:lnTo>
                      <a:pt x="196" y="63"/>
                    </a:lnTo>
                    <a:lnTo>
                      <a:pt x="188" y="63"/>
                    </a:lnTo>
                    <a:lnTo>
                      <a:pt x="180" y="65"/>
                    </a:lnTo>
                    <a:lnTo>
                      <a:pt x="173" y="65"/>
                    </a:lnTo>
                    <a:lnTo>
                      <a:pt x="165" y="65"/>
                    </a:lnTo>
                    <a:lnTo>
                      <a:pt x="158" y="67"/>
                    </a:lnTo>
                    <a:lnTo>
                      <a:pt x="150" y="67"/>
                    </a:lnTo>
                    <a:lnTo>
                      <a:pt x="144" y="69"/>
                    </a:lnTo>
                    <a:lnTo>
                      <a:pt x="135" y="69"/>
                    </a:lnTo>
                    <a:lnTo>
                      <a:pt x="127" y="71"/>
                    </a:lnTo>
                    <a:lnTo>
                      <a:pt x="120" y="71"/>
                    </a:lnTo>
                    <a:lnTo>
                      <a:pt x="112" y="73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89" y="74"/>
                    </a:lnTo>
                    <a:lnTo>
                      <a:pt x="83" y="74"/>
                    </a:lnTo>
                    <a:lnTo>
                      <a:pt x="83" y="65"/>
                    </a:lnTo>
                    <a:lnTo>
                      <a:pt x="91" y="57"/>
                    </a:lnTo>
                    <a:lnTo>
                      <a:pt x="82" y="55"/>
                    </a:lnTo>
                    <a:lnTo>
                      <a:pt x="74" y="55"/>
                    </a:lnTo>
                    <a:lnTo>
                      <a:pt x="68" y="54"/>
                    </a:lnTo>
                    <a:lnTo>
                      <a:pt x="63" y="54"/>
                    </a:lnTo>
                    <a:lnTo>
                      <a:pt x="55" y="52"/>
                    </a:lnTo>
                    <a:lnTo>
                      <a:pt x="47" y="52"/>
                    </a:lnTo>
                    <a:lnTo>
                      <a:pt x="44" y="50"/>
                    </a:lnTo>
                    <a:lnTo>
                      <a:pt x="38" y="50"/>
                    </a:lnTo>
                    <a:lnTo>
                      <a:pt x="28" y="48"/>
                    </a:lnTo>
                    <a:lnTo>
                      <a:pt x="21" y="46"/>
                    </a:lnTo>
                    <a:lnTo>
                      <a:pt x="15" y="44"/>
                    </a:lnTo>
                    <a:lnTo>
                      <a:pt x="9" y="42"/>
                    </a:lnTo>
                    <a:lnTo>
                      <a:pt x="2" y="36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7" y="25"/>
                    </a:lnTo>
                    <a:lnTo>
                      <a:pt x="11" y="21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7" y="12"/>
                    </a:lnTo>
                    <a:lnTo>
                      <a:pt x="66" y="10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10"/>
                    </a:lnTo>
                    <a:lnTo>
                      <a:pt x="116" y="12"/>
                    </a:lnTo>
                    <a:lnTo>
                      <a:pt x="127" y="12"/>
                    </a:lnTo>
                    <a:lnTo>
                      <a:pt x="139" y="16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4"/>
                    </a:lnTo>
                    <a:lnTo>
                      <a:pt x="163" y="14"/>
                    </a:lnTo>
                    <a:lnTo>
                      <a:pt x="169" y="12"/>
                    </a:lnTo>
                    <a:lnTo>
                      <a:pt x="177" y="10"/>
                    </a:lnTo>
                    <a:lnTo>
                      <a:pt x="182" y="8"/>
                    </a:lnTo>
                    <a:lnTo>
                      <a:pt x="188" y="6"/>
                    </a:lnTo>
                    <a:lnTo>
                      <a:pt x="18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1197000" y="4632480"/>
                <a:ext cx="1063440" cy="74520"/>
              </a:xfrm>
              <a:custGeom>
                <a:avLst/>
                <a:gdLst/>
                <a:ahLst/>
                <a:rect l="l" t="t" r="r" b="b"/>
                <a:pathLst>
                  <a:path w="1340" h="93">
                    <a:moveTo>
                      <a:pt x="482" y="0"/>
                    </a:moveTo>
                    <a:lnTo>
                      <a:pt x="496" y="0"/>
                    </a:lnTo>
                    <a:lnTo>
                      <a:pt x="507" y="0"/>
                    </a:lnTo>
                    <a:lnTo>
                      <a:pt x="520" y="0"/>
                    </a:lnTo>
                    <a:lnTo>
                      <a:pt x="534" y="0"/>
                    </a:lnTo>
                    <a:lnTo>
                      <a:pt x="545" y="0"/>
                    </a:lnTo>
                    <a:lnTo>
                      <a:pt x="558" y="0"/>
                    </a:lnTo>
                    <a:lnTo>
                      <a:pt x="572" y="0"/>
                    </a:lnTo>
                    <a:lnTo>
                      <a:pt x="585" y="2"/>
                    </a:lnTo>
                    <a:lnTo>
                      <a:pt x="598" y="2"/>
                    </a:lnTo>
                    <a:lnTo>
                      <a:pt x="610" y="2"/>
                    </a:lnTo>
                    <a:lnTo>
                      <a:pt x="623" y="2"/>
                    </a:lnTo>
                    <a:lnTo>
                      <a:pt x="636" y="2"/>
                    </a:lnTo>
                    <a:lnTo>
                      <a:pt x="650" y="2"/>
                    </a:lnTo>
                    <a:lnTo>
                      <a:pt x="663" y="2"/>
                    </a:lnTo>
                    <a:lnTo>
                      <a:pt x="676" y="2"/>
                    </a:lnTo>
                    <a:lnTo>
                      <a:pt x="692" y="2"/>
                    </a:lnTo>
                    <a:lnTo>
                      <a:pt x="703" y="2"/>
                    </a:lnTo>
                    <a:lnTo>
                      <a:pt x="716" y="2"/>
                    </a:lnTo>
                    <a:lnTo>
                      <a:pt x="730" y="2"/>
                    </a:lnTo>
                    <a:lnTo>
                      <a:pt x="745" y="2"/>
                    </a:lnTo>
                    <a:lnTo>
                      <a:pt x="756" y="2"/>
                    </a:lnTo>
                    <a:lnTo>
                      <a:pt x="769" y="2"/>
                    </a:lnTo>
                    <a:lnTo>
                      <a:pt x="785" y="2"/>
                    </a:lnTo>
                    <a:lnTo>
                      <a:pt x="798" y="4"/>
                    </a:lnTo>
                    <a:lnTo>
                      <a:pt x="811" y="4"/>
                    </a:lnTo>
                    <a:lnTo>
                      <a:pt x="825" y="4"/>
                    </a:lnTo>
                    <a:lnTo>
                      <a:pt x="838" y="4"/>
                    </a:lnTo>
                    <a:lnTo>
                      <a:pt x="851" y="4"/>
                    </a:lnTo>
                    <a:lnTo>
                      <a:pt x="865" y="4"/>
                    </a:lnTo>
                    <a:lnTo>
                      <a:pt x="878" y="4"/>
                    </a:lnTo>
                    <a:lnTo>
                      <a:pt x="893" y="4"/>
                    </a:lnTo>
                    <a:lnTo>
                      <a:pt x="906" y="6"/>
                    </a:lnTo>
                    <a:lnTo>
                      <a:pt x="920" y="6"/>
                    </a:lnTo>
                    <a:lnTo>
                      <a:pt x="933" y="6"/>
                    </a:lnTo>
                    <a:lnTo>
                      <a:pt x="948" y="6"/>
                    </a:lnTo>
                    <a:lnTo>
                      <a:pt x="961" y="6"/>
                    </a:lnTo>
                    <a:lnTo>
                      <a:pt x="973" y="6"/>
                    </a:lnTo>
                    <a:lnTo>
                      <a:pt x="988" y="6"/>
                    </a:lnTo>
                    <a:lnTo>
                      <a:pt x="1001" y="6"/>
                    </a:lnTo>
                    <a:lnTo>
                      <a:pt x="1015" y="7"/>
                    </a:lnTo>
                    <a:lnTo>
                      <a:pt x="1028" y="7"/>
                    </a:lnTo>
                    <a:lnTo>
                      <a:pt x="1041" y="7"/>
                    </a:lnTo>
                    <a:lnTo>
                      <a:pt x="1055" y="7"/>
                    </a:lnTo>
                    <a:lnTo>
                      <a:pt x="1070" y="9"/>
                    </a:lnTo>
                    <a:lnTo>
                      <a:pt x="1081" y="9"/>
                    </a:lnTo>
                    <a:lnTo>
                      <a:pt x="1096" y="9"/>
                    </a:lnTo>
                    <a:lnTo>
                      <a:pt x="1110" y="11"/>
                    </a:lnTo>
                    <a:lnTo>
                      <a:pt x="1125" y="13"/>
                    </a:lnTo>
                    <a:lnTo>
                      <a:pt x="1136" y="13"/>
                    </a:lnTo>
                    <a:lnTo>
                      <a:pt x="1152" y="13"/>
                    </a:lnTo>
                    <a:lnTo>
                      <a:pt x="1163" y="15"/>
                    </a:lnTo>
                    <a:lnTo>
                      <a:pt x="1176" y="15"/>
                    </a:lnTo>
                    <a:lnTo>
                      <a:pt x="1190" y="15"/>
                    </a:lnTo>
                    <a:lnTo>
                      <a:pt x="1203" y="17"/>
                    </a:lnTo>
                    <a:lnTo>
                      <a:pt x="1218" y="17"/>
                    </a:lnTo>
                    <a:lnTo>
                      <a:pt x="1231" y="19"/>
                    </a:lnTo>
                    <a:lnTo>
                      <a:pt x="1245" y="21"/>
                    </a:lnTo>
                    <a:lnTo>
                      <a:pt x="1258" y="23"/>
                    </a:lnTo>
                    <a:lnTo>
                      <a:pt x="1271" y="25"/>
                    </a:lnTo>
                    <a:lnTo>
                      <a:pt x="1285" y="26"/>
                    </a:lnTo>
                    <a:lnTo>
                      <a:pt x="1298" y="26"/>
                    </a:lnTo>
                    <a:lnTo>
                      <a:pt x="1311" y="28"/>
                    </a:lnTo>
                    <a:lnTo>
                      <a:pt x="1325" y="30"/>
                    </a:lnTo>
                    <a:lnTo>
                      <a:pt x="1340" y="34"/>
                    </a:lnTo>
                    <a:lnTo>
                      <a:pt x="1319" y="34"/>
                    </a:lnTo>
                    <a:lnTo>
                      <a:pt x="1298" y="38"/>
                    </a:lnTo>
                    <a:lnTo>
                      <a:pt x="1277" y="38"/>
                    </a:lnTo>
                    <a:lnTo>
                      <a:pt x="1258" y="42"/>
                    </a:lnTo>
                    <a:lnTo>
                      <a:pt x="1237" y="44"/>
                    </a:lnTo>
                    <a:lnTo>
                      <a:pt x="1218" y="45"/>
                    </a:lnTo>
                    <a:lnTo>
                      <a:pt x="1195" y="45"/>
                    </a:lnTo>
                    <a:lnTo>
                      <a:pt x="1176" y="47"/>
                    </a:lnTo>
                    <a:lnTo>
                      <a:pt x="1155" y="47"/>
                    </a:lnTo>
                    <a:lnTo>
                      <a:pt x="1136" y="49"/>
                    </a:lnTo>
                    <a:lnTo>
                      <a:pt x="1115" y="51"/>
                    </a:lnTo>
                    <a:lnTo>
                      <a:pt x="1096" y="51"/>
                    </a:lnTo>
                    <a:lnTo>
                      <a:pt x="1074" y="51"/>
                    </a:lnTo>
                    <a:lnTo>
                      <a:pt x="1055" y="53"/>
                    </a:lnTo>
                    <a:lnTo>
                      <a:pt x="1034" y="53"/>
                    </a:lnTo>
                    <a:lnTo>
                      <a:pt x="1015" y="53"/>
                    </a:lnTo>
                    <a:lnTo>
                      <a:pt x="992" y="53"/>
                    </a:lnTo>
                    <a:lnTo>
                      <a:pt x="973" y="53"/>
                    </a:lnTo>
                    <a:lnTo>
                      <a:pt x="952" y="53"/>
                    </a:lnTo>
                    <a:lnTo>
                      <a:pt x="931" y="53"/>
                    </a:lnTo>
                    <a:lnTo>
                      <a:pt x="910" y="53"/>
                    </a:lnTo>
                    <a:lnTo>
                      <a:pt x="889" y="53"/>
                    </a:lnTo>
                    <a:lnTo>
                      <a:pt x="868" y="53"/>
                    </a:lnTo>
                    <a:lnTo>
                      <a:pt x="849" y="53"/>
                    </a:lnTo>
                    <a:lnTo>
                      <a:pt x="828" y="51"/>
                    </a:lnTo>
                    <a:lnTo>
                      <a:pt x="809" y="51"/>
                    </a:lnTo>
                    <a:lnTo>
                      <a:pt x="787" y="51"/>
                    </a:lnTo>
                    <a:lnTo>
                      <a:pt x="768" y="51"/>
                    </a:lnTo>
                    <a:lnTo>
                      <a:pt x="747" y="51"/>
                    </a:lnTo>
                    <a:lnTo>
                      <a:pt x="726" y="51"/>
                    </a:lnTo>
                    <a:lnTo>
                      <a:pt x="705" y="51"/>
                    </a:lnTo>
                    <a:lnTo>
                      <a:pt x="686" y="51"/>
                    </a:lnTo>
                    <a:lnTo>
                      <a:pt x="665" y="49"/>
                    </a:lnTo>
                    <a:lnTo>
                      <a:pt x="644" y="49"/>
                    </a:lnTo>
                    <a:lnTo>
                      <a:pt x="623" y="47"/>
                    </a:lnTo>
                    <a:lnTo>
                      <a:pt x="602" y="47"/>
                    </a:lnTo>
                    <a:lnTo>
                      <a:pt x="581" y="47"/>
                    </a:lnTo>
                    <a:lnTo>
                      <a:pt x="562" y="47"/>
                    </a:lnTo>
                    <a:lnTo>
                      <a:pt x="541" y="47"/>
                    </a:lnTo>
                    <a:lnTo>
                      <a:pt x="520" y="47"/>
                    </a:lnTo>
                    <a:lnTo>
                      <a:pt x="500" y="47"/>
                    </a:lnTo>
                    <a:lnTo>
                      <a:pt x="479" y="47"/>
                    </a:lnTo>
                    <a:lnTo>
                      <a:pt x="458" y="47"/>
                    </a:lnTo>
                    <a:lnTo>
                      <a:pt x="439" y="47"/>
                    </a:lnTo>
                    <a:lnTo>
                      <a:pt x="416" y="47"/>
                    </a:lnTo>
                    <a:lnTo>
                      <a:pt x="397" y="49"/>
                    </a:lnTo>
                    <a:lnTo>
                      <a:pt x="376" y="51"/>
                    </a:lnTo>
                    <a:lnTo>
                      <a:pt x="357" y="53"/>
                    </a:lnTo>
                    <a:lnTo>
                      <a:pt x="336" y="53"/>
                    </a:lnTo>
                    <a:lnTo>
                      <a:pt x="315" y="55"/>
                    </a:lnTo>
                    <a:lnTo>
                      <a:pt x="294" y="55"/>
                    </a:lnTo>
                    <a:lnTo>
                      <a:pt x="273" y="57"/>
                    </a:lnTo>
                    <a:lnTo>
                      <a:pt x="252" y="59"/>
                    </a:lnTo>
                    <a:lnTo>
                      <a:pt x="233" y="61"/>
                    </a:lnTo>
                    <a:lnTo>
                      <a:pt x="212" y="63"/>
                    </a:lnTo>
                    <a:lnTo>
                      <a:pt x="193" y="66"/>
                    </a:lnTo>
                    <a:lnTo>
                      <a:pt x="173" y="68"/>
                    </a:lnTo>
                    <a:lnTo>
                      <a:pt x="153" y="70"/>
                    </a:lnTo>
                    <a:lnTo>
                      <a:pt x="133" y="74"/>
                    </a:lnTo>
                    <a:lnTo>
                      <a:pt x="114" y="78"/>
                    </a:lnTo>
                    <a:lnTo>
                      <a:pt x="93" y="82"/>
                    </a:lnTo>
                    <a:lnTo>
                      <a:pt x="74" y="83"/>
                    </a:lnTo>
                    <a:lnTo>
                      <a:pt x="53" y="89"/>
                    </a:lnTo>
                    <a:lnTo>
                      <a:pt x="34" y="93"/>
                    </a:lnTo>
                    <a:lnTo>
                      <a:pt x="28" y="91"/>
                    </a:lnTo>
                    <a:lnTo>
                      <a:pt x="22" y="87"/>
                    </a:lnTo>
                    <a:lnTo>
                      <a:pt x="17" y="85"/>
                    </a:lnTo>
                    <a:lnTo>
                      <a:pt x="15" y="83"/>
                    </a:lnTo>
                    <a:lnTo>
                      <a:pt x="7" y="80"/>
                    </a:lnTo>
                    <a:lnTo>
                      <a:pt x="3" y="76"/>
                    </a:lnTo>
                    <a:lnTo>
                      <a:pt x="0" y="68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15" y="55"/>
                    </a:lnTo>
                    <a:lnTo>
                      <a:pt x="22" y="53"/>
                    </a:lnTo>
                    <a:lnTo>
                      <a:pt x="32" y="51"/>
                    </a:lnTo>
                    <a:lnTo>
                      <a:pt x="39" y="47"/>
                    </a:lnTo>
                    <a:lnTo>
                      <a:pt x="51" y="47"/>
                    </a:lnTo>
                    <a:lnTo>
                      <a:pt x="55" y="45"/>
                    </a:lnTo>
                    <a:lnTo>
                      <a:pt x="62" y="45"/>
                    </a:lnTo>
                    <a:lnTo>
                      <a:pt x="68" y="44"/>
                    </a:lnTo>
                    <a:lnTo>
                      <a:pt x="74" y="44"/>
                    </a:lnTo>
                    <a:lnTo>
                      <a:pt x="79" y="42"/>
                    </a:lnTo>
                    <a:lnTo>
                      <a:pt x="87" y="42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6" y="38"/>
                    </a:lnTo>
                    <a:lnTo>
                      <a:pt x="112" y="38"/>
                    </a:lnTo>
                    <a:lnTo>
                      <a:pt x="119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8" y="34"/>
                    </a:lnTo>
                    <a:lnTo>
                      <a:pt x="146" y="34"/>
                    </a:lnTo>
                    <a:lnTo>
                      <a:pt x="153" y="34"/>
                    </a:lnTo>
                    <a:lnTo>
                      <a:pt x="159" y="32"/>
                    </a:lnTo>
                    <a:lnTo>
                      <a:pt x="167" y="32"/>
                    </a:lnTo>
                    <a:lnTo>
                      <a:pt x="173" y="32"/>
                    </a:lnTo>
                    <a:lnTo>
                      <a:pt x="180" y="32"/>
                    </a:lnTo>
                    <a:lnTo>
                      <a:pt x="186" y="30"/>
                    </a:lnTo>
                    <a:lnTo>
                      <a:pt x="192" y="28"/>
                    </a:lnTo>
                    <a:lnTo>
                      <a:pt x="199" y="28"/>
                    </a:lnTo>
                    <a:lnTo>
                      <a:pt x="205" y="28"/>
                    </a:lnTo>
                    <a:lnTo>
                      <a:pt x="216" y="26"/>
                    </a:lnTo>
                    <a:lnTo>
                      <a:pt x="228" y="26"/>
                    </a:lnTo>
                    <a:lnTo>
                      <a:pt x="237" y="25"/>
                    </a:lnTo>
                    <a:lnTo>
                      <a:pt x="247" y="25"/>
                    </a:lnTo>
                    <a:lnTo>
                      <a:pt x="254" y="23"/>
                    </a:lnTo>
                    <a:lnTo>
                      <a:pt x="262" y="23"/>
                    </a:lnTo>
                    <a:lnTo>
                      <a:pt x="268" y="19"/>
                    </a:lnTo>
                    <a:lnTo>
                      <a:pt x="275" y="17"/>
                    </a:lnTo>
                    <a:lnTo>
                      <a:pt x="281" y="15"/>
                    </a:lnTo>
                    <a:lnTo>
                      <a:pt x="287" y="13"/>
                    </a:lnTo>
                    <a:lnTo>
                      <a:pt x="294" y="11"/>
                    </a:lnTo>
                    <a:lnTo>
                      <a:pt x="302" y="9"/>
                    </a:lnTo>
                    <a:lnTo>
                      <a:pt x="309" y="9"/>
                    </a:lnTo>
                    <a:lnTo>
                      <a:pt x="315" y="9"/>
                    </a:lnTo>
                    <a:lnTo>
                      <a:pt x="323" y="9"/>
                    </a:lnTo>
                    <a:lnTo>
                      <a:pt x="328" y="9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49" y="9"/>
                    </a:lnTo>
                    <a:lnTo>
                      <a:pt x="359" y="9"/>
                    </a:lnTo>
                    <a:lnTo>
                      <a:pt x="365" y="9"/>
                    </a:lnTo>
                    <a:lnTo>
                      <a:pt x="374" y="11"/>
                    </a:lnTo>
                    <a:lnTo>
                      <a:pt x="380" y="11"/>
                    </a:lnTo>
                    <a:lnTo>
                      <a:pt x="387" y="11"/>
                    </a:lnTo>
                    <a:lnTo>
                      <a:pt x="393" y="11"/>
                    </a:lnTo>
                    <a:lnTo>
                      <a:pt x="401" y="11"/>
                    </a:lnTo>
                    <a:lnTo>
                      <a:pt x="406" y="9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29" y="9"/>
                    </a:lnTo>
                    <a:lnTo>
                      <a:pt x="435" y="9"/>
                    </a:lnTo>
                    <a:lnTo>
                      <a:pt x="442" y="7"/>
                    </a:lnTo>
                    <a:lnTo>
                      <a:pt x="448" y="7"/>
                    </a:lnTo>
                    <a:lnTo>
                      <a:pt x="456" y="6"/>
                    </a:lnTo>
                    <a:lnTo>
                      <a:pt x="461" y="4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754440" y="3255840"/>
              <a:ext cx="1784160" cy="1092240"/>
              <a:chOff x="3754440" y="3255840"/>
              <a:chExt cx="1784160" cy="1092240"/>
            </a:xfrm>
          </p:grpSpPr>
          <p:sp>
            <p:nvSpPr>
              <p:cNvPr id="660" name=""/>
              <p:cNvSpPr/>
              <p:nvPr/>
            </p:nvSpPr>
            <p:spPr>
              <a:xfrm>
                <a:off x="3754440" y="3255840"/>
                <a:ext cx="1784160" cy="109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06640" y="3975120"/>
                <a:ext cx="1679760" cy="372960"/>
              </a:xfrm>
              <a:custGeom>
                <a:avLst/>
                <a:gdLst/>
                <a:ahLst/>
                <a:rect l="l" t="t" r="r" b="b"/>
                <a:pathLst>
                  <a:path w="2114" h="470">
                    <a:moveTo>
                      <a:pt x="2070" y="470"/>
                    </a:moveTo>
                    <a:lnTo>
                      <a:pt x="2078" y="458"/>
                    </a:lnTo>
                    <a:lnTo>
                      <a:pt x="2087" y="446"/>
                    </a:lnTo>
                    <a:lnTo>
                      <a:pt x="2095" y="433"/>
                    </a:lnTo>
                    <a:lnTo>
                      <a:pt x="2101" y="419"/>
                    </a:lnTo>
                    <a:lnTo>
                      <a:pt x="2106" y="405"/>
                    </a:lnTo>
                    <a:lnTo>
                      <a:pt x="2111" y="393"/>
                    </a:lnTo>
                    <a:lnTo>
                      <a:pt x="2113" y="379"/>
                    </a:lnTo>
                    <a:lnTo>
                      <a:pt x="2114" y="366"/>
                    </a:lnTo>
                    <a:lnTo>
                      <a:pt x="2113" y="348"/>
                    </a:lnTo>
                    <a:lnTo>
                      <a:pt x="2108" y="329"/>
                    </a:lnTo>
                    <a:lnTo>
                      <a:pt x="2101" y="311"/>
                    </a:lnTo>
                    <a:lnTo>
                      <a:pt x="2092" y="292"/>
                    </a:lnTo>
                    <a:lnTo>
                      <a:pt x="2081" y="275"/>
                    </a:lnTo>
                    <a:lnTo>
                      <a:pt x="2067" y="258"/>
                    </a:lnTo>
                    <a:lnTo>
                      <a:pt x="2050" y="241"/>
                    </a:lnTo>
                    <a:lnTo>
                      <a:pt x="2031" y="223"/>
                    </a:lnTo>
                    <a:lnTo>
                      <a:pt x="2009" y="207"/>
                    </a:lnTo>
                    <a:lnTo>
                      <a:pt x="1986" y="192"/>
                    </a:lnTo>
                    <a:lnTo>
                      <a:pt x="1961" y="176"/>
                    </a:lnTo>
                    <a:lnTo>
                      <a:pt x="1933" y="161"/>
                    </a:lnTo>
                    <a:lnTo>
                      <a:pt x="1904" y="147"/>
                    </a:lnTo>
                    <a:lnTo>
                      <a:pt x="1872" y="133"/>
                    </a:lnTo>
                    <a:lnTo>
                      <a:pt x="1840" y="120"/>
                    </a:lnTo>
                    <a:lnTo>
                      <a:pt x="1804" y="107"/>
                    </a:lnTo>
                    <a:lnTo>
                      <a:pt x="1767" y="95"/>
                    </a:lnTo>
                    <a:lnTo>
                      <a:pt x="1729" y="84"/>
                    </a:lnTo>
                    <a:lnTo>
                      <a:pt x="1689" y="72"/>
                    </a:lnTo>
                    <a:lnTo>
                      <a:pt x="1649" y="62"/>
                    </a:lnTo>
                    <a:lnTo>
                      <a:pt x="1605" y="53"/>
                    </a:lnTo>
                    <a:lnTo>
                      <a:pt x="1561" y="45"/>
                    </a:lnTo>
                    <a:lnTo>
                      <a:pt x="1515" y="35"/>
                    </a:lnTo>
                    <a:lnTo>
                      <a:pt x="1469" y="29"/>
                    </a:lnTo>
                    <a:lnTo>
                      <a:pt x="1421" y="22"/>
                    </a:lnTo>
                    <a:lnTo>
                      <a:pt x="1372" y="16"/>
                    </a:lnTo>
                    <a:lnTo>
                      <a:pt x="1321" y="11"/>
                    </a:lnTo>
                    <a:lnTo>
                      <a:pt x="1271" y="7"/>
                    </a:lnTo>
                    <a:lnTo>
                      <a:pt x="1219" y="4"/>
                    </a:lnTo>
                    <a:lnTo>
                      <a:pt x="1166" y="2"/>
                    </a:lnTo>
                    <a:lnTo>
                      <a:pt x="1112" y="0"/>
                    </a:lnTo>
                    <a:lnTo>
                      <a:pt x="1058" y="0"/>
                    </a:lnTo>
                    <a:lnTo>
                      <a:pt x="1003" y="0"/>
                    </a:lnTo>
                    <a:lnTo>
                      <a:pt x="949" y="2"/>
                    </a:lnTo>
                    <a:lnTo>
                      <a:pt x="896" y="4"/>
                    </a:lnTo>
                    <a:lnTo>
                      <a:pt x="844" y="7"/>
                    </a:lnTo>
                    <a:lnTo>
                      <a:pt x="794" y="11"/>
                    </a:lnTo>
                    <a:lnTo>
                      <a:pt x="743" y="16"/>
                    </a:lnTo>
                    <a:lnTo>
                      <a:pt x="693" y="22"/>
                    </a:lnTo>
                    <a:lnTo>
                      <a:pt x="646" y="29"/>
                    </a:lnTo>
                    <a:lnTo>
                      <a:pt x="599" y="35"/>
                    </a:lnTo>
                    <a:lnTo>
                      <a:pt x="553" y="45"/>
                    </a:lnTo>
                    <a:lnTo>
                      <a:pt x="509" y="53"/>
                    </a:lnTo>
                    <a:lnTo>
                      <a:pt x="466" y="62"/>
                    </a:lnTo>
                    <a:lnTo>
                      <a:pt x="425" y="72"/>
                    </a:lnTo>
                    <a:lnTo>
                      <a:pt x="385" y="84"/>
                    </a:lnTo>
                    <a:lnTo>
                      <a:pt x="347" y="95"/>
                    </a:lnTo>
                    <a:lnTo>
                      <a:pt x="310" y="107"/>
                    </a:lnTo>
                    <a:lnTo>
                      <a:pt x="274" y="120"/>
                    </a:lnTo>
                    <a:lnTo>
                      <a:pt x="242" y="133"/>
                    </a:lnTo>
                    <a:lnTo>
                      <a:pt x="210" y="147"/>
                    </a:lnTo>
                    <a:lnTo>
                      <a:pt x="181" y="161"/>
                    </a:lnTo>
                    <a:lnTo>
                      <a:pt x="153" y="176"/>
                    </a:lnTo>
                    <a:lnTo>
                      <a:pt x="128" y="192"/>
                    </a:lnTo>
                    <a:lnTo>
                      <a:pt x="105" y="207"/>
                    </a:lnTo>
                    <a:lnTo>
                      <a:pt x="83" y="223"/>
                    </a:lnTo>
                    <a:lnTo>
                      <a:pt x="64" y="241"/>
                    </a:lnTo>
                    <a:lnTo>
                      <a:pt x="47" y="258"/>
                    </a:lnTo>
                    <a:lnTo>
                      <a:pt x="33" y="275"/>
                    </a:lnTo>
                    <a:lnTo>
                      <a:pt x="22" y="292"/>
                    </a:lnTo>
                    <a:lnTo>
                      <a:pt x="13" y="311"/>
                    </a:lnTo>
                    <a:lnTo>
                      <a:pt x="6" y="329"/>
                    </a:lnTo>
                    <a:lnTo>
                      <a:pt x="1" y="348"/>
                    </a:lnTo>
                    <a:lnTo>
                      <a:pt x="0" y="366"/>
                    </a:lnTo>
                    <a:lnTo>
                      <a:pt x="1" y="379"/>
                    </a:lnTo>
                    <a:lnTo>
                      <a:pt x="2" y="391"/>
                    </a:lnTo>
                    <a:lnTo>
                      <a:pt x="6" y="405"/>
                    </a:lnTo>
                    <a:lnTo>
                      <a:pt x="10" y="418"/>
                    </a:lnTo>
                    <a:lnTo>
                      <a:pt x="16" y="431"/>
                    </a:lnTo>
                    <a:lnTo>
                      <a:pt x="23" y="442"/>
                    </a:lnTo>
                    <a:lnTo>
                      <a:pt x="31" y="455"/>
                    </a:lnTo>
                    <a:lnTo>
                      <a:pt x="40" y="466"/>
                    </a:lnTo>
                    <a:lnTo>
                      <a:pt x="2070" y="4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914640" y="3274920"/>
                <a:ext cx="1454400" cy="1069920"/>
              </a:xfrm>
              <a:custGeom>
                <a:avLst/>
                <a:gdLst/>
                <a:ahLst/>
                <a:rect l="l" t="t" r="r" b="b"/>
                <a:pathLst>
                  <a:path w="1832" h="1349">
                    <a:moveTo>
                      <a:pt x="1789" y="1035"/>
                    </a:moveTo>
                    <a:lnTo>
                      <a:pt x="1780" y="1033"/>
                    </a:lnTo>
                    <a:lnTo>
                      <a:pt x="1771" y="1032"/>
                    </a:lnTo>
                    <a:lnTo>
                      <a:pt x="1761" y="1029"/>
                    </a:lnTo>
                    <a:lnTo>
                      <a:pt x="1753" y="1025"/>
                    </a:lnTo>
                    <a:lnTo>
                      <a:pt x="1744" y="1023"/>
                    </a:lnTo>
                    <a:lnTo>
                      <a:pt x="1736" y="1021"/>
                    </a:lnTo>
                    <a:lnTo>
                      <a:pt x="1727" y="1022"/>
                    </a:lnTo>
                    <a:lnTo>
                      <a:pt x="1716" y="1024"/>
                    </a:lnTo>
                    <a:lnTo>
                      <a:pt x="1716" y="1053"/>
                    </a:lnTo>
                    <a:lnTo>
                      <a:pt x="1714" y="1082"/>
                    </a:lnTo>
                    <a:lnTo>
                      <a:pt x="1711" y="1111"/>
                    </a:lnTo>
                    <a:lnTo>
                      <a:pt x="1706" y="1139"/>
                    </a:lnTo>
                    <a:lnTo>
                      <a:pt x="1699" y="1167"/>
                    </a:lnTo>
                    <a:lnTo>
                      <a:pt x="1690" y="1194"/>
                    </a:lnTo>
                    <a:lnTo>
                      <a:pt x="1678" y="1219"/>
                    </a:lnTo>
                    <a:lnTo>
                      <a:pt x="1663" y="1243"/>
                    </a:lnTo>
                    <a:lnTo>
                      <a:pt x="1650" y="1251"/>
                    </a:lnTo>
                    <a:lnTo>
                      <a:pt x="1635" y="1259"/>
                    </a:lnTo>
                    <a:lnTo>
                      <a:pt x="1620" y="1266"/>
                    </a:lnTo>
                    <a:lnTo>
                      <a:pt x="1605" y="1272"/>
                    </a:lnTo>
                    <a:lnTo>
                      <a:pt x="1589" y="1278"/>
                    </a:lnTo>
                    <a:lnTo>
                      <a:pt x="1572" y="1284"/>
                    </a:lnTo>
                    <a:lnTo>
                      <a:pt x="1556" y="1288"/>
                    </a:lnTo>
                    <a:lnTo>
                      <a:pt x="1540" y="1293"/>
                    </a:lnTo>
                    <a:lnTo>
                      <a:pt x="1523" y="1296"/>
                    </a:lnTo>
                    <a:lnTo>
                      <a:pt x="1506" y="1301"/>
                    </a:lnTo>
                    <a:lnTo>
                      <a:pt x="1488" y="1304"/>
                    </a:lnTo>
                    <a:lnTo>
                      <a:pt x="1471" y="1308"/>
                    </a:lnTo>
                    <a:lnTo>
                      <a:pt x="1454" y="1311"/>
                    </a:lnTo>
                    <a:lnTo>
                      <a:pt x="1438" y="1315"/>
                    </a:lnTo>
                    <a:lnTo>
                      <a:pt x="1420" y="1318"/>
                    </a:lnTo>
                    <a:lnTo>
                      <a:pt x="1403" y="1322"/>
                    </a:lnTo>
                    <a:lnTo>
                      <a:pt x="1276" y="1334"/>
                    </a:lnTo>
                    <a:lnTo>
                      <a:pt x="1244" y="1337"/>
                    </a:lnTo>
                    <a:lnTo>
                      <a:pt x="1211" y="1339"/>
                    </a:lnTo>
                    <a:lnTo>
                      <a:pt x="1178" y="1340"/>
                    </a:lnTo>
                    <a:lnTo>
                      <a:pt x="1145" y="1342"/>
                    </a:lnTo>
                    <a:lnTo>
                      <a:pt x="1113" y="1343"/>
                    </a:lnTo>
                    <a:lnTo>
                      <a:pt x="1079" y="1346"/>
                    </a:lnTo>
                    <a:lnTo>
                      <a:pt x="1047" y="1347"/>
                    </a:lnTo>
                    <a:lnTo>
                      <a:pt x="1014" y="1348"/>
                    </a:lnTo>
                    <a:lnTo>
                      <a:pt x="980" y="1348"/>
                    </a:lnTo>
                    <a:lnTo>
                      <a:pt x="948" y="1349"/>
                    </a:lnTo>
                    <a:lnTo>
                      <a:pt x="915" y="1349"/>
                    </a:lnTo>
                    <a:lnTo>
                      <a:pt x="881" y="1349"/>
                    </a:lnTo>
                    <a:lnTo>
                      <a:pt x="849" y="1349"/>
                    </a:lnTo>
                    <a:lnTo>
                      <a:pt x="815" y="1348"/>
                    </a:lnTo>
                    <a:lnTo>
                      <a:pt x="782" y="1348"/>
                    </a:lnTo>
                    <a:lnTo>
                      <a:pt x="750" y="1347"/>
                    </a:lnTo>
                    <a:lnTo>
                      <a:pt x="716" y="1345"/>
                    </a:lnTo>
                    <a:lnTo>
                      <a:pt x="684" y="1343"/>
                    </a:lnTo>
                    <a:lnTo>
                      <a:pt x="652" y="1341"/>
                    </a:lnTo>
                    <a:lnTo>
                      <a:pt x="620" y="1339"/>
                    </a:lnTo>
                    <a:lnTo>
                      <a:pt x="587" y="1335"/>
                    </a:lnTo>
                    <a:lnTo>
                      <a:pt x="555" y="1332"/>
                    </a:lnTo>
                    <a:lnTo>
                      <a:pt x="523" y="1328"/>
                    </a:lnTo>
                    <a:lnTo>
                      <a:pt x="490" y="1324"/>
                    </a:lnTo>
                    <a:lnTo>
                      <a:pt x="459" y="1319"/>
                    </a:lnTo>
                    <a:lnTo>
                      <a:pt x="427" y="1315"/>
                    </a:lnTo>
                    <a:lnTo>
                      <a:pt x="396" y="1309"/>
                    </a:lnTo>
                    <a:lnTo>
                      <a:pt x="365" y="1303"/>
                    </a:lnTo>
                    <a:lnTo>
                      <a:pt x="334" y="1296"/>
                    </a:lnTo>
                    <a:lnTo>
                      <a:pt x="304" y="1289"/>
                    </a:lnTo>
                    <a:lnTo>
                      <a:pt x="273" y="1281"/>
                    </a:lnTo>
                    <a:lnTo>
                      <a:pt x="243" y="1273"/>
                    </a:lnTo>
                    <a:lnTo>
                      <a:pt x="159" y="1244"/>
                    </a:lnTo>
                    <a:lnTo>
                      <a:pt x="147" y="1234"/>
                    </a:lnTo>
                    <a:lnTo>
                      <a:pt x="141" y="1221"/>
                    </a:lnTo>
                    <a:lnTo>
                      <a:pt x="138" y="1209"/>
                    </a:lnTo>
                    <a:lnTo>
                      <a:pt x="136" y="1198"/>
                    </a:lnTo>
                    <a:lnTo>
                      <a:pt x="131" y="1169"/>
                    </a:lnTo>
                    <a:lnTo>
                      <a:pt x="124" y="1139"/>
                    </a:lnTo>
                    <a:lnTo>
                      <a:pt x="119" y="1110"/>
                    </a:lnTo>
                    <a:lnTo>
                      <a:pt x="116" y="1078"/>
                    </a:lnTo>
                    <a:lnTo>
                      <a:pt x="106" y="1083"/>
                    </a:lnTo>
                    <a:lnTo>
                      <a:pt x="95" y="1089"/>
                    </a:lnTo>
                    <a:lnTo>
                      <a:pt x="85" y="1096"/>
                    </a:lnTo>
                    <a:lnTo>
                      <a:pt x="73" y="1100"/>
                    </a:lnTo>
                    <a:lnTo>
                      <a:pt x="63" y="1105"/>
                    </a:lnTo>
                    <a:lnTo>
                      <a:pt x="51" y="1106"/>
                    </a:lnTo>
                    <a:lnTo>
                      <a:pt x="39" y="1104"/>
                    </a:lnTo>
                    <a:lnTo>
                      <a:pt x="27" y="1097"/>
                    </a:lnTo>
                    <a:lnTo>
                      <a:pt x="19" y="1085"/>
                    </a:lnTo>
                    <a:lnTo>
                      <a:pt x="13" y="1072"/>
                    </a:lnTo>
                    <a:lnTo>
                      <a:pt x="12" y="1058"/>
                    </a:lnTo>
                    <a:lnTo>
                      <a:pt x="15" y="1044"/>
                    </a:lnTo>
                    <a:lnTo>
                      <a:pt x="40" y="1017"/>
                    </a:lnTo>
                    <a:lnTo>
                      <a:pt x="17" y="1007"/>
                    </a:lnTo>
                    <a:lnTo>
                      <a:pt x="3" y="999"/>
                    </a:lnTo>
                    <a:lnTo>
                      <a:pt x="0" y="985"/>
                    </a:lnTo>
                    <a:lnTo>
                      <a:pt x="1" y="969"/>
                    </a:lnTo>
                    <a:lnTo>
                      <a:pt x="0" y="954"/>
                    </a:lnTo>
                    <a:lnTo>
                      <a:pt x="10" y="945"/>
                    </a:lnTo>
                    <a:lnTo>
                      <a:pt x="22" y="937"/>
                    </a:lnTo>
                    <a:lnTo>
                      <a:pt x="34" y="931"/>
                    </a:lnTo>
                    <a:lnTo>
                      <a:pt x="47" y="925"/>
                    </a:lnTo>
                    <a:lnTo>
                      <a:pt x="61" y="923"/>
                    </a:lnTo>
                    <a:lnTo>
                      <a:pt x="75" y="921"/>
                    </a:lnTo>
                    <a:lnTo>
                      <a:pt x="88" y="921"/>
                    </a:lnTo>
                    <a:lnTo>
                      <a:pt x="102" y="922"/>
                    </a:lnTo>
                    <a:lnTo>
                      <a:pt x="94" y="894"/>
                    </a:lnTo>
                    <a:lnTo>
                      <a:pt x="90" y="863"/>
                    </a:lnTo>
                    <a:lnTo>
                      <a:pt x="91" y="831"/>
                    </a:lnTo>
                    <a:lnTo>
                      <a:pt x="100" y="801"/>
                    </a:lnTo>
                    <a:lnTo>
                      <a:pt x="95" y="785"/>
                    </a:lnTo>
                    <a:lnTo>
                      <a:pt x="93" y="765"/>
                    </a:lnTo>
                    <a:lnTo>
                      <a:pt x="95" y="748"/>
                    </a:lnTo>
                    <a:lnTo>
                      <a:pt x="104" y="733"/>
                    </a:lnTo>
                    <a:lnTo>
                      <a:pt x="95" y="729"/>
                    </a:lnTo>
                    <a:lnTo>
                      <a:pt x="86" y="729"/>
                    </a:lnTo>
                    <a:lnTo>
                      <a:pt x="77" y="730"/>
                    </a:lnTo>
                    <a:lnTo>
                      <a:pt x="68" y="733"/>
                    </a:lnTo>
                    <a:lnTo>
                      <a:pt x="58" y="734"/>
                    </a:lnTo>
                    <a:lnTo>
                      <a:pt x="50" y="734"/>
                    </a:lnTo>
                    <a:lnTo>
                      <a:pt x="42" y="729"/>
                    </a:lnTo>
                    <a:lnTo>
                      <a:pt x="35" y="721"/>
                    </a:lnTo>
                    <a:lnTo>
                      <a:pt x="33" y="704"/>
                    </a:lnTo>
                    <a:lnTo>
                      <a:pt x="34" y="688"/>
                    </a:lnTo>
                    <a:lnTo>
                      <a:pt x="38" y="672"/>
                    </a:lnTo>
                    <a:lnTo>
                      <a:pt x="43" y="657"/>
                    </a:lnTo>
                    <a:lnTo>
                      <a:pt x="50" y="643"/>
                    </a:lnTo>
                    <a:lnTo>
                      <a:pt x="60" y="629"/>
                    </a:lnTo>
                    <a:lnTo>
                      <a:pt x="70" y="615"/>
                    </a:lnTo>
                    <a:lnTo>
                      <a:pt x="81" y="603"/>
                    </a:lnTo>
                    <a:lnTo>
                      <a:pt x="73" y="598"/>
                    </a:lnTo>
                    <a:lnTo>
                      <a:pt x="66" y="593"/>
                    </a:lnTo>
                    <a:lnTo>
                      <a:pt x="60" y="589"/>
                    </a:lnTo>
                    <a:lnTo>
                      <a:pt x="54" y="583"/>
                    </a:lnTo>
                    <a:lnTo>
                      <a:pt x="47" y="578"/>
                    </a:lnTo>
                    <a:lnTo>
                      <a:pt x="41" y="571"/>
                    </a:lnTo>
                    <a:lnTo>
                      <a:pt x="37" y="565"/>
                    </a:lnTo>
                    <a:lnTo>
                      <a:pt x="32" y="558"/>
                    </a:lnTo>
                    <a:lnTo>
                      <a:pt x="34" y="533"/>
                    </a:lnTo>
                    <a:lnTo>
                      <a:pt x="39" y="510"/>
                    </a:lnTo>
                    <a:lnTo>
                      <a:pt x="47" y="487"/>
                    </a:lnTo>
                    <a:lnTo>
                      <a:pt x="56" y="465"/>
                    </a:lnTo>
                    <a:lnTo>
                      <a:pt x="66" y="445"/>
                    </a:lnTo>
                    <a:lnTo>
                      <a:pt x="78" y="423"/>
                    </a:lnTo>
                    <a:lnTo>
                      <a:pt x="90" y="402"/>
                    </a:lnTo>
                    <a:lnTo>
                      <a:pt x="100" y="380"/>
                    </a:lnTo>
                    <a:lnTo>
                      <a:pt x="114" y="361"/>
                    </a:lnTo>
                    <a:lnTo>
                      <a:pt x="126" y="340"/>
                    </a:lnTo>
                    <a:lnTo>
                      <a:pt x="139" y="319"/>
                    </a:lnTo>
                    <a:lnTo>
                      <a:pt x="152" y="298"/>
                    </a:lnTo>
                    <a:lnTo>
                      <a:pt x="164" y="278"/>
                    </a:lnTo>
                    <a:lnTo>
                      <a:pt x="178" y="257"/>
                    </a:lnTo>
                    <a:lnTo>
                      <a:pt x="191" y="236"/>
                    </a:lnTo>
                    <a:lnTo>
                      <a:pt x="205" y="217"/>
                    </a:lnTo>
                    <a:lnTo>
                      <a:pt x="219" y="197"/>
                    </a:lnTo>
                    <a:lnTo>
                      <a:pt x="234" y="179"/>
                    </a:lnTo>
                    <a:lnTo>
                      <a:pt x="250" y="161"/>
                    </a:lnTo>
                    <a:lnTo>
                      <a:pt x="267" y="144"/>
                    </a:lnTo>
                    <a:lnTo>
                      <a:pt x="285" y="129"/>
                    </a:lnTo>
                    <a:lnTo>
                      <a:pt x="304" y="116"/>
                    </a:lnTo>
                    <a:lnTo>
                      <a:pt x="325" y="105"/>
                    </a:lnTo>
                    <a:lnTo>
                      <a:pt x="348" y="95"/>
                    </a:lnTo>
                    <a:lnTo>
                      <a:pt x="361" y="85"/>
                    </a:lnTo>
                    <a:lnTo>
                      <a:pt x="375" y="77"/>
                    </a:lnTo>
                    <a:lnTo>
                      <a:pt x="391" y="70"/>
                    </a:lnTo>
                    <a:lnTo>
                      <a:pt x="408" y="66"/>
                    </a:lnTo>
                    <a:lnTo>
                      <a:pt x="426" y="61"/>
                    </a:lnTo>
                    <a:lnTo>
                      <a:pt x="443" y="59"/>
                    </a:lnTo>
                    <a:lnTo>
                      <a:pt x="462" y="58"/>
                    </a:lnTo>
                    <a:lnTo>
                      <a:pt x="481" y="56"/>
                    </a:lnTo>
                    <a:lnTo>
                      <a:pt x="500" y="56"/>
                    </a:lnTo>
                    <a:lnTo>
                      <a:pt x="519" y="59"/>
                    </a:lnTo>
                    <a:lnTo>
                      <a:pt x="538" y="61"/>
                    </a:lnTo>
                    <a:lnTo>
                      <a:pt x="556" y="63"/>
                    </a:lnTo>
                    <a:lnTo>
                      <a:pt x="575" y="67"/>
                    </a:lnTo>
                    <a:lnTo>
                      <a:pt x="592" y="71"/>
                    </a:lnTo>
                    <a:lnTo>
                      <a:pt x="609" y="76"/>
                    </a:lnTo>
                    <a:lnTo>
                      <a:pt x="625" y="82"/>
                    </a:lnTo>
                    <a:lnTo>
                      <a:pt x="640" y="86"/>
                    </a:lnTo>
                    <a:lnTo>
                      <a:pt x="655" y="91"/>
                    </a:lnTo>
                    <a:lnTo>
                      <a:pt x="670" y="97"/>
                    </a:lnTo>
                    <a:lnTo>
                      <a:pt x="685" y="101"/>
                    </a:lnTo>
                    <a:lnTo>
                      <a:pt x="699" y="108"/>
                    </a:lnTo>
                    <a:lnTo>
                      <a:pt x="714" y="114"/>
                    </a:lnTo>
                    <a:lnTo>
                      <a:pt x="728" y="121"/>
                    </a:lnTo>
                    <a:lnTo>
                      <a:pt x="742" y="129"/>
                    </a:lnTo>
                    <a:lnTo>
                      <a:pt x="758" y="109"/>
                    </a:lnTo>
                    <a:lnTo>
                      <a:pt x="774" y="92"/>
                    </a:lnTo>
                    <a:lnTo>
                      <a:pt x="791" y="75"/>
                    </a:lnTo>
                    <a:lnTo>
                      <a:pt x="810" y="60"/>
                    </a:lnTo>
                    <a:lnTo>
                      <a:pt x="828" y="46"/>
                    </a:lnTo>
                    <a:lnTo>
                      <a:pt x="849" y="35"/>
                    </a:lnTo>
                    <a:lnTo>
                      <a:pt x="870" y="24"/>
                    </a:lnTo>
                    <a:lnTo>
                      <a:pt x="890" y="15"/>
                    </a:lnTo>
                    <a:lnTo>
                      <a:pt x="906" y="10"/>
                    </a:lnTo>
                    <a:lnTo>
                      <a:pt x="923" y="6"/>
                    </a:lnTo>
                    <a:lnTo>
                      <a:pt x="939" y="2"/>
                    </a:lnTo>
                    <a:lnTo>
                      <a:pt x="956" y="0"/>
                    </a:lnTo>
                    <a:lnTo>
                      <a:pt x="973" y="0"/>
                    </a:lnTo>
                    <a:lnTo>
                      <a:pt x="991" y="0"/>
                    </a:lnTo>
                    <a:lnTo>
                      <a:pt x="1008" y="1"/>
                    </a:lnTo>
                    <a:lnTo>
                      <a:pt x="1026" y="3"/>
                    </a:lnTo>
                    <a:lnTo>
                      <a:pt x="1041" y="5"/>
                    </a:lnTo>
                    <a:lnTo>
                      <a:pt x="1056" y="7"/>
                    </a:lnTo>
                    <a:lnTo>
                      <a:pt x="1069" y="10"/>
                    </a:lnTo>
                    <a:lnTo>
                      <a:pt x="1083" y="15"/>
                    </a:lnTo>
                    <a:lnTo>
                      <a:pt x="1095" y="20"/>
                    </a:lnTo>
                    <a:lnTo>
                      <a:pt x="1107" y="27"/>
                    </a:lnTo>
                    <a:lnTo>
                      <a:pt x="1118" y="33"/>
                    </a:lnTo>
                    <a:lnTo>
                      <a:pt x="1130" y="40"/>
                    </a:lnTo>
                    <a:lnTo>
                      <a:pt x="1140" y="48"/>
                    </a:lnTo>
                    <a:lnTo>
                      <a:pt x="1151" y="56"/>
                    </a:lnTo>
                    <a:lnTo>
                      <a:pt x="1161" y="66"/>
                    </a:lnTo>
                    <a:lnTo>
                      <a:pt x="1171" y="74"/>
                    </a:lnTo>
                    <a:lnTo>
                      <a:pt x="1181" y="83"/>
                    </a:lnTo>
                    <a:lnTo>
                      <a:pt x="1191" y="92"/>
                    </a:lnTo>
                    <a:lnTo>
                      <a:pt x="1201" y="101"/>
                    </a:lnTo>
                    <a:lnTo>
                      <a:pt x="1212" y="109"/>
                    </a:lnTo>
                    <a:lnTo>
                      <a:pt x="1223" y="111"/>
                    </a:lnTo>
                    <a:lnTo>
                      <a:pt x="1236" y="112"/>
                    </a:lnTo>
                    <a:lnTo>
                      <a:pt x="1249" y="112"/>
                    </a:lnTo>
                    <a:lnTo>
                      <a:pt x="1261" y="112"/>
                    </a:lnTo>
                    <a:lnTo>
                      <a:pt x="1274" y="112"/>
                    </a:lnTo>
                    <a:lnTo>
                      <a:pt x="1287" y="111"/>
                    </a:lnTo>
                    <a:lnTo>
                      <a:pt x="1301" y="111"/>
                    </a:lnTo>
                    <a:lnTo>
                      <a:pt x="1313" y="111"/>
                    </a:lnTo>
                    <a:lnTo>
                      <a:pt x="1326" y="111"/>
                    </a:lnTo>
                    <a:lnTo>
                      <a:pt x="1339" y="111"/>
                    </a:lnTo>
                    <a:lnTo>
                      <a:pt x="1351" y="112"/>
                    </a:lnTo>
                    <a:lnTo>
                      <a:pt x="1364" y="114"/>
                    </a:lnTo>
                    <a:lnTo>
                      <a:pt x="1375" y="116"/>
                    </a:lnTo>
                    <a:lnTo>
                      <a:pt x="1388" y="120"/>
                    </a:lnTo>
                    <a:lnTo>
                      <a:pt x="1398" y="124"/>
                    </a:lnTo>
                    <a:lnTo>
                      <a:pt x="1410" y="130"/>
                    </a:lnTo>
                    <a:lnTo>
                      <a:pt x="1435" y="139"/>
                    </a:lnTo>
                    <a:lnTo>
                      <a:pt x="1458" y="150"/>
                    </a:lnTo>
                    <a:lnTo>
                      <a:pt x="1481" y="164"/>
                    </a:lnTo>
                    <a:lnTo>
                      <a:pt x="1502" y="179"/>
                    </a:lnTo>
                    <a:lnTo>
                      <a:pt x="1523" y="195"/>
                    </a:lnTo>
                    <a:lnTo>
                      <a:pt x="1541" y="213"/>
                    </a:lnTo>
                    <a:lnTo>
                      <a:pt x="1560" y="233"/>
                    </a:lnTo>
                    <a:lnTo>
                      <a:pt x="1577" y="252"/>
                    </a:lnTo>
                    <a:lnTo>
                      <a:pt x="1593" y="274"/>
                    </a:lnTo>
                    <a:lnTo>
                      <a:pt x="1608" y="296"/>
                    </a:lnTo>
                    <a:lnTo>
                      <a:pt x="1623" y="319"/>
                    </a:lnTo>
                    <a:lnTo>
                      <a:pt x="1637" y="342"/>
                    </a:lnTo>
                    <a:lnTo>
                      <a:pt x="1650" y="365"/>
                    </a:lnTo>
                    <a:lnTo>
                      <a:pt x="1661" y="388"/>
                    </a:lnTo>
                    <a:lnTo>
                      <a:pt x="1673" y="410"/>
                    </a:lnTo>
                    <a:lnTo>
                      <a:pt x="1683" y="433"/>
                    </a:lnTo>
                    <a:lnTo>
                      <a:pt x="1692" y="463"/>
                    </a:lnTo>
                    <a:lnTo>
                      <a:pt x="1701" y="493"/>
                    </a:lnTo>
                    <a:lnTo>
                      <a:pt x="1707" y="524"/>
                    </a:lnTo>
                    <a:lnTo>
                      <a:pt x="1710" y="557"/>
                    </a:lnTo>
                    <a:lnTo>
                      <a:pt x="1704" y="563"/>
                    </a:lnTo>
                    <a:lnTo>
                      <a:pt x="1696" y="568"/>
                    </a:lnTo>
                    <a:lnTo>
                      <a:pt x="1688" y="573"/>
                    </a:lnTo>
                    <a:lnTo>
                      <a:pt x="1678" y="577"/>
                    </a:lnTo>
                    <a:lnTo>
                      <a:pt x="1670" y="581"/>
                    </a:lnTo>
                    <a:lnTo>
                      <a:pt x="1661" y="584"/>
                    </a:lnTo>
                    <a:lnTo>
                      <a:pt x="1653" y="589"/>
                    </a:lnTo>
                    <a:lnTo>
                      <a:pt x="1646" y="595"/>
                    </a:lnTo>
                    <a:lnTo>
                      <a:pt x="1650" y="601"/>
                    </a:lnTo>
                    <a:lnTo>
                      <a:pt x="1657" y="606"/>
                    </a:lnTo>
                    <a:lnTo>
                      <a:pt x="1665" y="611"/>
                    </a:lnTo>
                    <a:lnTo>
                      <a:pt x="1672" y="615"/>
                    </a:lnTo>
                    <a:lnTo>
                      <a:pt x="1692" y="634"/>
                    </a:lnTo>
                    <a:lnTo>
                      <a:pt x="1712" y="653"/>
                    </a:lnTo>
                    <a:lnTo>
                      <a:pt x="1729" y="674"/>
                    </a:lnTo>
                    <a:lnTo>
                      <a:pt x="1745" y="696"/>
                    </a:lnTo>
                    <a:lnTo>
                      <a:pt x="1758" y="719"/>
                    </a:lnTo>
                    <a:lnTo>
                      <a:pt x="1767" y="743"/>
                    </a:lnTo>
                    <a:lnTo>
                      <a:pt x="1772" y="769"/>
                    </a:lnTo>
                    <a:lnTo>
                      <a:pt x="1772" y="796"/>
                    </a:lnTo>
                    <a:lnTo>
                      <a:pt x="1768" y="802"/>
                    </a:lnTo>
                    <a:lnTo>
                      <a:pt x="1763" y="804"/>
                    </a:lnTo>
                    <a:lnTo>
                      <a:pt x="1757" y="804"/>
                    </a:lnTo>
                    <a:lnTo>
                      <a:pt x="1751" y="802"/>
                    </a:lnTo>
                    <a:lnTo>
                      <a:pt x="1751" y="820"/>
                    </a:lnTo>
                    <a:lnTo>
                      <a:pt x="1749" y="839"/>
                    </a:lnTo>
                    <a:lnTo>
                      <a:pt x="1744" y="857"/>
                    </a:lnTo>
                    <a:lnTo>
                      <a:pt x="1737" y="873"/>
                    </a:lnTo>
                    <a:lnTo>
                      <a:pt x="1746" y="872"/>
                    </a:lnTo>
                    <a:lnTo>
                      <a:pt x="1756" y="871"/>
                    </a:lnTo>
                    <a:lnTo>
                      <a:pt x="1766" y="871"/>
                    </a:lnTo>
                    <a:lnTo>
                      <a:pt x="1775" y="870"/>
                    </a:lnTo>
                    <a:lnTo>
                      <a:pt x="1784" y="871"/>
                    </a:lnTo>
                    <a:lnTo>
                      <a:pt x="1794" y="871"/>
                    </a:lnTo>
                    <a:lnTo>
                      <a:pt x="1803" y="873"/>
                    </a:lnTo>
                    <a:lnTo>
                      <a:pt x="1812" y="877"/>
                    </a:lnTo>
                    <a:lnTo>
                      <a:pt x="1822" y="885"/>
                    </a:lnTo>
                    <a:lnTo>
                      <a:pt x="1829" y="896"/>
                    </a:lnTo>
                    <a:lnTo>
                      <a:pt x="1832" y="909"/>
                    </a:lnTo>
                    <a:lnTo>
                      <a:pt x="1828" y="922"/>
                    </a:lnTo>
                    <a:lnTo>
                      <a:pt x="1825" y="934"/>
                    </a:lnTo>
                    <a:lnTo>
                      <a:pt x="1817" y="945"/>
                    </a:lnTo>
                    <a:lnTo>
                      <a:pt x="1809" y="955"/>
                    </a:lnTo>
                    <a:lnTo>
                      <a:pt x="1802" y="964"/>
                    </a:lnTo>
                    <a:lnTo>
                      <a:pt x="1807" y="977"/>
                    </a:lnTo>
                    <a:lnTo>
                      <a:pt x="1813" y="990"/>
                    </a:lnTo>
                    <a:lnTo>
                      <a:pt x="1818" y="1002"/>
                    </a:lnTo>
                    <a:lnTo>
                      <a:pt x="1818" y="1015"/>
                    </a:lnTo>
                    <a:lnTo>
                      <a:pt x="1810" y="1032"/>
                    </a:lnTo>
                    <a:lnTo>
                      <a:pt x="1789" y="10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51360" y="3289320"/>
                <a:ext cx="1306440" cy="415800"/>
              </a:xfrm>
              <a:custGeom>
                <a:avLst/>
                <a:gdLst/>
                <a:ahLst/>
                <a:rect l="l" t="t" r="r" b="b"/>
                <a:pathLst>
                  <a:path w="1644" h="526">
                    <a:moveTo>
                      <a:pt x="944" y="0"/>
                    </a:moveTo>
                    <a:lnTo>
                      <a:pt x="961" y="2"/>
                    </a:lnTo>
                    <a:lnTo>
                      <a:pt x="978" y="4"/>
                    </a:lnTo>
                    <a:lnTo>
                      <a:pt x="995" y="7"/>
                    </a:lnTo>
                    <a:lnTo>
                      <a:pt x="1013" y="11"/>
                    </a:lnTo>
                    <a:lnTo>
                      <a:pt x="1030" y="17"/>
                    </a:lnTo>
                    <a:lnTo>
                      <a:pt x="1046" y="22"/>
                    </a:lnTo>
                    <a:lnTo>
                      <a:pt x="1062" y="29"/>
                    </a:lnTo>
                    <a:lnTo>
                      <a:pt x="1078" y="36"/>
                    </a:lnTo>
                    <a:lnTo>
                      <a:pt x="1093" y="48"/>
                    </a:lnTo>
                    <a:lnTo>
                      <a:pt x="1107" y="59"/>
                    </a:lnTo>
                    <a:lnTo>
                      <a:pt x="1121" y="72"/>
                    </a:lnTo>
                    <a:lnTo>
                      <a:pt x="1135" y="85"/>
                    </a:lnTo>
                    <a:lnTo>
                      <a:pt x="1149" y="98"/>
                    </a:lnTo>
                    <a:lnTo>
                      <a:pt x="1161" y="111"/>
                    </a:lnTo>
                    <a:lnTo>
                      <a:pt x="1174" y="124"/>
                    </a:lnTo>
                    <a:lnTo>
                      <a:pt x="1188" y="136"/>
                    </a:lnTo>
                    <a:lnTo>
                      <a:pt x="1202" y="148"/>
                    </a:lnTo>
                    <a:lnTo>
                      <a:pt x="1215" y="159"/>
                    </a:lnTo>
                    <a:lnTo>
                      <a:pt x="1229" y="169"/>
                    </a:lnTo>
                    <a:lnTo>
                      <a:pt x="1244" y="178"/>
                    </a:lnTo>
                    <a:lnTo>
                      <a:pt x="1260" y="186"/>
                    </a:lnTo>
                    <a:lnTo>
                      <a:pt x="1277" y="192"/>
                    </a:lnTo>
                    <a:lnTo>
                      <a:pt x="1295" y="195"/>
                    </a:lnTo>
                    <a:lnTo>
                      <a:pt x="1313" y="197"/>
                    </a:lnTo>
                    <a:lnTo>
                      <a:pt x="1317" y="191"/>
                    </a:lnTo>
                    <a:lnTo>
                      <a:pt x="1316" y="186"/>
                    </a:lnTo>
                    <a:lnTo>
                      <a:pt x="1312" y="183"/>
                    </a:lnTo>
                    <a:lnTo>
                      <a:pt x="1308" y="179"/>
                    </a:lnTo>
                    <a:lnTo>
                      <a:pt x="1301" y="177"/>
                    </a:lnTo>
                    <a:lnTo>
                      <a:pt x="1295" y="174"/>
                    </a:lnTo>
                    <a:lnTo>
                      <a:pt x="1289" y="172"/>
                    </a:lnTo>
                    <a:lnTo>
                      <a:pt x="1285" y="168"/>
                    </a:lnTo>
                    <a:lnTo>
                      <a:pt x="1273" y="157"/>
                    </a:lnTo>
                    <a:lnTo>
                      <a:pt x="1260" y="150"/>
                    </a:lnTo>
                    <a:lnTo>
                      <a:pt x="1248" y="144"/>
                    </a:lnTo>
                    <a:lnTo>
                      <a:pt x="1234" y="140"/>
                    </a:lnTo>
                    <a:lnTo>
                      <a:pt x="1220" y="135"/>
                    </a:lnTo>
                    <a:lnTo>
                      <a:pt x="1207" y="130"/>
                    </a:lnTo>
                    <a:lnTo>
                      <a:pt x="1195" y="121"/>
                    </a:lnTo>
                    <a:lnTo>
                      <a:pt x="1184" y="109"/>
                    </a:lnTo>
                    <a:lnTo>
                      <a:pt x="1198" y="109"/>
                    </a:lnTo>
                    <a:lnTo>
                      <a:pt x="1211" y="108"/>
                    </a:lnTo>
                    <a:lnTo>
                      <a:pt x="1225" y="108"/>
                    </a:lnTo>
                    <a:lnTo>
                      <a:pt x="1239" y="108"/>
                    </a:lnTo>
                    <a:lnTo>
                      <a:pt x="1251" y="108"/>
                    </a:lnTo>
                    <a:lnTo>
                      <a:pt x="1265" y="109"/>
                    </a:lnTo>
                    <a:lnTo>
                      <a:pt x="1278" y="110"/>
                    </a:lnTo>
                    <a:lnTo>
                      <a:pt x="1290" y="111"/>
                    </a:lnTo>
                    <a:lnTo>
                      <a:pt x="1303" y="112"/>
                    </a:lnTo>
                    <a:lnTo>
                      <a:pt x="1316" y="115"/>
                    </a:lnTo>
                    <a:lnTo>
                      <a:pt x="1328" y="118"/>
                    </a:lnTo>
                    <a:lnTo>
                      <a:pt x="1341" y="121"/>
                    </a:lnTo>
                    <a:lnTo>
                      <a:pt x="1354" y="126"/>
                    </a:lnTo>
                    <a:lnTo>
                      <a:pt x="1365" y="131"/>
                    </a:lnTo>
                    <a:lnTo>
                      <a:pt x="1377" y="136"/>
                    </a:lnTo>
                    <a:lnTo>
                      <a:pt x="1388" y="143"/>
                    </a:lnTo>
                    <a:lnTo>
                      <a:pt x="1410" y="153"/>
                    </a:lnTo>
                    <a:lnTo>
                      <a:pt x="1431" y="164"/>
                    </a:lnTo>
                    <a:lnTo>
                      <a:pt x="1451" y="177"/>
                    </a:lnTo>
                    <a:lnTo>
                      <a:pt x="1468" y="192"/>
                    </a:lnTo>
                    <a:lnTo>
                      <a:pt x="1485" y="208"/>
                    </a:lnTo>
                    <a:lnTo>
                      <a:pt x="1501" y="224"/>
                    </a:lnTo>
                    <a:lnTo>
                      <a:pt x="1516" y="242"/>
                    </a:lnTo>
                    <a:lnTo>
                      <a:pt x="1530" y="261"/>
                    </a:lnTo>
                    <a:lnTo>
                      <a:pt x="1544" y="280"/>
                    </a:lnTo>
                    <a:lnTo>
                      <a:pt x="1557" y="300"/>
                    </a:lnTo>
                    <a:lnTo>
                      <a:pt x="1568" y="321"/>
                    </a:lnTo>
                    <a:lnTo>
                      <a:pt x="1580" y="340"/>
                    </a:lnTo>
                    <a:lnTo>
                      <a:pt x="1590" y="361"/>
                    </a:lnTo>
                    <a:lnTo>
                      <a:pt x="1600" y="382"/>
                    </a:lnTo>
                    <a:lnTo>
                      <a:pt x="1611" y="401"/>
                    </a:lnTo>
                    <a:lnTo>
                      <a:pt x="1621" y="421"/>
                    </a:lnTo>
                    <a:lnTo>
                      <a:pt x="1628" y="445"/>
                    </a:lnTo>
                    <a:lnTo>
                      <a:pt x="1635" y="469"/>
                    </a:lnTo>
                    <a:lnTo>
                      <a:pt x="1642" y="495"/>
                    </a:lnTo>
                    <a:lnTo>
                      <a:pt x="1644" y="521"/>
                    </a:lnTo>
                    <a:lnTo>
                      <a:pt x="1625" y="512"/>
                    </a:lnTo>
                    <a:lnTo>
                      <a:pt x="1605" y="504"/>
                    </a:lnTo>
                    <a:lnTo>
                      <a:pt x="1585" y="497"/>
                    </a:lnTo>
                    <a:lnTo>
                      <a:pt x="1565" y="489"/>
                    </a:lnTo>
                    <a:lnTo>
                      <a:pt x="1545" y="483"/>
                    </a:lnTo>
                    <a:lnTo>
                      <a:pt x="1524" y="476"/>
                    </a:lnTo>
                    <a:lnTo>
                      <a:pt x="1504" y="472"/>
                    </a:lnTo>
                    <a:lnTo>
                      <a:pt x="1483" y="466"/>
                    </a:lnTo>
                    <a:lnTo>
                      <a:pt x="1462" y="461"/>
                    </a:lnTo>
                    <a:lnTo>
                      <a:pt x="1440" y="457"/>
                    </a:lnTo>
                    <a:lnTo>
                      <a:pt x="1419" y="453"/>
                    </a:lnTo>
                    <a:lnTo>
                      <a:pt x="1398" y="450"/>
                    </a:lnTo>
                    <a:lnTo>
                      <a:pt x="1376" y="446"/>
                    </a:lnTo>
                    <a:lnTo>
                      <a:pt x="1354" y="443"/>
                    </a:lnTo>
                    <a:lnTo>
                      <a:pt x="1332" y="441"/>
                    </a:lnTo>
                    <a:lnTo>
                      <a:pt x="1310" y="438"/>
                    </a:lnTo>
                    <a:lnTo>
                      <a:pt x="1302" y="437"/>
                    </a:lnTo>
                    <a:lnTo>
                      <a:pt x="1294" y="435"/>
                    </a:lnTo>
                    <a:lnTo>
                      <a:pt x="1287" y="431"/>
                    </a:lnTo>
                    <a:lnTo>
                      <a:pt x="1280" y="427"/>
                    </a:lnTo>
                    <a:lnTo>
                      <a:pt x="1273" y="422"/>
                    </a:lnTo>
                    <a:lnTo>
                      <a:pt x="1266" y="419"/>
                    </a:lnTo>
                    <a:lnTo>
                      <a:pt x="1259" y="414"/>
                    </a:lnTo>
                    <a:lnTo>
                      <a:pt x="1252" y="411"/>
                    </a:lnTo>
                    <a:lnTo>
                      <a:pt x="1250" y="405"/>
                    </a:lnTo>
                    <a:lnTo>
                      <a:pt x="1250" y="398"/>
                    </a:lnTo>
                    <a:lnTo>
                      <a:pt x="1249" y="392"/>
                    </a:lnTo>
                    <a:lnTo>
                      <a:pt x="1244" y="389"/>
                    </a:lnTo>
                    <a:lnTo>
                      <a:pt x="1237" y="390"/>
                    </a:lnTo>
                    <a:lnTo>
                      <a:pt x="1234" y="395"/>
                    </a:lnTo>
                    <a:lnTo>
                      <a:pt x="1230" y="399"/>
                    </a:lnTo>
                    <a:lnTo>
                      <a:pt x="1228" y="406"/>
                    </a:lnTo>
                    <a:lnTo>
                      <a:pt x="1226" y="413"/>
                    </a:lnTo>
                    <a:lnTo>
                      <a:pt x="1222" y="418"/>
                    </a:lnTo>
                    <a:lnTo>
                      <a:pt x="1218" y="422"/>
                    </a:lnTo>
                    <a:lnTo>
                      <a:pt x="1210" y="423"/>
                    </a:lnTo>
                    <a:lnTo>
                      <a:pt x="1195" y="423"/>
                    </a:lnTo>
                    <a:lnTo>
                      <a:pt x="1181" y="423"/>
                    </a:lnTo>
                    <a:lnTo>
                      <a:pt x="1167" y="422"/>
                    </a:lnTo>
                    <a:lnTo>
                      <a:pt x="1152" y="422"/>
                    </a:lnTo>
                    <a:lnTo>
                      <a:pt x="1138" y="421"/>
                    </a:lnTo>
                    <a:lnTo>
                      <a:pt x="1123" y="421"/>
                    </a:lnTo>
                    <a:lnTo>
                      <a:pt x="1109" y="420"/>
                    </a:lnTo>
                    <a:lnTo>
                      <a:pt x="1096" y="420"/>
                    </a:lnTo>
                    <a:lnTo>
                      <a:pt x="1081" y="419"/>
                    </a:lnTo>
                    <a:lnTo>
                      <a:pt x="1067" y="419"/>
                    </a:lnTo>
                    <a:lnTo>
                      <a:pt x="1053" y="418"/>
                    </a:lnTo>
                    <a:lnTo>
                      <a:pt x="1039" y="416"/>
                    </a:lnTo>
                    <a:lnTo>
                      <a:pt x="1025" y="415"/>
                    </a:lnTo>
                    <a:lnTo>
                      <a:pt x="1010" y="414"/>
                    </a:lnTo>
                    <a:lnTo>
                      <a:pt x="997" y="413"/>
                    </a:lnTo>
                    <a:lnTo>
                      <a:pt x="983" y="412"/>
                    </a:lnTo>
                    <a:lnTo>
                      <a:pt x="965" y="401"/>
                    </a:lnTo>
                    <a:lnTo>
                      <a:pt x="968" y="400"/>
                    </a:lnTo>
                    <a:lnTo>
                      <a:pt x="968" y="398"/>
                    </a:lnTo>
                    <a:lnTo>
                      <a:pt x="968" y="396"/>
                    </a:lnTo>
                    <a:lnTo>
                      <a:pt x="968" y="393"/>
                    </a:lnTo>
                    <a:lnTo>
                      <a:pt x="964" y="391"/>
                    </a:lnTo>
                    <a:lnTo>
                      <a:pt x="962" y="388"/>
                    </a:lnTo>
                    <a:lnTo>
                      <a:pt x="959" y="385"/>
                    </a:lnTo>
                    <a:lnTo>
                      <a:pt x="955" y="385"/>
                    </a:lnTo>
                    <a:lnTo>
                      <a:pt x="952" y="400"/>
                    </a:lnTo>
                    <a:lnTo>
                      <a:pt x="944" y="409"/>
                    </a:lnTo>
                    <a:lnTo>
                      <a:pt x="932" y="413"/>
                    </a:lnTo>
                    <a:lnTo>
                      <a:pt x="918" y="414"/>
                    </a:lnTo>
                    <a:lnTo>
                      <a:pt x="903" y="413"/>
                    </a:lnTo>
                    <a:lnTo>
                      <a:pt x="888" y="412"/>
                    </a:lnTo>
                    <a:lnTo>
                      <a:pt x="873" y="412"/>
                    </a:lnTo>
                    <a:lnTo>
                      <a:pt x="861" y="415"/>
                    </a:lnTo>
                    <a:lnTo>
                      <a:pt x="835" y="418"/>
                    </a:lnTo>
                    <a:lnTo>
                      <a:pt x="809" y="419"/>
                    </a:lnTo>
                    <a:lnTo>
                      <a:pt x="783" y="421"/>
                    </a:lnTo>
                    <a:lnTo>
                      <a:pt x="757" y="422"/>
                    </a:lnTo>
                    <a:lnTo>
                      <a:pt x="732" y="423"/>
                    </a:lnTo>
                    <a:lnTo>
                      <a:pt x="705" y="423"/>
                    </a:lnTo>
                    <a:lnTo>
                      <a:pt x="680" y="424"/>
                    </a:lnTo>
                    <a:lnTo>
                      <a:pt x="653" y="424"/>
                    </a:lnTo>
                    <a:lnTo>
                      <a:pt x="627" y="424"/>
                    </a:lnTo>
                    <a:lnTo>
                      <a:pt x="601" y="424"/>
                    </a:lnTo>
                    <a:lnTo>
                      <a:pt x="575" y="426"/>
                    </a:lnTo>
                    <a:lnTo>
                      <a:pt x="548" y="426"/>
                    </a:lnTo>
                    <a:lnTo>
                      <a:pt x="523" y="426"/>
                    </a:lnTo>
                    <a:lnTo>
                      <a:pt x="496" y="426"/>
                    </a:lnTo>
                    <a:lnTo>
                      <a:pt x="471" y="427"/>
                    </a:lnTo>
                    <a:lnTo>
                      <a:pt x="445" y="427"/>
                    </a:lnTo>
                    <a:lnTo>
                      <a:pt x="429" y="429"/>
                    </a:lnTo>
                    <a:lnTo>
                      <a:pt x="411" y="433"/>
                    </a:lnTo>
                    <a:lnTo>
                      <a:pt x="395" y="435"/>
                    </a:lnTo>
                    <a:lnTo>
                      <a:pt x="379" y="437"/>
                    </a:lnTo>
                    <a:lnTo>
                      <a:pt x="363" y="439"/>
                    </a:lnTo>
                    <a:lnTo>
                      <a:pt x="346" y="442"/>
                    </a:lnTo>
                    <a:lnTo>
                      <a:pt x="329" y="443"/>
                    </a:lnTo>
                    <a:lnTo>
                      <a:pt x="313" y="445"/>
                    </a:lnTo>
                    <a:lnTo>
                      <a:pt x="296" y="447"/>
                    </a:lnTo>
                    <a:lnTo>
                      <a:pt x="280" y="450"/>
                    </a:lnTo>
                    <a:lnTo>
                      <a:pt x="263" y="451"/>
                    </a:lnTo>
                    <a:lnTo>
                      <a:pt x="246" y="453"/>
                    </a:lnTo>
                    <a:lnTo>
                      <a:pt x="230" y="456"/>
                    </a:lnTo>
                    <a:lnTo>
                      <a:pt x="214" y="457"/>
                    </a:lnTo>
                    <a:lnTo>
                      <a:pt x="197" y="459"/>
                    </a:lnTo>
                    <a:lnTo>
                      <a:pt x="181" y="461"/>
                    </a:lnTo>
                    <a:lnTo>
                      <a:pt x="184" y="452"/>
                    </a:lnTo>
                    <a:lnTo>
                      <a:pt x="182" y="445"/>
                    </a:lnTo>
                    <a:lnTo>
                      <a:pt x="178" y="439"/>
                    </a:lnTo>
                    <a:lnTo>
                      <a:pt x="172" y="435"/>
                    </a:lnTo>
                    <a:lnTo>
                      <a:pt x="165" y="431"/>
                    </a:lnTo>
                    <a:lnTo>
                      <a:pt x="159" y="426"/>
                    </a:lnTo>
                    <a:lnTo>
                      <a:pt x="154" y="420"/>
                    </a:lnTo>
                    <a:lnTo>
                      <a:pt x="153" y="412"/>
                    </a:lnTo>
                    <a:lnTo>
                      <a:pt x="150" y="409"/>
                    </a:lnTo>
                    <a:lnTo>
                      <a:pt x="146" y="408"/>
                    </a:lnTo>
                    <a:lnTo>
                      <a:pt x="142" y="408"/>
                    </a:lnTo>
                    <a:lnTo>
                      <a:pt x="138" y="408"/>
                    </a:lnTo>
                    <a:lnTo>
                      <a:pt x="135" y="415"/>
                    </a:lnTo>
                    <a:lnTo>
                      <a:pt x="135" y="423"/>
                    </a:lnTo>
                    <a:lnTo>
                      <a:pt x="137" y="431"/>
                    </a:lnTo>
                    <a:lnTo>
                      <a:pt x="140" y="438"/>
                    </a:lnTo>
                    <a:lnTo>
                      <a:pt x="150" y="443"/>
                    </a:lnTo>
                    <a:lnTo>
                      <a:pt x="154" y="452"/>
                    </a:lnTo>
                    <a:lnTo>
                      <a:pt x="154" y="462"/>
                    </a:lnTo>
                    <a:lnTo>
                      <a:pt x="154" y="474"/>
                    </a:lnTo>
                    <a:lnTo>
                      <a:pt x="135" y="480"/>
                    </a:lnTo>
                    <a:lnTo>
                      <a:pt x="115" y="487"/>
                    </a:lnTo>
                    <a:lnTo>
                      <a:pt x="96" y="494"/>
                    </a:lnTo>
                    <a:lnTo>
                      <a:pt x="76" y="499"/>
                    </a:lnTo>
                    <a:lnTo>
                      <a:pt x="56" y="506"/>
                    </a:lnTo>
                    <a:lnTo>
                      <a:pt x="37" y="513"/>
                    </a:lnTo>
                    <a:lnTo>
                      <a:pt x="18" y="520"/>
                    </a:lnTo>
                    <a:lnTo>
                      <a:pt x="0" y="526"/>
                    </a:lnTo>
                    <a:lnTo>
                      <a:pt x="7" y="505"/>
                    </a:lnTo>
                    <a:lnTo>
                      <a:pt x="15" y="482"/>
                    </a:lnTo>
                    <a:lnTo>
                      <a:pt x="26" y="457"/>
                    </a:lnTo>
                    <a:lnTo>
                      <a:pt x="38" y="430"/>
                    </a:lnTo>
                    <a:lnTo>
                      <a:pt x="53" y="403"/>
                    </a:lnTo>
                    <a:lnTo>
                      <a:pt x="68" y="375"/>
                    </a:lnTo>
                    <a:lnTo>
                      <a:pt x="84" y="346"/>
                    </a:lnTo>
                    <a:lnTo>
                      <a:pt x="101" y="318"/>
                    </a:lnTo>
                    <a:lnTo>
                      <a:pt x="117" y="291"/>
                    </a:lnTo>
                    <a:lnTo>
                      <a:pt x="135" y="264"/>
                    </a:lnTo>
                    <a:lnTo>
                      <a:pt x="152" y="239"/>
                    </a:lnTo>
                    <a:lnTo>
                      <a:pt x="169" y="216"/>
                    </a:lnTo>
                    <a:lnTo>
                      <a:pt x="185" y="194"/>
                    </a:lnTo>
                    <a:lnTo>
                      <a:pt x="200" y="176"/>
                    </a:lnTo>
                    <a:lnTo>
                      <a:pt x="213" y="159"/>
                    </a:lnTo>
                    <a:lnTo>
                      <a:pt x="226" y="147"/>
                    </a:lnTo>
                    <a:lnTo>
                      <a:pt x="245" y="132"/>
                    </a:lnTo>
                    <a:lnTo>
                      <a:pt x="267" y="119"/>
                    </a:lnTo>
                    <a:lnTo>
                      <a:pt x="289" y="108"/>
                    </a:lnTo>
                    <a:lnTo>
                      <a:pt x="312" y="96"/>
                    </a:lnTo>
                    <a:lnTo>
                      <a:pt x="335" y="87"/>
                    </a:lnTo>
                    <a:lnTo>
                      <a:pt x="358" y="78"/>
                    </a:lnTo>
                    <a:lnTo>
                      <a:pt x="380" y="70"/>
                    </a:lnTo>
                    <a:lnTo>
                      <a:pt x="402" y="62"/>
                    </a:lnTo>
                    <a:lnTo>
                      <a:pt x="424" y="59"/>
                    </a:lnTo>
                    <a:lnTo>
                      <a:pt x="445" y="59"/>
                    </a:lnTo>
                    <a:lnTo>
                      <a:pt x="465" y="60"/>
                    </a:lnTo>
                    <a:lnTo>
                      <a:pt x="486" y="62"/>
                    </a:lnTo>
                    <a:lnTo>
                      <a:pt x="507" y="65"/>
                    </a:lnTo>
                    <a:lnTo>
                      <a:pt x="528" y="67"/>
                    </a:lnTo>
                    <a:lnTo>
                      <a:pt x="548" y="71"/>
                    </a:lnTo>
                    <a:lnTo>
                      <a:pt x="570" y="74"/>
                    </a:lnTo>
                    <a:lnTo>
                      <a:pt x="582" y="79"/>
                    </a:lnTo>
                    <a:lnTo>
                      <a:pt x="591" y="81"/>
                    </a:lnTo>
                    <a:lnTo>
                      <a:pt x="598" y="83"/>
                    </a:lnTo>
                    <a:lnTo>
                      <a:pt x="604" y="87"/>
                    </a:lnTo>
                    <a:lnTo>
                      <a:pt x="679" y="124"/>
                    </a:lnTo>
                    <a:lnTo>
                      <a:pt x="677" y="143"/>
                    </a:lnTo>
                    <a:lnTo>
                      <a:pt x="669" y="158"/>
                    </a:lnTo>
                    <a:lnTo>
                      <a:pt x="656" y="170"/>
                    </a:lnTo>
                    <a:lnTo>
                      <a:pt x="641" y="180"/>
                    </a:lnTo>
                    <a:lnTo>
                      <a:pt x="626" y="191"/>
                    </a:lnTo>
                    <a:lnTo>
                      <a:pt x="612" y="201"/>
                    </a:lnTo>
                    <a:lnTo>
                      <a:pt x="601" y="216"/>
                    </a:lnTo>
                    <a:lnTo>
                      <a:pt x="598" y="234"/>
                    </a:lnTo>
                    <a:lnTo>
                      <a:pt x="601" y="242"/>
                    </a:lnTo>
                    <a:lnTo>
                      <a:pt x="607" y="249"/>
                    </a:lnTo>
                    <a:lnTo>
                      <a:pt x="614" y="256"/>
                    </a:lnTo>
                    <a:lnTo>
                      <a:pt x="620" y="263"/>
                    </a:lnTo>
                    <a:lnTo>
                      <a:pt x="626" y="270"/>
                    </a:lnTo>
                    <a:lnTo>
                      <a:pt x="629" y="278"/>
                    </a:lnTo>
                    <a:lnTo>
                      <a:pt x="630" y="286"/>
                    </a:lnTo>
                    <a:lnTo>
                      <a:pt x="627" y="295"/>
                    </a:lnTo>
                    <a:lnTo>
                      <a:pt x="621" y="302"/>
                    </a:lnTo>
                    <a:lnTo>
                      <a:pt x="615" y="308"/>
                    </a:lnTo>
                    <a:lnTo>
                      <a:pt x="611" y="315"/>
                    </a:lnTo>
                    <a:lnTo>
                      <a:pt x="608" y="323"/>
                    </a:lnTo>
                    <a:lnTo>
                      <a:pt x="614" y="330"/>
                    </a:lnTo>
                    <a:lnTo>
                      <a:pt x="623" y="322"/>
                    </a:lnTo>
                    <a:lnTo>
                      <a:pt x="634" y="314"/>
                    </a:lnTo>
                    <a:lnTo>
                      <a:pt x="644" y="306"/>
                    </a:lnTo>
                    <a:lnTo>
                      <a:pt x="654" y="298"/>
                    </a:lnTo>
                    <a:lnTo>
                      <a:pt x="662" y="289"/>
                    </a:lnTo>
                    <a:lnTo>
                      <a:pt x="668" y="278"/>
                    </a:lnTo>
                    <a:lnTo>
                      <a:pt x="668" y="267"/>
                    </a:lnTo>
                    <a:lnTo>
                      <a:pt x="665" y="253"/>
                    </a:lnTo>
                    <a:lnTo>
                      <a:pt x="660" y="248"/>
                    </a:lnTo>
                    <a:lnTo>
                      <a:pt x="656" y="242"/>
                    </a:lnTo>
                    <a:lnTo>
                      <a:pt x="652" y="237"/>
                    </a:lnTo>
                    <a:lnTo>
                      <a:pt x="654" y="230"/>
                    </a:lnTo>
                    <a:lnTo>
                      <a:pt x="669" y="218"/>
                    </a:lnTo>
                    <a:lnTo>
                      <a:pt x="683" y="207"/>
                    </a:lnTo>
                    <a:lnTo>
                      <a:pt x="695" y="194"/>
                    </a:lnTo>
                    <a:lnTo>
                      <a:pt x="704" y="179"/>
                    </a:lnTo>
                    <a:lnTo>
                      <a:pt x="711" y="164"/>
                    </a:lnTo>
                    <a:lnTo>
                      <a:pt x="717" y="148"/>
                    </a:lnTo>
                    <a:lnTo>
                      <a:pt x="720" y="131"/>
                    </a:lnTo>
                    <a:lnTo>
                      <a:pt x="721" y="112"/>
                    </a:lnTo>
                    <a:lnTo>
                      <a:pt x="726" y="103"/>
                    </a:lnTo>
                    <a:lnTo>
                      <a:pt x="732" y="93"/>
                    </a:lnTo>
                    <a:lnTo>
                      <a:pt x="738" y="85"/>
                    </a:lnTo>
                    <a:lnTo>
                      <a:pt x="748" y="75"/>
                    </a:lnTo>
                    <a:lnTo>
                      <a:pt x="757" y="67"/>
                    </a:lnTo>
                    <a:lnTo>
                      <a:pt x="767" y="60"/>
                    </a:lnTo>
                    <a:lnTo>
                      <a:pt x="778" y="53"/>
                    </a:lnTo>
                    <a:lnTo>
                      <a:pt x="787" y="47"/>
                    </a:lnTo>
                    <a:lnTo>
                      <a:pt x="804" y="35"/>
                    </a:lnTo>
                    <a:lnTo>
                      <a:pt x="821" y="25"/>
                    </a:lnTo>
                    <a:lnTo>
                      <a:pt x="841" y="17"/>
                    </a:lnTo>
                    <a:lnTo>
                      <a:pt x="861" y="11"/>
                    </a:lnTo>
                    <a:lnTo>
                      <a:pt x="880" y="6"/>
                    </a:lnTo>
                    <a:lnTo>
                      <a:pt x="901" y="3"/>
                    </a:lnTo>
                    <a:lnTo>
                      <a:pt x="922" y="0"/>
                    </a:lnTo>
                    <a:lnTo>
                      <a:pt x="9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76760" y="3322440"/>
                <a:ext cx="58680" cy="36720"/>
              </a:xfrm>
              <a:custGeom>
                <a:avLst/>
                <a:gdLst/>
                <a:ahLst/>
                <a:rect l="l" t="t" r="r" b="b"/>
                <a:pathLst>
                  <a:path w="74" h="46">
                    <a:moveTo>
                      <a:pt x="72" y="21"/>
                    </a:moveTo>
                    <a:lnTo>
                      <a:pt x="74" y="29"/>
                    </a:lnTo>
                    <a:lnTo>
                      <a:pt x="72" y="36"/>
                    </a:lnTo>
                    <a:lnTo>
                      <a:pt x="65" y="43"/>
                    </a:lnTo>
                    <a:lnTo>
                      <a:pt x="58" y="46"/>
                    </a:lnTo>
                    <a:lnTo>
                      <a:pt x="51" y="46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4" y="45"/>
                    </a:lnTo>
                    <a:lnTo>
                      <a:pt x="28" y="44"/>
                    </a:lnTo>
                    <a:lnTo>
                      <a:pt x="23" y="42"/>
                    </a:lnTo>
                    <a:lnTo>
                      <a:pt x="18" y="40"/>
                    </a:lnTo>
                    <a:lnTo>
                      <a:pt x="13" y="38"/>
                    </a:lnTo>
                    <a:lnTo>
                      <a:pt x="7" y="35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7" y="8"/>
                    </a:lnTo>
                    <a:lnTo>
                      <a:pt x="13" y="5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3" y="5"/>
                    </a:lnTo>
                    <a:lnTo>
                      <a:pt x="59" y="8"/>
                    </a:lnTo>
                    <a:lnTo>
                      <a:pt x="64" y="10"/>
                    </a:lnTo>
                    <a:lnTo>
                      <a:pt x="68" y="15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91160" y="333684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39" y="8"/>
                    </a:moveTo>
                    <a:lnTo>
                      <a:pt x="34" y="11"/>
                    </a:lnTo>
                    <a:lnTo>
                      <a:pt x="29" y="12"/>
                    </a:lnTo>
                    <a:lnTo>
                      <a:pt x="24" y="12"/>
                    </a:lnTo>
                    <a:lnTo>
                      <a:pt x="19" y="11"/>
                    </a:lnTo>
                    <a:lnTo>
                      <a:pt x="15" y="9"/>
                    </a:lnTo>
                    <a:lnTo>
                      <a:pt x="10" y="6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4" y="4"/>
                    </a:lnTo>
                    <a:lnTo>
                      <a:pt x="37" y="5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05480" y="335124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68" y="14"/>
                    </a:moveTo>
                    <a:lnTo>
                      <a:pt x="66" y="22"/>
                    </a:lnTo>
                    <a:lnTo>
                      <a:pt x="64" y="30"/>
                    </a:lnTo>
                    <a:lnTo>
                      <a:pt x="61" y="37"/>
                    </a:lnTo>
                    <a:lnTo>
                      <a:pt x="56" y="44"/>
                    </a:lnTo>
                    <a:lnTo>
                      <a:pt x="50" y="49"/>
                    </a:lnTo>
                    <a:lnTo>
                      <a:pt x="43" y="54"/>
                    </a:lnTo>
                    <a:lnTo>
                      <a:pt x="36" y="57"/>
                    </a:lnTo>
                    <a:lnTo>
                      <a:pt x="30" y="61"/>
                    </a:lnTo>
                    <a:lnTo>
                      <a:pt x="20" y="61"/>
                    </a:lnTo>
                    <a:lnTo>
                      <a:pt x="12" y="60"/>
                    </a:lnTo>
                    <a:lnTo>
                      <a:pt x="5" y="56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5" y="29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1" y="10"/>
                    </a:lnTo>
                    <a:lnTo>
                      <a:pt x="27" y="6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9" y="1"/>
                    </a:lnTo>
                    <a:lnTo>
                      <a:pt x="64" y="3"/>
                    </a:lnTo>
                    <a:lnTo>
                      <a:pt x="66" y="8"/>
                    </a:lnTo>
                    <a:lnTo>
                      <a:pt x="6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18080" y="33652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4" y="0"/>
                    </a:moveTo>
                    <a:lnTo>
                      <a:pt x="31" y="9"/>
                    </a:lnTo>
                    <a:lnTo>
                      <a:pt x="25" y="19"/>
                    </a:lnTo>
                    <a:lnTo>
                      <a:pt x="18" y="25"/>
                    </a:lnTo>
                    <a:lnTo>
                      <a:pt x="9" y="29"/>
                    </a:lnTo>
                    <a:lnTo>
                      <a:pt x="0" y="29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23" y="5"/>
                    </a:lnTo>
                    <a:lnTo>
                      <a:pt x="29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89360" y="337644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79" y="29"/>
                    </a:moveTo>
                    <a:lnTo>
                      <a:pt x="78" y="36"/>
                    </a:lnTo>
                    <a:lnTo>
                      <a:pt x="74" y="40"/>
                    </a:lnTo>
                    <a:lnTo>
                      <a:pt x="70" y="45"/>
                    </a:lnTo>
                    <a:lnTo>
                      <a:pt x="64" y="48"/>
                    </a:lnTo>
                    <a:lnTo>
                      <a:pt x="55" y="48"/>
                    </a:lnTo>
                    <a:lnTo>
                      <a:pt x="46" y="48"/>
                    </a:lnTo>
                    <a:lnTo>
                      <a:pt x="38" y="47"/>
                    </a:lnTo>
                    <a:lnTo>
                      <a:pt x="30" y="45"/>
                    </a:lnTo>
                    <a:lnTo>
                      <a:pt x="21" y="43"/>
                    </a:lnTo>
                    <a:lnTo>
                      <a:pt x="15" y="39"/>
                    </a:lnTo>
                    <a:lnTo>
                      <a:pt x="8" y="35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4" y="9"/>
                    </a:lnTo>
                    <a:lnTo>
                      <a:pt x="12" y="4"/>
                    </a:lnTo>
                    <a:lnTo>
                      <a:pt x="21" y="0"/>
                    </a:lnTo>
                    <a:lnTo>
                      <a:pt x="31" y="0"/>
                    </a:lnTo>
                    <a:lnTo>
                      <a:pt x="39" y="1"/>
                    </a:lnTo>
                    <a:lnTo>
                      <a:pt x="47" y="4"/>
                    </a:lnTo>
                    <a:lnTo>
                      <a:pt x="55" y="6"/>
                    </a:lnTo>
                    <a:lnTo>
                      <a:pt x="62" y="10"/>
                    </a:lnTo>
                    <a:lnTo>
                      <a:pt x="68" y="16"/>
                    </a:lnTo>
                    <a:lnTo>
                      <a:pt x="73" y="22"/>
                    </a:lnTo>
                    <a:lnTo>
                      <a:pt x="7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794120" y="337644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68" y="38"/>
                    </a:moveTo>
                    <a:lnTo>
                      <a:pt x="68" y="45"/>
                    </a:lnTo>
                    <a:lnTo>
                      <a:pt x="65" y="52"/>
                    </a:lnTo>
                    <a:lnTo>
                      <a:pt x="60" y="57"/>
                    </a:lnTo>
                    <a:lnTo>
                      <a:pt x="53" y="59"/>
                    </a:lnTo>
                    <a:lnTo>
                      <a:pt x="45" y="58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3" y="51"/>
                    </a:lnTo>
                    <a:lnTo>
                      <a:pt x="16" y="46"/>
                    </a:lnTo>
                    <a:lnTo>
                      <a:pt x="9" y="42"/>
                    </a:lnTo>
                    <a:lnTo>
                      <a:pt x="5" y="36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0"/>
                    </a:lnTo>
                    <a:lnTo>
                      <a:pt x="9" y="5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5"/>
                    </a:lnTo>
                    <a:lnTo>
                      <a:pt x="48" y="9"/>
                    </a:lnTo>
                    <a:lnTo>
                      <a:pt x="54" y="16"/>
                    </a:lnTo>
                    <a:lnTo>
                      <a:pt x="60" y="23"/>
                    </a:lnTo>
                    <a:lnTo>
                      <a:pt x="65" y="30"/>
                    </a:lnTo>
                    <a:lnTo>
                      <a:pt x="6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702320" y="338760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2" y="15"/>
                    </a:moveTo>
                    <a:lnTo>
                      <a:pt x="39" y="16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0" y="13"/>
                    </a:lnTo>
                    <a:lnTo>
                      <a:pt x="4" y="10"/>
                    </a:lnTo>
                    <a:lnTo>
                      <a:pt x="0" y="7"/>
                    </a:lnTo>
                    <a:lnTo>
                      <a:pt x="4" y="3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29" y="1"/>
                    </a:lnTo>
                    <a:lnTo>
                      <a:pt x="34" y="5"/>
                    </a:lnTo>
                    <a:lnTo>
                      <a:pt x="39" y="9"/>
                    </a:lnTo>
                    <a:lnTo>
                      <a:pt x="42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807080" y="33894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6" y="27"/>
                    </a:moveTo>
                    <a:lnTo>
                      <a:pt x="30" y="27"/>
                    </a:lnTo>
                    <a:lnTo>
                      <a:pt x="24" y="26"/>
                    </a:lnTo>
                    <a:lnTo>
                      <a:pt x="20" y="23"/>
                    </a:lnTo>
                    <a:lnTo>
                      <a:pt x="15" y="21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6" y="5"/>
                    </a:lnTo>
                    <a:lnTo>
                      <a:pt x="22" y="7"/>
                    </a:lnTo>
                    <a:lnTo>
                      <a:pt x="27" y="13"/>
                    </a:lnTo>
                    <a:lnTo>
                      <a:pt x="31" y="16"/>
                    </a:lnTo>
                    <a:lnTo>
                      <a:pt x="36" y="20"/>
                    </a:lnTo>
                    <a:lnTo>
                      <a:pt x="36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3960" y="339552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5" y="12"/>
                    </a:moveTo>
                    <a:lnTo>
                      <a:pt x="67" y="20"/>
                    </a:lnTo>
                    <a:lnTo>
                      <a:pt x="65" y="28"/>
                    </a:lnTo>
                    <a:lnTo>
                      <a:pt x="63" y="35"/>
                    </a:lnTo>
                    <a:lnTo>
                      <a:pt x="59" y="42"/>
                    </a:lnTo>
                    <a:lnTo>
                      <a:pt x="53" y="48"/>
                    </a:lnTo>
                    <a:lnTo>
                      <a:pt x="47" y="53"/>
                    </a:lnTo>
                    <a:lnTo>
                      <a:pt x="40" y="58"/>
                    </a:lnTo>
                    <a:lnTo>
                      <a:pt x="33" y="62"/>
                    </a:lnTo>
                    <a:lnTo>
                      <a:pt x="26" y="66"/>
                    </a:lnTo>
                    <a:lnTo>
                      <a:pt x="19" y="68"/>
                    </a:lnTo>
                    <a:lnTo>
                      <a:pt x="12" y="68"/>
                    </a:lnTo>
                    <a:lnTo>
                      <a:pt x="6" y="62"/>
                    </a:lnTo>
                    <a:lnTo>
                      <a:pt x="1" y="58"/>
                    </a:lnTo>
                    <a:lnTo>
                      <a:pt x="0" y="51"/>
                    </a:lnTo>
                    <a:lnTo>
                      <a:pt x="1" y="44"/>
                    </a:lnTo>
                    <a:lnTo>
                      <a:pt x="2" y="37"/>
                    </a:lnTo>
                    <a:lnTo>
                      <a:pt x="6" y="31"/>
                    </a:lnTo>
                    <a:lnTo>
                      <a:pt x="10" y="26"/>
                    </a:lnTo>
                    <a:lnTo>
                      <a:pt x="15" y="20"/>
                    </a:lnTo>
                    <a:lnTo>
                      <a:pt x="19" y="15"/>
                    </a:lnTo>
                    <a:lnTo>
                      <a:pt x="24" y="9"/>
                    </a:lnTo>
                    <a:lnTo>
                      <a:pt x="30" y="6"/>
                    </a:lnTo>
                    <a:lnTo>
                      <a:pt x="37" y="3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311720" y="339552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74" h="57">
                    <a:moveTo>
                      <a:pt x="62" y="14"/>
                    </a:moveTo>
                    <a:lnTo>
                      <a:pt x="67" y="20"/>
                    </a:lnTo>
                    <a:lnTo>
                      <a:pt x="71" y="27"/>
                    </a:lnTo>
                    <a:lnTo>
                      <a:pt x="74" y="34"/>
                    </a:lnTo>
                    <a:lnTo>
                      <a:pt x="71" y="42"/>
                    </a:lnTo>
                    <a:lnTo>
                      <a:pt x="67" y="46"/>
                    </a:lnTo>
                    <a:lnTo>
                      <a:pt x="62" y="50"/>
                    </a:lnTo>
                    <a:lnTo>
                      <a:pt x="56" y="53"/>
                    </a:lnTo>
                    <a:lnTo>
                      <a:pt x="51" y="54"/>
                    </a:lnTo>
                    <a:lnTo>
                      <a:pt x="45" y="56"/>
                    </a:lnTo>
                    <a:lnTo>
                      <a:pt x="39" y="57"/>
                    </a:lnTo>
                    <a:lnTo>
                      <a:pt x="32" y="56"/>
                    </a:lnTo>
                    <a:lnTo>
                      <a:pt x="26" y="54"/>
                    </a:lnTo>
                    <a:lnTo>
                      <a:pt x="18" y="50"/>
                    </a:lnTo>
                    <a:lnTo>
                      <a:pt x="11" y="44"/>
                    </a:lnTo>
                    <a:lnTo>
                      <a:pt x="6" y="37"/>
                    </a:lnTo>
                    <a:lnTo>
                      <a:pt x="1" y="29"/>
                    </a:lnTo>
                    <a:lnTo>
                      <a:pt x="0" y="20"/>
                    </a:lnTo>
                    <a:lnTo>
                      <a:pt x="3" y="12"/>
                    </a:lnTo>
                    <a:lnTo>
                      <a:pt x="9" y="5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41" y="3"/>
                    </a:lnTo>
                    <a:lnTo>
                      <a:pt x="46" y="5"/>
                    </a:lnTo>
                    <a:lnTo>
                      <a:pt x="52" y="7"/>
                    </a:lnTo>
                    <a:lnTo>
                      <a:pt x="57" y="11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327560" y="3409920"/>
                <a:ext cx="30240" cy="1728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38" y="15"/>
                    </a:moveTo>
                    <a:lnTo>
                      <a:pt x="31" y="19"/>
                    </a:lnTo>
                    <a:lnTo>
                      <a:pt x="22" y="21"/>
                    </a:lnTo>
                    <a:lnTo>
                      <a:pt x="14" y="20"/>
                    </a:lnTo>
                    <a:lnTo>
                      <a:pt x="6" y="17"/>
                    </a:lnTo>
                    <a:lnTo>
                      <a:pt x="3" y="15"/>
                    </a:lnTo>
                    <a:lnTo>
                      <a:pt x="1" y="11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5" y="11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248000" y="3409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0"/>
                    </a:moveTo>
                    <a:lnTo>
                      <a:pt x="29" y="10"/>
                    </a:lnTo>
                    <a:lnTo>
                      <a:pt x="23" y="18"/>
                    </a:lnTo>
                    <a:lnTo>
                      <a:pt x="15" y="25"/>
                    </a:lnTo>
                    <a:lnTo>
                      <a:pt x="6" y="31"/>
                    </a:lnTo>
                    <a:lnTo>
                      <a:pt x="0" y="31"/>
                    </a:lnTo>
                    <a:lnTo>
                      <a:pt x="5" y="20"/>
                    </a:lnTo>
                    <a:lnTo>
                      <a:pt x="12" y="10"/>
                    </a:lnTo>
                    <a:lnTo>
                      <a:pt x="2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13400" y="3413160"/>
                <a:ext cx="50760" cy="4752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64" y="15"/>
                    </a:moveTo>
                    <a:lnTo>
                      <a:pt x="63" y="22"/>
                    </a:lnTo>
                    <a:lnTo>
                      <a:pt x="61" y="29"/>
                    </a:lnTo>
                    <a:lnTo>
                      <a:pt x="58" y="36"/>
                    </a:lnTo>
                    <a:lnTo>
                      <a:pt x="52" y="42"/>
                    </a:lnTo>
                    <a:lnTo>
                      <a:pt x="46" y="46"/>
                    </a:lnTo>
                    <a:lnTo>
                      <a:pt x="40" y="51"/>
                    </a:lnTo>
                    <a:lnTo>
                      <a:pt x="33" y="54"/>
                    </a:lnTo>
                    <a:lnTo>
                      <a:pt x="28" y="58"/>
                    </a:lnTo>
                    <a:lnTo>
                      <a:pt x="20" y="60"/>
                    </a:lnTo>
                    <a:lnTo>
                      <a:pt x="10" y="59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5" y="29"/>
                    </a:lnTo>
                    <a:lnTo>
                      <a:pt x="9" y="21"/>
                    </a:lnTo>
                    <a:lnTo>
                      <a:pt x="16" y="13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4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5" y="1"/>
                    </a:lnTo>
                    <a:lnTo>
                      <a:pt x="61" y="7"/>
                    </a:lnTo>
                    <a:lnTo>
                      <a:pt x="6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122720" y="342252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65" h="77">
                    <a:moveTo>
                      <a:pt x="65" y="17"/>
                    </a:moveTo>
                    <a:lnTo>
                      <a:pt x="64" y="26"/>
                    </a:lnTo>
                    <a:lnTo>
                      <a:pt x="61" y="36"/>
                    </a:lnTo>
                    <a:lnTo>
                      <a:pt x="58" y="45"/>
                    </a:lnTo>
                    <a:lnTo>
                      <a:pt x="53" y="53"/>
                    </a:lnTo>
                    <a:lnTo>
                      <a:pt x="48" y="60"/>
                    </a:lnTo>
                    <a:lnTo>
                      <a:pt x="41" y="67"/>
                    </a:lnTo>
                    <a:lnTo>
                      <a:pt x="33" y="72"/>
                    </a:lnTo>
                    <a:lnTo>
                      <a:pt x="25" y="77"/>
                    </a:lnTo>
                    <a:lnTo>
                      <a:pt x="16" y="76"/>
                    </a:lnTo>
                    <a:lnTo>
                      <a:pt x="11" y="71"/>
                    </a:lnTo>
                    <a:lnTo>
                      <a:pt x="5" y="67"/>
                    </a:lnTo>
                    <a:lnTo>
                      <a:pt x="0" y="60"/>
                    </a:lnTo>
                    <a:lnTo>
                      <a:pt x="2" y="51"/>
                    </a:lnTo>
                    <a:lnTo>
                      <a:pt x="5" y="41"/>
                    </a:lnTo>
                    <a:lnTo>
                      <a:pt x="10" y="32"/>
                    </a:lnTo>
                    <a:lnTo>
                      <a:pt x="14" y="24"/>
                    </a:lnTo>
                    <a:lnTo>
                      <a:pt x="21" y="16"/>
                    </a:lnTo>
                    <a:lnTo>
                      <a:pt x="28" y="9"/>
                    </a:lnTo>
                    <a:lnTo>
                      <a:pt x="36" y="4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4"/>
                    </a:lnTo>
                    <a:lnTo>
                      <a:pt x="61" y="10"/>
                    </a:lnTo>
                    <a:lnTo>
                      <a:pt x="6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629240" y="34257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28"/>
                    </a:moveTo>
                    <a:lnTo>
                      <a:pt x="0" y="23"/>
                    </a:lnTo>
                    <a:lnTo>
                      <a:pt x="1" y="17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25" y="0"/>
                    </a:lnTo>
                    <a:lnTo>
                      <a:pt x="25" y="9"/>
                    </a:lnTo>
                    <a:lnTo>
                      <a:pt x="19" y="17"/>
                    </a:lnTo>
                    <a:lnTo>
                      <a:pt x="9" y="2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137120" y="34369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0"/>
                    </a:moveTo>
                    <a:lnTo>
                      <a:pt x="31" y="14"/>
                    </a:lnTo>
                    <a:lnTo>
                      <a:pt x="25" y="25"/>
                    </a:lnTo>
                    <a:lnTo>
                      <a:pt x="16" y="36"/>
                    </a:lnTo>
                    <a:lnTo>
                      <a:pt x="4" y="44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4" y="21"/>
                    </a:lnTo>
                    <a:lnTo>
                      <a:pt x="8" y="14"/>
                    </a:lnTo>
                    <a:lnTo>
                      <a:pt x="15" y="6"/>
                    </a:lnTo>
                    <a:lnTo>
                      <a:pt x="22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210200" y="346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60" h="68">
                    <a:moveTo>
                      <a:pt x="60" y="11"/>
                    </a:moveTo>
                    <a:lnTo>
                      <a:pt x="59" y="20"/>
                    </a:lnTo>
                    <a:lnTo>
                      <a:pt x="56" y="29"/>
                    </a:lnTo>
                    <a:lnTo>
                      <a:pt x="52" y="37"/>
                    </a:lnTo>
                    <a:lnTo>
                      <a:pt x="47" y="45"/>
                    </a:lnTo>
                    <a:lnTo>
                      <a:pt x="41" y="53"/>
                    </a:lnTo>
                    <a:lnTo>
                      <a:pt x="34" y="59"/>
                    </a:lnTo>
                    <a:lnTo>
                      <a:pt x="26" y="65"/>
                    </a:lnTo>
                    <a:lnTo>
                      <a:pt x="17" y="68"/>
                    </a:lnTo>
                    <a:lnTo>
                      <a:pt x="12" y="68"/>
                    </a:lnTo>
                    <a:lnTo>
                      <a:pt x="8" y="67"/>
                    </a:lnTo>
                    <a:lnTo>
                      <a:pt x="4" y="64"/>
                    </a:lnTo>
                    <a:lnTo>
                      <a:pt x="2" y="59"/>
                    </a:lnTo>
                    <a:lnTo>
                      <a:pt x="0" y="49"/>
                    </a:lnTo>
                    <a:lnTo>
                      <a:pt x="2" y="38"/>
                    </a:lnTo>
                    <a:lnTo>
                      <a:pt x="7" y="29"/>
                    </a:lnTo>
                    <a:lnTo>
                      <a:pt x="12" y="20"/>
                    </a:lnTo>
                    <a:lnTo>
                      <a:pt x="21" y="14"/>
                    </a:lnTo>
                    <a:lnTo>
                      <a:pt x="27" y="7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49" y="2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278240" y="346392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60" y="9"/>
                    </a:moveTo>
                    <a:lnTo>
                      <a:pt x="60" y="21"/>
                    </a:lnTo>
                    <a:lnTo>
                      <a:pt x="59" y="32"/>
                    </a:lnTo>
                    <a:lnTo>
                      <a:pt x="54" y="42"/>
                    </a:lnTo>
                    <a:lnTo>
                      <a:pt x="47" y="51"/>
                    </a:lnTo>
                    <a:lnTo>
                      <a:pt x="43" y="55"/>
                    </a:lnTo>
                    <a:lnTo>
                      <a:pt x="38" y="57"/>
                    </a:lnTo>
                    <a:lnTo>
                      <a:pt x="33" y="59"/>
                    </a:lnTo>
                    <a:lnTo>
                      <a:pt x="29" y="62"/>
                    </a:lnTo>
                    <a:lnTo>
                      <a:pt x="24" y="63"/>
                    </a:lnTo>
                    <a:lnTo>
                      <a:pt x="19" y="64"/>
                    </a:lnTo>
                    <a:lnTo>
                      <a:pt x="14" y="63"/>
                    </a:lnTo>
                    <a:lnTo>
                      <a:pt x="8" y="62"/>
                    </a:lnTo>
                    <a:lnTo>
                      <a:pt x="1" y="55"/>
                    </a:lnTo>
                    <a:lnTo>
                      <a:pt x="0" y="46"/>
                    </a:lnTo>
                    <a:lnTo>
                      <a:pt x="2" y="36"/>
                    </a:lnTo>
                    <a:lnTo>
                      <a:pt x="7" y="28"/>
                    </a:lnTo>
                    <a:lnTo>
                      <a:pt x="12" y="19"/>
                    </a:lnTo>
                    <a:lnTo>
                      <a:pt x="19" y="11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5" y="3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26040" y="3478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29"/>
                    </a:moveTo>
                    <a:lnTo>
                      <a:pt x="0" y="24"/>
                    </a:lnTo>
                    <a:lnTo>
                      <a:pt x="3" y="17"/>
                    </a:lnTo>
                    <a:lnTo>
                      <a:pt x="6" y="11"/>
                    </a:lnTo>
                    <a:lnTo>
                      <a:pt x="11" y="6"/>
                    </a:lnTo>
                    <a:lnTo>
                      <a:pt x="21" y="0"/>
                    </a:lnTo>
                    <a:lnTo>
                      <a:pt x="20" y="7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92640" y="34783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23" y="0"/>
                    </a:moveTo>
                    <a:lnTo>
                      <a:pt x="22" y="8"/>
                    </a:lnTo>
                    <a:lnTo>
                      <a:pt x="18" y="16"/>
                    </a:lnTo>
                    <a:lnTo>
                      <a:pt x="12" y="22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3" y="20"/>
                    </a:lnTo>
                    <a:lnTo>
                      <a:pt x="7" y="10"/>
                    </a:lnTo>
                    <a:lnTo>
                      <a:pt x="1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52960" y="34797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55" y="15"/>
                    </a:moveTo>
                    <a:lnTo>
                      <a:pt x="53" y="27"/>
                    </a:lnTo>
                    <a:lnTo>
                      <a:pt x="48" y="37"/>
                    </a:lnTo>
                    <a:lnTo>
                      <a:pt x="40" y="47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2" y="52"/>
                    </a:lnTo>
                    <a:lnTo>
                      <a:pt x="5" y="46"/>
                    </a:lnTo>
                    <a:lnTo>
                      <a:pt x="0" y="38"/>
                    </a:lnTo>
                    <a:lnTo>
                      <a:pt x="1" y="27"/>
                    </a:lnTo>
                    <a:lnTo>
                      <a:pt x="7" y="16"/>
                    </a:lnTo>
                    <a:lnTo>
                      <a:pt x="14" y="8"/>
                    </a:lnTo>
                    <a:lnTo>
                      <a:pt x="23" y="2"/>
                    </a:lnTo>
                    <a:lnTo>
                      <a:pt x="32" y="0"/>
                    </a:lnTo>
                    <a:lnTo>
                      <a:pt x="43" y="1"/>
                    </a:lnTo>
                    <a:lnTo>
                      <a:pt x="50" y="7"/>
                    </a:lnTo>
                    <a:lnTo>
                      <a:pt x="5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90880" y="34909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73" y="15"/>
                    </a:moveTo>
                    <a:lnTo>
                      <a:pt x="72" y="22"/>
                    </a:lnTo>
                    <a:lnTo>
                      <a:pt x="68" y="29"/>
                    </a:lnTo>
                    <a:lnTo>
                      <a:pt x="65" y="35"/>
                    </a:lnTo>
                    <a:lnTo>
                      <a:pt x="60" y="39"/>
                    </a:lnTo>
                    <a:lnTo>
                      <a:pt x="55" y="44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7" y="55"/>
                    </a:lnTo>
                    <a:lnTo>
                      <a:pt x="33" y="55"/>
                    </a:lnTo>
                    <a:lnTo>
                      <a:pt x="28" y="57"/>
                    </a:lnTo>
                    <a:lnTo>
                      <a:pt x="24" y="58"/>
                    </a:lnTo>
                    <a:lnTo>
                      <a:pt x="20" y="59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6" y="58"/>
                    </a:lnTo>
                    <a:lnTo>
                      <a:pt x="3" y="55"/>
                    </a:lnTo>
                    <a:lnTo>
                      <a:pt x="0" y="45"/>
                    </a:lnTo>
                    <a:lnTo>
                      <a:pt x="3" y="35"/>
                    </a:lnTo>
                    <a:lnTo>
                      <a:pt x="9" y="25"/>
                    </a:lnTo>
                    <a:lnTo>
                      <a:pt x="15" y="17"/>
                    </a:lnTo>
                    <a:lnTo>
                      <a:pt x="22" y="12"/>
                    </a:lnTo>
                    <a:lnTo>
                      <a:pt x="29" y="7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62" y="1"/>
                    </a:lnTo>
                    <a:lnTo>
                      <a:pt x="68" y="7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65560" y="34923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3"/>
                    </a:moveTo>
                    <a:lnTo>
                      <a:pt x="20" y="8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4" y="21"/>
                    </a:lnTo>
                    <a:lnTo>
                      <a:pt x="0" y="11"/>
                    </a:lnTo>
                    <a:lnTo>
                      <a:pt x="5" y="4"/>
                    </a:lnTo>
                    <a:lnTo>
                      <a:pt x="14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11640" y="35002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48" h="61">
                    <a:moveTo>
                      <a:pt x="48" y="30"/>
                    </a:moveTo>
                    <a:lnTo>
                      <a:pt x="48" y="38"/>
                    </a:lnTo>
                    <a:lnTo>
                      <a:pt x="48" y="46"/>
                    </a:lnTo>
                    <a:lnTo>
                      <a:pt x="46" y="53"/>
                    </a:lnTo>
                    <a:lnTo>
                      <a:pt x="43" y="60"/>
                    </a:lnTo>
                    <a:lnTo>
                      <a:pt x="36" y="61"/>
                    </a:lnTo>
                    <a:lnTo>
                      <a:pt x="30" y="61"/>
                    </a:lnTo>
                    <a:lnTo>
                      <a:pt x="23" y="59"/>
                    </a:lnTo>
                    <a:lnTo>
                      <a:pt x="17" y="55"/>
                    </a:lnTo>
                    <a:lnTo>
                      <a:pt x="13" y="52"/>
                    </a:lnTo>
                    <a:lnTo>
                      <a:pt x="8" y="46"/>
                    </a:lnTo>
                    <a:lnTo>
                      <a:pt x="5" y="40"/>
                    </a:lnTo>
                    <a:lnTo>
                      <a:pt x="2" y="34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1"/>
                    </a:lnTo>
                    <a:lnTo>
                      <a:pt x="29" y="4"/>
                    </a:lnTo>
                    <a:lnTo>
                      <a:pt x="36" y="10"/>
                    </a:lnTo>
                    <a:lnTo>
                      <a:pt x="40" y="16"/>
                    </a:lnTo>
                    <a:lnTo>
                      <a:pt x="45" y="23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803840" y="35035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5" y="1"/>
                    </a:moveTo>
                    <a:lnTo>
                      <a:pt x="33" y="7"/>
                    </a:lnTo>
                    <a:lnTo>
                      <a:pt x="31" y="12"/>
                    </a:lnTo>
                    <a:lnTo>
                      <a:pt x="26" y="15"/>
                    </a:lnTo>
                    <a:lnTo>
                      <a:pt x="22" y="19"/>
                    </a:lnTo>
                    <a:lnTo>
                      <a:pt x="17" y="22"/>
                    </a:lnTo>
                    <a:lnTo>
                      <a:pt x="11" y="24"/>
                    </a:lnTo>
                    <a:lnTo>
                      <a:pt x="6" y="26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2"/>
                    </a:lnTo>
                    <a:lnTo>
                      <a:pt x="15" y="7"/>
                    </a:lnTo>
                    <a:lnTo>
                      <a:pt x="19" y="4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121360" y="35146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9" y="15"/>
                    </a:moveTo>
                    <a:lnTo>
                      <a:pt x="19" y="30"/>
                    </a:lnTo>
                    <a:lnTo>
                      <a:pt x="11" y="24"/>
                    </a:lnTo>
                    <a:lnTo>
                      <a:pt x="6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1" y="5"/>
                    </a:lnTo>
                    <a:lnTo>
                      <a:pt x="16" y="9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076640" y="352584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59" h="74">
                    <a:moveTo>
                      <a:pt x="59" y="17"/>
                    </a:moveTo>
                    <a:lnTo>
                      <a:pt x="57" y="26"/>
                    </a:lnTo>
                    <a:lnTo>
                      <a:pt x="55" y="34"/>
                    </a:lnTo>
                    <a:lnTo>
                      <a:pt x="52" y="43"/>
                    </a:lnTo>
                    <a:lnTo>
                      <a:pt x="48" y="51"/>
                    </a:lnTo>
                    <a:lnTo>
                      <a:pt x="44" y="59"/>
                    </a:lnTo>
                    <a:lnTo>
                      <a:pt x="38" y="64"/>
                    </a:lnTo>
                    <a:lnTo>
                      <a:pt x="31" y="70"/>
                    </a:lnTo>
                    <a:lnTo>
                      <a:pt x="23" y="74"/>
                    </a:lnTo>
                    <a:lnTo>
                      <a:pt x="15" y="72"/>
                    </a:lnTo>
                    <a:lnTo>
                      <a:pt x="8" y="69"/>
                    </a:lnTo>
                    <a:lnTo>
                      <a:pt x="2" y="63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9" y="23"/>
                    </a:lnTo>
                    <a:lnTo>
                      <a:pt x="14" y="16"/>
                    </a:lnTo>
                    <a:lnTo>
                      <a:pt x="20" y="9"/>
                    </a:lnTo>
                    <a:lnTo>
                      <a:pt x="27" y="4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2" y="3"/>
                    </a:lnTo>
                    <a:lnTo>
                      <a:pt x="56" y="9"/>
                    </a:lnTo>
                    <a:lnTo>
                      <a:pt x="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094280" y="3543120"/>
                <a:ext cx="9360" cy="255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3" y="32"/>
                    </a:moveTo>
                    <a:lnTo>
                      <a:pt x="0" y="25"/>
                    </a:lnTo>
                    <a:lnTo>
                      <a:pt x="2" y="17"/>
                    </a:lnTo>
                    <a:lnTo>
                      <a:pt x="6" y="8"/>
                    </a:lnTo>
                    <a:lnTo>
                      <a:pt x="13" y="0"/>
                    </a:lnTo>
                    <a:lnTo>
                      <a:pt x="13" y="8"/>
                    </a:lnTo>
                    <a:lnTo>
                      <a:pt x="12" y="17"/>
                    </a:lnTo>
                    <a:lnTo>
                      <a:pt x="9" y="25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095800" y="3548160"/>
                <a:ext cx="41400" cy="5364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51" y="25"/>
                    </a:moveTo>
                    <a:lnTo>
                      <a:pt x="53" y="37"/>
                    </a:lnTo>
                    <a:lnTo>
                      <a:pt x="52" y="48"/>
                    </a:lnTo>
                    <a:lnTo>
                      <a:pt x="50" y="60"/>
                    </a:lnTo>
                    <a:lnTo>
                      <a:pt x="43" y="68"/>
                    </a:lnTo>
                    <a:lnTo>
                      <a:pt x="37" y="68"/>
                    </a:lnTo>
                    <a:lnTo>
                      <a:pt x="30" y="65"/>
                    </a:lnTo>
                    <a:lnTo>
                      <a:pt x="26" y="63"/>
                    </a:lnTo>
                    <a:lnTo>
                      <a:pt x="20" y="58"/>
                    </a:lnTo>
                    <a:lnTo>
                      <a:pt x="15" y="54"/>
                    </a:lnTo>
                    <a:lnTo>
                      <a:pt x="12" y="49"/>
                    </a:lnTo>
                    <a:lnTo>
                      <a:pt x="8" y="43"/>
                    </a:lnTo>
                    <a:lnTo>
                      <a:pt x="6" y="38"/>
                    </a:lnTo>
                    <a:lnTo>
                      <a:pt x="4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32" y="5"/>
                    </a:lnTo>
                    <a:lnTo>
                      <a:pt x="37" y="10"/>
                    </a:lnTo>
                    <a:lnTo>
                      <a:pt x="43" y="15"/>
                    </a:lnTo>
                    <a:lnTo>
                      <a:pt x="46" y="19"/>
                    </a:lnTo>
                    <a:lnTo>
                      <a:pt x="5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103720" y="356220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24" y="13"/>
                    </a:moveTo>
                    <a:lnTo>
                      <a:pt x="24" y="36"/>
                    </a:lnTo>
                    <a:lnTo>
                      <a:pt x="15" y="29"/>
                    </a:lnTo>
                    <a:lnTo>
                      <a:pt x="8" y="20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5"/>
                    </a:lnTo>
                    <a:lnTo>
                      <a:pt x="19" y="8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844880" y="3638520"/>
                <a:ext cx="347760" cy="52200"/>
              </a:xfrm>
              <a:custGeom>
                <a:avLst/>
                <a:gdLst/>
                <a:ahLst/>
                <a:rect l="l" t="t" r="r" b="b"/>
                <a:pathLst>
                  <a:path w="437" h="66">
                    <a:moveTo>
                      <a:pt x="326" y="40"/>
                    </a:moveTo>
                    <a:lnTo>
                      <a:pt x="341" y="42"/>
                    </a:lnTo>
                    <a:lnTo>
                      <a:pt x="354" y="45"/>
                    </a:lnTo>
                    <a:lnTo>
                      <a:pt x="369" y="48"/>
                    </a:lnTo>
                    <a:lnTo>
                      <a:pt x="383" y="51"/>
                    </a:lnTo>
                    <a:lnTo>
                      <a:pt x="396" y="55"/>
                    </a:lnTo>
                    <a:lnTo>
                      <a:pt x="410" y="59"/>
                    </a:lnTo>
                    <a:lnTo>
                      <a:pt x="424" y="63"/>
                    </a:lnTo>
                    <a:lnTo>
                      <a:pt x="437" y="66"/>
                    </a:lnTo>
                    <a:lnTo>
                      <a:pt x="411" y="64"/>
                    </a:lnTo>
                    <a:lnTo>
                      <a:pt x="383" y="62"/>
                    </a:lnTo>
                    <a:lnTo>
                      <a:pt x="356" y="59"/>
                    </a:lnTo>
                    <a:lnTo>
                      <a:pt x="328" y="58"/>
                    </a:lnTo>
                    <a:lnTo>
                      <a:pt x="300" y="56"/>
                    </a:lnTo>
                    <a:lnTo>
                      <a:pt x="273" y="54"/>
                    </a:lnTo>
                    <a:lnTo>
                      <a:pt x="244" y="51"/>
                    </a:lnTo>
                    <a:lnTo>
                      <a:pt x="216" y="48"/>
                    </a:lnTo>
                    <a:lnTo>
                      <a:pt x="189" y="46"/>
                    </a:lnTo>
                    <a:lnTo>
                      <a:pt x="161" y="42"/>
                    </a:lnTo>
                    <a:lnTo>
                      <a:pt x="133" y="39"/>
                    </a:lnTo>
                    <a:lnTo>
                      <a:pt x="106" y="34"/>
                    </a:lnTo>
                    <a:lnTo>
                      <a:pt x="79" y="30"/>
                    </a:lnTo>
                    <a:lnTo>
                      <a:pt x="51" y="24"/>
                    </a:lnTo>
                    <a:lnTo>
                      <a:pt x="26" y="17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2" y="6"/>
                    </a:lnTo>
                    <a:lnTo>
                      <a:pt x="40" y="12"/>
                    </a:lnTo>
                    <a:lnTo>
                      <a:pt x="60" y="17"/>
                    </a:lnTo>
                    <a:lnTo>
                      <a:pt x="79" y="21"/>
                    </a:lnTo>
                    <a:lnTo>
                      <a:pt x="99" y="26"/>
                    </a:lnTo>
                    <a:lnTo>
                      <a:pt x="119" y="30"/>
                    </a:lnTo>
                    <a:lnTo>
                      <a:pt x="140" y="32"/>
                    </a:lnTo>
                    <a:lnTo>
                      <a:pt x="161" y="34"/>
                    </a:lnTo>
                    <a:lnTo>
                      <a:pt x="182" y="35"/>
                    </a:lnTo>
                    <a:lnTo>
                      <a:pt x="202" y="38"/>
                    </a:lnTo>
                    <a:lnTo>
                      <a:pt x="223" y="39"/>
                    </a:lnTo>
                    <a:lnTo>
                      <a:pt x="244" y="39"/>
                    </a:lnTo>
                    <a:lnTo>
                      <a:pt x="265" y="40"/>
                    </a:lnTo>
                    <a:lnTo>
                      <a:pt x="285" y="40"/>
                    </a:lnTo>
                    <a:lnTo>
                      <a:pt x="305" y="40"/>
                    </a:lnTo>
                    <a:lnTo>
                      <a:pt x="32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056120" y="3641760"/>
                <a:ext cx="339480" cy="63360"/>
              </a:xfrm>
              <a:custGeom>
                <a:avLst/>
                <a:gdLst/>
                <a:ahLst/>
                <a:rect l="l" t="t" r="r" b="b"/>
                <a:pathLst>
                  <a:path w="429" h="81">
                    <a:moveTo>
                      <a:pt x="429" y="0"/>
                    </a:moveTo>
                    <a:lnTo>
                      <a:pt x="415" y="7"/>
                    </a:lnTo>
                    <a:lnTo>
                      <a:pt x="402" y="14"/>
                    </a:lnTo>
                    <a:lnTo>
                      <a:pt x="390" y="22"/>
                    </a:lnTo>
                    <a:lnTo>
                      <a:pt x="376" y="29"/>
                    </a:lnTo>
                    <a:lnTo>
                      <a:pt x="363" y="37"/>
                    </a:lnTo>
                    <a:lnTo>
                      <a:pt x="349" y="44"/>
                    </a:lnTo>
                    <a:lnTo>
                      <a:pt x="337" y="52"/>
                    </a:lnTo>
                    <a:lnTo>
                      <a:pt x="323" y="58"/>
                    </a:lnTo>
                    <a:lnTo>
                      <a:pt x="309" y="65"/>
                    </a:lnTo>
                    <a:lnTo>
                      <a:pt x="295" y="69"/>
                    </a:lnTo>
                    <a:lnTo>
                      <a:pt x="280" y="74"/>
                    </a:lnTo>
                    <a:lnTo>
                      <a:pt x="265" y="77"/>
                    </a:lnTo>
                    <a:lnTo>
                      <a:pt x="250" y="80"/>
                    </a:lnTo>
                    <a:lnTo>
                      <a:pt x="235" y="81"/>
                    </a:lnTo>
                    <a:lnTo>
                      <a:pt x="219" y="80"/>
                    </a:lnTo>
                    <a:lnTo>
                      <a:pt x="202" y="77"/>
                    </a:lnTo>
                    <a:lnTo>
                      <a:pt x="189" y="76"/>
                    </a:lnTo>
                    <a:lnTo>
                      <a:pt x="176" y="74"/>
                    </a:lnTo>
                    <a:lnTo>
                      <a:pt x="164" y="73"/>
                    </a:lnTo>
                    <a:lnTo>
                      <a:pt x="151" y="70"/>
                    </a:lnTo>
                    <a:lnTo>
                      <a:pt x="138" y="68"/>
                    </a:lnTo>
                    <a:lnTo>
                      <a:pt x="126" y="67"/>
                    </a:lnTo>
                    <a:lnTo>
                      <a:pt x="113" y="65"/>
                    </a:lnTo>
                    <a:lnTo>
                      <a:pt x="100" y="62"/>
                    </a:lnTo>
                    <a:lnTo>
                      <a:pt x="88" y="61"/>
                    </a:lnTo>
                    <a:lnTo>
                      <a:pt x="75" y="60"/>
                    </a:lnTo>
                    <a:lnTo>
                      <a:pt x="62" y="60"/>
                    </a:lnTo>
                    <a:lnTo>
                      <a:pt x="50" y="60"/>
                    </a:lnTo>
                    <a:lnTo>
                      <a:pt x="37" y="61"/>
                    </a:lnTo>
                    <a:lnTo>
                      <a:pt x="25" y="62"/>
                    </a:lnTo>
                    <a:lnTo>
                      <a:pt x="13" y="65"/>
                    </a:lnTo>
                    <a:lnTo>
                      <a:pt x="0" y="68"/>
                    </a:lnTo>
                    <a:lnTo>
                      <a:pt x="15" y="59"/>
                    </a:lnTo>
                    <a:lnTo>
                      <a:pt x="31" y="53"/>
                    </a:lnTo>
                    <a:lnTo>
                      <a:pt x="46" y="50"/>
                    </a:lnTo>
                    <a:lnTo>
                      <a:pt x="61" y="48"/>
                    </a:lnTo>
                    <a:lnTo>
                      <a:pt x="76" y="48"/>
                    </a:lnTo>
                    <a:lnTo>
                      <a:pt x="91" y="51"/>
                    </a:lnTo>
                    <a:lnTo>
                      <a:pt x="107" y="53"/>
                    </a:lnTo>
                    <a:lnTo>
                      <a:pt x="122" y="56"/>
                    </a:lnTo>
                    <a:lnTo>
                      <a:pt x="138" y="60"/>
                    </a:lnTo>
                    <a:lnTo>
                      <a:pt x="153" y="65"/>
                    </a:lnTo>
                    <a:lnTo>
                      <a:pt x="169" y="68"/>
                    </a:lnTo>
                    <a:lnTo>
                      <a:pt x="186" y="70"/>
                    </a:lnTo>
                    <a:lnTo>
                      <a:pt x="202" y="71"/>
                    </a:lnTo>
                    <a:lnTo>
                      <a:pt x="219" y="71"/>
                    </a:lnTo>
                    <a:lnTo>
                      <a:pt x="235" y="70"/>
                    </a:lnTo>
                    <a:lnTo>
                      <a:pt x="252" y="67"/>
                    </a:lnTo>
                    <a:lnTo>
                      <a:pt x="271" y="63"/>
                    </a:lnTo>
                    <a:lnTo>
                      <a:pt x="289" y="58"/>
                    </a:lnTo>
                    <a:lnTo>
                      <a:pt x="307" y="52"/>
                    </a:lnTo>
                    <a:lnTo>
                      <a:pt x="324" y="44"/>
                    </a:lnTo>
                    <a:lnTo>
                      <a:pt x="340" y="36"/>
                    </a:lnTo>
                    <a:lnTo>
                      <a:pt x="356" y="25"/>
                    </a:lnTo>
                    <a:lnTo>
                      <a:pt x="371" y="14"/>
                    </a:lnTo>
                    <a:lnTo>
                      <a:pt x="385" y="0"/>
                    </a:lnTo>
                    <a:lnTo>
                      <a:pt x="4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41920" y="366372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112" h="69">
                    <a:moveTo>
                      <a:pt x="112" y="5"/>
                    </a:moveTo>
                    <a:lnTo>
                      <a:pt x="103" y="16"/>
                    </a:lnTo>
                    <a:lnTo>
                      <a:pt x="92" y="26"/>
                    </a:lnTo>
                    <a:lnTo>
                      <a:pt x="80" y="35"/>
                    </a:lnTo>
                    <a:lnTo>
                      <a:pt x="68" y="41"/>
                    </a:lnTo>
                    <a:lnTo>
                      <a:pt x="54" y="48"/>
                    </a:lnTo>
                    <a:lnTo>
                      <a:pt x="42" y="55"/>
                    </a:lnTo>
                    <a:lnTo>
                      <a:pt x="29" y="61"/>
                    </a:lnTo>
                    <a:lnTo>
                      <a:pt x="16" y="68"/>
                    </a:lnTo>
                    <a:lnTo>
                      <a:pt x="12" y="69"/>
                    </a:lnTo>
                    <a:lnTo>
                      <a:pt x="8" y="68"/>
                    </a:lnTo>
                    <a:lnTo>
                      <a:pt x="5" y="66"/>
                    </a:lnTo>
                    <a:lnTo>
                      <a:pt x="0" y="65"/>
                    </a:lnTo>
                    <a:lnTo>
                      <a:pt x="13" y="59"/>
                    </a:lnTo>
                    <a:lnTo>
                      <a:pt x="26" y="52"/>
                    </a:lnTo>
                    <a:lnTo>
                      <a:pt x="38" y="45"/>
                    </a:lnTo>
                    <a:lnTo>
                      <a:pt x="51" y="37"/>
                    </a:lnTo>
                    <a:lnTo>
                      <a:pt x="62" y="29"/>
                    </a:lnTo>
                    <a:lnTo>
                      <a:pt x="74" y="21"/>
                    </a:lnTo>
                    <a:lnTo>
                      <a:pt x="86" y="10"/>
                    </a:lnTo>
                    <a:lnTo>
                      <a:pt x="97" y="0"/>
                    </a:lnTo>
                    <a:lnTo>
                      <a:pt x="11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321080" y="3686040"/>
                <a:ext cx="115920" cy="76320"/>
              </a:xfrm>
              <a:custGeom>
                <a:avLst/>
                <a:gdLst/>
                <a:ahLst/>
                <a:rect l="l" t="t" r="r" b="b"/>
                <a:pathLst>
                  <a:path w="146" h="97">
                    <a:moveTo>
                      <a:pt x="146" y="40"/>
                    </a:moveTo>
                    <a:lnTo>
                      <a:pt x="132" y="50"/>
                    </a:lnTo>
                    <a:lnTo>
                      <a:pt x="118" y="60"/>
                    </a:lnTo>
                    <a:lnTo>
                      <a:pt x="103" y="70"/>
                    </a:lnTo>
                    <a:lnTo>
                      <a:pt x="88" y="78"/>
                    </a:lnTo>
                    <a:lnTo>
                      <a:pt x="73" y="85"/>
                    </a:lnTo>
                    <a:lnTo>
                      <a:pt x="57" y="90"/>
                    </a:lnTo>
                    <a:lnTo>
                      <a:pt x="41" y="95"/>
                    </a:lnTo>
                    <a:lnTo>
                      <a:pt x="23" y="97"/>
                    </a:lnTo>
                    <a:lnTo>
                      <a:pt x="0" y="65"/>
                    </a:lnTo>
                    <a:lnTo>
                      <a:pt x="18" y="59"/>
                    </a:lnTo>
                    <a:lnTo>
                      <a:pt x="34" y="53"/>
                    </a:lnTo>
                    <a:lnTo>
                      <a:pt x="50" y="47"/>
                    </a:lnTo>
                    <a:lnTo>
                      <a:pt x="66" y="37"/>
                    </a:lnTo>
                    <a:lnTo>
                      <a:pt x="82" y="29"/>
                    </a:lnTo>
                    <a:lnTo>
                      <a:pt x="97" y="20"/>
                    </a:lnTo>
                    <a:lnTo>
                      <a:pt x="113" y="11"/>
                    </a:lnTo>
                    <a:lnTo>
                      <a:pt x="128" y="0"/>
                    </a:lnTo>
                    <a:lnTo>
                      <a:pt x="135" y="9"/>
                    </a:lnTo>
                    <a:lnTo>
                      <a:pt x="139" y="18"/>
                    </a:lnTo>
                    <a:lnTo>
                      <a:pt x="142" y="29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213160" y="3700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47" y="20"/>
                    </a:moveTo>
                    <a:lnTo>
                      <a:pt x="40" y="25"/>
                    </a:lnTo>
                    <a:lnTo>
                      <a:pt x="32" y="29"/>
                    </a:lnTo>
                    <a:lnTo>
                      <a:pt x="22" y="31"/>
                    </a:lnTo>
                    <a:lnTo>
                      <a:pt x="14" y="34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4" y="10"/>
                    </a:lnTo>
                    <a:lnTo>
                      <a:pt x="30" y="13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957480" y="37083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28" y="36"/>
                    </a:moveTo>
                    <a:lnTo>
                      <a:pt x="20" y="31"/>
                    </a:lnTo>
                    <a:lnTo>
                      <a:pt x="11" y="27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38" y="0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081400" y="3713040"/>
                <a:ext cx="98640" cy="46080"/>
              </a:xfrm>
              <a:custGeom>
                <a:avLst/>
                <a:gdLst/>
                <a:ahLst/>
                <a:rect l="l" t="t" r="r" b="b"/>
                <a:pathLst>
                  <a:path w="123" h="58">
                    <a:moveTo>
                      <a:pt x="123" y="18"/>
                    </a:moveTo>
                    <a:lnTo>
                      <a:pt x="120" y="29"/>
                    </a:lnTo>
                    <a:lnTo>
                      <a:pt x="116" y="39"/>
                    </a:lnTo>
                    <a:lnTo>
                      <a:pt x="113" y="48"/>
                    </a:lnTo>
                    <a:lnTo>
                      <a:pt x="106" y="58"/>
                    </a:lnTo>
                    <a:lnTo>
                      <a:pt x="92" y="57"/>
                    </a:lnTo>
                    <a:lnTo>
                      <a:pt x="78" y="55"/>
                    </a:lnTo>
                    <a:lnTo>
                      <a:pt x="66" y="53"/>
                    </a:lnTo>
                    <a:lnTo>
                      <a:pt x="52" y="50"/>
                    </a:lnTo>
                    <a:lnTo>
                      <a:pt x="39" y="46"/>
                    </a:lnTo>
                    <a:lnTo>
                      <a:pt x="26" y="43"/>
                    </a:lnTo>
                    <a:lnTo>
                      <a:pt x="14" y="39"/>
                    </a:lnTo>
                    <a:lnTo>
                      <a:pt x="0" y="37"/>
                    </a:lnTo>
                    <a:lnTo>
                      <a:pt x="2" y="15"/>
                    </a:lnTo>
                    <a:lnTo>
                      <a:pt x="10" y="4"/>
                    </a:lnTo>
                    <a:lnTo>
                      <a:pt x="23" y="0"/>
                    </a:lnTo>
                    <a:lnTo>
                      <a:pt x="38" y="2"/>
                    </a:lnTo>
                    <a:lnTo>
                      <a:pt x="55" y="8"/>
                    </a:lnTo>
                    <a:lnTo>
                      <a:pt x="72" y="13"/>
                    </a:lnTo>
                    <a:lnTo>
                      <a:pt x="89" y="16"/>
                    </a:lnTo>
                    <a:lnTo>
                      <a:pt x="104" y="15"/>
                    </a:lnTo>
                    <a:lnTo>
                      <a:pt x="123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954600" y="3732120"/>
                <a:ext cx="1353960" cy="184320"/>
              </a:xfrm>
              <a:custGeom>
                <a:avLst/>
                <a:gdLst/>
                <a:ahLst/>
                <a:rect l="l" t="t" r="r" b="b"/>
                <a:pathLst>
                  <a:path w="1708" h="233">
                    <a:moveTo>
                      <a:pt x="1534" y="103"/>
                    </a:moveTo>
                    <a:lnTo>
                      <a:pt x="1542" y="103"/>
                    </a:lnTo>
                    <a:lnTo>
                      <a:pt x="1550" y="102"/>
                    </a:lnTo>
                    <a:lnTo>
                      <a:pt x="1557" y="99"/>
                    </a:lnTo>
                    <a:lnTo>
                      <a:pt x="1565" y="96"/>
                    </a:lnTo>
                    <a:lnTo>
                      <a:pt x="1572" y="91"/>
                    </a:lnTo>
                    <a:lnTo>
                      <a:pt x="1579" y="86"/>
                    </a:lnTo>
                    <a:lnTo>
                      <a:pt x="1583" y="79"/>
                    </a:lnTo>
                    <a:lnTo>
                      <a:pt x="1587" y="71"/>
                    </a:lnTo>
                    <a:lnTo>
                      <a:pt x="1597" y="41"/>
                    </a:lnTo>
                    <a:lnTo>
                      <a:pt x="1609" y="49"/>
                    </a:lnTo>
                    <a:lnTo>
                      <a:pt x="1620" y="57"/>
                    </a:lnTo>
                    <a:lnTo>
                      <a:pt x="1632" y="66"/>
                    </a:lnTo>
                    <a:lnTo>
                      <a:pt x="1642" y="76"/>
                    </a:lnTo>
                    <a:lnTo>
                      <a:pt x="1651" y="87"/>
                    </a:lnTo>
                    <a:lnTo>
                      <a:pt x="1661" y="97"/>
                    </a:lnTo>
                    <a:lnTo>
                      <a:pt x="1670" y="107"/>
                    </a:lnTo>
                    <a:lnTo>
                      <a:pt x="1678" y="119"/>
                    </a:lnTo>
                    <a:lnTo>
                      <a:pt x="1671" y="115"/>
                    </a:lnTo>
                    <a:lnTo>
                      <a:pt x="1665" y="111"/>
                    </a:lnTo>
                    <a:lnTo>
                      <a:pt x="1658" y="106"/>
                    </a:lnTo>
                    <a:lnTo>
                      <a:pt x="1651" y="102"/>
                    </a:lnTo>
                    <a:lnTo>
                      <a:pt x="1644" y="98"/>
                    </a:lnTo>
                    <a:lnTo>
                      <a:pt x="1638" y="97"/>
                    </a:lnTo>
                    <a:lnTo>
                      <a:pt x="1629" y="98"/>
                    </a:lnTo>
                    <a:lnTo>
                      <a:pt x="1623" y="103"/>
                    </a:lnTo>
                    <a:lnTo>
                      <a:pt x="1623" y="106"/>
                    </a:lnTo>
                    <a:lnTo>
                      <a:pt x="1634" y="113"/>
                    </a:lnTo>
                    <a:lnTo>
                      <a:pt x="1646" y="120"/>
                    </a:lnTo>
                    <a:lnTo>
                      <a:pt x="1657" y="128"/>
                    </a:lnTo>
                    <a:lnTo>
                      <a:pt x="1669" y="137"/>
                    </a:lnTo>
                    <a:lnTo>
                      <a:pt x="1679" y="147"/>
                    </a:lnTo>
                    <a:lnTo>
                      <a:pt x="1689" y="157"/>
                    </a:lnTo>
                    <a:lnTo>
                      <a:pt x="1699" y="167"/>
                    </a:lnTo>
                    <a:lnTo>
                      <a:pt x="1708" y="179"/>
                    </a:lnTo>
                    <a:lnTo>
                      <a:pt x="1708" y="209"/>
                    </a:lnTo>
                    <a:lnTo>
                      <a:pt x="1701" y="201"/>
                    </a:lnTo>
                    <a:lnTo>
                      <a:pt x="1694" y="194"/>
                    </a:lnTo>
                    <a:lnTo>
                      <a:pt x="1686" y="187"/>
                    </a:lnTo>
                    <a:lnTo>
                      <a:pt x="1679" y="181"/>
                    </a:lnTo>
                    <a:lnTo>
                      <a:pt x="1671" y="175"/>
                    </a:lnTo>
                    <a:lnTo>
                      <a:pt x="1663" y="170"/>
                    </a:lnTo>
                    <a:lnTo>
                      <a:pt x="1654" y="165"/>
                    </a:lnTo>
                    <a:lnTo>
                      <a:pt x="1646" y="160"/>
                    </a:lnTo>
                    <a:lnTo>
                      <a:pt x="1628" y="157"/>
                    </a:lnTo>
                    <a:lnTo>
                      <a:pt x="1610" y="153"/>
                    </a:lnTo>
                    <a:lnTo>
                      <a:pt x="1593" y="148"/>
                    </a:lnTo>
                    <a:lnTo>
                      <a:pt x="1574" y="143"/>
                    </a:lnTo>
                    <a:lnTo>
                      <a:pt x="1556" y="137"/>
                    </a:lnTo>
                    <a:lnTo>
                      <a:pt x="1537" y="133"/>
                    </a:lnTo>
                    <a:lnTo>
                      <a:pt x="1520" y="127"/>
                    </a:lnTo>
                    <a:lnTo>
                      <a:pt x="1502" y="124"/>
                    </a:lnTo>
                    <a:lnTo>
                      <a:pt x="1474" y="118"/>
                    </a:lnTo>
                    <a:lnTo>
                      <a:pt x="1446" y="113"/>
                    </a:lnTo>
                    <a:lnTo>
                      <a:pt x="1417" y="110"/>
                    </a:lnTo>
                    <a:lnTo>
                      <a:pt x="1389" y="106"/>
                    </a:lnTo>
                    <a:lnTo>
                      <a:pt x="1360" y="105"/>
                    </a:lnTo>
                    <a:lnTo>
                      <a:pt x="1331" y="104"/>
                    </a:lnTo>
                    <a:lnTo>
                      <a:pt x="1301" y="104"/>
                    </a:lnTo>
                    <a:lnTo>
                      <a:pt x="1272" y="104"/>
                    </a:lnTo>
                    <a:lnTo>
                      <a:pt x="1242" y="106"/>
                    </a:lnTo>
                    <a:lnTo>
                      <a:pt x="1213" y="109"/>
                    </a:lnTo>
                    <a:lnTo>
                      <a:pt x="1185" y="111"/>
                    </a:lnTo>
                    <a:lnTo>
                      <a:pt x="1156" y="115"/>
                    </a:lnTo>
                    <a:lnTo>
                      <a:pt x="1127" y="120"/>
                    </a:lnTo>
                    <a:lnTo>
                      <a:pt x="1099" y="126"/>
                    </a:lnTo>
                    <a:lnTo>
                      <a:pt x="1073" y="132"/>
                    </a:lnTo>
                    <a:lnTo>
                      <a:pt x="1046" y="139"/>
                    </a:lnTo>
                    <a:lnTo>
                      <a:pt x="1025" y="144"/>
                    </a:lnTo>
                    <a:lnTo>
                      <a:pt x="1003" y="151"/>
                    </a:lnTo>
                    <a:lnTo>
                      <a:pt x="981" y="158"/>
                    </a:lnTo>
                    <a:lnTo>
                      <a:pt x="960" y="165"/>
                    </a:lnTo>
                    <a:lnTo>
                      <a:pt x="938" y="173"/>
                    </a:lnTo>
                    <a:lnTo>
                      <a:pt x="916" y="180"/>
                    </a:lnTo>
                    <a:lnTo>
                      <a:pt x="894" y="187"/>
                    </a:lnTo>
                    <a:lnTo>
                      <a:pt x="874" y="194"/>
                    </a:lnTo>
                    <a:lnTo>
                      <a:pt x="852" y="201"/>
                    </a:lnTo>
                    <a:lnTo>
                      <a:pt x="830" y="208"/>
                    </a:lnTo>
                    <a:lnTo>
                      <a:pt x="808" y="213"/>
                    </a:lnTo>
                    <a:lnTo>
                      <a:pt x="786" y="219"/>
                    </a:lnTo>
                    <a:lnTo>
                      <a:pt x="764" y="224"/>
                    </a:lnTo>
                    <a:lnTo>
                      <a:pt x="741" y="228"/>
                    </a:lnTo>
                    <a:lnTo>
                      <a:pt x="718" y="231"/>
                    </a:lnTo>
                    <a:lnTo>
                      <a:pt x="695" y="233"/>
                    </a:lnTo>
                    <a:lnTo>
                      <a:pt x="675" y="226"/>
                    </a:lnTo>
                    <a:lnTo>
                      <a:pt x="656" y="217"/>
                    </a:lnTo>
                    <a:lnTo>
                      <a:pt x="636" y="206"/>
                    </a:lnTo>
                    <a:lnTo>
                      <a:pt x="618" y="196"/>
                    </a:lnTo>
                    <a:lnTo>
                      <a:pt x="598" y="186"/>
                    </a:lnTo>
                    <a:lnTo>
                      <a:pt x="579" y="175"/>
                    </a:lnTo>
                    <a:lnTo>
                      <a:pt x="558" y="168"/>
                    </a:lnTo>
                    <a:lnTo>
                      <a:pt x="536" y="164"/>
                    </a:lnTo>
                    <a:lnTo>
                      <a:pt x="511" y="156"/>
                    </a:lnTo>
                    <a:lnTo>
                      <a:pt x="485" y="149"/>
                    </a:lnTo>
                    <a:lnTo>
                      <a:pt x="459" y="143"/>
                    </a:lnTo>
                    <a:lnTo>
                      <a:pt x="432" y="139"/>
                    </a:lnTo>
                    <a:lnTo>
                      <a:pt x="406" y="135"/>
                    </a:lnTo>
                    <a:lnTo>
                      <a:pt x="378" y="133"/>
                    </a:lnTo>
                    <a:lnTo>
                      <a:pt x="350" y="132"/>
                    </a:lnTo>
                    <a:lnTo>
                      <a:pt x="323" y="130"/>
                    </a:lnTo>
                    <a:lnTo>
                      <a:pt x="294" y="129"/>
                    </a:lnTo>
                    <a:lnTo>
                      <a:pt x="266" y="129"/>
                    </a:lnTo>
                    <a:lnTo>
                      <a:pt x="238" y="130"/>
                    </a:lnTo>
                    <a:lnTo>
                      <a:pt x="210" y="130"/>
                    </a:lnTo>
                    <a:lnTo>
                      <a:pt x="182" y="132"/>
                    </a:lnTo>
                    <a:lnTo>
                      <a:pt x="153" y="132"/>
                    </a:lnTo>
                    <a:lnTo>
                      <a:pt x="127" y="133"/>
                    </a:lnTo>
                    <a:lnTo>
                      <a:pt x="99" y="133"/>
                    </a:lnTo>
                    <a:lnTo>
                      <a:pt x="89" y="133"/>
                    </a:lnTo>
                    <a:lnTo>
                      <a:pt x="77" y="134"/>
                    </a:lnTo>
                    <a:lnTo>
                      <a:pt x="65" y="134"/>
                    </a:lnTo>
                    <a:lnTo>
                      <a:pt x="52" y="134"/>
                    </a:lnTo>
                    <a:lnTo>
                      <a:pt x="38" y="134"/>
                    </a:lnTo>
                    <a:lnTo>
                      <a:pt x="24" y="134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1" y="124"/>
                    </a:lnTo>
                    <a:lnTo>
                      <a:pt x="4" y="100"/>
                    </a:lnTo>
                    <a:lnTo>
                      <a:pt x="12" y="76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8" y="64"/>
                    </a:lnTo>
                    <a:lnTo>
                      <a:pt x="31" y="66"/>
                    </a:lnTo>
                    <a:lnTo>
                      <a:pt x="38" y="69"/>
                    </a:lnTo>
                    <a:lnTo>
                      <a:pt x="46" y="73"/>
                    </a:lnTo>
                    <a:lnTo>
                      <a:pt x="57" y="76"/>
                    </a:lnTo>
                    <a:lnTo>
                      <a:pt x="69" y="81"/>
                    </a:lnTo>
                    <a:lnTo>
                      <a:pt x="84" y="84"/>
                    </a:lnTo>
                    <a:lnTo>
                      <a:pt x="100" y="88"/>
                    </a:lnTo>
                    <a:lnTo>
                      <a:pt x="120" y="90"/>
                    </a:lnTo>
                    <a:lnTo>
                      <a:pt x="141" y="92"/>
                    </a:lnTo>
                    <a:lnTo>
                      <a:pt x="164" y="94"/>
                    </a:lnTo>
                    <a:lnTo>
                      <a:pt x="189" y="94"/>
                    </a:lnTo>
                    <a:lnTo>
                      <a:pt x="218" y="92"/>
                    </a:lnTo>
                    <a:lnTo>
                      <a:pt x="248" y="90"/>
                    </a:lnTo>
                    <a:lnTo>
                      <a:pt x="280" y="87"/>
                    </a:lnTo>
                    <a:lnTo>
                      <a:pt x="296" y="92"/>
                    </a:lnTo>
                    <a:lnTo>
                      <a:pt x="311" y="96"/>
                    </a:lnTo>
                    <a:lnTo>
                      <a:pt x="329" y="99"/>
                    </a:lnTo>
                    <a:lnTo>
                      <a:pt x="345" y="102"/>
                    </a:lnTo>
                    <a:lnTo>
                      <a:pt x="362" y="104"/>
                    </a:lnTo>
                    <a:lnTo>
                      <a:pt x="379" y="105"/>
                    </a:lnTo>
                    <a:lnTo>
                      <a:pt x="397" y="106"/>
                    </a:lnTo>
                    <a:lnTo>
                      <a:pt x="414" y="107"/>
                    </a:lnTo>
                    <a:lnTo>
                      <a:pt x="431" y="107"/>
                    </a:lnTo>
                    <a:lnTo>
                      <a:pt x="448" y="109"/>
                    </a:lnTo>
                    <a:lnTo>
                      <a:pt x="466" y="109"/>
                    </a:lnTo>
                    <a:lnTo>
                      <a:pt x="483" y="110"/>
                    </a:lnTo>
                    <a:lnTo>
                      <a:pt x="500" y="111"/>
                    </a:lnTo>
                    <a:lnTo>
                      <a:pt x="516" y="113"/>
                    </a:lnTo>
                    <a:lnTo>
                      <a:pt x="533" y="115"/>
                    </a:lnTo>
                    <a:lnTo>
                      <a:pt x="549" y="119"/>
                    </a:lnTo>
                    <a:lnTo>
                      <a:pt x="561" y="121"/>
                    </a:lnTo>
                    <a:lnTo>
                      <a:pt x="574" y="124"/>
                    </a:lnTo>
                    <a:lnTo>
                      <a:pt x="587" y="127"/>
                    </a:lnTo>
                    <a:lnTo>
                      <a:pt x="599" y="132"/>
                    </a:lnTo>
                    <a:lnTo>
                      <a:pt x="612" y="137"/>
                    </a:lnTo>
                    <a:lnTo>
                      <a:pt x="624" y="142"/>
                    </a:lnTo>
                    <a:lnTo>
                      <a:pt x="636" y="148"/>
                    </a:lnTo>
                    <a:lnTo>
                      <a:pt x="648" y="153"/>
                    </a:lnTo>
                    <a:lnTo>
                      <a:pt x="660" y="158"/>
                    </a:lnTo>
                    <a:lnTo>
                      <a:pt x="673" y="164"/>
                    </a:lnTo>
                    <a:lnTo>
                      <a:pt x="685" y="168"/>
                    </a:lnTo>
                    <a:lnTo>
                      <a:pt x="697" y="172"/>
                    </a:lnTo>
                    <a:lnTo>
                      <a:pt x="710" y="175"/>
                    </a:lnTo>
                    <a:lnTo>
                      <a:pt x="724" y="178"/>
                    </a:lnTo>
                    <a:lnTo>
                      <a:pt x="736" y="179"/>
                    </a:lnTo>
                    <a:lnTo>
                      <a:pt x="750" y="179"/>
                    </a:lnTo>
                    <a:lnTo>
                      <a:pt x="763" y="175"/>
                    </a:lnTo>
                    <a:lnTo>
                      <a:pt x="776" y="172"/>
                    </a:lnTo>
                    <a:lnTo>
                      <a:pt x="788" y="167"/>
                    </a:lnTo>
                    <a:lnTo>
                      <a:pt x="801" y="163"/>
                    </a:lnTo>
                    <a:lnTo>
                      <a:pt x="814" y="157"/>
                    </a:lnTo>
                    <a:lnTo>
                      <a:pt x="825" y="152"/>
                    </a:lnTo>
                    <a:lnTo>
                      <a:pt x="838" y="147"/>
                    </a:lnTo>
                    <a:lnTo>
                      <a:pt x="851" y="142"/>
                    </a:lnTo>
                    <a:lnTo>
                      <a:pt x="862" y="136"/>
                    </a:lnTo>
                    <a:lnTo>
                      <a:pt x="875" y="132"/>
                    </a:lnTo>
                    <a:lnTo>
                      <a:pt x="887" y="126"/>
                    </a:lnTo>
                    <a:lnTo>
                      <a:pt x="900" y="121"/>
                    </a:lnTo>
                    <a:lnTo>
                      <a:pt x="912" y="117"/>
                    </a:lnTo>
                    <a:lnTo>
                      <a:pt x="924" y="113"/>
                    </a:lnTo>
                    <a:lnTo>
                      <a:pt x="938" y="110"/>
                    </a:lnTo>
                    <a:lnTo>
                      <a:pt x="951" y="106"/>
                    </a:lnTo>
                    <a:lnTo>
                      <a:pt x="954" y="104"/>
                    </a:lnTo>
                    <a:lnTo>
                      <a:pt x="957" y="100"/>
                    </a:lnTo>
                    <a:lnTo>
                      <a:pt x="957" y="97"/>
                    </a:lnTo>
                    <a:lnTo>
                      <a:pt x="954" y="95"/>
                    </a:lnTo>
                    <a:lnTo>
                      <a:pt x="943" y="91"/>
                    </a:lnTo>
                    <a:lnTo>
                      <a:pt x="930" y="91"/>
                    </a:lnTo>
                    <a:lnTo>
                      <a:pt x="919" y="92"/>
                    </a:lnTo>
                    <a:lnTo>
                      <a:pt x="906" y="96"/>
                    </a:lnTo>
                    <a:lnTo>
                      <a:pt x="893" y="100"/>
                    </a:lnTo>
                    <a:lnTo>
                      <a:pt x="882" y="105"/>
                    </a:lnTo>
                    <a:lnTo>
                      <a:pt x="869" y="110"/>
                    </a:lnTo>
                    <a:lnTo>
                      <a:pt x="857" y="113"/>
                    </a:lnTo>
                    <a:lnTo>
                      <a:pt x="847" y="118"/>
                    </a:lnTo>
                    <a:lnTo>
                      <a:pt x="836" y="122"/>
                    </a:lnTo>
                    <a:lnTo>
                      <a:pt x="824" y="127"/>
                    </a:lnTo>
                    <a:lnTo>
                      <a:pt x="813" y="132"/>
                    </a:lnTo>
                    <a:lnTo>
                      <a:pt x="801" y="136"/>
                    </a:lnTo>
                    <a:lnTo>
                      <a:pt x="789" y="141"/>
                    </a:lnTo>
                    <a:lnTo>
                      <a:pt x="777" y="144"/>
                    </a:lnTo>
                    <a:lnTo>
                      <a:pt x="764" y="147"/>
                    </a:lnTo>
                    <a:lnTo>
                      <a:pt x="753" y="149"/>
                    </a:lnTo>
                    <a:lnTo>
                      <a:pt x="740" y="150"/>
                    </a:lnTo>
                    <a:lnTo>
                      <a:pt x="727" y="149"/>
                    </a:lnTo>
                    <a:lnTo>
                      <a:pt x="716" y="148"/>
                    </a:lnTo>
                    <a:lnTo>
                      <a:pt x="703" y="145"/>
                    </a:lnTo>
                    <a:lnTo>
                      <a:pt x="692" y="141"/>
                    </a:lnTo>
                    <a:lnTo>
                      <a:pt x="681" y="136"/>
                    </a:lnTo>
                    <a:lnTo>
                      <a:pt x="670" y="128"/>
                    </a:lnTo>
                    <a:lnTo>
                      <a:pt x="574" y="86"/>
                    </a:lnTo>
                    <a:lnTo>
                      <a:pt x="587" y="81"/>
                    </a:lnTo>
                    <a:lnTo>
                      <a:pt x="599" y="75"/>
                    </a:lnTo>
                    <a:lnTo>
                      <a:pt x="612" y="68"/>
                    </a:lnTo>
                    <a:lnTo>
                      <a:pt x="624" y="60"/>
                    </a:lnTo>
                    <a:lnTo>
                      <a:pt x="635" y="52"/>
                    </a:lnTo>
                    <a:lnTo>
                      <a:pt x="647" y="44"/>
                    </a:lnTo>
                    <a:lnTo>
                      <a:pt x="658" y="36"/>
                    </a:lnTo>
                    <a:lnTo>
                      <a:pt x="670" y="28"/>
                    </a:lnTo>
                    <a:lnTo>
                      <a:pt x="692" y="37"/>
                    </a:lnTo>
                    <a:lnTo>
                      <a:pt x="709" y="37"/>
                    </a:lnTo>
                    <a:lnTo>
                      <a:pt x="726" y="38"/>
                    </a:lnTo>
                    <a:lnTo>
                      <a:pt x="743" y="38"/>
                    </a:lnTo>
                    <a:lnTo>
                      <a:pt x="761" y="37"/>
                    </a:lnTo>
                    <a:lnTo>
                      <a:pt x="778" y="37"/>
                    </a:lnTo>
                    <a:lnTo>
                      <a:pt x="795" y="36"/>
                    </a:lnTo>
                    <a:lnTo>
                      <a:pt x="813" y="35"/>
                    </a:lnTo>
                    <a:lnTo>
                      <a:pt x="830" y="33"/>
                    </a:lnTo>
                    <a:lnTo>
                      <a:pt x="847" y="30"/>
                    </a:lnTo>
                    <a:lnTo>
                      <a:pt x="864" y="28"/>
                    </a:lnTo>
                    <a:lnTo>
                      <a:pt x="882" y="24"/>
                    </a:lnTo>
                    <a:lnTo>
                      <a:pt x="898" y="21"/>
                    </a:lnTo>
                    <a:lnTo>
                      <a:pt x="914" y="16"/>
                    </a:lnTo>
                    <a:lnTo>
                      <a:pt x="930" y="12"/>
                    </a:lnTo>
                    <a:lnTo>
                      <a:pt x="946" y="6"/>
                    </a:lnTo>
                    <a:lnTo>
                      <a:pt x="961" y="0"/>
                    </a:lnTo>
                    <a:lnTo>
                      <a:pt x="995" y="12"/>
                    </a:lnTo>
                    <a:lnTo>
                      <a:pt x="1029" y="21"/>
                    </a:lnTo>
                    <a:lnTo>
                      <a:pt x="1065" y="29"/>
                    </a:lnTo>
                    <a:lnTo>
                      <a:pt x="1101" y="35"/>
                    </a:lnTo>
                    <a:lnTo>
                      <a:pt x="1137" y="39"/>
                    </a:lnTo>
                    <a:lnTo>
                      <a:pt x="1174" y="43"/>
                    </a:lnTo>
                    <a:lnTo>
                      <a:pt x="1211" y="46"/>
                    </a:lnTo>
                    <a:lnTo>
                      <a:pt x="1248" y="49"/>
                    </a:lnTo>
                    <a:lnTo>
                      <a:pt x="1286" y="52"/>
                    </a:lnTo>
                    <a:lnTo>
                      <a:pt x="1323" y="56"/>
                    </a:lnTo>
                    <a:lnTo>
                      <a:pt x="1360" y="59"/>
                    </a:lnTo>
                    <a:lnTo>
                      <a:pt x="1396" y="65"/>
                    </a:lnTo>
                    <a:lnTo>
                      <a:pt x="1431" y="71"/>
                    </a:lnTo>
                    <a:lnTo>
                      <a:pt x="1467" y="80"/>
                    </a:lnTo>
                    <a:lnTo>
                      <a:pt x="1500" y="90"/>
                    </a:lnTo>
                    <a:lnTo>
                      <a:pt x="1534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92560" y="373680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115" y="43"/>
                    </a:moveTo>
                    <a:lnTo>
                      <a:pt x="101" y="43"/>
                    </a:lnTo>
                    <a:lnTo>
                      <a:pt x="89" y="41"/>
                    </a:lnTo>
                    <a:lnTo>
                      <a:pt x="75" y="40"/>
                    </a:lnTo>
                    <a:lnTo>
                      <a:pt x="61" y="39"/>
                    </a:lnTo>
                    <a:lnTo>
                      <a:pt x="48" y="38"/>
                    </a:lnTo>
                    <a:lnTo>
                      <a:pt x="34" y="36"/>
                    </a:lnTo>
                    <a:lnTo>
                      <a:pt x="22" y="33"/>
                    </a:lnTo>
                    <a:lnTo>
                      <a:pt x="9" y="31"/>
                    </a:lnTo>
                    <a:lnTo>
                      <a:pt x="8" y="24"/>
                    </a:lnTo>
                    <a:lnTo>
                      <a:pt x="7" y="17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21" y="5"/>
                    </a:lnTo>
                    <a:lnTo>
                      <a:pt x="31" y="5"/>
                    </a:lnTo>
                    <a:lnTo>
                      <a:pt x="43" y="5"/>
                    </a:lnTo>
                    <a:lnTo>
                      <a:pt x="53" y="5"/>
                    </a:lnTo>
                    <a:lnTo>
                      <a:pt x="62" y="3"/>
                    </a:lnTo>
                    <a:lnTo>
                      <a:pt x="73" y="2"/>
                    </a:lnTo>
                    <a:lnTo>
                      <a:pt x="82" y="0"/>
                    </a:lnTo>
                    <a:lnTo>
                      <a:pt x="92" y="9"/>
                    </a:lnTo>
                    <a:lnTo>
                      <a:pt x="100" y="20"/>
                    </a:lnTo>
                    <a:lnTo>
                      <a:pt x="107" y="32"/>
                    </a:lnTo>
                    <a:lnTo>
                      <a:pt x="11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32200" y="37893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53" y="2"/>
                    </a:moveTo>
                    <a:lnTo>
                      <a:pt x="50" y="7"/>
                    </a:lnTo>
                    <a:lnTo>
                      <a:pt x="48" y="11"/>
                    </a:lnTo>
                    <a:lnTo>
                      <a:pt x="44" y="14"/>
                    </a:lnTo>
                    <a:lnTo>
                      <a:pt x="38" y="15"/>
                    </a:lnTo>
                    <a:lnTo>
                      <a:pt x="32" y="16"/>
                    </a:lnTo>
                    <a:lnTo>
                      <a:pt x="26" y="18"/>
                    </a:lnTo>
                    <a:lnTo>
                      <a:pt x="20" y="21"/>
                    </a:lnTo>
                    <a:lnTo>
                      <a:pt x="16" y="23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7" y="9"/>
                    </a:lnTo>
                    <a:lnTo>
                      <a:pt x="14" y="6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000320" y="3849480"/>
                <a:ext cx="38160" cy="163800"/>
              </a:xfrm>
              <a:custGeom>
                <a:avLst/>
                <a:gdLst/>
                <a:ahLst/>
                <a:rect l="l" t="t" r="r" b="b"/>
                <a:pathLst>
                  <a:path w="47" h="205">
                    <a:moveTo>
                      <a:pt x="40" y="0"/>
                    </a:moveTo>
                    <a:lnTo>
                      <a:pt x="32" y="17"/>
                    </a:lnTo>
                    <a:lnTo>
                      <a:pt x="25" y="37"/>
                    </a:lnTo>
                    <a:lnTo>
                      <a:pt x="23" y="55"/>
                    </a:lnTo>
                    <a:lnTo>
                      <a:pt x="28" y="75"/>
                    </a:lnTo>
                    <a:lnTo>
                      <a:pt x="33" y="89"/>
                    </a:lnTo>
                    <a:lnTo>
                      <a:pt x="36" y="102"/>
                    </a:lnTo>
                    <a:lnTo>
                      <a:pt x="36" y="116"/>
                    </a:lnTo>
                    <a:lnTo>
                      <a:pt x="33" y="130"/>
                    </a:lnTo>
                    <a:lnTo>
                      <a:pt x="31" y="145"/>
                    </a:lnTo>
                    <a:lnTo>
                      <a:pt x="30" y="159"/>
                    </a:lnTo>
                    <a:lnTo>
                      <a:pt x="31" y="174"/>
                    </a:lnTo>
                    <a:lnTo>
                      <a:pt x="37" y="188"/>
                    </a:lnTo>
                    <a:lnTo>
                      <a:pt x="47" y="203"/>
                    </a:lnTo>
                    <a:lnTo>
                      <a:pt x="40" y="205"/>
                    </a:lnTo>
                    <a:lnTo>
                      <a:pt x="33" y="204"/>
                    </a:lnTo>
                    <a:lnTo>
                      <a:pt x="26" y="200"/>
                    </a:lnTo>
                    <a:lnTo>
                      <a:pt x="22" y="196"/>
                    </a:lnTo>
                    <a:lnTo>
                      <a:pt x="16" y="189"/>
                    </a:lnTo>
                    <a:lnTo>
                      <a:pt x="13" y="182"/>
                    </a:lnTo>
                    <a:lnTo>
                      <a:pt x="8" y="176"/>
                    </a:lnTo>
                    <a:lnTo>
                      <a:pt x="5" y="170"/>
                    </a:lnTo>
                    <a:lnTo>
                      <a:pt x="0" y="147"/>
                    </a:lnTo>
                    <a:lnTo>
                      <a:pt x="3" y="125"/>
                    </a:lnTo>
                    <a:lnTo>
                      <a:pt x="8" y="102"/>
                    </a:lnTo>
                    <a:lnTo>
                      <a:pt x="8" y="79"/>
                    </a:lnTo>
                    <a:lnTo>
                      <a:pt x="8" y="60"/>
                    </a:lnTo>
                    <a:lnTo>
                      <a:pt x="9" y="40"/>
                    </a:lnTo>
                    <a:lnTo>
                      <a:pt x="11" y="22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917960" y="3865680"/>
                <a:ext cx="61920" cy="2844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5" y="31"/>
                    </a:moveTo>
                    <a:lnTo>
                      <a:pt x="67" y="31"/>
                    </a:lnTo>
                    <a:lnTo>
                      <a:pt x="60" y="33"/>
                    </a:lnTo>
                    <a:lnTo>
                      <a:pt x="52" y="34"/>
                    </a:lnTo>
                    <a:lnTo>
                      <a:pt x="45" y="35"/>
                    </a:lnTo>
                    <a:lnTo>
                      <a:pt x="37" y="36"/>
                    </a:lnTo>
                    <a:lnTo>
                      <a:pt x="29" y="36"/>
                    </a:lnTo>
                    <a:lnTo>
                      <a:pt x="22" y="35"/>
                    </a:lnTo>
                    <a:lnTo>
                      <a:pt x="14" y="34"/>
                    </a:lnTo>
                    <a:lnTo>
                      <a:pt x="8" y="28"/>
                    </a:lnTo>
                    <a:lnTo>
                      <a:pt x="4" y="21"/>
                    </a:lnTo>
                    <a:lnTo>
                      <a:pt x="2" y="13"/>
                    </a:lnTo>
                    <a:lnTo>
                      <a:pt x="0" y="5"/>
                    </a:lnTo>
                    <a:lnTo>
                      <a:pt x="10" y="3"/>
                    </a:lnTo>
                    <a:lnTo>
                      <a:pt x="19" y="1"/>
                    </a:lnTo>
                    <a:lnTo>
                      <a:pt x="30" y="0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7" y="1"/>
                    </a:lnTo>
                    <a:lnTo>
                      <a:pt x="68" y="3"/>
                    </a:lnTo>
                    <a:lnTo>
                      <a:pt x="77" y="5"/>
                    </a:lnTo>
                    <a:lnTo>
                      <a:pt x="7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43440" y="3870360"/>
                <a:ext cx="66600" cy="42840"/>
              </a:xfrm>
              <a:custGeom>
                <a:avLst/>
                <a:gdLst/>
                <a:ahLst/>
                <a:rect l="l" t="t" r="r" b="b"/>
                <a:pathLst>
                  <a:path w="84" h="55">
                    <a:moveTo>
                      <a:pt x="84" y="38"/>
                    </a:moveTo>
                    <a:lnTo>
                      <a:pt x="80" y="44"/>
                    </a:lnTo>
                    <a:lnTo>
                      <a:pt x="75" y="50"/>
                    </a:lnTo>
                    <a:lnTo>
                      <a:pt x="69" y="54"/>
                    </a:lnTo>
                    <a:lnTo>
                      <a:pt x="62" y="55"/>
                    </a:lnTo>
                    <a:lnTo>
                      <a:pt x="54" y="51"/>
                    </a:lnTo>
                    <a:lnTo>
                      <a:pt x="47" y="45"/>
                    </a:lnTo>
                    <a:lnTo>
                      <a:pt x="40" y="39"/>
                    </a:lnTo>
                    <a:lnTo>
                      <a:pt x="32" y="33"/>
                    </a:lnTo>
                    <a:lnTo>
                      <a:pt x="26" y="28"/>
                    </a:lnTo>
                    <a:lnTo>
                      <a:pt x="17" y="22"/>
                    </a:lnTo>
                    <a:lnTo>
                      <a:pt x="9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19" y="0"/>
                    </a:lnTo>
                    <a:lnTo>
                      <a:pt x="30" y="1"/>
                    </a:lnTo>
                    <a:lnTo>
                      <a:pt x="40" y="4"/>
                    </a:lnTo>
                    <a:lnTo>
                      <a:pt x="51" y="7"/>
                    </a:lnTo>
                    <a:lnTo>
                      <a:pt x="60" y="13"/>
                    </a:lnTo>
                    <a:lnTo>
                      <a:pt x="69" y="20"/>
                    </a:lnTo>
                    <a:lnTo>
                      <a:pt x="77" y="29"/>
                    </a:lnTo>
                    <a:lnTo>
                      <a:pt x="84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213080" y="38718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21"/>
                    </a:moveTo>
                    <a:lnTo>
                      <a:pt x="15" y="23"/>
                    </a:lnTo>
                    <a:lnTo>
                      <a:pt x="13" y="24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2" y="19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7" y="5"/>
                    </a:lnTo>
                    <a:lnTo>
                      <a:pt x="13" y="8"/>
                    </a:lnTo>
                    <a:lnTo>
                      <a:pt x="18" y="12"/>
                    </a:ln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51520" y="387360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42" y="2"/>
                    </a:moveTo>
                    <a:lnTo>
                      <a:pt x="46" y="8"/>
                    </a:lnTo>
                    <a:lnTo>
                      <a:pt x="52" y="8"/>
                    </a:lnTo>
                    <a:lnTo>
                      <a:pt x="57" y="9"/>
                    </a:lnTo>
                    <a:lnTo>
                      <a:pt x="59" y="15"/>
                    </a:lnTo>
                    <a:lnTo>
                      <a:pt x="54" y="19"/>
                    </a:lnTo>
                    <a:lnTo>
                      <a:pt x="48" y="23"/>
                    </a:lnTo>
                    <a:lnTo>
                      <a:pt x="41" y="24"/>
                    </a:lnTo>
                    <a:lnTo>
                      <a:pt x="36" y="24"/>
                    </a:lnTo>
                    <a:lnTo>
                      <a:pt x="29" y="24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0" y="22"/>
                    </a:lnTo>
                    <a:lnTo>
                      <a:pt x="6" y="17"/>
                    </a:lnTo>
                    <a:lnTo>
                      <a:pt x="1" y="10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05080" y="3886200"/>
                <a:ext cx="44640" cy="302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57" y="7"/>
                    </a:moveTo>
                    <a:lnTo>
                      <a:pt x="51" y="11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34"/>
                    </a:lnTo>
                    <a:lnTo>
                      <a:pt x="22" y="38"/>
                    </a:lnTo>
                    <a:lnTo>
                      <a:pt x="14" y="39"/>
                    </a:lnTo>
                    <a:lnTo>
                      <a:pt x="6" y="39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5" y="2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5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132520" y="388620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11"/>
                    </a:moveTo>
                    <a:lnTo>
                      <a:pt x="43" y="20"/>
                    </a:lnTo>
                    <a:lnTo>
                      <a:pt x="38" y="26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5" y="36"/>
                    </a:lnTo>
                    <a:lnTo>
                      <a:pt x="9" y="25"/>
                    </a:lnTo>
                    <a:lnTo>
                      <a:pt x="5" y="14"/>
                    </a:lnTo>
                    <a:lnTo>
                      <a:pt x="0" y="3"/>
                    </a:lnTo>
                    <a:lnTo>
                      <a:pt x="6" y="2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2"/>
                    </a:lnTo>
                    <a:lnTo>
                      <a:pt x="43" y="6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78240" y="3892320"/>
                <a:ext cx="41400" cy="3348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1"/>
                    </a:moveTo>
                    <a:lnTo>
                      <a:pt x="53" y="22"/>
                    </a:lnTo>
                    <a:lnTo>
                      <a:pt x="45" y="30"/>
                    </a:lnTo>
                    <a:lnTo>
                      <a:pt x="35" y="37"/>
                    </a:lnTo>
                    <a:lnTo>
                      <a:pt x="25" y="43"/>
                    </a:lnTo>
                    <a:lnTo>
                      <a:pt x="23" y="32"/>
                    </a:lnTo>
                    <a:lnTo>
                      <a:pt x="16" y="24"/>
                    </a:lnTo>
                    <a:lnTo>
                      <a:pt x="8" y="16"/>
                    </a:lnTo>
                    <a:lnTo>
                      <a:pt x="0" y="9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5" y="1"/>
                    </a:lnTo>
                    <a:lnTo>
                      <a:pt x="33" y="3"/>
                    </a:lnTo>
                    <a:lnTo>
                      <a:pt x="40" y="6"/>
                    </a:lnTo>
                    <a:lnTo>
                      <a:pt x="47" y="9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749840" y="3897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80" y="20"/>
                    </a:moveTo>
                    <a:lnTo>
                      <a:pt x="85" y="28"/>
                    </a:lnTo>
                    <a:lnTo>
                      <a:pt x="88" y="39"/>
                    </a:lnTo>
                    <a:lnTo>
                      <a:pt x="87" y="47"/>
                    </a:lnTo>
                    <a:lnTo>
                      <a:pt x="80" y="54"/>
                    </a:lnTo>
                    <a:lnTo>
                      <a:pt x="34" y="60"/>
                    </a:lnTo>
                    <a:lnTo>
                      <a:pt x="29" y="55"/>
                    </a:lnTo>
                    <a:lnTo>
                      <a:pt x="22" y="50"/>
                    </a:lnTo>
                    <a:lnTo>
                      <a:pt x="15" y="47"/>
                    </a:lnTo>
                    <a:lnTo>
                      <a:pt x="8" y="43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23" y="3"/>
                    </a:lnTo>
                    <a:lnTo>
                      <a:pt x="33" y="1"/>
                    </a:lnTo>
                    <a:lnTo>
                      <a:pt x="45" y="0"/>
                    </a:lnTo>
                    <a:lnTo>
                      <a:pt x="56" y="2"/>
                    </a:lnTo>
                    <a:lnTo>
                      <a:pt x="67" y="7"/>
                    </a:lnTo>
                    <a:lnTo>
                      <a:pt x="75" y="12"/>
                    </a:lnTo>
                    <a:lnTo>
                      <a:pt x="8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259240" y="3897360"/>
                <a:ext cx="32040" cy="11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6" y="9"/>
                    </a:moveTo>
                    <a:lnTo>
                      <a:pt x="39" y="24"/>
                    </a:lnTo>
                    <a:lnTo>
                      <a:pt x="39" y="38"/>
                    </a:lnTo>
                    <a:lnTo>
                      <a:pt x="38" y="53"/>
                    </a:lnTo>
                    <a:lnTo>
                      <a:pt x="34" y="65"/>
                    </a:lnTo>
                    <a:lnTo>
                      <a:pt x="30" y="79"/>
                    </a:lnTo>
                    <a:lnTo>
                      <a:pt x="24" y="92"/>
                    </a:lnTo>
                    <a:lnTo>
                      <a:pt x="17" y="103"/>
                    </a:lnTo>
                    <a:lnTo>
                      <a:pt x="9" y="115"/>
                    </a:lnTo>
                    <a:lnTo>
                      <a:pt x="9" y="122"/>
                    </a:lnTo>
                    <a:lnTo>
                      <a:pt x="8" y="128"/>
                    </a:lnTo>
                    <a:lnTo>
                      <a:pt x="5" y="135"/>
                    </a:lnTo>
                    <a:lnTo>
                      <a:pt x="3" y="140"/>
                    </a:lnTo>
                    <a:lnTo>
                      <a:pt x="0" y="140"/>
                    </a:lnTo>
                    <a:lnTo>
                      <a:pt x="1" y="105"/>
                    </a:lnTo>
                    <a:lnTo>
                      <a:pt x="8" y="70"/>
                    </a:lnTo>
                    <a:lnTo>
                      <a:pt x="16" y="36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0" y="1"/>
                    </a:lnTo>
                    <a:lnTo>
                      <a:pt x="33" y="4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203800" y="39034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21" y="7"/>
                    </a:moveTo>
                    <a:lnTo>
                      <a:pt x="20" y="13"/>
                    </a:lnTo>
                    <a:lnTo>
                      <a:pt x="19" y="17"/>
                    </a:lnTo>
                    <a:lnTo>
                      <a:pt x="15" y="22"/>
                    </a:lnTo>
                    <a:lnTo>
                      <a:pt x="12" y="26"/>
                    </a:lnTo>
                    <a:lnTo>
                      <a:pt x="5" y="25"/>
                    </a:lnTo>
                    <a:lnTo>
                      <a:pt x="1" y="19"/>
                    </a:lnTo>
                    <a:lnTo>
                      <a:pt x="0" y="13"/>
                    </a:lnTo>
                    <a:lnTo>
                      <a:pt x="3" y="7"/>
                    </a:lnTo>
                    <a:lnTo>
                      <a:pt x="7" y="2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165560" y="39211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41" h="71">
                    <a:moveTo>
                      <a:pt x="41" y="2"/>
                    </a:moveTo>
                    <a:lnTo>
                      <a:pt x="38" y="22"/>
                    </a:lnTo>
                    <a:lnTo>
                      <a:pt x="32" y="39"/>
                    </a:lnTo>
                    <a:lnTo>
                      <a:pt x="25" y="56"/>
                    </a:lnTo>
                    <a:lnTo>
                      <a:pt x="14" y="71"/>
                    </a:lnTo>
                    <a:lnTo>
                      <a:pt x="9" y="71"/>
                    </a:lnTo>
                    <a:lnTo>
                      <a:pt x="5" y="68"/>
                    </a:lnTo>
                    <a:lnTo>
                      <a:pt x="2" y="63"/>
                    </a:lnTo>
                    <a:lnTo>
                      <a:pt x="0" y="60"/>
                    </a:lnTo>
                    <a:lnTo>
                      <a:pt x="4" y="44"/>
                    </a:lnTo>
                    <a:lnTo>
                      <a:pt x="12" y="27"/>
                    </a:lnTo>
                    <a:lnTo>
                      <a:pt x="21" y="14"/>
                    </a:lnTo>
                    <a:lnTo>
                      <a:pt x="29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33680" y="3933720"/>
                <a:ext cx="47880" cy="36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60" y="9"/>
                    </a:moveTo>
                    <a:lnTo>
                      <a:pt x="60" y="17"/>
                    </a:lnTo>
                    <a:lnTo>
                      <a:pt x="57" y="25"/>
                    </a:lnTo>
                    <a:lnTo>
                      <a:pt x="51" y="33"/>
                    </a:lnTo>
                    <a:lnTo>
                      <a:pt x="46" y="41"/>
                    </a:lnTo>
                    <a:lnTo>
                      <a:pt x="41" y="44"/>
                    </a:lnTo>
                    <a:lnTo>
                      <a:pt x="36" y="45"/>
                    </a:lnTo>
                    <a:lnTo>
                      <a:pt x="29" y="46"/>
                    </a:lnTo>
                    <a:lnTo>
                      <a:pt x="23" y="45"/>
                    </a:lnTo>
                    <a:lnTo>
                      <a:pt x="18" y="44"/>
                    </a:lnTo>
                    <a:lnTo>
                      <a:pt x="12" y="43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5" y="29"/>
                    </a:lnTo>
                    <a:lnTo>
                      <a:pt x="12" y="18"/>
                    </a:lnTo>
                    <a:lnTo>
                      <a:pt x="22" y="9"/>
                    </a:lnTo>
                    <a:lnTo>
                      <a:pt x="33" y="1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3" y="6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060880" y="393696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7"/>
                    </a:moveTo>
                    <a:lnTo>
                      <a:pt x="39" y="13"/>
                    </a:lnTo>
                    <a:lnTo>
                      <a:pt x="32" y="16"/>
                    </a:lnTo>
                    <a:lnTo>
                      <a:pt x="24" y="19"/>
                    </a:lnTo>
                    <a:lnTo>
                      <a:pt x="16" y="20"/>
                    </a:lnTo>
                    <a:lnTo>
                      <a:pt x="9" y="17"/>
                    </a:lnTo>
                    <a:lnTo>
                      <a:pt x="4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39" y="4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83120" y="3938400"/>
                <a:ext cx="60480" cy="39960"/>
              </a:xfrm>
              <a:custGeom>
                <a:avLst/>
                <a:gdLst/>
                <a:ahLst/>
                <a:rect l="l" t="t" r="r" b="b"/>
                <a:pathLst>
                  <a:path w="78" h="51">
                    <a:moveTo>
                      <a:pt x="78" y="30"/>
                    </a:moveTo>
                    <a:lnTo>
                      <a:pt x="72" y="37"/>
                    </a:lnTo>
                    <a:lnTo>
                      <a:pt x="66" y="43"/>
                    </a:lnTo>
                    <a:lnTo>
                      <a:pt x="59" y="47"/>
                    </a:lnTo>
                    <a:lnTo>
                      <a:pt x="52" y="48"/>
                    </a:lnTo>
                    <a:lnTo>
                      <a:pt x="44" y="49"/>
                    </a:lnTo>
                    <a:lnTo>
                      <a:pt x="36" y="50"/>
                    </a:lnTo>
                    <a:lnTo>
                      <a:pt x="28" y="50"/>
                    </a:lnTo>
                    <a:lnTo>
                      <a:pt x="20" y="51"/>
                    </a:lnTo>
                    <a:lnTo>
                      <a:pt x="14" y="43"/>
                    </a:lnTo>
                    <a:lnTo>
                      <a:pt x="6" y="36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11" y="14"/>
                    </a:lnTo>
                    <a:lnTo>
                      <a:pt x="21" y="9"/>
                    </a:lnTo>
                    <a:lnTo>
                      <a:pt x="35" y="3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14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129280" y="39463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26" y="2"/>
                    </a:moveTo>
                    <a:lnTo>
                      <a:pt x="23" y="14"/>
                    </a:lnTo>
                    <a:lnTo>
                      <a:pt x="22" y="26"/>
                    </a:lnTo>
                    <a:lnTo>
                      <a:pt x="17" y="38"/>
                    </a:lnTo>
                    <a:lnTo>
                      <a:pt x="6" y="45"/>
                    </a:lnTo>
                    <a:lnTo>
                      <a:pt x="2" y="38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3" y="13"/>
                    </a:lnTo>
                    <a:lnTo>
                      <a:pt x="8" y="7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191200" y="3963960"/>
                <a:ext cx="20520" cy="460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26" y="23"/>
                    </a:moveTo>
                    <a:lnTo>
                      <a:pt x="0" y="57"/>
                    </a:lnTo>
                    <a:lnTo>
                      <a:pt x="4" y="48"/>
                    </a:lnTo>
                    <a:lnTo>
                      <a:pt x="5" y="39"/>
                    </a:lnTo>
                    <a:lnTo>
                      <a:pt x="4" y="29"/>
                    </a:lnTo>
                    <a:lnTo>
                      <a:pt x="4" y="18"/>
                    </a:lnTo>
                    <a:lnTo>
                      <a:pt x="4" y="9"/>
                    </a:lnTo>
                    <a:lnTo>
                      <a:pt x="7" y="3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37040" y="3970440"/>
                <a:ext cx="1301760" cy="345960"/>
              </a:xfrm>
              <a:custGeom>
                <a:avLst/>
                <a:gdLst/>
                <a:ahLst/>
                <a:rect l="l" t="t" r="r" b="b"/>
                <a:pathLst>
                  <a:path w="1641" h="435">
                    <a:moveTo>
                      <a:pt x="577" y="7"/>
                    </a:moveTo>
                    <a:lnTo>
                      <a:pt x="570" y="15"/>
                    </a:lnTo>
                    <a:lnTo>
                      <a:pt x="563" y="23"/>
                    </a:lnTo>
                    <a:lnTo>
                      <a:pt x="559" y="32"/>
                    </a:lnTo>
                    <a:lnTo>
                      <a:pt x="561" y="42"/>
                    </a:lnTo>
                    <a:lnTo>
                      <a:pt x="569" y="46"/>
                    </a:lnTo>
                    <a:lnTo>
                      <a:pt x="576" y="47"/>
                    </a:lnTo>
                    <a:lnTo>
                      <a:pt x="583" y="46"/>
                    </a:lnTo>
                    <a:lnTo>
                      <a:pt x="590" y="42"/>
                    </a:lnTo>
                    <a:lnTo>
                      <a:pt x="597" y="39"/>
                    </a:lnTo>
                    <a:lnTo>
                      <a:pt x="604" y="37"/>
                    </a:lnTo>
                    <a:lnTo>
                      <a:pt x="612" y="36"/>
                    </a:lnTo>
                    <a:lnTo>
                      <a:pt x="620" y="37"/>
                    </a:lnTo>
                    <a:lnTo>
                      <a:pt x="619" y="44"/>
                    </a:lnTo>
                    <a:lnTo>
                      <a:pt x="615" y="50"/>
                    </a:lnTo>
                    <a:lnTo>
                      <a:pt x="610" y="57"/>
                    </a:lnTo>
                    <a:lnTo>
                      <a:pt x="604" y="64"/>
                    </a:lnTo>
                    <a:lnTo>
                      <a:pt x="599" y="71"/>
                    </a:lnTo>
                    <a:lnTo>
                      <a:pt x="598" y="79"/>
                    </a:lnTo>
                    <a:lnTo>
                      <a:pt x="600" y="86"/>
                    </a:lnTo>
                    <a:lnTo>
                      <a:pt x="607" y="94"/>
                    </a:lnTo>
                    <a:lnTo>
                      <a:pt x="620" y="94"/>
                    </a:lnTo>
                    <a:lnTo>
                      <a:pt x="612" y="103"/>
                    </a:lnTo>
                    <a:lnTo>
                      <a:pt x="606" y="115"/>
                    </a:lnTo>
                    <a:lnTo>
                      <a:pt x="603" y="127"/>
                    </a:lnTo>
                    <a:lnTo>
                      <a:pt x="599" y="138"/>
                    </a:lnTo>
                    <a:lnTo>
                      <a:pt x="602" y="140"/>
                    </a:lnTo>
                    <a:lnTo>
                      <a:pt x="605" y="140"/>
                    </a:lnTo>
                    <a:lnTo>
                      <a:pt x="608" y="140"/>
                    </a:lnTo>
                    <a:lnTo>
                      <a:pt x="611" y="140"/>
                    </a:lnTo>
                    <a:lnTo>
                      <a:pt x="620" y="130"/>
                    </a:lnTo>
                    <a:lnTo>
                      <a:pt x="628" y="120"/>
                    </a:lnTo>
                    <a:lnTo>
                      <a:pt x="636" y="108"/>
                    </a:lnTo>
                    <a:lnTo>
                      <a:pt x="644" y="98"/>
                    </a:lnTo>
                    <a:lnTo>
                      <a:pt x="652" y="87"/>
                    </a:lnTo>
                    <a:lnTo>
                      <a:pt x="661" y="78"/>
                    </a:lnTo>
                    <a:lnTo>
                      <a:pt x="671" y="68"/>
                    </a:lnTo>
                    <a:lnTo>
                      <a:pt x="682" y="60"/>
                    </a:lnTo>
                    <a:lnTo>
                      <a:pt x="682" y="69"/>
                    </a:lnTo>
                    <a:lnTo>
                      <a:pt x="682" y="80"/>
                    </a:lnTo>
                    <a:lnTo>
                      <a:pt x="684" y="91"/>
                    </a:lnTo>
                    <a:lnTo>
                      <a:pt x="690" y="100"/>
                    </a:lnTo>
                    <a:lnTo>
                      <a:pt x="701" y="98"/>
                    </a:lnTo>
                    <a:lnTo>
                      <a:pt x="709" y="92"/>
                    </a:lnTo>
                    <a:lnTo>
                      <a:pt x="716" y="84"/>
                    </a:lnTo>
                    <a:lnTo>
                      <a:pt x="720" y="75"/>
                    </a:lnTo>
                    <a:lnTo>
                      <a:pt x="725" y="64"/>
                    </a:lnTo>
                    <a:lnTo>
                      <a:pt x="729" y="54"/>
                    </a:lnTo>
                    <a:lnTo>
                      <a:pt x="735" y="45"/>
                    </a:lnTo>
                    <a:lnTo>
                      <a:pt x="742" y="37"/>
                    </a:lnTo>
                    <a:lnTo>
                      <a:pt x="746" y="32"/>
                    </a:lnTo>
                    <a:lnTo>
                      <a:pt x="750" y="27"/>
                    </a:lnTo>
                    <a:lnTo>
                      <a:pt x="755" y="24"/>
                    </a:lnTo>
                    <a:lnTo>
                      <a:pt x="759" y="21"/>
                    </a:lnTo>
                    <a:lnTo>
                      <a:pt x="765" y="17"/>
                    </a:lnTo>
                    <a:lnTo>
                      <a:pt x="770" y="14"/>
                    </a:lnTo>
                    <a:lnTo>
                      <a:pt x="775" y="10"/>
                    </a:lnTo>
                    <a:lnTo>
                      <a:pt x="780" y="7"/>
                    </a:lnTo>
                    <a:lnTo>
                      <a:pt x="803" y="10"/>
                    </a:lnTo>
                    <a:lnTo>
                      <a:pt x="799" y="16"/>
                    </a:lnTo>
                    <a:lnTo>
                      <a:pt x="793" y="21"/>
                    </a:lnTo>
                    <a:lnTo>
                      <a:pt x="787" y="26"/>
                    </a:lnTo>
                    <a:lnTo>
                      <a:pt x="781" y="32"/>
                    </a:lnTo>
                    <a:lnTo>
                      <a:pt x="775" y="38"/>
                    </a:lnTo>
                    <a:lnTo>
                      <a:pt x="771" y="44"/>
                    </a:lnTo>
                    <a:lnTo>
                      <a:pt x="769" y="50"/>
                    </a:lnTo>
                    <a:lnTo>
                      <a:pt x="767" y="57"/>
                    </a:lnTo>
                    <a:lnTo>
                      <a:pt x="774" y="64"/>
                    </a:lnTo>
                    <a:lnTo>
                      <a:pt x="780" y="71"/>
                    </a:lnTo>
                    <a:lnTo>
                      <a:pt x="782" y="79"/>
                    </a:lnTo>
                    <a:lnTo>
                      <a:pt x="780" y="90"/>
                    </a:lnTo>
                    <a:lnTo>
                      <a:pt x="775" y="100"/>
                    </a:lnTo>
                    <a:lnTo>
                      <a:pt x="770" y="110"/>
                    </a:lnTo>
                    <a:lnTo>
                      <a:pt x="766" y="121"/>
                    </a:lnTo>
                    <a:lnTo>
                      <a:pt x="771" y="130"/>
                    </a:lnTo>
                    <a:lnTo>
                      <a:pt x="779" y="125"/>
                    </a:lnTo>
                    <a:lnTo>
                      <a:pt x="787" y="118"/>
                    </a:lnTo>
                    <a:lnTo>
                      <a:pt x="794" y="110"/>
                    </a:lnTo>
                    <a:lnTo>
                      <a:pt x="800" y="102"/>
                    </a:lnTo>
                    <a:lnTo>
                      <a:pt x="804" y="94"/>
                    </a:lnTo>
                    <a:lnTo>
                      <a:pt x="808" y="85"/>
                    </a:lnTo>
                    <a:lnTo>
                      <a:pt x="810" y="76"/>
                    </a:lnTo>
                    <a:lnTo>
                      <a:pt x="810" y="67"/>
                    </a:lnTo>
                    <a:lnTo>
                      <a:pt x="807" y="61"/>
                    </a:lnTo>
                    <a:lnTo>
                      <a:pt x="801" y="56"/>
                    </a:lnTo>
                    <a:lnTo>
                      <a:pt x="795" y="54"/>
                    </a:lnTo>
                    <a:lnTo>
                      <a:pt x="788" y="53"/>
                    </a:lnTo>
                    <a:lnTo>
                      <a:pt x="793" y="47"/>
                    </a:lnTo>
                    <a:lnTo>
                      <a:pt x="799" y="45"/>
                    </a:lnTo>
                    <a:lnTo>
                      <a:pt x="803" y="46"/>
                    </a:lnTo>
                    <a:lnTo>
                      <a:pt x="808" y="48"/>
                    </a:lnTo>
                    <a:lnTo>
                      <a:pt x="812" y="53"/>
                    </a:lnTo>
                    <a:lnTo>
                      <a:pt x="818" y="56"/>
                    </a:lnTo>
                    <a:lnTo>
                      <a:pt x="823" y="60"/>
                    </a:lnTo>
                    <a:lnTo>
                      <a:pt x="828" y="62"/>
                    </a:lnTo>
                    <a:lnTo>
                      <a:pt x="840" y="61"/>
                    </a:lnTo>
                    <a:lnTo>
                      <a:pt x="852" y="61"/>
                    </a:lnTo>
                    <a:lnTo>
                      <a:pt x="863" y="62"/>
                    </a:lnTo>
                    <a:lnTo>
                      <a:pt x="876" y="63"/>
                    </a:lnTo>
                    <a:lnTo>
                      <a:pt x="887" y="63"/>
                    </a:lnTo>
                    <a:lnTo>
                      <a:pt x="899" y="63"/>
                    </a:lnTo>
                    <a:lnTo>
                      <a:pt x="910" y="61"/>
                    </a:lnTo>
                    <a:lnTo>
                      <a:pt x="922" y="57"/>
                    </a:lnTo>
                    <a:lnTo>
                      <a:pt x="918" y="69"/>
                    </a:lnTo>
                    <a:lnTo>
                      <a:pt x="913" y="75"/>
                    </a:lnTo>
                    <a:lnTo>
                      <a:pt x="906" y="74"/>
                    </a:lnTo>
                    <a:lnTo>
                      <a:pt x="898" y="71"/>
                    </a:lnTo>
                    <a:lnTo>
                      <a:pt x="890" y="69"/>
                    </a:lnTo>
                    <a:lnTo>
                      <a:pt x="883" y="68"/>
                    </a:lnTo>
                    <a:lnTo>
                      <a:pt x="878" y="72"/>
                    </a:lnTo>
                    <a:lnTo>
                      <a:pt x="877" y="83"/>
                    </a:lnTo>
                    <a:lnTo>
                      <a:pt x="883" y="87"/>
                    </a:lnTo>
                    <a:lnTo>
                      <a:pt x="890" y="90"/>
                    </a:lnTo>
                    <a:lnTo>
                      <a:pt x="898" y="92"/>
                    </a:lnTo>
                    <a:lnTo>
                      <a:pt x="906" y="93"/>
                    </a:lnTo>
                    <a:lnTo>
                      <a:pt x="911" y="95"/>
                    </a:lnTo>
                    <a:lnTo>
                      <a:pt x="917" y="99"/>
                    </a:lnTo>
                    <a:lnTo>
                      <a:pt x="920" y="106"/>
                    </a:lnTo>
                    <a:lnTo>
                      <a:pt x="920" y="115"/>
                    </a:lnTo>
                    <a:lnTo>
                      <a:pt x="914" y="132"/>
                    </a:lnTo>
                    <a:lnTo>
                      <a:pt x="911" y="124"/>
                    </a:lnTo>
                    <a:lnTo>
                      <a:pt x="907" y="117"/>
                    </a:lnTo>
                    <a:lnTo>
                      <a:pt x="902" y="110"/>
                    </a:lnTo>
                    <a:lnTo>
                      <a:pt x="895" y="106"/>
                    </a:lnTo>
                    <a:lnTo>
                      <a:pt x="888" y="107"/>
                    </a:lnTo>
                    <a:lnTo>
                      <a:pt x="883" y="109"/>
                    </a:lnTo>
                    <a:lnTo>
                      <a:pt x="878" y="113"/>
                    </a:lnTo>
                    <a:lnTo>
                      <a:pt x="873" y="116"/>
                    </a:lnTo>
                    <a:lnTo>
                      <a:pt x="869" y="121"/>
                    </a:lnTo>
                    <a:lnTo>
                      <a:pt x="865" y="127"/>
                    </a:lnTo>
                    <a:lnTo>
                      <a:pt x="861" y="131"/>
                    </a:lnTo>
                    <a:lnTo>
                      <a:pt x="856" y="136"/>
                    </a:lnTo>
                    <a:lnTo>
                      <a:pt x="854" y="146"/>
                    </a:lnTo>
                    <a:lnTo>
                      <a:pt x="855" y="156"/>
                    </a:lnTo>
                    <a:lnTo>
                      <a:pt x="858" y="166"/>
                    </a:lnTo>
                    <a:lnTo>
                      <a:pt x="863" y="175"/>
                    </a:lnTo>
                    <a:lnTo>
                      <a:pt x="849" y="174"/>
                    </a:lnTo>
                    <a:lnTo>
                      <a:pt x="840" y="169"/>
                    </a:lnTo>
                    <a:lnTo>
                      <a:pt x="837" y="162"/>
                    </a:lnTo>
                    <a:lnTo>
                      <a:pt x="835" y="152"/>
                    </a:lnTo>
                    <a:lnTo>
                      <a:pt x="837" y="142"/>
                    </a:lnTo>
                    <a:lnTo>
                      <a:pt x="838" y="130"/>
                    </a:lnTo>
                    <a:lnTo>
                      <a:pt x="839" y="120"/>
                    </a:lnTo>
                    <a:lnTo>
                      <a:pt x="839" y="109"/>
                    </a:lnTo>
                    <a:lnTo>
                      <a:pt x="840" y="103"/>
                    </a:lnTo>
                    <a:lnTo>
                      <a:pt x="838" y="98"/>
                    </a:lnTo>
                    <a:lnTo>
                      <a:pt x="833" y="94"/>
                    </a:lnTo>
                    <a:lnTo>
                      <a:pt x="828" y="92"/>
                    </a:lnTo>
                    <a:lnTo>
                      <a:pt x="818" y="95"/>
                    </a:lnTo>
                    <a:lnTo>
                      <a:pt x="816" y="112"/>
                    </a:lnTo>
                    <a:lnTo>
                      <a:pt x="811" y="128"/>
                    </a:lnTo>
                    <a:lnTo>
                      <a:pt x="805" y="145"/>
                    </a:lnTo>
                    <a:lnTo>
                      <a:pt x="801" y="162"/>
                    </a:lnTo>
                    <a:lnTo>
                      <a:pt x="799" y="178"/>
                    </a:lnTo>
                    <a:lnTo>
                      <a:pt x="801" y="193"/>
                    </a:lnTo>
                    <a:lnTo>
                      <a:pt x="810" y="206"/>
                    </a:lnTo>
                    <a:lnTo>
                      <a:pt x="826" y="216"/>
                    </a:lnTo>
                    <a:lnTo>
                      <a:pt x="835" y="218"/>
                    </a:lnTo>
                    <a:lnTo>
                      <a:pt x="845" y="219"/>
                    </a:lnTo>
                    <a:lnTo>
                      <a:pt x="854" y="219"/>
                    </a:lnTo>
                    <a:lnTo>
                      <a:pt x="863" y="218"/>
                    </a:lnTo>
                    <a:lnTo>
                      <a:pt x="871" y="215"/>
                    </a:lnTo>
                    <a:lnTo>
                      <a:pt x="879" y="211"/>
                    </a:lnTo>
                    <a:lnTo>
                      <a:pt x="886" y="205"/>
                    </a:lnTo>
                    <a:lnTo>
                      <a:pt x="891" y="196"/>
                    </a:lnTo>
                    <a:lnTo>
                      <a:pt x="891" y="180"/>
                    </a:lnTo>
                    <a:lnTo>
                      <a:pt x="887" y="165"/>
                    </a:lnTo>
                    <a:lnTo>
                      <a:pt x="885" y="148"/>
                    </a:lnTo>
                    <a:lnTo>
                      <a:pt x="887" y="132"/>
                    </a:lnTo>
                    <a:lnTo>
                      <a:pt x="893" y="140"/>
                    </a:lnTo>
                    <a:lnTo>
                      <a:pt x="898" y="151"/>
                    </a:lnTo>
                    <a:lnTo>
                      <a:pt x="903" y="161"/>
                    </a:lnTo>
                    <a:lnTo>
                      <a:pt x="914" y="167"/>
                    </a:lnTo>
                    <a:lnTo>
                      <a:pt x="923" y="163"/>
                    </a:lnTo>
                    <a:lnTo>
                      <a:pt x="932" y="160"/>
                    </a:lnTo>
                    <a:lnTo>
                      <a:pt x="939" y="154"/>
                    </a:lnTo>
                    <a:lnTo>
                      <a:pt x="944" y="145"/>
                    </a:lnTo>
                    <a:lnTo>
                      <a:pt x="945" y="130"/>
                    </a:lnTo>
                    <a:lnTo>
                      <a:pt x="946" y="114"/>
                    </a:lnTo>
                    <a:lnTo>
                      <a:pt x="944" y="99"/>
                    </a:lnTo>
                    <a:lnTo>
                      <a:pt x="934" y="87"/>
                    </a:lnTo>
                    <a:lnTo>
                      <a:pt x="937" y="80"/>
                    </a:lnTo>
                    <a:lnTo>
                      <a:pt x="941" y="75"/>
                    </a:lnTo>
                    <a:lnTo>
                      <a:pt x="946" y="70"/>
                    </a:lnTo>
                    <a:lnTo>
                      <a:pt x="952" y="64"/>
                    </a:lnTo>
                    <a:lnTo>
                      <a:pt x="959" y="61"/>
                    </a:lnTo>
                    <a:lnTo>
                      <a:pt x="966" y="57"/>
                    </a:lnTo>
                    <a:lnTo>
                      <a:pt x="973" y="55"/>
                    </a:lnTo>
                    <a:lnTo>
                      <a:pt x="979" y="53"/>
                    </a:lnTo>
                    <a:lnTo>
                      <a:pt x="987" y="64"/>
                    </a:lnTo>
                    <a:lnTo>
                      <a:pt x="986" y="79"/>
                    </a:lnTo>
                    <a:lnTo>
                      <a:pt x="983" y="94"/>
                    </a:lnTo>
                    <a:lnTo>
                      <a:pt x="982" y="109"/>
                    </a:lnTo>
                    <a:lnTo>
                      <a:pt x="974" y="125"/>
                    </a:lnTo>
                    <a:lnTo>
                      <a:pt x="966" y="142"/>
                    </a:lnTo>
                    <a:lnTo>
                      <a:pt x="960" y="159"/>
                    </a:lnTo>
                    <a:lnTo>
                      <a:pt x="961" y="177"/>
                    </a:lnTo>
                    <a:lnTo>
                      <a:pt x="964" y="185"/>
                    </a:lnTo>
                    <a:lnTo>
                      <a:pt x="970" y="190"/>
                    </a:lnTo>
                    <a:lnTo>
                      <a:pt x="976" y="192"/>
                    </a:lnTo>
                    <a:lnTo>
                      <a:pt x="984" y="192"/>
                    </a:lnTo>
                    <a:lnTo>
                      <a:pt x="991" y="192"/>
                    </a:lnTo>
                    <a:lnTo>
                      <a:pt x="999" y="191"/>
                    </a:lnTo>
                    <a:lnTo>
                      <a:pt x="1007" y="189"/>
                    </a:lnTo>
                    <a:lnTo>
                      <a:pt x="1014" y="188"/>
                    </a:lnTo>
                    <a:lnTo>
                      <a:pt x="1020" y="185"/>
                    </a:lnTo>
                    <a:lnTo>
                      <a:pt x="1026" y="182"/>
                    </a:lnTo>
                    <a:lnTo>
                      <a:pt x="1031" y="177"/>
                    </a:lnTo>
                    <a:lnTo>
                      <a:pt x="1037" y="171"/>
                    </a:lnTo>
                    <a:lnTo>
                      <a:pt x="1042" y="167"/>
                    </a:lnTo>
                    <a:lnTo>
                      <a:pt x="1046" y="161"/>
                    </a:lnTo>
                    <a:lnTo>
                      <a:pt x="1050" y="154"/>
                    </a:lnTo>
                    <a:lnTo>
                      <a:pt x="1052" y="148"/>
                    </a:lnTo>
                    <a:lnTo>
                      <a:pt x="1047" y="136"/>
                    </a:lnTo>
                    <a:lnTo>
                      <a:pt x="1043" y="123"/>
                    </a:lnTo>
                    <a:lnTo>
                      <a:pt x="1041" y="110"/>
                    </a:lnTo>
                    <a:lnTo>
                      <a:pt x="1045" y="98"/>
                    </a:lnTo>
                    <a:lnTo>
                      <a:pt x="1049" y="94"/>
                    </a:lnTo>
                    <a:lnTo>
                      <a:pt x="1052" y="91"/>
                    </a:lnTo>
                    <a:lnTo>
                      <a:pt x="1054" y="87"/>
                    </a:lnTo>
                    <a:lnTo>
                      <a:pt x="1054" y="82"/>
                    </a:lnTo>
                    <a:lnTo>
                      <a:pt x="1050" y="78"/>
                    </a:lnTo>
                    <a:lnTo>
                      <a:pt x="1045" y="77"/>
                    </a:lnTo>
                    <a:lnTo>
                      <a:pt x="1039" y="78"/>
                    </a:lnTo>
                    <a:lnTo>
                      <a:pt x="1035" y="82"/>
                    </a:lnTo>
                    <a:lnTo>
                      <a:pt x="1027" y="93"/>
                    </a:lnTo>
                    <a:lnTo>
                      <a:pt x="1022" y="107"/>
                    </a:lnTo>
                    <a:lnTo>
                      <a:pt x="1022" y="122"/>
                    </a:lnTo>
                    <a:lnTo>
                      <a:pt x="1026" y="136"/>
                    </a:lnTo>
                    <a:lnTo>
                      <a:pt x="1030" y="143"/>
                    </a:lnTo>
                    <a:lnTo>
                      <a:pt x="1026" y="146"/>
                    </a:lnTo>
                    <a:lnTo>
                      <a:pt x="1020" y="148"/>
                    </a:lnTo>
                    <a:lnTo>
                      <a:pt x="1014" y="152"/>
                    </a:lnTo>
                    <a:lnTo>
                      <a:pt x="1008" y="154"/>
                    </a:lnTo>
                    <a:lnTo>
                      <a:pt x="1002" y="156"/>
                    </a:lnTo>
                    <a:lnTo>
                      <a:pt x="996" y="159"/>
                    </a:lnTo>
                    <a:lnTo>
                      <a:pt x="989" y="159"/>
                    </a:lnTo>
                    <a:lnTo>
                      <a:pt x="982" y="159"/>
                    </a:lnTo>
                    <a:lnTo>
                      <a:pt x="989" y="142"/>
                    </a:lnTo>
                    <a:lnTo>
                      <a:pt x="999" y="124"/>
                    </a:lnTo>
                    <a:lnTo>
                      <a:pt x="1008" y="106"/>
                    </a:lnTo>
                    <a:lnTo>
                      <a:pt x="1014" y="87"/>
                    </a:lnTo>
                    <a:lnTo>
                      <a:pt x="1026" y="78"/>
                    </a:lnTo>
                    <a:lnTo>
                      <a:pt x="1037" y="69"/>
                    </a:lnTo>
                    <a:lnTo>
                      <a:pt x="1049" y="60"/>
                    </a:lnTo>
                    <a:lnTo>
                      <a:pt x="1061" y="52"/>
                    </a:lnTo>
                    <a:lnTo>
                      <a:pt x="1073" y="45"/>
                    </a:lnTo>
                    <a:lnTo>
                      <a:pt x="1087" y="40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13" y="54"/>
                    </a:lnTo>
                    <a:lnTo>
                      <a:pt x="1114" y="69"/>
                    </a:lnTo>
                    <a:lnTo>
                      <a:pt x="1118" y="84"/>
                    </a:lnTo>
                    <a:lnTo>
                      <a:pt x="1122" y="98"/>
                    </a:lnTo>
                    <a:lnTo>
                      <a:pt x="1129" y="110"/>
                    </a:lnTo>
                    <a:lnTo>
                      <a:pt x="1138" y="123"/>
                    </a:lnTo>
                    <a:lnTo>
                      <a:pt x="1150" y="133"/>
                    </a:lnTo>
                    <a:lnTo>
                      <a:pt x="1163" y="145"/>
                    </a:lnTo>
                    <a:lnTo>
                      <a:pt x="1167" y="145"/>
                    </a:lnTo>
                    <a:lnTo>
                      <a:pt x="1172" y="144"/>
                    </a:lnTo>
                    <a:lnTo>
                      <a:pt x="1175" y="140"/>
                    </a:lnTo>
                    <a:lnTo>
                      <a:pt x="1178" y="136"/>
                    </a:lnTo>
                    <a:lnTo>
                      <a:pt x="1153" y="110"/>
                    </a:lnTo>
                    <a:lnTo>
                      <a:pt x="1174" y="107"/>
                    </a:lnTo>
                    <a:lnTo>
                      <a:pt x="1195" y="99"/>
                    </a:lnTo>
                    <a:lnTo>
                      <a:pt x="1214" y="87"/>
                    </a:lnTo>
                    <a:lnTo>
                      <a:pt x="1234" y="75"/>
                    </a:lnTo>
                    <a:lnTo>
                      <a:pt x="1255" y="64"/>
                    </a:lnTo>
                    <a:lnTo>
                      <a:pt x="1276" y="57"/>
                    </a:lnTo>
                    <a:lnTo>
                      <a:pt x="1297" y="56"/>
                    </a:lnTo>
                    <a:lnTo>
                      <a:pt x="1322" y="63"/>
                    </a:lnTo>
                    <a:lnTo>
                      <a:pt x="1316" y="77"/>
                    </a:lnTo>
                    <a:lnTo>
                      <a:pt x="1308" y="91"/>
                    </a:lnTo>
                    <a:lnTo>
                      <a:pt x="1304" y="103"/>
                    </a:lnTo>
                    <a:lnTo>
                      <a:pt x="1311" y="115"/>
                    </a:lnTo>
                    <a:lnTo>
                      <a:pt x="1319" y="112"/>
                    </a:lnTo>
                    <a:lnTo>
                      <a:pt x="1327" y="107"/>
                    </a:lnTo>
                    <a:lnTo>
                      <a:pt x="1335" y="102"/>
                    </a:lnTo>
                    <a:lnTo>
                      <a:pt x="1344" y="100"/>
                    </a:lnTo>
                    <a:lnTo>
                      <a:pt x="1353" y="98"/>
                    </a:lnTo>
                    <a:lnTo>
                      <a:pt x="1361" y="98"/>
                    </a:lnTo>
                    <a:lnTo>
                      <a:pt x="1369" y="100"/>
                    </a:lnTo>
                    <a:lnTo>
                      <a:pt x="1377" y="106"/>
                    </a:lnTo>
                    <a:lnTo>
                      <a:pt x="1385" y="117"/>
                    </a:lnTo>
                    <a:lnTo>
                      <a:pt x="1386" y="132"/>
                    </a:lnTo>
                    <a:lnTo>
                      <a:pt x="1385" y="150"/>
                    </a:lnTo>
                    <a:lnTo>
                      <a:pt x="1386" y="163"/>
                    </a:lnTo>
                    <a:lnTo>
                      <a:pt x="1388" y="180"/>
                    </a:lnTo>
                    <a:lnTo>
                      <a:pt x="1395" y="195"/>
                    </a:lnTo>
                    <a:lnTo>
                      <a:pt x="1406" y="206"/>
                    </a:lnTo>
                    <a:lnTo>
                      <a:pt x="1420" y="213"/>
                    </a:lnTo>
                    <a:lnTo>
                      <a:pt x="1426" y="212"/>
                    </a:lnTo>
                    <a:lnTo>
                      <a:pt x="1432" y="207"/>
                    </a:lnTo>
                    <a:lnTo>
                      <a:pt x="1436" y="203"/>
                    </a:lnTo>
                    <a:lnTo>
                      <a:pt x="1440" y="198"/>
                    </a:lnTo>
                    <a:lnTo>
                      <a:pt x="1430" y="191"/>
                    </a:lnTo>
                    <a:lnTo>
                      <a:pt x="1429" y="180"/>
                    </a:lnTo>
                    <a:lnTo>
                      <a:pt x="1429" y="167"/>
                    </a:lnTo>
                    <a:lnTo>
                      <a:pt x="1426" y="155"/>
                    </a:lnTo>
                    <a:lnTo>
                      <a:pt x="1469" y="152"/>
                    </a:lnTo>
                    <a:lnTo>
                      <a:pt x="1469" y="160"/>
                    </a:lnTo>
                    <a:lnTo>
                      <a:pt x="1465" y="168"/>
                    </a:lnTo>
                    <a:lnTo>
                      <a:pt x="1458" y="175"/>
                    </a:lnTo>
                    <a:lnTo>
                      <a:pt x="1452" y="183"/>
                    </a:lnTo>
                    <a:lnTo>
                      <a:pt x="1446" y="190"/>
                    </a:lnTo>
                    <a:lnTo>
                      <a:pt x="1445" y="196"/>
                    </a:lnTo>
                    <a:lnTo>
                      <a:pt x="1450" y="201"/>
                    </a:lnTo>
                    <a:lnTo>
                      <a:pt x="1460" y="206"/>
                    </a:lnTo>
                    <a:lnTo>
                      <a:pt x="1471" y="195"/>
                    </a:lnTo>
                    <a:lnTo>
                      <a:pt x="1481" y="183"/>
                    </a:lnTo>
                    <a:lnTo>
                      <a:pt x="1489" y="169"/>
                    </a:lnTo>
                    <a:lnTo>
                      <a:pt x="1494" y="155"/>
                    </a:lnTo>
                    <a:lnTo>
                      <a:pt x="1499" y="142"/>
                    </a:lnTo>
                    <a:lnTo>
                      <a:pt x="1504" y="127"/>
                    </a:lnTo>
                    <a:lnTo>
                      <a:pt x="1507" y="113"/>
                    </a:lnTo>
                    <a:lnTo>
                      <a:pt x="1512" y="98"/>
                    </a:lnTo>
                    <a:lnTo>
                      <a:pt x="1523" y="91"/>
                    </a:lnTo>
                    <a:lnTo>
                      <a:pt x="1535" y="86"/>
                    </a:lnTo>
                    <a:lnTo>
                      <a:pt x="1547" y="82"/>
                    </a:lnTo>
                    <a:lnTo>
                      <a:pt x="1561" y="79"/>
                    </a:lnTo>
                    <a:lnTo>
                      <a:pt x="1575" y="79"/>
                    </a:lnTo>
                    <a:lnTo>
                      <a:pt x="1589" y="79"/>
                    </a:lnTo>
                    <a:lnTo>
                      <a:pt x="1603" y="82"/>
                    </a:lnTo>
                    <a:lnTo>
                      <a:pt x="1615" y="85"/>
                    </a:lnTo>
                    <a:lnTo>
                      <a:pt x="1622" y="87"/>
                    </a:lnTo>
                    <a:lnTo>
                      <a:pt x="1629" y="92"/>
                    </a:lnTo>
                    <a:lnTo>
                      <a:pt x="1635" y="99"/>
                    </a:lnTo>
                    <a:lnTo>
                      <a:pt x="1640" y="105"/>
                    </a:lnTo>
                    <a:lnTo>
                      <a:pt x="1640" y="115"/>
                    </a:lnTo>
                    <a:lnTo>
                      <a:pt x="1641" y="125"/>
                    </a:lnTo>
                    <a:lnTo>
                      <a:pt x="1639" y="135"/>
                    </a:lnTo>
                    <a:lnTo>
                      <a:pt x="1629" y="140"/>
                    </a:lnTo>
                    <a:lnTo>
                      <a:pt x="1620" y="136"/>
                    </a:lnTo>
                    <a:lnTo>
                      <a:pt x="1612" y="131"/>
                    </a:lnTo>
                    <a:lnTo>
                      <a:pt x="1603" y="127"/>
                    </a:lnTo>
                    <a:lnTo>
                      <a:pt x="1592" y="122"/>
                    </a:lnTo>
                    <a:lnTo>
                      <a:pt x="1583" y="120"/>
                    </a:lnTo>
                    <a:lnTo>
                      <a:pt x="1573" y="118"/>
                    </a:lnTo>
                    <a:lnTo>
                      <a:pt x="1562" y="118"/>
                    </a:lnTo>
                    <a:lnTo>
                      <a:pt x="1552" y="121"/>
                    </a:lnTo>
                    <a:lnTo>
                      <a:pt x="1542" y="129"/>
                    </a:lnTo>
                    <a:lnTo>
                      <a:pt x="1531" y="137"/>
                    </a:lnTo>
                    <a:lnTo>
                      <a:pt x="1521" y="146"/>
                    </a:lnTo>
                    <a:lnTo>
                      <a:pt x="1512" y="155"/>
                    </a:lnTo>
                    <a:lnTo>
                      <a:pt x="1503" y="166"/>
                    </a:lnTo>
                    <a:lnTo>
                      <a:pt x="1494" y="176"/>
                    </a:lnTo>
                    <a:lnTo>
                      <a:pt x="1488" y="188"/>
                    </a:lnTo>
                    <a:lnTo>
                      <a:pt x="1482" y="198"/>
                    </a:lnTo>
                    <a:lnTo>
                      <a:pt x="1483" y="200"/>
                    </a:lnTo>
                    <a:lnTo>
                      <a:pt x="1483" y="204"/>
                    </a:lnTo>
                    <a:lnTo>
                      <a:pt x="1485" y="207"/>
                    </a:lnTo>
                    <a:lnTo>
                      <a:pt x="1488" y="209"/>
                    </a:lnTo>
                    <a:lnTo>
                      <a:pt x="1494" y="205"/>
                    </a:lnTo>
                    <a:lnTo>
                      <a:pt x="1500" y="201"/>
                    </a:lnTo>
                    <a:lnTo>
                      <a:pt x="1505" y="196"/>
                    </a:lnTo>
                    <a:lnTo>
                      <a:pt x="1511" y="191"/>
                    </a:lnTo>
                    <a:lnTo>
                      <a:pt x="1515" y="186"/>
                    </a:lnTo>
                    <a:lnTo>
                      <a:pt x="1520" y="181"/>
                    </a:lnTo>
                    <a:lnTo>
                      <a:pt x="1524" y="176"/>
                    </a:lnTo>
                    <a:lnTo>
                      <a:pt x="1530" y="170"/>
                    </a:lnTo>
                    <a:lnTo>
                      <a:pt x="1519" y="198"/>
                    </a:lnTo>
                    <a:lnTo>
                      <a:pt x="1512" y="230"/>
                    </a:lnTo>
                    <a:lnTo>
                      <a:pt x="1506" y="262"/>
                    </a:lnTo>
                    <a:lnTo>
                      <a:pt x="1499" y="295"/>
                    </a:lnTo>
                    <a:lnTo>
                      <a:pt x="1489" y="324"/>
                    </a:lnTo>
                    <a:lnTo>
                      <a:pt x="1473" y="348"/>
                    </a:lnTo>
                    <a:lnTo>
                      <a:pt x="1450" y="364"/>
                    </a:lnTo>
                    <a:lnTo>
                      <a:pt x="1416" y="372"/>
                    </a:lnTo>
                    <a:lnTo>
                      <a:pt x="1393" y="378"/>
                    </a:lnTo>
                    <a:lnTo>
                      <a:pt x="1370" y="382"/>
                    </a:lnTo>
                    <a:lnTo>
                      <a:pt x="1347" y="387"/>
                    </a:lnTo>
                    <a:lnTo>
                      <a:pt x="1323" y="392"/>
                    </a:lnTo>
                    <a:lnTo>
                      <a:pt x="1300" y="396"/>
                    </a:lnTo>
                    <a:lnTo>
                      <a:pt x="1277" y="401"/>
                    </a:lnTo>
                    <a:lnTo>
                      <a:pt x="1253" y="404"/>
                    </a:lnTo>
                    <a:lnTo>
                      <a:pt x="1229" y="409"/>
                    </a:lnTo>
                    <a:lnTo>
                      <a:pt x="1205" y="412"/>
                    </a:lnTo>
                    <a:lnTo>
                      <a:pt x="1181" y="415"/>
                    </a:lnTo>
                    <a:lnTo>
                      <a:pt x="1157" y="418"/>
                    </a:lnTo>
                    <a:lnTo>
                      <a:pt x="1133" y="420"/>
                    </a:lnTo>
                    <a:lnTo>
                      <a:pt x="1108" y="423"/>
                    </a:lnTo>
                    <a:lnTo>
                      <a:pt x="1084" y="425"/>
                    </a:lnTo>
                    <a:lnTo>
                      <a:pt x="1059" y="427"/>
                    </a:lnTo>
                    <a:lnTo>
                      <a:pt x="1035" y="428"/>
                    </a:lnTo>
                    <a:lnTo>
                      <a:pt x="642" y="435"/>
                    </a:lnTo>
                    <a:lnTo>
                      <a:pt x="603" y="433"/>
                    </a:lnTo>
                    <a:lnTo>
                      <a:pt x="563" y="431"/>
                    </a:lnTo>
                    <a:lnTo>
                      <a:pt x="524" y="428"/>
                    </a:lnTo>
                    <a:lnTo>
                      <a:pt x="485" y="425"/>
                    </a:lnTo>
                    <a:lnTo>
                      <a:pt x="447" y="421"/>
                    </a:lnTo>
                    <a:lnTo>
                      <a:pt x="408" y="418"/>
                    </a:lnTo>
                    <a:lnTo>
                      <a:pt x="370" y="415"/>
                    </a:lnTo>
                    <a:lnTo>
                      <a:pt x="332" y="409"/>
                    </a:lnTo>
                    <a:lnTo>
                      <a:pt x="294" y="404"/>
                    </a:lnTo>
                    <a:lnTo>
                      <a:pt x="257" y="398"/>
                    </a:lnTo>
                    <a:lnTo>
                      <a:pt x="219" y="392"/>
                    </a:lnTo>
                    <a:lnTo>
                      <a:pt x="182" y="385"/>
                    </a:lnTo>
                    <a:lnTo>
                      <a:pt x="145" y="377"/>
                    </a:lnTo>
                    <a:lnTo>
                      <a:pt x="108" y="367"/>
                    </a:lnTo>
                    <a:lnTo>
                      <a:pt x="73" y="358"/>
                    </a:lnTo>
                    <a:lnTo>
                      <a:pt x="37" y="348"/>
                    </a:lnTo>
                    <a:lnTo>
                      <a:pt x="25" y="328"/>
                    </a:lnTo>
                    <a:lnTo>
                      <a:pt x="15" y="306"/>
                    </a:lnTo>
                    <a:lnTo>
                      <a:pt x="7" y="282"/>
                    </a:lnTo>
                    <a:lnTo>
                      <a:pt x="2" y="259"/>
                    </a:lnTo>
                    <a:lnTo>
                      <a:pt x="0" y="235"/>
                    </a:lnTo>
                    <a:lnTo>
                      <a:pt x="0" y="212"/>
                    </a:lnTo>
                    <a:lnTo>
                      <a:pt x="3" y="189"/>
                    </a:lnTo>
                    <a:lnTo>
                      <a:pt x="9" y="168"/>
                    </a:lnTo>
                    <a:lnTo>
                      <a:pt x="18" y="163"/>
                    </a:lnTo>
                    <a:lnTo>
                      <a:pt x="15" y="170"/>
                    </a:lnTo>
                    <a:lnTo>
                      <a:pt x="14" y="177"/>
                    </a:lnTo>
                    <a:lnTo>
                      <a:pt x="15" y="185"/>
                    </a:lnTo>
                    <a:lnTo>
                      <a:pt x="18" y="191"/>
                    </a:lnTo>
                    <a:lnTo>
                      <a:pt x="25" y="198"/>
                    </a:lnTo>
                    <a:lnTo>
                      <a:pt x="33" y="203"/>
                    </a:lnTo>
                    <a:lnTo>
                      <a:pt x="42" y="207"/>
                    </a:lnTo>
                    <a:lnTo>
                      <a:pt x="50" y="211"/>
                    </a:lnTo>
                    <a:lnTo>
                      <a:pt x="58" y="216"/>
                    </a:lnTo>
                    <a:lnTo>
                      <a:pt x="63" y="221"/>
                    </a:lnTo>
                    <a:lnTo>
                      <a:pt x="69" y="229"/>
                    </a:lnTo>
                    <a:lnTo>
                      <a:pt x="74" y="238"/>
                    </a:lnTo>
                    <a:lnTo>
                      <a:pt x="83" y="246"/>
                    </a:lnTo>
                    <a:lnTo>
                      <a:pt x="95" y="251"/>
                    </a:lnTo>
                    <a:lnTo>
                      <a:pt x="106" y="253"/>
                    </a:lnTo>
                    <a:lnTo>
                      <a:pt x="119" y="254"/>
                    </a:lnTo>
                    <a:lnTo>
                      <a:pt x="131" y="253"/>
                    </a:lnTo>
                    <a:lnTo>
                      <a:pt x="144" y="251"/>
                    </a:lnTo>
                    <a:lnTo>
                      <a:pt x="156" y="248"/>
                    </a:lnTo>
                    <a:lnTo>
                      <a:pt x="167" y="244"/>
                    </a:lnTo>
                    <a:lnTo>
                      <a:pt x="179" y="233"/>
                    </a:lnTo>
                    <a:lnTo>
                      <a:pt x="191" y="227"/>
                    </a:lnTo>
                    <a:lnTo>
                      <a:pt x="206" y="226"/>
                    </a:lnTo>
                    <a:lnTo>
                      <a:pt x="221" y="227"/>
                    </a:lnTo>
                    <a:lnTo>
                      <a:pt x="236" y="229"/>
                    </a:lnTo>
                    <a:lnTo>
                      <a:pt x="251" y="231"/>
                    </a:lnTo>
                    <a:lnTo>
                      <a:pt x="266" y="234"/>
                    </a:lnTo>
                    <a:lnTo>
                      <a:pt x="281" y="234"/>
                    </a:lnTo>
                    <a:lnTo>
                      <a:pt x="441" y="249"/>
                    </a:lnTo>
                    <a:lnTo>
                      <a:pt x="781" y="262"/>
                    </a:lnTo>
                    <a:lnTo>
                      <a:pt x="804" y="262"/>
                    </a:lnTo>
                    <a:lnTo>
                      <a:pt x="827" y="262"/>
                    </a:lnTo>
                    <a:lnTo>
                      <a:pt x="849" y="262"/>
                    </a:lnTo>
                    <a:lnTo>
                      <a:pt x="872" y="261"/>
                    </a:lnTo>
                    <a:lnTo>
                      <a:pt x="895" y="260"/>
                    </a:lnTo>
                    <a:lnTo>
                      <a:pt x="917" y="259"/>
                    </a:lnTo>
                    <a:lnTo>
                      <a:pt x="939" y="257"/>
                    </a:lnTo>
                    <a:lnTo>
                      <a:pt x="961" y="253"/>
                    </a:lnTo>
                    <a:lnTo>
                      <a:pt x="962" y="248"/>
                    </a:lnTo>
                    <a:lnTo>
                      <a:pt x="962" y="238"/>
                    </a:lnTo>
                    <a:lnTo>
                      <a:pt x="960" y="231"/>
                    </a:lnTo>
                    <a:lnTo>
                      <a:pt x="959" y="228"/>
                    </a:lnTo>
                    <a:lnTo>
                      <a:pt x="945" y="229"/>
                    </a:lnTo>
                    <a:lnTo>
                      <a:pt x="932" y="230"/>
                    </a:lnTo>
                    <a:lnTo>
                      <a:pt x="920" y="233"/>
                    </a:lnTo>
                    <a:lnTo>
                      <a:pt x="906" y="234"/>
                    </a:lnTo>
                    <a:lnTo>
                      <a:pt x="893" y="234"/>
                    </a:lnTo>
                    <a:lnTo>
                      <a:pt x="880" y="235"/>
                    </a:lnTo>
                    <a:lnTo>
                      <a:pt x="867" y="235"/>
                    </a:lnTo>
                    <a:lnTo>
                      <a:pt x="854" y="235"/>
                    </a:lnTo>
                    <a:lnTo>
                      <a:pt x="841" y="235"/>
                    </a:lnTo>
                    <a:lnTo>
                      <a:pt x="827" y="235"/>
                    </a:lnTo>
                    <a:lnTo>
                      <a:pt x="814" y="234"/>
                    </a:lnTo>
                    <a:lnTo>
                      <a:pt x="801" y="233"/>
                    </a:lnTo>
                    <a:lnTo>
                      <a:pt x="787" y="230"/>
                    </a:lnTo>
                    <a:lnTo>
                      <a:pt x="772" y="228"/>
                    </a:lnTo>
                    <a:lnTo>
                      <a:pt x="758" y="226"/>
                    </a:lnTo>
                    <a:lnTo>
                      <a:pt x="743" y="222"/>
                    </a:lnTo>
                    <a:lnTo>
                      <a:pt x="742" y="233"/>
                    </a:lnTo>
                    <a:lnTo>
                      <a:pt x="710" y="233"/>
                    </a:lnTo>
                    <a:lnTo>
                      <a:pt x="679" y="231"/>
                    </a:lnTo>
                    <a:lnTo>
                      <a:pt x="646" y="231"/>
                    </a:lnTo>
                    <a:lnTo>
                      <a:pt x="615" y="230"/>
                    </a:lnTo>
                    <a:lnTo>
                      <a:pt x="583" y="229"/>
                    </a:lnTo>
                    <a:lnTo>
                      <a:pt x="552" y="227"/>
                    </a:lnTo>
                    <a:lnTo>
                      <a:pt x="520" y="226"/>
                    </a:lnTo>
                    <a:lnTo>
                      <a:pt x="489" y="223"/>
                    </a:lnTo>
                    <a:lnTo>
                      <a:pt x="456" y="221"/>
                    </a:lnTo>
                    <a:lnTo>
                      <a:pt x="425" y="219"/>
                    </a:lnTo>
                    <a:lnTo>
                      <a:pt x="393" y="216"/>
                    </a:lnTo>
                    <a:lnTo>
                      <a:pt x="362" y="214"/>
                    </a:lnTo>
                    <a:lnTo>
                      <a:pt x="331" y="211"/>
                    </a:lnTo>
                    <a:lnTo>
                      <a:pt x="300" y="208"/>
                    </a:lnTo>
                    <a:lnTo>
                      <a:pt x="269" y="205"/>
                    </a:lnTo>
                    <a:lnTo>
                      <a:pt x="237" y="201"/>
                    </a:lnTo>
                    <a:lnTo>
                      <a:pt x="247" y="193"/>
                    </a:lnTo>
                    <a:lnTo>
                      <a:pt x="257" y="185"/>
                    </a:lnTo>
                    <a:lnTo>
                      <a:pt x="267" y="178"/>
                    </a:lnTo>
                    <a:lnTo>
                      <a:pt x="278" y="171"/>
                    </a:lnTo>
                    <a:lnTo>
                      <a:pt x="289" y="166"/>
                    </a:lnTo>
                    <a:lnTo>
                      <a:pt x="301" y="161"/>
                    </a:lnTo>
                    <a:lnTo>
                      <a:pt x="312" y="156"/>
                    </a:lnTo>
                    <a:lnTo>
                      <a:pt x="324" y="152"/>
                    </a:lnTo>
                    <a:lnTo>
                      <a:pt x="340" y="154"/>
                    </a:lnTo>
                    <a:lnTo>
                      <a:pt x="354" y="160"/>
                    </a:lnTo>
                    <a:lnTo>
                      <a:pt x="366" y="167"/>
                    </a:lnTo>
                    <a:lnTo>
                      <a:pt x="380" y="175"/>
                    </a:lnTo>
                    <a:lnTo>
                      <a:pt x="393" y="183"/>
                    </a:lnTo>
                    <a:lnTo>
                      <a:pt x="407" y="189"/>
                    </a:lnTo>
                    <a:lnTo>
                      <a:pt x="422" y="193"/>
                    </a:lnTo>
                    <a:lnTo>
                      <a:pt x="438" y="193"/>
                    </a:lnTo>
                    <a:lnTo>
                      <a:pt x="441" y="189"/>
                    </a:lnTo>
                    <a:lnTo>
                      <a:pt x="442" y="184"/>
                    </a:lnTo>
                    <a:lnTo>
                      <a:pt x="441" y="180"/>
                    </a:lnTo>
                    <a:lnTo>
                      <a:pt x="438" y="175"/>
                    </a:lnTo>
                    <a:lnTo>
                      <a:pt x="380" y="148"/>
                    </a:lnTo>
                    <a:lnTo>
                      <a:pt x="372" y="139"/>
                    </a:lnTo>
                    <a:lnTo>
                      <a:pt x="366" y="129"/>
                    </a:lnTo>
                    <a:lnTo>
                      <a:pt x="362" y="118"/>
                    </a:lnTo>
                    <a:lnTo>
                      <a:pt x="357" y="108"/>
                    </a:lnTo>
                    <a:lnTo>
                      <a:pt x="353" y="98"/>
                    </a:lnTo>
                    <a:lnTo>
                      <a:pt x="347" y="87"/>
                    </a:lnTo>
                    <a:lnTo>
                      <a:pt x="341" y="77"/>
                    </a:lnTo>
                    <a:lnTo>
                      <a:pt x="334" y="68"/>
                    </a:lnTo>
                    <a:lnTo>
                      <a:pt x="327" y="69"/>
                    </a:lnTo>
                    <a:lnTo>
                      <a:pt x="325" y="75"/>
                    </a:lnTo>
                    <a:lnTo>
                      <a:pt x="325" y="83"/>
                    </a:lnTo>
                    <a:lnTo>
                      <a:pt x="327" y="90"/>
                    </a:lnTo>
                    <a:lnTo>
                      <a:pt x="332" y="100"/>
                    </a:lnTo>
                    <a:lnTo>
                      <a:pt x="336" y="110"/>
                    </a:lnTo>
                    <a:lnTo>
                      <a:pt x="340" y="121"/>
                    </a:lnTo>
                    <a:lnTo>
                      <a:pt x="343" y="132"/>
                    </a:lnTo>
                    <a:lnTo>
                      <a:pt x="326" y="131"/>
                    </a:lnTo>
                    <a:lnTo>
                      <a:pt x="309" y="130"/>
                    </a:lnTo>
                    <a:lnTo>
                      <a:pt x="292" y="130"/>
                    </a:lnTo>
                    <a:lnTo>
                      <a:pt x="274" y="131"/>
                    </a:lnTo>
                    <a:lnTo>
                      <a:pt x="257" y="133"/>
                    </a:lnTo>
                    <a:lnTo>
                      <a:pt x="240" y="137"/>
                    </a:lnTo>
                    <a:lnTo>
                      <a:pt x="225" y="144"/>
                    </a:lnTo>
                    <a:lnTo>
                      <a:pt x="210" y="152"/>
                    </a:lnTo>
                    <a:lnTo>
                      <a:pt x="206" y="145"/>
                    </a:lnTo>
                    <a:lnTo>
                      <a:pt x="201" y="138"/>
                    </a:lnTo>
                    <a:lnTo>
                      <a:pt x="196" y="132"/>
                    </a:lnTo>
                    <a:lnTo>
                      <a:pt x="190" y="125"/>
                    </a:lnTo>
                    <a:lnTo>
                      <a:pt x="184" y="120"/>
                    </a:lnTo>
                    <a:lnTo>
                      <a:pt x="180" y="114"/>
                    </a:lnTo>
                    <a:lnTo>
                      <a:pt x="175" y="107"/>
                    </a:lnTo>
                    <a:lnTo>
                      <a:pt x="173" y="100"/>
                    </a:lnTo>
                    <a:lnTo>
                      <a:pt x="189" y="98"/>
                    </a:lnTo>
                    <a:lnTo>
                      <a:pt x="202" y="91"/>
                    </a:lnTo>
                    <a:lnTo>
                      <a:pt x="212" y="80"/>
                    </a:lnTo>
                    <a:lnTo>
                      <a:pt x="220" y="68"/>
                    </a:lnTo>
                    <a:lnTo>
                      <a:pt x="228" y="55"/>
                    </a:lnTo>
                    <a:lnTo>
                      <a:pt x="236" y="44"/>
                    </a:lnTo>
                    <a:lnTo>
                      <a:pt x="247" y="33"/>
                    </a:lnTo>
                    <a:lnTo>
                      <a:pt x="258" y="25"/>
                    </a:lnTo>
                    <a:lnTo>
                      <a:pt x="254" y="47"/>
                    </a:lnTo>
                    <a:lnTo>
                      <a:pt x="255" y="69"/>
                    </a:lnTo>
                    <a:lnTo>
                      <a:pt x="263" y="89"/>
                    </a:lnTo>
                    <a:lnTo>
                      <a:pt x="275" y="106"/>
                    </a:lnTo>
                    <a:lnTo>
                      <a:pt x="280" y="108"/>
                    </a:lnTo>
                    <a:lnTo>
                      <a:pt x="285" y="108"/>
                    </a:lnTo>
                    <a:lnTo>
                      <a:pt x="288" y="105"/>
                    </a:lnTo>
                    <a:lnTo>
                      <a:pt x="290" y="100"/>
                    </a:lnTo>
                    <a:lnTo>
                      <a:pt x="280" y="90"/>
                    </a:lnTo>
                    <a:lnTo>
                      <a:pt x="278" y="80"/>
                    </a:lnTo>
                    <a:lnTo>
                      <a:pt x="281" y="74"/>
                    </a:lnTo>
                    <a:lnTo>
                      <a:pt x="288" y="67"/>
                    </a:lnTo>
                    <a:lnTo>
                      <a:pt x="296" y="60"/>
                    </a:lnTo>
                    <a:lnTo>
                      <a:pt x="304" y="53"/>
                    </a:lnTo>
                    <a:lnTo>
                      <a:pt x="311" y="45"/>
                    </a:lnTo>
                    <a:lnTo>
                      <a:pt x="313" y="34"/>
                    </a:lnTo>
                    <a:lnTo>
                      <a:pt x="319" y="29"/>
                    </a:lnTo>
                    <a:lnTo>
                      <a:pt x="327" y="27"/>
                    </a:lnTo>
                    <a:lnTo>
                      <a:pt x="335" y="31"/>
                    </a:lnTo>
                    <a:lnTo>
                      <a:pt x="342" y="34"/>
                    </a:lnTo>
                    <a:lnTo>
                      <a:pt x="354" y="47"/>
                    </a:lnTo>
                    <a:lnTo>
                      <a:pt x="355" y="64"/>
                    </a:lnTo>
                    <a:lnTo>
                      <a:pt x="358" y="82"/>
                    </a:lnTo>
                    <a:lnTo>
                      <a:pt x="371" y="95"/>
                    </a:lnTo>
                    <a:lnTo>
                      <a:pt x="379" y="95"/>
                    </a:lnTo>
                    <a:lnTo>
                      <a:pt x="385" y="92"/>
                    </a:lnTo>
                    <a:lnTo>
                      <a:pt x="392" y="90"/>
                    </a:lnTo>
                    <a:lnTo>
                      <a:pt x="399" y="92"/>
                    </a:lnTo>
                    <a:lnTo>
                      <a:pt x="401" y="98"/>
                    </a:lnTo>
                    <a:lnTo>
                      <a:pt x="403" y="106"/>
                    </a:lnTo>
                    <a:lnTo>
                      <a:pt x="406" y="114"/>
                    </a:lnTo>
                    <a:lnTo>
                      <a:pt x="409" y="121"/>
                    </a:lnTo>
                    <a:lnTo>
                      <a:pt x="413" y="128"/>
                    </a:lnTo>
                    <a:lnTo>
                      <a:pt x="417" y="132"/>
                    </a:lnTo>
                    <a:lnTo>
                      <a:pt x="424" y="133"/>
                    </a:lnTo>
                    <a:lnTo>
                      <a:pt x="433" y="130"/>
                    </a:lnTo>
                    <a:lnTo>
                      <a:pt x="440" y="120"/>
                    </a:lnTo>
                    <a:lnTo>
                      <a:pt x="446" y="109"/>
                    </a:lnTo>
                    <a:lnTo>
                      <a:pt x="451" y="97"/>
                    </a:lnTo>
                    <a:lnTo>
                      <a:pt x="454" y="85"/>
                    </a:lnTo>
                    <a:lnTo>
                      <a:pt x="460" y="91"/>
                    </a:lnTo>
                    <a:lnTo>
                      <a:pt x="468" y="93"/>
                    </a:lnTo>
                    <a:lnTo>
                      <a:pt x="476" y="93"/>
                    </a:lnTo>
                    <a:lnTo>
                      <a:pt x="484" y="90"/>
                    </a:lnTo>
                    <a:lnTo>
                      <a:pt x="493" y="78"/>
                    </a:lnTo>
                    <a:lnTo>
                      <a:pt x="499" y="64"/>
                    </a:lnTo>
                    <a:lnTo>
                      <a:pt x="505" y="50"/>
                    </a:lnTo>
                    <a:lnTo>
                      <a:pt x="510" y="36"/>
                    </a:lnTo>
                    <a:lnTo>
                      <a:pt x="517" y="23"/>
                    </a:lnTo>
                    <a:lnTo>
                      <a:pt x="525" y="12"/>
                    </a:lnTo>
                    <a:lnTo>
                      <a:pt x="538" y="4"/>
                    </a:lnTo>
                    <a:lnTo>
                      <a:pt x="554" y="0"/>
                    </a:lnTo>
                    <a:lnTo>
                      <a:pt x="561" y="0"/>
                    </a:lnTo>
                    <a:lnTo>
                      <a:pt x="567" y="1"/>
                    </a:lnTo>
                    <a:lnTo>
                      <a:pt x="573" y="3"/>
                    </a:lnTo>
                    <a:lnTo>
                      <a:pt x="57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276880" y="39751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1" y="19"/>
                    </a:moveTo>
                    <a:lnTo>
                      <a:pt x="98" y="30"/>
                    </a:lnTo>
                    <a:lnTo>
                      <a:pt x="96" y="39"/>
                    </a:lnTo>
                    <a:lnTo>
                      <a:pt x="93" y="48"/>
                    </a:lnTo>
                    <a:lnTo>
                      <a:pt x="88" y="56"/>
                    </a:lnTo>
                    <a:lnTo>
                      <a:pt x="86" y="43"/>
                    </a:lnTo>
                    <a:lnTo>
                      <a:pt x="87" y="26"/>
                    </a:lnTo>
                    <a:lnTo>
                      <a:pt x="83" y="13"/>
                    </a:lnTo>
                    <a:lnTo>
                      <a:pt x="68" y="11"/>
                    </a:lnTo>
                    <a:lnTo>
                      <a:pt x="57" y="20"/>
                    </a:lnTo>
                    <a:lnTo>
                      <a:pt x="53" y="34"/>
                    </a:lnTo>
                    <a:lnTo>
                      <a:pt x="53" y="47"/>
                    </a:lnTo>
                    <a:lnTo>
                      <a:pt x="56" y="57"/>
                    </a:lnTo>
                    <a:lnTo>
                      <a:pt x="0" y="46"/>
                    </a:lnTo>
                    <a:lnTo>
                      <a:pt x="3" y="38"/>
                    </a:lnTo>
                    <a:lnTo>
                      <a:pt x="6" y="30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4" y="11"/>
                    </a:lnTo>
                    <a:lnTo>
                      <a:pt x="32" y="6"/>
                    </a:lnTo>
                    <a:lnTo>
                      <a:pt x="40" y="3"/>
                    </a:lnTo>
                    <a:lnTo>
                      <a:pt x="48" y="1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1" y="1"/>
                    </a:lnTo>
                    <a:lnTo>
                      <a:pt x="78" y="3"/>
                    </a:lnTo>
                    <a:lnTo>
                      <a:pt x="85" y="5"/>
                    </a:lnTo>
                    <a:lnTo>
                      <a:pt x="90" y="9"/>
                    </a:lnTo>
                    <a:lnTo>
                      <a:pt x="96" y="13"/>
                    </a:lnTo>
                    <a:lnTo>
                      <a:pt x="101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30480" y="3997440"/>
                <a:ext cx="250920" cy="147600"/>
              </a:xfrm>
              <a:custGeom>
                <a:avLst/>
                <a:gdLst/>
                <a:ahLst/>
                <a:rect l="l" t="t" r="r" b="b"/>
                <a:pathLst>
                  <a:path w="317" h="186">
                    <a:moveTo>
                      <a:pt x="262" y="79"/>
                    </a:moveTo>
                    <a:lnTo>
                      <a:pt x="264" y="76"/>
                    </a:lnTo>
                    <a:lnTo>
                      <a:pt x="302" y="118"/>
                    </a:lnTo>
                    <a:lnTo>
                      <a:pt x="288" y="111"/>
                    </a:lnTo>
                    <a:lnTo>
                      <a:pt x="274" y="102"/>
                    </a:lnTo>
                    <a:lnTo>
                      <a:pt x="262" y="90"/>
                    </a:lnTo>
                    <a:lnTo>
                      <a:pt x="250" y="79"/>
                    </a:lnTo>
                    <a:lnTo>
                      <a:pt x="239" y="66"/>
                    </a:lnTo>
                    <a:lnTo>
                      <a:pt x="227" y="56"/>
                    </a:lnTo>
                    <a:lnTo>
                      <a:pt x="215" y="46"/>
                    </a:lnTo>
                    <a:lnTo>
                      <a:pt x="201" y="41"/>
                    </a:lnTo>
                    <a:lnTo>
                      <a:pt x="196" y="50"/>
                    </a:lnTo>
                    <a:lnTo>
                      <a:pt x="202" y="56"/>
                    </a:lnTo>
                    <a:lnTo>
                      <a:pt x="211" y="61"/>
                    </a:lnTo>
                    <a:lnTo>
                      <a:pt x="217" y="68"/>
                    </a:lnTo>
                    <a:lnTo>
                      <a:pt x="227" y="81"/>
                    </a:lnTo>
                    <a:lnTo>
                      <a:pt x="239" y="94"/>
                    </a:lnTo>
                    <a:lnTo>
                      <a:pt x="250" y="104"/>
                    </a:lnTo>
                    <a:lnTo>
                      <a:pt x="264" y="114"/>
                    </a:lnTo>
                    <a:lnTo>
                      <a:pt x="277" y="124"/>
                    </a:lnTo>
                    <a:lnTo>
                      <a:pt x="291" y="132"/>
                    </a:lnTo>
                    <a:lnTo>
                      <a:pt x="303" y="139"/>
                    </a:lnTo>
                    <a:lnTo>
                      <a:pt x="317" y="144"/>
                    </a:lnTo>
                    <a:lnTo>
                      <a:pt x="307" y="150"/>
                    </a:lnTo>
                    <a:lnTo>
                      <a:pt x="296" y="157"/>
                    </a:lnTo>
                    <a:lnTo>
                      <a:pt x="286" y="164"/>
                    </a:lnTo>
                    <a:lnTo>
                      <a:pt x="276" y="171"/>
                    </a:lnTo>
                    <a:lnTo>
                      <a:pt x="265" y="177"/>
                    </a:lnTo>
                    <a:lnTo>
                      <a:pt x="254" y="182"/>
                    </a:lnTo>
                    <a:lnTo>
                      <a:pt x="242" y="185"/>
                    </a:lnTo>
                    <a:lnTo>
                      <a:pt x="230" y="186"/>
                    </a:lnTo>
                    <a:lnTo>
                      <a:pt x="224" y="179"/>
                    </a:lnTo>
                    <a:lnTo>
                      <a:pt x="232" y="175"/>
                    </a:lnTo>
                    <a:lnTo>
                      <a:pt x="240" y="171"/>
                    </a:lnTo>
                    <a:lnTo>
                      <a:pt x="247" y="164"/>
                    </a:lnTo>
                    <a:lnTo>
                      <a:pt x="254" y="157"/>
                    </a:lnTo>
                    <a:lnTo>
                      <a:pt x="251" y="149"/>
                    </a:lnTo>
                    <a:lnTo>
                      <a:pt x="248" y="146"/>
                    </a:lnTo>
                    <a:lnTo>
                      <a:pt x="242" y="144"/>
                    </a:lnTo>
                    <a:lnTo>
                      <a:pt x="236" y="147"/>
                    </a:lnTo>
                    <a:lnTo>
                      <a:pt x="231" y="150"/>
                    </a:lnTo>
                    <a:lnTo>
                      <a:pt x="224" y="154"/>
                    </a:lnTo>
                    <a:lnTo>
                      <a:pt x="217" y="156"/>
                    </a:lnTo>
                    <a:lnTo>
                      <a:pt x="211" y="156"/>
                    </a:lnTo>
                    <a:lnTo>
                      <a:pt x="203" y="154"/>
                    </a:lnTo>
                    <a:lnTo>
                      <a:pt x="194" y="152"/>
                    </a:lnTo>
                    <a:lnTo>
                      <a:pt x="186" y="150"/>
                    </a:lnTo>
                    <a:lnTo>
                      <a:pt x="179" y="144"/>
                    </a:lnTo>
                    <a:lnTo>
                      <a:pt x="182" y="137"/>
                    </a:lnTo>
                    <a:lnTo>
                      <a:pt x="189" y="131"/>
                    </a:lnTo>
                    <a:lnTo>
                      <a:pt x="195" y="124"/>
                    </a:lnTo>
                    <a:lnTo>
                      <a:pt x="193" y="113"/>
                    </a:lnTo>
                    <a:lnTo>
                      <a:pt x="188" y="109"/>
                    </a:lnTo>
                    <a:lnTo>
                      <a:pt x="183" y="104"/>
                    </a:lnTo>
                    <a:lnTo>
                      <a:pt x="179" y="102"/>
                    </a:lnTo>
                    <a:lnTo>
                      <a:pt x="174" y="99"/>
                    </a:lnTo>
                    <a:lnTo>
                      <a:pt x="168" y="98"/>
                    </a:lnTo>
                    <a:lnTo>
                      <a:pt x="163" y="97"/>
                    </a:lnTo>
                    <a:lnTo>
                      <a:pt x="157" y="97"/>
                    </a:lnTo>
                    <a:lnTo>
                      <a:pt x="151" y="96"/>
                    </a:lnTo>
                    <a:lnTo>
                      <a:pt x="155" y="93"/>
                    </a:lnTo>
                    <a:lnTo>
                      <a:pt x="160" y="90"/>
                    </a:lnTo>
                    <a:lnTo>
                      <a:pt x="166" y="89"/>
                    </a:lnTo>
                    <a:lnTo>
                      <a:pt x="172" y="89"/>
                    </a:lnTo>
                    <a:lnTo>
                      <a:pt x="178" y="88"/>
                    </a:lnTo>
                    <a:lnTo>
                      <a:pt x="181" y="86"/>
                    </a:lnTo>
                    <a:lnTo>
                      <a:pt x="183" y="82"/>
                    </a:lnTo>
                    <a:lnTo>
                      <a:pt x="182" y="75"/>
                    </a:lnTo>
                    <a:lnTo>
                      <a:pt x="178" y="72"/>
                    </a:lnTo>
                    <a:lnTo>
                      <a:pt x="172" y="69"/>
                    </a:lnTo>
                    <a:lnTo>
                      <a:pt x="167" y="69"/>
                    </a:lnTo>
                    <a:lnTo>
                      <a:pt x="162" y="69"/>
                    </a:lnTo>
                    <a:lnTo>
                      <a:pt x="156" y="69"/>
                    </a:lnTo>
                    <a:lnTo>
                      <a:pt x="150" y="72"/>
                    </a:lnTo>
                    <a:lnTo>
                      <a:pt x="145" y="73"/>
                    </a:lnTo>
                    <a:lnTo>
                      <a:pt x="140" y="75"/>
                    </a:lnTo>
                    <a:lnTo>
                      <a:pt x="130" y="79"/>
                    </a:lnTo>
                    <a:lnTo>
                      <a:pt x="128" y="87"/>
                    </a:lnTo>
                    <a:lnTo>
                      <a:pt x="128" y="97"/>
                    </a:lnTo>
                    <a:lnTo>
                      <a:pt x="129" y="106"/>
                    </a:lnTo>
                    <a:lnTo>
                      <a:pt x="138" y="114"/>
                    </a:lnTo>
                    <a:lnTo>
                      <a:pt x="125" y="120"/>
                    </a:lnTo>
                    <a:lnTo>
                      <a:pt x="111" y="127"/>
                    </a:lnTo>
                    <a:lnTo>
                      <a:pt x="98" y="134"/>
                    </a:lnTo>
                    <a:lnTo>
                      <a:pt x="84" y="141"/>
                    </a:lnTo>
                    <a:lnTo>
                      <a:pt x="72" y="147"/>
                    </a:lnTo>
                    <a:lnTo>
                      <a:pt x="58" y="151"/>
                    </a:lnTo>
                    <a:lnTo>
                      <a:pt x="44" y="155"/>
                    </a:lnTo>
                    <a:lnTo>
                      <a:pt x="30" y="157"/>
                    </a:lnTo>
                    <a:lnTo>
                      <a:pt x="27" y="150"/>
                    </a:lnTo>
                    <a:lnTo>
                      <a:pt x="24" y="141"/>
                    </a:lnTo>
                    <a:lnTo>
                      <a:pt x="24" y="133"/>
                    </a:lnTo>
                    <a:lnTo>
                      <a:pt x="28" y="125"/>
                    </a:lnTo>
                    <a:lnTo>
                      <a:pt x="35" y="126"/>
                    </a:lnTo>
                    <a:lnTo>
                      <a:pt x="43" y="125"/>
                    </a:lnTo>
                    <a:lnTo>
                      <a:pt x="49" y="122"/>
                    </a:lnTo>
                    <a:lnTo>
                      <a:pt x="56" y="120"/>
                    </a:lnTo>
                    <a:lnTo>
                      <a:pt x="61" y="116"/>
                    </a:lnTo>
                    <a:lnTo>
                      <a:pt x="66" y="111"/>
                    </a:lnTo>
                    <a:lnTo>
                      <a:pt x="71" y="105"/>
                    </a:lnTo>
                    <a:lnTo>
                      <a:pt x="73" y="98"/>
                    </a:lnTo>
                    <a:lnTo>
                      <a:pt x="71" y="86"/>
                    </a:lnTo>
                    <a:lnTo>
                      <a:pt x="65" y="73"/>
                    </a:lnTo>
                    <a:lnTo>
                      <a:pt x="56" y="63"/>
                    </a:lnTo>
                    <a:lnTo>
                      <a:pt x="44" y="56"/>
                    </a:lnTo>
                    <a:lnTo>
                      <a:pt x="38" y="53"/>
                    </a:lnTo>
                    <a:lnTo>
                      <a:pt x="32" y="56"/>
                    </a:lnTo>
                    <a:lnTo>
                      <a:pt x="28" y="60"/>
                    </a:lnTo>
                    <a:lnTo>
                      <a:pt x="26" y="66"/>
                    </a:lnTo>
                    <a:lnTo>
                      <a:pt x="26" y="71"/>
                    </a:lnTo>
                    <a:lnTo>
                      <a:pt x="18" y="68"/>
                    </a:lnTo>
                    <a:lnTo>
                      <a:pt x="7" y="68"/>
                    </a:lnTo>
                    <a:lnTo>
                      <a:pt x="0" y="65"/>
                    </a:lnTo>
                    <a:lnTo>
                      <a:pt x="1" y="56"/>
                    </a:lnTo>
                    <a:lnTo>
                      <a:pt x="16" y="45"/>
                    </a:lnTo>
                    <a:lnTo>
                      <a:pt x="34" y="40"/>
                    </a:lnTo>
                    <a:lnTo>
                      <a:pt x="51" y="36"/>
                    </a:lnTo>
                    <a:lnTo>
                      <a:pt x="69" y="35"/>
                    </a:lnTo>
                    <a:lnTo>
                      <a:pt x="89" y="36"/>
                    </a:lnTo>
                    <a:lnTo>
                      <a:pt x="107" y="38"/>
                    </a:lnTo>
                    <a:lnTo>
                      <a:pt x="126" y="41"/>
                    </a:lnTo>
                    <a:lnTo>
                      <a:pt x="143" y="44"/>
                    </a:lnTo>
                    <a:lnTo>
                      <a:pt x="150" y="44"/>
                    </a:lnTo>
                    <a:lnTo>
                      <a:pt x="156" y="46"/>
                    </a:lnTo>
                    <a:lnTo>
                      <a:pt x="162" y="51"/>
                    </a:lnTo>
                    <a:lnTo>
                      <a:pt x="167" y="55"/>
                    </a:lnTo>
                    <a:lnTo>
                      <a:pt x="172" y="59"/>
                    </a:lnTo>
                    <a:lnTo>
                      <a:pt x="178" y="61"/>
                    </a:lnTo>
                    <a:lnTo>
                      <a:pt x="185" y="60"/>
                    </a:lnTo>
                    <a:lnTo>
                      <a:pt x="191" y="56"/>
                    </a:lnTo>
                    <a:lnTo>
                      <a:pt x="187" y="49"/>
                    </a:lnTo>
                    <a:lnTo>
                      <a:pt x="181" y="43"/>
                    </a:lnTo>
                    <a:lnTo>
                      <a:pt x="174" y="36"/>
                    </a:lnTo>
                    <a:lnTo>
                      <a:pt x="168" y="29"/>
                    </a:lnTo>
                    <a:lnTo>
                      <a:pt x="164" y="23"/>
                    </a:lnTo>
                    <a:lnTo>
                      <a:pt x="163" y="16"/>
                    </a:lnTo>
                    <a:lnTo>
                      <a:pt x="165" y="10"/>
                    </a:lnTo>
                    <a:lnTo>
                      <a:pt x="174" y="3"/>
                    </a:lnTo>
                    <a:lnTo>
                      <a:pt x="193" y="0"/>
                    </a:lnTo>
                    <a:lnTo>
                      <a:pt x="209" y="4"/>
                    </a:lnTo>
                    <a:lnTo>
                      <a:pt x="220" y="12"/>
                    </a:lnTo>
                    <a:lnTo>
                      <a:pt x="231" y="23"/>
                    </a:lnTo>
                    <a:lnTo>
                      <a:pt x="240" y="37"/>
                    </a:lnTo>
                    <a:lnTo>
                      <a:pt x="247" y="52"/>
                    </a:lnTo>
                    <a:lnTo>
                      <a:pt x="255" y="66"/>
                    </a:lnTo>
                    <a:lnTo>
                      <a:pt x="262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400640" y="4064040"/>
                <a:ext cx="268200" cy="68040"/>
              </a:xfrm>
              <a:custGeom>
                <a:avLst/>
                <a:gdLst/>
                <a:ahLst/>
                <a:rect l="l" t="t" r="r" b="b"/>
                <a:pathLst>
                  <a:path w="337" h="88">
                    <a:moveTo>
                      <a:pt x="133" y="4"/>
                    </a:moveTo>
                    <a:lnTo>
                      <a:pt x="129" y="15"/>
                    </a:lnTo>
                    <a:lnTo>
                      <a:pt x="122" y="25"/>
                    </a:lnTo>
                    <a:lnTo>
                      <a:pt x="114" y="33"/>
                    </a:lnTo>
                    <a:lnTo>
                      <a:pt x="106" y="42"/>
                    </a:lnTo>
                    <a:lnTo>
                      <a:pt x="125" y="50"/>
                    </a:lnTo>
                    <a:lnTo>
                      <a:pt x="145" y="52"/>
                    </a:lnTo>
                    <a:lnTo>
                      <a:pt x="163" y="50"/>
                    </a:lnTo>
                    <a:lnTo>
                      <a:pt x="183" y="45"/>
                    </a:lnTo>
                    <a:lnTo>
                      <a:pt x="201" y="38"/>
                    </a:lnTo>
                    <a:lnTo>
                      <a:pt x="221" y="31"/>
                    </a:lnTo>
                    <a:lnTo>
                      <a:pt x="239" y="26"/>
                    </a:lnTo>
                    <a:lnTo>
                      <a:pt x="259" y="21"/>
                    </a:lnTo>
                    <a:lnTo>
                      <a:pt x="269" y="22"/>
                    </a:lnTo>
                    <a:lnTo>
                      <a:pt x="280" y="23"/>
                    </a:lnTo>
                    <a:lnTo>
                      <a:pt x="290" y="23"/>
                    </a:lnTo>
                    <a:lnTo>
                      <a:pt x="302" y="25"/>
                    </a:lnTo>
                    <a:lnTo>
                      <a:pt x="311" y="27"/>
                    </a:lnTo>
                    <a:lnTo>
                      <a:pt x="320" y="30"/>
                    </a:lnTo>
                    <a:lnTo>
                      <a:pt x="329" y="35"/>
                    </a:lnTo>
                    <a:lnTo>
                      <a:pt x="336" y="41"/>
                    </a:lnTo>
                    <a:lnTo>
                      <a:pt x="337" y="51"/>
                    </a:lnTo>
                    <a:lnTo>
                      <a:pt x="329" y="51"/>
                    </a:lnTo>
                    <a:lnTo>
                      <a:pt x="321" y="50"/>
                    </a:lnTo>
                    <a:lnTo>
                      <a:pt x="313" y="48"/>
                    </a:lnTo>
                    <a:lnTo>
                      <a:pt x="305" y="46"/>
                    </a:lnTo>
                    <a:lnTo>
                      <a:pt x="296" y="45"/>
                    </a:lnTo>
                    <a:lnTo>
                      <a:pt x="287" y="45"/>
                    </a:lnTo>
                    <a:lnTo>
                      <a:pt x="278" y="46"/>
                    </a:lnTo>
                    <a:lnTo>
                      <a:pt x="269" y="50"/>
                    </a:lnTo>
                    <a:lnTo>
                      <a:pt x="258" y="52"/>
                    </a:lnTo>
                    <a:lnTo>
                      <a:pt x="246" y="56"/>
                    </a:lnTo>
                    <a:lnTo>
                      <a:pt x="234" y="60"/>
                    </a:lnTo>
                    <a:lnTo>
                      <a:pt x="222" y="65"/>
                    </a:lnTo>
                    <a:lnTo>
                      <a:pt x="209" y="69"/>
                    </a:lnTo>
                    <a:lnTo>
                      <a:pt x="198" y="74"/>
                    </a:lnTo>
                    <a:lnTo>
                      <a:pt x="185" y="78"/>
                    </a:lnTo>
                    <a:lnTo>
                      <a:pt x="172" y="82"/>
                    </a:lnTo>
                    <a:lnTo>
                      <a:pt x="160" y="84"/>
                    </a:lnTo>
                    <a:lnTo>
                      <a:pt x="147" y="87"/>
                    </a:lnTo>
                    <a:lnTo>
                      <a:pt x="136" y="88"/>
                    </a:lnTo>
                    <a:lnTo>
                      <a:pt x="123" y="87"/>
                    </a:lnTo>
                    <a:lnTo>
                      <a:pt x="111" y="84"/>
                    </a:lnTo>
                    <a:lnTo>
                      <a:pt x="99" y="81"/>
                    </a:lnTo>
                    <a:lnTo>
                      <a:pt x="87" y="74"/>
                    </a:lnTo>
                    <a:lnTo>
                      <a:pt x="76" y="66"/>
                    </a:lnTo>
                    <a:lnTo>
                      <a:pt x="66" y="68"/>
                    </a:lnTo>
                    <a:lnTo>
                      <a:pt x="56" y="72"/>
                    </a:lnTo>
                    <a:lnTo>
                      <a:pt x="46" y="74"/>
                    </a:lnTo>
                    <a:lnTo>
                      <a:pt x="35" y="76"/>
                    </a:lnTo>
                    <a:lnTo>
                      <a:pt x="25" y="78"/>
                    </a:lnTo>
                    <a:lnTo>
                      <a:pt x="16" y="76"/>
                    </a:lnTo>
                    <a:lnTo>
                      <a:pt x="7" y="73"/>
                    </a:lnTo>
                    <a:lnTo>
                      <a:pt x="0" y="66"/>
                    </a:lnTo>
                    <a:lnTo>
                      <a:pt x="5" y="60"/>
                    </a:lnTo>
                    <a:lnTo>
                      <a:pt x="12" y="61"/>
                    </a:lnTo>
                    <a:lnTo>
                      <a:pt x="20" y="63"/>
                    </a:lnTo>
                    <a:lnTo>
                      <a:pt x="27" y="60"/>
                    </a:lnTo>
                    <a:lnTo>
                      <a:pt x="39" y="53"/>
                    </a:lnTo>
                    <a:lnTo>
                      <a:pt x="51" y="48"/>
                    </a:lnTo>
                    <a:lnTo>
                      <a:pt x="63" y="43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9" y="22"/>
                    </a:lnTo>
                    <a:lnTo>
                      <a:pt x="109" y="12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1" y="0"/>
                    </a:lnTo>
                    <a:lnTo>
                      <a:pt x="1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851360" y="4094280"/>
                <a:ext cx="343080" cy="77760"/>
              </a:xfrm>
              <a:custGeom>
                <a:avLst/>
                <a:gdLst/>
                <a:ahLst/>
                <a:rect l="l" t="t" r="r" b="b"/>
                <a:pathLst>
                  <a:path w="433" h="98">
                    <a:moveTo>
                      <a:pt x="188" y="3"/>
                    </a:moveTo>
                    <a:lnTo>
                      <a:pt x="188" y="11"/>
                    </a:lnTo>
                    <a:lnTo>
                      <a:pt x="183" y="14"/>
                    </a:lnTo>
                    <a:lnTo>
                      <a:pt x="175" y="15"/>
                    </a:lnTo>
                    <a:lnTo>
                      <a:pt x="167" y="18"/>
                    </a:lnTo>
                    <a:lnTo>
                      <a:pt x="147" y="30"/>
                    </a:lnTo>
                    <a:lnTo>
                      <a:pt x="159" y="29"/>
                    </a:lnTo>
                    <a:lnTo>
                      <a:pt x="170" y="28"/>
                    </a:lnTo>
                    <a:lnTo>
                      <a:pt x="183" y="26"/>
                    </a:lnTo>
                    <a:lnTo>
                      <a:pt x="194" y="23"/>
                    </a:lnTo>
                    <a:lnTo>
                      <a:pt x="207" y="22"/>
                    </a:lnTo>
                    <a:lnTo>
                      <a:pt x="220" y="20"/>
                    </a:lnTo>
                    <a:lnTo>
                      <a:pt x="232" y="19"/>
                    </a:lnTo>
                    <a:lnTo>
                      <a:pt x="246" y="18"/>
                    </a:lnTo>
                    <a:lnTo>
                      <a:pt x="259" y="16"/>
                    </a:lnTo>
                    <a:lnTo>
                      <a:pt x="270" y="16"/>
                    </a:lnTo>
                    <a:lnTo>
                      <a:pt x="283" y="18"/>
                    </a:lnTo>
                    <a:lnTo>
                      <a:pt x="296" y="19"/>
                    </a:lnTo>
                    <a:lnTo>
                      <a:pt x="307" y="22"/>
                    </a:lnTo>
                    <a:lnTo>
                      <a:pt x="319" y="26"/>
                    </a:lnTo>
                    <a:lnTo>
                      <a:pt x="330" y="30"/>
                    </a:lnTo>
                    <a:lnTo>
                      <a:pt x="341" y="36"/>
                    </a:lnTo>
                    <a:lnTo>
                      <a:pt x="347" y="44"/>
                    </a:lnTo>
                    <a:lnTo>
                      <a:pt x="356" y="53"/>
                    </a:lnTo>
                    <a:lnTo>
                      <a:pt x="362" y="60"/>
                    </a:lnTo>
                    <a:lnTo>
                      <a:pt x="372" y="67"/>
                    </a:lnTo>
                    <a:lnTo>
                      <a:pt x="380" y="73"/>
                    </a:lnTo>
                    <a:lnTo>
                      <a:pt x="390" y="78"/>
                    </a:lnTo>
                    <a:lnTo>
                      <a:pt x="400" y="80"/>
                    </a:lnTo>
                    <a:lnTo>
                      <a:pt x="411" y="81"/>
                    </a:lnTo>
                    <a:lnTo>
                      <a:pt x="417" y="79"/>
                    </a:lnTo>
                    <a:lnTo>
                      <a:pt x="422" y="76"/>
                    </a:lnTo>
                    <a:lnTo>
                      <a:pt x="427" y="75"/>
                    </a:lnTo>
                    <a:lnTo>
                      <a:pt x="433" y="79"/>
                    </a:lnTo>
                    <a:lnTo>
                      <a:pt x="430" y="84"/>
                    </a:lnTo>
                    <a:lnTo>
                      <a:pt x="427" y="89"/>
                    </a:lnTo>
                    <a:lnTo>
                      <a:pt x="422" y="93"/>
                    </a:lnTo>
                    <a:lnTo>
                      <a:pt x="418" y="96"/>
                    </a:lnTo>
                    <a:lnTo>
                      <a:pt x="404" y="98"/>
                    </a:lnTo>
                    <a:lnTo>
                      <a:pt x="390" y="98"/>
                    </a:lnTo>
                    <a:lnTo>
                      <a:pt x="377" y="97"/>
                    </a:lnTo>
                    <a:lnTo>
                      <a:pt x="365" y="94"/>
                    </a:lnTo>
                    <a:lnTo>
                      <a:pt x="353" y="89"/>
                    </a:lnTo>
                    <a:lnTo>
                      <a:pt x="343" y="83"/>
                    </a:lnTo>
                    <a:lnTo>
                      <a:pt x="331" y="78"/>
                    </a:lnTo>
                    <a:lnTo>
                      <a:pt x="320" y="71"/>
                    </a:lnTo>
                    <a:lnTo>
                      <a:pt x="309" y="65"/>
                    </a:lnTo>
                    <a:lnTo>
                      <a:pt x="298" y="58"/>
                    </a:lnTo>
                    <a:lnTo>
                      <a:pt x="286" y="53"/>
                    </a:lnTo>
                    <a:lnTo>
                      <a:pt x="275" y="49"/>
                    </a:lnTo>
                    <a:lnTo>
                      <a:pt x="262" y="45"/>
                    </a:lnTo>
                    <a:lnTo>
                      <a:pt x="250" y="43"/>
                    </a:lnTo>
                    <a:lnTo>
                      <a:pt x="237" y="43"/>
                    </a:lnTo>
                    <a:lnTo>
                      <a:pt x="222" y="45"/>
                    </a:lnTo>
                    <a:lnTo>
                      <a:pt x="206" y="51"/>
                    </a:lnTo>
                    <a:lnTo>
                      <a:pt x="188" y="52"/>
                    </a:lnTo>
                    <a:lnTo>
                      <a:pt x="171" y="51"/>
                    </a:lnTo>
                    <a:lnTo>
                      <a:pt x="154" y="50"/>
                    </a:lnTo>
                    <a:lnTo>
                      <a:pt x="137" y="49"/>
                    </a:lnTo>
                    <a:lnTo>
                      <a:pt x="119" y="51"/>
                    </a:lnTo>
                    <a:lnTo>
                      <a:pt x="104" y="57"/>
                    </a:lnTo>
                    <a:lnTo>
                      <a:pt x="92" y="68"/>
                    </a:lnTo>
                    <a:lnTo>
                      <a:pt x="79" y="72"/>
                    </a:lnTo>
                    <a:lnTo>
                      <a:pt x="66" y="73"/>
                    </a:lnTo>
                    <a:lnTo>
                      <a:pt x="55" y="72"/>
                    </a:lnTo>
                    <a:lnTo>
                      <a:pt x="42" y="68"/>
                    </a:lnTo>
                    <a:lnTo>
                      <a:pt x="32" y="64"/>
                    </a:lnTo>
                    <a:lnTo>
                      <a:pt x="20" y="57"/>
                    </a:lnTo>
                    <a:lnTo>
                      <a:pt x="10" y="50"/>
                    </a:lnTo>
                    <a:lnTo>
                      <a:pt x="0" y="43"/>
                    </a:lnTo>
                    <a:lnTo>
                      <a:pt x="1" y="36"/>
                    </a:lnTo>
                    <a:lnTo>
                      <a:pt x="6" y="33"/>
                    </a:lnTo>
                    <a:lnTo>
                      <a:pt x="13" y="33"/>
                    </a:lnTo>
                    <a:lnTo>
                      <a:pt x="19" y="30"/>
                    </a:lnTo>
                    <a:lnTo>
                      <a:pt x="36" y="40"/>
                    </a:lnTo>
                    <a:lnTo>
                      <a:pt x="53" y="43"/>
                    </a:lnTo>
                    <a:lnTo>
                      <a:pt x="69" y="42"/>
                    </a:lnTo>
                    <a:lnTo>
                      <a:pt x="85" y="37"/>
                    </a:lnTo>
                    <a:lnTo>
                      <a:pt x="100" y="30"/>
                    </a:lnTo>
                    <a:lnTo>
                      <a:pt x="116" y="22"/>
                    </a:lnTo>
                    <a:lnTo>
                      <a:pt x="131" y="13"/>
                    </a:lnTo>
                    <a:lnTo>
                      <a:pt x="146" y="4"/>
                    </a:lnTo>
                    <a:lnTo>
                      <a:pt x="150" y="4"/>
                    </a:lnTo>
                    <a:lnTo>
                      <a:pt x="156" y="3"/>
                    </a:lnTo>
                    <a:lnTo>
                      <a:pt x="161" y="1"/>
                    </a:lnTo>
                    <a:lnTo>
                      <a:pt x="167" y="1"/>
                    </a:lnTo>
                    <a:lnTo>
                      <a:pt x="171" y="0"/>
                    </a:lnTo>
                    <a:lnTo>
                      <a:pt x="177" y="0"/>
                    </a:lnTo>
                    <a:lnTo>
                      <a:pt x="183" y="1"/>
                    </a:lnTo>
                    <a:lnTo>
                      <a:pt x="18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418440" y="2895480"/>
              <a:ext cx="2498040" cy="1739880"/>
              <a:chOff x="6418440" y="2895480"/>
              <a:chExt cx="2498040" cy="173988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445080" y="4162320"/>
                <a:ext cx="2268000" cy="380880"/>
              </a:xfrm>
              <a:custGeom>
                <a:avLst/>
                <a:gdLst/>
                <a:ahLst/>
                <a:rect l="l" t="t" r="r" b="b"/>
                <a:pathLst>
                  <a:path w="2858" h="479">
                    <a:moveTo>
                      <a:pt x="2533" y="125"/>
                    </a:moveTo>
                    <a:lnTo>
                      <a:pt x="2527" y="129"/>
                    </a:lnTo>
                    <a:lnTo>
                      <a:pt x="2521" y="133"/>
                    </a:lnTo>
                    <a:lnTo>
                      <a:pt x="2514" y="135"/>
                    </a:lnTo>
                    <a:lnTo>
                      <a:pt x="2504" y="139"/>
                    </a:lnTo>
                    <a:lnTo>
                      <a:pt x="2495" y="141"/>
                    </a:lnTo>
                    <a:lnTo>
                      <a:pt x="2485" y="143"/>
                    </a:lnTo>
                    <a:lnTo>
                      <a:pt x="2478" y="144"/>
                    </a:lnTo>
                    <a:lnTo>
                      <a:pt x="2474" y="144"/>
                    </a:lnTo>
                    <a:lnTo>
                      <a:pt x="2466" y="146"/>
                    </a:lnTo>
                    <a:lnTo>
                      <a:pt x="2462" y="146"/>
                    </a:lnTo>
                    <a:lnTo>
                      <a:pt x="2455" y="146"/>
                    </a:lnTo>
                    <a:lnTo>
                      <a:pt x="2447" y="146"/>
                    </a:lnTo>
                    <a:lnTo>
                      <a:pt x="2440" y="146"/>
                    </a:lnTo>
                    <a:lnTo>
                      <a:pt x="2432" y="148"/>
                    </a:lnTo>
                    <a:lnTo>
                      <a:pt x="2426" y="148"/>
                    </a:lnTo>
                    <a:lnTo>
                      <a:pt x="2419" y="148"/>
                    </a:lnTo>
                    <a:lnTo>
                      <a:pt x="2411" y="148"/>
                    </a:lnTo>
                    <a:lnTo>
                      <a:pt x="2403" y="150"/>
                    </a:lnTo>
                    <a:lnTo>
                      <a:pt x="2396" y="148"/>
                    </a:lnTo>
                    <a:lnTo>
                      <a:pt x="2388" y="148"/>
                    </a:lnTo>
                    <a:lnTo>
                      <a:pt x="2381" y="148"/>
                    </a:lnTo>
                    <a:lnTo>
                      <a:pt x="2373" y="148"/>
                    </a:lnTo>
                    <a:lnTo>
                      <a:pt x="2363" y="146"/>
                    </a:lnTo>
                    <a:lnTo>
                      <a:pt x="2356" y="146"/>
                    </a:lnTo>
                    <a:lnTo>
                      <a:pt x="2348" y="146"/>
                    </a:lnTo>
                    <a:lnTo>
                      <a:pt x="2341" y="146"/>
                    </a:lnTo>
                    <a:lnTo>
                      <a:pt x="2331" y="146"/>
                    </a:lnTo>
                    <a:lnTo>
                      <a:pt x="2324" y="144"/>
                    </a:lnTo>
                    <a:lnTo>
                      <a:pt x="2314" y="144"/>
                    </a:lnTo>
                    <a:lnTo>
                      <a:pt x="2306" y="143"/>
                    </a:lnTo>
                    <a:lnTo>
                      <a:pt x="2299" y="143"/>
                    </a:lnTo>
                    <a:lnTo>
                      <a:pt x="2289" y="141"/>
                    </a:lnTo>
                    <a:lnTo>
                      <a:pt x="2282" y="141"/>
                    </a:lnTo>
                    <a:lnTo>
                      <a:pt x="2274" y="141"/>
                    </a:lnTo>
                    <a:lnTo>
                      <a:pt x="2265" y="137"/>
                    </a:lnTo>
                    <a:lnTo>
                      <a:pt x="2259" y="137"/>
                    </a:lnTo>
                    <a:lnTo>
                      <a:pt x="2249" y="135"/>
                    </a:lnTo>
                    <a:lnTo>
                      <a:pt x="2242" y="135"/>
                    </a:lnTo>
                    <a:lnTo>
                      <a:pt x="2234" y="133"/>
                    </a:lnTo>
                    <a:lnTo>
                      <a:pt x="2227" y="133"/>
                    </a:lnTo>
                    <a:lnTo>
                      <a:pt x="2219" y="131"/>
                    </a:lnTo>
                    <a:lnTo>
                      <a:pt x="2213" y="131"/>
                    </a:lnTo>
                    <a:lnTo>
                      <a:pt x="2204" y="127"/>
                    </a:lnTo>
                    <a:lnTo>
                      <a:pt x="2196" y="125"/>
                    </a:lnTo>
                    <a:lnTo>
                      <a:pt x="2190" y="124"/>
                    </a:lnTo>
                    <a:lnTo>
                      <a:pt x="2185" y="124"/>
                    </a:lnTo>
                    <a:lnTo>
                      <a:pt x="2177" y="122"/>
                    </a:lnTo>
                    <a:lnTo>
                      <a:pt x="2170" y="120"/>
                    </a:lnTo>
                    <a:lnTo>
                      <a:pt x="2164" y="118"/>
                    </a:lnTo>
                    <a:lnTo>
                      <a:pt x="2158" y="116"/>
                    </a:lnTo>
                    <a:lnTo>
                      <a:pt x="2147" y="112"/>
                    </a:lnTo>
                    <a:lnTo>
                      <a:pt x="2137" y="108"/>
                    </a:lnTo>
                    <a:lnTo>
                      <a:pt x="2128" y="104"/>
                    </a:lnTo>
                    <a:lnTo>
                      <a:pt x="2122" y="101"/>
                    </a:lnTo>
                    <a:lnTo>
                      <a:pt x="2114" y="97"/>
                    </a:lnTo>
                    <a:lnTo>
                      <a:pt x="2105" y="95"/>
                    </a:lnTo>
                    <a:lnTo>
                      <a:pt x="2095" y="91"/>
                    </a:lnTo>
                    <a:lnTo>
                      <a:pt x="2086" y="89"/>
                    </a:lnTo>
                    <a:lnTo>
                      <a:pt x="2080" y="87"/>
                    </a:lnTo>
                    <a:lnTo>
                      <a:pt x="2074" y="87"/>
                    </a:lnTo>
                    <a:lnTo>
                      <a:pt x="2067" y="85"/>
                    </a:lnTo>
                    <a:lnTo>
                      <a:pt x="2063" y="85"/>
                    </a:lnTo>
                    <a:lnTo>
                      <a:pt x="2055" y="82"/>
                    </a:lnTo>
                    <a:lnTo>
                      <a:pt x="2050" y="82"/>
                    </a:lnTo>
                    <a:lnTo>
                      <a:pt x="2042" y="80"/>
                    </a:lnTo>
                    <a:lnTo>
                      <a:pt x="2036" y="80"/>
                    </a:lnTo>
                    <a:lnTo>
                      <a:pt x="2029" y="78"/>
                    </a:lnTo>
                    <a:lnTo>
                      <a:pt x="2021" y="78"/>
                    </a:lnTo>
                    <a:lnTo>
                      <a:pt x="2014" y="76"/>
                    </a:lnTo>
                    <a:lnTo>
                      <a:pt x="2008" y="76"/>
                    </a:lnTo>
                    <a:lnTo>
                      <a:pt x="1998" y="72"/>
                    </a:lnTo>
                    <a:lnTo>
                      <a:pt x="1991" y="72"/>
                    </a:lnTo>
                    <a:lnTo>
                      <a:pt x="1983" y="70"/>
                    </a:lnTo>
                    <a:lnTo>
                      <a:pt x="1976" y="70"/>
                    </a:lnTo>
                    <a:lnTo>
                      <a:pt x="1968" y="68"/>
                    </a:lnTo>
                    <a:lnTo>
                      <a:pt x="1959" y="66"/>
                    </a:lnTo>
                    <a:lnTo>
                      <a:pt x="1951" y="66"/>
                    </a:lnTo>
                    <a:lnTo>
                      <a:pt x="1943" y="65"/>
                    </a:lnTo>
                    <a:lnTo>
                      <a:pt x="1936" y="63"/>
                    </a:lnTo>
                    <a:lnTo>
                      <a:pt x="1928" y="63"/>
                    </a:lnTo>
                    <a:lnTo>
                      <a:pt x="1919" y="61"/>
                    </a:lnTo>
                    <a:lnTo>
                      <a:pt x="1911" y="61"/>
                    </a:lnTo>
                    <a:lnTo>
                      <a:pt x="1901" y="59"/>
                    </a:lnTo>
                    <a:lnTo>
                      <a:pt x="1894" y="57"/>
                    </a:lnTo>
                    <a:lnTo>
                      <a:pt x="1886" y="57"/>
                    </a:lnTo>
                    <a:lnTo>
                      <a:pt x="1879" y="55"/>
                    </a:lnTo>
                    <a:lnTo>
                      <a:pt x="1871" y="53"/>
                    </a:lnTo>
                    <a:lnTo>
                      <a:pt x="1863" y="53"/>
                    </a:lnTo>
                    <a:lnTo>
                      <a:pt x="1854" y="51"/>
                    </a:lnTo>
                    <a:lnTo>
                      <a:pt x="1846" y="51"/>
                    </a:lnTo>
                    <a:lnTo>
                      <a:pt x="1839" y="49"/>
                    </a:lnTo>
                    <a:lnTo>
                      <a:pt x="1831" y="47"/>
                    </a:lnTo>
                    <a:lnTo>
                      <a:pt x="1824" y="47"/>
                    </a:lnTo>
                    <a:lnTo>
                      <a:pt x="1816" y="46"/>
                    </a:lnTo>
                    <a:lnTo>
                      <a:pt x="1808" y="44"/>
                    </a:lnTo>
                    <a:lnTo>
                      <a:pt x="1801" y="44"/>
                    </a:lnTo>
                    <a:lnTo>
                      <a:pt x="1795" y="42"/>
                    </a:lnTo>
                    <a:lnTo>
                      <a:pt x="1787" y="42"/>
                    </a:lnTo>
                    <a:lnTo>
                      <a:pt x="1780" y="40"/>
                    </a:lnTo>
                    <a:lnTo>
                      <a:pt x="1772" y="38"/>
                    </a:lnTo>
                    <a:lnTo>
                      <a:pt x="1767" y="38"/>
                    </a:lnTo>
                    <a:lnTo>
                      <a:pt x="1761" y="36"/>
                    </a:lnTo>
                    <a:lnTo>
                      <a:pt x="1753" y="34"/>
                    </a:lnTo>
                    <a:lnTo>
                      <a:pt x="1747" y="34"/>
                    </a:lnTo>
                    <a:lnTo>
                      <a:pt x="1742" y="32"/>
                    </a:lnTo>
                    <a:lnTo>
                      <a:pt x="1738" y="32"/>
                    </a:lnTo>
                    <a:lnTo>
                      <a:pt x="1727" y="30"/>
                    </a:lnTo>
                    <a:lnTo>
                      <a:pt x="1719" y="27"/>
                    </a:lnTo>
                    <a:lnTo>
                      <a:pt x="1711" y="25"/>
                    </a:lnTo>
                    <a:lnTo>
                      <a:pt x="1706" y="25"/>
                    </a:lnTo>
                    <a:lnTo>
                      <a:pt x="1696" y="34"/>
                    </a:lnTo>
                    <a:lnTo>
                      <a:pt x="1687" y="44"/>
                    </a:lnTo>
                    <a:lnTo>
                      <a:pt x="1677" y="51"/>
                    </a:lnTo>
                    <a:lnTo>
                      <a:pt x="1668" y="59"/>
                    </a:lnTo>
                    <a:lnTo>
                      <a:pt x="1656" y="65"/>
                    </a:lnTo>
                    <a:lnTo>
                      <a:pt x="1647" y="70"/>
                    </a:lnTo>
                    <a:lnTo>
                      <a:pt x="1637" y="76"/>
                    </a:lnTo>
                    <a:lnTo>
                      <a:pt x="1630" y="78"/>
                    </a:lnTo>
                    <a:lnTo>
                      <a:pt x="1622" y="78"/>
                    </a:lnTo>
                    <a:lnTo>
                      <a:pt x="1616" y="78"/>
                    </a:lnTo>
                    <a:lnTo>
                      <a:pt x="1614" y="72"/>
                    </a:lnTo>
                    <a:lnTo>
                      <a:pt x="1614" y="68"/>
                    </a:lnTo>
                    <a:lnTo>
                      <a:pt x="1616" y="59"/>
                    </a:lnTo>
                    <a:lnTo>
                      <a:pt x="1622" y="49"/>
                    </a:lnTo>
                    <a:lnTo>
                      <a:pt x="1626" y="44"/>
                    </a:lnTo>
                    <a:lnTo>
                      <a:pt x="1632" y="38"/>
                    </a:lnTo>
                    <a:lnTo>
                      <a:pt x="1639" y="28"/>
                    </a:lnTo>
                    <a:lnTo>
                      <a:pt x="1647" y="21"/>
                    </a:lnTo>
                    <a:lnTo>
                      <a:pt x="1641" y="21"/>
                    </a:lnTo>
                    <a:lnTo>
                      <a:pt x="1633" y="23"/>
                    </a:lnTo>
                    <a:lnTo>
                      <a:pt x="1628" y="25"/>
                    </a:lnTo>
                    <a:lnTo>
                      <a:pt x="1622" y="30"/>
                    </a:lnTo>
                    <a:lnTo>
                      <a:pt x="1613" y="38"/>
                    </a:lnTo>
                    <a:lnTo>
                      <a:pt x="1603" y="47"/>
                    </a:lnTo>
                    <a:lnTo>
                      <a:pt x="1592" y="55"/>
                    </a:lnTo>
                    <a:lnTo>
                      <a:pt x="1582" y="63"/>
                    </a:lnTo>
                    <a:lnTo>
                      <a:pt x="1574" y="66"/>
                    </a:lnTo>
                    <a:lnTo>
                      <a:pt x="1569" y="70"/>
                    </a:lnTo>
                    <a:lnTo>
                      <a:pt x="1563" y="72"/>
                    </a:lnTo>
                    <a:lnTo>
                      <a:pt x="1557" y="74"/>
                    </a:lnTo>
                    <a:lnTo>
                      <a:pt x="1555" y="70"/>
                    </a:lnTo>
                    <a:lnTo>
                      <a:pt x="1559" y="61"/>
                    </a:lnTo>
                    <a:lnTo>
                      <a:pt x="1565" y="55"/>
                    </a:lnTo>
                    <a:lnTo>
                      <a:pt x="1567" y="47"/>
                    </a:lnTo>
                    <a:lnTo>
                      <a:pt x="1571" y="42"/>
                    </a:lnTo>
                    <a:lnTo>
                      <a:pt x="1573" y="32"/>
                    </a:lnTo>
                    <a:lnTo>
                      <a:pt x="1573" y="27"/>
                    </a:lnTo>
                    <a:lnTo>
                      <a:pt x="1569" y="21"/>
                    </a:lnTo>
                    <a:lnTo>
                      <a:pt x="1565" y="19"/>
                    </a:lnTo>
                    <a:lnTo>
                      <a:pt x="1557" y="19"/>
                    </a:lnTo>
                    <a:lnTo>
                      <a:pt x="1550" y="21"/>
                    </a:lnTo>
                    <a:lnTo>
                      <a:pt x="1540" y="23"/>
                    </a:lnTo>
                    <a:lnTo>
                      <a:pt x="1531" y="27"/>
                    </a:lnTo>
                    <a:lnTo>
                      <a:pt x="1519" y="32"/>
                    </a:lnTo>
                    <a:lnTo>
                      <a:pt x="1510" y="40"/>
                    </a:lnTo>
                    <a:lnTo>
                      <a:pt x="1498" y="47"/>
                    </a:lnTo>
                    <a:lnTo>
                      <a:pt x="1489" y="55"/>
                    </a:lnTo>
                    <a:lnTo>
                      <a:pt x="1479" y="65"/>
                    </a:lnTo>
                    <a:lnTo>
                      <a:pt x="1472" y="74"/>
                    </a:lnTo>
                    <a:lnTo>
                      <a:pt x="1468" y="70"/>
                    </a:lnTo>
                    <a:lnTo>
                      <a:pt x="1470" y="63"/>
                    </a:lnTo>
                    <a:lnTo>
                      <a:pt x="1472" y="57"/>
                    </a:lnTo>
                    <a:lnTo>
                      <a:pt x="1474" y="49"/>
                    </a:lnTo>
                    <a:lnTo>
                      <a:pt x="1478" y="42"/>
                    </a:lnTo>
                    <a:lnTo>
                      <a:pt x="1481" y="36"/>
                    </a:lnTo>
                    <a:lnTo>
                      <a:pt x="1485" y="30"/>
                    </a:lnTo>
                    <a:lnTo>
                      <a:pt x="1489" y="23"/>
                    </a:lnTo>
                    <a:lnTo>
                      <a:pt x="1495" y="17"/>
                    </a:lnTo>
                    <a:lnTo>
                      <a:pt x="1493" y="13"/>
                    </a:lnTo>
                    <a:lnTo>
                      <a:pt x="1493" y="11"/>
                    </a:lnTo>
                    <a:lnTo>
                      <a:pt x="1485" y="11"/>
                    </a:lnTo>
                    <a:lnTo>
                      <a:pt x="1478" y="13"/>
                    </a:lnTo>
                    <a:lnTo>
                      <a:pt x="1474" y="13"/>
                    </a:lnTo>
                    <a:lnTo>
                      <a:pt x="1468" y="17"/>
                    </a:lnTo>
                    <a:lnTo>
                      <a:pt x="1457" y="21"/>
                    </a:lnTo>
                    <a:lnTo>
                      <a:pt x="1447" y="27"/>
                    </a:lnTo>
                    <a:lnTo>
                      <a:pt x="1443" y="25"/>
                    </a:lnTo>
                    <a:lnTo>
                      <a:pt x="1440" y="17"/>
                    </a:lnTo>
                    <a:lnTo>
                      <a:pt x="1438" y="11"/>
                    </a:lnTo>
                    <a:lnTo>
                      <a:pt x="1436" y="8"/>
                    </a:lnTo>
                    <a:lnTo>
                      <a:pt x="1436" y="4"/>
                    </a:lnTo>
                    <a:lnTo>
                      <a:pt x="1428" y="0"/>
                    </a:lnTo>
                    <a:lnTo>
                      <a:pt x="1422" y="0"/>
                    </a:lnTo>
                    <a:lnTo>
                      <a:pt x="1413" y="0"/>
                    </a:lnTo>
                    <a:lnTo>
                      <a:pt x="1407" y="4"/>
                    </a:lnTo>
                    <a:lnTo>
                      <a:pt x="1398" y="9"/>
                    </a:lnTo>
                    <a:lnTo>
                      <a:pt x="1388" y="17"/>
                    </a:lnTo>
                    <a:lnTo>
                      <a:pt x="1375" y="23"/>
                    </a:lnTo>
                    <a:lnTo>
                      <a:pt x="1365" y="30"/>
                    </a:lnTo>
                    <a:lnTo>
                      <a:pt x="1354" y="38"/>
                    </a:lnTo>
                    <a:lnTo>
                      <a:pt x="1344" y="44"/>
                    </a:lnTo>
                    <a:lnTo>
                      <a:pt x="1333" y="49"/>
                    </a:lnTo>
                    <a:lnTo>
                      <a:pt x="1324" y="51"/>
                    </a:lnTo>
                    <a:lnTo>
                      <a:pt x="1312" y="53"/>
                    </a:lnTo>
                    <a:lnTo>
                      <a:pt x="1305" y="53"/>
                    </a:lnTo>
                    <a:lnTo>
                      <a:pt x="1306" y="47"/>
                    </a:lnTo>
                    <a:lnTo>
                      <a:pt x="1310" y="42"/>
                    </a:lnTo>
                    <a:lnTo>
                      <a:pt x="1314" y="38"/>
                    </a:lnTo>
                    <a:lnTo>
                      <a:pt x="1320" y="34"/>
                    </a:lnTo>
                    <a:lnTo>
                      <a:pt x="1325" y="28"/>
                    </a:lnTo>
                    <a:lnTo>
                      <a:pt x="1329" y="25"/>
                    </a:lnTo>
                    <a:lnTo>
                      <a:pt x="1333" y="19"/>
                    </a:lnTo>
                    <a:lnTo>
                      <a:pt x="1335" y="13"/>
                    </a:lnTo>
                    <a:lnTo>
                      <a:pt x="1333" y="11"/>
                    </a:lnTo>
                    <a:lnTo>
                      <a:pt x="1325" y="13"/>
                    </a:lnTo>
                    <a:lnTo>
                      <a:pt x="1316" y="17"/>
                    </a:lnTo>
                    <a:lnTo>
                      <a:pt x="1306" y="21"/>
                    </a:lnTo>
                    <a:lnTo>
                      <a:pt x="1297" y="23"/>
                    </a:lnTo>
                    <a:lnTo>
                      <a:pt x="1287" y="27"/>
                    </a:lnTo>
                    <a:lnTo>
                      <a:pt x="1276" y="30"/>
                    </a:lnTo>
                    <a:lnTo>
                      <a:pt x="1270" y="30"/>
                    </a:lnTo>
                    <a:lnTo>
                      <a:pt x="1265" y="32"/>
                    </a:lnTo>
                    <a:lnTo>
                      <a:pt x="1259" y="34"/>
                    </a:lnTo>
                    <a:lnTo>
                      <a:pt x="1253" y="38"/>
                    </a:lnTo>
                    <a:lnTo>
                      <a:pt x="1246" y="38"/>
                    </a:lnTo>
                    <a:lnTo>
                      <a:pt x="1240" y="40"/>
                    </a:lnTo>
                    <a:lnTo>
                      <a:pt x="1232" y="42"/>
                    </a:lnTo>
                    <a:lnTo>
                      <a:pt x="1227" y="44"/>
                    </a:lnTo>
                    <a:lnTo>
                      <a:pt x="1219" y="44"/>
                    </a:lnTo>
                    <a:lnTo>
                      <a:pt x="1213" y="47"/>
                    </a:lnTo>
                    <a:lnTo>
                      <a:pt x="1206" y="49"/>
                    </a:lnTo>
                    <a:lnTo>
                      <a:pt x="1200" y="51"/>
                    </a:lnTo>
                    <a:lnTo>
                      <a:pt x="1192" y="51"/>
                    </a:lnTo>
                    <a:lnTo>
                      <a:pt x="1187" y="53"/>
                    </a:lnTo>
                    <a:lnTo>
                      <a:pt x="1179" y="55"/>
                    </a:lnTo>
                    <a:lnTo>
                      <a:pt x="1171" y="59"/>
                    </a:lnTo>
                    <a:lnTo>
                      <a:pt x="1166" y="59"/>
                    </a:lnTo>
                    <a:lnTo>
                      <a:pt x="1158" y="61"/>
                    </a:lnTo>
                    <a:lnTo>
                      <a:pt x="1151" y="63"/>
                    </a:lnTo>
                    <a:lnTo>
                      <a:pt x="1145" y="66"/>
                    </a:lnTo>
                    <a:lnTo>
                      <a:pt x="1135" y="66"/>
                    </a:lnTo>
                    <a:lnTo>
                      <a:pt x="1130" y="68"/>
                    </a:lnTo>
                    <a:lnTo>
                      <a:pt x="1122" y="68"/>
                    </a:lnTo>
                    <a:lnTo>
                      <a:pt x="1114" y="70"/>
                    </a:lnTo>
                    <a:lnTo>
                      <a:pt x="1107" y="72"/>
                    </a:lnTo>
                    <a:lnTo>
                      <a:pt x="1099" y="74"/>
                    </a:lnTo>
                    <a:lnTo>
                      <a:pt x="1092" y="76"/>
                    </a:lnTo>
                    <a:lnTo>
                      <a:pt x="1086" y="78"/>
                    </a:lnTo>
                    <a:lnTo>
                      <a:pt x="1078" y="78"/>
                    </a:lnTo>
                    <a:lnTo>
                      <a:pt x="1071" y="80"/>
                    </a:lnTo>
                    <a:lnTo>
                      <a:pt x="1063" y="80"/>
                    </a:lnTo>
                    <a:lnTo>
                      <a:pt x="1057" y="82"/>
                    </a:lnTo>
                    <a:lnTo>
                      <a:pt x="1050" y="84"/>
                    </a:lnTo>
                    <a:lnTo>
                      <a:pt x="1042" y="85"/>
                    </a:lnTo>
                    <a:lnTo>
                      <a:pt x="1036" y="87"/>
                    </a:lnTo>
                    <a:lnTo>
                      <a:pt x="1031" y="89"/>
                    </a:lnTo>
                    <a:lnTo>
                      <a:pt x="1023" y="89"/>
                    </a:lnTo>
                    <a:lnTo>
                      <a:pt x="1016" y="89"/>
                    </a:lnTo>
                    <a:lnTo>
                      <a:pt x="1010" y="91"/>
                    </a:lnTo>
                    <a:lnTo>
                      <a:pt x="1002" y="93"/>
                    </a:lnTo>
                    <a:lnTo>
                      <a:pt x="997" y="93"/>
                    </a:lnTo>
                    <a:lnTo>
                      <a:pt x="991" y="95"/>
                    </a:lnTo>
                    <a:lnTo>
                      <a:pt x="983" y="95"/>
                    </a:lnTo>
                    <a:lnTo>
                      <a:pt x="978" y="97"/>
                    </a:lnTo>
                    <a:lnTo>
                      <a:pt x="972" y="97"/>
                    </a:lnTo>
                    <a:lnTo>
                      <a:pt x="964" y="99"/>
                    </a:lnTo>
                    <a:lnTo>
                      <a:pt x="959" y="99"/>
                    </a:lnTo>
                    <a:lnTo>
                      <a:pt x="955" y="99"/>
                    </a:lnTo>
                    <a:lnTo>
                      <a:pt x="945" y="101"/>
                    </a:lnTo>
                    <a:lnTo>
                      <a:pt x="936" y="103"/>
                    </a:lnTo>
                    <a:lnTo>
                      <a:pt x="928" y="106"/>
                    </a:lnTo>
                    <a:lnTo>
                      <a:pt x="919" y="110"/>
                    </a:lnTo>
                    <a:lnTo>
                      <a:pt x="911" y="112"/>
                    </a:lnTo>
                    <a:lnTo>
                      <a:pt x="905" y="114"/>
                    </a:lnTo>
                    <a:lnTo>
                      <a:pt x="896" y="116"/>
                    </a:lnTo>
                    <a:lnTo>
                      <a:pt x="888" y="118"/>
                    </a:lnTo>
                    <a:lnTo>
                      <a:pt x="879" y="118"/>
                    </a:lnTo>
                    <a:lnTo>
                      <a:pt x="869" y="120"/>
                    </a:lnTo>
                    <a:lnTo>
                      <a:pt x="860" y="122"/>
                    </a:lnTo>
                    <a:lnTo>
                      <a:pt x="848" y="124"/>
                    </a:lnTo>
                    <a:lnTo>
                      <a:pt x="837" y="124"/>
                    </a:lnTo>
                    <a:lnTo>
                      <a:pt x="825" y="125"/>
                    </a:lnTo>
                    <a:lnTo>
                      <a:pt x="816" y="125"/>
                    </a:lnTo>
                    <a:lnTo>
                      <a:pt x="805" y="127"/>
                    </a:lnTo>
                    <a:lnTo>
                      <a:pt x="799" y="127"/>
                    </a:lnTo>
                    <a:lnTo>
                      <a:pt x="791" y="127"/>
                    </a:lnTo>
                    <a:lnTo>
                      <a:pt x="787" y="127"/>
                    </a:lnTo>
                    <a:lnTo>
                      <a:pt x="782" y="127"/>
                    </a:lnTo>
                    <a:lnTo>
                      <a:pt x="770" y="127"/>
                    </a:lnTo>
                    <a:lnTo>
                      <a:pt x="759" y="129"/>
                    </a:lnTo>
                    <a:lnTo>
                      <a:pt x="748" y="127"/>
                    </a:lnTo>
                    <a:lnTo>
                      <a:pt x="738" y="127"/>
                    </a:lnTo>
                    <a:lnTo>
                      <a:pt x="728" y="127"/>
                    </a:lnTo>
                    <a:lnTo>
                      <a:pt x="721" y="127"/>
                    </a:lnTo>
                    <a:lnTo>
                      <a:pt x="711" y="127"/>
                    </a:lnTo>
                    <a:lnTo>
                      <a:pt x="704" y="125"/>
                    </a:lnTo>
                    <a:lnTo>
                      <a:pt x="696" y="125"/>
                    </a:lnTo>
                    <a:lnTo>
                      <a:pt x="692" y="125"/>
                    </a:lnTo>
                    <a:lnTo>
                      <a:pt x="683" y="122"/>
                    </a:lnTo>
                    <a:lnTo>
                      <a:pt x="681" y="118"/>
                    </a:lnTo>
                    <a:lnTo>
                      <a:pt x="673" y="124"/>
                    </a:lnTo>
                    <a:lnTo>
                      <a:pt x="666" y="127"/>
                    </a:lnTo>
                    <a:lnTo>
                      <a:pt x="658" y="131"/>
                    </a:lnTo>
                    <a:lnTo>
                      <a:pt x="651" y="135"/>
                    </a:lnTo>
                    <a:lnTo>
                      <a:pt x="643" y="137"/>
                    </a:lnTo>
                    <a:lnTo>
                      <a:pt x="635" y="139"/>
                    </a:lnTo>
                    <a:lnTo>
                      <a:pt x="628" y="139"/>
                    </a:lnTo>
                    <a:lnTo>
                      <a:pt x="620" y="139"/>
                    </a:lnTo>
                    <a:lnTo>
                      <a:pt x="611" y="137"/>
                    </a:lnTo>
                    <a:lnTo>
                      <a:pt x="601" y="135"/>
                    </a:lnTo>
                    <a:lnTo>
                      <a:pt x="594" y="131"/>
                    </a:lnTo>
                    <a:lnTo>
                      <a:pt x="584" y="129"/>
                    </a:lnTo>
                    <a:lnTo>
                      <a:pt x="574" y="125"/>
                    </a:lnTo>
                    <a:lnTo>
                      <a:pt x="565" y="122"/>
                    </a:lnTo>
                    <a:lnTo>
                      <a:pt x="555" y="118"/>
                    </a:lnTo>
                    <a:lnTo>
                      <a:pt x="548" y="114"/>
                    </a:lnTo>
                    <a:lnTo>
                      <a:pt x="536" y="108"/>
                    </a:lnTo>
                    <a:lnTo>
                      <a:pt x="527" y="103"/>
                    </a:lnTo>
                    <a:lnTo>
                      <a:pt x="517" y="97"/>
                    </a:lnTo>
                    <a:lnTo>
                      <a:pt x="508" y="93"/>
                    </a:lnTo>
                    <a:lnTo>
                      <a:pt x="498" y="87"/>
                    </a:lnTo>
                    <a:lnTo>
                      <a:pt x="489" y="84"/>
                    </a:lnTo>
                    <a:lnTo>
                      <a:pt x="478" y="80"/>
                    </a:lnTo>
                    <a:lnTo>
                      <a:pt x="468" y="76"/>
                    </a:lnTo>
                    <a:lnTo>
                      <a:pt x="459" y="72"/>
                    </a:lnTo>
                    <a:lnTo>
                      <a:pt x="449" y="68"/>
                    </a:lnTo>
                    <a:lnTo>
                      <a:pt x="440" y="66"/>
                    </a:lnTo>
                    <a:lnTo>
                      <a:pt x="430" y="63"/>
                    </a:lnTo>
                    <a:lnTo>
                      <a:pt x="421" y="61"/>
                    </a:lnTo>
                    <a:lnTo>
                      <a:pt x="411" y="61"/>
                    </a:lnTo>
                    <a:lnTo>
                      <a:pt x="401" y="61"/>
                    </a:lnTo>
                    <a:lnTo>
                      <a:pt x="392" y="61"/>
                    </a:lnTo>
                    <a:lnTo>
                      <a:pt x="392" y="63"/>
                    </a:lnTo>
                    <a:lnTo>
                      <a:pt x="392" y="66"/>
                    </a:lnTo>
                    <a:lnTo>
                      <a:pt x="401" y="66"/>
                    </a:lnTo>
                    <a:lnTo>
                      <a:pt x="411" y="70"/>
                    </a:lnTo>
                    <a:lnTo>
                      <a:pt x="421" y="72"/>
                    </a:lnTo>
                    <a:lnTo>
                      <a:pt x="430" y="78"/>
                    </a:lnTo>
                    <a:lnTo>
                      <a:pt x="438" y="82"/>
                    </a:lnTo>
                    <a:lnTo>
                      <a:pt x="445" y="87"/>
                    </a:lnTo>
                    <a:lnTo>
                      <a:pt x="455" y="91"/>
                    </a:lnTo>
                    <a:lnTo>
                      <a:pt x="464" y="95"/>
                    </a:lnTo>
                    <a:lnTo>
                      <a:pt x="464" y="97"/>
                    </a:lnTo>
                    <a:lnTo>
                      <a:pt x="464" y="101"/>
                    </a:lnTo>
                    <a:lnTo>
                      <a:pt x="453" y="101"/>
                    </a:lnTo>
                    <a:lnTo>
                      <a:pt x="443" y="101"/>
                    </a:lnTo>
                    <a:lnTo>
                      <a:pt x="434" y="99"/>
                    </a:lnTo>
                    <a:lnTo>
                      <a:pt x="424" y="97"/>
                    </a:lnTo>
                    <a:lnTo>
                      <a:pt x="415" y="91"/>
                    </a:lnTo>
                    <a:lnTo>
                      <a:pt x="407" y="89"/>
                    </a:lnTo>
                    <a:lnTo>
                      <a:pt x="398" y="85"/>
                    </a:lnTo>
                    <a:lnTo>
                      <a:pt x="388" y="82"/>
                    </a:lnTo>
                    <a:lnTo>
                      <a:pt x="379" y="78"/>
                    </a:lnTo>
                    <a:lnTo>
                      <a:pt x="371" y="76"/>
                    </a:lnTo>
                    <a:lnTo>
                      <a:pt x="362" y="72"/>
                    </a:lnTo>
                    <a:lnTo>
                      <a:pt x="354" y="72"/>
                    </a:lnTo>
                    <a:lnTo>
                      <a:pt x="344" y="72"/>
                    </a:lnTo>
                    <a:lnTo>
                      <a:pt x="337" y="74"/>
                    </a:lnTo>
                    <a:lnTo>
                      <a:pt x="327" y="78"/>
                    </a:lnTo>
                    <a:lnTo>
                      <a:pt x="320" y="85"/>
                    </a:lnTo>
                    <a:lnTo>
                      <a:pt x="320" y="87"/>
                    </a:lnTo>
                    <a:lnTo>
                      <a:pt x="320" y="89"/>
                    </a:lnTo>
                    <a:lnTo>
                      <a:pt x="329" y="89"/>
                    </a:lnTo>
                    <a:lnTo>
                      <a:pt x="337" y="93"/>
                    </a:lnTo>
                    <a:lnTo>
                      <a:pt x="344" y="99"/>
                    </a:lnTo>
                    <a:lnTo>
                      <a:pt x="354" y="106"/>
                    </a:lnTo>
                    <a:lnTo>
                      <a:pt x="354" y="110"/>
                    </a:lnTo>
                    <a:lnTo>
                      <a:pt x="354" y="114"/>
                    </a:lnTo>
                    <a:lnTo>
                      <a:pt x="346" y="114"/>
                    </a:lnTo>
                    <a:lnTo>
                      <a:pt x="341" y="114"/>
                    </a:lnTo>
                    <a:lnTo>
                      <a:pt x="335" y="112"/>
                    </a:lnTo>
                    <a:lnTo>
                      <a:pt x="329" y="112"/>
                    </a:lnTo>
                    <a:lnTo>
                      <a:pt x="324" y="108"/>
                    </a:lnTo>
                    <a:lnTo>
                      <a:pt x="316" y="108"/>
                    </a:lnTo>
                    <a:lnTo>
                      <a:pt x="310" y="106"/>
                    </a:lnTo>
                    <a:lnTo>
                      <a:pt x="305" y="106"/>
                    </a:lnTo>
                    <a:lnTo>
                      <a:pt x="293" y="104"/>
                    </a:lnTo>
                    <a:lnTo>
                      <a:pt x="284" y="106"/>
                    </a:lnTo>
                    <a:lnTo>
                      <a:pt x="278" y="106"/>
                    </a:lnTo>
                    <a:lnTo>
                      <a:pt x="274" y="112"/>
                    </a:lnTo>
                    <a:lnTo>
                      <a:pt x="272" y="116"/>
                    </a:lnTo>
                    <a:lnTo>
                      <a:pt x="270" y="124"/>
                    </a:lnTo>
                    <a:lnTo>
                      <a:pt x="276" y="124"/>
                    </a:lnTo>
                    <a:lnTo>
                      <a:pt x="282" y="125"/>
                    </a:lnTo>
                    <a:lnTo>
                      <a:pt x="286" y="125"/>
                    </a:lnTo>
                    <a:lnTo>
                      <a:pt x="289" y="129"/>
                    </a:lnTo>
                    <a:lnTo>
                      <a:pt x="289" y="131"/>
                    </a:lnTo>
                    <a:lnTo>
                      <a:pt x="289" y="137"/>
                    </a:lnTo>
                    <a:lnTo>
                      <a:pt x="282" y="137"/>
                    </a:lnTo>
                    <a:lnTo>
                      <a:pt x="274" y="137"/>
                    </a:lnTo>
                    <a:lnTo>
                      <a:pt x="267" y="137"/>
                    </a:lnTo>
                    <a:lnTo>
                      <a:pt x="259" y="139"/>
                    </a:lnTo>
                    <a:lnTo>
                      <a:pt x="251" y="137"/>
                    </a:lnTo>
                    <a:lnTo>
                      <a:pt x="244" y="137"/>
                    </a:lnTo>
                    <a:lnTo>
                      <a:pt x="234" y="137"/>
                    </a:lnTo>
                    <a:lnTo>
                      <a:pt x="228" y="139"/>
                    </a:lnTo>
                    <a:lnTo>
                      <a:pt x="221" y="139"/>
                    </a:lnTo>
                    <a:lnTo>
                      <a:pt x="213" y="141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194" y="150"/>
                    </a:lnTo>
                    <a:lnTo>
                      <a:pt x="189" y="156"/>
                    </a:lnTo>
                    <a:lnTo>
                      <a:pt x="185" y="162"/>
                    </a:lnTo>
                    <a:lnTo>
                      <a:pt x="183" y="171"/>
                    </a:lnTo>
                    <a:lnTo>
                      <a:pt x="189" y="171"/>
                    </a:lnTo>
                    <a:lnTo>
                      <a:pt x="194" y="171"/>
                    </a:lnTo>
                    <a:lnTo>
                      <a:pt x="198" y="173"/>
                    </a:lnTo>
                    <a:lnTo>
                      <a:pt x="204" y="177"/>
                    </a:lnTo>
                    <a:lnTo>
                      <a:pt x="204" y="179"/>
                    </a:lnTo>
                    <a:lnTo>
                      <a:pt x="204" y="181"/>
                    </a:lnTo>
                    <a:lnTo>
                      <a:pt x="192" y="179"/>
                    </a:lnTo>
                    <a:lnTo>
                      <a:pt x="181" y="177"/>
                    </a:lnTo>
                    <a:lnTo>
                      <a:pt x="170" y="175"/>
                    </a:lnTo>
                    <a:lnTo>
                      <a:pt x="160" y="175"/>
                    </a:lnTo>
                    <a:lnTo>
                      <a:pt x="151" y="175"/>
                    </a:lnTo>
                    <a:lnTo>
                      <a:pt x="139" y="175"/>
                    </a:lnTo>
                    <a:lnTo>
                      <a:pt x="130" y="177"/>
                    </a:lnTo>
                    <a:lnTo>
                      <a:pt x="120" y="179"/>
                    </a:lnTo>
                    <a:lnTo>
                      <a:pt x="109" y="179"/>
                    </a:lnTo>
                    <a:lnTo>
                      <a:pt x="97" y="181"/>
                    </a:lnTo>
                    <a:lnTo>
                      <a:pt x="88" y="182"/>
                    </a:lnTo>
                    <a:lnTo>
                      <a:pt x="78" y="186"/>
                    </a:lnTo>
                    <a:lnTo>
                      <a:pt x="67" y="188"/>
                    </a:lnTo>
                    <a:lnTo>
                      <a:pt x="57" y="192"/>
                    </a:lnTo>
                    <a:lnTo>
                      <a:pt x="48" y="196"/>
                    </a:lnTo>
                    <a:lnTo>
                      <a:pt x="38" y="200"/>
                    </a:lnTo>
                    <a:lnTo>
                      <a:pt x="40" y="205"/>
                    </a:lnTo>
                    <a:lnTo>
                      <a:pt x="46" y="213"/>
                    </a:lnTo>
                    <a:lnTo>
                      <a:pt x="50" y="217"/>
                    </a:lnTo>
                    <a:lnTo>
                      <a:pt x="57" y="224"/>
                    </a:lnTo>
                    <a:lnTo>
                      <a:pt x="57" y="226"/>
                    </a:lnTo>
                    <a:lnTo>
                      <a:pt x="57" y="228"/>
                    </a:lnTo>
                    <a:lnTo>
                      <a:pt x="48" y="228"/>
                    </a:lnTo>
                    <a:lnTo>
                      <a:pt x="42" y="226"/>
                    </a:lnTo>
                    <a:lnTo>
                      <a:pt x="35" y="224"/>
                    </a:lnTo>
                    <a:lnTo>
                      <a:pt x="29" y="222"/>
                    </a:lnTo>
                    <a:lnTo>
                      <a:pt x="21" y="217"/>
                    </a:lnTo>
                    <a:lnTo>
                      <a:pt x="14" y="215"/>
                    </a:lnTo>
                    <a:lnTo>
                      <a:pt x="6" y="209"/>
                    </a:lnTo>
                    <a:lnTo>
                      <a:pt x="0" y="207"/>
                    </a:lnTo>
                    <a:lnTo>
                      <a:pt x="0" y="215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6" y="232"/>
                    </a:lnTo>
                    <a:lnTo>
                      <a:pt x="12" y="234"/>
                    </a:lnTo>
                    <a:lnTo>
                      <a:pt x="19" y="238"/>
                    </a:lnTo>
                    <a:lnTo>
                      <a:pt x="27" y="241"/>
                    </a:lnTo>
                    <a:lnTo>
                      <a:pt x="33" y="243"/>
                    </a:lnTo>
                    <a:lnTo>
                      <a:pt x="38" y="245"/>
                    </a:lnTo>
                    <a:lnTo>
                      <a:pt x="46" y="249"/>
                    </a:lnTo>
                    <a:lnTo>
                      <a:pt x="52" y="253"/>
                    </a:lnTo>
                    <a:lnTo>
                      <a:pt x="59" y="257"/>
                    </a:lnTo>
                    <a:lnTo>
                      <a:pt x="65" y="260"/>
                    </a:lnTo>
                    <a:lnTo>
                      <a:pt x="71" y="264"/>
                    </a:lnTo>
                    <a:lnTo>
                      <a:pt x="78" y="268"/>
                    </a:lnTo>
                    <a:lnTo>
                      <a:pt x="84" y="272"/>
                    </a:lnTo>
                    <a:lnTo>
                      <a:pt x="92" y="277"/>
                    </a:lnTo>
                    <a:lnTo>
                      <a:pt x="97" y="279"/>
                    </a:lnTo>
                    <a:lnTo>
                      <a:pt x="105" y="285"/>
                    </a:lnTo>
                    <a:lnTo>
                      <a:pt x="111" y="289"/>
                    </a:lnTo>
                    <a:lnTo>
                      <a:pt x="116" y="293"/>
                    </a:lnTo>
                    <a:lnTo>
                      <a:pt x="124" y="297"/>
                    </a:lnTo>
                    <a:lnTo>
                      <a:pt x="130" y="300"/>
                    </a:lnTo>
                    <a:lnTo>
                      <a:pt x="135" y="304"/>
                    </a:lnTo>
                    <a:lnTo>
                      <a:pt x="143" y="306"/>
                    </a:lnTo>
                    <a:lnTo>
                      <a:pt x="149" y="310"/>
                    </a:lnTo>
                    <a:lnTo>
                      <a:pt x="156" y="314"/>
                    </a:lnTo>
                    <a:lnTo>
                      <a:pt x="162" y="316"/>
                    </a:lnTo>
                    <a:lnTo>
                      <a:pt x="170" y="319"/>
                    </a:lnTo>
                    <a:lnTo>
                      <a:pt x="175" y="321"/>
                    </a:lnTo>
                    <a:lnTo>
                      <a:pt x="181" y="325"/>
                    </a:lnTo>
                    <a:lnTo>
                      <a:pt x="189" y="325"/>
                    </a:lnTo>
                    <a:lnTo>
                      <a:pt x="196" y="327"/>
                    </a:lnTo>
                    <a:lnTo>
                      <a:pt x="202" y="329"/>
                    </a:lnTo>
                    <a:lnTo>
                      <a:pt x="209" y="331"/>
                    </a:lnTo>
                    <a:lnTo>
                      <a:pt x="198" y="325"/>
                    </a:lnTo>
                    <a:lnTo>
                      <a:pt x="189" y="319"/>
                    </a:lnTo>
                    <a:lnTo>
                      <a:pt x="179" y="316"/>
                    </a:lnTo>
                    <a:lnTo>
                      <a:pt x="170" y="310"/>
                    </a:lnTo>
                    <a:lnTo>
                      <a:pt x="160" y="304"/>
                    </a:lnTo>
                    <a:lnTo>
                      <a:pt x="151" y="298"/>
                    </a:lnTo>
                    <a:lnTo>
                      <a:pt x="141" y="293"/>
                    </a:lnTo>
                    <a:lnTo>
                      <a:pt x="133" y="289"/>
                    </a:lnTo>
                    <a:lnTo>
                      <a:pt x="124" y="281"/>
                    </a:lnTo>
                    <a:lnTo>
                      <a:pt x="114" y="276"/>
                    </a:lnTo>
                    <a:lnTo>
                      <a:pt x="105" y="270"/>
                    </a:lnTo>
                    <a:lnTo>
                      <a:pt x="95" y="264"/>
                    </a:lnTo>
                    <a:lnTo>
                      <a:pt x="86" y="258"/>
                    </a:lnTo>
                    <a:lnTo>
                      <a:pt x="78" y="251"/>
                    </a:lnTo>
                    <a:lnTo>
                      <a:pt x="69" y="245"/>
                    </a:lnTo>
                    <a:lnTo>
                      <a:pt x="59" y="239"/>
                    </a:lnTo>
                    <a:lnTo>
                      <a:pt x="59" y="234"/>
                    </a:lnTo>
                    <a:lnTo>
                      <a:pt x="59" y="232"/>
                    </a:lnTo>
                    <a:lnTo>
                      <a:pt x="67" y="232"/>
                    </a:lnTo>
                    <a:lnTo>
                      <a:pt x="75" y="234"/>
                    </a:lnTo>
                    <a:lnTo>
                      <a:pt x="82" y="236"/>
                    </a:lnTo>
                    <a:lnTo>
                      <a:pt x="90" y="239"/>
                    </a:lnTo>
                    <a:lnTo>
                      <a:pt x="97" y="243"/>
                    </a:lnTo>
                    <a:lnTo>
                      <a:pt x="105" y="245"/>
                    </a:lnTo>
                    <a:lnTo>
                      <a:pt x="113" y="249"/>
                    </a:lnTo>
                    <a:lnTo>
                      <a:pt x="120" y="253"/>
                    </a:lnTo>
                    <a:lnTo>
                      <a:pt x="126" y="255"/>
                    </a:lnTo>
                    <a:lnTo>
                      <a:pt x="135" y="258"/>
                    </a:lnTo>
                    <a:lnTo>
                      <a:pt x="141" y="260"/>
                    </a:lnTo>
                    <a:lnTo>
                      <a:pt x="151" y="264"/>
                    </a:lnTo>
                    <a:lnTo>
                      <a:pt x="156" y="268"/>
                    </a:lnTo>
                    <a:lnTo>
                      <a:pt x="166" y="272"/>
                    </a:lnTo>
                    <a:lnTo>
                      <a:pt x="171" y="276"/>
                    </a:lnTo>
                    <a:lnTo>
                      <a:pt x="179" y="279"/>
                    </a:lnTo>
                    <a:lnTo>
                      <a:pt x="187" y="283"/>
                    </a:lnTo>
                    <a:lnTo>
                      <a:pt x="194" y="287"/>
                    </a:lnTo>
                    <a:lnTo>
                      <a:pt x="200" y="289"/>
                    </a:lnTo>
                    <a:lnTo>
                      <a:pt x="208" y="293"/>
                    </a:lnTo>
                    <a:lnTo>
                      <a:pt x="213" y="297"/>
                    </a:lnTo>
                    <a:lnTo>
                      <a:pt x="221" y="300"/>
                    </a:lnTo>
                    <a:lnTo>
                      <a:pt x="228" y="306"/>
                    </a:lnTo>
                    <a:lnTo>
                      <a:pt x="236" y="310"/>
                    </a:lnTo>
                    <a:lnTo>
                      <a:pt x="242" y="314"/>
                    </a:lnTo>
                    <a:lnTo>
                      <a:pt x="249" y="317"/>
                    </a:lnTo>
                    <a:lnTo>
                      <a:pt x="255" y="323"/>
                    </a:lnTo>
                    <a:lnTo>
                      <a:pt x="263" y="327"/>
                    </a:lnTo>
                    <a:lnTo>
                      <a:pt x="270" y="331"/>
                    </a:lnTo>
                    <a:lnTo>
                      <a:pt x="278" y="335"/>
                    </a:lnTo>
                    <a:lnTo>
                      <a:pt x="286" y="338"/>
                    </a:lnTo>
                    <a:lnTo>
                      <a:pt x="291" y="344"/>
                    </a:lnTo>
                    <a:lnTo>
                      <a:pt x="299" y="348"/>
                    </a:lnTo>
                    <a:lnTo>
                      <a:pt x="305" y="354"/>
                    </a:lnTo>
                    <a:lnTo>
                      <a:pt x="310" y="355"/>
                    </a:lnTo>
                    <a:lnTo>
                      <a:pt x="318" y="361"/>
                    </a:lnTo>
                    <a:lnTo>
                      <a:pt x="325" y="365"/>
                    </a:lnTo>
                    <a:lnTo>
                      <a:pt x="333" y="371"/>
                    </a:lnTo>
                    <a:lnTo>
                      <a:pt x="339" y="374"/>
                    </a:lnTo>
                    <a:lnTo>
                      <a:pt x="346" y="380"/>
                    </a:lnTo>
                    <a:lnTo>
                      <a:pt x="354" y="382"/>
                    </a:lnTo>
                    <a:lnTo>
                      <a:pt x="360" y="388"/>
                    </a:lnTo>
                    <a:lnTo>
                      <a:pt x="367" y="392"/>
                    </a:lnTo>
                    <a:lnTo>
                      <a:pt x="375" y="397"/>
                    </a:lnTo>
                    <a:lnTo>
                      <a:pt x="381" y="401"/>
                    </a:lnTo>
                    <a:lnTo>
                      <a:pt x="388" y="405"/>
                    </a:lnTo>
                    <a:lnTo>
                      <a:pt x="396" y="409"/>
                    </a:lnTo>
                    <a:lnTo>
                      <a:pt x="403" y="414"/>
                    </a:lnTo>
                    <a:lnTo>
                      <a:pt x="409" y="418"/>
                    </a:lnTo>
                    <a:lnTo>
                      <a:pt x="417" y="422"/>
                    </a:lnTo>
                    <a:lnTo>
                      <a:pt x="424" y="426"/>
                    </a:lnTo>
                    <a:lnTo>
                      <a:pt x="430" y="430"/>
                    </a:lnTo>
                    <a:lnTo>
                      <a:pt x="438" y="435"/>
                    </a:lnTo>
                    <a:lnTo>
                      <a:pt x="445" y="439"/>
                    </a:lnTo>
                    <a:lnTo>
                      <a:pt x="453" y="443"/>
                    </a:lnTo>
                    <a:lnTo>
                      <a:pt x="459" y="447"/>
                    </a:lnTo>
                    <a:lnTo>
                      <a:pt x="466" y="450"/>
                    </a:lnTo>
                    <a:lnTo>
                      <a:pt x="474" y="454"/>
                    </a:lnTo>
                    <a:lnTo>
                      <a:pt x="481" y="458"/>
                    </a:lnTo>
                    <a:lnTo>
                      <a:pt x="489" y="462"/>
                    </a:lnTo>
                    <a:lnTo>
                      <a:pt x="495" y="466"/>
                    </a:lnTo>
                    <a:lnTo>
                      <a:pt x="502" y="470"/>
                    </a:lnTo>
                    <a:lnTo>
                      <a:pt x="510" y="473"/>
                    </a:lnTo>
                    <a:lnTo>
                      <a:pt x="519" y="479"/>
                    </a:lnTo>
                    <a:lnTo>
                      <a:pt x="554" y="475"/>
                    </a:lnTo>
                    <a:lnTo>
                      <a:pt x="592" y="473"/>
                    </a:lnTo>
                    <a:lnTo>
                      <a:pt x="628" y="471"/>
                    </a:lnTo>
                    <a:lnTo>
                      <a:pt x="664" y="470"/>
                    </a:lnTo>
                    <a:lnTo>
                      <a:pt x="700" y="468"/>
                    </a:lnTo>
                    <a:lnTo>
                      <a:pt x="736" y="466"/>
                    </a:lnTo>
                    <a:lnTo>
                      <a:pt x="772" y="464"/>
                    </a:lnTo>
                    <a:lnTo>
                      <a:pt x="810" y="464"/>
                    </a:lnTo>
                    <a:lnTo>
                      <a:pt x="846" y="464"/>
                    </a:lnTo>
                    <a:lnTo>
                      <a:pt x="882" y="462"/>
                    </a:lnTo>
                    <a:lnTo>
                      <a:pt x="919" y="462"/>
                    </a:lnTo>
                    <a:lnTo>
                      <a:pt x="957" y="462"/>
                    </a:lnTo>
                    <a:lnTo>
                      <a:pt x="993" y="462"/>
                    </a:lnTo>
                    <a:lnTo>
                      <a:pt x="1031" y="462"/>
                    </a:lnTo>
                    <a:lnTo>
                      <a:pt x="1067" y="462"/>
                    </a:lnTo>
                    <a:lnTo>
                      <a:pt x="1105" y="462"/>
                    </a:lnTo>
                    <a:lnTo>
                      <a:pt x="1141" y="460"/>
                    </a:lnTo>
                    <a:lnTo>
                      <a:pt x="1177" y="460"/>
                    </a:lnTo>
                    <a:lnTo>
                      <a:pt x="1215" y="460"/>
                    </a:lnTo>
                    <a:lnTo>
                      <a:pt x="1251" y="460"/>
                    </a:lnTo>
                    <a:lnTo>
                      <a:pt x="1287" y="460"/>
                    </a:lnTo>
                    <a:lnTo>
                      <a:pt x="1325" y="462"/>
                    </a:lnTo>
                    <a:lnTo>
                      <a:pt x="1362" y="462"/>
                    </a:lnTo>
                    <a:lnTo>
                      <a:pt x="1400" y="462"/>
                    </a:lnTo>
                    <a:lnTo>
                      <a:pt x="1436" y="462"/>
                    </a:lnTo>
                    <a:lnTo>
                      <a:pt x="1474" y="462"/>
                    </a:lnTo>
                    <a:lnTo>
                      <a:pt x="1510" y="464"/>
                    </a:lnTo>
                    <a:lnTo>
                      <a:pt x="1548" y="464"/>
                    </a:lnTo>
                    <a:lnTo>
                      <a:pt x="1584" y="464"/>
                    </a:lnTo>
                    <a:lnTo>
                      <a:pt x="1622" y="464"/>
                    </a:lnTo>
                    <a:lnTo>
                      <a:pt x="1658" y="466"/>
                    </a:lnTo>
                    <a:lnTo>
                      <a:pt x="1696" y="466"/>
                    </a:lnTo>
                    <a:lnTo>
                      <a:pt x="1732" y="466"/>
                    </a:lnTo>
                    <a:lnTo>
                      <a:pt x="1768" y="466"/>
                    </a:lnTo>
                    <a:lnTo>
                      <a:pt x="1805" y="466"/>
                    </a:lnTo>
                    <a:lnTo>
                      <a:pt x="1843" y="466"/>
                    </a:lnTo>
                    <a:lnTo>
                      <a:pt x="1879" y="466"/>
                    </a:lnTo>
                    <a:lnTo>
                      <a:pt x="1917" y="466"/>
                    </a:lnTo>
                    <a:lnTo>
                      <a:pt x="1953" y="466"/>
                    </a:lnTo>
                    <a:lnTo>
                      <a:pt x="1991" y="468"/>
                    </a:lnTo>
                    <a:lnTo>
                      <a:pt x="2027" y="466"/>
                    </a:lnTo>
                    <a:lnTo>
                      <a:pt x="2063" y="466"/>
                    </a:lnTo>
                    <a:lnTo>
                      <a:pt x="2099" y="466"/>
                    </a:lnTo>
                    <a:lnTo>
                      <a:pt x="2135" y="466"/>
                    </a:lnTo>
                    <a:lnTo>
                      <a:pt x="2171" y="466"/>
                    </a:lnTo>
                    <a:lnTo>
                      <a:pt x="2209" y="466"/>
                    </a:lnTo>
                    <a:lnTo>
                      <a:pt x="2246" y="466"/>
                    </a:lnTo>
                    <a:lnTo>
                      <a:pt x="2282" y="466"/>
                    </a:lnTo>
                    <a:lnTo>
                      <a:pt x="2318" y="464"/>
                    </a:lnTo>
                    <a:lnTo>
                      <a:pt x="2354" y="462"/>
                    </a:lnTo>
                    <a:lnTo>
                      <a:pt x="2390" y="462"/>
                    </a:lnTo>
                    <a:lnTo>
                      <a:pt x="2426" y="460"/>
                    </a:lnTo>
                    <a:lnTo>
                      <a:pt x="2462" y="458"/>
                    </a:lnTo>
                    <a:lnTo>
                      <a:pt x="2498" y="456"/>
                    </a:lnTo>
                    <a:lnTo>
                      <a:pt x="2535" y="454"/>
                    </a:lnTo>
                    <a:lnTo>
                      <a:pt x="2571" y="454"/>
                    </a:lnTo>
                    <a:lnTo>
                      <a:pt x="2607" y="450"/>
                    </a:lnTo>
                    <a:lnTo>
                      <a:pt x="2643" y="449"/>
                    </a:lnTo>
                    <a:lnTo>
                      <a:pt x="2679" y="445"/>
                    </a:lnTo>
                    <a:lnTo>
                      <a:pt x="2715" y="443"/>
                    </a:lnTo>
                    <a:lnTo>
                      <a:pt x="2749" y="441"/>
                    </a:lnTo>
                    <a:lnTo>
                      <a:pt x="2786" y="437"/>
                    </a:lnTo>
                    <a:lnTo>
                      <a:pt x="2822" y="433"/>
                    </a:lnTo>
                    <a:lnTo>
                      <a:pt x="2858" y="430"/>
                    </a:lnTo>
                    <a:lnTo>
                      <a:pt x="2850" y="428"/>
                    </a:lnTo>
                    <a:lnTo>
                      <a:pt x="2843" y="426"/>
                    </a:lnTo>
                    <a:lnTo>
                      <a:pt x="2835" y="424"/>
                    </a:lnTo>
                    <a:lnTo>
                      <a:pt x="2829" y="422"/>
                    </a:lnTo>
                    <a:lnTo>
                      <a:pt x="2822" y="420"/>
                    </a:lnTo>
                    <a:lnTo>
                      <a:pt x="2816" y="420"/>
                    </a:lnTo>
                    <a:lnTo>
                      <a:pt x="2808" y="420"/>
                    </a:lnTo>
                    <a:lnTo>
                      <a:pt x="2801" y="420"/>
                    </a:lnTo>
                    <a:lnTo>
                      <a:pt x="2795" y="420"/>
                    </a:lnTo>
                    <a:lnTo>
                      <a:pt x="2787" y="420"/>
                    </a:lnTo>
                    <a:lnTo>
                      <a:pt x="2780" y="420"/>
                    </a:lnTo>
                    <a:lnTo>
                      <a:pt x="2772" y="422"/>
                    </a:lnTo>
                    <a:lnTo>
                      <a:pt x="2765" y="422"/>
                    </a:lnTo>
                    <a:lnTo>
                      <a:pt x="2759" y="424"/>
                    </a:lnTo>
                    <a:lnTo>
                      <a:pt x="2751" y="424"/>
                    </a:lnTo>
                    <a:lnTo>
                      <a:pt x="2744" y="426"/>
                    </a:lnTo>
                    <a:lnTo>
                      <a:pt x="2736" y="426"/>
                    </a:lnTo>
                    <a:lnTo>
                      <a:pt x="2728" y="428"/>
                    </a:lnTo>
                    <a:lnTo>
                      <a:pt x="2721" y="428"/>
                    </a:lnTo>
                    <a:lnTo>
                      <a:pt x="2715" y="428"/>
                    </a:lnTo>
                    <a:lnTo>
                      <a:pt x="2708" y="428"/>
                    </a:lnTo>
                    <a:lnTo>
                      <a:pt x="2700" y="430"/>
                    </a:lnTo>
                    <a:lnTo>
                      <a:pt x="2694" y="430"/>
                    </a:lnTo>
                    <a:lnTo>
                      <a:pt x="2687" y="430"/>
                    </a:lnTo>
                    <a:lnTo>
                      <a:pt x="2679" y="430"/>
                    </a:lnTo>
                    <a:lnTo>
                      <a:pt x="2673" y="430"/>
                    </a:lnTo>
                    <a:lnTo>
                      <a:pt x="2668" y="428"/>
                    </a:lnTo>
                    <a:lnTo>
                      <a:pt x="2660" y="428"/>
                    </a:lnTo>
                    <a:lnTo>
                      <a:pt x="2654" y="426"/>
                    </a:lnTo>
                    <a:lnTo>
                      <a:pt x="2649" y="424"/>
                    </a:lnTo>
                    <a:lnTo>
                      <a:pt x="2643" y="422"/>
                    </a:lnTo>
                    <a:lnTo>
                      <a:pt x="2637" y="420"/>
                    </a:lnTo>
                    <a:lnTo>
                      <a:pt x="2643" y="418"/>
                    </a:lnTo>
                    <a:lnTo>
                      <a:pt x="2649" y="416"/>
                    </a:lnTo>
                    <a:lnTo>
                      <a:pt x="2656" y="414"/>
                    </a:lnTo>
                    <a:lnTo>
                      <a:pt x="2662" y="414"/>
                    </a:lnTo>
                    <a:lnTo>
                      <a:pt x="2668" y="412"/>
                    </a:lnTo>
                    <a:lnTo>
                      <a:pt x="2675" y="411"/>
                    </a:lnTo>
                    <a:lnTo>
                      <a:pt x="2681" y="411"/>
                    </a:lnTo>
                    <a:lnTo>
                      <a:pt x="2687" y="411"/>
                    </a:lnTo>
                    <a:lnTo>
                      <a:pt x="2694" y="409"/>
                    </a:lnTo>
                    <a:lnTo>
                      <a:pt x="2700" y="409"/>
                    </a:lnTo>
                    <a:lnTo>
                      <a:pt x="2706" y="407"/>
                    </a:lnTo>
                    <a:lnTo>
                      <a:pt x="2713" y="407"/>
                    </a:lnTo>
                    <a:lnTo>
                      <a:pt x="2719" y="407"/>
                    </a:lnTo>
                    <a:lnTo>
                      <a:pt x="2725" y="407"/>
                    </a:lnTo>
                    <a:lnTo>
                      <a:pt x="2732" y="405"/>
                    </a:lnTo>
                    <a:lnTo>
                      <a:pt x="2738" y="405"/>
                    </a:lnTo>
                    <a:lnTo>
                      <a:pt x="2744" y="405"/>
                    </a:lnTo>
                    <a:lnTo>
                      <a:pt x="2749" y="403"/>
                    </a:lnTo>
                    <a:lnTo>
                      <a:pt x="2755" y="401"/>
                    </a:lnTo>
                    <a:lnTo>
                      <a:pt x="2763" y="401"/>
                    </a:lnTo>
                    <a:lnTo>
                      <a:pt x="2768" y="401"/>
                    </a:lnTo>
                    <a:lnTo>
                      <a:pt x="2774" y="399"/>
                    </a:lnTo>
                    <a:lnTo>
                      <a:pt x="2782" y="399"/>
                    </a:lnTo>
                    <a:lnTo>
                      <a:pt x="2787" y="399"/>
                    </a:lnTo>
                    <a:lnTo>
                      <a:pt x="2795" y="397"/>
                    </a:lnTo>
                    <a:lnTo>
                      <a:pt x="2801" y="395"/>
                    </a:lnTo>
                    <a:lnTo>
                      <a:pt x="2806" y="393"/>
                    </a:lnTo>
                    <a:lnTo>
                      <a:pt x="2814" y="392"/>
                    </a:lnTo>
                    <a:lnTo>
                      <a:pt x="2820" y="390"/>
                    </a:lnTo>
                    <a:lnTo>
                      <a:pt x="2825" y="390"/>
                    </a:lnTo>
                    <a:lnTo>
                      <a:pt x="2833" y="388"/>
                    </a:lnTo>
                    <a:lnTo>
                      <a:pt x="2839" y="386"/>
                    </a:lnTo>
                    <a:lnTo>
                      <a:pt x="2835" y="378"/>
                    </a:lnTo>
                    <a:lnTo>
                      <a:pt x="2831" y="374"/>
                    </a:lnTo>
                    <a:lnTo>
                      <a:pt x="2827" y="371"/>
                    </a:lnTo>
                    <a:lnTo>
                      <a:pt x="2825" y="369"/>
                    </a:lnTo>
                    <a:lnTo>
                      <a:pt x="2816" y="365"/>
                    </a:lnTo>
                    <a:lnTo>
                      <a:pt x="2808" y="365"/>
                    </a:lnTo>
                    <a:lnTo>
                      <a:pt x="2799" y="365"/>
                    </a:lnTo>
                    <a:lnTo>
                      <a:pt x="2789" y="367"/>
                    </a:lnTo>
                    <a:lnTo>
                      <a:pt x="2780" y="365"/>
                    </a:lnTo>
                    <a:lnTo>
                      <a:pt x="2770" y="363"/>
                    </a:lnTo>
                    <a:lnTo>
                      <a:pt x="2770" y="359"/>
                    </a:lnTo>
                    <a:lnTo>
                      <a:pt x="2778" y="355"/>
                    </a:lnTo>
                    <a:lnTo>
                      <a:pt x="2784" y="354"/>
                    </a:lnTo>
                    <a:lnTo>
                      <a:pt x="2787" y="352"/>
                    </a:lnTo>
                    <a:lnTo>
                      <a:pt x="2793" y="348"/>
                    </a:lnTo>
                    <a:lnTo>
                      <a:pt x="2799" y="342"/>
                    </a:lnTo>
                    <a:lnTo>
                      <a:pt x="2801" y="335"/>
                    </a:lnTo>
                    <a:lnTo>
                      <a:pt x="2801" y="327"/>
                    </a:lnTo>
                    <a:lnTo>
                      <a:pt x="2799" y="319"/>
                    </a:lnTo>
                    <a:lnTo>
                      <a:pt x="2793" y="310"/>
                    </a:lnTo>
                    <a:lnTo>
                      <a:pt x="2787" y="304"/>
                    </a:lnTo>
                    <a:lnTo>
                      <a:pt x="2780" y="293"/>
                    </a:lnTo>
                    <a:lnTo>
                      <a:pt x="2770" y="287"/>
                    </a:lnTo>
                    <a:lnTo>
                      <a:pt x="2759" y="279"/>
                    </a:lnTo>
                    <a:lnTo>
                      <a:pt x="2749" y="276"/>
                    </a:lnTo>
                    <a:lnTo>
                      <a:pt x="2738" y="272"/>
                    </a:lnTo>
                    <a:lnTo>
                      <a:pt x="2728" y="270"/>
                    </a:lnTo>
                    <a:lnTo>
                      <a:pt x="2719" y="268"/>
                    </a:lnTo>
                    <a:lnTo>
                      <a:pt x="2709" y="270"/>
                    </a:lnTo>
                    <a:lnTo>
                      <a:pt x="2709" y="268"/>
                    </a:lnTo>
                    <a:lnTo>
                      <a:pt x="2717" y="266"/>
                    </a:lnTo>
                    <a:lnTo>
                      <a:pt x="2727" y="262"/>
                    </a:lnTo>
                    <a:lnTo>
                      <a:pt x="2732" y="257"/>
                    </a:lnTo>
                    <a:lnTo>
                      <a:pt x="2740" y="251"/>
                    </a:lnTo>
                    <a:lnTo>
                      <a:pt x="2744" y="243"/>
                    </a:lnTo>
                    <a:lnTo>
                      <a:pt x="2744" y="236"/>
                    </a:lnTo>
                    <a:lnTo>
                      <a:pt x="2742" y="226"/>
                    </a:lnTo>
                    <a:lnTo>
                      <a:pt x="2736" y="220"/>
                    </a:lnTo>
                    <a:lnTo>
                      <a:pt x="2728" y="226"/>
                    </a:lnTo>
                    <a:lnTo>
                      <a:pt x="2719" y="232"/>
                    </a:lnTo>
                    <a:lnTo>
                      <a:pt x="2708" y="230"/>
                    </a:lnTo>
                    <a:lnTo>
                      <a:pt x="2698" y="224"/>
                    </a:lnTo>
                    <a:lnTo>
                      <a:pt x="2698" y="220"/>
                    </a:lnTo>
                    <a:lnTo>
                      <a:pt x="2706" y="219"/>
                    </a:lnTo>
                    <a:lnTo>
                      <a:pt x="2715" y="215"/>
                    </a:lnTo>
                    <a:lnTo>
                      <a:pt x="2721" y="209"/>
                    </a:lnTo>
                    <a:lnTo>
                      <a:pt x="2725" y="203"/>
                    </a:lnTo>
                    <a:lnTo>
                      <a:pt x="2725" y="196"/>
                    </a:lnTo>
                    <a:lnTo>
                      <a:pt x="2725" y="188"/>
                    </a:lnTo>
                    <a:lnTo>
                      <a:pt x="2721" y="181"/>
                    </a:lnTo>
                    <a:lnTo>
                      <a:pt x="2713" y="173"/>
                    </a:lnTo>
                    <a:lnTo>
                      <a:pt x="2704" y="179"/>
                    </a:lnTo>
                    <a:lnTo>
                      <a:pt x="2694" y="182"/>
                    </a:lnTo>
                    <a:lnTo>
                      <a:pt x="2681" y="182"/>
                    </a:lnTo>
                    <a:lnTo>
                      <a:pt x="2675" y="177"/>
                    </a:lnTo>
                    <a:lnTo>
                      <a:pt x="2675" y="173"/>
                    </a:lnTo>
                    <a:lnTo>
                      <a:pt x="2679" y="169"/>
                    </a:lnTo>
                    <a:lnTo>
                      <a:pt x="2685" y="169"/>
                    </a:lnTo>
                    <a:lnTo>
                      <a:pt x="2689" y="169"/>
                    </a:lnTo>
                    <a:lnTo>
                      <a:pt x="2694" y="171"/>
                    </a:lnTo>
                    <a:lnTo>
                      <a:pt x="2690" y="163"/>
                    </a:lnTo>
                    <a:lnTo>
                      <a:pt x="2685" y="158"/>
                    </a:lnTo>
                    <a:lnTo>
                      <a:pt x="2677" y="154"/>
                    </a:lnTo>
                    <a:lnTo>
                      <a:pt x="2668" y="152"/>
                    </a:lnTo>
                    <a:lnTo>
                      <a:pt x="2658" y="150"/>
                    </a:lnTo>
                    <a:lnTo>
                      <a:pt x="2647" y="150"/>
                    </a:lnTo>
                    <a:lnTo>
                      <a:pt x="2635" y="148"/>
                    </a:lnTo>
                    <a:lnTo>
                      <a:pt x="2626" y="148"/>
                    </a:lnTo>
                    <a:lnTo>
                      <a:pt x="2614" y="146"/>
                    </a:lnTo>
                    <a:lnTo>
                      <a:pt x="2605" y="144"/>
                    </a:lnTo>
                    <a:lnTo>
                      <a:pt x="2595" y="143"/>
                    </a:lnTo>
                    <a:lnTo>
                      <a:pt x="2588" y="141"/>
                    </a:lnTo>
                    <a:lnTo>
                      <a:pt x="2582" y="135"/>
                    </a:lnTo>
                    <a:lnTo>
                      <a:pt x="2578" y="127"/>
                    </a:lnTo>
                    <a:lnTo>
                      <a:pt x="2578" y="122"/>
                    </a:lnTo>
                    <a:lnTo>
                      <a:pt x="2580" y="112"/>
                    </a:lnTo>
                    <a:lnTo>
                      <a:pt x="2578" y="106"/>
                    </a:lnTo>
                    <a:lnTo>
                      <a:pt x="2576" y="103"/>
                    </a:lnTo>
                    <a:lnTo>
                      <a:pt x="2571" y="106"/>
                    </a:lnTo>
                    <a:lnTo>
                      <a:pt x="2565" y="112"/>
                    </a:lnTo>
                    <a:lnTo>
                      <a:pt x="2559" y="116"/>
                    </a:lnTo>
                    <a:lnTo>
                      <a:pt x="2555" y="120"/>
                    </a:lnTo>
                    <a:lnTo>
                      <a:pt x="2550" y="122"/>
                    </a:lnTo>
                    <a:lnTo>
                      <a:pt x="2546" y="125"/>
                    </a:lnTo>
                    <a:lnTo>
                      <a:pt x="2538" y="125"/>
                    </a:lnTo>
                    <a:lnTo>
                      <a:pt x="2533" y="125"/>
                    </a:lnTo>
                    <a:lnTo>
                      <a:pt x="253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77840" y="2895480"/>
                <a:ext cx="2426760" cy="1404720"/>
              </a:xfrm>
              <a:custGeom>
                <a:avLst/>
                <a:gdLst/>
                <a:ahLst/>
                <a:rect l="l" t="t" r="r" b="b"/>
                <a:pathLst>
                  <a:path w="3057" h="1770">
                    <a:moveTo>
                      <a:pt x="2753" y="1770"/>
                    </a:moveTo>
                    <a:lnTo>
                      <a:pt x="2751" y="1762"/>
                    </a:lnTo>
                    <a:lnTo>
                      <a:pt x="2751" y="1755"/>
                    </a:lnTo>
                    <a:lnTo>
                      <a:pt x="2749" y="1747"/>
                    </a:lnTo>
                    <a:lnTo>
                      <a:pt x="2749" y="1740"/>
                    </a:lnTo>
                    <a:lnTo>
                      <a:pt x="2747" y="1730"/>
                    </a:lnTo>
                    <a:lnTo>
                      <a:pt x="2747" y="1722"/>
                    </a:lnTo>
                    <a:lnTo>
                      <a:pt x="2747" y="1715"/>
                    </a:lnTo>
                    <a:lnTo>
                      <a:pt x="2747" y="1709"/>
                    </a:lnTo>
                    <a:lnTo>
                      <a:pt x="2747" y="1700"/>
                    </a:lnTo>
                    <a:lnTo>
                      <a:pt x="2747" y="1692"/>
                    </a:lnTo>
                    <a:lnTo>
                      <a:pt x="2745" y="1682"/>
                    </a:lnTo>
                    <a:lnTo>
                      <a:pt x="2745" y="1675"/>
                    </a:lnTo>
                    <a:lnTo>
                      <a:pt x="2745" y="1667"/>
                    </a:lnTo>
                    <a:lnTo>
                      <a:pt x="2745" y="1660"/>
                    </a:lnTo>
                    <a:lnTo>
                      <a:pt x="2745" y="1650"/>
                    </a:lnTo>
                    <a:lnTo>
                      <a:pt x="2745" y="1644"/>
                    </a:lnTo>
                    <a:lnTo>
                      <a:pt x="2745" y="1635"/>
                    </a:lnTo>
                    <a:lnTo>
                      <a:pt x="2745" y="1627"/>
                    </a:lnTo>
                    <a:lnTo>
                      <a:pt x="2745" y="1618"/>
                    </a:lnTo>
                    <a:lnTo>
                      <a:pt x="2745" y="1610"/>
                    </a:lnTo>
                    <a:lnTo>
                      <a:pt x="2745" y="1601"/>
                    </a:lnTo>
                    <a:lnTo>
                      <a:pt x="2745" y="1593"/>
                    </a:lnTo>
                    <a:lnTo>
                      <a:pt x="2745" y="1586"/>
                    </a:lnTo>
                    <a:lnTo>
                      <a:pt x="2745" y="1578"/>
                    </a:lnTo>
                    <a:lnTo>
                      <a:pt x="2745" y="1568"/>
                    </a:lnTo>
                    <a:lnTo>
                      <a:pt x="2745" y="1561"/>
                    </a:lnTo>
                    <a:lnTo>
                      <a:pt x="2745" y="1551"/>
                    </a:lnTo>
                    <a:lnTo>
                      <a:pt x="2747" y="1546"/>
                    </a:lnTo>
                    <a:lnTo>
                      <a:pt x="2747" y="1536"/>
                    </a:lnTo>
                    <a:lnTo>
                      <a:pt x="2747" y="1528"/>
                    </a:lnTo>
                    <a:lnTo>
                      <a:pt x="2747" y="1521"/>
                    </a:lnTo>
                    <a:lnTo>
                      <a:pt x="2749" y="1513"/>
                    </a:lnTo>
                    <a:lnTo>
                      <a:pt x="2749" y="1504"/>
                    </a:lnTo>
                    <a:lnTo>
                      <a:pt x="2749" y="1496"/>
                    </a:lnTo>
                    <a:lnTo>
                      <a:pt x="2749" y="1487"/>
                    </a:lnTo>
                    <a:lnTo>
                      <a:pt x="2749" y="1479"/>
                    </a:lnTo>
                    <a:lnTo>
                      <a:pt x="2749" y="1471"/>
                    </a:lnTo>
                    <a:lnTo>
                      <a:pt x="2751" y="1464"/>
                    </a:lnTo>
                    <a:lnTo>
                      <a:pt x="2751" y="1454"/>
                    </a:lnTo>
                    <a:lnTo>
                      <a:pt x="2751" y="1447"/>
                    </a:lnTo>
                    <a:lnTo>
                      <a:pt x="2751" y="1437"/>
                    </a:lnTo>
                    <a:lnTo>
                      <a:pt x="2753" y="1430"/>
                    </a:lnTo>
                    <a:lnTo>
                      <a:pt x="2753" y="1422"/>
                    </a:lnTo>
                    <a:lnTo>
                      <a:pt x="2753" y="1414"/>
                    </a:lnTo>
                    <a:lnTo>
                      <a:pt x="2753" y="1407"/>
                    </a:lnTo>
                    <a:lnTo>
                      <a:pt x="2755" y="1399"/>
                    </a:lnTo>
                    <a:lnTo>
                      <a:pt x="2755" y="1392"/>
                    </a:lnTo>
                    <a:lnTo>
                      <a:pt x="2757" y="1384"/>
                    </a:lnTo>
                    <a:lnTo>
                      <a:pt x="2757" y="1376"/>
                    </a:lnTo>
                    <a:lnTo>
                      <a:pt x="2758" y="1369"/>
                    </a:lnTo>
                    <a:lnTo>
                      <a:pt x="2758" y="1361"/>
                    </a:lnTo>
                    <a:lnTo>
                      <a:pt x="2760" y="1354"/>
                    </a:lnTo>
                    <a:lnTo>
                      <a:pt x="2760" y="1346"/>
                    </a:lnTo>
                    <a:lnTo>
                      <a:pt x="2760" y="1338"/>
                    </a:lnTo>
                    <a:lnTo>
                      <a:pt x="2762" y="1331"/>
                    </a:lnTo>
                    <a:lnTo>
                      <a:pt x="2762" y="1325"/>
                    </a:lnTo>
                    <a:lnTo>
                      <a:pt x="2762" y="1317"/>
                    </a:lnTo>
                    <a:lnTo>
                      <a:pt x="2764" y="1310"/>
                    </a:lnTo>
                    <a:lnTo>
                      <a:pt x="2764" y="1302"/>
                    </a:lnTo>
                    <a:lnTo>
                      <a:pt x="2768" y="1297"/>
                    </a:lnTo>
                    <a:lnTo>
                      <a:pt x="2768" y="1289"/>
                    </a:lnTo>
                    <a:lnTo>
                      <a:pt x="2768" y="1283"/>
                    </a:lnTo>
                    <a:lnTo>
                      <a:pt x="2770" y="1276"/>
                    </a:lnTo>
                    <a:lnTo>
                      <a:pt x="2772" y="1270"/>
                    </a:lnTo>
                    <a:lnTo>
                      <a:pt x="2768" y="1264"/>
                    </a:lnTo>
                    <a:lnTo>
                      <a:pt x="2766" y="1257"/>
                    </a:lnTo>
                    <a:lnTo>
                      <a:pt x="2764" y="1251"/>
                    </a:lnTo>
                    <a:lnTo>
                      <a:pt x="2762" y="1245"/>
                    </a:lnTo>
                    <a:lnTo>
                      <a:pt x="2758" y="1240"/>
                    </a:lnTo>
                    <a:lnTo>
                      <a:pt x="2758" y="1234"/>
                    </a:lnTo>
                    <a:lnTo>
                      <a:pt x="2755" y="1228"/>
                    </a:lnTo>
                    <a:lnTo>
                      <a:pt x="2753" y="1222"/>
                    </a:lnTo>
                    <a:lnTo>
                      <a:pt x="2751" y="1217"/>
                    </a:lnTo>
                    <a:lnTo>
                      <a:pt x="2749" y="1209"/>
                    </a:lnTo>
                    <a:lnTo>
                      <a:pt x="2745" y="1205"/>
                    </a:lnTo>
                    <a:lnTo>
                      <a:pt x="2745" y="1200"/>
                    </a:lnTo>
                    <a:lnTo>
                      <a:pt x="2743" y="1192"/>
                    </a:lnTo>
                    <a:lnTo>
                      <a:pt x="2741" y="1186"/>
                    </a:lnTo>
                    <a:lnTo>
                      <a:pt x="2738" y="1181"/>
                    </a:lnTo>
                    <a:lnTo>
                      <a:pt x="2738" y="1175"/>
                    </a:lnTo>
                    <a:lnTo>
                      <a:pt x="2734" y="1169"/>
                    </a:lnTo>
                    <a:lnTo>
                      <a:pt x="2734" y="1163"/>
                    </a:lnTo>
                    <a:lnTo>
                      <a:pt x="2732" y="1156"/>
                    </a:lnTo>
                    <a:lnTo>
                      <a:pt x="2730" y="1152"/>
                    </a:lnTo>
                    <a:lnTo>
                      <a:pt x="2728" y="1144"/>
                    </a:lnTo>
                    <a:lnTo>
                      <a:pt x="2726" y="1139"/>
                    </a:lnTo>
                    <a:lnTo>
                      <a:pt x="2724" y="1133"/>
                    </a:lnTo>
                    <a:lnTo>
                      <a:pt x="2724" y="1127"/>
                    </a:lnTo>
                    <a:lnTo>
                      <a:pt x="2722" y="1120"/>
                    </a:lnTo>
                    <a:lnTo>
                      <a:pt x="2720" y="1114"/>
                    </a:lnTo>
                    <a:lnTo>
                      <a:pt x="2719" y="1108"/>
                    </a:lnTo>
                    <a:lnTo>
                      <a:pt x="2717" y="1103"/>
                    </a:lnTo>
                    <a:lnTo>
                      <a:pt x="2715" y="1097"/>
                    </a:lnTo>
                    <a:lnTo>
                      <a:pt x="2715" y="1091"/>
                    </a:lnTo>
                    <a:lnTo>
                      <a:pt x="2713" y="1084"/>
                    </a:lnTo>
                    <a:lnTo>
                      <a:pt x="2713" y="1080"/>
                    </a:lnTo>
                    <a:lnTo>
                      <a:pt x="2711" y="1072"/>
                    </a:lnTo>
                    <a:lnTo>
                      <a:pt x="2709" y="1067"/>
                    </a:lnTo>
                    <a:lnTo>
                      <a:pt x="2709" y="1061"/>
                    </a:lnTo>
                    <a:lnTo>
                      <a:pt x="2709" y="1053"/>
                    </a:lnTo>
                    <a:lnTo>
                      <a:pt x="2707" y="1048"/>
                    </a:lnTo>
                    <a:lnTo>
                      <a:pt x="2707" y="1042"/>
                    </a:lnTo>
                    <a:lnTo>
                      <a:pt x="2707" y="1034"/>
                    </a:lnTo>
                    <a:lnTo>
                      <a:pt x="2707" y="1029"/>
                    </a:lnTo>
                    <a:lnTo>
                      <a:pt x="2705" y="1023"/>
                    </a:lnTo>
                    <a:lnTo>
                      <a:pt x="2705" y="1015"/>
                    </a:lnTo>
                    <a:lnTo>
                      <a:pt x="2705" y="1010"/>
                    </a:lnTo>
                    <a:lnTo>
                      <a:pt x="2705" y="1004"/>
                    </a:lnTo>
                    <a:lnTo>
                      <a:pt x="2705" y="996"/>
                    </a:lnTo>
                    <a:lnTo>
                      <a:pt x="2705" y="990"/>
                    </a:lnTo>
                    <a:lnTo>
                      <a:pt x="2705" y="985"/>
                    </a:lnTo>
                    <a:lnTo>
                      <a:pt x="2707" y="979"/>
                    </a:lnTo>
                    <a:lnTo>
                      <a:pt x="2707" y="971"/>
                    </a:lnTo>
                    <a:lnTo>
                      <a:pt x="2707" y="964"/>
                    </a:lnTo>
                    <a:lnTo>
                      <a:pt x="2707" y="958"/>
                    </a:lnTo>
                    <a:lnTo>
                      <a:pt x="2709" y="952"/>
                    </a:lnTo>
                    <a:lnTo>
                      <a:pt x="2709" y="945"/>
                    </a:lnTo>
                    <a:lnTo>
                      <a:pt x="2711" y="939"/>
                    </a:lnTo>
                    <a:lnTo>
                      <a:pt x="2713" y="933"/>
                    </a:lnTo>
                    <a:lnTo>
                      <a:pt x="2715" y="926"/>
                    </a:lnTo>
                    <a:lnTo>
                      <a:pt x="2715" y="918"/>
                    </a:lnTo>
                    <a:lnTo>
                      <a:pt x="2717" y="913"/>
                    </a:lnTo>
                    <a:lnTo>
                      <a:pt x="2719" y="907"/>
                    </a:lnTo>
                    <a:lnTo>
                      <a:pt x="2722" y="899"/>
                    </a:lnTo>
                    <a:lnTo>
                      <a:pt x="2724" y="894"/>
                    </a:lnTo>
                    <a:lnTo>
                      <a:pt x="2726" y="886"/>
                    </a:lnTo>
                    <a:lnTo>
                      <a:pt x="2728" y="880"/>
                    </a:lnTo>
                    <a:lnTo>
                      <a:pt x="2732" y="873"/>
                    </a:lnTo>
                    <a:lnTo>
                      <a:pt x="2738" y="876"/>
                    </a:lnTo>
                    <a:lnTo>
                      <a:pt x="2743" y="882"/>
                    </a:lnTo>
                    <a:lnTo>
                      <a:pt x="2745" y="888"/>
                    </a:lnTo>
                    <a:lnTo>
                      <a:pt x="2749" y="894"/>
                    </a:lnTo>
                    <a:lnTo>
                      <a:pt x="2751" y="899"/>
                    </a:lnTo>
                    <a:lnTo>
                      <a:pt x="2751" y="907"/>
                    </a:lnTo>
                    <a:lnTo>
                      <a:pt x="2751" y="914"/>
                    </a:lnTo>
                    <a:lnTo>
                      <a:pt x="2753" y="922"/>
                    </a:lnTo>
                    <a:lnTo>
                      <a:pt x="2758" y="930"/>
                    </a:lnTo>
                    <a:lnTo>
                      <a:pt x="2762" y="937"/>
                    </a:lnTo>
                    <a:lnTo>
                      <a:pt x="2768" y="947"/>
                    </a:lnTo>
                    <a:lnTo>
                      <a:pt x="2774" y="958"/>
                    </a:lnTo>
                    <a:lnTo>
                      <a:pt x="2777" y="968"/>
                    </a:lnTo>
                    <a:lnTo>
                      <a:pt x="2781" y="977"/>
                    </a:lnTo>
                    <a:lnTo>
                      <a:pt x="2785" y="987"/>
                    </a:lnTo>
                    <a:lnTo>
                      <a:pt x="2789" y="998"/>
                    </a:lnTo>
                    <a:lnTo>
                      <a:pt x="2791" y="1008"/>
                    </a:lnTo>
                    <a:lnTo>
                      <a:pt x="2795" y="1017"/>
                    </a:lnTo>
                    <a:lnTo>
                      <a:pt x="2796" y="1029"/>
                    </a:lnTo>
                    <a:lnTo>
                      <a:pt x="2800" y="1040"/>
                    </a:lnTo>
                    <a:lnTo>
                      <a:pt x="2802" y="1051"/>
                    </a:lnTo>
                    <a:lnTo>
                      <a:pt x="2804" y="1063"/>
                    </a:lnTo>
                    <a:lnTo>
                      <a:pt x="2806" y="1072"/>
                    </a:lnTo>
                    <a:lnTo>
                      <a:pt x="2808" y="1084"/>
                    </a:lnTo>
                    <a:lnTo>
                      <a:pt x="2810" y="1095"/>
                    </a:lnTo>
                    <a:lnTo>
                      <a:pt x="2810" y="1106"/>
                    </a:lnTo>
                    <a:lnTo>
                      <a:pt x="2812" y="1118"/>
                    </a:lnTo>
                    <a:lnTo>
                      <a:pt x="2812" y="1129"/>
                    </a:lnTo>
                    <a:lnTo>
                      <a:pt x="2814" y="1139"/>
                    </a:lnTo>
                    <a:lnTo>
                      <a:pt x="2815" y="1152"/>
                    </a:lnTo>
                    <a:lnTo>
                      <a:pt x="2815" y="1162"/>
                    </a:lnTo>
                    <a:lnTo>
                      <a:pt x="2817" y="1175"/>
                    </a:lnTo>
                    <a:lnTo>
                      <a:pt x="2817" y="1186"/>
                    </a:lnTo>
                    <a:lnTo>
                      <a:pt x="2817" y="1198"/>
                    </a:lnTo>
                    <a:lnTo>
                      <a:pt x="2819" y="1207"/>
                    </a:lnTo>
                    <a:lnTo>
                      <a:pt x="2819" y="1219"/>
                    </a:lnTo>
                    <a:lnTo>
                      <a:pt x="2819" y="1230"/>
                    </a:lnTo>
                    <a:lnTo>
                      <a:pt x="2821" y="1241"/>
                    </a:lnTo>
                    <a:lnTo>
                      <a:pt x="2821" y="1253"/>
                    </a:lnTo>
                    <a:lnTo>
                      <a:pt x="2825" y="1264"/>
                    </a:lnTo>
                    <a:lnTo>
                      <a:pt x="2825" y="1274"/>
                    </a:lnTo>
                    <a:lnTo>
                      <a:pt x="2827" y="1285"/>
                    </a:lnTo>
                    <a:lnTo>
                      <a:pt x="2827" y="1297"/>
                    </a:lnTo>
                    <a:lnTo>
                      <a:pt x="2829" y="1308"/>
                    </a:lnTo>
                    <a:lnTo>
                      <a:pt x="2831" y="1317"/>
                    </a:lnTo>
                    <a:lnTo>
                      <a:pt x="2833" y="1327"/>
                    </a:lnTo>
                    <a:lnTo>
                      <a:pt x="2834" y="1338"/>
                    </a:lnTo>
                    <a:lnTo>
                      <a:pt x="2838" y="1348"/>
                    </a:lnTo>
                    <a:lnTo>
                      <a:pt x="2840" y="1357"/>
                    </a:lnTo>
                    <a:lnTo>
                      <a:pt x="2844" y="1367"/>
                    </a:lnTo>
                    <a:lnTo>
                      <a:pt x="2846" y="1376"/>
                    </a:lnTo>
                    <a:lnTo>
                      <a:pt x="2852" y="1388"/>
                    </a:lnTo>
                    <a:lnTo>
                      <a:pt x="2854" y="1395"/>
                    </a:lnTo>
                    <a:lnTo>
                      <a:pt x="2857" y="1405"/>
                    </a:lnTo>
                    <a:lnTo>
                      <a:pt x="2863" y="1414"/>
                    </a:lnTo>
                    <a:lnTo>
                      <a:pt x="2869" y="1424"/>
                    </a:lnTo>
                    <a:lnTo>
                      <a:pt x="2873" y="1432"/>
                    </a:lnTo>
                    <a:lnTo>
                      <a:pt x="2878" y="1439"/>
                    </a:lnTo>
                    <a:lnTo>
                      <a:pt x="2884" y="1449"/>
                    </a:lnTo>
                    <a:lnTo>
                      <a:pt x="2892" y="1456"/>
                    </a:lnTo>
                    <a:lnTo>
                      <a:pt x="2897" y="1464"/>
                    </a:lnTo>
                    <a:lnTo>
                      <a:pt x="2907" y="1471"/>
                    </a:lnTo>
                    <a:lnTo>
                      <a:pt x="2912" y="1479"/>
                    </a:lnTo>
                    <a:lnTo>
                      <a:pt x="2922" y="1487"/>
                    </a:lnTo>
                    <a:lnTo>
                      <a:pt x="2931" y="1492"/>
                    </a:lnTo>
                    <a:lnTo>
                      <a:pt x="2941" y="1498"/>
                    </a:lnTo>
                    <a:lnTo>
                      <a:pt x="2950" y="1504"/>
                    </a:lnTo>
                    <a:lnTo>
                      <a:pt x="2962" y="1511"/>
                    </a:lnTo>
                    <a:lnTo>
                      <a:pt x="2973" y="1517"/>
                    </a:lnTo>
                    <a:lnTo>
                      <a:pt x="2985" y="1521"/>
                    </a:lnTo>
                    <a:lnTo>
                      <a:pt x="2998" y="1527"/>
                    </a:lnTo>
                    <a:lnTo>
                      <a:pt x="3011" y="1532"/>
                    </a:lnTo>
                    <a:lnTo>
                      <a:pt x="3002" y="1521"/>
                    </a:lnTo>
                    <a:lnTo>
                      <a:pt x="2992" y="1511"/>
                    </a:lnTo>
                    <a:lnTo>
                      <a:pt x="2981" y="1502"/>
                    </a:lnTo>
                    <a:lnTo>
                      <a:pt x="2971" y="1494"/>
                    </a:lnTo>
                    <a:lnTo>
                      <a:pt x="2962" y="1485"/>
                    </a:lnTo>
                    <a:lnTo>
                      <a:pt x="2952" y="1475"/>
                    </a:lnTo>
                    <a:lnTo>
                      <a:pt x="2945" y="1466"/>
                    </a:lnTo>
                    <a:lnTo>
                      <a:pt x="2939" y="1456"/>
                    </a:lnTo>
                    <a:lnTo>
                      <a:pt x="2947" y="1454"/>
                    </a:lnTo>
                    <a:lnTo>
                      <a:pt x="2954" y="1456"/>
                    </a:lnTo>
                    <a:lnTo>
                      <a:pt x="2962" y="1458"/>
                    </a:lnTo>
                    <a:lnTo>
                      <a:pt x="2971" y="1464"/>
                    </a:lnTo>
                    <a:lnTo>
                      <a:pt x="2977" y="1468"/>
                    </a:lnTo>
                    <a:lnTo>
                      <a:pt x="2985" y="1475"/>
                    </a:lnTo>
                    <a:lnTo>
                      <a:pt x="2990" y="1483"/>
                    </a:lnTo>
                    <a:lnTo>
                      <a:pt x="2998" y="1490"/>
                    </a:lnTo>
                    <a:lnTo>
                      <a:pt x="3004" y="1498"/>
                    </a:lnTo>
                    <a:lnTo>
                      <a:pt x="3011" y="1504"/>
                    </a:lnTo>
                    <a:lnTo>
                      <a:pt x="3017" y="1509"/>
                    </a:lnTo>
                    <a:lnTo>
                      <a:pt x="3025" y="1513"/>
                    </a:lnTo>
                    <a:lnTo>
                      <a:pt x="3030" y="1517"/>
                    </a:lnTo>
                    <a:lnTo>
                      <a:pt x="3040" y="1519"/>
                    </a:lnTo>
                    <a:lnTo>
                      <a:pt x="3047" y="1519"/>
                    </a:lnTo>
                    <a:lnTo>
                      <a:pt x="3057" y="1517"/>
                    </a:lnTo>
                    <a:lnTo>
                      <a:pt x="3049" y="1506"/>
                    </a:lnTo>
                    <a:lnTo>
                      <a:pt x="3044" y="1494"/>
                    </a:lnTo>
                    <a:lnTo>
                      <a:pt x="3038" y="1485"/>
                    </a:lnTo>
                    <a:lnTo>
                      <a:pt x="3030" y="1477"/>
                    </a:lnTo>
                    <a:lnTo>
                      <a:pt x="3027" y="1462"/>
                    </a:lnTo>
                    <a:lnTo>
                      <a:pt x="3025" y="1449"/>
                    </a:lnTo>
                    <a:lnTo>
                      <a:pt x="3021" y="1433"/>
                    </a:lnTo>
                    <a:lnTo>
                      <a:pt x="3019" y="1420"/>
                    </a:lnTo>
                    <a:lnTo>
                      <a:pt x="3015" y="1405"/>
                    </a:lnTo>
                    <a:lnTo>
                      <a:pt x="3013" y="1392"/>
                    </a:lnTo>
                    <a:lnTo>
                      <a:pt x="3011" y="1376"/>
                    </a:lnTo>
                    <a:lnTo>
                      <a:pt x="3009" y="1365"/>
                    </a:lnTo>
                    <a:lnTo>
                      <a:pt x="3004" y="1350"/>
                    </a:lnTo>
                    <a:lnTo>
                      <a:pt x="3002" y="1336"/>
                    </a:lnTo>
                    <a:lnTo>
                      <a:pt x="2998" y="1321"/>
                    </a:lnTo>
                    <a:lnTo>
                      <a:pt x="2994" y="1308"/>
                    </a:lnTo>
                    <a:lnTo>
                      <a:pt x="2992" y="1295"/>
                    </a:lnTo>
                    <a:lnTo>
                      <a:pt x="2988" y="1281"/>
                    </a:lnTo>
                    <a:lnTo>
                      <a:pt x="2985" y="1266"/>
                    </a:lnTo>
                    <a:lnTo>
                      <a:pt x="2983" y="1255"/>
                    </a:lnTo>
                    <a:lnTo>
                      <a:pt x="2977" y="1240"/>
                    </a:lnTo>
                    <a:lnTo>
                      <a:pt x="2973" y="1226"/>
                    </a:lnTo>
                    <a:lnTo>
                      <a:pt x="2971" y="1211"/>
                    </a:lnTo>
                    <a:lnTo>
                      <a:pt x="2968" y="1200"/>
                    </a:lnTo>
                    <a:lnTo>
                      <a:pt x="2964" y="1186"/>
                    </a:lnTo>
                    <a:lnTo>
                      <a:pt x="2958" y="1171"/>
                    </a:lnTo>
                    <a:lnTo>
                      <a:pt x="2956" y="1158"/>
                    </a:lnTo>
                    <a:lnTo>
                      <a:pt x="2952" y="1144"/>
                    </a:lnTo>
                    <a:lnTo>
                      <a:pt x="2949" y="1131"/>
                    </a:lnTo>
                    <a:lnTo>
                      <a:pt x="2945" y="1118"/>
                    </a:lnTo>
                    <a:lnTo>
                      <a:pt x="2941" y="1105"/>
                    </a:lnTo>
                    <a:lnTo>
                      <a:pt x="2937" y="1091"/>
                    </a:lnTo>
                    <a:lnTo>
                      <a:pt x="2933" y="1078"/>
                    </a:lnTo>
                    <a:lnTo>
                      <a:pt x="2930" y="1063"/>
                    </a:lnTo>
                    <a:lnTo>
                      <a:pt x="2928" y="1049"/>
                    </a:lnTo>
                    <a:lnTo>
                      <a:pt x="2924" y="1036"/>
                    </a:lnTo>
                    <a:lnTo>
                      <a:pt x="2920" y="1023"/>
                    </a:lnTo>
                    <a:lnTo>
                      <a:pt x="2916" y="1008"/>
                    </a:lnTo>
                    <a:lnTo>
                      <a:pt x="2912" y="994"/>
                    </a:lnTo>
                    <a:lnTo>
                      <a:pt x="2909" y="981"/>
                    </a:lnTo>
                    <a:lnTo>
                      <a:pt x="2907" y="966"/>
                    </a:lnTo>
                    <a:lnTo>
                      <a:pt x="2903" y="952"/>
                    </a:lnTo>
                    <a:lnTo>
                      <a:pt x="2899" y="937"/>
                    </a:lnTo>
                    <a:lnTo>
                      <a:pt x="2897" y="926"/>
                    </a:lnTo>
                    <a:lnTo>
                      <a:pt x="2893" y="911"/>
                    </a:lnTo>
                    <a:lnTo>
                      <a:pt x="2892" y="897"/>
                    </a:lnTo>
                    <a:lnTo>
                      <a:pt x="2888" y="884"/>
                    </a:lnTo>
                    <a:lnTo>
                      <a:pt x="2886" y="871"/>
                    </a:lnTo>
                    <a:lnTo>
                      <a:pt x="2882" y="856"/>
                    </a:lnTo>
                    <a:lnTo>
                      <a:pt x="2880" y="842"/>
                    </a:lnTo>
                    <a:lnTo>
                      <a:pt x="2878" y="829"/>
                    </a:lnTo>
                    <a:lnTo>
                      <a:pt x="2876" y="816"/>
                    </a:lnTo>
                    <a:lnTo>
                      <a:pt x="2874" y="800"/>
                    </a:lnTo>
                    <a:lnTo>
                      <a:pt x="2873" y="787"/>
                    </a:lnTo>
                    <a:lnTo>
                      <a:pt x="2871" y="772"/>
                    </a:lnTo>
                    <a:lnTo>
                      <a:pt x="2869" y="759"/>
                    </a:lnTo>
                    <a:lnTo>
                      <a:pt x="2867" y="743"/>
                    </a:lnTo>
                    <a:lnTo>
                      <a:pt x="2865" y="730"/>
                    </a:lnTo>
                    <a:lnTo>
                      <a:pt x="2863" y="715"/>
                    </a:lnTo>
                    <a:lnTo>
                      <a:pt x="2863" y="702"/>
                    </a:lnTo>
                    <a:lnTo>
                      <a:pt x="2863" y="686"/>
                    </a:lnTo>
                    <a:lnTo>
                      <a:pt x="2861" y="671"/>
                    </a:lnTo>
                    <a:lnTo>
                      <a:pt x="2861" y="656"/>
                    </a:lnTo>
                    <a:lnTo>
                      <a:pt x="2861" y="643"/>
                    </a:lnTo>
                    <a:lnTo>
                      <a:pt x="2861" y="627"/>
                    </a:lnTo>
                    <a:lnTo>
                      <a:pt x="2861" y="614"/>
                    </a:lnTo>
                    <a:lnTo>
                      <a:pt x="2861" y="599"/>
                    </a:lnTo>
                    <a:lnTo>
                      <a:pt x="2863" y="586"/>
                    </a:lnTo>
                    <a:lnTo>
                      <a:pt x="2863" y="574"/>
                    </a:lnTo>
                    <a:lnTo>
                      <a:pt x="2865" y="563"/>
                    </a:lnTo>
                    <a:lnTo>
                      <a:pt x="2865" y="551"/>
                    </a:lnTo>
                    <a:lnTo>
                      <a:pt x="2865" y="540"/>
                    </a:lnTo>
                    <a:lnTo>
                      <a:pt x="2865" y="530"/>
                    </a:lnTo>
                    <a:lnTo>
                      <a:pt x="2865" y="519"/>
                    </a:lnTo>
                    <a:lnTo>
                      <a:pt x="2865" y="510"/>
                    </a:lnTo>
                    <a:lnTo>
                      <a:pt x="2865" y="500"/>
                    </a:lnTo>
                    <a:lnTo>
                      <a:pt x="2863" y="491"/>
                    </a:lnTo>
                    <a:lnTo>
                      <a:pt x="2863" y="479"/>
                    </a:lnTo>
                    <a:lnTo>
                      <a:pt x="2861" y="468"/>
                    </a:lnTo>
                    <a:lnTo>
                      <a:pt x="2861" y="458"/>
                    </a:lnTo>
                    <a:lnTo>
                      <a:pt x="2857" y="449"/>
                    </a:lnTo>
                    <a:lnTo>
                      <a:pt x="2855" y="439"/>
                    </a:lnTo>
                    <a:lnTo>
                      <a:pt x="2854" y="430"/>
                    </a:lnTo>
                    <a:lnTo>
                      <a:pt x="2852" y="422"/>
                    </a:lnTo>
                    <a:lnTo>
                      <a:pt x="2848" y="413"/>
                    </a:lnTo>
                    <a:lnTo>
                      <a:pt x="2844" y="403"/>
                    </a:lnTo>
                    <a:lnTo>
                      <a:pt x="2842" y="394"/>
                    </a:lnTo>
                    <a:lnTo>
                      <a:pt x="2838" y="384"/>
                    </a:lnTo>
                    <a:lnTo>
                      <a:pt x="2834" y="375"/>
                    </a:lnTo>
                    <a:lnTo>
                      <a:pt x="2831" y="367"/>
                    </a:lnTo>
                    <a:lnTo>
                      <a:pt x="2827" y="357"/>
                    </a:lnTo>
                    <a:lnTo>
                      <a:pt x="2821" y="350"/>
                    </a:lnTo>
                    <a:lnTo>
                      <a:pt x="2817" y="340"/>
                    </a:lnTo>
                    <a:lnTo>
                      <a:pt x="2812" y="333"/>
                    </a:lnTo>
                    <a:lnTo>
                      <a:pt x="2806" y="325"/>
                    </a:lnTo>
                    <a:lnTo>
                      <a:pt x="2802" y="319"/>
                    </a:lnTo>
                    <a:lnTo>
                      <a:pt x="2796" y="310"/>
                    </a:lnTo>
                    <a:lnTo>
                      <a:pt x="2791" y="302"/>
                    </a:lnTo>
                    <a:lnTo>
                      <a:pt x="2783" y="297"/>
                    </a:lnTo>
                    <a:lnTo>
                      <a:pt x="2779" y="291"/>
                    </a:lnTo>
                    <a:lnTo>
                      <a:pt x="2772" y="283"/>
                    </a:lnTo>
                    <a:lnTo>
                      <a:pt x="2764" y="276"/>
                    </a:lnTo>
                    <a:lnTo>
                      <a:pt x="2758" y="268"/>
                    </a:lnTo>
                    <a:lnTo>
                      <a:pt x="2751" y="264"/>
                    </a:lnTo>
                    <a:lnTo>
                      <a:pt x="2743" y="257"/>
                    </a:lnTo>
                    <a:lnTo>
                      <a:pt x="2736" y="251"/>
                    </a:lnTo>
                    <a:lnTo>
                      <a:pt x="2728" y="245"/>
                    </a:lnTo>
                    <a:lnTo>
                      <a:pt x="2722" y="240"/>
                    </a:lnTo>
                    <a:lnTo>
                      <a:pt x="2713" y="234"/>
                    </a:lnTo>
                    <a:lnTo>
                      <a:pt x="2705" y="230"/>
                    </a:lnTo>
                    <a:lnTo>
                      <a:pt x="2696" y="224"/>
                    </a:lnTo>
                    <a:lnTo>
                      <a:pt x="2688" y="221"/>
                    </a:lnTo>
                    <a:lnTo>
                      <a:pt x="2679" y="217"/>
                    </a:lnTo>
                    <a:lnTo>
                      <a:pt x="2671" y="213"/>
                    </a:lnTo>
                    <a:lnTo>
                      <a:pt x="2661" y="209"/>
                    </a:lnTo>
                    <a:lnTo>
                      <a:pt x="2654" y="207"/>
                    </a:lnTo>
                    <a:lnTo>
                      <a:pt x="2644" y="203"/>
                    </a:lnTo>
                    <a:lnTo>
                      <a:pt x="2635" y="200"/>
                    </a:lnTo>
                    <a:lnTo>
                      <a:pt x="2625" y="198"/>
                    </a:lnTo>
                    <a:lnTo>
                      <a:pt x="2616" y="194"/>
                    </a:lnTo>
                    <a:lnTo>
                      <a:pt x="2606" y="192"/>
                    </a:lnTo>
                    <a:lnTo>
                      <a:pt x="2597" y="190"/>
                    </a:lnTo>
                    <a:lnTo>
                      <a:pt x="2587" y="188"/>
                    </a:lnTo>
                    <a:lnTo>
                      <a:pt x="2578" y="188"/>
                    </a:lnTo>
                    <a:lnTo>
                      <a:pt x="2566" y="186"/>
                    </a:lnTo>
                    <a:lnTo>
                      <a:pt x="2557" y="184"/>
                    </a:lnTo>
                    <a:lnTo>
                      <a:pt x="2546" y="184"/>
                    </a:lnTo>
                    <a:lnTo>
                      <a:pt x="2536" y="184"/>
                    </a:lnTo>
                    <a:lnTo>
                      <a:pt x="2525" y="184"/>
                    </a:lnTo>
                    <a:lnTo>
                      <a:pt x="2515" y="186"/>
                    </a:lnTo>
                    <a:lnTo>
                      <a:pt x="2504" y="188"/>
                    </a:lnTo>
                    <a:lnTo>
                      <a:pt x="2494" y="190"/>
                    </a:lnTo>
                    <a:lnTo>
                      <a:pt x="2487" y="190"/>
                    </a:lnTo>
                    <a:lnTo>
                      <a:pt x="2479" y="190"/>
                    </a:lnTo>
                    <a:lnTo>
                      <a:pt x="2475" y="190"/>
                    </a:lnTo>
                    <a:lnTo>
                      <a:pt x="2473" y="192"/>
                    </a:lnTo>
                    <a:lnTo>
                      <a:pt x="2468" y="192"/>
                    </a:lnTo>
                    <a:lnTo>
                      <a:pt x="2466" y="194"/>
                    </a:lnTo>
                    <a:lnTo>
                      <a:pt x="2468" y="194"/>
                    </a:lnTo>
                    <a:lnTo>
                      <a:pt x="2469" y="194"/>
                    </a:lnTo>
                    <a:lnTo>
                      <a:pt x="2270" y="205"/>
                    </a:lnTo>
                    <a:lnTo>
                      <a:pt x="2258" y="207"/>
                    </a:lnTo>
                    <a:lnTo>
                      <a:pt x="2249" y="209"/>
                    </a:lnTo>
                    <a:lnTo>
                      <a:pt x="2238" y="211"/>
                    </a:lnTo>
                    <a:lnTo>
                      <a:pt x="2228" y="215"/>
                    </a:lnTo>
                    <a:lnTo>
                      <a:pt x="2217" y="217"/>
                    </a:lnTo>
                    <a:lnTo>
                      <a:pt x="2205" y="219"/>
                    </a:lnTo>
                    <a:lnTo>
                      <a:pt x="2196" y="221"/>
                    </a:lnTo>
                    <a:lnTo>
                      <a:pt x="2186" y="222"/>
                    </a:lnTo>
                    <a:lnTo>
                      <a:pt x="2175" y="224"/>
                    </a:lnTo>
                    <a:lnTo>
                      <a:pt x="2165" y="224"/>
                    </a:lnTo>
                    <a:lnTo>
                      <a:pt x="2152" y="226"/>
                    </a:lnTo>
                    <a:lnTo>
                      <a:pt x="2142" y="226"/>
                    </a:lnTo>
                    <a:lnTo>
                      <a:pt x="2133" y="228"/>
                    </a:lnTo>
                    <a:lnTo>
                      <a:pt x="2122" y="228"/>
                    </a:lnTo>
                    <a:lnTo>
                      <a:pt x="2112" y="230"/>
                    </a:lnTo>
                    <a:lnTo>
                      <a:pt x="2103" y="230"/>
                    </a:lnTo>
                    <a:lnTo>
                      <a:pt x="2091" y="230"/>
                    </a:lnTo>
                    <a:lnTo>
                      <a:pt x="2082" y="230"/>
                    </a:lnTo>
                    <a:lnTo>
                      <a:pt x="2068" y="230"/>
                    </a:lnTo>
                    <a:lnTo>
                      <a:pt x="2059" y="232"/>
                    </a:lnTo>
                    <a:lnTo>
                      <a:pt x="2049" y="232"/>
                    </a:lnTo>
                    <a:lnTo>
                      <a:pt x="2038" y="232"/>
                    </a:lnTo>
                    <a:lnTo>
                      <a:pt x="2028" y="232"/>
                    </a:lnTo>
                    <a:lnTo>
                      <a:pt x="2019" y="232"/>
                    </a:lnTo>
                    <a:lnTo>
                      <a:pt x="2006" y="230"/>
                    </a:lnTo>
                    <a:lnTo>
                      <a:pt x="1996" y="230"/>
                    </a:lnTo>
                    <a:lnTo>
                      <a:pt x="1985" y="230"/>
                    </a:lnTo>
                    <a:lnTo>
                      <a:pt x="1975" y="230"/>
                    </a:lnTo>
                    <a:lnTo>
                      <a:pt x="1966" y="230"/>
                    </a:lnTo>
                    <a:lnTo>
                      <a:pt x="1954" y="230"/>
                    </a:lnTo>
                    <a:lnTo>
                      <a:pt x="1945" y="230"/>
                    </a:lnTo>
                    <a:lnTo>
                      <a:pt x="1935" y="230"/>
                    </a:lnTo>
                    <a:lnTo>
                      <a:pt x="1922" y="230"/>
                    </a:lnTo>
                    <a:lnTo>
                      <a:pt x="1912" y="228"/>
                    </a:lnTo>
                    <a:lnTo>
                      <a:pt x="1901" y="228"/>
                    </a:lnTo>
                    <a:lnTo>
                      <a:pt x="1892" y="228"/>
                    </a:lnTo>
                    <a:lnTo>
                      <a:pt x="1880" y="228"/>
                    </a:lnTo>
                    <a:lnTo>
                      <a:pt x="1869" y="226"/>
                    </a:lnTo>
                    <a:lnTo>
                      <a:pt x="1857" y="226"/>
                    </a:lnTo>
                    <a:lnTo>
                      <a:pt x="1848" y="226"/>
                    </a:lnTo>
                    <a:lnTo>
                      <a:pt x="1836" y="226"/>
                    </a:lnTo>
                    <a:lnTo>
                      <a:pt x="1825" y="224"/>
                    </a:lnTo>
                    <a:lnTo>
                      <a:pt x="1814" y="224"/>
                    </a:lnTo>
                    <a:lnTo>
                      <a:pt x="1802" y="224"/>
                    </a:lnTo>
                    <a:lnTo>
                      <a:pt x="1791" y="224"/>
                    </a:lnTo>
                    <a:lnTo>
                      <a:pt x="1781" y="224"/>
                    </a:lnTo>
                    <a:lnTo>
                      <a:pt x="1770" y="224"/>
                    </a:lnTo>
                    <a:lnTo>
                      <a:pt x="1760" y="224"/>
                    </a:lnTo>
                    <a:lnTo>
                      <a:pt x="1749" y="222"/>
                    </a:lnTo>
                    <a:lnTo>
                      <a:pt x="1736" y="222"/>
                    </a:lnTo>
                    <a:lnTo>
                      <a:pt x="1724" y="221"/>
                    </a:lnTo>
                    <a:lnTo>
                      <a:pt x="1715" y="221"/>
                    </a:lnTo>
                    <a:lnTo>
                      <a:pt x="1703" y="221"/>
                    </a:lnTo>
                    <a:lnTo>
                      <a:pt x="1692" y="221"/>
                    </a:lnTo>
                    <a:lnTo>
                      <a:pt x="1681" y="221"/>
                    </a:lnTo>
                    <a:lnTo>
                      <a:pt x="1669" y="221"/>
                    </a:lnTo>
                    <a:lnTo>
                      <a:pt x="1658" y="221"/>
                    </a:lnTo>
                    <a:lnTo>
                      <a:pt x="1646" y="221"/>
                    </a:lnTo>
                    <a:lnTo>
                      <a:pt x="1633" y="221"/>
                    </a:lnTo>
                    <a:lnTo>
                      <a:pt x="1623" y="222"/>
                    </a:lnTo>
                    <a:lnTo>
                      <a:pt x="1610" y="222"/>
                    </a:lnTo>
                    <a:lnTo>
                      <a:pt x="1599" y="224"/>
                    </a:lnTo>
                    <a:lnTo>
                      <a:pt x="1587" y="224"/>
                    </a:lnTo>
                    <a:lnTo>
                      <a:pt x="1576" y="226"/>
                    </a:lnTo>
                    <a:lnTo>
                      <a:pt x="1561" y="224"/>
                    </a:lnTo>
                    <a:lnTo>
                      <a:pt x="1547" y="221"/>
                    </a:lnTo>
                    <a:lnTo>
                      <a:pt x="1534" y="219"/>
                    </a:lnTo>
                    <a:lnTo>
                      <a:pt x="1521" y="217"/>
                    </a:lnTo>
                    <a:lnTo>
                      <a:pt x="1506" y="215"/>
                    </a:lnTo>
                    <a:lnTo>
                      <a:pt x="1492" y="215"/>
                    </a:lnTo>
                    <a:lnTo>
                      <a:pt x="1481" y="213"/>
                    </a:lnTo>
                    <a:lnTo>
                      <a:pt x="1468" y="213"/>
                    </a:lnTo>
                    <a:lnTo>
                      <a:pt x="1454" y="211"/>
                    </a:lnTo>
                    <a:lnTo>
                      <a:pt x="1439" y="211"/>
                    </a:lnTo>
                    <a:lnTo>
                      <a:pt x="1426" y="211"/>
                    </a:lnTo>
                    <a:lnTo>
                      <a:pt x="1412" y="211"/>
                    </a:lnTo>
                    <a:lnTo>
                      <a:pt x="1401" y="211"/>
                    </a:lnTo>
                    <a:lnTo>
                      <a:pt x="1388" y="211"/>
                    </a:lnTo>
                    <a:lnTo>
                      <a:pt x="1374" y="211"/>
                    </a:lnTo>
                    <a:lnTo>
                      <a:pt x="1363" y="211"/>
                    </a:lnTo>
                    <a:lnTo>
                      <a:pt x="1348" y="211"/>
                    </a:lnTo>
                    <a:lnTo>
                      <a:pt x="1336" y="211"/>
                    </a:lnTo>
                    <a:lnTo>
                      <a:pt x="1321" y="213"/>
                    </a:lnTo>
                    <a:lnTo>
                      <a:pt x="1310" y="215"/>
                    </a:lnTo>
                    <a:lnTo>
                      <a:pt x="1296" y="215"/>
                    </a:lnTo>
                    <a:lnTo>
                      <a:pt x="1283" y="215"/>
                    </a:lnTo>
                    <a:lnTo>
                      <a:pt x="1272" y="217"/>
                    </a:lnTo>
                    <a:lnTo>
                      <a:pt x="1258" y="217"/>
                    </a:lnTo>
                    <a:lnTo>
                      <a:pt x="1245" y="217"/>
                    </a:lnTo>
                    <a:lnTo>
                      <a:pt x="1234" y="219"/>
                    </a:lnTo>
                    <a:lnTo>
                      <a:pt x="1220" y="219"/>
                    </a:lnTo>
                    <a:lnTo>
                      <a:pt x="1209" y="221"/>
                    </a:lnTo>
                    <a:lnTo>
                      <a:pt x="1196" y="222"/>
                    </a:lnTo>
                    <a:lnTo>
                      <a:pt x="1184" y="224"/>
                    </a:lnTo>
                    <a:lnTo>
                      <a:pt x="1171" y="224"/>
                    </a:lnTo>
                    <a:lnTo>
                      <a:pt x="1160" y="226"/>
                    </a:lnTo>
                    <a:lnTo>
                      <a:pt x="1146" y="226"/>
                    </a:lnTo>
                    <a:lnTo>
                      <a:pt x="1133" y="228"/>
                    </a:lnTo>
                    <a:lnTo>
                      <a:pt x="1122" y="228"/>
                    </a:lnTo>
                    <a:lnTo>
                      <a:pt x="1108" y="228"/>
                    </a:lnTo>
                    <a:lnTo>
                      <a:pt x="1095" y="228"/>
                    </a:lnTo>
                    <a:lnTo>
                      <a:pt x="1084" y="230"/>
                    </a:lnTo>
                    <a:lnTo>
                      <a:pt x="1072" y="230"/>
                    </a:lnTo>
                    <a:lnTo>
                      <a:pt x="1059" y="232"/>
                    </a:lnTo>
                    <a:lnTo>
                      <a:pt x="1047" y="232"/>
                    </a:lnTo>
                    <a:lnTo>
                      <a:pt x="1034" y="232"/>
                    </a:lnTo>
                    <a:lnTo>
                      <a:pt x="1021" y="232"/>
                    </a:lnTo>
                    <a:lnTo>
                      <a:pt x="1009" y="232"/>
                    </a:lnTo>
                    <a:lnTo>
                      <a:pt x="998" y="232"/>
                    </a:lnTo>
                    <a:lnTo>
                      <a:pt x="985" y="232"/>
                    </a:lnTo>
                    <a:lnTo>
                      <a:pt x="973" y="232"/>
                    </a:lnTo>
                    <a:lnTo>
                      <a:pt x="962" y="232"/>
                    </a:lnTo>
                    <a:lnTo>
                      <a:pt x="949" y="230"/>
                    </a:lnTo>
                    <a:lnTo>
                      <a:pt x="935" y="228"/>
                    </a:lnTo>
                    <a:lnTo>
                      <a:pt x="922" y="228"/>
                    </a:lnTo>
                    <a:lnTo>
                      <a:pt x="911" y="226"/>
                    </a:lnTo>
                    <a:lnTo>
                      <a:pt x="899" y="224"/>
                    </a:lnTo>
                    <a:lnTo>
                      <a:pt x="888" y="222"/>
                    </a:lnTo>
                    <a:lnTo>
                      <a:pt x="874" y="221"/>
                    </a:lnTo>
                    <a:lnTo>
                      <a:pt x="863" y="219"/>
                    </a:lnTo>
                    <a:lnTo>
                      <a:pt x="850" y="217"/>
                    </a:lnTo>
                    <a:lnTo>
                      <a:pt x="836" y="213"/>
                    </a:lnTo>
                    <a:lnTo>
                      <a:pt x="825" y="209"/>
                    </a:lnTo>
                    <a:lnTo>
                      <a:pt x="814" y="207"/>
                    </a:lnTo>
                    <a:lnTo>
                      <a:pt x="800" y="203"/>
                    </a:lnTo>
                    <a:lnTo>
                      <a:pt x="789" y="200"/>
                    </a:lnTo>
                    <a:lnTo>
                      <a:pt x="777" y="196"/>
                    </a:lnTo>
                    <a:lnTo>
                      <a:pt x="764" y="192"/>
                    </a:lnTo>
                    <a:lnTo>
                      <a:pt x="758" y="183"/>
                    </a:lnTo>
                    <a:lnTo>
                      <a:pt x="753" y="173"/>
                    </a:lnTo>
                    <a:lnTo>
                      <a:pt x="749" y="164"/>
                    </a:lnTo>
                    <a:lnTo>
                      <a:pt x="743" y="156"/>
                    </a:lnTo>
                    <a:lnTo>
                      <a:pt x="739" y="148"/>
                    </a:lnTo>
                    <a:lnTo>
                      <a:pt x="734" y="141"/>
                    </a:lnTo>
                    <a:lnTo>
                      <a:pt x="730" y="135"/>
                    </a:lnTo>
                    <a:lnTo>
                      <a:pt x="726" y="127"/>
                    </a:lnTo>
                    <a:lnTo>
                      <a:pt x="720" y="122"/>
                    </a:lnTo>
                    <a:lnTo>
                      <a:pt x="717" y="116"/>
                    </a:lnTo>
                    <a:lnTo>
                      <a:pt x="713" y="110"/>
                    </a:lnTo>
                    <a:lnTo>
                      <a:pt x="707" y="106"/>
                    </a:lnTo>
                    <a:lnTo>
                      <a:pt x="698" y="97"/>
                    </a:lnTo>
                    <a:lnTo>
                      <a:pt x="688" y="91"/>
                    </a:lnTo>
                    <a:lnTo>
                      <a:pt x="677" y="87"/>
                    </a:lnTo>
                    <a:lnTo>
                      <a:pt x="667" y="84"/>
                    </a:lnTo>
                    <a:lnTo>
                      <a:pt x="660" y="82"/>
                    </a:lnTo>
                    <a:lnTo>
                      <a:pt x="652" y="82"/>
                    </a:lnTo>
                    <a:lnTo>
                      <a:pt x="646" y="82"/>
                    </a:lnTo>
                    <a:lnTo>
                      <a:pt x="641" y="82"/>
                    </a:lnTo>
                    <a:lnTo>
                      <a:pt x="631" y="82"/>
                    </a:lnTo>
                    <a:lnTo>
                      <a:pt x="623" y="82"/>
                    </a:lnTo>
                    <a:lnTo>
                      <a:pt x="614" y="84"/>
                    </a:lnTo>
                    <a:lnTo>
                      <a:pt x="606" y="86"/>
                    </a:lnTo>
                    <a:lnTo>
                      <a:pt x="597" y="87"/>
                    </a:lnTo>
                    <a:lnTo>
                      <a:pt x="587" y="89"/>
                    </a:lnTo>
                    <a:lnTo>
                      <a:pt x="576" y="93"/>
                    </a:lnTo>
                    <a:lnTo>
                      <a:pt x="566" y="97"/>
                    </a:lnTo>
                    <a:lnTo>
                      <a:pt x="559" y="91"/>
                    </a:lnTo>
                    <a:lnTo>
                      <a:pt x="555" y="84"/>
                    </a:lnTo>
                    <a:lnTo>
                      <a:pt x="547" y="80"/>
                    </a:lnTo>
                    <a:lnTo>
                      <a:pt x="542" y="74"/>
                    </a:lnTo>
                    <a:lnTo>
                      <a:pt x="536" y="68"/>
                    </a:lnTo>
                    <a:lnTo>
                      <a:pt x="530" y="65"/>
                    </a:lnTo>
                    <a:lnTo>
                      <a:pt x="525" y="61"/>
                    </a:lnTo>
                    <a:lnTo>
                      <a:pt x="519" y="57"/>
                    </a:lnTo>
                    <a:lnTo>
                      <a:pt x="513" y="53"/>
                    </a:lnTo>
                    <a:lnTo>
                      <a:pt x="506" y="51"/>
                    </a:lnTo>
                    <a:lnTo>
                      <a:pt x="500" y="48"/>
                    </a:lnTo>
                    <a:lnTo>
                      <a:pt x="494" y="44"/>
                    </a:lnTo>
                    <a:lnTo>
                      <a:pt x="487" y="42"/>
                    </a:lnTo>
                    <a:lnTo>
                      <a:pt x="481" y="38"/>
                    </a:lnTo>
                    <a:lnTo>
                      <a:pt x="475" y="36"/>
                    </a:lnTo>
                    <a:lnTo>
                      <a:pt x="469" y="36"/>
                    </a:lnTo>
                    <a:lnTo>
                      <a:pt x="462" y="32"/>
                    </a:lnTo>
                    <a:lnTo>
                      <a:pt x="456" y="32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35" y="27"/>
                    </a:lnTo>
                    <a:lnTo>
                      <a:pt x="428" y="27"/>
                    </a:lnTo>
                    <a:lnTo>
                      <a:pt x="420" y="25"/>
                    </a:lnTo>
                    <a:lnTo>
                      <a:pt x="414" y="25"/>
                    </a:lnTo>
                    <a:lnTo>
                      <a:pt x="407" y="25"/>
                    </a:lnTo>
                    <a:lnTo>
                      <a:pt x="399" y="23"/>
                    </a:lnTo>
                    <a:lnTo>
                      <a:pt x="392" y="23"/>
                    </a:lnTo>
                    <a:lnTo>
                      <a:pt x="386" y="23"/>
                    </a:lnTo>
                    <a:lnTo>
                      <a:pt x="378" y="23"/>
                    </a:lnTo>
                    <a:lnTo>
                      <a:pt x="373" y="23"/>
                    </a:lnTo>
                    <a:lnTo>
                      <a:pt x="365" y="23"/>
                    </a:lnTo>
                    <a:lnTo>
                      <a:pt x="357" y="23"/>
                    </a:lnTo>
                    <a:lnTo>
                      <a:pt x="350" y="23"/>
                    </a:lnTo>
                    <a:lnTo>
                      <a:pt x="342" y="23"/>
                    </a:lnTo>
                    <a:lnTo>
                      <a:pt x="335" y="23"/>
                    </a:lnTo>
                    <a:lnTo>
                      <a:pt x="327" y="23"/>
                    </a:lnTo>
                    <a:lnTo>
                      <a:pt x="319" y="23"/>
                    </a:lnTo>
                    <a:lnTo>
                      <a:pt x="312" y="23"/>
                    </a:lnTo>
                    <a:lnTo>
                      <a:pt x="304" y="23"/>
                    </a:lnTo>
                    <a:lnTo>
                      <a:pt x="298" y="23"/>
                    </a:lnTo>
                    <a:lnTo>
                      <a:pt x="289" y="23"/>
                    </a:lnTo>
                    <a:lnTo>
                      <a:pt x="283" y="23"/>
                    </a:lnTo>
                    <a:lnTo>
                      <a:pt x="274" y="23"/>
                    </a:lnTo>
                    <a:lnTo>
                      <a:pt x="268" y="23"/>
                    </a:lnTo>
                    <a:lnTo>
                      <a:pt x="260" y="23"/>
                    </a:lnTo>
                    <a:lnTo>
                      <a:pt x="253" y="23"/>
                    </a:lnTo>
                    <a:lnTo>
                      <a:pt x="245" y="23"/>
                    </a:lnTo>
                    <a:lnTo>
                      <a:pt x="238" y="23"/>
                    </a:lnTo>
                    <a:lnTo>
                      <a:pt x="230" y="23"/>
                    </a:lnTo>
                    <a:lnTo>
                      <a:pt x="222" y="21"/>
                    </a:lnTo>
                    <a:lnTo>
                      <a:pt x="215" y="19"/>
                    </a:lnTo>
                    <a:lnTo>
                      <a:pt x="207" y="19"/>
                    </a:lnTo>
                    <a:lnTo>
                      <a:pt x="200" y="19"/>
                    </a:lnTo>
                    <a:lnTo>
                      <a:pt x="194" y="17"/>
                    </a:lnTo>
                    <a:lnTo>
                      <a:pt x="184" y="17"/>
                    </a:lnTo>
                    <a:lnTo>
                      <a:pt x="179" y="17"/>
                    </a:lnTo>
                    <a:lnTo>
                      <a:pt x="169" y="15"/>
                    </a:lnTo>
                    <a:lnTo>
                      <a:pt x="162" y="13"/>
                    </a:lnTo>
                    <a:lnTo>
                      <a:pt x="154" y="10"/>
                    </a:lnTo>
                    <a:lnTo>
                      <a:pt x="148" y="10"/>
                    </a:lnTo>
                    <a:lnTo>
                      <a:pt x="141" y="8"/>
                    </a:lnTo>
                    <a:lnTo>
                      <a:pt x="133" y="6"/>
                    </a:lnTo>
                    <a:lnTo>
                      <a:pt x="125" y="4"/>
                    </a:lnTo>
                    <a:lnTo>
                      <a:pt x="120" y="0"/>
                    </a:lnTo>
                    <a:lnTo>
                      <a:pt x="118" y="8"/>
                    </a:lnTo>
                    <a:lnTo>
                      <a:pt x="118" y="15"/>
                    </a:lnTo>
                    <a:lnTo>
                      <a:pt x="118" y="21"/>
                    </a:lnTo>
                    <a:lnTo>
                      <a:pt x="120" y="27"/>
                    </a:lnTo>
                    <a:lnTo>
                      <a:pt x="122" y="36"/>
                    </a:lnTo>
                    <a:lnTo>
                      <a:pt x="129" y="48"/>
                    </a:lnTo>
                    <a:lnTo>
                      <a:pt x="133" y="55"/>
                    </a:lnTo>
                    <a:lnTo>
                      <a:pt x="142" y="67"/>
                    </a:lnTo>
                    <a:lnTo>
                      <a:pt x="146" y="72"/>
                    </a:lnTo>
                    <a:lnTo>
                      <a:pt x="152" y="78"/>
                    </a:lnTo>
                    <a:lnTo>
                      <a:pt x="156" y="84"/>
                    </a:lnTo>
                    <a:lnTo>
                      <a:pt x="162" y="91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54" y="95"/>
                    </a:lnTo>
                    <a:lnTo>
                      <a:pt x="148" y="93"/>
                    </a:lnTo>
                    <a:lnTo>
                      <a:pt x="141" y="93"/>
                    </a:lnTo>
                    <a:lnTo>
                      <a:pt x="135" y="93"/>
                    </a:lnTo>
                    <a:lnTo>
                      <a:pt x="123" y="91"/>
                    </a:lnTo>
                    <a:lnTo>
                      <a:pt x="114" y="91"/>
                    </a:lnTo>
                    <a:lnTo>
                      <a:pt x="104" y="89"/>
                    </a:lnTo>
                    <a:lnTo>
                      <a:pt x="97" y="89"/>
                    </a:lnTo>
                    <a:lnTo>
                      <a:pt x="87" y="89"/>
                    </a:lnTo>
                    <a:lnTo>
                      <a:pt x="80" y="89"/>
                    </a:lnTo>
                    <a:lnTo>
                      <a:pt x="72" y="87"/>
                    </a:lnTo>
                    <a:lnTo>
                      <a:pt x="65" y="87"/>
                    </a:lnTo>
                    <a:lnTo>
                      <a:pt x="55" y="86"/>
                    </a:lnTo>
                    <a:lnTo>
                      <a:pt x="47" y="84"/>
                    </a:lnTo>
                    <a:lnTo>
                      <a:pt x="36" y="82"/>
                    </a:lnTo>
                    <a:lnTo>
                      <a:pt x="27" y="80"/>
                    </a:lnTo>
                    <a:lnTo>
                      <a:pt x="19" y="80"/>
                    </a:lnTo>
                    <a:lnTo>
                      <a:pt x="13" y="78"/>
                    </a:lnTo>
                    <a:lnTo>
                      <a:pt x="8" y="78"/>
                    </a:lnTo>
                    <a:lnTo>
                      <a:pt x="0" y="78"/>
                    </a:lnTo>
                    <a:lnTo>
                      <a:pt x="4" y="84"/>
                    </a:lnTo>
                    <a:lnTo>
                      <a:pt x="8" y="91"/>
                    </a:lnTo>
                    <a:lnTo>
                      <a:pt x="9" y="99"/>
                    </a:lnTo>
                    <a:lnTo>
                      <a:pt x="13" y="106"/>
                    </a:lnTo>
                    <a:lnTo>
                      <a:pt x="17" y="112"/>
                    </a:lnTo>
                    <a:lnTo>
                      <a:pt x="21" y="118"/>
                    </a:lnTo>
                    <a:lnTo>
                      <a:pt x="23" y="125"/>
                    </a:lnTo>
                    <a:lnTo>
                      <a:pt x="28" y="131"/>
                    </a:lnTo>
                    <a:lnTo>
                      <a:pt x="34" y="141"/>
                    </a:lnTo>
                    <a:lnTo>
                      <a:pt x="42" y="152"/>
                    </a:lnTo>
                    <a:lnTo>
                      <a:pt x="51" y="160"/>
                    </a:lnTo>
                    <a:lnTo>
                      <a:pt x="61" y="169"/>
                    </a:lnTo>
                    <a:lnTo>
                      <a:pt x="70" y="175"/>
                    </a:lnTo>
                    <a:lnTo>
                      <a:pt x="82" y="183"/>
                    </a:lnTo>
                    <a:lnTo>
                      <a:pt x="87" y="184"/>
                    </a:lnTo>
                    <a:lnTo>
                      <a:pt x="93" y="188"/>
                    </a:lnTo>
                    <a:lnTo>
                      <a:pt x="101" y="190"/>
                    </a:lnTo>
                    <a:lnTo>
                      <a:pt x="106" y="192"/>
                    </a:lnTo>
                    <a:lnTo>
                      <a:pt x="114" y="194"/>
                    </a:lnTo>
                    <a:lnTo>
                      <a:pt x="120" y="196"/>
                    </a:lnTo>
                    <a:lnTo>
                      <a:pt x="127" y="198"/>
                    </a:lnTo>
                    <a:lnTo>
                      <a:pt x="135" y="200"/>
                    </a:lnTo>
                    <a:lnTo>
                      <a:pt x="142" y="200"/>
                    </a:lnTo>
                    <a:lnTo>
                      <a:pt x="150" y="202"/>
                    </a:lnTo>
                    <a:lnTo>
                      <a:pt x="160" y="203"/>
                    </a:lnTo>
                    <a:lnTo>
                      <a:pt x="169" y="205"/>
                    </a:lnTo>
                    <a:lnTo>
                      <a:pt x="171" y="213"/>
                    </a:lnTo>
                    <a:lnTo>
                      <a:pt x="171" y="221"/>
                    </a:lnTo>
                    <a:lnTo>
                      <a:pt x="171" y="230"/>
                    </a:lnTo>
                    <a:lnTo>
                      <a:pt x="171" y="240"/>
                    </a:lnTo>
                    <a:lnTo>
                      <a:pt x="169" y="247"/>
                    </a:lnTo>
                    <a:lnTo>
                      <a:pt x="167" y="257"/>
                    </a:lnTo>
                    <a:lnTo>
                      <a:pt x="163" y="266"/>
                    </a:lnTo>
                    <a:lnTo>
                      <a:pt x="162" y="276"/>
                    </a:lnTo>
                    <a:lnTo>
                      <a:pt x="156" y="285"/>
                    </a:lnTo>
                    <a:lnTo>
                      <a:pt x="152" y="295"/>
                    </a:lnTo>
                    <a:lnTo>
                      <a:pt x="148" y="304"/>
                    </a:lnTo>
                    <a:lnTo>
                      <a:pt x="142" y="314"/>
                    </a:lnTo>
                    <a:lnTo>
                      <a:pt x="137" y="323"/>
                    </a:lnTo>
                    <a:lnTo>
                      <a:pt x="131" y="333"/>
                    </a:lnTo>
                    <a:lnTo>
                      <a:pt x="123" y="342"/>
                    </a:lnTo>
                    <a:lnTo>
                      <a:pt x="120" y="354"/>
                    </a:lnTo>
                    <a:lnTo>
                      <a:pt x="110" y="363"/>
                    </a:lnTo>
                    <a:lnTo>
                      <a:pt x="103" y="373"/>
                    </a:lnTo>
                    <a:lnTo>
                      <a:pt x="95" y="382"/>
                    </a:lnTo>
                    <a:lnTo>
                      <a:pt x="87" y="392"/>
                    </a:lnTo>
                    <a:lnTo>
                      <a:pt x="80" y="401"/>
                    </a:lnTo>
                    <a:lnTo>
                      <a:pt x="74" y="411"/>
                    </a:lnTo>
                    <a:lnTo>
                      <a:pt x="65" y="420"/>
                    </a:lnTo>
                    <a:lnTo>
                      <a:pt x="59" y="432"/>
                    </a:lnTo>
                    <a:lnTo>
                      <a:pt x="49" y="441"/>
                    </a:lnTo>
                    <a:lnTo>
                      <a:pt x="42" y="451"/>
                    </a:lnTo>
                    <a:lnTo>
                      <a:pt x="36" y="460"/>
                    </a:lnTo>
                    <a:lnTo>
                      <a:pt x="28" y="471"/>
                    </a:lnTo>
                    <a:lnTo>
                      <a:pt x="23" y="481"/>
                    </a:lnTo>
                    <a:lnTo>
                      <a:pt x="17" y="491"/>
                    </a:lnTo>
                    <a:lnTo>
                      <a:pt x="9" y="502"/>
                    </a:lnTo>
                    <a:lnTo>
                      <a:pt x="4" y="511"/>
                    </a:lnTo>
                    <a:lnTo>
                      <a:pt x="4" y="523"/>
                    </a:lnTo>
                    <a:lnTo>
                      <a:pt x="6" y="534"/>
                    </a:lnTo>
                    <a:lnTo>
                      <a:pt x="8" y="544"/>
                    </a:lnTo>
                    <a:lnTo>
                      <a:pt x="9" y="555"/>
                    </a:lnTo>
                    <a:lnTo>
                      <a:pt x="9" y="563"/>
                    </a:lnTo>
                    <a:lnTo>
                      <a:pt x="13" y="572"/>
                    </a:lnTo>
                    <a:lnTo>
                      <a:pt x="17" y="578"/>
                    </a:lnTo>
                    <a:lnTo>
                      <a:pt x="19" y="587"/>
                    </a:lnTo>
                    <a:lnTo>
                      <a:pt x="23" y="593"/>
                    </a:lnTo>
                    <a:lnTo>
                      <a:pt x="27" y="599"/>
                    </a:lnTo>
                    <a:lnTo>
                      <a:pt x="28" y="605"/>
                    </a:lnTo>
                    <a:lnTo>
                      <a:pt x="34" y="610"/>
                    </a:lnTo>
                    <a:lnTo>
                      <a:pt x="42" y="620"/>
                    </a:lnTo>
                    <a:lnTo>
                      <a:pt x="55" y="627"/>
                    </a:lnTo>
                    <a:lnTo>
                      <a:pt x="59" y="629"/>
                    </a:lnTo>
                    <a:lnTo>
                      <a:pt x="65" y="631"/>
                    </a:lnTo>
                    <a:lnTo>
                      <a:pt x="70" y="633"/>
                    </a:lnTo>
                    <a:lnTo>
                      <a:pt x="76" y="637"/>
                    </a:lnTo>
                    <a:lnTo>
                      <a:pt x="84" y="637"/>
                    </a:lnTo>
                    <a:lnTo>
                      <a:pt x="89" y="639"/>
                    </a:lnTo>
                    <a:lnTo>
                      <a:pt x="95" y="639"/>
                    </a:lnTo>
                    <a:lnTo>
                      <a:pt x="103" y="641"/>
                    </a:lnTo>
                    <a:lnTo>
                      <a:pt x="110" y="639"/>
                    </a:lnTo>
                    <a:lnTo>
                      <a:pt x="116" y="639"/>
                    </a:lnTo>
                    <a:lnTo>
                      <a:pt x="123" y="639"/>
                    </a:lnTo>
                    <a:lnTo>
                      <a:pt x="131" y="639"/>
                    </a:lnTo>
                    <a:lnTo>
                      <a:pt x="139" y="639"/>
                    </a:lnTo>
                    <a:lnTo>
                      <a:pt x="148" y="637"/>
                    </a:lnTo>
                    <a:lnTo>
                      <a:pt x="154" y="637"/>
                    </a:lnTo>
                    <a:lnTo>
                      <a:pt x="163" y="637"/>
                    </a:lnTo>
                    <a:lnTo>
                      <a:pt x="171" y="633"/>
                    </a:lnTo>
                    <a:lnTo>
                      <a:pt x="181" y="631"/>
                    </a:lnTo>
                    <a:lnTo>
                      <a:pt x="188" y="629"/>
                    </a:lnTo>
                    <a:lnTo>
                      <a:pt x="196" y="629"/>
                    </a:lnTo>
                    <a:lnTo>
                      <a:pt x="203" y="627"/>
                    </a:lnTo>
                    <a:lnTo>
                      <a:pt x="213" y="625"/>
                    </a:lnTo>
                    <a:lnTo>
                      <a:pt x="219" y="624"/>
                    </a:lnTo>
                    <a:lnTo>
                      <a:pt x="228" y="622"/>
                    </a:lnTo>
                    <a:lnTo>
                      <a:pt x="236" y="620"/>
                    </a:lnTo>
                    <a:lnTo>
                      <a:pt x="245" y="618"/>
                    </a:lnTo>
                    <a:lnTo>
                      <a:pt x="253" y="614"/>
                    </a:lnTo>
                    <a:lnTo>
                      <a:pt x="262" y="614"/>
                    </a:lnTo>
                    <a:lnTo>
                      <a:pt x="270" y="612"/>
                    </a:lnTo>
                    <a:lnTo>
                      <a:pt x="279" y="610"/>
                    </a:lnTo>
                    <a:lnTo>
                      <a:pt x="287" y="608"/>
                    </a:lnTo>
                    <a:lnTo>
                      <a:pt x="296" y="608"/>
                    </a:lnTo>
                    <a:lnTo>
                      <a:pt x="304" y="606"/>
                    </a:lnTo>
                    <a:lnTo>
                      <a:pt x="312" y="605"/>
                    </a:lnTo>
                    <a:lnTo>
                      <a:pt x="319" y="603"/>
                    </a:lnTo>
                    <a:lnTo>
                      <a:pt x="329" y="603"/>
                    </a:lnTo>
                    <a:lnTo>
                      <a:pt x="336" y="603"/>
                    </a:lnTo>
                    <a:lnTo>
                      <a:pt x="344" y="603"/>
                    </a:lnTo>
                    <a:lnTo>
                      <a:pt x="352" y="603"/>
                    </a:lnTo>
                    <a:lnTo>
                      <a:pt x="361" y="603"/>
                    </a:lnTo>
                    <a:lnTo>
                      <a:pt x="367" y="603"/>
                    </a:lnTo>
                    <a:lnTo>
                      <a:pt x="374" y="603"/>
                    </a:lnTo>
                    <a:lnTo>
                      <a:pt x="382" y="603"/>
                    </a:lnTo>
                    <a:lnTo>
                      <a:pt x="390" y="605"/>
                    </a:lnTo>
                    <a:lnTo>
                      <a:pt x="395" y="606"/>
                    </a:lnTo>
                    <a:lnTo>
                      <a:pt x="403" y="608"/>
                    </a:lnTo>
                    <a:lnTo>
                      <a:pt x="409" y="610"/>
                    </a:lnTo>
                    <a:lnTo>
                      <a:pt x="416" y="614"/>
                    </a:lnTo>
                    <a:lnTo>
                      <a:pt x="426" y="622"/>
                    </a:lnTo>
                    <a:lnTo>
                      <a:pt x="437" y="629"/>
                    </a:lnTo>
                    <a:lnTo>
                      <a:pt x="447" y="637"/>
                    </a:lnTo>
                    <a:lnTo>
                      <a:pt x="456" y="646"/>
                    </a:lnTo>
                    <a:lnTo>
                      <a:pt x="466" y="652"/>
                    </a:lnTo>
                    <a:lnTo>
                      <a:pt x="475" y="662"/>
                    </a:lnTo>
                    <a:lnTo>
                      <a:pt x="485" y="669"/>
                    </a:lnTo>
                    <a:lnTo>
                      <a:pt x="494" y="679"/>
                    </a:lnTo>
                    <a:lnTo>
                      <a:pt x="502" y="688"/>
                    </a:lnTo>
                    <a:lnTo>
                      <a:pt x="511" y="696"/>
                    </a:lnTo>
                    <a:lnTo>
                      <a:pt x="519" y="705"/>
                    </a:lnTo>
                    <a:lnTo>
                      <a:pt x="528" y="715"/>
                    </a:lnTo>
                    <a:lnTo>
                      <a:pt x="536" y="722"/>
                    </a:lnTo>
                    <a:lnTo>
                      <a:pt x="546" y="732"/>
                    </a:lnTo>
                    <a:lnTo>
                      <a:pt x="553" y="740"/>
                    </a:lnTo>
                    <a:lnTo>
                      <a:pt x="561" y="749"/>
                    </a:lnTo>
                    <a:lnTo>
                      <a:pt x="568" y="759"/>
                    </a:lnTo>
                    <a:lnTo>
                      <a:pt x="576" y="766"/>
                    </a:lnTo>
                    <a:lnTo>
                      <a:pt x="584" y="776"/>
                    </a:lnTo>
                    <a:lnTo>
                      <a:pt x="591" y="785"/>
                    </a:lnTo>
                    <a:lnTo>
                      <a:pt x="597" y="795"/>
                    </a:lnTo>
                    <a:lnTo>
                      <a:pt x="604" y="804"/>
                    </a:lnTo>
                    <a:lnTo>
                      <a:pt x="610" y="814"/>
                    </a:lnTo>
                    <a:lnTo>
                      <a:pt x="618" y="823"/>
                    </a:lnTo>
                    <a:lnTo>
                      <a:pt x="623" y="831"/>
                    </a:lnTo>
                    <a:lnTo>
                      <a:pt x="631" y="840"/>
                    </a:lnTo>
                    <a:lnTo>
                      <a:pt x="637" y="850"/>
                    </a:lnTo>
                    <a:lnTo>
                      <a:pt x="642" y="859"/>
                    </a:lnTo>
                    <a:lnTo>
                      <a:pt x="648" y="869"/>
                    </a:lnTo>
                    <a:lnTo>
                      <a:pt x="654" y="878"/>
                    </a:lnTo>
                    <a:lnTo>
                      <a:pt x="662" y="888"/>
                    </a:lnTo>
                    <a:lnTo>
                      <a:pt x="667" y="899"/>
                    </a:lnTo>
                    <a:lnTo>
                      <a:pt x="673" y="909"/>
                    </a:lnTo>
                    <a:lnTo>
                      <a:pt x="679" y="918"/>
                    </a:lnTo>
                    <a:lnTo>
                      <a:pt x="684" y="928"/>
                    </a:lnTo>
                    <a:lnTo>
                      <a:pt x="688" y="937"/>
                    </a:lnTo>
                    <a:lnTo>
                      <a:pt x="694" y="947"/>
                    </a:lnTo>
                    <a:lnTo>
                      <a:pt x="700" y="958"/>
                    </a:lnTo>
                    <a:lnTo>
                      <a:pt x="705" y="968"/>
                    </a:lnTo>
                    <a:lnTo>
                      <a:pt x="711" y="977"/>
                    </a:lnTo>
                    <a:lnTo>
                      <a:pt x="715" y="987"/>
                    </a:lnTo>
                    <a:lnTo>
                      <a:pt x="722" y="996"/>
                    </a:lnTo>
                    <a:lnTo>
                      <a:pt x="726" y="1008"/>
                    </a:lnTo>
                    <a:lnTo>
                      <a:pt x="732" y="1017"/>
                    </a:lnTo>
                    <a:lnTo>
                      <a:pt x="736" y="1027"/>
                    </a:lnTo>
                    <a:lnTo>
                      <a:pt x="743" y="1038"/>
                    </a:lnTo>
                    <a:lnTo>
                      <a:pt x="747" y="1049"/>
                    </a:lnTo>
                    <a:lnTo>
                      <a:pt x="753" y="1059"/>
                    </a:lnTo>
                    <a:lnTo>
                      <a:pt x="758" y="1068"/>
                    </a:lnTo>
                    <a:lnTo>
                      <a:pt x="762" y="1080"/>
                    </a:lnTo>
                    <a:lnTo>
                      <a:pt x="768" y="1089"/>
                    </a:lnTo>
                    <a:lnTo>
                      <a:pt x="774" y="1101"/>
                    </a:lnTo>
                    <a:lnTo>
                      <a:pt x="779" y="1110"/>
                    </a:lnTo>
                    <a:lnTo>
                      <a:pt x="783" y="1120"/>
                    </a:lnTo>
                    <a:lnTo>
                      <a:pt x="789" y="1131"/>
                    </a:lnTo>
                    <a:lnTo>
                      <a:pt x="796" y="1143"/>
                    </a:lnTo>
                    <a:lnTo>
                      <a:pt x="800" y="1152"/>
                    </a:lnTo>
                    <a:lnTo>
                      <a:pt x="806" y="1163"/>
                    </a:lnTo>
                    <a:lnTo>
                      <a:pt x="810" y="1175"/>
                    </a:lnTo>
                    <a:lnTo>
                      <a:pt x="817" y="1186"/>
                    </a:lnTo>
                    <a:lnTo>
                      <a:pt x="823" y="1198"/>
                    </a:lnTo>
                    <a:lnTo>
                      <a:pt x="827" y="1209"/>
                    </a:lnTo>
                    <a:lnTo>
                      <a:pt x="835" y="1219"/>
                    </a:lnTo>
                    <a:lnTo>
                      <a:pt x="840" y="1232"/>
                    </a:lnTo>
                    <a:lnTo>
                      <a:pt x="833" y="1234"/>
                    </a:lnTo>
                    <a:lnTo>
                      <a:pt x="827" y="1241"/>
                    </a:lnTo>
                    <a:lnTo>
                      <a:pt x="823" y="1247"/>
                    </a:lnTo>
                    <a:lnTo>
                      <a:pt x="823" y="1257"/>
                    </a:lnTo>
                    <a:lnTo>
                      <a:pt x="821" y="1264"/>
                    </a:lnTo>
                    <a:lnTo>
                      <a:pt x="823" y="1276"/>
                    </a:lnTo>
                    <a:lnTo>
                      <a:pt x="823" y="1281"/>
                    </a:lnTo>
                    <a:lnTo>
                      <a:pt x="825" y="1285"/>
                    </a:lnTo>
                    <a:lnTo>
                      <a:pt x="827" y="1293"/>
                    </a:lnTo>
                    <a:lnTo>
                      <a:pt x="831" y="1298"/>
                    </a:lnTo>
                    <a:lnTo>
                      <a:pt x="835" y="1310"/>
                    </a:lnTo>
                    <a:lnTo>
                      <a:pt x="838" y="1321"/>
                    </a:lnTo>
                    <a:lnTo>
                      <a:pt x="844" y="1331"/>
                    </a:lnTo>
                    <a:lnTo>
                      <a:pt x="852" y="1344"/>
                    </a:lnTo>
                    <a:lnTo>
                      <a:pt x="855" y="1354"/>
                    </a:lnTo>
                    <a:lnTo>
                      <a:pt x="861" y="1363"/>
                    </a:lnTo>
                    <a:lnTo>
                      <a:pt x="867" y="1373"/>
                    </a:lnTo>
                    <a:lnTo>
                      <a:pt x="873" y="1380"/>
                    </a:lnTo>
                    <a:lnTo>
                      <a:pt x="874" y="1376"/>
                    </a:lnTo>
                    <a:lnTo>
                      <a:pt x="871" y="1369"/>
                    </a:lnTo>
                    <a:lnTo>
                      <a:pt x="869" y="1361"/>
                    </a:lnTo>
                    <a:lnTo>
                      <a:pt x="867" y="1354"/>
                    </a:lnTo>
                    <a:lnTo>
                      <a:pt x="865" y="1346"/>
                    </a:lnTo>
                    <a:lnTo>
                      <a:pt x="863" y="1338"/>
                    </a:lnTo>
                    <a:lnTo>
                      <a:pt x="861" y="1331"/>
                    </a:lnTo>
                    <a:lnTo>
                      <a:pt x="859" y="1323"/>
                    </a:lnTo>
                    <a:lnTo>
                      <a:pt x="857" y="1317"/>
                    </a:lnTo>
                    <a:lnTo>
                      <a:pt x="855" y="1308"/>
                    </a:lnTo>
                    <a:lnTo>
                      <a:pt x="854" y="1300"/>
                    </a:lnTo>
                    <a:lnTo>
                      <a:pt x="852" y="1293"/>
                    </a:lnTo>
                    <a:lnTo>
                      <a:pt x="852" y="1285"/>
                    </a:lnTo>
                    <a:lnTo>
                      <a:pt x="848" y="1279"/>
                    </a:lnTo>
                    <a:lnTo>
                      <a:pt x="846" y="1272"/>
                    </a:lnTo>
                    <a:lnTo>
                      <a:pt x="844" y="1264"/>
                    </a:lnTo>
                    <a:lnTo>
                      <a:pt x="844" y="1257"/>
                    </a:lnTo>
                    <a:lnTo>
                      <a:pt x="850" y="1255"/>
                    </a:lnTo>
                    <a:lnTo>
                      <a:pt x="857" y="1255"/>
                    </a:lnTo>
                    <a:lnTo>
                      <a:pt x="863" y="1257"/>
                    </a:lnTo>
                    <a:lnTo>
                      <a:pt x="871" y="1259"/>
                    </a:lnTo>
                    <a:lnTo>
                      <a:pt x="878" y="1260"/>
                    </a:lnTo>
                    <a:lnTo>
                      <a:pt x="884" y="1264"/>
                    </a:lnTo>
                    <a:lnTo>
                      <a:pt x="892" y="1266"/>
                    </a:lnTo>
                    <a:lnTo>
                      <a:pt x="899" y="1270"/>
                    </a:lnTo>
                    <a:lnTo>
                      <a:pt x="899" y="1279"/>
                    </a:lnTo>
                    <a:lnTo>
                      <a:pt x="899" y="1291"/>
                    </a:lnTo>
                    <a:lnTo>
                      <a:pt x="899" y="1297"/>
                    </a:lnTo>
                    <a:lnTo>
                      <a:pt x="901" y="1302"/>
                    </a:lnTo>
                    <a:lnTo>
                      <a:pt x="901" y="1308"/>
                    </a:lnTo>
                    <a:lnTo>
                      <a:pt x="903" y="1316"/>
                    </a:lnTo>
                    <a:lnTo>
                      <a:pt x="903" y="1319"/>
                    </a:lnTo>
                    <a:lnTo>
                      <a:pt x="903" y="1327"/>
                    </a:lnTo>
                    <a:lnTo>
                      <a:pt x="905" y="1331"/>
                    </a:lnTo>
                    <a:lnTo>
                      <a:pt x="907" y="1338"/>
                    </a:lnTo>
                    <a:lnTo>
                      <a:pt x="907" y="1344"/>
                    </a:lnTo>
                    <a:lnTo>
                      <a:pt x="909" y="1350"/>
                    </a:lnTo>
                    <a:lnTo>
                      <a:pt x="911" y="1355"/>
                    </a:lnTo>
                    <a:lnTo>
                      <a:pt x="912" y="1363"/>
                    </a:lnTo>
                    <a:lnTo>
                      <a:pt x="912" y="1367"/>
                    </a:lnTo>
                    <a:lnTo>
                      <a:pt x="914" y="1375"/>
                    </a:lnTo>
                    <a:lnTo>
                      <a:pt x="916" y="1380"/>
                    </a:lnTo>
                    <a:lnTo>
                      <a:pt x="918" y="1386"/>
                    </a:lnTo>
                    <a:lnTo>
                      <a:pt x="918" y="1392"/>
                    </a:lnTo>
                    <a:lnTo>
                      <a:pt x="920" y="1399"/>
                    </a:lnTo>
                    <a:lnTo>
                      <a:pt x="922" y="1405"/>
                    </a:lnTo>
                    <a:lnTo>
                      <a:pt x="924" y="1411"/>
                    </a:lnTo>
                    <a:lnTo>
                      <a:pt x="926" y="1416"/>
                    </a:lnTo>
                    <a:lnTo>
                      <a:pt x="928" y="1422"/>
                    </a:lnTo>
                    <a:lnTo>
                      <a:pt x="928" y="1430"/>
                    </a:lnTo>
                    <a:lnTo>
                      <a:pt x="930" y="1435"/>
                    </a:lnTo>
                    <a:lnTo>
                      <a:pt x="931" y="1443"/>
                    </a:lnTo>
                    <a:lnTo>
                      <a:pt x="933" y="1449"/>
                    </a:lnTo>
                    <a:lnTo>
                      <a:pt x="935" y="1454"/>
                    </a:lnTo>
                    <a:lnTo>
                      <a:pt x="937" y="1462"/>
                    </a:lnTo>
                    <a:lnTo>
                      <a:pt x="937" y="1466"/>
                    </a:lnTo>
                    <a:lnTo>
                      <a:pt x="939" y="1473"/>
                    </a:lnTo>
                    <a:lnTo>
                      <a:pt x="939" y="1479"/>
                    </a:lnTo>
                    <a:lnTo>
                      <a:pt x="941" y="1485"/>
                    </a:lnTo>
                    <a:lnTo>
                      <a:pt x="943" y="1490"/>
                    </a:lnTo>
                    <a:lnTo>
                      <a:pt x="943" y="1498"/>
                    </a:lnTo>
                    <a:lnTo>
                      <a:pt x="945" y="1504"/>
                    </a:lnTo>
                    <a:lnTo>
                      <a:pt x="947" y="1509"/>
                    </a:lnTo>
                    <a:lnTo>
                      <a:pt x="947" y="1515"/>
                    </a:lnTo>
                    <a:lnTo>
                      <a:pt x="949" y="1521"/>
                    </a:lnTo>
                    <a:lnTo>
                      <a:pt x="949" y="1527"/>
                    </a:lnTo>
                    <a:lnTo>
                      <a:pt x="950" y="1532"/>
                    </a:lnTo>
                    <a:lnTo>
                      <a:pt x="950" y="1538"/>
                    </a:lnTo>
                    <a:lnTo>
                      <a:pt x="952" y="1546"/>
                    </a:lnTo>
                    <a:lnTo>
                      <a:pt x="952" y="1551"/>
                    </a:lnTo>
                    <a:lnTo>
                      <a:pt x="954" y="1557"/>
                    </a:lnTo>
                    <a:lnTo>
                      <a:pt x="954" y="1563"/>
                    </a:lnTo>
                    <a:lnTo>
                      <a:pt x="956" y="1568"/>
                    </a:lnTo>
                    <a:lnTo>
                      <a:pt x="956" y="1574"/>
                    </a:lnTo>
                    <a:lnTo>
                      <a:pt x="956" y="1582"/>
                    </a:lnTo>
                    <a:lnTo>
                      <a:pt x="956" y="1586"/>
                    </a:lnTo>
                    <a:lnTo>
                      <a:pt x="956" y="1591"/>
                    </a:lnTo>
                    <a:lnTo>
                      <a:pt x="956" y="1599"/>
                    </a:lnTo>
                    <a:lnTo>
                      <a:pt x="958" y="1605"/>
                    </a:lnTo>
                    <a:lnTo>
                      <a:pt x="956" y="1614"/>
                    </a:lnTo>
                    <a:lnTo>
                      <a:pt x="956" y="1625"/>
                    </a:lnTo>
                    <a:lnTo>
                      <a:pt x="956" y="1637"/>
                    </a:lnTo>
                    <a:lnTo>
                      <a:pt x="956" y="1648"/>
                    </a:lnTo>
                    <a:lnTo>
                      <a:pt x="952" y="1654"/>
                    </a:lnTo>
                    <a:lnTo>
                      <a:pt x="949" y="1660"/>
                    </a:lnTo>
                    <a:lnTo>
                      <a:pt x="947" y="1665"/>
                    </a:lnTo>
                    <a:lnTo>
                      <a:pt x="945" y="1673"/>
                    </a:lnTo>
                    <a:lnTo>
                      <a:pt x="939" y="1679"/>
                    </a:lnTo>
                    <a:lnTo>
                      <a:pt x="937" y="1686"/>
                    </a:lnTo>
                    <a:lnTo>
                      <a:pt x="933" y="1694"/>
                    </a:lnTo>
                    <a:lnTo>
                      <a:pt x="930" y="1701"/>
                    </a:lnTo>
                    <a:lnTo>
                      <a:pt x="926" y="1709"/>
                    </a:lnTo>
                    <a:lnTo>
                      <a:pt x="922" y="1715"/>
                    </a:lnTo>
                    <a:lnTo>
                      <a:pt x="920" y="1721"/>
                    </a:lnTo>
                    <a:lnTo>
                      <a:pt x="916" y="1728"/>
                    </a:lnTo>
                    <a:lnTo>
                      <a:pt x="912" y="1732"/>
                    </a:lnTo>
                    <a:lnTo>
                      <a:pt x="911" y="1738"/>
                    </a:lnTo>
                    <a:lnTo>
                      <a:pt x="907" y="1741"/>
                    </a:lnTo>
                    <a:lnTo>
                      <a:pt x="907" y="1747"/>
                    </a:lnTo>
                    <a:lnTo>
                      <a:pt x="1076" y="1753"/>
                    </a:lnTo>
                    <a:lnTo>
                      <a:pt x="1078" y="1747"/>
                    </a:lnTo>
                    <a:lnTo>
                      <a:pt x="1078" y="1741"/>
                    </a:lnTo>
                    <a:lnTo>
                      <a:pt x="1080" y="1734"/>
                    </a:lnTo>
                    <a:lnTo>
                      <a:pt x="1082" y="1728"/>
                    </a:lnTo>
                    <a:lnTo>
                      <a:pt x="1084" y="1721"/>
                    </a:lnTo>
                    <a:lnTo>
                      <a:pt x="1085" y="1713"/>
                    </a:lnTo>
                    <a:lnTo>
                      <a:pt x="1085" y="1703"/>
                    </a:lnTo>
                    <a:lnTo>
                      <a:pt x="1087" y="1696"/>
                    </a:lnTo>
                    <a:lnTo>
                      <a:pt x="1089" y="1686"/>
                    </a:lnTo>
                    <a:lnTo>
                      <a:pt x="1091" y="1677"/>
                    </a:lnTo>
                    <a:lnTo>
                      <a:pt x="1093" y="1667"/>
                    </a:lnTo>
                    <a:lnTo>
                      <a:pt x="1095" y="1660"/>
                    </a:lnTo>
                    <a:lnTo>
                      <a:pt x="1095" y="1648"/>
                    </a:lnTo>
                    <a:lnTo>
                      <a:pt x="1097" y="1639"/>
                    </a:lnTo>
                    <a:lnTo>
                      <a:pt x="1099" y="1629"/>
                    </a:lnTo>
                    <a:lnTo>
                      <a:pt x="1103" y="1620"/>
                    </a:lnTo>
                    <a:lnTo>
                      <a:pt x="1103" y="1610"/>
                    </a:lnTo>
                    <a:lnTo>
                      <a:pt x="1104" y="1599"/>
                    </a:lnTo>
                    <a:lnTo>
                      <a:pt x="1106" y="1589"/>
                    </a:lnTo>
                    <a:lnTo>
                      <a:pt x="1108" y="1580"/>
                    </a:lnTo>
                    <a:lnTo>
                      <a:pt x="1110" y="1568"/>
                    </a:lnTo>
                    <a:lnTo>
                      <a:pt x="1112" y="1559"/>
                    </a:lnTo>
                    <a:lnTo>
                      <a:pt x="1112" y="1551"/>
                    </a:lnTo>
                    <a:lnTo>
                      <a:pt x="1116" y="1542"/>
                    </a:lnTo>
                    <a:lnTo>
                      <a:pt x="1116" y="1532"/>
                    </a:lnTo>
                    <a:lnTo>
                      <a:pt x="1120" y="1527"/>
                    </a:lnTo>
                    <a:lnTo>
                      <a:pt x="1122" y="1519"/>
                    </a:lnTo>
                    <a:lnTo>
                      <a:pt x="1123" y="1511"/>
                    </a:lnTo>
                    <a:lnTo>
                      <a:pt x="1125" y="1504"/>
                    </a:lnTo>
                    <a:lnTo>
                      <a:pt x="1127" y="1500"/>
                    </a:lnTo>
                    <a:lnTo>
                      <a:pt x="1131" y="1492"/>
                    </a:lnTo>
                    <a:lnTo>
                      <a:pt x="1133" y="1490"/>
                    </a:lnTo>
                    <a:lnTo>
                      <a:pt x="1141" y="1492"/>
                    </a:lnTo>
                    <a:lnTo>
                      <a:pt x="1146" y="1494"/>
                    </a:lnTo>
                    <a:lnTo>
                      <a:pt x="1152" y="1498"/>
                    </a:lnTo>
                    <a:lnTo>
                      <a:pt x="1158" y="1504"/>
                    </a:lnTo>
                    <a:lnTo>
                      <a:pt x="1162" y="1509"/>
                    </a:lnTo>
                    <a:lnTo>
                      <a:pt x="1167" y="1513"/>
                    </a:lnTo>
                    <a:lnTo>
                      <a:pt x="1171" y="1521"/>
                    </a:lnTo>
                    <a:lnTo>
                      <a:pt x="1175" y="1528"/>
                    </a:lnTo>
                    <a:lnTo>
                      <a:pt x="1177" y="1534"/>
                    </a:lnTo>
                    <a:lnTo>
                      <a:pt x="1179" y="1542"/>
                    </a:lnTo>
                    <a:lnTo>
                      <a:pt x="1181" y="1549"/>
                    </a:lnTo>
                    <a:lnTo>
                      <a:pt x="1184" y="1557"/>
                    </a:lnTo>
                    <a:lnTo>
                      <a:pt x="1184" y="1565"/>
                    </a:lnTo>
                    <a:lnTo>
                      <a:pt x="1186" y="1574"/>
                    </a:lnTo>
                    <a:lnTo>
                      <a:pt x="1186" y="1582"/>
                    </a:lnTo>
                    <a:lnTo>
                      <a:pt x="1188" y="1591"/>
                    </a:lnTo>
                    <a:lnTo>
                      <a:pt x="1186" y="1601"/>
                    </a:lnTo>
                    <a:lnTo>
                      <a:pt x="1186" y="1608"/>
                    </a:lnTo>
                    <a:lnTo>
                      <a:pt x="1186" y="1618"/>
                    </a:lnTo>
                    <a:lnTo>
                      <a:pt x="1186" y="1627"/>
                    </a:lnTo>
                    <a:lnTo>
                      <a:pt x="1184" y="1635"/>
                    </a:lnTo>
                    <a:lnTo>
                      <a:pt x="1184" y="1644"/>
                    </a:lnTo>
                    <a:lnTo>
                      <a:pt x="1184" y="1652"/>
                    </a:lnTo>
                    <a:lnTo>
                      <a:pt x="1184" y="1662"/>
                    </a:lnTo>
                    <a:lnTo>
                      <a:pt x="1181" y="1669"/>
                    </a:lnTo>
                    <a:lnTo>
                      <a:pt x="1181" y="1677"/>
                    </a:lnTo>
                    <a:lnTo>
                      <a:pt x="1179" y="1684"/>
                    </a:lnTo>
                    <a:lnTo>
                      <a:pt x="1179" y="1694"/>
                    </a:lnTo>
                    <a:lnTo>
                      <a:pt x="1177" y="1700"/>
                    </a:lnTo>
                    <a:lnTo>
                      <a:pt x="1177" y="1707"/>
                    </a:lnTo>
                    <a:lnTo>
                      <a:pt x="1177" y="1713"/>
                    </a:lnTo>
                    <a:lnTo>
                      <a:pt x="1177" y="1721"/>
                    </a:lnTo>
                    <a:lnTo>
                      <a:pt x="1327" y="1713"/>
                    </a:lnTo>
                    <a:lnTo>
                      <a:pt x="1327" y="1701"/>
                    </a:lnTo>
                    <a:lnTo>
                      <a:pt x="1329" y="1690"/>
                    </a:lnTo>
                    <a:lnTo>
                      <a:pt x="1329" y="1679"/>
                    </a:lnTo>
                    <a:lnTo>
                      <a:pt x="1331" y="1667"/>
                    </a:lnTo>
                    <a:lnTo>
                      <a:pt x="1333" y="1656"/>
                    </a:lnTo>
                    <a:lnTo>
                      <a:pt x="1335" y="1646"/>
                    </a:lnTo>
                    <a:lnTo>
                      <a:pt x="1335" y="1635"/>
                    </a:lnTo>
                    <a:lnTo>
                      <a:pt x="1336" y="1624"/>
                    </a:lnTo>
                    <a:lnTo>
                      <a:pt x="1336" y="1612"/>
                    </a:lnTo>
                    <a:lnTo>
                      <a:pt x="1338" y="1603"/>
                    </a:lnTo>
                    <a:lnTo>
                      <a:pt x="1340" y="1591"/>
                    </a:lnTo>
                    <a:lnTo>
                      <a:pt x="1342" y="1582"/>
                    </a:lnTo>
                    <a:lnTo>
                      <a:pt x="1344" y="1570"/>
                    </a:lnTo>
                    <a:lnTo>
                      <a:pt x="1346" y="1559"/>
                    </a:lnTo>
                    <a:lnTo>
                      <a:pt x="1346" y="1549"/>
                    </a:lnTo>
                    <a:lnTo>
                      <a:pt x="1348" y="1540"/>
                    </a:lnTo>
                    <a:lnTo>
                      <a:pt x="1350" y="1528"/>
                    </a:lnTo>
                    <a:lnTo>
                      <a:pt x="1352" y="1519"/>
                    </a:lnTo>
                    <a:lnTo>
                      <a:pt x="1354" y="1508"/>
                    </a:lnTo>
                    <a:lnTo>
                      <a:pt x="1355" y="1498"/>
                    </a:lnTo>
                    <a:lnTo>
                      <a:pt x="1355" y="1489"/>
                    </a:lnTo>
                    <a:lnTo>
                      <a:pt x="1357" y="1479"/>
                    </a:lnTo>
                    <a:lnTo>
                      <a:pt x="1361" y="1470"/>
                    </a:lnTo>
                    <a:lnTo>
                      <a:pt x="1363" y="1460"/>
                    </a:lnTo>
                    <a:lnTo>
                      <a:pt x="1365" y="1451"/>
                    </a:lnTo>
                    <a:lnTo>
                      <a:pt x="1367" y="1441"/>
                    </a:lnTo>
                    <a:lnTo>
                      <a:pt x="1371" y="1433"/>
                    </a:lnTo>
                    <a:lnTo>
                      <a:pt x="1374" y="1424"/>
                    </a:lnTo>
                    <a:lnTo>
                      <a:pt x="1376" y="1414"/>
                    </a:lnTo>
                    <a:lnTo>
                      <a:pt x="1380" y="1407"/>
                    </a:lnTo>
                    <a:lnTo>
                      <a:pt x="1384" y="1399"/>
                    </a:lnTo>
                    <a:lnTo>
                      <a:pt x="1388" y="1392"/>
                    </a:lnTo>
                    <a:lnTo>
                      <a:pt x="1392" y="1382"/>
                    </a:lnTo>
                    <a:lnTo>
                      <a:pt x="1393" y="1375"/>
                    </a:lnTo>
                    <a:lnTo>
                      <a:pt x="1399" y="1367"/>
                    </a:lnTo>
                    <a:lnTo>
                      <a:pt x="1403" y="1361"/>
                    </a:lnTo>
                    <a:lnTo>
                      <a:pt x="1407" y="1354"/>
                    </a:lnTo>
                    <a:lnTo>
                      <a:pt x="1412" y="1346"/>
                    </a:lnTo>
                    <a:lnTo>
                      <a:pt x="1416" y="1340"/>
                    </a:lnTo>
                    <a:lnTo>
                      <a:pt x="1422" y="1335"/>
                    </a:lnTo>
                    <a:lnTo>
                      <a:pt x="1428" y="1327"/>
                    </a:lnTo>
                    <a:lnTo>
                      <a:pt x="1431" y="1321"/>
                    </a:lnTo>
                    <a:lnTo>
                      <a:pt x="1439" y="1316"/>
                    </a:lnTo>
                    <a:lnTo>
                      <a:pt x="1445" y="1312"/>
                    </a:lnTo>
                    <a:lnTo>
                      <a:pt x="1450" y="1308"/>
                    </a:lnTo>
                    <a:lnTo>
                      <a:pt x="1458" y="1302"/>
                    </a:lnTo>
                    <a:lnTo>
                      <a:pt x="1466" y="1300"/>
                    </a:lnTo>
                    <a:lnTo>
                      <a:pt x="1473" y="1297"/>
                    </a:lnTo>
                    <a:lnTo>
                      <a:pt x="1481" y="1293"/>
                    </a:lnTo>
                    <a:lnTo>
                      <a:pt x="1488" y="1289"/>
                    </a:lnTo>
                    <a:lnTo>
                      <a:pt x="1496" y="1285"/>
                    </a:lnTo>
                    <a:lnTo>
                      <a:pt x="1506" y="1285"/>
                    </a:lnTo>
                    <a:lnTo>
                      <a:pt x="1513" y="1281"/>
                    </a:lnTo>
                    <a:lnTo>
                      <a:pt x="1523" y="1281"/>
                    </a:lnTo>
                    <a:lnTo>
                      <a:pt x="1532" y="1279"/>
                    </a:lnTo>
                    <a:lnTo>
                      <a:pt x="1544" y="1279"/>
                    </a:lnTo>
                    <a:lnTo>
                      <a:pt x="1553" y="1279"/>
                    </a:lnTo>
                    <a:lnTo>
                      <a:pt x="1565" y="1279"/>
                    </a:lnTo>
                    <a:lnTo>
                      <a:pt x="1576" y="1279"/>
                    </a:lnTo>
                    <a:lnTo>
                      <a:pt x="1587" y="1281"/>
                    </a:lnTo>
                    <a:lnTo>
                      <a:pt x="1599" y="1281"/>
                    </a:lnTo>
                    <a:lnTo>
                      <a:pt x="1612" y="1283"/>
                    </a:lnTo>
                    <a:lnTo>
                      <a:pt x="1625" y="1287"/>
                    </a:lnTo>
                    <a:lnTo>
                      <a:pt x="1639" y="1291"/>
                    </a:lnTo>
                    <a:lnTo>
                      <a:pt x="1644" y="1289"/>
                    </a:lnTo>
                    <a:lnTo>
                      <a:pt x="1652" y="1289"/>
                    </a:lnTo>
                    <a:lnTo>
                      <a:pt x="1660" y="1287"/>
                    </a:lnTo>
                    <a:lnTo>
                      <a:pt x="1667" y="1287"/>
                    </a:lnTo>
                    <a:lnTo>
                      <a:pt x="1675" y="1285"/>
                    </a:lnTo>
                    <a:lnTo>
                      <a:pt x="1681" y="1285"/>
                    </a:lnTo>
                    <a:lnTo>
                      <a:pt x="1688" y="1285"/>
                    </a:lnTo>
                    <a:lnTo>
                      <a:pt x="1696" y="1285"/>
                    </a:lnTo>
                    <a:lnTo>
                      <a:pt x="1703" y="1283"/>
                    </a:lnTo>
                    <a:lnTo>
                      <a:pt x="1709" y="1283"/>
                    </a:lnTo>
                    <a:lnTo>
                      <a:pt x="1717" y="1283"/>
                    </a:lnTo>
                    <a:lnTo>
                      <a:pt x="1724" y="1283"/>
                    </a:lnTo>
                    <a:lnTo>
                      <a:pt x="1732" y="1283"/>
                    </a:lnTo>
                    <a:lnTo>
                      <a:pt x="1739" y="1283"/>
                    </a:lnTo>
                    <a:lnTo>
                      <a:pt x="1747" y="1283"/>
                    </a:lnTo>
                    <a:lnTo>
                      <a:pt x="1755" y="1283"/>
                    </a:lnTo>
                    <a:lnTo>
                      <a:pt x="1760" y="1283"/>
                    </a:lnTo>
                    <a:lnTo>
                      <a:pt x="1768" y="1283"/>
                    </a:lnTo>
                    <a:lnTo>
                      <a:pt x="1774" y="1283"/>
                    </a:lnTo>
                    <a:lnTo>
                      <a:pt x="1781" y="1283"/>
                    </a:lnTo>
                    <a:lnTo>
                      <a:pt x="1789" y="1281"/>
                    </a:lnTo>
                    <a:lnTo>
                      <a:pt x="1796" y="1281"/>
                    </a:lnTo>
                    <a:lnTo>
                      <a:pt x="1802" y="1281"/>
                    </a:lnTo>
                    <a:lnTo>
                      <a:pt x="1810" y="1281"/>
                    </a:lnTo>
                    <a:lnTo>
                      <a:pt x="1817" y="1281"/>
                    </a:lnTo>
                    <a:lnTo>
                      <a:pt x="1825" y="1281"/>
                    </a:lnTo>
                    <a:lnTo>
                      <a:pt x="1831" y="1281"/>
                    </a:lnTo>
                    <a:lnTo>
                      <a:pt x="1838" y="1281"/>
                    </a:lnTo>
                    <a:lnTo>
                      <a:pt x="1844" y="1281"/>
                    </a:lnTo>
                    <a:lnTo>
                      <a:pt x="1852" y="1281"/>
                    </a:lnTo>
                    <a:lnTo>
                      <a:pt x="1859" y="1281"/>
                    </a:lnTo>
                    <a:lnTo>
                      <a:pt x="1867" y="1281"/>
                    </a:lnTo>
                    <a:lnTo>
                      <a:pt x="1873" y="1279"/>
                    </a:lnTo>
                    <a:lnTo>
                      <a:pt x="1880" y="1279"/>
                    </a:lnTo>
                    <a:lnTo>
                      <a:pt x="1886" y="1278"/>
                    </a:lnTo>
                    <a:lnTo>
                      <a:pt x="1893" y="1278"/>
                    </a:lnTo>
                    <a:lnTo>
                      <a:pt x="1899" y="1276"/>
                    </a:lnTo>
                    <a:lnTo>
                      <a:pt x="1907" y="1276"/>
                    </a:lnTo>
                    <a:lnTo>
                      <a:pt x="1912" y="1276"/>
                    </a:lnTo>
                    <a:lnTo>
                      <a:pt x="1920" y="1276"/>
                    </a:lnTo>
                    <a:lnTo>
                      <a:pt x="1928" y="1274"/>
                    </a:lnTo>
                    <a:lnTo>
                      <a:pt x="1935" y="1274"/>
                    </a:lnTo>
                    <a:lnTo>
                      <a:pt x="1941" y="1272"/>
                    </a:lnTo>
                    <a:lnTo>
                      <a:pt x="1949" y="1272"/>
                    </a:lnTo>
                    <a:lnTo>
                      <a:pt x="1954" y="1270"/>
                    </a:lnTo>
                    <a:lnTo>
                      <a:pt x="1962" y="1270"/>
                    </a:lnTo>
                    <a:lnTo>
                      <a:pt x="1968" y="1268"/>
                    </a:lnTo>
                    <a:lnTo>
                      <a:pt x="1975" y="1268"/>
                    </a:lnTo>
                    <a:lnTo>
                      <a:pt x="1983" y="1266"/>
                    </a:lnTo>
                    <a:lnTo>
                      <a:pt x="1988" y="1264"/>
                    </a:lnTo>
                    <a:lnTo>
                      <a:pt x="1994" y="1262"/>
                    </a:lnTo>
                    <a:lnTo>
                      <a:pt x="2002" y="1260"/>
                    </a:lnTo>
                    <a:lnTo>
                      <a:pt x="2008" y="1259"/>
                    </a:lnTo>
                    <a:lnTo>
                      <a:pt x="2015" y="1257"/>
                    </a:lnTo>
                    <a:lnTo>
                      <a:pt x="2021" y="1255"/>
                    </a:lnTo>
                    <a:lnTo>
                      <a:pt x="2028" y="1253"/>
                    </a:lnTo>
                    <a:lnTo>
                      <a:pt x="2036" y="1251"/>
                    </a:lnTo>
                    <a:lnTo>
                      <a:pt x="2042" y="1247"/>
                    </a:lnTo>
                    <a:lnTo>
                      <a:pt x="2047" y="1245"/>
                    </a:lnTo>
                    <a:lnTo>
                      <a:pt x="2055" y="1243"/>
                    </a:lnTo>
                    <a:lnTo>
                      <a:pt x="2061" y="1241"/>
                    </a:lnTo>
                    <a:lnTo>
                      <a:pt x="2068" y="1238"/>
                    </a:lnTo>
                    <a:lnTo>
                      <a:pt x="2074" y="1236"/>
                    </a:lnTo>
                    <a:lnTo>
                      <a:pt x="2082" y="1234"/>
                    </a:lnTo>
                    <a:lnTo>
                      <a:pt x="2085" y="1240"/>
                    </a:lnTo>
                    <a:lnTo>
                      <a:pt x="2089" y="1249"/>
                    </a:lnTo>
                    <a:lnTo>
                      <a:pt x="2091" y="1257"/>
                    </a:lnTo>
                    <a:lnTo>
                      <a:pt x="2095" y="1268"/>
                    </a:lnTo>
                    <a:lnTo>
                      <a:pt x="2095" y="1278"/>
                    </a:lnTo>
                    <a:lnTo>
                      <a:pt x="2095" y="1289"/>
                    </a:lnTo>
                    <a:lnTo>
                      <a:pt x="2095" y="1297"/>
                    </a:lnTo>
                    <a:lnTo>
                      <a:pt x="2095" y="1302"/>
                    </a:lnTo>
                    <a:lnTo>
                      <a:pt x="2093" y="1308"/>
                    </a:lnTo>
                    <a:lnTo>
                      <a:pt x="2093" y="1316"/>
                    </a:lnTo>
                    <a:lnTo>
                      <a:pt x="2091" y="1321"/>
                    </a:lnTo>
                    <a:lnTo>
                      <a:pt x="2091" y="1327"/>
                    </a:lnTo>
                    <a:lnTo>
                      <a:pt x="2087" y="1335"/>
                    </a:lnTo>
                    <a:lnTo>
                      <a:pt x="2087" y="1340"/>
                    </a:lnTo>
                    <a:lnTo>
                      <a:pt x="2085" y="1346"/>
                    </a:lnTo>
                    <a:lnTo>
                      <a:pt x="2084" y="1354"/>
                    </a:lnTo>
                    <a:lnTo>
                      <a:pt x="2082" y="1361"/>
                    </a:lnTo>
                    <a:lnTo>
                      <a:pt x="2080" y="1369"/>
                    </a:lnTo>
                    <a:lnTo>
                      <a:pt x="2076" y="1375"/>
                    </a:lnTo>
                    <a:lnTo>
                      <a:pt x="2074" y="1382"/>
                    </a:lnTo>
                    <a:lnTo>
                      <a:pt x="2070" y="1390"/>
                    </a:lnTo>
                    <a:lnTo>
                      <a:pt x="2068" y="1397"/>
                    </a:lnTo>
                    <a:lnTo>
                      <a:pt x="2066" y="1405"/>
                    </a:lnTo>
                    <a:lnTo>
                      <a:pt x="2063" y="1413"/>
                    </a:lnTo>
                    <a:lnTo>
                      <a:pt x="2059" y="1420"/>
                    </a:lnTo>
                    <a:lnTo>
                      <a:pt x="2057" y="1428"/>
                    </a:lnTo>
                    <a:lnTo>
                      <a:pt x="2053" y="1435"/>
                    </a:lnTo>
                    <a:lnTo>
                      <a:pt x="2049" y="1443"/>
                    </a:lnTo>
                    <a:lnTo>
                      <a:pt x="2047" y="1449"/>
                    </a:lnTo>
                    <a:lnTo>
                      <a:pt x="2044" y="1458"/>
                    </a:lnTo>
                    <a:lnTo>
                      <a:pt x="2040" y="1464"/>
                    </a:lnTo>
                    <a:lnTo>
                      <a:pt x="2036" y="1473"/>
                    </a:lnTo>
                    <a:lnTo>
                      <a:pt x="2032" y="1479"/>
                    </a:lnTo>
                    <a:lnTo>
                      <a:pt x="2028" y="1487"/>
                    </a:lnTo>
                    <a:lnTo>
                      <a:pt x="2025" y="1494"/>
                    </a:lnTo>
                    <a:lnTo>
                      <a:pt x="2021" y="1502"/>
                    </a:lnTo>
                    <a:lnTo>
                      <a:pt x="2017" y="1509"/>
                    </a:lnTo>
                    <a:lnTo>
                      <a:pt x="2013" y="1517"/>
                    </a:lnTo>
                    <a:lnTo>
                      <a:pt x="2009" y="1523"/>
                    </a:lnTo>
                    <a:lnTo>
                      <a:pt x="2004" y="1530"/>
                    </a:lnTo>
                    <a:lnTo>
                      <a:pt x="2000" y="1538"/>
                    </a:lnTo>
                    <a:lnTo>
                      <a:pt x="1996" y="1546"/>
                    </a:lnTo>
                    <a:lnTo>
                      <a:pt x="1992" y="1551"/>
                    </a:lnTo>
                    <a:lnTo>
                      <a:pt x="1988" y="1557"/>
                    </a:lnTo>
                    <a:lnTo>
                      <a:pt x="1985" y="1565"/>
                    </a:lnTo>
                    <a:lnTo>
                      <a:pt x="1981" y="1570"/>
                    </a:lnTo>
                    <a:lnTo>
                      <a:pt x="1977" y="1576"/>
                    </a:lnTo>
                    <a:lnTo>
                      <a:pt x="1973" y="1584"/>
                    </a:lnTo>
                    <a:lnTo>
                      <a:pt x="1968" y="1589"/>
                    </a:lnTo>
                    <a:lnTo>
                      <a:pt x="1966" y="1595"/>
                    </a:lnTo>
                    <a:lnTo>
                      <a:pt x="1958" y="1606"/>
                    </a:lnTo>
                    <a:lnTo>
                      <a:pt x="1950" y="1618"/>
                    </a:lnTo>
                    <a:lnTo>
                      <a:pt x="1945" y="1627"/>
                    </a:lnTo>
                    <a:lnTo>
                      <a:pt x="1937" y="1637"/>
                    </a:lnTo>
                    <a:lnTo>
                      <a:pt x="2135" y="1688"/>
                    </a:lnTo>
                    <a:lnTo>
                      <a:pt x="2139" y="1681"/>
                    </a:lnTo>
                    <a:lnTo>
                      <a:pt x="2144" y="1673"/>
                    </a:lnTo>
                    <a:lnTo>
                      <a:pt x="2150" y="1665"/>
                    </a:lnTo>
                    <a:lnTo>
                      <a:pt x="2156" y="1658"/>
                    </a:lnTo>
                    <a:lnTo>
                      <a:pt x="2161" y="1648"/>
                    </a:lnTo>
                    <a:lnTo>
                      <a:pt x="2167" y="1641"/>
                    </a:lnTo>
                    <a:lnTo>
                      <a:pt x="2175" y="1633"/>
                    </a:lnTo>
                    <a:lnTo>
                      <a:pt x="2181" y="1625"/>
                    </a:lnTo>
                    <a:lnTo>
                      <a:pt x="2188" y="1616"/>
                    </a:lnTo>
                    <a:lnTo>
                      <a:pt x="2194" y="1608"/>
                    </a:lnTo>
                    <a:lnTo>
                      <a:pt x="2201" y="1599"/>
                    </a:lnTo>
                    <a:lnTo>
                      <a:pt x="2209" y="1591"/>
                    </a:lnTo>
                    <a:lnTo>
                      <a:pt x="2215" y="1584"/>
                    </a:lnTo>
                    <a:lnTo>
                      <a:pt x="2222" y="1574"/>
                    </a:lnTo>
                    <a:lnTo>
                      <a:pt x="2230" y="1567"/>
                    </a:lnTo>
                    <a:lnTo>
                      <a:pt x="2239" y="1559"/>
                    </a:lnTo>
                    <a:lnTo>
                      <a:pt x="2245" y="1549"/>
                    </a:lnTo>
                    <a:lnTo>
                      <a:pt x="2253" y="1542"/>
                    </a:lnTo>
                    <a:lnTo>
                      <a:pt x="2260" y="1532"/>
                    </a:lnTo>
                    <a:lnTo>
                      <a:pt x="2268" y="1525"/>
                    </a:lnTo>
                    <a:lnTo>
                      <a:pt x="2274" y="1517"/>
                    </a:lnTo>
                    <a:lnTo>
                      <a:pt x="2281" y="1509"/>
                    </a:lnTo>
                    <a:lnTo>
                      <a:pt x="2289" y="1500"/>
                    </a:lnTo>
                    <a:lnTo>
                      <a:pt x="2296" y="1492"/>
                    </a:lnTo>
                    <a:lnTo>
                      <a:pt x="2302" y="1485"/>
                    </a:lnTo>
                    <a:lnTo>
                      <a:pt x="2308" y="1477"/>
                    </a:lnTo>
                    <a:lnTo>
                      <a:pt x="2315" y="1468"/>
                    </a:lnTo>
                    <a:lnTo>
                      <a:pt x="2323" y="1462"/>
                    </a:lnTo>
                    <a:lnTo>
                      <a:pt x="2327" y="1454"/>
                    </a:lnTo>
                    <a:lnTo>
                      <a:pt x="2335" y="1447"/>
                    </a:lnTo>
                    <a:lnTo>
                      <a:pt x="2340" y="1439"/>
                    </a:lnTo>
                    <a:lnTo>
                      <a:pt x="2346" y="1433"/>
                    </a:lnTo>
                    <a:lnTo>
                      <a:pt x="2346" y="1430"/>
                    </a:lnTo>
                    <a:lnTo>
                      <a:pt x="2348" y="1428"/>
                    </a:lnTo>
                    <a:lnTo>
                      <a:pt x="2352" y="1422"/>
                    </a:lnTo>
                    <a:lnTo>
                      <a:pt x="2355" y="1418"/>
                    </a:lnTo>
                    <a:lnTo>
                      <a:pt x="2361" y="1413"/>
                    </a:lnTo>
                    <a:lnTo>
                      <a:pt x="2367" y="1411"/>
                    </a:lnTo>
                    <a:lnTo>
                      <a:pt x="2373" y="1411"/>
                    </a:lnTo>
                    <a:lnTo>
                      <a:pt x="2380" y="1414"/>
                    </a:lnTo>
                    <a:lnTo>
                      <a:pt x="2390" y="1420"/>
                    </a:lnTo>
                    <a:lnTo>
                      <a:pt x="2397" y="1426"/>
                    </a:lnTo>
                    <a:lnTo>
                      <a:pt x="2405" y="1430"/>
                    </a:lnTo>
                    <a:lnTo>
                      <a:pt x="2412" y="1433"/>
                    </a:lnTo>
                    <a:lnTo>
                      <a:pt x="2418" y="1435"/>
                    </a:lnTo>
                    <a:lnTo>
                      <a:pt x="2426" y="1437"/>
                    </a:lnTo>
                    <a:lnTo>
                      <a:pt x="2430" y="1439"/>
                    </a:lnTo>
                    <a:lnTo>
                      <a:pt x="2437" y="1439"/>
                    </a:lnTo>
                    <a:lnTo>
                      <a:pt x="2447" y="1437"/>
                    </a:lnTo>
                    <a:lnTo>
                      <a:pt x="2456" y="1432"/>
                    </a:lnTo>
                    <a:lnTo>
                      <a:pt x="2460" y="1426"/>
                    </a:lnTo>
                    <a:lnTo>
                      <a:pt x="2466" y="1422"/>
                    </a:lnTo>
                    <a:lnTo>
                      <a:pt x="2471" y="1416"/>
                    </a:lnTo>
                    <a:lnTo>
                      <a:pt x="2477" y="1409"/>
                    </a:lnTo>
                    <a:lnTo>
                      <a:pt x="2483" y="1409"/>
                    </a:lnTo>
                    <a:lnTo>
                      <a:pt x="2490" y="1411"/>
                    </a:lnTo>
                    <a:lnTo>
                      <a:pt x="2496" y="1413"/>
                    </a:lnTo>
                    <a:lnTo>
                      <a:pt x="2502" y="1416"/>
                    </a:lnTo>
                    <a:lnTo>
                      <a:pt x="2508" y="1416"/>
                    </a:lnTo>
                    <a:lnTo>
                      <a:pt x="2513" y="1420"/>
                    </a:lnTo>
                    <a:lnTo>
                      <a:pt x="2519" y="1422"/>
                    </a:lnTo>
                    <a:lnTo>
                      <a:pt x="2525" y="1426"/>
                    </a:lnTo>
                    <a:lnTo>
                      <a:pt x="2532" y="1433"/>
                    </a:lnTo>
                    <a:lnTo>
                      <a:pt x="2542" y="1439"/>
                    </a:lnTo>
                    <a:lnTo>
                      <a:pt x="2549" y="1449"/>
                    </a:lnTo>
                    <a:lnTo>
                      <a:pt x="2557" y="1458"/>
                    </a:lnTo>
                    <a:lnTo>
                      <a:pt x="2563" y="1466"/>
                    </a:lnTo>
                    <a:lnTo>
                      <a:pt x="2568" y="1477"/>
                    </a:lnTo>
                    <a:lnTo>
                      <a:pt x="2570" y="1481"/>
                    </a:lnTo>
                    <a:lnTo>
                      <a:pt x="2572" y="1487"/>
                    </a:lnTo>
                    <a:lnTo>
                      <a:pt x="2574" y="1492"/>
                    </a:lnTo>
                    <a:lnTo>
                      <a:pt x="2578" y="1500"/>
                    </a:lnTo>
                    <a:lnTo>
                      <a:pt x="2578" y="1504"/>
                    </a:lnTo>
                    <a:lnTo>
                      <a:pt x="2580" y="1509"/>
                    </a:lnTo>
                    <a:lnTo>
                      <a:pt x="2580" y="1517"/>
                    </a:lnTo>
                    <a:lnTo>
                      <a:pt x="2584" y="1523"/>
                    </a:lnTo>
                    <a:lnTo>
                      <a:pt x="2584" y="1528"/>
                    </a:lnTo>
                    <a:lnTo>
                      <a:pt x="2585" y="1536"/>
                    </a:lnTo>
                    <a:lnTo>
                      <a:pt x="2585" y="1542"/>
                    </a:lnTo>
                    <a:lnTo>
                      <a:pt x="2587" y="1549"/>
                    </a:lnTo>
                    <a:lnTo>
                      <a:pt x="2587" y="1555"/>
                    </a:lnTo>
                    <a:lnTo>
                      <a:pt x="2587" y="1563"/>
                    </a:lnTo>
                    <a:lnTo>
                      <a:pt x="2587" y="1568"/>
                    </a:lnTo>
                    <a:lnTo>
                      <a:pt x="2587" y="1574"/>
                    </a:lnTo>
                    <a:lnTo>
                      <a:pt x="2585" y="1582"/>
                    </a:lnTo>
                    <a:lnTo>
                      <a:pt x="2585" y="1589"/>
                    </a:lnTo>
                    <a:lnTo>
                      <a:pt x="2585" y="1595"/>
                    </a:lnTo>
                    <a:lnTo>
                      <a:pt x="2585" y="1603"/>
                    </a:lnTo>
                    <a:lnTo>
                      <a:pt x="2585" y="1608"/>
                    </a:lnTo>
                    <a:lnTo>
                      <a:pt x="2584" y="1616"/>
                    </a:lnTo>
                    <a:lnTo>
                      <a:pt x="2584" y="1622"/>
                    </a:lnTo>
                    <a:lnTo>
                      <a:pt x="2584" y="1629"/>
                    </a:lnTo>
                    <a:lnTo>
                      <a:pt x="2580" y="1637"/>
                    </a:lnTo>
                    <a:lnTo>
                      <a:pt x="2580" y="1644"/>
                    </a:lnTo>
                    <a:lnTo>
                      <a:pt x="2578" y="1650"/>
                    </a:lnTo>
                    <a:lnTo>
                      <a:pt x="2578" y="1658"/>
                    </a:lnTo>
                    <a:lnTo>
                      <a:pt x="2576" y="1665"/>
                    </a:lnTo>
                    <a:lnTo>
                      <a:pt x="2576" y="1671"/>
                    </a:lnTo>
                    <a:lnTo>
                      <a:pt x="2574" y="1677"/>
                    </a:lnTo>
                    <a:lnTo>
                      <a:pt x="2572" y="1684"/>
                    </a:lnTo>
                    <a:lnTo>
                      <a:pt x="2570" y="1692"/>
                    </a:lnTo>
                    <a:lnTo>
                      <a:pt x="2568" y="1698"/>
                    </a:lnTo>
                    <a:lnTo>
                      <a:pt x="2566" y="1703"/>
                    </a:lnTo>
                    <a:lnTo>
                      <a:pt x="2566" y="1711"/>
                    </a:lnTo>
                    <a:lnTo>
                      <a:pt x="2565" y="1717"/>
                    </a:lnTo>
                    <a:lnTo>
                      <a:pt x="2561" y="1722"/>
                    </a:lnTo>
                    <a:lnTo>
                      <a:pt x="2559" y="1730"/>
                    </a:lnTo>
                    <a:lnTo>
                      <a:pt x="2559" y="1736"/>
                    </a:lnTo>
                    <a:lnTo>
                      <a:pt x="2557" y="1741"/>
                    </a:lnTo>
                    <a:lnTo>
                      <a:pt x="2555" y="1747"/>
                    </a:lnTo>
                    <a:lnTo>
                      <a:pt x="2551" y="1753"/>
                    </a:lnTo>
                    <a:lnTo>
                      <a:pt x="2551" y="1760"/>
                    </a:lnTo>
                    <a:lnTo>
                      <a:pt x="2753" y="1770"/>
                    </a:lnTo>
                    <a:lnTo>
                      <a:pt x="2753" y="17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8843760" y="2925720"/>
                <a:ext cx="72720" cy="1908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7" y="2"/>
                    </a:moveTo>
                    <a:lnTo>
                      <a:pt x="17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4"/>
                    </a:lnTo>
                    <a:lnTo>
                      <a:pt x="83" y="8"/>
                    </a:lnTo>
                    <a:lnTo>
                      <a:pt x="93" y="17"/>
                    </a:lnTo>
                    <a:lnTo>
                      <a:pt x="87" y="19"/>
                    </a:lnTo>
                    <a:lnTo>
                      <a:pt x="81" y="23"/>
                    </a:lnTo>
                    <a:lnTo>
                      <a:pt x="74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7" y="25"/>
                    </a:lnTo>
                    <a:lnTo>
                      <a:pt x="51" y="23"/>
                    </a:lnTo>
                    <a:lnTo>
                      <a:pt x="45" y="23"/>
                    </a:lnTo>
                    <a:lnTo>
                      <a:pt x="40" y="21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23" y="15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8499240" y="2917800"/>
                <a:ext cx="275760" cy="85680"/>
              </a:xfrm>
              <a:custGeom>
                <a:avLst/>
                <a:gdLst/>
                <a:ahLst/>
                <a:rect l="l" t="t" r="r" b="b"/>
                <a:pathLst>
                  <a:path w="348" h="108">
                    <a:moveTo>
                      <a:pt x="10" y="0"/>
                    </a:moveTo>
                    <a:lnTo>
                      <a:pt x="19" y="5"/>
                    </a:lnTo>
                    <a:lnTo>
                      <a:pt x="29" y="9"/>
                    </a:lnTo>
                    <a:lnTo>
                      <a:pt x="40" y="13"/>
                    </a:lnTo>
                    <a:lnTo>
                      <a:pt x="50" y="17"/>
                    </a:lnTo>
                    <a:lnTo>
                      <a:pt x="61" y="19"/>
                    </a:lnTo>
                    <a:lnTo>
                      <a:pt x="73" y="22"/>
                    </a:lnTo>
                    <a:lnTo>
                      <a:pt x="78" y="22"/>
                    </a:lnTo>
                    <a:lnTo>
                      <a:pt x="84" y="22"/>
                    </a:lnTo>
                    <a:lnTo>
                      <a:pt x="90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7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70" y="24"/>
                    </a:lnTo>
                    <a:lnTo>
                      <a:pt x="175" y="24"/>
                    </a:lnTo>
                    <a:lnTo>
                      <a:pt x="181" y="24"/>
                    </a:lnTo>
                    <a:lnTo>
                      <a:pt x="189" y="24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17" y="24"/>
                    </a:lnTo>
                    <a:lnTo>
                      <a:pt x="221" y="24"/>
                    </a:lnTo>
                    <a:lnTo>
                      <a:pt x="229" y="24"/>
                    </a:lnTo>
                    <a:lnTo>
                      <a:pt x="234" y="26"/>
                    </a:lnTo>
                    <a:lnTo>
                      <a:pt x="240" y="26"/>
                    </a:lnTo>
                    <a:lnTo>
                      <a:pt x="249" y="28"/>
                    </a:lnTo>
                    <a:lnTo>
                      <a:pt x="263" y="32"/>
                    </a:lnTo>
                    <a:lnTo>
                      <a:pt x="272" y="34"/>
                    </a:lnTo>
                    <a:lnTo>
                      <a:pt x="284" y="39"/>
                    </a:lnTo>
                    <a:lnTo>
                      <a:pt x="291" y="41"/>
                    </a:lnTo>
                    <a:lnTo>
                      <a:pt x="301" y="49"/>
                    </a:lnTo>
                    <a:lnTo>
                      <a:pt x="310" y="55"/>
                    </a:lnTo>
                    <a:lnTo>
                      <a:pt x="320" y="62"/>
                    </a:lnTo>
                    <a:lnTo>
                      <a:pt x="327" y="72"/>
                    </a:lnTo>
                    <a:lnTo>
                      <a:pt x="333" y="81"/>
                    </a:lnTo>
                    <a:lnTo>
                      <a:pt x="337" y="87"/>
                    </a:lnTo>
                    <a:lnTo>
                      <a:pt x="341" y="93"/>
                    </a:lnTo>
                    <a:lnTo>
                      <a:pt x="343" y="100"/>
                    </a:lnTo>
                    <a:lnTo>
                      <a:pt x="348" y="108"/>
                    </a:lnTo>
                    <a:lnTo>
                      <a:pt x="337" y="100"/>
                    </a:lnTo>
                    <a:lnTo>
                      <a:pt x="327" y="96"/>
                    </a:lnTo>
                    <a:lnTo>
                      <a:pt x="316" y="93"/>
                    </a:lnTo>
                    <a:lnTo>
                      <a:pt x="305" y="89"/>
                    </a:lnTo>
                    <a:lnTo>
                      <a:pt x="299" y="87"/>
                    </a:lnTo>
                    <a:lnTo>
                      <a:pt x="293" y="85"/>
                    </a:lnTo>
                    <a:lnTo>
                      <a:pt x="287" y="83"/>
                    </a:lnTo>
                    <a:lnTo>
                      <a:pt x="282" y="81"/>
                    </a:lnTo>
                    <a:lnTo>
                      <a:pt x="270" y="79"/>
                    </a:lnTo>
                    <a:lnTo>
                      <a:pt x="259" y="79"/>
                    </a:lnTo>
                    <a:lnTo>
                      <a:pt x="253" y="77"/>
                    </a:lnTo>
                    <a:lnTo>
                      <a:pt x="248" y="76"/>
                    </a:lnTo>
                    <a:lnTo>
                      <a:pt x="240" y="74"/>
                    </a:lnTo>
                    <a:lnTo>
                      <a:pt x="236" y="74"/>
                    </a:lnTo>
                    <a:lnTo>
                      <a:pt x="229" y="74"/>
                    </a:lnTo>
                    <a:lnTo>
                      <a:pt x="225" y="72"/>
                    </a:lnTo>
                    <a:lnTo>
                      <a:pt x="217" y="72"/>
                    </a:lnTo>
                    <a:lnTo>
                      <a:pt x="211" y="72"/>
                    </a:lnTo>
                    <a:lnTo>
                      <a:pt x="206" y="72"/>
                    </a:lnTo>
                    <a:lnTo>
                      <a:pt x="200" y="70"/>
                    </a:lnTo>
                    <a:lnTo>
                      <a:pt x="192" y="70"/>
                    </a:lnTo>
                    <a:lnTo>
                      <a:pt x="189" y="70"/>
                    </a:lnTo>
                    <a:lnTo>
                      <a:pt x="181" y="68"/>
                    </a:lnTo>
                    <a:lnTo>
                      <a:pt x="175" y="68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58" y="68"/>
                    </a:lnTo>
                    <a:lnTo>
                      <a:pt x="153" y="66"/>
                    </a:lnTo>
                    <a:lnTo>
                      <a:pt x="145" y="64"/>
                    </a:lnTo>
                    <a:lnTo>
                      <a:pt x="139" y="64"/>
                    </a:lnTo>
                    <a:lnTo>
                      <a:pt x="133" y="62"/>
                    </a:lnTo>
                    <a:lnTo>
                      <a:pt x="128" y="62"/>
                    </a:lnTo>
                    <a:lnTo>
                      <a:pt x="122" y="60"/>
                    </a:lnTo>
                    <a:lnTo>
                      <a:pt x="116" y="60"/>
                    </a:lnTo>
                    <a:lnTo>
                      <a:pt x="105" y="58"/>
                    </a:lnTo>
                    <a:lnTo>
                      <a:pt x="95" y="57"/>
                    </a:lnTo>
                    <a:lnTo>
                      <a:pt x="82" y="53"/>
                    </a:lnTo>
                    <a:lnTo>
                      <a:pt x="73" y="51"/>
                    </a:lnTo>
                    <a:lnTo>
                      <a:pt x="63" y="47"/>
                    </a:lnTo>
                    <a:lnTo>
                      <a:pt x="52" y="43"/>
                    </a:lnTo>
                    <a:lnTo>
                      <a:pt x="42" y="39"/>
                    </a:lnTo>
                    <a:lnTo>
                      <a:pt x="35" y="36"/>
                    </a:lnTo>
                    <a:lnTo>
                      <a:pt x="25" y="28"/>
                    </a:lnTo>
                    <a:lnTo>
                      <a:pt x="16" y="24"/>
                    </a:lnTo>
                    <a:lnTo>
                      <a:pt x="8" y="17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8296200" y="2982600"/>
                <a:ext cx="20160" cy="288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0" y="2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7" y="10"/>
                    </a:lnTo>
                    <a:lnTo>
                      <a:pt x="25" y="15"/>
                    </a:lnTo>
                    <a:lnTo>
                      <a:pt x="25" y="21"/>
                    </a:lnTo>
                    <a:lnTo>
                      <a:pt x="25" y="29"/>
                    </a:lnTo>
                    <a:lnTo>
                      <a:pt x="27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8727120" y="2990520"/>
                <a:ext cx="115560" cy="3204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7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2" y="2"/>
                    </a:lnTo>
                    <a:lnTo>
                      <a:pt x="82" y="4"/>
                    </a:lnTo>
                    <a:lnTo>
                      <a:pt x="89" y="4"/>
                    </a:lnTo>
                    <a:lnTo>
                      <a:pt x="95" y="5"/>
                    </a:lnTo>
                    <a:lnTo>
                      <a:pt x="103" y="7"/>
                    </a:lnTo>
                    <a:lnTo>
                      <a:pt x="112" y="9"/>
                    </a:lnTo>
                    <a:lnTo>
                      <a:pt x="118" y="11"/>
                    </a:lnTo>
                    <a:lnTo>
                      <a:pt x="125" y="15"/>
                    </a:lnTo>
                    <a:lnTo>
                      <a:pt x="129" y="17"/>
                    </a:lnTo>
                    <a:lnTo>
                      <a:pt x="135" y="21"/>
                    </a:lnTo>
                    <a:lnTo>
                      <a:pt x="141" y="25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39" y="38"/>
                    </a:lnTo>
                    <a:lnTo>
                      <a:pt x="135" y="38"/>
                    </a:lnTo>
                    <a:lnTo>
                      <a:pt x="129" y="40"/>
                    </a:lnTo>
                    <a:lnTo>
                      <a:pt x="122" y="40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3" y="40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6"/>
                    </a:lnTo>
                    <a:lnTo>
                      <a:pt x="80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7" y="34"/>
                    </a:lnTo>
                    <a:lnTo>
                      <a:pt x="47" y="32"/>
                    </a:lnTo>
                    <a:lnTo>
                      <a:pt x="42" y="26"/>
                    </a:lnTo>
                    <a:lnTo>
                      <a:pt x="34" y="23"/>
                    </a:lnTo>
                    <a:lnTo>
                      <a:pt x="25" y="17"/>
                    </a:lnTo>
                    <a:lnTo>
                      <a:pt x="17" y="15"/>
                    </a:lnTo>
                    <a:lnTo>
                      <a:pt x="9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8364240" y="2993760"/>
                <a:ext cx="125280" cy="139680"/>
              </a:xfrm>
              <a:custGeom>
                <a:avLst/>
                <a:gdLst/>
                <a:ahLst/>
                <a:rect l="l" t="t" r="r" b="b"/>
                <a:pathLst>
                  <a:path w="158" h="176">
                    <a:moveTo>
                      <a:pt x="118" y="0"/>
                    </a:moveTo>
                    <a:lnTo>
                      <a:pt x="127" y="0"/>
                    </a:lnTo>
                    <a:lnTo>
                      <a:pt x="135" y="1"/>
                    </a:lnTo>
                    <a:lnTo>
                      <a:pt x="139" y="3"/>
                    </a:lnTo>
                    <a:lnTo>
                      <a:pt x="146" y="7"/>
                    </a:lnTo>
                    <a:lnTo>
                      <a:pt x="154" y="15"/>
                    </a:lnTo>
                    <a:lnTo>
                      <a:pt x="158" y="26"/>
                    </a:lnTo>
                    <a:lnTo>
                      <a:pt x="156" y="32"/>
                    </a:lnTo>
                    <a:lnTo>
                      <a:pt x="156" y="38"/>
                    </a:lnTo>
                    <a:lnTo>
                      <a:pt x="154" y="45"/>
                    </a:lnTo>
                    <a:lnTo>
                      <a:pt x="152" y="53"/>
                    </a:lnTo>
                    <a:lnTo>
                      <a:pt x="148" y="59"/>
                    </a:lnTo>
                    <a:lnTo>
                      <a:pt x="146" y="66"/>
                    </a:lnTo>
                    <a:lnTo>
                      <a:pt x="142" y="74"/>
                    </a:lnTo>
                    <a:lnTo>
                      <a:pt x="137" y="83"/>
                    </a:lnTo>
                    <a:lnTo>
                      <a:pt x="131" y="89"/>
                    </a:lnTo>
                    <a:lnTo>
                      <a:pt x="125" y="97"/>
                    </a:lnTo>
                    <a:lnTo>
                      <a:pt x="119" y="104"/>
                    </a:lnTo>
                    <a:lnTo>
                      <a:pt x="112" y="112"/>
                    </a:lnTo>
                    <a:lnTo>
                      <a:pt x="106" y="119"/>
                    </a:lnTo>
                    <a:lnTo>
                      <a:pt x="99" y="125"/>
                    </a:lnTo>
                    <a:lnTo>
                      <a:pt x="93" y="133"/>
                    </a:lnTo>
                    <a:lnTo>
                      <a:pt x="87" y="140"/>
                    </a:lnTo>
                    <a:lnTo>
                      <a:pt x="78" y="144"/>
                    </a:lnTo>
                    <a:lnTo>
                      <a:pt x="72" y="152"/>
                    </a:lnTo>
                    <a:lnTo>
                      <a:pt x="64" y="157"/>
                    </a:lnTo>
                    <a:lnTo>
                      <a:pt x="57" y="161"/>
                    </a:lnTo>
                    <a:lnTo>
                      <a:pt x="51" y="165"/>
                    </a:lnTo>
                    <a:lnTo>
                      <a:pt x="43" y="169"/>
                    </a:lnTo>
                    <a:lnTo>
                      <a:pt x="38" y="173"/>
                    </a:lnTo>
                    <a:lnTo>
                      <a:pt x="32" y="176"/>
                    </a:lnTo>
                    <a:lnTo>
                      <a:pt x="36" y="167"/>
                    </a:lnTo>
                    <a:lnTo>
                      <a:pt x="43" y="159"/>
                    </a:lnTo>
                    <a:lnTo>
                      <a:pt x="49" y="150"/>
                    </a:lnTo>
                    <a:lnTo>
                      <a:pt x="57" y="142"/>
                    </a:lnTo>
                    <a:lnTo>
                      <a:pt x="64" y="133"/>
                    </a:lnTo>
                    <a:lnTo>
                      <a:pt x="74" y="123"/>
                    </a:lnTo>
                    <a:lnTo>
                      <a:pt x="83" y="116"/>
                    </a:lnTo>
                    <a:lnTo>
                      <a:pt x="93" y="106"/>
                    </a:lnTo>
                    <a:lnTo>
                      <a:pt x="100" y="97"/>
                    </a:lnTo>
                    <a:lnTo>
                      <a:pt x="108" y="87"/>
                    </a:lnTo>
                    <a:lnTo>
                      <a:pt x="116" y="78"/>
                    </a:lnTo>
                    <a:lnTo>
                      <a:pt x="123" y="68"/>
                    </a:lnTo>
                    <a:lnTo>
                      <a:pt x="129" y="57"/>
                    </a:lnTo>
                    <a:lnTo>
                      <a:pt x="133" y="45"/>
                    </a:lnTo>
                    <a:lnTo>
                      <a:pt x="135" y="34"/>
                    </a:lnTo>
                    <a:lnTo>
                      <a:pt x="137" y="22"/>
                    </a:lnTo>
                    <a:lnTo>
                      <a:pt x="127" y="24"/>
                    </a:lnTo>
                    <a:lnTo>
                      <a:pt x="118" y="28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3" y="47"/>
                    </a:lnTo>
                    <a:lnTo>
                      <a:pt x="76" y="51"/>
                    </a:lnTo>
                    <a:lnTo>
                      <a:pt x="68" y="59"/>
                    </a:lnTo>
                    <a:lnTo>
                      <a:pt x="61" y="62"/>
                    </a:lnTo>
                    <a:lnTo>
                      <a:pt x="51" y="68"/>
                    </a:lnTo>
                    <a:lnTo>
                      <a:pt x="43" y="72"/>
                    </a:lnTo>
                    <a:lnTo>
                      <a:pt x="36" y="78"/>
                    </a:lnTo>
                    <a:lnTo>
                      <a:pt x="26" y="81"/>
                    </a:lnTo>
                    <a:lnTo>
                      <a:pt x="17" y="85"/>
                    </a:lnTo>
                    <a:lnTo>
                      <a:pt x="9" y="87"/>
                    </a:lnTo>
                    <a:lnTo>
                      <a:pt x="0" y="93"/>
                    </a:lnTo>
                    <a:lnTo>
                      <a:pt x="4" y="83"/>
                    </a:lnTo>
                    <a:lnTo>
                      <a:pt x="7" y="74"/>
                    </a:lnTo>
                    <a:lnTo>
                      <a:pt x="13" y="66"/>
                    </a:lnTo>
                    <a:lnTo>
                      <a:pt x="19" y="60"/>
                    </a:lnTo>
                    <a:lnTo>
                      <a:pt x="24" y="53"/>
                    </a:lnTo>
                    <a:lnTo>
                      <a:pt x="32" y="47"/>
                    </a:lnTo>
                    <a:lnTo>
                      <a:pt x="40" y="41"/>
                    </a:lnTo>
                    <a:lnTo>
                      <a:pt x="47" y="38"/>
                    </a:lnTo>
                    <a:lnTo>
                      <a:pt x="55" y="32"/>
                    </a:lnTo>
                    <a:lnTo>
                      <a:pt x="64" y="28"/>
                    </a:lnTo>
                    <a:lnTo>
                      <a:pt x="72" y="22"/>
                    </a:lnTo>
                    <a:lnTo>
                      <a:pt x="81" y="19"/>
                    </a:lnTo>
                    <a:lnTo>
                      <a:pt x="91" y="13"/>
                    </a:lnTo>
                    <a:lnTo>
                      <a:pt x="100" y="9"/>
                    </a:lnTo>
                    <a:lnTo>
                      <a:pt x="108" y="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650640" y="3009600"/>
                <a:ext cx="331560" cy="71640"/>
              </a:xfrm>
              <a:custGeom>
                <a:avLst/>
                <a:gdLst/>
                <a:ahLst/>
                <a:rect l="l" t="t" r="r" b="b"/>
                <a:pathLst>
                  <a:path w="418" h="89">
                    <a:moveTo>
                      <a:pt x="8" y="1"/>
                    </a:move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6" y="1"/>
                    </a:lnTo>
                    <a:lnTo>
                      <a:pt x="152" y="1"/>
                    </a:lnTo>
                    <a:lnTo>
                      <a:pt x="160" y="1"/>
                    </a:lnTo>
                    <a:lnTo>
                      <a:pt x="165" y="3"/>
                    </a:lnTo>
                    <a:lnTo>
                      <a:pt x="173" y="5"/>
                    </a:lnTo>
                    <a:lnTo>
                      <a:pt x="179" y="5"/>
                    </a:lnTo>
                    <a:lnTo>
                      <a:pt x="186" y="7"/>
                    </a:lnTo>
                    <a:lnTo>
                      <a:pt x="192" y="7"/>
                    </a:lnTo>
                    <a:lnTo>
                      <a:pt x="198" y="9"/>
                    </a:lnTo>
                    <a:lnTo>
                      <a:pt x="205" y="9"/>
                    </a:lnTo>
                    <a:lnTo>
                      <a:pt x="211" y="11"/>
                    </a:lnTo>
                    <a:lnTo>
                      <a:pt x="219" y="13"/>
                    </a:lnTo>
                    <a:lnTo>
                      <a:pt x="224" y="15"/>
                    </a:lnTo>
                    <a:lnTo>
                      <a:pt x="230" y="15"/>
                    </a:lnTo>
                    <a:lnTo>
                      <a:pt x="238" y="17"/>
                    </a:lnTo>
                    <a:lnTo>
                      <a:pt x="243" y="17"/>
                    </a:lnTo>
                    <a:lnTo>
                      <a:pt x="249" y="19"/>
                    </a:lnTo>
                    <a:lnTo>
                      <a:pt x="257" y="20"/>
                    </a:lnTo>
                    <a:lnTo>
                      <a:pt x="262" y="22"/>
                    </a:lnTo>
                    <a:lnTo>
                      <a:pt x="268" y="24"/>
                    </a:lnTo>
                    <a:lnTo>
                      <a:pt x="276" y="26"/>
                    </a:lnTo>
                    <a:lnTo>
                      <a:pt x="280" y="28"/>
                    </a:lnTo>
                    <a:lnTo>
                      <a:pt x="287" y="30"/>
                    </a:lnTo>
                    <a:lnTo>
                      <a:pt x="293" y="30"/>
                    </a:lnTo>
                    <a:lnTo>
                      <a:pt x="299" y="34"/>
                    </a:lnTo>
                    <a:lnTo>
                      <a:pt x="304" y="36"/>
                    </a:lnTo>
                    <a:lnTo>
                      <a:pt x="312" y="38"/>
                    </a:lnTo>
                    <a:lnTo>
                      <a:pt x="318" y="39"/>
                    </a:lnTo>
                    <a:lnTo>
                      <a:pt x="323" y="43"/>
                    </a:lnTo>
                    <a:lnTo>
                      <a:pt x="329" y="45"/>
                    </a:lnTo>
                    <a:lnTo>
                      <a:pt x="335" y="47"/>
                    </a:lnTo>
                    <a:lnTo>
                      <a:pt x="340" y="49"/>
                    </a:lnTo>
                    <a:lnTo>
                      <a:pt x="348" y="53"/>
                    </a:lnTo>
                    <a:lnTo>
                      <a:pt x="352" y="55"/>
                    </a:lnTo>
                    <a:lnTo>
                      <a:pt x="359" y="57"/>
                    </a:lnTo>
                    <a:lnTo>
                      <a:pt x="365" y="60"/>
                    </a:lnTo>
                    <a:lnTo>
                      <a:pt x="371" y="64"/>
                    </a:lnTo>
                    <a:lnTo>
                      <a:pt x="376" y="66"/>
                    </a:lnTo>
                    <a:lnTo>
                      <a:pt x="382" y="70"/>
                    </a:lnTo>
                    <a:lnTo>
                      <a:pt x="388" y="72"/>
                    </a:lnTo>
                    <a:lnTo>
                      <a:pt x="395" y="76"/>
                    </a:lnTo>
                    <a:lnTo>
                      <a:pt x="399" y="79"/>
                    </a:lnTo>
                    <a:lnTo>
                      <a:pt x="407" y="81"/>
                    </a:lnTo>
                    <a:lnTo>
                      <a:pt x="413" y="85"/>
                    </a:lnTo>
                    <a:lnTo>
                      <a:pt x="418" y="89"/>
                    </a:lnTo>
                    <a:lnTo>
                      <a:pt x="413" y="85"/>
                    </a:lnTo>
                    <a:lnTo>
                      <a:pt x="407" y="83"/>
                    </a:lnTo>
                    <a:lnTo>
                      <a:pt x="399" y="81"/>
                    </a:lnTo>
                    <a:lnTo>
                      <a:pt x="394" y="79"/>
                    </a:lnTo>
                    <a:lnTo>
                      <a:pt x="388" y="77"/>
                    </a:lnTo>
                    <a:lnTo>
                      <a:pt x="380" y="76"/>
                    </a:lnTo>
                    <a:lnTo>
                      <a:pt x="375" y="74"/>
                    </a:lnTo>
                    <a:lnTo>
                      <a:pt x="369" y="72"/>
                    </a:lnTo>
                    <a:lnTo>
                      <a:pt x="363" y="70"/>
                    </a:lnTo>
                    <a:lnTo>
                      <a:pt x="357" y="70"/>
                    </a:lnTo>
                    <a:lnTo>
                      <a:pt x="350" y="66"/>
                    </a:lnTo>
                    <a:lnTo>
                      <a:pt x="344" y="66"/>
                    </a:lnTo>
                    <a:lnTo>
                      <a:pt x="338" y="64"/>
                    </a:lnTo>
                    <a:lnTo>
                      <a:pt x="331" y="62"/>
                    </a:lnTo>
                    <a:lnTo>
                      <a:pt x="325" y="60"/>
                    </a:lnTo>
                    <a:lnTo>
                      <a:pt x="319" y="60"/>
                    </a:lnTo>
                    <a:lnTo>
                      <a:pt x="314" y="57"/>
                    </a:lnTo>
                    <a:lnTo>
                      <a:pt x="306" y="57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7" y="51"/>
                    </a:lnTo>
                    <a:lnTo>
                      <a:pt x="281" y="49"/>
                    </a:lnTo>
                    <a:lnTo>
                      <a:pt x="276" y="47"/>
                    </a:lnTo>
                    <a:lnTo>
                      <a:pt x="268" y="47"/>
                    </a:lnTo>
                    <a:lnTo>
                      <a:pt x="262" y="45"/>
                    </a:lnTo>
                    <a:lnTo>
                      <a:pt x="257" y="43"/>
                    </a:lnTo>
                    <a:lnTo>
                      <a:pt x="249" y="43"/>
                    </a:lnTo>
                    <a:lnTo>
                      <a:pt x="243" y="41"/>
                    </a:lnTo>
                    <a:lnTo>
                      <a:pt x="238" y="39"/>
                    </a:lnTo>
                    <a:lnTo>
                      <a:pt x="230" y="39"/>
                    </a:lnTo>
                    <a:lnTo>
                      <a:pt x="224" y="38"/>
                    </a:lnTo>
                    <a:lnTo>
                      <a:pt x="219" y="38"/>
                    </a:lnTo>
                    <a:lnTo>
                      <a:pt x="211" y="36"/>
                    </a:lnTo>
                    <a:lnTo>
                      <a:pt x="203" y="34"/>
                    </a:lnTo>
                    <a:lnTo>
                      <a:pt x="196" y="34"/>
                    </a:lnTo>
                    <a:lnTo>
                      <a:pt x="190" y="32"/>
                    </a:lnTo>
                    <a:lnTo>
                      <a:pt x="183" y="30"/>
                    </a:lnTo>
                    <a:lnTo>
                      <a:pt x="177" y="30"/>
                    </a:lnTo>
                    <a:lnTo>
                      <a:pt x="169" y="28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6"/>
                    </a:lnTo>
                    <a:lnTo>
                      <a:pt x="145" y="24"/>
                    </a:lnTo>
                    <a:lnTo>
                      <a:pt x="137" y="24"/>
                    </a:lnTo>
                    <a:lnTo>
                      <a:pt x="129" y="22"/>
                    </a:lnTo>
                    <a:lnTo>
                      <a:pt x="124" y="20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3" y="19"/>
                    </a:lnTo>
                    <a:lnTo>
                      <a:pt x="95" y="19"/>
                    </a:lnTo>
                    <a:lnTo>
                      <a:pt x="89" y="17"/>
                    </a:lnTo>
                    <a:lnTo>
                      <a:pt x="84" y="17"/>
                    </a:lnTo>
                    <a:lnTo>
                      <a:pt x="76" y="17"/>
                    </a:lnTo>
                    <a:lnTo>
                      <a:pt x="68" y="15"/>
                    </a:lnTo>
                    <a:lnTo>
                      <a:pt x="63" y="15"/>
                    </a:lnTo>
                    <a:lnTo>
                      <a:pt x="55" y="15"/>
                    </a:lnTo>
                    <a:lnTo>
                      <a:pt x="48" y="13"/>
                    </a:lnTo>
                    <a:lnTo>
                      <a:pt x="40" y="13"/>
                    </a:lnTo>
                    <a:lnTo>
                      <a:pt x="34" y="11"/>
                    </a:lnTo>
                    <a:lnTo>
                      <a:pt x="27" y="11"/>
                    </a:lnTo>
                    <a:lnTo>
                      <a:pt x="19" y="11"/>
                    </a:lnTo>
                    <a:lnTo>
                      <a:pt x="13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8642880" y="3041640"/>
                <a:ext cx="112680" cy="115560"/>
              </a:xfrm>
              <a:custGeom>
                <a:avLst/>
                <a:gdLst/>
                <a:ahLst/>
                <a:rect l="l" t="t" r="r" b="b"/>
                <a:pathLst>
                  <a:path w="143" h="147">
                    <a:moveTo>
                      <a:pt x="116" y="2"/>
                    </a:moveTo>
                    <a:lnTo>
                      <a:pt x="126" y="0"/>
                    </a:lnTo>
                    <a:lnTo>
                      <a:pt x="131" y="6"/>
                    </a:lnTo>
                    <a:lnTo>
                      <a:pt x="137" y="12"/>
                    </a:lnTo>
                    <a:lnTo>
                      <a:pt x="143" y="18"/>
                    </a:lnTo>
                    <a:lnTo>
                      <a:pt x="143" y="27"/>
                    </a:lnTo>
                    <a:lnTo>
                      <a:pt x="139" y="37"/>
                    </a:lnTo>
                    <a:lnTo>
                      <a:pt x="133" y="46"/>
                    </a:lnTo>
                    <a:lnTo>
                      <a:pt x="130" y="59"/>
                    </a:lnTo>
                    <a:lnTo>
                      <a:pt x="124" y="63"/>
                    </a:lnTo>
                    <a:lnTo>
                      <a:pt x="120" y="71"/>
                    </a:lnTo>
                    <a:lnTo>
                      <a:pt x="114" y="75"/>
                    </a:lnTo>
                    <a:lnTo>
                      <a:pt x="110" y="82"/>
                    </a:lnTo>
                    <a:lnTo>
                      <a:pt x="105" y="88"/>
                    </a:lnTo>
                    <a:lnTo>
                      <a:pt x="99" y="94"/>
                    </a:lnTo>
                    <a:lnTo>
                      <a:pt x="93" y="99"/>
                    </a:lnTo>
                    <a:lnTo>
                      <a:pt x="88" y="107"/>
                    </a:lnTo>
                    <a:lnTo>
                      <a:pt x="82" y="111"/>
                    </a:lnTo>
                    <a:lnTo>
                      <a:pt x="76" y="116"/>
                    </a:lnTo>
                    <a:lnTo>
                      <a:pt x="69" y="120"/>
                    </a:lnTo>
                    <a:lnTo>
                      <a:pt x="65" y="126"/>
                    </a:lnTo>
                    <a:lnTo>
                      <a:pt x="57" y="128"/>
                    </a:lnTo>
                    <a:lnTo>
                      <a:pt x="52" y="134"/>
                    </a:lnTo>
                    <a:lnTo>
                      <a:pt x="46" y="135"/>
                    </a:lnTo>
                    <a:lnTo>
                      <a:pt x="40" y="139"/>
                    </a:lnTo>
                    <a:lnTo>
                      <a:pt x="33" y="143"/>
                    </a:lnTo>
                    <a:lnTo>
                      <a:pt x="27" y="145"/>
                    </a:lnTo>
                    <a:lnTo>
                      <a:pt x="21" y="145"/>
                    </a:lnTo>
                    <a:lnTo>
                      <a:pt x="17" y="147"/>
                    </a:lnTo>
                    <a:lnTo>
                      <a:pt x="8" y="147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4" y="126"/>
                    </a:lnTo>
                    <a:lnTo>
                      <a:pt x="8" y="114"/>
                    </a:lnTo>
                    <a:lnTo>
                      <a:pt x="14" y="105"/>
                    </a:lnTo>
                    <a:lnTo>
                      <a:pt x="19" y="94"/>
                    </a:lnTo>
                    <a:lnTo>
                      <a:pt x="27" y="84"/>
                    </a:lnTo>
                    <a:lnTo>
                      <a:pt x="33" y="75"/>
                    </a:lnTo>
                    <a:lnTo>
                      <a:pt x="42" y="65"/>
                    </a:lnTo>
                    <a:lnTo>
                      <a:pt x="50" y="56"/>
                    </a:lnTo>
                    <a:lnTo>
                      <a:pt x="59" y="46"/>
                    </a:lnTo>
                    <a:lnTo>
                      <a:pt x="69" y="37"/>
                    </a:lnTo>
                    <a:lnTo>
                      <a:pt x="78" y="31"/>
                    </a:lnTo>
                    <a:lnTo>
                      <a:pt x="88" y="21"/>
                    </a:lnTo>
                    <a:lnTo>
                      <a:pt x="97" y="14"/>
                    </a:lnTo>
                    <a:lnTo>
                      <a:pt x="107" y="8"/>
                    </a:lnTo>
                    <a:lnTo>
                      <a:pt x="116" y="2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406280" y="3028680"/>
                <a:ext cx="83880" cy="1908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33" y="4"/>
                    </a:moveTo>
                    <a:lnTo>
                      <a:pt x="34" y="4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7" y="2"/>
                    </a:lnTo>
                    <a:lnTo>
                      <a:pt x="101" y="4"/>
                    </a:lnTo>
                    <a:lnTo>
                      <a:pt x="103" y="6"/>
                    </a:lnTo>
                    <a:lnTo>
                      <a:pt x="107" y="12"/>
                    </a:lnTo>
                    <a:lnTo>
                      <a:pt x="107" y="17"/>
                    </a:lnTo>
                    <a:lnTo>
                      <a:pt x="107" y="25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6" y="25"/>
                    </a:lnTo>
                    <a:lnTo>
                      <a:pt x="80" y="25"/>
                    </a:lnTo>
                    <a:lnTo>
                      <a:pt x="73" y="25"/>
                    </a:lnTo>
                    <a:lnTo>
                      <a:pt x="65" y="25"/>
                    </a:lnTo>
                    <a:lnTo>
                      <a:pt x="59" y="25"/>
                    </a:lnTo>
                    <a:lnTo>
                      <a:pt x="54" y="25"/>
                    </a:lnTo>
                    <a:lnTo>
                      <a:pt x="46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19" y="25"/>
                    </a:lnTo>
                    <a:lnTo>
                      <a:pt x="12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1" y="8"/>
                    </a:lnTo>
                    <a:lnTo>
                      <a:pt x="33" y="4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8819280" y="3058920"/>
                <a:ext cx="77400" cy="185760"/>
              </a:xfrm>
              <a:custGeom>
                <a:avLst/>
                <a:gdLst/>
                <a:ahLst/>
                <a:rect l="l" t="t" r="r" b="b"/>
                <a:pathLst>
                  <a:path w="97" h="234">
                    <a:moveTo>
                      <a:pt x="31" y="0"/>
                    </a:moveTo>
                    <a:lnTo>
                      <a:pt x="37" y="0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6" y="6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0" y="19"/>
                    </a:lnTo>
                    <a:lnTo>
                      <a:pt x="88" y="25"/>
                    </a:lnTo>
                    <a:lnTo>
                      <a:pt x="92" y="31"/>
                    </a:lnTo>
                    <a:lnTo>
                      <a:pt x="95" y="38"/>
                    </a:lnTo>
                    <a:lnTo>
                      <a:pt x="97" y="44"/>
                    </a:lnTo>
                    <a:lnTo>
                      <a:pt x="97" y="52"/>
                    </a:lnTo>
                    <a:lnTo>
                      <a:pt x="97" y="59"/>
                    </a:lnTo>
                    <a:lnTo>
                      <a:pt x="97" y="69"/>
                    </a:lnTo>
                    <a:lnTo>
                      <a:pt x="95" y="76"/>
                    </a:lnTo>
                    <a:lnTo>
                      <a:pt x="95" y="86"/>
                    </a:lnTo>
                    <a:lnTo>
                      <a:pt x="92" y="93"/>
                    </a:lnTo>
                    <a:lnTo>
                      <a:pt x="88" y="103"/>
                    </a:lnTo>
                    <a:lnTo>
                      <a:pt x="84" y="113"/>
                    </a:lnTo>
                    <a:lnTo>
                      <a:pt x="78" y="120"/>
                    </a:lnTo>
                    <a:lnTo>
                      <a:pt x="73" y="128"/>
                    </a:lnTo>
                    <a:lnTo>
                      <a:pt x="67" y="139"/>
                    </a:lnTo>
                    <a:lnTo>
                      <a:pt x="61" y="147"/>
                    </a:lnTo>
                    <a:lnTo>
                      <a:pt x="56" y="154"/>
                    </a:lnTo>
                    <a:lnTo>
                      <a:pt x="48" y="164"/>
                    </a:lnTo>
                    <a:lnTo>
                      <a:pt x="42" y="173"/>
                    </a:lnTo>
                    <a:lnTo>
                      <a:pt x="37" y="181"/>
                    </a:lnTo>
                    <a:lnTo>
                      <a:pt x="31" y="189"/>
                    </a:lnTo>
                    <a:lnTo>
                      <a:pt x="23" y="198"/>
                    </a:lnTo>
                    <a:lnTo>
                      <a:pt x="19" y="206"/>
                    </a:lnTo>
                    <a:lnTo>
                      <a:pt x="12" y="213"/>
                    </a:lnTo>
                    <a:lnTo>
                      <a:pt x="8" y="221"/>
                    </a:lnTo>
                    <a:lnTo>
                      <a:pt x="4" y="227"/>
                    </a:lnTo>
                    <a:lnTo>
                      <a:pt x="0" y="234"/>
                    </a:lnTo>
                    <a:lnTo>
                      <a:pt x="2" y="225"/>
                    </a:lnTo>
                    <a:lnTo>
                      <a:pt x="6" y="217"/>
                    </a:lnTo>
                    <a:lnTo>
                      <a:pt x="10" y="211"/>
                    </a:lnTo>
                    <a:lnTo>
                      <a:pt x="12" y="204"/>
                    </a:lnTo>
                    <a:lnTo>
                      <a:pt x="16" y="194"/>
                    </a:lnTo>
                    <a:lnTo>
                      <a:pt x="19" y="187"/>
                    </a:lnTo>
                    <a:lnTo>
                      <a:pt x="21" y="179"/>
                    </a:lnTo>
                    <a:lnTo>
                      <a:pt x="25" y="171"/>
                    </a:lnTo>
                    <a:lnTo>
                      <a:pt x="27" y="164"/>
                    </a:lnTo>
                    <a:lnTo>
                      <a:pt x="31" y="156"/>
                    </a:lnTo>
                    <a:lnTo>
                      <a:pt x="33" y="149"/>
                    </a:lnTo>
                    <a:lnTo>
                      <a:pt x="37" y="141"/>
                    </a:lnTo>
                    <a:lnTo>
                      <a:pt x="38" y="132"/>
                    </a:lnTo>
                    <a:lnTo>
                      <a:pt x="40" y="124"/>
                    </a:lnTo>
                    <a:lnTo>
                      <a:pt x="42" y="116"/>
                    </a:lnTo>
                    <a:lnTo>
                      <a:pt x="46" y="109"/>
                    </a:lnTo>
                    <a:lnTo>
                      <a:pt x="48" y="101"/>
                    </a:lnTo>
                    <a:lnTo>
                      <a:pt x="48" y="93"/>
                    </a:lnTo>
                    <a:lnTo>
                      <a:pt x="50" y="86"/>
                    </a:lnTo>
                    <a:lnTo>
                      <a:pt x="52" y="78"/>
                    </a:lnTo>
                    <a:lnTo>
                      <a:pt x="52" y="71"/>
                    </a:lnTo>
                    <a:lnTo>
                      <a:pt x="52" y="63"/>
                    </a:lnTo>
                    <a:lnTo>
                      <a:pt x="52" y="57"/>
                    </a:lnTo>
                    <a:lnTo>
                      <a:pt x="52" y="50"/>
                    </a:lnTo>
                    <a:lnTo>
                      <a:pt x="50" y="42"/>
                    </a:lnTo>
                    <a:lnTo>
                      <a:pt x="48" y="35"/>
                    </a:lnTo>
                    <a:lnTo>
                      <a:pt x="46" y="29"/>
                    </a:lnTo>
                    <a:lnTo>
                      <a:pt x="44" y="23"/>
                    </a:lnTo>
                    <a:lnTo>
                      <a:pt x="40" y="16"/>
                    </a:lnTo>
                    <a:lnTo>
                      <a:pt x="38" y="10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324560" y="3087360"/>
                <a:ext cx="979200" cy="120960"/>
              </a:xfrm>
              <a:custGeom>
                <a:avLst/>
                <a:gdLst/>
                <a:ahLst/>
                <a:rect l="l" t="t" r="r" b="b"/>
                <a:pathLst>
                  <a:path w="1233" h="153">
                    <a:moveTo>
                      <a:pt x="437" y="0"/>
                    </a:moveTo>
                    <a:lnTo>
                      <a:pt x="448" y="2"/>
                    </a:lnTo>
                    <a:lnTo>
                      <a:pt x="460" y="4"/>
                    </a:lnTo>
                    <a:lnTo>
                      <a:pt x="471" y="4"/>
                    </a:lnTo>
                    <a:lnTo>
                      <a:pt x="482" y="6"/>
                    </a:lnTo>
                    <a:lnTo>
                      <a:pt x="494" y="8"/>
                    </a:lnTo>
                    <a:lnTo>
                      <a:pt x="505" y="10"/>
                    </a:lnTo>
                    <a:lnTo>
                      <a:pt x="517" y="12"/>
                    </a:lnTo>
                    <a:lnTo>
                      <a:pt x="530" y="14"/>
                    </a:lnTo>
                    <a:lnTo>
                      <a:pt x="541" y="14"/>
                    </a:lnTo>
                    <a:lnTo>
                      <a:pt x="553" y="16"/>
                    </a:lnTo>
                    <a:lnTo>
                      <a:pt x="564" y="18"/>
                    </a:lnTo>
                    <a:lnTo>
                      <a:pt x="578" y="19"/>
                    </a:lnTo>
                    <a:lnTo>
                      <a:pt x="589" y="19"/>
                    </a:lnTo>
                    <a:lnTo>
                      <a:pt x="600" y="21"/>
                    </a:lnTo>
                    <a:lnTo>
                      <a:pt x="612" y="23"/>
                    </a:lnTo>
                    <a:lnTo>
                      <a:pt x="625" y="25"/>
                    </a:lnTo>
                    <a:lnTo>
                      <a:pt x="636" y="25"/>
                    </a:lnTo>
                    <a:lnTo>
                      <a:pt x="648" y="25"/>
                    </a:lnTo>
                    <a:lnTo>
                      <a:pt x="659" y="27"/>
                    </a:lnTo>
                    <a:lnTo>
                      <a:pt x="673" y="27"/>
                    </a:lnTo>
                    <a:lnTo>
                      <a:pt x="684" y="27"/>
                    </a:lnTo>
                    <a:lnTo>
                      <a:pt x="697" y="29"/>
                    </a:lnTo>
                    <a:lnTo>
                      <a:pt x="709" y="31"/>
                    </a:lnTo>
                    <a:lnTo>
                      <a:pt x="722" y="31"/>
                    </a:lnTo>
                    <a:lnTo>
                      <a:pt x="733" y="31"/>
                    </a:lnTo>
                    <a:lnTo>
                      <a:pt x="747" y="33"/>
                    </a:lnTo>
                    <a:lnTo>
                      <a:pt x="758" y="33"/>
                    </a:lnTo>
                    <a:lnTo>
                      <a:pt x="771" y="33"/>
                    </a:lnTo>
                    <a:lnTo>
                      <a:pt x="783" y="33"/>
                    </a:lnTo>
                    <a:lnTo>
                      <a:pt x="796" y="35"/>
                    </a:lnTo>
                    <a:lnTo>
                      <a:pt x="809" y="35"/>
                    </a:lnTo>
                    <a:lnTo>
                      <a:pt x="821" y="37"/>
                    </a:lnTo>
                    <a:lnTo>
                      <a:pt x="832" y="37"/>
                    </a:lnTo>
                    <a:lnTo>
                      <a:pt x="846" y="37"/>
                    </a:lnTo>
                    <a:lnTo>
                      <a:pt x="859" y="37"/>
                    </a:lnTo>
                    <a:lnTo>
                      <a:pt x="872" y="38"/>
                    </a:lnTo>
                    <a:lnTo>
                      <a:pt x="884" y="38"/>
                    </a:lnTo>
                    <a:lnTo>
                      <a:pt x="897" y="38"/>
                    </a:lnTo>
                    <a:lnTo>
                      <a:pt x="910" y="38"/>
                    </a:lnTo>
                    <a:lnTo>
                      <a:pt x="922" y="38"/>
                    </a:lnTo>
                    <a:lnTo>
                      <a:pt x="935" y="38"/>
                    </a:lnTo>
                    <a:lnTo>
                      <a:pt x="948" y="38"/>
                    </a:lnTo>
                    <a:lnTo>
                      <a:pt x="960" y="38"/>
                    </a:lnTo>
                    <a:lnTo>
                      <a:pt x="973" y="38"/>
                    </a:lnTo>
                    <a:lnTo>
                      <a:pt x="986" y="38"/>
                    </a:lnTo>
                    <a:lnTo>
                      <a:pt x="998" y="38"/>
                    </a:lnTo>
                    <a:lnTo>
                      <a:pt x="1011" y="38"/>
                    </a:lnTo>
                    <a:lnTo>
                      <a:pt x="1024" y="38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2" y="38"/>
                    </a:lnTo>
                    <a:lnTo>
                      <a:pt x="1076" y="38"/>
                    </a:lnTo>
                    <a:lnTo>
                      <a:pt x="1087" y="37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27" y="37"/>
                    </a:lnTo>
                    <a:lnTo>
                      <a:pt x="1140" y="35"/>
                    </a:lnTo>
                    <a:lnTo>
                      <a:pt x="1154" y="35"/>
                    </a:lnTo>
                    <a:lnTo>
                      <a:pt x="1165" y="35"/>
                    </a:lnTo>
                    <a:lnTo>
                      <a:pt x="1180" y="35"/>
                    </a:lnTo>
                    <a:lnTo>
                      <a:pt x="1192" y="35"/>
                    </a:lnTo>
                    <a:lnTo>
                      <a:pt x="1207" y="35"/>
                    </a:lnTo>
                    <a:lnTo>
                      <a:pt x="1220" y="35"/>
                    </a:lnTo>
                    <a:lnTo>
                      <a:pt x="1233" y="35"/>
                    </a:lnTo>
                    <a:lnTo>
                      <a:pt x="1224" y="37"/>
                    </a:lnTo>
                    <a:lnTo>
                      <a:pt x="1216" y="38"/>
                    </a:lnTo>
                    <a:lnTo>
                      <a:pt x="1207" y="40"/>
                    </a:lnTo>
                    <a:lnTo>
                      <a:pt x="1199" y="44"/>
                    </a:lnTo>
                    <a:lnTo>
                      <a:pt x="1190" y="44"/>
                    </a:lnTo>
                    <a:lnTo>
                      <a:pt x="1182" y="48"/>
                    </a:lnTo>
                    <a:lnTo>
                      <a:pt x="1173" y="48"/>
                    </a:lnTo>
                    <a:lnTo>
                      <a:pt x="1165" y="50"/>
                    </a:lnTo>
                    <a:lnTo>
                      <a:pt x="1155" y="52"/>
                    </a:lnTo>
                    <a:lnTo>
                      <a:pt x="1146" y="52"/>
                    </a:lnTo>
                    <a:lnTo>
                      <a:pt x="1136" y="54"/>
                    </a:lnTo>
                    <a:lnTo>
                      <a:pt x="1129" y="56"/>
                    </a:lnTo>
                    <a:lnTo>
                      <a:pt x="1119" y="56"/>
                    </a:lnTo>
                    <a:lnTo>
                      <a:pt x="1110" y="57"/>
                    </a:lnTo>
                    <a:lnTo>
                      <a:pt x="1100" y="57"/>
                    </a:lnTo>
                    <a:lnTo>
                      <a:pt x="1093" y="59"/>
                    </a:lnTo>
                    <a:lnTo>
                      <a:pt x="1083" y="59"/>
                    </a:lnTo>
                    <a:lnTo>
                      <a:pt x="1074" y="61"/>
                    </a:lnTo>
                    <a:lnTo>
                      <a:pt x="1064" y="61"/>
                    </a:lnTo>
                    <a:lnTo>
                      <a:pt x="1055" y="61"/>
                    </a:lnTo>
                    <a:lnTo>
                      <a:pt x="1045" y="61"/>
                    </a:lnTo>
                    <a:lnTo>
                      <a:pt x="1036" y="63"/>
                    </a:lnTo>
                    <a:lnTo>
                      <a:pt x="1026" y="63"/>
                    </a:lnTo>
                    <a:lnTo>
                      <a:pt x="1017" y="63"/>
                    </a:lnTo>
                    <a:lnTo>
                      <a:pt x="1007" y="63"/>
                    </a:lnTo>
                    <a:lnTo>
                      <a:pt x="998" y="63"/>
                    </a:lnTo>
                    <a:lnTo>
                      <a:pt x="988" y="63"/>
                    </a:lnTo>
                    <a:lnTo>
                      <a:pt x="979" y="65"/>
                    </a:lnTo>
                    <a:lnTo>
                      <a:pt x="969" y="65"/>
                    </a:lnTo>
                    <a:lnTo>
                      <a:pt x="960" y="67"/>
                    </a:lnTo>
                    <a:lnTo>
                      <a:pt x="950" y="67"/>
                    </a:lnTo>
                    <a:lnTo>
                      <a:pt x="943" y="67"/>
                    </a:lnTo>
                    <a:lnTo>
                      <a:pt x="933" y="67"/>
                    </a:lnTo>
                    <a:lnTo>
                      <a:pt x="924" y="67"/>
                    </a:lnTo>
                    <a:lnTo>
                      <a:pt x="914" y="67"/>
                    </a:lnTo>
                    <a:lnTo>
                      <a:pt x="905" y="69"/>
                    </a:lnTo>
                    <a:lnTo>
                      <a:pt x="895" y="69"/>
                    </a:lnTo>
                    <a:lnTo>
                      <a:pt x="885" y="69"/>
                    </a:lnTo>
                    <a:lnTo>
                      <a:pt x="876" y="71"/>
                    </a:lnTo>
                    <a:lnTo>
                      <a:pt x="866" y="71"/>
                    </a:lnTo>
                    <a:lnTo>
                      <a:pt x="857" y="71"/>
                    </a:lnTo>
                    <a:lnTo>
                      <a:pt x="847" y="73"/>
                    </a:lnTo>
                    <a:lnTo>
                      <a:pt x="838" y="73"/>
                    </a:lnTo>
                    <a:lnTo>
                      <a:pt x="830" y="75"/>
                    </a:lnTo>
                    <a:lnTo>
                      <a:pt x="821" y="77"/>
                    </a:lnTo>
                    <a:lnTo>
                      <a:pt x="811" y="78"/>
                    </a:lnTo>
                    <a:lnTo>
                      <a:pt x="804" y="78"/>
                    </a:lnTo>
                    <a:lnTo>
                      <a:pt x="794" y="82"/>
                    </a:lnTo>
                    <a:lnTo>
                      <a:pt x="785" y="82"/>
                    </a:lnTo>
                    <a:lnTo>
                      <a:pt x="777" y="86"/>
                    </a:lnTo>
                    <a:lnTo>
                      <a:pt x="768" y="86"/>
                    </a:lnTo>
                    <a:lnTo>
                      <a:pt x="762" y="90"/>
                    </a:lnTo>
                    <a:lnTo>
                      <a:pt x="752" y="92"/>
                    </a:lnTo>
                    <a:lnTo>
                      <a:pt x="745" y="96"/>
                    </a:lnTo>
                    <a:lnTo>
                      <a:pt x="737" y="97"/>
                    </a:lnTo>
                    <a:lnTo>
                      <a:pt x="730" y="101"/>
                    </a:lnTo>
                    <a:lnTo>
                      <a:pt x="720" y="105"/>
                    </a:lnTo>
                    <a:lnTo>
                      <a:pt x="714" y="107"/>
                    </a:lnTo>
                    <a:lnTo>
                      <a:pt x="707" y="111"/>
                    </a:lnTo>
                    <a:lnTo>
                      <a:pt x="699" y="115"/>
                    </a:lnTo>
                    <a:lnTo>
                      <a:pt x="692" y="118"/>
                    </a:lnTo>
                    <a:lnTo>
                      <a:pt x="686" y="124"/>
                    </a:lnTo>
                    <a:lnTo>
                      <a:pt x="680" y="128"/>
                    </a:lnTo>
                    <a:lnTo>
                      <a:pt x="673" y="134"/>
                    </a:lnTo>
                    <a:lnTo>
                      <a:pt x="671" y="132"/>
                    </a:lnTo>
                    <a:lnTo>
                      <a:pt x="674" y="122"/>
                    </a:lnTo>
                    <a:lnTo>
                      <a:pt x="684" y="115"/>
                    </a:lnTo>
                    <a:lnTo>
                      <a:pt x="692" y="105"/>
                    </a:lnTo>
                    <a:lnTo>
                      <a:pt x="697" y="96"/>
                    </a:lnTo>
                    <a:lnTo>
                      <a:pt x="686" y="92"/>
                    </a:lnTo>
                    <a:lnTo>
                      <a:pt x="676" y="92"/>
                    </a:lnTo>
                    <a:lnTo>
                      <a:pt x="667" y="92"/>
                    </a:lnTo>
                    <a:lnTo>
                      <a:pt x="657" y="92"/>
                    </a:lnTo>
                    <a:lnTo>
                      <a:pt x="648" y="92"/>
                    </a:lnTo>
                    <a:lnTo>
                      <a:pt x="638" y="96"/>
                    </a:lnTo>
                    <a:lnTo>
                      <a:pt x="629" y="96"/>
                    </a:lnTo>
                    <a:lnTo>
                      <a:pt x="621" y="99"/>
                    </a:lnTo>
                    <a:lnTo>
                      <a:pt x="612" y="101"/>
                    </a:lnTo>
                    <a:lnTo>
                      <a:pt x="604" y="105"/>
                    </a:lnTo>
                    <a:lnTo>
                      <a:pt x="595" y="107"/>
                    </a:lnTo>
                    <a:lnTo>
                      <a:pt x="587" y="113"/>
                    </a:lnTo>
                    <a:lnTo>
                      <a:pt x="578" y="116"/>
                    </a:lnTo>
                    <a:lnTo>
                      <a:pt x="570" y="122"/>
                    </a:lnTo>
                    <a:lnTo>
                      <a:pt x="562" y="126"/>
                    </a:lnTo>
                    <a:lnTo>
                      <a:pt x="555" y="132"/>
                    </a:lnTo>
                    <a:lnTo>
                      <a:pt x="558" y="124"/>
                    </a:lnTo>
                    <a:lnTo>
                      <a:pt x="560" y="118"/>
                    </a:lnTo>
                    <a:lnTo>
                      <a:pt x="564" y="113"/>
                    </a:lnTo>
                    <a:lnTo>
                      <a:pt x="568" y="105"/>
                    </a:lnTo>
                    <a:lnTo>
                      <a:pt x="574" y="94"/>
                    </a:lnTo>
                    <a:lnTo>
                      <a:pt x="578" y="84"/>
                    </a:lnTo>
                    <a:lnTo>
                      <a:pt x="579" y="73"/>
                    </a:lnTo>
                    <a:lnTo>
                      <a:pt x="583" y="67"/>
                    </a:lnTo>
                    <a:lnTo>
                      <a:pt x="583" y="59"/>
                    </a:lnTo>
                    <a:lnTo>
                      <a:pt x="583" y="56"/>
                    </a:lnTo>
                    <a:lnTo>
                      <a:pt x="579" y="52"/>
                    </a:lnTo>
                    <a:lnTo>
                      <a:pt x="576" y="50"/>
                    </a:lnTo>
                    <a:lnTo>
                      <a:pt x="568" y="50"/>
                    </a:lnTo>
                    <a:lnTo>
                      <a:pt x="560" y="52"/>
                    </a:lnTo>
                    <a:lnTo>
                      <a:pt x="555" y="54"/>
                    </a:lnTo>
                    <a:lnTo>
                      <a:pt x="549" y="57"/>
                    </a:lnTo>
                    <a:lnTo>
                      <a:pt x="543" y="59"/>
                    </a:lnTo>
                    <a:lnTo>
                      <a:pt x="538" y="63"/>
                    </a:lnTo>
                    <a:lnTo>
                      <a:pt x="530" y="69"/>
                    </a:lnTo>
                    <a:lnTo>
                      <a:pt x="522" y="73"/>
                    </a:lnTo>
                    <a:lnTo>
                      <a:pt x="513" y="80"/>
                    </a:lnTo>
                    <a:lnTo>
                      <a:pt x="505" y="88"/>
                    </a:lnTo>
                    <a:lnTo>
                      <a:pt x="498" y="92"/>
                    </a:lnTo>
                    <a:lnTo>
                      <a:pt x="492" y="97"/>
                    </a:lnTo>
                    <a:lnTo>
                      <a:pt x="484" y="103"/>
                    </a:lnTo>
                    <a:lnTo>
                      <a:pt x="479" y="107"/>
                    </a:lnTo>
                    <a:lnTo>
                      <a:pt x="471" y="111"/>
                    </a:lnTo>
                    <a:lnTo>
                      <a:pt x="463" y="115"/>
                    </a:lnTo>
                    <a:lnTo>
                      <a:pt x="456" y="116"/>
                    </a:lnTo>
                    <a:lnTo>
                      <a:pt x="450" y="122"/>
                    </a:lnTo>
                    <a:lnTo>
                      <a:pt x="448" y="118"/>
                    </a:lnTo>
                    <a:lnTo>
                      <a:pt x="448" y="111"/>
                    </a:lnTo>
                    <a:lnTo>
                      <a:pt x="450" y="105"/>
                    </a:lnTo>
                    <a:lnTo>
                      <a:pt x="452" y="97"/>
                    </a:lnTo>
                    <a:lnTo>
                      <a:pt x="458" y="94"/>
                    </a:lnTo>
                    <a:lnTo>
                      <a:pt x="463" y="88"/>
                    </a:lnTo>
                    <a:lnTo>
                      <a:pt x="469" y="82"/>
                    </a:lnTo>
                    <a:lnTo>
                      <a:pt x="477" y="78"/>
                    </a:lnTo>
                    <a:lnTo>
                      <a:pt x="482" y="75"/>
                    </a:lnTo>
                    <a:lnTo>
                      <a:pt x="488" y="69"/>
                    </a:lnTo>
                    <a:lnTo>
                      <a:pt x="494" y="65"/>
                    </a:lnTo>
                    <a:lnTo>
                      <a:pt x="500" y="59"/>
                    </a:lnTo>
                    <a:lnTo>
                      <a:pt x="505" y="56"/>
                    </a:lnTo>
                    <a:lnTo>
                      <a:pt x="509" y="50"/>
                    </a:lnTo>
                    <a:lnTo>
                      <a:pt x="513" y="44"/>
                    </a:lnTo>
                    <a:lnTo>
                      <a:pt x="515" y="40"/>
                    </a:lnTo>
                    <a:lnTo>
                      <a:pt x="515" y="35"/>
                    </a:lnTo>
                    <a:lnTo>
                      <a:pt x="509" y="35"/>
                    </a:lnTo>
                    <a:lnTo>
                      <a:pt x="503" y="38"/>
                    </a:lnTo>
                    <a:lnTo>
                      <a:pt x="496" y="40"/>
                    </a:lnTo>
                    <a:lnTo>
                      <a:pt x="490" y="42"/>
                    </a:lnTo>
                    <a:lnTo>
                      <a:pt x="484" y="44"/>
                    </a:lnTo>
                    <a:lnTo>
                      <a:pt x="479" y="46"/>
                    </a:lnTo>
                    <a:lnTo>
                      <a:pt x="471" y="50"/>
                    </a:lnTo>
                    <a:lnTo>
                      <a:pt x="467" y="52"/>
                    </a:lnTo>
                    <a:lnTo>
                      <a:pt x="456" y="57"/>
                    </a:lnTo>
                    <a:lnTo>
                      <a:pt x="444" y="63"/>
                    </a:lnTo>
                    <a:lnTo>
                      <a:pt x="433" y="71"/>
                    </a:lnTo>
                    <a:lnTo>
                      <a:pt x="422" y="78"/>
                    </a:lnTo>
                    <a:lnTo>
                      <a:pt x="410" y="86"/>
                    </a:lnTo>
                    <a:lnTo>
                      <a:pt x="401" y="94"/>
                    </a:lnTo>
                    <a:lnTo>
                      <a:pt x="389" y="101"/>
                    </a:lnTo>
                    <a:lnTo>
                      <a:pt x="380" y="111"/>
                    </a:lnTo>
                    <a:lnTo>
                      <a:pt x="368" y="120"/>
                    </a:lnTo>
                    <a:lnTo>
                      <a:pt x="359" y="130"/>
                    </a:lnTo>
                    <a:lnTo>
                      <a:pt x="355" y="135"/>
                    </a:lnTo>
                    <a:lnTo>
                      <a:pt x="349" y="141"/>
                    </a:lnTo>
                    <a:lnTo>
                      <a:pt x="346" y="147"/>
                    </a:lnTo>
                    <a:lnTo>
                      <a:pt x="340" y="153"/>
                    </a:lnTo>
                    <a:lnTo>
                      <a:pt x="338" y="143"/>
                    </a:lnTo>
                    <a:lnTo>
                      <a:pt x="338" y="135"/>
                    </a:lnTo>
                    <a:lnTo>
                      <a:pt x="338" y="126"/>
                    </a:lnTo>
                    <a:lnTo>
                      <a:pt x="342" y="118"/>
                    </a:lnTo>
                    <a:lnTo>
                      <a:pt x="346" y="111"/>
                    </a:lnTo>
                    <a:lnTo>
                      <a:pt x="351" y="103"/>
                    </a:lnTo>
                    <a:lnTo>
                      <a:pt x="357" y="96"/>
                    </a:lnTo>
                    <a:lnTo>
                      <a:pt x="366" y="88"/>
                    </a:lnTo>
                    <a:lnTo>
                      <a:pt x="372" y="80"/>
                    </a:lnTo>
                    <a:lnTo>
                      <a:pt x="382" y="73"/>
                    </a:lnTo>
                    <a:lnTo>
                      <a:pt x="389" y="67"/>
                    </a:lnTo>
                    <a:lnTo>
                      <a:pt x="399" y="61"/>
                    </a:lnTo>
                    <a:lnTo>
                      <a:pt x="408" y="54"/>
                    </a:lnTo>
                    <a:lnTo>
                      <a:pt x="416" y="48"/>
                    </a:lnTo>
                    <a:lnTo>
                      <a:pt x="424" y="42"/>
                    </a:lnTo>
                    <a:lnTo>
                      <a:pt x="431" y="40"/>
                    </a:lnTo>
                    <a:lnTo>
                      <a:pt x="424" y="40"/>
                    </a:lnTo>
                    <a:lnTo>
                      <a:pt x="418" y="42"/>
                    </a:lnTo>
                    <a:lnTo>
                      <a:pt x="410" y="42"/>
                    </a:lnTo>
                    <a:lnTo>
                      <a:pt x="405" y="44"/>
                    </a:lnTo>
                    <a:lnTo>
                      <a:pt x="397" y="44"/>
                    </a:lnTo>
                    <a:lnTo>
                      <a:pt x="389" y="46"/>
                    </a:lnTo>
                    <a:lnTo>
                      <a:pt x="384" y="48"/>
                    </a:lnTo>
                    <a:lnTo>
                      <a:pt x="376" y="50"/>
                    </a:lnTo>
                    <a:lnTo>
                      <a:pt x="368" y="50"/>
                    </a:lnTo>
                    <a:lnTo>
                      <a:pt x="363" y="52"/>
                    </a:lnTo>
                    <a:lnTo>
                      <a:pt x="355" y="52"/>
                    </a:lnTo>
                    <a:lnTo>
                      <a:pt x="349" y="54"/>
                    </a:lnTo>
                    <a:lnTo>
                      <a:pt x="342" y="54"/>
                    </a:lnTo>
                    <a:lnTo>
                      <a:pt x="336" y="56"/>
                    </a:lnTo>
                    <a:lnTo>
                      <a:pt x="328" y="57"/>
                    </a:lnTo>
                    <a:lnTo>
                      <a:pt x="323" y="59"/>
                    </a:lnTo>
                    <a:lnTo>
                      <a:pt x="315" y="59"/>
                    </a:lnTo>
                    <a:lnTo>
                      <a:pt x="309" y="59"/>
                    </a:lnTo>
                    <a:lnTo>
                      <a:pt x="302" y="61"/>
                    </a:lnTo>
                    <a:lnTo>
                      <a:pt x="294" y="61"/>
                    </a:lnTo>
                    <a:lnTo>
                      <a:pt x="289" y="63"/>
                    </a:lnTo>
                    <a:lnTo>
                      <a:pt x="281" y="63"/>
                    </a:lnTo>
                    <a:lnTo>
                      <a:pt x="275" y="65"/>
                    </a:lnTo>
                    <a:lnTo>
                      <a:pt x="270" y="67"/>
                    </a:lnTo>
                    <a:lnTo>
                      <a:pt x="262" y="67"/>
                    </a:lnTo>
                    <a:lnTo>
                      <a:pt x="254" y="67"/>
                    </a:lnTo>
                    <a:lnTo>
                      <a:pt x="247" y="67"/>
                    </a:lnTo>
                    <a:lnTo>
                      <a:pt x="241" y="69"/>
                    </a:lnTo>
                    <a:lnTo>
                      <a:pt x="233" y="69"/>
                    </a:lnTo>
                    <a:lnTo>
                      <a:pt x="228" y="69"/>
                    </a:lnTo>
                    <a:lnTo>
                      <a:pt x="220" y="71"/>
                    </a:lnTo>
                    <a:lnTo>
                      <a:pt x="214" y="71"/>
                    </a:lnTo>
                    <a:lnTo>
                      <a:pt x="207" y="71"/>
                    </a:lnTo>
                    <a:lnTo>
                      <a:pt x="201" y="71"/>
                    </a:lnTo>
                    <a:lnTo>
                      <a:pt x="193" y="71"/>
                    </a:lnTo>
                    <a:lnTo>
                      <a:pt x="188" y="71"/>
                    </a:lnTo>
                    <a:lnTo>
                      <a:pt x="180" y="71"/>
                    </a:lnTo>
                    <a:lnTo>
                      <a:pt x="173" y="71"/>
                    </a:lnTo>
                    <a:lnTo>
                      <a:pt x="167" y="71"/>
                    </a:lnTo>
                    <a:lnTo>
                      <a:pt x="161" y="71"/>
                    </a:lnTo>
                    <a:lnTo>
                      <a:pt x="154" y="71"/>
                    </a:lnTo>
                    <a:lnTo>
                      <a:pt x="146" y="69"/>
                    </a:lnTo>
                    <a:lnTo>
                      <a:pt x="140" y="69"/>
                    </a:lnTo>
                    <a:lnTo>
                      <a:pt x="133" y="69"/>
                    </a:lnTo>
                    <a:lnTo>
                      <a:pt x="125" y="67"/>
                    </a:lnTo>
                    <a:lnTo>
                      <a:pt x="119" y="67"/>
                    </a:lnTo>
                    <a:lnTo>
                      <a:pt x="114" y="65"/>
                    </a:lnTo>
                    <a:lnTo>
                      <a:pt x="106" y="65"/>
                    </a:lnTo>
                    <a:lnTo>
                      <a:pt x="98" y="63"/>
                    </a:lnTo>
                    <a:lnTo>
                      <a:pt x="93" y="61"/>
                    </a:lnTo>
                    <a:lnTo>
                      <a:pt x="85" y="59"/>
                    </a:lnTo>
                    <a:lnTo>
                      <a:pt x="79" y="59"/>
                    </a:lnTo>
                    <a:lnTo>
                      <a:pt x="72" y="57"/>
                    </a:lnTo>
                    <a:lnTo>
                      <a:pt x="66" y="54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5" y="48"/>
                    </a:lnTo>
                    <a:lnTo>
                      <a:pt x="39" y="46"/>
                    </a:lnTo>
                    <a:lnTo>
                      <a:pt x="32" y="44"/>
                    </a:lnTo>
                    <a:lnTo>
                      <a:pt x="24" y="42"/>
                    </a:lnTo>
                    <a:lnTo>
                      <a:pt x="19" y="38"/>
                    </a:lnTo>
                    <a:lnTo>
                      <a:pt x="13" y="35"/>
                    </a:lnTo>
                    <a:lnTo>
                      <a:pt x="5" y="3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3" y="31"/>
                    </a:lnTo>
                    <a:lnTo>
                      <a:pt x="20" y="31"/>
                    </a:lnTo>
                    <a:lnTo>
                      <a:pt x="26" y="31"/>
                    </a:lnTo>
                    <a:lnTo>
                      <a:pt x="34" y="31"/>
                    </a:lnTo>
                    <a:lnTo>
                      <a:pt x="41" y="31"/>
                    </a:lnTo>
                    <a:lnTo>
                      <a:pt x="49" y="31"/>
                    </a:lnTo>
                    <a:lnTo>
                      <a:pt x="57" y="33"/>
                    </a:lnTo>
                    <a:lnTo>
                      <a:pt x="62" y="33"/>
                    </a:lnTo>
                    <a:lnTo>
                      <a:pt x="70" y="33"/>
                    </a:lnTo>
                    <a:lnTo>
                      <a:pt x="78" y="33"/>
                    </a:lnTo>
                    <a:lnTo>
                      <a:pt x="85" y="33"/>
                    </a:lnTo>
                    <a:lnTo>
                      <a:pt x="91" y="33"/>
                    </a:lnTo>
                    <a:lnTo>
                      <a:pt x="98" y="35"/>
                    </a:lnTo>
                    <a:lnTo>
                      <a:pt x="106" y="35"/>
                    </a:lnTo>
                    <a:lnTo>
                      <a:pt x="114" y="37"/>
                    </a:lnTo>
                    <a:lnTo>
                      <a:pt x="119" y="37"/>
                    </a:lnTo>
                    <a:lnTo>
                      <a:pt x="125" y="37"/>
                    </a:lnTo>
                    <a:lnTo>
                      <a:pt x="133" y="37"/>
                    </a:lnTo>
                    <a:lnTo>
                      <a:pt x="140" y="38"/>
                    </a:lnTo>
                    <a:lnTo>
                      <a:pt x="146" y="38"/>
                    </a:lnTo>
                    <a:lnTo>
                      <a:pt x="154" y="38"/>
                    </a:lnTo>
                    <a:lnTo>
                      <a:pt x="161" y="38"/>
                    </a:lnTo>
                    <a:lnTo>
                      <a:pt x="169" y="40"/>
                    </a:lnTo>
                    <a:lnTo>
                      <a:pt x="174" y="40"/>
                    </a:lnTo>
                    <a:lnTo>
                      <a:pt x="180" y="40"/>
                    </a:lnTo>
                    <a:lnTo>
                      <a:pt x="188" y="40"/>
                    </a:lnTo>
                    <a:lnTo>
                      <a:pt x="195" y="40"/>
                    </a:lnTo>
                    <a:lnTo>
                      <a:pt x="201" y="40"/>
                    </a:lnTo>
                    <a:lnTo>
                      <a:pt x="209" y="42"/>
                    </a:lnTo>
                    <a:lnTo>
                      <a:pt x="216" y="42"/>
                    </a:lnTo>
                    <a:lnTo>
                      <a:pt x="224" y="42"/>
                    </a:lnTo>
                    <a:lnTo>
                      <a:pt x="230" y="42"/>
                    </a:lnTo>
                    <a:lnTo>
                      <a:pt x="235" y="42"/>
                    </a:lnTo>
                    <a:lnTo>
                      <a:pt x="243" y="42"/>
                    </a:lnTo>
                    <a:lnTo>
                      <a:pt x="251" y="42"/>
                    </a:lnTo>
                    <a:lnTo>
                      <a:pt x="256" y="40"/>
                    </a:lnTo>
                    <a:lnTo>
                      <a:pt x="262" y="40"/>
                    </a:lnTo>
                    <a:lnTo>
                      <a:pt x="270" y="40"/>
                    </a:lnTo>
                    <a:lnTo>
                      <a:pt x="275" y="40"/>
                    </a:lnTo>
                    <a:lnTo>
                      <a:pt x="283" y="40"/>
                    </a:lnTo>
                    <a:lnTo>
                      <a:pt x="289" y="38"/>
                    </a:lnTo>
                    <a:lnTo>
                      <a:pt x="294" y="38"/>
                    </a:lnTo>
                    <a:lnTo>
                      <a:pt x="302" y="38"/>
                    </a:lnTo>
                    <a:lnTo>
                      <a:pt x="309" y="37"/>
                    </a:lnTo>
                    <a:lnTo>
                      <a:pt x="317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6" y="33"/>
                    </a:lnTo>
                    <a:lnTo>
                      <a:pt x="344" y="31"/>
                    </a:lnTo>
                    <a:lnTo>
                      <a:pt x="349" y="29"/>
                    </a:lnTo>
                    <a:lnTo>
                      <a:pt x="357" y="27"/>
                    </a:lnTo>
                    <a:lnTo>
                      <a:pt x="363" y="25"/>
                    </a:lnTo>
                    <a:lnTo>
                      <a:pt x="368" y="23"/>
                    </a:lnTo>
                    <a:lnTo>
                      <a:pt x="376" y="21"/>
                    </a:lnTo>
                    <a:lnTo>
                      <a:pt x="384" y="21"/>
                    </a:lnTo>
                    <a:lnTo>
                      <a:pt x="389" y="18"/>
                    </a:lnTo>
                    <a:lnTo>
                      <a:pt x="395" y="16"/>
                    </a:lnTo>
                    <a:lnTo>
                      <a:pt x="403" y="14"/>
                    </a:lnTo>
                    <a:lnTo>
                      <a:pt x="410" y="12"/>
                    </a:lnTo>
                    <a:lnTo>
                      <a:pt x="416" y="8"/>
                    </a:lnTo>
                    <a:lnTo>
                      <a:pt x="424" y="6"/>
                    </a:lnTo>
                    <a:lnTo>
                      <a:pt x="429" y="2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6746040" y="3112920"/>
                <a:ext cx="1077480" cy="1198440"/>
              </a:xfrm>
              <a:custGeom>
                <a:avLst/>
                <a:gdLst/>
                <a:ahLst/>
                <a:rect l="l" t="t" r="r" b="b"/>
                <a:pathLst>
                  <a:path w="1358" h="1509">
                    <a:moveTo>
                      <a:pt x="993" y="2"/>
                    </a:moveTo>
                    <a:lnTo>
                      <a:pt x="1000" y="0"/>
                    </a:lnTo>
                    <a:lnTo>
                      <a:pt x="1006" y="0"/>
                    </a:lnTo>
                    <a:lnTo>
                      <a:pt x="1013" y="0"/>
                    </a:lnTo>
                    <a:lnTo>
                      <a:pt x="1023" y="0"/>
                    </a:lnTo>
                    <a:lnTo>
                      <a:pt x="1031" y="0"/>
                    </a:lnTo>
                    <a:lnTo>
                      <a:pt x="1038" y="0"/>
                    </a:lnTo>
                    <a:lnTo>
                      <a:pt x="1046" y="0"/>
                    </a:lnTo>
                    <a:lnTo>
                      <a:pt x="1055" y="0"/>
                    </a:lnTo>
                    <a:lnTo>
                      <a:pt x="1061" y="0"/>
                    </a:lnTo>
                    <a:lnTo>
                      <a:pt x="1069" y="0"/>
                    </a:lnTo>
                    <a:lnTo>
                      <a:pt x="1076" y="0"/>
                    </a:lnTo>
                    <a:lnTo>
                      <a:pt x="1086" y="2"/>
                    </a:lnTo>
                    <a:lnTo>
                      <a:pt x="1093" y="2"/>
                    </a:lnTo>
                    <a:lnTo>
                      <a:pt x="1101" y="5"/>
                    </a:lnTo>
                    <a:lnTo>
                      <a:pt x="1108" y="5"/>
                    </a:lnTo>
                    <a:lnTo>
                      <a:pt x="1116" y="9"/>
                    </a:lnTo>
                    <a:lnTo>
                      <a:pt x="1124" y="9"/>
                    </a:lnTo>
                    <a:lnTo>
                      <a:pt x="1131" y="11"/>
                    </a:lnTo>
                    <a:lnTo>
                      <a:pt x="1137" y="15"/>
                    </a:lnTo>
                    <a:lnTo>
                      <a:pt x="1145" y="17"/>
                    </a:lnTo>
                    <a:lnTo>
                      <a:pt x="1150" y="21"/>
                    </a:lnTo>
                    <a:lnTo>
                      <a:pt x="1158" y="24"/>
                    </a:lnTo>
                    <a:lnTo>
                      <a:pt x="1164" y="26"/>
                    </a:lnTo>
                    <a:lnTo>
                      <a:pt x="1169" y="32"/>
                    </a:lnTo>
                    <a:lnTo>
                      <a:pt x="1179" y="40"/>
                    </a:lnTo>
                    <a:lnTo>
                      <a:pt x="1190" y="53"/>
                    </a:lnTo>
                    <a:lnTo>
                      <a:pt x="1194" y="59"/>
                    </a:lnTo>
                    <a:lnTo>
                      <a:pt x="1198" y="64"/>
                    </a:lnTo>
                    <a:lnTo>
                      <a:pt x="1202" y="72"/>
                    </a:lnTo>
                    <a:lnTo>
                      <a:pt x="1205" y="82"/>
                    </a:lnTo>
                    <a:lnTo>
                      <a:pt x="1194" y="72"/>
                    </a:lnTo>
                    <a:lnTo>
                      <a:pt x="1186" y="64"/>
                    </a:lnTo>
                    <a:lnTo>
                      <a:pt x="1177" y="59"/>
                    </a:lnTo>
                    <a:lnTo>
                      <a:pt x="1169" y="55"/>
                    </a:lnTo>
                    <a:lnTo>
                      <a:pt x="1164" y="51"/>
                    </a:lnTo>
                    <a:lnTo>
                      <a:pt x="1158" y="49"/>
                    </a:lnTo>
                    <a:lnTo>
                      <a:pt x="1154" y="47"/>
                    </a:lnTo>
                    <a:lnTo>
                      <a:pt x="1152" y="49"/>
                    </a:lnTo>
                    <a:lnTo>
                      <a:pt x="1148" y="51"/>
                    </a:lnTo>
                    <a:lnTo>
                      <a:pt x="1147" y="57"/>
                    </a:lnTo>
                    <a:lnTo>
                      <a:pt x="1148" y="64"/>
                    </a:lnTo>
                    <a:lnTo>
                      <a:pt x="1154" y="74"/>
                    </a:lnTo>
                    <a:lnTo>
                      <a:pt x="1160" y="83"/>
                    </a:lnTo>
                    <a:lnTo>
                      <a:pt x="1169" y="97"/>
                    </a:lnTo>
                    <a:lnTo>
                      <a:pt x="1175" y="101"/>
                    </a:lnTo>
                    <a:lnTo>
                      <a:pt x="1181" y="106"/>
                    </a:lnTo>
                    <a:lnTo>
                      <a:pt x="1186" y="112"/>
                    </a:lnTo>
                    <a:lnTo>
                      <a:pt x="1194" y="118"/>
                    </a:lnTo>
                    <a:lnTo>
                      <a:pt x="1200" y="121"/>
                    </a:lnTo>
                    <a:lnTo>
                      <a:pt x="1207" y="127"/>
                    </a:lnTo>
                    <a:lnTo>
                      <a:pt x="1215" y="131"/>
                    </a:lnTo>
                    <a:lnTo>
                      <a:pt x="1223" y="137"/>
                    </a:lnTo>
                    <a:lnTo>
                      <a:pt x="1230" y="139"/>
                    </a:lnTo>
                    <a:lnTo>
                      <a:pt x="1238" y="142"/>
                    </a:lnTo>
                    <a:lnTo>
                      <a:pt x="1245" y="144"/>
                    </a:lnTo>
                    <a:lnTo>
                      <a:pt x="1255" y="146"/>
                    </a:lnTo>
                    <a:lnTo>
                      <a:pt x="1262" y="148"/>
                    </a:lnTo>
                    <a:lnTo>
                      <a:pt x="1272" y="154"/>
                    </a:lnTo>
                    <a:lnTo>
                      <a:pt x="1280" y="161"/>
                    </a:lnTo>
                    <a:lnTo>
                      <a:pt x="1287" y="167"/>
                    </a:lnTo>
                    <a:lnTo>
                      <a:pt x="1293" y="175"/>
                    </a:lnTo>
                    <a:lnTo>
                      <a:pt x="1302" y="182"/>
                    </a:lnTo>
                    <a:lnTo>
                      <a:pt x="1310" y="188"/>
                    </a:lnTo>
                    <a:lnTo>
                      <a:pt x="1318" y="196"/>
                    </a:lnTo>
                    <a:lnTo>
                      <a:pt x="1310" y="192"/>
                    </a:lnTo>
                    <a:lnTo>
                      <a:pt x="1300" y="190"/>
                    </a:lnTo>
                    <a:lnTo>
                      <a:pt x="1293" y="184"/>
                    </a:lnTo>
                    <a:lnTo>
                      <a:pt x="1285" y="180"/>
                    </a:lnTo>
                    <a:lnTo>
                      <a:pt x="1276" y="175"/>
                    </a:lnTo>
                    <a:lnTo>
                      <a:pt x="1268" y="171"/>
                    </a:lnTo>
                    <a:lnTo>
                      <a:pt x="1259" y="165"/>
                    </a:lnTo>
                    <a:lnTo>
                      <a:pt x="1251" y="161"/>
                    </a:lnTo>
                    <a:lnTo>
                      <a:pt x="1242" y="156"/>
                    </a:lnTo>
                    <a:lnTo>
                      <a:pt x="1232" y="152"/>
                    </a:lnTo>
                    <a:lnTo>
                      <a:pt x="1223" y="146"/>
                    </a:lnTo>
                    <a:lnTo>
                      <a:pt x="1213" y="142"/>
                    </a:lnTo>
                    <a:lnTo>
                      <a:pt x="1204" y="139"/>
                    </a:lnTo>
                    <a:lnTo>
                      <a:pt x="1196" y="135"/>
                    </a:lnTo>
                    <a:lnTo>
                      <a:pt x="1186" y="131"/>
                    </a:lnTo>
                    <a:lnTo>
                      <a:pt x="1177" y="131"/>
                    </a:lnTo>
                    <a:lnTo>
                      <a:pt x="1171" y="137"/>
                    </a:lnTo>
                    <a:lnTo>
                      <a:pt x="1169" y="144"/>
                    </a:lnTo>
                    <a:lnTo>
                      <a:pt x="1171" y="152"/>
                    </a:lnTo>
                    <a:lnTo>
                      <a:pt x="1173" y="158"/>
                    </a:lnTo>
                    <a:lnTo>
                      <a:pt x="1177" y="165"/>
                    </a:lnTo>
                    <a:lnTo>
                      <a:pt x="1181" y="173"/>
                    </a:lnTo>
                    <a:lnTo>
                      <a:pt x="1183" y="180"/>
                    </a:lnTo>
                    <a:lnTo>
                      <a:pt x="1185" y="188"/>
                    </a:lnTo>
                    <a:lnTo>
                      <a:pt x="1190" y="188"/>
                    </a:lnTo>
                    <a:lnTo>
                      <a:pt x="1196" y="190"/>
                    </a:lnTo>
                    <a:lnTo>
                      <a:pt x="1204" y="192"/>
                    </a:lnTo>
                    <a:lnTo>
                      <a:pt x="1209" y="196"/>
                    </a:lnTo>
                    <a:lnTo>
                      <a:pt x="1219" y="203"/>
                    </a:lnTo>
                    <a:lnTo>
                      <a:pt x="1230" y="217"/>
                    </a:lnTo>
                    <a:lnTo>
                      <a:pt x="1234" y="220"/>
                    </a:lnTo>
                    <a:lnTo>
                      <a:pt x="1238" y="226"/>
                    </a:lnTo>
                    <a:lnTo>
                      <a:pt x="1243" y="232"/>
                    </a:lnTo>
                    <a:lnTo>
                      <a:pt x="1247" y="239"/>
                    </a:lnTo>
                    <a:lnTo>
                      <a:pt x="1251" y="245"/>
                    </a:lnTo>
                    <a:lnTo>
                      <a:pt x="1255" y="249"/>
                    </a:lnTo>
                    <a:lnTo>
                      <a:pt x="1259" y="255"/>
                    </a:lnTo>
                    <a:lnTo>
                      <a:pt x="1262" y="260"/>
                    </a:lnTo>
                    <a:lnTo>
                      <a:pt x="1261" y="264"/>
                    </a:lnTo>
                    <a:lnTo>
                      <a:pt x="1253" y="258"/>
                    </a:lnTo>
                    <a:lnTo>
                      <a:pt x="1245" y="253"/>
                    </a:lnTo>
                    <a:lnTo>
                      <a:pt x="1238" y="247"/>
                    </a:lnTo>
                    <a:lnTo>
                      <a:pt x="1232" y="241"/>
                    </a:lnTo>
                    <a:lnTo>
                      <a:pt x="1223" y="236"/>
                    </a:lnTo>
                    <a:lnTo>
                      <a:pt x="1215" y="230"/>
                    </a:lnTo>
                    <a:lnTo>
                      <a:pt x="1207" y="224"/>
                    </a:lnTo>
                    <a:lnTo>
                      <a:pt x="1202" y="218"/>
                    </a:lnTo>
                    <a:lnTo>
                      <a:pt x="1194" y="213"/>
                    </a:lnTo>
                    <a:lnTo>
                      <a:pt x="1186" y="209"/>
                    </a:lnTo>
                    <a:lnTo>
                      <a:pt x="1177" y="203"/>
                    </a:lnTo>
                    <a:lnTo>
                      <a:pt x="1169" y="199"/>
                    </a:lnTo>
                    <a:lnTo>
                      <a:pt x="1160" y="196"/>
                    </a:lnTo>
                    <a:lnTo>
                      <a:pt x="1152" y="192"/>
                    </a:lnTo>
                    <a:lnTo>
                      <a:pt x="1143" y="190"/>
                    </a:lnTo>
                    <a:lnTo>
                      <a:pt x="1135" y="188"/>
                    </a:lnTo>
                    <a:lnTo>
                      <a:pt x="1137" y="197"/>
                    </a:lnTo>
                    <a:lnTo>
                      <a:pt x="1143" y="207"/>
                    </a:lnTo>
                    <a:lnTo>
                      <a:pt x="1148" y="217"/>
                    </a:lnTo>
                    <a:lnTo>
                      <a:pt x="1154" y="226"/>
                    </a:lnTo>
                    <a:lnTo>
                      <a:pt x="1162" y="236"/>
                    </a:lnTo>
                    <a:lnTo>
                      <a:pt x="1169" y="245"/>
                    </a:lnTo>
                    <a:lnTo>
                      <a:pt x="1177" y="253"/>
                    </a:lnTo>
                    <a:lnTo>
                      <a:pt x="1186" y="262"/>
                    </a:lnTo>
                    <a:lnTo>
                      <a:pt x="1194" y="272"/>
                    </a:lnTo>
                    <a:lnTo>
                      <a:pt x="1204" y="279"/>
                    </a:lnTo>
                    <a:lnTo>
                      <a:pt x="1211" y="287"/>
                    </a:lnTo>
                    <a:lnTo>
                      <a:pt x="1219" y="298"/>
                    </a:lnTo>
                    <a:lnTo>
                      <a:pt x="1226" y="306"/>
                    </a:lnTo>
                    <a:lnTo>
                      <a:pt x="1234" y="315"/>
                    </a:lnTo>
                    <a:lnTo>
                      <a:pt x="1238" y="325"/>
                    </a:lnTo>
                    <a:lnTo>
                      <a:pt x="1245" y="336"/>
                    </a:lnTo>
                    <a:lnTo>
                      <a:pt x="1236" y="329"/>
                    </a:lnTo>
                    <a:lnTo>
                      <a:pt x="1228" y="321"/>
                    </a:lnTo>
                    <a:lnTo>
                      <a:pt x="1219" y="315"/>
                    </a:lnTo>
                    <a:lnTo>
                      <a:pt x="1213" y="312"/>
                    </a:lnTo>
                    <a:lnTo>
                      <a:pt x="1205" y="308"/>
                    </a:lnTo>
                    <a:lnTo>
                      <a:pt x="1198" y="304"/>
                    </a:lnTo>
                    <a:lnTo>
                      <a:pt x="1192" y="300"/>
                    </a:lnTo>
                    <a:lnTo>
                      <a:pt x="1186" y="300"/>
                    </a:lnTo>
                    <a:lnTo>
                      <a:pt x="1181" y="296"/>
                    </a:lnTo>
                    <a:lnTo>
                      <a:pt x="1175" y="294"/>
                    </a:lnTo>
                    <a:lnTo>
                      <a:pt x="1169" y="294"/>
                    </a:lnTo>
                    <a:lnTo>
                      <a:pt x="1167" y="294"/>
                    </a:lnTo>
                    <a:lnTo>
                      <a:pt x="1160" y="298"/>
                    </a:lnTo>
                    <a:lnTo>
                      <a:pt x="1154" y="302"/>
                    </a:lnTo>
                    <a:lnTo>
                      <a:pt x="1152" y="306"/>
                    </a:lnTo>
                    <a:lnTo>
                      <a:pt x="1152" y="313"/>
                    </a:lnTo>
                    <a:lnTo>
                      <a:pt x="1154" y="321"/>
                    </a:lnTo>
                    <a:lnTo>
                      <a:pt x="1160" y="331"/>
                    </a:lnTo>
                    <a:lnTo>
                      <a:pt x="1164" y="336"/>
                    </a:lnTo>
                    <a:lnTo>
                      <a:pt x="1167" y="342"/>
                    </a:lnTo>
                    <a:lnTo>
                      <a:pt x="1173" y="348"/>
                    </a:lnTo>
                    <a:lnTo>
                      <a:pt x="1179" y="355"/>
                    </a:lnTo>
                    <a:lnTo>
                      <a:pt x="1186" y="363"/>
                    </a:lnTo>
                    <a:lnTo>
                      <a:pt x="1194" y="369"/>
                    </a:lnTo>
                    <a:lnTo>
                      <a:pt x="1204" y="376"/>
                    </a:lnTo>
                    <a:lnTo>
                      <a:pt x="1213" y="384"/>
                    </a:lnTo>
                    <a:lnTo>
                      <a:pt x="1219" y="384"/>
                    </a:lnTo>
                    <a:lnTo>
                      <a:pt x="1226" y="388"/>
                    </a:lnTo>
                    <a:lnTo>
                      <a:pt x="1230" y="393"/>
                    </a:lnTo>
                    <a:lnTo>
                      <a:pt x="1234" y="399"/>
                    </a:lnTo>
                    <a:lnTo>
                      <a:pt x="1238" y="405"/>
                    </a:lnTo>
                    <a:lnTo>
                      <a:pt x="1242" y="412"/>
                    </a:lnTo>
                    <a:lnTo>
                      <a:pt x="1245" y="418"/>
                    </a:lnTo>
                    <a:lnTo>
                      <a:pt x="1251" y="424"/>
                    </a:lnTo>
                    <a:lnTo>
                      <a:pt x="1247" y="429"/>
                    </a:lnTo>
                    <a:lnTo>
                      <a:pt x="1242" y="426"/>
                    </a:lnTo>
                    <a:lnTo>
                      <a:pt x="1234" y="422"/>
                    </a:lnTo>
                    <a:lnTo>
                      <a:pt x="1228" y="418"/>
                    </a:lnTo>
                    <a:lnTo>
                      <a:pt x="1223" y="412"/>
                    </a:lnTo>
                    <a:lnTo>
                      <a:pt x="1211" y="405"/>
                    </a:lnTo>
                    <a:lnTo>
                      <a:pt x="1200" y="395"/>
                    </a:lnTo>
                    <a:lnTo>
                      <a:pt x="1194" y="391"/>
                    </a:lnTo>
                    <a:lnTo>
                      <a:pt x="1188" y="386"/>
                    </a:lnTo>
                    <a:lnTo>
                      <a:pt x="1183" y="382"/>
                    </a:lnTo>
                    <a:lnTo>
                      <a:pt x="1177" y="378"/>
                    </a:lnTo>
                    <a:lnTo>
                      <a:pt x="1171" y="374"/>
                    </a:lnTo>
                    <a:lnTo>
                      <a:pt x="1164" y="372"/>
                    </a:lnTo>
                    <a:lnTo>
                      <a:pt x="1158" y="369"/>
                    </a:lnTo>
                    <a:lnTo>
                      <a:pt x="1152" y="367"/>
                    </a:lnTo>
                    <a:lnTo>
                      <a:pt x="1145" y="376"/>
                    </a:lnTo>
                    <a:lnTo>
                      <a:pt x="1145" y="386"/>
                    </a:lnTo>
                    <a:lnTo>
                      <a:pt x="1150" y="393"/>
                    </a:lnTo>
                    <a:lnTo>
                      <a:pt x="1160" y="403"/>
                    </a:lnTo>
                    <a:lnTo>
                      <a:pt x="1164" y="405"/>
                    </a:lnTo>
                    <a:lnTo>
                      <a:pt x="1171" y="410"/>
                    </a:lnTo>
                    <a:lnTo>
                      <a:pt x="1177" y="412"/>
                    </a:lnTo>
                    <a:lnTo>
                      <a:pt x="1183" y="418"/>
                    </a:lnTo>
                    <a:lnTo>
                      <a:pt x="1194" y="428"/>
                    </a:lnTo>
                    <a:lnTo>
                      <a:pt x="1204" y="437"/>
                    </a:lnTo>
                    <a:lnTo>
                      <a:pt x="1198" y="439"/>
                    </a:lnTo>
                    <a:lnTo>
                      <a:pt x="1188" y="431"/>
                    </a:lnTo>
                    <a:lnTo>
                      <a:pt x="1179" y="424"/>
                    </a:lnTo>
                    <a:lnTo>
                      <a:pt x="1167" y="420"/>
                    </a:lnTo>
                    <a:lnTo>
                      <a:pt x="1158" y="414"/>
                    </a:lnTo>
                    <a:lnTo>
                      <a:pt x="1147" y="410"/>
                    </a:lnTo>
                    <a:lnTo>
                      <a:pt x="1135" y="407"/>
                    </a:lnTo>
                    <a:lnTo>
                      <a:pt x="1126" y="403"/>
                    </a:lnTo>
                    <a:lnTo>
                      <a:pt x="1116" y="397"/>
                    </a:lnTo>
                    <a:lnTo>
                      <a:pt x="1110" y="405"/>
                    </a:lnTo>
                    <a:lnTo>
                      <a:pt x="1105" y="412"/>
                    </a:lnTo>
                    <a:lnTo>
                      <a:pt x="1097" y="420"/>
                    </a:lnTo>
                    <a:lnTo>
                      <a:pt x="1093" y="428"/>
                    </a:lnTo>
                    <a:lnTo>
                      <a:pt x="1086" y="433"/>
                    </a:lnTo>
                    <a:lnTo>
                      <a:pt x="1080" y="441"/>
                    </a:lnTo>
                    <a:lnTo>
                      <a:pt x="1074" y="448"/>
                    </a:lnTo>
                    <a:lnTo>
                      <a:pt x="1070" y="458"/>
                    </a:lnTo>
                    <a:lnTo>
                      <a:pt x="1065" y="464"/>
                    </a:lnTo>
                    <a:lnTo>
                      <a:pt x="1059" y="473"/>
                    </a:lnTo>
                    <a:lnTo>
                      <a:pt x="1055" y="479"/>
                    </a:lnTo>
                    <a:lnTo>
                      <a:pt x="1051" y="486"/>
                    </a:lnTo>
                    <a:lnTo>
                      <a:pt x="1048" y="494"/>
                    </a:lnTo>
                    <a:lnTo>
                      <a:pt x="1046" y="502"/>
                    </a:lnTo>
                    <a:lnTo>
                      <a:pt x="1042" y="509"/>
                    </a:lnTo>
                    <a:lnTo>
                      <a:pt x="1042" y="517"/>
                    </a:lnTo>
                    <a:lnTo>
                      <a:pt x="1040" y="523"/>
                    </a:lnTo>
                    <a:lnTo>
                      <a:pt x="1040" y="530"/>
                    </a:lnTo>
                    <a:lnTo>
                      <a:pt x="1038" y="536"/>
                    </a:lnTo>
                    <a:lnTo>
                      <a:pt x="1040" y="542"/>
                    </a:lnTo>
                    <a:lnTo>
                      <a:pt x="1040" y="547"/>
                    </a:lnTo>
                    <a:lnTo>
                      <a:pt x="1044" y="555"/>
                    </a:lnTo>
                    <a:lnTo>
                      <a:pt x="1048" y="559"/>
                    </a:lnTo>
                    <a:lnTo>
                      <a:pt x="1051" y="564"/>
                    </a:lnTo>
                    <a:lnTo>
                      <a:pt x="1057" y="568"/>
                    </a:lnTo>
                    <a:lnTo>
                      <a:pt x="1063" y="574"/>
                    </a:lnTo>
                    <a:lnTo>
                      <a:pt x="1069" y="578"/>
                    </a:lnTo>
                    <a:lnTo>
                      <a:pt x="1078" y="583"/>
                    </a:lnTo>
                    <a:lnTo>
                      <a:pt x="1088" y="585"/>
                    </a:lnTo>
                    <a:lnTo>
                      <a:pt x="1097" y="587"/>
                    </a:lnTo>
                    <a:lnTo>
                      <a:pt x="1105" y="589"/>
                    </a:lnTo>
                    <a:lnTo>
                      <a:pt x="1110" y="591"/>
                    </a:lnTo>
                    <a:lnTo>
                      <a:pt x="1116" y="593"/>
                    </a:lnTo>
                    <a:lnTo>
                      <a:pt x="1124" y="595"/>
                    </a:lnTo>
                    <a:lnTo>
                      <a:pt x="1131" y="597"/>
                    </a:lnTo>
                    <a:lnTo>
                      <a:pt x="1137" y="602"/>
                    </a:lnTo>
                    <a:lnTo>
                      <a:pt x="1143" y="604"/>
                    </a:lnTo>
                    <a:lnTo>
                      <a:pt x="1150" y="610"/>
                    </a:lnTo>
                    <a:lnTo>
                      <a:pt x="1156" y="614"/>
                    </a:lnTo>
                    <a:lnTo>
                      <a:pt x="1162" y="620"/>
                    </a:lnTo>
                    <a:lnTo>
                      <a:pt x="1169" y="623"/>
                    </a:lnTo>
                    <a:lnTo>
                      <a:pt x="1177" y="629"/>
                    </a:lnTo>
                    <a:lnTo>
                      <a:pt x="1183" y="633"/>
                    </a:lnTo>
                    <a:lnTo>
                      <a:pt x="1188" y="637"/>
                    </a:lnTo>
                    <a:lnTo>
                      <a:pt x="1196" y="640"/>
                    </a:lnTo>
                    <a:lnTo>
                      <a:pt x="1204" y="644"/>
                    </a:lnTo>
                    <a:lnTo>
                      <a:pt x="1209" y="648"/>
                    </a:lnTo>
                    <a:lnTo>
                      <a:pt x="1215" y="650"/>
                    </a:lnTo>
                    <a:lnTo>
                      <a:pt x="1223" y="652"/>
                    </a:lnTo>
                    <a:lnTo>
                      <a:pt x="1232" y="654"/>
                    </a:lnTo>
                    <a:lnTo>
                      <a:pt x="1223" y="656"/>
                    </a:lnTo>
                    <a:lnTo>
                      <a:pt x="1213" y="658"/>
                    </a:lnTo>
                    <a:lnTo>
                      <a:pt x="1204" y="654"/>
                    </a:lnTo>
                    <a:lnTo>
                      <a:pt x="1194" y="652"/>
                    </a:lnTo>
                    <a:lnTo>
                      <a:pt x="1183" y="648"/>
                    </a:lnTo>
                    <a:lnTo>
                      <a:pt x="1171" y="644"/>
                    </a:lnTo>
                    <a:lnTo>
                      <a:pt x="1162" y="639"/>
                    </a:lnTo>
                    <a:lnTo>
                      <a:pt x="1150" y="633"/>
                    </a:lnTo>
                    <a:lnTo>
                      <a:pt x="1145" y="629"/>
                    </a:lnTo>
                    <a:lnTo>
                      <a:pt x="1139" y="625"/>
                    </a:lnTo>
                    <a:lnTo>
                      <a:pt x="1133" y="623"/>
                    </a:lnTo>
                    <a:lnTo>
                      <a:pt x="1127" y="620"/>
                    </a:lnTo>
                    <a:lnTo>
                      <a:pt x="1116" y="614"/>
                    </a:lnTo>
                    <a:lnTo>
                      <a:pt x="1105" y="610"/>
                    </a:lnTo>
                    <a:lnTo>
                      <a:pt x="1099" y="606"/>
                    </a:lnTo>
                    <a:lnTo>
                      <a:pt x="1093" y="604"/>
                    </a:lnTo>
                    <a:lnTo>
                      <a:pt x="1088" y="602"/>
                    </a:lnTo>
                    <a:lnTo>
                      <a:pt x="1082" y="601"/>
                    </a:lnTo>
                    <a:lnTo>
                      <a:pt x="1076" y="599"/>
                    </a:lnTo>
                    <a:lnTo>
                      <a:pt x="1069" y="597"/>
                    </a:lnTo>
                    <a:lnTo>
                      <a:pt x="1065" y="597"/>
                    </a:lnTo>
                    <a:lnTo>
                      <a:pt x="1059" y="597"/>
                    </a:lnTo>
                    <a:lnTo>
                      <a:pt x="1067" y="606"/>
                    </a:lnTo>
                    <a:lnTo>
                      <a:pt x="1078" y="618"/>
                    </a:lnTo>
                    <a:lnTo>
                      <a:pt x="1082" y="621"/>
                    </a:lnTo>
                    <a:lnTo>
                      <a:pt x="1088" y="627"/>
                    </a:lnTo>
                    <a:lnTo>
                      <a:pt x="1093" y="631"/>
                    </a:lnTo>
                    <a:lnTo>
                      <a:pt x="1099" y="637"/>
                    </a:lnTo>
                    <a:lnTo>
                      <a:pt x="1105" y="640"/>
                    </a:lnTo>
                    <a:lnTo>
                      <a:pt x="1110" y="644"/>
                    </a:lnTo>
                    <a:lnTo>
                      <a:pt x="1116" y="650"/>
                    </a:lnTo>
                    <a:lnTo>
                      <a:pt x="1124" y="654"/>
                    </a:lnTo>
                    <a:lnTo>
                      <a:pt x="1129" y="658"/>
                    </a:lnTo>
                    <a:lnTo>
                      <a:pt x="1135" y="663"/>
                    </a:lnTo>
                    <a:lnTo>
                      <a:pt x="1143" y="667"/>
                    </a:lnTo>
                    <a:lnTo>
                      <a:pt x="1150" y="671"/>
                    </a:lnTo>
                    <a:lnTo>
                      <a:pt x="1156" y="675"/>
                    </a:lnTo>
                    <a:lnTo>
                      <a:pt x="1162" y="678"/>
                    </a:lnTo>
                    <a:lnTo>
                      <a:pt x="1169" y="682"/>
                    </a:lnTo>
                    <a:lnTo>
                      <a:pt x="1175" y="686"/>
                    </a:lnTo>
                    <a:lnTo>
                      <a:pt x="1181" y="690"/>
                    </a:lnTo>
                    <a:lnTo>
                      <a:pt x="1188" y="694"/>
                    </a:lnTo>
                    <a:lnTo>
                      <a:pt x="1194" y="696"/>
                    </a:lnTo>
                    <a:lnTo>
                      <a:pt x="1202" y="701"/>
                    </a:lnTo>
                    <a:lnTo>
                      <a:pt x="1207" y="703"/>
                    </a:lnTo>
                    <a:lnTo>
                      <a:pt x="1215" y="707"/>
                    </a:lnTo>
                    <a:lnTo>
                      <a:pt x="1221" y="711"/>
                    </a:lnTo>
                    <a:lnTo>
                      <a:pt x="1228" y="713"/>
                    </a:lnTo>
                    <a:lnTo>
                      <a:pt x="1234" y="716"/>
                    </a:lnTo>
                    <a:lnTo>
                      <a:pt x="1242" y="720"/>
                    </a:lnTo>
                    <a:lnTo>
                      <a:pt x="1247" y="722"/>
                    </a:lnTo>
                    <a:lnTo>
                      <a:pt x="1255" y="726"/>
                    </a:lnTo>
                    <a:lnTo>
                      <a:pt x="1255" y="728"/>
                    </a:lnTo>
                    <a:lnTo>
                      <a:pt x="1249" y="730"/>
                    </a:lnTo>
                    <a:lnTo>
                      <a:pt x="1243" y="732"/>
                    </a:lnTo>
                    <a:lnTo>
                      <a:pt x="1238" y="732"/>
                    </a:lnTo>
                    <a:lnTo>
                      <a:pt x="1232" y="732"/>
                    </a:lnTo>
                    <a:lnTo>
                      <a:pt x="1226" y="732"/>
                    </a:lnTo>
                    <a:lnTo>
                      <a:pt x="1221" y="732"/>
                    </a:lnTo>
                    <a:lnTo>
                      <a:pt x="1215" y="730"/>
                    </a:lnTo>
                    <a:lnTo>
                      <a:pt x="1209" y="730"/>
                    </a:lnTo>
                    <a:lnTo>
                      <a:pt x="1204" y="726"/>
                    </a:lnTo>
                    <a:lnTo>
                      <a:pt x="1196" y="724"/>
                    </a:lnTo>
                    <a:lnTo>
                      <a:pt x="1190" y="722"/>
                    </a:lnTo>
                    <a:lnTo>
                      <a:pt x="1185" y="722"/>
                    </a:lnTo>
                    <a:lnTo>
                      <a:pt x="1173" y="716"/>
                    </a:lnTo>
                    <a:lnTo>
                      <a:pt x="1164" y="715"/>
                    </a:lnTo>
                    <a:lnTo>
                      <a:pt x="1160" y="722"/>
                    </a:lnTo>
                    <a:lnTo>
                      <a:pt x="1158" y="730"/>
                    </a:lnTo>
                    <a:lnTo>
                      <a:pt x="1158" y="736"/>
                    </a:lnTo>
                    <a:lnTo>
                      <a:pt x="1162" y="743"/>
                    </a:lnTo>
                    <a:lnTo>
                      <a:pt x="1167" y="749"/>
                    </a:lnTo>
                    <a:lnTo>
                      <a:pt x="1173" y="756"/>
                    </a:lnTo>
                    <a:lnTo>
                      <a:pt x="1181" y="760"/>
                    </a:lnTo>
                    <a:lnTo>
                      <a:pt x="1188" y="768"/>
                    </a:lnTo>
                    <a:lnTo>
                      <a:pt x="1196" y="772"/>
                    </a:lnTo>
                    <a:lnTo>
                      <a:pt x="1204" y="777"/>
                    </a:lnTo>
                    <a:lnTo>
                      <a:pt x="1211" y="785"/>
                    </a:lnTo>
                    <a:lnTo>
                      <a:pt x="1219" y="791"/>
                    </a:lnTo>
                    <a:lnTo>
                      <a:pt x="1224" y="796"/>
                    </a:lnTo>
                    <a:lnTo>
                      <a:pt x="1226" y="802"/>
                    </a:lnTo>
                    <a:lnTo>
                      <a:pt x="1228" y="808"/>
                    </a:lnTo>
                    <a:lnTo>
                      <a:pt x="1228" y="817"/>
                    </a:lnTo>
                    <a:lnTo>
                      <a:pt x="1223" y="817"/>
                    </a:lnTo>
                    <a:lnTo>
                      <a:pt x="1217" y="815"/>
                    </a:lnTo>
                    <a:lnTo>
                      <a:pt x="1211" y="813"/>
                    </a:lnTo>
                    <a:lnTo>
                      <a:pt x="1207" y="808"/>
                    </a:lnTo>
                    <a:lnTo>
                      <a:pt x="1200" y="804"/>
                    </a:lnTo>
                    <a:lnTo>
                      <a:pt x="1196" y="800"/>
                    </a:lnTo>
                    <a:lnTo>
                      <a:pt x="1190" y="798"/>
                    </a:lnTo>
                    <a:lnTo>
                      <a:pt x="1185" y="802"/>
                    </a:lnTo>
                    <a:lnTo>
                      <a:pt x="1188" y="812"/>
                    </a:lnTo>
                    <a:lnTo>
                      <a:pt x="1196" y="821"/>
                    </a:lnTo>
                    <a:lnTo>
                      <a:pt x="1204" y="831"/>
                    </a:lnTo>
                    <a:lnTo>
                      <a:pt x="1213" y="840"/>
                    </a:lnTo>
                    <a:lnTo>
                      <a:pt x="1223" y="850"/>
                    </a:lnTo>
                    <a:lnTo>
                      <a:pt x="1230" y="859"/>
                    </a:lnTo>
                    <a:lnTo>
                      <a:pt x="1232" y="863"/>
                    </a:lnTo>
                    <a:lnTo>
                      <a:pt x="1236" y="869"/>
                    </a:lnTo>
                    <a:lnTo>
                      <a:pt x="1238" y="874"/>
                    </a:lnTo>
                    <a:lnTo>
                      <a:pt x="1240" y="880"/>
                    </a:lnTo>
                    <a:lnTo>
                      <a:pt x="1236" y="882"/>
                    </a:lnTo>
                    <a:lnTo>
                      <a:pt x="1228" y="880"/>
                    </a:lnTo>
                    <a:lnTo>
                      <a:pt x="1224" y="878"/>
                    </a:lnTo>
                    <a:lnTo>
                      <a:pt x="1223" y="880"/>
                    </a:lnTo>
                    <a:lnTo>
                      <a:pt x="1223" y="882"/>
                    </a:lnTo>
                    <a:lnTo>
                      <a:pt x="1223" y="891"/>
                    </a:lnTo>
                    <a:lnTo>
                      <a:pt x="1226" y="905"/>
                    </a:lnTo>
                    <a:lnTo>
                      <a:pt x="1226" y="908"/>
                    </a:lnTo>
                    <a:lnTo>
                      <a:pt x="1226" y="914"/>
                    </a:lnTo>
                    <a:lnTo>
                      <a:pt x="1228" y="922"/>
                    </a:lnTo>
                    <a:lnTo>
                      <a:pt x="1230" y="928"/>
                    </a:lnTo>
                    <a:lnTo>
                      <a:pt x="1232" y="937"/>
                    </a:lnTo>
                    <a:lnTo>
                      <a:pt x="1236" y="950"/>
                    </a:lnTo>
                    <a:lnTo>
                      <a:pt x="1238" y="960"/>
                    </a:lnTo>
                    <a:lnTo>
                      <a:pt x="1245" y="971"/>
                    </a:lnTo>
                    <a:lnTo>
                      <a:pt x="1255" y="971"/>
                    </a:lnTo>
                    <a:lnTo>
                      <a:pt x="1264" y="977"/>
                    </a:lnTo>
                    <a:lnTo>
                      <a:pt x="1272" y="981"/>
                    </a:lnTo>
                    <a:lnTo>
                      <a:pt x="1280" y="988"/>
                    </a:lnTo>
                    <a:lnTo>
                      <a:pt x="1287" y="996"/>
                    </a:lnTo>
                    <a:lnTo>
                      <a:pt x="1297" y="1004"/>
                    </a:lnTo>
                    <a:lnTo>
                      <a:pt x="1302" y="1009"/>
                    </a:lnTo>
                    <a:lnTo>
                      <a:pt x="1312" y="1017"/>
                    </a:lnTo>
                    <a:lnTo>
                      <a:pt x="1316" y="1005"/>
                    </a:lnTo>
                    <a:lnTo>
                      <a:pt x="1316" y="996"/>
                    </a:lnTo>
                    <a:lnTo>
                      <a:pt x="1316" y="988"/>
                    </a:lnTo>
                    <a:lnTo>
                      <a:pt x="1314" y="983"/>
                    </a:lnTo>
                    <a:lnTo>
                      <a:pt x="1312" y="977"/>
                    </a:lnTo>
                    <a:lnTo>
                      <a:pt x="1312" y="969"/>
                    </a:lnTo>
                    <a:lnTo>
                      <a:pt x="1310" y="962"/>
                    </a:lnTo>
                    <a:lnTo>
                      <a:pt x="1308" y="956"/>
                    </a:lnTo>
                    <a:lnTo>
                      <a:pt x="1306" y="950"/>
                    </a:lnTo>
                    <a:lnTo>
                      <a:pt x="1306" y="943"/>
                    </a:lnTo>
                    <a:lnTo>
                      <a:pt x="1302" y="937"/>
                    </a:lnTo>
                    <a:lnTo>
                      <a:pt x="1302" y="931"/>
                    </a:lnTo>
                    <a:lnTo>
                      <a:pt x="1300" y="924"/>
                    </a:lnTo>
                    <a:lnTo>
                      <a:pt x="1300" y="920"/>
                    </a:lnTo>
                    <a:lnTo>
                      <a:pt x="1297" y="908"/>
                    </a:lnTo>
                    <a:lnTo>
                      <a:pt x="1297" y="903"/>
                    </a:lnTo>
                    <a:lnTo>
                      <a:pt x="1299" y="897"/>
                    </a:lnTo>
                    <a:lnTo>
                      <a:pt x="1302" y="897"/>
                    </a:lnTo>
                    <a:lnTo>
                      <a:pt x="1308" y="899"/>
                    </a:lnTo>
                    <a:lnTo>
                      <a:pt x="1318" y="905"/>
                    </a:lnTo>
                    <a:lnTo>
                      <a:pt x="1321" y="908"/>
                    </a:lnTo>
                    <a:lnTo>
                      <a:pt x="1329" y="916"/>
                    </a:lnTo>
                    <a:lnTo>
                      <a:pt x="1337" y="924"/>
                    </a:lnTo>
                    <a:lnTo>
                      <a:pt x="1346" y="933"/>
                    </a:lnTo>
                    <a:lnTo>
                      <a:pt x="1350" y="943"/>
                    </a:lnTo>
                    <a:lnTo>
                      <a:pt x="1354" y="952"/>
                    </a:lnTo>
                    <a:lnTo>
                      <a:pt x="1356" y="962"/>
                    </a:lnTo>
                    <a:lnTo>
                      <a:pt x="1358" y="971"/>
                    </a:lnTo>
                    <a:lnTo>
                      <a:pt x="1358" y="979"/>
                    </a:lnTo>
                    <a:lnTo>
                      <a:pt x="1358" y="988"/>
                    </a:lnTo>
                    <a:lnTo>
                      <a:pt x="1356" y="998"/>
                    </a:lnTo>
                    <a:lnTo>
                      <a:pt x="1356" y="1007"/>
                    </a:lnTo>
                    <a:lnTo>
                      <a:pt x="1354" y="1015"/>
                    </a:lnTo>
                    <a:lnTo>
                      <a:pt x="1352" y="1024"/>
                    </a:lnTo>
                    <a:lnTo>
                      <a:pt x="1348" y="1032"/>
                    </a:lnTo>
                    <a:lnTo>
                      <a:pt x="1346" y="1042"/>
                    </a:lnTo>
                    <a:lnTo>
                      <a:pt x="1344" y="1051"/>
                    </a:lnTo>
                    <a:lnTo>
                      <a:pt x="1340" y="1059"/>
                    </a:lnTo>
                    <a:lnTo>
                      <a:pt x="1337" y="1066"/>
                    </a:lnTo>
                    <a:lnTo>
                      <a:pt x="1335" y="1076"/>
                    </a:lnTo>
                    <a:lnTo>
                      <a:pt x="1333" y="1083"/>
                    </a:lnTo>
                    <a:lnTo>
                      <a:pt x="1329" y="1093"/>
                    </a:lnTo>
                    <a:lnTo>
                      <a:pt x="1325" y="1101"/>
                    </a:lnTo>
                    <a:lnTo>
                      <a:pt x="1325" y="1110"/>
                    </a:lnTo>
                    <a:lnTo>
                      <a:pt x="1321" y="1118"/>
                    </a:lnTo>
                    <a:lnTo>
                      <a:pt x="1320" y="1127"/>
                    </a:lnTo>
                    <a:lnTo>
                      <a:pt x="1320" y="1137"/>
                    </a:lnTo>
                    <a:lnTo>
                      <a:pt x="1320" y="1146"/>
                    </a:lnTo>
                    <a:lnTo>
                      <a:pt x="1320" y="1154"/>
                    </a:lnTo>
                    <a:lnTo>
                      <a:pt x="1321" y="1163"/>
                    </a:lnTo>
                    <a:lnTo>
                      <a:pt x="1323" y="1173"/>
                    </a:lnTo>
                    <a:lnTo>
                      <a:pt x="1327" y="1182"/>
                    </a:lnTo>
                    <a:lnTo>
                      <a:pt x="1331" y="1190"/>
                    </a:lnTo>
                    <a:lnTo>
                      <a:pt x="1337" y="1199"/>
                    </a:lnTo>
                    <a:lnTo>
                      <a:pt x="1344" y="1211"/>
                    </a:lnTo>
                    <a:lnTo>
                      <a:pt x="1352" y="1220"/>
                    </a:lnTo>
                    <a:lnTo>
                      <a:pt x="1354" y="1230"/>
                    </a:lnTo>
                    <a:lnTo>
                      <a:pt x="1354" y="1241"/>
                    </a:lnTo>
                    <a:lnTo>
                      <a:pt x="1354" y="1251"/>
                    </a:lnTo>
                    <a:lnTo>
                      <a:pt x="1356" y="1262"/>
                    </a:lnTo>
                    <a:lnTo>
                      <a:pt x="1354" y="1272"/>
                    </a:lnTo>
                    <a:lnTo>
                      <a:pt x="1354" y="1281"/>
                    </a:lnTo>
                    <a:lnTo>
                      <a:pt x="1354" y="1291"/>
                    </a:lnTo>
                    <a:lnTo>
                      <a:pt x="1354" y="1300"/>
                    </a:lnTo>
                    <a:lnTo>
                      <a:pt x="1352" y="1308"/>
                    </a:lnTo>
                    <a:lnTo>
                      <a:pt x="1348" y="1317"/>
                    </a:lnTo>
                    <a:lnTo>
                      <a:pt x="1346" y="1327"/>
                    </a:lnTo>
                    <a:lnTo>
                      <a:pt x="1344" y="1336"/>
                    </a:lnTo>
                    <a:lnTo>
                      <a:pt x="1340" y="1344"/>
                    </a:lnTo>
                    <a:lnTo>
                      <a:pt x="1337" y="1353"/>
                    </a:lnTo>
                    <a:lnTo>
                      <a:pt x="1335" y="1363"/>
                    </a:lnTo>
                    <a:lnTo>
                      <a:pt x="1333" y="1372"/>
                    </a:lnTo>
                    <a:lnTo>
                      <a:pt x="1327" y="1380"/>
                    </a:lnTo>
                    <a:lnTo>
                      <a:pt x="1323" y="1389"/>
                    </a:lnTo>
                    <a:lnTo>
                      <a:pt x="1320" y="1395"/>
                    </a:lnTo>
                    <a:lnTo>
                      <a:pt x="1316" y="1405"/>
                    </a:lnTo>
                    <a:lnTo>
                      <a:pt x="1312" y="1412"/>
                    </a:lnTo>
                    <a:lnTo>
                      <a:pt x="1308" y="1422"/>
                    </a:lnTo>
                    <a:lnTo>
                      <a:pt x="1302" y="1429"/>
                    </a:lnTo>
                    <a:lnTo>
                      <a:pt x="1300" y="1439"/>
                    </a:lnTo>
                    <a:lnTo>
                      <a:pt x="1295" y="1447"/>
                    </a:lnTo>
                    <a:lnTo>
                      <a:pt x="1291" y="1456"/>
                    </a:lnTo>
                    <a:lnTo>
                      <a:pt x="1287" y="1464"/>
                    </a:lnTo>
                    <a:lnTo>
                      <a:pt x="1283" y="1473"/>
                    </a:lnTo>
                    <a:lnTo>
                      <a:pt x="1280" y="1483"/>
                    </a:lnTo>
                    <a:lnTo>
                      <a:pt x="1274" y="1490"/>
                    </a:lnTo>
                    <a:lnTo>
                      <a:pt x="1272" y="1500"/>
                    </a:lnTo>
                    <a:lnTo>
                      <a:pt x="1268" y="1509"/>
                    </a:lnTo>
                    <a:lnTo>
                      <a:pt x="1262" y="1507"/>
                    </a:lnTo>
                    <a:lnTo>
                      <a:pt x="1259" y="1505"/>
                    </a:lnTo>
                    <a:lnTo>
                      <a:pt x="1255" y="1500"/>
                    </a:lnTo>
                    <a:lnTo>
                      <a:pt x="1255" y="1496"/>
                    </a:lnTo>
                    <a:lnTo>
                      <a:pt x="1255" y="1488"/>
                    </a:lnTo>
                    <a:lnTo>
                      <a:pt x="1255" y="1485"/>
                    </a:lnTo>
                    <a:lnTo>
                      <a:pt x="1255" y="1477"/>
                    </a:lnTo>
                    <a:lnTo>
                      <a:pt x="1255" y="1473"/>
                    </a:lnTo>
                    <a:lnTo>
                      <a:pt x="1249" y="1471"/>
                    </a:lnTo>
                    <a:lnTo>
                      <a:pt x="1243" y="1473"/>
                    </a:lnTo>
                    <a:lnTo>
                      <a:pt x="1240" y="1475"/>
                    </a:lnTo>
                    <a:lnTo>
                      <a:pt x="1236" y="1479"/>
                    </a:lnTo>
                    <a:lnTo>
                      <a:pt x="1238" y="1473"/>
                    </a:lnTo>
                    <a:lnTo>
                      <a:pt x="1240" y="1467"/>
                    </a:lnTo>
                    <a:lnTo>
                      <a:pt x="1242" y="1460"/>
                    </a:lnTo>
                    <a:lnTo>
                      <a:pt x="1243" y="1456"/>
                    </a:lnTo>
                    <a:lnTo>
                      <a:pt x="1245" y="1448"/>
                    </a:lnTo>
                    <a:lnTo>
                      <a:pt x="1247" y="1445"/>
                    </a:lnTo>
                    <a:lnTo>
                      <a:pt x="1249" y="1437"/>
                    </a:lnTo>
                    <a:lnTo>
                      <a:pt x="1253" y="1431"/>
                    </a:lnTo>
                    <a:lnTo>
                      <a:pt x="1253" y="1426"/>
                    </a:lnTo>
                    <a:lnTo>
                      <a:pt x="1255" y="1420"/>
                    </a:lnTo>
                    <a:lnTo>
                      <a:pt x="1257" y="1414"/>
                    </a:lnTo>
                    <a:lnTo>
                      <a:pt x="1261" y="1408"/>
                    </a:lnTo>
                    <a:lnTo>
                      <a:pt x="1261" y="1403"/>
                    </a:lnTo>
                    <a:lnTo>
                      <a:pt x="1264" y="1397"/>
                    </a:lnTo>
                    <a:lnTo>
                      <a:pt x="1264" y="1391"/>
                    </a:lnTo>
                    <a:lnTo>
                      <a:pt x="1268" y="1386"/>
                    </a:lnTo>
                    <a:lnTo>
                      <a:pt x="1270" y="1380"/>
                    </a:lnTo>
                    <a:lnTo>
                      <a:pt x="1272" y="1372"/>
                    </a:lnTo>
                    <a:lnTo>
                      <a:pt x="1272" y="1367"/>
                    </a:lnTo>
                    <a:lnTo>
                      <a:pt x="1274" y="1361"/>
                    </a:lnTo>
                    <a:lnTo>
                      <a:pt x="1276" y="1355"/>
                    </a:lnTo>
                    <a:lnTo>
                      <a:pt x="1278" y="1348"/>
                    </a:lnTo>
                    <a:lnTo>
                      <a:pt x="1280" y="1342"/>
                    </a:lnTo>
                    <a:lnTo>
                      <a:pt x="1281" y="1336"/>
                    </a:lnTo>
                    <a:lnTo>
                      <a:pt x="1281" y="1331"/>
                    </a:lnTo>
                    <a:lnTo>
                      <a:pt x="1283" y="1325"/>
                    </a:lnTo>
                    <a:lnTo>
                      <a:pt x="1283" y="1317"/>
                    </a:lnTo>
                    <a:lnTo>
                      <a:pt x="1287" y="1312"/>
                    </a:lnTo>
                    <a:lnTo>
                      <a:pt x="1287" y="1306"/>
                    </a:lnTo>
                    <a:lnTo>
                      <a:pt x="1289" y="1300"/>
                    </a:lnTo>
                    <a:lnTo>
                      <a:pt x="1289" y="1293"/>
                    </a:lnTo>
                    <a:lnTo>
                      <a:pt x="1291" y="1289"/>
                    </a:lnTo>
                    <a:lnTo>
                      <a:pt x="1291" y="1281"/>
                    </a:lnTo>
                    <a:lnTo>
                      <a:pt x="1293" y="1275"/>
                    </a:lnTo>
                    <a:lnTo>
                      <a:pt x="1293" y="1268"/>
                    </a:lnTo>
                    <a:lnTo>
                      <a:pt x="1293" y="1262"/>
                    </a:lnTo>
                    <a:lnTo>
                      <a:pt x="1293" y="1256"/>
                    </a:lnTo>
                    <a:lnTo>
                      <a:pt x="1293" y="1249"/>
                    </a:lnTo>
                    <a:lnTo>
                      <a:pt x="1293" y="1243"/>
                    </a:lnTo>
                    <a:lnTo>
                      <a:pt x="1295" y="1237"/>
                    </a:lnTo>
                    <a:lnTo>
                      <a:pt x="1293" y="1232"/>
                    </a:lnTo>
                    <a:lnTo>
                      <a:pt x="1293" y="1226"/>
                    </a:lnTo>
                    <a:lnTo>
                      <a:pt x="1293" y="1218"/>
                    </a:lnTo>
                    <a:lnTo>
                      <a:pt x="1293" y="1213"/>
                    </a:lnTo>
                    <a:lnTo>
                      <a:pt x="1293" y="1207"/>
                    </a:lnTo>
                    <a:lnTo>
                      <a:pt x="1293" y="1199"/>
                    </a:lnTo>
                    <a:lnTo>
                      <a:pt x="1291" y="1194"/>
                    </a:lnTo>
                    <a:lnTo>
                      <a:pt x="1291" y="1188"/>
                    </a:lnTo>
                    <a:lnTo>
                      <a:pt x="1289" y="1182"/>
                    </a:lnTo>
                    <a:lnTo>
                      <a:pt x="1289" y="1175"/>
                    </a:lnTo>
                    <a:lnTo>
                      <a:pt x="1287" y="1169"/>
                    </a:lnTo>
                    <a:lnTo>
                      <a:pt x="1285" y="1163"/>
                    </a:lnTo>
                    <a:lnTo>
                      <a:pt x="1283" y="1158"/>
                    </a:lnTo>
                    <a:lnTo>
                      <a:pt x="1281" y="1152"/>
                    </a:lnTo>
                    <a:lnTo>
                      <a:pt x="1280" y="1144"/>
                    </a:lnTo>
                    <a:lnTo>
                      <a:pt x="1280" y="1139"/>
                    </a:lnTo>
                    <a:lnTo>
                      <a:pt x="1276" y="1133"/>
                    </a:lnTo>
                    <a:lnTo>
                      <a:pt x="1274" y="1127"/>
                    </a:lnTo>
                    <a:lnTo>
                      <a:pt x="1270" y="1120"/>
                    </a:lnTo>
                    <a:lnTo>
                      <a:pt x="1268" y="1116"/>
                    </a:lnTo>
                    <a:lnTo>
                      <a:pt x="1262" y="1102"/>
                    </a:lnTo>
                    <a:lnTo>
                      <a:pt x="1255" y="1093"/>
                    </a:lnTo>
                    <a:lnTo>
                      <a:pt x="1249" y="1085"/>
                    </a:lnTo>
                    <a:lnTo>
                      <a:pt x="1243" y="1080"/>
                    </a:lnTo>
                    <a:lnTo>
                      <a:pt x="1238" y="1072"/>
                    </a:lnTo>
                    <a:lnTo>
                      <a:pt x="1234" y="1066"/>
                    </a:lnTo>
                    <a:lnTo>
                      <a:pt x="1226" y="1059"/>
                    </a:lnTo>
                    <a:lnTo>
                      <a:pt x="1223" y="1051"/>
                    </a:lnTo>
                    <a:lnTo>
                      <a:pt x="1217" y="1043"/>
                    </a:lnTo>
                    <a:lnTo>
                      <a:pt x="1213" y="1038"/>
                    </a:lnTo>
                    <a:lnTo>
                      <a:pt x="1205" y="1028"/>
                    </a:lnTo>
                    <a:lnTo>
                      <a:pt x="1202" y="1023"/>
                    </a:lnTo>
                    <a:lnTo>
                      <a:pt x="1196" y="1015"/>
                    </a:lnTo>
                    <a:lnTo>
                      <a:pt x="1190" y="1007"/>
                    </a:lnTo>
                    <a:lnTo>
                      <a:pt x="1186" y="998"/>
                    </a:lnTo>
                    <a:lnTo>
                      <a:pt x="1181" y="992"/>
                    </a:lnTo>
                    <a:lnTo>
                      <a:pt x="1177" y="983"/>
                    </a:lnTo>
                    <a:lnTo>
                      <a:pt x="1171" y="977"/>
                    </a:lnTo>
                    <a:lnTo>
                      <a:pt x="1166" y="969"/>
                    </a:lnTo>
                    <a:lnTo>
                      <a:pt x="1162" y="962"/>
                    </a:lnTo>
                    <a:lnTo>
                      <a:pt x="1154" y="952"/>
                    </a:lnTo>
                    <a:lnTo>
                      <a:pt x="1150" y="945"/>
                    </a:lnTo>
                    <a:lnTo>
                      <a:pt x="1145" y="937"/>
                    </a:lnTo>
                    <a:lnTo>
                      <a:pt x="1141" y="931"/>
                    </a:lnTo>
                    <a:lnTo>
                      <a:pt x="1135" y="924"/>
                    </a:lnTo>
                    <a:lnTo>
                      <a:pt x="1131" y="916"/>
                    </a:lnTo>
                    <a:lnTo>
                      <a:pt x="1124" y="908"/>
                    </a:lnTo>
                    <a:lnTo>
                      <a:pt x="1120" y="901"/>
                    </a:lnTo>
                    <a:lnTo>
                      <a:pt x="1114" y="895"/>
                    </a:lnTo>
                    <a:lnTo>
                      <a:pt x="1108" y="888"/>
                    </a:lnTo>
                    <a:lnTo>
                      <a:pt x="1103" y="880"/>
                    </a:lnTo>
                    <a:lnTo>
                      <a:pt x="1099" y="874"/>
                    </a:lnTo>
                    <a:lnTo>
                      <a:pt x="1093" y="869"/>
                    </a:lnTo>
                    <a:lnTo>
                      <a:pt x="1088" y="863"/>
                    </a:lnTo>
                    <a:lnTo>
                      <a:pt x="1082" y="855"/>
                    </a:lnTo>
                    <a:lnTo>
                      <a:pt x="1076" y="850"/>
                    </a:lnTo>
                    <a:lnTo>
                      <a:pt x="1070" y="844"/>
                    </a:lnTo>
                    <a:lnTo>
                      <a:pt x="1065" y="840"/>
                    </a:lnTo>
                    <a:lnTo>
                      <a:pt x="1059" y="832"/>
                    </a:lnTo>
                    <a:lnTo>
                      <a:pt x="1051" y="829"/>
                    </a:lnTo>
                    <a:lnTo>
                      <a:pt x="1046" y="823"/>
                    </a:lnTo>
                    <a:lnTo>
                      <a:pt x="1040" y="821"/>
                    </a:lnTo>
                    <a:lnTo>
                      <a:pt x="1032" y="815"/>
                    </a:lnTo>
                    <a:lnTo>
                      <a:pt x="1025" y="812"/>
                    </a:lnTo>
                    <a:lnTo>
                      <a:pt x="1019" y="808"/>
                    </a:lnTo>
                    <a:lnTo>
                      <a:pt x="1013" y="806"/>
                    </a:lnTo>
                    <a:lnTo>
                      <a:pt x="1006" y="802"/>
                    </a:lnTo>
                    <a:lnTo>
                      <a:pt x="1000" y="800"/>
                    </a:lnTo>
                    <a:lnTo>
                      <a:pt x="993" y="798"/>
                    </a:lnTo>
                    <a:lnTo>
                      <a:pt x="985" y="796"/>
                    </a:lnTo>
                    <a:lnTo>
                      <a:pt x="977" y="794"/>
                    </a:lnTo>
                    <a:lnTo>
                      <a:pt x="970" y="794"/>
                    </a:lnTo>
                    <a:lnTo>
                      <a:pt x="962" y="794"/>
                    </a:lnTo>
                    <a:lnTo>
                      <a:pt x="954" y="794"/>
                    </a:lnTo>
                    <a:lnTo>
                      <a:pt x="945" y="794"/>
                    </a:lnTo>
                    <a:lnTo>
                      <a:pt x="937" y="794"/>
                    </a:lnTo>
                    <a:lnTo>
                      <a:pt x="928" y="794"/>
                    </a:lnTo>
                    <a:lnTo>
                      <a:pt x="920" y="798"/>
                    </a:lnTo>
                    <a:lnTo>
                      <a:pt x="911" y="798"/>
                    </a:lnTo>
                    <a:lnTo>
                      <a:pt x="901" y="802"/>
                    </a:lnTo>
                    <a:lnTo>
                      <a:pt x="892" y="806"/>
                    </a:lnTo>
                    <a:lnTo>
                      <a:pt x="884" y="810"/>
                    </a:lnTo>
                    <a:lnTo>
                      <a:pt x="873" y="813"/>
                    </a:lnTo>
                    <a:lnTo>
                      <a:pt x="863" y="817"/>
                    </a:lnTo>
                    <a:lnTo>
                      <a:pt x="854" y="825"/>
                    </a:lnTo>
                    <a:lnTo>
                      <a:pt x="844" y="831"/>
                    </a:lnTo>
                    <a:lnTo>
                      <a:pt x="833" y="834"/>
                    </a:lnTo>
                    <a:lnTo>
                      <a:pt x="823" y="838"/>
                    </a:lnTo>
                    <a:lnTo>
                      <a:pt x="810" y="842"/>
                    </a:lnTo>
                    <a:lnTo>
                      <a:pt x="800" y="848"/>
                    </a:lnTo>
                    <a:lnTo>
                      <a:pt x="789" y="851"/>
                    </a:lnTo>
                    <a:lnTo>
                      <a:pt x="778" y="855"/>
                    </a:lnTo>
                    <a:lnTo>
                      <a:pt x="766" y="861"/>
                    </a:lnTo>
                    <a:lnTo>
                      <a:pt x="755" y="865"/>
                    </a:lnTo>
                    <a:lnTo>
                      <a:pt x="743" y="869"/>
                    </a:lnTo>
                    <a:lnTo>
                      <a:pt x="734" y="874"/>
                    </a:lnTo>
                    <a:lnTo>
                      <a:pt x="723" y="878"/>
                    </a:lnTo>
                    <a:lnTo>
                      <a:pt x="713" y="886"/>
                    </a:lnTo>
                    <a:lnTo>
                      <a:pt x="702" y="889"/>
                    </a:lnTo>
                    <a:lnTo>
                      <a:pt x="690" y="895"/>
                    </a:lnTo>
                    <a:lnTo>
                      <a:pt x="681" y="901"/>
                    </a:lnTo>
                    <a:lnTo>
                      <a:pt x="671" y="907"/>
                    </a:lnTo>
                    <a:lnTo>
                      <a:pt x="669" y="905"/>
                    </a:lnTo>
                    <a:lnTo>
                      <a:pt x="675" y="895"/>
                    </a:lnTo>
                    <a:lnTo>
                      <a:pt x="683" y="888"/>
                    </a:lnTo>
                    <a:lnTo>
                      <a:pt x="690" y="878"/>
                    </a:lnTo>
                    <a:lnTo>
                      <a:pt x="700" y="872"/>
                    </a:lnTo>
                    <a:lnTo>
                      <a:pt x="707" y="865"/>
                    </a:lnTo>
                    <a:lnTo>
                      <a:pt x="715" y="859"/>
                    </a:lnTo>
                    <a:lnTo>
                      <a:pt x="724" y="853"/>
                    </a:lnTo>
                    <a:lnTo>
                      <a:pt x="734" y="848"/>
                    </a:lnTo>
                    <a:lnTo>
                      <a:pt x="743" y="842"/>
                    </a:lnTo>
                    <a:lnTo>
                      <a:pt x="753" y="836"/>
                    </a:lnTo>
                    <a:lnTo>
                      <a:pt x="762" y="832"/>
                    </a:lnTo>
                    <a:lnTo>
                      <a:pt x="772" y="829"/>
                    </a:lnTo>
                    <a:lnTo>
                      <a:pt x="781" y="825"/>
                    </a:lnTo>
                    <a:lnTo>
                      <a:pt x="791" y="823"/>
                    </a:lnTo>
                    <a:lnTo>
                      <a:pt x="802" y="821"/>
                    </a:lnTo>
                    <a:lnTo>
                      <a:pt x="814" y="821"/>
                    </a:lnTo>
                    <a:lnTo>
                      <a:pt x="806" y="819"/>
                    </a:lnTo>
                    <a:lnTo>
                      <a:pt x="800" y="817"/>
                    </a:lnTo>
                    <a:lnTo>
                      <a:pt x="795" y="817"/>
                    </a:lnTo>
                    <a:lnTo>
                      <a:pt x="789" y="817"/>
                    </a:lnTo>
                    <a:lnTo>
                      <a:pt x="781" y="817"/>
                    </a:lnTo>
                    <a:lnTo>
                      <a:pt x="776" y="817"/>
                    </a:lnTo>
                    <a:lnTo>
                      <a:pt x="770" y="819"/>
                    </a:lnTo>
                    <a:lnTo>
                      <a:pt x="764" y="821"/>
                    </a:lnTo>
                    <a:lnTo>
                      <a:pt x="759" y="821"/>
                    </a:lnTo>
                    <a:lnTo>
                      <a:pt x="751" y="821"/>
                    </a:lnTo>
                    <a:lnTo>
                      <a:pt x="745" y="821"/>
                    </a:lnTo>
                    <a:lnTo>
                      <a:pt x="740" y="823"/>
                    </a:lnTo>
                    <a:lnTo>
                      <a:pt x="734" y="823"/>
                    </a:lnTo>
                    <a:lnTo>
                      <a:pt x="726" y="825"/>
                    </a:lnTo>
                    <a:lnTo>
                      <a:pt x="721" y="827"/>
                    </a:lnTo>
                    <a:lnTo>
                      <a:pt x="715" y="829"/>
                    </a:lnTo>
                    <a:lnTo>
                      <a:pt x="709" y="831"/>
                    </a:lnTo>
                    <a:lnTo>
                      <a:pt x="704" y="832"/>
                    </a:lnTo>
                    <a:lnTo>
                      <a:pt x="696" y="832"/>
                    </a:lnTo>
                    <a:lnTo>
                      <a:pt x="690" y="834"/>
                    </a:lnTo>
                    <a:lnTo>
                      <a:pt x="685" y="836"/>
                    </a:lnTo>
                    <a:lnTo>
                      <a:pt x="677" y="838"/>
                    </a:lnTo>
                    <a:lnTo>
                      <a:pt x="671" y="840"/>
                    </a:lnTo>
                    <a:lnTo>
                      <a:pt x="666" y="842"/>
                    </a:lnTo>
                    <a:lnTo>
                      <a:pt x="658" y="844"/>
                    </a:lnTo>
                    <a:lnTo>
                      <a:pt x="652" y="846"/>
                    </a:lnTo>
                    <a:lnTo>
                      <a:pt x="645" y="848"/>
                    </a:lnTo>
                    <a:lnTo>
                      <a:pt x="639" y="851"/>
                    </a:lnTo>
                    <a:lnTo>
                      <a:pt x="633" y="853"/>
                    </a:lnTo>
                    <a:lnTo>
                      <a:pt x="626" y="855"/>
                    </a:lnTo>
                    <a:lnTo>
                      <a:pt x="620" y="857"/>
                    </a:lnTo>
                    <a:lnTo>
                      <a:pt x="614" y="861"/>
                    </a:lnTo>
                    <a:lnTo>
                      <a:pt x="607" y="861"/>
                    </a:lnTo>
                    <a:lnTo>
                      <a:pt x="601" y="863"/>
                    </a:lnTo>
                    <a:lnTo>
                      <a:pt x="595" y="865"/>
                    </a:lnTo>
                    <a:lnTo>
                      <a:pt x="588" y="869"/>
                    </a:lnTo>
                    <a:lnTo>
                      <a:pt x="582" y="870"/>
                    </a:lnTo>
                    <a:lnTo>
                      <a:pt x="576" y="872"/>
                    </a:lnTo>
                    <a:lnTo>
                      <a:pt x="569" y="874"/>
                    </a:lnTo>
                    <a:lnTo>
                      <a:pt x="563" y="878"/>
                    </a:lnTo>
                    <a:lnTo>
                      <a:pt x="555" y="878"/>
                    </a:lnTo>
                    <a:lnTo>
                      <a:pt x="550" y="882"/>
                    </a:lnTo>
                    <a:lnTo>
                      <a:pt x="542" y="882"/>
                    </a:lnTo>
                    <a:lnTo>
                      <a:pt x="536" y="886"/>
                    </a:lnTo>
                    <a:lnTo>
                      <a:pt x="531" y="888"/>
                    </a:lnTo>
                    <a:lnTo>
                      <a:pt x="523" y="889"/>
                    </a:lnTo>
                    <a:lnTo>
                      <a:pt x="517" y="891"/>
                    </a:lnTo>
                    <a:lnTo>
                      <a:pt x="512" y="895"/>
                    </a:lnTo>
                    <a:lnTo>
                      <a:pt x="504" y="895"/>
                    </a:lnTo>
                    <a:lnTo>
                      <a:pt x="496" y="897"/>
                    </a:lnTo>
                    <a:lnTo>
                      <a:pt x="491" y="897"/>
                    </a:lnTo>
                    <a:lnTo>
                      <a:pt x="485" y="899"/>
                    </a:lnTo>
                    <a:lnTo>
                      <a:pt x="477" y="901"/>
                    </a:lnTo>
                    <a:lnTo>
                      <a:pt x="472" y="903"/>
                    </a:lnTo>
                    <a:lnTo>
                      <a:pt x="466" y="905"/>
                    </a:lnTo>
                    <a:lnTo>
                      <a:pt x="458" y="907"/>
                    </a:lnTo>
                    <a:lnTo>
                      <a:pt x="453" y="907"/>
                    </a:lnTo>
                    <a:lnTo>
                      <a:pt x="445" y="907"/>
                    </a:lnTo>
                    <a:lnTo>
                      <a:pt x="439" y="907"/>
                    </a:lnTo>
                    <a:lnTo>
                      <a:pt x="432" y="908"/>
                    </a:lnTo>
                    <a:lnTo>
                      <a:pt x="426" y="908"/>
                    </a:lnTo>
                    <a:lnTo>
                      <a:pt x="420" y="908"/>
                    </a:lnTo>
                    <a:lnTo>
                      <a:pt x="413" y="910"/>
                    </a:lnTo>
                    <a:lnTo>
                      <a:pt x="407" y="912"/>
                    </a:lnTo>
                    <a:lnTo>
                      <a:pt x="413" y="908"/>
                    </a:lnTo>
                    <a:lnTo>
                      <a:pt x="420" y="905"/>
                    </a:lnTo>
                    <a:lnTo>
                      <a:pt x="428" y="901"/>
                    </a:lnTo>
                    <a:lnTo>
                      <a:pt x="435" y="899"/>
                    </a:lnTo>
                    <a:lnTo>
                      <a:pt x="441" y="895"/>
                    </a:lnTo>
                    <a:lnTo>
                      <a:pt x="451" y="893"/>
                    </a:lnTo>
                    <a:lnTo>
                      <a:pt x="458" y="891"/>
                    </a:lnTo>
                    <a:lnTo>
                      <a:pt x="466" y="889"/>
                    </a:lnTo>
                    <a:lnTo>
                      <a:pt x="474" y="886"/>
                    </a:lnTo>
                    <a:lnTo>
                      <a:pt x="483" y="884"/>
                    </a:lnTo>
                    <a:lnTo>
                      <a:pt x="491" y="880"/>
                    </a:lnTo>
                    <a:lnTo>
                      <a:pt x="498" y="878"/>
                    </a:lnTo>
                    <a:lnTo>
                      <a:pt x="506" y="874"/>
                    </a:lnTo>
                    <a:lnTo>
                      <a:pt x="513" y="872"/>
                    </a:lnTo>
                    <a:lnTo>
                      <a:pt x="521" y="870"/>
                    </a:lnTo>
                    <a:lnTo>
                      <a:pt x="531" y="869"/>
                    </a:lnTo>
                    <a:lnTo>
                      <a:pt x="538" y="865"/>
                    </a:lnTo>
                    <a:lnTo>
                      <a:pt x="548" y="863"/>
                    </a:lnTo>
                    <a:lnTo>
                      <a:pt x="555" y="859"/>
                    </a:lnTo>
                    <a:lnTo>
                      <a:pt x="563" y="855"/>
                    </a:lnTo>
                    <a:lnTo>
                      <a:pt x="570" y="851"/>
                    </a:lnTo>
                    <a:lnTo>
                      <a:pt x="578" y="850"/>
                    </a:lnTo>
                    <a:lnTo>
                      <a:pt x="586" y="846"/>
                    </a:lnTo>
                    <a:lnTo>
                      <a:pt x="595" y="842"/>
                    </a:lnTo>
                    <a:lnTo>
                      <a:pt x="601" y="836"/>
                    </a:lnTo>
                    <a:lnTo>
                      <a:pt x="610" y="832"/>
                    </a:lnTo>
                    <a:lnTo>
                      <a:pt x="616" y="829"/>
                    </a:lnTo>
                    <a:lnTo>
                      <a:pt x="624" y="825"/>
                    </a:lnTo>
                    <a:lnTo>
                      <a:pt x="631" y="819"/>
                    </a:lnTo>
                    <a:lnTo>
                      <a:pt x="639" y="813"/>
                    </a:lnTo>
                    <a:lnTo>
                      <a:pt x="645" y="808"/>
                    </a:lnTo>
                    <a:lnTo>
                      <a:pt x="652" y="802"/>
                    </a:lnTo>
                    <a:lnTo>
                      <a:pt x="645" y="802"/>
                    </a:lnTo>
                    <a:lnTo>
                      <a:pt x="639" y="802"/>
                    </a:lnTo>
                    <a:lnTo>
                      <a:pt x="631" y="804"/>
                    </a:lnTo>
                    <a:lnTo>
                      <a:pt x="626" y="804"/>
                    </a:lnTo>
                    <a:lnTo>
                      <a:pt x="618" y="806"/>
                    </a:lnTo>
                    <a:lnTo>
                      <a:pt x="612" y="806"/>
                    </a:lnTo>
                    <a:lnTo>
                      <a:pt x="605" y="808"/>
                    </a:lnTo>
                    <a:lnTo>
                      <a:pt x="599" y="810"/>
                    </a:lnTo>
                    <a:lnTo>
                      <a:pt x="591" y="810"/>
                    </a:lnTo>
                    <a:lnTo>
                      <a:pt x="586" y="812"/>
                    </a:lnTo>
                    <a:lnTo>
                      <a:pt x="578" y="813"/>
                    </a:lnTo>
                    <a:lnTo>
                      <a:pt x="570" y="815"/>
                    </a:lnTo>
                    <a:lnTo>
                      <a:pt x="565" y="815"/>
                    </a:lnTo>
                    <a:lnTo>
                      <a:pt x="559" y="819"/>
                    </a:lnTo>
                    <a:lnTo>
                      <a:pt x="551" y="821"/>
                    </a:lnTo>
                    <a:lnTo>
                      <a:pt x="546" y="823"/>
                    </a:lnTo>
                    <a:lnTo>
                      <a:pt x="538" y="825"/>
                    </a:lnTo>
                    <a:lnTo>
                      <a:pt x="532" y="827"/>
                    </a:lnTo>
                    <a:lnTo>
                      <a:pt x="527" y="829"/>
                    </a:lnTo>
                    <a:lnTo>
                      <a:pt x="519" y="831"/>
                    </a:lnTo>
                    <a:lnTo>
                      <a:pt x="512" y="832"/>
                    </a:lnTo>
                    <a:lnTo>
                      <a:pt x="506" y="834"/>
                    </a:lnTo>
                    <a:lnTo>
                      <a:pt x="500" y="836"/>
                    </a:lnTo>
                    <a:lnTo>
                      <a:pt x="493" y="840"/>
                    </a:lnTo>
                    <a:lnTo>
                      <a:pt x="485" y="842"/>
                    </a:lnTo>
                    <a:lnTo>
                      <a:pt x="479" y="844"/>
                    </a:lnTo>
                    <a:lnTo>
                      <a:pt x="474" y="846"/>
                    </a:lnTo>
                    <a:lnTo>
                      <a:pt x="466" y="850"/>
                    </a:lnTo>
                    <a:lnTo>
                      <a:pt x="460" y="851"/>
                    </a:lnTo>
                    <a:lnTo>
                      <a:pt x="454" y="855"/>
                    </a:lnTo>
                    <a:lnTo>
                      <a:pt x="447" y="857"/>
                    </a:lnTo>
                    <a:lnTo>
                      <a:pt x="441" y="861"/>
                    </a:lnTo>
                    <a:lnTo>
                      <a:pt x="434" y="861"/>
                    </a:lnTo>
                    <a:lnTo>
                      <a:pt x="428" y="865"/>
                    </a:lnTo>
                    <a:lnTo>
                      <a:pt x="420" y="865"/>
                    </a:lnTo>
                    <a:lnTo>
                      <a:pt x="413" y="869"/>
                    </a:lnTo>
                    <a:lnTo>
                      <a:pt x="407" y="870"/>
                    </a:lnTo>
                    <a:lnTo>
                      <a:pt x="399" y="872"/>
                    </a:lnTo>
                    <a:lnTo>
                      <a:pt x="394" y="874"/>
                    </a:lnTo>
                    <a:lnTo>
                      <a:pt x="388" y="878"/>
                    </a:lnTo>
                    <a:lnTo>
                      <a:pt x="380" y="880"/>
                    </a:lnTo>
                    <a:lnTo>
                      <a:pt x="373" y="882"/>
                    </a:lnTo>
                    <a:lnTo>
                      <a:pt x="365" y="884"/>
                    </a:lnTo>
                    <a:lnTo>
                      <a:pt x="359" y="886"/>
                    </a:lnTo>
                    <a:lnTo>
                      <a:pt x="352" y="888"/>
                    </a:lnTo>
                    <a:lnTo>
                      <a:pt x="346" y="889"/>
                    </a:lnTo>
                    <a:lnTo>
                      <a:pt x="339" y="891"/>
                    </a:lnTo>
                    <a:lnTo>
                      <a:pt x="333" y="895"/>
                    </a:lnTo>
                    <a:lnTo>
                      <a:pt x="325" y="895"/>
                    </a:lnTo>
                    <a:lnTo>
                      <a:pt x="320" y="897"/>
                    </a:lnTo>
                    <a:lnTo>
                      <a:pt x="312" y="897"/>
                    </a:lnTo>
                    <a:lnTo>
                      <a:pt x="306" y="899"/>
                    </a:lnTo>
                    <a:lnTo>
                      <a:pt x="299" y="901"/>
                    </a:lnTo>
                    <a:lnTo>
                      <a:pt x="291" y="903"/>
                    </a:lnTo>
                    <a:lnTo>
                      <a:pt x="283" y="905"/>
                    </a:lnTo>
                    <a:lnTo>
                      <a:pt x="278" y="907"/>
                    </a:lnTo>
                    <a:lnTo>
                      <a:pt x="270" y="907"/>
                    </a:lnTo>
                    <a:lnTo>
                      <a:pt x="264" y="907"/>
                    </a:lnTo>
                    <a:lnTo>
                      <a:pt x="257" y="907"/>
                    </a:lnTo>
                    <a:lnTo>
                      <a:pt x="251" y="908"/>
                    </a:lnTo>
                    <a:lnTo>
                      <a:pt x="243" y="908"/>
                    </a:lnTo>
                    <a:lnTo>
                      <a:pt x="236" y="908"/>
                    </a:lnTo>
                    <a:lnTo>
                      <a:pt x="228" y="910"/>
                    </a:lnTo>
                    <a:lnTo>
                      <a:pt x="223" y="912"/>
                    </a:lnTo>
                    <a:lnTo>
                      <a:pt x="228" y="907"/>
                    </a:lnTo>
                    <a:lnTo>
                      <a:pt x="236" y="901"/>
                    </a:lnTo>
                    <a:lnTo>
                      <a:pt x="243" y="899"/>
                    </a:lnTo>
                    <a:lnTo>
                      <a:pt x="253" y="895"/>
                    </a:lnTo>
                    <a:lnTo>
                      <a:pt x="262" y="891"/>
                    </a:lnTo>
                    <a:lnTo>
                      <a:pt x="272" y="889"/>
                    </a:lnTo>
                    <a:lnTo>
                      <a:pt x="281" y="888"/>
                    </a:lnTo>
                    <a:lnTo>
                      <a:pt x="291" y="886"/>
                    </a:lnTo>
                    <a:lnTo>
                      <a:pt x="301" y="882"/>
                    </a:lnTo>
                    <a:lnTo>
                      <a:pt x="310" y="880"/>
                    </a:lnTo>
                    <a:lnTo>
                      <a:pt x="320" y="878"/>
                    </a:lnTo>
                    <a:lnTo>
                      <a:pt x="331" y="874"/>
                    </a:lnTo>
                    <a:lnTo>
                      <a:pt x="340" y="872"/>
                    </a:lnTo>
                    <a:lnTo>
                      <a:pt x="350" y="870"/>
                    </a:lnTo>
                    <a:lnTo>
                      <a:pt x="359" y="869"/>
                    </a:lnTo>
                    <a:lnTo>
                      <a:pt x="371" y="867"/>
                    </a:lnTo>
                    <a:lnTo>
                      <a:pt x="363" y="861"/>
                    </a:lnTo>
                    <a:lnTo>
                      <a:pt x="358" y="859"/>
                    </a:lnTo>
                    <a:lnTo>
                      <a:pt x="352" y="855"/>
                    </a:lnTo>
                    <a:lnTo>
                      <a:pt x="346" y="853"/>
                    </a:lnTo>
                    <a:lnTo>
                      <a:pt x="340" y="851"/>
                    </a:lnTo>
                    <a:lnTo>
                      <a:pt x="335" y="850"/>
                    </a:lnTo>
                    <a:lnTo>
                      <a:pt x="327" y="850"/>
                    </a:lnTo>
                    <a:lnTo>
                      <a:pt x="321" y="851"/>
                    </a:lnTo>
                    <a:lnTo>
                      <a:pt x="314" y="851"/>
                    </a:lnTo>
                    <a:lnTo>
                      <a:pt x="308" y="851"/>
                    </a:lnTo>
                    <a:lnTo>
                      <a:pt x="301" y="853"/>
                    </a:lnTo>
                    <a:lnTo>
                      <a:pt x="295" y="855"/>
                    </a:lnTo>
                    <a:lnTo>
                      <a:pt x="287" y="857"/>
                    </a:lnTo>
                    <a:lnTo>
                      <a:pt x="281" y="859"/>
                    </a:lnTo>
                    <a:lnTo>
                      <a:pt x="274" y="863"/>
                    </a:lnTo>
                    <a:lnTo>
                      <a:pt x="268" y="865"/>
                    </a:lnTo>
                    <a:lnTo>
                      <a:pt x="259" y="869"/>
                    </a:lnTo>
                    <a:lnTo>
                      <a:pt x="253" y="870"/>
                    </a:lnTo>
                    <a:lnTo>
                      <a:pt x="243" y="872"/>
                    </a:lnTo>
                    <a:lnTo>
                      <a:pt x="238" y="874"/>
                    </a:lnTo>
                    <a:lnTo>
                      <a:pt x="228" y="878"/>
                    </a:lnTo>
                    <a:lnTo>
                      <a:pt x="223" y="880"/>
                    </a:lnTo>
                    <a:lnTo>
                      <a:pt x="215" y="882"/>
                    </a:lnTo>
                    <a:lnTo>
                      <a:pt x="207" y="886"/>
                    </a:lnTo>
                    <a:lnTo>
                      <a:pt x="200" y="886"/>
                    </a:lnTo>
                    <a:lnTo>
                      <a:pt x="192" y="888"/>
                    </a:lnTo>
                    <a:lnTo>
                      <a:pt x="185" y="888"/>
                    </a:lnTo>
                    <a:lnTo>
                      <a:pt x="177" y="889"/>
                    </a:lnTo>
                    <a:lnTo>
                      <a:pt x="169" y="889"/>
                    </a:lnTo>
                    <a:lnTo>
                      <a:pt x="162" y="889"/>
                    </a:lnTo>
                    <a:lnTo>
                      <a:pt x="154" y="888"/>
                    </a:lnTo>
                    <a:lnTo>
                      <a:pt x="148" y="888"/>
                    </a:lnTo>
                    <a:lnTo>
                      <a:pt x="154" y="882"/>
                    </a:lnTo>
                    <a:lnTo>
                      <a:pt x="162" y="878"/>
                    </a:lnTo>
                    <a:lnTo>
                      <a:pt x="169" y="872"/>
                    </a:lnTo>
                    <a:lnTo>
                      <a:pt x="179" y="870"/>
                    </a:lnTo>
                    <a:lnTo>
                      <a:pt x="186" y="865"/>
                    </a:lnTo>
                    <a:lnTo>
                      <a:pt x="196" y="863"/>
                    </a:lnTo>
                    <a:lnTo>
                      <a:pt x="205" y="861"/>
                    </a:lnTo>
                    <a:lnTo>
                      <a:pt x="217" y="859"/>
                    </a:lnTo>
                    <a:lnTo>
                      <a:pt x="226" y="855"/>
                    </a:lnTo>
                    <a:lnTo>
                      <a:pt x="236" y="853"/>
                    </a:lnTo>
                    <a:lnTo>
                      <a:pt x="245" y="851"/>
                    </a:lnTo>
                    <a:lnTo>
                      <a:pt x="257" y="850"/>
                    </a:lnTo>
                    <a:lnTo>
                      <a:pt x="266" y="848"/>
                    </a:lnTo>
                    <a:lnTo>
                      <a:pt x="278" y="846"/>
                    </a:lnTo>
                    <a:lnTo>
                      <a:pt x="287" y="844"/>
                    </a:lnTo>
                    <a:lnTo>
                      <a:pt x="297" y="844"/>
                    </a:lnTo>
                    <a:lnTo>
                      <a:pt x="293" y="836"/>
                    </a:lnTo>
                    <a:lnTo>
                      <a:pt x="289" y="832"/>
                    </a:lnTo>
                    <a:lnTo>
                      <a:pt x="283" y="827"/>
                    </a:lnTo>
                    <a:lnTo>
                      <a:pt x="280" y="825"/>
                    </a:lnTo>
                    <a:lnTo>
                      <a:pt x="270" y="821"/>
                    </a:lnTo>
                    <a:lnTo>
                      <a:pt x="259" y="817"/>
                    </a:lnTo>
                    <a:lnTo>
                      <a:pt x="251" y="817"/>
                    </a:lnTo>
                    <a:lnTo>
                      <a:pt x="245" y="817"/>
                    </a:lnTo>
                    <a:lnTo>
                      <a:pt x="238" y="817"/>
                    </a:lnTo>
                    <a:lnTo>
                      <a:pt x="232" y="821"/>
                    </a:lnTo>
                    <a:lnTo>
                      <a:pt x="224" y="821"/>
                    </a:lnTo>
                    <a:lnTo>
                      <a:pt x="219" y="823"/>
                    </a:lnTo>
                    <a:lnTo>
                      <a:pt x="211" y="825"/>
                    </a:lnTo>
                    <a:lnTo>
                      <a:pt x="205" y="829"/>
                    </a:lnTo>
                    <a:lnTo>
                      <a:pt x="196" y="831"/>
                    </a:lnTo>
                    <a:lnTo>
                      <a:pt x="188" y="832"/>
                    </a:lnTo>
                    <a:lnTo>
                      <a:pt x="181" y="834"/>
                    </a:lnTo>
                    <a:lnTo>
                      <a:pt x="173" y="838"/>
                    </a:lnTo>
                    <a:lnTo>
                      <a:pt x="166" y="840"/>
                    </a:lnTo>
                    <a:lnTo>
                      <a:pt x="158" y="842"/>
                    </a:lnTo>
                    <a:lnTo>
                      <a:pt x="150" y="844"/>
                    </a:lnTo>
                    <a:lnTo>
                      <a:pt x="143" y="848"/>
                    </a:lnTo>
                    <a:lnTo>
                      <a:pt x="135" y="850"/>
                    </a:lnTo>
                    <a:lnTo>
                      <a:pt x="127" y="851"/>
                    </a:lnTo>
                    <a:lnTo>
                      <a:pt x="120" y="851"/>
                    </a:lnTo>
                    <a:lnTo>
                      <a:pt x="114" y="853"/>
                    </a:lnTo>
                    <a:lnTo>
                      <a:pt x="107" y="853"/>
                    </a:lnTo>
                    <a:lnTo>
                      <a:pt x="99" y="853"/>
                    </a:lnTo>
                    <a:lnTo>
                      <a:pt x="93" y="853"/>
                    </a:lnTo>
                    <a:lnTo>
                      <a:pt x="88" y="853"/>
                    </a:lnTo>
                    <a:lnTo>
                      <a:pt x="93" y="850"/>
                    </a:lnTo>
                    <a:lnTo>
                      <a:pt x="99" y="844"/>
                    </a:lnTo>
                    <a:lnTo>
                      <a:pt x="107" y="840"/>
                    </a:lnTo>
                    <a:lnTo>
                      <a:pt x="114" y="836"/>
                    </a:lnTo>
                    <a:lnTo>
                      <a:pt x="122" y="832"/>
                    </a:lnTo>
                    <a:lnTo>
                      <a:pt x="131" y="827"/>
                    </a:lnTo>
                    <a:lnTo>
                      <a:pt x="139" y="825"/>
                    </a:lnTo>
                    <a:lnTo>
                      <a:pt x="148" y="821"/>
                    </a:lnTo>
                    <a:lnTo>
                      <a:pt x="158" y="817"/>
                    </a:lnTo>
                    <a:lnTo>
                      <a:pt x="167" y="815"/>
                    </a:lnTo>
                    <a:lnTo>
                      <a:pt x="177" y="812"/>
                    </a:lnTo>
                    <a:lnTo>
                      <a:pt x="186" y="810"/>
                    </a:lnTo>
                    <a:lnTo>
                      <a:pt x="194" y="808"/>
                    </a:lnTo>
                    <a:lnTo>
                      <a:pt x="204" y="808"/>
                    </a:lnTo>
                    <a:lnTo>
                      <a:pt x="213" y="808"/>
                    </a:lnTo>
                    <a:lnTo>
                      <a:pt x="223" y="808"/>
                    </a:lnTo>
                    <a:lnTo>
                      <a:pt x="219" y="798"/>
                    </a:lnTo>
                    <a:lnTo>
                      <a:pt x="215" y="793"/>
                    </a:lnTo>
                    <a:lnTo>
                      <a:pt x="209" y="787"/>
                    </a:lnTo>
                    <a:lnTo>
                      <a:pt x="205" y="783"/>
                    </a:lnTo>
                    <a:lnTo>
                      <a:pt x="200" y="779"/>
                    </a:lnTo>
                    <a:lnTo>
                      <a:pt x="196" y="777"/>
                    </a:lnTo>
                    <a:lnTo>
                      <a:pt x="188" y="774"/>
                    </a:lnTo>
                    <a:lnTo>
                      <a:pt x="185" y="774"/>
                    </a:lnTo>
                    <a:lnTo>
                      <a:pt x="177" y="772"/>
                    </a:lnTo>
                    <a:lnTo>
                      <a:pt x="169" y="772"/>
                    </a:lnTo>
                    <a:lnTo>
                      <a:pt x="162" y="772"/>
                    </a:lnTo>
                    <a:lnTo>
                      <a:pt x="156" y="774"/>
                    </a:lnTo>
                    <a:lnTo>
                      <a:pt x="148" y="774"/>
                    </a:lnTo>
                    <a:lnTo>
                      <a:pt x="141" y="775"/>
                    </a:lnTo>
                    <a:lnTo>
                      <a:pt x="133" y="777"/>
                    </a:lnTo>
                    <a:lnTo>
                      <a:pt x="126" y="781"/>
                    </a:lnTo>
                    <a:lnTo>
                      <a:pt x="116" y="781"/>
                    </a:lnTo>
                    <a:lnTo>
                      <a:pt x="108" y="785"/>
                    </a:lnTo>
                    <a:lnTo>
                      <a:pt x="99" y="787"/>
                    </a:lnTo>
                    <a:lnTo>
                      <a:pt x="93" y="791"/>
                    </a:lnTo>
                    <a:lnTo>
                      <a:pt x="84" y="793"/>
                    </a:lnTo>
                    <a:lnTo>
                      <a:pt x="76" y="794"/>
                    </a:lnTo>
                    <a:lnTo>
                      <a:pt x="67" y="796"/>
                    </a:lnTo>
                    <a:lnTo>
                      <a:pt x="59" y="800"/>
                    </a:lnTo>
                    <a:lnTo>
                      <a:pt x="51" y="800"/>
                    </a:lnTo>
                    <a:lnTo>
                      <a:pt x="44" y="804"/>
                    </a:lnTo>
                    <a:lnTo>
                      <a:pt x="34" y="804"/>
                    </a:lnTo>
                    <a:lnTo>
                      <a:pt x="29" y="806"/>
                    </a:lnTo>
                    <a:lnTo>
                      <a:pt x="21" y="806"/>
                    </a:lnTo>
                    <a:lnTo>
                      <a:pt x="13" y="808"/>
                    </a:lnTo>
                    <a:lnTo>
                      <a:pt x="6" y="808"/>
                    </a:lnTo>
                    <a:lnTo>
                      <a:pt x="0" y="808"/>
                    </a:lnTo>
                    <a:lnTo>
                      <a:pt x="8" y="800"/>
                    </a:lnTo>
                    <a:lnTo>
                      <a:pt x="19" y="794"/>
                    </a:lnTo>
                    <a:lnTo>
                      <a:pt x="29" y="789"/>
                    </a:lnTo>
                    <a:lnTo>
                      <a:pt x="40" y="785"/>
                    </a:lnTo>
                    <a:lnTo>
                      <a:pt x="50" y="779"/>
                    </a:lnTo>
                    <a:lnTo>
                      <a:pt x="61" y="777"/>
                    </a:lnTo>
                    <a:lnTo>
                      <a:pt x="69" y="775"/>
                    </a:lnTo>
                    <a:lnTo>
                      <a:pt x="74" y="774"/>
                    </a:lnTo>
                    <a:lnTo>
                      <a:pt x="80" y="772"/>
                    </a:lnTo>
                    <a:lnTo>
                      <a:pt x="88" y="770"/>
                    </a:lnTo>
                    <a:lnTo>
                      <a:pt x="93" y="768"/>
                    </a:lnTo>
                    <a:lnTo>
                      <a:pt x="99" y="766"/>
                    </a:lnTo>
                    <a:lnTo>
                      <a:pt x="105" y="762"/>
                    </a:lnTo>
                    <a:lnTo>
                      <a:pt x="110" y="762"/>
                    </a:lnTo>
                    <a:lnTo>
                      <a:pt x="116" y="758"/>
                    </a:lnTo>
                    <a:lnTo>
                      <a:pt x="122" y="758"/>
                    </a:lnTo>
                    <a:lnTo>
                      <a:pt x="129" y="755"/>
                    </a:lnTo>
                    <a:lnTo>
                      <a:pt x="135" y="753"/>
                    </a:lnTo>
                    <a:lnTo>
                      <a:pt x="145" y="747"/>
                    </a:lnTo>
                    <a:lnTo>
                      <a:pt x="158" y="741"/>
                    </a:lnTo>
                    <a:lnTo>
                      <a:pt x="167" y="734"/>
                    </a:lnTo>
                    <a:lnTo>
                      <a:pt x="179" y="728"/>
                    </a:lnTo>
                    <a:lnTo>
                      <a:pt x="171" y="724"/>
                    </a:lnTo>
                    <a:lnTo>
                      <a:pt x="164" y="724"/>
                    </a:lnTo>
                    <a:lnTo>
                      <a:pt x="158" y="724"/>
                    </a:lnTo>
                    <a:lnTo>
                      <a:pt x="152" y="726"/>
                    </a:lnTo>
                    <a:lnTo>
                      <a:pt x="145" y="726"/>
                    </a:lnTo>
                    <a:lnTo>
                      <a:pt x="139" y="726"/>
                    </a:lnTo>
                    <a:lnTo>
                      <a:pt x="133" y="728"/>
                    </a:lnTo>
                    <a:lnTo>
                      <a:pt x="126" y="730"/>
                    </a:lnTo>
                    <a:lnTo>
                      <a:pt x="120" y="732"/>
                    </a:lnTo>
                    <a:lnTo>
                      <a:pt x="112" y="732"/>
                    </a:lnTo>
                    <a:lnTo>
                      <a:pt x="107" y="734"/>
                    </a:lnTo>
                    <a:lnTo>
                      <a:pt x="99" y="734"/>
                    </a:lnTo>
                    <a:lnTo>
                      <a:pt x="93" y="734"/>
                    </a:lnTo>
                    <a:lnTo>
                      <a:pt x="88" y="734"/>
                    </a:lnTo>
                    <a:lnTo>
                      <a:pt x="80" y="734"/>
                    </a:lnTo>
                    <a:lnTo>
                      <a:pt x="74" y="734"/>
                    </a:lnTo>
                    <a:lnTo>
                      <a:pt x="74" y="730"/>
                    </a:lnTo>
                    <a:lnTo>
                      <a:pt x="74" y="728"/>
                    </a:lnTo>
                    <a:lnTo>
                      <a:pt x="82" y="724"/>
                    </a:lnTo>
                    <a:lnTo>
                      <a:pt x="89" y="722"/>
                    </a:lnTo>
                    <a:lnTo>
                      <a:pt x="99" y="718"/>
                    </a:lnTo>
                    <a:lnTo>
                      <a:pt x="107" y="716"/>
                    </a:lnTo>
                    <a:lnTo>
                      <a:pt x="114" y="713"/>
                    </a:lnTo>
                    <a:lnTo>
                      <a:pt x="124" y="711"/>
                    </a:lnTo>
                    <a:lnTo>
                      <a:pt x="131" y="709"/>
                    </a:lnTo>
                    <a:lnTo>
                      <a:pt x="141" y="707"/>
                    </a:lnTo>
                    <a:lnTo>
                      <a:pt x="148" y="703"/>
                    </a:lnTo>
                    <a:lnTo>
                      <a:pt x="158" y="701"/>
                    </a:lnTo>
                    <a:lnTo>
                      <a:pt x="166" y="699"/>
                    </a:lnTo>
                    <a:lnTo>
                      <a:pt x="175" y="697"/>
                    </a:lnTo>
                    <a:lnTo>
                      <a:pt x="185" y="696"/>
                    </a:lnTo>
                    <a:lnTo>
                      <a:pt x="192" y="694"/>
                    </a:lnTo>
                    <a:lnTo>
                      <a:pt x="200" y="692"/>
                    </a:lnTo>
                    <a:lnTo>
                      <a:pt x="209" y="692"/>
                    </a:lnTo>
                    <a:lnTo>
                      <a:pt x="204" y="686"/>
                    </a:lnTo>
                    <a:lnTo>
                      <a:pt x="196" y="680"/>
                    </a:lnTo>
                    <a:lnTo>
                      <a:pt x="188" y="678"/>
                    </a:lnTo>
                    <a:lnTo>
                      <a:pt x="181" y="678"/>
                    </a:lnTo>
                    <a:lnTo>
                      <a:pt x="171" y="677"/>
                    </a:lnTo>
                    <a:lnTo>
                      <a:pt x="162" y="677"/>
                    </a:lnTo>
                    <a:lnTo>
                      <a:pt x="154" y="678"/>
                    </a:lnTo>
                    <a:lnTo>
                      <a:pt x="145" y="680"/>
                    </a:lnTo>
                    <a:lnTo>
                      <a:pt x="135" y="680"/>
                    </a:lnTo>
                    <a:lnTo>
                      <a:pt x="127" y="682"/>
                    </a:lnTo>
                    <a:lnTo>
                      <a:pt x="118" y="684"/>
                    </a:lnTo>
                    <a:lnTo>
                      <a:pt x="110" y="686"/>
                    </a:lnTo>
                    <a:lnTo>
                      <a:pt x="99" y="686"/>
                    </a:lnTo>
                    <a:lnTo>
                      <a:pt x="89" y="688"/>
                    </a:lnTo>
                    <a:lnTo>
                      <a:pt x="82" y="688"/>
                    </a:lnTo>
                    <a:lnTo>
                      <a:pt x="74" y="688"/>
                    </a:lnTo>
                    <a:lnTo>
                      <a:pt x="76" y="678"/>
                    </a:lnTo>
                    <a:lnTo>
                      <a:pt x="80" y="671"/>
                    </a:lnTo>
                    <a:lnTo>
                      <a:pt x="84" y="663"/>
                    </a:lnTo>
                    <a:lnTo>
                      <a:pt x="89" y="658"/>
                    </a:lnTo>
                    <a:lnTo>
                      <a:pt x="97" y="652"/>
                    </a:lnTo>
                    <a:lnTo>
                      <a:pt x="105" y="648"/>
                    </a:lnTo>
                    <a:lnTo>
                      <a:pt x="112" y="644"/>
                    </a:lnTo>
                    <a:lnTo>
                      <a:pt x="122" y="640"/>
                    </a:lnTo>
                    <a:lnTo>
                      <a:pt x="129" y="639"/>
                    </a:lnTo>
                    <a:lnTo>
                      <a:pt x="139" y="635"/>
                    </a:lnTo>
                    <a:lnTo>
                      <a:pt x="148" y="631"/>
                    </a:lnTo>
                    <a:lnTo>
                      <a:pt x="158" y="629"/>
                    </a:lnTo>
                    <a:lnTo>
                      <a:pt x="166" y="625"/>
                    </a:lnTo>
                    <a:lnTo>
                      <a:pt x="175" y="623"/>
                    </a:lnTo>
                    <a:lnTo>
                      <a:pt x="185" y="621"/>
                    </a:lnTo>
                    <a:lnTo>
                      <a:pt x="194" y="620"/>
                    </a:lnTo>
                    <a:lnTo>
                      <a:pt x="194" y="616"/>
                    </a:lnTo>
                    <a:lnTo>
                      <a:pt x="194" y="614"/>
                    </a:lnTo>
                    <a:lnTo>
                      <a:pt x="185" y="610"/>
                    </a:lnTo>
                    <a:lnTo>
                      <a:pt x="177" y="608"/>
                    </a:lnTo>
                    <a:lnTo>
                      <a:pt x="167" y="608"/>
                    </a:lnTo>
                    <a:lnTo>
                      <a:pt x="160" y="608"/>
                    </a:lnTo>
                    <a:lnTo>
                      <a:pt x="150" y="608"/>
                    </a:lnTo>
                    <a:lnTo>
                      <a:pt x="141" y="608"/>
                    </a:lnTo>
                    <a:lnTo>
                      <a:pt x="131" y="606"/>
                    </a:lnTo>
                    <a:lnTo>
                      <a:pt x="124" y="604"/>
                    </a:lnTo>
                    <a:lnTo>
                      <a:pt x="127" y="595"/>
                    </a:lnTo>
                    <a:lnTo>
                      <a:pt x="133" y="587"/>
                    </a:lnTo>
                    <a:lnTo>
                      <a:pt x="141" y="580"/>
                    </a:lnTo>
                    <a:lnTo>
                      <a:pt x="148" y="574"/>
                    </a:lnTo>
                    <a:lnTo>
                      <a:pt x="154" y="566"/>
                    </a:lnTo>
                    <a:lnTo>
                      <a:pt x="164" y="559"/>
                    </a:lnTo>
                    <a:lnTo>
                      <a:pt x="171" y="551"/>
                    </a:lnTo>
                    <a:lnTo>
                      <a:pt x="181" y="545"/>
                    </a:lnTo>
                    <a:lnTo>
                      <a:pt x="188" y="538"/>
                    </a:lnTo>
                    <a:lnTo>
                      <a:pt x="198" y="530"/>
                    </a:lnTo>
                    <a:lnTo>
                      <a:pt x="205" y="523"/>
                    </a:lnTo>
                    <a:lnTo>
                      <a:pt x="213" y="515"/>
                    </a:lnTo>
                    <a:lnTo>
                      <a:pt x="217" y="505"/>
                    </a:lnTo>
                    <a:lnTo>
                      <a:pt x="224" y="500"/>
                    </a:lnTo>
                    <a:lnTo>
                      <a:pt x="228" y="490"/>
                    </a:lnTo>
                    <a:lnTo>
                      <a:pt x="234" y="483"/>
                    </a:lnTo>
                    <a:lnTo>
                      <a:pt x="223" y="483"/>
                    </a:lnTo>
                    <a:lnTo>
                      <a:pt x="211" y="485"/>
                    </a:lnTo>
                    <a:lnTo>
                      <a:pt x="200" y="486"/>
                    </a:lnTo>
                    <a:lnTo>
                      <a:pt x="190" y="492"/>
                    </a:lnTo>
                    <a:lnTo>
                      <a:pt x="181" y="498"/>
                    </a:lnTo>
                    <a:lnTo>
                      <a:pt x="171" y="504"/>
                    </a:lnTo>
                    <a:lnTo>
                      <a:pt x="162" y="511"/>
                    </a:lnTo>
                    <a:lnTo>
                      <a:pt x="152" y="517"/>
                    </a:lnTo>
                    <a:lnTo>
                      <a:pt x="141" y="523"/>
                    </a:lnTo>
                    <a:lnTo>
                      <a:pt x="131" y="528"/>
                    </a:lnTo>
                    <a:lnTo>
                      <a:pt x="122" y="534"/>
                    </a:lnTo>
                    <a:lnTo>
                      <a:pt x="112" y="540"/>
                    </a:lnTo>
                    <a:lnTo>
                      <a:pt x="103" y="543"/>
                    </a:lnTo>
                    <a:lnTo>
                      <a:pt x="93" y="547"/>
                    </a:lnTo>
                    <a:lnTo>
                      <a:pt x="84" y="551"/>
                    </a:lnTo>
                    <a:lnTo>
                      <a:pt x="74" y="553"/>
                    </a:lnTo>
                    <a:lnTo>
                      <a:pt x="74" y="547"/>
                    </a:lnTo>
                    <a:lnTo>
                      <a:pt x="76" y="542"/>
                    </a:lnTo>
                    <a:lnTo>
                      <a:pt x="78" y="536"/>
                    </a:lnTo>
                    <a:lnTo>
                      <a:pt x="82" y="532"/>
                    </a:lnTo>
                    <a:lnTo>
                      <a:pt x="88" y="523"/>
                    </a:lnTo>
                    <a:lnTo>
                      <a:pt x="97" y="515"/>
                    </a:lnTo>
                    <a:lnTo>
                      <a:pt x="105" y="509"/>
                    </a:lnTo>
                    <a:lnTo>
                      <a:pt x="114" y="502"/>
                    </a:lnTo>
                    <a:lnTo>
                      <a:pt x="126" y="496"/>
                    </a:lnTo>
                    <a:lnTo>
                      <a:pt x="135" y="492"/>
                    </a:lnTo>
                    <a:lnTo>
                      <a:pt x="145" y="485"/>
                    </a:lnTo>
                    <a:lnTo>
                      <a:pt x="154" y="481"/>
                    </a:lnTo>
                    <a:lnTo>
                      <a:pt x="164" y="475"/>
                    </a:lnTo>
                    <a:lnTo>
                      <a:pt x="173" y="469"/>
                    </a:lnTo>
                    <a:lnTo>
                      <a:pt x="179" y="464"/>
                    </a:lnTo>
                    <a:lnTo>
                      <a:pt x="186" y="458"/>
                    </a:lnTo>
                    <a:lnTo>
                      <a:pt x="190" y="450"/>
                    </a:lnTo>
                    <a:lnTo>
                      <a:pt x="194" y="445"/>
                    </a:lnTo>
                    <a:lnTo>
                      <a:pt x="186" y="447"/>
                    </a:lnTo>
                    <a:lnTo>
                      <a:pt x="179" y="448"/>
                    </a:lnTo>
                    <a:lnTo>
                      <a:pt x="171" y="450"/>
                    </a:lnTo>
                    <a:lnTo>
                      <a:pt x="166" y="454"/>
                    </a:lnTo>
                    <a:lnTo>
                      <a:pt x="158" y="456"/>
                    </a:lnTo>
                    <a:lnTo>
                      <a:pt x="152" y="458"/>
                    </a:lnTo>
                    <a:lnTo>
                      <a:pt x="145" y="460"/>
                    </a:lnTo>
                    <a:lnTo>
                      <a:pt x="139" y="464"/>
                    </a:lnTo>
                    <a:lnTo>
                      <a:pt x="129" y="466"/>
                    </a:lnTo>
                    <a:lnTo>
                      <a:pt x="122" y="467"/>
                    </a:lnTo>
                    <a:lnTo>
                      <a:pt x="114" y="469"/>
                    </a:lnTo>
                    <a:lnTo>
                      <a:pt x="108" y="473"/>
                    </a:lnTo>
                    <a:lnTo>
                      <a:pt x="99" y="475"/>
                    </a:lnTo>
                    <a:lnTo>
                      <a:pt x="93" y="479"/>
                    </a:lnTo>
                    <a:lnTo>
                      <a:pt x="86" y="483"/>
                    </a:lnTo>
                    <a:lnTo>
                      <a:pt x="78" y="486"/>
                    </a:lnTo>
                    <a:lnTo>
                      <a:pt x="76" y="485"/>
                    </a:lnTo>
                    <a:lnTo>
                      <a:pt x="82" y="475"/>
                    </a:lnTo>
                    <a:lnTo>
                      <a:pt x="88" y="467"/>
                    </a:lnTo>
                    <a:lnTo>
                      <a:pt x="95" y="460"/>
                    </a:lnTo>
                    <a:lnTo>
                      <a:pt x="105" y="454"/>
                    </a:lnTo>
                    <a:lnTo>
                      <a:pt x="112" y="448"/>
                    </a:lnTo>
                    <a:lnTo>
                      <a:pt x="122" y="443"/>
                    </a:lnTo>
                    <a:lnTo>
                      <a:pt x="131" y="439"/>
                    </a:lnTo>
                    <a:lnTo>
                      <a:pt x="141" y="437"/>
                    </a:lnTo>
                    <a:lnTo>
                      <a:pt x="150" y="431"/>
                    </a:lnTo>
                    <a:lnTo>
                      <a:pt x="158" y="428"/>
                    </a:lnTo>
                    <a:lnTo>
                      <a:pt x="166" y="422"/>
                    </a:lnTo>
                    <a:lnTo>
                      <a:pt x="173" y="416"/>
                    </a:lnTo>
                    <a:lnTo>
                      <a:pt x="179" y="410"/>
                    </a:lnTo>
                    <a:lnTo>
                      <a:pt x="186" y="403"/>
                    </a:lnTo>
                    <a:lnTo>
                      <a:pt x="190" y="395"/>
                    </a:lnTo>
                    <a:lnTo>
                      <a:pt x="194" y="388"/>
                    </a:lnTo>
                    <a:lnTo>
                      <a:pt x="185" y="391"/>
                    </a:lnTo>
                    <a:lnTo>
                      <a:pt x="175" y="393"/>
                    </a:lnTo>
                    <a:lnTo>
                      <a:pt x="164" y="395"/>
                    </a:lnTo>
                    <a:lnTo>
                      <a:pt x="154" y="395"/>
                    </a:lnTo>
                    <a:lnTo>
                      <a:pt x="143" y="395"/>
                    </a:lnTo>
                    <a:lnTo>
                      <a:pt x="131" y="395"/>
                    </a:lnTo>
                    <a:lnTo>
                      <a:pt x="120" y="393"/>
                    </a:lnTo>
                    <a:lnTo>
                      <a:pt x="110" y="395"/>
                    </a:lnTo>
                    <a:lnTo>
                      <a:pt x="118" y="388"/>
                    </a:lnTo>
                    <a:lnTo>
                      <a:pt x="126" y="384"/>
                    </a:lnTo>
                    <a:lnTo>
                      <a:pt x="131" y="376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0" y="359"/>
                    </a:lnTo>
                    <a:lnTo>
                      <a:pt x="156" y="353"/>
                    </a:lnTo>
                    <a:lnTo>
                      <a:pt x="162" y="348"/>
                    </a:lnTo>
                    <a:lnTo>
                      <a:pt x="167" y="340"/>
                    </a:lnTo>
                    <a:lnTo>
                      <a:pt x="171" y="332"/>
                    </a:lnTo>
                    <a:lnTo>
                      <a:pt x="175" y="325"/>
                    </a:lnTo>
                    <a:lnTo>
                      <a:pt x="179" y="319"/>
                    </a:lnTo>
                    <a:lnTo>
                      <a:pt x="183" y="312"/>
                    </a:lnTo>
                    <a:lnTo>
                      <a:pt x="186" y="304"/>
                    </a:lnTo>
                    <a:lnTo>
                      <a:pt x="190" y="296"/>
                    </a:lnTo>
                    <a:lnTo>
                      <a:pt x="194" y="291"/>
                    </a:lnTo>
                    <a:lnTo>
                      <a:pt x="196" y="281"/>
                    </a:lnTo>
                    <a:lnTo>
                      <a:pt x="200" y="274"/>
                    </a:lnTo>
                    <a:lnTo>
                      <a:pt x="202" y="266"/>
                    </a:lnTo>
                    <a:lnTo>
                      <a:pt x="205" y="258"/>
                    </a:lnTo>
                    <a:lnTo>
                      <a:pt x="207" y="249"/>
                    </a:lnTo>
                    <a:lnTo>
                      <a:pt x="209" y="241"/>
                    </a:lnTo>
                    <a:lnTo>
                      <a:pt x="213" y="236"/>
                    </a:lnTo>
                    <a:lnTo>
                      <a:pt x="215" y="228"/>
                    </a:lnTo>
                    <a:lnTo>
                      <a:pt x="217" y="218"/>
                    </a:lnTo>
                    <a:lnTo>
                      <a:pt x="219" y="211"/>
                    </a:lnTo>
                    <a:lnTo>
                      <a:pt x="221" y="203"/>
                    </a:lnTo>
                    <a:lnTo>
                      <a:pt x="224" y="196"/>
                    </a:lnTo>
                    <a:lnTo>
                      <a:pt x="226" y="186"/>
                    </a:lnTo>
                    <a:lnTo>
                      <a:pt x="228" y="180"/>
                    </a:lnTo>
                    <a:lnTo>
                      <a:pt x="230" y="171"/>
                    </a:lnTo>
                    <a:lnTo>
                      <a:pt x="234" y="165"/>
                    </a:lnTo>
                    <a:lnTo>
                      <a:pt x="236" y="171"/>
                    </a:lnTo>
                    <a:lnTo>
                      <a:pt x="238" y="177"/>
                    </a:lnTo>
                    <a:lnTo>
                      <a:pt x="240" y="182"/>
                    </a:lnTo>
                    <a:lnTo>
                      <a:pt x="242" y="190"/>
                    </a:lnTo>
                    <a:lnTo>
                      <a:pt x="242" y="197"/>
                    </a:lnTo>
                    <a:lnTo>
                      <a:pt x="242" y="207"/>
                    </a:lnTo>
                    <a:lnTo>
                      <a:pt x="240" y="213"/>
                    </a:lnTo>
                    <a:lnTo>
                      <a:pt x="238" y="222"/>
                    </a:lnTo>
                    <a:lnTo>
                      <a:pt x="236" y="230"/>
                    </a:lnTo>
                    <a:lnTo>
                      <a:pt x="234" y="239"/>
                    </a:lnTo>
                    <a:lnTo>
                      <a:pt x="232" y="247"/>
                    </a:lnTo>
                    <a:lnTo>
                      <a:pt x="230" y="256"/>
                    </a:lnTo>
                    <a:lnTo>
                      <a:pt x="226" y="264"/>
                    </a:lnTo>
                    <a:lnTo>
                      <a:pt x="226" y="272"/>
                    </a:lnTo>
                    <a:lnTo>
                      <a:pt x="224" y="277"/>
                    </a:lnTo>
                    <a:lnTo>
                      <a:pt x="223" y="285"/>
                    </a:lnTo>
                    <a:lnTo>
                      <a:pt x="224" y="287"/>
                    </a:lnTo>
                    <a:lnTo>
                      <a:pt x="228" y="291"/>
                    </a:lnTo>
                    <a:lnTo>
                      <a:pt x="236" y="283"/>
                    </a:lnTo>
                    <a:lnTo>
                      <a:pt x="245" y="277"/>
                    </a:lnTo>
                    <a:lnTo>
                      <a:pt x="251" y="272"/>
                    </a:lnTo>
                    <a:lnTo>
                      <a:pt x="259" y="264"/>
                    </a:lnTo>
                    <a:lnTo>
                      <a:pt x="262" y="255"/>
                    </a:lnTo>
                    <a:lnTo>
                      <a:pt x="268" y="247"/>
                    </a:lnTo>
                    <a:lnTo>
                      <a:pt x="272" y="237"/>
                    </a:lnTo>
                    <a:lnTo>
                      <a:pt x="278" y="228"/>
                    </a:lnTo>
                    <a:lnTo>
                      <a:pt x="280" y="218"/>
                    </a:lnTo>
                    <a:lnTo>
                      <a:pt x="283" y="209"/>
                    </a:lnTo>
                    <a:lnTo>
                      <a:pt x="287" y="199"/>
                    </a:lnTo>
                    <a:lnTo>
                      <a:pt x="291" y="190"/>
                    </a:lnTo>
                    <a:lnTo>
                      <a:pt x="293" y="180"/>
                    </a:lnTo>
                    <a:lnTo>
                      <a:pt x="297" y="171"/>
                    </a:lnTo>
                    <a:lnTo>
                      <a:pt x="301" y="161"/>
                    </a:lnTo>
                    <a:lnTo>
                      <a:pt x="308" y="154"/>
                    </a:lnTo>
                    <a:lnTo>
                      <a:pt x="314" y="154"/>
                    </a:lnTo>
                    <a:lnTo>
                      <a:pt x="314" y="159"/>
                    </a:lnTo>
                    <a:lnTo>
                      <a:pt x="316" y="165"/>
                    </a:lnTo>
                    <a:lnTo>
                      <a:pt x="318" y="173"/>
                    </a:lnTo>
                    <a:lnTo>
                      <a:pt x="318" y="178"/>
                    </a:lnTo>
                    <a:lnTo>
                      <a:pt x="318" y="184"/>
                    </a:lnTo>
                    <a:lnTo>
                      <a:pt x="318" y="190"/>
                    </a:lnTo>
                    <a:lnTo>
                      <a:pt x="318" y="196"/>
                    </a:lnTo>
                    <a:lnTo>
                      <a:pt x="318" y="203"/>
                    </a:lnTo>
                    <a:lnTo>
                      <a:pt x="316" y="213"/>
                    </a:lnTo>
                    <a:lnTo>
                      <a:pt x="314" y="226"/>
                    </a:lnTo>
                    <a:lnTo>
                      <a:pt x="312" y="230"/>
                    </a:lnTo>
                    <a:lnTo>
                      <a:pt x="310" y="237"/>
                    </a:lnTo>
                    <a:lnTo>
                      <a:pt x="310" y="241"/>
                    </a:lnTo>
                    <a:lnTo>
                      <a:pt x="308" y="249"/>
                    </a:lnTo>
                    <a:lnTo>
                      <a:pt x="302" y="258"/>
                    </a:lnTo>
                    <a:lnTo>
                      <a:pt x="301" y="272"/>
                    </a:lnTo>
                    <a:lnTo>
                      <a:pt x="295" y="281"/>
                    </a:lnTo>
                    <a:lnTo>
                      <a:pt x="291" y="293"/>
                    </a:lnTo>
                    <a:lnTo>
                      <a:pt x="289" y="304"/>
                    </a:lnTo>
                    <a:lnTo>
                      <a:pt x="285" y="315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83" y="332"/>
                    </a:lnTo>
                    <a:lnTo>
                      <a:pt x="283" y="340"/>
                    </a:lnTo>
                    <a:lnTo>
                      <a:pt x="293" y="336"/>
                    </a:lnTo>
                    <a:lnTo>
                      <a:pt x="302" y="332"/>
                    </a:lnTo>
                    <a:lnTo>
                      <a:pt x="310" y="327"/>
                    </a:lnTo>
                    <a:lnTo>
                      <a:pt x="320" y="319"/>
                    </a:lnTo>
                    <a:lnTo>
                      <a:pt x="325" y="310"/>
                    </a:lnTo>
                    <a:lnTo>
                      <a:pt x="333" y="300"/>
                    </a:lnTo>
                    <a:lnTo>
                      <a:pt x="339" y="291"/>
                    </a:lnTo>
                    <a:lnTo>
                      <a:pt x="346" y="279"/>
                    </a:lnTo>
                    <a:lnTo>
                      <a:pt x="348" y="274"/>
                    </a:lnTo>
                    <a:lnTo>
                      <a:pt x="350" y="266"/>
                    </a:lnTo>
                    <a:lnTo>
                      <a:pt x="352" y="260"/>
                    </a:lnTo>
                    <a:lnTo>
                      <a:pt x="356" y="255"/>
                    </a:lnTo>
                    <a:lnTo>
                      <a:pt x="358" y="249"/>
                    </a:lnTo>
                    <a:lnTo>
                      <a:pt x="359" y="241"/>
                    </a:lnTo>
                    <a:lnTo>
                      <a:pt x="361" y="236"/>
                    </a:lnTo>
                    <a:lnTo>
                      <a:pt x="365" y="230"/>
                    </a:lnTo>
                    <a:lnTo>
                      <a:pt x="365" y="224"/>
                    </a:lnTo>
                    <a:lnTo>
                      <a:pt x="369" y="218"/>
                    </a:lnTo>
                    <a:lnTo>
                      <a:pt x="371" y="213"/>
                    </a:lnTo>
                    <a:lnTo>
                      <a:pt x="373" y="207"/>
                    </a:lnTo>
                    <a:lnTo>
                      <a:pt x="377" y="196"/>
                    </a:lnTo>
                    <a:lnTo>
                      <a:pt x="382" y="188"/>
                    </a:lnTo>
                    <a:lnTo>
                      <a:pt x="390" y="190"/>
                    </a:lnTo>
                    <a:lnTo>
                      <a:pt x="397" y="194"/>
                    </a:lnTo>
                    <a:lnTo>
                      <a:pt x="401" y="199"/>
                    </a:lnTo>
                    <a:lnTo>
                      <a:pt x="405" y="207"/>
                    </a:lnTo>
                    <a:lnTo>
                      <a:pt x="407" y="213"/>
                    </a:lnTo>
                    <a:lnTo>
                      <a:pt x="407" y="220"/>
                    </a:lnTo>
                    <a:lnTo>
                      <a:pt x="407" y="230"/>
                    </a:lnTo>
                    <a:lnTo>
                      <a:pt x="405" y="239"/>
                    </a:lnTo>
                    <a:lnTo>
                      <a:pt x="401" y="249"/>
                    </a:lnTo>
                    <a:lnTo>
                      <a:pt x="399" y="260"/>
                    </a:lnTo>
                    <a:lnTo>
                      <a:pt x="394" y="272"/>
                    </a:lnTo>
                    <a:lnTo>
                      <a:pt x="390" y="283"/>
                    </a:lnTo>
                    <a:lnTo>
                      <a:pt x="384" y="293"/>
                    </a:lnTo>
                    <a:lnTo>
                      <a:pt x="380" y="304"/>
                    </a:lnTo>
                    <a:lnTo>
                      <a:pt x="377" y="310"/>
                    </a:lnTo>
                    <a:lnTo>
                      <a:pt x="375" y="317"/>
                    </a:lnTo>
                    <a:lnTo>
                      <a:pt x="373" y="321"/>
                    </a:lnTo>
                    <a:lnTo>
                      <a:pt x="371" y="329"/>
                    </a:lnTo>
                    <a:lnTo>
                      <a:pt x="363" y="338"/>
                    </a:lnTo>
                    <a:lnTo>
                      <a:pt x="358" y="348"/>
                    </a:lnTo>
                    <a:lnTo>
                      <a:pt x="354" y="355"/>
                    </a:lnTo>
                    <a:lnTo>
                      <a:pt x="350" y="365"/>
                    </a:lnTo>
                    <a:lnTo>
                      <a:pt x="346" y="372"/>
                    </a:lnTo>
                    <a:lnTo>
                      <a:pt x="344" y="380"/>
                    </a:lnTo>
                    <a:lnTo>
                      <a:pt x="342" y="386"/>
                    </a:lnTo>
                    <a:lnTo>
                      <a:pt x="342" y="391"/>
                    </a:lnTo>
                    <a:lnTo>
                      <a:pt x="344" y="397"/>
                    </a:lnTo>
                    <a:lnTo>
                      <a:pt x="354" y="399"/>
                    </a:lnTo>
                    <a:lnTo>
                      <a:pt x="358" y="395"/>
                    </a:lnTo>
                    <a:lnTo>
                      <a:pt x="367" y="393"/>
                    </a:lnTo>
                    <a:lnTo>
                      <a:pt x="373" y="390"/>
                    </a:lnTo>
                    <a:lnTo>
                      <a:pt x="377" y="386"/>
                    </a:lnTo>
                    <a:lnTo>
                      <a:pt x="384" y="384"/>
                    </a:lnTo>
                    <a:lnTo>
                      <a:pt x="392" y="380"/>
                    </a:lnTo>
                    <a:lnTo>
                      <a:pt x="397" y="369"/>
                    </a:lnTo>
                    <a:lnTo>
                      <a:pt x="401" y="359"/>
                    </a:lnTo>
                    <a:lnTo>
                      <a:pt x="407" y="350"/>
                    </a:lnTo>
                    <a:lnTo>
                      <a:pt x="413" y="340"/>
                    </a:lnTo>
                    <a:lnTo>
                      <a:pt x="418" y="329"/>
                    </a:lnTo>
                    <a:lnTo>
                      <a:pt x="426" y="319"/>
                    </a:lnTo>
                    <a:lnTo>
                      <a:pt x="432" y="310"/>
                    </a:lnTo>
                    <a:lnTo>
                      <a:pt x="437" y="300"/>
                    </a:lnTo>
                    <a:lnTo>
                      <a:pt x="445" y="289"/>
                    </a:lnTo>
                    <a:lnTo>
                      <a:pt x="451" y="279"/>
                    </a:lnTo>
                    <a:lnTo>
                      <a:pt x="458" y="270"/>
                    </a:lnTo>
                    <a:lnTo>
                      <a:pt x="466" y="260"/>
                    </a:lnTo>
                    <a:lnTo>
                      <a:pt x="474" y="251"/>
                    </a:lnTo>
                    <a:lnTo>
                      <a:pt x="481" y="241"/>
                    </a:lnTo>
                    <a:lnTo>
                      <a:pt x="489" y="232"/>
                    </a:lnTo>
                    <a:lnTo>
                      <a:pt x="498" y="226"/>
                    </a:lnTo>
                    <a:lnTo>
                      <a:pt x="498" y="232"/>
                    </a:lnTo>
                    <a:lnTo>
                      <a:pt x="498" y="241"/>
                    </a:lnTo>
                    <a:lnTo>
                      <a:pt x="496" y="249"/>
                    </a:lnTo>
                    <a:lnTo>
                      <a:pt x="494" y="258"/>
                    </a:lnTo>
                    <a:lnTo>
                      <a:pt x="493" y="266"/>
                    </a:lnTo>
                    <a:lnTo>
                      <a:pt x="491" y="274"/>
                    </a:lnTo>
                    <a:lnTo>
                      <a:pt x="487" y="283"/>
                    </a:lnTo>
                    <a:lnTo>
                      <a:pt x="483" y="291"/>
                    </a:lnTo>
                    <a:lnTo>
                      <a:pt x="477" y="298"/>
                    </a:lnTo>
                    <a:lnTo>
                      <a:pt x="474" y="308"/>
                    </a:lnTo>
                    <a:lnTo>
                      <a:pt x="470" y="313"/>
                    </a:lnTo>
                    <a:lnTo>
                      <a:pt x="466" y="323"/>
                    </a:lnTo>
                    <a:lnTo>
                      <a:pt x="460" y="331"/>
                    </a:lnTo>
                    <a:lnTo>
                      <a:pt x="454" y="340"/>
                    </a:lnTo>
                    <a:lnTo>
                      <a:pt x="449" y="348"/>
                    </a:lnTo>
                    <a:lnTo>
                      <a:pt x="445" y="357"/>
                    </a:lnTo>
                    <a:lnTo>
                      <a:pt x="439" y="365"/>
                    </a:lnTo>
                    <a:lnTo>
                      <a:pt x="435" y="372"/>
                    </a:lnTo>
                    <a:lnTo>
                      <a:pt x="430" y="380"/>
                    </a:lnTo>
                    <a:lnTo>
                      <a:pt x="426" y="390"/>
                    </a:lnTo>
                    <a:lnTo>
                      <a:pt x="420" y="397"/>
                    </a:lnTo>
                    <a:lnTo>
                      <a:pt x="416" y="405"/>
                    </a:lnTo>
                    <a:lnTo>
                      <a:pt x="413" y="412"/>
                    </a:lnTo>
                    <a:lnTo>
                      <a:pt x="411" y="422"/>
                    </a:lnTo>
                    <a:lnTo>
                      <a:pt x="407" y="429"/>
                    </a:lnTo>
                    <a:lnTo>
                      <a:pt x="403" y="439"/>
                    </a:lnTo>
                    <a:lnTo>
                      <a:pt x="401" y="447"/>
                    </a:lnTo>
                    <a:lnTo>
                      <a:pt x="401" y="456"/>
                    </a:lnTo>
                    <a:lnTo>
                      <a:pt x="401" y="466"/>
                    </a:lnTo>
                    <a:lnTo>
                      <a:pt x="403" y="473"/>
                    </a:lnTo>
                    <a:lnTo>
                      <a:pt x="403" y="483"/>
                    </a:lnTo>
                    <a:lnTo>
                      <a:pt x="407" y="492"/>
                    </a:lnTo>
                    <a:lnTo>
                      <a:pt x="409" y="485"/>
                    </a:lnTo>
                    <a:lnTo>
                      <a:pt x="413" y="479"/>
                    </a:lnTo>
                    <a:lnTo>
                      <a:pt x="416" y="471"/>
                    </a:lnTo>
                    <a:lnTo>
                      <a:pt x="420" y="464"/>
                    </a:lnTo>
                    <a:lnTo>
                      <a:pt x="426" y="456"/>
                    </a:lnTo>
                    <a:lnTo>
                      <a:pt x="430" y="447"/>
                    </a:lnTo>
                    <a:lnTo>
                      <a:pt x="435" y="439"/>
                    </a:lnTo>
                    <a:lnTo>
                      <a:pt x="441" y="429"/>
                    </a:lnTo>
                    <a:lnTo>
                      <a:pt x="447" y="420"/>
                    </a:lnTo>
                    <a:lnTo>
                      <a:pt x="453" y="412"/>
                    </a:lnTo>
                    <a:lnTo>
                      <a:pt x="458" y="403"/>
                    </a:lnTo>
                    <a:lnTo>
                      <a:pt x="464" y="395"/>
                    </a:lnTo>
                    <a:lnTo>
                      <a:pt x="470" y="388"/>
                    </a:lnTo>
                    <a:lnTo>
                      <a:pt x="475" y="380"/>
                    </a:lnTo>
                    <a:lnTo>
                      <a:pt x="481" y="374"/>
                    </a:lnTo>
                    <a:lnTo>
                      <a:pt x="487" y="369"/>
                    </a:lnTo>
                    <a:lnTo>
                      <a:pt x="493" y="363"/>
                    </a:lnTo>
                    <a:lnTo>
                      <a:pt x="496" y="357"/>
                    </a:lnTo>
                    <a:lnTo>
                      <a:pt x="500" y="353"/>
                    </a:lnTo>
                    <a:lnTo>
                      <a:pt x="504" y="350"/>
                    </a:lnTo>
                    <a:lnTo>
                      <a:pt x="512" y="346"/>
                    </a:lnTo>
                    <a:lnTo>
                      <a:pt x="515" y="350"/>
                    </a:lnTo>
                    <a:lnTo>
                      <a:pt x="515" y="351"/>
                    </a:lnTo>
                    <a:lnTo>
                      <a:pt x="515" y="355"/>
                    </a:lnTo>
                    <a:lnTo>
                      <a:pt x="513" y="363"/>
                    </a:lnTo>
                    <a:lnTo>
                      <a:pt x="513" y="369"/>
                    </a:lnTo>
                    <a:lnTo>
                      <a:pt x="510" y="378"/>
                    </a:lnTo>
                    <a:lnTo>
                      <a:pt x="506" y="390"/>
                    </a:lnTo>
                    <a:lnTo>
                      <a:pt x="504" y="395"/>
                    </a:lnTo>
                    <a:lnTo>
                      <a:pt x="502" y="403"/>
                    </a:lnTo>
                    <a:lnTo>
                      <a:pt x="498" y="410"/>
                    </a:lnTo>
                    <a:lnTo>
                      <a:pt x="496" y="420"/>
                    </a:lnTo>
                    <a:lnTo>
                      <a:pt x="489" y="429"/>
                    </a:lnTo>
                    <a:lnTo>
                      <a:pt x="481" y="441"/>
                    </a:lnTo>
                    <a:lnTo>
                      <a:pt x="474" y="450"/>
                    </a:lnTo>
                    <a:lnTo>
                      <a:pt x="466" y="462"/>
                    </a:lnTo>
                    <a:lnTo>
                      <a:pt x="464" y="467"/>
                    </a:lnTo>
                    <a:lnTo>
                      <a:pt x="460" y="473"/>
                    </a:lnTo>
                    <a:lnTo>
                      <a:pt x="456" y="479"/>
                    </a:lnTo>
                    <a:lnTo>
                      <a:pt x="456" y="486"/>
                    </a:lnTo>
                    <a:lnTo>
                      <a:pt x="454" y="492"/>
                    </a:lnTo>
                    <a:lnTo>
                      <a:pt x="454" y="500"/>
                    </a:lnTo>
                    <a:lnTo>
                      <a:pt x="454" y="505"/>
                    </a:lnTo>
                    <a:lnTo>
                      <a:pt x="456" y="513"/>
                    </a:lnTo>
                    <a:lnTo>
                      <a:pt x="458" y="513"/>
                    </a:lnTo>
                    <a:lnTo>
                      <a:pt x="462" y="513"/>
                    </a:lnTo>
                    <a:lnTo>
                      <a:pt x="472" y="504"/>
                    </a:lnTo>
                    <a:lnTo>
                      <a:pt x="483" y="492"/>
                    </a:lnTo>
                    <a:lnTo>
                      <a:pt x="493" y="483"/>
                    </a:lnTo>
                    <a:lnTo>
                      <a:pt x="502" y="471"/>
                    </a:lnTo>
                    <a:lnTo>
                      <a:pt x="510" y="460"/>
                    </a:lnTo>
                    <a:lnTo>
                      <a:pt x="519" y="448"/>
                    </a:lnTo>
                    <a:lnTo>
                      <a:pt x="527" y="439"/>
                    </a:lnTo>
                    <a:lnTo>
                      <a:pt x="536" y="428"/>
                    </a:lnTo>
                    <a:lnTo>
                      <a:pt x="544" y="416"/>
                    </a:lnTo>
                    <a:lnTo>
                      <a:pt x="551" y="405"/>
                    </a:lnTo>
                    <a:lnTo>
                      <a:pt x="561" y="393"/>
                    </a:lnTo>
                    <a:lnTo>
                      <a:pt x="570" y="384"/>
                    </a:lnTo>
                    <a:lnTo>
                      <a:pt x="578" y="372"/>
                    </a:lnTo>
                    <a:lnTo>
                      <a:pt x="588" y="361"/>
                    </a:lnTo>
                    <a:lnTo>
                      <a:pt x="599" y="350"/>
                    </a:lnTo>
                    <a:lnTo>
                      <a:pt x="610" y="340"/>
                    </a:lnTo>
                    <a:lnTo>
                      <a:pt x="610" y="348"/>
                    </a:lnTo>
                    <a:lnTo>
                      <a:pt x="610" y="355"/>
                    </a:lnTo>
                    <a:lnTo>
                      <a:pt x="610" y="365"/>
                    </a:lnTo>
                    <a:lnTo>
                      <a:pt x="608" y="372"/>
                    </a:lnTo>
                    <a:lnTo>
                      <a:pt x="605" y="380"/>
                    </a:lnTo>
                    <a:lnTo>
                      <a:pt x="603" y="388"/>
                    </a:lnTo>
                    <a:lnTo>
                      <a:pt x="601" y="395"/>
                    </a:lnTo>
                    <a:lnTo>
                      <a:pt x="597" y="405"/>
                    </a:lnTo>
                    <a:lnTo>
                      <a:pt x="593" y="410"/>
                    </a:lnTo>
                    <a:lnTo>
                      <a:pt x="589" y="418"/>
                    </a:lnTo>
                    <a:lnTo>
                      <a:pt x="584" y="426"/>
                    </a:lnTo>
                    <a:lnTo>
                      <a:pt x="580" y="433"/>
                    </a:lnTo>
                    <a:lnTo>
                      <a:pt x="576" y="439"/>
                    </a:lnTo>
                    <a:lnTo>
                      <a:pt x="572" y="447"/>
                    </a:lnTo>
                    <a:lnTo>
                      <a:pt x="569" y="454"/>
                    </a:lnTo>
                    <a:lnTo>
                      <a:pt x="567" y="462"/>
                    </a:lnTo>
                    <a:lnTo>
                      <a:pt x="563" y="467"/>
                    </a:lnTo>
                    <a:lnTo>
                      <a:pt x="559" y="475"/>
                    </a:lnTo>
                    <a:lnTo>
                      <a:pt x="557" y="481"/>
                    </a:lnTo>
                    <a:lnTo>
                      <a:pt x="557" y="488"/>
                    </a:lnTo>
                    <a:lnTo>
                      <a:pt x="555" y="494"/>
                    </a:lnTo>
                    <a:lnTo>
                      <a:pt x="555" y="502"/>
                    </a:lnTo>
                    <a:lnTo>
                      <a:pt x="557" y="507"/>
                    </a:lnTo>
                    <a:lnTo>
                      <a:pt x="559" y="515"/>
                    </a:lnTo>
                    <a:lnTo>
                      <a:pt x="561" y="521"/>
                    </a:lnTo>
                    <a:lnTo>
                      <a:pt x="567" y="528"/>
                    </a:lnTo>
                    <a:lnTo>
                      <a:pt x="570" y="534"/>
                    </a:lnTo>
                    <a:lnTo>
                      <a:pt x="578" y="542"/>
                    </a:lnTo>
                    <a:lnTo>
                      <a:pt x="586" y="549"/>
                    </a:lnTo>
                    <a:lnTo>
                      <a:pt x="595" y="557"/>
                    </a:lnTo>
                    <a:lnTo>
                      <a:pt x="601" y="559"/>
                    </a:lnTo>
                    <a:lnTo>
                      <a:pt x="607" y="564"/>
                    </a:lnTo>
                    <a:lnTo>
                      <a:pt x="614" y="566"/>
                    </a:lnTo>
                    <a:lnTo>
                      <a:pt x="622" y="570"/>
                    </a:lnTo>
                    <a:lnTo>
                      <a:pt x="626" y="570"/>
                    </a:lnTo>
                    <a:lnTo>
                      <a:pt x="633" y="572"/>
                    </a:lnTo>
                    <a:lnTo>
                      <a:pt x="639" y="574"/>
                    </a:lnTo>
                    <a:lnTo>
                      <a:pt x="645" y="574"/>
                    </a:lnTo>
                    <a:lnTo>
                      <a:pt x="650" y="574"/>
                    </a:lnTo>
                    <a:lnTo>
                      <a:pt x="658" y="574"/>
                    </a:lnTo>
                    <a:lnTo>
                      <a:pt x="662" y="574"/>
                    </a:lnTo>
                    <a:lnTo>
                      <a:pt x="669" y="576"/>
                    </a:lnTo>
                    <a:lnTo>
                      <a:pt x="679" y="574"/>
                    </a:lnTo>
                    <a:lnTo>
                      <a:pt x="690" y="574"/>
                    </a:lnTo>
                    <a:lnTo>
                      <a:pt x="700" y="574"/>
                    </a:lnTo>
                    <a:lnTo>
                      <a:pt x="711" y="572"/>
                    </a:lnTo>
                    <a:lnTo>
                      <a:pt x="721" y="568"/>
                    </a:lnTo>
                    <a:lnTo>
                      <a:pt x="730" y="566"/>
                    </a:lnTo>
                    <a:lnTo>
                      <a:pt x="738" y="563"/>
                    </a:lnTo>
                    <a:lnTo>
                      <a:pt x="747" y="559"/>
                    </a:lnTo>
                    <a:lnTo>
                      <a:pt x="755" y="555"/>
                    </a:lnTo>
                    <a:lnTo>
                      <a:pt x="764" y="551"/>
                    </a:lnTo>
                    <a:lnTo>
                      <a:pt x="772" y="545"/>
                    </a:lnTo>
                    <a:lnTo>
                      <a:pt x="781" y="542"/>
                    </a:lnTo>
                    <a:lnTo>
                      <a:pt x="789" y="534"/>
                    </a:lnTo>
                    <a:lnTo>
                      <a:pt x="797" y="528"/>
                    </a:lnTo>
                    <a:lnTo>
                      <a:pt x="804" y="523"/>
                    </a:lnTo>
                    <a:lnTo>
                      <a:pt x="810" y="515"/>
                    </a:lnTo>
                    <a:lnTo>
                      <a:pt x="818" y="509"/>
                    </a:lnTo>
                    <a:lnTo>
                      <a:pt x="825" y="502"/>
                    </a:lnTo>
                    <a:lnTo>
                      <a:pt x="831" y="494"/>
                    </a:lnTo>
                    <a:lnTo>
                      <a:pt x="839" y="486"/>
                    </a:lnTo>
                    <a:lnTo>
                      <a:pt x="844" y="477"/>
                    </a:lnTo>
                    <a:lnTo>
                      <a:pt x="852" y="469"/>
                    </a:lnTo>
                    <a:lnTo>
                      <a:pt x="859" y="460"/>
                    </a:lnTo>
                    <a:lnTo>
                      <a:pt x="865" y="452"/>
                    </a:lnTo>
                    <a:lnTo>
                      <a:pt x="873" y="443"/>
                    </a:lnTo>
                    <a:lnTo>
                      <a:pt x="878" y="433"/>
                    </a:lnTo>
                    <a:lnTo>
                      <a:pt x="886" y="424"/>
                    </a:lnTo>
                    <a:lnTo>
                      <a:pt x="894" y="416"/>
                    </a:lnTo>
                    <a:lnTo>
                      <a:pt x="888" y="412"/>
                    </a:lnTo>
                    <a:lnTo>
                      <a:pt x="880" y="410"/>
                    </a:lnTo>
                    <a:lnTo>
                      <a:pt x="873" y="410"/>
                    </a:lnTo>
                    <a:lnTo>
                      <a:pt x="867" y="410"/>
                    </a:lnTo>
                    <a:lnTo>
                      <a:pt x="859" y="410"/>
                    </a:lnTo>
                    <a:lnTo>
                      <a:pt x="852" y="410"/>
                    </a:lnTo>
                    <a:lnTo>
                      <a:pt x="846" y="410"/>
                    </a:lnTo>
                    <a:lnTo>
                      <a:pt x="839" y="409"/>
                    </a:lnTo>
                    <a:lnTo>
                      <a:pt x="839" y="405"/>
                    </a:lnTo>
                    <a:lnTo>
                      <a:pt x="839" y="403"/>
                    </a:lnTo>
                    <a:lnTo>
                      <a:pt x="846" y="401"/>
                    </a:lnTo>
                    <a:lnTo>
                      <a:pt x="854" y="397"/>
                    </a:lnTo>
                    <a:lnTo>
                      <a:pt x="861" y="395"/>
                    </a:lnTo>
                    <a:lnTo>
                      <a:pt x="869" y="393"/>
                    </a:lnTo>
                    <a:lnTo>
                      <a:pt x="877" y="390"/>
                    </a:lnTo>
                    <a:lnTo>
                      <a:pt x="884" y="388"/>
                    </a:lnTo>
                    <a:lnTo>
                      <a:pt x="892" y="386"/>
                    </a:lnTo>
                    <a:lnTo>
                      <a:pt x="901" y="384"/>
                    </a:lnTo>
                    <a:lnTo>
                      <a:pt x="909" y="378"/>
                    </a:lnTo>
                    <a:lnTo>
                      <a:pt x="916" y="376"/>
                    </a:lnTo>
                    <a:lnTo>
                      <a:pt x="922" y="372"/>
                    </a:lnTo>
                    <a:lnTo>
                      <a:pt x="930" y="369"/>
                    </a:lnTo>
                    <a:lnTo>
                      <a:pt x="935" y="363"/>
                    </a:lnTo>
                    <a:lnTo>
                      <a:pt x="943" y="357"/>
                    </a:lnTo>
                    <a:lnTo>
                      <a:pt x="947" y="350"/>
                    </a:lnTo>
                    <a:lnTo>
                      <a:pt x="954" y="344"/>
                    </a:lnTo>
                    <a:lnTo>
                      <a:pt x="943" y="340"/>
                    </a:lnTo>
                    <a:lnTo>
                      <a:pt x="934" y="340"/>
                    </a:lnTo>
                    <a:lnTo>
                      <a:pt x="926" y="338"/>
                    </a:lnTo>
                    <a:lnTo>
                      <a:pt x="920" y="338"/>
                    </a:lnTo>
                    <a:lnTo>
                      <a:pt x="915" y="338"/>
                    </a:lnTo>
                    <a:lnTo>
                      <a:pt x="909" y="340"/>
                    </a:lnTo>
                    <a:lnTo>
                      <a:pt x="903" y="340"/>
                    </a:lnTo>
                    <a:lnTo>
                      <a:pt x="897" y="340"/>
                    </a:lnTo>
                    <a:lnTo>
                      <a:pt x="890" y="340"/>
                    </a:lnTo>
                    <a:lnTo>
                      <a:pt x="884" y="340"/>
                    </a:lnTo>
                    <a:lnTo>
                      <a:pt x="878" y="338"/>
                    </a:lnTo>
                    <a:lnTo>
                      <a:pt x="873" y="338"/>
                    </a:lnTo>
                    <a:lnTo>
                      <a:pt x="867" y="338"/>
                    </a:lnTo>
                    <a:lnTo>
                      <a:pt x="863" y="338"/>
                    </a:lnTo>
                    <a:lnTo>
                      <a:pt x="863" y="334"/>
                    </a:lnTo>
                    <a:lnTo>
                      <a:pt x="863" y="332"/>
                    </a:lnTo>
                    <a:lnTo>
                      <a:pt x="869" y="331"/>
                    </a:lnTo>
                    <a:lnTo>
                      <a:pt x="875" y="331"/>
                    </a:lnTo>
                    <a:lnTo>
                      <a:pt x="880" y="329"/>
                    </a:lnTo>
                    <a:lnTo>
                      <a:pt x="888" y="329"/>
                    </a:lnTo>
                    <a:lnTo>
                      <a:pt x="892" y="329"/>
                    </a:lnTo>
                    <a:lnTo>
                      <a:pt x="899" y="329"/>
                    </a:lnTo>
                    <a:lnTo>
                      <a:pt x="905" y="327"/>
                    </a:lnTo>
                    <a:lnTo>
                      <a:pt x="911" y="327"/>
                    </a:lnTo>
                    <a:lnTo>
                      <a:pt x="916" y="325"/>
                    </a:lnTo>
                    <a:lnTo>
                      <a:pt x="922" y="323"/>
                    </a:lnTo>
                    <a:lnTo>
                      <a:pt x="928" y="323"/>
                    </a:lnTo>
                    <a:lnTo>
                      <a:pt x="935" y="321"/>
                    </a:lnTo>
                    <a:lnTo>
                      <a:pt x="939" y="319"/>
                    </a:lnTo>
                    <a:lnTo>
                      <a:pt x="947" y="317"/>
                    </a:lnTo>
                    <a:lnTo>
                      <a:pt x="953" y="315"/>
                    </a:lnTo>
                    <a:lnTo>
                      <a:pt x="958" y="313"/>
                    </a:lnTo>
                    <a:lnTo>
                      <a:pt x="958" y="312"/>
                    </a:lnTo>
                    <a:lnTo>
                      <a:pt x="958" y="310"/>
                    </a:lnTo>
                    <a:lnTo>
                      <a:pt x="947" y="308"/>
                    </a:lnTo>
                    <a:lnTo>
                      <a:pt x="937" y="308"/>
                    </a:lnTo>
                    <a:lnTo>
                      <a:pt x="928" y="306"/>
                    </a:lnTo>
                    <a:lnTo>
                      <a:pt x="918" y="306"/>
                    </a:lnTo>
                    <a:lnTo>
                      <a:pt x="909" y="304"/>
                    </a:lnTo>
                    <a:lnTo>
                      <a:pt x="899" y="302"/>
                    </a:lnTo>
                    <a:lnTo>
                      <a:pt x="890" y="300"/>
                    </a:lnTo>
                    <a:lnTo>
                      <a:pt x="880" y="300"/>
                    </a:lnTo>
                    <a:lnTo>
                      <a:pt x="871" y="296"/>
                    </a:lnTo>
                    <a:lnTo>
                      <a:pt x="861" y="294"/>
                    </a:lnTo>
                    <a:lnTo>
                      <a:pt x="852" y="293"/>
                    </a:lnTo>
                    <a:lnTo>
                      <a:pt x="842" y="293"/>
                    </a:lnTo>
                    <a:lnTo>
                      <a:pt x="831" y="291"/>
                    </a:lnTo>
                    <a:lnTo>
                      <a:pt x="821" y="291"/>
                    </a:lnTo>
                    <a:lnTo>
                      <a:pt x="812" y="291"/>
                    </a:lnTo>
                    <a:lnTo>
                      <a:pt x="802" y="291"/>
                    </a:lnTo>
                    <a:lnTo>
                      <a:pt x="802" y="287"/>
                    </a:lnTo>
                    <a:lnTo>
                      <a:pt x="802" y="285"/>
                    </a:lnTo>
                    <a:lnTo>
                      <a:pt x="808" y="283"/>
                    </a:lnTo>
                    <a:lnTo>
                      <a:pt x="816" y="283"/>
                    </a:lnTo>
                    <a:lnTo>
                      <a:pt x="823" y="281"/>
                    </a:lnTo>
                    <a:lnTo>
                      <a:pt x="829" y="281"/>
                    </a:lnTo>
                    <a:lnTo>
                      <a:pt x="837" y="281"/>
                    </a:lnTo>
                    <a:lnTo>
                      <a:pt x="846" y="281"/>
                    </a:lnTo>
                    <a:lnTo>
                      <a:pt x="854" y="281"/>
                    </a:lnTo>
                    <a:lnTo>
                      <a:pt x="861" y="283"/>
                    </a:lnTo>
                    <a:lnTo>
                      <a:pt x="869" y="283"/>
                    </a:lnTo>
                    <a:lnTo>
                      <a:pt x="877" y="283"/>
                    </a:lnTo>
                    <a:lnTo>
                      <a:pt x="884" y="283"/>
                    </a:lnTo>
                    <a:lnTo>
                      <a:pt x="892" y="283"/>
                    </a:lnTo>
                    <a:lnTo>
                      <a:pt x="899" y="281"/>
                    </a:lnTo>
                    <a:lnTo>
                      <a:pt x="907" y="281"/>
                    </a:lnTo>
                    <a:lnTo>
                      <a:pt x="915" y="281"/>
                    </a:lnTo>
                    <a:lnTo>
                      <a:pt x="922" y="281"/>
                    </a:lnTo>
                    <a:lnTo>
                      <a:pt x="922" y="277"/>
                    </a:lnTo>
                    <a:lnTo>
                      <a:pt x="922" y="275"/>
                    </a:lnTo>
                    <a:lnTo>
                      <a:pt x="915" y="268"/>
                    </a:lnTo>
                    <a:lnTo>
                      <a:pt x="907" y="264"/>
                    </a:lnTo>
                    <a:lnTo>
                      <a:pt x="897" y="260"/>
                    </a:lnTo>
                    <a:lnTo>
                      <a:pt x="890" y="256"/>
                    </a:lnTo>
                    <a:lnTo>
                      <a:pt x="882" y="253"/>
                    </a:lnTo>
                    <a:lnTo>
                      <a:pt x="873" y="249"/>
                    </a:lnTo>
                    <a:lnTo>
                      <a:pt x="865" y="247"/>
                    </a:lnTo>
                    <a:lnTo>
                      <a:pt x="858" y="245"/>
                    </a:lnTo>
                    <a:lnTo>
                      <a:pt x="848" y="241"/>
                    </a:lnTo>
                    <a:lnTo>
                      <a:pt x="840" y="237"/>
                    </a:lnTo>
                    <a:lnTo>
                      <a:pt x="831" y="236"/>
                    </a:lnTo>
                    <a:lnTo>
                      <a:pt x="823" y="234"/>
                    </a:lnTo>
                    <a:lnTo>
                      <a:pt x="814" y="230"/>
                    </a:lnTo>
                    <a:lnTo>
                      <a:pt x="806" y="230"/>
                    </a:lnTo>
                    <a:lnTo>
                      <a:pt x="797" y="226"/>
                    </a:lnTo>
                    <a:lnTo>
                      <a:pt x="789" y="226"/>
                    </a:lnTo>
                    <a:lnTo>
                      <a:pt x="793" y="217"/>
                    </a:lnTo>
                    <a:lnTo>
                      <a:pt x="799" y="211"/>
                    </a:lnTo>
                    <a:lnTo>
                      <a:pt x="806" y="203"/>
                    </a:lnTo>
                    <a:lnTo>
                      <a:pt x="818" y="201"/>
                    </a:lnTo>
                    <a:lnTo>
                      <a:pt x="821" y="199"/>
                    </a:lnTo>
                    <a:lnTo>
                      <a:pt x="827" y="197"/>
                    </a:lnTo>
                    <a:lnTo>
                      <a:pt x="833" y="196"/>
                    </a:lnTo>
                    <a:lnTo>
                      <a:pt x="839" y="194"/>
                    </a:lnTo>
                    <a:lnTo>
                      <a:pt x="846" y="194"/>
                    </a:lnTo>
                    <a:lnTo>
                      <a:pt x="852" y="192"/>
                    </a:lnTo>
                    <a:lnTo>
                      <a:pt x="859" y="192"/>
                    </a:lnTo>
                    <a:lnTo>
                      <a:pt x="867" y="192"/>
                    </a:lnTo>
                    <a:lnTo>
                      <a:pt x="873" y="192"/>
                    </a:lnTo>
                    <a:lnTo>
                      <a:pt x="880" y="190"/>
                    </a:lnTo>
                    <a:lnTo>
                      <a:pt x="888" y="190"/>
                    </a:lnTo>
                    <a:lnTo>
                      <a:pt x="894" y="190"/>
                    </a:lnTo>
                    <a:lnTo>
                      <a:pt x="901" y="188"/>
                    </a:lnTo>
                    <a:lnTo>
                      <a:pt x="909" y="188"/>
                    </a:lnTo>
                    <a:lnTo>
                      <a:pt x="916" y="186"/>
                    </a:lnTo>
                    <a:lnTo>
                      <a:pt x="924" y="186"/>
                    </a:lnTo>
                    <a:lnTo>
                      <a:pt x="930" y="186"/>
                    </a:lnTo>
                    <a:lnTo>
                      <a:pt x="937" y="184"/>
                    </a:lnTo>
                    <a:lnTo>
                      <a:pt x="943" y="184"/>
                    </a:lnTo>
                    <a:lnTo>
                      <a:pt x="951" y="182"/>
                    </a:lnTo>
                    <a:lnTo>
                      <a:pt x="956" y="180"/>
                    </a:lnTo>
                    <a:lnTo>
                      <a:pt x="962" y="180"/>
                    </a:lnTo>
                    <a:lnTo>
                      <a:pt x="968" y="178"/>
                    </a:lnTo>
                    <a:lnTo>
                      <a:pt x="975" y="177"/>
                    </a:lnTo>
                    <a:lnTo>
                      <a:pt x="968" y="171"/>
                    </a:lnTo>
                    <a:lnTo>
                      <a:pt x="962" y="163"/>
                    </a:lnTo>
                    <a:lnTo>
                      <a:pt x="954" y="158"/>
                    </a:lnTo>
                    <a:lnTo>
                      <a:pt x="947" y="156"/>
                    </a:lnTo>
                    <a:lnTo>
                      <a:pt x="937" y="152"/>
                    </a:lnTo>
                    <a:lnTo>
                      <a:pt x="930" y="148"/>
                    </a:lnTo>
                    <a:lnTo>
                      <a:pt x="920" y="146"/>
                    </a:lnTo>
                    <a:lnTo>
                      <a:pt x="911" y="144"/>
                    </a:lnTo>
                    <a:lnTo>
                      <a:pt x="901" y="142"/>
                    </a:lnTo>
                    <a:lnTo>
                      <a:pt x="892" y="140"/>
                    </a:lnTo>
                    <a:lnTo>
                      <a:pt x="882" y="139"/>
                    </a:lnTo>
                    <a:lnTo>
                      <a:pt x="873" y="139"/>
                    </a:lnTo>
                    <a:lnTo>
                      <a:pt x="863" y="137"/>
                    </a:lnTo>
                    <a:lnTo>
                      <a:pt x="854" y="135"/>
                    </a:lnTo>
                    <a:lnTo>
                      <a:pt x="846" y="131"/>
                    </a:lnTo>
                    <a:lnTo>
                      <a:pt x="839" y="131"/>
                    </a:lnTo>
                    <a:lnTo>
                      <a:pt x="846" y="127"/>
                    </a:lnTo>
                    <a:lnTo>
                      <a:pt x="856" y="123"/>
                    </a:lnTo>
                    <a:lnTo>
                      <a:pt x="865" y="121"/>
                    </a:lnTo>
                    <a:lnTo>
                      <a:pt x="875" y="121"/>
                    </a:lnTo>
                    <a:lnTo>
                      <a:pt x="884" y="121"/>
                    </a:lnTo>
                    <a:lnTo>
                      <a:pt x="896" y="125"/>
                    </a:lnTo>
                    <a:lnTo>
                      <a:pt x="901" y="125"/>
                    </a:lnTo>
                    <a:lnTo>
                      <a:pt x="907" y="127"/>
                    </a:lnTo>
                    <a:lnTo>
                      <a:pt x="913" y="129"/>
                    </a:lnTo>
                    <a:lnTo>
                      <a:pt x="918" y="131"/>
                    </a:lnTo>
                    <a:lnTo>
                      <a:pt x="930" y="135"/>
                    </a:lnTo>
                    <a:lnTo>
                      <a:pt x="941" y="137"/>
                    </a:lnTo>
                    <a:lnTo>
                      <a:pt x="947" y="139"/>
                    </a:lnTo>
                    <a:lnTo>
                      <a:pt x="953" y="140"/>
                    </a:lnTo>
                    <a:lnTo>
                      <a:pt x="958" y="142"/>
                    </a:lnTo>
                    <a:lnTo>
                      <a:pt x="966" y="144"/>
                    </a:lnTo>
                    <a:lnTo>
                      <a:pt x="972" y="144"/>
                    </a:lnTo>
                    <a:lnTo>
                      <a:pt x="977" y="146"/>
                    </a:lnTo>
                    <a:lnTo>
                      <a:pt x="983" y="148"/>
                    </a:lnTo>
                    <a:lnTo>
                      <a:pt x="989" y="150"/>
                    </a:lnTo>
                    <a:lnTo>
                      <a:pt x="994" y="150"/>
                    </a:lnTo>
                    <a:lnTo>
                      <a:pt x="1000" y="152"/>
                    </a:lnTo>
                    <a:lnTo>
                      <a:pt x="1006" y="152"/>
                    </a:lnTo>
                    <a:lnTo>
                      <a:pt x="1012" y="154"/>
                    </a:lnTo>
                    <a:lnTo>
                      <a:pt x="1006" y="148"/>
                    </a:lnTo>
                    <a:lnTo>
                      <a:pt x="1000" y="142"/>
                    </a:lnTo>
                    <a:lnTo>
                      <a:pt x="993" y="137"/>
                    </a:lnTo>
                    <a:lnTo>
                      <a:pt x="985" y="133"/>
                    </a:lnTo>
                    <a:lnTo>
                      <a:pt x="977" y="129"/>
                    </a:lnTo>
                    <a:lnTo>
                      <a:pt x="970" y="125"/>
                    </a:lnTo>
                    <a:lnTo>
                      <a:pt x="962" y="121"/>
                    </a:lnTo>
                    <a:lnTo>
                      <a:pt x="954" y="118"/>
                    </a:lnTo>
                    <a:lnTo>
                      <a:pt x="945" y="116"/>
                    </a:lnTo>
                    <a:lnTo>
                      <a:pt x="935" y="112"/>
                    </a:lnTo>
                    <a:lnTo>
                      <a:pt x="928" y="108"/>
                    </a:lnTo>
                    <a:lnTo>
                      <a:pt x="920" y="106"/>
                    </a:lnTo>
                    <a:lnTo>
                      <a:pt x="911" y="102"/>
                    </a:lnTo>
                    <a:lnTo>
                      <a:pt x="903" y="101"/>
                    </a:lnTo>
                    <a:lnTo>
                      <a:pt x="896" y="99"/>
                    </a:lnTo>
                    <a:lnTo>
                      <a:pt x="890" y="97"/>
                    </a:lnTo>
                    <a:lnTo>
                      <a:pt x="896" y="93"/>
                    </a:lnTo>
                    <a:lnTo>
                      <a:pt x="903" y="91"/>
                    </a:lnTo>
                    <a:lnTo>
                      <a:pt x="913" y="91"/>
                    </a:lnTo>
                    <a:lnTo>
                      <a:pt x="922" y="93"/>
                    </a:lnTo>
                    <a:lnTo>
                      <a:pt x="932" y="93"/>
                    </a:lnTo>
                    <a:lnTo>
                      <a:pt x="941" y="97"/>
                    </a:lnTo>
                    <a:lnTo>
                      <a:pt x="951" y="99"/>
                    </a:lnTo>
                    <a:lnTo>
                      <a:pt x="962" y="102"/>
                    </a:lnTo>
                    <a:lnTo>
                      <a:pt x="972" y="104"/>
                    </a:lnTo>
                    <a:lnTo>
                      <a:pt x="981" y="108"/>
                    </a:lnTo>
                    <a:lnTo>
                      <a:pt x="993" y="110"/>
                    </a:lnTo>
                    <a:lnTo>
                      <a:pt x="1004" y="114"/>
                    </a:lnTo>
                    <a:lnTo>
                      <a:pt x="1013" y="116"/>
                    </a:lnTo>
                    <a:lnTo>
                      <a:pt x="1025" y="118"/>
                    </a:lnTo>
                    <a:lnTo>
                      <a:pt x="1036" y="120"/>
                    </a:lnTo>
                    <a:lnTo>
                      <a:pt x="1048" y="120"/>
                    </a:lnTo>
                    <a:lnTo>
                      <a:pt x="1040" y="116"/>
                    </a:lnTo>
                    <a:lnTo>
                      <a:pt x="1032" y="110"/>
                    </a:lnTo>
                    <a:lnTo>
                      <a:pt x="1025" y="106"/>
                    </a:lnTo>
                    <a:lnTo>
                      <a:pt x="1019" y="101"/>
                    </a:lnTo>
                    <a:lnTo>
                      <a:pt x="1012" y="97"/>
                    </a:lnTo>
                    <a:lnTo>
                      <a:pt x="1004" y="93"/>
                    </a:lnTo>
                    <a:lnTo>
                      <a:pt x="996" y="87"/>
                    </a:lnTo>
                    <a:lnTo>
                      <a:pt x="989" y="83"/>
                    </a:lnTo>
                    <a:lnTo>
                      <a:pt x="981" y="80"/>
                    </a:lnTo>
                    <a:lnTo>
                      <a:pt x="974" y="76"/>
                    </a:lnTo>
                    <a:lnTo>
                      <a:pt x="964" y="72"/>
                    </a:lnTo>
                    <a:lnTo>
                      <a:pt x="956" y="68"/>
                    </a:lnTo>
                    <a:lnTo>
                      <a:pt x="949" y="64"/>
                    </a:lnTo>
                    <a:lnTo>
                      <a:pt x="941" y="61"/>
                    </a:lnTo>
                    <a:lnTo>
                      <a:pt x="934" y="57"/>
                    </a:lnTo>
                    <a:lnTo>
                      <a:pt x="926" y="55"/>
                    </a:lnTo>
                    <a:lnTo>
                      <a:pt x="916" y="49"/>
                    </a:lnTo>
                    <a:lnTo>
                      <a:pt x="909" y="47"/>
                    </a:lnTo>
                    <a:lnTo>
                      <a:pt x="899" y="44"/>
                    </a:lnTo>
                    <a:lnTo>
                      <a:pt x="892" y="42"/>
                    </a:lnTo>
                    <a:lnTo>
                      <a:pt x="882" y="38"/>
                    </a:lnTo>
                    <a:lnTo>
                      <a:pt x="875" y="36"/>
                    </a:lnTo>
                    <a:lnTo>
                      <a:pt x="865" y="34"/>
                    </a:lnTo>
                    <a:lnTo>
                      <a:pt x="859" y="32"/>
                    </a:lnTo>
                    <a:lnTo>
                      <a:pt x="848" y="28"/>
                    </a:lnTo>
                    <a:lnTo>
                      <a:pt x="840" y="26"/>
                    </a:lnTo>
                    <a:lnTo>
                      <a:pt x="833" y="24"/>
                    </a:lnTo>
                    <a:lnTo>
                      <a:pt x="823" y="24"/>
                    </a:lnTo>
                    <a:lnTo>
                      <a:pt x="816" y="23"/>
                    </a:lnTo>
                    <a:lnTo>
                      <a:pt x="806" y="23"/>
                    </a:lnTo>
                    <a:lnTo>
                      <a:pt x="799" y="23"/>
                    </a:lnTo>
                    <a:lnTo>
                      <a:pt x="789" y="23"/>
                    </a:lnTo>
                    <a:lnTo>
                      <a:pt x="789" y="19"/>
                    </a:lnTo>
                    <a:lnTo>
                      <a:pt x="789" y="17"/>
                    </a:lnTo>
                    <a:lnTo>
                      <a:pt x="795" y="15"/>
                    </a:lnTo>
                    <a:lnTo>
                      <a:pt x="800" y="15"/>
                    </a:lnTo>
                    <a:lnTo>
                      <a:pt x="806" y="13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825" y="11"/>
                    </a:lnTo>
                    <a:lnTo>
                      <a:pt x="833" y="11"/>
                    </a:lnTo>
                    <a:lnTo>
                      <a:pt x="839" y="11"/>
                    </a:lnTo>
                    <a:lnTo>
                      <a:pt x="844" y="11"/>
                    </a:lnTo>
                    <a:lnTo>
                      <a:pt x="852" y="11"/>
                    </a:lnTo>
                    <a:lnTo>
                      <a:pt x="858" y="11"/>
                    </a:lnTo>
                    <a:lnTo>
                      <a:pt x="865" y="11"/>
                    </a:lnTo>
                    <a:lnTo>
                      <a:pt x="871" y="11"/>
                    </a:lnTo>
                    <a:lnTo>
                      <a:pt x="878" y="13"/>
                    </a:lnTo>
                    <a:lnTo>
                      <a:pt x="884" y="13"/>
                    </a:lnTo>
                    <a:lnTo>
                      <a:pt x="892" y="15"/>
                    </a:lnTo>
                    <a:lnTo>
                      <a:pt x="897" y="13"/>
                    </a:lnTo>
                    <a:lnTo>
                      <a:pt x="903" y="13"/>
                    </a:lnTo>
                    <a:lnTo>
                      <a:pt x="911" y="13"/>
                    </a:lnTo>
                    <a:lnTo>
                      <a:pt x="916" y="13"/>
                    </a:lnTo>
                    <a:lnTo>
                      <a:pt x="922" y="11"/>
                    </a:lnTo>
                    <a:lnTo>
                      <a:pt x="930" y="11"/>
                    </a:lnTo>
                    <a:lnTo>
                      <a:pt x="935" y="11"/>
                    </a:lnTo>
                    <a:lnTo>
                      <a:pt x="943" y="11"/>
                    </a:lnTo>
                    <a:lnTo>
                      <a:pt x="949" y="11"/>
                    </a:lnTo>
                    <a:lnTo>
                      <a:pt x="954" y="9"/>
                    </a:lnTo>
                    <a:lnTo>
                      <a:pt x="962" y="9"/>
                    </a:lnTo>
                    <a:lnTo>
                      <a:pt x="968" y="7"/>
                    </a:lnTo>
                    <a:lnTo>
                      <a:pt x="974" y="5"/>
                    </a:lnTo>
                    <a:lnTo>
                      <a:pt x="981" y="5"/>
                    </a:lnTo>
                    <a:lnTo>
                      <a:pt x="987" y="2"/>
                    </a:lnTo>
                    <a:lnTo>
                      <a:pt x="993" y="2"/>
                    </a:lnTo>
                    <a:lnTo>
                      <a:pt x="99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31600" y="373536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6" y="25"/>
                    </a:moveTo>
                    <a:lnTo>
                      <a:pt x="13" y="25"/>
                    </a:lnTo>
                    <a:lnTo>
                      <a:pt x="19" y="25"/>
                    </a:lnTo>
                    <a:lnTo>
                      <a:pt x="25" y="21"/>
                    </a:lnTo>
                    <a:lnTo>
                      <a:pt x="30" y="19"/>
                    </a:lnTo>
                    <a:lnTo>
                      <a:pt x="36" y="15"/>
                    </a:lnTo>
                    <a:lnTo>
                      <a:pt x="44" y="13"/>
                    </a:lnTo>
                    <a:lnTo>
                      <a:pt x="49" y="10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9" y="6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19" y="6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964200" y="320652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0" y="7"/>
                    </a:moveTo>
                    <a:lnTo>
                      <a:pt x="7" y="11"/>
                    </a:lnTo>
                    <a:lnTo>
                      <a:pt x="13" y="17"/>
                    </a:lnTo>
                    <a:lnTo>
                      <a:pt x="19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6" y="21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8600040" y="312228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19" y="0"/>
                    </a:moveTo>
                    <a:lnTo>
                      <a:pt x="28" y="0"/>
                    </a:lnTo>
                    <a:lnTo>
                      <a:pt x="38" y="4"/>
                    </a:lnTo>
                    <a:lnTo>
                      <a:pt x="47" y="8"/>
                    </a:lnTo>
                    <a:lnTo>
                      <a:pt x="55" y="17"/>
                    </a:lnTo>
                    <a:lnTo>
                      <a:pt x="47" y="19"/>
                    </a:lnTo>
                    <a:lnTo>
                      <a:pt x="42" y="23"/>
                    </a:lnTo>
                    <a:lnTo>
                      <a:pt x="34" y="23"/>
                    </a:lnTo>
                    <a:lnTo>
                      <a:pt x="28" y="25"/>
                    </a:lnTo>
                    <a:lnTo>
                      <a:pt x="21" y="23"/>
                    </a:lnTo>
                    <a:lnTo>
                      <a:pt x="13" y="23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6699960" y="3133440"/>
                <a:ext cx="99720" cy="10008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0"/>
                    </a:moveTo>
                    <a:lnTo>
                      <a:pt x="10" y="0"/>
                    </a:lnTo>
                    <a:lnTo>
                      <a:pt x="21" y="2"/>
                    </a:lnTo>
                    <a:lnTo>
                      <a:pt x="31" y="8"/>
                    </a:lnTo>
                    <a:lnTo>
                      <a:pt x="44" y="14"/>
                    </a:lnTo>
                    <a:lnTo>
                      <a:pt x="53" y="19"/>
                    </a:lnTo>
                    <a:lnTo>
                      <a:pt x="63" y="27"/>
                    </a:lnTo>
                    <a:lnTo>
                      <a:pt x="74" y="33"/>
                    </a:lnTo>
                    <a:lnTo>
                      <a:pt x="84" y="44"/>
                    </a:lnTo>
                    <a:lnTo>
                      <a:pt x="91" y="52"/>
                    </a:lnTo>
                    <a:lnTo>
                      <a:pt x="101" y="61"/>
                    </a:lnTo>
                    <a:lnTo>
                      <a:pt x="107" y="71"/>
                    </a:lnTo>
                    <a:lnTo>
                      <a:pt x="114" y="82"/>
                    </a:lnTo>
                    <a:lnTo>
                      <a:pt x="118" y="92"/>
                    </a:lnTo>
                    <a:lnTo>
                      <a:pt x="122" y="103"/>
                    </a:lnTo>
                    <a:lnTo>
                      <a:pt x="124" y="113"/>
                    </a:lnTo>
                    <a:lnTo>
                      <a:pt x="127" y="126"/>
                    </a:lnTo>
                    <a:lnTo>
                      <a:pt x="118" y="116"/>
                    </a:lnTo>
                    <a:lnTo>
                      <a:pt x="110" y="109"/>
                    </a:lnTo>
                    <a:lnTo>
                      <a:pt x="103" y="99"/>
                    </a:lnTo>
                    <a:lnTo>
                      <a:pt x="93" y="92"/>
                    </a:lnTo>
                    <a:lnTo>
                      <a:pt x="84" y="84"/>
                    </a:lnTo>
                    <a:lnTo>
                      <a:pt x="76" y="75"/>
                    </a:lnTo>
                    <a:lnTo>
                      <a:pt x="67" y="67"/>
                    </a:lnTo>
                    <a:lnTo>
                      <a:pt x="57" y="59"/>
                    </a:lnTo>
                    <a:lnTo>
                      <a:pt x="48" y="50"/>
                    </a:lnTo>
                    <a:lnTo>
                      <a:pt x="38" y="40"/>
                    </a:lnTo>
                    <a:lnTo>
                      <a:pt x="31" y="33"/>
                    </a:lnTo>
                    <a:lnTo>
                      <a:pt x="23" y="27"/>
                    </a:lnTo>
                    <a:lnTo>
                      <a:pt x="15" y="18"/>
                    </a:lnTo>
                    <a:lnTo>
                      <a:pt x="10" y="12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923880" y="3159000"/>
                <a:ext cx="94680" cy="5544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4" y="0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2" y="2"/>
                    </a:lnTo>
                    <a:lnTo>
                      <a:pt x="61" y="4"/>
                    </a:lnTo>
                    <a:lnTo>
                      <a:pt x="71" y="7"/>
                    </a:lnTo>
                    <a:lnTo>
                      <a:pt x="80" y="11"/>
                    </a:lnTo>
                    <a:lnTo>
                      <a:pt x="88" y="15"/>
                    </a:lnTo>
                    <a:lnTo>
                      <a:pt x="95" y="21"/>
                    </a:lnTo>
                    <a:lnTo>
                      <a:pt x="103" y="24"/>
                    </a:lnTo>
                    <a:lnTo>
                      <a:pt x="109" y="32"/>
                    </a:lnTo>
                    <a:lnTo>
                      <a:pt x="113" y="40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20" y="68"/>
                    </a:lnTo>
                    <a:lnTo>
                      <a:pt x="113" y="62"/>
                    </a:lnTo>
                    <a:lnTo>
                      <a:pt x="103" y="59"/>
                    </a:lnTo>
                    <a:lnTo>
                      <a:pt x="94" y="57"/>
                    </a:lnTo>
                    <a:lnTo>
                      <a:pt x="86" y="53"/>
                    </a:lnTo>
                    <a:lnTo>
                      <a:pt x="75" y="49"/>
                    </a:lnTo>
                    <a:lnTo>
                      <a:pt x="65" y="45"/>
                    </a:lnTo>
                    <a:lnTo>
                      <a:pt x="54" y="42"/>
                    </a:lnTo>
                    <a:lnTo>
                      <a:pt x="44" y="38"/>
                    </a:lnTo>
                    <a:lnTo>
                      <a:pt x="33" y="34"/>
                    </a:lnTo>
                    <a:lnTo>
                      <a:pt x="25" y="30"/>
                    </a:lnTo>
                    <a:lnTo>
                      <a:pt x="16" y="24"/>
                    </a:lnTo>
                    <a:lnTo>
                      <a:pt x="10" y="23"/>
                    </a:lnTo>
                    <a:lnTo>
                      <a:pt x="6" y="17"/>
                    </a:lnTo>
                    <a:lnTo>
                      <a:pt x="2" y="11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8608680" y="31795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25" y="10"/>
                    </a:lnTo>
                    <a:lnTo>
                      <a:pt x="19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8335800" y="3216240"/>
                <a:ext cx="74160" cy="6660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92" y="0"/>
                    </a:moveTo>
                    <a:lnTo>
                      <a:pt x="92" y="8"/>
                    </a:lnTo>
                    <a:lnTo>
                      <a:pt x="94" y="15"/>
                    </a:lnTo>
                    <a:lnTo>
                      <a:pt x="90" y="23"/>
                    </a:lnTo>
                    <a:lnTo>
                      <a:pt x="88" y="30"/>
                    </a:lnTo>
                    <a:lnTo>
                      <a:pt x="82" y="36"/>
                    </a:lnTo>
                    <a:lnTo>
                      <a:pt x="77" y="42"/>
                    </a:lnTo>
                    <a:lnTo>
                      <a:pt x="69" y="47"/>
                    </a:lnTo>
                    <a:lnTo>
                      <a:pt x="61" y="53"/>
                    </a:lnTo>
                    <a:lnTo>
                      <a:pt x="54" y="59"/>
                    </a:lnTo>
                    <a:lnTo>
                      <a:pt x="44" y="63"/>
                    </a:lnTo>
                    <a:lnTo>
                      <a:pt x="35" y="66"/>
                    </a:lnTo>
                    <a:lnTo>
                      <a:pt x="27" y="72"/>
                    </a:lnTo>
                    <a:lnTo>
                      <a:pt x="19" y="74"/>
                    </a:lnTo>
                    <a:lnTo>
                      <a:pt x="12" y="78"/>
                    </a:lnTo>
                    <a:lnTo>
                      <a:pt x="6" y="80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6" y="70"/>
                    </a:lnTo>
                    <a:lnTo>
                      <a:pt x="10" y="63"/>
                    </a:lnTo>
                    <a:lnTo>
                      <a:pt x="16" y="57"/>
                    </a:lnTo>
                    <a:lnTo>
                      <a:pt x="19" y="51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9" y="36"/>
                    </a:lnTo>
                    <a:lnTo>
                      <a:pt x="44" y="32"/>
                    </a:lnTo>
                    <a:lnTo>
                      <a:pt x="52" y="27"/>
                    </a:lnTo>
                    <a:lnTo>
                      <a:pt x="58" y="23"/>
                    </a:lnTo>
                    <a:lnTo>
                      <a:pt x="65" y="17"/>
                    </a:lnTo>
                    <a:lnTo>
                      <a:pt x="73" y="13"/>
                    </a:lnTo>
                    <a:lnTo>
                      <a:pt x="78" y="8"/>
                    </a:lnTo>
                    <a:lnTo>
                      <a:pt x="84" y="4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8288280" y="3235320"/>
                <a:ext cx="121680" cy="120600"/>
              </a:xfrm>
              <a:custGeom>
                <a:avLst/>
                <a:gdLst/>
                <a:ahLst/>
                <a:rect l="l" t="t" r="r" b="b"/>
                <a:pathLst>
                  <a:path w="154" h="152">
                    <a:moveTo>
                      <a:pt x="141" y="0"/>
                    </a:moveTo>
                    <a:lnTo>
                      <a:pt x="149" y="7"/>
                    </a:lnTo>
                    <a:lnTo>
                      <a:pt x="154" y="17"/>
                    </a:lnTo>
                    <a:lnTo>
                      <a:pt x="154" y="28"/>
                    </a:lnTo>
                    <a:lnTo>
                      <a:pt x="151" y="38"/>
                    </a:lnTo>
                    <a:lnTo>
                      <a:pt x="143" y="49"/>
                    </a:lnTo>
                    <a:lnTo>
                      <a:pt x="134" y="61"/>
                    </a:lnTo>
                    <a:lnTo>
                      <a:pt x="128" y="66"/>
                    </a:lnTo>
                    <a:lnTo>
                      <a:pt x="122" y="72"/>
                    </a:lnTo>
                    <a:lnTo>
                      <a:pt x="116" y="78"/>
                    </a:lnTo>
                    <a:lnTo>
                      <a:pt x="109" y="83"/>
                    </a:lnTo>
                    <a:lnTo>
                      <a:pt x="101" y="87"/>
                    </a:lnTo>
                    <a:lnTo>
                      <a:pt x="94" y="93"/>
                    </a:lnTo>
                    <a:lnTo>
                      <a:pt x="86" y="99"/>
                    </a:lnTo>
                    <a:lnTo>
                      <a:pt x="78" y="104"/>
                    </a:lnTo>
                    <a:lnTo>
                      <a:pt x="71" y="108"/>
                    </a:lnTo>
                    <a:lnTo>
                      <a:pt x="63" y="114"/>
                    </a:lnTo>
                    <a:lnTo>
                      <a:pt x="56" y="120"/>
                    </a:lnTo>
                    <a:lnTo>
                      <a:pt x="48" y="123"/>
                    </a:lnTo>
                    <a:lnTo>
                      <a:pt x="40" y="127"/>
                    </a:lnTo>
                    <a:lnTo>
                      <a:pt x="33" y="131"/>
                    </a:lnTo>
                    <a:lnTo>
                      <a:pt x="27" y="135"/>
                    </a:lnTo>
                    <a:lnTo>
                      <a:pt x="19" y="139"/>
                    </a:lnTo>
                    <a:lnTo>
                      <a:pt x="14" y="142"/>
                    </a:lnTo>
                    <a:lnTo>
                      <a:pt x="8" y="146"/>
                    </a:lnTo>
                    <a:lnTo>
                      <a:pt x="2" y="148"/>
                    </a:lnTo>
                    <a:lnTo>
                      <a:pt x="0" y="152"/>
                    </a:lnTo>
                    <a:lnTo>
                      <a:pt x="2" y="146"/>
                    </a:lnTo>
                    <a:lnTo>
                      <a:pt x="4" y="139"/>
                    </a:lnTo>
                    <a:lnTo>
                      <a:pt x="8" y="133"/>
                    </a:lnTo>
                    <a:lnTo>
                      <a:pt x="10" y="127"/>
                    </a:lnTo>
                    <a:lnTo>
                      <a:pt x="18" y="116"/>
                    </a:lnTo>
                    <a:lnTo>
                      <a:pt x="23" y="106"/>
                    </a:lnTo>
                    <a:lnTo>
                      <a:pt x="29" y="95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8"/>
                    </a:lnTo>
                    <a:lnTo>
                      <a:pt x="63" y="59"/>
                    </a:lnTo>
                    <a:lnTo>
                      <a:pt x="73" y="49"/>
                    </a:lnTo>
                    <a:lnTo>
                      <a:pt x="82" y="42"/>
                    </a:lnTo>
                    <a:lnTo>
                      <a:pt x="94" y="34"/>
                    </a:lnTo>
                    <a:lnTo>
                      <a:pt x="103" y="24"/>
                    </a:lnTo>
                    <a:lnTo>
                      <a:pt x="116" y="17"/>
                    </a:lnTo>
                    <a:lnTo>
                      <a:pt x="122" y="11"/>
                    </a:lnTo>
                    <a:lnTo>
                      <a:pt x="128" y="7"/>
                    </a:lnTo>
                    <a:lnTo>
                      <a:pt x="135" y="4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8214480" y="3262320"/>
                <a:ext cx="140760" cy="131760"/>
              </a:xfrm>
              <a:custGeom>
                <a:avLst/>
                <a:gdLst/>
                <a:ahLst/>
                <a:rect l="l" t="t" r="r" b="b"/>
                <a:pathLst>
                  <a:path w="177" h="165">
                    <a:moveTo>
                      <a:pt x="169" y="0"/>
                    </a:moveTo>
                    <a:lnTo>
                      <a:pt x="175" y="9"/>
                    </a:lnTo>
                    <a:lnTo>
                      <a:pt x="177" y="19"/>
                    </a:lnTo>
                    <a:lnTo>
                      <a:pt x="171" y="29"/>
                    </a:lnTo>
                    <a:lnTo>
                      <a:pt x="163" y="36"/>
                    </a:lnTo>
                    <a:lnTo>
                      <a:pt x="158" y="40"/>
                    </a:lnTo>
                    <a:lnTo>
                      <a:pt x="152" y="44"/>
                    </a:lnTo>
                    <a:lnTo>
                      <a:pt x="144" y="48"/>
                    </a:lnTo>
                    <a:lnTo>
                      <a:pt x="139" y="53"/>
                    </a:lnTo>
                    <a:lnTo>
                      <a:pt x="131" y="57"/>
                    </a:lnTo>
                    <a:lnTo>
                      <a:pt x="123" y="61"/>
                    </a:lnTo>
                    <a:lnTo>
                      <a:pt x="114" y="65"/>
                    </a:lnTo>
                    <a:lnTo>
                      <a:pt x="106" y="70"/>
                    </a:lnTo>
                    <a:lnTo>
                      <a:pt x="97" y="72"/>
                    </a:lnTo>
                    <a:lnTo>
                      <a:pt x="89" y="78"/>
                    </a:lnTo>
                    <a:lnTo>
                      <a:pt x="80" y="84"/>
                    </a:lnTo>
                    <a:lnTo>
                      <a:pt x="70" y="87"/>
                    </a:lnTo>
                    <a:lnTo>
                      <a:pt x="63" y="93"/>
                    </a:lnTo>
                    <a:lnTo>
                      <a:pt x="53" y="97"/>
                    </a:lnTo>
                    <a:lnTo>
                      <a:pt x="46" y="105"/>
                    </a:lnTo>
                    <a:lnTo>
                      <a:pt x="40" y="110"/>
                    </a:lnTo>
                    <a:lnTo>
                      <a:pt x="32" y="116"/>
                    </a:lnTo>
                    <a:lnTo>
                      <a:pt x="25" y="122"/>
                    </a:lnTo>
                    <a:lnTo>
                      <a:pt x="19" y="127"/>
                    </a:lnTo>
                    <a:lnTo>
                      <a:pt x="15" y="135"/>
                    </a:lnTo>
                    <a:lnTo>
                      <a:pt x="9" y="141"/>
                    </a:lnTo>
                    <a:lnTo>
                      <a:pt x="8" y="148"/>
                    </a:lnTo>
                    <a:lnTo>
                      <a:pt x="4" y="156"/>
                    </a:lnTo>
                    <a:lnTo>
                      <a:pt x="4" y="165"/>
                    </a:lnTo>
                    <a:lnTo>
                      <a:pt x="2" y="160"/>
                    </a:lnTo>
                    <a:lnTo>
                      <a:pt x="2" y="152"/>
                    </a:lnTo>
                    <a:lnTo>
                      <a:pt x="0" y="146"/>
                    </a:lnTo>
                    <a:lnTo>
                      <a:pt x="2" y="141"/>
                    </a:lnTo>
                    <a:lnTo>
                      <a:pt x="2" y="133"/>
                    </a:lnTo>
                    <a:lnTo>
                      <a:pt x="4" y="127"/>
                    </a:lnTo>
                    <a:lnTo>
                      <a:pt x="8" y="122"/>
                    </a:lnTo>
                    <a:lnTo>
                      <a:pt x="11" y="116"/>
                    </a:lnTo>
                    <a:lnTo>
                      <a:pt x="15" y="110"/>
                    </a:lnTo>
                    <a:lnTo>
                      <a:pt x="19" y="103"/>
                    </a:lnTo>
                    <a:lnTo>
                      <a:pt x="25" y="97"/>
                    </a:lnTo>
                    <a:lnTo>
                      <a:pt x="30" y="93"/>
                    </a:lnTo>
                    <a:lnTo>
                      <a:pt x="36" y="86"/>
                    </a:lnTo>
                    <a:lnTo>
                      <a:pt x="42" y="80"/>
                    </a:lnTo>
                    <a:lnTo>
                      <a:pt x="49" y="76"/>
                    </a:lnTo>
                    <a:lnTo>
                      <a:pt x="57" y="70"/>
                    </a:lnTo>
                    <a:lnTo>
                      <a:pt x="63" y="65"/>
                    </a:lnTo>
                    <a:lnTo>
                      <a:pt x="70" y="61"/>
                    </a:lnTo>
                    <a:lnTo>
                      <a:pt x="78" y="53"/>
                    </a:lnTo>
                    <a:lnTo>
                      <a:pt x="87" y="49"/>
                    </a:lnTo>
                    <a:lnTo>
                      <a:pt x="93" y="44"/>
                    </a:lnTo>
                    <a:lnTo>
                      <a:pt x="103" y="40"/>
                    </a:lnTo>
                    <a:lnTo>
                      <a:pt x="108" y="34"/>
                    </a:lnTo>
                    <a:lnTo>
                      <a:pt x="118" y="32"/>
                    </a:lnTo>
                    <a:lnTo>
                      <a:pt x="123" y="27"/>
                    </a:lnTo>
                    <a:lnTo>
                      <a:pt x="131" y="23"/>
                    </a:lnTo>
                    <a:lnTo>
                      <a:pt x="137" y="19"/>
                    </a:lnTo>
                    <a:lnTo>
                      <a:pt x="144" y="15"/>
                    </a:lnTo>
                    <a:lnTo>
                      <a:pt x="152" y="11"/>
                    </a:lnTo>
                    <a:lnTo>
                      <a:pt x="158" y="6"/>
                    </a:lnTo>
                    <a:lnTo>
                      <a:pt x="163" y="4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72920" y="327312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8767440" y="3279600"/>
                <a:ext cx="104400" cy="73080"/>
              </a:xfrm>
              <a:custGeom>
                <a:avLst/>
                <a:gdLst/>
                <a:ahLst/>
                <a:rect l="l" t="t" r="r" b="b"/>
                <a:pathLst>
                  <a:path w="131" h="91">
                    <a:moveTo>
                      <a:pt x="57" y="0"/>
                    </a:moveTo>
                    <a:lnTo>
                      <a:pt x="62" y="0"/>
                    </a:lnTo>
                    <a:lnTo>
                      <a:pt x="66" y="2"/>
                    </a:lnTo>
                    <a:lnTo>
                      <a:pt x="68" y="6"/>
                    </a:lnTo>
                    <a:lnTo>
                      <a:pt x="68" y="9"/>
                    </a:lnTo>
                    <a:lnTo>
                      <a:pt x="66" y="13"/>
                    </a:lnTo>
                    <a:lnTo>
                      <a:pt x="64" y="19"/>
                    </a:lnTo>
                    <a:lnTo>
                      <a:pt x="61" y="25"/>
                    </a:lnTo>
                    <a:lnTo>
                      <a:pt x="59" y="30"/>
                    </a:lnTo>
                    <a:lnTo>
                      <a:pt x="55" y="36"/>
                    </a:lnTo>
                    <a:lnTo>
                      <a:pt x="53" y="44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49" y="61"/>
                    </a:lnTo>
                    <a:lnTo>
                      <a:pt x="51" y="66"/>
                    </a:lnTo>
                    <a:lnTo>
                      <a:pt x="55" y="72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8" y="72"/>
                    </a:lnTo>
                    <a:lnTo>
                      <a:pt x="87" y="66"/>
                    </a:lnTo>
                    <a:lnTo>
                      <a:pt x="97" y="63"/>
                    </a:lnTo>
                    <a:lnTo>
                      <a:pt x="106" y="61"/>
                    </a:lnTo>
                    <a:lnTo>
                      <a:pt x="114" y="61"/>
                    </a:lnTo>
                    <a:lnTo>
                      <a:pt x="118" y="61"/>
                    </a:lnTo>
                    <a:lnTo>
                      <a:pt x="121" y="64"/>
                    </a:lnTo>
                    <a:lnTo>
                      <a:pt x="127" y="68"/>
                    </a:lnTo>
                    <a:lnTo>
                      <a:pt x="131" y="74"/>
                    </a:lnTo>
                    <a:lnTo>
                      <a:pt x="123" y="80"/>
                    </a:lnTo>
                    <a:lnTo>
                      <a:pt x="118" y="83"/>
                    </a:lnTo>
                    <a:lnTo>
                      <a:pt x="110" y="87"/>
                    </a:lnTo>
                    <a:lnTo>
                      <a:pt x="102" y="89"/>
                    </a:lnTo>
                    <a:lnTo>
                      <a:pt x="93" y="89"/>
                    </a:lnTo>
                    <a:lnTo>
                      <a:pt x="87" y="91"/>
                    </a:lnTo>
                    <a:lnTo>
                      <a:pt x="80" y="91"/>
                    </a:lnTo>
                    <a:lnTo>
                      <a:pt x="72" y="91"/>
                    </a:lnTo>
                    <a:lnTo>
                      <a:pt x="62" y="89"/>
                    </a:lnTo>
                    <a:lnTo>
                      <a:pt x="55" y="87"/>
                    </a:lnTo>
                    <a:lnTo>
                      <a:pt x="49" y="83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7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7" y="15"/>
                    </a:lnTo>
                    <a:lnTo>
                      <a:pt x="11" y="11"/>
                    </a:lnTo>
                    <a:lnTo>
                      <a:pt x="17" y="7"/>
                    </a:lnTo>
                    <a:lnTo>
                      <a:pt x="24" y="6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945840" y="3289320"/>
                <a:ext cx="114120" cy="23760"/>
              </a:xfrm>
              <a:custGeom>
                <a:avLst/>
                <a:gdLst/>
                <a:ahLst/>
                <a:rect l="l" t="t" r="r" b="b"/>
                <a:pathLst>
                  <a:path w="145" h="31">
                    <a:moveTo>
                      <a:pt x="55" y="4"/>
                    </a:move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9" y="4"/>
                    </a:lnTo>
                    <a:lnTo>
                      <a:pt x="99" y="8"/>
                    </a:lnTo>
                    <a:lnTo>
                      <a:pt x="110" y="12"/>
                    </a:lnTo>
                    <a:lnTo>
                      <a:pt x="122" y="17"/>
                    </a:lnTo>
                    <a:lnTo>
                      <a:pt x="126" y="19"/>
                    </a:lnTo>
                    <a:lnTo>
                      <a:pt x="131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35" y="29"/>
                    </a:lnTo>
                    <a:lnTo>
                      <a:pt x="126" y="31"/>
                    </a:lnTo>
                    <a:lnTo>
                      <a:pt x="116" y="31"/>
                    </a:lnTo>
                    <a:lnTo>
                      <a:pt x="108" y="31"/>
                    </a:lnTo>
                    <a:lnTo>
                      <a:pt x="99" y="29"/>
                    </a:lnTo>
                    <a:lnTo>
                      <a:pt x="89" y="29"/>
                    </a:lnTo>
                    <a:lnTo>
                      <a:pt x="80" y="27"/>
                    </a:lnTo>
                    <a:lnTo>
                      <a:pt x="72" y="27"/>
                    </a:lnTo>
                    <a:lnTo>
                      <a:pt x="63" y="25"/>
                    </a:lnTo>
                    <a:lnTo>
                      <a:pt x="53" y="25"/>
                    </a:lnTo>
                    <a:lnTo>
                      <a:pt x="44" y="23"/>
                    </a:lnTo>
                    <a:lnTo>
                      <a:pt x="36" y="21"/>
                    </a:lnTo>
                    <a:lnTo>
                      <a:pt x="27" y="19"/>
                    </a:lnTo>
                    <a:lnTo>
                      <a:pt x="19" y="19"/>
                    </a:lnTo>
                    <a:lnTo>
                      <a:pt x="10" y="1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21" y="12"/>
                    </a:lnTo>
                    <a:lnTo>
                      <a:pt x="29" y="12"/>
                    </a:lnTo>
                    <a:lnTo>
                      <a:pt x="34" y="10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8159400" y="3298680"/>
                <a:ext cx="150480" cy="1490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50" y="2"/>
                    </a:moveTo>
                    <a:lnTo>
                      <a:pt x="154" y="0"/>
                    </a:lnTo>
                    <a:lnTo>
                      <a:pt x="160" y="2"/>
                    </a:lnTo>
                    <a:lnTo>
                      <a:pt x="162" y="2"/>
                    </a:lnTo>
                    <a:lnTo>
                      <a:pt x="163" y="3"/>
                    </a:lnTo>
                    <a:lnTo>
                      <a:pt x="163" y="7"/>
                    </a:lnTo>
                    <a:lnTo>
                      <a:pt x="162" y="17"/>
                    </a:lnTo>
                    <a:lnTo>
                      <a:pt x="156" y="22"/>
                    </a:lnTo>
                    <a:lnTo>
                      <a:pt x="150" y="32"/>
                    </a:lnTo>
                    <a:lnTo>
                      <a:pt x="148" y="40"/>
                    </a:lnTo>
                    <a:lnTo>
                      <a:pt x="150" y="47"/>
                    </a:lnTo>
                    <a:lnTo>
                      <a:pt x="160" y="43"/>
                    </a:lnTo>
                    <a:lnTo>
                      <a:pt x="169" y="43"/>
                    </a:lnTo>
                    <a:lnTo>
                      <a:pt x="177" y="43"/>
                    </a:lnTo>
                    <a:lnTo>
                      <a:pt x="182" y="43"/>
                    </a:lnTo>
                    <a:lnTo>
                      <a:pt x="188" y="47"/>
                    </a:lnTo>
                    <a:lnTo>
                      <a:pt x="190" y="53"/>
                    </a:lnTo>
                    <a:lnTo>
                      <a:pt x="184" y="59"/>
                    </a:lnTo>
                    <a:lnTo>
                      <a:pt x="175" y="68"/>
                    </a:lnTo>
                    <a:lnTo>
                      <a:pt x="167" y="72"/>
                    </a:lnTo>
                    <a:lnTo>
                      <a:pt x="162" y="78"/>
                    </a:lnTo>
                    <a:lnTo>
                      <a:pt x="154" y="83"/>
                    </a:lnTo>
                    <a:lnTo>
                      <a:pt x="146" y="89"/>
                    </a:lnTo>
                    <a:lnTo>
                      <a:pt x="137" y="95"/>
                    </a:lnTo>
                    <a:lnTo>
                      <a:pt x="127" y="100"/>
                    </a:lnTo>
                    <a:lnTo>
                      <a:pt x="118" y="106"/>
                    </a:lnTo>
                    <a:lnTo>
                      <a:pt x="108" y="114"/>
                    </a:lnTo>
                    <a:lnTo>
                      <a:pt x="99" y="119"/>
                    </a:lnTo>
                    <a:lnTo>
                      <a:pt x="89" y="125"/>
                    </a:lnTo>
                    <a:lnTo>
                      <a:pt x="80" y="133"/>
                    </a:lnTo>
                    <a:lnTo>
                      <a:pt x="70" y="140"/>
                    </a:lnTo>
                    <a:lnTo>
                      <a:pt x="61" y="144"/>
                    </a:lnTo>
                    <a:lnTo>
                      <a:pt x="51" y="152"/>
                    </a:lnTo>
                    <a:lnTo>
                      <a:pt x="42" y="157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5" y="176"/>
                    </a:lnTo>
                    <a:lnTo>
                      <a:pt x="19" y="180"/>
                    </a:lnTo>
                    <a:lnTo>
                      <a:pt x="15" y="188"/>
                    </a:lnTo>
                    <a:lnTo>
                      <a:pt x="11" y="178"/>
                    </a:lnTo>
                    <a:lnTo>
                      <a:pt x="13" y="169"/>
                    </a:lnTo>
                    <a:lnTo>
                      <a:pt x="21" y="157"/>
                    </a:lnTo>
                    <a:lnTo>
                      <a:pt x="25" y="148"/>
                    </a:lnTo>
                    <a:lnTo>
                      <a:pt x="25" y="144"/>
                    </a:lnTo>
                    <a:lnTo>
                      <a:pt x="23" y="142"/>
                    </a:lnTo>
                    <a:lnTo>
                      <a:pt x="17" y="140"/>
                    </a:lnTo>
                    <a:lnTo>
                      <a:pt x="11" y="142"/>
                    </a:lnTo>
                    <a:lnTo>
                      <a:pt x="6" y="144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6" y="135"/>
                    </a:lnTo>
                    <a:lnTo>
                      <a:pt x="13" y="125"/>
                    </a:lnTo>
                    <a:lnTo>
                      <a:pt x="21" y="116"/>
                    </a:lnTo>
                    <a:lnTo>
                      <a:pt x="30" y="106"/>
                    </a:lnTo>
                    <a:lnTo>
                      <a:pt x="38" y="97"/>
                    </a:lnTo>
                    <a:lnTo>
                      <a:pt x="47" y="87"/>
                    </a:lnTo>
                    <a:lnTo>
                      <a:pt x="57" y="79"/>
                    </a:lnTo>
                    <a:lnTo>
                      <a:pt x="68" y="70"/>
                    </a:lnTo>
                    <a:lnTo>
                      <a:pt x="78" y="60"/>
                    </a:lnTo>
                    <a:lnTo>
                      <a:pt x="87" y="51"/>
                    </a:lnTo>
                    <a:lnTo>
                      <a:pt x="97" y="43"/>
                    </a:lnTo>
                    <a:lnTo>
                      <a:pt x="108" y="34"/>
                    </a:lnTo>
                    <a:lnTo>
                      <a:pt x="118" y="26"/>
                    </a:lnTo>
                    <a:lnTo>
                      <a:pt x="129" y="17"/>
                    </a:lnTo>
                    <a:lnTo>
                      <a:pt x="139" y="9"/>
                    </a:lnTo>
                    <a:lnTo>
                      <a:pt x="150" y="2"/>
                    </a:lnTo>
                    <a:lnTo>
                      <a:pt x="15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954200" y="3297240"/>
                <a:ext cx="310680" cy="28872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352" y="4"/>
                    </a:moveTo>
                    <a:lnTo>
                      <a:pt x="361" y="0"/>
                    </a:lnTo>
                    <a:lnTo>
                      <a:pt x="371" y="0"/>
                    </a:lnTo>
                    <a:lnTo>
                      <a:pt x="378" y="2"/>
                    </a:lnTo>
                    <a:lnTo>
                      <a:pt x="386" y="5"/>
                    </a:lnTo>
                    <a:lnTo>
                      <a:pt x="390" y="7"/>
                    </a:lnTo>
                    <a:lnTo>
                      <a:pt x="392" y="15"/>
                    </a:lnTo>
                    <a:lnTo>
                      <a:pt x="392" y="19"/>
                    </a:lnTo>
                    <a:lnTo>
                      <a:pt x="392" y="23"/>
                    </a:lnTo>
                    <a:lnTo>
                      <a:pt x="392" y="28"/>
                    </a:lnTo>
                    <a:lnTo>
                      <a:pt x="392" y="34"/>
                    </a:lnTo>
                    <a:lnTo>
                      <a:pt x="382" y="36"/>
                    </a:lnTo>
                    <a:lnTo>
                      <a:pt x="375" y="38"/>
                    </a:lnTo>
                    <a:lnTo>
                      <a:pt x="367" y="40"/>
                    </a:lnTo>
                    <a:lnTo>
                      <a:pt x="361" y="42"/>
                    </a:lnTo>
                    <a:lnTo>
                      <a:pt x="354" y="43"/>
                    </a:lnTo>
                    <a:lnTo>
                      <a:pt x="346" y="47"/>
                    </a:lnTo>
                    <a:lnTo>
                      <a:pt x="338" y="51"/>
                    </a:lnTo>
                    <a:lnTo>
                      <a:pt x="333" y="53"/>
                    </a:lnTo>
                    <a:lnTo>
                      <a:pt x="325" y="57"/>
                    </a:lnTo>
                    <a:lnTo>
                      <a:pt x="317" y="61"/>
                    </a:lnTo>
                    <a:lnTo>
                      <a:pt x="310" y="62"/>
                    </a:lnTo>
                    <a:lnTo>
                      <a:pt x="304" y="66"/>
                    </a:lnTo>
                    <a:lnTo>
                      <a:pt x="297" y="70"/>
                    </a:lnTo>
                    <a:lnTo>
                      <a:pt x="289" y="74"/>
                    </a:lnTo>
                    <a:lnTo>
                      <a:pt x="283" y="78"/>
                    </a:lnTo>
                    <a:lnTo>
                      <a:pt x="278" y="83"/>
                    </a:lnTo>
                    <a:lnTo>
                      <a:pt x="270" y="87"/>
                    </a:lnTo>
                    <a:lnTo>
                      <a:pt x="262" y="91"/>
                    </a:lnTo>
                    <a:lnTo>
                      <a:pt x="255" y="95"/>
                    </a:lnTo>
                    <a:lnTo>
                      <a:pt x="249" y="99"/>
                    </a:lnTo>
                    <a:lnTo>
                      <a:pt x="243" y="104"/>
                    </a:lnTo>
                    <a:lnTo>
                      <a:pt x="236" y="108"/>
                    </a:lnTo>
                    <a:lnTo>
                      <a:pt x="230" y="114"/>
                    </a:lnTo>
                    <a:lnTo>
                      <a:pt x="224" y="118"/>
                    </a:lnTo>
                    <a:lnTo>
                      <a:pt x="217" y="123"/>
                    </a:lnTo>
                    <a:lnTo>
                      <a:pt x="211" y="127"/>
                    </a:lnTo>
                    <a:lnTo>
                      <a:pt x="205" y="133"/>
                    </a:lnTo>
                    <a:lnTo>
                      <a:pt x="198" y="138"/>
                    </a:lnTo>
                    <a:lnTo>
                      <a:pt x="192" y="144"/>
                    </a:lnTo>
                    <a:lnTo>
                      <a:pt x="186" y="150"/>
                    </a:lnTo>
                    <a:lnTo>
                      <a:pt x="179" y="154"/>
                    </a:lnTo>
                    <a:lnTo>
                      <a:pt x="173" y="161"/>
                    </a:lnTo>
                    <a:lnTo>
                      <a:pt x="183" y="158"/>
                    </a:lnTo>
                    <a:lnTo>
                      <a:pt x="194" y="154"/>
                    </a:lnTo>
                    <a:lnTo>
                      <a:pt x="203" y="150"/>
                    </a:lnTo>
                    <a:lnTo>
                      <a:pt x="215" y="144"/>
                    </a:lnTo>
                    <a:lnTo>
                      <a:pt x="226" y="138"/>
                    </a:lnTo>
                    <a:lnTo>
                      <a:pt x="238" y="133"/>
                    </a:lnTo>
                    <a:lnTo>
                      <a:pt x="249" y="127"/>
                    </a:lnTo>
                    <a:lnTo>
                      <a:pt x="260" y="121"/>
                    </a:lnTo>
                    <a:lnTo>
                      <a:pt x="270" y="116"/>
                    </a:lnTo>
                    <a:lnTo>
                      <a:pt x="281" y="110"/>
                    </a:lnTo>
                    <a:lnTo>
                      <a:pt x="287" y="106"/>
                    </a:lnTo>
                    <a:lnTo>
                      <a:pt x="295" y="106"/>
                    </a:lnTo>
                    <a:lnTo>
                      <a:pt x="300" y="104"/>
                    </a:lnTo>
                    <a:lnTo>
                      <a:pt x="306" y="102"/>
                    </a:lnTo>
                    <a:lnTo>
                      <a:pt x="314" y="100"/>
                    </a:lnTo>
                    <a:lnTo>
                      <a:pt x="319" y="99"/>
                    </a:lnTo>
                    <a:lnTo>
                      <a:pt x="325" y="97"/>
                    </a:lnTo>
                    <a:lnTo>
                      <a:pt x="333" y="97"/>
                    </a:lnTo>
                    <a:lnTo>
                      <a:pt x="338" y="97"/>
                    </a:lnTo>
                    <a:lnTo>
                      <a:pt x="344" y="97"/>
                    </a:lnTo>
                    <a:lnTo>
                      <a:pt x="352" y="97"/>
                    </a:lnTo>
                    <a:lnTo>
                      <a:pt x="359" y="99"/>
                    </a:lnTo>
                    <a:lnTo>
                      <a:pt x="350" y="104"/>
                    </a:lnTo>
                    <a:lnTo>
                      <a:pt x="338" y="112"/>
                    </a:lnTo>
                    <a:lnTo>
                      <a:pt x="327" y="118"/>
                    </a:lnTo>
                    <a:lnTo>
                      <a:pt x="317" y="123"/>
                    </a:lnTo>
                    <a:lnTo>
                      <a:pt x="310" y="127"/>
                    </a:lnTo>
                    <a:lnTo>
                      <a:pt x="306" y="131"/>
                    </a:lnTo>
                    <a:lnTo>
                      <a:pt x="298" y="133"/>
                    </a:lnTo>
                    <a:lnTo>
                      <a:pt x="295" y="137"/>
                    </a:lnTo>
                    <a:lnTo>
                      <a:pt x="287" y="140"/>
                    </a:lnTo>
                    <a:lnTo>
                      <a:pt x="281" y="142"/>
                    </a:lnTo>
                    <a:lnTo>
                      <a:pt x="276" y="146"/>
                    </a:lnTo>
                    <a:lnTo>
                      <a:pt x="270" y="150"/>
                    </a:lnTo>
                    <a:lnTo>
                      <a:pt x="264" y="152"/>
                    </a:lnTo>
                    <a:lnTo>
                      <a:pt x="259" y="156"/>
                    </a:lnTo>
                    <a:lnTo>
                      <a:pt x="251" y="159"/>
                    </a:lnTo>
                    <a:lnTo>
                      <a:pt x="245" y="161"/>
                    </a:lnTo>
                    <a:lnTo>
                      <a:pt x="240" y="165"/>
                    </a:lnTo>
                    <a:lnTo>
                      <a:pt x="232" y="169"/>
                    </a:lnTo>
                    <a:lnTo>
                      <a:pt x="226" y="171"/>
                    </a:lnTo>
                    <a:lnTo>
                      <a:pt x="221" y="175"/>
                    </a:lnTo>
                    <a:lnTo>
                      <a:pt x="213" y="178"/>
                    </a:lnTo>
                    <a:lnTo>
                      <a:pt x="207" y="180"/>
                    </a:lnTo>
                    <a:lnTo>
                      <a:pt x="202" y="184"/>
                    </a:lnTo>
                    <a:lnTo>
                      <a:pt x="194" y="188"/>
                    </a:lnTo>
                    <a:lnTo>
                      <a:pt x="188" y="190"/>
                    </a:lnTo>
                    <a:lnTo>
                      <a:pt x="181" y="196"/>
                    </a:lnTo>
                    <a:lnTo>
                      <a:pt x="175" y="199"/>
                    </a:lnTo>
                    <a:lnTo>
                      <a:pt x="169" y="203"/>
                    </a:lnTo>
                    <a:lnTo>
                      <a:pt x="163" y="207"/>
                    </a:lnTo>
                    <a:lnTo>
                      <a:pt x="158" y="209"/>
                    </a:lnTo>
                    <a:lnTo>
                      <a:pt x="150" y="213"/>
                    </a:lnTo>
                    <a:lnTo>
                      <a:pt x="144" y="216"/>
                    </a:lnTo>
                    <a:lnTo>
                      <a:pt x="139" y="220"/>
                    </a:lnTo>
                    <a:lnTo>
                      <a:pt x="131" y="224"/>
                    </a:lnTo>
                    <a:lnTo>
                      <a:pt x="127" y="228"/>
                    </a:lnTo>
                    <a:lnTo>
                      <a:pt x="122" y="234"/>
                    </a:lnTo>
                    <a:lnTo>
                      <a:pt x="110" y="243"/>
                    </a:lnTo>
                    <a:lnTo>
                      <a:pt x="99" y="251"/>
                    </a:lnTo>
                    <a:lnTo>
                      <a:pt x="87" y="260"/>
                    </a:lnTo>
                    <a:lnTo>
                      <a:pt x="78" y="272"/>
                    </a:lnTo>
                    <a:lnTo>
                      <a:pt x="68" y="281"/>
                    </a:lnTo>
                    <a:lnTo>
                      <a:pt x="59" y="291"/>
                    </a:lnTo>
                    <a:lnTo>
                      <a:pt x="51" y="302"/>
                    </a:lnTo>
                    <a:lnTo>
                      <a:pt x="46" y="313"/>
                    </a:lnTo>
                    <a:lnTo>
                      <a:pt x="42" y="319"/>
                    </a:lnTo>
                    <a:lnTo>
                      <a:pt x="38" y="325"/>
                    </a:lnTo>
                    <a:lnTo>
                      <a:pt x="36" y="332"/>
                    </a:lnTo>
                    <a:lnTo>
                      <a:pt x="32" y="338"/>
                    </a:lnTo>
                    <a:lnTo>
                      <a:pt x="29" y="344"/>
                    </a:lnTo>
                    <a:lnTo>
                      <a:pt x="27" y="351"/>
                    </a:lnTo>
                    <a:lnTo>
                      <a:pt x="25" y="357"/>
                    </a:lnTo>
                    <a:lnTo>
                      <a:pt x="23" y="365"/>
                    </a:lnTo>
                    <a:lnTo>
                      <a:pt x="17" y="365"/>
                    </a:lnTo>
                    <a:lnTo>
                      <a:pt x="13" y="365"/>
                    </a:lnTo>
                    <a:lnTo>
                      <a:pt x="8" y="363"/>
                    </a:lnTo>
                    <a:lnTo>
                      <a:pt x="0" y="363"/>
                    </a:lnTo>
                    <a:lnTo>
                      <a:pt x="2" y="351"/>
                    </a:lnTo>
                    <a:lnTo>
                      <a:pt x="6" y="342"/>
                    </a:lnTo>
                    <a:lnTo>
                      <a:pt x="8" y="332"/>
                    </a:lnTo>
                    <a:lnTo>
                      <a:pt x="9" y="323"/>
                    </a:lnTo>
                    <a:lnTo>
                      <a:pt x="11" y="313"/>
                    </a:lnTo>
                    <a:lnTo>
                      <a:pt x="13" y="304"/>
                    </a:lnTo>
                    <a:lnTo>
                      <a:pt x="15" y="294"/>
                    </a:lnTo>
                    <a:lnTo>
                      <a:pt x="17" y="285"/>
                    </a:lnTo>
                    <a:lnTo>
                      <a:pt x="17" y="273"/>
                    </a:lnTo>
                    <a:lnTo>
                      <a:pt x="19" y="264"/>
                    </a:lnTo>
                    <a:lnTo>
                      <a:pt x="19" y="254"/>
                    </a:lnTo>
                    <a:lnTo>
                      <a:pt x="21" y="245"/>
                    </a:lnTo>
                    <a:lnTo>
                      <a:pt x="21" y="234"/>
                    </a:lnTo>
                    <a:lnTo>
                      <a:pt x="21" y="224"/>
                    </a:lnTo>
                    <a:lnTo>
                      <a:pt x="21" y="213"/>
                    </a:lnTo>
                    <a:lnTo>
                      <a:pt x="21" y="201"/>
                    </a:lnTo>
                    <a:lnTo>
                      <a:pt x="13" y="201"/>
                    </a:lnTo>
                    <a:lnTo>
                      <a:pt x="6" y="207"/>
                    </a:lnTo>
                    <a:lnTo>
                      <a:pt x="2" y="207"/>
                    </a:lnTo>
                    <a:lnTo>
                      <a:pt x="0" y="205"/>
                    </a:lnTo>
                    <a:lnTo>
                      <a:pt x="8" y="196"/>
                    </a:lnTo>
                    <a:lnTo>
                      <a:pt x="13" y="188"/>
                    </a:lnTo>
                    <a:lnTo>
                      <a:pt x="23" y="177"/>
                    </a:lnTo>
                    <a:lnTo>
                      <a:pt x="32" y="165"/>
                    </a:lnTo>
                    <a:lnTo>
                      <a:pt x="42" y="154"/>
                    </a:lnTo>
                    <a:lnTo>
                      <a:pt x="51" y="144"/>
                    </a:lnTo>
                    <a:lnTo>
                      <a:pt x="63" y="133"/>
                    </a:lnTo>
                    <a:lnTo>
                      <a:pt x="72" y="123"/>
                    </a:lnTo>
                    <a:lnTo>
                      <a:pt x="82" y="114"/>
                    </a:lnTo>
                    <a:lnTo>
                      <a:pt x="93" y="106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3" y="95"/>
                    </a:lnTo>
                    <a:lnTo>
                      <a:pt x="141" y="99"/>
                    </a:lnTo>
                    <a:lnTo>
                      <a:pt x="150" y="106"/>
                    </a:lnTo>
                    <a:lnTo>
                      <a:pt x="160" y="97"/>
                    </a:lnTo>
                    <a:lnTo>
                      <a:pt x="171" y="89"/>
                    </a:lnTo>
                    <a:lnTo>
                      <a:pt x="177" y="85"/>
                    </a:lnTo>
                    <a:lnTo>
                      <a:pt x="184" y="80"/>
                    </a:lnTo>
                    <a:lnTo>
                      <a:pt x="190" y="76"/>
                    </a:lnTo>
                    <a:lnTo>
                      <a:pt x="196" y="72"/>
                    </a:lnTo>
                    <a:lnTo>
                      <a:pt x="202" y="68"/>
                    </a:lnTo>
                    <a:lnTo>
                      <a:pt x="207" y="64"/>
                    </a:lnTo>
                    <a:lnTo>
                      <a:pt x="215" y="61"/>
                    </a:lnTo>
                    <a:lnTo>
                      <a:pt x="221" y="59"/>
                    </a:lnTo>
                    <a:lnTo>
                      <a:pt x="226" y="53"/>
                    </a:lnTo>
                    <a:lnTo>
                      <a:pt x="234" y="51"/>
                    </a:lnTo>
                    <a:lnTo>
                      <a:pt x="240" y="47"/>
                    </a:lnTo>
                    <a:lnTo>
                      <a:pt x="245" y="43"/>
                    </a:lnTo>
                    <a:lnTo>
                      <a:pt x="251" y="40"/>
                    </a:lnTo>
                    <a:lnTo>
                      <a:pt x="259" y="36"/>
                    </a:lnTo>
                    <a:lnTo>
                      <a:pt x="264" y="34"/>
                    </a:lnTo>
                    <a:lnTo>
                      <a:pt x="270" y="30"/>
                    </a:lnTo>
                    <a:lnTo>
                      <a:pt x="278" y="26"/>
                    </a:lnTo>
                    <a:lnTo>
                      <a:pt x="283" y="24"/>
                    </a:lnTo>
                    <a:lnTo>
                      <a:pt x="289" y="23"/>
                    </a:lnTo>
                    <a:lnTo>
                      <a:pt x="297" y="19"/>
                    </a:lnTo>
                    <a:lnTo>
                      <a:pt x="304" y="17"/>
                    </a:lnTo>
                    <a:lnTo>
                      <a:pt x="310" y="13"/>
                    </a:lnTo>
                    <a:lnTo>
                      <a:pt x="316" y="11"/>
                    </a:lnTo>
                    <a:lnTo>
                      <a:pt x="323" y="9"/>
                    </a:lnTo>
                    <a:lnTo>
                      <a:pt x="329" y="7"/>
                    </a:lnTo>
                    <a:lnTo>
                      <a:pt x="336" y="5"/>
                    </a:lnTo>
                    <a:lnTo>
                      <a:pt x="344" y="4"/>
                    </a:lnTo>
                    <a:lnTo>
                      <a:pt x="352" y="4"/>
                    </a:lnTo>
                    <a:lnTo>
                      <a:pt x="3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556320" y="3327120"/>
                <a:ext cx="37440" cy="128880"/>
              </a:xfrm>
              <a:custGeom>
                <a:avLst/>
                <a:gdLst/>
                <a:ahLst/>
                <a:rect l="l" t="t" r="r" b="b"/>
                <a:pathLst>
                  <a:path w="49" h="161">
                    <a:moveTo>
                      <a:pt x="9" y="0"/>
                    </a:moveTo>
                    <a:lnTo>
                      <a:pt x="15" y="4"/>
                    </a:lnTo>
                    <a:lnTo>
                      <a:pt x="20" y="11"/>
                    </a:lnTo>
                    <a:lnTo>
                      <a:pt x="26" y="17"/>
                    </a:lnTo>
                    <a:lnTo>
                      <a:pt x="30" y="28"/>
                    </a:lnTo>
                    <a:lnTo>
                      <a:pt x="32" y="38"/>
                    </a:lnTo>
                    <a:lnTo>
                      <a:pt x="34" y="47"/>
                    </a:lnTo>
                    <a:lnTo>
                      <a:pt x="34" y="53"/>
                    </a:lnTo>
                    <a:lnTo>
                      <a:pt x="36" y="59"/>
                    </a:lnTo>
                    <a:lnTo>
                      <a:pt x="36" y="64"/>
                    </a:lnTo>
                    <a:lnTo>
                      <a:pt x="38" y="70"/>
                    </a:lnTo>
                    <a:lnTo>
                      <a:pt x="38" y="76"/>
                    </a:lnTo>
                    <a:lnTo>
                      <a:pt x="38" y="81"/>
                    </a:lnTo>
                    <a:lnTo>
                      <a:pt x="38" y="87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9" y="106"/>
                    </a:lnTo>
                    <a:lnTo>
                      <a:pt x="39" y="112"/>
                    </a:lnTo>
                    <a:lnTo>
                      <a:pt x="39" y="118"/>
                    </a:lnTo>
                    <a:lnTo>
                      <a:pt x="39" y="123"/>
                    </a:lnTo>
                    <a:lnTo>
                      <a:pt x="41" y="129"/>
                    </a:lnTo>
                    <a:lnTo>
                      <a:pt x="43" y="135"/>
                    </a:lnTo>
                    <a:lnTo>
                      <a:pt x="43" y="140"/>
                    </a:lnTo>
                    <a:lnTo>
                      <a:pt x="45" y="152"/>
                    </a:lnTo>
                    <a:lnTo>
                      <a:pt x="49" y="161"/>
                    </a:lnTo>
                    <a:lnTo>
                      <a:pt x="38" y="158"/>
                    </a:lnTo>
                    <a:lnTo>
                      <a:pt x="30" y="152"/>
                    </a:lnTo>
                    <a:lnTo>
                      <a:pt x="22" y="144"/>
                    </a:lnTo>
                    <a:lnTo>
                      <a:pt x="17" y="137"/>
                    </a:lnTo>
                    <a:lnTo>
                      <a:pt x="11" y="125"/>
                    </a:lnTo>
                    <a:lnTo>
                      <a:pt x="7" y="116"/>
                    </a:lnTo>
                    <a:lnTo>
                      <a:pt x="5" y="108"/>
                    </a:lnTo>
                    <a:lnTo>
                      <a:pt x="5" y="102"/>
                    </a:lnTo>
                    <a:lnTo>
                      <a:pt x="3" y="97"/>
                    </a:lnTo>
                    <a:lnTo>
                      <a:pt x="3" y="91"/>
                    </a:lnTo>
                    <a:lnTo>
                      <a:pt x="1" y="83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7" y="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562440" y="3344760"/>
                <a:ext cx="133200" cy="665280"/>
              </a:xfrm>
              <a:custGeom>
                <a:avLst/>
                <a:gdLst/>
                <a:ahLst/>
                <a:rect l="l" t="t" r="r" b="b"/>
                <a:pathLst>
                  <a:path w="167" h="836">
                    <a:moveTo>
                      <a:pt x="0" y="0"/>
                    </a:moveTo>
                    <a:lnTo>
                      <a:pt x="4" y="7"/>
                    </a:lnTo>
                    <a:lnTo>
                      <a:pt x="6" y="17"/>
                    </a:lnTo>
                    <a:lnTo>
                      <a:pt x="8" y="24"/>
                    </a:lnTo>
                    <a:lnTo>
                      <a:pt x="12" y="34"/>
                    </a:lnTo>
                    <a:lnTo>
                      <a:pt x="13" y="43"/>
                    </a:lnTo>
                    <a:lnTo>
                      <a:pt x="17" y="51"/>
                    </a:lnTo>
                    <a:lnTo>
                      <a:pt x="19" y="60"/>
                    </a:lnTo>
                    <a:lnTo>
                      <a:pt x="23" y="70"/>
                    </a:lnTo>
                    <a:lnTo>
                      <a:pt x="23" y="79"/>
                    </a:lnTo>
                    <a:lnTo>
                      <a:pt x="25" y="89"/>
                    </a:lnTo>
                    <a:lnTo>
                      <a:pt x="27" y="98"/>
                    </a:lnTo>
                    <a:lnTo>
                      <a:pt x="29" y="108"/>
                    </a:lnTo>
                    <a:lnTo>
                      <a:pt x="31" y="117"/>
                    </a:lnTo>
                    <a:lnTo>
                      <a:pt x="32" y="127"/>
                    </a:lnTo>
                    <a:lnTo>
                      <a:pt x="34" y="136"/>
                    </a:lnTo>
                    <a:lnTo>
                      <a:pt x="36" y="146"/>
                    </a:lnTo>
                    <a:lnTo>
                      <a:pt x="38" y="155"/>
                    </a:lnTo>
                    <a:lnTo>
                      <a:pt x="38" y="165"/>
                    </a:lnTo>
                    <a:lnTo>
                      <a:pt x="40" y="174"/>
                    </a:lnTo>
                    <a:lnTo>
                      <a:pt x="42" y="184"/>
                    </a:lnTo>
                    <a:lnTo>
                      <a:pt x="44" y="193"/>
                    </a:lnTo>
                    <a:lnTo>
                      <a:pt x="46" y="205"/>
                    </a:lnTo>
                    <a:lnTo>
                      <a:pt x="46" y="214"/>
                    </a:lnTo>
                    <a:lnTo>
                      <a:pt x="50" y="226"/>
                    </a:lnTo>
                    <a:lnTo>
                      <a:pt x="50" y="235"/>
                    </a:lnTo>
                    <a:lnTo>
                      <a:pt x="51" y="245"/>
                    </a:lnTo>
                    <a:lnTo>
                      <a:pt x="51" y="254"/>
                    </a:lnTo>
                    <a:lnTo>
                      <a:pt x="53" y="266"/>
                    </a:lnTo>
                    <a:lnTo>
                      <a:pt x="55" y="275"/>
                    </a:lnTo>
                    <a:lnTo>
                      <a:pt x="57" y="285"/>
                    </a:lnTo>
                    <a:lnTo>
                      <a:pt x="59" y="296"/>
                    </a:lnTo>
                    <a:lnTo>
                      <a:pt x="61" y="306"/>
                    </a:lnTo>
                    <a:lnTo>
                      <a:pt x="61" y="317"/>
                    </a:lnTo>
                    <a:lnTo>
                      <a:pt x="63" y="327"/>
                    </a:lnTo>
                    <a:lnTo>
                      <a:pt x="63" y="336"/>
                    </a:lnTo>
                    <a:lnTo>
                      <a:pt x="65" y="346"/>
                    </a:lnTo>
                    <a:lnTo>
                      <a:pt x="67" y="355"/>
                    </a:lnTo>
                    <a:lnTo>
                      <a:pt x="69" y="366"/>
                    </a:lnTo>
                    <a:lnTo>
                      <a:pt x="71" y="376"/>
                    </a:lnTo>
                    <a:lnTo>
                      <a:pt x="72" y="385"/>
                    </a:lnTo>
                    <a:lnTo>
                      <a:pt x="74" y="395"/>
                    </a:lnTo>
                    <a:lnTo>
                      <a:pt x="76" y="404"/>
                    </a:lnTo>
                    <a:lnTo>
                      <a:pt x="78" y="414"/>
                    </a:lnTo>
                    <a:lnTo>
                      <a:pt x="80" y="425"/>
                    </a:lnTo>
                    <a:lnTo>
                      <a:pt x="82" y="435"/>
                    </a:lnTo>
                    <a:lnTo>
                      <a:pt x="84" y="446"/>
                    </a:lnTo>
                    <a:lnTo>
                      <a:pt x="88" y="456"/>
                    </a:lnTo>
                    <a:lnTo>
                      <a:pt x="91" y="465"/>
                    </a:lnTo>
                    <a:lnTo>
                      <a:pt x="93" y="475"/>
                    </a:lnTo>
                    <a:lnTo>
                      <a:pt x="97" y="484"/>
                    </a:lnTo>
                    <a:lnTo>
                      <a:pt x="99" y="494"/>
                    </a:lnTo>
                    <a:lnTo>
                      <a:pt x="103" y="503"/>
                    </a:lnTo>
                    <a:lnTo>
                      <a:pt x="107" y="513"/>
                    </a:lnTo>
                    <a:lnTo>
                      <a:pt x="109" y="522"/>
                    </a:lnTo>
                    <a:lnTo>
                      <a:pt x="112" y="532"/>
                    </a:lnTo>
                    <a:lnTo>
                      <a:pt x="116" y="541"/>
                    </a:lnTo>
                    <a:lnTo>
                      <a:pt x="120" y="549"/>
                    </a:lnTo>
                    <a:lnTo>
                      <a:pt x="124" y="558"/>
                    </a:lnTo>
                    <a:lnTo>
                      <a:pt x="128" y="568"/>
                    </a:lnTo>
                    <a:lnTo>
                      <a:pt x="133" y="577"/>
                    </a:lnTo>
                    <a:lnTo>
                      <a:pt x="137" y="587"/>
                    </a:lnTo>
                    <a:lnTo>
                      <a:pt x="143" y="596"/>
                    </a:lnTo>
                    <a:lnTo>
                      <a:pt x="147" y="604"/>
                    </a:lnTo>
                    <a:lnTo>
                      <a:pt x="152" y="614"/>
                    </a:lnTo>
                    <a:lnTo>
                      <a:pt x="154" y="623"/>
                    </a:lnTo>
                    <a:lnTo>
                      <a:pt x="156" y="633"/>
                    </a:lnTo>
                    <a:lnTo>
                      <a:pt x="158" y="642"/>
                    </a:lnTo>
                    <a:lnTo>
                      <a:pt x="160" y="652"/>
                    </a:lnTo>
                    <a:lnTo>
                      <a:pt x="162" y="661"/>
                    </a:lnTo>
                    <a:lnTo>
                      <a:pt x="162" y="673"/>
                    </a:lnTo>
                    <a:lnTo>
                      <a:pt x="164" y="684"/>
                    </a:lnTo>
                    <a:lnTo>
                      <a:pt x="166" y="695"/>
                    </a:lnTo>
                    <a:lnTo>
                      <a:pt x="166" y="705"/>
                    </a:lnTo>
                    <a:lnTo>
                      <a:pt x="166" y="714"/>
                    </a:lnTo>
                    <a:lnTo>
                      <a:pt x="166" y="726"/>
                    </a:lnTo>
                    <a:lnTo>
                      <a:pt x="166" y="735"/>
                    </a:lnTo>
                    <a:lnTo>
                      <a:pt x="166" y="747"/>
                    </a:lnTo>
                    <a:lnTo>
                      <a:pt x="166" y="758"/>
                    </a:lnTo>
                    <a:lnTo>
                      <a:pt x="166" y="764"/>
                    </a:lnTo>
                    <a:lnTo>
                      <a:pt x="166" y="769"/>
                    </a:lnTo>
                    <a:lnTo>
                      <a:pt x="166" y="775"/>
                    </a:lnTo>
                    <a:lnTo>
                      <a:pt x="166" y="781"/>
                    </a:lnTo>
                    <a:lnTo>
                      <a:pt x="162" y="781"/>
                    </a:lnTo>
                    <a:lnTo>
                      <a:pt x="158" y="781"/>
                    </a:lnTo>
                    <a:lnTo>
                      <a:pt x="156" y="771"/>
                    </a:lnTo>
                    <a:lnTo>
                      <a:pt x="154" y="762"/>
                    </a:lnTo>
                    <a:lnTo>
                      <a:pt x="152" y="756"/>
                    </a:lnTo>
                    <a:lnTo>
                      <a:pt x="152" y="750"/>
                    </a:lnTo>
                    <a:lnTo>
                      <a:pt x="147" y="743"/>
                    </a:lnTo>
                    <a:lnTo>
                      <a:pt x="145" y="739"/>
                    </a:lnTo>
                    <a:lnTo>
                      <a:pt x="139" y="739"/>
                    </a:lnTo>
                    <a:lnTo>
                      <a:pt x="137" y="743"/>
                    </a:lnTo>
                    <a:lnTo>
                      <a:pt x="133" y="749"/>
                    </a:lnTo>
                    <a:lnTo>
                      <a:pt x="133" y="758"/>
                    </a:lnTo>
                    <a:lnTo>
                      <a:pt x="129" y="766"/>
                    </a:lnTo>
                    <a:lnTo>
                      <a:pt x="129" y="777"/>
                    </a:lnTo>
                    <a:lnTo>
                      <a:pt x="129" y="783"/>
                    </a:lnTo>
                    <a:lnTo>
                      <a:pt x="129" y="788"/>
                    </a:lnTo>
                    <a:lnTo>
                      <a:pt x="131" y="794"/>
                    </a:lnTo>
                    <a:lnTo>
                      <a:pt x="135" y="800"/>
                    </a:lnTo>
                    <a:lnTo>
                      <a:pt x="139" y="809"/>
                    </a:lnTo>
                    <a:lnTo>
                      <a:pt x="147" y="821"/>
                    </a:lnTo>
                    <a:lnTo>
                      <a:pt x="148" y="825"/>
                    </a:lnTo>
                    <a:lnTo>
                      <a:pt x="156" y="830"/>
                    </a:lnTo>
                    <a:lnTo>
                      <a:pt x="162" y="832"/>
                    </a:lnTo>
                    <a:lnTo>
                      <a:pt x="167" y="836"/>
                    </a:lnTo>
                    <a:lnTo>
                      <a:pt x="162" y="834"/>
                    </a:lnTo>
                    <a:lnTo>
                      <a:pt x="156" y="830"/>
                    </a:lnTo>
                    <a:lnTo>
                      <a:pt x="150" y="827"/>
                    </a:lnTo>
                    <a:lnTo>
                      <a:pt x="147" y="825"/>
                    </a:lnTo>
                    <a:lnTo>
                      <a:pt x="137" y="817"/>
                    </a:lnTo>
                    <a:lnTo>
                      <a:pt x="129" y="811"/>
                    </a:lnTo>
                    <a:lnTo>
                      <a:pt x="122" y="804"/>
                    </a:lnTo>
                    <a:lnTo>
                      <a:pt x="116" y="796"/>
                    </a:lnTo>
                    <a:lnTo>
                      <a:pt x="110" y="787"/>
                    </a:lnTo>
                    <a:lnTo>
                      <a:pt x="107" y="779"/>
                    </a:lnTo>
                    <a:lnTo>
                      <a:pt x="103" y="769"/>
                    </a:lnTo>
                    <a:lnTo>
                      <a:pt x="99" y="760"/>
                    </a:lnTo>
                    <a:lnTo>
                      <a:pt x="97" y="750"/>
                    </a:lnTo>
                    <a:lnTo>
                      <a:pt x="97" y="741"/>
                    </a:lnTo>
                    <a:lnTo>
                      <a:pt x="93" y="730"/>
                    </a:lnTo>
                    <a:lnTo>
                      <a:pt x="93" y="718"/>
                    </a:lnTo>
                    <a:lnTo>
                      <a:pt x="93" y="709"/>
                    </a:lnTo>
                    <a:lnTo>
                      <a:pt x="93" y="699"/>
                    </a:lnTo>
                    <a:lnTo>
                      <a:pt x="93" y="693"/>
                    </a:lnTo>
                    <a:lnTo>
                      <a:pt x="93" y="688"/>
                    </a:lnTo>
                    <a:lnTo>
                      <a:pt x="93" y="680"/>
                    </a:lnTo>
                    <a:lnTo>
                      <a:pt x="93" y="676"/>
                    </a:lnTo>
                    <a:lnTo>
                      <a:pt x="93" y="665"/>
                    </a:lnTo>
                    <a:lnTo>
                      <a:pt x="95" y="654"/>
                    </a:lnTo>
                    <a:lnTo>
                      <a:pt x="95" y="642"/>
                    </a:lnTo>
                    <a:lnTo>
                      <a:pt x="97" y="631"/>
                    </a:lnTo>
                    <a:lnTo>
                      <a:pt x="97" y="619"/>
                    </a:lnTo>
                    <a:lnTo>
                      <a:pt x="99" y="610"/>
                    </a:lnTo>
                    <a:lnTo>
                      <a:pt x="97" y="598"/>
                    </a:lnTo>
                    <a:lnTo>
                      <a:pt x="97" y="587"/>
                    </a:lnTo>
                    <a:lnTo>
                      <a:pt x="97" y="576"/>
                    </a:lnTo>
                    <a:lnTo>
                      <a:pt x="97" y="566"/>
                    </a:lnTo>
                    <a:lnTo>
                      <a:pt x="95" y="557"/>
                    </a:lnTo>
                    <a:lnTo>
                      <a:pt x="93" y="545"/>
                    </a:lnTo>
                    <a:lnTo>
                      <a:pt x="91" y="536"/>
                    </a:lnTo>
                    <a:lnTo>
                      <a:pt x="90" y="528"/>
                    </a:lnTo>
                    <a:lnTo>
                      <a:pt x="82" y="519"/>
                    </a:lnTo>
                    <a:lnTo>
                      <a:pt x="74" y="511"/>
                    </a:lnTo>
                    <a:lnTo>
                      <a:pt x="69" y="501"/>
                    </a:lnTo>
                    <a:lnTo>
                      <a:pt x="65" y="492"/>
                    </a:lnTo>
                    <a:lnTo>
                      <a:pt x="59" y="479"/>
                    </a:lnTo>
                    <a:lnTo>
                      <a:pt x="53" y="469"/>
                    </a:lnTo>
                    <a:lnTo>
                      <a:pt x="51" y="458"/>
                    </a:lnTo>
                    <a:lnTo>
                      <a:pt x="48" y="446"/>
                    </a:lnTo>
                    <a:lnTo>
                      <a:pt x="44" y="439"/>
                    </a:lnTo>
                    <a:lnTo>
                      <a:pt x="44" y="433"/>
                    </a:lnTo>
                    <a:lnTo>
                      <a:pt x="42" y="427"/>
                    </a:lnTo>
                    <a:lnTo>
                      <a:pt x="40" y="420"/>
                    </a:lnTo>
                    <a:lnTo>
                      <a:pt x="38" y="412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3"/>
                    </a:lnTo>
                    <a:lnTo>
                      <a:pt x="34" y="385"/>
                    </a:lnTo>
                    <a:lnTo>
                      <a:pt x="34" y="378"/>
                    </a:lnTo>
                    <a:lnTo>
                      <a:pt x="32" y="370"/>
                    </a:lnTo>
                    <a:lnTo>
                      <a:pt x="32" y="365"/>
                    </a:lnTo>
                    <a:lnTo>
                      <a:pt x="32" y="357"/>
                    </a:lnTo>
                    <a:lnTo>
                      <a:pt x="31" y="351"/>
                    </a:lnTo>
                    <a:lnTo>
                      <a:pt x="31" y="344"/>
                    </a:lnTo>
                    <a:lnTo>
                      <a:pt x="31" y="338"/>
                    </a:lnTo>
                    <a:lnTo>
                      <a:pt x="29" y="328"/>
                    </a:lnTo>
                    <a:lnTo>
                      <a:pt x="29" y="321"/>
                    </a:lnTo>
                    <a:lnTo>
                      <a:pt x="27" y="313"/>
                    </a:lnTo>
                    <a:lnTo>
                      <a:pt x="27" y="306"/>
                    </a:lnTo>
                    <a:lnTo>
                      <a:pt x="27" y="300"/>
                    </a:lnTo>
                    <a:lnTo>
                      <a:pt x="25" y="292"/>
                    </a:lnTo>
                    <a:lnTo>
                      <a:pt x="25" y="285"/>
                    </a:lnTo>
                    <a:lnTo>
                      <a:pt x="25" y="277"/>
                    </a:lnTo>
                    <a:lnTo>
                      <a:pt x="25" y="270"/>
                    </a:lnTo>
                    <a:lnTo>
                      <a:pt x="25" y="262"/>
                    </a:lnTo>
                    <a:lnTo>
                      <a:pt x="23" y="254"/>
                    </a:lnTo>
                    <a:lnTo>
                      <a:pt x="23" y="247"/>
                    </a:lnTo>
                    <a:lnTo>
                      <a:pt x="23" y="239"/>
                    </a:lnTo>
                    <a:lnTo>
                      <a:pt x="23" y="231"/>
                    </a:lnTo>
                    <a:lnTo>
                      <a:pt x="23" y="226"/>
                    </a:lnTo>
                    <a:lnTo>
                      <a:pt x="23" y="218"/>
                    </a:lnTo>
                    <a:lnTo>
                      <a:pt x="21" y="211"/>
                    </a:lnTo>
                    <a:lnTo>
                      <a:pt x="19" y="203"/>
                    </a:lnTo>
                    <a:lnTo>
                      <a:pt x="19" y="195"/>
                    </a:lnTo>
                    <a:lnTo>
                      <a:pt x="19" y="190"/>
                    </a:lnTo>
                    <a:lnTo>
                      <a:pt x="17" y="182"/>
                    </a:lnTo>
                    <a:lnTo>
                      <a:pt x="17" y="174"/>
                    </a:lnTo>
                    <a:lnTo>
                      <a:pt x="17" y="167"/>
                    </a:lnTo>
                    <a:lnTo>
                      <a:pt x="17" y="161"/>
                    </a:lnTo>
                    <a:lnTo>
                      <a:pt x="15" y="154"/>
                    </a:lnTo>
                    <a:lnTo>
                      <a:pt x="15" y="148"/>
                    </a:lnTo>
                    <a:lnTo>
                      <a:pt x="13" y="140"/>
                    </a:lnTo>
                    <a:lnTo>
                      <a:pt x="13" y="135"/>
                    </a:lnTo>
                    <a:lnTo>
                      <a:pt x="10" y="129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8" y="110"/>
                    </a:lnTo>
                    <a:lnTo>
                      <a:pt x="8" y="102"/>
                    </a:lnTo>
                    <a:lnTo>
                      <a:pt x="8" y="95"/>
                    </a:lnTo>
                    <a:lnTo>
                      <a:pt x="8" y="87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4" y="43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738840" y="3375000"/>
                <a:ext cx="59760" cy="239400"/>
              </a:xfrm>
              <a:custGeom>
                <a:avLst/>
                <a:gdLst/>
                <a:ahLst/>
                <a:rect l="l" t="t" r="r" b="b"/>
                <a:pathLst>
                  <a:path w="74" h="302">
                    <a:moveTo>
                      <a:pt x="70" y="0"/>
                    </a:moveTo>
                    <a:lnTo>
                      <a:pt x="70" y="9"/>
                    </a:lnTo>
                    <a:lnTo>
                      <a:pt x="72" y="19"/>
                    </a:lnTo>
                    <a:lnTo>
                      <a:pt x="72" y="28"/>
                    </a:lnTo>
                    <a:lnTo>
                      <a:pt x="74" y="38"/>
                    </a:lnTo>
                    <a:lnTo>
                      <a:pt x="74" y="47"/>
                    </a:lnTo>
                    <a:lnTo>
                      <a:pt x="74" y="57"/>
                    </a:lnTo>
                    <a:lnTo>
                      <a:pt x="72" y="66"/>
                    </a:lnTo>
                    <a:lnTo>
                      <a:pt x="72" y="78"/>
                    </a:lnTo>
                    <a:lnTo>
                      <a:pt x="70" y="87"/>
                    </a:lnTo>
                    <a:lnTo>
                      <a:pt x="68" y="97"/>
                    </a:lnTo>
                    <a:lnTo>
                      <a:pt x="66" y="106"/>
                    </a:lnTo>
                    <a:lnTo>
                      <a:pt x="65" y="116"/>
                    </a:lnTo>
                    <a:lnTo>
                      <a:pt x="61" y="125"/>
                    </a:lnTo>
                    <a:lnTo>
                      <a:pt x="59" y="135"/>
                    </a:lnTo>
                    <a:lnTo>
                      <a:pt x="55" y="144"/>
                    </a:lnTo>
                    <a:lnTo>
                      <a:pt x="53" y="154"/>
                    </a:lnTo>
                    <a:lnTo>
                      <a:pt x="49" y="163"/>
                    </a:lnTo>
                    <a:lnTo>
                      <a:pt x="46" y="173"/>
                    </a:lnTo>
                    <a:lnTo>
                      <a:pt x="42" y="180"/>
                    </a:lnTo>
                    <a:lnTo>
                      <a:pt x="40" y="190"/>
                    </a:lnTo>
                    <a:lnTo>
                      <a:pt x="34" y="199"/>
                    </a:lnTo>
                    <a:lnTo>
                      <a:pt x="32" y="209"/>
                    </a:lnTo>
                    <a:lnTo>
                      <a:pt x="28" y="218"/>
                    </a:lnTo>
                    <a:lnTo>
                      <a:pt x="25" y="228"/>
                    </a:lnTo>
                    <a:lnTo>
                      <a:pt x="21" y="237"/>
                    </a:lnTo>
                    <a:lnTo>
                      <a:pt x="17" y="247"/>
                    </a:lnTo>
                    <a:lnTo>
                      <a:pt x="15" y="254"/>
                    </a:lnTo>
                    <a:lnTo>
                      <a:pt x="11" y="264"/>
                    </a:lnTo>
                    <a:lnTo>
                      <a:pt x="7" y="273"/>
                    </a:lnTo>
                    <a:lnTo>
                      <a:pt x="6" y="283"/>
                    </a:lnTo>
                    <a:lnTo>
                      <a:pt x="4" y="292"/>
                    </a:lnTo>
                    <a:lnTo>
                      <a:pt x="2" y="30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0" y="275"/>
                    </a:lnTo>
                    <a:lnTo>
                      <a:pt x="0" y="268"/>
                    </a:lnTo>
                    <a:lnTo>
                      <a:pt x="0" y="258"/>
                    </a:lnTo>
                    <a:lnTo>
                      <a:pt x="2" y="249"/>
                    </a:lnTo>
                    <a:lnTo>
                      <a:pt x="4" y="239"/>
                    </a:lnTo>
                    <a:lnTo>
                      <a:pt x="6" y="232"/>
                    </a:lnTo>
                    <a:lnTo>
                      <a:pt x="7" y="222"/>
                    </a:lnTo>
                    <a:lnTo>
                      <a:pt x="9" y="212"/>
                    </a:lnTo>
                    <a:lnTo>
                      <a:pt x="13" y="203"/>
                    </a:lnTo>
                    <a:lnTo>
                      <a:pt x="15" y="193"/>
                    </a:lnTo>
                    <a:lnTo>
                      <a:pt x="19" y="184"/>
                    </a:lnTo>
                    <a:lnTo>
                      <a:pt x="23" y="174"/>
                    </a:lnTo>
                    <a:lnTo>
                      <a:pt x="25" y="165"/>
                    </a:lnTo>
                    <a:lnTo>
                      <a:pt x="28" y="155"/>
                    </a:lnTo>
                    <a:lnTo>
                      <a:pt x="32" y="144"/>
                    </a:lnTo>
                    <a:lnTo>
                      <a:pt x="34" y="135"/>
                    </a:lnTo>
                    <a:lnTo>
                      <a:pt x="38" y="125"/>
                    </a:lnTo>
                    <a:lnTo>
                      <a:pt x="42" y="116"/>
                    </a:lnTo>
                    <a:lnTo>
                      <a:pt x="44" y="106"/>
                    </a:lnTo>
                    <a:lnTo>
                      <a:pt x="47" y="97"/>
                    </a:lnTo>
                    <a:lnTo>
                      <a:pt x="51" y="87"/>
                    </a:lnTo>
                    <a:lnTo>
                      <a:pt x="53" y="78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1" y="47"/>
                    </a:lnTo>
                    <a:lnTo>
                      <a:pt x="63" y="38"/>
                    </a:lnTo>
                    <a:lnTo>
                      <a:pt x="65" y="28"/>
                    </a:lnTo>
                    <a:lnTo>
                      <a:pt x="66" y="19"/>
                    </a:lnTo>
                    <a:lnTo>
                      <a:pt x="68" y="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8343000" y="3382920"/>
                <a:ext cx="131400" cy="147600"/>
              </a:xfrm>
              <a:custGeom>
                <a:avLst/>
                <a:gdLst/>
                <a:ahLst/>
                <a:rect l="l" t="t" r="r" b="b"/>
                <a:pathLst>
                  <a:path w="165" h="186">
                    <a:moveTo>
                      <a:pt x="0" y="0"/>
                    </a:moveTo>
                    <a:lnTo>
                      <a:pt x="9" y="8"/>
                    </a:lnTo>
                    <a:lnTo>
                      <a:pt x="19" y="17"/>
                    </a:lnTo>
                    <a:lnTo>
                      <a:pt x="24" y="23"/>
                    </a:lnTo>
                    <a:lnTo>
                      <a:pt x="32" y="29"/>
                    </a:lnTo>
                    <a:lnTo>
                      <a:pt x="38" y="32"/>
                    </a:lnTo>
                    <a:lnTo>
                      <a:pt x="43" y="38"/>
                    </a:lnTo>
                    <a:lnTo>
                      <a:pt x="51" y="44"/>
                    </a:lnTo>
                    <a:lnTo>
                      <a:pt x="57" y="48"/>
                    </a:lnTo>
                    <a:lnTo>
                      <a:pt x="62" y="53"/>
                    </a:lnTo>
                    <a:lnTo>
                      <a:pt x="70" y="61"/>
                    </a:lnTo>
                    <a:lnTo>
                      <a:pt x="76" y="65"/>
                    </a:lnTo>
                    <a:lnTo>
                      <a:pt x="81" y="72"/>
                    </a:lnTo>
                    <a:lnTo>
                      <a:pt x="89" y="78"/>
                    </a:lnTo>
                    <a:lnTo>
                      <a:pt x="95" y="84"/>
                    </a:lnTo>
                    <a:lnTo>
                      <a:pt x="100" y="89"/>
                    </a:lnTo>
                    <a:lnTo>
                      <a:pt x="106" y="97"/>
                    </a:lnTo>
                    <a:lnTo>
                      <a:pt x="110" y="101"/>
                    </a:lnTo>
                    <a:lnTo>
                      <a:pt x="118" y="108"/>
                    </a:lnTo>
                    <a:lnTo>
                      <a:pt x="123" y="114"/>
                    </a:lnTo>
                    <a:lnTo>
                      <a:pt x="127" y="120"/>
                    </a:lnTo>
                    <a:lnTo>
                      <a:pt x="133" y="127"/>
                    </a:lnTo>
                    <a:lnTo>
                      <a:pt x="139" y="133"/>
                    </a:lnTo>
                    <a:lnTo>
                      <a:pt x="142" y="139"/>
                    </a:lnTo>
                    <a:lnTo>
                      <a:pt x="146" y="146"/>
                    </a:lnTo>
                    <a:lnTo>
                      <a:pt x="148" y="152"/>
                    </a:lnTo>
                    <a:lnTo>
                      <a:pt x="154" y="160"/>
                    </a:lnTo>
                    <a:lnTo>
                      <a:pt x="156" y="165"/>
                    </a:lnTo>
                    <a:lnTo>
                      <a:pt x="159" y="173"/>
                    </a:lnTo>
                    <a:lnTo>
                      <a:pt x="161" y="179"/>
                    </a:lnTo>
                    <a:lnTo>
                      <a:pt x="165" y="186"/>
                    </a:lnTo>
                    <a:lnTo>
                      <a:pt x="156" y="181"/>
                    </a:lnTo>
                    <a:lnTo>
                      <a:pt x="148" y="177"/>
                    </a:lnTo>
                    <a:lnTo>
                      <a:pt x="142" y="173"/>
                    </a:lnTo>
                    <a:lnTo>
                      <a:pt x="135" y="169"/>
                    </a:lnTo>
                    <a:lnTo>
                      <a:pt x="127" y="164"/>
                    </a:lnTo>
                    <a:lnTo>
                      <a:pt x="120" y="158"/>
                    </a:lnTo>
                    <a:lnTo>
                      <a:pt x="112" y="152"/>
                    </a:lnTo>
                    <a:lnTo>
                      <a:pt x="106" y="148"/>
                    </a:lnTo>
                    <a:lnTo>
                      <a:pt x="99" y="143"/>
                    </a:lnTo>
                    <a:lnTo>
                      <a:pt x="91" y="137"/>
                    </a:lnTo>
                    <a:lnTo>
                      <a:pt x="85" y="131"/>
                    </a:lnTo>
                    <a:lnTo>
                      <a:pt x="80" y="126"/>
                    </a:lnTo>
                    <a:lnTo>
                      <a:pt x="72" y="120"/>
                    </a:lnTo>
                    <a:lnTo>
                      <a:pt x="64" y="114"/>
                    </a:lnTo>
                    <a:lnTo>
                      <a:pt x="61" y="108"/>
                    </a:lnTo>
                    <a:lnTo>
                      <a:pt x="55" y="103"/>
                    </a:lnTo>
                    <a:lnTo>
                      <a:pt x="49" y="97"/>
                    </a:lnTo>
                    <a:lnTo>
                      <a:pt x="42" y="89"/>
                    </a:lnTo>
                    <a:lnTo>
                      <a:pt x="36" y="84"/>
                    </a:lnTo>
                    <a:lnTo>
                      <a:pt x="32" y="78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19" y="57"/>
                    </a:lnTo>
                    <a:lnTo>
                      <a:pt x="15" y="51"/>
                    </a:lnTo>
                    <a:lnTo>
                      <a:pt x="11" y="44"/>
                    </a:lnTo>
                    <a:lnTo>
                      <a:pt x="7" y="38"/>
                    </a:lnTo>
                    <a:lnTo>
                      <a:pt x="5" y="32"/>
                    </a:lnTo>
                    <a:lnTo>
                      <a:pt x="4" y="25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8554680" y="3400200"/>
                <a:ext cx="179280" cy="31680"/>
              </a:xfrm>
              <a:custGeom>
                <a:avLst/>
                <a:gdLst/>
                <a:ahLst/>
                <a:rect l="l" t="t" r="r" b="b"/>
                <a:pathLst>
                  <a:path w="226" h="40">
                    <a:moveTo>
                      <a:pt x="118" y="2"/>
                    </a:moveTo>
                    <a:lnTo>
                      <a:pt x="123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4" y="2"/>
                    </a:lnTo>
                    <a:lnTo>
                      <a:pt x="192" y="2"/>
                    </a:lnTo>
                    <a:lnTo>
                      <a:pt x="197" y="6"/>
                    </a:lnTo>
                    <a:lnTo>
                      <a:pt x="205" y="7"/>
                    </a:lnTo>
                    <a:lnTo>
                      <a:pt x="211" y="13"/>
                    </a:lnTo>
                    <a:lnTo>
                      <a:pt x="216" y="17"/>
                    </a:lnTo>
                    <a:lnTo>
                      <a:pt x="220" y="23"/>
                    </a:lnTo>
                    <a:lnTo>
                      <a:pt x="224" y="30"/>
                    </a:lnTo>
                    <a:lnTo>
                      <a:pt x="226" y="40"/>
                    </a:lnTo>
                    <a:lnTo>
                      <a:pt x="220" y="40"/>
                    </a:lnTo>
                    <a:lnTo>
                      <a:pt x="213" y="38"/>
                    </a:lnTo>
                    <a:lnTo>
                      <a:pt x="205" y="38"/>
                    </a:lnTo>
                    <a:lnTo>
                      <a:pt x="199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78" y="36"/>
                    </a:lnTo>
                    <a:lnTo>
                      <a:pt x="173" y="36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0" y="34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29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06" y="34"/>
                    </a:lnTo>
                    <a:lnTo>
                      <a:pt x="99" y="34"/>
                    </a:lnTo>
                    <a:lnTo>
                      <a:pt x="91" y="34"/>
                    </a:lnTo>
                    <a:lnTo>
                      <a:pt x="85" y="34"/>
                    </a:lnTo>
                    <a:lnTo>
                      <a:pt x="76" y="32"/>
                    </a:lnTo>
                    <a:lnTo>
                      <a:pt x="68" y="32"/>
                    </a:lnTo>
                    <a:lnTo>
                      <a:pt x="62" y="32"/>
                    </a:lnTo>
                    <a:lnTo>
                      <a:pt x="55" y="32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19" y="32"/>
                    </a:lnTo>
                    <a:lnTo>
                      <a:pt x="11" y="32"/>
                    </a:lnTo>
                    <a:lnTo>
                      <a:pt x="5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5" y="23"/>
                    </a:lnTo>
                    <a:lnTo>
                      <a:pt x="11" y="19"/>
                    </a:lnTo>
                    <a:lnTo>
                      <a:pt x="19" y="17"/>
                    </a:lnTo>
                    <a:lnTo>
                      <a:pt x="26" y="15"/>
                    </a:lnTo>
                    <a:lnTo>
                      <a:pt x="32" y="15"/>
                    </a:lnTo>
                    <a:lnTo>
                      <a:pt x="42" y="13"/>
                    </a:lnTo>
                    <a:lnTo>
                      <a:pt x="49" y="13"/>
                    </a:lnTo>
                    <a:lnTo>
                      <a:pt x="57" y="13"/>
                    </a:lnTo>
                    <a:lnTo>
                      <a:pt x="64" y="13"/>
                    </a:lnTo>
                    <a:lnTo>
                      <a:pt x="72" y="11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6"/>
                    </a:lnTo>
                    <a:lnTo>
                      <a:pt x="110" y="4"/>
                    </a:lnTo>
                    <a:lnTo>
                      <a:pt x="118" y="2"/>
                    </a:lnTo>
                    <a:lnTo>
                      <a:pt x="1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6120" y="3421080"/>
                <a:ext cx="142560" cy="139680"/>
              </a:xfrm>
              <a:custGeom>
                <a:avLst/>
                <a:gdLst/>
                <a:ahLst/>
                <a:rect l="l" t="t" r="r" b="b"/>
                <a:pathLst>
                  <a:path w="181" h="176">
                    <a:moveTo>
                      <a:pt x="168" y="0"/>
                    </a:moveTo>
                    <a:lnTo>
                      <a:pt x="169" y="0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75" y="5"/>
                    </a:lnTo>
                    <a:lnTo>
                      <a:pt x="169" y="11"/>
                    </a:lnTo>
                    <a:lnTo>
                      <a:pt x="166" y="17"/>
                    </a:lnTo>
                    <a:lnTo>
                      <a:pt x="160" y="24"/>
                    </a:lnTo>
                    <a:lnTo>
                      <a:pt x="156" y="32"/>
                    </a:lnTo>
                    <a:lnTo>
                      <a:pt x="150" y="40"/>
                    </a:lnTo>
                    <a:lnTo>
                      <a:pt x="147" y="47"/>
                    </a:lnTo>
                    <a:lnTo>
                      <a:pt x="143" y="55"/>
                    </a:lnTo>
                    <a:lnTo>
                      <a:pt x="139" y="62"/>
                    </a:lnTo>
                    <a:lnTo>
                      <a:pt x="137" y="72"/>
                    </a:lnTo>
                    <a:lnTo>
                      <a:pt x="131" y="79"/>
                    </a:lnTo>
                    <a:lnTo>
                      <a:pt x="129" y="87"/>
                    </a:lnTo>
                    <a:lnTo>
                      <a:pt x="124" y="95"/>
                    </a:lnTo>
                    <a:lnTo>
                      <a:pt x="120" y="104"/>
                    </a:lnTo>
                    <a:lnTo>
                      <a:pt x="116" y="112"/>
                    </a:lnTo>
                    <a:lnTo>
                      <a:pt x="112" y="119"/>
                    </a:lnTo>
                    <a:lnTo>
                      <a:pt x="109" y="125"/>
                    </a:lnTo>
                    <a:lnTo>
                      <a:pt x="103" y="133"/>
                    </a:lnTo>
                    <a:lnTo>
                      <a:pt x="97" y="138"/>
                    </a:lnTo>
                    <a:lnTo>
                      <a:pt x="93" y="146"/>
                    </a:lnTo>
                    <a:lnTo>
                      <a:pt x="88" y="152"/>
                    </a:lnTo>
                    <a:lnTo>
                      <a:pt x="82" y="157"/>
                    </a:lnTo>
                    <a:lnTo>
                      <a:pt x="76" y="161"/>
                    </a:lnTo>
                    <a:lnTo>
                      <a:pt x="71" y="167"/>
                    </a:lnTo>
                    <a:lnTo>
                      <a:pt x="63" y="169"/>
                    </a:lnTo>
                    <a:lnTo>
                      <a:pt x="55" y="173"/>
                    </a:lnTo>
                    <a:lnTo>
                      <a:pt x="48" y="175"/>
                    </a:lnTo>
                    <a:lnTo>
                      <a:pt x="40" y="176"/>
                    </a:lnTo>
                    <a:lnTo>
                      <a:pt x="31" y="176"/>
                    </a:lnTo>
                    <a:lnTo>
                      <a:pt x="21" y="176"/>
                    </a:lnTo>
                    <a:lnTo>
                      <a:pt x="10" y="176"/>
                    </a:lnTo>
                    <a:lnTo>
                      <a:pt x="0" y="176"/>
                    </a:lnTo>
                    <a:lnTo>
                      <a:pt x="2" y="169"/>
                    </a:lnTo>
                    <a:lnTo>
                      <a:pt x="6" y="161"/>
                    </a:lnTo>
                    <a:lnTo>
                      <a:pt x="10" y="155"/>
                    </a:lnTo>
                    <a:lnTo>
                      <a:pt x="12" y="150"/>
                    </a:lnTo>
                    <a:lnTo>
                      <a:pt x="21" y="136"/>
                    </a:lnTo>
                    <a:lnTo>
                      <a:pt x="31" y="127"/>
                    </a:lnTo>
                    <a:lnTo>
                      <a:pt x="40" y="116"/>
                    </a:lnTo>
                    <a:lnTo>
                      <a:pt x="50" y="104"/>
                    </a:lnTo>
                    <a:lnTo>
                      <a:pt x="55" y="98"/>
                    </a:lnTo>
                    <a:lnTo>
                      <a:pt x="63" y="95"/>
                    </a:lnTo>
                    <a:lnTo>
                      <a:pt x="69" y="89"/>
                    </a:lnTo>
                    <a:lnTo>
                      <a:pt x="74" y="85"/>
                    </a:lnTo>
                    <a:lnTo>
                      <a:pt x="80" y="78"/>
                    </a:lnTo>
                    <a:lnTo>
                      <a:pt x="86" y="72"/>
                    </a:lnTo>
                    <a:lnTo>
                      <a:pt x="91" y="68"/>
                    </a:lnTo>
                    <a:lnTo>
                      <a:pt x="97" y="62"/>
                    </a:lnTo>
                    <a:lnTo>
                      <a:pt x="103" y="57"/>
                    </a:lnTo>
                    <a:lnTo>
                      <a:pt x="110" y="51"/>
                    </a:lnTo>
                    <a:lnTo>
                      <a:pt x="116" y="45"/>
                    </a:lnTo>
                    <a:lnTo>
                      <a:pt x="122" y="41"/>
                    </a:lnTo>
                    <a:lnTo>
                      <a:pt x="128" y="36"/>
                    </a:lnTo>
                    <a:lnTo>
                      <a:pt x="133" y="32"/>
                    </a:lnTo>
                    <a:lnTo>
                      <a:pt x="139" y="24"/>
                    </a:lnTo>
                    <a:lnTo>
                      <a:pt x="147" y="21"/>
                    </a:lnTo>
                    <a:lnTo>
                      <a:pt x="156" y="9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987960" y="3429000"/>
                <a:ext cx="72720" cy="110880"/>
              </a:xfrm>
              <a:custGeom>
                <a:avLst/>
                <a:gdLst/>
                <a:ahLst/>
                <a:rect l="l" t="t" r="r" b="b"/>
                <a:pathLst>
                  <a:path w="91" h="141">
                    <a:moveTo>
                      <a:pt x="91" y="0"/>
                    </a:moveTo>
                    <a:lnTo>
                      <a:pt x="86" y="8"/>
                    </a:lnTo>
                    <a:lnTo>
                      <a:pt x="82" y="15"/>
                    </a:lnTo>
                    <a:lnTo>
                      <a:pt x="78" y="25"/>
                    </a:lnTo>
                    <a:lnTo>
                      <a:pt x="74" y="34"/>
                    </a:lnTo>
                    <a:lnTo>
                      <a:pt x="70" y="44"/>
                    </a:lnTo>
                    <a:lnTo>
                      <a:pt x="67" y="53"/>
                    </a:lnTo>
                    <a:lnTo>
                      <a:pt x="61" y="65"/>
                    </a:lnTo>
                    <a:lnTo>
                      <a:pt x="57" y="76"/>
                    </a:lnTo>
                    <a:lnTo>
                      <a:pt x="51" y="86"/>
                    </a:lnTo>
                    <a:lnTo>
                      <a:pt x="48" y="95"/>
                    </a:lnTo>
                    <a:lnTo>
                      <a:pt x="40" y="105"/>
                    </a:lnTo>
                    <a:lnTo>
                      <a:pt x="34" y="114"/>
                    </a:lnTo>
                    <a:lnTo>
                      <a:pt x="27" y="122"/>
                    </a:lnTo>
                    <a:lnTo>
                      <a:pt x="19" y="129"/>
                    </a:lnTo>
                    <a:lnTo>
                      <a:pt x="10" y="135"/>
                    </a:lnTo>
                    <a:lnTo>
                      <a:pt x="0" y="141"/>
                    </a:lnTo>
                    <a:lnTo>
                      <a:pt x="4" y="131"/>
                    </a:lnTo>
                    <a:lnTo>
                      <a:pt x="8" y="122"/>
                    </a:lnTo>
                    <a:lnTo>
                      <a:pt x="12" y="112"/>
                    </a:lnTo>
                    <a:lnTo>
                      <a:pt x="19" y="103"/>
                    </a:lnTo>
                    <a:lnTo>
                      <a:pt x="23" y="93"/>
                    </a:lnTo>
                    <a:lnTo>
                      <a:pt x="29" y="86"/>
                    </a:lnTo>
                    <a:lnTo>
                      <a:pt x="32" y="76"/>
                    </a:lnTo>
                    <a:lnTo>
                      <a:pt x="40" y="69"/>
                    </a:lnTo>
                    <a:lnTo>
                      <a:pt x="44" y="59"/>
                    </a:lnTo>
                    <a:lnTo>
                      <a:pt x="51" y="51"/>
                    </a:lnTo>
                    <a:lnTo>
                      <a:pt x="57" y="42"/>
                    </a:lnTo>
                    <a:lnTo>
                      <a:pt x="63" y="34"/>
                    </a:lnTo>
                    <a:lnTo>
                      <a:pt x="70" y="25"/>
                    </a:lnTo>
                    <a:lnTo>
                      <a:pt x="78" y="17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984080" y="3438360"/>
                <a:ext cx="255240" cy="297000"/>
              </a:xfrm>
              <a:custGeom>
                <a:avLst/>
                <a:gdLst/>
                <a:ahLst/>
                <a:rect l="l" t="t" r="r" b="b"/>
                <a:pathLst>
                  <a:path w="324" h="373">
                    <a:moveTo>
                      <a:pt x="261" y="0"/>
                    </a:moveTo>
                    <a:lnTo>
                      <a:pt x="268" y="0"/>
                    </a:lnTo>
                    <a:lnTo>
                      <a:pt x="276" y="0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4" y="0"/>
                    </a:lnTo>
                    <a:lnTo>
                      <a:pt x="324" y="2"/>
                    </a:lnTo>
                    <a:lnTo>
                      <a:pt x="324" y="6"/>
                    </a:lnTo>
                    <a:lnTo>
                      <a:pt x="312" y="12"/>
                    </a:lnTo>
                    <a:lnTo>
                      <a:pt x="303" y="19"/>
                    </a:lnTo>
                    <a:lnTo>
                      <a:pt x="289" y="25"/>
                    </a:lnTo>
                    <a:lnTo>
                      <a:pt x="280" y="31"/>
                    </a:lnTo>
                    <a:lnTo>
                      <a:pt x="274" y="33"/>
                    </a:lnTo>
                    <a:lnTo>
                      <a:pt x="267" y="37"/>
                    </a:lnTo>
                    <a:lnTo>
                      <a:pt x="261" y="38"/>
                    </a:lnTo>
                    <a:lnTo>
                      <a:pt x="255" y="40"/>
                    </a:lnTo>
                    <a:lnTo>
                      <a:pt x="249" y="42"/>
                    </a:lnTo>
                    <a:lnTo>
                      <a:pt x="244" y="46"/>
                    </a:lnTo>
                    <a:lnTo>
                      <a:pt x="238" y="46"/>
                    </a:lnTo>
                    <a:lnTo>
                      <a:pt x="232" y="50"/>
                    </a:lnTo>
                    <a:lnTo>
                      <a:pt x="225" y="50"/>
                    </a:lnTo>
                    <a:lnTo>
                      <a:pt x="219" y="52"/>
                    </a:lnTo>
                    <a:lnTo>
                      <a:pt x="213" y="56"/>
                    </a:lnTo>
                    <a:lnTo>
                      <a:pt x="208" y="57"/>
                    </a:lnTo>
                    <a:lnTo>
                      <a:pt x="196" y="63"/>
                    </a:lnTo>
                    <a:lnTo>
                      <a:pt x="185" y="69"/>
                    </a:lnTo>
                    <a:lnTo>
                      <a:pt x="173" y="75"/>
                    </a:lnTo>
                    <a:lnTo>
                      <a:pt x="164" y="82"/>
                    </a:lnTo>
                    <a:lnTo>
                      <a:pt x="153" y="90"/>
                    </a:lnTo>
                    <a:lnTo>
                      <a:pt x="143" y="101"/>
                    </a:lnTo>
                    <a:lnTo>
                      <a:pt x="149" y="99"/>
                    </a:lnTo>
                    <a:lnTo>
                      <a:pt x="156" y="99"/>
                    </a:lnTo>
                    <a:lnTo>
                      <a:pt x="164" y="99"/>
                    </a:lnTo>
                    <a:lnTo>
                      <a:pt x="173" y="99"/>
                    </a:lnTo>
                    <a:lnTo>
                      <a:pt x="181" y="99"/>
                    </a:lnTo>
                    <a:lnTo>
                      <a:pt x="191" y="97"/>
                    </a:lnTo>
                    <a:lnTo>
                      <a:pt x="198" y="95"/>
                    </a:lnTo>
                    <a:lnTo>
                      <a:pt x="208" y="95"/>
                    </a:lnTo>
                    <a:lnTo>
                      <a:pt x="215" y="94"/>
                    </a:lnTo>
                    <a:lnTo>
                      <a:pt x="225" y="94"/>
                    </a:lnTo>
                    <a:lnTo>
                      <a:pt x="232" y="92"/>
                    </a:lnTo>
                    <a:lnTo>
                      <a:pt x="242" y="92"/>
                    </a:lnTo>
                    <a:lnTo>
                      <a:pt x="251" y="92"/>
                    </a:lnTo>
                    <a:lnTo>
                      <a:pt x="261" y="92"/>
                    </a:lnTo>
                    <a:lnTo>
                      <a:pt x="270" y="94"/>
                    </a:lnTo>
                    <a:lnTo>
                      <a:pt x="280" y="95"/>
                    </a:lnTo>
                    <a:lnTo>
                      <a:pt x="272" y="95"/>
                    </a:lnTo>
                    <a:lnTo>
                      <a:pt x="265" y="95"/>
                    </a:lnTo>
                    <a:lnTo>
                      <a:pt x="259" y="95"/>
                    </a:lnTo>
                    <a:lnTo>
                      <a:pt x="251" y="97"/>
                    </a:lnTo>
                    <a:lnTo>
                      <a:pt x="246" y="97"/>
                    </a:lnTo>
                    <a:lnTo>
                      <a:pt x="238" y="99"/>
                    </a:lnTo>
                    <a:lnTo>
                      <a:pt x="232" y="101"/>
                    </a:lnTo>
                    <a:lnTo>
                      <a:pt x="229" y="103"/>
                    </a:lnTo>
                    <a:lnTo>
                      <a:pt x="221" y="103"/>
                    </a:lnTo>
                    <a:lnTo>
                      <a:pt x="215" y="105"/>
                    </a:lnTo>
                    <a:lnTo>
                      <a:pt x="210" y="109"/>
                    </a:lnTo>
                    <a:lnTo>
                      <a:pt x="204" y="111"/>
                    </a:lnTo>
                    <a:lnTo>
                      <a:pt x="194" y="118"/>
                    </a:lnTo>
                    <a:lnTo>
                      <a:pt x="185" y="124"/>
                    </a:lnTo>
                    <a:lnTo>
                      <a:pt x="175" y="130"/>
                    </a:lnTo>
                    <a:lnTo>
                      <a:pt x="166" y="137"/>
                    </a:lnTo>
                    <a:lnTo>
                      <a:pt x="156" y="145"/>
                    </a:lnTo>
                    <a:lnTo>
                      <a:pt x="149" y="154"/>
                    </a:lnTo>
                    <a:lnTo>
                      <a:pt x="141" y="162"/>
                    </a:lnTo>
                    <a:lnTo>
                      <a:pt x="135" y="172"/>
                    </a:lnTo>
                    <a:lnTo>
                      <a:pt x="128" y="181"/>
                    </a:lnTo>
                    <a:lnTo>
                      <a:pt x="122" y="192"/>
                    </a:lnTo>
                    <a:lnTo>
                      <a:pt x="116" y="202"/>
                    </a:lnTo>
                    <a:lnTo>
                      <a:pt x="111" y="211"/>
                    </a:lnTo>
                    <a:lnTo>
                      <a:pt x="103" y="223"/>
                    </a:lnTo>
                    <a:lnTo>
                      <a:pt x="99" y="234"/>
                    </a:lnTo>
                    <a:lnTo>
                      <a:pt x="94" y="244"/>
                    </a:lnTo>
                    <a:lnTo>
                      <a:pt x="90" y="257"/>
                    </a:lnTo>
                    <a:lnTo>
                      <a:pt x="86" y="261"/>
                    </a:lnTo>
                    <a:lnTo>
                      <a:pt x="84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78" y="286"/>
                    </a:lnTo>
                    <a:lnTo>
                      <a:pt x="76" y="291"/>
                    </a:lnTo>
                    <a:lnTo>
                      <a:pt x="75" y="297"/>
                    </a:lnTo>
                    <a:lnTo>
                      <a:pt x="75" y="303"/>
                    </a:lnTo>
                    <a:lnTo>
                      <a:pt x="73" y="308"/>
                    </a:lnTo>
                    <a:lnTo>
                      <a:pt x="71" y="314"/>
                    </a:lnTo>
                    <a:lnTo>
                      <a:pt x="69" y="320"/>
                    </a:lnTo>
                    <a:lnTo>
                      <a:pt x="67" y="326"/>
                    </a:lnTo>
                    <a:lnTo>
                      <a:pt x="65" y="331"/>
                    </a:lnTo>
                    <a:lnTo>
                      <a:pt x="65" y="339"/>
                    </a:lnTo>
                    <a:lnTo>
                      <a:pt x="63" y="343"/>
                    </a:lnTo>
                    <a:lnTo>
                      <a:pt x="61" y="350"/>
                    </a:lnTo>
                    <a:lnTo>
                      <a:pt x="59" y="356"/>
                    </a:lnTo>
                    <a:lnTo>
                      <a:pt x="59" y="362"/>
                    </a:lnTo>
                    <a:lnTo>
                      <a:pt x="57" y="367"/>
                    </a:lnTo>
                    <a:lnTo>
                      <a:pt x="57" y="373"/>
                    </a:lnTo>
                    <a:lnTo>
                      <a:pt x="54" y="367"/>
                    </a:lnTo>
                    <a:lnTo>
                      <a:pt x="52" y="360"/>
                    </a:lnTo>
                    <a:lnTo>
                      <a:pt x="48" y="354"/>
                    </a:lnTo>
                    <a:lnTo>
                      <a:pt x="46" y="348"/>
                    </a:lnTo>
                    <a:lnTo>
                      <a:pt x="44" y="341"/>
                    </a:lnTo>
                    <a:lnTo>
                      <a:pt x="44" y="335"/>
                    </a:lnTo>
                    <a:lnTo>
                      <a:pt x="44" y="329"/>
                    </a:lnTo>
                    <a:lnTo>
                      <a:pt x="44" y="324"/>
                    </a:lnTo>
                    <a:lnTo>
                      <a:pt x="44" y="316"/>
                    </a:lnTo>
                    <a:lnTo>
                      <a:pt x="44" y="310"/>
                    </a:lnTo>
                    <a:lnTo>
                      <a:pt x="44" y="303"/>
                    </a:lnTo>
                    <a:lnTo>
                      <a:pt x="46" y="297"/>
                    </a:lnTo>
                    <a:lnTo>
                      <a:pt x="46" y="289"/>
                    </a:lnTo>
                    <a:lnTo>
                      <a:pt x="48" y="284"/>
                    </a:lnTo>
                    <a:lnTo>
                      <a:pt x="48" y="276"/>
                    </a:lnTo>
                    <a:lnTo>
                      <a:pt x="52" y="270"/>
                    </a:lnTo>
                    <a:lnTo>
                      <a:pt x="54" y="263"/>
                    </a:lnTo>
                    <a:lnTo>
                      <a:pt x="56" y="257"/>
                    </a:lnTo>
                    <a:lnTo>
                      <a:pt x="57" y="249"/>
                    </a:lnTo>
                    <a:lnTo>
                      <a:pt x="61" y="242"/>
                    </a:lnTo>
                    <a:lnTo>
                      <a:pt x="65" y="234"/>
                    </a:lnTo>
                    <a:lnTo>
                      <a:pt x="67" y="229"/>
                    </a:lnTo>
                    <a:lnTo>
                      <a:pt x="71" y="223"/>
                    </a:lnTo>
                    <a:lnTo>
                      <a:pt x="75" y="215"/>
                    </a:lnTo>
                    <a:lnTo>
                      <a:pt x="78" y="210"/>
                    </a:lnTo>
                    <a:lnTo>
                      <a:pt x="82" y="204"/>
                    </a:lnTo>
                    <a:lnTo>
                      <a:pt x="86" y="196"/>
                    </a:lnTo>
                    <a:lnTo>
                      <a:pt x="90" y="191"/>
                    </a:lnTo>
                    <a:lnTo>
                      <a:pt x="97" y="179"/>
                    </a:lnTo>
                    <a:lnTo>
                      <a:pt x="107" y="168"/>
                    </a:lnTo>
                    <a:lnTo>
                      <a:pt x="99" y="168"/>
                    </a:lnTo>
                    <a:lnTo>
                      <a:pt x="94" y="168"/>
                    </a:lnTo>
                    <a:lnTo>
                      <a:pt x="88" y="168"/>
                    </a:lnTo>
                    <a:lnTo>
                      <a:pt x="82" y="170"/>
                    </a:lnTo>
                    <a:lnTo>
                      <a:pt x="73" y="175"/>
                    </a:lnTo>
                    <a:lnTo>
                      <a:pt x="65" y="183"/>
                    </a:lnTo>
                    <a:lnTo>
                      <a:pt x="57" y="189"/>
                    </a:lnTo>
                    <a:lnTo>
                      <a:pt x="54" y="198"/>
                    </a:lnTo>
                    <a:lnTo>
                      <a:pt x="48" y="208"/>
                    </a:lnTo>
                    <a:lnTo>
                      <a:pt x="44" y="219"/>
                    </a:lnTo>
                    <a:lnTo>
                      <a:pt x="38" y="229"/>
                    </a:lnTo>
                    <a:lnTo>
                      <a:pt x="37" y="240"/>
                    </a:lnTo>
                    <a:lnTo>
                      <a:pt x="35" y="246"/>
                    </a:lnTo>
                    <a:lnTo>
                      <a:pt x="33" y="251"/>
                    </a:lnTo>
                    <a:lnTo>
                      <a:pt x="31" y="257"/>
                    </a:lnTo>
                    <a:lnTo>
                      <a:pt x="31" y="263"/>
                    </a:lnTo>
                    <a:lnTo>
                      <a:pt x="27" y="274"/>
                    </a:lnTo>
                    <a:lnTo>
                      <a:pt x="25" y="286"/>
                    </a:lnTo>
                    <a:lnTo>
                      <a:pt x="21" y="295"/>
                    </a:lnTo>
                    <a:lnTo>
                      <a:pt x="19" y="305"/>
                    </a:lnTo>
                    <a:lnTo>
                      <a:pt x="12" y="293"/>
                    </a:lnTo>
                    <a:lnTo>
                      <a:pt x="8" y="284"/>
                    </a:lnTo>
                    <a:lnTo>
                      <a:pt x="2" y="270"/>
                    </a:lnTo>
                    <a:lnTo>
                      <a:pt x="2" y="261"/>
                    </a:lnTo>
                    <a:lnTo>
                      <a:pt x="0" y="253"/>
                    </a:lnTo>
                    <a:lnTo>
                      <a:pt x="0" y="248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6" y="213"/>
                    </a:lnTo>
                    <a:lnTo>
                      <a:pt x="8" y="208"/>
                    </a:lnTo>
                    <a:lnTo>
                      <a:pt x="10" y="202"/>
                    </a:lnTo>
                    <a:lnTo>
                      <a:pt x="10" y="194"/>
                    </a:lnTo>
                    <a:lnTo>
                      <a:pt x="14" y="189"/>
                    </a:lnTo>
                    <a:lnTo>
                      <a:pt x="19" y="177"/>
                    </a:lnTo>
                    <a:lnTo>
                      <a:pt x="27" y="168"/>
                    </a:lnTo>
                    <a:lnTo>
                      <a:pt x="29" y="160"/>
                    </a:lnTo>
                    <a:lnTo>
                      <a:pt x="33" y="154"/>
                    </a:lnTo>
                    <a:lnTo>
                      <a:pt x="37" y="149"/>
                    </a:lnTo>
                    <a:lnTo>
                      <a:pt x="42" y="145"/>
                    </a:lnTo>
                    <a:lnTo>
                      <a:pt x="52" y="132"/>
                    </a:lnTo>
                    <a:lnTo>
                      <a:pt x="63" y="122"/>
                    </a:lnTo>
                    <a:lnTo>
                      <a:pt x="73" y="111"/>
                    </a:lnTo>
                    <a:lnTo>
                      <a:pt x="82" y="101"/>
                    </a:lnTo>
                    <a:lnTo>
                      <a:pt x="88" y="95"/>
                    </a:lnTo>
                    <a:lnTo>
                      <a:pt x="94" y="92"/>
                    </a:lnTo>
                    <a:lnTo>
                      <a:pt x="101" y="86"/>
                    </a:lnTo>
                    <a:lnTo>
                      <a:pt x="107" y="82"/>
                    </a:lnTo>
                    <a:lnTo>
                      <a:pt x="113" y="76"/>
                    </a:lnTo>
                    <a:lnTo>
                      <a:pt x="118" y="73"/>
                    </a:lnTo>
                    <a:lnTo>
                      <a:pt x="126" y="67"/>
                    </a:lnTo>
                    <a:lnTo>
                      <a:pt x="132" y="63"/>
                    </a:lnTo>
                    <a:lnTo>
                      <a:pt x="137" y="57"/>
                    </a:lnTo>
                    <a:lnTo>
                      <a:pt x="145" y="54"/>
                    </a:lnTo>
                    <a:lnTo>
                      <a:pt x="151" y="50"/>
                    </a:lnTo>
                    <a:lnTo>
                      <a:pt x="158" y="46"/>
                    </a:lnTo>
                    <a:lnTo>
                      <a:pt x="164" y="42"/>
                    </a:lnTo>
                    <a:lnTo>
                      <a:pt x="172" y="38"/>
                    </a:lnTo>
                    <a:lnTo>
                      <a:pt x="177" y="33"/>
                    </a:lnTo>
                    <a:lnTo>
                      <a:pt x="183" y="31"/>
                    </a:lnTo>
                    <a:lnTo>
                      <a:pt x="191" y="27"/>
                    </a:lnTo>
                    <a:lnTo>
                      <a:pt x="196" y="23"/>
                    </a:lnTo>
                    <a:lnTo>
                      <a:pt x="202" y="21"/>
                    </a:lnTo>
                    <a:lnTo>
                      <a:pt x="210" y="19"/>
                    </a:lnTo>
                    <a:lnTo>
                      <a:pt x="215" y="16"/>
                    </a:lnTo>
                    <a:lnTo>
                      <a:pt x="223" y="12"/>
                    </a:lnTo>
                    <a:lnTo>
                      <a:pt x="229" y="10"/>
                    </a:lnTo>
                    <a:lnTo>
                      <a:pt x="236" y="8"/>
                    </a:lnTo>
                    <a:lnTo>
                      <a:pt x="242" y="4"/>
                    </a:lnTo>
                    <a:lnTo>
                      <a:pt x="248" y="4"/>
                    </a:lnTo>
                    <a:lnTo>
                      <a:pt x="255" y="2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435800" y="3547800"/>
                <a:ext cx="75600" cy="5256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59" y="2"/>
                    </a:moveTo>
                    <a:lnTo>
                      <a:pt x="64" y="0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4" y="19"/>
                    </a:lnTo>
                    <a:lnTo>
                      <a:pt x="78" y="25"/>
                    </a:lnTo>
                    <a:lnTo>
                      <a:pt x="81" y="29"/>
                    </a:lnTo>
                    <a:lnTo>
                      <a:pt x="74" y="36"/>
                    </a:lnTo>
                    <a:lnTo>
                      <a:pt x="66" y="36"/>
                    </a:lnTo>
                    <a:lnTo>
                      <a:pt x="59" y="36"/>
                    </a:lnTo>
                    <a:lnTo>
                      <a:pt x="49" y="40"/>
                    </a:lnTo>
                    <a:lnTo>
                      <a:pt x="49" y="42"/>
                    </a:lnTo>
                    <a:lnTo>
                      <a:pt x="55" y="46"/>
                    </a:lnTo>
                    <a:lnTo>
                      <a:pt x="60" y="48"/>
                    </a:lnTo>
                    <a:lnTo>
                      <a:pt x="66" y="50"/>
                    </a:lnTo>
                    <a:lnTo>
                      <a:pt x="72" y="54"/>
                    </a:lnTo>
                    <a:lnTo>
                      <a:pt x="78" y="55"/>
                    </a:lnTo>
                    <a:lnTo>
                      <a:pt x="83" y="57"/>
                    </a:lnTo>
                    <a:lnTo>
                      <a:pt x="91" y="59"/>
                    </a:lnTo>
                    <a:lnTo>
                      <a:pt x="97" y="63"/>
                    </a:lnTo>
                    <a:lnTo>
                      <a:pt x="97" y="67"/>
                    </a:lnTo>
                    <a:lnTo>
                      <a:pt x="91" y="67"/>
                    </a:lnTo>
                    <a:lnTo>
                      <a:pt x="83" y="67"/>
                    </a:lnTo>
                    <a:lnTo>
                      <a:pt x="78" y="67"/>
                    </a:lnTo>
                    <a:lnTo>
                      <a:pt x="72" y="67"/>
                    </a:lnTo>
                    <a:lnTo>
                      <a:pt x="60" y="65"/>
                    </a:lnTo>
                    <a:lnTo>
                      <a:pt x="49" y="65"/>
                    </a:lnTo>
                    <a:lnTo>
                      <a:pt x="43" y="63"/>
                    </a:lnTo>
                    <a:lnTo>
                      <a:pt x="36" y="61"/>
                    </a:lnTo>
                    <a:lnTo>
                      <a:pt x="30" y="59"/>
                    </a:lnTo>
                    <a:lnTo>
                      <a:pt x="24" y="59"/>
                    </a:lnTo>
                    <a:lnTo>
                      <a:pt x="19" y="57"/>
                    </a:lnTo>
                    <a:lnTo>
                      <a:pt x="13" y="57"/>
                    </a:lnTo>
                    <a:lnTo>
                      <a:pt x="5" y="57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5" y="46"/>
                    </a:lnTo>
                    <a:lnTo>
                      <a:pt x="13" y="40"/>
                    </a:lnTo>
                    <a:lnTo>
                      <a:pt x="19" y="40"/>
                    </a:lnTo>
                    <a:lnTo>
                      <a:pt x="24" y="38"/>
                    </a:lnTo>
                    <a:lnTo>
                      <a:pt x="32" y="38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41" y="27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45" y="10"/>
                    </a:lnTo>
                    <a:lnTo>
                      <a:pt x="51" y="6"/>
                    </a:lnTo>
                    <a:lnTo>
                      <a:pt x="59" y="2"/>
                    </a:lnTo>
                    <a:lnTo>
                      <a:pt x="5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380000" y="35607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0"/>
                    </a:moveTo>
                    <a:lnTo>
                      <a:pt x="13" y="4"/>
                    </a:lnTo>
                    <a:lnTo>
                      <a:pt x="21" y="10"/>
                    </a:lnTo>
                    <a:lnTo>
                      <a:pt x="26" y="16"/>
                    </a:lnTo>
                    <a:lnTo>
                      <a:pt x="32" y="25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2" y="29"/>
                    </a:lnTo>
                    <a:lnTo>
                      <a:pt x="17" y="27"/>
                    </a:lnTo>
                    <a:lnTo>
                      <a:pt x="11" y="23"/>
                    </a:lnTo>
                    <a:lnTo>
                      <a:pt x="5" y="19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269120" y="357948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4" y="6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42680" y="3593880"/>
                <a:ext cx="237960" cy="36720"/>
              </a:xfrm>
              <a:custGeom>
                <a:avLst/>
                <a:gdLst/>
                <a:ahLst/>
                <a:rect l="l" t="t" r="r" b="b"/>
                <a:pathLst>
                  <a:path w="300" h="46">
                    <a:moveTo>
                      <a:pt x="0" y="4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4" y="4"/>
                    </a:lnTo>
                    <a:lnTo>
                      <a:pt x="155" y="4"/>
                    </a:lnTo>
                    <a:lnTo>
                      <a:pt x="163" y="4"/>
                    </a:lnTo>
                    <a:lnTo>
                      <a:pt x="174" y="6"/>
                    </a:lnTo>
                    <a:lnTo>
                      <a:pt x="182" y="6"/>
                    </a:lnTo>
                    <a:lnTo>
                      <a:pt x="192" y="8"/>
                    </a:lnTo>
                    <a:lnTo>
                      <a:pt x="199" y="8"/>
                    </a:lnTo>
                    <a:lnTo>
                      <a:pt x="209" y="10"/>
                    </a:lnTo>
                    <a:lnTo>
                      <a:pt x="218" y="12"/>
                    </a:lnTo>
                    <a:lnTo>
                      <a:pt x="228" y="15"/>
                    </a:lnTo>
                    <a:lnTo>
                      <a:pt x="237" y="15"/>
                    </a:lnTo>
                    <a:lnTo>
                      <a:pt x="247" y="17"/>
                    </a:lnTo>
                    <a:lnTo>
                      <a:pt x="254" y="21"/>
                    </a:lnTo>
                    <a:lnTo>
                      <a:pt x="264" y="25"/>
                    </a:lnTo>
                    <a:lnTo>
                      <a:pt x="273" y="27"/>
                    </a:lnTo>
                    <a:lnTo>
                      <a:pt x="283" y="29"/>
                    </a:lnTo>
                    <a:lnTo>
                      <a:pt x="290" y="34"/>
                    </a:lnTo>
                    <a:lnTo>
                      <a:pt x="300" y="38"/>
                    </a:lnTo>
                    <a:lnTo>
                      <a:pt x="292" y="38"/>
                    </a:lnTo>
                    <a:lnTo>
                      <a:pt x="285" y="40"/>
                    </a:lnTo>
                    <a:lnTo>
                      <a:pt x="277" y="42"/>
                    </a:lnTo>
                    <a:lnTo>
                      <a:pt x="268" y="44"/>
                    </a:lnTo>
                    <a:lnTo>
                      <a:pt x="258" y="44"/>
                    </a:lnTo>
                    <a:lnTo>
                      <a:pt x="249" y="44"/>
                    </a:lnTo>
                    <a:lnTo>
                      <a:pt x="239" y="44"/>
                    </a:lnTo>
                    <a:lnTo>
                      <a:pt x="231" y="46"/>
                    </a:lnTo>
                    <a:lnTo>
                      <a:pt x="218" y="46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8" y="46"/>
                    </a:lnTo>
                    <a:lnTo>
                      <a:pt x="176" y="44"/>
                    </a:lnTo>
                    <a:lnTo>
                      <a:pt x="167" y="44"/>
                    </a:lnTo>
                    <a:lnTo>
                      <a:pt x="154" y="42"/>
                    </a:lnTo>
                    <a:lnTo>
                      <a:pt x="144" y="42"/>
                    </a:lnTo>
                    <a:lnTo>
                      <a:pt x="133" y="40"/>
                    </a:lnTo>
                    <a:lnTo>
                      <a:pt x="123" y="38"/>
                    </a:lnTo>
                    <a:lnTo>
                      <a:pt x="112" y="36"/>
                    </a:lnTo>
                    <a:lnTo>
                      <a:pt x="102" y="36"/>
                    </a:lnTo>
                    <a:lnTo>
                      <a:pt x="89" y="34"/>
                    </a:lnTo>
                    <a:lnTo>
                      <a:pt x="79" y="33"/>
                    </a:lnTo>
                    <a:lnTo>
                      <a:pt x="70" y="29"/>
                    </a:lnTo>
                    <a:lnTo>
                      <a:pt x="60" y="27"/>
                    </a:lnTo>
                    <a:lnTo>
                      <a:pt x="51" y="25"/>
                    </a:lnTo>
                    <a:lnTo>
                      <a:pt x="41" y="23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19" y="14"/>
                    </a:lnTo>
                    <a:lnTo>
                      <a:pt x="11" y="10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376760" y="3614400"/>
                <a:ext cx="156960" cy="30240"/>
              </a:xfrm>
              <a:custGeom>
                <a:avLst/>
                <a:gdLst/>
                <a:ahLst/>
                <a:rect l="l" t="t" r="r" b="b"/>
                <a:pathLst>
                  <a:path w="200" h="38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6" y="4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5" y="6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4" y="9"/>
                    </a:lnTo>
                    <a:lnTo>
                      <a:pt x="80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9" y="13"/>
                    </a:lnTo>
                    <a:lnTo>
                      <a:pt x="105" y="13"/>
                    </a:lnTo>
                    <a:lnTo>
                      <a:pt x="110" y="15"/>
                    </a:lnTo>
                    <a:lnTo>
                      <a:pt x="118" y="15"/>
                    </a:lnTo>
                    <a:lnTo>
                      <a:pt x="124" y="17"/>
                    </a:lnTo>
                    <a:lnTo>
                      <a:pt x="129" y="17"/>
                    </a:lnTo>
                    <a:lnTo>
                      <a:pt x="137" y="19"/>
                    </a:lnTo>
                    <a:lnTo>
                      <a:pt x="143" y="19"/>
                    </a:lnTo>
                    <a:lnTo>
                      <a:pt x="148" y="21"/>
                    </a:lnTo>
                    <a:lnTo>
                      <a:pt x="154" y="21"/>
                    </a:lnTo>
                    <a:lnTo>
                      <a:pt x="162" y="25"/>
                    </a:lnTo>
                    <a:lnTo>
                      <a:pt x="167" y="25"/>
                    </a:lnTo>
                    <a:lnTo>
                      <a:pt x="173" y="26"/>
                    </a:lnTo>
                    <a:lnTo>
                      <a:pt x="181" y="28"/>
                    </a:lnTo>
                    <a:lnTo>
                      <a:pt x="186" y="30"/>
                    </a:lnTo>
                    <a:lnTo>
                      <a:pt x="192" y="32"/>
                    </a:lnTo>
                    <a:lnTo>
                      <a:pt x="200" y="36"/>
                    </a:lnTo>
                    <a:lnTo>
                      <a:pt x="200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1" y="36"/>
                    </a:lnTo>
                    <a:lnTo>
                      <a:pt x="175" y="36"/>
                    </a:lnTo>
                    <a:lnTo>
                      <a:pt x="167" y="36"/>
                    </a:lnTo>
                    <a:lnTo>
                      <a:pt x="162" y="36"/>
                    </a:lnTo>
                    <a:lnTo>
                      <a:pt x="154" y="36"/>
                    </a:lnTo>
                    <a:lnTo>
                      <a:pt x="147" y="36"/>
                    </a:lnTo>
                    <a:lnTo>
                      <a:pt x="139" y="36"/>
                    </a:lnTo>
                    <a:lnTo>
                      <a:pt x="131" y="36"/>
                    </a:lnTo>
                    <a:lnTo>
                      <a:pt x="124" y="34"/>
                    </a:lnTo>
                    <a:lnTo>
                      <a:pt x="118" y="34"/>
                    </a:lnTo>
                    <a:lnTo>
                      <a:pt x="109" y="34"/>
                    </a:lnTo>
                    <a:lnTo>
                      <a:pt x="101" y="34"/>
                    </a:lnTo>
                    <a:lnTo>
                      <a:pt x="93" y="34"/>
                    </a:lnTo>
                    <a:lnTo>
                      <a:pt x="88" y="34"/>
                    </a:lnTo>
                    <a:lnTo>
                      <a:pt x="80" y="30"/>
                    </a:lnTo>
                    <a:lnTo>
                      <a:pt x="72" y="30"/>
                    </a:lnTo>
                    <a:lnTo>
                      <a:pt x="65" y="28"/>
                    </a:lnTo>
                    <a:lnTo>
                      <a:pt x="57" y="28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38" y="25"/>
                    </a:lnTo>
                    <a:lnTo>
                      <a:pt x="34" y="23"/>
                    </a:lnTo>
                    <a:lnTo>
                      <a:pt x="27" y="21"/>
                    </a:lnTo>
                    <a:lnTo>
                      <a:pt x="23" y="19"/>
                    </a:lnTo>
                    <a:lnTo>
                      <a:pt x="17" y="15"/>
                    </a:lnTo>
                    <a:lnTo>
                      <a:pt x="12" y="13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8123040" y="3624120"/>
                <a:ext cx="42480" cy="13644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0"/>
                    </a:moveTo>
                    <a:lnTo>
                      <a:pt x="54" y="6"/>
                    </a:lnTo>
                    <a:lnTo>
                      <a:pt x="54" y="14"/>
                    </a:lnTo>
                    <a:lnTo>
                      <a:pt x="54" y="21"/>
                    </a:lnTo>
                    <a:lnTo>
                      <a:pt x="54" y="31"/>
                    </a:lnTo>
                    <a:lnTo>
                      <a:pt x="52" y="40"/>
                    </a:lnTo>
                    <a:lnTo>
                      <a:pt x="50" y="50"/>
                    </a:lnTo>
                    <a:lnTo>
                      <a:pt x="48" y="61"/>
                    </a:lnTo>
                    <a:lnTo>
                      <a:pt x="46" y="71"/>
                    </a:lnTo>
                    <a:lnTo>
                      <a:pt x="44" y="80"/>
                    </a:lnTo>
                    <a:lnTo>
                      <a:pt x="40" y="92"/>
                    </a:lnTo>
                    <a:lnTo>
                      <a:pt x="37" y="101"/>
                    </a:lnTo>
                    <a:lnTo>
                      <a:pt x="35" y="112"/>
                    </a:lnTo>
                    <a:lnTo>
                      <a:pt x="33" y="120"/>
                    </a:lnTo>
                    <a:lnTo>
                      <a:pt x="29" y="130"/>
                    </a:lnTo>
                    <a:lnTo>
                      <a:pt x="25" y="137"/>
                    </a:lnTo>
                    <a:lnTo>
                      <a:pt x="23" y="145"/>
                    </a:lnTo>
                    <a:lnTo>
                      <a:pt x="19" y="150"/>
                    </a:lnTo>
                    <a:lnTo>
                      <a:pt x="16" y="156"/>
                    </a:lnTo>
                    <a:lnTo>
                      <a:pt x="14" y="162"/>
                    </a:lnTo>
                    <a:lnTo>
                      <a:pt x="10" y="166"/>
                    </a:lnTo>
                    <a:lnTo>
                      <a:pt x="4" y="171"/>
                    </a:lnTo>
                    <a:lnTo>
                      <a:pt x="2" y="171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2" y="128"/>
                    </a:lnTo>
                    <a:lnTo>
                      <a:pt x="4" y="120"/>
                    </a:lnTo>
                    <a:lnTo>
                      <a:pt x="6" y="114"/>
                    </a:lnTo>
                    <a:lnTo>
                      <a:pt x="6" y="105"/>
                    </a:lnTo>
                    <a:lnTo>
                      <a:pt x="8" y="97"/>
                    </a:lnTo>
                    <a:lnTo>
                      <a:pt x="8" y="90"/>
                    </a:lnTo>
                    <a:lnTo>
                      <a:pt x="8" y="82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2" y="61"/>
                    </a:lnTo>
                    <a:lnTo>
                      <a:pt x="14" y="55"/>
                    </a:lnTo>
                    <a:lnTo>
                      <a:pt x="16" y="50"/>
                    </a:lnTo>
                    <a:lnTo>
                      <a:pt x="18" y="44"/>
                    </a:lnTo>
                    <a:lnTo>
                      <a:pt x="21" y="36"/>
                    </a:lnTo>
                    <a:lnTo>
                      <a:pt x="23" y="31"/>
                    </a:lnTo>
                    <a:lnTo>
                      <a:pt x="27" y="25"/>
                    </a:lnTo>
                    <a:lnTo>
                      <a:pt x="31" y="19"/>
                    </a:lnTo>
                    <a:lnTo>
                      <a:pt x="35" y="14"/>
                    </a:lnTo>
                    <a:lnTo>
                      <a:pt x="40" y="10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22240" y="3639960"/>
                <a:ext cx="177480" cy="95400"/>
              </a:xfrm>
              <a:custGeom>
                <a:avLst/>
                <a:gdLst/>
                <a:ahLst/>
                <a:rect l="l" t="t" r="r" b="b"/>
                <a:pathLst>
                  <a:path w="224" h="120">
                    <a:moveTo>
                      <a:pt x="0" y="6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37" y="2"/>
                    </a:lnTo>
                    <a:lnTo>
                      <a:pt x="142" y="4"/>
                    </a:lnTo>
                    <a:lnTo>
                      <a:pt x="148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5" y="6"/>
                    </a:lnTo>
                    <a:lnTo>
                      <a:pt x="177" y="6"/>
                    </a:lnTo>
                    <a:lnTo>
                      <a:pt x="186" y="10"/>
                    </a:lnTo>
                    <a:lnTo>
                      <a:pt x="194" y="10"/>
                    </a:lnTo>
                    <a:lnTo>
                      <a:pt x="203" y="14"/>
                    </a:lnTo>
                    <a:lnTo>
                      <a:pt x="209" y="15"/>
                    </a:lnTo>
                    <a:lnTo>
                      <a:pt x="215" y="19"/>
                    </a:lnTo>
                    <a:lnTo>
                      <a:pt x="222" y="25"/>
                    </a:lnTo>
                    <a:lnTo>
                      <a:pt x="224" y="33"/>
                    </a:lnTo>
                    <a:lnTo>
                      <a:pt x="220" y="36"/>
                    </a:lnTo>
                    <a:lnTo>
                      <a:pt x="217" y="42"/>
                    </a:lnTo>
                    <a:lnTo>
                      <a:pt x="211" y="46"/>
                    </a:lnTo>
                    <a:lnTo>
                      <a:pt x="203" y="52"/>
                    </a:lnTo>
                    <a:lnTo>
                      <a:pt x="198" y="53"/>
                    </a:lnTo>
                    <a:lnTo>
                      <a:pt x="192" y="57"/>
                    </a:lnTo>
                    <a:lnTo>
                      <a:pt x="186" y="59"/>
                    </a:lnTo>
                    <a:lnTo>
                      <a:pt x="179" y="63"/>
                    </a:lnTo>
                    <a:lnTo>
                      <a:pt x="173" y="67"/>
                    </a:lnTo>
                    <a:lnTo>
                      <a:pt x="165" y="69"/>
                    </a:lnTo>
                    <a:lnTo>
                      <a:pt x="156" y="73"/>
                    </a:lnTo>
                    <a:lnTo>
                      <a:pt x="148" y="76"/>
                    </a:lnTo>
                    <a:lnTo>
                      <a:pt x="139" y="78"/>
                    </a:lnTo>
                    <a:lnTo>
                      <a:pt x="131" y="80"/>
                    </a:lnTo>
                    <a:lnTo>
                      <a:pt x="121" y="82"/>
                    </a:lnTo>
                    <a:lnTo>
                      <a:pt x="114" y="86"/>
                    </a:lnTo>
                    <a:lnTo>
                      <a:pt x="106" y="88"/>
                    </a:lnTo>
                    <a:lnTo>
                      <a:pt x="99" y="90"/>
                    </a:lnTo>
                    <a:lnTo>
                      <a:pt x="91" y="93"/>
                    </a:lnTo>
                    <a:lnTo>
                      <a:pt x="83" y="97"/>
                    </a:lnTo>
                    <a:lnTo>
                      <a:pt x="74" y="99"/>
                    </a:lnTo>
                    <a:lnTo>
                      <a:pt x="66" y="103"/>
                    </a:lnTo>
                    <a:lnTo>
                      <a:pt x="57" y="105"/>
                    </a:lnTo>
                    <a:lnTo>
                      <a:pt x="49" y="107"/>
                    </a:lnTo>
                    <a:lnTo>
                      <a:pt x="42" y="111"/>
                    </a:lnTo>
                    <a:lnTo>
                      <a:pt x="34" y="114"/>
                    </a:lnTo>
                    <a:lnTo>
                      <a:pt x="26" y="116"/>
                    </a:lnTo>
                    <a:lnTo>
                      <a:pt x="19" y="120"/>
                    </a:lnTo>
                    <a:lnTo>
                      <a:pt x="23" y="111"/>
                    </a:lnTo>
                    <a:lnTo>
                      <a:pt x="28" y="105"/>
                    </a:lnTo>
                    <a:lnTo>
                      <a:pt x="34" y="97"/>
                    </a:lnTo>
                    <a:lnTo>
                      <a:pt x="40" y="92"/>
                    </a:lnTo>
                    <a:lnTo>
                      <a:pt x="45" y="86"/>
                    </a:lnTo>
                    <a:lnTo>
                      <a:pt x="53" y="80"/>
                    </a:lnTo>
                    <a:lnTo>
                      <a:pt x="61" y="76"/>
                    </a:lnTo>
                    <a:lnTo>
                      <a:pt x="68" y="73"/>
                    </a:lnTo>
                    <a:lnTo>
                      <a:pt x="74" y="67"/>
                    </a:lnTo>
                    <a:lnTo>
                      <a:pt x="83" y="63"/>
                    </a:lnTo>
                    <a:lnTo>
                      <a:pt x="89" y="57"/>
                    </a:lnTo>
                    <a:lnTo>
                      <a:pt x="99" y="53"/>
                    </a:lnTo>
                    <a:lnTo>
                      <a:pt x="104" y="48"/>
                    </a:lnTo>
                    <a:lnTo>
                      <a:pt x="112" y="42"/>
                    </a:lnTo>
                    <a:lnTo>
                      <a:pt x="118" y="36"/>
                    </a:lnTo>
                    <a:lnTo>
                      <a:pt x="123" y="31"/>
                    </a:lnTo>
                    <a:lnTo>
                      <a:pt x="116" y="27"/>
                    </a:lnTo>
                    <a:lnTo>
                      <a:pt x="108" y="27"/>
                    </a:lnTo>
                    <a:lnTo>
                      <a:pt x="99" y="27"/>
                    </a:lnTo>
                    <a:lnTo>
                      <a:pt x="91" y="27"/>
                    </a:lnTo>
                    <a:lnTo>
                      <a:pt x="80" y="27"/>
                    </a:lnTo>
                    <a:lnTo>
                      <a:pt x="70" y="27"/>
                    </a:lnTo>
                    <a:lnTo>
                      <a:pt x="61" y="27"/>
                    </a:lnTo>
                    <a:lnTo>
                      <a:pt x="49" y="27"/>
                    </a:lnTo>
                    <a:lnTo>
                      <a:pt x="40" y="27"/>
                    </a:lnTo>
                    <a:lnTo>
                      <a:pt x="30" y="27"/>
                    </a:lnTo>
                    <a:lnTo>
                      <a:pt x="21" y="25"/>
                    </a:lnTo>
                    <a:lnTo>
                      <a:pt x="15" y="23"/>
                    </a:lnTo>
                    <a:lnTo>
                      <a:pt x="9" y="19"/>
                    </a:lnTo>
                    <a:lnTo>
                      <a:pt x="6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8344440" y="3651120"/>
                <a:ext cx="37800" cy="63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7" y="0"/>
                    </a:moveTo>
                    <a:lnTo>
                      <a:pt x="13" y="0"/>
                    </a:lnTo>
                    <a:lnTo>
                      <a:pt x="19" y="2"/>
                    </a:lnTo>
                    <a:lnTo>
                      <a:pt x="23" y="6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2" y="18"/>
                    </a:lnTo>
                    <a:lnTo>
                      <a:pt x="34" y="25"/>
                    </a:lnTo>
                    <a:lnTo>
                      <a:pt x="36" y="31"/>
                    </a:lnTo>
                    <a:lnTo>
                      <a:pt x="38" y="37"/>
                    </a:lnTo>
                    <a:lnTo>
                      <a:pt x="38" y="42"/>
                    </a:lnTo>
                    <a:lnTo>
                      <a:pt x="40" y="48"/>
                    </a:lnTo>
                    <a:lnTo>
                      <a:pt x="40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3" y="73"/>
                    </a:lnTo>
                    <a:lnTo>
                      <a:pt x="47" y="80"/>
                    </a:lnTo>
                    <a:lnTo>
                      <a:pt x="36" y="73"/>
                    </a:lnTo>
                    <a:lnTo>
                      <a:pt x="26" y="65"/>
                    </a:lnTo>
                    <a:lnTo>
                      <a:pt x="17" y="54"/>
                    </a:lnTo>
                    <a:lnTo>
                      <a:pt x="9" y="44"/>
                    </a:lnTo>
                    <a:lnTo>
                      <a:pt x="5" y="37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504920" y="3662280"/>
                <a:ext cx="61560" cy="3312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0"/>
                    </a:moveTo>
                    <a:lnTo>
                      <a:pt x="52" y="4"/>
                    </a:lnTo>
                    <a:lnTo>
                      <a:pt x="61" y="5"/>
                    </a:lnTo>
                    <a:lnTo>
                      <a:pt x="67" y="9"/>
                    </a:lnTo>
                    <a:lnTo>
                      <a:pt x="74" y="13"/>
                    </a:lnTo>
                    <a:lnTo>
                      <a:pt x="78" y="19"/>
                    </a:lnTo>
                    <a:lnTo>
                      <a:pt x="76" y="24"/>
                    </a:lnTo>
                    <a:lnTo>
                      <a:pt x="71" y="30"/>
                    </a:lnTo>
                    <a:lnTo>
                      <a:pt x="61" y="34"/>
                    </a:lnTo>
                    <a:lnTo>
                      <a:pt x="55" y="36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8" y="42"/>
                    </a:lnTo>
                    <a:lnTo>
                      <a:pt x="33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6" y="21"/>
                    </a:lnTo>
                    <a:lnTo>
                      <a:pt x="12" y="15"/>
                    </a:lnTo>
                    <a:lnTo>
                      <a:pt x="19" y="11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25400" y="367956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10" y="5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0" y="15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438680" y="3687480"/>
                <a:ext cx="63360" cy="3348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46" y="2"/>
                    </a:move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0" y="8"/>
                    </a:lnTo>
                    <a:lnTo>
                      <a:pt x="80" y="10"/>
                    </a:lnTo>
                    <a:lnTo>
                      <a:pt x="78" y="15"/>
                    </a:lnTo>
                    <a:lnTo>
                      <a:pt x="76" y="21"/>
                    </a:lnTo>
                    <a:lnTo>
                      <a:pt x="70" y="27"/>
                    </a:lnTo>
                    <a:lnTo>
                      <a:pt x="63" y="32"/>
                    </a:lnTo>
                    <a:lnTo>
                      <a:pt x="55" y="36"/>
                    </a:lnTo>
                    <a:lnTo>
                      <a:pt x="46" y="38"/>
                    </a:lnTo>
                    <a:lnTo>
                      <a:pt x="34" y="42"/>
                    </a:lnTo>
                    <a:lnTo>
                      <a:pt x="25" y="42"/>
                    </a:lnTo>
                    <a:lnTo>
                      <a:pt x="15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7" y="15"/>
                    </a:lnTo>
                    <a:lnTo>
                      <a:pt x="23" y="12"/>
                    </a:lnTo>
                    <a:lnTo>
                      <a:pt x="30" y="10"/>
                    </a:lnTo>
                    <a:lnTo>
                      <a:pt x="38" y="6"/>
                    </a:lnTo>
                    <a:lnTo>
                      <a:pt x="46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067520" y="3687480"/>
                <a:ext cx="67680" cy="2376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1" y="2"/>
                    </a:moveTo>
                    <a:lnTo>
                      <a:pt x="21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5" y="17"/>
                    </a:lnTo>
                    <a:lnTo>
                      <a:pt x="78" y="19"/>
                    </a:lnTo>
                    <a:lnTo>
                      <a:pt x="74" y="23"/>
                    </a:lnTo>
                    <a:lnTo>
                      <a:pt x="66" y="25"/>
                    </a:lnTo>
                    <a:lnTo>
                      <a:pt x="59" y="27"/>
                    </a:lnTo>
                    <a:lnTo>
                      <a:pt x="49" y="27"/>
                    </a:lnTo>
                    <a:lnTo>
                      <a:pt x="40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29"/>
                    </a:lnTo>
                    <a:lnTo>
                      <a:pt x="9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4" y="8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874640" y="3706560"/>
                <a:ext cx="393480" cy="665280"/>
              </a:xfrm>
              <a:custGeom>
                <a:avLst/>
                <a:gdLst/>
                <a:ahLst/>
                <a:rect l="l" t="t" r="r" b="b"/>
                <a:pathLst>
                  <a:path w="496" h="836">
                    <a:moveTo>
                      <a:pt x="0" y="0"/>
                    </a:moveTo>
                    <a:lnTo>
                      <a:pt x="6" y="7"/>
                    </a:lnTo>
                    <a:lnTo>
                      <a:pt x="10" y="13"/>
                    </a:lnTo>
                    <a:lnTo>
                      <a:pt x="17" y="21"/>
                    </a:lnTo>
                    <a:lnTo>
                      <a:pt x="23" y="28"/>
                    </a:lnTo>
                    <a:lnTo>
                      <a:pt x="29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5"/>
                    </a:lnTo>
                    <a:lnTo>
                      <a:pt x="57" y="61"/>
                    </a:lnTo>
                    <a:lnTo>
                      <a:pt x="63" y="66"/>
                    </a:lnTo>
                    <a:lnTo>
                      <a:pt x="71" y="72"/>
                    </a:lnTo>
                    <a:lnTo>
                      <a:pt x="78" y="78"/>
                    </a:lnTo>
                    <a:lnTo>
                      <a:pt x="86" y="83"/>
                    </a:lnTo>
                    <a:lnTo>
                      <a:pt x="93" y="87"/>
                    </a:lnTo>
                    <a:lnTo>
                      <a:pt x="101" y="93"/>
                    </a:lnTo>
                    <a:lnTo>
                      <a:pt x="111" y="101"/>
                    </a:lnTo>
                    <a:lnTo>
                      <a:pt x="118" y="104"/>
                    </a:lnTo>
                    <a:lnTo>
                      <a:pt x="126" y="108"/>
                    </a:lnTo>
                    <a:lnTo>
                      <a:pt x="133" y="112"/>
                    </a:lnTo>
                    <a:lnTo>
                      <a:pt x="143" y="116"/>
                    </a:lnTo>
                    <a:lnTo>
                      <a:pt x="149" y="121"/>
                    </a:lnTo>
                    <a:lnTo>
                      <a:pt x="158" y="125"/>
                    </a:lnTo>
                    <a:lnTo>
                      <a:pt x="166" y="129"/>
                    </a:lnTo>
                    <a:lnTo>
                      <a:pt x="175" y="133"/>
                    </a:lnTo>
                    <a:lnTo>
                      <a:pt x="183" y="137"/>
                    </a:lnTo>
                    <a:lnTo>
                      <a:pt x="190" y="140"/>
                    </a:lnTo>
                    <a:lnTo>
                      <a:pt x="198" y="144"/>
                    </a:lnTo>
                    <a:lnTo>
                      <a:pt x="208" y="148"/>
                    </a:lnTo>
                    <a:lnTo>
                      <a:pt x="213" y="152"/>
                    </a:lnTo>
                    <a:lnTo>
                      <a:pt x="223" y="156"/>
                    </a:lnTo>
                    <a:lnTo>
                      <a:pt x="230" y="158"/>
                    </a:lnTo>
                    <a:lnTo>
                      <a:pt x="240" y="163"/>
                    </a:lnTo>
                    <a:lnTo>
                      <a:pt x="236" y="156"/>
                    </a:lnTo>
                    <a:lnTo>
                      <a:pt x="232" y="148"/>
                    </a:lnTo>
                    <a:lnTo>
                      <a:pt x="230" y="140"/>
                    </a:lnTo>
                    <a:lnTo>
                      <a:pt x="227" y="135"/>
                    </a:lnTo>
                    <a:lnTo>
                      <a:pt x="223" y="127"/>
                    </a:lnTo>
                    <a:lnTo>
                      <a:pt x="219" y="121"/>
                    </a:lnTo>
                    <a:lnTo>
                      <a:pt x="217" y="114"/>
                    </a:lnTo>
                    <a:lnTo>
                      <a:pt x="213" y="108"/>
                    </a:lnTo>
                    <a:lnTo>
                      <a:pt x="209" y="101"/>
                    </a:lnTo>
                    <a:lnTo>
                      <a:pt x="208" y="93"/>
                    </a:lnTo>
                    <a:lnTo>
                      <a:pt x="204" y="85"/>
                    </a:lnTo>
                    <a:lnTo>
                      <a:pt x="204" y="80"/>
                    </a:lnTo>
                    <a:lnTo>
                      <a:pt x="202" y="72"/>
                    </a:lnTo>
                    <a:lnTo>
                      <a:pt x="202" y="64"/>
                    </a:lnTo>
                    <a:lnTo>
                      <a:pt x="202" y="55"/>
                    </a:lnTo>
                    <a:lnTo>
                      <a:pt x="204" y="47"/>
                    </a:lnTo>
                    <a:lnTo>
                      <a:pt x="209" y="55"/>
                    </a:lnTo>
                    <a:lnTo>
                      <a:pt x="215" y="64"/>
                    </a:lnTo>
                    <a:lnTo>
                      <a:pt x="221" y="74"/>
                    </a:lnTo>
                    <a:lnTo>
                      <a:pt x="228" y="83"/>
                    </a:lnTo>
                    <a:lnTo>
                      <a:pt x="232" y="93"/>
                    </a:lnTo>
                    <a:lnTo>
                      <a:pt x="240" y="104"/>
                    </a:lnTo>
                    <a:lnTo>
                      <a:pt x="242" y="110"/>
                    </a:lnTo>
                    <a:lnTo>
                      <a:pt x="246" y="116"/>
                    </a:lnTo>
                    <a:lnTo>
                      <a:pt x="249" y="123"/>
                    </a:lnTo>
                    <a:lnTo>
                      <a:pt x="253" y="129"/>
                    </a:lnTo>
                    <a:lnTo>
                      <a:pt x="259" y="140"/>
                    </a:lnTo>
                    <a:lnTo>
                      <a:pt x="266" y="150"/>
                    </a:lnTo>
                    <a:lnTo>
                      <a:pt x="276" y="159"/>
                    </a:lnTo>
                    <a:lnTo>
                      <a:pt x="285" y="171"/>
                    </a:lnTo>
                    <a:lnTo>
                      <a:pt x="293" y="179"/>
                    </a:lnTo>
                    <a:lnTo>
                      <a:pt x="304" y="186"/>
                    </a:lnTo>
                    <a:lnTo>
                      <a:pt x="308" y="190"/>
                    </a:lnTo>
                    <a:lnTo>
                      <a:pt x="314" y="194"/>
                    </a:lnTo>
                    <a:lnTo>
                      <a:pt x="320" y="196"/>
                    </a:lnTo>
                    <a:lnTo>
                      <a:pt x="325" y="199"/>
                    </a:lnTo>
                    <a:lnTo>
                      <a:pt x="320" y="190"/>
                    </a:lnTo>
                    <a:lnTo>
                      <a:pt x="316" y="182"/>
                    </a:lnTo>
                    <a:lnTo>
                      <a:pt x="312" y="173"/>
                    </a:lnTo>
                    <a:lnTo>
                      <a:pt x="308" y="163"/>
                    </a:lnTo>
                    <a:lnTo>
                      <a:pt x="304" y="152"/>
                    </a:lnTo>
                    <a:lnTo>
                      <a:pt x="303" y="142"/>
                    </a:lnTo>
                    <a:lnTo>
                      <a:pt x="303" y="131"/>
                    </a:lnTo>
                    <a:lnTo>
                      <a:pt x="303" y="121"/>
                    </a:lnTo>
                    <a:lnTo>
                      <a:pt x="301" y="112"/>
                    </a:lnTo>
                    <a:lnTo>
                      <a:pt x="301" y="101"/>
                    </a:lnTo>
                    <a:lnTo>
                      <a:pt x="301" y="91"/>
                    </a:lnTo>
                    <a:lnTo>
                      <a:pt x="303" y="82"/>
                    </a:lnTo>
                    <a:lnTo>
                      <a:pt x="304" y="72"/>
                    </a:lnTo>
                    <a:lnTo>
                      <a:pt x="306" y="63"/>
                    </a:lnTo>
                    <a:lnTo>
                      <a:pt x="310" y="55"/>
                    </a:lnTo>
                    <a:lnTo>
                      <a:pt x="312" y="47"/>
                    </a:lnTo>
                    <a:lnTo>
                      <a:pt x="316" y="40"/>
                    </a:lnTo>
                    <a:lnTo>
                      <a:pt x="320" y="34"/>
                    </a:lnTo>
                    <a:lnTo>
                      <a:pt x="323" y="28"/>
                    </a:lnTo>
                    <a:lnTo>
                      <a:pt x="329" y="25"/>
                    </a:lnTo>
                    <a:lnTo>
                      <a:pt x="333" y="21"/>
                    </a:lnTo>
                    <a:lnTo>
                      <a:pt x="339" y="19"/>
                    </a:lnTo>
                    <a:lnTo>
                      <a:pt x="344" y="19"/>
                    </a:lnTo>
                    <a:lnTo>
                      <a:pt x="350" y="19"/>
                    </a:lnTo>
                    <a:lnTo>
                      <a:pt x="358" y="21"/>
                    </a:lnTo>
                    <a:lnTo>
                      <a:pt x="363" y="23"/>
                    </a:lnTo>
                    <a:lnTo>
                      <a:pt x="369" y="28"/>
                    </a:lnTo>
                    <a:lnTo>
                      <a:pt x="379" y="36"/>
                    </a:lnTo>
                    <a:lnTo>
                      <a:pt x="384" y="45"/>
                    </a:lnTo>
                    <a:lnTo>
                      <a:pt x="394" y="55"/>
                    </a:lnTo>
                    <a:lnTo>
                      <a:pt x="396" y="61"/>
                    </a:lnTo>
                    <a:lnTo>
                      <a:pt x="400" y="68"/>
                    </a:lnTo>
                    <a:lnTo>
                      <a:pt x="405" y="76"/>
                    </a:lnTo>
                    <a:lnTo>
                      <a:pt x="409" y="83"/>
                    </a:lnTo>
                    <a:lnTo>
                      <a:pt x="415" y="87"/>
                    </a:lnTo>
                    <a:lnTo>
                      <a:pt x="420" y="91"/>
                    </a:lnTo>
                    <a:lnTo>
                      <a:pt x="426" y="95"/>
                    </a:lnTo>
                    <a:lnTo>
                      <a:pt x="434" y="99"/>
                    </a:lnTo>
                    <a:lnTo>
                      <a:pt x="439" y="102"/>
                    </a:lnTo>
                    <a:lnTo>
                      <a:pt x="445" y="108"/>
                    </a:lnTo>
                    <a:lnTo>
                      <a:pt x="451" y="114"/>
                    </a:lnTo>
                    <a:lnTo>
                      <a:pt x="457" y="121"/>
                    </a:lnTo>
                    <a:lnTo>
                      <a:pt x="455" y="123"/>
                    </a:lnTo>
                    <a:lnTo>
                      <a:pt x="447" y="120"/>
                    </a:lnTo>
                    <a:lnTo>
                      <a:pt x="441" y="116"/>
                    </a:lnTo>
                    <a:lnTo>
                      <a:pt x="434" y="114"/>
                    </a:lnTo>
                    <a:lnTo>
                      <a:pt x="428" y="110"/>
                    </a:lnTo>
                    <a:lnTo>
                      <a:pt x="422" y="106"/>
                    </a:lnTo>
                    <a:lnTo>
                      <a:pt x="415" y="106"/>
                    </a:lnTo>
                    <a:lnTo>
                      <a:pt x="407" y="104"/>
                    </a:lnTo>
                    <a:lnTo>
                      <a:pt x="401" y="104"/>
                    </a:lnTo>
                    <a:lnTo>
                      <a:pt x="405" y="114"/>
                    </a:lnTo>
                    <a:lnTo>
                      <a:pt x="413" y="123"/>
                    </a:lnTo>
                    <a:lnTo>
                      <a:pt x="417" y="131"/>
                    </a:lnTo>
                    <a:lnTo>
                      <a:pt x="424" y="140"/>
                    </a:lnTo>
                    <a:lnTo>
                      <a:pt x="430" y="146"/>
                    </a:lnTo>
                    <a:lnTo>
                      <a:pt x="438" y="152"/>
                    </a:lnTo>
                    <a:lnTo>
                      <a:pt x="445" y="159"/>
                    </a:lnTo>
                    <a:lnTo>
                      <a:pt x="457" y="165"/>
                    </a:lnTo>
                    <a:lnTo>
                      <a:pt x="455" y="169"/>
                    </a:lnTo>
                    <a:lnTo>
                      <a:pt x="455" y="173"/>
                    </a:lnTo>
                    <a:lnTo>
                      <a:pt x="445" y="169"/>
                    </a:lnTo>
                    <a:lnTo>
                      <a:pt x="439" y="167"/>
                    </a:lnTo>
                    <a:lnTo>
                      <a:pt x="434" y="163"/>
                    </a:lnTo>
                    <a:lnTo>
                      <a:pt x="430" y="163"/>
                    </a:lnTo>
                    <a:lnTo>
                      <a:pt x="422" y="163"/>
                    </a:lnTo>
                    <a:lnTo>
                      <a:pt x="419" y="165"/>
                    </a:lnTo>
                    <a:lnTo>
                      <a:pt x="417" y="167"/>
                    </a:lnTo>
                    <a:lnTo>
                      <a:pt x="417" y="173"/>
                    </a:lnTo>
                    <a:lnTo>
                      <a:pt x="420" y="179"/>
                    </a:lnTo>
                    <a:lnTo>
                      <a:pt x="426" y="188"/>
                    </a:lnTo>
                    <a:lnTo>
                      <a:pt x="432" y="194"/>
                    </a:lnTo>
                    <a:lnTo>
                      <a:pt x="438" y="203"/>
                    </a:lnTo>
                    <a:lnTo>
                      <a:pt x="445" y="211"/>
                    </a:lnTo>
                    <a:lnTo>
                      <a:pt x="455" y="218"/>
                    </a:lnTo>
                    <a:lnTo>
                      <a:pt x="462" y="222"/>
                    </a:lnTo>
                    <a:lnTo>
                      <a:pt x="472" y="228"/>
                    </a:lnTo>
                    <a:lnTo>
                      <a:pt x="479" y="232"/>
                    </a:lnTo>
                    <a:lnTo>
                      <a:pt x="489" y="234"/>
                    </a:lnTo>
                    <a:lnTo>
                      <a:pt x="481" y="237"/>
                    </a:lnTo>
                    <a:lnTo>
                      <a:pt x="476" y="237"/>
                    </a:lnTo>
                    <a:lnTo>
                      <a:pt x="470" y="237"/>
                    </a:lnTo>
                    <a:lnTo>
                      <a:pt x="464" y="237"/>
                    </a:lnTo>
                    <a:lnTo>
                      <a:pt x="458" y="234"/>
                    </a:lnTo>
                    <a:lnTo>
                      <a:pt x="451" y="230"/>
                    </a:lnTo>
                    <a:lnTo>
                      <a:pt x="445" y="226"/>
                    </a:lnTo>
                    <a:lnTo>
                      <a:pt x="439" y="222"/>
                    </a:lnTo>
                    <a:lnTo>
                      <a:pt x="432" y="215"/>
                    </a:lnTo>
                    <a:lnTo>
                      <a:pt x="426" y="211"/>
                    </a:lnTo>
                    <a:lnTo>
                      <a:pt x="419" y="205"/>
                    </a:lnTo>
                    <a:lnTo>
                      <a:pt x="413" y="201"/>
                    </a:lnTo>
                    <a:lnTo>
                      <a:pt x="407" y="196"/>
                    </a:lnTo>
                    <a:lnTo>
                      <a:pt x="400" y="194"/>
                    </a:lnTo>
                    <a:lnTo>
                      <a:pt x="394" y="194"/>
                    </a:lnTo>
                    <a:lnTo>
                      <a:pt x="388" y="194"/>
                    </a:lnTo>
                    <a:lnTo>
                      <a:pt x="390" y="199"/>
                    </a:lnTo>
                    <a:lnTo>
                      <a:pt x="394" y="205"/>
                    </a:lnTo>
                    <a:lnTo>
                      <a:pt x="398" y="211"/>
                    </a:lnTo>
                    <a:lnTo>
                      <a:pt x="403" y="218"/>
                    </a:lnTo>
                    <a:lnTo>
                      <a:pt x="409" y="222"/>
                    </a:lnTo>
                    <a:lnTo>
                      <a:pt x="415" y="228"/>
                    </a:lnTo>
                    <a:lnTo>
                      <a:pt x="422" y="232"/>
                    </a:lnTo>
                    <a:lnTo>
                      <a:pt x="428" y="239"/>
                    </a:lnTo>
                    <a:lnTo>
                      <a:pt x="434" y="243"/>
                    </a:lnTo>
                    <a:lnTo>
                      <a:pt x="439" y="249"/>
                    </a:lnTo>
                    <a:lnTo>
                      <a:pt x="445" y="253"/>
                    </a:lnTo>
                    <a:lnTo>
                      <a:pt x="453" y="258"/>
                    </a:lnTo>
                    <a:lnTo>
                      <a:pt x="457" y="264"/>
                    </a:lnTo>
                    <a:lnTo>
                      <a:pt x="462" y="270"/>
                    </a:lnTo>
                    <a:lnTo>
                      <a:pt x="466" y="277"/>
                    </a:lnTo>
                    <a:lnTo>
                      <a:pt x="470" y="283"/>
                    </a:lnTo>
                    <a:lnTo>
                      <a:pt x="468" y="285"/>
                    </a:lnTo>
                    <a:lnTo>
                      <a:pt x="464" y="289"/>
                    </a:lnTo>
                    <a:lnTo>
                      <a:pt x="457" y="287"/>
                    </a:lnTo>
                    <a:lnTo>
                      <a:pt x="451" y="283"/>
                    </a:lnTo>
                    <a:lnTo>
                      <a:pt x="445" y="279"/>
                    </a:lnTo>
                    <a:lnTo>
                      <a:pt x="439" y="275"/>
                    </a:lnTo>
                    <a:lnTo>
                      <a:pt x="434" y="270"/>
                    </a:lnTo>
                    <a:lnTo>
                      <a:pt x="426" y="266"/>
                    </a:lnTo>
                    <a:lnTo>
                      <a:pt x="419" y="266"/>
                    </a:lnTo>
                    <a:lnTo>
                      <a:pt x="413" y="268"/>
                    </a:lnTo>
                    <a:lnTo>
                      <a:pt x="419" y="275"/>
                    </a:lnTo>
                    <a:lnTo>
                      <a:pt x="426" y="285"/>
                    </a:lnTo>
                    <a:lnTo>
                      <a:pt x="432" y="294"/>
                    </a:lnTo>
                    <a:lnTo>
                      <a:pt x="438" y="304"/>
                    </a:lnTo>
                    <a:lnTo>
                      <a:pt x="439" y="313"/>
                    </a:lnTo>
                    <a:lnTo>
                      <a:pt x="441" y="323"/>
                    </a:lnTo>
                    <a:lnTo>
                      <a:pt x="443" y="332"/>
                    </a:lnTo>
                    <a:lnTo>
                      <a:pt x="445" y="342"/>
                    </a:lnTo>
                    <a:lnTo>
                      <a:pt x="445" y="352"/>
                    </a:lnTo>
                    <a:lnTo>
                      <a:pt x="447" y="361"/>
                    </a:lnTo>
                    <a:lnTo>
                      <a:pt x="449" y="371"/>
                    </a:lnTo>
                    <a:lnTo>
                      <a:pt x="451" y="382"/>
                    </a:lnTo>
                    <a:lnTo>
                      <a:pt x="453" y="391"/>
                    </a:lnTo>
                    <a:lnTo>
                      <a:pt x="458" y="403"/>
                    </a:lnTo>
                    <a:lnTo>
                      <a:pt x="462" y="412"/>
                    </a:lnTo>
                    <a:lnTo>
                      <a:pt x="470" y="422"/>
                    </a:lnTo>
                    <a:lnTo>
                      <a:pt x="464" y="428"/>
                    </a:lnTo>
                    <a:lnTo>
                      <a:pt x="458" y="424"/>
                    </a:lnTo>
                    <a:lnTo>
                      <a:pt x="455" y="420"/>
                    </a:lnTo>
                    <a:lnTo>
                      <a:pt x="451" y="422"/>
                    </a:lnTo>
                    <a:lnTo>
                      <a:pt x="449" y="428"/>
                    </a:lnTo>
                    <a:lnTo>
                      <a:pt x="457" y="437"/>
                    </a:lnTo>
                    <a:lnTo>
                      <a:pt x="464" y="448"/>
                    </a:lnTo>
                    <a:lnTo>
                      <a:pt x="466" y="452"/>
                    </a:lnTo>
                    <a:lnTo>
                      <a:pt x="470" y="460"/>
                    </a:lnTo>
                    <a:lnTo>
                      <a:pt x="472" y="466"/>
                    </a:lnTo>
                    <a:lnTo>
                      <a:pt x="476" y="471"/>
                    </a:lnTo>
                    <a:lnTo>
                      <a:pt x="477" y="479"/>
                    </a:lnTo>
                    <a:lnTo>
                      <a:pt x="479" y="485"/>
                    </a:lnTo>
                    <a:lnTo>
                      <a:pt x="481" y="492"/>
                    </a:lnTo>
                    <a:lnTo>
                      <a:pt x="485" y="500"/>
                    </a:lnTo>
                    <a:lnTo>
                      <a:pt x="487" y="505"/>
                    </a:lnTo>
                    <a:lnTo>
                      <a:pt x="489" y="515"/>
                    </a:lnTo>
                    <a:lnTo>
                      <a:pt x="489" y="523"/>
                    </a:lnTo>
                    <a:lnTo>
                      <a:pt x="491" y="530"/>
                    </a:lnTo>
                    <a:lnTo>
                      <a:pt x="491" y="536"/>
                    </a:lnTo>
                    <a:lnTo>
                      <a:pt x="493" y="545"/>
                    </a:lnTo>
                    <a:lnTo>
                      <a:pt x="493" y="553"/>
                    </a:lnTo>
                    <a:lnTo>
                      <a:pt x="495" y="561"/>
                    </a:lnTo>
                    <a:lnTo>
                      <a:pt x="495" y="568"/>
                    </a:lnTo>
                    <a:lnTo>
                      <a:pt x="495" y="578"/>
                    </a:lnTo>
                    <a:lnTo>
                      <a:pt x="495" y="585"/>
                    </a:lnTo>
                    <a:lnTo>
                      <a:pt x="496" y="595"/>
                    </a:lnTo>
                    <a:lnTo>
                      <a:pt x="495" y="601"/>
                    </a:lnTo>
                    <a:lnTo>
                      <a:pt x="495" y="610"/>
                    </a:lnTo>
                    <a:lnTo>
                      <a:pt x="495" y="618"/>
                    </a:lnTo>
                    <a:lnTo>
                      <a:pt x="495" y="627"/>
                    </a:lnTo>
                    <a:lnTo>
                      <a:pt x="493" y="635"/>
                    </a:lnTo>
                    <a:lnTo>
                      <a:pt x="493" y="644"/>
                    </a:lnTo>
                    <a:lnTo>
                      <a:pt x="491" y="652"/>
                    </a:lnTo>
                    <a:lnTo>
                      <a:pt x="491" y="661"/>
                    </a:lnTo>
                    <a:lnTo>
                      <a:pt x="489" y="669"/>
                    </a:lnTo>
                    <a:lnTo>
                      <a:pt x="487" y="677"/>
                    </a:lnTo>
                    <a:lnTo>
                      <a:pt x="485" y="682"/>
                    </a:lnTo>
                    <a:lnTo>
                      <a:pt x="483" y="692"/>
                    </a:lnTo>
                    <a:lnTo>
                      <a:pt x="481" y="698"/>
                    </a:lnTo>
                    <a:lnTo>
                      <a:pt x="479" y="707"/>
                    </a:lnTo>
                    <a:lnTo>
                      <a:pt x="477" y="713"/>
                    </a:lnTo>
                    <a:lnTo>
                      <a:pt x="474" y="720"/>
                    </a:lnTo>
                    <a:lnTo>
                      <a:pt x="472" y="728"/>
                    </a:lnTo>
                    <a:lnTo>
                      <a:pt x="468" y="736"/>
                    </a:lnTo>
                    <a:lnTo>
                      <a:pt x="464" y="743"/>
                    </a:lnTo>
                    <a:lnTo>
                      <a:pt x="462" y="751"/>
                    </a:lnTo>
                    <a:lnTo>
                      <a:pt x="458" y="756"/>
                    </a:lnTo>
                    <a:lnTo>
                      <a:pt x="455" y="762"/>
                    </a:lnTo>
                    <a:lnTo>
                      <a:pt x="453" y="770"/>
                    </a:lnTo>
                    <a:lnTo>
                      <a:pt x="449" y="775"/>
                    </a:lnTo>
                    <a:lnTo>
                      <a:pt x="441" y="787"/>
                    </a:lnTo>
                    <a:lnTo>
                      <a:pt x="434" y="796"/>
                    </a:lnTo>
                    <a:lnTo>
                      <a:pt x="424" y="806"/>
                    </a:lnTo>
                    <a:lnTo>
                      <a:pt x="415" y="815"/>
                    </a:lnTo>
                    <a:lnTo>
                      <a:pt x="405" y="821"/>
                    </a:lnTo>
                    <a:lnTo>
                      <a:pt x="394" y="827"/>
                    </a:lnTo>
                    <a:lnTo>
                      <a:pt x="384" y="832"/>
                    </a:lnTo>
                    <a:lnTo>
                      <a:pt x="373" y="836"/>
                    </a:lnTo>
                    <a:lnTo>
                      <a:pt x="369" y="832"/>
                    </a:lnTo>
                    <a:lnTo>
                      <a:pt x="367" y="823"/>
                    </a:lnTo>
                    <a:lnTo>
                      <a:pt x="363" y="813"/>
                    </a:lnTo>
                    <a:lnTo>
                      <a:pt x="360" y="810"/>
                    </a:lnTo>
                    <a:lnTo>
                      <a:pt x="352" y="812"/>
                    </a:lnTo>
                    <a:lnTo>
                      <a:pt x="342" y="817"/>
                    </a:lnTo>
                    <a:lnTo>
                      <a:pt x="333" y="819"/>
                    </a:lnTo>
                    <a:lnTo>
                      <a:pt x="325" y="821"/>
                    </a:lnTo>
                    <a:lnTo>
                      <a:pt x="329" y="812"/>
                    </a:lnTo>
                    <a:lnTo>
                      <a:pt x="335" y="802"/>
                    </a:lnTo>
                    <a:lnTo>
                      <a:pt x="339" y="793"/>
                    </a:lnTo>
                    <a:lnTo>
                      <a:pt x="346" y="785"/>
                    </a:lnTo>
                    <a:lnTo>
                      <a:pt x="350" y="777"/>
                    </a:lnTo>
                    <a:lnTo>
                      <a:pt x="356" y="770"/>
                    </a:lnTo>
                    <a:lnTo>
                      <a:pt x="362" y="762"/>
                    </a:lnTo>
                    <a:lnTo>
                      <a:pt x="367" y="756"/>
                    </a:lnTo>
                    <a:lnTo>
                      <a:pt x="373" y="749"/>
                    </a:lnTo>
                    <a:lnTo>
                      <a:pt x="379" y="743"/>
                    </a:lnTo>
                    <a:lnTo>
                      <a:pt x="384" y="736"/>
                    </a:lnTo>
                    <a:lnTo>
                      <a:pt x="390" y="730"/>
                    </a:lnTo>
                    <a:lnTo>
                      <a:pt x="396" y="724"/>
                    </a:lnTo>
                    <a:lnTo>
                      <a:pt x="400" y="717"/>
                    </a:lnTo>
                    <a:lnTo>
                      <a:pt x="405" y="711"/>
                    </a:lnTo>
                    <a:lnTo>
                      <a:pt x="413" y="705"/>
                    </a:lnTo>
                    <a:lnTo>
                      <a:pt x="417" y="698"/>
                    </a:lnTo>
                    <a:lnTo>
                      <a:pt x="420" y="692"/>
                    </a:lnTo>
                    <a:lnTo>
                      <a:pt x="424" y="686"/>
                    </a:lnTo>
                    <a:lnTo>
                      <a:pt x="430" y="678"/>
                    </a:lnTo>
                    <a:lnTo>
                      <a:pt x="434" y="671"/>
                    </a:lnTo>
                    <a:lnTo>
                      <a:pt x="438" y="665"/>
                    </a:lnTo>
                    <a:lnTo>
                      <a:pt x="441" y="658"/>
                    </a:lnTo>
                    <a:lnTo>
                      <a:pt x="443" y="650"/>
                    </a:lnTo>
                    <a:lnTo>
                      <a:pt x="445" y="642"/>
                    </a:lnTo>
                    <a:lnTo>
                      <a:pt x="447" y="633"/>
                    </a:lnTo>
                    <a:lnTo>
                      <a:pt x="449" y="625"/>
                    </a:lnTo>
                    <a:lnTo>
                      <a:pt x="449" y="616"/>
                    </a:lnTo>
                    <a:lnTo>
                      <a:pt x="449" y="606"/>
                    </a:lnTo>
                    <a:lnTo>
                      <a:pt x="449" y="597"/>
                    </a:lnTo>
                    <a:lnTo>
                      <a:pt x="449" y="585"/>
                    </a:lnTo>
                    <a:lnTo>
                      <a:pt x="447" y="576"/>
                    </a:lnTo>
                    <a:lnTo>
                      <a:pt x="445" y="563"/>
                    </a:lnTo>
                    <a:lnTo>
                      <a:pt x="445" y="553"/>
                    </a:lnTo>
                    <a:lnTo>
                      <a:pt x="443" y="542"/>
                    </a:lnTo>
                    <a:lnTo>
                      <a:pt x="441" y="532"/>
                    </a:lnTo>
                    <a:lnTo>
                      <a:pt x="439" y="521"/>
                    </a:lnTo>
                    <a:lnTo>
                      <a:pt x="436" y="509"/>
                    </a:lnTo>
                    <a:lnTo>
                      <a:pt x="434" y="500"/>
                    </a:lnTo>
                    <a:lnTo>
                      <a:pt x="432" y="488"/>
                    </a:lnTo>
                    <a:lnTo>
                      <a:pt x="426" y="477"/>
                    </a:lnTo>
                    <a:lnTo>
                      <a:pt x="422" y="467"/>
                    </a:lnTo>
                    <a:lnTo>
                      <a:pt x="419" y="454"/>
                    </a:lnTo>
                    <a:lnTo>
                      <a:pt x="415" y="445"/>
                    </a:lnTo>
                    <a:lnTo>
                      <a:pt x="409" y="433"/>
                    </a:lnTo>
                    <a:lnTo>
                      <a:pt x="405" y="422"/>
                    </a:lnTo>
                    <a:lnTo>
                      <a:pt x="400" y="410"/>
                    </a:lnTo>
                    <a:lnTo>
                      <a:pt x="396" y="399"/>
                    </a:lnTo>
                    <a:lnTo>
                      <a:pt x="388" y="388"/>
                    </a:lnTo>
                    <a:lnTo>
                      <a:pt x="384" y="378"/>
                    </a:lnTo>
                    <a:lnTo>
                      <a:pt x="379" y="367"/>
                    </a:lnTo>
                    <a:lnTo>
                      <a:pt x="375" y="355"/>
                    </a:lnTo>
                    <a:lnTo>
                      <a:pt x="369" y="344"/>
                    </a:lnTo>
                    <a:lnTo>
                      <a:pt x="365" y="332"/>
                    </a:lnTo>
                    <a:lnTo>
                      <a:pt x="360" y="321"/>
                    </a:lnTo>
                    <a:lnTo>
                      <a:pt x="356" y="312"/>
                    </a:lnTo>
                    <a:lnTo>
                      <a:pt x="350" y="302"/>
                    </a:lnTo>
                    <a:lnTo>
                      <a:pt x="346" y="291"/>
                    </a:lnTo>
                    <a:lnTo>
                      <a:pt x="342" y="279"/>
                    </a:lnTo>
                    <a:lnTo>
                      <a:pt x="341" y="270"/>
                    </a:lnTo>
                    <a:lnTo>
                      <a:pt x="337" y="260"/>
                    </a:lnTo>
                    <a:lnTo>
                      <a:pt x="335" y="251"/>
                    </a:lnTo>
                    <a:lnTo>
                      <a:pt x="333" y="241"/>
                    </a:lnTo>
                    <a:lnTo>
                      <a:pt x="331" y="234"/>
                    </a:lnTo>
                    <a:lnTo>
                      <a:pt x="323" y="230"/>
                    </a:lnTo>
                    <a:lnTo>
                      <a:pt x="316" y="230"/>
                    </a:lnTo>
                    <a:lnTo>
                      <a:pt x="310" y="228"/>
                    </a:lnTo>
                    <a:lnTo>
                      <a:pt x="304" y="226"/>
                    </a:lnTo>
                    <a:lnTo>
                      <a:pt x="297" y="222"/>
                    </a:lnTo>
                    <a:lnTo>
                      <a:pt x="289" y="222"/>
                    </a:lnTo>
                    <a:lnTo>
                      <a:pt x="284" y="220"/>
                    </a:lnTo>
                    <a:lnTo>
                      <a:pt x="276" y="218"/>
                    </a:lnTo>
                    <a:lnTo>
                      <a:pt x="268" y="215"/>
                    </a:lnTo>
                    <a:lnTo>
                      <a:pt x="263" y="215"/>
                    </a:lnTo>
                    <a:lnTo>
                      <a:pt x="255" y="213"/>
                    </a:lnTo>
                    <a:lnTo>
                      <a:pt x="249" y="211"/>
                    </a:lnTo>
                    <a:lnTo>
                      <a:pt x="242" y="209"/>
                    </a:lnTo>
                    <a:lnTo>
                      <a:pt x="236" y="207"/>
                    </a:lnTo>
                    <a:lnTo>
                      <a:pt x="228" y="205"/>
                    </a:lnTo>
                    <a:lnTo>
                      <a:pt x="223" y="203"/>
                    </a:lnTo>
                    <a:lnTo>
                      <a:pt x="215" y="201"/>
                    </a:lnTo>
                    <a:lnTo>
                      <a:pt x="209" y="199"/>
                    </a:lnTo>
                    <a:lnTo>
                      <a:pt x="202" y="196"/>
                    </a:lnTo>
                    <a:lnTo>
                      <a:pt x="194" y="194"/>
                    </a:lnTo>
                    <a:lnTo>
                      <a:pt x="189" y="192"/>
                    </a:lnTo>
                    <a:lnTo>
                      <a:pt x="183" y="188"/>
                    </a:lnTo>
                    <a:lnTo>
                      <a:pt x="175" y="186"/>
                    </a:lnTo>
                    <a:lnTo>
                      <a:pt x="169" y="184"/>
                    </a:lnTo>
                    <a:lnTo>
                      <a:pt x="164" y="182"/>
                    </a:lnTo>
                    <a:lnTo>
                      <a:pt x="156" y="179"/>
                    </a:lnTo>
                    <a:lnTo>
                      <a:pt x="150" y="177"/>
                    </a:lnTo>
                    <a:lnTo>
                      <a:pt x="145" y="175"/>
                    </a:lnTo>
                    <a:lnTo>
                      <a:pt x="133" y="167"/>
                    </a:lnTo>
                    <a:lnTo>
                      <a:pt x="122" y="163"/>
                    </a:lnTo>
                    <a:lnTo>
                      <a:pt x="116" y="158"/>
                    </a:lnTo>
                    <a:lnTo>
                      <a:pt x="109" y="156"/>
                    </a:lnTo>
                    <a:lnTo>
                      <a:pt x="103" y="152"/>
                    </a:lnTo>
                    <a:lnTo>
                      <a:pt x="99" y="148"/>
                    </a:lnTo>
                    <a:lnTo>
                      <a:pt x="88" y="140"/>
                    </a:lnTo>
                    <a:lnTo>
                      <a:pt x="78" y="133"/>
                    </a:lnTo>
                    <a:lnTo>
                      <a:pt x="69" y="123"/>
                    </a:lnTo>
                    <a:lnTo>
                      <a:pt x="57" y="116"/>
                    </a:lnTo>
                    <a:lnTo>
                      <a:pt x="50" y="106"/>
                    </a:lnTo>
                    <a:lnTo>
                      <a:pt x="42" y="97"/>
                    </a:lnTo>
                    <a:lnTo>
                      <a:pt x="35" y="85"/>
                    </a:lnTo>
                    <a:lnTo>
                      <a:pt x="27" y="76"/>
                    </a:lnTo>
                    <a:lnTo>
                      <a:pt x="21" y="64"/>
                    </a:lnTo>
                    <a:lnTo>
                      <a:pt x="15" y="53"/>
                    </a:lnTo>
                    <a:lnTo>
                      <a:pt x="14" y="47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6" y="28"/>
                    </a:lnTo>
                    <a:lnTo>
                      <a:pt x="4" y="21"/>
                    </a:lnTo>
                    <a:lnTo>
                      <a:pt x="4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160400" y="3706560"/>
                <a:ext cx="93240" cy="42840"/>
              </a:xfrm>
              <a:custGeom>
                <a:avLst/>
                <a:gdLst/>
                <a:ahLst/>
                <a:rect l="l" t="t" r="r" b="b"/>
                <a:pathLst>
                  <a:path w="118" h="53">
                    <a:moveTo>
                      <a:pt x="101" y="0"/>
                    </a:move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2"/>
                    </a:lnTo>
                    <a:lnTo>
                      <a:pt x="118" y="6"/>
                    </a:lnTo>
                    <a:lnTo>
                      <a:pt x="108" y="7"/>
                    </a:lnTo>
                    <a:lnTo>
                      <a:pt x="101" y="11"/>
                    </a:lnTo>
                    <a:lnTo>
                      <a:pt x="95" y="13"/>
                    </a:lnTo>
                    <a:lnTo>
                      <a:pt x="87" y="17"/>
                    </a:lnTo>
                    <a:lnTo>
                      <a:pt x="80" y="21"/>
                    </a:lnTo>
                    <a:lnTo>
                      <a:pt x="72" y="23"/>
                    </a:lnTo>
                    <a:lnTo>
                      <a:pt x="64" y="26"/>
                    </a:lnTo>
                    <a:lnTo>
                      <a:pt x="59" y="30"/>
                    </a:lnTo>
                    <a:lnTo>
                      <a:pt x="51" y="32"/>
                    </a:lnTo>
                    <a:lnTo>
                      <a:pt x="43" y="36"/>
                    </a:lnTo>
                    <a:lnTo>
                      <a:pt x="36" y="40"/>
                    </a:lnTo>
                    <a:lnTo>
                      <a:pt x="30" y="42"/>
                    </a:lnTo>
                    <a:lnTo>
                      <a:pt x="23" y="45"/>
                    </a:lnTo>
                    <a:lnTo>
                      <a:pt x="15" y="47"/>
                    </a:lnTo>
                    <a:lnTo>
                      <a:pt x="7" y="49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4" y="44"/>
                    </a:lnTo>
                    <a:lnTo>
                      <a:pt x="7" y="3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6" y="28"/>
                    </a:lnTo>
                    <a:lnTo>
                      <a:pt x="32" y="25"/>
                    </a:lnTo>
                    <a:lnTo>
                      <a:pt x="40" y="23"/>
                    </a:lnTo>
                    <a:lnTo>
                      <a:pt x="47" y="21"/>
                    </a:lnTo>
                    <a:lnTo>
                      <a:pt x="53" y="19"/>
                    </a:lnTo>
                    <a:lnTo>
                      <a:pt x="61" y="17"/>
                    </a:lnTo>
                    <a:lnTo>
                      <a:pt x="68" y="13"/>
                    </a:lnTo>
                    <a:lnTo>
                      <a:pt x="76" y="13"/>
                    </a:lnTo>
                    <a:lnTo>
                      <a:pt x="81" y="9"/>
                    </a:lnTo>
                    <a:lnTo>
                      <a:pt x="87" y="7"/>
                    </a:lnTo>
                    <a:lnTo>
                      <a:pt x="95" y="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582680" y="371628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8" y="0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2" y="15"/>
                    </a:lnTo>
                    <a:lnTo>
                      <a:pt x="46" y="17"/>
                    </a:lnTo>
                    <a:lnTo>
                      <a:pt x="42" y="19"/>
                    </a:lnTo>
                    <a:lnTo>
                      <a:pt x="35" y="21"/>
                    </a:lnTo>
                    <a:lnTo>
                      <a:pt x="29" y="21"/>
                    </a:lnTo>
                    <a:lnTo>
                      <a:pt x="23" y="21"/>
                    </a:lnTo>
                    <a:lnTo>
                      <a:pt x="17" y="21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368120" y="37242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57" y="2"/>
                    </a:moveTo>
                    <a:lnTo>
                      <a:pt x="66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3" y="19"/>
                    </a:lnTo>
                    <a:lnTo>
                      <a:pt x="74" y="21"/>
                    </a:lnTo>
                    <a:lnTo>
                      <a:pt x="64" y="24"/>
                    </a:lnTo>
                    <a:lnTo>
                      <a:pt x="55" y="26"/>
                    </a:lnTo>
                    <a:lnTo>
                      <a:pt x="45" y="30"/>
                    </a:lnTo>
                    <a:lnTo>
                      <a:pt x="36" y="34"/>
                    </a:lnTo>
                    <a:lnTo>
                      <a:pt x="26" y="36"/>
                    </a:lnTo>
                    <a:lnTo>
                      <a:pt x="17" y="40"/>
                    </a:lnTo>
                    <a:lnTo>
                      <a:pt x="7" y="45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6" y="11"/>
                    </a:lnTo>
                    <a:lnTo>
                      <a:pt x="30" y="11"/>
                    </a:lnTo>
                    <a:lnTo>
                      <a:pt x="38" y="11"/>
                    </a:lnTo>
                    <a:lnTo>
                      <a:pt x="47" y="7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918840" y="372564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7"/>
                    </a:lnTo>
                    <a:lnTo>
                      <a:pt x="55" y="22"/>
                    </a:lnTo>
                    <a:lnTo>
                      <a:pt x="62" y="28"/>
                    </a:lnTo>
                    <a:lnTo>
                      <a:pt x="66" y="32"/>
                    </a:lnTo>
                    <a:lnTo>
                      <a:pt x="68" y="38"/>
                    </a:lnTo>
                    <a:lnTo>
                      <a:pt x="72" y="43"/>
                    </a:lnTo>
                    <a:lnTo>
                      <a:pt x="74" y="51"/>
                    </a:lnTo>
                    <a:lnTo>
                      <a:pt x="72" y="53"/>
                    </a:lnTo>
                    <a:lnTo>
                      <a:pt x="70" y="55"/>
                    </a:lnTo>
                    <a:lnTo>
                      <a:pt x="60" y="49"/>
                    </a:lnTo>
                    <a:lnTo>
                      <a:pt x="49" y="43"/>
                    </a:lnTo>
                    <a:lnTo>
                      <a:pt x="43" y="41"/>
                    </a:lnTo>
                    <a:lnTo>
                      <a:pt x="38" y="38"/>
                    </a:lnTo>
                    <a:lnTo>
                      <a:pt x="32" y="34"/>
                    </a:lnTo>
                    <a:lnTo>
                      <a:pt x="26" y="32"/>
                    </a:lnTo>
                    <a:lnTo>
                      <a:pt x="15" y="22"/>
                    </a:lnTo>
                    <a:lnTo>
                      <a:pt x="7" y="15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525440" y="373536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33" y="0"/>
                    </a:moveTo>
                    <a:lnTo>
                      <a:pt x="42" y="0"/>
                    </a:lnTo>
                    <a:lnTo>
                      <a:pt x="52" y="2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1" y="13"/>
                    </a:lnTo>
                    <a:lnTo>
                      <a:pt x="67" y="15"/>
                    </a:lnTo>
                    <a:lnTo>
                      <a:pt x="59" y="21"/>
                    </a:lnTo>
                    <a:lnTo>
                      <a:pt x="50" y="23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29" y="27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0" y="27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5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464240" y="3765240"/>
                <a:ext cx="66240" cy="1908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30" y="0"/>
                    </a:move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0" y="25"/>
                    </a:lnTo>
                    <a:lnTo>
                      <a:pt x="21" y="25"/>
                    </a:lnTo>
                    <a:lnTo>
                      <a:pt x="9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13" y="6"/>
                    </a:lnTo>
                    <a:lnTo>
                      <a:pt x="21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6968160" y="3784320"/>
                <a:ext cx="209160" cy="228600"/>
              </a:xfrm>
              <a:custGeom>
                <a:avLst/>
                <a:gdLst/>
                <a:ahLst/>
                <a:rect l="l" t="t" r="r" b="b"/>
                <a:pathLst>
                  <a:path w="264" h="289">
                    <a:moveTo>
                      <a:pt x="121" y="11"/>
                    </a:moveTo>
                    <a:lnTo>
                      <a:pt x="133" y="5"/>
                    </a:lnTo>
                    <a:lnTo>
                      <a:pt x="144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8" y="4"/>
                    </a:lnTo>
                    <a:lnTo>
                      <a:pt x="198" y="5"/>
                    </a:lnTo>
                    <a:lnTo>
                      <a:pt x="207" y="9"/>
                    </a:lnTo>
                    <a:lnTo>
                      <a:pt x="215" y="13"/>
                    </a:lnTo>
                    <a:lnTo>
                      <a:pt x="222" y="17"/>
                    </a:lnTo>
                    <a:lnTo>
                      <a:pt x="230" y="23"/>
                    </a:lnTo>
                    <a:lnTo>
                      <a:pt x="237" y="28"/>
                    </a:lnTo>
                    <a:lnTo>
                      <a:pt x="243" y="36"/>
                    </a:lnTo>
                    <a:lnTo>
                      <a:pt x="249" y="42"/>
                    </a:lnTo>
                    <a:lnTo>
                      <a:pt x="253" y="49"/>
                    </a:lnTo>
                    <a:lnTo>
                      <a:pt x="258" y="55"/>
                    </a:lnTo>
                    <a:lnTo>
                      <a:pt x="260" y="62"/>
                    </a:lnTo>
                    <a:lnTo>
                      <a:pt x="262" y="68"/>
                    </a:lnTo>
                    <a:lnTo>
                      <a:pt x="262" y="76"/>
                    </a:lnTo>
                    <a:lnTo>
                      <a:pt x="262" y="82"/>
                    </a:lnTo>
                    <a:lnTo>
                      <a:pt x="262" y="87"/>
                    </a:lnTo>
                    <a:lnTo>
                      <a:pt x="260" y="93"/>
                    </a:lnTo>
                    <a:lnTo>
                      <a:pt x="255" y="97"/>
                    </a:lnTo>
                    <a:lnTo>
                      <a:pt x="253" y="102"/>
                    </a:lnTo>
                    <a:lnTo>
                      <a:pt x="245" y="104"/>
                    </a:lnTo>
                    <a:lnTo>
                      <a:pt x="237" y="108"/>
                    </a:lnTo>
                    <a:lnTo>
                      <a:pt x="230" y="110"/>
                    </a:lnTo>
                    <a:lnTo>
                      <a:pt x="222" y="112"/>
                    </a:lnTo>
                    <a:lnTo>
                      <a:pt x="215" y="110"/>
                    </a:lnTo>
                    <a:lnTo>
                      <a:pt x="209" y="110"/>
                    </a:lnTo>
                    <a:lnTo>
                      <a:pt x="203" y="108"/>
                    </a:lnTo>
                    <a:lnTo>
                      <a:pt x="198" y="108"/>
                    </a:lnTo>
                    <a:lnTo>
                      <a:pt x="190" y="106"/>
                    </a:lnTo>
                    <a:lnTo>
                      <a:pt x="184" y="106"/>
                    </a:lnTo>
                    <a:lnTo>
                      <a:pt x="177" y="104"/>
                    </a:lnTo>
                    <a:lnTo>
                      <a:pt x="169" y="102"/>
                    </a:lnTo>
                    <a:lnTo>
                      <a:pt x="160" y="99"/>
                    </a:lnTo>
                    <a:lnTo>
                      <a:pt x="150" y="95"/>
                    </a:lnTo>
                    <a:lnTo>
                      <a:pt x="140" y="91"/>
                    </a:lnTo>
                    <a:lnTo>
                      <a:pt x="131" y="89"/>
                    </a:lnTo>
                    <a:lnTo>
                      <a:pt x="120" y="85"/>
                    </a:lnTo>
                    <a:lnTo>
                      <a:pt x="108" y="85"/>
                    </a:lnTo>
                    <a:lnTo>
                      <a:pt x="102" y="85"/>
                    </a:lnTo>
                    <a:lnTo>
                      <a:pt x="97" y="85"/>
                    </a:lnTo>
                    <a:lnTo>
                      <a:pt x="89" y="87"/>
                    </a:lnTo>
                    <a:lnTo>
                      <a:pt x="85" y="89"/>
                    </a:lnTo>
                    <a:lnTo>
                      <a:pt x="91" y="97"/>
                    </a:lnTo>
                    <a:lnTo>
                      <a:pt x="99" y="104"/>
                    </a:lnTo>
                    <a:lnTo>
                      <a:pt x="106" y="106"/>
                    </a:lnTo>
                    <a:lnTo>
                      <a:pt x="116" y="110"/>
                    </a:lnTo>
                    <a:lnTo>
                      <a:pt x="123" y="112"/>
                    </a:lnTo>
                    <a:lnTo>
                      <a:pt x="133" y="114"/>
                    </a:lnTo>
                    <a:lnTo>
                      <a:pt x="142" y="118"/>
                    </a:lnTo>
                    <a:lnTo>
                      <a:pt x="154" y="123"/>
                    </a:lnTo>
                    <a:lnTo>
                      <a:pt x="160" y="125"/>
                    </a:lnTo>
                    <a:lnTo>
                      <a:pt x="165" y="129"/>
                    </a:lnTo>
                    <a:lnTo>
                      <a:pt x="169" y="131"/>
                    </a:lnTo>
                    <a:lnTo>
                      <a:pt x="173" y="135"/>
                    </a:lnTo>
                    <a:lnTo>
                      <a:pt x="179" y="137"/>
                    </a:lnTo>
                    <a:lnTo>
                      <a:pt x="182" y="140"/>
                    </a:lnTo>
                    <a:lnTo>
                      <a:pt x="179" y="140"/>
                    </a:lnTo>
                    <a:lnTo>
                      <a:pt x="173" y="142"/>
                    </a:lnTo>
                    <a:lnTo>
                      <a:pt x="167" y="140"/>
                    </a:lnTo>
                    <a:lnTo>
                      <a:pt x="160" y="140"/>
                    </a:lnTo>
                    <a:lnTo>
                      <a:pt x="152" y="137"/>
                    </a:lnTo>
                    <a:lnTo>
                      <a:pt x="144" y="135"/>
                    </a:lnTo>
                    <a:lnTo>
                      <a:pt x="137" y="131"/>
                    </a:lnTo>
                    <a:lnTo>
                      <a:pt x="131" y="129"/>
                    </a:lnTo>
                    <a:lnTo>
                      <a:pt x="121" y="125"/>
                    </a:lnTo>
                    <a:lnTo>
                      <a:pt x="116" y="123"/>
                    </a:lnTo>
                    <a:lnTo>
                      <a:pt x="108" y="121"/>
                    </a:lnTo>
                    <a:lnTo>
                      <a:pt x="104" y="121"/>
                    </a:lnTo>
                    <a:lnTo>
                      <a:pt x="99" y="121"/>
                    </a:lnTo>
                    <a:lnTo>
                      <a:pt x="97" y="123"/>
                    </a:lnTo>
                    <a:lnTo>
                      <a:pt x="97" y="125"/>
                    </a:lnTo>
                    <a:lnTo>
                      <a:pt x="99" y="131"/>
                    </a:lnTo>
                    <a:lnTo>
                      <a:pt x="101" y="137"/>
                    </a:lnTo>
                    <a:lnTo>
                      <a:pt x="102" y="142"/>
                    </a:lnTo>
                    <a:lnTo>
                      <a:pt x="106" y="146"/>
                    </a:lnTo>
                    <a:lnTo>
                      <a:pt x="108" y="150"/>
                    </a:lnTo>
                    <a:lnTo>
                      <a:pt x="116" y="156"/>
                    </a:lnTo>
                    <a:lnTo>
                      <a:pt x="125" y="159"/>
                    </a:lnTo>
                    <a:lnTo>
                      <a:pt x="133" y="159"/>
                    </a:lnTo>
                    <a:lnTo>
                      <a:pt x="142" y="161"/>
                    </a:lnTo>
                    <a:lnTo>
                      <a:pt x="152" y="159"/>
                    </a:lnTo>
                    <a:lnTo>
                      <a:pt x="163" y="158"/>
                    </a:lnTo>
                    <a:lnTo>
                      <a:pt x="173" y="154"/>
                    </a:lnTo>
                    <a:lnTo>
                      <a:pt x="182" y="154"/>
                    </a:lnTo>
                    <a:lnTo>
                      <a:pt x="192" y="152"/>
                    </a:lnTo>
                    <a:lnTo>
                      <a:pt x="201" y="154"/>
                    </a:lnTo>
                    <a:lnTo>
                      <a:pt x="209" y="154"/>
                    </a:lnTo>
                    <a:lnTo>
                      <a:pt x="218" y="156"/>
                    </a:lnTo>
                    <a:lnTo>
                      <a:pt x="224" y="159"/>
                    </a:lnTo>
                    <a:lnTo>
                      <a:pt x="232" y="163"/>
                    </a:lnTo>
                    <a:lnTo>
                      <a:pt x="237" y="165"/>
                    </a:lnTo>
                    <a:lnTo>
                      <a:pt x="243" y="171"/>
                    </a:lnTo>
                    <a:lnTo>
                      <a:pt x="247" y="177"/>
                    </a:lnTo>
                    <a:lnTo>
                      <a:pt x="253" y="182"/>
                    </a:lnTo>
                    <a:lnTo>
                      <a:pt x="255" y="190"/>
                    </a:lnTo>
                    <a:lnTo>
                      <a:pt x="256" y="196"/>
                    </a:lnTo>
                    <a:lnTo>
                      <a:pt x="260" y="201"/>
                    </a:lnTo>
                    <a:lnTo>
                      <a:pt x="262" y="209"/>
                    </a:lnTo>
                    <a:lnTo>
                      <a:pt x="262" y="216"/>
                    </a:lnTo>
                    <a:lnTo>
                      <a:pt x="264" y="222"/>
                    </a:lnTo>
                    <a:lnTo>
                      <a:pt x="264" y="228"/>
                    </a:lnTo>
                    <a:lnTo>
                      <a:pt x="264" y="235"/>
                    </a:lnTo>
                    <a:lnTo>
                      <a:pt x="262" y="241"/>
                    </a:lnTo>
                    <a:lnTo>
                      <a:pt x="262" y="247"/>
                    </a:lnTo>
                    <a:lnTo>
                      <a:pt x="260" y="253"/>
                    </a:lnTo>
                    <a:lnTo>
                      <a:pt x="258" y="256"/>
                    </a:lnTo>
                    <a:lnTo>
                      <a:pt x="253" y="262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34" y="262"/>
                    </a:lnTo>
                    <a:lnTo>
                      <a:pt x="228" y="256"/>
                    </a:lnTo>
                    <a:lnTo>
                      <a:pt x="226" y="255"/>
                    </a:lnTo>
                    <a:lnTo>
                      <a:pt x="220" y="247"/>
                    </a:lnTo>
                    <a:lnTo>
                      <a:pt x="217" y="243"/>
                    </a:lnTo>
                    <a:lnTo>
                      <a:pt x="211" y="234"/>
                    </a:lnTo>
                    <a:lnTo>
                      <a:pt x="209" y="226"/>
                    </a:lnTo>
                    <a:lnTo>
                      <a:pt x="203" y="216"/>
                    </a:lnTo>
                    <a:lnTo>
                      <a:pt x="199" y="205"/>
                    </a:lnTo>
                    <a:lnTo>
                      <a:pt x="196" y="197"/>
                    </a:lnTo>
                    <a:lnTo>
                      <a:pt x="192" y="192"/>
                    </a:lnTo>
                    <a:lnTo>
                      <a:pt x="188" y="190"/>
                    </a:lnTo>
                    <a:lnTo>
                      <a:pt x="184" y="188"/>
                    </a:lnTo>
                    <a:lnTo>
                      <a:pt x="175" y="190"/>
                    </a:lnTo>
                    <a:lnTo>
                      <a:pt x="169" y="197"/>
                    </a:lnTo>
                    <a:lnTo>
                      <a:pt x="163" y="201"/>
                    </a:lnTo>
                    <a:lnTo>
                      <a:pt x="161" y="207"/>
                    </a:lnTo>
                    <a:lnTo>
                      <a:pt x="160" y="215"/>
                    </a:lnTo>
                    <a:lnTo>
                      <a:pt x="158" y="224"/>
                    </a:lnTo>
                    <a:lnTo>
                      <a:pt x="156" y="230"/>
                    </a:lnTo>
                    <a:lnTo>
                      <a:pt x="156" y="241"/>
                    </a:lnTo>
                    <a:lnTo>
                      <a:pt x="156" y="251"/>
                    </a:lnTo>
                    <a:lnTo>
                      <a:pt x="160" y="260"/>
                    </a:lnTo>
                    <a:lnTo>
                      <a:pt x="160" y="266"/>
                    </a:lnTo>
                    <a:lnTo>
                      <a:pt x="160" y="272"/>
                    </a:lnTo>
                    <a:lnTo>
                      <a:pt x="158" y="277"/>
                    </a:lnTo>
                    <a:lnTo>
                      <a:pt x="154" y="283"/>
                    </a:lnTo>
                    <a:lnTo>
                      <a:pt x="146" y="289"/>
                    </a:lnTo>
                    <a:lnTo>
                      <a:pt x="137" y="289"/>
                    </a:lnTo>
                    <a:lnTo>
                      <a:pt x="131" y="287"/>
                    </a:lnTo>
                    <a:lnTo>
                      <a:pt x="125" y="281"/>
                    </a:lnTo>
                    <a:lnTo>
                      <a:pt x="120" y="275"/>
                    </a:lnTo>
                    <a:lnTo>
                      <a:pt x="116" y="270"/>
                    </a:lnTo>
                    <a:lnTo>
                      <a:pt x="112" y="260"/>
                    </a:lnTo>
                    <a:lnTo>
                      <a:pt x="110" y="249"/>
                    </a:lnTo>
                    <a:lnTo>
                      <a:pt x="108" y="241"/>
                    </a:lnTo>
                    <a:lnTo>
                      <a:pt x="108" y="235"/>
                    </a:lnTo>
                    <a:lnTo>
                      <a:pt x="108" y="228"/>
                    </a:lnTo>
                    <a:lnTo>
                      <a:pt x="108" y="220"/>
                    </a:lnTo>
                    <a:lnTo>
                      <a:pt x="104" y="213"/>
                    </a:lnTo>
                    <a:lnTo>
                      <a:pt x="101" y="207"/>
                    </a:lnTo>
                    <a:lnTo>
                      <a:pt x="95" y="199"/>
                    </a:lnTo>
                    <a:lnTo>
                      <a:pt x="91" y="194"/>
                    </a:lnTo>
                    <a:lnTo>
                      <a:pt x="85" y="188"/>
                    </a:lnTo>
                    <a:lnTo>
                      <a:pt x="78" y="182"/>
                    </a:lnTo>
                    <a:lnTo>
                      <a:pt x="72" y="177"/>
                    </a:lnTo>
                    <a:lnTo>
                      <a:pt x="66" y="171"/>
                    </a:lnTo>
                    <a:lnTo>
                      <a:pt x="59" y="163"/>
                    </a:lnTo>
                    <a:lnTo>
                      <a:pt x="51" y="159"/>
                    </a:lnTo>
                    <a:lnTo>
                      <a:pt x="45" y="154"/>
                    </a:lnTo>
                    <a:lnTo>
                      <a:pt x="38" y="148"/>
                    </a:lnTo>
                    <a:lnTo>
                      <a:pt x="30" y="142"/>
                    </a:lnTo>
                    <a:lnTo>
                      <a:pt x="25" y="137"/>
                    </a:lnTo>
                    <a:lnTo>
                      <a:pt x="19" y="131"/>
                    </a:lnTo>
                    <a:lnTo>
                      <a:pt x="15" y="125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2" y="108"/>
                    </a:lnTo>
                    <a:lnTo>
                      <a:pt x="2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11" y="66"/>
                    </a:lnTo>
                    <a:lnTo>
                      <a:pt x="19" y="61"/>
                    </a:lnTo>
                    <a:lnTo>
                      <a:pt x="26" y="55"/>
                    </a:lnTo>
                    <a:lnTo>
                      <a:pt x="30" y="51"/>
                    </a:lnTo>
                    <a:lnTo>
                      <a:pt x="36" y="49"/>
                    </a:lnTo>
                    <a:lnTo>
                      <a:pt x="42" y="45"/>
                    </a:lnTo>
                    <a:lnTo>
                      <a:pt x="49" y="42"/>
                    </a:lnTo>
                    <a:lnTo>
                      <a:pt x="55" y="40"/>
                    </a:lnTo>
                    <a:lnTo>
                      <a:pt x="63" y="36"/>
                    </a:lnTo>
                    <a:lnTo>
                      <a:pt x="70" y="32"/>
                    </a:lnTo>
                    <a:lnTo>
                      <a:pt x="80" y="28"/>
                    </a:lnTo>
                    <a:lnTo>
                      <a:pt x="83" y="26"/>
                    </a:lnTo>
                    <a:lnTo>
                      <a:pt x="89" y="24"/>
                    </a:lnTo>
                    <a:lnTo>
                      <a:pt x="95" y="23"/>
                    </a:lnTo>
                    <a:lnTo>
                      <a:pt x="102" y="23"/>
                    </a:lnTo>
                    <a:lnTo>
                      <a:pt x="106" y="19"/>
                    </a:lnTo>
                    <a:lnTo>
                      <a:pt x="114" y="17"/>
                    </a:lnTo>
                    <a:lnTo>
                      <a:pt x="118" y="13"/>
                    </a:lnTo>
                    <a:lnTo>
                      <a:pt x="121" y="11"/>
                    </a:lnTo>
                    <a:lnTo>
                      <a:pt x="12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786440" y="3817800"/>
                <a:ext cx="26640" cy="98280"/>
              </a:xfrm>
              <a:custGeom>
                <a:avLst/>
                <a:gdLst/>
                <a:ahLst/>
                <a:rect l="l" t="t" r="r" b="b"/>
                <a:pathLst>
                  <a:path w="35" h="123">
                    <a:moveTo>
                      <a:pt x="29" y="0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31" y="20"/>
                    </a:lnTo>
                    <a:lnTo>
                      <a:pt x="33" y="30"/>
                    </a:lnTo>
                    <a:lnTo>
                      <a:pt x="33" y="40"/>
                    </a:lnTo>
                    <a:lnTo>
                      <a:pt x="33" y="47"/>
                    </a:lnTo>
                    <a:lnTo>
                      <a:pt x="35" y="57"/>
                    </a:lnTo>
                    <a:lnTo>
                      <a:pt x="35" y="66"/>
                    </a:lnTo>
                    <a:lnTo>
                      <a:pt x="33" y="74"/>
                    </a:lnTo>
                    <a:lnTo>
                      <a:pt x="33" y="81"/>
                    </a:lnTo>
                    <a:lnTo>
                      <a:pt x="29" y="91"/>
                    </a:lnTo>
                    <a:lnTo>
                      <a:pt x="27" y="98"/>
                    </a:lnTo>
                    <a:lnTo>
                      <a:pt x="21" y="104"/>
                    </a:lnTo>
                    <a:lnTo>
                      <a:pt x="18" y="112"/>
                    </a:lnTo>
                    <a:lnTo>
                      <a:pt x="10" y="117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6" y="106"/>
                    </a:lnTo>
                    <a:lnTo>
                      <a:pt x="6" y="98"/>
                    </a:lnTo>
                    <a:lnTo>
                      <a:pt x="8" y="91"/>
                    </a:lnTo>
                    <a:lnTo>
                      <a:pt x="8" y="81"/>
                    </a:lnTo>
                    <a:lnTo>
                      <a:pt x="8" y="74"/>
                    </a:lnTo>
                    <a:lnTo>
                      <a:pt x="8" y="64"/>
                    </a:lnTo>
                    <a:lnTo>
                      <a:pt x="8" y="57"/>
                    </a:lnTo>
                    <a:lnTo>
                      <a:pt x="8" y="47"/>
                    </a:lnTo>
                    <a:lnTo>
                      <a:pt x="8" y="38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6" y="17"/>
                    </a:lnTo>
                    <a:lnTo>
                      <a:pt x="19" y="9"/>
                    </a:lnTo>
                    <a:lnTo>
                      <a:pt x="23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8111880" y="382716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0"/>
                    </a:moveTo>
                    <a:lnTo>
                      <a:pt x="15" y="0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8" y="9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38" y="17"/>
                    </a:lnTo>
                    <a:lnTo>
                      <a:pt x="31" y="19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6978600" y="384624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8" y="2"/>
                    </a:moveTo>
                    <a:lnTo>
                      <a:pt x="17" y="0"/>
                    </a:lnTo>
                    <a:lnTo>
                      <a:pt x="27" y="2"/>
                    </a:lnTo>
                    <a:lnTo>
                      <a:pt x="36" y="7"/>
                    </a:lnTo>
                    <a:lnTo>
                      <a:pt x="44" y="13"/>
                    </a:lnTo>
                    <a:lnTo>
                      <a:pt x="42" y="19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28" y="21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6916680" y="3919320"/>
                <a:ext cx="34560" cy="5076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2" y="0"/>
                    </a:moveTo>
                    <a:lnTo>
                      <a:pt x="11" y="4"/>
                    </a:lnTo>
                    <a:lnTo>
                      <a:pt x="17" y="9"/>
                    </a:lnTo>
                    <a:lnTo>
                      <a:pt x="25" y="15"/>
                    </a:lnTo>
                    <a:lnTo>
                      <a:pt x="30" y="21"/>
                    </a:lnTo>
                    <a:lnTo>
                      <a:pt x="38" y="30"/>
                    </a:lnTo>
                    <a:lnTo>
                      <a:pt x="44" y="40"/>
                    </a:lnTo>
                    <a:lnTo>
                      <a:pt x="44" y="45"/>
                    </a:lnTo>
                    <a:lnTo>
                      <a:pt x="42" y="53"/>
                    </a:lnTo>
                    <a:lnTo>
                      <a:pt x="40" y="57"/>
                    </a:lnTo>
                    <a:lnTo>
                      <a:pt x="34" y="63"/>
                    </a:lnTo>
                    <a:lnTo>
                      <a:pt x="28" y="63"/>
                    </a:lnTo>
                    <a:lnTo>
                      <a:pt x="23" y="63"/>
                    </a:lnTo>
                    <a:lnTo>
                      <a:pt x="15" y="59"/>
                    </a:lnTo>
                    <a:lnTo>
                      <a:pt x="9" y="53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8053200" y="3930480"/>
                <a:ext cx="97920" cy="388800"/>
              </a:xfrm>
              <a:custGeom>
                <a:avLst/>
                <a:gdLst/>
                <a:ahLst/>
                <a:rect l="l" t="t" r="r" b="b"/>
                <a:pathLst>
                  <a:path w="123" h="491">
                    <a:moveTo>
                      <a:pt x="24" y="0"/>
                    </a:moveTo>
                    <a:lnTo>
                      <a:pt x="32" y="4"/>
                    </a:lnTo>
                    <a:lnTo>
                      <a:pt x="38" y="8"/>
                    </a:lnTo>
                    <a:lnTo>
                      <a:pt x="45" y="13"/>
                    </a:lnTo>
                    <a:lnTo>
                      <a:pt x="51" y="17"/>
                    </a:lnTo>
                    <a:lnTo>
                      <a:pt x="55" y="23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72" y="44"/>
                    </a:lnTo>
                    <a:lnTo>
                      <a:pt x="74" y="50"/>
                    </a:lnTo>
                    <a:lnTo>
                      <a:pt x="79" y="57"/>
                    </a:lnTo>
                    <a:lnTo>
                      <a:pt x="83" y="63"/>
                    </a:lnTo>
                    <a:lnTo>
                      <a:pt x="89" y="71"/>
                    </a:lnTo>
                    <a:lnTo>
                      <a:pt x="93" y="76"/>
                    </a:lnTo>
                    <a:lnTo>
                      <a:pt x="98" y="84"/>
                    </a:lnTo>
                    <a:lnTo>
                      <a:pt x="106" y="90"/>
                    </a:lnTo>
                    <a:lnTo>
                      <a:pt x="112" y="97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95" y="101"/>
                    </a:lnTo>
                    <a:lnTo>
                      <a:pt x="91" y="105"/>
                    </a:lnTo>
                    <a:lnTo>
                      <a:pt x="93" y="112"/>
                    </a:lnTo>
                    <a:lnTo>
                      <a:pt x="98" y="118"/>
                    </a:lnTo>
                    <a:lnTo>
                      <a:pt x="106" y="124"/>
                    </a:lnTo>
                    <a:lnTo>
                      <a:pt x="112" y="131"/>
                    </a:lnTo>
                    <a:lnTo>
                      <a:pt x="108" y="135"/>
                    </a:lnTo>
                    <a:lnTo>
                      <a:pt x="102" y="135"/>
                    </a:lnTo>
                    <a:lnTo>
                      <a:pt x="95" y="135"/>
                    </a:lnTo>
                    <a:lnTo>
                      <a:pt x="91" y="139"/>
                    </a:lnTo>
                    <a:lnTo>
                      <a:pt x="97" y="148"/>
                    </a:lnTo>
                    <a:lnTo>
                      <a:pt x="102" y="160"/>
                    </a:lnTo>
                    <a:lnTo>
                      <a:pt x="108" y="169"/>
                    </a:lnTo>
                    <a:lnTo>
                      <a:pt x="112" y="181"/>
                    </a:lnTo>
                    <a:lnTo>
                      <a:pt x="116" y="192"/>
                    </a:lnTo>
                    <a:lnTo>
                      <a:pt x="119" y="204"/>
                    </a:lnTo>
                    <a:lnTo>
                      <a:pt x="121" y="213"/>
                    </a:lnTo>
                    <a:lnTo>
                      <a:pt x="123" y="224"/>
                    </a:lnTo>
                    <a:lnTo>
                      <a:pt x="123" y="236"/>
                    </a:lnTo>
                    <a:lnTo>
                      <a:pt x="123" y="245"/>
                    </a:lnTo>
                    <a:lnTo>
                      <a:pt x="123" y="257"/>
                    </a:lnTo>
                    <a:lnTo>
                      <a:pt x="123" y="268"/>
                    </a:lnTo>
                    <a:lnTo>
                      <a:pt x="119" y="280"/>
                    </a:lnTo>
                    <a:lnTo>
                      <a:pt x="119" y="289"/>
                    </a:lnTo>
                    <a:lnTo>
                      <a:pt x="117" y="301"/>
                    </a:lnTo>
                    <a:lnTo>
                      <a:pt x="116" y="312"/>
                    </a:lnTo>
                    <a:lnTo>
                      <a:pt x="110" y="321"/>
                    </a:lnTo>
                    <a:lnTo>
                      <a:pt x="108" y="333"/>
                    </a:lnTo>
                    <a:lnTo>
                      <a:pt x="104" y="344"/>
                    </a:lnTo>
                    <a:lnTo>
                      <a:pt x="100" y="356"/>
                    </a:lnTo>
                    <a:lnTo>
                      <a:pt x="97" y="365"/>
                    </a:lnTo>
                    <a:lnTo>
                      <a:pt x="93" y="377"/>
                    </a:lnTo>
                    <a:lnTo>
                      <a:pt x="89" y="388"/>
                    </a:lnTo>
                    <a:lnTo>
                      <a:pt x="85" y="399"/>
                    </a:lnTo>
                    <a:lnTo>
                      <a:pt x="79" y="409"/>
                    </a:lnTo>
                    <a:lnTo>
                      <a:pt x="76" y="420"/>
                    </a:lnTo>
                    <a:lnTo>
                      <a:pt x="72" y="432"/>
                    </a:lnTo>
                    <a:lnTo>
                      <a:pt x="68" y="443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2" y="460"/>
                    </a:lnTo>
                    <a:lnTo>
                      <a:pt x="60" y="466"/>
                    </a:lnTo>
                    <a:lnTo>
                      <a:pt x="59" y="472"/>
                    </a:lnTo>
                    <a:lnTo>
                      <a:pt x="59" y="477"/>
                    </a:lnTo>
                    <a:lnTo>
                      <a:pt x="55" y="483"/>
                    </a:lnTo>
                    <a:lnTo>
                      <a:pt x="55" y="491"/>
                    </a:lnTo>
                    <a:lnTo>
                      <a:pt x="7" y="477"/>
                    </a:lnTo>
                    <a:lnTo>
                      <a:pt x="3" y="470"/>
                    </a:lnTo>
                    <a:lnTo>
                      <a:pt x="0" y="464"/>
                    </a:lnTo>
                    <a:lnTo>
                      <a:pt x="0" y="456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3" y="432"/>
                    </a:lnTo>
                    <a:lnTo>
                      <a:pt x="5" y="424"/>
                    </a:lnTo>
                    <a:lnTo>
                      <a:pt x="9" y="415"/>
                    </a:lnTo>
                    <a:lnTo>
                      <a:pt x="13" y="405"/>
                    </a:lnTo>
                    <a:lnTo>
                      <a:pt x="19" y="396"/>
                    </a:lnTo>
                    <a:lnTo>
                      <a:pt x="22" y="384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0" y="356"/>
                    </a:lnTo>
                    <a:lnTo>
                      <a:pt x="45" y="344"/>
                    </a:lnTo>
                    <a:lnTo>
                      <a:pt x="51" y="335"/>
                    </a:lnTo>
                    <a:lnTo>
                      <a:pt x="55" y="323"/>
                    </a:lnTo>
                    <a:lnTo>
                      <a:pt x="60" y="314"/>
                    </a:lnTo>
                    <a:lnTo>
                      <a:pt x="64" y="302"/>
                    </a:lnTo>
                    <a:lnTo>
                      <a:pt x="68" y="293"/>
                    </a:lnTo>
                    <a:lnTo>
                      <a:pt x="70" y="282"/>
                    </a:lnTo>
                    <a:lnTo>
                      <a:pt x="74" y="272"/>
                    </a:lnTo>
                    <a:lnTo>
                      <a:pt x="74" y="261"/>
                    </a:lnTo>
                    <a:lnTo>
                      <a:pt x="76" y="251"/>
                    </a:lnTo>
                    <a:lnTo>
                      <a:pt x="74" y="242"/>
                    </a:lnTo>
                    <a:lnTo>
                      <a:pt x="72" y="232"/>
                    </a:lnTo>
                    <a:lnTo>
                      <a:pt x="68" y="223"/>
                    </a:lnTo>
                    <a:lnTo>
                      <a:pt x="64" y="213"/>
                    </a:lnTo>
                    <a:lnTo>
                      <a:pt x="59" y="204"/>
                    </a:lnTo>
                    <a:lnTo>
                      <a:pt x="51" y="194"/>
                    </a:lnTo>
                    <a:lnTo>
                      <a:pt x="41" y="186"/>
                    </a:lnTo>
                    <a:lnTo>
                      <a:pt x="30" y="179"/>
                    </a:lnTo>
                    <a:lnTo>
                      <a:pt x="28" y="171"/>
                    </a:lnTo>
                    <a:lnTo>
                      <a:pt x="26" y="166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26" y="143"/>
                    </a:lnTo>
                    <a:lnTo>
                      <a:pt x="26" y="131"/>
                    </a:lnTo>
                    <a:lnTo>
                      <a:pt x="26" y="120"/>
                    </a:lnTo>
                    <a:lnTo>
                      <a:pt x="26" y="109"/>
                    </a:lnTo>
                    <a:lnTo>
                      <a:pt x="26" y="97"/>
                    </a:lnTo>
                    <a:lnTo>
                      <a:pt x="26" y="88"/>
                    </a:lnTo>
                    <a:lnTo>
                      <a:pt x="26" y="76"/>
                    </a:lnTo>
                    <a:lnTo>
                      <a:pt x="26" y="67"/>
                    </a:lnTo>
                    <a:lnTo>
                      <a:pt x="26" y="53"/>
                    </a:lnTo>
                    <a:lnTo>
                      <a:pt x="28" y="44"/>
                    </a:lnTo>
                    <a:lnTo>
                      <a:pt x="26" y="32"/>
                    </a:lnTo>
                    <a:lnTo>
                      <a:pt x="26" y="21"/>
                    </a:lnTo>
                    <a:lnTo>
                      <a:pt x="26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294320" y="3930480"/>
                <a:ext cx="226800" cy="138240"/>
              </a:xfrm>
              <a:custGeom>
                <a:avLst/>
                <a:gdLst/>
                <a:ahLst/>
                <a:rect l="l" t="t" r="r" b="b"/>
                <a:pathLst>
                  <a:path w="285" h="173">
                    <a:moveTo>
                      <a:pt x="266" y="0"/>
                    </a:moveTo>
                    <a:lnTo>
                      <a:pt x="274" y="2"/>
                    </a:lnTo>
                    <a:lnTo>
                      <a:pt x="280" y="8"/>
                    </a:lnTo>
                    <a:lnTo>
                      <a:pt x="280" y="12"/>
                    </a:lnTo>
                    <a:lnTo>
                      <a:pt x="284" y="17"/>
                    </a:lnTo>
                    <a:lnTo>
                      <a:pt x="284" y="23"/>
                    </a:lnTo>
                    <a:lnTo>
                      <a:pt x="285" y="31"/>
                    </a:lnTo>
                    <a:lnTo>
                      <a:pt x="284" y="34"/>
                    </a:lnTo>
                    <a:lnTo>
                      <a:pt x="284" y="42"/>
                    </a:lnTo>
                    <a:lnTo>
                      <a:pt x="284" y="50"/>
                    </a:lnTo>
                    <a:lnTo>
                      <a:pt x="282" y="57"/>
                    </a:lnTo>
                    <a:lnTo>
                      <a:pt x="280" y="63"/>
                    </a:lnTo>
                    <a:lnTo>
                      <a:pt x="278" y="72"/>
                    </a:lnTo>
                    <a:lnTo>
                      <a:pt x="274" y="80"/>
                    </a:lnTo>
                    <a:lnTo>
                      <a:pt x="272" y="90"/>
                    </a:lnTo>
                    <a:lnTo>
                      <a:pt x="268" y="97"/>
                    </a:lnTo>
                    <a:lnTo>
                      <a:pt x="265" y="105"/>
                    </a:lnTo>
                    <a:lnTo>
                      <a:pt x="261" y="112"/>
                    </a:lnTo>
                    <a:lnTo>
                      <a:pt x="257" y="120"/>
                    </a:lnTo>
                    <a:lnTo>
                      <a:pt x="251" y="126"/>
                    </a:lnTo>
                    <a:lnTo>
                      <a:pt x="247" y="133"/>
                    </a:lnTo>
                    <a:lnTo>
                      <a:pt x="242" y="141"/>
                    </a:lnTo>
                    <a:lnTo>
                      <a:pt x="238" y="148"/>
                    </a:lnTo>
                    <a:lnTo>
                      <a:pt x="228" y="158"/>
                    </a:lnTo>
                    <a:lnTo>
                      <a:pt x="219" y="166"/>
                    </a:lnTo>
                    <a:lnTo>
                      <a:pt x="207" y="171"/>
                    </a:lnTo>
                    <a:lnTo>
                      <a:pt x="198" y="173"/>
                    </a:lnTo>
                    <a:lnTo>
                      <a:pt x="198" y="167"/>
                    </a:lnTo>
                    <a:lnTo>
                      <a:pt x="198" y="166"/>
                    </a:lnTo>
                    <a:lnTo>
                      <a:pt x="204" y="156"/>
                    </a:lnTo>
                    <a:lnTo>
                      <a:pt x="207" y="150"/>
                    </a:lnTo>
                    <a:lnTo>
                      <a:pt x="204" y="143"/>
                    </a:lnTo>
                    <a:lnTo>
                      <a:pt x="198" y="139"/>
                    </a:lnTo>
                    <a:lnTo>
                      <a:pt x="192" y="135"/>
                    </a:lnTo>
                    <a:lnTo>
                      <a:pt x="187" y="131"/>
                    </a:lnTo>
                    <a:lnTo>
                      <a:pt x="179" y="129"/>
                    </a:lnTo>
                    <a:lnTo>
                      <a:pt x="173" y="129"/>
                    </a:lnTo>
                    <a:lnTo>
                      <a:pt x="166" y="126"/>
                    </a:lnTo>
                    <a:lnTo>
                      <a:pt x="158" y="124"/>
                    </a:lnTo>
                    <a:lnTo>
                      <a:pt x="149" y="122"/>
                    </a:lnTo>
                    <a:lnTo>
                      <a:pt x="141" y="122"/>
                    </a:lnTo>
                    <a:lnTo>
                      <a:pt x="130" y="120"/>
                    </a:lnTo>
                    <a:lnTo>
                      <a:pt x="120" y="118"/>
                    </a:lnTo>
                    <a:lnTo>
                      <a:pt x="111" y="116"/>
                    </a:lnTo>
                    <a:lnTo>
                      <a:pt x="101" y="116"/>
                    </a:lnTo>
                    <a:lnTo>
                      <a:pt x="92" y="116"/>
                    </a:lnTo>
                    <a:lnTo>
                      <a:pt x="82" y="114"/>
                    </a:lnTo>
                    <a:lnTo>
                      <a:pt x="72" y="114"/>
                    </a:lnTo>
                    <a:lnTo>
                      <a:pt x="63" y="114"/>
                    </a:lnTo>
                    <a:lnTo>
                      <a:pt x="53" y="114"/>
                    </a:lnTo>
                    <a:lnTo>
                      <a:pt x="44" y="114"/>
                    </a:lnTo>
                    <a:lnTo>
                      <a:pt x="34" y="114"/>
                    </a:lnTo>
                    <a:lnTo>
                      <a:pt x="27" y="114"/>
                    </a:lnTo>
                    <a:lnTo>
                      <a:pt x="19" y="114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0" y="116"/>
                    </a:lnTo>
                    <a:lnTo>
                      <a:pt x="6" y="109"/>
                    </a:lnTo>
                    <a:lnTo>
                      <a:pt x="12" y="105"/>
                    </a:lnTo>
                    <a:lnTo>
                      <a:pt x="17" y="101"/>
                    </a:lnTo>
                    <a:lnTo>
                      <a:pt x="25" y="97"/>
                    </a:lnTo>
                    <a:lnTo>
                      <a:pt x="31" y="95"/>
                    </a:lnTo>
                    <a:lnTo>
                      <a:pt x="38" y="93"/>
                    </a:lnTo>
                    <a:lnTo>
                      <a:pt x="46" y="91"/>
                    </a:lnTo>
                    <a:lnTo>
                      <a:pt x="53" y="91"/>
                    </a:lnTo>
                    <a:lnTo>
                      <a:pt x="59" y="90"/>
                    </a:lnTo>
                    <a:lnTo>
                      <a:pt x="69" y="90"/>
                    </a:lnTo>
                    <a:lnTo>
                      <a:pt x="76" y="91"/>
                    </a:lnTo>
                    <a:lnTo>
                      <a:pt x="84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11" y="95"/>
                    </a:lnTo>
                    <a:lnTo>
                      <a:pt x="120" y="97"/>
                    </a:lnTo>
                    <a:lnTo>
                      <a:pt x="128" y="97"/>
                    </a:lnTo>
                    <a:lnTo>
                      <a:pt x="135" y="99"/>
                    </a:lnTo>
                    <a:lnTo>
                      <a:pt x="145" y="99"/>
                    </a:lnTo>
                    <a:lnTo>
                      <a:pt x="152" y="101"/>
                    </a:lnTo>
                    <a:lnTo>
                      <a:pt x="160" y="101"/>
                    </a:lnTo>
                    <a:lnTo>
                      <a:pt x="169" y="101"/>
                    </a:lnTo>
                    <a:lnTo>
                      <a:pt x="177" y="101"/>
                    </a:lnTo>
                    <a:lnTo>
                      <a:pt x="187" y="103"/>
                    </a:lnTo>
                    <a:lnTo>
                      <a:pt x="194" y="101"/>
                    </a:lnTo>
                    <a:lnTo>
                      <a:pt x="202" y="101"/>
                    </a:lnTo>
                    <a:lnTo>
                      <a:pt x="209" y="99"/>
                    </a:lnTo>
                    <a:lnTo>
                      <a:pt x="217" y="97"/>
                    </a:lnTo>
                    <a:lnTo>
                      <a:pt x="225" y="95"/>
                    </a:lnTo>
                    <a:lnTo>
                      <a:pt x="232" y="93"/>
                    </a:lnTo>
                    <a:lnTo>
                      <a:pt x="240" y="90"/>
                    </a:lnTo>
                    <a:lnTo>
                      <a:pt x="247" y="86"/>
                    </a:lnTo>
                    <a:lnTo>
                      <a:pt x="236" y="82"/>
                    </a:lnTo>
                    <a:lnTo>
                      <a:pt x="225" y="80"/>
                    </a:lnTo>
                    <a:lnTo>
                      <a:pt x="215" y="80"/>
                    </a:lnTo>
                    <a:lnTo>
                      <a:pt x="204" y="80"/>
                    </a:lnTo>
                    <a:lnTo>
                      <a:pt x="198" y="80"/>
                    </a:lnTo>
                    <a:lnTo>
                      <a:pt x="192" y="80"/>
                    </a:lnTo>
                    <a:lnTo>
                      <a:pt x="187" y="80"/>
                    </a:lnTo>
                    <a:lnTo>
                      <a:pt x="181" y="80"/>
                    </a:lnTo>
                    <a:lnTo>
                      <a:pt x="169" y="80"/>
                    </a:lnTo>
                    <a:lnTo>
                      <a:pt x="158" y="82"/>
                    </a:lnTo>
                    <a:lnTo>
                      <a:pt x="152" y="80"/>
                    </a:lnTo>
                    <a:lnTo>
                      <a:pt x="147" y="80"/>
                    </a:lnTo>
                    <a:lnTo>
                      <a:pt x="141" y="80"/>
                    </a:lnTo>
                    <a:lnTo>
                      <a:pt x="135" y="80"/>
                    </a:lnTo>
                    <a:lnTo>
                      <a:pt x="124" y="80"/>
                    </a:lnTo>
                    <a:lnTo>
                      <a:pt x="112" y="80"/>
                    </a:lnTo>
                    <a:lnTo>
                      <a:pt x="103" y="76"/>
                    </a:lnTo>
                    <a:lnTo>
                      <a:pt x="93" y="72"/>
                    </a:lnTo>
                    <a:lnTo>
                      <a:pt x="84" y="69"/>
                    </a:lnTo>
                    <a:lnTo>
                      <a:pt x="74" y="63"/>
                    </a:lnTo>
                    <a:lnTo>
                      <a:pt x="82" y="57"/>
                    </a:lnTo>
                    <a:lnTo>
                      <a:pt x="90" y="53"/>
                    </a:lnTo>
                    <a:lnTo>
                      <a:pt x="97" y="50"/>
                    </a:lnTo>
                    <a:lnTo>
                      <a:pt x="105" y="50"/>
                    </a:lnTo>
                    <a:lnTo>
                      <a:pt x="114" y="46"/>
                    </a:lnTo>
                    <a:lnTo>
                      <a:pt x="124" y="46"/>
                    </a:lnTo>
                    <a:lnTo>
                      <a:pt x="133" y="46"/>
                    </a:lnTo>
                    <a:lnTo>
                      <a:pt x="143" y="46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9" y="46"/>
                    </a:lnTo>
                    <a:lnTo>
                      <a:pt x="179" y="46"/>
                    </a:lnTo>
                    <a:lnTo>
                      <a:pt x="188" y="44"/>
                    </a:lnTo>
                    <a:lnTo>
                      <a:pt x="198" y="44"/>
                    </a:lnTo>
                    <a:lnTo>
                      <a:pt x="209" y="44"/>
                    </a:lnTo>
                    <a:lnTo>
                      <a:pt x="219" y="44"/>
                    </a:lnTo>
                    <a:lnTo>
                      <a:pt x="219" y="40"/>
                    </a:lnTo>
                    <a:lnTo>
                      <a:pt x="219" y="36"/>
                    </a:lnTo>
                    <a:lnTo>
                      <a:pt x="211" y="32"/>
                    </a:lnTo>
                    <a:lnTo>
                      <a:pt x="204" y="32"/>
                    </a:lnTo>
                    <a:lnTo>
                      <a:pt x="196" y="32"/>
                    </a:lnTo>
                    <a:lnTo>
                      <a:pt x="188" y="32"/>
                    </a:lnTo>
                    <a:lnTo>
                      <a:pt x="181" y="32"/>
                    </a:lnTo>
                    <a:lnTo>
                      <a:pt x="173" y="32"/>
                    </a:lnTo>
                    <a:lnTo>
                      <a:pt x="168" y="31"/>
                    </a:lnTo>
                    <a:lnTo>
                      <a:pt x="160" y="31"/>
                    </a:lnTo>
                    <a:lnTo>
                      <a:pt x="160" y="27"/>
                    </a:lnTo>
                    <a:lnTo>
                      <a:pt x="160" y="25"/>
                    </a:lnTo>
                    <a:lnTo>
                      <a:pt x="166" y="21"/>
                    </a:lnTo>
                    <a:lnTo>
                      <a:pt x="173" y="17"/>
                    </a:lnTo>
                    <a:lnTo>
                      <a:pt x="179" y="13"/>
                    </a:lnTo>
                    <a:lnTo>
                      <a:pt x="185" y="13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6" y="12"/>
                    </a:lnTo>
                    <a:lnTo>
                      <a:pt x="213" y="12"/>
                    </a:lnTo>
                    <a:lnTo>
                      <a:pt x="219" y="12"/>
                    </a:lnTo>
                    <a:lnTo>
                      <a:pt x="225" y="12"/>
                    </a:lnTo>
                    <a:lnTo>
                      <a:pt x="232" y="10"/>
                    </a:lnTo>
                    <a:lnTo>
                      <a:pt x="240" y="10"/>
                    </a:lnTo>
                    <a:lnTo>
                      <a:pt x="245" y="8"/>
                    </a:lnTo>
                    <a:lnTo>
                      <a:pt x="251" y="6"/>
                    </a:lnTo>
                    <a:lnTo>
                      <a:pt x="259" y="4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148160" y="3939840"/>
                <a:ext cx="218880" cy="343080"/>
              </a:xfrm>
              <a:custGeom>
                <a:avLst/>
                <a:gdLst/>
                <a:ahLst/>
                <a:rect l="l" t="t" r="r" b="b"/>
                <a:pathLst>
                  <a:path w="276" h="431">
                    <a:moveTo>
                      <a:pt x="232" y="0"/>
                    </a:moveTo>
                    <a:lnTo>
                      <a:pt x="238" y="0"/>
                    </a:lnTo>
                    <a:lnTo>
                      <a:pt x="242" y="1"/>
                    </a:lnTo>
                    <a:lnTo>
                      <a:pt x="247" y="3"/>
                    </a:lnTo>
                    <a:lnTo>
                      <a:pt x="251" y="5"/>
                    </a:lnTo>
                    <a:lnTo>
                      <a:pt x="259" y="11"/>
                    </a:lnTo>
                    <a:lnTo>
                      <a:pt x="266" y="17"/>
                    </a:lnTo>
                    <a:lnTo>
                      <a:pt x="270" y="22"/>
                    </a:lnTo>
                    <a:lnTo>
                      <a:pt x="272" y="28"/>
                    </a:lnTo>
                    <a:lnTo>
                      <a:pt x="274" y="34"/>
                    </a:lnTo>
                    <a:lnTo>
                      <a:pt x="276" y="41"/>
                    </a:lnTo>
                    <a:lnTo>
                      <a:pt x="276" y="49"/>
                    </a:lnTo>
                    <a:lnTo>
                      <a:pt x="274" y="57"/>
                    </a:lnTo>
                    <a:lnTo>
                      <a:pt x="272" y="64"/>
                    </a:lnTo>
                    <a:lnTo>
                      <a:pt x="272" y="74"/>
                    </a:lnTo>
                    <a:lnTo>
                      <a:pt x="270" y="81"/>
                    </a:lnTo>
                    <a:lnTo>
                      <a:pt x="270" y="91"/>
                    </a:lnTo>
                    <a:lnTo>
                      <a:pt x="270" y="100"/>
                    </a:lnTo>
                    <a:lnTo>
                      <a:pt x="272" y="110"/>
                    </a:lnTo>
                    <a:lnTo>
                      <a:pt x="274" y="117"/>
                    </a:lnTo>
                    <a:lnTo>
                      <a:pt x="276" y="127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2" y="152"/>
                    </a:lnTo>
                    <a:lnTo>
                      <a:pt x="272" y="161"/>
                    </a:lnTo>
                    <a:lnTo>
                      <a:pt x="268" y="171"/>
                    </a:lnTo>
                    <a:lnTo>
                      <a:pt x="266" y="182"/>
                    </a:lnTo>
                    <a:lnTo>
                      <a:pt x="261" y="192"/>
                    </a:lnTo>
                    <a:lnTo>
                      <a:pt x="257" y="201"/>
                    </a:lnTo>
                    <a:lnTo>
                      <a:pt x="249" y="211"/>
                    </a:lnTo>
                    <a:lnTo>
                      <a:pt x="244" y="220"/>
                    </a:lnTo>
                    <a:lnTo>
                      <a:pt x="238" y="230"/>
                    </a:lnTo>
                    <a:lnTo>
                      <a:pt x="230" y="239"/>
                    </a:lnTo>
                    <a:lnTo>
                      <a:pt x="223" y="249"/>
                    </a:lnTo>
                    <a:lnTo>
                      <a:pt x="217" y="258"/>
                    </a:lnTo>
                    <a:lnTo>
                      <a:pt x="207" y="268"/>
                    </a:lnTo>
                    <a:lnTo>
                      <a:pt x="200" y="277"/>
                    </a:lnTo>
                    <a:lnTo>
                      <a:pt x="192" y="287"/>
                    </a:lnTo>
                    <a:lnTo>
                      <a:pt x="183" y="296"/>
                    </a:lnTo>
                    <a:lnTo>
                      <a:pt x="173" y="306"/>
                    </a:lnTo>
                    <a:lnTo>
                      <a:pt x="166" y="315"/>
                    </a:lnTo>
                    <a:lnTo>
                      <a:pt x="156" y="325"/>
                    </a:lnTo>
                    <a:lnTo>
                      <a:pt x="148" y="334"/>
                    </a:lnTo>
                    <a:lnTo>
                      <a:pt x="139" y="344"/>
                    </a:lnTo>
                    <a:lnTo>
                      <a:pt x="131" y="353"/>
                    </a:lnTo>
                    <a:lnTo>
                      <a:pt x="122" y="363"/>
                    </a:lnTo>
                    <a:lnTo>
                      <a:pt x="114" y="372"/>
                    </a:lnTo>
                    <a:lnTo>
                      <a:pt x="109" y="382"/>
                    </a:lnTo>
                    <a:lnTo>
                      <a:pt x="101" y="391"/>
                    </a:lnTo>
                    <a:lnTo>
                      <a:pt x="93" y="401"/>
                    </a:lnTo>
                    <a:lnTo>
                      <a:pt x="88" y="410"/>
                    </a:lnTo>
                    <a:lnTo>
                      <a:pt x="80" y="418"/>
                    </a:lnTo>
                    <a:lnTo>
                      <a:pt x="72" y="425"/>
                    </a:lnTo>
                    <a:lnTo>
                      <a:pt x="63" y="429"/>
                    </a:lnTo>
                    <a:lnTo>
                      <a:pt x="53" y="431"/>
                    </a:lnTo>
                    <a:lnTo>
                      <a:pt x="55" y="425"/>
                    </a:lnTo>
                    <a:lnTo>
                      <a:pt x="57" y="422"/>
                    </a:lnTo>
                    <a:lnTo>
                      <a:pt x="57" y="416"/>
                    </a:lnTo>
                    <a:lnTo>
                      <a:pt x="57" y="414"/>
                    </a:lnTo>
                    <a:lnTo>
                      <a:pt x="55" y="408"/>
                    </a:lnTo>
                    <a:lnTo>
                      <a:pt x="50" y="406"/>
                    </a:lnTo>
                    <a:lnTo>
                      <a:pt x="44" y="406"/>
                    </a:lnTo>
                    <a:lnTo>
                      <a:pt x="36" y="406"/>
                    </a:lnTo>
                    <a:lnTo>
                      <a:pt x="27" y="406"/>
                    </a:lnTo>
                    <a:lnTo>
                      <a:pt x="19" y="408"/>
                    </a:lnTo>
                    <a:lnTo>
                      <a:pt x="10" y="408"/>
                    </a:lnTo>
                    <a:lnTo>
                      <a:pt x="4" y="408"/>
                    </a:lnTo>
                    <a:lnTo>
                      <a:pt x="0" y="406"/>
                    </a:lnTo>
                    <a:lnTo>
                      <a:pt x="0" y="405"/>
                    </a:lnTo>
                    <a:lnTo>
                      <a:pt x="0" y="399"/>
                    </a:lnTo>
                    <a:lnTo>
                      <a:pt x="8" y="391"/>
                    </a:lnTo>
                    <a:lnTo>
                      <a:pt x="12" y="385"/>
                    </a:lnTo>
                    <a:lnTo>
                      <a:pt x="19" y="380"/>
                    </a:lnTo>
                    <a:lnTo>
                      <a:pt x="27" y="372"/>
                    </a:lnTo>
                    <a:lnTo>
                      <a:pt x="38" y="366"/>
                    </a:lnTo>
                    <a:lnTo>
                      <a:pt x="44" y="361"/>
                    </a:lnTo>
                    <a:lnTo>
                      <a:pt x="50" y="357"/>
                    </a:lnTo>
                    <a:lnTo>
                      <a:pt x="55" y="353"/>
                    </a:lnTo>
                    <a:lnTo>
                      <a:pt x="63" y="349"/>
                    </a:lnTo>
                    <a:lnTo>
                      <a:pt x="72" y="342"/>
                    </a:lnTo>
                    <a:lnTo>
                      <a:pt x="84" y="332"/>
                    </a:lnTo>
                    <a:lnTo>
                      <a:pt x="93" y="323"/>
                    </a:lnTo>
                    <a:lnTo>
                      <a:pt x="103" y="313"/>
                    </a:lnTo>
                    <a:lnTo>
                      <a:pt x="110" y="304"/>
                    </a:lnTo>
                    <a:lnTo>
                      <a:pt x="120" y="294"/>
                    </a:lnTo>
                    <a:lnTo>
                      <a:pt x="122" y="287"/>
                    </a:lnTo>
                    <a:lnTo>
                      <a:pt x="126" y="283"/>
                    </a:lnTo>
                    <a:lnTo>
                      <a:pt x="129" y="275"/>
                    </a:lnTo>
                    <a:lnTo>
                      <a:pt x="131" y="270"/>
                    </a:lnTo>
                    <a:lnTo>
                      <a:pt x="139" y="258"/>
                    </a:lnTo>
                    <a:lnTo>
                      <a:pt x="145" y="249"/>
                    </a:lnTo>
                    <a:lnTo>
                      <a:pt x="147" y="241"/>
                    </a:lnTo>
                    <a:lnTo>
                      <a:pt x="148" y="235"/>
                    </a:lnTo>
                    <a:lnTo>
                      <a:pt x="150" y="230"/>
                    </a:lnTo>
                    <a:lnTo>
                      <a:pt x="154" y="224"/>
                    </a:lnTo>
                    <a:lnTo>
                      <a:pt x="156" y="216"/>
                    </a:lnTo>
                    <a:lnTo>
                      <a:pt x="160" y="211"/>
                    </a:lnTo>
                    <a:lnTo>
                      <a:pt x="162" y="205"/>
                    </a:lnTo>
                    <a:lnTo>
                      <a:pt x="166" y="199"/>
                    </a:lnTo>
                    <a:lnTo>
                      <a:pt x="166" y="192"/>
                    </a:lnTo>
                    <a:lnTo>
                      <a:pt x="167" y="186"/>
                    </a:lnTo>
                    <a:lnTo>
                      <a:pt x="169" y="178"/>
                    </a:lnTo>
                    <a:lnTo>
                      <a:pt x="173" y="173"/>
                    </a:lnTo>
                    <a:lnTo>
                      <a:pt x="173" y="167"/>
                    </a:lnTo>
                    <a:lnTo>
                      <a:pt x="175" y="159"/>
                    </a:lnTo>
                    <a:lnTo>
                      <a:pt x="177" y="154"/>
                    </a:lnTo>
                    <a:lnTo>
                      <a:pt x="179" y="148"/>
                    </a:lnTo>
                    <a:lnTo>
                      <a:pt x="181" y="140"/>
                    </a:lnTo>
                    <a:lnTo>
                      <a:pt x="183" y="133"/>
                    </a:lnTo>
                    <a:lnTo>
                      <a:pt x="185" y="127"/>
                    </a:lnTo>
                    <a:lnTo>
                      <a:pt x="186" y="121"/>
                    </a:lnTo>
                    <a:lnTo>
                      <a:pt x="186" y="114"/>
                    </a:lnTo>
                    <a:lnTo>
                      <a:pt x="190" y="108"/>
                    </a:lnTo>
                    <a:lnTo>
                      <a:pt x="192" y="102"/>
                    </a:lnTo>
                    <a:lnTo>
                      <a:pt x="194" y="95"/>
                    </a:lnTo>
                    <a:lnTo>
                      <a:pt x="196" y="87"/>
                    </a:lnTo>
                    <a:lnTo>
                      <a:pt x="198" y="81"/>
                    </a:lnTo>
                    <a:lnTo>
                      <a:pt x="198" y="76"/>
                    </a:lnTo>
                    <a:lnTo>
                      <a:pt x="202" y="68"/>
                    </a:lnTo>
                    <a:lnTo>
                      <a:pt x="204" y="62"/>
                    </a:lnTo>
                    <a:lnTo>
                      <a:pt x="205" y="57"/>
                    </a:lnTo>
                    <a:lnTo>
                      <a:pt x="207" y="49"/>
                    </a:lnTo>
                    <a:lnTo>
                      <a:pt x="211" y="45"/>
                    </a:lnTo>
                    <a:lnTo>
                      <a:pt x="213" y="38"/>
                    </a:lnTo>
                    <a:lnTo>
                      <a:pt x="215" y="32"/>
                    </a:lnTo>
                    <a:lnTo>
                      <a:pt x="217" y="24"/>
                    </a:lnTo>
                    <a:lnTo>
                      <a:pt x="221" y="20"/>
                    </a:lnTo>
                    <a:lnTo>
                      <a:pt x="224" y="9"/>
                    </a:lnTo>
                    <a:lnTo>
                      <a:pt x="232" y="0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7561800" y="394812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48" y="0"/>
                    </a:moveTo>
                    <a:lnTo>
                      <a:pt x="154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5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3" y="0"/>
                    </a:lnTo>
                    <a:lnTo>
                      <a:pt x="251" y="0"/>
                    </a:lnTo>
                    <a:lnTo>
                      <a:pt x="251" y="2"/>
                    </a:lnTo>
                    <a:lnTo>
                      <a:pt x="251" y="6"/>
                    </a:lnTo>
                    <a:lnTo>
                      <a:pt x="241" y="4"/>
                    </a:lnTo>
                    <a:lnTo>
                      <a:pt x="234" y="4"/>
                    </a:lnTo>
                    <a:lnTo>
                      <a:pt x="222" y="4"/>
                    </a:lnTo>
                    <a:lnTo>
                      <a:pt x="213" y="8"/>
                    </a:lnTo>
                    <a:lnTo>
                      <a:pt x="207" y="8"/>
                    </a:lnTo>
                    <a:lnTo>
                      <a:pt x="201" y="9"/>
                    </a:lnTo>
                    <a:lnTo>
                      <a:pt x="194" y="9"/>
                    </a:lnTo>
                    <a:lnTo>
                      <a:pt x="190" y="11"/>
                    </a:lnTo>
                    <a:lnTo>
                      <a:pt x="182" y="13"/>
                    </a:lnTo>
                    <a:lnTo>
                      <a:pt x="179" y="15"/>
                    </a:lnTo>
                    <a:lnTo>
                      <a:pt x="171" y="17"/>
                    </a:lnTo>
                    <a:lnTo>
                      <a:pt x="165" y="19"/>
                    </a:lnTo>
                    <a:lnTo>
                      <a:pt x="160" y="21"/>
                    </a:lnTo>
                    <a:lnTo>
                      <a:pt x="154" y="23"/>
                    </a:lnTo>
                    <a:lnTo>
                      <a:pt x="146" y="23"/>
                    </a:lnTo>
                    <a:lnTo>
                      <a:pt x="141" y="27"/>
                    </a:lnTo>
                    <a:lnTo>
                      <a:pt x="135" y="28"/>
                    </a:lnTo>
                    <a:lnTo>
                      <a:pt x="127" y="30"/>
                    </a:lnTo>
                    <a:lnTo>
                      <a:pt x="122" y="32"/>
                    </a:lnTo>
                    <a:lnTo>
                      <a:pt x="116" y="36"/>
                    </a:lnTo>
                    <a:lnTo>
                      <a:pt x="108" y="36"/>
                    </a:lnTo>
                    <a:lnTo>
                      <a:pt x="103" y="38"/>
                    </a:lnTo>
                    <a:lnTo>
                      <a:pt x="97" y="40"/>
                    </a:lnTo>
                    <a:lnTo>
                      <a:pt x="91" y="44"/>
                    </a:lnTo>
                    <a:lnTo>
                      <a:pt x="80" y="48"/>
                    </a:lnTo>
                    <a:lnTo>
                      <a:pt x="68" y="51"/>
                    </a:lnTo>
                    <a:lnTo>
                      <a:pt x="57" y="53"/>
                    </a:lnTo>
                    <a:lnTo>
                      <a:pt x="47" y="57"/>
                    </a:lnTo>
                    <a:lnTo>
                      <a:pt x="36" y="59"/>
                    </a:lnTo>
                    <a:lnTo>
                      <a:pt x="30" y="61"/>
                    </a:lnTo>
                    <a:lnTo>
                      <a:pt x="21" y="61"/>
                    </a:lnTo>
                    <a:lnTo>
                      <a:pt x="15" y="63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4" y="38"/>
                    </a:lnTo>
                    <a:lnTo>
                      <a:pt x="9" y="30"/>
                    </a:lnTo>
                    <a:lnTo>
                      <a:pt x="15" y="21"/>
                    </a:lnTo>
                    <a:lnTo>
                      <a:pt x="25" y="11"/>
                    </a:lnTo>
                    <a:lnTo>
                      <a:pt x="32" y="9"/>
                    </a:lnTo>
                    <a:lnTo>
                      <a:pt x="40" y="9"/>
                    </a:lnTo>
                    <a:lnTo>
                      <a:pt x="46" y="9"/>
                    </a:lnTo>
                    <a:lnTo>
                      <a:pt x="55" y="9"/>
                    </a:lnTo>
                    <a:lnTo>
                      <a:pt x="63" y="9"/>
                    </a:lnTo>
                    <a:lnTo>
                      <a:pt x="70" y="11"/>
                    </a:lnTo>
                    <a:lnTo>
                      <a:pt x="80" y="11"/>
                    </a:lnTo>
                    <a:lnTo>
                      <a:pt x="87" y="11"/>
                    </a:lnTo>
                    <a:lnTo>
                      <a:pt x="95" y="11"/>
                    </a:lnTo>
                    <a:lnTo>
                      <a:pt x="105" y="11"/>
                    </a:lnTo>
                    <a:lnTo>
                      <a:pt x="110" y="9"/>
                    </a:lnTo>
                    <a:lnTo>
                      <a:pt x="120" y="9"/>
                    </a:lnTo>
                    <a:lnTo>
                      <a:pt x="127" y="8"/>
                    </a:lnTo>
                    <a:lnTo>
                      <a:pt x="135" y="6"/>
                    </a:lnTo>
                    <a:lnTo>
                      <a:pt x="141" y="2"/>
                    </a:lnTo>
                    <a:lnTo>
                      <a:pt x="148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7584120" y="41907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0"/>
                    </a:moveTo>
                    <a:lnTo>
                      <a:pt x="40" y="4"/>
                    </a:lnTo>
                    <a:lnTo>
                      <a:pt x="40" y="8"/>
                    </a:lnTo>
                    <a:lnTo>
                      <a:pt x="35" y="12"/>
                    </a:lnTo>
                    <a:lnTo>
                      <a:pt x="29" y="15"/>
                    </a:lnTo>
                    <a:lnTo>
                      <a:pt x="21" y="19"/>
                    </a:lnTo>
                    <a:lnTo>
                      <a:pt x="16" y="23"/>
                    </a:lnTo>
                    <a:lnTo>
                      <a:pt x="8" y="25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5" y="4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8579520" y="4254480"/>
                <a:ext cx="55080" cy="205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54" y="0"/>
                    </a:moveTo>
                    <a:lnTo>
                      <a:pt x="59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63" y="8"/>
                    </a:lnTo>
                    <a:lnTo>
                      <a:pt x="57" y="15"/>
                    </a:lnTo>
                    <a:lnTo>
                      <a:pt x="50" y="19"/>
                    </a:lnTo>
                    <a:lnTo>
                      <a:pt x="40" y="25"/>
                    </a:lnTo>
                    <a:lnTo>
                      <a:pt x="29" y="25"/>
                    </a:lnTo>
                    <a:lnTo>
                      <a:pt x="19" y="25"/>
                    </a:lnTo>
                    <a:lnTo>
                      <a:pt x="10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5" y="8"/>
                    </a:lnTo>
                    <a:lnTo>
                      <a:pt x="42" y="6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7364160" y="4254480"/>
                <a:ext cx="840960" cy="217440"/>
              </a:xfrm>
              <a:custGeom>
                <a:avLst/>
                <a:gdLst/>
                <a:ahLst/>
                <a:rect l="l" t="t" r="r" b="b"/>
                <a:pathLst>
                  <a:path w="1061" h="274">
                    <a:moveTo>
                      <a:pt x="783" y="0"/>
                    </a:moveTo>
                    <a:lnTo>
                      <a:pt x="787" y="8"/>
                    </a:lnTo>
                    <a:lnTo>
                      <a:pt x="787" y="15"/>
                    </a:lnTo>
                    <a:lnTo>
                      <a:pt x="783" y="21"/>
                    </a:lnTo>
                    <a:lnTo>
                      <a:pt x="780" y="27"/>
                    </a:lnTo>
                    <a:lnTo>
                      <a:pt x="774" y="30"/>
                    </a:lnTo>
                    <a:lnTo>
                      <a:pt x="768" y="36"/>
                    </a:lnTo>
                    <a:lnTo>
                      <a:pt x="759" y="42"/>
                    </a:lnTo>
                    <a:lnTo>
                      <a:pt x="751" y="47"/>
                    </a:lnTo>
                    <a:lnTo>
                      <a:pt x="742" y="51"/>
                    </a:lnTo>
                    <a:lnTo>
                      <a:pt x="734" y="57"/>
                    </a:lnTo>
                    <a:lnTo>
                      <a:pt x="726" y="63"/>
                    </a:lnTo>
                    <a:lnTo>
                      <a:pt x="719" y="70"/>
                    </a:lnTo>
                    <a:lnTo>
                      <a:pt x="713" y="76"/>
                    </a:lnTo>
                    <a:lnTo>
                      <a:pt x="709" y="84"/>
                    </a:lnTo>
                    <a:lnTo>
                      <a:pt x="707" y="91"/>
                    </a:lnTo>
                    <a:lnTo>
                      <a:pt x="709" y="103"/>
                    </a:lnTo>
                    <a:lnTo>
                      <a:pt x="719" y="99"/>
                    </a:lnTo>
                    <a:lnTo>
                      <a:pt x="732" y="97"/>
                    </a:lnTo>
                    <a:lnTo>
                      <a:pt x="742" y="93"/>
                    </a:lnTo>
                    <a:lnTo>
                      <a:pt x="753" y="91"/>
                    </a:lnTo>
                    <a:lnTo>
                      <a:pt x="764" y="87"/>
                    </a:lnTo>
                    <a:lnTo>
                      <a:pt x="776" y="84"/>
                    </a:lnTo>
                    <a:lnTo>
                      <a:pt x="787" y="82"/>
                    </a:lnTo>
                    <a:lnTo>
                      <a:pt x="799" y="78"/>
                    </a:lnTo>
                    <a:lnTo>
                      <a:pt x="808" y="74"/>
                    </a:lnTo>
                    <a:lnTo>
                      <a:pt x="820" y="70"/>
                    </a:lnTo>
                    <a:lnTo>
                      <a:pt x="831" y="66"/>
                    </a:lnTo>
                    <a:lnTo>
                      <a:pt x="842" y="65"/>
                    </a:lnTo>
                    <a:lnTo>
                      <a:pt x="854" y="61"/>
                    </a:lnTo>
                    <a:lnTo>
                      <a:pt x="865" y="57"/>
                    </a:lnTo>
                    <a:lnTo>
                      <a:pt x="871" y="55"/>
                    </a:lnTo>
                    <a:lnTo>
                      <a:pt x="877" y="55"/>
                    </a:lnTo>
                    <a:lnTo>
                      <a:pt x="882" y="53"/>
                    </a:lnTo>
                    <a:lnTo>
                      <a:pt x="888" y="53"/>
                    </a:lnTo>
                    <a:lnTo>
                      <a:pt x="899" y="49"/>
                    </a:lnTo>
                    <a:lnTo>
                      <a:pt x="909" y="47"/>
                    </a:lnTo>
                    <a:lnTo>
                      <a:pt x="920" y="46"/>
                    </a:lnTo>
                    <a:lnTo>
                      <a:pt x="932" y="46"/>
                    </a:lnTo>
                    <a:lnTo>
                      <a:pt x="943" y="44"/>
                    </a:lnTo>
                    <a:lnTo>
                      <a:pt x="955" y="42"/>
                    </a:lnTo>
                    <a:lnTo>
                      <a:pt x="964" y="42"/>
                    </a:lnTo>
                    <a:lnTo>
                      <a:pt x="975" y="44"/>
                    </a:lnTo>
                    <a:lnTo>
                      <a:pt x="987" y="44"/>
                    </a:lnTo>
                    <a:lnTo>
                      <a:pt x="998" y="44"/>
                    </a:lnTo>
                    <a:lnTo>
                      <a:pt x="1008" y="46"/>
                    </a:lnTo>
                    <a:lnTo>
                      <a:pt x="1019" y="47"/>
                    </a:lnTo>
                    <a:lnTo>
                      <a:pt x="1029" y="49"/>
                    </a:lnTo>
                    <a:lnTo>
                      <a:pt x="1040" y="53"/>
                    </a:lnTo>
                    <a:lnTo>
                      <a:pt x="1050" y="57"/>
                    </a:lnTo>
                    <a:lnTo>
                      <a:pt x="1061" y="63"/>
                    </a:lnTo>
                    <a:lnTo>
                      <a:pt x="1051" y="65"/>
                    </a:lnTo>
                    <a:lnTo>
                      <a:pt x="1046" y="66"/>
                    </a:lnTo>
                    <a:lnTo>
                      <a:pt x="1036" y="66"/>
                    </a:lnTo>
                    <a:lnTo>
                      <a:pt x="1029" y="70"/>
                    </a:lnTo>
                    <a:lnTo>
                      <a:pt x="1021" y="72"/>
                    </a:lnTo>
                    <a:lnTo>
                      <a:pt x="1013" y="74"/>
                    </a:lnTo>
                    <a:lnTo>
                      <a:pt x="1006" y="76"/>
                    </a:lnTo>
                    <a:lnTo>
                      <a:pt x="1000" y="80"/>
                    </a:lnTo>
                    <a:lnTo>
                      <a:pt x="991" y="80"/>
                    </a:lnTo>
                    <a:lnTo>
                      <a:pt x="983" y="82"/>
                    </a:lnTo>
                    <a:lnTo>
                      <a:pt x="975" y="84"/>
                    </a:lnTo>
                    <a:lnTo>
                      <a:pt x="968" y="87"/>
                    </a:lnTo>
                    <a:lnTo>
                      <a:pt x="962" y="89"/>
                    </a:lnTo>
                    <a:lnTo>
                      <a:pt x="955" y="91"/>
                    </a:lnTo>
                    <a:lnTo>
                      <a:pt x="947" y="95"/>
                    </a:lnTo>
                    <a:lnTo>
                      <a:pt x="939" y="99"/>
                    </a:lnTo>
                    <a:lnTo>
                      <a:pt x="932" y="101"/>
                    </a:lnTo>
                    <a:lnTo>
                      <a:pt x="924" y="103"/>
                    </a:lnTo>
                    <a:lnTo>
                      <a:pt x="916" y="104"/>
                    </a:lnTo>
                    <a:lnTo>
                      <a:pt x="909" y="108"/>
                    </a:lnTo>
                    <a:lnTo>
                      <a:pt x="901" y="110"/>
                    </a:lnTo>
                    <a:lnTo>
                      <a:pt x="894" y="112"/>
                    </a:lnTo>
                    <a:lnTo>
                      <a:pt x="886" y="116"/>
                    </a:lnTo>
                    <a:lnTo>
                      <a:pt x="880" y="120"/>
                    </a:lnTo>
                    <a:lnTo>
                      <a:pt x="873" y="122"/>
                    </a:lnTo>
                    <a:lnTo>
                      <a:pt x="865" y="125"/>
                    </a:lnTo>
                    <a:lnTo>
                      <a:pt x="858" y="127"/>
                    </a:lnTo>
                    <a:lnTo>
                      <a:pt x="852" y="131"/>
                    </a:lnTo>
                    <a:lnTo>
                      <a:pt x="844" y="135"/>
                    </a:lnTo>
                    <a:lnTo>
                      <a:pt x="837" y="137"/>
                    </a:lnTo>
                    <a:lnTo>
                      <a:pt x="829" y="141"/>
                    </a:lnTo>
                    <a:lnTo>
                      <a:pt x="823" y="144"/>
                    </a:lnTo>
                    <a:lnTo>
                      <a:pt x="814" y="146"/>
                    </a:lnTo>
                    <a:lnTo>
                      <a:pt x="806" y="148"/>
                    </a:lnTo>
                    <a:lnTo>
                      <a:pt x="799" y="152"/>
                    </a:lnTo>
                    <a:lnTo>
                      <a:pt x="793" y="156"/>
                    </a:lnTo>
                    <a:lnTo>
                      <a:pt x="785" y="158"/>
                    </a:lnTo>
                    <a:lnTo>
                      <a:pt x="778" y="161"/>
                    </a:lnTo>
                    <a:lnTo>
                      <a:pt x="770" y="163"/>
                    </a:lnTo>
                    <a:lnTo>
                      <a:pt x="764" y="167"/>
                    </a:lnTo>
                    <a:lnTo>
                      <a:pt x="757" y="171"/>
                    </a:lnTo>
                    <a:lnTo>
                      <a:pt x="749" y="173"/>
                    </a:lnTo>
                    <a:lnTo>
                      <a:pt x="742" y="177"/>
                    </a:lnTo>
                    <a:lnTo>
                      <a:pt x="736" y="181"/>
                    </a:lnTo>
                    <a:lnTo>
                      <a:pt x="728" y="182"/>
                    </a:lnTo>
                    <a:lnTo>
                      <a:pt x="721" y="186"/>
                    </a:lnTo>
                    <a:lnTo>
                      <a:pt x="713" y="190"/>
                    </a:lnTo>
                    <a:lnTo>
                      <a:pt x="707" y="192"/>
                    </a:lnTo>
                    <a:lnTo>
                      <a:pt x="698" y="196"/>
                    </a:lnTo>
                    <a:lnTo>
                      <a:pt x="690" y="200"/>
                    </a:lnTo>
                    <a:lnTo>
                      <a:pt x="685" y="201"/>
                    </a:lnTo>
                    <a:lnTo>
                      <a:pt x="677" y="205"/>
                    </a:lnTo>
                    <a:lnTo>
                      <a:pt x="669" y="209"/>
                    </a:lnTo>
                    <a:lnTo>
                      <a:pt x="662" y="211"/>
                    </a:lnTo>
                    <a:lnTo>
                      <a:pt x="654" y="215"/>
                    </a:lnTo>
                    <a:lnTo>
                      <a:pt x="648" y="219"/>
                    </a:lnTo>
                    <a:lnTo>
                      <a:pt x="641" y="220"/>
                    </a:lnTo>
                    <a:lnTo>
                      <a:pt x="633" y="224"/>
                    </a:lnTo>
                    <a:lnTo>
                      <a:pt x="626" y="228"/>
                    </a:lnTo>
                    <a:lnTo>
                      <a:pt x="620" y="230"/>
                    </a:lnTo>
                    <a:lnTo>
                      <a:pt x="612" y="234"/>
                    </a:lnTo>
                    <a:lnTo>
                      <a:pt x="605" y="238"/>
                    </a:lnTo>
                    <a:lnTo>
                      <a:pt x="597" y="239"/>
                    </a:lnTo>
                    <a:lnTo>
                      <a:pt x="591" y="243"/>
                    </a:lnTo>
                    <a:lnTo>
                      <a:pt x="597" y="238"/>
                    </a:lnTo>
                    <a:lnTo>
                      <a:pt x="605" y="232"/>
                    </a:lnTo>
                    <a:lnTo>
                      <a:pt x="610" y="226"/>
                    </a:lnTo>
                    <a:lnTo>
                      <a:pt x="618" y="222"/>
                    </a:lnTo>
                    <a:lnTo>
                      <a:pt x="624" y="217"/>
                    </a:lnTo>
                    <a:lnTo>
                      <a:pt x="631" y="211"/>
                    </a:lnTo>
                    <a:lnTo>
                      <a:pt x="639" y="207"/>
                    </a:lnTo>
                    <a:lnTo>
                      <a:pt x="647" y="201"/>
                    </a:lnTo>
                    <a:lnTo>
                      <a:pt x="652" y="198"/>
                    </a:lnTo>
                    <a:lnTo>
                      <a:pt x="660" y="192"/>
                    </a:lnTo>
                    <a:lnTo>
                      <a:pt x="667" y="188"/>
                    </a:lnTo>
                    <a:lnTo>
                      <a:pt x="677" y="182"/>
                    </a:lnTo>
                    <a:lnTo>
                      <a:pt x="685" y="177"/>
                    </a:lnTo>
                    <a:lnTo>
                      <a:pt x="692" y="173"/>
                    </a:lnTo>
                    <a:lnTo>
                      <a:pt x="700" y="167"/>
                    </a:lnTo>
                    <a:lnTo>
                      <a:pt x="707" y="165"/>
                    </a:lnTo>
                    <a:lnTo>
                      <a:pt x="715" y="160"/>
                    </a:lnTo>
                    <a:lnTo>
                      <a:pt x="723" y="156"/>
                    </a:lnTo>
                    <a:lnTo>
                      <a:pt x="730" y="152"/>
                    </a:lnTo>
                    <a:lnTo>
                      <a:pt x="740" y="148"/>
                    </a:lnTo>
                    <a:lnTo>
                      <a:pt x="745" y="144"/>
                    </a:lnTo>
                    <a:lnTo>
                      <a:pt x="755" y="139"/>
                    </a:lnTo>
                    <a:lnTo>
                      <a:pt x="762" y="137"/>
                    </a:lnTo>
                    <a:lnTo>
                      <a:pt x="772" y="133"/>
                    </a:lnTo>
                    <a:lnTo>
                      <a:pt x="780" y="129"/>
                    </a:lnTo>
                    <a:lnTo>
                      <a:pt x="787" y="127"/>
                    </a:lnTo>
                    <a:lnTo>
                      <a:pt x="797" y="123"/>
                    </a:lnTo>
                    <a:lnTo>
                      <a:pt x="804" y="122"/>
                    </a:lnTo>
                    <a:lnTo>
                      <a:pt x="812" y="118"/>
                    </a:lnTo>
                    <a:lnTo>
                      <a:pt x="821" y="118"/>
                    </a:lnTo>
                    <a:lnTo>
                      <a:pt x="829" y="116"/>
                    </a:lnTo>
                    <a:lnTo>
                      <a:pt x="839" y="116"/>
                    </a:lnTo>
                    <a:lnTo>
                      <a:pt x="833" y="112"/>
                    </a:lnTo>
                    <a:lnTo>
                      <a:pt x="825" y="112"/>
                    </a:lnTo>
                    <a:lnTo>
                      <a:pt x="820" y="112"/>
                    </a:lnTo>
                    <a:lnTo>
                      <a:pt x="816" y="112"/>
                    </a:lnTo>
                    <a:lnTo>
                      <a:pt x="808" y="112"/>
                    </a:lnTo>
                    <a:lnTo>
                      <a:pt x="802" y="112"/>
                    </a:lnTo>
                    <a:lnTo>
                      <a:pt x="797" y="112"/>
                    </a:lnTo>
                    <a:lnTo>
                      <a:pt x="791" y="112"/>
                    </a:lnTo>
                    <a:lnTo>
                      <a:pt x="785" y="112"/>
                    </a:lnTo>
                    <a:lnTo>
                      <a:pt x="780" y="112"/>
                    </a:lnTo>
                    <a:lnTo>
                      <a:pt x="774" y="112"/>
                    </a:lnTo>
                    <a:lnTo>
                      <a:pt x="768" y="114"/>
                    </a:lnTo>
                    <a:lnTo>
                      <a:pt x="757" y="116"/>
                    </a:lnTo>
                    <a:lnTo>
                      <a:pt x="745" y="120"/>
                    </a:lnTo>
                    <a:lnTo>
                      <a:pt x="740" y="120"/>
                    </a:lnTo>
                    <a:lnTo>
                      <a:pt x="734" y="122"/>
                    </a:lnTo>
                    <a:lnTo>
                      <a:pt x="728" y="123"/>
                    </a:lnTo>
                    <a:lnTo>
                      <a:pt x="723" y="125"/>
                    </a:lnTo>
                    <a:lnTo>
                      <a:pt x="717" y="125"/>
                    </a:lnTo>
                    <a:lnTo>
                      <a:pt x="709" y="129"/>
                    </a:lnTo>
                    <a:lnTo>
                      <a:pt x="705" y="129"/>
                    </a:lnTo>
                    <a:lnTo>
                      <a:pt x="700" y="133"/>
                    </a:lnTo>
                    <a:lnTo>
                      <a:pt x="694" y="135"/>
                    </a:lnTo>
                    <a:lnTo>
                      <a:pt x="688" y="137"/>
                    </a:lnTo>
                    <a:lnTo>
                      <a:pt x="681" y="139"/>
                    </a:lnTo>
                    <a:lnTo>
                      <a:pt x="677" y="142"/>
                    </a:lnTo>
                    <a:lnTo>
                      <a:pt x="666" y="146"/>
                    </a:lnTo>
                    <a:lnTo>
                      <a:pt x="654" y="154"/>
                    </a:lnTo>
                    <a:lnTo>
                      <a:pt x="648" y="156"/>
                    </a:lnTo>
                    <a:lnTo>
                      <a:pt x="641" y="158"/>
                    </a:lnTo>
                    <a:lnTo>
                      <a:pt x="635" y="160"/>
                    </a:lnTo>
                    <a:lnTo>
                      <a:pt x="631" y="163"/>
                    </a:lnTo>
                    <a:lnTo>
                      <a:pt x="624" y="165"/>
                    </a:lnTo>
                    <a:lnTo>
                      <a:pt x="618" y="167"/>
                    </a:lnTo>
                    <a:lnTo>
                      <a:pt x="612" y="171"/>
                    </a:lnTo>
                    <a:lnTo>
                      <a:pt x="607" y="175"/>
                    </a:lnTo>
                    <a:lnTo>
                      <a:pt x="595" y="181"/>
                    </a:lnTo>
                    <a:lnTo>
                      <a:pt x="586" y="186"/>
                    </a:lnTo>
                    <a:lnTo>
                      <a:pt x="574" y="192"/>
                    </a:lnTo>
                    <a:lnTo>
                      <a:pt x="563" y="200"/>
                    </a:lnTo>
                    <a:lnTo>
                      <a:pt x="557" y="201"/>
                    </a:lnTo>
                    <a:lnTo>
                      <a:pt x="550" y="203"/>
                    </a:lnTo>
                    <a:lnTo>
                      <a:pt x="546" y="207"/>
                    </a:lnTo>
                    <a:lnTo>
                      <a:pt x="540" y="211"/>
                    </a:lnTo>
                    <a:lnTo>
                      <a:pt x="529" y="217"/>
                    </a:lnTo>
                    <a:lnTo>
                      <a:pt x="517" y="222"/>
                    </a:lnTo>
                    <a:lnTo>
                      <a:pt x="506" y="228"/>
                    </a:lnTo>
                    <a:lnTo>
                      <a:pt x="494" y="232"/>
                    </a:lnTo>
                    <a:lnTo>
                      <a:pt x="483" y="238"/>
                    </a:lnTo>
                    <a:lnTo>
                      <a:pt x="474" y="243"/>
                    </a:lnTo>
                    <a:lnTo>
                      <a:pt x="477" y="236"/>
                    </a:lnTo>
                    <a:lnTo>
                      <a:pt x="483" y="228"/>
                    </a:lnTo>
                    <a:lnTo>
                      <a:pt x="489" y="220"/>
                    </a:lnTo>
                    <a:lnTo>
                      <a:pt x="494" y="215"/>
                    </a:lnTo>
                    <a:lnTo>
                      <a:pt x="502" y="207"/>
                    </a:lnTo>
                    <a:lnTo>
                      <a:pt x="510" y="200"/>
                    </a:lnTo>
                    <a:lnTo>
                      <a:pt x="515" y="192"/>
                    </a:lnTo>
                    <a:lnTo>
                      <a:pt x="525" y="186"/>
                    </a:lnTo>
                    <a:lnTo>
                      <a:pt x="531" y="179"/>
                    </a:lnTo>
                    <a:lnTo>
                      <a:pt x="540" y="171"/>
                    </a:lnTo>
                    <a:lnTo>
                      <a:pt x="548" y="165"/>
                    </a:lnTo>
                    <a:lnTo>
                      <a:pt x="557" y="158"/>
                    </a:lnTo>
                    <a:lnTo>
                      <a:pt x="565" y="152"/>
                    </a:lnTo>
                    <a:lnTo>
                      <a:pt x="574" y="144"/>
                    </a:lnTo>
                    <a:lnTo>
                      <a:pt x="582" y="139"/>
                    </a:lnTo>
                    <a:lnTo>
                      <a:pt x="591" y="135"/>
                    </a:lnTo>
                    <a:lnTo>
                      <a:pt x="586" y="135"/>
                    </a:lnTo>
                    <a:lnTo>
                      <a:pt x="578" y="135"/>
                    </a:lnTo>
                    <a:lnTo>
                      <a:pt x="574" y="137"/>
                    </a:lnTo>
                    <a:lnTo>
                      <a:pt x="569" y="139"/>
                    </a:lnTo>
                    <a:lnTo>
                      <a:pt x="557" y="142"/>
                    </a:lnTo>
                    <a:lnTo>
                      <a:pt x="546" y="144"/>
                    </a:lnTo>
                    <a:lnTo>
                      <a:pt x="534" y="148"/>
                    </a:lnTo>
                    <a:lnTo>
                      <a:pt x="523" y="154"/>
                    </a:lnTo>
                    <a:lnTo>
                      <a:pt x="512" y="158"/>
                    </a:lnTo>
                    <a:lnTo>
                      <a:pt x="502" y="163"/>
                    </a:lnTo>
                    <a:lnTo>
                      <a:pt x="491" y="165"/>
                    </a:lnTo>
                    <a:lnTo>
                      <a:pt x="481" y="171"/>
                    </a:lnTo>
                    <a:lnTo>
                      <a:pt x="468" y="175"/>
                    </a:lnTo>
                    <a:lnTo>
                      <a:pt x="458" y="182"/>
                    </a:lnTo>
                    <a:lnTo>
                      <a:pt x="449" y="186"/>
                    </a:lnTo>
                    <a:lnTo>
                      <a:pt x="437" y="192"/>
                    </a:lnTo>
                    <a:lnTo>
                      <a:pt x="428" y="198"/>
                    </a:lnTo>
                    <a:lnTo>
                      <a:pt x="418" y="201"/>
                    </a:lnTo>
                    <a:lnTo>
                      <a:pt x="407" y="207"/>
                    </a:lnTo>
                    <a:lnTo>
                      <a:pt x="396" y="211"/>
                    </a:lnTo>
                    <a:lnTo>
                      <a:pt x="384" y="215"/>
                    </a:lnTo>
                    <a:lnTo>
                      <a:pt x="375" y="219"/>
                    </a:lnTo>
                    <a:lnTo>
                      <a:pt x="365" y="222"/>
                    </a:lnTo>
                    <a:lnTo>
                      <a:pt x="354" y="226"/>
                    </a:lnTo>
                    <a:lnTo>
                      <a:pt x="344" y="228"/>
                    </a:lnTo>
                    <a:lnTo>
                      <a:pt x="335" y="232"/>
                    </a:lnTo>
                    <a:lnTo>
                      <a:pt x="323" y="232"/>
                    </a:lnTo>
                    <a:lnTo>
                      <a:pt x="314" y="236"/>
                    </a:lnTo>
                    <a:lnTo>
                      <a:pt x="304" y="236"/>
                    </a:lnTo>
                    <a:lnTo>
                      <a:pt x="295" y="238"/>
                    </a:lnTo>
                    <a:lnTo>
                      <a:pt x="283" y="238"/>
                    </a:lnTo>
                    <a:lnTo>
                      <a:pt x="272" y="238"/>
                    </a:lnTo>
                    <a:lnTo>
                      <a:pt x="262" y="236"/>
                    </a:lnTo>
                    <a:lnTo>
                      <a:pt x="253" y="234"/>
                    </a:lnTo>
                    <a:lnTo>
                      <a:pt x="247" y="236"/>
                    </a:lnTo>
                    <a:lnTo>
                      <a:pt x="242" y="239"/>
                    </a:lnTo>
                    <a:lnTo>
                      <a:pt x="238" y="245"/>
                    </a:lnTo>
                    <a:lnTo>
                      <a:pt x="236" y="249"/>
                    </a:lnTo>
                    <a:lnTo>
                      <a:pt x="234" y="258"/>
                    </a:lnTo>
                    <a:lnTo>
                      <a:pt x="242" y="270"/>
                    </a:lnTo>
                    <a:lnTo>
                      <a:pt x="238" y="274"/>
                    </a:lnTo>
                    <a:lnTo>
                      <a:pt x="230" y="268"/>
                    </a:lnTo>
                    <a:lnTo>
                      <a:pt x="224" y="268"/>
                    </a:lnTo>
                    <a:lnTo>
                      <a:pt x="219" y="268"/>
                    </a:lnTo>
                    <a:lnTo>
                      <a:pt x="213" y="268"/>
                    </a:lnTo>
                    <a:lnTo>
                      <a:pt x="211" y="264"/>
                    </a:lnTo>
                    <a:lnTo>
                      <a:pt x="211" y="258"/>
                    </a:lnTo>
                    <a:lnTo>
                      <a:pt x="209" y="251"/>
                    </a:lnTo>
                    <a:lnTo>
                      <a:pt x="209" y="243"/>
                    </a:lnTo>
                    <a:lnTo>
                      <a:pt x="207" y="234"/>
                    </a:lnTo>
                    <a:lnTo>
                      <a:pt x="207" y="226"/>
                    </a:lnTo>
                    <a:lnTo>
                      <a:pt x="207" y="220"/>
                    </a:lnTo>
                    <a:lnTo>
                      <a:pt x="207" y="220"/>
                    </a:lnTo>
                    <a:lnTo>
                      <a:pt x="202" y="219"/>
                    </a:lnTo>
                    <a:lnTo>
                      <a:pt x="196" y="220"/>
                    </a:lnTo>
                    <a:lnTo>
                      <a:pt x="188" y="222"/>
                    </a:lnTo>
                    <a:lnTo>
                      <a:pt x="181" y="226"/>
                    </a:lnTo>
                    <a:lnTo>
                      <a:pt x="175" y="228"/>
                    </a:lnTo>
                    <a:lnTo>
                      <a:pt x="167" y="232"/>
                    </a:lnTo>
                    <a:lnTo>
                      <a:pt x="160" y="238"/>
                    </a:lnTo>
                    <a:lnTo>
                      <a:pt x="154" y="241"/>
                    </a:lnTo>
                    <a:lnTo>
                      <a:pt x="148" y="241"/>
                    </a:lnTo>
                    <a:lnTo>
                      <a:pt x="143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3" y="239"/>
                    </a:lnTo>
                    <a:lnTo>
                      <a:pt x="133" y="234"/>
                    </a:lnTo>
                    <a:lnTo>
                      <a:pt x="133" y="230"/>
                    </a:lnTo>
                    <a:lnTo>
                      <a:pt x="137" y="226"/>
                    </a:lnTo>
                    <a:lnTo>
                      <a:pt x="139" y="220"/>
                    </a:lnTo>
                    <a:lnTo>
                      <a:pt x="141" y="215"/>
                    </a:lnTo>
                    <a:lnTo>
                      <a:pt x="135" y="211"/>
                    </a:lnTo>
                    <a:lnTo>
                      <a:pt x="129" y="213"/>
                    </a:lnTo>
                    <a:lnTo>
                      <a:pt x="122" y="215"/>
                    </a:lnTo>
                    <a:lnTo>
                      <a:pt x="116" y="220"/>
                    </a:lnTo>
                    <a:lnTo>
                      <a:pt x="109" y="226"/>
                    </a:lnTo>
                    <a:lnTo>
                      <a:pt x="103" y="230"/>
                    </a:lnTo>
                    <a:lnTo>
                      <a:pt x="97" y="236"/>
                    </a:lnTo>
                    <a:lnTo>
                      <a:pt x="93" y="239"/>
                    </a:lnTo>
                    <a:lnTo>
                      <a:pt x="91" y="230"/>
                    </a:lnTo>
                    <a:lnTo>
                      <a:pt x="88" y="220"/>
                    </a:lnTo>
                    <a:lnTo>
                      <a:pt x="84" y="213"/>
                    </a:lnTo>
                    <a:lnTo>
                      <a:pt x="82" y="203"/>
                    </a:lnTo>
                    <a:lnTo>
                      <a:pt x="76" y="194"/>
                    </a:lnTo>
                    <a:lnTo>
                      <a:pt x="72" y="186"/>
                    </a:lnTo>
                    <a:lnTo>
                      <a:pt x="67" y="177"/>
                    </a:lnTo>
                    <a:lnTo>
                      <a:pt x="63" y="171"/>
                    </a:lnTo>
                    <a:lnTo>
                      <a:pt x="55" y="163"/>
                    </a:lnTo>
                    <a:lnTo>
                      <a:pt x="48" y="156"/>
                    </a:lnTo>
                    <a:lnTo>
                      <a:pt x="40" y="150"/>
                    </a:lnTo>
                    <a:lnTo>
                      <a:pt x="34" y="146"/>
                    </a:lnTo>
                    <a:lnTo>
                      <a:pt x="27" y="141"/>
                    </a:lnTo>
                    <a:lnTo>
                      <a:pt x="17" y="139"/>
                    </a:lnTo>
                    <a:lnTo>
                      <a:pt x="8" y="137"/>
                    </a:lnTo>
                    <a:lnTo>
                      <a:pt x="0" y="137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8" y="127"/>
                    </a:lnTo>
                    <a:lnTo>
                      <a:pt x="17" y="125"/>
                    </a:lnTo>
                    <a:lnTo>
                      <a:pt x="25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5" y="133"/>
                    </a:lnTo>
                    <a:lnTo>
                      <a:pt x="63" y="139"/>
                    </a:lnTo>
                    <a:lnTo>
                      <a:pt x="69" y="144"/>
                    </a:lnTo>
                    <a:lnTo>
                      <a:pt x="74" y="150"/>
                    </a:lnTo>
                    <a:lnTo>
                      <a:pt x="80" y="158"/>
                    </a:lnTo>
                    <a:lnTo>
                      <a:pt x="86" y="165"/>
                    </a:lnTo>
                    <a:lnTo>
                      <a:pt x="88" y="171"/>
                    </a:lnTo>
                    <a:lnTo>
                      <a:pt x="93" y="179"/>
                    </a:lnTo>
                    <a:lnTo>
                      <a:pt x="95" y="186"/>
                    </a:lnTo>
                    <a:lnTo>
                      <a:pt x="99" y="194"/>
                    </a:lnTo>
                    <a:lnTo>
                      <a:pt x="105" y="190"/>
                    </a:lnTo>
                    <a:lnTo>
                      <a:pt x="110" y="184"/>
                    </a:lnTo>
                    <a:lnTo>
                      <a:pt x="118" y="181"/>
                    </a:lnTo>
                    <a:lnTo>
                      <a:pt x="126" y="175"/>
                    </a:lnTo>
                    <a:lnTo>
                      <a:pt x="131" y="169"/>
                    </a:lnTo>
                    <a:lnTo>
                      <a:pt x="141" y="163"/>
                    </a:lnTo>
                    <a:lnTo>
                      <a:pt x="147" y="160"/>
                    </a:lnTo>
                    <a:lnTo>
                      <a:pt x="156" y="156"/>
                    </a:lnTo>
                    <a:lnTo>
                      <a:pt x="162" y="154"/>
                    </a:lnTo>
                    <a:lnTo>
                      <a:pt x="167" y="152"/>
                    </a:lnTo>
                    <a:lnTo>
                      <a:pt x="173" y="152"/>
                    </a:lnTo>
                    <a:lnTo>
                      <a:pt x="179" y="154"/>
                    </a:lnTo>
                    <a:lnTo>
                      <a:pt x="181" y="156"/>
                    </a:lnTo>
                    <a:lnTo>
                      <a:pt x="185" y="163"/>
                    </a:lnTo>
                    <a:lnTo>
                      <a:pt x="185" y="165"/>
                    </a:lnTo>
                    <a:lnTo>
                      <a:pt x="185" y="171"/>
                    </a:lnTo>
                    <a:lnTo>
                      <a:pt x="185" y="177"/>
                    </a:lnTo>
                    <a:lnTo>
                      <a:pt x="186" y="184"/>
                    </a:lnTo>
                    <a:lnTo>
                      <a:pt x="188" y="182"/>
                    </a:lnTo>
                    <a:lnTo>
                      <a:pt x="192" y="181"/>
                    </a:lnTo>
                    <a:lnTo>
                      <a:pt x="196" y="177"/>
                    </a:lnTo>
                    <a:lnTo>
                      <a:pt x="202" y="175"/>
                    </a:lnTo>
                    <a:lnTo>
                      <a:pt x="207" y="177"/>
                    </a:lnTo>
                    <a:lnTo>
                      <a:pt x="215" y="181"/>
                    </a:lnTo>
                    <a:lnTo>
                      <a:pt x="221" y="184"/>
                    </a:lnTo>
                    <a:lnTo>
                      <a:pt x="226" y="188"/>
                    </a:lnTo>
                    <a:lnTo>
                      <a:pt x="234" y="188"/>
                    </a:lnTo>
                    <a:lnTo>
                      <a:pt x="240" y="190"/>
                    </a:lnTo>
                    <a:lnTo>
                      <a:pt x="245" y="192"/>
                    </a:lnTo>
                    <a:lnTo>
                      <a:pt x="253" y="194"/>
                    </a:lnTo>
                    <a:lnTo>
                      <a:pt x="259" y="194"/>
                    </a:lnTo>
                    <a:lnTo>
                      <a:pt x="266" y="194"/>
                    </a:lnTo>
                    <a:lnTo>
                      <a:pt x="272" y="194"/>
                    </a:lnTo>
                    <a:lnTo>
                      <a:pt x="278" y="196"/>
                    </a:lnTo>
                    <a:lnTo>
                      <a:pt x="285" y="194"/>
                    </a:lnTo>
                    <a:lnTo>
                      <a:pt x="291" y="194"/>
                    </a:lnTo>
                    <a:lnTo>
                      <a:pt x="297" y="194"/>
                    </a:lnTo>
                    <a:lnTo>
                      <a:pt x="304" y="194"/>
                    </a:lnTo>
                    <a:lnTo>
                      <a:pt x="310" y="192"/>
                    </a:lnTo>
                    <a:lnTo>
                      <a:pt x="316" y="192"/>
                    </a:lnTo>
                    <a:lnTo>
                      <a:pt x="323" y="190"/>
                    </a:lnTo>
                    <a:lnTo>
                      <a:pt x="329" y="188"/>
                    </a:lnTo>
                    <a:lnTo>
                      <a:pt x="335" y="184"/>
                    </a:lnTo>
                    <a:lnTo>
                      <a:pt x="342" y="182"/>
                    </a:lnTo>
                    <a:lnTo>
                      <a:pt x="348" y="181"/>
                    </a:lnTo>
                    <a:lnTo>
                      <a:pt x="354" y="179"/>
                    </a:lnTo>
                    <a:lnTo>
                      <a:pt x="361" y="175"/>
                    </a:lnTo>
                    <a:lnTo>
                      <a:pt x="367" y="173"/>
                    </a:lnTo>
                    <a:lnTo>
                      <a:pt x="373" y="169"/>
                    </a:lnTo>
                    <a:lnTo>
                      <a:pt x="380" y="167"/>
                    </a:lnTo>
                    <a:lnTo>
                      <a:pt x="386" y="163"/>
                    </a:lnTo>
                    <a:lnTo>
                      <a:pt x="392" y="161"/>
                    </a:lnTo>
                    <a:lnTo>
                      <a:pt x="399" y="158"/>
                    </a:lnTo>
                    <a:lnTo>
                      <a:pt x="407" y="154"/>
                    </a:lnTo>
                    <a:lnTo>
                      <a:pt x="411" y="150"/>
                    </a:lnTo>
                    <a:lnTo>
                      <a:pt x="418" y="146"/>
                    </a:lnTo>
                    <a:lnTo>
                      <a:pt x="424" y="142"/>
                    </a:lnTo>
                    <a:lnTo>
                      <a:pt x="430" y="139"/>
                    </a:lnTo>
                    <a:lnTo>
                      <a:pt x="437" y="135"/>
                    </a:lnTo>
                    <a:lnTo>
                      <a:pt x="443" y="129"/>
                    </a:lnTo>
                    <a:lnTo>
                      <a:pt x="449" y="125"/>
                    </a:lnTo>
                    <a:lnTo>
                      <a:pt x="456" y="123"/>
                    </a:lnTo>
                    <a:lnTo>
                      <a:pt x="462" y="118"/>
                    </a:lnTo>
                    <a:lnTo>
                      <a:pt x="468" y="112"/>
                    </a:lnTo>
                    <a:lnTo>
                      <a:pt x="475" y="108"/>
                    </a:lnTo>
                    <a:lnTo>
                      <a:pt x="481" y="106"/>
                    </a:lnTo>
                    <a:lnTo>
                      <a:pt x="487" y="101"/>
                    </a:lnTo>
                    <a:lnTo>
                      <a:pt x="494" y="97"/>
                    </a:lnTo>
                    <a:lnTo>
                      <a:pt x="500" y="93"/>
                    </a:lnTo>
                    <a:lnTo>
                      <a:pt x="506" y="89"/>
                    </a:lnTo>
                    <a:lnTo>
                      <a:pt x="512" y="84"/>
                    </a:lnTo>
                    <a:lnTo>
                      <a:pt x="519" y="80"/>
                    </a:lnTo>
                    <a:lnTo>
                      <a:pt x="525" y="76"/>
                    </a:lnTo>
                    <a:lnTo>
                      <a:pt x="531" y="72"/>
                    </a:lnTo>
                    <a:lnTo>
                      <a:pt x="538" y="68"/>
                    </a:lnTo>
                    <a:lnTo>
                      <a:pt x="544" y="65"/>
                    </a:lnTo>
                    <a:lnTo>
                      <a:pt x="550" y="61"/>
                    </a:lnTo>
                    <a:lnTo>
                      <a:pt x="557" y="57"/>
                    </a:lnTo>
                    <a:lnTo>
                      <a:pt x="561" y="53"/>
                    </a:lnTo>
                    <a:lnTo>
                      <a:pt x="569" y="49"/>
                    </a:lnTo>
                    <a:lnTo>
                      <a:pt x="574" y="47"/>
                    </a:lnTo>
                    <a:lnTo>
                      <a:pt x="580" y="44"/>
                    </a:lnTo>
                    <a:lnTo>
                      <a:pt x="586" y="40"/>
                    </a:lnTo>
                    <a:lnTo>
                      <a:pt x="593" y="38"/>
                    </a:lnTo>
                    <a:lnTo>
                      <a:pt x="599" y="36"/>
                    </a:lnTo>
                    <a:lnTo>
                      <a:pt x="605" y="34"/>
                    </a:lnTo>
                    <a:lnTo>
                      <a:pt x="601" y="40"/>
                    </a:lnTo>
                    <a:lnTo>
                      <a:pt x="595" y="47"/>
                    </a:lnTo>
                    <a:lnTo>
                      <a:pt x="589" y="55"/>
                    </a:lnTo>
                    <a:lnTo>
                      <a:pt x="584" y="63"/>
                    </a:lnTo>
                    <a:lnTo>
                      <a:pt x="576" y="68"/>
                    </a:lnTo>
                    <a:lnTo>
                      <a:pt x="569" y="74"/>
                    </a:lnTo>
                    <a:lnTo>
                      <a:pt x="561" y="82"/>
                    </a:lnTo>
                    <a:lnTo>
                      <a:pt x="551" y="89"/>
                    </a:lnTo>
                    <a:lnTo>
                      <a:pt x="542" y="93"/>
                    </a:lnTo>
                    <a:lnTo>
                      <a:pt x="532" y="101"/>
                    </a:lnTo>
                    <a:lnTo>
                      <a:pt x="523" y="106"/>
                    </a:lnTo>
                    <a:lnTo>
                      <a:pt x="515" y="110"/>
                    </a:lnTo>
                    <a:lnTo>
                      <a:pt x="506" y="116"/>
                    </a:lnTo>
                    <a:lnTo>
                      <a:pt x="496" y="120"/>
                    </a:lnTo>
                    <a:lnTo>
                      <a:pt x="489" y="125"/>
                    </a:lnTo>
                    <a:lnTo>
                      <a:pt x="481" y="129"/>
                    </a:lnTo>
                    <a:lnTo>
                      <a:pt x="491" y="127"/>
                    </a:lnTo>
                    <a:lnTo>
                      <a:pt x="498" y="127"/>
                    </a:lnTo>
                    <a:lnTo>
                      <a:pt x="506" y="125"/>
                    </a:lnTo>
                    <a:lnTo>
                      <a:pt x="515" y="123"/>
                    </a:lnTo>
                    <a:lnTo>
                      <a:pt x="525" y="120"/>
                    </a:lnTo>
                    <a:lnTo>
                      <a:pt x="532" y="118"/>
                    </a:lnTo>
                    <a:lnTo>
                      <a:pt x="542" y="114"/>
                    </a:lnTo>
                    <a:lnTo>
                      <a:pt x="551" y="110"/>
                    </a:lnTo>
                    <a:lnTo>
                      <a:pt x="561" y="106"/>
                    </a:lnTo>
                    <a:lnTo>
                      <a:pt x="570" y="101"/>
                    </a:lnTo>
                    <a:lnTo>
                      <a:pt x="580" y="97"/>
                    </a:lnTo>
                    <a:lnTo>
                      <a:pt x="589" y="93"/>
                    </a:lnTo>
                    <a:lnTo>
                      <a:pt x="599" y="87"/>
                    </a:lnTo>
                    <a:lnTo>
                      <a:pt x="608" y="82"/>
                    </a:lnTo>
                    <a:lnTo>
                      <a:pt x="618" y="76"/>
                    </a:lnTo>
                    <a:lnTo>
                      <a:pt x="628" y="72"/>
                    </a:lnTo>
                    <a:lnTo>
                      <a:pt x="637" y="65"/>
                    </a:lnTo>
                    <a:lnTo>
                      <a:pt x="647" y="61"/>
                    </a:lnTo>
                    <a:lnTo>
                      <a:pt x="656" y="53"/>
                    </a:lnTo>
                    <a:lnTo>
                      <a:pt x="666" y="47"/>
                    </a:lnTo>
                    <a:lnTo>
                      <a:pt x="675" y="42"/>
                    </a:lnTo>
                    <a:lnTo>
                      <a:pt x="685" y="38"/>
                    </a:lnTo>
                    <a:lnTo>
                      <a:pt x="694" y="32"/>
                    </a:lnTo>
                    <a:lnTo>
                      <a:pt x="704" y="28"/>
                    </a:lnTo>
                    <a:lnTo>
                      <a:pt x="713" y="23"/>
                    </a:lnTo>
                    <a:lnTo>
                      <a:pt x="723" y="19"/>
                    </a:lnTo>
                    <a:lnTo>
                      <a:pt x="732" y="13"/>
                    </a:lnTo>
                    <a:lnTo>
                      <a:pt x="743" y="9"/>
                    </a:lnTo>
                    <a:lnTo>
                      <a:pt x="753" y="8"/>
                    </a:lnTo>
                    <a:lnTo>
                      <a:pt x="762" y="4"/>
                    </a:lnTo>
                    <a:lnTo>
                      <a:pt x="772" y="0"/>
                    </a:lnTo>
                    <a:lnTo>
                      <a:pt x="783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7153920" y="4275000"/>
                <a:ext cx="129960" cy="5868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163" y="0"/>
                    </a:moveTo>
                    <a:lnTo>
                      <a:pt x="163" y="3"/>
                    </a:lnTo>
                    <a:lnTo>
                      <a:pt x="163" y="11"/>
                    </a:lnTo>
                    <a:lnTo>
                      <a:pt x="161" y="17"/>
                    </a:lnTo>
                    <a:lnTo>
                      <a:pt x="158" y="22"/>
                    </a:lnTo>
                    <a:lnTo>
                      <a:pt x="152" y="28"/>
                    </a:lnTo>
                    <a:lnTo>
                      <a:pt x="146" y="36"/>
                    </a:lnTo>
                    <a:lnTo>
                      <a:pt x="139" y="40"/>
                    </a:lnTo>
                    <a:lnTo>
                      <a:pt x="131" y="45"/>
                    </a:lnTo>
                    <a:lnTo>
                      <a:pt x="119" y="49"/>
                    </a:lnTo>
                    <a:lnTo>
                      <a:pt x="110" y="55"/>
                    </a:lnTo>
                    <a:lnTo>
                      <a:pt x="100" y="57"/>
                    </a:lnTo>
                    <a:lnTo>
                      <a:pt x="89" y="62"/>
                    </a:lnTo>
                    <a:lnTo>
                      <a:pt x="78" y="64"/>
                    </a:lnTo>
                    <a:lnTo>
                      <a:pt x="68" y="66"/>
                    </a:lnTo>
                    <a:lnTo>
                      <a:pt x="59" y="68"/>
                    </a:lnTo>
                    <a:lnTo>
                      <a:pt x="49" y="72"/>
                    </a:lnTo>
                    <a:lnTo>
                      <a:pt x="38" y="72"/>
                    </a:lnTo>
                    <a:lnTo>
                      <a:pt x="28" y="74"/>
                    </a:lnTo>
                    <a:lnTo>
                      <a:pt x="21" y="74"/>
                    </a:lnTo>
                    <a:lnTo>
                      <a:pt x="15" y="74"/>
                    </a:lnTo>
                    <a:lnTo>
                      <a:pt x="7" y="74"/>
                    </a:lnTo>
                    <a:lnTo>
                      <a:pt x="4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4" y="62"/>
                    </a:lnTo>
                    <a:lnTo>
                      <a:pt x="7" y="59"/>
                    </a:lnTo>
                    <a:lnTo>
                      <a:pt x="17" y="55"/>
                    </a:lnTo>
                    <a:lnTo>
                      <a:pt x="19" y="51"/>
                    </a:lnTo>
                    <a:lnTo>
                      <a:pt x="26" y="47"/>
                    </a:lnTo>
                    <a:lnTo>
                      <a:pt x="32" y="45"/>
                    </a:lnTo>
                    <a:lnTo>
                      <a:pt x="40" y="41"/>
                    </a:lnTo>
                    <a:lnTo>
                      <a:pt x="45" y="40"/>
                    </a:lnTo>
                    <a:lnTo>
                      <a:pt x="55" y="36"/>
                    </a:lnTo>
                    <a:lnTo>
                      <a:pt x="62" y="32"/>
                    </a:lnTo>
                    <a:lnTo>
                      <a:pt x="74" y="30"/>
                    </a:lnTo>
                    <a:lnTo>
                      <a:pt x="80" y="28"/>
                    </a:lnTo>
                    <a:lnTo>
                      <a:pt x="85" y="26"/>
                    </a:lnTo>
                    <a:lnTo>
                      <a:pt x="91" y="24"/>
                    </a:lnTo>
                    <a:lnTo>
                      <a:pt x="97" y="22"/>
                    </a:lnTo>
                    <a:lnTo>
                      <a:pt x="102" y="21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7"/>
                    </a:lnTo>
                    <a:lnTo>
                      <a:pt x="131" y="13"/>
                    </a:lnTo>
                    <a:lnTo>
                      <a:pt x="142" y="9"/>
                    </a:lnTo>
                    <a:lnTo>
                      <a:pt x="152" y="3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8647920" y="428148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32" y="2"/>
                    </a:moveTo>
                    <a:lnTo>
                      <a:pt x="38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1" y="2"/>
                    </a:lnTo>
                    <a:lnTo>
                      <a:pt x="66" y="2"/>
                    </a:lnTo>
                    <a:lnTo>
                      <a:pt x="72" y="6"/>
                    </a:lnTo>
                    <a:lnTo>
                      <a:pt x="72" y="14"/>
                    </a:lnTo>
                    <a:lnTo>
                      <a:pt x="72" y="23"/>
                    </a:lnTo>
                    <a:lnTo>
                      <a:pt x="61" y="21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6" y="25"/>
                    </a:lnTo>
                    <a:lnTo>
                      <a:pt x="26" y="29"/>
                    </a:lnTo>
                    <a:lnTo>
                      <a:pt x="1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4" y="23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8184960" y="4282920"/>
                <a:ext cx="144000" cy="15732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0" y="0"/>
                    </a:moveTo>
                    <a:lnTo>
                      <a:pt x="8" y="4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4" y="21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lnTo>
                      <a:pt x="63" y="42"/>
                    </a:lnTo>
                    <a:lnTo>
                      <a:pt x="71" y="48"/>
                    </a:lnTo>
                    <a:lnTo>
                      <a:pt x="76" y="53"/>
                    </a:lnTo>
                    <a:lnTo>
                      <a:pt x="84" y="59"/>
                    </a:lnTo>
                    <a:lnTo>
                      <a:pt x="91" y="65"/>
                    </a:lnTo>
                    <a:lnTo>
                      <a:pt x="97" y="72"/>
                    </a:lnTo>
                    <a:lnTo>
                      <a:pt x="103" y="78"/>
                    </a:lnTo>
                    <a:lnTo>
                      <a:pt x="111" y="86"/>
                    </a:lnTo>
                    <a:lnTo>
                      <a:pt x="116" y="91"/>
                    </a:lnTo>
                    <a:lnTo>
                      <a:pt x="122" y="99"/>
                    </a:lnTo>
                    <a:lnTo>
                      <a:pt x="128" y="105"/>
                    </a:lnTo>
                    <a:lnTo>
                      <a:pt x="133" y="112"/>
                    </a:lnTo>
                    <a:lnTo>
                      <a:pt x="139" y="118"/>
                    </a:lnTo>
                    <a:lnTo>
                      <a:pt x="145" y="126"/>
                    </a:lnTo>
                    <a:lnTo>
                      <a:pt x="149" y="133"/>
                    </a:lnTo>
                    <a:lnTo>
                      <a:pt x="154" y="141"/>
                    </a:lnTo>
                    <a:lnTo>
                      <a:pt x="158" y="147"/>
                    </a:lnTo>
                    <a:lnTo>
                      <a:pt x="162" y="154"/>
                    </a:lnTo>
                    <a:lnTo>
                      <a:pt x="166" y="162"/>
                    </a:lnTo>
                    <a:lnTo>
                      <a:pt x="169" y="169"/>
                    </a:lnTo>
                    <a:lnTo>
                      <a:pt x="173" y="177"/>
                    </a:lnTo>
                    <a:lnTo>
                      <a:pt x="175" y="185"/>
                    </a:lnTo>
                    <a:lnTo>
                      <a:pt x="179" y="192"/>
                    </a:lnTo>
                    <a:lnTo>
                      <a:pt x="183" y="200"/>
                    </a:lnTo>
                    <a:lnTo>
                      <a:pt x="177" y="194"/>
                    </a:lnTo>
                    <a:lnTo>
                      <a:pt x="171" y="186"/>
                    </a:lnTo>
                    <a:lnTo>
                      <a:pt x="166" y="181"/>
                    </a:lnTo>
                    <a:lnTo>
                      <a:pt x="160" y="175"/>
                    </a:lnTo>
                    <a:lnTo>
                      <a:pt x="154" y="167"/>
                    </a:lnTo>
                    <a:lnTo>
                      <a:pt x="149" y="162"/>
                    </a:lnTo>
                    <a:lnTo>
                      <a:pt x="143" y="156"/>
                    </a:lnTo>
                    <a:lnTo>
                      <a:pt x="137" y="150"/>
                    </a:lnTo>
                    <a:lnTo>
                      <a:pt x="131" y="143"/>
                    </a:lnTo>
                    <a:lnTo>
                      <a:pt x="124" y="137"/>
                    </a:lnTo>
                    <a:lnTo>
                      <a:pt x="118" y="131"/>
                    </a:lnTo>
                    <a:lnTo>
                      <a:pt x="112" y="124"/>
                    </a:lnTo>
                    <a:lnTo>
                      <a:pt x="105" y="118"/>
                    </a:lnTo>
                    <a:lnTo>
                      <a:pt x="99" y="112"/>
                    </a:lnTo>
                    <a:lnTo>
                      <a:pt x="93" y="105"/>
                    </a:lnTo>
                    <a:lnTo>
                      <a:pt x="88" y="101"/>
                    </a:lnTo>
                    <a:lnTo>
                      <a:pt x="82" y="93"/>
                    </a:lnTo>
                    <a:lnTo>
                      <a:pt x="74" y="88"/>
                    </a:lnTo>
                    <a:lnTo>
                      <a:pt x="69" y="82"/>
                    </a:lnTo>
                    <a:lnTo>
                      <a:pt x="63" y="74"/>
                    </a:lnTo>
                    <a:lnTo>
                      <a:pt x="55" y="69"/>
                    </a:lnTo>
                    <a:lnTo>
                      <a:pt x="50" y="63"/>
                    </a:lnTo>
                    <a:lnTo>
                      <a:pt x="44" y="55"/>
                    </a:lnTo>
                    <a:lnTo>
                      <a:pt x="38" y="50"/>
                    </a:lnTo>
                    <a:lnTo>
                      <a:pt x="33" y="42"/>
                    </a:lnTo>
                    <a:lnTo>
                      <a:pt x="27" y="36"/>
                    </a:lnTo>
                    <a:lnTo>
                      <a:pt x="21" y="31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8297640" y="4300200"/>
                <a:ext cx="166320" cy="144720"/>
              </a:xfrm>
              <a:custGeom>
                <a:avLst/>
                <a:gdLst/>
                <a:ahLst/>
                <a:rect l="l" t="t" r="r" b="b"/>
                <a:pathLst>
                  <a:path w="209" h="182">
                    <a:moveTo>
                      <a:pt x="0" y="0"/>
                    </a:moveTo>
                    <a:lnTo>
                      <a:pt x="10" y="6"/>
                    </a:lnTo>
                    <a:lnTo>
                      <a:pt x="21" y="9"/>
                    </a:lnTo>
                    <a:lnTo>
                      <a:pt x="27" y="13"/>
                    </a:lnTo>
                    <a:lnTo>
                      <a:pt x="32" y="15"/>
                    </a:lnTo>
                    <a:lnTo>
                      <a:pt x="40" y="19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7" y="28"/>
                    </a:lnTo>
                    <a:lnTo>
                      <a:pt x="63" y="32"/>
                    </a:lnTo>
                    <a:lnTo>
                      <a:pt x="68" y="34"/>
                    </a:lnTo>
                    <a:lnTo>
                      <a:pt x="74" y="38"/>
                    </a:lnTo>
                    <a:lnTo>
                      <a:pt x="80" y="42"/>
                    </a:lnTo>
                    <a:lnTo>
                      <a:pt x="87" y="44"/>
                    </a:lnTo>
                    <a:lnTo>
                      <a:pt x="93" y="49"/>
                    </a:lnTo>
                    <a:lnTo>
                      <a:pt x="105" y="55"/>
                    </a:lnTo>
                    <a:lnTo>
                      <a:pt x="116" y="63"/>
                    </a:lnTo>
                    <a:lnTo>
                      <a:pt x="126" y="72"/>
                    </a:lnTo>
                    <a:lnTo>
                      <a:pt x="135" y="82"/>
                    </a:lnTo>
                    <a:lnTo>
                      <a:pt x="141" y="87"/>
                    </a:lnTo>
                    <a:lnTo>
                      <a:pt x="145" y="91"/>
                    </a:lnTo>
                    <a:lnTo>
                      <a:pt x="148" y="97"/>
                    </a:lnTo>
                    <a:lnTo>
                      <a:pt x="152" y="104"/>
                    </a:lnTo>
                    <a:lnTo>
                      <a:pt x="154" y="108"/>
                    </a:lnTo>
                    <a:lnTo>
                      <a:pt x="158" y="116"/>
                    </a:lnTo>
                    <a:lnTo>
                      <a:pt x="162" y="122"/>
                    </a:lnTo>
                    <a:lnTo>
                      <a:pt x="165" y="129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9" y="127"/>
                    </a:lnTo>
                    <a:lnTo>
                      <a:pt x="184" y="131"/>
                    </a:lnTo>
                    <a:lnTo>
                      <a:pt x="188" y="135"/>
                    </a:lnTo>
                    <a:lnTo>
                      <a:pt x="194" y="144"/>
                    </a:lnTo>
                    <a:lnTo>
                      <a:pt x="198" y="152"/>
                    </a:lnTo>
                    <a:lnTo>
                      <a:pt x="200" y="162"/>
                    </a:lnTo>
                    <a:lnTo>
                      <a:pt x="203" y="171"/>
                    </a:lnTo>
                    <a:lnTo>
                      <a:pt x="209" y="179"/>
                    </a:lnTo>
                    <a:lnTo>
                      <a:pt x="205" y="182"/>
                    </a:lnTo>
                    <a:lnTo>
                      <a:pt x="198" y="175"/>
                    </a:lnTo>
                    <a:lnTo>
                      <a:pt x="192" y="169"/>
                    </a:lnTo>
                    <a:lnTo>
                      <a:pt x="186" y="162"/>
                    </a:lnTo>
                    <a:lnTo>
                      <a:pt x="179" y="154"/>
                    </a:lnTo>
                    <a:lnTo>
                      <a:pt x="171" y="148"/>
                    </a:lnTo>
                    <a:lnTo>
                      <a:pt x="165" y="143"/>
                    </a:lnTo>
                    <a:lnTo>
                      <a:pt x="158" y="135"/>
                    </a:lnTo>
                    <a:lnTo>
                      <a:pt x="152" y="129"/>
                    </a:lnTo>
                    <a:lnTo>
                      <a:pt x="143" y="124"/>
                    </a:lnTo>
                    <a:lnTo>
                      <a:pt x="135" y="116"/>
                    </a:lnTo>
                    <a:lnTo>
                      <a:pt x="129" y="110"/>
                    </a:lnTo>
                    <a:lnTo>
                      <a:pt x="122" y="104"/>
                    </a:lnTo>
                    <a:lnTo>
                      <a:pt x="112" y="97"/>
                    </a:lnTo>
                    <a:lnTo>
                      <a:pt x="107" y="91"/>
                    </a:lnTo>
                    <a:lnTo>
                      <a:pt x="97" y="87"/>
                    </a:lnTo>
                    <a:lnTo>
                      <a:pt x="91" y="82"/>
                    </a:lnTo>
                    <a:lnTo>
                      <a:pt x="84" y="76"/>
                    </a:lnTo>
                    <a:lnTo>
                      <a:pt x="76" y="70"/>
                    </a:lnTo>
                    <a:lnTo>
                      <a:pt x="68" y="65"/>
                    </a:lnTo>
                    <a:lnTo>
                      <a:pt x="61" y="59"/>
                    </a:lnTo>
                    <a:lnTo>
                      <a:pt x="55" y="53"/>
                    </a:lnTo>
                    <a:lnTo>
                      <a:pt x="48" y="47"/>
                    </a:lnTo>
                    <a:lnTo>
                      <a:pt x="40" y="42"/>
                    </a:lnTo>
                    <a:lnTo>
                      <a:pt x="36" y="38"/>
                    </a:lnTo>
                    <a:lnTo>
                      <a:pt x="29" y="32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3" y="1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8246160" y="4300200"/>
                <a:ext cx="129960" cy="136800"/>
              </a:xfrm>
              <a:custGeom>
                <a:avLst/>
                <a:gdLst/>
                <a:ahLst/>
                <a:rect l="l" t="t" r="r" b="b"/>
                <a:pathLst>
                  <a:path w="164" h="171">
                    <a:moveTo>
                      <a:pt x="0" y="0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5" y="15"/>
                    </a:lnTo>
                    <a:lnTo>
                      <a:pt x="40" y="19"/>
                    </a:lnTo>
                    <a:lnTo>
                      <a:pt x="48" y="23"/>
                    </a:lnTo>
                    <a:lnTo>
                      <a:pt x="54" y="28"/>
                    </a:lnTo>
                    <a:lnTo>
                      <a:pt x="65" y="38"/>
                    </a:lnTo>
                    <a:lnTo>
                      <a:pt x="76" y="49"/>
                    </a:lnTo>
                    <a:lnTo>
                      <a:pt x="80" y="53"/>
                    </a:lnTo>
                    <a:lnTo>
                      <a:pt x="86" y="61"/>
                    </a:lnTo>
                    <a:lnTo>
                      <a:pt x="90" y="66"/>
                    </a:lnTo>
                    <a:lnTo>
                      <a:pt x="95" y="72"/>
                    </a:lnTo>
                    <a:lnTo>
                      <a:pt x="99" y="78"/>
                    </a:lnTo>
                    <a:lnTo>
                      <a:pt x="105" y="85"/>
                    </a:lnTo>
                    <a:lnTo>
                      <a:pt x="109" y="91"/>
                    </a:lnTo>
                    <a:lnTo>
                      <a:pt x="114" y="97"/>
                    </a:lnTo>
                    <a:lnTo>
                      <a:pt x="116" y="104"/>
                    </a:lnTo>
                    <a:lnTo>
                      <a:pt x="122" y="110"/>
                    </a:lnTo>
                    <a:lnTo>
                      <a:pt x="126" y="116"/>
                    </a:lnTo>
                    <a:lnTo>
                      <a:pt x="131" y="124"/>
                    </a:lnTo>
                    <a:lnTo>
                      <a:pt x="133" y="127"/>
                    </a:lnTo>
                    <a:lnTo>
                      <a:pt x="139" y="135"/>
                    </a:lnTo>
                    <a:lnTo>
                      <a:pt x="143" y="141"/>
                    </a:lnTo>
                    <a:lnTo>
                      <a:pt x="149" y="146"/>
                    </a:lnTo>
                    <a:lnTo>
                      <a:pt x="150" y="152"/>
                    </a:lnTo>
                    <a:lnTo>
                      <a:pt x="154" y="160"/>
                    </a:lnTo>
                    <a:lnTo>
                      <a:pt x="160" y="165"/>
                    </a:lnTo>
                    <a:lnTo>
                      <a:pt x="164" y="171"/>
                    </a:lnTo>
                    <a:lnTo>
                      <a:pt x="158" y="167"/>
                    </a:lnTo>
                    <a:lnTo>
                      <a:pt x="152" y="163"/>
                    </a:lnTo>
                    <a:lnTo>
                      <a:pt x="145" y="162"/>
                    </a:lnTo>
                    <a:lnTo>
                      <a:pt x="141" y="158"/>
                    </a:lnTo>
                    <a:lnTo>
                      <a:pt x="133" y="154"/>
                    </a:lnTo>
                    <a:lnTo>
                      <a:pt x="130" y="150"/>
                    </a:lnTo>
                    <a:lnTo>
                      <a:pt x="122" y="144"/>
                    </a:lnTo>
                    <a:lnTo>
                      <a:pt x="116" y="141"/>
                    </a:lnTo>
                    <a:lnTo>
                      <a:pt x="105" y="131"/>
                    </a:lnTo>
                    <a:lnTo>
                      <a:pt x="95" y="120"/>
                    </a:lnTo>
                    <a:lnTo>
                      <a:pt x="88" y="114"/>
                    </a:lnTo>
                    <a:lnTo>
                      <a:pt x="84" y="108"/>
                    </a:lnTo>
                    <a:lnTo>
                      <a:pt x="78" y="101"/>
                    </a:lnTo>
                    <a:lnTo>
                      <a:pt x="74" y="97"/>
                    </a:lnTo>
                    <a:lnTo>
                      <a:pt x="67" y="89"/>
                    </a:lnTo>
                    <a:lnTo>
                      <a:pt x="61" y="84"/>
                    </a:lnTo>
                    <a:lnTo>
                      <a:pt x="57" y="78"/>
                    </a:lnTo>
                    <a:lnTo>
                      <a:pt x="52" y="70"/>
                    </a:lnTo>
                    <a:lnTo>
                      <a:pt x="46" y="65"/>
                    </a:lnTo>
                    <a:lnTo>
                      <a:pt x="42" y="59"/>
                    </a:lnTo>
                    <a:lnTo>
                      <a:pt x="36" y="51"/>
                    </a:lnTo>
                    <a:lnTo>
                      <a:pt x="33" y="46"/>
                    </a:lnTo>
                    <a:lnTo>
                      <a:pt x="29" y="40"/>
                    </a:lnTo>
                    <a:lnTo>
                      <a:pt x="23" y="34"/>
                    </a:lnTo>
                    <a:lnTo>
                      <a:pt x="19" y="27"/>
                    </a:lnTo>
                    <a:lnTo>
                      <a:pt x="16" y="23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7012800" y="4298760"/>
                <a:ext cx="443880" cy="168480"/>
              </a:xfrm>
              <a:custGeom>
                <a:avLst/>
                <a:gdLst/>
                <a:ahLst/>
                <a:rect l="l" t="t" r="r" b="b"/>
                <a:pathLst>
                  <a:path w="559" h="213">
                    <a:moveTo>
                      <a:pt x="542" y="2"/>
                    </a:moveTo>
                    <a:lnTo>
                      <a:pt x="548" y="0"/>
                    </a:lnTo>
                    <a:lnTo>
                      <a:pt x="553" y="0"/>
                    </a:lnTo>
                    <a:lnTo>
                      <a:pt x="557" y="0"/>
                    </a:lnTo>
                    <a:lnTo>
                      <a:pt x="559" y="6"/>
                    </a:lnTo>
                    <a:lnTo>
                      <a:pt x="557" y="11"/>
                    </a:lnTo>
                    <a:lnTo>
                      <a:pt x="557" y="25"/>
                    </a:lnTo>
                    <a:lnTo>
                      <a:pt x="548" y="25"/>
                    </a:lnTo>
                    <a:lnTo>
                      <a:pt x="538" y="25"/>
                    </a:lnTo>
                    <a:lnTo>
                      <a:pt x="529" y="27"/>
                    </a:lnTo>
                    <a:lnTo>
                      <a:pt x="519" y="27"/>
                    </a:lnTo>
                    <a:lnTo>
                      <a:pt x="510" y="29"/>
                    </a:lnTo>
                    <a:lnTo>
                      <a:pt x="500" y="30"/>
                    </a:lnTo>
                    <a:lnTo>
                      <a:pt x="491" y="32"/>
                    </a:lnTo>
                    <a:lnTo>
                      <a:pt x="483" y="34"/>
                    </a:lnTo>
                    <a:lnTo>
                      <a:pt x="473" y="34"/>
                    </a:lnTo>
                    <a:lnTo>
                      <a:pt x="464" y="36"/>
                    </a:lnTo>
                    <a:lnTo>
                      <a:pt x="454" y="38"/>
                    </a:lnTo>
                    <a:lnTo>
                      <a:pt x="447" y="40"/>
                    </a:lnTo>
                    <a:lnTo>
                      <a:pt x="437" y="42"/>
                    </a:lnTo>
                    <a:lnTo>
                      <a:pt x="428" y="44"/>
                    </a:lnTo>
                    <a:lnTo>
                      <a:pt x="420" y="46"/>
                    </a:lnTo>
                    <a:lnTo>
                      <a:pt x="411" y="49"/>
                    </a:lnTo>
                    <a:lnTo>
                      <a:pt x="401" y="51"/>
                    </a:lnTo>
                    <a:lnTo>
                      <a:pt x="392" y="53"/>
                    </a:lnTo>
                    <a:lnTo>
                      <a:pt x="384" y="55"/>
                    </a:lnTo>
                    <a:lnTo>
                      <a:pt x="375" y="59"/>
                    </a:lnTo>
                    <a:lnTo>
                      <a:pt x="365" y="61"/>
                    </a:lnTo>
                    <a:lnTo>
                      <a:pt x="358" y="65"/>
                    </a:lnTo>
                    <a:lnTo>
                      <a:pt x="348" y="68"/>
                    </a:lnTo>
                    <a:lnTo>
                      <a:pt x="340" y="70"/>
                    </a:lnTo>
                    <a:lnTo>
                      <a:pt x="331" y="74"/>
                    </a:lnTo>
                    <a:lnTo>
                      <a:pt x="321" y="78"/>
                    </a:lnTo>
                    <a:lnTo>
                      <a:pt x="314" y="80"/>
                    </a:lnTo>
                    <a:lnTo>
                      <a:pt x="306" y="84"/>
                    </a:lnTo>
                    <a:lnTo>
                      <a:pt x="297" y="87"/>
                    </a:lnTo>
                    <a:lnTo>
                      <a:pt x="289" y="89"/>
                    </a:lnTo>
                    <a:lnTo>
                      <a:pt x="280" y="93"/>
                    </a:lnTo>
                    <a:lnTo>
                      <a:pt x="272" y="97"/>
                    </a:lnTo>
                    <a:lnTo>
                      <a:pt x="262" y="101"/>
                    </a:lnTo>
                    <a:lnTo>
                      <a:pt x="255" y="103"/>
                    </a:lnTo>
                    <a:lnTo>
                      <a:pt x="245" y="106"/>
                    </a:lnTo>
                    <a:lnTo>
                      <a:pt x="238" y="110"/>
                    </a:lnTo>
                    <a:lnTo>
                      <a:pt x="228" y="112"/>
                    </a:lnTo>
                    <a:lnTo>
                      <a:pt x="221" y="116"/>
                    </a:lnTo>
                    <a:lnTo>
                      <a:pt x="211" y="120"/>
                    </a:lnTo>
                    <a:lnTo>
                      <a:pt x="204" y="124"/>
                    </a:lnTo>
                    <a:lnTo>
                      <a:pt x="194" y="127"/>
                    </a:lnTo>
                    <a:lnTo>
                      <a:pt x="186" y="129"/>
                    </a:lnTo>
                    <a:lnTo>
                      <a:pt x="177" y="135"/>
                    </a:lnTo>
                    <a:lnTo>
                      <a:pt x="169" y="139"/>
                    </a:lnTo>
                    <a:lnTo>
                      <a:pt x="160" y="143"/>
                    </a:lnTo>
                    <a:lnTo>
                      <a:pt x="152" y="145"/>
                    </a:lnTo>
                    <a:lnTo>
                      <a:pt x="143" y="148"/>
                    </a:lnTo>
                    <a:lnTo>
                      <a:pt x="135" y="154"/>
                    </a:lnTo>
                    <a:lnTo>
                      <a:pt x="126" y="156"/>
                    </a:lnTo>
                    <a:lnTo>
                      <a:pt x="118" y="160"/>
                    </a:lnTo>
                    <a:lnTo>
                      <a:pt x="108" y="164"/>
                    </a:lnTo>
                    <a:lnTo>
                      <a:pt x="103" y="167"/>
                    </a:lnTo>
                    <a:lnTo>
                      <a:pt x="93" y="171"/>
                    </a:lnTo>
                    <a:lnTo>
                      <a:pt x="84" y="175"/>
                    </a:lnTo>
                    <a:lnTo>
                      <a:pt x="76" y="179"/>
                    </a:lnTo>
                    <a:lnTo>
                      <a:pt x="69" y="183"/>
                    </a:lnTo>
                    <a:lnTo>
                      <a:pt x="59" y="186"/>
                    </a:lnTo>
                    <a:lnTo>
                      <a:pt x="50" y="190"/>
                    </a:lnTo>
                    <a:lnTo>
                      <a:pt x="42" y="194"/>
                    </a:lnTo>
                    <a:lnTo>
                      <a:pt x="34" y="198"/>
                    </a:lnTo>
                    <a:lnTo>
                      <a:pt x="25" y="202"/>
                    </a:lnTo>
                    <a:lnTo>
                      <a:pt x="15" y="203"/>
                    </a:lnTo>
                    <a:lnTo>
                      <a:pt x="8" y="209"/>
                    </a:lnTo>
                    <a:lnTo>
                      <a:pt x="0" y="213"/>
                    </a:lnTo>
                    <a:lnTo>
                      <a:pt x="6" y="207"/>
                    </a:lnTo>
                    <a:lnTo>
                      <a:pt x="13" y="200"/>
                    </a:lnTo>
                    <a:lnTo>
                      <a:pt x="19" y="194"/>
                    </a:lnTo>
                    <a:lnTo>
                      <a:pt x="25" y="188"/>
                    </a:lnTo>
                    <a:lnTo>
                      <a:pt x="32" y="183"/>
                    </a:lnTo>
                    <a:lnTo>
                      <a:pt x="40" y="177"/>
                    </a:lnTo>
                    <a:lnTo>
                      <a:pt x="48" y="173"/>
                    </a:lnTo>
                    <a:lnTo>
                      <a:pt x="55" y="167"/>
                    </a:lnTo>
                    <a:lnTo>
                      <a:pt x="61" y="164"/>
                    </a:lnTo>
                    <a:lnTo>
                      <a:pt x="69" y="158"/>
                    </a:lnTo>
                    <a:lnTo>
                      <a:pt x="76" y="154"/>
                    </a:lnTo>
                    <a:lnTo>
                      <a:pt x="84" y="148"/>
                    </a:lnTo>
                    <a:lnTo>
                      <a:pt x="91" y="145"/>
                    </a:lnTo>
                    <a:lnTo>
                      <a:pt x="99" y="141"/>
                    </a:lnTo>
                    <a:lnTo>
                      <a:pt x="107" y="137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31" y="126"/>
                    </a:lnTo>
                    <a:lnTo>
                      <a:pt x="139" y="120"/>
                    </a:lnTo>
                    <a:lnTo>
                      <a:pt x="148" y="118"/>
                    </a:lnTo>
                    <a:lnTo>
                      <a:pt x="156" y="112"/>
                    </a:lnTo>
                    <a:lnTo>
                      <a:pt x="164" y="110"/>
                    </a:lnTo>
                    <a:lnTo>
                      <a:pt x="173" y="106"/>
                    </a:lnTo>
                    <a:lnTo>
                      <a:pt x="183" y="103"/>
                    </a:lnTo>
                    <a:lnTo>
                      <a:pt x="190" y="101"/>
                    </a:lnTo>
                    <a:lnTo>
                      <a:pt x="200" y="97"/>
                    </a:lnTo>
                    <a:lnTo>
                      <a:pt x="207" y="93"/>
                    </a:lnTo>
                    <a:lnTo>
                      <a:pt x="217" y="91"/>
                    </a:lnTo>
                    <a:lnTo>
                      <a:pt x="226" y="87"/>
                    </a:lnTo>
                    <a:lnTo>
                      <a:pt x="234" y="86"/>
                    </a:lnTo>
                    <a:lnTo>
                      <a:pt x="243" y="82"/>
                    </a:lnTo>
                    <a:lnTo>
                      <a:pt x="253" y="80"/>
                    </a:lnTo>
                    <a:lnTo>
                      <a:pt x="262" y="78"/>
                    </a:lnTo>
                    <a:lnTo>
                      <a:pt x="270" y="74"/>
                    </a:lnTo>
                    <a:lnTo>
                      <a:pt x="280" y="70"/>
                    </a:lnTo>
                    <a:lnTo>
                      <a:pt x="289" y="68"/>
                    </a:lnTo>
                    <a:lnTo>
                      <a:pt x="297" y="65"/>
                    </a:lnTo>
                    <a:lnTo>
                      <a:pt x="306" y="63"/>
                    </a:lnTo>
                    <a:lnTo>
                      <a:pt x="316" y="61"/>
                    </a:lnTo>
                    <a:lnTo>
                      <a:pt x="325" y="59"/>
                    </a:lnTo>
                    <a:lnTo>
                      <a:pt x="335" y="55"/>
                    </a:lnTo>
                    <a:lnTo>
                      <a:pt x="344" y="53"/>
                    </a:lnTo>
                    <a:lnTo>
                      <a:pt x="354" y="51"/>
                    </a:lnTo>
                    <a:lnTo>
                      <a:pt x="363" y="49"/>
                    </a:lnTo>
                    <a:lnTo>
                      <a:pt x="371" y="46"/>
                    </a:lnTo>
                    <a:lnTo>
                      <a:pt x="380" y="44"/>
                    </a:lnTo>
                    <a:lnTo>
                      <a:pt x="390" y="42"/>
                    </a:lnTo>
                    <a:lnTo>
                      <a:pt x="399" y="40"/>
                    </a:lnTo>
                    <a:lnTo>
                      <a:pt x="409" y="36"/>
                    </a:lnTo>
                    <a:lnTo>
                      <a:pt x="416" y="34"/>
                    </a:lnTo>
                    <a:lnTo>
                      <a:pt x="426" y="32"/>
                    </a:lnTo>
                    <a:lnTo>
                      <a:pt x="435" y="30"/>
                    </a:lnTo>
                    <a:lnTo>
                      <a:pt x="445" y="27"/>
                    </a:lnTo>
                    <a:lnTo>
                      <a:pt x="453" y="27"/>
                    </a:lnTo>
                    <a:lnTo>
                      <a:pt x="462" y="23"/>
                    </a:lnTo>
                    <a:lnTo>
                      <a:pt x="472" y="21"/>
                    </a:lnTo>
                    <a:lnTo>
                      <a:pt x="481" y="19"/>
                    </a:lnTo>
                    <a:lnTo>
                      <a:pt x="489" y="17"/>
                    </a:lnTo>
                    <a:lnTo>
                      <a:pt x="496" y="15"/>
                    </a:lnTo>
                    <a:lnTo>
                      <a:pt x="506" y="11"/>
                    </a:lnTo>
                    <a:lnTo>
                      <a:pt x="515" y="10"/>
                    </a:lnTo>
                    <a:lnTo>
                      <a:pt x="523" y="8"/>
                    </a:lnTo>
                    <a:lnTo>
                      <a:pt x="532" y="6"/>
                    </a:lnTo>
                    <a:lnTo>
                      <a:pt x="542" y="2"/>
                    </a:lnTo>
                    <a:lnTo>
                      <a:pt x="5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6505560" y="4300200"/>
                <a:ext cx="29520" cy="144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9" y="0"/>
                    </a:moveTo>
                    <a:lnTo>
                      <a:pt x="15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0" y="13"/>
                    </a:lnTo>
                    <a:lnTo>
                      <a:pt x="24" y="17"/>
                    </a:lnTo>
                    <a:lnTo>
                      <a:pt x="15" y="19"/>
                    </a:lnTo>
                    <a:lnTo>
                      <a:pt x="9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6642720" y="4327200"/>
                <a:ext cx="495000" cy="140040"/>
              </a:xfrm>
              <a:custGeom>
                <a:avLst/>
                <a:gdLst/>
                <a:ahLst/>
                <a:rect l="l" t="t" r="r" b="b"/>
                <a:pathLst>
                  <a:path w="626" h="177">
                    <a:moveTo>
                      <a:pt x="536" y="0"/>
                    </a:moveTo>
                    <a:lnTo>
                      <a:pt x="540" y="0"/>
                    </a:lnTo>
                    <a:lnTo>
                      <a:pt x="548" y="2"/>
                    </a:lnTo>
                    <a:lnTo>
                      <a:pt x="553" y="2"/>
                    </a:lnTo>
                    <a:lnTo>
                      <a:pt x="561" y="2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7" y="0"/>
                    </a:lnTo>
                    <a:lnTo>
                      <a:pt x="605" y="0"/>
                    </a:lnTo>
                    <a:lnTo>
                      <a:pt x="610" y="0"/>
                    </a:lnTo>
                    <a:lnTo>
                      <a:pt x="616" y="2"/>
                    </a:lnTo>
                    <a:lnTo>
                      <a:pt x="620" y="6"/>
                    </a:lnTo>
                    <a:lnTo>
                      <a:pt x="624" y="10"/>
                    </a:lnTo>
                    <a:lnTo>
                      <a:pt x="624" y="15"/>
                    </a:lnTo>
                    <a:lnTo>
                      <a:pt x="626" y="21"/>
                    </a:lnTo>
                    <a:lnTo>
                      <a:pt x="618" y="21"/>
                    </a:lnTo>
                    <a:lnTo>
                      <a:pt x="610" y="21"/>
                    </a:lnTo>
                    <a:lnTo>
                      <a:pt x="603" y="21"/>
                    </a:lnTo>
                    <a:lnTo>
                      <a:pt x="595" y="23"/>
                    </a:lnTo>
                    <a:lnTo>
                      <a:pt x="586" y="23"/>
                    </a:lnTo>
                    <a:lnTo>
                      <a:pt x="580" y="25"/>
                    </a:lnTo>
                    <a:lnTo>
                      <a:pt x="572" y="25"/>
                    </a:lnTo>
                    <a:lnTo>
                      <a:pt x="565" y="27"/>
                    </a:lnTo>
                    <a:lnTo>
                      <a:pt x="557" y="27"/>
                    </a:lnTo>
                    <a:lnTo>
                      <a:pt x="550" y="27"/>
                    </a:lnTo>
                    <a:lnTo>
                      <a:pt x="542" y="29"/>
                    </a:lnTo>
                    <a:lnTo>
                      <a:pt x="536" y="29"/>
                    </a:lnTo>
                    <a:lnTo>
                      <a:pt x="529" y="31"/>
                    </a:lnTo>
                    <a:lnTo>
                      <a:pt x="521" y="32"/>
                    </a:lnTo>
                    <a:lnTo>
                      <a:pt x="514" y="32"/>
                    </a:lnTo>
                    <a:lnTo>
                      <a:pt x="508" y="34"/>
                    </a:lnTo>
                    <a:lnTo>
                      <a:pt x="500" y="34"/>
                    </a:lnTo>
                    <a:lnTo>
                      <a:pt x="493" y="36"/>
                    </a:lnTo>
                    <a:lnTo>
                      <a:pt x="485" y="36"/>
                    </a:lnTo>
                    <a:lnTo>
                      <a:pt x="479" y="38"/>
                    </a:lnTo>
                    <a:lnTo>
                      <a:pt x="472" y="40"/>
                    </a:lnTo>
                    <a:lnTo>
                      <a:pt x="464" y="42"/>
                    </a:lnTo>
                    <a:lnTo>
                      <a:pt x="457" y="42"/>
                    </a:lnTo>
                    <a:lnTo>
                      <a:pt x="449" y="44"/>
                    </a:lnTo>
                    <a:lnTo>
                      <a:pt x="443" y="46"/>
                    </a:lnTo>
                    <a:lnTo>
                      <a:pt x="436" y="48"/>
                    </a:lnTo>
                    <a:lnTo>
                      <a:pt x="428" y="48"/>
                    </a:lnTo>
                    <a:lnTo>
                      <a:pt x="422" y="51"/>
                    </a:lnTo>
                    <a:lnTo>
                      <a:pt x="415" y="51"/>
                    </a:lnTo>
                    <a:lnTo>
                      <a:pt x="407" y="53"/>
                    </a:lnTo>
                    <a:lnTo>
                      <a:pt x="401" y="55"/>
                    </a:lnTo>
                    <a:lnTo>
                      <a:pt x="394" y="57"/>
                    </a:lnTo>
                    <a:lnTo>
                      <a:pt x="388" y="57"/>
                    </a:lnTo>
                    <a:lnTo>
                      <a:pt x="380" y="61"/>
                    </a:lnTo>
                    <a:lnTo>
                      <a:pt x="373" y="61"/>
                    </a:lnTo>
                    <a:lnTo>
                      <a:pt x="365" y="63"/>
                    </a:lnTo>
                    <a:lnTo>
                      <a:pt x="360" y="65"/>
                    </a:lnTo>
                    <a:lnTo>
                      <a:pt x="352" y="67"/>
                    </a:lnTo>
                    <a:lnTo>
                      <a:pt x="344" y="67"/>
                    </a:lnTo>
                    <a:lnTo>
                      <a:pt x="337" y="70"/>
                    </a:lnTo>
                    <a:lnTo>
                      <a:pt x="331" y="70"/>
                    </a:lnTo>
                    <a:lnTo>
                      <a:pt x="323" y="72"/>
                    </a:lnTo>
                    <a:lnTo>
                      <a:pt x="316" y="74"/>
                    </a:lnTo>
                    <a:lnTo>
                      <a:pt x="310" y="76"/>
                    </a:lnTo>
                    <a:lnTo>
                      <a:pt x="303" y="78"/>
                    </a:lnTo>
                    <a:lnTo>
                      <a:pt x="295" y="82"/>
                    </a:lnTo>
                    <a:lnTo>
                      <a:pt x="289" y="82"/>
                    </a:lnTo>
                    <a:lnTo>
                      <a:pt x="282" y="86"/>
                    </a:lnTo>
                    <a:lnTo>
                      <a:pt x="276" y="86"/>
                    </a:lnTo>
                    <a:lnTo>
                      <a:pt x="268" y="90"/>
                    </a:lnTo>
                    <a:lnTo>
                      <a:pt x="261" y="91"/>
                    </a:lnTo>
                    <a:lnTo>
                      <a:pt x="253" y="93"/>
                    </a:lnTo>
                    <a:lnTo>
                      <a:pt x="245" y="93"/>
                    </a:lnTo>
                    <a:lnTo>
                      <a:pt x="240" y="97"/>
                    </a:lnTo>
                    <a:lnTo>
                      <a:pt x="234" y="99"/>
                    </a:lnTo>
                    <a:lnTo>
                      <a:pt x="226" y="101"/>
                    </a:lnTo>
                    <a:lnTo>
                      <a:pt x="221" y="103"/>
                    </a:lnTo>
                    <a:lnTo>
                      <a:pt x="213" y="105"/>
                    </a:lnTo>
                    <a:lnTo>
                      <a:pt x="206" y="107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5" y="112"/>
                    </a:lnTo>
                    <a:lnTo>
                      <a:pt x="179" y="116"/>
                    </a:lnTo>
                    <a:lnTo>
                      <a:pt x="173" y="118"/>
                    </a:lnTo>
                    <a:lnTo>
                      <a:pt x="173" y="122"/>
                    </a:lnTo>
                    <a:lnTo>
                      <a:pt x="177" y="126"/>
                    </a:lnTo>
                    <a:lnTo>
                      <a:pt x="185" y="128"/>
                    </a:lnTo>
                    <a:lnTo>
                      <a:pt x="194" y="128"/>
                    </a:lnTo>
                    <a:lnTo>
                      <a:pt x="202" y="128"/>
                    </a:lnTo>
                    <a:lnTo>
                      <a:pt x="209" y="126"/>
                    </a:lnTo>
                    <a:lnTo>
                      <a:pt x="217" y="126"/>
                    </a:lnTo>
                    <a:lnTo>
                      <a:pt x="223" y="126"/>
                    </a:lnTo>
                    <a:lnTo>
                      <a:pt x="230" y="129"/>
                    </a:lnTo>
                    <a:lnTo>
                      <a:pt x="230" y="135"/>
                    </a:lnTo>
                    <a:lnTo>
                      <a:pt x="223" y="137"/>
                    </a:lnTo>
                    <a:lnTo>
                      <a:pt x="215" y="139"/>
                    </a:lnTo>
                    <a:lnTo>
                      <a:pt x="207" y="139"/>
                    </a:lnTo>
                    <a:lnTo>
                      <a:pt x="202" y="139"/>
                    </a:lnTo>
                    <a:lnTo>
                      <a:pt x="194" y="139"/>
                    </a:lnTo>
                    <a:lnTo>
                      <a:pt x="188" y="137"/>
                    </a:lnTo>
                    <a:lnTo>
                      <a:pt x="183" y="137"/>
                    </a:lnTo>
                    <a:lnTo>
                      <a:pt x="175" y="135"/>
                    </a:lnTo>
                    <a:lnTo>
                      <a:pt x="168" y="133"/>
                    </a:lnTo>
                    <a:lnTo>
                      <a:pt x="162" y="131"/>
                    </a:lnTo>
                    <a:lnTo>
                      <a:pt x="156" y="129"/>
                    </a:lnTo>
                    <a:lnTo>
                      <a:pt x="149" y="129"/>
                    </a:lnTo>
                    <a:lnTo>
                      <a:pt x="141" y="128"/>
                    </a:lnTo>
                    <a:lnTo>
                      <a:pt x="135" y="128"/>
                    </a:lnTo>
                    <a:lnTo>
                      <a:pt x="130" y="128"/>
                    </a:lnTo>
                    <a:lnTo>
                      <a:pt x="122" y="129"/>
                    </a:lnTo>
                    <a:lnTo>
                      <a:pt x="122" y="133"/>
                    </a:lnTo>
                    <a:lnTo>
                      <a:pt x="122" y="137"/>
                    </a:lnTo>
                    <a:lnTo>
                      <a:pt x="128" y="139"/>
                    </a:lnTo>
                    <a:lnTo>
                      <a:pt x="133" y="139"/>
                    </a:lnTo>
                    <a:lnTo>
                      <a:pt x="139" y="139"/>
                    </a:lnTo>
                    <a:lnTo>
                      <a:pt x="143" y="143"/>
                    </a:lnTo>
                    <a:lnTo>
                      <a:pt x="143" y="145"/>
                    </a:lnTo>
                    <a:lnTo>
                      <a:pt x="133" y="147"/>
                    </a:lnTo>
                    <a:lnTo>
                      <a:pt x="126" y="148"/>
                    </a:lnTo>
                    <a:lnTo>
                      <a:pt x="118" y="150"/>
                    </a:lnTo>
                    <a:lnTo>
                      <a:pt x="109" y="154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2"/>
                    </a:lnTo>
                    <a:lnTo>
                      <a:pt x="63" y="164"/>
                    </a:lnTo>
                    <a:lnTo>
                      <a:pt x="53" y="166"/>
                    </a:lnTo>
                    <a:lnTo>
                      <a:pt x="44" y="166"/>
                    </a:lnTo>
                    <a:lnTo>
                      <a:pt x="36" y="169"/>
                    </a:lnTo>
                    <a:lnTo>
                      <a:pt x="27" y="171"/>
                    </a:lnTo>
                    <a:lnTo>
                      <a:pt x="17" y="173"/>
                    </a:lnTo>
                    <a:lnTo>
                      <a:pt x="8" y="173"/>
                    </a:lnTo>
                    <a:lnTo>
                      <a:pt x="0" y="177"/>
                    </a:lnTo>
                    <a:lnTo>
                      <a:pt x="6" y="171"/>
                    </a:lnTo>
                    <a:lnTo>
                      <a:pt x="14" y="166"/>
                    </a:lnTo>
                    <a:lnTo>
                      <a:pt x="21" y="160"/>
                    </a:lnTo>
                    <a:lnTo>
                      <a:pt x="29" y="156"/>
                    </a:lnTo>
                    <a:lnTo>
                      <a:pt x="34" y="150"/>
                    </a:lnTo>
                    <a:lnTo>
                      <a:pt x="44" y="147"/>
                    </a:lnTo>
                    <a:lnTo>
                      <a:pt x="50" y="141"/>
                    </a:lnTo>
                    <a:lnTo>
                      <a:pt x="59" y="139"/>
                    </a:lnTo>
                    <a:lnTo>
                      <a:pt x="65" y="133"/>
                    </a:lnTo>
                    <a:lnTo>
                      <a:pt x="74" y="129"/>
                    </a:lnTo>
                    <a:lnTo>
                      <a:pt x="82" y="126"/>
                    </a:lnTo>
                    <a:lnTo>
                      <a:pt x="90" y="122"/>
                    </a:lnTo>
                    <a:lnTo>
                      <a:pt x="97" y="118"/>
                    </a:lnTo>
                    <a:lnTo>
                      <a:pt x="105" y="114"/>
                    </a:lnTo>
                    <a:lnTo>
                      <a:pt x="112" y="110"/>
                    </a:lnTo>
                    <a:lnTo>
                      <a:pt x="122" y="109"/>
                    </a:lnTo>
                    <a:lnTo>
                      <a:pt x="130" y="103"/>
                    </a:lnTo>
                    <a:lnTo>
                      <a:pt x="137" y="101"/>
                    </a:lnTo>
                    <a:lnTo>
                      <a:pt x="145" y="97"/>
                    </a:lnTo>
                    <a:lnTo>
                      <a:pt x="152" y="93"/>
                    </a:lnTo>
                    <a:lnTo>
                      <a:pt x="160" y="91"/>
                    </a:lnTo>
                    <a:lnTo>
                      <a:pt x="169" y="88"/>
                    </a:lnTo>
                    <a:lnTo>
                      <a:pt x="177" y="84"/>
                    </a:lnTo>
                    <a:lnTo>
                      <a:pt x="187" y="82"/>
                    </a:lnTo>
                    <a:lnTo>
                      <a:pt x="194" y="80"/>
                    </a:lnTo>
                    <a:lnTo>
                      <a:pt x="204" y="76"/>
                    </a:lnTo>
                    <a:lnTo>
                      <a:pt x="211" y="72"/>
                    </a:lnTo>
                    <a:lnTo>
                      <a:pt x="221" y="70"/>
                    </a:lnTo>
                    <a:lnTo>
                      <a:pt x="230" y="67"/>
                    </a:lnTo>
                    <a:lnTo>
                      <a:pt x="238" y="65"/>
                    </a:lnTo>
                    <a:lnTo>
                      <a:pt x="245" y="63"/>
                    </a:lnTo>
                    <a:lnTo>
                      <a:pt x="255" y="61"/>
                    </a:lnTo>
                    <a:lnTo>
                      <a:pt x="263" y="57"/>
                    </a:lnTo>
                    <a:lnTo>
                      <a:pt x="272" y="55"/>
                    </a:lnTo>
                    <a:lnTo>
                      <a:pt x="280" y="53"/>
                    </a:lnTo>
                    <a:lnTo>
                      <a:pt x="289" y="51"/>
                    </a:lnTo>
                    <a:lnTo>
                      <a:pt x="299" y="48"/>
                    </a:lnTo>
                    <a:lnTo>
                      <a:pt x="306" y="46"/>
                    </a:lnTo>
                    <a:lnTo>
                      <a:pt x="316" y="44"/>
                    </a:lnTo>
                    <a:lnTo>
                      <a:pt x="325" y="44"/>
                    </a:lnTo>
                    <a:lnTo>
                      <a:pt x="333" y="40"/>
                    </a:lnTo>
                    <a:lnTo>
                      <a:pt x="342" y="38"/>
                    </a:lnTo>
                    <a:lnTo>
                      <a:pt x="350" y="36"/>
                    </a:lnTo>
                    <a:lnTo>
                      <a:pt x="360" y="34"/>
                    </a:lnTo>
                    <a:lnTo>
                      <a:pt x="369" y="32"/>
                    </a:lnTo>
                    <a:lnTo>
                      <a:pt x="377" y="31"/>
                    </a:lnTo>
                    <a:lnTo>
                      <a:pt x="384" y="29"/>
                    </a:lnTo>
                    <a:lnTo>
                      <a:pt x="394" y="27"/>
                    </a:lnTo>
                    <a:lnTo>
                      <a:pt x="403" y="25"/>
                    </a:lnTo>
                    <a:lnTo>
                      <a:pt x="411" y="23"/>
                    </a:lnTo>
                    <a:lnTo>
                      <a:pt x="420" y="21"/>
                    </a:lnTo>
                    <a:lnTo>
                      <a:pt x="430" y="19"/>
                    </a:lnTo>
                    <a:lnTo>
                      <a:pt x="437" y="17"/>
                    </a:lnTo>
                    <a:lnTo>
                      <a:pt x="447" y="17"/>
                    </a:lnTo>
                    <a:lnTo>
                      <a:pt x="457" y="15"/>
                    </a:lnTo>
                    <a:lnTo>
                      <a:pt x="466" y="13"/>
                    </a:lnTo>
                    <a:lnTo>
                      <a:pt x="474" y="12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500" y="8"/>
                    </a:lnTo>
                    <a:lnTo>
                      <a:pt x="510" y="6"/>
                    </a:lnTo>
                    <a:lnTo>
                      <a:pt x="519" y="4"/>
                    </a:lnTo>
                    <a:lnTo>
                      <a:pt x="527" y="2"/>
                    </a:lnTo>
                    <a:lnTo>
                      <a:pt x="536" y="0"/>
                    </a:lnTo>
                    <a:lnTo>
                      <a:pt x="5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6478560" y="4327200"/>
                <a:ext cx="2664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1" y="0"/>
                    </a:moveTo>
                    <a:lnTo>
                      <a:pt x="28" y="2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26" y="19"/>
                    </a:lnTo>
                    <a:lnTo>
                      <a:pt x="17" y="27"/>
                    </a:lnTo>
                    <a:lnTo>
                      <a:pt x="5" y="2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7309440" y="4338360"/>
                <a:ext cx="284040" cy="147600"/>
              </a:xfrm>
              <a:custGeom>
                <a:avLst/>
                <a:gdLst/>
                <a:ahLst/>
                <a:rect l="l" t="t" r="r" b="b"/>
                <a:pathLst>
                  <a:path w="359" h="187">
                    <a:moveTo>
                      <a:pt x="359" y="0"/>
                    </a:moveTo>
                    <a:lnTo>
                      <a:pt x="350" y="6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325" y="27"/>
                    </a:lnTo>
                    <a:lnTo>
                      <a:pt x="316" y="33"/>
                    </a:lnTo>
                    <a:lnTo>
                      <a:pt x="306" y="38"/>
                    </a:lnTo>
                    <a:lnTo>
                      <a:pt x="297" y="42"/>
                    </a:lnTo>
                    <a:lnTo>
                      <a:pt x="285" y="48"/>
                    </a:lnTo>
                    <a:lnTo>
                      <a:pt x="280" y="50"/>
                    </a:lnTo>
                    <a:lnTo>
                      <a:pt x="274" y="52"/>
                    </a:lnTo>
                    <a:lnTo>
                      <a:pt x="268" y="54"/>
                    </a:lnTo>
                    <a:lnTo>
                      <a:pt x="262" y="57"/>
                    </a:lnTo>
                    <a:lnTo>
                      <a:pt x="257" y="57"/>
                    </a:lnTo>
                    <a:lnTo>
                      <a:pt x="249" y="61"/>
                    </a:lnTo>
                    <a:lnTo>
                      <a:pt x="243" y="61"/>
                    </a:lnTo>
                    <a:lnTo>
                      <a:pt x="238" y="65"/>
                    </a:lnTo>
                    <a:lnTo>
                      <a:pt x="232" y="67"/>
                    </a:lnTo>
                    <a:lnTo>
                      <a:pt x="224" y="69"/>
                    </a:lnTo>
                    <a:lnTo>
                      <a:pt x="219" y="71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200" y="77"/>
                    </a:lnTo>
                    <a:lnTo>
                      <a:pt x="194" y="78"/>
                    </a:lnTo>
                    <a:lnTo>
                      <a:pt x="186" y="80"/>
                    </a:lnTo>
                    <a:lnTo>
                      <a:pt x="179" y="82"/>
                    </a:lnTo>
                    <a:lnTo>
                      <a:pt x="173" y="84"/>
                    </a:lnTo>
                    <a:lnTo>
                      <a:pt x="167" y="86"/>
                    </a:lnTo>
                    <a:lnTo>
                      <a:pt x="160" y="88"/>
                    </a:lnTo>
                    <a:lnTo>
                      <a:pt x="152" y="90"/>
                    </a:lnTo>
                    <a:lnTo>
                      <a:pt x="146" y="92"/>
                    </a:lnTo>
                    <a:lnTo>
                      <a:pt x="141" y="94"/>
                    </a:lnTo>
                    <a:lnTo>
                      <a:pt x="133" y="97"/>
                    </a:lnTo>
                    <a:lnTo>
                      <a:pt x="127" y="99"/>
                    </a:lnTo>
                    <a:lnTo>
                      <a:pt x="122" y="101"/>
                    </a:lnTo>
                    <a:lnTo>
                      <a:pt x="114" y="103"/>
                    </a:lnTo>
                    <a:lnTo>
                      <a:pt x="108" y="107"/>
                    </a:lnTo>
                    <a:lnTo>
                      <a:pt x="103" y="109"/>
                    </a:lnTo>
                    <a:lnTo>
                      <a:pt x="95" y="113"/>
                    </a:lnTo>
                    <a:lnTo>
                      <a:pt x="89" y="115"/>
                    </a:lnTo>
                    <a:lnTo>
                      <a:pt x="84" y="118"/>
                    </a:lnTo>
                    <a:lnTo>
                      <a:pt x="78" y="122"/>
                    </a:lnTo>
                    <a:lnTo>
                      <a:pt x="72" y="124"/>
                    </a:lnTo>
                    <a:lnTo>
                      <a:pt x="65" y="128"/>
                    </a:lnTo>
                    <a:lnTo>
                      <a:pt x="59" y="132"/>
                    </a:lnTo>
                    <a:lnTo>
                      <a:pt x="48" y="137"/>
                    </a:lnTo>
                    <a:lnTo>
                      <a:pt x="38" y="147"/>
                    </a:lnTo>
                    <a:lnTo>
                      <a:pt x="27" y="154"/>
                    </a:lnTo>
                    <a:lnTo>
                      <a:pt x="17" y="164"/>
                    </a:lnTo>
                    <a:lnTo>
                      <a:pt x="12" y="170"/>
                    </a:lnTo>
                    <a:lnTo>
                      <a:pt x="8" y="173"/>
                    </a:lnTo>
                    <a:lnTo>
                      <a:pt x="2" y="181"/>
                    </a:lnTo>
                    <a:lnTo>
                      <a:pt x="0" y="187"/>
                    </a:lnTo>
                    <a:lnTo>
                      <a:pt x="2" y="181"/>
                    </a:lnTo>
                    <a:lnTo>
                      <a:pt x="4" y="173"/>
                    </a:lnTo>
                    <a:lnTo>
                      <a:pt x="8" y="168"/>
                    </a:lnTo>
                    <a:lnTo>
                      <a:pt x="12" y="162"/>
                    </a:lnTo>
                    <a:lnTo>
                      <a:pt x="17" y="153"/>
                    </a:lnTo>
                    <a:lnTo>
                      <a:pt x="27" y="143"/>
                    </a:lnTo>
                    <a:lnTo>
                      <a:pt x="34" y="134"/>
                    </a:lnTo>
                    <a:lnTo>
                      <a:pt x="42" y="124"/>
                    </a:lnTo>
                    <a:lnTo>
                      <a:pt x="51" y="115"/>
                    </a:lnTo>
                    <a:lnTo>
                      <a:pt x="63" y="107"/>
                    </a:lnTo>
                    <a:lnTo>
                      <a:pt x="72" y="99"/>
                    </a:lnTo>
                    <a:lnTo>
                      <a:pt x="82" y="92"/>
                    </a:lnTo>
                    <a:lnTo>
                      <a:pt x="93" y="86"/>
                    </a:lnTo>
                    <a:lnTo>
                      <a:pt x="105" y="78"/>
                    </a:lnTo>
                    <a:lnTo>
                      <a:pt x="110" y="77"/>
                    </a:lnTo>
                    <a:lnTo>
                      <a:pt x="116" y="73"/>
                    </a:lnTo>
                    <a:lnTo>
                      <a:pt x="122" y="69"/>
                    </a:lnTo>
                    <a:lnTo>
                      <a:pt x="129" y="67"/>
                    </a:lnTo>
                    <a:lnTo>
                      <a:pt x="135" y="63"/>
                    </a:lnTo>
                    <a:lnTo>
                      <a:pt x="141" y="61"/>
                    </a:lnTo>
                    <a:lnTo>
                      <a:pt x="148" y="59"/>
                    </a:lnTo>
                    <a:lnTo>
                      <a:pt x="154" y="57"/>
                    </a:lnTo>
                    <a:lnTo>
                      <a:pt x="160" y="54"/>
                    </a:lnTo>
                    <a:lnTo>
                      <a:pt x="167" y="50"/>
                    </a:lnTo>
                    <a:lnTo>
                      <a:pt x="173" y="48"/>
                    </a:lnTo>
                    <a:lnTo>
                      <a:pt x="179" y="46"/>
                    </a:lnTo>
                    <a:lnTo>
                      <a:pt x="186" y="42"/>
                    </a:lnTo>
                    <a:lnTo>
                      <a:pt x="192" y="40"/>
                    </a:lnTo>
                    <a:lnTo>
                      <a:pt x="198" y="38"/>
                    </a:lnTo>
                    <a:lnTo>
                      <a:pt x="205" y="38"/>
                    </a:lnTo>
                    <a:lnTo>
                      <a:pt x="211" y="35"/>
                    </a:lnTo>
                    <a:lnTo>
                      <a:pt x="217" y="33"/>
                    </a:lnTo>
                    <a:lnTo>
                      <a:pt x="224" y="31"/>
                    </a:lnTo>
                    <a:lnTo>
                      <a:pt x="232" y="31"/>
                    </a:lnTo>
                    <a:lnTo>
                      <a:pt x="238" y="29"/>
                    </a:lnTo>
                    <a:lnTo>
                      <a:pt x="243" y="27"/>
                    </a:lnTo>
                    <a:lnTo>
                      <a:pt x="251" y="25"/>
                    </a:lnTo>
                    <a:lnTo>
                      <a:pt x="259" y="23"/>
                    </a:lnTo>
                    <a:lnTo>
                      <a:pt x="264" y="21"/>
                    </a:lnTo>
                    <a:lnTo>
                      <a:pt x="270" y="19"/>
                    </a:lnTo>
                    <a:lnTo>
                      <a:pt x="278" y="18"/>
                    </a:lnTo>
                    <a:lnTo>
                      <a:pt x="283" y="16"/>
                    </a:lnTo>
                    <a:lnTo>
                      <a:pt x="289" y="14"/>
                    </a:lnTo>
                    <a:lnTo>
                      <a:pt x="297" y="14"/>
                    </a:lnTo>
                    <a:lnTo>
                      <a:pt x="302" y="12"/>
                    </a:lnTo>
                    <a:lnTo>
                      <a:pt x="310" y="12"/>
                    </a:lnTo>
                    <a:lnTo>
                      <a:pt x="316" y="8"/>
                    </a:lnTo>
                    <a:lnTo>
                      <a:pt x="321" y="8"/>
                    </a:lnTo>
                    <a:lnTo>
                      <a:pt x="327" y="6"/>
                    </a:lnTo>
                    <a:lnTo>
                      <a:pt x="335" y="4"/>
                    </a:lnTo>
                    <a:lnTo>
                      <a:pt x="340" y="2"/>
                    </a:lnTo>
                    <a:lnTo>
                      <a:pt x="346" y="2"/>
                    </a:lnTo>
                    <a:lnTo>
                      <a:pt x="352" y="0"/>
                    </a:lnTo>
                    <a:lnTo>
                      <a:pt x="359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6906960" y="4338360"/>
                <a:ext cx="399600" cy="120600"/>
              </a:xfrm>
              <a:custGeom>
                <a:avLst/>
                <a:gdLst/>
                <a:ahLst/>
                <a:rect l="l" t="t" r="r" b="b"/>
                <a:pathLst>
                  <a:path w="504" h="153">
                    <a:moveTo>
                      <a:pt x="401" y="0"/>
                    </a:moveTo>
                    <a:lnTo>
                      <a:pt x="407" y="0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3" y="0"/>
                    </a:lnTo>
                    <a:lnTo>
                      <a:pt x="458" y="0"/>
                    </a:lnTo>
                    <a:lnTo>
                      <a:pt x="464" y="0"/>
                    </a:lnTo>
                    <a:lnTo>
                      <a:pt x="472" y="0"/>
                    </a:lnTo>
                    <a:lnTo>
                      <a:pt x="477" y="0"/>
                    </a:lnTo>
                    <a:lnTo>
                      <a:pt x="483" y="0"/>
                    </a:lnTo>
                    <a:lnTo>
                      <a:pt x="491" y="0"/>
                    </a:lnTo>
                    <a:lnTo>
                      <a:pt x="496" y="0"/>
                    </a:lnTo>
                    <a:lnTo>
                      <a:pt x="504" y="0"/>
                    </a:lnTo>
                    <a:lnTo>
                      <a:pt x="504" y="2"/>
                    </a:lnTo>
                    <a:lnTo>
                      <a:pt x="504" y="6"/>
                    </a:lnTo>
                    <a:lnTo>
                      <a:pt x="495" y="6"/>
                    </a:lnTo>
                    <a:lnTo>
                      <a:pt x="487" y="8"/>
                    </a:lnTo>
                    <a:lnTo>
                      <a:pt x="479" y="10"/>
                    </a:lnTo>
                    <a:lnTo>
                      <a:pt x="472" y="12"/>
                    </a:lnTo>
                    <a:lnTo>
                      <a:pt x="462" y="14"/>
                    </a:lnTo>
                    <a:lnTo>
                      <a:pt x="455" y="16"/>
                    </a:lnTo>
                    <a:lnTo>
                      <a:pt x="447" y="16"/>
                    </a:lnTo>
                    <a:lnTo>
                      <a:pt x="439" y="19"/>
                    </a:lnTo>
                    <a:lnTo>
                      <a:pt x="432" y="19"/>
                    </a:lnTo>
                    <a:lnTo>
                      <a:pt x="424" y="21"/>
                    </a:lnTo>
                    <a:lnTo>
                      <a:pt x="415" y="23"/>
                    </a:lnTo>
                    <a:lnTo>
                      <a:pt x="407" y="25"/>
                    </a:lnTo>
                    <a:lnTo>
                      <a:pt x="399" y="29"/>
                    </a:lnTo>
                    <a:lnTo>
                      <a:pt x="392" y="31"/>
                    </a:lnTo>
                    <a:lnTo>
                      <a:pt x="384" y="33"/>
                    </a:lnTo>
                    <a:lnTo>
                      <a:pt x="377" y="35"/>
                    </a:lnTo>
                    <a:lnTo>
                      <a:pt x="367" y="37"/>
                    </a:lnTo>
                    <a:lnTo>
                      <a:pt x="360" y="38"/>
                    </a:lnTo>
                    <a:lnTo>
                      <a:pt x="352" y="40"/>
                    </a:lnTo>
                    <a:lnTo>
                      <a:pt x="344" y="44"/>
                    </a:lnTo>
                    <a:lnTo>
                      <a:pt x="335" y="46"/>
                    </a:lnTo>
                    <a:lnTo>
                      <a:pt x="329" y="48"/>
                    </a:lnTo>
                    <a:lnTo>
                      <a:pt x="320" y="50"/>
                    </a:lnTo>
                    <a:lnTo>
                      <a:pt x="312" y="54"/>
                    </a:lnTo>
                    <a:lnTo>
                      <a:pt x="304" y="56"/>
                    </a:lnTo>
                    <a:lnTo>
                      <a:pt x="297" y="57"/>
                    </a:lnTo>
                    <a:lnTo>
                      <a:pt x="287" y="59"/>
                    </a:lnTo>
                    <a:lnTo>
                      <a:pt x="282" y="63"/>
                    </a:lnTo>
                    <a:lnTo>
                      <a:pt x="274" y="65"/>
                    </a:lnTo>
                    <a:lnTo>
                      <a:pt x="266" y="67"/>
                    </a:lnTo>
                    <a:lnTo>
                      <a:pt x="257" y="71"/>
                    </a:lnTo>
                    <a:lnTo>
                      <a:pt x="251" y="73"/>
                    </a:lnTo>
                    <a:lnTo>
                      <a:pt x="242" y="77"/>
                    </a:lnTo>
                    <a:lnTo>
                      <a:pt x="236" y="78"/>
                    </a:lnTo>
                    <a:lnTo>
                      <a:pt x="226" y="80"/>
                    </a:lnTo>
                    <a:lnTo>
                      <a:pt x="219" y="84"/>
                    </a:lnTo>
                    <a:lnTo>
                      <a:pt x="211" y="86"/>
                    </a:lnTo>
                    <a:lnTo>
                      <a:pt x="204" y="88"/>
                    </a:lnTo>
                    <a:lnTo>
                      <a:pt x="196" y="90"/>
                    </a:lnTo>
                    <a:lnTo>
                      <a:pt x="188" y="94"/>
                    </a:lnTo>
                    <a:lnTo>
                      <a:pt x="181" y="96"/>
                    </a:lnTo>
                    <a:lnTo>
                      <a:pt x="173" y="97"/>
                    </a:lnTo>
                    <a:lnTo>
                      <a:pt x="164" y="99"/>
                    </a:lnTo>
                    <a:lnTo>
                      <a:pt x="156" y="103"/>
                    </a:lnTo>
                    <a:lnTo>
                      <a:pt x="148" y="105"/>
                    </a:lnTo>
                    <a:lnTo>
                      <a:pt x="141" y="107"/>
                    </a:lnTo>
                    <a:lnTo>
                      <a:pt x="133" y="111"/>
                    </a:lnTo>
                    <a:lnTo>
                      <a:pt x="126" y="115"/>
                    </a:lnTo>
                    <a:lnTo>
                      <a:pt x="118" y="116"/>
                    </a:lnTo>
                    <a:lnTo>
                      <a:pt x="110" y="118"/>
                    </a:lnTo>
                    <a:lnTo>
                      <a:pt x="101" y="120"/>
                    </a:lnTo>
                    <a:lnTo>
                      <a:pt x="93" y="124"/>
                    </a:lnTo>
                    <a:lnTo>
                      <a:pt x="86" y="126"/>
                    </a:lnTo>
                    <a:lnTo>
                      <a:pt x="78" y="128"/>
                    </a:lnTo>
                    <a:lnTo>
                      <a:pt x="71" y="130"/>
                    </a:lnTo>
                    <a:lnTo>
                      <a:pt x="63" y="134"/>
                    </a:lnTo>
                    <a:lnTo>
                      <a:pt x="55" y="135"/>
                    </a:lnTo>
                    <a:lnTo>
                      <a:pt x="48" y="137"/>
                    </a:lnTo>
                    <a:lnTo>
                      <a:pt x="38" y="139"/>
                    </a:lnTo>
                    <a:lnTo>
                      <a:pt x="33" y="143"/>
                    </a:lnTo>
                    <a:lnTo>
                      <a:pt x="23" y="145"/>
                    </a:lnTo>
                    <a:lnTo>
                      <a:pt x="15" y="147"/>
                    </a:lnTo>
                    <a:lnTo>
                      <a:pt x="8" y="151"/>
                    </a:lnTo>
                    <a:lnTo>
                      <a:pt x="0" y="153"/>
                    </a:lnTo>
                    <a:lnTo>
                      <a:pt x="10" y="145"/>
                    </a:lnTo>
                    <a:lnTo>
                      <a:pt x="23" y="137"/>
                    </a:lnTo>
                    <a:lnTo>
                      <a:pt x="27" y="135"/>
                    </a:lnTo>
                    <a:lnTo>
                      <a:pt x="33" y="132"/>
                    </a:lnTo>
                    <a:lnTo>
                      <a:pt x="38" y="128"/>
                    </a:lnTo>
                    <a:lnTo>
                      <a:pt x="46" y="126"/>
                    </a:lnTo>
                    <a:lnTo>
                      <a:pt x="55" y="118"/>
                    </a:lnTo>
                    <a:lnTo>
                      <a:pt x="69" y="113"/>
                    </a:lnTo>
                    <a:lnTo>
                      <a:pt x="74" y="109"/>
                    </a:lnTo>
                    <a:lnTo>
                      <a:pt x="80" y="107"/>
                    </a:lnTo>
                    <a:lnTo>
                      <a:pt x="88" y="103"/>
                    </a:lnTo>
                    <a:lnTo>
                      <a:pt x="93" y="101"/>
                    </a:lnTo>
                    <a:lnTo>
                      <a:pt x="99" y="97"/>
                    </a:lnTo>
                    <a:lnTo>
                      <a:pt x="105" y="96"/>
                    </a:lnTo>
                    <a:lnTo>
                      <a:pt x="110" y="92"/>
                    </a:lnTo>
                    <a:lnTo>
                      <a:pt x="116" y="90"/>
                    </a:lnTo>
                    <a:lnTo>
                      <a:pt x="122" y="86"/>
                    </a:lnTo>
                    <a:lnTo>
                      <a:pt x="129" y="84"/>
                    </a:lnTo>
                    <a:lnTo>
                      <a:pt x="135" y="82"/>
                    </a:lnTo>
                    <a:lnTo>
                      <a:pt x="143" y="80"/>
                    </a:lnTo>
                    <a:lnTo>
                      <a:pt x="148" y="77"/>
                    </a:lnTo>
                    <a:lnTo>
                      <a:pt x="154" y="75"/>
                    </a:lnTo>
                    <a:lnTo>
                      <a:pt x="162" y="73"/>
                    </a:lnTo>
                    <a:lnTo>
                      <a:pt x="168" y="71"/>
                    </a:lnTo>
                    <a:lnTo>
                      <a:pt x="173" y="67"/>
                    </a:lnTo>
                    <a:lnTo>
                      <a:pt x="181" y="65"/>
                    </a:lnTo>
                    <a:lnTo>
                      <a:pt x="187" y="63"/>
                    </a:lnTo>
                    <a:lnTo>
                      <a:pt x="192" y="61"/>
                    </a:lnTo>
                    <a:lnTo>
                      <a:pt x="200" y="59"/>
                    </a:lnTo>
                    <a:lnTo>
                      <a:pt x="206" y="57"/>
                    </a:lnTo>
                    <a:lnTo>
                      <a:pt x="211" y="54"/>
                    </a:lnTo>
                    <a:lnTo>
                      <a:pt x="219" y="52"/>
                    </a:lnTo>
                    <a:lnTo>
                      <a:pt x="225" y="50"/>
                    </a:lnTo>
                    <a:lnTo>
                      <a:pt x="230" y="48"/>
                    </a:lnTo>
                    <a:lnTo>
                      <a:pt x="238" y="44"/>
                    </a:lnTo>
                    <a:lnTo>
                      <a:pt x="244" y="44"/>
                    </a:lnTo>
                    <a:lnTo>
                      <a:pt x="249" y="40"/>
                    </a:lnTo>
                    <a:lnTo>
                      <a:pt x="257" y="40"/>
                    </a:lnTo>
                    <a:lnTo>
                      <a:pt x="263" y="37"/>
                    </a:lnTo>
                    <a:lnTo>
                      <a:pt x="268" y="35"/>
                    </a:lnTo>
                    <a:lnTo>
                      <a:pt x="276" y="33"/>
                    </a:lnTo>
                    <a:lnTo>
                      <a:pt x="282" y="31"/>
                    </a:lnTo>
                    <a:lnTo>
                      <a:pt x="287" y="29"/>
                    </a:lnTo>
                    <a:lnTo>
                      <a:pt x="295" y="29"/>
                    </a:lnTo>
                    <a:lnTo>
                      <a:pt x="302" y="25"/>
                    </a:lnTo>
                    <a:lnTo>
                      <a:pt x="308" y="23"/>
                    </a:lnTo>
                    <a:lnTo>
                      <a:pt x="314" y="21"/>
                    </a:lnTo>
                    <a:lnTo>
                      <a:pt x="322" y="21"/>
                    </a:lnTo>
                    <a:lnTo>
                      <a:pt x="327" y="18"/>
                    </a:lnTo>
                    <a:lnTo>
                      <a:pt x="335" y="16"/>
                    </a:lnTo>
                    <a:lnTo>
                      <a:pt x="341" y="14"/>
                    </a:lnTo>
                    <a:lnTo>
                      <a:pt x="348" y="14"/>
                    </a:lnTo>
                    <a:lnTo>
                      <a:pt x="354" y="12"/>
                    </a:lnTo>
                    <a:lnTo>
                      <a:pt x="361" y="10"/>
                    </a:lnTo>
                    <a:lnTo>
                      <a:pt x="367" y="8"/>
                    </a:lnTo>
                    <a:lnTo>
                      <a:pt x="373" y="6"/>
                    </a:lnTo>
                    <a:lnTo>
                      <a:pt x="380" y="4"/>
                    </a:lnTo>
                    <a:lnTo>
                      <a:pt x="388" y="4"/>
                    </a:lnTo>
                    <a:lnTo>
                      <a:pt x="394" y="2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8376480" y="4344840"/>
                <a:ext cx="140760" cy="81000"/>
              </a:xfrm>
              <a:custGeom>
                <a:avLst/>
                <a:gdLst/>
                <a:ahLst/>
                <a:rect l="l" t="t" r="r" b="b"/>
                <a:pathLst>
                  <a:path w="178" h="101">
                    <a:moveTo>
                      <a:pt x="5" y="2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7" y="6"/>
                    </a:lnTo>
                    <a:lnTo>
                      <a:pt x="53" y="8"/>
                    </a:lnTo>
                    <a:lnTo>
                      <a:pt x="64" y="11"/>
                    </a:lnTo>
                    <a:lnTo>
                      <a:pt x="76" y="17"/>
                    </a:lnTo>
                    <a:lnTo>
                      <a:pt x="87" y="23"/>
                    </a:lnTo>
                    <a:lnTo>
                      <a:pt x="98" y="30"/>
                    </a:lnTo>
                    <a:lnTo>
                      <a:pt x="108" y="36"/>
                    </a:lnTo>
                    <a:lnTo>
                      <a:pt x="117" y="44"/>
                    </a:lnTo>
                    <a:lnTo>
                      <a:pt x="127" y="51"/>
                    </a:lnTo>
                    <a:lnTo>
                      <a:pt x="138" y="61"/>
                    </a:lnTo>
                    <a:lnTo>
                      <a:pt x="148" y="70"/>
                    </a:lnTo>
                    <a:lnTo>
                      <a:pt x="157" y="80"/>
                    </a:lnTo>
                    <a:lnTo>
                      <a:pt x="167" y="89"/>
                    </a:lnTo>
                    <a:lnTo>
                      <a:pt x="178" y="99"/>
                    </a:lnTo>
                    <a:lnTo>
                      <a:pt x="175" y="101"/>
                    </a:lnTo>
                    <a:lnTo>
                      <a:pt x="163" y="93"/>
                    </a:lnTo>
                    <a:lnTo>
                      <a:pt x="154" y="86"/>
                    </a:lnTo>
                    <a:lnTo>
                      <a:pt x="142" y="78"/>
                    </a:lnTo>
                    <a:lnTo>
                      <a:pt x="133" y="72"/>
                    </a:lnTo>
                    <a:lnTo>
                      <a:pt x="119" y="65"/>
                    </a:lnTo>
                    <a:lnTo>
                      <a:pt x="110" y="59"/>
                    </a:lnTo>
                    <a:lnTo>
                      <a:pt x="98" y="53"/>
                    </a:lnTo>
                    <a:lnTo>
                      <a:pt x="89" y="47"/>
                    </a:lnTo>
                    <a:lnTo>
                      <a:pt x="78" y="42"/>
                    </a:lnTo>
                    <a:lnTo>
                      <a:pt x="66" y="36"/>
                    </a:lnTo>
                    <a:lnTo>
                      <a:pt x="55" y="30"/>
                    </a:lnTo>
                    <a:lnTo>
                      <a:pt x="43" y="27"/>
                    </a:lnTo>
                    <a:lnTo>
                      <a:pt x="32" y="23"/>
                    </a:lnTo>
                    <a:lnTo>
                      <a:pt x="22" y="19"/>
                    </a:lnTo>
                    <a:lnTo>
                      <a:pt x="9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6447600" y="437508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0"/>
                    </a:moveTo>
                    <a:lnTo>
                      <a:pt x="12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3" y="17"/>
                    </a:lnTo>
                    <a:lnTo>
                      <a:pt x="15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6603840" y="4384440"/>
                <a:ext cx="329760" cy="46080"/>
              </a:xfrm>
              <a:custGeom>
                <a:avLst/>
                <a:gdLst/>
                <a:ahLst/>
                <a:rect l="l" t="t" r="r" b="b"/>
                <a:pathLst>
                  <a:path w="416" h="57">
                    <a:moveTo>
                      <a:pt x="313" y="0"/>
                    </a:moveTo>
                    <a:lnTo>
                      <a:pt x="319" y="0"/>
                    </a:lnTo>
                    <a:lnTo>
                      <a:pt x="327" y="0"/>
                    </a:lnTo>
                    <a:lnTo>
                      <a:pt x="332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1" y="0"/>
                    </a:lnTo>
                    <a:lnTo>
                      <a:pt x="359" y="0"/>
                    </a:lnTo>
                    <a:lnTo>
                      <a:pt x="365" y="0"/>
                    </a:lnTo>
                    <a:lnTo>
                      <a:pt x="371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6" y="0"/>
                    </a:lnTo>
                    <a:lnTo>
                      <a:pt x="416" y="2"/>
                    </a:lnTo>
                    <a:lnTo>
                      <a:pt x="416" y="4"/>
                    </a:lnTo>
                    <a:lnTo>
                      <a:pt x="410" y="6"/>
                    </a:lnTo>
                    <a:lnTo>
                      <a:pt x="403" y="8"/>
                    </a:lnTo>
                    <a:lnTo>
                      <a:pt x="397" y="10"/>
                    </a:lnTo>
                    <a:lnTo>
                      <a:pt x="391" y="12"/>
                    </a:lnTo>
                    <a:lnTo>
                      <a:pt x="384" y="12"/>
                    </a:lnTo>
                    <a:lnTo>
                      <a:pt x="378" y="14"/>
                    </a:lnTo>
                    <a:lnTo>
                      <a:pt x="372" y="16"/>
                    </a:lnTo>
                    <a:lnTo>
                      <a:pt x="365" y="18"/>
                    </a:lnTo>
                    <a:lnTo>
                      <a:pt x="359" y="19"/>
                    </a:lnTo>
                    <a:lnTo>
                      <a:pt x="353" y="19"/>
                    </a:lnTo>
                    <a:lnTo>
                      <a:pt x="346" y="21"/>
                    </a:lnTo>
                    <a:lnTo>
                      <a:pt x="340" y="23"/>
                    </a:lnTo>
                    <a:lnTo>
                      <a:pt x="334" y="25"/>
                    </a:lnTo>
                    <a:lnTo>
                      <a:pt x="327" y="25"/>
                    </a:lnTo>
                    <a:lnTo>
                      <a:pt x="321" y="27"/>
                    </a:lnTo>
                    <a:lnTo>
                      <a:pt x="315" y="29"/>
                    </a:lnTo>
                    <a:lnTo>
                      <a:pt x="308" y="29"/>
                    </a:lnTo>
                    <a:lnTo>
                      <a:pt x="300" y="29"/>
                    </a:lnTo>
                    <a:lnTo>
                      <a:pt x="294" y="29"/>
                    </a:lnTo>
                    <a:lnTo>
                      <a:pt x="289" y="31"/>
                    </a:lnTo>
                    <a:lnTo>
                      <a:pt x="281" y="31"/>
                    </a:lnTo>
                    <a:lnTo>
                      <a:pt x="275" y="31"/>
                    </a:lnTo>
                    <a:lnTo>
                      <a:pt x="268" y="33"/>
                    </a:lnTo>
                    <a:lnTo>
                      <a:pt x="262" y="35"/>
                    </a:lnTo>
                    <a:lnTo>
                      <a:pt x="255" y="35"/>
                    </a:lnTo>
                    <a:lnTo>
                      <a:pt x="249" y="35"/>
                    </a:lnTo>
                    <a:lnTo>
                      <a:pt x="241" y="35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2" y="37"/>
                    </a:lnTo>
                    <a:lnTo>
                      <a:pt x="217" y="38"/>
                    </a:lnTo>
                    <a:lnTo>
                      <a:pt x="211" y="38"/>
                    </a:lnTo>
                    <a:lnTo>
                      <a:pt x="203" y="38"/>
                    </a:lnTo>
                    <a:lnTo>
                      <a:pt x="196" y="38"/>
                    </a:lnTo>
                    <a:lnTo>
                      <a:pt x="188" y="38"/>
                    </a:lnTo>
                    <a:lnTo>
                      <a:pt x="182" y="40"/>
                    </a:lnTo>
                    <a:lnTo>
                      <a:pt x="175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56" y="40"/>
                    </a:lnTo>
                    <a:lnTo>
                      <a:pt x="148" y="40"/>
                    </a:lnTo>
                    <a:lnTo>
                      <a:pt x="142" y="40"/>
                    </a:lnTo>
                    <a:lnTo>
                      <a:pt x="135" y="40"/>
                    </a:lnTo>
                    <a:lnTo>
                      <a:pt x="129" y="42"/>
                    </a:lnTo>
                    <a:lnTo>
                      <a:pt x="121" y="42"/>
                    </a:lnTo>
                    <a:lnTo>
                      <a:pt x="116" y="44"/>
                    </a:lnTo>
                    <a:lnTo>
                      <a:pt x="110" y="44"/>
                    </a:lnTo>
                    <a:lnTo>
                      <a:pt x="102" y="44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3" y="46"/>
                    </a:lnTo>
                    <a:lnTo>
                      <a:pt x="76" y="46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38" y="50"/>
                    </a:lnTo>
                    <a:lnTo>
                      <a:pt x="32" y="50"/>
                    </a:lnTo>
                    <a:lnTo>
                      <a:pt x="26" y="52"/>
                    </a:lnTo>
                    <a:lnTo>
                      <a:pt x="19" y="54"/>
                    </a:lnTo>
                    <a:lnTo>
                      <a:pt x="13" y="54"/>
                    </a:lnTo>
                    <a:lnTo>
                      <a:pt x="7" y="56"/>
                    </a:lnTo>
                    <a:lnTo>
                      <a:pt x="0" y="57"/>
                    </a:lnTo>
                    <a:lnTo>
                      <a:pt x="7" y="54"/>
                    </a:lnTo>
                    <a:lnTo>
                      <a:pt x="17" y="50"/>
                    </a:lnTo>
                    <a:lnTo>
                      <a:pt x="26" y="48"/>
                    </a:lnTo>
                    <a:lnTo>
                      <a:pt x="36" y="46"/>
                    </a:lnTo>
                    <a:lnTo>
                      <a:pt x="44" y="42"/>
                    </a:lnTo>
                    <a:lnTo>
                      <a:pt x="53" y="40"/>
                    </a:lnTo>
                    <a:lnTo>
                      <a:pt x="63" y="38"/>
                    </a:lnTo>
                    <a:lnTo>
                      <a:pt x="74" y="37"/>
                    </a:lnTo>
                    <a:lnTo>
                      <a:pt x="83" y="35"/>
                    </a:lnTo>
                    <a:lnTo>
                      <a:pt x="93" y="35"/>
                    </a:lnTo>
                    <a:lnTo>
                      <a:pt x="102" y="31"/>
                    </a:lnTo>
                    <a:lnTo>
                      <a:pt x="112" y="31"/>
                    </a:lnTo>
                    <a:lnTo>
                      <a:pt x="121" y="29"/>
                    </a:lnTo>
                    <a:lnTo>
                      <a:pt x="133" y="29"/>
                    </a:lnTo>
                    <a:lnTo>
                      <a:pt x="142" y="27"/>
                    </a:lnTo>
                    <a:lnTo>
                      <a:pt x="154" y="27"/>
                    </a:lnTo>
                    <a:lnTo>
                      <a:pt x="163" y="25"/>
                    </a:lnTo>
                    <a:lnTo>
                      <a:pt x="173" y="23"/>
                    </a:lnTo>
                    <a:lnTo>
                      <a:pt x="184" y="21"/>
                    </a:lnTo>
                    <a:lnTo>
                      <a:pt x="194" y="21"/>
                    </a:lnTo>
                    <a:lnTo>
                      <a:pt x="203" y="19"/>
                    </a:lnTo>
                    <a:lnTo>
                      <a:pt x="215" y="18"/>
                    </a:lnTo>
                    <a:lnTo>
                      <a:pt x="224" y="18"/>
                    </a:lnTo>
                    <a:lnTo>
                      <a:pt x="236" y="16"/>
                    </a:lnTo>
                    <a:lnTo>
                      <a:pt x="245" y="14"/>
                    </a:lnTo>
                    <a:lnTo>
                      <a:pt x="255" y="12"/>
                    </a:lnTo>
                    <a:lnTo>
                      <a:pt x="264" y="10"/>
                    </a:lnTo>
                    <a:lnTo>
                      <a:pt x="275" y="10"/>
                    </a:lnTo>
                    <a:lnTo>
                      <a:pt x="285" y="6"/>
                    </a:lnTo>
                    <a:lnTo>
                      <a:pt x="294" y="4"/>
                    </a:lnTo>
                    <a:lnTo>
                      <a:pt x="304" y="2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8404920" y="4403520"/>
                <a:ext cx="317160" cy="158760"/>
              </a:xfrm>
              <a:custGeom>
                <a:avLst/>
                <a:gdLst/>
                <a:ahLst/>
                <a:rect l="l" t="t" r="r" b="b"/>
                <a:pathLst>
                  <a:path w="401" h="202">
                    <a:moveTo>
                      <a:pt x="6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12"/>
                    </a:lnTo>
                    <a:lnTo>
                      <a:pt x="49" y="14"/>
                    </a:lnTo>
                    <a:lnTo>
                      <a:pt x="55" y="15"/>
                    </a:lnTo>
                    <a:lnTo>
                      <a:pt x="61" y="17"/>
                    </a:lnTo>
                    <a:lnTo>
                      <a:pt x="67" y="21"/>
                    </a:lnTo>
                    <a:lnTo>
                      <a:pt x="72" y="23"/>
                    </a:lnTo>
                    <a:lnTo>
                      <a:pt x="80" y="25"/>
                    </a:lnTo>
                    <a:lnTo>
                      <a:pt x="86" y="27"/>
                    </a:lnTo>
                    <a:lnTo>
                      <a:pt x="91" y="31"/>
                    </a:lnTo>
                    <a:lnTo>
                      <a:pt x="99" y="33"/>
                    </a:lnTo>
                    <a:lnTo>
                      <a:pt x="105" y="34"/>
                    </a:lnTo>
                    <a:lnTo>
                      <a:pt x="110" y="36"/>
                    </a:lnTo>
                    <a:lnTo>
                      <a:pt x="116" y="40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5" y="46"/>
                    </a:lnTo>
                    <a:lnTo>
                      <a:pt x="141" y="50"/>
                    </a:lnTo>
                    <a:lnTo>
                      <a:pt x="146" y="52"/>
                    </a:lnTo>
                    <a:lnTo>
                      <a:pt x="154" y="53"/>
                    </a:lnTo>
                    <a:lnTo>
                      <a:pt x="160" y="55"/>
                    </a:lnTo>
                    <a:lnTo>
                      <a:pt x="165" y="59"/>
                    </a:lnTo>
                    <a:lnTo>
                      <a:pt x="171" y="61"/>
                    </a:lnTo>
                    <a:lnTo>
                      <a:pt x="177" y="65"/>
                    </a:lnTo>
                    <a:lnTo>
                      <a:pt x="183" y="67"/>
                    </a:lnTo>
                    <a:lnTo>
                      <a:pt x="190" y="71"/>
                    </a:lnTo>
                    <a:lnTo>
                      <a:pt x="196" y="72"/>
                    </a:lnTo>
                    <a:lnTo>
                      <a:pt x="202" y="76"/>
                    </a:lnTo>
                    <a:lnTo>
                      <a:pt x="207" y="78"/>
                    </a:lnTo>
                    <a:lnTo>
                      <a:pt x="213" y="82"/>
                    </a:lnTo>
                    <a:lnTo>
                      <a:pt x="219" y="84"/>
                    </a:lnTo>
                    <a:lnTo>
                      <a:pt x="226" y="88"/>
                    </a:lnTo>
                    <a:lnTo>
                      <a:pt x="230" y="90"/>
                    </a:lnTo>
                    <a:lnTo>
                      <a:pt x="238" y="91"/>
                    </a:lnTo>
                    <a:lnTo>
                      <a:pt x="243" y="95"/>
                    </a:lnTo>
                    <a:lnTo>
                      <a:pt x="249" y="99"/>
                    </a:lnTo>
                    <a:lnTo>
                      <a:pt x="255" y="103"/>
                    </a:lnTo>
                    <a:lnTo>
                      <a:pt x="262" y="105"/>
                    </a:lnTo>
                    <a:lnTo>
                      <a:pt x="266" y="109"/>
                    </a:lnTo>
                    <a:lnTo>
                      <a:pt x="274" y="112"/>
                    </a:lnTo>
                    <a:lnTo>
                      <a:pt x="280" y="114"/>
                    </a:lnTo>
                    <a:lnTo>
                      <a:pt x="285" y="118"/>
                    </a:lnTo>
                    <a:lnTo>
                      <a:pt x="293" y="122"/>
                    </a:lnTo>
                    <a:lnTo>
                      <a:pt x="299" y="124"/>
                    </a:lnTo>
                    <a:lnTo>
                      <a:pt x="304" y="126"/>
                    </a:lnTo>
                    <a:lnTo>
                      <a:pt x="310" y="129"/>
                    </a:lnTo>
                    <a:lnTo>
                      <a:pt x="316" y="133"/>
                    </a:lnTo>
                    <a:lnTo>
                      <a:pt x="321" y="135"/>
                    </a:lnTo>
                    <a:lnTo>
                      <a:pt x="327" y="139"/>
                    </a:lnTo>
                    <a:lnTo>
                      <a:pt x="333" y="143"/>
                    </a:lnTo>
                    <a:lnTo>
                      <a:pt x="340" y="145"/>
                    </a:lnTo>
                    <a:lnTo>
                      <a:pt x="346" y="148"/>
                    </a:lnTo>
                    <a:lnTo>
                      <a:pt x="352" y="152"/>
                    </a:lnTo>
                    <a:lnTo>
                      <a:pt x="357" y="154"/>
                    </a:lnTo>
                    <a:lnTo>
                      <a:pt x="363" y="158"/>
                    </a:lnTo>
                    <a:lnTo>
                      <a:pt x="369" y="162"/>
                    </a:lnTo>
                    <a:lnTo>
                      <a:pt x="376" y="166"/>
                    </a:lnTo>
                    <a:lnTo>
                      <a:pt x="382" y="169"/>
                    </a:lnTo>
                    <a:lnTo>
                      <a:pt x="388" y="171"/>
                    </a:lnTo>
                    <a:lnTo>
                      <a:pt x="395" y="177"/>
                    </a:lnTo>
                    <a:lnTo>
                      <a:pt x="395" y="181"/>
                    </a:lnTo>
                    <a:lnTo>
                      <a:pt x="395" y="188"/>
                    </a:lnTo>
                    <a:lnTo>
                      <a:pt x="395" y="196"/>
                    </a:lnTo>
                    <a:lnTo>
                      <a:pt x="401" y="202"/>
                    </a:lnTo>
                    <a:lnTo>
                      <a:pt x="394" y="200"/>
                    </a:lnTo>
                    <a:lnTo>
                      <a:pt x="386" y="198"/>
                    </a:lnTo>
                    <a:lnTo>
                      <a:pt x="380" y="196"/>
                    </a:lnTo>
                    <a:lnTo>
                      <a:pt x="375" y="196"/>
                    </a:lnTo>
                    <a:lnTo>
                      <a:pt x="367" y="192"/>
                    </a:lnTo>
                    <a:lnTo>
                      <a:pt x="361" y="190"/>
                    </a:lnTo>
                    <a:lnTo>
                      <a:pt x="356" y="188"/>
                    </a:lnTo>
                    <a:lnTo>
                      <a:pt x="348" y="188"/>
                    </a:lnTo>
                    <a:lnTo>
                      <a:pt x="342" y="185"/>
                    </a:lnTo>
                    <a:lnTo>
                      <a:pt x="337" y="183"/>
                    </a:lnTo>
                    <a:lnTo>
                      <a:pt x="329" y="179"/>
                    </a:lnTo>
                    <a:lnTo>
                      <a:pt x="323" y="177"/>
                    </a:lnTo>
                    <a:lnTo>
                      <a:pt x="318" y="173"/>
                    </a:lnTo>
                    <a:lnTo>
                      <a:pt x="310" y="171"/>
                    </a:lnTo>
                    <a:lnTo>
                      <a:pt x="304" y="169"/>
                    </a:lnTo>
                    <a:lnTo>
                      <a:pt x="299" y="168"/>
                    </a:lnTo>
                    <a:lnTo>
                      <a:pt x="291" y="164"/>
                    </a:lnTo>
                    <a:lnTo>
                      <a:pt x="285" y="162"/>
                    </a:lnTo>
                    <a:lnTo>
                      <a:pt x="278" y="158"/>
                    </a:lnTo>
                    <a:lnTo>
                      <a:pt x="272" y="154"/>
                    </a:lnTo>
                    <a:lnTo>
                      <a:pt x="266" y="152"/>
                    </a:lnTo>
                    <a:lnTo>
                      <a:pt x="259" y="148"/>
                    </a:lnTo>
                    <a:lnTo>
                      <a:pt x="253" y="145"/>
                    </a:lnTo>
                    <a:lnTo>
                      <a:pt x="247" y="143"/>
                    </a:lnTo>
                    <a:lnTo>
                      <a:pt x="241" y="139"/>
                    </a:lnTo>
                    <a:lnTo>
                      <a:pt x="236" y="135"/>
                    </a:lnTo>
                    <a:lnTo>
                      <a:pt x="228" y="131"/>
                    </a:lnTo>
                    <a:lnTo>
                      <a:pt x="222" y="128"/>
                    </a:lnTo>
                    <a:lnTo>
                      <a:pt x="217" y="124"/>
                    </a:lnTo>
                    <a:lnTo>
                      <a:pt x="211" y="122"/>
                    </a:lnTo>
                    <a:lnTo>
                      <a:pt x="205" y="118"/>
                    </a:lnTo>
                    <a:lnTo>
                      <a:pt x="200" y="114"/>
                    </a:lnTo>
                    <a:lnTo>
                      <a:pt x="194" y="110"/>
                    </a:lnTo>
                    <a:lnTo>
                      <a:pt x="188" y="107"/>
                    </a:lnTo>
                    <a:lnTo>
                      <a:pt x="181" y="103"/>
                    </a:lnTo>
                    <a:lnTo>
                      <a:pt x="175" y="99"/>
                    </a:lnTo>
                    <a:lnTo>
                      <a:pt x="169" y="95"/>
                    </a:lnTo>
                    <a:lnTo>
                      <a:pt x="162" y="91"/>
                    </a:lnTo>
                    <a:lnTo>
                      <a:pt x="156" y="88"/>
                    </a:lnTo>
                    <a:lnTo>
                      <a:pt x="150" y="84"/>
                    </a:lnTo>
                    <a:lnTo>
                      <a:pt x="145" y="80"/>
                    </a:lnTo>
                    <a:lnTo>
                      <a:pt x="137" y="76"/>
                    </a:lnTo>
                    <a:lnTo>
                      <a:pt x="131" y="72"/>
                    </a:lnTo>
                    <a:lnTo>
                      <a:pt x="126" y="69"/>
                    </a:lnTo>
                    <a:lnTo>
                      <a:pt x="118" y="65"/>
                    </a:lnTo>
                    <a:lnTo>
                      <a:pt x="112" y="63"/>
                    </a:lnTo>
                    <a:lnTo>
                      <a:pt x="107" y="59"/>
                    </a:lnTo>
                    <a:lnTo>
                      <a:pt x="101" y="55"/>
                    </a:lnTo>
                    <a:lnTo>
                      <a:pt x="95" y="52"/>
                    </a:lnTo>
                    <a:lnTo>
                      <a:pt x="88" y="50"/>
                    </a:lnTo>
                    <a:lnTo>
                      <a:pt x="82" y="44"/>
                    </a:lnTo>
                    <a:lnTo>
                      <a:pt x="74" y="42"/>
                    </a:lnTo>
                    <a:lnTo>
                      <a:pt x="68" y="38"/>
                    </a:lnTo>
                    <a:lnTo>
                      <a:pt x="63" y="34"/>
                    </a:lnTo>
                    <a:lnTo>
                      <a:pt x="55" y="33"/>
                    </a:lnTo>
                    <a:lnTo>
                      <a:pt x="49" y="29"/>
                    </a:lnTo>
                    <a:lnTo>
                      <a:pt x="44" y="25"/>
                    </a:lnTo>
                    <a:lnTo>
                      <a:pt x="36" y="23"/>
                    </a:lnTo>
                    <a:lnTo>
                      <a:pt x="30" y="19"/>
                    </a:lnTo>
                    <a:lnTo>
                      <a:pt x="25" y="17"/>
                    </a:lnTo>
                    <a:lnTo>
                      <a:pt x="17" y="14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6418440" y="4402080"/>
                <a:ext cx="36000" cy="2844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6" y="2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8"/>
                    </a:lnTo>
                    <a:lnTo>
                      <a:pt x="40" y="12"/>
                    </a:lnTo>
                    <a:lnTo>
                      <a:pt x="44" y="19"/>
                    </a:lnTo>
                    <a:lnTo>
                      <a:pt x="46" y="25"/>
                    </a:lnTo>
                    <a:lnTo>
                      <a:pt x="46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9" y="33"/>
                    </a:lnTo>
                    <a:lnTo>
                      <a:pt x="10" y="27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6575400" y="4430520"/>
                <a:ext cx="445680" cy="73080"/>
              </a:xfrm>
              <a:custGeom>
                <a:avLst/>
                <a:gdLst/>
                <a:ahLst/>
                <a:rect l="l" t="t" r="r" b="b"/>
                <a:pathLst>
                  <a:path w="562" h="94">
                    <a:moveTo>
                      <a:pt x="484" y="0"/>
                    </a:moveTo>
                    <a:lnTo>
                      <a:pt x="494" y="0"/>
                    </a:lnTo>
                    <a:lnTo>
                      <a:pt x="503" y="0"/>
                    </a:lnTo>
                    <a:lnTo>
                      <a:pt x="513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3" y="0"/>
                    </a:lnTo>
                    <a:lnTo>
                      <a:pt x="553" y="0"/>
                    </a:lnTo>
                    <a:lnTo>
                      <a:pt x="562" y="0"/>
                    </a:lnTo>
                    <a:lnTo>
                      <a:pt x="562" y="4"/>
                    </a:lnTo>
                    <a:lnTo>
                      <a:pt x="562" y="8"/>
                    </a:lnTo>
                    <a:lnTo>
                      <a:pt x="553" y="10"/>
                    </a:lnTo>
                    <a:lnTo>
                      <a:pt x="545" y="12"/>
                    </a:lnTo>
                    <a:lnTo>
                      <a:pt x="536" y="12"/>
                    </a:lnTo>
                    <a:lnTo>
                      <a:pt x="526" y="16"/>
                    </a:lnTo>
                    <a:lnTo>
                      <a:pt x="517" y="16"/>
                    </a:lnTo>
                    <a:lnTo>
                      <a:pt x="509" y="18"/>
                    </a:lnTo>
                    <a:lnTo>
                      <a:pt x="500" y="19"/>
                    </a:lnTo>
                    <a:lnTo>
                      <a:pt x="492" y="21"/>
                    </a:lnTo>
                    <a:lnTo>
                      <a:pt x="482" y="21"/>
                    </a:lnTo>
                    <a:lnTo>
                      <a:pt x="473" y="23"/>
                    </a:lnTo>
                    <a:lnTo>
                      <a:pt x="465" y="25"/>
                    </a:lnTo>
                    <a:lnTo>
                      <a:pt x="456" y="27"/>
                    </a:lnTo>
                    <a:lnTo>
                      <a:pt x="446" y="27"/>
                    </a:lnTo>
                    <a:lnTo>
                      <a:pt x="439" y="29"/>
                    </a:lnTo>
                    <a:lnTo>
                      <a:pt x="429" y="29"/>
                    </a:lnTo>
                    <a:lnTo>
                      <a:pt x="422" y="31"/>
                    </a:lnTo>
                    <a:lnTo>
                      <a:pt x="412" y="31"/>
                    </a:lnTo>
                    <a:lnTo>
                      <a:pt x="403" y="33"/>
                    </a:lnTo>
                    <a:lnTo>
                      <a:pt x="395" y="35"/>
                    </a:lnTo>
                    <a:lnTo>
                      <a:pt x="385" y="37"/>
                    </a:lnTo>
                    <a:lnTo>
                      <a:pt x="376" y="37"/>
                    </a:lnTo>
                    <a:lnTo>
                      <a:pt x="368" y="37"/>
                    </a:lnTo>
                    <a:lnTo>
                      <a:pt x="359" y="38"/>
                    </a:lnTo>
                    <a:lnTo>
                      <a:pt x="351" y="40"/>
                    </a:lnTo>
                    <a:lnTo>
                      <a:pt x="342" y="40"/>
                    </a:lnTo>
                    <a:lnTo>
                      <a:pt x="332" y="42"/>
                    </a:lnTo>
                    <a:lnTo>
                      <a:pt x="323" y="42"/>
                    </a:lnTo>
                    <a:lnTo>
                      <a:pt x="315" y="44"/>
                    </a:lnTo>
                    <a:lnTo>
                      <a:pt x="306" y="44"/>
                    </a:lnTo>
                    <a:lnTo>
                      <a:pt x="296" y="46"/>
                    </a:lnTo>
                    <a:lnTo>
                      <a:pt x="288" y="46"/>
                    </a:lnTo>
                    <a:lnTo>
                      <a:pt x="279" y="48"/>
                    </a:lnTo>
                    <a:lnTo>
                      <a:pt x="269" y="48"/>
                    </a:lnTo>
                    <a:lnTo>
                      <a:pt x="260" y="50"/>
                    </a:lnTo>
                    <a:lnTo>
                      <a:pt x="252" y="52"/>
                    </a:lnTo>
                    <a:lnTo>
                      <a:pt x="243" y="52"/>
                    </a:lnTo>
                    <a:lnTo>
                      <a:pt x="233" y="54"/>
                    </a:lnTo>
                    <a:lnTo>
                      <a:pt x="226" y="54"/>
                    </a:lnTo>
                    <a:lnTo>
                      <a:pt x="216" y="56"/>
                    </a:lnTo>
                    <a:lnTo>
                      <a:pt x="209" y="57"/>
                    </a:lnTo>
                    <a:lnTo>
                      <a:pt x="199" y="57"/>
                    </a:lnTo>
                    <a:lnTo>
                      <a:pt x="190" y="59"/>
                    </a:lnTo>
                    <a:lnTo>
                      <a:pt x="182" y="59"/>
                    </a:lnTo>
                    <a:lnTo>
                      <a:pt x="173" y="61"/>
                    </a:lnTo>
                    <a:lnTo>
                      <a:pt x="163" y="63"/>
                    </a:lnTo>
                    <a:lnTo>
                      <a:pt x="155" y="63"/>
                    </a:lnTo>
                    <a:lnTo>
                      <a:pt x="146" y="65"/>
                    </a:lnTo>
                    <a:lnTo>
                      <a:pt x="138" y="67"/>
                    </a:lnTo>
                    <a:lnTo>
                      <a:pt x="129" y="67"/>
                    </a:lnTo>
                    <a:lnTo>
                      <a:pt x="119" y="69"/>
                    </a:lnTo>
                    <a:lnTo>
                      <a:pt x="112" y="71"/>
                    </a:lnTo>
                    <a:lnTo>
                      <a:pt x="102" y="73"/>
                    </a:lnTo>
                    <a:lnTo>
                      <a:pt x="93" y="73"/>
                    </a:lnTo>
                    <a:lnTo>
                      <a:pt x="85" y="75"/>
                    </a:lnTo>
                    <a:lnTo>
                      <a:pt x="76" y="76"/>
                    </a:lnTo>
                    <a:lnTo>
                      <a:pt x="68" y="78"/>
                    </a:lnTo>
                    <a:lnTo>
                      <a:pt x="58" y="80"/>
                    </a:lnTo>
                    <a:lnTo>
                      <a:pt x="49" y="82"/>
                    </a:lnTo>
                    <a:lnTo>
                      <a:pt x="41" y="82"/>
                    </a:lnTo>
                    <a:lnTo>
                      <a:pt x="34" y="84"/>
                    </a:lnTo>
                    <a:lnTo>
                      <a:pt x="24" y="88"/>
                    </a:lnTo>
                    <a:lnTo>
                      <a:pt x="17" y="90"/>
                    </a:lnTo>
                    <a:lnTo>
                      <a:pt x="7" y="92"/>
                    </a:lnTo>
                    <a:lnTo>
                      <a:pt x="0" y="94"/>
                    </a:lnTo>
                    <a:lnTo>
                      <a:pt x="7" y="92"/>
                    </a:lnTo>
                    <a:lnTo>
                      <a:pt x="13" y="88"/>
                    </a:lnTo>
                    <a:lnTo>
                      <a:pt x="19" y="84"/>
                    </a:lnTo>
                    <a:lnTo>
                      <a:pt x="26" y="82"/>
                    </a:lnTo>
                    <a:lnTo>
                      <a:pt x="34" y="80"/>
                    </a:lnTo>
                    <a:lnTo>
                      <a:pt x="39" y="78"/>
                    </a:lnTo>
                    <a:lnTo>
                      <a:pt x="47" y="75"/>
                    </a:lnTo>
                    <a:lnTo>
                      <a:pt x="55" y="73"/>
                    </a:lnTo>
                    <a:lnTo>
                      <a:pt x="62" y="71"/>
                    </a:lnTo>
                    <a:lnTo>
                      <a:pt x="68" y="69"/>
                    </a:lnTo>
                    <a:lnTo>
                      <a:pt x="76" y="65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6" y="61"/>
                    </a:lnTo>
                    <a:lnTo>
                      <a:pt x="104" y="57"/>
                    </a:lnTo>
                    <a:lnTo>
                      <a:pt x="114" y="57"/>
                    </a:lnTo>
                    <a:lnTo>
                      <a:pt x="119" y="56"/>
                    </a:lnTo>
                    <a:lnTo>
                      <a:pt x="127" y="54"/>
                    </a:lnTo>
                    <a:lnTo>
                      <a:pt x="135" y="52"/>
                    </a:lnTo>
                    <a:lnTo>
                      <a:pt x="142" y="52"/>
                    </a:lnTo>
                    <a:lnTo>
                      <a:pt x="150" y="48"/>
                    </a:lnTo>
                    <a:lnTo>
                      <a:pt x="157" y="48"/>
                    </a:lnTo>
                    <a:lnTo>
                      <a:pt x="165" y="46"/>
                    </a:lnTo>
                    <a:lnTo>
                      <a:pt x="173" y="44"/>
                    </a:lnTo>
                    <a:lnTo>
                      <a:pt x="180" y="42"/>
                    </a:lnTo>
                    <a:lnTo>
                      <a:pt x="188" y="42"/>
                    </a:lnTo>
                    <a:lnTo>
                      <a:pt x="195" y="40"/>
                    </a:lnTo>
                    <a:lnTo>
                      <a:pt x="203" y="38"/>
                    </a:lnTo>
                    <a:lnTo>
                      <a:pt x="211" y="38"/>
                    </a:lnTo>
                    <a:lnTo>
                      <a:pt x="220" y="37"/>
                    </a:lnTo>
                    <a:lnTo>
                      <a:pt x="226" y="37"/>
                    </a:lnTo>
                    <a:lnTo>
                      <a:pt x="235" y="37"/>
                    </a:lnTo>
                    <a:lnTo>
                      <a:pt x="241" y="35"/>
                    </a:lnTo>
                    <a:lnTo>
                      <a:pt x="250" y="33"/>
                    </a:lnTo>
                    <a:lnTo>
                      <a:pt x="258" y="31"/>
                    </a:lnTo>
                    <a:lnTo>
                      <a:pt x="266" y="31"/>
                    </a:lnTo>
                    <a:lnTo>
                      <a:pt x="271" y="29"/>
                    </a:lnTo>
                    <a:lnTo>
                      <a:pt x="281" y="29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304" y="25"/>
                    </a:lnTo>
                    <a:lnTo>
                      <a:pt x="311" y="25"/>
                    </a:lnTo>
                    <a:lnTo>
                      <a:pt x="319" y="21"/>
                    </a:lnTo>
                    <a:lnTo>
                      <a:pt x="327" y="21"/>
                    </a:lnTo>
                    <a:lnTo>
                      <a:pt x="334" y="21"/>
                    </a:lnTo>
                    <a:lnTo>
                      <a:pt x="344" y="19"/>
                    </a:lnTo>
                    <a:lnTo>
                      <a:pt x="351" y="19"/>
                    </a:lnTo>
                    <a:lnTo>
                      <a:pt x="359" y="19"/>
                    </a:lnTo>
                    <a:lnTo>
                      <a:pt x="366" y="18"/>
                    </a:lnTo>
                    <a:lnTo>
                      <a:pt x="374" y="16"/>
                    </a:lnTo>
                    <a:lnTo>
                      <a:pt x="382" y="16"/>
                    </a:lnTo>
                    <a:lnTo>
                      <a:pt x="389" y="14"/>
                    </a:lnTo>
                    <a:lnTo>
                      <a:pt x="397" y="12"/>
                    </a:lnTo>
                    <a:lnTo>
                      <a:pt x="406" y="12"/>
                    </a:lnTo>
                    <a:lnTo>
                      <a:pt x="414" y="10"/>
                    </a:lnTo>
                    <a:lnTo>
                      <a:pt x="422" y="10"/>
                    </a:lnTo>
                    <a:lnTo>
                      <a:pt x="429" y="8"/>
                    </a:lnTo>
                    <a:lnTo>
                      <a:pt x="437" y="6"/>
                    </a:lnTo>
                    <a:lnTo>
                      <a:pt x="444" y="6"/>
                    </a:lnTo>
                    <a:lnTo>
                      <a:pt x="452" y="4"/>
                    </a:lnTo>
                    <a:lnTo>
                      <a:pt x="460" y="2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425280" y="4538520"/>
                <a:ext cx="447480" cy="58680"/>
              </a:xfrm>
              <a:custGeom>
                <a:avLst/>
                <a:gdLst/>
                <a:ahLst/>
                <a:rect l="l" t="t" r="r" b="b"/>
                <a:pathLst>
                  <a:path w="564" h="74">
                    <a:moveTo>
                      <a:pt x="188" y="6"/>
                    </a:moveTo>
                    <a:lnTo>
                      <a:pt x="199" y="6"/>
                    </a:lnTo>
                    <a:lnTo>
                      <a:pt x="211" y="6"/>
                    </a:lnTo>
                    <a:lnTo>
                      <a:pt x="215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39" y="6"/>
                    </a:lnTo>
                    <a:lnTo>
                      <a:pt x="247" y="6"/>
                    </a:lnTo>
                    <a:lnTo>
                      <a:pt x="251" y="6"/>
                    </a:lnTo>
                    <a:lnTo>
                      <a:pt x="258" y="6"/>
                    </a:lnTo>
                    <a:lnTo>
                      <a:pt x="262" y="6"/>
                    </a:lnTo>
                    <a:lnTo>
                      <a:pt x="270" y="6"/>
                    </a:lnTo>
                    <a:lnTo>
                      <a:pt x="275" y="6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5" y="6"/>
                    </a:lnTo>
                    <a:lnTo>
                      <a:pt x="298" y="4"/>
                    </a:lnTo>
                    <a:lnTo>
                      <a:pt x="306" y="4"/>
                    </a:lnTo>
                    <a:lnTo>
                      <a:pt x="312" y="4"/>
                    </a:lnTo>
                    <a:lnTo>
                      <a:pt x="317" y="4"/>
                    </a:lnTo>
                    <a:lnTo>
                      <a:pt x="323" y="4"/>
                    </a:lnTo>
                    <a:lnTo>
                      <a:pt x="331" y="4"/>
                    </a:lnTo>
                    <a:lnTo>
                      <a:pt x="334" y="2"/>
                    </a:lnTo>
                    <a:lnTo>
                      <a:pt x="342" y="2"/>
                    </a:lnTo>
                    <a:lnTo>
                      <a:pt x="348" y="2"/>
                    </a:lnTo>
                    <a:lnTo>
                      <a:pt x="353" y="2"/>
                    </a:lnTo>
                    <a:lnTo>
                      <a:pt x="361" y="2"/>
                    </a:lnTo>
                    <a:lnTo>
                      <a:pt x="367" y="2"/>
                    </a:lnTo>
                    <a:lnTo>
                      <a:pt x="372" y="2"/>
                    </a:lnTo>
                    <a:lnTo>
                      <a:pt x="380" y="2"/>
                    </a:lnTo>
                    <a:lnTo>
                      <a:pt x="386" y="0"/>
                    </a:lnTo>
                    <a:lnTo>
                      <a:pt x="391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4" y="0"/>
                    </a:lnTo>
                    <a:lnTo>
                      <a:pt x="422" y="0"/>
                    </a:lnTo>
                    <a:lnTo>
                      <a:pt x="428" y="0"/>
                    </a:lnTo>
                    <a:lnTo>
                      <a:pt x="433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2"/>
                    </a:lnTo>
                    <a:lnTo>
                      <a:pt x="469" y="2"/>
                    </a:lnTo>
                    <a:lnTo>
                      <a:pt x="475" y="2"/>
                    </a:lnTo>
                    <a:lnTo>
                      <a:pt x="487" y="2"/>
                    </a:lnTo>
                    <a:lnTo>
                      <a:pt x="498" y="6"/>
                    </a:lnTo>
                    <a:lnTo>
                      <a:pt x="502" y="6"/>
                    </a:lnTo>
                    <a:lnTo>
                      <a:pt x="509" y="6"/>
                    </a:lnTo>
                    <a:lnTo>
                      <a:pt x="515" y="8"/>
                    </a:lnTo>
                    <a:lnTo>
                      <a:pt x="521" y="10"/>
                    </a:lnTo>
                    <a:lnTo>
                      <a:pt x="530" y="12"/>
                    </a:lnTo>
                    <a:lnTo>
                      <a:pt x="544" y="16"/>
                    </a:lnTo>
                    <a:lnTo>
                      <a:pt x="553" y="19"/>
                    </a:lnTo>
                    <a:lnTo>
                      <a:pt x="564" y="23"/>
                    </a:lnTo>
                    <a:lnTo>
                      <a:pt x="557" y="23"/>
                    </a:lnTo>
                    <a:lnTo>
                      <a:pt x="549" y="23"/>
                    </a:lnTo>
                    <a:lnTo>
                      <a:pt x="542" y="23"/>
                    </a:lnTo>
                    <a:lnTo>
                      <a:pt x="534" y="23"/>
                    </a:lnTo>
                    <a:lnTo>
                      <a:pt x="525" y="23"/>
                    </a:lnTo>
                    <a:lnTo>
                      <a:pt x="517" y="23"/>
                    </a:lnTo>
                    <a:lnTo>
                      <a:pt x="509" y="25"/>
                    </a:lnTo>
                    <a:lnTo>
                      <a:pt x="502" y="25"/>
                    </a:lnTo>
                    <a:lnTo>
                      <a:pt x="494" y="25"/>
                    </a:lnTo>
                    <a:lnTo>
                      <a:pt x="487" y="25"/>
                    </a:lnTo>
                    <a:lnTo>
                      <a:pt x="479" y="27"/>
                    </a:lnTo>
                    <a:lnTo>
                      <a:pt x="471" y="27"/>
                    </a:lnTo>
                    <a:lnTo>
                      <a:pt x="464" y="27"/>
                    </a:lnTo>
                    <a:lnTo>
                      <a:pt x="456" y="29"/>
                    </a:lnTo>
                    <a:lnTo>
                      <a:pt x="449" y="29"/>
                    </a:lnTo>
                    <a:lnTo>
                      <a:pt x="443" y="31"/>
                    </a:lnTo>
                    <a:lnTo>
                      <a:pt x="433" y="31"/>
                    </a:lnTo>
                    <a:lnTo>
                      <a:pt x="426" y="31"/>
                    </a:lnTo>
                    <a:lnTo>
                      <a:pt x="418" y="33"/>
                    </a:lnTo>
                    <a:lnTo>
                      <a:pt x="412" y="35"/>
                    </a:lnTo>
                    <a:lnTo>
                      <a:pt x="405" y="35"/>
                    </a:lnTo>
                    <a:lnTo>
                      <a:pt x="397" y="35"/>
                    </a:lnTo>
                    <a:lnTo>
                      <a:pt x="390" y="36"/>
                    </a:lnTo>
                    <a:lnTo>
                      <a:pt x="382" y="36"/>
                    </a:lnTo>
                    <a:lnTo>
                      <a:pt x="374" y="36"/>
                    </a:lnTo>
                    <a:lnTo>
                      <a:pt x="367" y="38"/>
                    </a:lnTo>
                    <a:lnTo>
                      <a:pt x="359" y="38"/>
                    </a:lnTo>
                    <a:lnTo>
                      <a:pt x="352" y="42"/>
                    </a:lnTo>
                    <a:lnTo>
                      <a:pt x="344" y="42"/>
                    </a:lnTo>
                    <a:lnTo>
                      <a:pt x="338" y="44"/>
                    </a:lnTo>
                    <a:lnTo>
                      <a:pt x="331" y="44"/>
                    </a:lnTo>
                    <a:lnTo>
                      <a:pt x="323" y="46"/>
                    </a:lnTo>
                    <a:lnTo>
                      <a:pt x="315" y="46"/>
                    </a:lnTo>
                    <a:lnTo>
                      <a:pt x="308" y="48"/>
                    </a:lnTo>
                    <a:lnTo>
                      <a:pt x="300" y="48"/>
                    </a:lnTo>
                    <a:lnTo>
                      <a:pt x="293" y="50"/>
                    </a:lnTo>
                    <a:lnTo>
                      <a:pt x="285" y="50"/>
                    </a:lnTo>
                    <a:lnTo>
                      <a:pt x="277" y="52"/>
                    </a:lnTo>
                    <a:lnTo>
                      <a:pt x="270" y="52"/>
                    </a:lnTo>
                    <a:lnTo>
                      <a:pt x="262" y="54"/>
                    </a:lnTo>
                    <a:lnTo>
                      <a:pt x="255" y="54"/>
                    </a:lnTo>
                    <a:lnTo>
                      <a:pt x="247" y="55"/>
                    </a:lnTo>
                    <a:lnTo>
                      <a:pt x="239" y="55"/>
                    </a:lnTo>
                    <a:lnTo>
                      <a:pt x="234" y="57"/>
                    </a:lnTo>
                    <a:lnTo>
                      <a:pt x="224" y="57"/>
                    </a:lnTo>
                    <a:lnTo>
                      <a:pt x="218" y="61"/>
                    </a:lnTo>
                    <a:lnTo>
                      <a:pt x="211" y="61"/>
                    </a:lnTo>
                    <a:lnTo>
                      <a:pt x="203" y="63"/>
                    </a:lnTo>
                    <a:lnTo>
                      <a:pt x="196" y="63"/>
                    </a:lnTo>
                    <a:lnTo>
                      <a:pt x="188" y="63"/>
                    </a:lnTo>
                    <a:lnTo>
                      <a:pt x="180" y="65"/>
                    </a:lnTo>
                    <a:lnTo>
                      <a:pt x="173" y="65"/>
                    </a:lnTo>
                    <a:lnTo>
                      <a:pt x="165" y="65"/>
                    </a:lnTo>
                    <a:lnTo>
                      <a:pt x="158" y="67"/>
                    </a:lnTo>
                    <a:lnTo>
                      <a:pt x="150" y="67"/>
                    </a:lnTo>
                    <a:lnTo>
                      <a:pt x="144" y="69"/>
                    </a:lnTo>
                    <a:lnTo>
                      <a:pt x="135" y="69"/>
                    </a:lnTo>
                    <a:lnTo>
                      <a:pt x="127" y="71"/>
                    </a:lnTo>
                    <a:lnTo>
                      <a:pt x="120" y="71"/>
                    </a:lnTo>
                    <a:lnTo>
                      <a:pt x="112" y="73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89" y="74"/>
                    </a:lnTo>
                    <a:lnTo>
                      <a:pt x="83" y="74"/>
                    </a:lnTo>
                    <a:lnTo>
                      <a:pt x="83" y="65"/>
                    </a:lnTo>
                    <a:lnTo>
                      <a:pt x="91" y="57"/>
                    </a:lnTo>
                    <a:lnTo>
                      <a:pt x="82" y="55"/>
                    </a:lnTo>
                    <a:lnTo>
                      <a:pt x="74" y="55"/>
                    </a:lnTo>
                    <a:lnTo>
                      <a:pt x="68" y="54"/>
                    </a:lnTo>
                    <a:lnTo>
                      <a:pt x="63" y="54"/>
                    </a:lnTo>
                    <a:lnTo>
                      <a:pt x="55" y="52"/>
                    </a:lnTo>
                    <a:lnTo>
                      <a:pt x="47" y="52"/>
                    </a:lnTo>
                    <a:lnTo>
                      <a:pt x="44" y="50"/>
                    </a:lnTo>
                    <a:lnTo>
                      <a:pt x="38" y="50"/>
                    </a:lnTo>
                    <a:lnTo>
                      <a:pt x="28" y="48"/>
                    </a:lnTo>
                    <a:lnTo>
                      <a:pt x="21" y="46"/>
                    </a:lnTo>
                    <a:lnTo>
                      <a:pt x="15" y="44"/>
                    </a:lnTo>
                    <a:lnTo>
                      <a:pt x="9" y="42"/>
                    </a:lnTo>
                    <a:lnTo>
                      <a:pt x="2" y="36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7" y="25"/>
                    </a:lnTo>
                    <a:lnTo>
                      <a:pt x="11" y="21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7" y="12"/>
                    </a:lnTo>
                    <a:lnTo>
                      <a:pt x="66" y="10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10"/>
                    </a:lnTo>
                    <a:lnTo>
                      <a:pt x="116" y="12"/>
                    </a:lnTo>
                    <a:lnTo>
                      <a:pt x="127" y="12"/>
                    </a:lnTo>
                    <a:lnTo>
                      <a:pt x="139" y="16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4"/>
                    </a:lnTo>
                    <a:lnTo>
                      <a:pt x="163" y="14"/>
                    </a:lnTo>
                    <a:lnTo>
                      <a:pt x="169" y="12"/>
                    </a:lnTo>
                    <a:lnTo>
                      <a:pt x="177" y="10"/>
                    </a:lnTo>
                    <a:lnTo>
                      <a:pt x="182" y="8"/>
                    </a:lnTo>
                    <a:lnTo>
                      <a:pt x="188" y="6"/>
                    </a:lnTo>
                    <a:lnTo>
                      <a:pt x="18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7315920" y="4560840"/>
                <a:ext cx="1063080" cy="74520"/>
              </a:xfrm>
              <a:custGeom>
                <a:avLst/>
                <a:gdLst/>
                <a:ahLst/>
                <a:rect l="l" t="t" r="r" b="b"/>
                <a:pathLst>
                  <a:path w="1340" h="93">
                    <a:moveTo>
                      <a:pt x="482" y="0"/>
                    </a:moveTo>
                    <a:lnTo>
                      <a:pt x="496" y="0"/>
                    </a:lnTo>
                    <a:lnTo>
                      <a:pt x="507" y="0"/>
                    </a:lnTo>
                    <a:lnTo>
                      <a:pt x="520" y="0"/>
                    </a:lnTo>
                    <a:lnTo>
                      <a:pt x="534" y="0"/>
                    </a:lnTo>
                    <a:lnTo>
                      <a:pt x="545" y="0"/>
                    </a:lnTo>
                    <a:lnTo>
                      <a:pt x="558" y="0"/>
                    </a:lnTo>
                    <a:lnTo>
                      <a:pt x="572" y="0"/>
                    </a:lnTo>
                    <a:lnTo>
                      <a:pt x="585" y="2"/>
                    </a:lnTo>
                    <a:lnTo>
                      <a:pt x="598" y="2"/>
                    </a:lnTo>
                    <a:lnTo>
                      <a:pt x="610" y="2"/>
                    </a:lnTo>
                    <a:lnTo>
                      <a:pt x="623" y="2"/>
                    </a:lnTo>
                    <a:lnTo>
                      <a:pt x="636" y="2"/>
                    </a:lnTo>
                    <a:lnTo>
                      <a:pt x="650" y="2"/>
                    </a:lnTo>
                    <a:lnTo>
                      <a:pt x="663" y="2"/>
                    </a:lnTo>
                    <a:lnTo>
                      <a:pt x="676" y="2"/>
                    </a:lnTo>
                    <a:lnTo>
                      <a:pt x="692" y="2"/>
                    </a:lnTo>
                    <a:lnTo>
                      <a:pt x="703" y="2"/>
                    </a:lnTo>
                    <a:lnTo>
                      <a:pt x="716" y="2"/>
                    </a:lnTo>
                    <a:lnTo>
                      <a:pt x="730" y="2"/>
                    </a:lnTo>
                    <a:lnTo>
                      <a:pt x="745" y="2"/>
                    </a:lnTo>
                    <a:lnTo>
                      <a:pt x="756" y="2"/>
                    </a:lnTo>
                    <a:lnTo>
                      <a:pt x="769" y="2"/>
                    </a:lnTo>
                    <a:lnTo>
                      <a:pt x="785" y="2"/>
                    </a:lnTo>
                    <a:lnTo>
                      <a:pt x="798" y="4"/>
                    </a:lnTo>
                    <a:lnTo>
                      <a:pt x="811" y="4"/>
                    </a:lnTo>
                    <a:lnTo>
                      <a:pt x="825" y="4"/>
                    </a:lnTo>
                    <a:lnTo>
                      <a:pt x="838" y="4"/>
                    </a:lnTo>
                    <a:lnTo>
                      <a:pt x="851" y="4"/>
                    </a:lnTo>
                    <a:lnTo>
                      <a:pt x="865" y="4"/>
                    </a:lnTo>
                    <a:lnTo>
                      <a:pt x="878" y="4"/>
                    </a:lnTo>
                    <a:lnTo>
                      <a:pt x="893" y="4"/>
                    </a:lnTo>
                    <a:lnTo>
                      <a:pt x="906" y="6"/>
                    </a:lnTo>
                    <a:lnTo>
                      <a:pt x="920" y="6"/>
                    </a:lnTo>
                    <a:lnTo>
                      <a:pt x="933" y="6"/>
                    </a:lnTo>
                    <a:lnTo>
                      <a:pt x="948" y="6"/>
                    </a:lnTo>
                    <a:lnTo>
                      <a:pt x="961" y="6"/>
                    </a:lnTo>
                    <a:lnTo>
                      <a:pt x="973" y="6"/>
                    </a:lnTo>
                    <a:lnTo>
                      <a:pt x="988" y="6"/>
                    </a:lnTo>
                    <a:lnTo>
                      <a:pt x="1001" y="6"/>
                    </a:lnTo>
                    <a:lnTo>
                      <a:pt x="1015" y="7"/>
                    </a:lnTo>
                    <a:lnTo>
                      <a:pt x="1028" y="7"/>
                    </a:lnTo>
                    <a:lnTo>
                      <a:pt x="1041" y="7"/>
                    </a:lnTo>
                    <a:lnTo>
                      <a:pt x="1055" y="7"/>
                    </a:lnTo>
                    <a:lnTo>
                      <a:pt x="1070" y="9"/>
                    </a:lnTo>
                    <a:lnTo>
                      <a:pt x="1081" y="9"/>
                    </a:lnTo>
                    <a:lnTo>
                      <a:pt x="1096" y="9"/>
                    </a:lnTo>
                    <a:lnTo>
                      <a:pt x="1110" y="11"/>
                    </a:lnTo>
                    <a:lnTo>
                      <a:pt x="1125" y="13"/>
                    </a:lnTo>
                    <a:lnTo>
                      <a:pt x="1136" y="13"/>
                    </a:lnTo>
                    <a:lnTo>
                      <a:pt x="1152" y="13"/>
                    </a:lnTo>
                    <a:lnTo>
                      <a:pt x="1163" y="15"/>
                    </a:lnTo>
                    <a:lnTo>
                      <a:pt x="1176" y="15"/>
                    </a:lnTo>
                    <a:lnTo>
                      <a:pt x="1190" y="15"/>
                    </a:lnTo>
                    <a:lnTo>
                      <a:pt x="1203" y="17"/>
                    </a:lnTo>
                    <a:lnTo>
                      <a:pt x="1218" y="17"/>
                    </a:lnTo>
                    <a:lnTo>
                      <a:pt x="1231" y="19"/>
                    </a:lnTo>
                    <a:lnTo>
                      <a:pt x="1245" y="21"/>
                    </a:lnTo>
                    <a:lnTo>
                      <a:pt x="1258" y="23"/>
                    </a:lnTo>
                    <a:lnTo>
                      <a:pt x="1271" y="25"/>
                    </a:lnTo>
                    <a:lnTo>
                      <a:pt x="1285" y="26"/>
                    </a:lnTo>
                    <a:lnTo>
                      <a:pt x="1298" y="26"/>
                    </a:lnTo>
                    <a:lnTo>
                      <a:pt x="1311" y="28"/>
                    </a:lnTo>
                    <a:lnTo>
                      <a:pt x="1325" y="30"/>
                    </a:lnTo>
                    <a:lnTo>
                      <a:pt x="1340" y="34"/>
                    </a:lnTo>
                    <a:lnTo>
                      <a:pt x="1319" y="34"/>
                    </a:lnTo>
                    <a:lnTo>
                      <a:pt x="1298" y="38"/>
                    </a:lnTo>
                    <a:lnTo>
                      <a:pt x="1277" y="38"/>
                    </a:lnTo>
                    <a:lnTo>
                      <a:pt x="1258" y="42"/>
                    </a:lnTo>
                    <a:lnTo>
                      <a:pt x="1237" y="44"/>
                    </a:lnTo>
                    <a:lnTo>
                      <a:pt x="1218" y="45"/>
                    </a:lnTo>
                    <a:lnTo>
                      <a:pt x="1195" y="45"/>
                    </a:lnTo>
                    <a:lnTo>
                      <a:pt x="1176" y="47"/>
                    </a:lnTo>
                    <a:lnTo>
                      <a:pt x="1155" y="47"/>
                    </a:lnTo>
                    <a:lnTo>
                      <a:pt x="1136" y="49"/>
                    </a:lnTo>
                    <a:lnTo>
                      <a:pt x="1115" y="51"/>
                    </a:lnTo>
                    <a:lnTo>
                      <a:pt x="1096" y="51"/>
                    </a:lnTo>
                    <a:lnTo>
                      <a:pt x="1074" y="51"/>
                    </a:lnTo>
                    <a:lnTo>
                      <a:pt x="1055" y="53"/>
                    </a:lnTo>
                    <a:lnTo>
                      <a:pt x="1034" y="53"/>
                    </a:lnTo>
                    <a:lnTo>
                      <a:pt x="1015" y="53"/>
                    </a:lnTo>
                    <a:lnTo>
                      <a:pt x="992" y="53"/>
                    </a:lnTo>
                    <a:lnTo>
                      <a:pt x="973" y="53"/>
                    </a:lnTo>
                    <a:lnTo>
                      <a:pt x="952" y="53"/>
                    </a:lnTo>
                    <a:lnTo>
                      <a:pt x="931" y="53"/>
                    </a:lnTo>
                    <a:lnTo>
                      <a:pt x="910" y="53"/>
                    </a:lnTo>
                    <a:lnTo>
                      <a:pt x="889" y="53"/>
                    </a:lnTo>
                    <a:lnTo>
                      <a:pt x="868" y="53"/>
                    </a:lnTo>
                    <a:lnTo>
                      <a:pt x="849" y="53"/>
                    </a:lnTo>
                    <a:lnTo>
                      <a:pt x="828" y="51"/>
                    </a:lnTo>
                    <a:lnTo>
                      <a:pt x="809" y="51"/>
                    </a:lnTo>
                    <a:lnTo>
                      <a:pt x="787" y="51"/>
                    </a:lnTo>
                    <a:lnTo>
                      <a:pt x="768" y="51"/>
                    </a:lnTo>
                    <a:lnTo>
                      <a:pt x="747" y="51"/>
                    </a:lnTo>
                    <a:lnTo>
                      <a:pt x="726" y="51"/>
                    </a:lnTo>
                    <a:lnTo>
                      <a:pt x="705" y="51"/>
                    </a:lnTo>
                    <a:lnTo>
                      <a:pt x="686" y="51"/>
                    </a:lnTo>
                    <a:lnTo>
                      <a:pt x="665" y="49"/>
                    </a:lnTo>
                    <a:lnTo>
                      <a:pt x="644" y="49"/>
                    </a:lnTo>
                    <a:lnTo>
                      <a:pt x="623" y="47"/>
                    </a:lnTo>
                    <a:lnTo>
                      <a:pt x="602" y="47"/>
                    </a:lnTo>
                    <a:lnTo>
                      <a:pt x="581" y="47"/>
                    </a:lnTo>
                    <a:lnTo>
                      <a:pt x="562" y="47"/>
                    </a:lnTo>
                    <a:lnTo>
                      <a:pt x="541" y="47"/>
                    </a:lnTo>
                    <a:lnTo>
                      <a:pt x="520" y="47"/>
                    </a:lnTo>
                    <a:lnTo>
                      <a:pt x="500" y="47"/>
                    </a:lnTo>
                    <a:lnTo>
                      <a:pt x="479" y="47"/>
                    </a:lnTo>
                    <a:lnTo>
                      <a:pt x="458" y="47"/>
                    </a:lnTo>
                    <a:lnTo>
                      <a:pt x="439" y="47"/>
                    </a:lnTo>
                    <a:lnTo>
                      <a:pt x="416" y="47"/>
                    </a:lnTo>
                    <a:lnTo>
                      <a:pt x="397" y="49"/>
                    </a:lnTo>
                    <a:lnTo>
                      <a:pt x="376" y="51"/>
                    </a:lnTo>
                    <a:lnTo>
                      <a:pt x="357" y="53"/>
                    </a:lnTo>
                    <a:lnTo>
                      <a:pt x="336" y="53"/>
                    </a:lnTo>
                    <a:lnTo>
                      <a:pt x="315" y="55"/>
                    </a:lnTo>
                    <a:lnTo>
                      <a:pt x="294" y="55"/>
                    </a:lnTo>
                    <a:lnTo>
                      <a:pt x="273" y="57"/>
                    </a:lnTo>
                    <a:lnTo>
                      <a:pt x="252" y="59"/>
                    </a:lnTo>
                    <a:lnTo>
                      <a:pt x="233" y="61"/>
                    </a:lnTo>
                    <a:lnTo>
                      <a:pt x="212" y="63"/>
                    </a:lnTo>
                    <a:lnTo>
                      <a:pt x="193" y="66"/>
                    </a:lnTo>
                    <a:lnTo>
                      <a:pt x="173" y="68"/>
                    </a:lnTo>
                    <a:lnTo>
                      <a:pt x="153" y="70"/>
                    </a:lnTo>
                    <a:lnTo>
                      <a:pt x="133" y="74"/>
                    </a:lnTo>
                    <a:lnTo>
                      <a:pt x="114" y="78"/>
                    </a:lnTo>
                    <a:lnTo>
                      <a:pt x="93" y="82"/>
                    </a:lnTo>
                    <a:lnTo>
                      <a:pt x="74" y="83"/>
                    </a:lnTo>
                    <a:lnTo>
                      <a:pt x="53" y="89"/>
                    </a:lnTo>
                    <a:lnTo>
                      <a:pt x="34" y="93"/>
                    </a:lnTo>
                    <a:lnTo>
                      <a:pt x="28" y="91"/>
                    </a:lnTo>
                    <a:lnTo>
                      <a:pt x="22" y="87"/>
                    </a:lnTo>
                    <a:lnTo>
                      <a:pt x="17" y="85"/>
                    </a:lnTo>
                    <a:lnTo>
                      <a:pt x="15" y="83"/>
                    </a:lnTo>
                    <a:lnTo>
                      <a:pt x="7" y="80"/>
                    </a:lnTo>
                    <a:lnTo>
                      <a:pt x="3" y="76"/>
                    </a:lnTo>
                    <a:lnTo>
                      <a:pt x="0" y="68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15" y="55"/>
                    </a:lnTo>
                    <a:lnTo>
                      <a:pt x="22" y="53"/>
                    </a:lnTo>
                    <a:lnTo>
                      <a:pt x="32" y="51"/>
                    </a:lnTo>
                    <a:lnTo>
                      <a:pt x="39" y="47"/>
                    </a:lnTo>
                    <a:lnTo>
                      <a:pt x="51" y="47"/>
                    </a:lnTo>
                    <a:lnTo>
                      <a:pt x="55" y="45"/>
                    </a:lnTo>
                    <a:lnTo>
                      <a:pt x="62" y="45"/>
                    </a:lnTo>
                    <a:lnTo>
                      <a:pt x="68" y="44"/>
                    </a:lnTo>
                    <a:lnTo>
                      <a:pt x="74" y="44"/>
                    </a:lnTo>
                    <a:lnTo>
                      <a:pt x="79" y="42"/>
                    </a:lnTo>
                    <a:lnTo>
                      <a:pt x="87" y="42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6" y="38"/>
                    </a:lnTo>
                    <a:lnTo>
                      <a:pt x="112" y="38"/>
                    </a:lnTo>
                    <a:lnTo>
                      <a:pt x="119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8" y="34"/>
                    </a:lnTo>
                    <a:lnTo>
                      <a:pt x="146" y="34"/>
                    </a:lnTo>
                    <a:lnTo>
                      <a:pt x="153" y="34"/>
                    </a:lnTo>
                    <a:lnTo>
                      <a:pt x="159" y="32"/>
                    </a:lnTo>
                    <a:lnTo>
                      <a:pt x="167" y="32"/>
                    </a:lnTo>
                    <a:lnTo>
                      <a:pt x="173" y="32"/>
                    </a:lnTo>
                    <a:lnTo>
                      <a:pt x="180" y="32"/>
                    </a:lnTo>
                    <a:lnTo>
                      <a:pt x="186" y="30"/>
                    </a:lnTo>
                    <a:lnTo>
                      <a:pt x="192" y="28"/>
                    </a:lnTo>
                    <a:lnTo>
                      <a:pt x="199" y="28"/>
                    </a:lnTo>
                    <a:lnTo>
                      <a:pt x="205" y="28"/>
                    </a:lnTo>
                    <a:lnTo>
                      <a:pt x="216" y="26"/>
                    </a:lnTo>
                    <a:lnTo>
                      <a:pt x="228" y="26"/>
                    </a:lnTo>
                    <a:lnTo>
                      <a:pt x="237" y="25"/>
                    </a:lnTo>
                    <a:lnTo>
                      <a:pt x="247" y="25"/>
                    </a:lnTo>
                    <a:lnTo>
                      <a:pt x="254" y="23"/>
                    </a:lnTo>
                    <a:lnTo>
                      <a:pt x="262" y="23"/>
                    </a:lnTo>
                    <a:lnTo>
                      <a:pt x="268" y="19"/>
                    </a:lnTo>
                    <a:lnTo>
                      <a:pt x="275" y="17"/>
                    </a:lnTo>
                    <a:lnTo>
                      <a:pt x="281" y="15"/>
                    </a:lnTo>
                    <a:lnTo>
                      <a:pt x="287" y="13"/>
                    </a:lnTo>
                    <a:lnTo>
                      <a:pt x="294" y="11"/>
                    </a:lnTo>
                    <a:lnTo>
                      <a:pt x="302" y="9"/>
                    </a:lnTo>
                    <a:lnTo>
                      <a:pt x="309" y="9"/>
                    </a:lnTo>
                    <a:lnTo>
                      <a:pt x="315" y="9"/>
                    </a:lnTo>
                    <a:lnTo>
                      <a:pt x="323" y="9"/>
                    </a:lnTo>
                    <a:lnTo>
                      <a:pt x="328" y="9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49" y="9"/>
                    </a:lnTo>
                    <a:lnTo>
                      <a:pt x="359" y="9"/>
                    </a:lnTo>
                    <a:lnTo>
                      <a:pt x="365" y="9"/>
                    </a:lnTo>
                    <a:lnTo>
                      <a:pt x="374" y="11"/>
                    </a:lnTo>
                    <a:lnTo>
                      <a:pt x="380" y="11"/>
                    </a:lnTo>
                    <a:lnTo>
                      <a:pt x="387" y="11"/>
                    </a:lnTo>
                    <a:lnTo>
                      <a:pt x="393" y="11"/>
                    </a:lnTo>
                    <a:lnTo>
                      <a:pt x="401" y="11"/>
                    </a:lnTo>
                    <a:lnTo>
                      <a:pt x="406" y="9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29" y="9"/>
                    </a:lnTo>
                    <a:lnTo>
                      <a:pt x="435" y="9"/>
                    </a:lnTo>
                    <a:lnTo>
                      <a:pt x="442" y="7"/>
                    </a:lnTo>
                    <a:lnTo>
                      <a:pt x="448" y="7"/>
                    </a:lnTo>
                    <a:lnTo>
                      <a:pt x="456" y="6"/>
                    </a:lnTo>
                    <a:lnTo>
                      <a:pt x="461" y="4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2890800" y="38322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4800" y="38322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63920" y="2103480"/>
              <a:ext cx="575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mburger to Cow algorithm or "Wishful Thinking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ires Jurassic Park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9280" y="1700280"/>
            <a:ext cx="8498160" cy="2808360"/>
            <a:chOff x="179280" y="1700280"/>
            <a:chExt cx="8498160" cy="2808360"/>
          </a:xfrm>
        </p:grpSpPr>
        <p:sp>
          <p:nvSpPr>
            <p:cNvPr id="49" name=""/>
            <p:cNvSpPr/>
            <p:nvPr/>
          </p:nvSpPr>
          <p:spPr>
            <a:xfrm>
              <a:off x="179280" y="1700280"/>
              <a:ext cx="8496360" cy="28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79280" y="1773360"/>
              <a:ext cx="8498160" cy="2732040"/>
              <a:chOff x="179280" y="1773360"/>
              <a:chExt cx="8498160" cy="273204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2565360"/>
                <a:ext cx="15112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1773360"/>
                <a:ext cx="374508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49840" y="4076640"/>
                <a:ext cx="161496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Acetyl-1-pyrroli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52283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71640" y="4076640"/>
                <a:ext cx="119880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eta-carote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5280489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989080" y="4076640"/>
                <a:ext cx="82548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isbyn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n.a.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2421000"/>
                <a:ext cx="2544840" cy="144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08000" y="1197000"/>
            <a:ext cx="8567640" cy="5111640"/>
            <a:chOff x="108000" y="1197000"/>
            <a:chExt cx="8567640" cy="5111640"/>
          </a:xfrm>
        </p:grpSpPr>
        <p:sp>
          <p:nvSpPr>
            <p:cNvPr id="58" name=""/>
            <p:cNvSpPr/>
            <p:nvPr/>
          </p:nvSpPr>
          <p:spPr>
            <a:xfrm>
              <a:off x="108000" y="1197000"/>
              <a:ext cx="8567640" cy="51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79640" y="1341360"/>
              <a:ext cx="8442720" cy="4962240"/>
              <a:chOff x="179640" y="1341360"/>
              <a:chExt cx="8442720" cy="49622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95280" y="1341360"/>
                <a:ext cx="1079280" cy="804600"/>
                <a:chOff x="395280" y="1341360"/>
                <a:chExt cx="1079280" cy="804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31720" y="1687320"/>
                  <a:ext cx="331200" cy="112320"/>
                </a:xfrm>
                <a:custGeom>
                  <a:avLst/>
                  <a:gdLst/>
                  <a:ahLst/>
                  <a:rect l="l" t="t" r="r" b="b"/>
                  <a:pathLst>
                    <a:path w="321" h="115">
                      <a:moveTo>
                        <a:pt x="312" y="79"/>
                      </a:moveTo>
                      <a:lnTo>
                        <a:pt x="312" y="79"/>
                      </a:lnTo>
                      <a:lnTo>
                        <a:pt x="297" y="69"/>
                      </a:lnTo>
                      <a:lnTo>
                        <a:pt x="282" y="60"/>
                      </a:lnTo>
                      <a:lnTo>
                        <a:pt x="265" y="52"/>
                      </a:lnTo>
                      <a:lnTo>
                        <a:pt x="249" y="45"/>
                      </a:lnTo>
                      <a:lnTo>
                        <a:pt x="232" y="38"/>
                      </a:lnTo>
                      <a:lnTo>
                        <a:pt x="215" y="31"/>
                      </a:lnTo>
                      <a:lnTo>
                        <a:pt x="196" y="26"/>
                      </a:lnTo>
                      <a:lnTo>
                        <a:pt x="179" y="20"/>
                      </a:lnTo>
                      <a:lnTo>
                        <a:pt x="159" y="15"/>
                      </a:lnTo>
                      <a:lnTo>
                        <a:pt x="141" y="12"/>
                      </a:lnTo>
                      <a:lnTo>
                        <a:pt x="121" y="8"/>
                      </a:lnTo>
                      <a:lnTo>
                        <a:pt x="102" y="5"/>
                      </a:lnTo>
                      <a:lnTo>
                        <a:pt x="82" y="4"/>
                      </a:lnTo>
                      <a:lnTo>
                        <a:pt x="62" y="1"/>
                      </a:lnTo>
                      <a:lnTo>
                        <a:pt x="42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2" y="13"/>
                      </a:lnTo>
                      <a:lnTo>
                        <a:pt x="0" y="21"/>
                      </a:lnTo>
                      <a:lnTo>
                        <a:pt x="2" y="29"/>
                      </a:lnTo>
                      <a:lnTo>
                        <a:pt x="6" y="36"/>
                      </a:lnTo>
                      <a:lnTo>
                        <a:pt x="13" y="41"/>
                      </a:lnTo>
                      <a:lnTo>
                        <a:pt x="21" y="42"/>
                      </a:lnTo>
                      <a:lnTo>
                        <a:pt x="40" y="42"/>
                      </a:lnTo>
                      <a:lnTo>
                        <a:pt x="58" y="43"/>
                      </a:lnTo>
                      <a:lnTo>
                        <a:pt x="78" y="44"/>
                      </a:lnTo>
                      <a:lnTo>
                        <a:pt x="96" y="46"/>
                      </a:lnTo>
                      <a:lnTo>
                        <a:pt x="113" y="50"/>
                      </a:lnTo>
                      <a:lnTo>
                        <a:pt x="132" y="52"/>
                      </a:lnTo>
                      <a:lnTo>
                        <a:pt x="149" y="57"/>
                      </a:lnTo>
                      <a:lnTo>
                        <a:pt x="166" y="60"/>
                      </a:lnTo>
                      <a:lnTo>
                        <a:pt x="184" y="66"/>
                      </a:lnTo>
                      <a:lnTo>
                        <a:pt x="200" y="71"/>
                      </a:lnTo>
                      <a:lnTo>
                        <a:pt x="216" y="76"/>
                      </a:lnTo>
                      <a:lnTo>
                        <a:pt x="232" y="83"/>
                      </a:lnTo>
                      <a:lnTo>
                        <a:pt x="247" y="90"/>
                      </a:lnTo>
                      <a:lnTo>
                        <a:pt x="262" y="97"/>
                      </a:lnTo>
                      <a:lnTo>
                        <a:pt x="276" y="105"/>
                      </a:lnTo>
                      <a:lnTo>
                        <a:pt x="290" y="113"/>
                      </a:lnTo>
                      <a:lnTo>
                        <a:pt x="297" y="115"/>
                      </a:lnTo>
                      <a:lnTo>
                        <a:pt x="305" y="115"/>
                      </a:lnTo>
                      <a:lnTo>
                        <a:pt x="312" y="113"/>
                      </a:lnTo>
                      <a:lnTo>
                        <a:pt x="317" y="107"/>
                      </a:lnTo>
                      <a:lnTo>
                        <a:pt x="321" y="99"/>
                      </a:lnTo>
                      <a:lnTo>
                        <a:pt x="321" y="91"/>
                      </a:lnTo>
                      <a:lnTo>
                        <a:pt x="317" y="84"/>
                      </a:lnTo>
                      <a:lnTo>
                        <a:pt x="312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87840" y="1546200"/>
                  <a:ext cx="337680" cy="113760"/>
                </a:xfrm>
                <a:custGeom>
                  <a:avLst/>
                  <a:gdLst/>
                  <a:ahLst/>
                  <a:rect l="l" t="t" r="r" b="b"/>
                  <a:pathLst>
                    <a:path w="326" h="119">
                      <a:moveTo>
                        <a:pt x="32" y="115"/>
                      </a:moveTo>
                      <a:lnTo>
                        <a:pt x="32" y="115"/>
                      </a:lnTo>
                      <a:lnTo>
                        <a:pt x="46" y="107"/>
                      </a:lnTo>
                      <a:lnTo>
                        <a:pt x="59" y="98"/>
                      </a:lnTo>
                      <a:lnTo>
                        <a:pt x="73" y="91"/>
                      </a:lnTo>
                      <a:lnTo>
                        <a:pt x="89" y="84"/>
                      </a:lnTo>
                      <a:lnTo>
                        <a:pt x="104" y="77"/>
                      </a:lnTo>
                      <a:lnTo>
                        <a:pt x="122" y="71"/>
                      </a:lnTo>
                      <a:lnTo>
                        <a:pt x="138" y="66"/>
                      </a:lnTo>
                      <a:lnTo>
                        <a:pt x="155" y="61"/>
                      </a:lnTo>
                      <a:lnTo>
                        <a:pt x="174" y="56"/>
                      </a:lnTo>
                      <a:lnTo>
                        <a:pt x="191" y="52"/>
                      </a:lnTo>
                      <a:lnTo>
                        <a:pt x="209" y="49"/>
                      </a:lnTo>
                      <a:lnTo>
                        <a:pt x="228" y="46"/>
                      </a:lnTo>
                      <a:lnTo>
                        <a:pt x="247" y="44"/>
                      </a:lnTo>
                      <a:lnTo>
                        <a:pt x="266" y="43"/>
                      </a:lnTo>
                      <a:lnTo>
                        <a:pt x="285" y="41"/>
                      </a:lnTo>
                      <a:lnTo>
                        <a:pt x="305" y="41"/>
                      </a:lnTo>
                      <a:lnTo>
                        <a:pt x="313" y="40"/>
                      </a:lnTo>
                      <a:lnTo>
                        <a:pt x="320" y="36"/>
                      </a:lnTo>
                      <a:lnTo>
                        <a:pt x="324" y="29"/>
                      </a:lnTo>
                      <a:lnTo>
                        <a:pt x="326" y="21"/>
                      </a:lnTo>
                      <a:lnTo>
                        <a:pt x="324" y="13"/>
                      </a:lnTo>
                      <a:lnTo>
                        <a:pt x="320" y="6"/>
                      </a:lnTo>
                      <a:lnTo>
                        <a:pt x="313" y="1"/>
                      </a:lnTo>
                      <a:lnTo>
                        <a:pt x="305" y="0"/>
                      </a:lnTo>
                      <a:lnTo>
                        <a:pt x="284" y="0"/>
                      </a:lnTo>
                      <a:lnTo>
                        <a:pt x="263" y="1"/>
                      </a:lnTo>
                      <a:lnTo>
                        <a:pt x="243" y="3"/>
                      </a:lnTo>
                      <a:lnTo>
                        <a:pt x="222" y="6"/>
                      </a:lnTo>
                      <a:lnTo>
                        <a:pt x="202" y="8"/>
                      </a:lnTo>
                      <a:lnTo>
                        <a:pt x="182" y="13"/>
                      </a:lnTo>
                      <a:lnTo>
                        <a:pt x="162" y="16"/>
                      </a:lnTo>
                      <a:lnTo>
                        <a:pt x="144" y="22"/>
                      </a:lnTo>
                      <a:lnTo>
                        <a:pt x="124" y="26"/>
                      </a:lnTo>
                      <a:lnTo>
                        <a:pt x="107" y="33"/>
                      </a:lnTo>
                      <a:lnTo>
                        <a:pt x="88" y="40"/>
                      </a:lnTo>
                      <a:lnTo>
                        <a:pt x="71" y="47"/>
                      </a:lnTo>
                      <a:lnTo>
                        <a:pt x="54" y="55"/>
                      </a:lnTo>
                      <a:lnTo>
                        <a:pt x="38" y="63"/>
                      </a:lnTo>
                      <a:lnTo>
                        <a:pt x="23" y="73"/>
                      </a:lnTo>
                      <a:lnTo>
                        <a:pt x="8" y="82"/>
                      </a:lnTo>
                      <a:lnTo>
                        <a:pt x="2" y="88"/>
                      </a:lnTo>
                      <a:lnTo>
                        <a:pt x="0" y="94"/>
                      </a:lnTo>
                      <a:lnTo>
                        <a:pt x="0" y="102"/>
                      </a:lnTo>
                      <a:lnTo>
                        <a:pt x="3" y="111"/>
                      </a:lnTo>
                      <a:lnTo>
                        <a:pt x="9" y="116"/>
                      </a:lnTo>
                      <a:lnTo>
                        <a:pt x="16" y="119"/>
                      </a:lnTo>
                      <a:lnTo>
                        <a:pt x="24" y="119"/>
                      </a:lnTo>
                      <a:lnTo>
                        <a:pt x="32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93960" y="1687320"/>
                  <a:ext cx="331560" cy="112320"/>
                </a:xfrm>
                <a:custGeom>
                  <a:avLst/>
                  <a:gdLst/>
                  <a:ahLst/>
                  <a:rect l="l" t="t" r="r" b="b"/>
                  <a:pathLst>
                    <a:path w="321" h="115">
                      <a:moveTo>
                        <a:pt x="300" y="0"/>
                      </a:moveTo>
                      <a:lnTo>
                        <a:pt x="279" y="0"/>
                      </a:lnTo>
                      <a:lnTo>
                        <a:pt x="258" y="1"/>
                      </a:lnTo>
                      <a:lnTo>
                        <a:pt x="239" y="4"/>
                      </a:lnTo>
                      <a:lnTo>
                        <a:pt x="219" y="5"/>
                      </a:lnTo>
                      <a:lnTo>
                        <a:pt x="200" y="8"/>
                      </a:lnTo>
                      <a:lnTo>
                        <a:pt x="180" y="12"/>
                      </a:lnTo>
                      <a:lnTo>
                        <a:pt x="160" y="15"/>
                      </a:lnTo>
                      <a:lnTo>
                        <a:pt x="142" y="20"/>
                      </a:lnTo>
                      <a:lnTo>
                        <a:pt x="124" y="26"/>
                      </a:lnTo>
                      <a:lnTo>
                        <a:pt x="106" y="31"/>
                      </a:lnTo>
                      <a:lnTo>
                        <a:pt x="89" y="38"/>
                      </a:lnTo>
                      <a:lnTo>
                        <a:pt x="72" y="45"/>
                      </a:lnTo>
                      <a:lnTo>
                        <a:pt x="56" y="52"/>
                      </a:lnTo>
                      <a:lnTo>
                        <a:pt x="40" y="60"/>
                      </a:lnTo>
                      <a:lnTo>
                        <a:pt x="25" y="69"/>
                      </a:lnTo>
                      <a:lnTo>
                        <a:pt x="10" y="79"/>
                      </a:lnTo>
                      <a:lnTo>
                        <a:pt x="10" y="79"/>
                      </a:lnTo>
                      <a:lnTo>
                        <a:pt x="4" y="84"/>
                      </a:lnTo>
                      <a:lnTo>
                        <a:pt x="0" y="91"/>
                      </a:lnTo>
                      <a:lnTo>
                        <a:pt x="0" y="99"/>
                      </a:lnTo>
                      <a:lnTo>
                        <a:pt x="3" y="107"/>
                      </a:lnTo>
                      <a:lnTo>
                        <a:pt x="8" y="113"/>
                      </a:lnTo>
                      <a:lnTo>
                        <a:pt x="16" y="115"/>
                      </a:lnTo>
                      <a:lnTo>
                        <a:pt x="25" y="115"/>
                      </a:lnTo>
                      <a:lnTo>
                        <a:pt x="31" y="113"/>
                      </a:lnTo>
                      <a:lnTo>
                        <a:pt x="45" y="105"/>
                      </a:lnTo>
                      <a:lnTo>
                        <a:pt x="59" y="97"/>
                      </a:lnTo>
                      <a:lnTo>
                        <a:pt x="74" y="90"/>
                      </a:lnTo>
                      <a:lnTo>
                        <a:pt x="89" y="83"/>
                      </a:lnTo>
                      <a:lnTo>
                        <a:pt x="105" y="76"/>
                      </a:lnTo>
                      <a:lnTo>
                        <a:pt x="121" y="71"/>
                      </a:lnTo>
                      <a:lnTo>
                        <a:pt x="137" y="66"/>
                      </a:lnTo>
                      <a:lnTo>
                        <a:pt x="155" y="60"/>
                      </a:lnTo>
                      <a:lnTo>
                        <a:pt x="172" y="57"/>
                      </a:lnTo>
                      <a:lnTo>
                        <a:pt x="189" y="52"/>
                      </a:lnTo>
                      <a:lnTo>
                        <a:pt x="208" y="50"/>
                      </a:lnTo>
                      <a:lnTo>
                        <a:pt x="225" y="46"/>
                      </a:lnTo>
                      <a:lnTo>
                        <a:pt x="243" y="44"/>
                      </a:lnTo>
                      <a:lnTo>
                        <a:pt x="263" y="43"/>
                      </a:lnTo>
                      <a:lnTo>
                        <a:pt x="281" y="42"/>
                      </a:lnTo>
                      <a:lnTo>
                        <a:pt x="300" y="42"/>
                      </a:lnTo>
                      <a:lnTo>
                        <a:pt x="308" y="41"/>
                      </a:lnTo>
                      <a:lnTo>
                        <a:pt x="315" y="36"/>
                      </a:lnTo>
                      <a:lnTo>
                        <a:pt x="319" y="29"/>
                      </a:lnTo>
                      <a:lnTo>
                        <a:pt x="321" y="21"/>
                      </a:lnTo>
                      <a:lnTo>
                        <a:pt x="319" y="13"/>
                      </a:lnTo>
                      <a:lnTo>
                        <a:pt x="315" y="6"/>
                      </a:lnTo>
                      <a:lnTo>
                        <a:pt x="308" y="1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1720" y="1546200"/>
                  <a:ext cx="337680" cy="113760"/>
                </a:xfrm>
                <a:custGeom>
                  <a:avLst/>
                  <a:gdLst/>
                  <a:ahLst/>
                  <a:rect l="l" t="t" r="r" b="b"/>
                  <a:pathLst>
                    <a:path w="327" h="119">
                      <a:moveTo>
                        <a:pt x="21" y="41"/>
                      </a:moveTo>
                      <a:lnTo>
                        <a:pt x="41" y="41"/>
                      </a:lnTo>
                      <a:lnTo>
                        <a:pt x="60" y="43"/>
                      </a:lnTo>
                      <a:lnTo>
                        <a:pt x="79" y="44"/>
                      </a:lnTo>
                      <a:lnTo>
                        <a:pt x="97" y="46"/>
                      </a:lnTo>
                      <a:lnTo>
                        <a:pt x="117" y="49"/>
                      </a:lnTo>
                      <a:lnTo>
                        <a:pt x="134" y="52"/>
                      </a:lnTo>
                      <a:lnTo>
                        <a:pt x="153" y="56"/>
                      </a:lnTo>
                      <a:lnTo>
                        <a:pt x="170" y="61"/>
                      </a:lnTo>
                      <a:lnTo>
                        <a:pt x="187" y="66"/>
                      </a:lnTo>
                      <a:lnTo>
                        <a:pt x="204" y="71"/>
                      </a:lnTo>
                      <a:lnTo>
                        <a:pt x="221" y="77"/>
                      </a:lnTo>
                      <a:lnTo>
                        <a:pt x="237" y="84"/>
                      </a:lnTo>
                      <a:lnTo>
                        <a:pt x="252" y="91"/>
                      </a:lnTo>
                      <a:lnTo>
                        <a:pt x="267" y="98"/>
                      </a:lnTo>
                      <a:lnTo>
                        <a:pt x="280" y="107"/>
                      </a:lnTo>
                      <a:lnTo>
                        <a:pt x="294" y="115"/>
                      </a:lnTo>
                      <a:lnTo>
                        <a:pt x="302" y="119"/>
                      </a:lnTo>
                      <a:lnTo>
                        <a:pt x="310" y="119"/>
                      </a:lnTo>
                      <a:lnTo>
                        <a:pt x="317" y="116"/>
                      </a:lnTo>
                      <a:lnTo>
                        <a:pt x="323" y="111"/>
                      </a:lnTo>
                      <a:lnTo>
                        <a:pt x="327" y="102"/>
                      </a:lnTo>
                      <a:lnTo>
                        <a:pt x="327" y="94"/>
                      </a:lnTo>
                      <a:lnTo>
                        <a:pt x="323" y="88"/>
                      </a:lnTo>
                      <a:lnTo>
                        <a:pt x="317" y="82"/>
                      </a:lnTo>
                      <a:lnTo>
                        <a:pt x="302" y="73"/>
                      </a:lnTo>
                      <a:lnTo>
                        <a:pt x="287" y="63"/>
                      </a:lnTo>
                      <a:lnTo>
                        <a:pt x="271" y="55"/>
                      </a:lnTo>
                      <a:lnTo>
                        <a:pt x="255" y="47"/>
                      </a:lnTo>
                      <a:lnTo>
                        <a:pt x="238" y="40"/>
                      </a:lnTo>
                      <a:lnTo>
                        <a:pt x="219" y="33"/>
                      </a:lnTo>
                      <a:lnTo>
                        <a:pt x="201" y="26"/>
                      </a:lnTo>
                      <a:lnTo>
                        <a:pt x="183" y="22"/>
                      </a:lnTo>
                      <a:lnTo>
                        <a:pt x="163" y="16"/>
                      </a:lnTo>
                      <a:lnTo>
                        <a:pt x="144" y="13"/>
                      </a:lnTo>
                      <a:lnTo>
                        <a:pt x="124" y="8"/>
                      </a:lnTo>
                      <a:lnTo>
                        <a:pt x="104" y="6"/>
                      </a:lnTo>
                      <a:lnTo>
                        <a:pt x="83" y="3"/>
                      </a:lnTo>
                      <a:lnTo>
                        <a:pt x="63" y="1"/>
                      </a:lnTo>
                      <a:lnTo>
                        <a:pt x="42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2" y="13"/>
                      </a:lnTo>
                      <a:lnTo>
                        <a:pt x="0" y="21"/>
                      </a:lnTo>
                      <a:lnTo>
                        <a:pt x="2" y="29"/>
                      </a:lnTo>
                      <a:lnTo>
                        <a:pt x="6" y="36"/>
                      </a:lnTo>
                      <a:lnTo>
                        <a:pt x="13" y="40"/>
                      </a:lnTo>
                      <a:lnTo>
                        <a:pt x="21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193040" y="1852200"/>
                  <a:ext cx="63720" cy="79200"/>
                </a:xfrm>
                <a:custGeom>
                  <a:avLst/>
                  <a:gdLst/>
                  <a:ahLst/>
                  <a:rect l="l" t="t" r="r" b="b"/>
                  <a:pathLst>
                    <a:path w="62" h="83">
                      <a:moveTo>
                        <a:pt x="24" y="83"/>
                      </a:moveTo>
                      <a:lnTo>
                        <a:pt x="28" y="81"/>
                      </a:lnTo>
                      <a:lnTo>
                        <a:pt x="33" y="81"/>
                      </a:lnTo>
                      <a:lnTo>
                        <a:pt x="38" y="80"/>
                      </a:lnTo>
                      <a:lnTo>
                        <a:pt x="43" y="79"/>
                      </a:lnTo>
                      <a:lnTo>
                        <a:pt x="48" y="78"/>
                      </a:lnTo>
                      <a:lnTo>
                        <a:pt x="53" y="78"/>
                      </a:lnTo>
                      <a:lnTo>
                        <a:pt x="57" y="77"/>
                      </a:lnTo>
                      <a:lnTo>
                        <a:pt x="62" y="77"/>
                      </a:lnTo>
                      <a:lnTo>
                        <a:pt x="55" y="66"/>
                      </a:lnTo>
                      <a:lnTo>
                        <a:pt x="49" y="56"/>
                      </a:lnTo>
                      <a:lnTo>
                        <a:pt x="43" y="46"/>
                      </a:lnTo>
                      <a:lnTo>
                        <a:pt x="38" y="35"/>
                      </a:lnTo>
                      <a:lnTo>
                        <a:pt x="32" y="26"/>
                      </a:lnTo>
                      <a:lnTo>
                        <a:pt x="26" y="17"/>
                      </a:lnTo>
                      <a:lnTo>
                        <a:pt x="21" y="8"/>
                      </a:lnTo>
                      <a:lnTo>
                        <a:pt x="16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2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52600" y="1844280"/>
                  <a:ext cx="61920" cy="81360"/>
                </a:xfrm>
                <a:custGeom>
                  <a:avLst/>
                  <a:gdLst/>
                  <a:ahLst/>
                  <a:rect l="l" t="t" r="r" b="b"/>
                  <a:pathLst>
                    <a:path w="60" h="84">
                      <a:moveTo>
                        <a:pt x="60" y="84"/>
                      </a:moveTo>
                      <a:lnTo>
                        <a:pt x="54" y="1"/>
                      </a:lnTo>
                      <a:lnTo>
                        <a:pt x="48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8" y="81"/>
                      </a:lnTo>
                      <a:lnTo>
                        <a:pt x="16" y="81"/>
                      </a:lnTo>
                      <a:lnTo>
                        <a:pt x="23" y="81"/>
                      </a:lnTo>
                      <a:lnTo>
                        <a:pt x="31" y="83"/>
                      </a:lnTo>
                      <a:lnTo>
                        <a:pt x="38" y="83"/>
                      </a:lnTo>
                      <a:lnTo>
                        <a:pt x="45" y="83"/>
                      </a:lnTo>
                      <a:lnTo>
                        <a:pt x="53" y="84"/>
                      </a:lnTo>
                      <a:lnTo>
                        <a:pt x="60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95280" y="1341360"/>
                  <a:ext cx="1079280" cy="715680"/>
                </a:xfrm>
                <a:custGeom>
                  <a:avLst/>
                  <a:gdLst/>
                  <a:ahLst/>
                  <a:rect l="l" t="t" r="r" b="b"/>
                  <a:pathLst>
                    <a:path w="1041" h="741">
                      <a:moveTo>
                        <a:pt x="1008" y="12"/>
                      </a:moveTo>
                      <a:lnTo>
                        <a:pt x="993" y="9"/>
                      </a:lnTo>
                      <a:lnTo>
                        <a:pt x="978" y="6"/>
                      </a:lnTo>
                      <a:lnTo>
                        <a:pt x="963" y="5"/>
                      </a:lnTo>
                      <a:lnTo>
                        <a:pt x="948" y="2"/>
                      </a:lnTo>
                      <a:lnTo>
                        <a:pt x="932" y="1"/>
                      </a:lnTo>
                      <a:lnTo>
                        <a:pt x="917" y="1"/>
                      </a:lnTo>
                      <a:lnTo>
                        <a:pt x="901" y="0"/>
                      </a:lnTo>
                      <a:lnTo>
                        <a:pt x="886" y="0"/>
                      </a:lnTo>
                      <a:lnTo>
                        <a:pt x="858" y="1"/>
                      </a:lnTo>
                      <a:lnTo>
                        <a:pt x="830" y="2"/>
                      </a:lnTo>
                      <a:lnTo>
                        <a:pt x="803" y="6"/>
                      </a:lnTo>
                      <a:lnTo>
                        <a:pt x="775" y="9"/>
                      </a:lnTo>
                      <a:lnTo>
                        <a:pt x="750" y="15"/>
                      </a:lnTo>
                      <a:lnTo>
                        <a:pt x="724" y="21"/>
                      </a:lnTo>
                      <a:lnTo>
                        <a:pt x="699" y="29"/>
                      </a:lnTo>
                      <a:lnTo>
                        <a:pt x="675" y="37"/>
                      </a:lnTo>
                      <a:lnTo>
                        <a:pt x="652" y="46"/>
                      </a:lnTo>
                      <a:lnTo>
                        <a:pt x="630" y="56"/>
                      </a:lnTo>
                      <a:lnTo>
                        <a:pt x="608" y="68"/>
                      </a:lnTo>
                      <a:lnTo>
                        <a:pt x="589" y="79"/>
                      </a:lnTo>
                      <a:lnTo>
                        <a:pt x="569" y="92"/>
                      </a:lnTo>
                      <a:lnTo>
                        <a:pt x="552" y="106"/>
                      </a:lnTo>
                      <a:lnTo>
                        <a:pt x="535" y="121"/>
                      </a:lnTo>
                      <a:lnTo>
                        <a:pt x="520" y="136"/>
                      </a:lnTo>
                      <a:lnTo>
                        <a:pt x="505" y="121"/>
                      </a:lnTo>
                      <a:lnTo>
                        <a:pt x="488" y="106"/>
                      </a:lnTo>
                      <a:lnTo>
                        <a:pt x="470" y="92"/>
                      </a:lnTo>
                      <a:lnTo>
                        <a:pt x="452" y="79"/>
                      </a:lnTo>
                      <a:lnTo>
                        <a:pt x="432" y="68"/>
                      </a:lnTo>
                      <a:lnTo>
                        <a:pt x="410" y="56"/>
                      </a:lnTo>
                      <a:lnTo>
                        <a:pt x="388" y="46"/>
                      </a:lnTo>
                      <a:lnTo>
                        <a:pt x="365" y="37"/>
                      </a:lnTo>
                      <a:lnTo>
                        <a:pt x="341" y="29"/>
                      </a:lnTo>
                      <a:lnTo>
                        <a:pt x="316" y="21"/>
                      </a:lnTo>
                      <a:lnTo>
                        <a:pt x="290" y="15"/>
                      </a:lnTo>
                      <a:lnTo>
                        <a:pt x="264" y="9"/>
                      </a:lnTo>
                      <a:lnTo>
                        <a:pt x="237" y="6"/>
                      </a:lnTo>
                      <a:lnTo>
                        <a:pt x="210" y="2"/>
                      </a:lnTo>
                      <a:lnTo>
                        <a:pt x="182" y="1"/>
                      </a:lnTo>
                      <a:lnTo>
                        <a:pt x="153" y="0"/>
                      </a:lnTo>
                      <a:lnTo>
                        <a:pt x="138" y="0"/>
                      </a:lnTo>
                      <a:lnTo>
                        <a:pt x="122" y="1"/>
                      </a:lnTo>
                      <a:lnTo>
                        <a:pt x="107" y="1"/>
                      </a:lnTo>
                      <a:lnTo>
                        <a:pt x="92" y="2"/>
                      </a:lnTo>
                      <a:lnTo>
                        <a:pt x="77" y="5"/>
                      </a:lnTo>
                      <a:lnTo>
                        <a:pt x="63" y="6"/>
                      </a:lnTo>
                      <a:lnTo>
                        <a:pt x="48" y="9"/>
                      </a:lnTo>
                      <a:lnTo>
                        <a:pt x="33" y="12"/>
                      </a:lnTo>
                      <a:lnTo>
                        <a:pt x="0" y="18"/>
                      </a:lnTo>
                      <a:lnTo>
                        <a:pt x="0" y="563"/>
                      </a:lnTo>
                      <a:lnTo>
                        <a:pt x="0" y="563"/>
                      </a:lnTo>
                      <a:lnTo>
                        <a:pt x="0" y="741"/>
                      </a:lnTo>
                      <a:lnTo>
                        <a:pt x="50" y="730"/>
                      </a:lnTo>
                      <a:lnTo>
                        <a:pt x="56" y="729"/>
                      </a:lnTo>
                      <a:lnTo>
                        <a:pt x="63" y="728"/>
                      </a:lnTo>
                      <a:lnTo>
                        <a:pt x="70" y="727"/>
                      </a:lnTo>
                      <a:lnTo>
                        <a:pt x="77" y="726"/>
                      </a:lnTo>
                      <a:lnTo>
                        <a:pt x="84" y="726"/>
                      </a:lnTo>
                      <a:lnTo>
                        <a:pt x="91" y="725"/>
                      </a:lnTo>
                      <a:lnTo>
                        <a:pt x="98" y="723"/>
                      </a:lnTo>
                      <a:lnTo>
                        <a:pt x="105" y="723"/>
                      </a:lnTo>
                      <a:lnTo>
                        <a:pt x="138" y="638"/>
                      </a:lnTo>
                      <a:lnTo>
                        <a:pt x="131" y="638"/>
                      </a:lnTo>
                      <a:lnTo>
                        <a:pt x="123" y="639"/>
                      </a:lnTo>
                      <a:lnTo>
                        <a:pt x="116" y="639"/>
                      </a:lnTo>
                      <a:lnTo>
                        <a:pt x="109" y="639"/>
                      </a:lnTo>
                      <a:lnTo>
                        <a:pt x="103" y="640"/>
                      </a:lnTo>
                      <a:lnTo>
                        <a:pt x="96" y="640"/>
                      </a:lnTo>
                      <a:lnTo>
                        <a:pt x="90" y="642"/>
                      </a:lnTo>
                      <a:lnTo>
                        <a:pt x="83" y="642"/>
                      </a:lnTo>
                      <a:lnTo>
                        <a:pt x="83" y="607"/>
                      </a:lnTo>
                      <a:lnTo>
                        <a:pt x="91" y="606"/>
                      </a:lnTo>
                      <a:lnTo>
                        <a:pt x="99" y="605"/>
                      </a:lnTo>
                      <a:lnTo>
                        <a:pt x="108" y="604"/>
                      </a:lnTo>
                      <a:lnTo>
                        <a:pt x="116" y="604"/>
                      </a:lnTo>
                      <a:lnTo>
                        <a:pt x="126" y="602"/>
                      </a:lnTo>
                      <a:lnTo>
                        <a:pt x="134" y="602"/>
                      </a:lnTo>
                      <a:lnTo>
                        <a:pt x="143" y="602"/>
                      </a:lnTo>
                      <a:lnTo>
                        <a:pt x="152" y="602"/>
                      </a:lnTo>
                      <a:lnTo>
                        <a:pt x="184" y="521"/>
                      </a:lnTo>
                      <a:lnTo>
                        <a:pt x="172" y="520"/>
                      </a:lnTo>
                      <a:lnTo>
                        <a:pt x="159" y="520"/>
                      </a:lnTo>
                      <a:lnTo>
                        <a:pt x="145" y="520"/>
                      </a:lnTo>
                      <a:lnTo>
                        <a:pt x="132" y="520"/>
                      </a:lnTo>
                      <a:lnTo>
                        <a:pt x="120" y="521"/>
                      </a:lnTo>
                      <a:lnTo>
                        <a:pt x="107" y="522"/>
                      </a:lnTo>
                      <a:lnTo>
                        <a:pt x="96" y="523"/>
                      </a:lnTo>
                      <a:lnTo>
                        <a:pt x="83" y="524"/>
                      </a:lnTo>
                      <a:lnTo>
                        <a:pt x="83" y="88"/>
                      </a:lnTo>
                      <a:lnTo>
                        <a:pt x="91" y="86"/>
                      </a:lnTo>
                      <a:lnTo>
                        <a:pt x="100" y="85"/>
                      </a:lnTo>
                      <a:lnTo>
                        <a:pt x="108" y="84"/>
                      </a:lnTo>
                      <a:lnTo>
                        <a:pt x="117" y="84"/>
                      </a:lnTo>
                      <a:lnTo>
                        <a:pt x="126" y="83"/>
                      </a:lnTo>
                      <a:lnTo>
                        <a:pt x="135" y="83"/>
                      </a:lnTo>
                      <a:lnTo>
                        <a:pt x="144" y="83"/>
                      </a:lnTo>
                      <a:lnTo>
                        <a:pt x="153" y="83"/>
                      </a:lnTo>
                      <a:lnTo>
                        <a:pt x="181" y="84"/>
                      </a:lnTo>
                      <a:lnTo>
                        <a:pt x="209" y="85"/>
                      </a:lnTo>
                      <a:lnTo>
                        <a:pt x="235" y="89"/>
                      </a:lnTo>
                      <a:lnTo>
                        <a:pt x="262" y="93"/>
                      </a:lnTo>
                      <a:lnTo>
                        <a:pt x="287" y="99"/>
                      </a:lnTo>
                      <a:lnTo>
                        <a:pt x="311" y="106"/>
                      </a:lnTo>
                      <a:lnTo>
                        <a:pt x="334" y="113"/>
                      </a:lnTo>
                      <a:lnTo>
                        <a:pt x="357" y="122"/>
                      </a:lnTo>
                      <a:lnTo>
                        <a:pt x="378" y="132"/>
                      </a:lnTo>
                      <a:lnTo>
                        <a:pt x="399" y="143"/>
                      </a:lnTo>
                      <a:lnTo>
                        <a:pt x="417" y="154"/>
                      </a:lnTo>
                      <a:lnTo>
                        <a:pt x="433" y="167"/>
                      </a:lnTo>
                      <a:lnTo>
                        <a:pt x="449" y="181"/>
                      </a:lnTo>
                      <a:lnTo>
                        <a:pt x="462" y="195"/>
                      </a:lnTo>
                      <a:lnTo>
                        <a:pt x="475" y="210"/>
                      </a:lnTo>
                      <a:lnTo>
                        <a:pt x="484" y="225"/>
                      </a:lnTo>
                      <a:lnTo>
                        <a:pt x="520" y="290"/>
                      </a:lnTo>
                      <a:lnTo>
                        <a:pt x="556" y="225"/>
                      </a:lnTo>
                      <a:lnTo>
                        <a:pt x="566" y="210"/>
                      </a:lnTo>
                      <a:lnTo>
                        <a:pt x="578" y="195"/>
                      </a:lnTo>
                      <a:lnTo>
                        <a:pt x="591" y="181"/>
                      </a:lnTo>
                      <a:lnTo>
                        <a:pt x="607" y="167"/>
                      </a:lnTo>
                      <a:lnTo>
                        <a:pt x="623" y="154"/>
                      </a:lnTo>
                      <a:lnTo>
                        <a:pt x="642" y="143"/>
                      </a:lnTo>
                      <a:lnTo>
                        <a:pt x="662" y="132"/>
                      </a:lnTo>
                      <a:lnTo>
                        <a:pt x="683" y="122"/>
                      </a:lnTo>
                      <a:lnTo>
                        <a:pt x="705" y="113"/>
                      </a:lnTo>
                      <a:lnTo>
                        <a:pt x="729" y="106"/>
                      </a:lnTo>
                      <a:lnTo>
                        <a:pt x="753" y="99"/>
                      </a:lnTo>
                      <a:lnTo>
                        <a:pt x="779" y="93"/>
                      </a:lnTo>
                      <a:lnTo>
                        <a:pt x="805" y="89"/>
                      </a:lnTo>
                      <a:lnTo>
                        <a:pt x="832" y="85"/>
                      </a:lnTo>
                      <a:lnTo>
                        <a:pt x="858" y="84"/>
                      </a:lnTo>
                      <a:lnTo>
                        <a:pt x="886" y="83"/>
                      </a:lnTo>
                      <a:lnTo>
                        <a:pt x="895" y="83"/>
                      </a:lnTo>
                      <a:lnTo>
                        <a:pt x="904" y="83"/>
                      </a:lnTo>
                      <a:lnTo>
                        <a:pt x="914" y="83"/>
                      </a:lnTo>
                      <a:lnTo>
                        <a:pt x="923" y="84"/>
                      </a:lnTo>
                      <a:lnTo>
                        <a:pt x="932" y="84"/>
                      </a:lnTo>
                      <a:lnTo>
                        <a:pt x="941" y="85"/>
                      </a:lnTo>
                      <a:lnTo>
                        <a:pt x="949" y="86"/>
                      </a:lnTo>
                      <a:lnTo>
                        <a:pt x="959" y="88"/>
                      </a:lnTo>
                      <a:lnTo>
                        <a:pt x="959" y="524"/>
                      </a:lnTo>
                      <a:lnTo>
                        <a:pt x="949" y="523"/>
                      </a:lnTo>
                      <a:lnTo>
                        <a:pt x="941" y="522"/>
                      </a:lnTo>
                      <a:lnTo>
                        <a:pt x="932" y="521"/>
                      </a:lnTo>
                      <a:lnTo>
                        <a:pt x="923" y="521"/>
                      </a:lnTo>
                      <a:lnTo>
                        <a:pt x="914" y="520"/>
                      </a:lnTo>
                      <a:lnTo>
                        <a:pt x="904" y="520"/>
                      </a:lnTo>
                      <a:lnTo>
                        <a:pt x="895" y="520"/>
                      </a:lnTo>
                      <a:lnTo>
                        <a:pt x="886" y="520"/>
                      </a:lnTo>
                      <a:lnTo>
                        <a:pt x="873" y="520"/>
                      </a:lnTo>
                      <a:lnTo>
                        <a:pt x="861" y="520"/>
                      </a:lnTo>
                      <a:lnTo>
                        <a:pt x="848" y="521"/>
                      </a:lnTo>
                      <a:lnTo>
                        <a:pt x="835" y="522"/>
                      </a:lnTo>
                      <a:lnTo>
                        <a:pt x="823" y="523"/>
                      </a:lnTo>
                      <a:lnTo>
                        <a:pt x="810" y="524"/>
                      </a:lnTo>
                      <a:lnTo>
                        <a:pt x="798" y="525"/>
                      </a:lnTo>
                      <a:lnTo>
                        <a:pt x="786" y="528"/>
                      </a:lnTo>
                      <a:lnTo>
                        <a:pt x="791" y="536"/>
                      </a:lnTo>
                      <a:lnTo>
                        <a:pt x="796" y="545"/>
                      </a:lnTo>
                      <a:lnTo>
                        <a:pt x="802" y="554"/>
                      </a:lnTo>
                      <a:lnTo>
                        <a:pt x="808" y="563"/>
                      </a:lnTo>
                      <a:lnTo>
                        <a:pt x="813" y="574"/>
                      </a:lnTo>
                      <a:lnTo>
                        <a:pt x="819" y="584"/>
                      </a:lnTo>
                      <a:lnTo>
                        <a:pt x="825" y="594"/>
                      </a:lnTo>
                      <a:lnTo>
                        <a:pt x="832" y="605"/>
                      </a:lnTo>
                      <a:lnTo>
                        <a:pt x="848" y="604"/>
                      </a:lnTo>
                      <a:lnTo>
                        <a:pt x="863" y="602"/>
                      </a:lnTo>
                      <a:lnTo>
                        <a:pt x="879" y="602"/>
                      </a:lnTo>
                      <a:lnTo>
                        <a:pt x="895" y="602"/>
                      </a:lnTo>
                      <a:lnTo>
                        <a:pt x="911" y="602"/>
                      </a:lnTo>
                      <a:lnTo>
                        <a:pt x="927" y="604"/>
                      </a:lnTo>
                      <a:lnTo>
                        <a:pt x="942" y="605"/>
                      </a:lnTo>
                      <a:lnTo>
                        <a:pt x="959" y="607"/>
                      </a:lnTo>
                      <a:lnTo>
                        <a:pt x="959" y="642"/>
                      </a:lnTo>
                      <a:lnTo>
                        <a:pt x="949" y="640"/>
                      </a:lnTo>
                      <a:lnTo>
                        <a:pt x="941" y="640"/>
                      </a:lnTo>
                      <a:lnTo>
                        <a:pt x="932" y="639"/>
                      </a:lnTo>
                      <a:lnTo>
                        <a:pt x="923" y="639"/>
                      </a:lnTo>
                      <a:lnTo>
                        <a:pt x="914" y="638"/>
                      </a:lnTo>
                      <a:lnTo>
                        <a:pt x="904" y="638"/>
                      </a:lnTo>
                      <a:lnTo>
                        <a:pt x="895" y="638"/>
                      </a:lnTo>
                      <a:lnTo>
                        <a:pt x="886" y="638"/>
                      </a:lnTo>
                      <a:lnTo>
                        <a:pt x="878" y="638"/>
                      </a:lnTo>
                      <a:lnTo>
                        <a:pt x="870" y="638"/>
                      </a:lnTo>
                      <a:lnTo>
                        <a:pt x="861" y="638"/>
                      </a:lnTo>
                      <a:lnTo>
                        <a:pt x="853" y="639"/>
                      </a:lnTo>
                      <a:lnTo>
                        <a:pt x="858" y="650"/>
                      </a:lnTo>
                      <a:lnTo>
                        <a:pt x="865" y="660"/>
                      </a:lnTo>
                      <a:lnTo>
                        <a:pt x="871" y="670"/>
                      </a:lnTo>
                      <a:lnTo>
                        <a:pt x="877" y="681"/>
                      </a:lnTo>
                      <a:lnTo>
                        <a:pt x="882" y="691"/>
                      </a:lnTo>
                      <a:lnTo>
                        <a:pt x="889" y="702"/>
                      </a:lnTo>
                      <a:lnTo>
                        <a:pt x="895" y="711"/>
                      </a:lnTo>
                      <a:lnTo>
                        <a:pt x="901" y="721"/>
                      </a:lnTo>
                      <a:lnTo>
                        <a:pt x="912" y="721"/>
                      </a:lnTo>
                      <a:lnTo>
                        <a:pt x="924" y="722"/>
                      </a:lnTo>
                      <a:lnTo>
                        <a:pt x="935" y="723"/>
                      </a:lnTo>
                      <a:lnTo>
                        <a:pt x="947" y="723"/>
                      </a:lnTo>
                      <a:lnTo>
                        <a:pt x="959" y="726"/>
                      </a:lnTo>
                      <a:lnTo>
                        <a:pt x="970" y="727"/>
                      </a:lnTo>
                      <a:lnTo>
                        <a:pt x="982" y="728"/>
                      </a:lnTo>
                      <a:lnTo>
                        <a:pt x="992" y="730"/>
                      </a:lnTo>
                      <a:lnTo>
                        <a:pt x="1041" y="741"/>
                      </a:lnTo>
                      <a:lnTo>
                        <a:pt x="1041" y="18"/>
                      </a:lnTo>
                      <a:lnTo>
                        <a:pt x="100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2560" y="1958760"/>
                  <a:ext cx="117720" cy="82800"/>
                </a:xfrm>
                <a:custGeom>
                  <a:avLst/>
                  <a:gdLst/>
                  <a:ahLst/>
                  <a:rect l="l" t="t" r="r" b="b"/>
                  <a:pathLst>
                    <a:path w="114" h="87">
                      <a:moveTo>
                        <a:pt x="33" y="0"/>
                      </a:moveTo>
                      <a:lnTo>
                        <a:pt x="0" y="85"/>
                      </a:lnTo>
                      <a:lnTo>
                        <a:pt x="14" y="84"/>
                      </a:lnTo>
                      <a:lnTo>
                        <a:pt x="29" y="83"/>
                      </a:lnTo>
                      <a:lnTo>
                        <a:pt x="42" y="83"/>
                      </a:lnTo>
                      <a:lnTo>
                        <a:pt x="57" y="83"/>
                      </a:lnTo>
                      <a:lnTo>
                        <a:pt x="71" y="83"/>
                      </a:lnTo>
                      <a:lnTo>
                        <a:pt x="86" y="84"/>
                      </a:lnTo>
                      <a:lnTo>
                        <a:pt x="100" y="85"/>
                      </a:lnTo>
                      <a:lnTo>
                        <a:pt x="114" y="87"/>
                      </a:lnTo>
                      <a:lnTo>
                        <a:pt x="108" y="4"/>
                      </a:lnTo>
                      <a:lnTo>
                        <a:pt x="99" y="2"/>
                      </a:lnTo>
                      <a:lnTo>
                        <a:pt x="90" y="2"/>
                      </a:lnTo>
                      <a:lnTo>
                        <a:pt x="80" y="1"/>
                      </a:lnTo>
                      <a:lnTo>
                        <a:pt x="71" y="1"/>
                      </a:lnTo>
                      <a:lnTo>
                        <a:pt x="62" y="0"/>
                      </a:ln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227960" y="1960560"/>
                  <a:ext cx="99360" cy="81000"/>
                </a:xfrm>
                <a:custGeom>
                  <a:avLst/>
                  <a:gdLst/>
                  <a:ahLst/>
                  <a:rect l="l" t="t" r="r" b="b"/>
                  <a:pathLst>
                    <a:path w="97" h="84">
                      <a:moveTo>
                        <a:pt x="0" y="5"/>
                      </a:moveTo>
                      <a:lnTo>
                        <a:pt x="24" y="84"/>
                      </a:lnTo>
                      <a:lnTo>
                        <a:pt x="34" y="83"/>
                      </a:lnTo>
                      <a:lnTo>
                        <a:pt x="43" y="83"/>
                      </a:lnTo>
                      <a:lnTo>
                        <a:pt x="52" y="82"/>
                      </a:lnTo>
                      <a:lnTo>
                        <a:pt x="61" y="82"/>
                      </a:lnTo>
                      <a:lnTo>
                        <a:pt x="69" y="82"/>
                      </a:lnTo>
                      <a:lnTo>
                        <a:pt x="78" y="82"/>
                      </a:lnTo>
                      <a:lnTo>
                        <a:pt x="88" y="82"/>
                      </a:lnTo>
                      <a:lnTo>
                        <a:pt x="97" y="82"/>
                      </a:lnTo>
                      <a:lnTo>
                        <a:pt x="91" y="72"/>
                      </a:lnTo>
                      <a:lnTo>
                        <a:pt x="85" y="63"/>
                      </a:lnTo>
                      <a:lnTo>
                        <a:pt x="78" y="52"/>
                      </a:lnTo>
                      <a:lnTo>
                        <a:pt x="73" y="42"/>
                      </a:lnTo>
                      <a:lnTo>
                        <a:pt x="67" y="31"/>
                      </a:lnTo>
                      <a:lnTo>
                        <a:pt x="61" y="21"/>
                      </a:lnTo>
                      <a:lnTo>
                        <a:pt x="54" y="11"/>
                      </a:lnTo>
                      <a:lnTo>
                        <a:pt x="49" y="0"/>
                      </a:lnTo>
                      <a:lnTo>
                        <a:pt x="43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3" y="4"/>
                      </a:lnTo>
                      <a:lnTo>
                        <a:pt x="6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08400" y="1846440"/>
                  <a:ext cx="644040" cy="299520"/>
                </a:xfrm>
                <a:custGeom>
                  <a:avLst/>
                  <a:gdLst/>
                  <a:ahLst/>
                  <a:rect l="l" t="t" r="r" b="b"/>
                  <a:pathLst>
                    <a:path w="622" h="311">
                      <a:moveTo>
                        <a:pt x="355" y="215"/>
                      </a:moveTo>
                      <a:lnTo>
                        <a:pt x="363" y="204"/>
                      </a:lnTo>
                      <a:lnTo>
                        <a:pt x="372" y="192"/>
                      </a:lnTo>
                      <a:lnTo>
                        <a:pt x="382" y="182"/>
                      </a:lnTo>
                      <a:lnTo>
                        <a:pt x="393" y="171"/>
                      </a:lnTo>
                      <a:lnTo>
                        <a:pt x="406" y="162"/>
                      </a:lnTo>
                      <a:lnTo>
                        <a:pt x="418" y="152"/>
                      </a:lnTo>
                      <a:lnTo>
                        <a:pt x="432" y="144"/>
                      </a:lnTo>
                      <a:lnTo>
                        <a:pt x="447" y="135"/>
                      </a:lnTo>
                      <a:lnTo>
                        <a:pt x="462" y="128"/>
                      </a:lnTo>
                      <a:lnTo>
                        <a:pt x="478" y="120"/>
                      </a:lnTo>
                      <a:lnTo>
                        <a:pt x="496" y="113"/>
                      </a:lnTo>
                      <a:lnTo>
                        <a:pt x="513" y="107"/>
                      </a:lnTo>
                      <a:lnTo>
                        <a:pt x="530" y="101"/>
                      </a:lnTo>
                      <a:lnTo>
                        <a:pt x="550" y="97"/>
                      </a:lnTo>
                      <a:lnTo>
                        <a:pt x="568" y="92"/>
                      </a:lnTo>
                      <a:lnTo>
                        <a:pt x="588" y="89"/>
                      </a:lnTo>
                      <a:lnTo>
                        <a:pt x="564" y="8"/>
                      </a:lnTo>
                      <a:lnTo>
                        <a:pt x="544" y="11"/>
                      </a:lnTo>
                      <a:lnTo>
                        <a:pt x="526" y="16"/>
                      </a:lnTo>
                      <a:lnTo>
                        <a:pt x="507" y="22"/>
                      </a:lnTo>
                      <a:lnTo>
                        <a:pt x="489" y="27"/>
                      </a:lnTo>
                      <a:lnTo>
                        <a:pt x="471" y="33"/>
                      </a:lnTo>
                      <a:lnTo>
                        <a:pt x="454" y="40"/>
                      </a:lnTo>
                      <a:lnTo>
                        <a:pt x="437" y="47"/>
                      </a:lnTo>
                      <a:lnTo>
                        <a:pt x="421" y="55"/>
                      </a:lnTo>
                      <a:lnTo>
                        <a:pt x="406" y="63"/>
                      </a:lnTo>
                      <a:lnTo>
                        <a:pt x="390" y="72"/>
                      </a:lnTo>
                      <a:lnTo>
                        <a:pt x="376" y="82"/>
                      </a:lnTo>
                      <a:lnTo>
                        <a:pt x="362" y="91"/>
                      </a:lnTo>
                      <a:lnTo>
                        <a:pt x="349" y="101"/>
                      </a:lnTo>
                      <a:lnTo>
                        <a:pt x="337" y="112"/>
                      </a:lnTo>
                      <a:lnTo>
                        <a:pt x="325" y="122"/>
                      </a:lnTo>
                      <a:lnTo>
                        <a:pt x="314" y="133"/>
                      </a:lnTo>
                      <a:lnTo>
                        <a:pt x="301" y="120"/>
                      </a:lnTo>
                      <a:lnTo>
                        <a:pt x="286" y="107"/>
                      </a:lnTo>
                      <a:lnTo>
                        <a:pt x="271" y="94"/>
                      </a:lnTo>
                      <a:lnTo>
                        <a:pt x="255" y="83"/>
                      </a:lnTo>
                      <a:lnTo>
                        <a:pt x="238" y="72"/>
                      </a:lnTo>
                      <a:lnTo>
                        <a:pt x="219" y="62"/>
                      </a:lnTo>
                      <a:lnTo>
                        <a:pt x="201" y="52"/>
                      </a:lnTo>
                      <a:lnTo>
                        <a:pt x="181" y="42"/>
                      </a:lnTo>
                      <a:lnTo>
                        <a:pt x="160" y="34"/>
                      </a:lnTo>
                      <a:lnTo>
                        <a:pt x="138" y="27"/>
                      </a:lnTo>
                      <a:lnTo>
                        <a:pt x="117" y="21"/>
                      </a:lnTo>
                      <a:lnTo>
                        <a:pt x="95" y="15"/>
                      </a:lnTo>
                      <a:lnTo>
                        <a:pt x="72" y="10"/>
                      </a:lnTo>
                      <a:lnTo>
                        <a:pt x="49" y="6"/>
                      </a:lnTo>
                      <a:lnTo>
                        <a:pt x="24" y="2"/>
                      </a:lnTo>
                      <a:lnTo>
                        <a:pt x="0" y="0"/>
                      </a:lnTo>
                      <a:lnTo>
                        <a:pt x="6" y="83"/>
                      </a:lnTo>
                      <a:lnTo>
                        <a:pt x="28" y="85"/>
                      </a:lnTo>
                      <a:lnTo>
                        <a:pt x="50" y="90"/>
                      </a:lnTo>
                      <a:lnTo>
                        <a:pt x="72" y="94"/>
                      </a:lnTo>
                      <a:lnTo>
                        <a:pt x="92" y="99"/>
                      </a:lnTo>
                      <a:lnTo>
                        <a:pt x="112" y="105"/>
                      </a:lnTo>
                      <a:lnTo>
                        <a:pt x="132" y="112"/>
                      </a:lnTo>
                      <a:lnTo>
                        <a:pt x="150" y="120"/>
                      </a:lnTo>
                      <a:lnTo>
                        <a:pt x="168" y="128"/>
                      </a:lnTo>
                      <a:lnTo>
                        <a:pt x="185" y="137"/>
                      </a:lnTo>
                      <a:lnTo>
                        <a:pt x="201" y="146"/>
                      </a:lnTo>
                      <a:lnTo>
                        <a:pt x="216" y="157"/>
                      </a:lnTo>
                      <a:lnTo>
                        <a:pt x="229" y="167"/>
                      </a:lnTo>
                      <a:lnTo>
                        <a:pt x="242" y="178"/>
                      </a:lnTo>
                      <a:lnTo>
                        <a:pt x="254" y="190"/>
                      </a:lnTo>
                      <a:lnTo>
                        <a:pt x="264" y="203"/>
                      </a:lnTo>
                      <a:lnTo>
                        <a:pt x="273" y="215"/>
                      </a:lnTo>
                      <a:lnTo>
                        <a:pt x="261" y="206"/>
                      </a:lnTo>
                      <a:lnTo>
                        <a:pt x="247" y="197"/>
                      </a:lnTo>
                      <a:lnTo>
                        <a:pt x="233" y="188"/>
                      </a:lnTo>
                      <a:lnTo>
                        <a:pt x="218" y="180"/>
                      </a:lnTo>
                      <a:lnTo>
                        <a:pt x="203" y="171"/>
                      </a:lnTo>
                      <a:lnTo>
                        <a:pt x="187" y="165"/>
                      </a:lnTo>
                      <a:lnTo>
                        <a:pt x="171" y="158"/>
                      </a:lnTo>
                      <a:lnTo>
                        <a:pt x="155" y="152"/>
                      </a:lnTo>
                      <a:lnTo>
                        <a:pt x="137" y="146"/>
                      </a:lnTo>
                      <a:lnTo>
                        <a:pt x="120" y="140"/>
                      </a:lnTo>
                      <a:lnTo>
                        <a:pt x="102" y="136"/>
                      </a:lnTo>
                      <a:lnTo>
                        <a:pt x="83" y="131"/>
                      </a:lnTo>
                      <a:lnTo>
                        <a:pt x="65" y="128"/>
                      </a:lnTo>
                      <a:lnTo>
                        <a:pt x="46" y="124"/>
                      </a:lnTo>
                      <a:lnTo>
                        <a:pt x="27" y="122"/>
                      </a:lnTo>
                      <a:lnTo>
                        <a:pt x="7" y="120"/>
                      </a:lnTo>
                      <a:lnTo>
                        <a:pt x="13" y="203"/>
                      </a:lnTo>
                      <a:lnTo>
                        <a:pt x="32" y="205"/>
                      </a:lnTo>
                      <a:lnTo>
                        <a:pt x="51" y="208"/>
                      </a:lnTo>
                      <a:lnTo>
                        <a:pt x="69" y="213"/>
                      </a:lnTo>
                      <a:lnTo>
                        <a:pt x="88" y="216"/>
                      </a:lnTo>
                      <a:lnTo>
                        <a:pt x="105" y="222"/>
                      </a:lnTo>
                      <a:lnTo>
                        <a:pt x="122" y="228"/>
                      </a:lnTo>
                      <a:lnTo>
                        <a:pt x="140" y="234"/>
                      </a:lnTo>
                      <a:lnTo>
                        <a:pt x="156" y="241"/>
                      </a:lnTo>
                      <a:lnTo>
                        <a:pt x="171" y="248"/>
                      </a:lnTo>
                      <a:lnTo>
                        <a:pt x="186" y="256"/>
                      </a:lnTo>
                      <a:lnTo>
                        <a:pt x="200" y="264"/>
                      </a:lnTo>
                      <a:lnTo>
                        <a:pt x="212" y="272"/>
                      </a:lnTo>
                      <a:lnTo>
                        <a:pt x="225" y="281"/>
                      </a:lnTo>
                      <a:lnTo>
                        <a:pt x="236" y="290"/>
                      </a:lnTo>
                      <a:lnTo>
                        <a:pt x="247" y="301"/>
                      </a:lnTo>
                      <a:lnTo>
                        <a:pt x="256" y="311"/>
                      </a:lnTo>
                      <a:lnTo>
                        <a:pt x="372" y="311"/>
                      </a:lnTo>
                      <a:lnTo>
                        <a:pt x="383" y="301"/>
                      </a:lnTo>
                      <a:lnTo>
                        <a:pt x="393" y="290"/>
                      </a:lnTo>
                      <a:lnTo>
                        <a:pt x="405" y="281"/>
                      </a:lnTo>
                      <a:lnTo>
                        <a:pt x="417" y="271"/>
                      </a:lnTo>
                      <a:lnTo>
                        <a:pt x="431" y="262"/>
                      </a:lnTo>
                      <a:lnTo>
                        <a:pt x="445" y="254"/>
                      </a:lnTo>
                      <a:lnTo>
                        <a:pt x="460" y="246"/>
                      </a:lnTo>
                      <a:lnTo>
                        <a:pt x="476" y="238"/>
                      </a:lnTo>
                      <a:lnTo>
                        <a:pt x="492" y="233"/>
                      </a:lnTo>
                      <a:lnTo>
                        <a:pt x="509" y="226"/>
                      </a:lnTo>
                      <a:lnTo>
                        <a:pt x="528" y="220"/>
                      </a:lnTo>
                      <a:lnTo>
                        <a:pt x="545" y="215"/>
                      </a:lnTo>
                      <a:lnTo>
                        <a:pt x="564" y="211"/>
                      </a:lnTo>
                      <a:lnTo>
                        <a:pt x="583" y="207"/>
                      </a:lnTo>
                      <a:lnTo>
                        <a:pt x="603" y="204"/>
                      </a:lnTo>
                      <a:lnTo>
                        <a:pt x="622" y="201"/>
                      </a:lnTo>
                      <a:lnTo>
                        <a:pt x="598" y="122"/>
                      </a:lnTo>
                      <a:lnTo>
                        <a:pt x="581" y="124"/>
                      </a:lnTo>
                      <a:lnTo>
                        <a:pt x="564" y="128"/>
                      </a:lnTo>
                      <a:lnTo>
                        <a:pt x="546" y="131"/>
                      </a:lnTo>
                      <a:lnTo>
                        <a:pt x="529" y="135"/>
                      </a:lnTo>
                      <a:lnTo>
                        <a:pt x="513" y="139"/>
                      </a:lnTo>
                      <a:lnTo>
                        <a:pt x="496" y="144"/>
                      </a:lnTo>
                      <a:lnTo>
                        <a:pt x="481" y="150"/>
                      </a:lnTo>
                      <a:lnTo>
                        <a:pt x="465" y="154"/>
                      </a:lnTo>
                      <a:lnTo>
                        <a:pt x="450" y="161"/>
                      </a:lnTo>
                      <a:lnTo>
                        <a:pt x="435" y="168"/>
                      </a:lnTo>
                      <a:lnTo>
                        <a:pt x="420" y="175"/>
                      </a:lnTo>
                      <a:lnTo>
                        <a:pt x="406" y="182"/>
                      </a:lnTo>
                      <a:lnTo>
                        <a:pt x="392" y="190"/>
                      </a:lnTo>
                      <a:lnTo>
                        <a:pt x="379" y="198"/>
                      </a:lnTo>
                      <a:lnTo>
                        <a:pt x="367" y="206"/>
                      </a:lnTo>
                      <a:lnTo>
                        <a:pt x="355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395280" y="2852640"/>
                <a:ext cx="1081080" cy="1079640"/>
                <a:chOff x="395280" y="2852640"/>
                <a:chExt cx="1081080" cy="107964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503280" y="2852640"/>
                  <a:ext cx="865080" cy="576360"/>
                  <a:chOff x="503280" y="2852640"/>
                  <a:chExt cx="865080" cy="5763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503280" y="2852640"/>
                    <a:ext cx="865080" cy="576360"/>
                  </a:xfrm>
                  <a:prstGeom prst="rect">
                    <a:avLst/>
                  </a:prstGeom>
                  <a:noFill/>
                  <a:ln w="44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574560" y="2925720"/>
                    <a:ext cx="720720" cy="432000"/>
                  </a:xfrm>
                  <a:prstGeom prst="rect">
                    <a:avLst/>
                  </a:prstGeom>
                  <a:noFill/>
                  <a:ln w="44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" name=""/>
                <p:cNvSpPr/>
                <p:nvPr/>
              </p:nvSpPr>
              <p:spPr>
                <a:xfrm>
                  <a:off x="395280" y="3573360"/>
                  <a:ext cx="1081080" cy="358920"/>
                </a:xfrm>
                <a:prstGeom prst="rect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39640" y="371808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39640" y="378936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26920" y="342900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042920" y="342900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996840" y="3705120"/>
                  <a:ext cx="325440" cy="100080"/>
                  <a:chOff x="996840" y="3705120"/>
                  <a:chExt cx="325440" cy="1000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1220760" y="3705120"/>
                    <a:ext cx="101520" cy="10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996840" y="3705120"/>
                    <a:ext cx="101880" cy="10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" name=""/>
              <p:cNvSpPr/>
              <p:nvPr/>
            </p:nvSpPr>
            <p:spPr>
              <a:xfrm>
                <a:off x="1116000" y="4797360"/>
                <a:ext cx="504720" cy="647640"/>
              </a:xfrm>
              <a:prstGeom prst="flowChartMagneticDisk">
                <a:avLst/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252360" y="4797360"/>
                <a:ext cx="720720" cy="647640"/>
                <a:chOff x="252360" y="4797360"/>
                <a:chExt cx="720720" cy="6476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52360" y="4799160"/>
                  <a:ext cx="720720" cy="645840"/>
                </a:xfrm>
                <a:prstGeom prst="cube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17240" y="4964760"/>
                  <a:ext cx="0" cy="48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840" y="4964760"/>
                  <a:ext cx="0" cy="48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52360" y="5113800"/>
                  <a:ext cx="57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52360" y="5279760"/>
                  <a:ext cx="57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417240" y="4799160"/>
                  <a:ext cx="150120" cy="16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625680" y="4797360"/>
                  <a:ext cx="149760" cy="16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822960" y="4931640"/>
                  <a:ext cx="150120" cy="18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822960" y="5097240"/>
                  <a:ext cx="150120" cy="18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97840" y="4881960"/>
                  <a:ext cx="0" cy="480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26880" y="4881960"/>
                  <a:ext cx="570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16360" y="2205000"/>
                <a:ext cx="3024000" cy="2305080"/>
                <a:chOff x="2916360" y="2205000"/>
                <a:chExt cx="3024000" cy="23050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348000" y="2205000"/>
                  <a:ext cx="2592360" cy="1873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132000" y="2421000"/>
                  <a:ext cx="2592360" cy="187308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16360" y="2637000"/>
                  <a:ext cx="2592360" cy="187308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421080" y="285264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21080" y="357336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068720" y="3213000"/>
                  <a:ext cx="43200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00720" y="378936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4" name=""/>
                <p:cNvCxnSpPr>
                  <a:stCxn id="100" idx="3"/>
                  <a:endCxn id="102" idx="0"/>
                </p:cNvCxnSpPr>
                <p:nvPr/>
              </p:nvCxnSpPr>
              <p:spPr>
                <a:xfrm>
                  <a:off x="3871440" y="2997360"/>
                  <a:ext cx="413640" cy="19728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5" name=""/>
                <p:cNvCxnSpPr>
                  <a:stCxn id="102" idx="3"/>
                  <a:endCxn id="103" idx="0"/>
                </p:cNvCxnSpPr>
                <p:nvPr/>
              </p:nvCxnSpPr>
              <p:spPr>
                <a:xfrm>
                  <a:off x="4519080" y="3357720"/>
                  <a:ext cx="197640" cy="41328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106" name=""/>
                <p:cNvCxnSpPr>
                  <a:stCxn id="102" idx="2"/>
                  <a:endCxn id="101" idx="3"/>
                </p:cNvCxnSpPr>
                <p:nvPr/>
              </p:nvCxnSpPr>
              <p:spPr>
                <a:xfrm rot="5400000">
                  <a:off x="3978000" y="3412080"/>
                  <a:ext cx="199440" cy="41364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7" name=""/>
                <p:cNvCxnSpPr>
                  <a:stCxn id="101" idx="1"/>
                  <a:endCxn id="100" idx="1"/>
                </p:cNvCxnSpPr>
                <p:nvPr/>
              </p:nvCxnSpPr>
              <p:spPr>
                <a:xfrm flipH="1" rot="10800000">
                  <a:off x="3401640" y="2996640"/>
                  <a:ext cx="2160" cy="721440"/>
                </a:xfrm>
                <a:prstGeom prst="bentConnector3">
                  <a:avLst>
                    <a:gd name="adj1" fmla="val -13200000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8" name=""/>
                <p:cNvCxnSpPr>
                  <a:stCxn id="103" idx="2"/>
                  <a:endCxn id="101" idx="2"/>
                </p:cNvCxnSpPr>
                <p:nvPr/>
              </p:nvCxnSpPr>
              <p:spPr>
                <a:xfrm flipV="1" rot="16200000">
                  <a:off x="4068360" y="3447360"/>
                  <a:ext cx="216720" cy="1080000"/>
                </a:xfrm>
                <a:prstGeom prst="bentConnector3">
                  <a:avLst>
                    <a:gd name="adj1" fmla="val -96173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09" name=""/>
              <p:cNvSpPr/>
              <p:nvPr/>
            </p:nvSpPr>
            <p:spPr>
              <a:xfrm>
                <a:off x="1763640" y="3284640"/>
                <a:ext cx="792360" cy="215640"/>
              </a:xfrm>
              <a:prstGeom prst="rightArrow">
                <a:avLst>
                  <a:gd name="adj1" fmla="val 50000"/>
                  <a:gd name="adj2" fmla="val 9186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464200">
                <a:off x="1834920" y="1915920"/>
                <a:ext cx="792000" cy="215640"/>
              </a:xfrm>
              <a:prstGeom prst="rightArrow">
                <a:avLst>
                  <a:gd name="adj1" fmla="val 50000"/>
                  <a:gd name="adj2" fmla="val 9182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600">
                <a:off x="1835280" y="4723920"/>
                <a:ext cx="792000" cy="216000"/>
              </a:xfrm>
              <a:prstGeom prst="rightArrow">
                <a:avLst>
                  <a:gd name="adj1" fmla="val 50000"/>
                  <a:gd name="adj2" fmla="val 91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56360" y="321300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732720" y="2493720"/>
                <a:ext cx="21564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32720" y="3213000"/>
                <a:ext cx="28728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20000" y="350028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32720" y="3213000"/>
                <a:ext cx="215640" cy="10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948360" y="4220640"/>
                <a:ext cx="8636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48360" y="249228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80360" y="227664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3280" y="328464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12000" y="400536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12000" y="443700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812000" y="422100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812000" y="400536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3280" y="371628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23280" y="350028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3280" y="328464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80360" y="227664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80360" y="249228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0360" y="270828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0000" y="2276640"/>
                <a:ext cx="154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blic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9640" y="4076640"/>
                <a:ext cx="191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-silico 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1440" y="5661000"/>
                <a:ext cx="167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perimental 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17080" y="5157720"/>
                <a:ext cx="258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athway 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for all single speci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43960" y="5157720"/>
                <a:ext cx="2678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axonomy 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NCBI 300,000 speci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708280"/>
                <a:ext cx="58248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7093080" y="1413000"/>
            <a:ext cx="826920" cy="660240"/>
            <a:chOff x="7093080" y="1413000"/>
            <a:chExt cx="826920" cy="660240"/>
          </a:xfrm>
        </p:grpSpPr>
        <p:sp>
          <p:nvSpPr>
            <p:cNvPr id="138" name=""/>
            <p:cNvSpPr/>
            <p:nvPr/>
          </p:nvSpPr>
          <p:spPr>
            <a:xfrm>
              <a:off x="7197840" y="1697040"/>
              <a:ext cx="253800" cy="921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12" y="79"/>
                  </a:moveTo>
                  <a:lnTo>
                    <a:pt x="312" y="79"/>
                  </a:lnTo>
                  <a:lnTo>
                    <a:pt x="297" y="69"/>
                  </a:lnTo>
                  <a:lnTo>
                    <a:pt x="282" y="60"/>
                  </a:lnTo>
                  <a:lnTo>
                    <a:pt x="265" y="52"/>
                  </a:lnTo>
                  <a:lnTo>
                    <a:pt x="249" y="45"/>
                  </a:lnTo>
                  <a:lnTo>
                    <a:pt x="232" y="38"/>
                  </a:lnTo>
                  <a:lnTo>
                    <a:pt x="215" y="31"/>
                  </a:lnTo>
                  <a:lnTo>
                    <a:pt x="196" y="26"/>
                  </a:lnTo>
                  <a:lnTo>
                    <a:pt x="179" y="20"/>
                  </a:lnTo>
                  <a:lnTo>
                    <a:pt x="159" y="15"/>
                  </a:lnTo>
                  <a:lnTo>
                    <a:pt x="141" y="12"/>
                  </a:lnTo>
                  <a:lnTo>
                    <a:pt x="121" y="8"/>
                  </a:lnTo>
                  <a:lnTo>
                    <a:pt x="102" y="5"/>
                  </a:lnTo>
                  <a:lnTo>
                    <a:pt x="82" y="4"/>
                  </a:lnTo>
                  <a:lnTo>
                    <a:pt x="62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40" y="42"/>
                  </a:lnTo>
                  <a:lnTo>
                    <a:pt x="58" y="43"/>
                  </a:lnTo>
                  <a:lnTo>
                    <a:pt x="78" y="44"/>
                  </a:lnTo>
                  <a:lnTo>
                    <a:pt x="96" y="46"/>
                  </a:lnTo>
                  <a:lnTo>
                    <a:pt x="113" y="50"/>
                  </a:lnTo>
                  <a:lnTo>
                    <a:pt x="132" y="52"/>
                  </a:lnTo>
                  <a:lnTo>
                    <a:pt x="149" y="57"/>
                  </a:lnTo>
                  <a:lnTo>
                    <a:pt x="166" y="60"/>
                  </a:lnTo>
                  <a:lnTo>
                    <a:pt x="184" y="66"/>
                  </a:lnTo>
                  <a:lnTo>
                    <a:pt x="200" y="71"/>
                  </a:lnTo>
                  <a:lnTo>
                    <a:pt x="216" y="76"/>
                  </a:lnTo>
                  <a:lnTo>
                    <a:pt x="232" y="83"/>
                  </a:lnTo>
                  <a:lnTo>
                    <a:pt x="247" y="90"/>
                  </a:lnTo>
                  <a:lnTo>
                    <a:pt x="262" y="97"/>
                  </a:lnTo>
                  <a:lnTo>
                    <a:pt x="276" y="105"/>
                  </a:lnTo>
                  <a:lnTo>
                    <a:pt x="290" y="113"/>
                  </a:lnTo>
                  <a:lnTo>
                    <a:pt x="297" y="115"/>
                  </a:lnTo>
                  <a:lnTo>
                    <a:pt x="305" y="115"/>
                  </a:lnTo>
                  <a:lnTo>
                    <a:pt x="312" y="113"/>
                  </a:lnTo>
                  <a:lnTo>
                    <a:pt x="317" y="107"/>
                  </a:lnTo>
                  <a:lnTo>
                    <a:pt x="321" y="99"/>
                  </a:lnTo>
                  <a:lnTo>
                    <a:pt x="321" y="91"/>
                  </a:lnTo>
                  <a:lnTo>
                    <a:pt x="317" y="84"/>
                  </a:lnTo>
                  <a:lnTo>
                    <a:pt x="3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7040" y="1581120"/>
              <a:ext cx="258840" cy="93600"/>
            </a:xfrm>
            <a:custGeom>
              <a:avLst/>
              <a:gdLst/>
              <a:ahLst/>
              <a:rect l="l" t="t" r="r" b="b"/>
              <a:pathLst>
                <a:path w="326" h="119">
                  <a:moveTo>
                    <a:pt x="32" y="115"/>
                  </a:moveTo>
                  <a:lnTo>
                    <a:pt x="32" y="115"/>
                  </a:lnTo>
                  <a:lnTo>
                    <a:pt x="46" y="107"/>
                  </a:lnTo>
                  <a:lnTo>
                    <a:pt x="59" y="98"/>
                  </a:lnTo>
                  <a:lnTo>
                    <a:pt x="73" y="91"/>
                  </a:lnTo>
                  <a:lnTo>
                    <a:pt x="89" y="84"/>
                  </a:lnTo>
                  <a:lnTo>
                    <a:pt x="104" y="77"/>
                  </a:lnTo>
                  <a:lnTo>
                    <a:pt x="122" y="71"/>
                  </a:lnTo>
                  <a:lnTo>
                    <a:pt x="138" y="66"/>
                  </a:lnTo>
                  <a:lnTo>
                    <a:pt x="155" y="61"/>
                  </a:lnTo>
                  <a:lnTo>
                    <a:pt x="174" y="56"/>
                  </a:lnTo>
                  <a:lnTo>
                    <a:pt x="191" y="52"/>
                  </a:lnTo>
                  <a:lnTo>
                    <a:pt x="209" y="49"/>
                  </a:lnTo>
                  <a:lnTo>
                    <a:pt x="228" y="46"/>
                  </a:lnTo>
                  <a:lnTo>
                    <a:pt x="247" y="44"/>
                  </a:lnTo>
                  <a:lnTo>
                    <a:pt x="266" y="43"/>
                  </a:lnTo>
                  <a:lnTo>
                    <a:pt x="285" y="41"/>
                  </a:lnTo>
                  <a:lnTo>
                    <a:pt x="305" y="41"/>
                  </a:lnTo>
                  <a:lnTo>
                    <a:pt x="313" y="40"/>
                  </a:lnTo>
                  <a:lnTo>
                    <a:pt x="320" y="36"/>
                  </a:lnTo>
                  <a:lnTo>
                    <a:pt x="324" y="29"/>
                  </a:lnTo>
                  <a:lnTo>
                    <a:pt x="326" y="21"/>
                  </a:lnTo>
                  <a:lnTo>
                    <a:pt x="324" y="13"/>
                  </a:lnTo>
                  <a:lnTo>
                    <a:pt x="320" y="6"/>
                  </a:lnTo>
                  <a:lnTo>
                    <a:pt x="313" y="1"/>
                  </a:lnTo>
                  <a:lnTo>
                    <a:pt x="305" y="0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3" y="3"/>
                  </a:lnTo>
                  <a:lnTo>
                    <a:pt x="222" y="6"/>
                  </a:lnTo>
                  <a:lnTo>
                    <a:pt x="202" y="8"/>
                  </a:lnTo>
                  <a:lnTo>
                    <a:pt x="182" y="13"/>
                  </a:lnTo>
                  <a:lnTo>
                    <a:pt x="162" y="16"/>
                  </a:lnTo>
                  <a:lnTo>
                    <a:pt x="144" y="22"/>
                  </a:lnTo>
                  <a:lnTo>
                    <a:pt x="124" y="26"/>
                  </a:lnTo>
                  <a:lnTo>
                    <a:pt x="107" y="33"/>
                  </a:lnTo>
                  <a:lnTo>
                    <a:pt x="88" y="40"/>
                  </a:lnTo>
                  <a:lnTo>
                    <a:pt x="71" y="47"/>
                  </a:lnTo>
                  <a:lnTo>
                    <a:pt x="54" y="55"/>
                  </a:lnTo>
                  <a:lnTo>
                    <a:pt x="38" y="63"/>
                  </a:lnTo>
                  <a:lnTo>
                    <a:pt x="23" y="73"/>
                  </a:lnTo>
                  <a:lnTo>
                    <a:pt x="8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3" y="111"/>
                  </a:lnTo>
                  <a:lnTo>
                    <a:pt x="9" y="116"/>
                  </a:lnTo>
                  <a:lnTo>
                    <a:pt x="16" y="119"/>
                  </a:lnTo>
                  <a:lnTo>
                    <a:pt x="24" y="119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1720" y="1697040"/>
              <a:ext cx="254160" cy="921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00" y="0"/>
                  </a:moveTo>
                  <a:lnTo>
                    <a:pt x="279" y="0"/>
                  </a:lnTo>
                  <a:lnTo>
                    <a:pt x="258" y="1"/>
                  </a:lnTo>
                  <a:lnTo>
                    <a:pt x="239" y="4"/>
                  </a:lnTo>
                  <a:lnTo>
                    <a:pt x="219" y="5"/>
                  </a:lnTo>
                  <a:lnTo>
                    <a:pt x="200" y="8"/>
                  </a:lnTo>
                  <a:lnTo>
                    <a:pt x="180" y="12"/>
                  </a:lnTo>
                  <a:lnTo>
                    <a:pt x="160" y="15"/>
                  </a:lnTo>
                  <a:lnTo>
                    <a:pt x="142" y="20"/>
                  </a:lnTo>
                  <a:lnTo>
                    <a:pt x="124" y="26"/>
                  </a:lnTo>
                  <a:lnTo>
                    <a:pt x="106" y="31"/>
                  </a:lnTo>
                  <a:lnTo>
                    <a:pt x="89" y="38"/>
                  </a:lnTo>
                  <a:lnTo>
                    <a:pt x="72" y="45"/>
                  </a:lnTo>
                  <a:lnTo>
                    <a:pt x="56" y="52"/>
                  </a:lnTo>
                  <a:lnTo>
                    <a:pt x="40" y="60"/>
                  </a:lnTo>
                  <a:lnTo>
                    <a:pt x="25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4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7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5" y="115"/>
                  </a:lnTo>
                  <a:lnTo>
                    <a:pt x="31" y="113"/>
                  </a:lnTo>
                  <a:lnTo>
                    <a:pt x="45" y="105"/>
                  </a:lnTo>
                  <a:lnTo>
                    <a:pt x="59" y="97"/>
                  </a:lnTo>
                  <a:lnTo>
                    <a:pt x="74" y="90"/>
                  </a:lnTo>
                  <a:lnTo>
                    <a:pt x="89" y="83"/>
                  </a:lnTo>
                  <a:lnTo>
                    <a:pt x="105" y="76"/>
                  </a:lnTo>
                  <a:lnTo>
                    <a:pt x="121" y="71"/>
                  </a:lnTo>
                  <a:lnTo>
                    <a:pt x="137" y="66"/>
                  </a:lnTo>
                  <a:lnTo>
                    <a:pt x="155" y="60"/>
                  </a:lnTo>
                  <a:lnTo>
                    <a:pt x="172" y="57"/>
                  </a:lnTo>
                  <a:lnTo>
                    <a:pt x="189" y="52"/>
                  </a:lnTo>
                  <a:lnTo>
                    <a:pt x="208" y="50"/>
                  </a:lnTo>
                  <a:lnTo>
                    <a:pt x="225" y="46"/>
                  </a:lnTo>
                  <a:lnTo>
                    <a:pt x="243" y="44"/>
                  </a:lnTo>
                  <a:lnTo>
                    <a:pt x="263" y="43"/>
                  </a:lnTo>
                  <a:lnTo>
                    <a:pt x="281" y="42"/>
                  </a:lnTo>
                  <a:lnTo>
                    <a:pt x="300" y="42"/>
                  </a:lnTo>
                  <a:lnTo>
                    <a:pt x="308" y="41"/>
                  </a:lnTo>
                  <a:lnTo>
                    <a:pt x="315" y="36"/>
                  </a:lnTo>
                  <a:lnTo>
                    <a:pt x="319" y="29"/>
                  </a:lnTo>
                  <a:lnTo>
                    <a:pt x="321" y="21"/>
                  </a:lnTo>
                  <a:lnTo>
                    <a:pt x="319" y="13"/>
                  </a:lnTo>
                  <a:lnTo>
                    <a:pt x="315" y="6"/>
                  </a:lnTo>
                  <a:lnTo>
                    <a:pt x="308" y="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7840" y="1581120"/>
              <a:ext cx="258840" cy="93600"/>
            </a:xfrm>
            <a:custGeom>
              <a:avLst/>
              <a:gdLst/>
              <a:ahLst/>
              <a:rect l="l" t="t" r="r" b="b"/>
              <a:pathLst>
                <a:path w="327" h="119">
                  <a:moveTo>
                    <a:pt x="21" y="41"/>
                  </a:moveTo>
                  <a:lnTo>
                    <a:pt x="41" y="41"/>
                  </a:lnTo>
                  <a:lnTo>
                    <a:pt x="60" y="43"/>
                  </a:lnTo>
                  <a:lnTo>
                    <a:pt x="79" y="44"/>
                  </a:lnTo>
                  <a:lnTo>
                    <a:pt x="97" y="46"/>
                  </a:lnTo>
                  <a:lnTo>
                    <a:pt x="117" y="49"/>
                  </a:lnTo>
                  <a:lnTo>
                    <a:pt x="134" y="52"/>
                  </a:lnTo>
                  <a:lnTo>
                    <a:pt x="153" y="56"/>
                  </a:lnTo>
                  <a:lnTo>
                    <a:pt x="170" y="61"/>
                  </a:lnTo>
                  <a:lnTo>
                    <a:pt x="187" y="66"/>
                  </a:lnTo>
                  <a:lnTo>
                    <a:pt x="204" y="71"/>
                  </a:lnTo>
                  <a:lnTo>
                    <a:pt x="221" y="77"/>
                  </a:lnTo>
                  <a:lnTo>
                    <a:pt x="237" y="84"/>
                  </a:lnTo>
                  <a:lnTo>
                    <a:pt x="252" y="91"/>
                  </a:lnTo>
                  <a:lnTo>
                    <a:pt x="267" y="98"/>
                  </a:lnTo>
                  <a:lnTo>
                    <a:pt x="280" y="107"/>
                  </a:lnTo>
                  <a:lnTo>
                    <a:pt x="294" y="115"/>
                  </a:lnTo>
                  <a:lnTo>
                    <a:pt x="302" y="119"/>
                  </a:lnTo>
                  <a:lnTo>
                    <a:pt x="310" y="119"/>
                  </a:lnTo>
                  <a:lnTo>
                    <a:pt x="317" y="116"/>
                  </a:lnTo>
                  <a:lnTo>
                    <a:pt x="323" y="111"/>
                  </a:lnTo>
                  <a:lnTo>
                    <a:pt x="327" y="102"/>
                  </a:lnTo>
                  <a:lnTo>
                    <a:pt x="327" y="94"/>
                  </a:lnTo>
                  <a:lnTo>
                    <a:pt x="323" y="88"/>
                  </a:lnTo>
                  <a:lnTo>
                    <a:pt x="317" y="82"/>
                  </a:lnTo>
                  <a:lnTo>
                    <a:pt x="302" y="73"/>
                  </a:lnTo>
                  <a:lnTo>
                    <a:pt x="287" y="63"/>
                  </a:lnTo>
                  <a:lnTo>
                    <a:pt x="271" y="55"/>
                  </a:lnTo>
                  <a:lnTo>
                    <a:pt x="255" y="47"/>
                  </a:lnTo>
                  <a:lnTo>
                    <a:pt x="238" y="40"/>
                  </a:lnTo>
                  <a:lnTo>
                    <a:pt x="219" y="33"/>
                  </a:lnTo>
                  <a:lnTo>
                    <a:pt x="201" y="26"/>
                  </a:lnTo>
                  <a:lnTo>
                    <a:pt x="183" y="22"/>
                  </a:lnTo>
                  <a:lnTo>
                    <a:pt x="163" y="16"/>
                  </a:lnTo>
                  <a:lnTo>
                    <a:pt x="144" y="13"/>
                  </a:lnTo>
                  <a:lnTo>
                    <a:pt x="124" y="8"/>
                  </a:lnTo>
                  <a:lnTo>
                    <a:pt x="104" y="6"/>
                  </a:lnTo>
                  <a:lnTo>
                    <a:pt x="83" y="3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04360" y="1832040"/>
              <a:ext cx="48960" cy="6516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4" y="83"/>
                  </a:moveTo>
                  <a:lnTo>
                    <a:pt x="28" y="81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79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55" y="66"/>
                  </a:lnTo>
                  <a:lnTo>
                    <a:pt x="49" y="56"/>
                  </a:lnTo>
                  <a:lnTo>
                    <a:pt x="43" y="46"/>
                  </a:lnTo>
                  <a:lnTo>
                    <a:pt x="38" y="35"/>
                  </a:lnTo>
                  <a:lnTo>
                    <a:pt x="32" y="26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4" y="1"/>
                  </a:lnTo>
                  <a:lnTo>
                    <a:pt x="0" y="2"/>
                  </a:lnTo>
                  <a:lnTo>
                    <a:pt x="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13680" y="1825560"/>
              <a:ext cx="47520" cy="669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84"/>
                  </a:moveTo>
                  <a:lnTo>
                    <a:pt x="54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93080" y="1413000"/>
              <a:ext cx="826920" cy="587160"/>
            </a:xfrm>
            <a:custGeom>
              <a:avLst/>
              <a:gdLst/>
              <a:ahLst/>
              <a:rect l="l" t="t" r="r" b="b"/>
              <a:pathLst>
                <a:path w="1041" h="741">
                  <a:moveTo>
                    <a:pt x="1008" y="12"/>
                  </a:moveTo>
                  <a:lnTo>
                    <a:pt x="993" y="9"/>
                  </a:lnTo>
                  <a:lnTo>
                    <a:pt x="978" y="6"/>
                  </a:lnTo>
                  <a:lnTo>
                    <a:pt x="963" y="5"/>
                  </a:lnTo>
                  <a:lnTo>
                    <a:pt x="948" y="2"/>
                  </a:lnTo>
                  <a:lnTo>
                    <a:pt x="932" y="1"/>
                  </a:lnTo>
                  <a:lnTo>
                    <a:pt x="917" y="1"/>
                  </a:lnTo>
                  <a:lnTo>
                    <a:pt x="901" y="0"/>
                  </a:lnTo>
                  <a:lnTo>
                    <a:pt x="886" y="0"/>
                  </a:lnTo>
                  <a:lnTo>
                    <a:pt x="858" y="1"/>
                  </a:lnTo>
                  <a:lnTo>
                    <a:pt x="830" y="2"/>
                  </a:lnTo>
                  <a:lnTo>
                    <a:pt x="803" y="6"/>
                  </a:lnTo>
                  <a:lnTo>
                    <a:pt x="775" y="9"/>
                  </a:lnTo>
                  <a:lnTo>
                    <a:pt x="750" y="15"/>
                  </a:lnTo>
                  <a:lnTo>
                    <a:pt x="724" y="21"/>
                  </a:lnTo>
                  <a:lnTo>
                    <a:pt x="699" y="29"/>
                  </a:lnTo>
                  <a:lnTo>
                    <a:pt x="675" y="37"/>
                  </a:lnTo>
                  <a:lnTo>
                    <a:pt x="652" y="46"/>
                  </a:lnTo>
                  <a:lnTo>
                    <a:pt x="630" y="56"/>
                  </a:lnTo>
                  <a:lnTo>
                    <a:pt x="608" y="68"/>
                  </a:lnTo>
                  <a:lnTo>
                    <a:pt x="589" y="79"/>
                  </a:lnTo>
                  <a:lnTo>
                    <a:pt x="569" y="92"/>
                  </a:lnTo>
                  <a:lnTo>
                    <a:pt x="552" y="106"/>
                  </a:lnTo>
                  <a:lnTo>
                    <a:pt x="535" y="121"/>
                  </a:lnTo>
                  <a:lnTo>
                    <a:pt x="520" y="136"/>
                  </a:lnTo>
                  <a:lnTo>
                    <a:pt x="505" y="121"/>
                  </a:lnTo>
                  <a:lnTo>
                    <a:pt x="488" y="106"/>
                  </a:lnTo>
                  <a:lnTo>
                    <a:pt x="470" y="92"/>
                  </a:lnTo>
                  <a:lnTo>
                    <a:pt x="452" y="79"/>
                  </a:lnTo>
                  <a:lnTo>
                    <a:pt x="432" y="68"/>
                  </a:lnTo>
                  <a:lnTo>
                    <a:pt x="410" y="56"/>
                  </a:lnTo>
                  <a:lnTo>
                    <a:pt x="388" y="46"/>
                  </a:lnTo>
                  <a:lnTo>
                    <a:pt x="365" y="37"/>
                  </a:lnTo>
                  <a:lnTo>
                    <a:pt x="341" y="29"/>
                  </a:lnTo>
                  <a:lnTo>
                    <a:pt x="316" y="21"/>
                  </a:lnTo>
                  <a:lnTo>
                    <a:pt x="290" y="15"/>
                  </a:lnTo>
                  <a:lnTo>
                    <a:pt x="264" y="9"/>
                  </a:lnTo>
                  <a:lnTo>
                    <a:pt x="237" y="6"/>
                  </a:lnTo>
                  <a:lnTo>
                    <a:pt x="210" y="2"/>
                  </a:lnTo>
                  <a:lnTo>
                    <a:pt x="182" y="1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2" y="1"/>
                  </a:lnTo>
                  <a:lnTo>
                    <a:pt x="107" y="1"/>
                  </a:lnTo>
                  <a:lnTo>
                    <a:pt x="92" y="2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48" y="9"/>
                  </a:lnTo>
                  <a:lnTo>
                    <a:pt x="33" y="12"/>
                  </a:lnTo>
                  <a:lnTo>
                    <a:pt x="0" y="18"/>
                  </a:lnTo>
                  <a:lnTo>
                    <a:pt x="0" y="563"/>
                  </a:lnTo>
                  <a:lnTo>
                    <a:pt x="0" y="563"/>
                  </a:lnTo>
                  <a:lnTo>
                    <a:pt x="0" y="741"/>
                  </a:lnTo>
                  <a:lnTo>
                    <a:pt x="50" y="730"/>
                  </a:lnTo>
                  <a:lnTo>
                    <a:pt x="56" y="729"/>
                  </a:lnTo>
                  <a:lnTo>
                    <a:pt x="63" y="728"/>
                  </a:lnTo>
                  <a:lnTo>
                    <a:pt x="70" y="727"/>
                  </a:lnTo>
                  <a:lnTo>
                    <a:pt x="77" y="726"/>
                  </a:lnTo>
                  <a:lnTo>
                    <a:pt x="84" y="726"/>
                  </a:lnTo>
                  <a:lnTo>
                    <a:pt x="91" y="725"/>
                  </a:lnTo>
                  <a:lnTo>
                    <a:pt x="98" y="723"/>
                  </a:lnTo>
                  <a:lnTo>
                    <a:pt x="105" y="723"/>
                  </a:lnTo>
                  <a:lnTo>
                    <a:pt x="138" y="638"/>
                  </a:lnTo>
                  <a:lnTo>
                    <a:pt x="131" y="638"/>
                  </a:lnTo>
                  <a:lnTo>
                    <a:pt x="123" y="639"/>
                  </a:lnTo>
                  <a:lnTo>
                    <a:pt x="116" y="639"/>
                  </a:lnTo>
                  <a:lnTo>
                    <a:pt x="109" y="639"/>
                  </a:lnTo>
                  <a:lnTo>
                    <a:pt x="103" y="640"/>
                  </a:lnTo>
                  <a:lnTo>
                    <a:pt x="96" y="640"/>
                  </a:lnTo>
                  <a:lnTo>
                    <a:pt x="90" y="642"/>
                  </a:lnTo>
                  <a:lnTo>
                    <a:pt x="83" y="642"/>
                  </a:lnTo>
                  <a:lnTo>
                    <a:pt x="83" y="607"/>
                  </a:lnTo>
                  <a:lnTo>
                    <a:pt x="91" y="606"/>
                  </a:lnTo>
                  <a:lnTo>
                    <a:pt x="99" y="605"/>
                  </a:lnTo>
                  <a:lnTo>
                    <a:pt x="108" y="604"/>
                  </a:lnTo>
                  <a:lnTo>
                    <a:pt x="116" y="604"/>
                  </a:lnTo>
                  <a:lnTo>
                    <a:pt x="126" y="602"/>
                  </a:lnTo>
                  <a:lnTo>
                    <a:pt x="134" y="602"/>
                  </a:lnTo>
                  <a:lnTo>
                    <a:pt x="143" y="602"/>
                  </a:lnTo>
                  <a:lnTo>
                    <a:pt x="152" y="602"/>
                  </a:lnTo>
                  <a:lnTo>
                    <a:pt x="184" y="521"/>
                  </a:lnTo>
                  <a:lnTo>
                    <a:pt x="172" y="520"/>
                  </a:lnTo>
                  <a:lnTo>
                    <a:pt x="159" y="520"/>
                  </a:lnTo>
                  <a:lnTo>
                    <a:pt x="145" y="520"/>
                  </a:lnTo>
                  <a:lnTo>
                    <a:pt x="132" y="520"/>
                  </a:lnTo>
                  <a:lnTo>
                    <a:pt x="120" y="521"/>
                  </a:lnTo>
                  <a:lnTo>
                    <a:pt x="107" y="522"/>
                  </a:lnTo>
                  <a:lnTo>
                    <a:pt x="96" y="523"/>
                  </a:lnTo>
                  <a:lnTo>
                    <a:pt x="83" y="524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100" y="85"/>
                  </a:lnTo>
                  <a:lnTo>
                    <a:pt x="108" y="84"/>
                  </a:lnTo>
                  <a:lnTo>
                    <a:pt x="117" y="84"/>
                  </a:lnTo>
                  <a:lnTo>
                    <a:pt x="126" y="83"/>
                  </a:lnTo>
                  <a:lnTo>
                    <a:pt x="135" y="83"/>
                  </a:lnTo>
                  <a:lnTo>
                    <a:pt x="144" y="83"/>
                  </a:lnTo>
                  <a:lnTo>
                    <a:pt x="153" y="83"/>
                  </a:lnTo>
                  <a:lnTo>
                    <a:pt x="181" y="84"/>
                  </a:lnTo>
                  <a:lnTo>
                    <a:pt x="209" y="85"/>
                  </a:lnTo>
                  <a:lnTo>
                    <a:pt x="235" y="89"/>
                  </a:lnTo>
                  <a:lnTo>
                    <a:pt x="262" y="93"/>
                  </a:lnTo>
                  <a:lnTo>
                    <a:pt x="287" y="99"/>
                  </a:lnTo>
                  <a:lnTo>
                    <a:pt x="311" y="106"/>
                  </a:lnTo>
                  <a:lnTo>
                    <a:pt x="334" y="113"/>
                  </a:lnTo>
                  <a:lnTo>
                    <a:pt x="357" y="122"/>
                  </a:lnTo>
                  <a:lnTo>
                    <a:pt x="378" y="132"/>
                  </a:lnTo>
                  <a:lnTo>
                    <a:pt x="399" y="143"/>
                  </a:lnTo>
                  <a:lnTo>
                    <a:pt x="417" y="154"/>
                  </a:lnTo>
                  <a:lnTo>
                    <a:pt x="433" y="167"/>
                  </a:lnTo>
                  <a:lnTo>
                    <a:pt x="449" y="181"/>
                  </a:lnTo>
                  <a:lnTo>
                    <a:pt x="462" y="195"/>
                  </a:lnTo>
                  <a:lnTo>
                    <a:pt x="475" y="210"/>
                  </a:lnTo>
                  <a:lnTo>
                    <a:pt x="484" y="225"/>
                  </a:lnTo>
                  <a:lnTo>
                    <a:pt x="520" y="290"/>
                  </a:lnTo>
                  <a:lnTo>
                    <a:pt x="556" y="225"/>
                  </a:lnTo>
                  <a:lnTo>
                    <a:pt x="566" y="210"/>
                  </a:lnTo>
                  <a:lnTo>
                    <a:pt x="578" y="195"/>
                  </a:lnTo>
                  <a:lnTo>
                    <a:pt x="591" y="181"/>
                  </a:lnTo>
                  <a:lnTo>
                    <a:pt x="607" y="167"/>
                  </a:lnTo>
                  <a:lnTo>
                    <a:pt x="623" y="154"/>
                  </a:lnTo>
                  <a:lnTo>
                    <a:pt x="642" y="143"/>
                  </a:lnTo>
                  <a:lnTo>
                    <a:pt x="662" y="132"/>
                  </a:lnTo>
                  <a:lnTo>
                    <a:pt x="683" y="122"/>
                  </a:lnTo>
                  <a:lnTo>
                    <a:pt x="705" y="113"/>
                  </a:lnTo>
                  <a:lnTo>
                    <a:pt x="729" y="106"/>
                  </a:lnTo>
                  <a:lnTo>
                    <a:pt x="753" y="99"/>
                  </a:lnTo>
                  <a:lnTo>
                    <a:pt x="779" y="93"/>
                  </a:lnTo>
                  <a:lnTo>
                    <a:pt x="805" y="89"/>
                  </a:lnTo>
                  <a:lnTo>
                    <a:pt x="832" y="85"/>
                  </a:lnTo>
                  <a:lnTo>
                    <a:pt x="858" y="84"/>
                  </a:lnTo>
                  <a:lnTo>
                    <a:pt x="886" y="83"/>
                  </a:lnTo>
                  <a:lnTo>
                    <a:pt x="895" y="83"/>
                  </a:lnTo>
                  <a:lnTo>
                    <a:pt x="904" y="83"/>
                  </a:lnTo>
                  <a:lnTo>
                    <a:pt x="914" y="83"/>
                  </a:lnTo>
                  <a:lnTo>
                    <a:pt x="923" y="84"/>
                  </a:lnTo>
                  <a:lnTo>
                    <a:pt x="932" y="84"/>
                  </a:lnTo>
                  <a:lnTo>
                    <a:pt x="941" y="85"/>
                  </a:lnTo>
                  <a:lnTo>
                    <a:pt x="949" y="86"/>
                  </a:lnTo>
                  <a:lnTo>
                    <a:pt x="959" y="88"/>
                  </a:lnTo>
                  <a:lnTo>
                    <a:pt x="959" y="524"/>
                  </a:lnTo>
                  <a:lnTo>
                    <a:pt x="949" y="523"/>
                  </a:lnTo>
                  <a:lnTo>
                    <a:pt x="941" y="522"/>
                  </a:lnTo>
                  <a:lnTo>
                    <a:pt x="932" y="521"/>
                  </a:lnTo>
                  <a:lnTo>
                    <a:pt x="923" y="521"/>
                  </a:lnTo>
                  <a:lnTo>
                    <a:pt x="914" y="520"/>
                  </a:lnTo>
                  <a:lnTo>
                    <a:pt x="904" y="520"/>
                  </a:lnTo>
                  <a:lnTo>
                    <a:pt x="895" y="520"/>
                  </a:lnTo>
                  <a:lnTo>
                    <a:pt x="886" y="520"/>
                  </a:lnTo>
                  <a:lnTo>
                    <a:pt x="873" y="520"/>
                  </a:lnTo>
                  <a:lnTo>
                    <a:pt x="861" y="520"/>
                  </a:lnTo>
                  <a:lnTo>
                    <a:pt x="848" y="521"/>
                  </a:lnTo>
                  <a:lnTo>
                    <a:pt x="835" y="522"/>
                  </a:lnTo>
                  <a:lnTo>
                    <a:pt x="823" y="523"/>
                  </a:lnTo>
                  <a:lnTo>
                    <a:pt x="810" y="524"/>
                  </a:lnTo>
                  <a:lnTo>
                    <a:pt x="798" y="525"/>
                  </a:lnTo>
                  <a:lnTo>
                    <a:pt x="786" y="528"/>
                  </a:lnTo>
                  <a:lnTo>
                    <a:pt x="791" y="536"/>
                  </a:lnTo>
                  <a:lnTo>
                    <a:pt x="796" y="545"/>
                  </a:lnTo>
                  <a:lnTo>
                    <a:pt x="802" y="554"/>
                  </a:lnTo>
                  <a:lnTo>
                    <a:pt x="808" y="563"/>
                  </a:lnTo>
                  <a:lnTo>
                    <a:pt x="813" y="574"/>
                  </a:lnTo>
                  <a:lnTo>
                    <a:pt x="819" y="584"/>
                  </a:lnTo>
                  <a:lnTo>
                    <a:pt x="825" y="594"/>
                  </a:lnTo>
                  <a:lnTo>
                    <a:pt x="832" y="605"/>
                  </a:lnTo>
                  <a:lnTo>
                    <a:pt x="848" y="604"/>
                  </a:lnTo>
                  <a:lnTo>
                    <a:pt x="863" y="602"/>
                  </a:lnTo>
                  <a:lnTo>
                    <a:pt x="879" y="602"/>
                  </a:lnTo>
                  <a:lnTo>
                    <a:pt x="895" y="602"/>
                  </a:lnTo>
                  <a:lnTo>
                    <a:pt x="911" y="602"/>
                  </a:lnTo>
                  <a:lnTo>
                    <a:pt x="927" y="604"/>
                  </a:lnTo>
                  <a:lnTo>
                    <a:pt x="942" y="605"/>
                  </a:lnTo>
                  <a:lnTo>
                    <a:pt x="959" y="607"/>
                  </a:lnTo>
                  <a:lnTo>
                    <a:pt x="959" y="642"/>
                  </a:lnTo>
                  <a:lnTo>
                    <a:pt x="949" y="640"/>
                  </a:lnTo>
                  <a:lnTo>
                    <a:pt x="941" y="640"/>
                  </a:lnTo>
                  <a:lnTo>
                    <a:pt x="932" y="639"/>
                  </a:lnTo>
                  <a:lnTo>
                    <a:pt x="923" y="639"/>
                  </a:lnTo>
                  <a:lnTo>
                    <a:pt x="914" y="638"/>
                  </a:lnTo>
                  <a:lnTo>
                    <a:pt x="904" y="638"/>
                  </a:lnTo>
                  <a:lnTo>
                    <a:pt x="895" y="638"/>
                  </a:lnTo>
                  <a:lnTo>
                    <a:pt x="886" y="638"/>
                  </a:lnTo>
                  <a:lnTo>
                    <a:pt x="878" y="638"/>
                  </a:lnTo>
                  <a:lnTo>
                    <a:pt x="870" y="638"/>
                  </a:lnTo>
                  <a:lnTo>
                    <a:pt x="861" y="638"/>
                  </a:lnTo>
                  <a:lnTo>
                    <a:pt x="853" y="639"/>
                  </a:lnTo>
                  <a:lnTo>
                    <a:pt x="858" y="650"/>
                  </a:lnTo>
                  <a:lnTo>
                    <a:pt x="865" y="660"/>
                  </a:lnTo>
                  <a:lnTo>
                    <a:pt x="871" y="670"/>
                  </a:lnTo>
                  <a:lnTo>
                    <a:pt x="877" y="681"/>
                  </a:lnTo>
                  <a:lnTo>
                    <a:pt x="882" y="691"/>
                  </a:lnTo>
                  <a:lnTo>
                    <a:pt x="889" y="702"/>
                  </a:lnTo>
                  <a:lnTo>
                    <a:pt x="895" y="711"/>
                  </a:lnTo>
                  <a:lnTo>
                    <a:pt x="901" y="721"/>
                  </a:lnTo>
                  <a:lnTo>
                    <a:pt x="912" y="721"/>
                  </a:lnTo>
                  <a:lnTo>
                    <a:pt x="924" y="722"/>
                  </a:lnTo>
                  <a:lnTo>
                    <a:pt x="935" y="723"/>
                  </a:lnTo>
                  <a:lnTo>
                    <a:pt x="947" y="723"/>
                  </a:lnTo>
                  <a:lnTo>
                    <a:pt x="959" y="726"/>
                  </a:lnTo>
                  <a:lnTo>
                    <a:pt x="970" y="727"/>
                  </a:lnTo>
                  <a:lnTo>
                    <a:pt x="982" y="728"/>
                  </a:lnTo>
                  <a:lnTo>
                    <a:pt x="992" y="730"/>
                  </a:lnTo>
                  <a:lnTo>
                    <a:pt x="1041" y="741"/>
                  </a:lnTo>
                  <a:lnTo>
                    <a:pt x="1041" y="18"/>
                  </a:lnTo>
                  <a:lnTo>
                    <a:pt x="10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5520" y="1919520"/>
              <a:ext cx="90360" cy="6804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3" y="0"/>
                  </a:moveTo>
                  <a:lnTo>
                    <a:pt x="0" y="85"/>
                  </a:lnTo>
                  <a:lnTo>
                    <a:pt x="14" y="84"/>
                  </a:lnTo>
                  <a:lnTo>
                    <a:pt x="29" y="83"/>
                  </a:lnTo>
                  <a:lnTo>
                    <a:pt x="42" y="83"/>
                  </a:lnTo>
                  <a:lnTo>
                    <a:pt x="57" y="83"/>
                  </a:lnTo>
                  <a:lnTo>
                    <a:pt x="71" y="83"/>
                  </a:lnTo>
                  <a:lnTo>
                    <a:pt x="86" y="84"/>
                  </a:lnTo>
                  <a:lnTo>
                    <a:pt x="100" y="85"/>
                  </a:lnTo>
                  <a:lnTo>
                    <a:pt x="114" y="8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31000" y="1920960"/>
              <a:ext cx="76320" cy="666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5"/>
                  </a:moveTo>
                  <a:lnTo>
                    <a:pt x="24" y="84"/>
                  </a:lnTo>
                  <a:lnTo>
                    <a:pt x="34" y="83"/>
                  </a:lnTo>
                  <a:lnTo>
                    <a:pt x="43" y="83"/>
                  </a:lnTo>
                  <a:lnTo>
                    <a:pt x="52" y="82"/>
                  </a:lnTo>
                  <a:lnTo>
                    <a:pt x="61" y="82"/>
                  </a:lnTo>
                  <a:lnTo>
                    <a:pt x="69" y="82"/>
                  </a:lnTo>
                  <a:lnTo>
                    <a:pt x="78" y="82"/>
                  </a:lnTo>
                  <a:lnTo>
                    <a:pt x="88" y="82"/>
                  </a:lnTo>
                  <a:lnTo>
                    <a:pt x="97" y="82"/>
                  </a:lnTo>
                  <a:lnTo>
                    <a:pt x="91" y="72"/>
                  </a:lnTo>
                  <a:lnTo>
                    <a:pt x="85" y="63"/>
                  </a:lnTo>
                  <a:lnTo>
                    <a:pt x="78" y="52"/>
                  </a:lnTo>
                  <a:lnTo>
                    <a:pt x="73" y="42"/>
                  </a:lnTo>
                  <a:lnTo>
                    <a:pt x="67" y="31"/>
                  </a:lnTo>
                  <a:lnTo>
                    <a:pt x="61" y="21"/>
                  </a:lnTo>
                  <a:lnTo>
                    <a:pt x="54" y="1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56520" y="1827360"/>
              <a:ext cx="493560" cy="245880"/>
            </a:xfrm>
            <a:custGeom>
              <a:avLst/>
              <a:gdLst/>
              <a:ahLst/>
              <a:rect l="l" t="t" r="r" b="b"/>
              <a:pathLst>
                <a:path w="622" h="311">
                  <a:moveTo>
                    <a:pt x="355" y="215"/>
                  </a:moveTo>
                  <a:lnTo>
                    <a:pt x="363" y="204"/>
                  </a:lnTo>
                  <a:lnTo>
                    <a:pt x="372" y="192"/>
                  </a:lnTo>
                  <a:lnTo>
                    <a:pt x="382" y="182"/>
                  </a:lnTo>
                  <a:lnTo>
                    <a:pt x="393" y="171"/>
                  </a:lnTo>
                  <a:lnTo>
                    <a:pt x="406" y="162"/>
                  </a:lnTo>
                  <a:lnTo>
                    <a:pt x="418" y="152"/>
                  </a:lnTo>
                  <a:lnTo>
                    <a:pt x="432" y="144"/>
                  </a:lnTo>
                  <a:lnTo>
                    <a:pt x="447" y="135"/>
                  </a:lnTo>
                  <a:lnTo>
                    <a:pt x="462" y="128"/>
                  </a:lnTo>
                  <a:lnTo>
                    <a:pt x="478" y="120"/>
                  </a:lnTo>
                  <a:lnTo>
                    <a:pt x="496" y="113"/>
                  </a:lnTo>
                  <a:lnTo>
                    <a:pt x="513" y="107"/>
                  </a:lnTo>
                  <a:lnTo>
                    <a:pt x="530" y="101"/>
                  </a:lnTo>
                  <a:lnTo>
                    <a:pt x="550" y="97"/>
                  </a:lnTo>
                  <a:lnTo>
                    <a:pt x="568" y="92"/>
                  </a:lnTo>
                  <a:lnTo>
                    <a:pt x="588" y="89"/>
                  </a:lnTo>
                  <a:lnTo>
                    <a:pt x="564" y="8"/>
                  </a:lnTo>
                  <a:lnTo>
                    <a:pt x="544" y="11"/>
                  </a:lnTo>
                  <a:lnTo>
                    <a:pt x="526" y="16"/>
                  </a:lnTo>
                  <a:lnTo>
                    <a:pt x="507" y="22"/>
                  </a:lnTo>
                  <a:lnTo>
                    <a:pt x="489" y="27"/>
                  </a:lnTo>
                  <a:lnTo>
                    <a:pt x="471" y="33"/>
                  </a:lnTo>
                  <a:lnTo>
                    <a:pt x="454" y="40"/>
                  </a:lnTo>
                  <a:lnTo>
                    <a:pt x="437" y="47"/>
                  </a:lnTo>
                  <a:lnTo>
                    <a:pt x="421" y="55"/>
                  </a:lnTo>
                  <a:lnTo>
                    <a:pt x="406" y="63"/>
                  </a:lnTo>
                  <a:lnTo>
                    <a:pt x="390" y="72"/>
                  </a:lnTo>
                  <a:lnTo>
                    <a:pt x="376" y="82"/>
                  </a:lnTo>
                  <a:lnTo>
                    <a:pt x="362" y="91"/>
                  </a:lnTo>
                  <a:lnTo>
                    <a:pt x="349" y="101"/>
                  </a:lnTo>
                  <a:lnTo>
                    <a:pt x="337" y="112"/>
                  </a:lnTo>
                  <a:lnTo>
                    <a:pt x="325" y="122"/>
                  </a:lnTo>
                  <a:lnTo>
                    <a:pt x="314" y="133"/>
                  </a:lnTo>
                  <a:lnTo>
                    <a:pt x="301" y="120"/>
                  </a:lnTo>
                  <a:lnTo>
                    <a:pt x="286" y="107"/>
                  </a:lnTo>
                  <a:lnTo>
                    <a:pt x="271" y="94"/>
                  </a:lnTo>
                  <a:lnTo>
                    <a:pt x="255" y="83"/>
                  </a:lnTo>
                  <a:lnTo>
                    <a:pt x="238" y="72"/>
                  </a:lnTo>
                  <a:lnTo>
                    <a:pt x="219" y="62"/>
                  </a:lnTo>
                  <a:lnTo>
                    <a:pt x="201" y="52"/>
                  </a:lnTo>
                  <a:lnTo>
                    <a:pt x="181" y="42"/>
                  </a:lnTo>
                  <a:lnTo>
                    <a:pt x="160" y="34"/>
                  </a:lnTo>
                  <a:lnTo>
                    <a:pt x="138" y="27"/>
                  </a:lnTo>
                  <a:lnTo>
                    <a:pt x="117" y="21"/>
                  </a:lnTo>
                  <a:lnTo>
                    <a:pt x="95" y="15"/>
                  </a:lnTo>
                  <a:lnTo>
                    <a:pt x="72" y="10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6" y="83"/>
                  </a:lnTo>
                  <a:lnTo>
                    <a:pt x="28" y="85"/>
                  </a:lnTo>
                  <a:lnTo>
                    <a:pt x="50" y="90"/>
                  </a:lnTo>
                  <a:lnTo>
                    <a:pt x="72" y="94"/>
                  </a:lnTo>
                  <a:lnTo>
                    <a:pt x="92" y="99"/>
                  </a:lnTo>
                  <a:lnTo>
                    <a:pt x="112" y="105"/>
                  </a:lnTo>
                  <a:lnTo>
                    <a:pt x="132" y="112"/>
                  </a:lnTo>
                  <a:lnTo>
                    <a:pt x="150" y="120"/>
                  </a:lnTo>
                  <a:lnTo>
                    <a:pt x="168" y="128"/>
                  </a:lnTo>
                  <a:lnTo>
                    <a:pt x="185" y="137"/>
                  </a:lnTo>
                  <a:lnTo>
                    <a:pt x="201" y="146"/>
                  </a:lnTo>
                  <a:lnTo>
                    <a:pt x="216" y="157"/>
                  </a:lnTo>
                  <a:lnTo>
                    <a:pt x="229" y="167"/>
                  </a:lnTo>
                  <a:lnTo>
                    <a:pt x="242" y="178"/>
                  </a:lnTo>
                  <a:lnTo>
                    <a:pt x="254" y="190"/>
                  </a:lnTo>
                  <a:lnTo>
                    <a:pt x="264" y="203"/>
                  </a:lnTo>
                  <a:lnTo>
                    <a:pt x="273" y="215"/>
                  </a:lnTo>
                  <a:lnTo>
                    <a:pt x="261" y="206"/>
                  </a:lnTo>
                  <a:lnTo>
                    <a:pt x="247" y="197"/>
                  </a:lnTo>
                  <a:lnTo>
                    <a:pt x="233" y="188"/>
                  </a:lnTo>
                  <a:lnTo>
                    <a:pt x="218" y="180"/>
                  </a:lnTo>
                  <a:lnTo>
                    <a:pt x="203" y="171"/>
                  </a:lnTo>
                  <a:lnTo>
                    <a:pt x="187" y="165"/>
                  </a:lnTo>
                  <a:lnTo>
                    <a:pt x="171" y="158"/>
                  </a:lnTo>
                  <a:lnTo>
                    <a:pt x="155" y="152"/>
                  </a:lnTo>
                  <a:lnTo>
                    <a:pt x="137" y="146"/>
                  </a:lnTo>
                  <a:lnTo>
                    <a:pt x="120" y="140"/>
                  </a:lnTo>
                  <a:lnTo>
                    <a:pt x="102" y="136"/>
                  </a:lnTo>
                  <a:lnTo>
                    <a:pt x="83" y="131"/>
                  </a:lnTo>
                  <a:lnTo>
                    <a:pt x="65" y="128"/>
                  </a:lnTo>
                  <a:lnTo>
                    <a:pt x="46" y="124"/>
                  </a:lnTo>
                  <a:lnTo>
                    <a:pt x="27" y="122"/>
                  </a:lnTo>
                  <a:lnTo>
                    <a:pt x="7" y="120"/>
                  </a:lnTo>
                  <a:lnTo>
                    <a:pt x="13" y="203"/>
                  </a:lnTo>
                  <a:lnTo>
                    <a:pt x="32" y="205"/>
                  </a:lnTo>
                  <a:lnTo>
                    <a:pt x="51" y="208"/>
                  </a:lnTo>
                  <a:lnTo>
                    <a:pt x="69" y="213"/>
                  </a:lnTo>
                  <a:lnTo>
                    <a:pt x="88" y="216"/>
                  </a:lnTo>
                  <a:lnTo>
                    <a:pt x="105" y="222"/>
                  </a:lnTo>
                  <a:lnTo>
                    <a:pt x="122" y="228"/>
                  </a:lnTo>
                  <a:lnTo>
                    <a:pt x="140" y="234"/>
                  </a:lnTo>
                  <a:lnTo>
                    <a:pt x="156" y="241"/>
                  </a:lnTo>
                  <a:lnTo>
                    <a:pt x="171" y="248"/>
                  </a:lnTo>
                  <a:lnTo>
                    <a:pt x="186" y="256"/>
                  </a:lnTo>
                  <a:lnTo>
                    <a:pt x="200" y="264"/>
                  </a:lnTo>
                  <a:lnTo>
                    <a:pt x="212" y="272"/>
                  </a:lnTo>
                  <a:lnTo>
                    <a:pt x="225" y="281"/>
                  </a:lnTo>
                  <a:lnTo>
                    <a:pt x="236" y="290"/>
                  </a:lnTo>
                  <a:lnTo>
                    <a:pt x="247" y="301"/>
                  </a:lnTo>
                  <a:lnTo>
                    <a:pt x="256" y="311"/>
                  </a:lnTo>
                  <a:lnTo>
                    <a:pt x="372" y="311"/>
                  </a:lnTo>
                  <a:lnTo>
                    <a:pt x="383" y="301"/>
                  </a:lnTo>
                  <a:lnTo>
                    <a:pt x="393" y="290"/>
                  </a:lnTo>
                  <a:lnTo>
                    <a:pt x="405" y="281"/>
                  </a:lnTo>
                  <a:lnTo>
                    <a:pt x="417" y="271"/>
                  </a:lnTo>
                  <a:lnTo>
                    <a:pt x="431" y="262"/>
                  </a:lnTo>
                  <a:lnTo>
                    <a:pt x="445" y="254"/>
                  </a:lnTo>
                  <a:lnTo>
                    <a:pt x="460" y="246"/>
                  </a:lnTo>
                  <a:lnTo>
                    <a:pt x="476" y="238"/>
                  </a:lnTo>
                  <a:lnTo>
                    <a:pt x="492" y="233"/>
                  </a:lnTo>
                  <a:lnTo>
                    <a:pt x="509" y="226"/>
                  </a:lnTo>
                  <a:lnTo>
                    <a:pt x="528" y="220"/>
                  </a:lnTo>
                  <a:lnTo>
                    <a:pt x="545" y="215"/>
                  </a:lnTo>
                  <a:lnTo>
                    <a:pt x="564" y="211"/>
                  </a:lnTo>
                  <a:lnTo>
                    <a:pt x="583" y="207"/>
                  </a:lnTo>
                  <a:lnTo>
                    <a:pt x="603" y="204"/>
                  </a:lnTo>
                  <a:lnTo>
                    <a:pt x="622" y="201"/>
                  </a:lnTo>
                  <a:lnTo>
                    <a:pt x="598" y="122"/>
                  </a:lnTo>
                  <a:lnTo>
                    <a:pt x="581" y="124"/>
                  </a:lnTo>
                  <a:lnTo>
                    <a:pt x="564" y="128"/>
                  </a:lnTo>
                  <a:lnTo>
                    <a:pt x="546" y="131"/>
                  </a:lnTo>
                  <a:lnTo>
                    <a:pt x="529" y="135"/>
                  </a:lnTo>
                  <a:lnTo>
                    <a:pt x="513" y="139"/>
                  </a:lnTo>
                  <a:lnTo>
                    <a:pt x="496" y="144"/>
                  </a:lnTo>
                  <a:lnTo>
                    <a:pt x="481" y="150"/>
                  </a:lnTo>
                  <a:lnTo>
                    <a:pt x="465" y="154"/>
                  </a:lnTo>
                  <a:lnTo>
                    <a:pt x="450" y="161"/>
                  </a:lnTo>
                  <a:lnTo>
                    <a:pt x="435" y="168"/>
                  </a:lnTo>
                  <a:lnTo>
                    <a:pt x="420" y="175"/>
                  </a:lnTo>
                  <a:lnTo>
                    <a:pt x="406" y="182"/>
                  </a:lnTo>
                  <a:lnTo>
                    <a:pt x="392" y="190"/>
                  </a:lnTo>
                  <a:lnTo>
                    <a:pt x="379" y="198"/>
                  </a:lnTo>
                  <a:lnTo>
                    <a:pt x="367" y="206"/>
                  </a:lnTo>
                  <a:lnTo>
                    <a:pt x="35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716360" y="5589720"/>
            <a:ext cx="719280" cy="647640"/>
            <a:chOff x="4716360" y="5589720"/>
            <a:chExt cx="719280" cy="647640"/>
          </a:xfrm>
        </p:grpSpPr>
        <p:sp>
          <p:nvSpPr>
            <p:cNvPr id="149" name=""/>
            <p:cNvSpPr/>
            <p:nvPr/>
          </p:nvSpPr>
          <p:spPr>
            <a:xfrm>
              <a:off x="4716360" y="5589720"/>
              <a:ext cx="719280" cy="64764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80880" y="575568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0640" y="575568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6360" y="5905080"/>
              <a:ext cx="56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6360" y="6071400"/>
              <a:ext cx="56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68360" y="2700360"/>
            <a:ext cx="3456000" cy="2816280"/>
            <a:chOff x="468360" y="2700360"/>
            <a:chExt cx="3456000" cy="2816280"/>
          </a:xfrm>
        </p:grpSpPr>
        <p:sp>
          <p:nvSpPr>
            <p:cNvPr id="155" name=""/>
            <p:cNvSpPr/>
            <p:nvPr/>
          </p:nvSpPr>
          <p:spPr>
            <a:xfrm>
              <a:off x="468360" y="2708280"/>
              <a:ext cx="3456000" cy="280836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8920" y="342900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68360" y="342900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360" y="4076640"/>
              <a:ext cx="27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8360" y="4797360"/>
              <a:ext cx="27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258920" y="2708280"/>
              <a:ext cx="72072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259000" y="2700360"/>
              <a:ext cx="71928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203640" y="3284640"/>
              <a:ext cx="72072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203640" y="4005360"/>
              <a:ext cx="72072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64000" y="306864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3068640"/>
              <a:ext cx="27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1878120" cy="244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1184040" cy="158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692280"/>
            <a:ext cx="1224000" cy="86364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5920" y="1104840"/>
            <a:ext cx="263520" cy="324000"/>
          </a:xfrm>
          <a:custGeom>
            <a:avLst/>
            <a:gdLst/>
            <a:ahLst/>
            <a:rect l="l" t="t" r="r" b="b"/>
            <a:pathLst>
              <a:path w="330" h="406">
                <a:moveTo>
                  <a:pt x="327" y="11"/>
                </a:moveTo>
                <a:lnTo>
                  <a:pt x="323" y="8"/>
                </a:lnTo>
                <a:lnTo>
                  <a:pt x="320" y="4"/>
                </a:lnTo>
                <a:lnTo>
                  <a:pt x="315" y="2"/>
                </a:lnTo>
                <a:lnTo>
                  <a:pt x="311" y="1"/>
                </a:lnTo>
                <a:lnTo>
                  <a:pt x="306" y="0"/>
                </a:lnTo>
                <a:lnTo>
                  <a:pt x="302" y="1"/>
                </a:lnTo>
                <a:lnTo>
                  <a:pt x="297" y="2"/>
                </a:lnTo>
                <a:lnTo>
                  <a:pt x="292" y="4"/>
                </a:lnTo>
                <a:lnTo>
                  <a:pt x="279" y="16"/>
                </a:lnTo>
                <a:lnTo>
                  <a:pt x="268" y="31"/>
                </a:lnTo>
                <a:lnTo>
                  <a:pt x="262" y="47"/>
                </a:lnTo>
                <a:lnTo>
                  <a:pt x="260" y="65"/>
                </a:lnTo>
                <a:lnTo>
                  <a:pt x="260" y="76"/>
                </a:lnTo>
                <a:lnTo>
                  <a:pt x="260" y="101"/>
                </a:lnTo>
                <a:lnTo>
                  <a:pt x="260" y="137"/>
                </a:lnTo>
                <a:lnTo>
                  <a:pt x="260" y="176"/>
                </a:lnTo>
                <a:lnTo>
                  <a:pt x="71" y="176"/>
                </a:lnTo>
                <a:lnTo>
                  <a:pt x="71" y="63"/>
                </a:lnTo>
                <a:lnTo>
                  <a:pt x="69" y="46"/>
                </a:lnTo>
                <a:lnTo>
                  <a:pt x="62" y="30"/>
                </a:lnTo>
                <a:lnTo>
                  <a:pt x="53" y="16"/>
                </a:lnTo>
                <a:lnTo>
                  <a:pt x="39" y="4"/>
                </a:lnTo>
                <a:lnTo>
                  <a:pt x="34" y="2"/>
                </a:lnTo>
                <a:lnTo>
                  <a:pt x="30" y="1"/>
                </a:lnTo>
                <a:lnTo>
                  <a:pt x="25" y="0"/>
                </a:lnTo>
                <a:lnTo>
                  <a:pt x="19" y="1"/>
                </a:lnTo>
                <a:lnTo>
                  <a:pt x="15" y="2"/>
                </a:lnTo>
                <a:lnTo>
                  <a:pt x="10" y="4"/>
                </a:lnTo>
                <a:lnTo>
                  <a:pt x="7" y="8"/>
                </a:lnTo>
                <a:lnTo>
                  <a:pt x="3" y="11"/>
                </a:lnTo>
                <a:lnTo>
                  <a:pt x="0" y="20"/>
                </a:lnTo>
                <a:lnTo>
                  <a:pt x="0" y="30"/>
                </a:lnTo>
                <a:lnTo>
                  <a:pt x="3" y="39"/>
                </a:lnTo>
                <a:lnTo>
                  <a:pt x="10" y="46"/>
                </a:lnTo>
                <a:lnTo>
                  <a:pt x="14" y="48"/>
                </a:lnTo>
                <a:lnTo>
                  <a:pt x="17" y="53"/>
                </a:lnTo>
                <a:lnTo>
                  <a:pt x="19" y="57"/>
                </a:lnTo>
                <a:lnTo>
                  <a:pt x="21" y="63"/>
                </a:lnTo>
                <a:lnTo>
                  <a:pt x="21" y="250"/>
                </a:lnTo>
                <a:lnTo>
                  <a:pt x="19" y="250"/>
                </a:lnTo>
                <a:lnTo>
                  <a:pt x="19" y="365"/>
                </a:lnTo>
                <a:lnTo>
                  <a:pt x="21" y="365"/>
                </a:lnTo>
                <a:lnTo>
                  <a:pt x="21" y="365"/>
                </a:lnTo>
                <a:lnTo>
                  <a:pt x="21" y="365"/>
                </a:lnTo>
                <a:lnTo>
                  <a:pt x="21" y="366"/>
                </a:lnTo>
                <a:lnTo>
                  <a:pt x="21" y="366"/>
                </a:lnTo>
                <a:lnTo>
                  <a:pt x="22" y="374"/>
                </a:lnTo>
                <a:lnTo>
                  <a:pt x="24" y="381"/>
                </a:lnTo>
                <a:lnTo>
                  <a:pt x="28" y="388"/>
                </a:lnTo>
                <a:lnTo>
                  <a:pt x="32" y="395"/>
                </a:lnTo>
                <a:lnTo>
                  <a:pt x="38" y="400"/>
                </a:lnTo>
                <a:lnTo>
                  <a:pt x="45" y="403"/>
                </a:lnTo>
                <a:lnTo>
                  <a:pt x="52" y="405"/>
                </a:lnTo>
                <a:lnTo>
                  <a:pt x="60" y="406"/>
                </a:lnTo>
                <a:lnTo>
                  <a:pt x="271" y="406"/>
                </a:lnTo>
                <a:lnTo>
                  <a:pt x="279" y="405"/>
                </a:lnTo>
                <a:lnTo>
                  <a:pt x="285" y="403"/>
                </a:lnTo>
                <a:lnTo>
                  <a:pt x="292" y="400"/>
                </a:lnTo>
                <a:lnTo>
                  <a:pt x="298" y="395"/>
                </a:lnTo>
                <a:lnTo>
                  <a:pt x="303" y="388"/>
                </a:lnTo>
                <a:lnTo>
                  <a:pt x="306" y="381"/>
                </a:lnTo>
                <a:lnTo>
                  <a:pt x="309" y="374"/>
                </a:lnTo>
                <a:lnTo>
                  <a:pt x="310" y="366"/>
                </a:lnTo>
                <a:lnTo>
                  <a:pt x="310" y="366"/>
                </a:lnTo>
                <a:lnTo>
                  <a:pt x="310" y="365"/>
                </a:lnTo>
                <a:lnTo>
                  <a:pt x="310" y="365"/>
                </a:lnTo>
                <a:lnTo>
                  <a:pt x="310" y="365"/>
                </a:lnTo>
                <a:lnTo>
                  <a:pt x="311" y="365"/>
                </a:lnTo>
                <a:lnTo>
                  <a:pt x="311" y="250"/>
                </a:lnTo>
                <a:lnTo>
                  <a:pt x="310" y="250"/>
                </a:lnTo>
                <a:lnTo>
                  <a:pt x="310" y="203"/>
                </a:lnTo>
                <a:lnTo>
                  <a:pt x="310" y="141"/>
                </a:lnTo>
                <a:lnTo>
                  <a:pt x="310" y="88"/>
                </a:lnTo>
                <a:lnTo>
                  <a:pt x="310" y="65"/>
                </a:lnTo>
                <a:lnTo>
                  <a:pt x="311" y="60"/>
                </a:lnTo>
                <a:lnTo>
                  <a:pt x="313" y="54"/>
                </a:lnTo>
                <a:lnTo>
                  <a:pt x="315" y="49"/>
                </a:lnTo>
                <a:lnTo>
                  <a:pt x="320" y="46"/>
                </a:lnTo>
                <a:lnTo>
                  <a:pt x="327" y="39"/>
                </a:lnTo>
                <a:lnTo>
                  <a:pt x="330" y="30"/>
                </a:lnTo>
                <a:lnTo>
                  <a:pt x="330" y="20"/>
                </a:lnTo>
                <a:lnTo>
                  <a:pt x="327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907920"/>
            <a:ext cx="503280" cy="432000"/>
          </a:xfrm>
          <a:custGeom>
            <a:avLst/>
            <a:gdLst/>
            <a:ahLst/>
            <a:rect l="l" t="t" r="r" b="b"/>
            <a:pathLst>
              <a:path w="997" h="856">
                <a:moveTo>
                  <a:pt x="961" y="269"/>
                </a:moveTo>
                <a:lnTo>
                  <a:pt x="466" y="35"/>
                </a:lnTo>
                <a:lnTo>
                  <a:pt x="449" y="26"/>
                </a:lnTo>
                <a:lnTo>
                  <a:pt x="430" y="19"/>
                </a:lnTo>
                <a:lnTo>
                  <a:pt x="412" y="12"/>
                </a:lnTo>
                <a:lnTo>
                  <a:pt x="392" y="7"/>
                </a:lnTo>
                <a:lnTo>
                  <a:pt x="373" y="3"/>
                </a:lnTo>
                <a:lnTo>
                  <a:pt x="352" y="0"/>
                </a:lnTo>
                <a:lnTo>
                  <a:pt x="331" y="0"/>
                </a:lnTo>
                <a:lnTo>
                  <a:pt x="311" y="0"/>
                </a:lnTo>
                <a:lnTo>
                  <a:pt x="282" y="4"/>
                </a:lnTo>
                <a:lnTo>
                  <a:pt x="254" y="10"/>
                </a:lnTo>
                <a:lnTo>
                  <a:pt x="228" y="19"/>
                </a:lnTo>
                <a:lnTo>
                  <a:pt x="202" y="30"/>
                </a:lnTo>
                <a:lnTo>
                  <a:pt x="178" y="44"/>
                </a:lnTo>
                <a:lnTo>
                  <a:pt x="156" y="60"/>
                </a:lnTo>
                <a:lnTo>
                  <a:pt x="135" y="78"/>
                </a:lnTo>
                <a:lnTo>
                  <a:pt x="117" y="97"/>
                </a:lnTo>
                <a:lnTo>
                  <a:pt x="100" y="119"/>
                </a:lnTo>
                <a:lnTo>
                  <a:pt x="86" y="142"/>
                </a:lnTo>
                <a:lnTo>
                  <a:pt x="73" y="166"/>
                </a:lnTo>
                <a:lnTo>
                  <a:pt x="63" y="192"/>
                </a:lnTo>
                <a:lnTo>
                  <a:pt x="55" y="218"/>
                </a:lnTo>
                <a:lnTo>
                  <a:pt x="50" y="246"/>
                </a:lnTo>
                <a:lnTo>
                  <a:pt x="48" y="274"/>
                </a:lnTo>
                <a:lnTo>
                  <a:pt x="48" y="302"/>
                </a:lnTo>
                <a:lnTo>
                  <a:pt x="50" y="325"/>
                </a:lnTo>
                <a:lnTo>
                  <a:pt x="55" y="348"/>
                </a:lnTo>
                <a:lnTo>
                  <a:pt x="62" y="372"/>
                </a:lnTo>
                <a:lnTo>
                  <a:pt x="70" y="393"/>
                </a:lnTo>
                <a:lnTo>
                  <a:pt x="80" y="414"/>
                </a:lnTo>
                <a:lnTo>
                  <a:pt x="92" y="434"/>
                </a:lnTo>
                <a:lnTo>
                  <a:pt x="104" y="452"/>
                </a:lnTo>
                <a:lnTo>
                  <a:pt x="119" y="471"/>
                </a:lnTo>
                <a:lnTo>
                  <a:pt x="1" y="813"/>
                </a:lnTo>
                <a:lnTo>
                  <a:pt x="0" y="826"/>
                </a:lnTo>
                <a:lnTo>
                  <a:pt x="3" y="837"/>
                </a:lnTo>
                <a:lnTo>
                  <a:pt x="10" y="846"/>
                </a:lnTo>
                <a:lnTo>
                  <a:pt x="21" y="853"/>
                </a:lnTo>
                <a:lnTo>
                  <a:pt x="27" y="854"/>
                </a:lnTo>
                <a:lnTo>
                  <a:pt x="34" y="856"/>
                </a:lnTo>
                <a:lnTo>
                  <a:pt x="40" y="854"/>
                </a:lnTo>
                <a:lnTo>
                  <a:pt x="46" y="852"/>
                </a:lnTo>
                <a:lnTo>
                  <a:pt x="50" y="849"/>
                </a:lnTo>
                <a:lnTo>
                  <a:pt x="55" y="845"/>
                </a:lnTo>
                <a:lnTo>
                  <a:pt x="59" y="839"/>
                </a:lnTo>
                <a:lnTo>
                  <a:pt x="62" y="834"/>
                </a:lnTo>
                <a:lnTo>
                  <a:pt x="171" y="517"/>
                </a:lnTo>
                <a:lnTo>
                  <a:pt x="182" y="524"/>
                </a:lnTo>
                <a:lnTo>
                  <a:pt x="192" y="529"/>
                </a:lnTo>
                <a:lnTo>
                  <a:pt x="202" y="535"/>
                </a:lnTo>
                <a:lnTo>
                  <a:pt x="213" y="541"/>
                </a:lnTo>
                <a:lnTo>
                  <a:pt x="223" y="546"/>
                </a:lnTo>
                <a:lnTo>
                  <a:pt x="235" y="550"/>
                </a:lnTo>
                <a:lnTo>
                  <a:pt x="246" y="554"/>
                </a:lnTo>
                <a:lnTo>
                  <a:pt x="258" y="557"/>
                </a:lnTo>
                <a:lnTo>
                  <a:pt x="232" y="690"/>
                </a:lnTo>
                <a:lnTo>
                  <a:pt x="232" y="690"/>
                </a:lnTo>
                <a:lnTo>
                  <a:pt x="232" y="702"/>
                </a:lnTo>
                <a:lnTo>
                  <a:pt x="237" y="713"/>
                </a:lnTo>
                <a:lnTo>
                  <a:pt x="246" y="722"/>
                </a:lnTo>
                <a:lnTo>
                  <a:pt x="258" y="726"/>
                </a:lnTo>
                <a:lnTo>
                  <a:pt x="263" y="728"/>
                </a:lnTo>
                <a:lnTo>
                  <a:pt x="269" y="726"/>
                </a:lnTo>
                <a:lnTo>
                  <a:pt x="275" y="724"/>
                </a:lnTo>
                <a:lnTo>
                  <a:pt x="281" y="722"/>
                </a:lnTo>
                <a:lnTo>
                  <a:pt x="285" y="717"/>
                </a:lnTo>
                <a:lnTo>
                  <a:pt x="289" y="713"/>
                </a:lnTo>
                <a:lnTo>
                  <a:pt x="291" y="707"/>
                </a:lnTo>
                <a:lnTo>
                  <a:pt x="293" y="701"/>
                </a:lnTo>
                <a:lnTo>
                  <a:pt x="320" y="567"/>
                </a:lnTo>
                <a:lnTo>
                  <a:pt x="328" y="567"/>
                </a:lnTo>
                <a:lnTo>
                  <a:pt x="335" y="567"/>
                </a:lnTo>
                <a:lnTo>
                  <a:pt x="342" y="567"/>
                </a:lnTo>
                <a:lnTo>
                  <a:pt x="350" y="566"/>
                </a:lnTo>
                <a:lnTo>
                  <a:pt x="355" y="566"/>
                </a:lnTo>
                <a:lnTo>
                  <a:pt x="361" y="565"/>
                </a:lnTo>
                <a:lnTo>
                  <a:pt x="367" y="565"/>
                </a:lnTo>
                <a:lnTo>
                  <a:pt x="372" y="564"/>
                </a:lnTo>
                <a:lnTo>
                  <a:pt x="377" y="563"/>
                </a:lnTo>
                <a:lnTo>
                  <a:pt x="383" y="562"/>
                </a:lnTo>
                <a:lnTo>
                  <a:pt x="388" y="562"/>
                </a:lnTo>
                <a:lnTo>
                  <a:pt x="393" y="561"/>
                </a:lnTo>
                <a:lnTo>
                  <a:pt x="393" y="375"/>
                </a:lnTo>
                <a:lnTo>
                  <a:pt x="146" y="375"/>
                </a:lnTo>
                <a:lnTo>
                  <a:pt x="138" y="357"/>
                </a:lnTo>
                <a:lnTo>
                  <a:pt x="132" y="338"/>
                </a:lnTo>
                <a:lnTo>
                  <a:pt x="127" y="319"/>
                </a:lnTo>
                <a:lnTo>
                  <a:pt x="125" y="298"/>
                </a:lnTo>
                <a:lnTo>
                  <a:pt x="125" y="277"/>
                </a:lnTo>
                <a:lnTo>
                  <a:pt x="126" y="256"/>
                </a:lnTo>
                <a:lnTo>
                  <a:pt x="130" y="237"/>
                </a:lnTo>
                <a:lnTo>
                  <a:pt x="135" y="217"/>
                </a:lnTo>
                <a:lnTo>
                  <a:pt x="144" y="199"/>
                </a:lnTo>
                <a:lnTo>
                  <a:pt x="153" y="180"/>
                </a:lnTo>
                <a:lnTo>
                  <a:pt x="163" y="164"/>
                </a:lnTo>
                <a:lnTo>
                  <a:pt x="176" y="148"/>
                </a:lnTo>
                <a:lnTo>
                  <a:pt x="190" y="134"/>
                </a:lnTo>
                <a:lnTo>
                  <a:pt x="205" y="121"/>
                </a:lnTo>
                <a:lnTo>
                  <a:pt x="221" y="110"/>
                </a:lnTo>
                <a:lnTo>
                  <a:pt x="238" y="100"/>
                </a:lnTo>
                <a:lnTo>
                  <a:pt x="256" y="91"/>
                </a:lnTo>
                <a:lnTo>
                  <a:pt x="275" y="85"/>
                </a:lnTo>
                <a:lnTo>
                  <a:pt x="296" y="80"/>
                </a:lnTo>
                <a:lnTo>
                  <a:pt x="316" y="78"/>
                </a:lnTo>
                <a:lnTo>
                  <a:pt x="322" y="78"/>
                </a:lnTo>
                <a:lnTo>
                  <a:pt x="327" y="78"/>
                </a:lnTo>
                <a:lnTo>
                  <a:pt x="332" y="78"/>
                </a:lnTo>
                <a:lnTo>
                  <a:pt x="337" y="78"/>
                </a:lnTo>
                <a:lnTo>
                  <a:pt x="343" y="78"/>
                </a:lnTo>
                <a:lnTo>
                  <a:pt x="347" y="78"/>
                </a:lnTo>
                <a:lnTo>
                  <a:pt x="353" y="79"/>
                </a:lnTo>
                <a:lnTo>
                  <a:pt x="358" y="79"/>
                </a:lnTo>
                <a:lnTo>
                  <a:pt x="358" y="79"/>
                </a:lnTo>
                <a:lnTo>
                  <a:pt x="358" y="79"/>
                </a:lnTo>
                <a:lnTo>
                  <a:pt x="358" y="79"/>
                </a:lnTo>
                <a:lnTo>
                  <a:pt x="359" y="79"/>
                </a:lnTo>
                <a:lnTo>
                  <a:pt x="364" y="80"/>
                </a:lnTo>
                <a:lnTo>
                  <a:pt x="368" y="80"/>
                </a:lnTo>
                <a:lnTo>
                  <a:pt x="372" y="81"/>
                </a:lnTo>
                <a:lnTo>
                  <a:pt x="376" y="82"/>
                </a:lnTo>
                <a:lnTo>
                  <a:pt x="377" y="82"/>
                </a:lnTo>
                <a:lnTo>
                  <a:pt x="378" y="82"/>
                </a:lnTo>
                <a:lnTo>
                  <a:pt x="378" y="83"/>
                </a:lnTo>
                <a:lnTo>
                  <a:pt x="380" y="83"/>
                </a:lnTo>
                <a:lnTo>
                  <a:pt x="383" y="85"/>
                </a:lnTo>
                <a:lnTo>
                  <a:pt x="387" y="86"/>
                </a:lnTo>
                <a:lnTo>
                  <a:pt x="390" y="87"/>
                </a:lnTo>
                <a:lnTo>
                  <a:pt x="395" y="88"/>
                </a:lnTo>
                <a:lnTo>
                  <a:pt x="396" y="88"/>
                </a:lnTo>
                <a:lnTo>
                  <a:pt x="397" y="88"/>
                </a:lnTo>
                <a:lnTo>
                  <a:pt x="397" y="88"/>
                </a:lnTo>
                <a:lnTo>
                  <a:pt x="398" y="89"/>
                </a:lnTo>
                <a:lnTo>
                  <a:pt x="403" y="90"/>
                </a:lnTo>
                <a:lnTo>
                  <a:pt x="406" y="91"/>
                </a:lnTo>
                <a:lnTo>
                  <a:pt x="410" y="94"/>
                </a:lnTo>
                <a:lnTo>
                  <a:pt x="413" y="95"/>
                </a:lnTo>
                <a:lnTo>
                  <a:pt x="888" y="289"/>
                </a:lnTo>
                <a:lnTo>
                  <a:pt x="525" y="215"/>
                </a:lnTo>
                <a:lnTo>
                  <a:pt x="529" y="227"/>
                </a:lnTo>
                <a:lnTo>
                  <a:pt x="533" y="240"/>
                </a:lnTo>
                <a:lnTo>
                  <a:pt x="535" y="254"/>
                </a:lnTo>
                <a:lnTo>
                  <a:pt x="536" y="269"/>
                </a:lnTo>
                <a:lnTo>
                  <a:pt x="536" y="297"/>
                </a:lnTo>
                <a:lnTo>
                  <a:pt x="533" y="323"/>
                </a:lnTo>
                <a:lnTo>
                  <a:pt x="526" y="350"/>
                </a:lnTo>
                <a:lnTo>
                  <a:pt x="516" y="375"/>
                </a:lnTo>
                <a:lnTo>
                  <a:pt x="393" y="375"/>
                </a:lnTo>
                <a:lnTo>
                  <a:pt x="393" y="561"/>
                </a:lnTo>
                <a:lnTo>
                  <a:pt x="405" y="557"/>
                </a:lnTo>
                <a:lnTo>
                  <a:pt x="418" y="552"/>
                </a:lnTo>
                <a:lnTo>
                  <a:pt x="430" y="548"/>
                </a:lnTo>
                <a:lnTo>
                  <a:pt x="443" y="542"/>
                </a:lnTo>
                <a:lnTo>
                  <a:pt x="456" y="537"/>
                </a:lnTo>
                <a:lnTo>
                  <a:pt x="467" y="531"/>
                </a:lnTo>
                <a:lnTo>
                  <a:pt x="479" y="525"/>
                </a:lnTo>
                <a:lnTo>
                  <a:pt x="489" y="518"/>
                </a:lnTo>
                <a:lnTo>
                  <a:pt x="638" y="822"/>
                </a:lnTo>
                <a:lnTo>
                  <a:pt x="641" y="828"/>
                </a:lnTo>
                <a:lnTo>
                  <a:pt x="645" y="832"/>
                </a:lnTo>
                <a:lnTo>
                  <a:pt x="650" y="836"/>
                </a:lnTo>
                <a:lnTo>
                  <a:pt x="656" y="838"/>
                </a:lnTo>
                <a:lnTo>
                  <a:pt x="662" y="841"/>
                </a:lnTo>
                <a:lnTo>
                  <a:pt x="668" y="841"/>
                </a:lnTo>
                <a:lnTo>
                  <a:pt x="674" y="839"/>
                </a:lnTo>
                <a:lnTo>
                  <a:pt x="680" y="837"/>
                </a:lnTo>
                <a:lnTo>
                  <a:pt x="691" y="829"/>
                </a:lnTo>
                <a:lnTo>
                  <a:pt x="696" y="819"/>
                </a:lnTo>
                <a:lnTo>
                  <a:pt x="697" y="807"/>
                </a:lnTo>
                <a:lnTo>
                  <a:pt x="695" y="794"/>
                </a:lnTo>
                <a:lnTo>
                  <a:pt x="540" y="475"/>
                </a:lnTo>
                <a:lnTo>
                  <a:pt x="541" y="474"/>
                </a:lnTo>
                <a:lnTo>
                  <a:pt x="542" y="472"/>
                </a:lnTo>
                <a:lnTo>
                  <a:pt x="543" y="471"/>
                </a:lnTo>
                <a:lnTo>
                  <a:pt x="544" y="469"/>
                </a:lnTo>
                <a:lnTo>
                  <a:pt x="560" y="449"/>
                </a:lnTo>
                <a:lnTo>
                  <a:pt x="574" y="428"/>
                </a:lnTo>
                <a:lnTo>
                  <a:pt x="587" y="405"/>
                </a:lnTo>
                <a:lnTo>
                  <a:pt x="597" y="382"/>
                </a:lnTo>
                <a:lnTo>
                  <a:pt x="604" y="358"/>
                </a:lnTo>
                <a:lnTo>
                  <a:pt x="610" y="332"/>
                </a:lnTo>
                <a:lnTo>
                  <a:pt x="613" y="307"/>
                </a:lnTo>
                <a:lnTo>
                  <a:pt x="615" y="282"/>
                </a:lnTo>
                <a:lnTo>
                  <a:pt x="947" y="355"/>
                </a:lnTo>
                <a:lnTo>
                  <a:pt x="947" y="355"/>
                </a:lnTo>
                <a:lnTo>
                  <a:pt x="950" y="355"/>
                </a:lnTo>
                <a:lnTo>
                  <a:pt x="951" y="355"/>
                </a:lnTo>
                <a:lnTo>
                  <a:pt x="953" y="357"/>
                </a:lnTo>
                <a:lnTo>
                  <a:pt x="955" y="357"/>
                </a:lnTo>
                <a:lnTo>
                  <a:pt x="965" y="355"/>
                </a:lnTo>
                <a:lnTo>
                  <a:pt x="973" y="352"/>
                </a:lnTo>
                <a:lnTo>
                  <a:pt x="980" y="347"/>
                </a:lnTo>
                <a:lnTo>
                  <a:pt x="985" y="342"/>
                </a:lnTo>
                <a:lnTo>
                  <a:pt x="991" y="336"/>
                </a:lnTo>
                <a:lnTo>
                  <a:pt x="995" y="328"/>
                </a:lnTo>
                <a:lnTo>
                  <a:pt x="997" y="320"/>
                </a:lnTo>
                <a:lnTo>
                  <a:pt x="997" y="310"/>
                </a:lnTo>
                <a:lnTo>
                  <a:pt x="996" y="302"/>
                </a:lnTo>
                <a:lnTo>
                  <a:pt x="993" y="295"/>
                </a:lnTo>
                <a:lnTo>
                  <a:pt x="990" y="289"/>
                </a:lnTo>
                <a:lnTo>
                  <a:pt x="987" y="283"/>
                </a:lnTo>
                <a:lnTo>
                  <a:pt x="981" y="278"/>
                </a:lnTo>
                <a:lnTo>
                  <a:pt x="975" y="274"/>
                </a:lnTo>
                <a:lnTo>
                  <a:pt x="968" y="271"/>
                </a:lnTo>
                <a:lnTo>
                  <a:pt x="961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62480" y="1076400"/>
            <a:ext cx="44280" cy="44280"/>
          </a:xfrm>
          <a:custGeom>
            <a:avLst/>
            <a:gdLst/>
            <a:ahLst/>
            <a:rect l="l" t="t" r="r" b="b"/>
            <a:pathLst>
              <a:path w="57" h="56">
                <a:moveTo>
                  <a:pt x="29" y="56"/>
                </a:moveTo>
                <a:lnTo>
                  <a:pt x="39" y="54"/>
                </a:lnTo>
                <a:lnTo>
                  <a:pt x="49" y="48"/>
                </a:lnTo>
                <a:lnTo>
                  <a:pt x="54" y="39"/>
                </a:lnTo>
                <a:lnTo>
                  <a:pt x="57" y="27"/>
                </a:lnTo>
                <a:lnTo>
                  <a:pt x="54" y="17"/>
                </a:lnTo>
                <a:lnTo>
                  <a:pt x="49" y="8"/>
                </a:lnTo>
                <a:lnTo>
                  <a:pt x="39" y="2"/>
                </a:lnTo>
                <a:lnTo>
                  <a:pt x="29" y="0"/>
                </a:lnTo>
                <a:lnTo>
                  <a:pt x="18" y="2"/>
                </a:lnTo>
                <a:lnTo>
                  <a:pt x="8" y="8"/>
                </a:lnTo>
                <a:lnTo>
                  <a:pt x="3" y="17"/>
                </a:lnTo>
                <a:lnTo>
                  <a:pt x="0" y="27"/>
                </a:lnTo>
                <a:lnTo>
                  <a:pt x="3" y="39"/>
                </a:lnTo>
                <a:lnTo>
                  <a:pt x="8" y="48"/>
                </a:lnTo>
                <a:lnTo>
                  <a:pt x="18" y="54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62480" y="1162080"/>
            <a:ext cx="44280" cy="44280"/>
          </a:xfrm>
          <a:custGeom>
            <a:avLst/>
            <a:gdLst/>
            <a:ahLst/>
            <a:rect l="l" t="t" r="r" b="b"/>
            <a:pathLst>
              <a:path w="57" h="57">
                <a:moveTo>
                  <a:pt x="29" y="57"/>
                </a:moveTo>
                <a:lnTo>
                  <a:pt x="39" y="54"/>
                </a:lnTo>
                <a:lnTo>
                  <a:pt x="49" y="49"/>
                </a:lnTo>
                <a:lnTo>
                  <a:pt x="54" y="39"/>
                </a:lnTo>
                <a:lnTo>
                  <a:pt x="57" y="29"/>
                </a:lnTo>
                <a:lnTo>
                  <a:pt x="54" y="17"/>
                </a:lnTo>
                <a:lnTo>
                  <a:pt x="49" y="8"/>
                </a:lnTo>
                <a:lnTo>
                  <a:pt x="39" y="2"/>
                </a:lnTo>
                <a:lnTo>
                  <a:pt x="29" y="0"/>
                </a:lnTo>
                <a:lnTo>
                  <a:pt x="18" y="2"/>
                </a:lnTo>
                <a:lnTo>
                  <a:pt x="8" y="8"/>
                </a:lnTo>
                <a:lnTo>
                  <a:pt x="3" y="17"/>
                </a:lnTo>
                <a:lnTo>
                  <a:pt x="0" y="29"/>
                </a:lnTo>
                <a:lnTo>
                  <a:pt x="3" y="39"/>
                </a:lnTo>
                <a:lnTo>
                  <a:pt x="8" y="49"/>
                </a:lnTo>
                <a:lnTo>
                  <a:pt x="18" y="54"/>
                </a:lnTo>
                <a:lnTo>
                  <a:pt x="29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867280" y="5805360"/>
            <a:ext cx="582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08000" y="1484280"/>
            <a:ext cx="8856720" cy="3529080"/>
            <a:chOff x="108000" y="1484280"/>
            <a:chExt cx="8856720" cy="3529080"/>
          </a:xfrm>
        </p:grpSpPr>
        <p:sp>
          <p:nvSpPr>
            <p:cNvPr id="175" name=""/>
            <p:cNvSpPr/>
            <p:nvPr/>
          </p:nvSpPr>
          <p:spPr>
            <a:xfrm>
              <a:off x="108000" y="1484280"/>
              <a:ext cx="8856720" cy="352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09800" y="1557360"/>
              <a:ext cx="8845200" cy="3364920"/>
              <a:chOff x="109800" y="1557360"/>
              <a:chExt cx="8845200" cy="3364920"/>
            </a:xfrm>
          </p:grpSpPr>
          <p:pic>
            <p:nvPicPr>
              <p:cNvPr id="177" name="" descr=""/>
              <p:cNvPicPr/>
              <p:nvPr/>
            </p:nvPicPr>
            <p:blipFill>
              <a:blip r:embed="rId1"/>
              <a:stretch/>
            </p:blipFill>
            <p:spPr>
              <a:xfrm rot="19501800">
                <a:off x="2340000" y="2781000"/>
                <a:ext cx="906480" cy="46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2"/>
              <a:stretch/>
            </p:blipFill>
            <p:spPr>
              <a:xfrm rot="19501800">
                <a:off x="5867280" y="2707920"/>
                <a:ext cx="9064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7740720" y="2637000"/>
                <a:ext cx="504720" cy="647640"/>
              </a:xfrm>
              <a:prstGeom prst="flowChartMagneticDisk">
                <a:avLst/>
              </a:prstGeom>
              <a:solidFill>
                <a:srgbClr val="ffffff"/>
              </a:solidFill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395280" y="2565360"/>
                <a:ext cx="1224000" cy="863640"/>
                <a:chOff x="395280" y="2565360"/>
                <a:chExt cx="1224000" cy="863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95280" y="2565360"/>
                  <a:ext cx="1224000" cy="863640"/>
                </a:xfrm>
                <a:prstGeom prst="rect">
                  <a:avLst/>
                </a:prstGeom>
                <a:solidFill>
                  <a:srgbClr val="ffffff"/>
                </a:solidFill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9640" y="2637000"/>
                  <a:ext cx="922320" cy="68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3" name=""/>
              <p:cNvGrpSpPr/>
              <p:nvPr/>
            </p:nvGrpSpPr>
            <p:grpSpPr>
              <a:xfrm>
                <a:off x="3924360" y="2276280"/>
                <a:ext cx="863640" cy="1223640"/>
                <a:chOff x="3924360" y="2276280"/>
                <a:chExt cx="863640" cy="1223640"/>
              </a:xfrm>
            </p:grpSpPr>
            <p:sp>
              <p:nvSpPr>
                <p:cNvPr id="184" name=""/>
                <p:cNvSpPr/>
                <p:nvPr/>
              </p:nvSpPr>
              <p:spPr>
                <a:xfrm rot="16200000">
                  <a:off x="3744360" y="2456280"/>
                  <a:ext cx="1223640" cy="863640"/>
                </a:xfrm>
                <a:prstGeom prst="rect">
                  <a:avLst/>
                </a:prstGeom>
                <a:solidFill>
                  <a:srgbClr val="ffffff"/>
                </a:solidFill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995640" y="2565360"/>
                  <a:ext cx="72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56000" y="2565360"/>
                  <a:ext cx="0" cy="86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995640" y="278136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995640" y="292428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95640" y="306864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995640" y="321300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995640" y="335772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27640" y="278136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27640" y="292428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427640" y="306864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27640" y="3166920"/>
                  <a:ext cx="288720" cy="21780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067280" y="2421000"/>
                  <a:ext cx="5760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176364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928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7672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5964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9800" y="1557360"/>
                <a:ext cx="20599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gital structure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spect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21800" y="1557360"/>
                <a:ext cx="193320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gital database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rom OCR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71200" y="1557360"/>
                <a:ext cx="16423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alog pap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b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77080" y="4005360"/>
                <a:ext cx="277308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 reduction and l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emove noise an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ninteresting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48720" y="4005360"/>
                <a:ext cx="244404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treme data l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CR and text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version err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510080" cy="265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464000" cy="143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0" y="4902120"/>
            <a:ext cx="51451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8000" y="1484280"/>
            <a:ext cx="885672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19501800">
            <a:off x="2340000" y="2781000"/>
            <a:ext cx="906480" cy="46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rot="19501800">
            <a:off x="5867280" y="2707920"/>
            <a:ext cx="906480" cy="468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740720" y="2637000"/>
            <a:ext cx="504720" cy="647640"/>
          </a:xfrm>
          <a:prstGeom prst="flowChartMagneticDisk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95280" y="2565360"/>
            <a:ext cx="1224000" cy="863640"/>
            <a:chOff x="395280" y="2565360"/>
            <a:chExt cx="1224000" cy="863640"/>
          </a:xfrm>
        </p:grpSpPr>
        <p:sp>
          <p:nvSpPr>
            <p:cNvPr id="214" name=""/>
            <p:cNvSpPr/>
            <p:nvPr/>
          </p:nvSpPr>
          <p:spPr>
            <a:xfrm>
              <a:off x="395280" y="2565360"/>
              <a:ext cx="1224000" cy="8636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39640" y="2637000"/>
              <a:ext cx="922320" cy="6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"/>
          <p:cNvGrpSpPr/>
          <p:nvPr/>
        </p:nvGrpSpPr>
        <p:grpSpPr>
          <a:xfrm>
            <a:off x="3924360" y="2276280"/>
            <a:ext cx="863640" cy="1223640"/>
            <a:chOff x="3924360" y="2276280"/>
            <a:chExt cx="863640" cy="1223640"/>
          </a:xfrm>
        </p:grpSpPr>
        <p:sp>
          <p:nvSpPr>
            <p:cNvPr id="217" name=""/>
            <p:cNvSpPr/>
            <p:nvPr/>
          </p:nvSpPr>
          <p:spPr>
            <a:xfrm rot="16200000">
              <a:off x="3744360" y="2456280"/>
              <a:ext cx="1223640" cy="8636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95640" y="256536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56000" y="2565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5640" y="278136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95640" y="292428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5640" y="306864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95640" y="321300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95640" y="335772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27640" y="278136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7640" y="292428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27640" y="306864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27640" y="3166920"/>
              <a:ext cx="288720" cy="2178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7280" y="2421000"/>
              <a:ext cx="576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6364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800" y="1557360"/>
            <a:ext cx="2059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structu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800" y="1557360"/>
            <a:ext cx="1933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databa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C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71200" y="1557360"/>
            <a:ext cx="164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7080" y="4005360"/>
            <a:ext cx="2773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reduction and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nois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nterest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720" y="4005360"/>
            <a:ext cx="2444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 data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R and text 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ion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24000" y="1052640"/>
            <a:ext cx="2498040" cy="1739880"/>
            <a:chOff x="324000" y="1052640"/>
            <a:chExt cx="2498040" cy="1739880"/>
          </a:xfrm>
        </p:grpSpPr>
        <p:sp>
          <p:nvSpPr>
            <p:cNvPr id="240" name=""/>
            <p:cNvSpPr/>
            <p:nvPr/>
          </p:nvSpPr>
          <p:spPr>
            <a:xfrm flipH="1">
              <a:off x="350640" y="2319480"/>
              <a:ext cx="2268000" cy="380880"/>
            </a:xfrm>
            <a:custGeom>
              <a:avLst/>
              <a:gdLst/>
              <a:ahLst/>
              <a:rect l="l" t="t" r="r" b="b"/>
              <a:pathLst>
                <a:path w="2858" h="479">
                  <a:moveTo>
                    <a:pt x="2533" y="125"/>
                  </a:moveTo>
                  <a:lnTo>
                    <a:pt x="2527" y="129"/>
                  </a:lnTo>
                  <a:lnTo>
                    <a:pt x="2521" y="133"/>
                  </a:lnTo>
                  <a:lnTo>
                    <a:pt x="2514" y="135"/>
                  </a:lnTo>
                  <a:lnTo>
                    <a:pt x="2504" y="139"/>
                  </a:lnTo>
                  <a:lnTo>
                    <a:pt x="2495" y="141"/>
                  </a:lnTo>
                  <a:lnTo>
                    <a:pt x="2485" y="143"/>
                  </a:lnTo>
                  <a:lnTo>
                    <a:pt x="2478" y="144"/>
                  </a:lnTo>
                  <a:lnTo>
                    <a:pt x="2474" y="144"/>
                  </a:lnTo>
                  <a:lnTo>
                    <a:pt x="2466" y="146"/>
                  </a:lnTo>
                  <a:lnTo>
                    <a:pt x="2462" y="146"/>
                  </a:lnTo>
                  <a:lnTo>
                    <a:pt x="2455" y="146"/>
                  </a:lnTo>
                  <a:lnTo>
                    <a:pt x="2447" y="146"/>
                  </a:lnTo>
                  <a:lnTo>
                    <a:pt x="2440" y="146"/>
                  </a:lnTo>
                  <a:lnTo>
                    <a:pt x="2432" y="148"/>
                  </a:lnTo>
                  <a:lnTo>
                    <a:pt x="2426" y="148"/>
                  </a:lnTo>
                  <a:lnTo>
                    <a:pt x="2419" y="148"/>
                  </a:lnTo>
                  <a:lnTo>
                    <a:pt x="2411" y="148"/>
                  </a:lnTo>
                  <a:lnTo>
                    <a:pt x="2403" y="150"/>
                  </a:lnTo>
                  <a:lnTo>
                    <a:pt x="2396" y="148"/>
                  </a:lnTo>
                  <a:lnTo>
                    <a:pt x="2388" y="148"/>
                  </a:lnTo>
                  <a:lnTo>
                    <a:pt x="2381" y="148"/>
                  </a:lnTo>
                  <a:lnTo>
                    <a:pt x="2373" y="148"/>
                  </a:lnTo>
                  <a:lnTo>
                    <a:pt x="2363" y="146"/>
                  </a:lnTo>
                  <a:lnTo>
                    <a:pt x="2356" y="146"/>
                  </a:lnTo>
                  <a:lnTo>
                    <a:pt x="2348" y="146"/>
                  </a:lnTo>
                  <a:lnTo>
                    <a:pt x="2341" y="146"/>
                  </a:lnTo>
                  <a:lnTo>
                    <a:pt x="2331" y="146"/>
                  </a:lnTo>
                  <a:lnTo>
                    <a:pt x="2324" y="144"/>
                  </a:lnTo>
                  <a:lnTo>
                    <a:pt x="2314" y="144"/>
                  </a:lnTo>
                  <a:lnTo>
                    <a:pt x="2306" y="143"/>
                  </a:lnTo>
                  <a:lnTo>
                    <a:pt x="2299" y="143"/>
                  </a:lnTo>
                  <a:lnTo>
                    <a:pt x="2289" y="141"/>
                  </a:lnTo>
                  <a:lnTo>
                    <a:pt x="2282" y="141"/>
                  </a:lnTo>
                  <a:lnTo>
                    <a:pt x="2274" y="141"/>
                  </a:lnTo>
                  <a:lnTo>
                    <a:pt x="2265" y="137"/>
                  </a:lnTo>
                  <a:lnTo>
                    <a:pt x="2259" y="137"/>
                  </a:lnTo>
                  <a:lnTo>
                    <a:pt x="2249" y="135"/>
                  </a:lnTo>
                  <a:lnTo>
                    <a:pt x="2242" y="135"/>
                  </a:lnTo>
                  <a:lnTo>
                    <a:pt x="2234" y="133"/>
                  </a:lnTo>
                  <a:lnTo>
                    <a:pt x="2227" y="133"/>
                  </a:lnTo>
                  <a:lnTo>
                    <a:pt x="2219" y="131"/>
                  </a:lnTo>
                  <a:lnTo>
                    <a:pt x="2213" y="131"/>
                  </a:lnTo>
                  <a:lnTo>
                    <a:pt x="2204" y="127"/>
                  </a:lnTo>
                  <a:lnTo>
                    <a:pt x="2196" y="125"/>
                  </a:lnTo>
                  <a:lnTo>
                    <a:pt x="2190" y="124"/>
                  </a:lnTo>
                  <a:lnTo>
                    <a:pt x="2185" y="124"/>
                  </a:lnTo>
                  <a:lnTo>
                    <a:pt x="2177" y="122"/>
                  </a:lnTo>
                  <a:lnTo>
                    <a:pt x="2170" y="120"/>
                  </a:lnTo>
                  <a:lnTo>
                    <a:pt x="2164" y="118"/>
                  </a:lnTo>
                  <a:lnTo>
                    <a:pt x="2158" y="116"/>
                  </a:lnTo>
                  <a:lnTo>
                    <a:pt x="2147" y="112"/>
                  </a:lnTo>
                  <a:lnTo>
                    <a:pt x="2137" y="108"/>
                  </a:lnTo>
                  <a:lnTo>
                    <a:pt x="2128" y="104"/>
                  </a:lnTo>
                  <a:lnTo>
                    <a:pt x="2122" y="101"/>
                  </a:lnTo>
                  <a:lnTo>
                    <a:pt x="2114" y="97"/>
                  </a:lnTo>
                  <a:lnTo>
                    <a:pt x="2105" y="95"/>
                  </a:lnTo>
                  <a:lnTo>
                    <a:pt x="2095" y="91"/>
                  </a:lnTo>
                  <a:lnTo>
                    <a:pt x="2086" y="89"/>
                  </a:lnTo>
                  <a:lnTo>
                    <a:pt x="2080" y="87"/>
                  </a:lnTo>
                  <a:lnTo>
                    <a:pt x="2074" y="87"/>
                  </a:lnTo>
                  <a:lnTo>
                    <a:pt x="2067" y="85"/>
                  </a:lnTo>
                  <a:lnTo>
                    <a:pt x="2063" y="85"/>
                  </a:lnTo>
                  <a:lnTo>
                    <a:pt x="2055" y="82"/>
                  </a:lnTo>
                  <a:lnTo>
                    <a:pt x="2050" y="82"/>
                  </a:lnTo>
                  <a:lnTo>
                    <a:pt x="2042" y="80"/>
                  </a:lnTo>
                  <a:lnTo>
                    <a:pt x="2036" y="80"/>
                  </a:lnTo>
                  <a:lnTo>
                    <a:pt x="2029" y="78"/>
                  </a:lnTo>
                  <a:lnTo>
                    <a:pt x="2021" y="78"/>
                  </a:lnTo>
                  <a:lnTo>
                    <a:pt x="2014" y="76"/>
                  </a:lnTo>
                  <a:lnTo>
                    <a:pt x="2008" y="76"/>
                  </a:lnTo>
                  <a:lnTo>
                    <a:pt x="1998" y="72"/>
                  </a:lnTo>
                  <a:lnTo>
                    <a:pt x="1991" y="72"/>
                  </a:lnTo>
                  <a:lnTo>
                    <a:pt x="1983" y="70"/>
                  </a:lnTo>
                  <a:lnTo>
                    <a:pt x="1976" y="70"/>
                  </a:lnTo>
                  <a:lnTo>
                    <a:pt x="1968" y="68"/>
                  </a:lnTo>
                  <a:lnTo>
                    <a:pt x="1959" y="66"/>
                  </a:lnTo>
                  <a:lnTo>
                    <a:pt x="1951" y="66"/>
                  </a:lnTo>
                  <a:lnTo>
                    <a:pt x="1943" y="65"/>
                  </a:lnTo>
                  <a:lnTo>
                    <a:pt x="1936" y="63"/>
                  </a:lnTo>
                  <a:lnTo>
                    <a:pt x="1928" y="63"/>
                  </a:lnTo>
                  <a:lnTo>
                    <a:pt x="1919" y="61"/>
                  </a:lnTo>
                  <a:lnTo>
                    <a:pt x="1911" y="61"/>
                  </a:lnTo>
                  <a:lnTo>
                    <a:pt x="1901" y="59"/>
                  </a:lnTo>
                  <a:lnTo>
                    <a:pt x="1894" y="57"/>
                  </a:lnTo>
                  <a:lnTo>
                    <a:pt x="1886" y="57"/>
                  </a:lnTo>
                  <a:lnTo>
                    <a:pt x="1879" y="55"/>
                  </a:lnTo>
                  <a:lnTo>
                    <a:pt x="1871" y="53"/>
                  </a:lnTo>
                  <a:lnTo>
                    <a:pt x="1863" y="53"/>
                  </a:lnTo>
                  <a:lnTo>
                    <a:pt x="1854" y="51"/>
                  </a:lnTo>
                  <a:lnTo>
                    <a:pt x="1846" y="51"/>
                  </a:lnTo>
                  <a:lnTo>
                    <a:pt x="1839" y="49"/>
                  </a:lnTo>
                  <a:lnTo>
                    <a:pt x="1831" y="47"/>
                  </a:lnTo>
                  <a:lnTo>
                    <a:pt x="1824" y="47"/>
                  </a:lnTo>
                  <a:lnTo>
                    <a:pt x="1816" y="46"/>
                  </a:lnTo>
                  <a:lnTo>
                    <a:pt x="1808" y="44"/>
                  </a:lnTo>
                  <a:lnTo>
                    <a:pt x="1801" y="44"/>
                  </a:lnTo>
                  <a:lnTo>
                    <a:pt x="1795" y="42"/>
                  </a:lnTo>
                  <a:lnTo>
                    <a:pt x="1787" y="42"/>
                  </a:lnTo>
                  <a:lnTo>
                    <a:pt x="1780" y="40"/>
                  </a:lnTo>
                  <a:lnTo>
                    <a:pt x="1772" y="38"/>
                  </a:lnTo>
                  <a:lnTo>
                    <a:pt x="1767" y="38"/>
                  </a:lnTo>
                  <a:lnTo>
                    <a:pt x="1761" y="36"/>
                  </a:lnTo>
                  <a:lnTo>
                    <a:pt x="1753" y="34"/>
                  </a:lnTo>
                  <a:lnTo>
                    <a:pt x="1747" y="34"/>
                  </a:lnTo>
                  <a:lnTo>
                    <a:pt x="1742" y="32"/>
                  </a:lnTo>
                  <a:lnTo>
                    <a:pt x="1738" y="32"/>
                  </a:lnTo>
                  <a:lnTo>
                    <a:pt x="1727" y="30"/>
                  </a:lnTo>
                  <a:lnTo>
                    <a:pt x="1719" y="27"/>
                  </a:lnTo>
                  <a:lnTo>
                    <a:pt x="1711" y="25"/>
                  </a:lnTo>
                  <a:lnTo>
                    <a:pt x="1706" y="25"/>
                  </a:lnTo>
                  <a:lnTo>
                    <a:pt x="1696" y="34"/>
                  </a:lnTo>
                  <a:lnTo>
                    <a:pt x="1687" y="44"/>
                  </a:lnTo>
                  <a:lnTo>
                    <a:pt x="1677" y="51"/>
                  </a:lnTo>
                  <a:lnTo>
                    <a:pt x="1668" y="59"/>
                  </a:lnTo>
                  <a:lnTo>
                    <a:pt x="1656" y="65"/>
                  </a:lnTo>
                  <a:lnTo>
                    <a:pt x="1647" y="70"/>
                  </a:lnTo>
                  <a:lnTo>
                    <a:pt x="1637" y="76"/>
                  </a:lnTo>
                  <a:lnTo>
                    <a:pt x="1630" y="78"/>
                  </a:lnTo>
                  <a:lnTo>
                    <a:pt x="1622" y="78"/>
                  </a:lnTo>
                  <a:lnTo>
                    <a:pt x="1616" y="78"/>
                  </a:lnTo>
                  <a:lnTo>
                    <a:pt x="1614" y="72"/>
                  </a:lnTo>
                  <a:lnTo>
                    <a:pt x="1614" y="68"/>
                  </a:lnTo>
                  <a:lnTo>
                    <a:pt x="1616" y="59"/>
                  </a:lnTo>
                  <a:lnTo>
                    <a:pt x="1622" y="49"/>
                  </a:lnTo>
                  <a:lnTo>
                    <a:pt x="1626" y="44"/>
                  </a:lnTo>
                  <a:lnTo>
                    <a:pt x="1632" y="38"/>
                  </a:lnTo>
                  <a:lnTo>
                    <a:pt x="1639" y="28"/>
                  </a:lnTo>
                  <a:lnTo>
                    <a:pt x="1647" y="21"/>
                  </a:lnTo>
                  <a:lnTo>
                    <a:pt x="1641" y="21"/>
                  </a:lnTo>
                  <a:lnTo>
                    <a:pt x="1633" y="23"/>
                  </a:lnTo>
                  <a:lnTo>
                    <a:pt x="1628" y="25"/>
                  </a:lnTo>
                  <a:lnTo>
                    <a:pt x="1622" y="30"/>
                  </a:lnTo>
                  <a:lnTo>
                    <a:pt x="1613" y="38"/>
                  </a:lnTo>
                  <a:lnTo>
                    <a:pt x="1603" y="47"/>
                  </a:lnTo>
                  <a:lnTo>
                    <a:pt x="1592" y="55"/>
                  </a:lnTo>
                  <a:lnTo>
                    <a:pt x="1582" y="63"/>
                  </a:lnTo>
                  <a:lnTo>
                    <a:pt x="1574" y="66"/>
                  </a:lnTo>
                  <a:lnTo>
                    <a:pt x="1569" y="70"/>
                  </a:lnTo>
                  <a:lnTo>
                    <a:pt x="1563" y="72"/>
                  </a:lnTo>
                  <a:lnTo>
                    <a:pt x="1557" y="74"/>
                  </a:lnTo>
                  <a:lnTo>
                    <a:pt x="1555" y="70"/>
                  </a:lnTo>
                  <a:lnTo>
                    <a:pt x="1559" y="61"/>
                  </a:lnTo>
                  <a:lnTo>
                    <a:pt x="1565" y="55"/>
                  </a:lnTo>
                  <a:lnTo>
                    <a:pt x="1567" y="47"/>
                  </a:lnTo>
                  <a:lnTo>
                    <a:pt x="1571" y="42"/>
                  </a:lnTo>
                  <a:lnTo>
                    <a:pt x="1573" y="32"/>
                  </a:lnTo>
                  <a:lnTo>
                    <a:pt x="1573" y="27"/>
                  </a:lnTo>
                  <a:lnTo>
                    <a:pt x="1569" y="21"/>
                  </a:lnTo>
                  <a:lnTo>
                    <a:pt x="1565" y="19"/>
                  </a:lnTo>
                  <a:lnTo>
                    <a:pt x="1557" y="19"/>
                  </a:lnTo>
                  <a:lnTo>
                    <a:pt x="1550" y="21"/>
                  </a:lnTo>
                  <a:lnTo>
                    <a:pt x="1540" y="23"/>
                  </a:lnTo>
                  <a:lnTo>
                    <a:pt x="1531" y="27"/>
                  </a:lnTo>
                  <a:lnTo>
                    <a:pt x="1519" y="32"/>
                  </a:lnTo>
                  <a:lnTo>
                    <a:pt x="1510" y="40"/>
                  </a:lnTo>
                  <a:lnTo>
                    <a:pt x="1498" y="47"/>
                  </a:lnTo>
                  <a:lnTo>
                    <a:pt x="1489" y="55"/>
                  </a:lnTo>
                  <a:lnTo>
                    <a:pt x="1479" y="65"/>
                  </a:lnTo>
                  <a:lnTo>
                    <a:pt x="1472" y="74"/>
                  </a:lnTo>
                  <a:lnTo>
                    <a:pt x="1468" y="70"/>
                  </a:lnTo>
                  <a:lnTo>
                    <a:pt x="1470" y="63"/>
                  </a:lnTo>
                  <a:lnTo>
                    <a:pt x="1472" y="57"/>
                  </a:lnTo>
                  <a:lnTo>
                    <a:pt x="1474" y="49"/>
                  </a:lnTo>
                  <a:lnTo>
                    <a:pt x="1478" y="42"/>
                  </a:lnTo>
                  <a:lnTo>
                    <a:pt x="1481" y="36"/>
                  </a:lnTo>
                  <a:lnTo>
                    <a:pt x="1485" y="30"/>
                  </a:lnTo>
                  <a:lnTo>
                    <a:pt x="1489" y="23"/>
                  </a:lnTo>
                  <a:lnTo>
                    <a:pt x="1495" y="17"/>
                  </a:lnTo>
                  <a:lnTo>
                    <a:pt x="1493" y="13"/>
                  </a:lnTo>
                  <a:lnTo>
                    <a:pt x="1493" y="11"/>
                  </a:lnTo>
                  <a:lnTo>
                    <a:pt x="1485" y="11"/>
                  </a:lnTo>
                  <a:lnTo>
                    <a:pt x="1478" y="13"/>
                  </a:lnTo>
                  <a:lnTo>
                    <a:pt x="1474" y="13"/>
                  </a:lnTo>
                  <a:lnTo>
                    <a:pt x="1468" y="17"/>
                  </a:lnTo>
                  <a:lnTo>
                    <a:pt x="1457" y="21"/>
                  </a:lnTo>
                  <a:lnTo>
                    <a:pt x="1447" y="27"/>
                  </a:lnTo>
                  <a:lnTo>
                    <a:pt x="1443" y="25"/>
                  </a:lnTo>
                  <a:lnTo>
                    <a:pt x="1440" y="17"/>
                  </a:lnTo>
                  <a:lnTo>
                    <a:pt x="1438" y="11"/>
                  </a:lnTo>
                  <a:lnTo>
                    <a:pt x="1436" y="8"/>
                  </a:lnTo>
                  <a:lnTo>
                    <a:pt x="1436" y="4"/>
                  </a:lnTo>
                  <a:lnTo>
                    <a:pt x="1428" y="0"/>
                  </a:lnTo>
                  <a:lnTo>
                    <a:pt x="1422" y="0"/>
                  </a:lnTo>
                  <a:lnTo>
                    <a:pt x="1413" y="0"/>
                  </a:lnTo>
                  <a:lnTo>
                    <a:pt x="1407" y="4"/>
                  </a:lnTo>
                  <a:lnTo>
                    <a:pt x="1398" y="9"/>
                  </a:lnTo>
                  <a:lnTo>
                    <a:pt x="1388" y="17"/>
                  </a:lnTo>
                  <a:lnTo>
                    <a:pt x="1375" y="23"/>
                  </a:lnTo>
                  <a:lnTo>
                    <a:pt x="1365" y="30"/>
                  </a:lnTo>
                  <a:lnTo>
                    <a:pt x="1354" y="38"/>
                  </a:lnTo>
                  <a:lnTo>
                    <a:pt x="1344" y="44"/>
                  </a:lnTo>
                  <a:lnTo>
                    <a:pt x="1333" y="49"/>
                  </a:lnTo>
                  <a:lnTo>
                    <a:pt x="1324" y="51"/>
                  </a:lnTo>
                  <a:lnTo>
                    <a:pt x="1312" y="53"/>
                  </a:lnTo>
                  <a:lnTo>
                    <a:pt x="1305" y="53"/>
                  </a:lnTo>
                  <a:lnTo>
                    <a:pt x="1306" y="47"/>
                  </a:lnTo>
                  <a:lnTo>
                    <a:pt x="1310" y="42"/>
                  </a:lnTo>
                  <a:lnTo>
                    <a:pt x="1314" y="38"/>
                  </a:lnTo>
                  <a:lnTo>
                    <a:pt x="1320" y="34"/>
                  </a:lnTo>
                  <a:lnTo>
                    <a:pt x="1325" y="28"/>
                  </a:lnTo>
                  <a:lnTo>
                    <a:pt x="1329" y="25"/>
                  </a:lnTo>
                  <a:lnTo>
                    <a:pt x="1333" y="19"/>
                  </a:lnTo>
                  <a:lnTo>
                    <a:pt x="1335" y="13"/>
                  </a:lnTo>
                  <a:lnTo>
                    <a:pt x="1333" y="11"/>
                  </a:lnTo>
                  <a:lnTo>
                    <a:pt x="1325" y="13"/>
                  </a:lnTo>
                  <a:lnTo>
                    <a:pt x="1316" y="17"/>
                  </a:lnTo>
                  <a:lnTo>
                    <a:pt x="1306" y="21"/>
                  </a:lnTo>
                  <a:lnTo>
                    <a:pt x="1297" y="23"/>
                  </a:lnTo>
                  <a:lnTo>
                    <a:pt x="1287" y="27"/>
                  </a:lnTo>
                  <a:lnTo>
                    <a:pt x="1276" y="30"/>
                  </a:lnTo>
                  <a:lnTo>
                    <a:pt x="1270" y="30"/>
                  </a:lnTo>
                  <a:lnTo>
                    <a:pt x="1265" y="32"/>
                  </a:lnTo>
                  <a:lnTo>
                    <a:pt x="1259" y="34"/>
                  </a:lnTo>
                  <a:lnTo>
                    <a:pt x="1253" y="38"/>
                  </a:lnTo>
                  <a:lnTo>
                    <a:pt x="1246" y="38"/>
                  </a:lnTo>
                  <a:lnTo>
                    <a:pt x="1240" y="40"/>
                  </a:lnTo>
                  <a:lnTo>
                    <a:pt x="1232" y="42"/>
                  </a:lnTo>
                  <a:lnTo>
                    <a:pt x="1227" y="44"/>
                  </a:lnTo>
                  <a:lnTo>
                    <a:pt x="1219" y="44"/>
                  </a:lnTo>
                  <a:lnTo>
                    <a:pt x="1213" y="47"/>
                  </a:lnTo>
                  <a:lnTo>
                    <a:pt x="1206" y="49"/>
                  </a:lnTo>
                  <a:lnTo>
                    <a:pt x="1200" y="51"/>
                  </a:lnTo>
                  <a:lnTo>
                    <a:pt x="1192" y="51"/>
                  </a:lnTo>
                  <a:lnTo>
                    <a:pt x="1187" y="53"/>
                  </a:lnTo>
                  <a:lnTo>
                    <a:pt x="1179" y="55"/>
                  </a:lnTo>
                  <a:lnTo>
                    <a:pt x="1171" y="59"/>
                  </a:lnTo>
                  <a:lnTo>
                    <a:pt x="1166" y="59"/>
                  </a:lnTo>
                  <a:lnTo>
                    <a:pt x="1158" y="61"/>
                  </a:lnTo>
                  <a:lnTo>
                    <a:pt x="1151" y="63"/>
                  </a:lnTo>
                  <a:lnTo>
                    <a:pt x="1145" y="66"/>
                  </a:lnTo>
                  <a:lnTo>
                    <a:pt x="1135" y="66"/>
                  </a:lnTo>
                  <a:lnTo>
                    <a:pt x="1130" y="68"/>
                  </a:lnTo>
                  <a:lnTo>
                    <a:pt x="1122" y="68"/>
                  </a:lnTo>
                  <a:lnTo>
                    <a:pt x="1114" y="70"/>
                  </a:lnTo>
                  <a:lnTo>
                    <a:pt x="1107" y="72"/>
                  </a:lnTo>
                  <a:lnTo>
                    <a:pt x="1099" y="74"/>
                  </a:lnTo>
                  <a:lnTo>
                    <a:pt x="1092" y="76"/>
                  </a:lnTo>
                  <a:lnTo>
                    <a:pt x="1086" y="78"/>
                  </a:lnTo>
                  <a:lnTo>
                    <a:pt x="1078" y="78"/>
                  </a:lnTo>
                  <a:lnTo>
                    <a:pt x="1071" y="80"/>
                  </a:lnTo>
                  <a:lnTo>
                    <a:pt x="1063" y="80"/>
                  </a:lnTo>
                  <a:lnTo>
                    <a:pt x="1057" y="82"/>
                  </a:lnTo>
                  <a:lnTo>
                    <a:pt x="1050" y="84"/>
                  </a:lnTo>
                  <a:lnTo>
                    <a:pt x="1042" y="85"/>
                  </a:lnTo>
                  <a:lnTo>
                    <a:pt x="1036" y="87"/>
                  </a:lnTo>
                  <a:lnTo>
                    <a:pt x="1031" y="89"/>
                  </a:lnTo>
                  <a:lnTo>
                    <a:pt x="1023" y="89"/>
                  </a:lnTo>
                  <a:lnTo>
                    <a:pt x="1016" y="89"/>
                  </a:lnTo>
                  <a:lnTo>
                    <a:pt x="1010" y="91"/>
                  </a:lnTo>
                  <a:lnTo>
                    <a:pt x="1002" y="93"/>
                  </a:lnTo>
                  <a:lnTo>
                    <a:pt x="997" y="93"/>
                  </a:lnTo>
                  <a:lnTo>
                    <a:pt x="991" y="95"/>
                  </a:lnTo>
                  <a:lnTo>
                    <a:pt x="983" y="95"/>
                  </a:lnTo>
                  <a:lnTo>
                    <a:pt x="978" y="97"/>
                  </a:lnTo>
                  <a:lnTo>
                    <a:pt x="972" y="97"/>
                  </a:lnTo>
                  <a:lnTo>
                    <a:pt x="964" y="99"/>
                  </a:lnTo>
                  <a:lnTo>
                    <a:pt x="959" y="99"/>
                  </a:lnTo>
                  <a:lnTo>
                    <a:pt x="955" y="99"/>
                  </a:lnTo>
                  <a:lnTo>
                    <a:pt x="945" y="101"/>
                  </a:lnTo>
                  <a:lnTo>
                    <a:pt x="936" y="103"/>
                  </a:lnTo>
                  <a:lnTo>
                    <a:pt x="928" y="106"/>
                  </a:lnTo>
                  <a:lnTo>
                    <a:pt x="919" y="110"/>
                  </a:lnTo>
                  <a:lnTo>
                    <a:pt x="911" y="112"/>
                  </a:lnTo>
                  <a:lnTo>
                    <a:pt x="905" y="114"/>
                  </a:lnTo>
                  <a:lnTo>
                    <a:pt x="896" y="116"/>
                  </a:lnTo>
                  <a:lnTo>
                    <a:pt x="888" y="118"/>
                  </a:lnTo>
                  <a:lnTo>
                    <a:pt x="879" y="118"/>
                  </a:lnTo>
                  <a:lnTo>
                    <a:pt x="869" y="120"/>
                  </a:lnTo>
                  <a:lnTo>
                    <a:pt x="860" y="122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5" y="125"/>
                  </a:lnTo>
                  <a:lnTo>
                    <a:pt x="816" y="125"/>
                  </a:lnTo>
                  <a:lnTo>
                    <a:pt x="805" y="127"/>
                  </a:lnTo>
                  <a:lnTo>
                    <a:pt x="799" y="127"/>
                  </a:lnTo>
                  <a:lnTo>
                    <a:pt x="791" y="127"/>
                  </a:lnTo>
                  <a:lnTo>
                    <a:pt x="787" y="127"/>
                  </a:lnTo>
                  <a:lnTo>
                    <a:pt x="782" y="127"/>
                  </a:lnTo>
                  <a:lnTo>
                    <a:pt x="770" y="127"/>
                  </a:lnTo>
                  <a:lnTo>
                    <a:pt x="759" y="129"/>
                  </a:lnTo>
                  <a:lnTo>
                    <a:pt x="748" y="127"/>
                  </a:lnTo>
                  <a:lnTo>
                    <a:pt x="738" y="127"/>
                  </a:lnTo>
                  <a:lnTo>
                    <a:pt x="728" y="127"/>
                  </a:lnTo>
                  <a:lnTo>
                    <a:pt x="721" y="127"/>
                  </a:lnTo>
                  <a:lnTo>
                    <a:pt x="711" y="127"/>
                  </a:lnTo>
                  <a:lnTo>
                    <a:pt x="704" y="125"/>
                  </a:lnTo>
                  <a:lnTo>
                    <a:pt x="696" y="125"/>
                  </a:lnTo>
                  <a:lnTo>
                    <a:pt x="692" y="125"/>
                  </a:lnTo>
                  <a:lnTo>
                    <a:pt x="683" y="122"/>
                  </a:lnTo>
                  <a:lnTo>
                    <a:pt x="681" y="118"/>
                  </a:lnTo>
                  <a:lnTo>
                    <a:pt x="673" y="124"/>
                  </a:lnTo>
                  <a:lnTo>
                    <a:pt x="666" y="127"/>
                  </a:lnTo>
                  <a:lnTo>
                    <a:pt x="658" y="131"/>
                  </a:lnTo>
                  <a:lnTo>
                    <a:pt x="651" y="135"/>
                  </a:lnTo>
                  <a:lnTo>
                    <a:pt x="643" y="137"/>
                  </a:lnTo>
                  <a:lnTo>
                    <a:pt x="635" y="139"/>
                  </a:lnTo>
                  <a:lnTo>
                    <a:pt x="628" y="139"/>
                  </a:lnTo>
                  <a:lnTo>
                    <a:pt x="620" y="139"/>
                  </a:lnTo>
                  <a:lnTo>
                    <a:pt x="611" y="137"/>
                  </a:lnTo>
                  <a:lnTo>
                    <a:pt x="601" y="135"/>
                  </a:lnTo>
                  <a:lnTo>
                    <a:pt x="594" y="131"/>
                  </a:lnTo>
                  <a:lnTo>
                    <a:pt x="584" y="129"/>
                  </a:lnTo>
                  <a:lnTo>
                    <a:pt x="574" y="125"/>
                  </a:lnTo>
                  <a:lnTo>
                    <a:pt x="565" y="122"/>
                  </a:lnTo>
                  <a:lnTo>
                    <a:pt x="555" y="118"/>
                  </a:lnTo>
                  <a:lnTo>
                    <a:pt x="548" y="114"/>
                  </a:lnTo>
                  <a:lnTo>
                    <a:pt x="536" y="108"/>
                  </a:lnTo>
                  <a:lnTo>
                    <a:pt x="527" y="103"/>
                  </a:lnTo>
                  <a:lnTo>
                    <a:pt x="517" y="97"/>
                  </a:lnTo>
                  <a:lnTo>
                    <a:pt x="508" y="93"/>
                  </a:lnTo>
                  <a:lnTo>
                    <a:pt x="498" y="87"/>
                  </a:lnTo>
                  <a:lnTo>
                    <a:pt x="489" y="84"/>
                  </a:lnTo>
                  <a:lnTo>
                    <a:pt x="478" y="80"/>
                  </a:lnTo>
                  <a:lnTo>
                    <a:pt x="468" y="76"/>
                  </a:lnTo>
                  <a:lnTo>
                    <a:pt x="459" y="72"/>
                  </a:lnTo>
                  <a:lnTo>
                    <a:pt x="449" y="68"/>
                  </a:lnTo>
                  <a:lnTo>
                    <a:pt x="440" y="66"/>
                  </a:lnTo>
                  <a:lnTo>
                    <a:pt x="430" y="63"/>
                  </a:lnTo>
                  <a:lnTo>
                    <a:pt x="421" y="61"/>
                  </a:lnTo>
                  <a:lnTo>
                    <a:pt x="411" y="61"/>
                  </a:lnTo>
                  <a:lnTo>
                    <a:pt x="401" y="61"/>
                  </a:lnTo>
                  <a:lnTo>
                    <a:pt x="392" y="61"/>
                  </a:lnTo>
                  <a:lnTo>
                    <a:pt x="392" y="63"/>
                  </a:lnTo>
                  <a:lnTo>
                    <a:pt x="392" y="66"/>
                  </a:lnTo>
                  <a:lnTo>
                    <a:pt x="401" y="66"/>
                  </a:lnTo>
                  <a:lnTo>
                    <a:pt x="411" y="70"/>
                  </a:lnTo>
                  <a:lnTo>
                    <a:pt x="421" y="72"/>
                  </a:lnTo>
                  <a:lnTo>
                    <a:pt x="430" y="78"/>
                  </a:lnTo>
                  <a:lnTo>
                    <a:pt x="438" y="82"/>
                  </a:lnTo>
                  <a:lnTo>
                    <a:pt x="445" y="87"/>
                  </a:lnTo>
                  <a:lnTo>
                    <a:pt x="455" y="91"/>
                  </a:lnTo>
                  <a:lnTo>
                    <a:pt x="464" y="95"/>
                  </a:lnTo>
                  <a:lnTo>
                    <a:pt x="464" y="97"/>
                  </a:lnTo>
                  <a:lnTo>
                    <a:pt x="464" y="101"/>
                  </a:lnTo>
                  <a:lnTo>
                    <a:pt x="453" y="101"/>
                  </a:lnTo>
                  <a:lnTo>
                    <a:pt x="443" y="101"/>
                  </a:lnTo>
                  <a:lnTo>
                    <a:pt x="434" y="99"/>
                  </a:lnTo>
                  <a:lnTo>
                    <a:pt x="424" y="97"/>
                  </a:lnTo>
                  <a:lnTo>
                    <a:pt x="415" y="91"/>
                  </a:lnTo>
                  <a:lnTo>
                    <a:pt x="407" y="89"/>
                  </a:lnTo>
                  <a:lnTo>
                    <a:pt x="398" y="85"/>
                  </a:lnTo>
                  <a:lnTo>
                    <a:pt x="388" y="82"/>
                  </a:lnTo>
                  <a:lnTo>
                    <a:pt x="379" y="78"/>
                  </a:lnTo>
                  <a:lnTo>
                    <a:pt x="371" y="76"/>
                  </a:lnTo>
                  <a:lnTo>
                    <a:pt x="362" y="72"/>
                  </a:lnTo>
                  <a:lnTo>
                    <a:pt x="354" y="72"/>
                  </a:lnTo>
                  <a:lnTo>
                    <a:pt x="344" y="72"/>
                  </a:lnTo>
                  <a:lnTo>
                    <a:pt x="337" y="74"/>
                  </a:lnTo>
                  <a:lnTo>
                    <a:pt x="327" y="78"/>
                  </a:lnTo>
                  <a:lnTo>
                    <a:pt x="320" y="85"/>
                  </a:lnTo>
                  <a:lnTo>
                    <a:pt x="320" y="87"/>
                  </a:lnTo>
                  <a:lnTo>
                    <a:pt x="320" y="89"/>
                  </a:lnTo>
                  <a:lnTo>
                    <a:pt x="329" y="89"/>
                  </a:lnTo>
                  <a:lnTo>
                    <a:pt x="337" y="93"/>
                  </a:lnTo>
                  <a:lnTo>
                    <a:pt x="344" y="99"/>
                  </a:lnTo>
                  <a:lnTo>
                    <a:pt x="354" y="106"/>
                  </a:lnTo>
                  <a:lnTo>
                    <a:pt x="354" y="110"/>
                  </a:lnTo>
                  <a:lnTo>
                    <a:pt x="354" y="114"/>
                  </a:lnTo>
                  <a:lnTo>
                    <a:pt x="346" y="114"/>
                  </a:lnTo>
                  <a:lnTo>
                    <a:pt x="341" y="114"/>
                  </a:lnTo>
                  <a:lnTo>
                    <a:pt x="335" y="112"/>
                  </a:lnTo>
                  <a:lnTo>
                    <a:pt x="329" y="112"/>
                  </a:lnTo>
                  <a:lnTo>
                    <a:pt x="324" y="108"/>
                  </a:lnTo>
                  <a:lnTo>
                    <a:pt x="316" y="108"/>
                  </a:lnTo>
                  <a:lnTo>
                    <a:pt x="310" y="106"/>
                  </a:lnTo>
                  <a:lnTo>
                    <a:pt x="305" y="106"/>
                  </a:lnTo>
                  <a:lnTo>
                    <a:pt x="293" y="104"/>
                  </a:lnTo>
                  <a:lnTo>
                    <a:pt x="284" y="106"/>
                  </a:lnTo>
                  <a:lnTo>
                    <a:pt x="278" y="106"/>
                  </a:lnTo>
                  <a:lnTo>
                    <a:pt x="274" y="112"/>
                  </a:lnTo>
                  <a:lnTo>
                    <a:pt x="272" y="116"/>
                  </a:lnTo>
                  <a:lnTo>
                    <a:pt x="270" y="124"/>
                  </a:lnTo>
                  <a:lnTo>
                    <a:pt x="276" y="124"/>
                  </a:lnTo>
                  <a:lnTo>
                    <a:pt x="282" y="125"/>
                  </a:lnTo>
                  <a:lnTo>
                    <a:pt x="286" y="125"/>
                  </a:lnTo>
                  <a:lnTo>
                    <a:pt x="289" y="129"/>
                  </a:lnTo>
                  <a:lnTo>
                    <a:pt x="289" y="131"/>
                  </a:lnTo>
                  <a:lnTo>
                    <a:pt x="289" y="137"/>
                  </a:lnTo>
                  <a:lnTo>
                    <a:pt x="282" y="137"/>
                  </a:lnTo>
                  <a:lnTo>
                    <a:pt x="274" y="137"/>
                  </a:lnTo>
                  <a:lnTo>
                    <a:pt x="267" y="137"/>
                  </a:lnTo>
                  <a:lnTo>
                    <a:pt x="259" y="139"/>
                  </a:lnTo>
                  <a:lnTo>
                    <a:pt x="251" y="137"/>
                  </a:lnTo>
                  <a:lnTo>
                    <a:pt x="244" y="137"/>
                  </a:lnTo>
                  <a:lnTo>
                    <a:pt x="234" y="137"/>
                  </a:lnTo>
                  <a:lnTo>
                    <a:pt x="228" y="139"/>
                  </a:lnTo>
                  <a:lnTo>
                    <a:pt x="221" y="139"/>
                  </a:lnTo>
                  <a:lnTo>
                    <a:pt x="213" y="141"/>
                  </a:lnTo>
                  <a:lnTo>
                    <a:pt x="206" y="143"/>
                  </a:lnTo>
                  <a:lnTo>
                    <a:pt x="200" y="146"/>
                  </a:lnTo>
                  <a:lnTo>
                    <a:pt x="194" y="150"/>
                  </a:lnTo>
                  <a:lnTo>
                    <a:pt x="189" y="156"/>
                  </a:lnTo>
                  <a:lnTo>
                    <a:pt x="185" y="162"/>
                  </a:lnTo>
                  <a:lnTo>
                    <a:pt x="183" y="171"/>
                  </a:lnTo>
                  <a:lnTo>
                    <a:pt x="189" y="171"/>
                  </a:lnTo>
                  <a:lnTo>
                    <a:pt x="194" y="171"/>
                  </a:lnTo>
                  <a:lnTo>
                    <a:pt x="198" y="173"/>
                  </a:lnTo>
                  <a:lnTo>
                    <a:pt x="204" y="177"/>
                  </a:lnTo>
                  <a:lnTo>
                    <a:pt x="204" y="179"/>
                  </a:lnTo>
                  <a:lnTo>
                    <a:pt x="204" y="181"/>
                  </a:lnTo>
                  <a:lnTo>
                    <a:pt x="192" y="179"/>
                  </a:lnTo>
                  <a:lnTo>
                    <a:pt x="181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1" y="175"/>
                  </a:lnTo>
                  <a:lnTo>
                    <a:pt x="139" y="175"/>
                  </a:lnTo>
                  <a:lnTo>
                    <a:pt x="130" y="177"/>
                  </a:lnTo>
                  <a:lnTo>
                    <a:pt x="120" y="179"/>
                  </a:lnTo>
                  <a:lnTo>
                    <a:pt x="109" y="179"/>
                  </a:lnTo>
                  <a:lnTo>
                    <a:pt x="97" y="181"/>
                  </a:lnTo>
                  <a:lnTo>
                    <a:pt x="88" y="182"/>
                  </a:lnTo>
                  <a:lnTo>
                    <a:pt x="78" y="186"/>
                  </a:lnTo>
                  <a:lnTo>
                    <a:pt x="67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8" y="200"/>
                  </a:lnTo>
                  <a:lnTo>
                    <a:pt x="40" y="205"/>
                  </a:lnTo>
                  <a:lnTo>
                    <a:pt x="46" y="213"/>
                  </a:lnTo>
                  <a:lnTo>
                    <a:pt x="50" y="217"/>
                  </a:lnTo>
                  <a:lnTo>
                    <a:pt x="57" y="224"/>
                  </a:lnTo>
                  <a:lnTo>
                    <a:pt x="57" y="226"/>
                  </a:lnTo>
                  <a:lnTo>
                    <a:pt x="57" y="228"/>
                  </a:lnTo>
                  <a:lnTo>
                    <a:pt x="48" y="228"/>
                  </a:lnTo>
                  <a:lnTo>
                    <a:pt x="42" y="226"/>
                  </a:lnTo>
                  <a:lnTo>
                    <a:pt x="35" y="224"/>
                  </a:lnTo>
                  <a:lnTo>
                    <a:pt x="29" y="222"/>
                  </a:lnTo>
                  <a:lnTo>
                    <a:pt x="21" y="217"/>
                  </a:lnTo>
                  <a:lnTo>
                    <a:pt x="14" y="215"/>
                  </a:lnTo>
                  <a:lnTo>
                    <a:pt x="6" y="20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6" y="232"/>
                  </a:lnTo>
                  <a:lnTo>
                    <a:pt x="12" y="234"/>
                  </a:lnTo>
                  <a:lnTo>
                    <a:pt x="19" y="238"/>
                  </a:lnTo>
                  <a:lnTo>
                    <a:pt x="27" y="241"/>
                  </a:lnTo>
                  <a:lnTo>
                    <a:pt x="33" y="243"/>
                  </a:lnTo>
                  <a:lnTo>
                    <a:pt x="38" y="245"/>
                  </a:lnTo>
                  <a:lnTo>
                    <a:pt x="46" y="249"/>
                  </a:lnTo>
                  <a:lnTo>
                    <a:pt x="52" y="253"/>
                  </a:lnTo>
                  <a:lnTo>
                    <a:pt x="59" y="257"/>
                  </a:lnTo>
                  <a:lnTo>
                    <a:pt x="65" y="260"/>
                  </a:lnTo>
                  <a:lnTo>
                    <a:pt x="71" y="264"/>
                  </a:lnTo>
                  <a:lnTo>
                    <a:pt x="78" y="268"/>
                  </a:lnTo>
                  <a:lnTo>
                    <a:pt x="84" y="272"/>
                  </a:lnTo>
                  <a:lnTo>
                    <a:pt x="92" y="277"/>
                  </a:lnTo>
                  <a:lnTo>
                    <a:pt x="97" y="279"/>
                  </a:lnTo>
                  <a:lnTo>
                    <a:pt x="105" y="285"/>
                  </a:lnTo>
                  <a:lnTo>
                    <a:pt x="111" y="289"/>
                  </a:lnTo>
                  <a:lnTo>
                    <a:pt x="116" y="293"/>
                  </a:lnTo>
                  <a:lnTo>
                    <a:pt x="124" y="297"/>
                  </a:lnTo>
                  <a:lnTo>
                    <a:pt x="130" y="300"/>
                  </a:lnTo>
                  <a:lnTo>
                    <a:pt x="135" y="304"/>
                  </a:lnTo>
                  <a:lnTo>
                    <a:pt x="143" y="306"/>
                  </a:lnTo>
                  <a:lnTo>
                    <a:pt x="149" y="310"/>
                  </a:lnTo>
                  <a:lnTo>
                    <a:pt x="156" y="314"/>
                  </a:lnTo>
                  <a:lnTo>
                    <a:pt x="162" y="316"/>
                  </a:lnTo>
                  <a:lnTo>
                    <a:pt x="170" y="319"/>
                  </a:lnTo>
                  <a:lnTo>
                    <a:pt x="175" y="321"/>
                  </a:lnTo>
                  <a:lnTo>
                    <a:pt x="181" y="325"/>
                  </a:lnTo>
                  <a:lnTo>
                    <a:pt x="189" y="325"/>
                  </a:lnTo>
                  <a:lnTo>
                    <a:pt x="196" y="327"/>
                  </a:lnTo>
                  <a:lnTo>
                    <a:pt x="202" y="329"/>
                  </a:lnTo>
                  <a:lnTo>
                    <a:pt x="209" y="331"/>
                  </a:lnTo>
                  <a:lnTo>
                    <a:pt x="198" y="325"/>
                  </a:lnTo>
                  <a:lnTo>
                    <a:pt x="189" y="319"/>
                  </a:lnTo>
                  <a:lnTo>
                    <a:pt x="179" y="316"/>
                  </a:lnTo>
                  <a:lnTo>
                    <a:pt x="170" y="310"/>
                  </a:lnTo>
                  <a:lnTo>
                    <a:pt x="160" y="304"/>
                  </a:lnTo>
                  <a:lnTo>
                    <a:pt x="151" y="298"/>
                  </a:lnTo>
                  <a:lnTo>
                    <a:pt x="141" y="293"/>
                  </a:lnTo>
                  <a:lnTo>
                    <a:pt x="133" y="289"/>
                  </a:lnTo>
                  <a:lnTo>
                    <a:pt x="124" y="281"/>
                  </a:lnTo>
                  <a:lnTo>
                    <a:pt x="114" y="276"/>
                  </a:lnTo>
                  <a:lnTo>
                    <a:pt x="105" y="270"/>
                  </a:lnTo>
                  <a:lnTo>
                    <a:pt x="95" y="264"/>
                  </a:lnTo>
                  <a:lnTo>
                    <a:pt x="86" y="258"/>
                  </a:lnTo>
                  <a:lnTo>
                    <a:pt x="78" y="251"/>
                  </a:lnTo>
                  <a:lnTo>
                    <a:pt x="69" y="245"/>
                  </a:lnTo>
                  <a:lnTo>
                    <a:pt x="59" y="239"/>
                  </a:lnTo>
                  <a:lnTo>
                    <a:pt x="59" y="234"/>
                  </a:lnTo>
                  <a:lnTo>
                    <a:pt x="59" y="232"/>
                  </a:lnTo>
                  <a:lnTo>
                    <a:pt x="67" y="232"/>
                  </a:lnTo>
                  <a:lnTo>
                    <a:pt x="75" y="234"/>
                  </a:lnTo>
                  <a:lnTo>
                    <a:pt x="82" y="236"/>
                  </a:lnTo>
                  <a:lnTo>
                    <a:pt x="90" y="239"/>
                  </a:lnTo>
                  <a:lnTo>
                    <a:pt x="97" y="243"/>
                  </a:lnTo>
                  <a:lnTo>
                    <a:pt x="105" y="245"/>
                  </a:lnTo>
                  <a:lnTo>
                    <a:pt x="113" y="249"/>
                  </a:lnTo>
                  <a:lnTo>
                    <a:pt x="120" y="253"/>
                  </a:lnTo>
                  <a:lnTo>
                    <a:pt x="126" y="255"/>
                  </a:lnTo>
                  <a:lnTo>
                    <a:pt x="135" y="258"/>
                  </a:lnTo>
                  <a:lnTo>
                    <a:pt x="141" y="260"/>
                  </a:lnTo>
                  <a:lnTo>
                    <a:pt x="151" y="264"/>
                  </a:lnTo>
                  <a:lnTo>
                    <a:pt x="156" y="268"/>
                  </a:lnTo>
                  <a:lnTo>
                    <a:pt x="166" y="272"/>
                  </a:lnTo>
                  <a:lnTo>
                    <a:pt x="171" y="276"/>
                  </a:lnTo>
                  <a:lnTo>
                    <a:pt x="179" y="279"/>
                  </a:lnTo>
                  <a:lnTo>
                    <a:pt x="187" y="283"/>
                  </a:lnTo>
                  <a:lnTo>
                    <a:pt x="194" y="287"/>
                  </a:lnTo>
                  <a:lnTo>
                    <a:pt x="200" y="289"/>
                  </a:lnTo>
                  <a:lnTo>
                    <a:pt x="208" y="293"/>
                  </a:lnTo>
                  <a:lnTo>
                    <a:pt x="213" y="297"/>
                  </a:lnTo>
                  <a:lnTo>
                    <a:pt x="221" y="300"/>
                  </a:lnTo>
                  <a:lnTo>
                    <a:pt x="228" y="306"/>
                  </a:lnTo>
                  <a:lnTo>
                    <a:pt x="236" y="310"/>
                  </a:lnTo>
                  <a:lnTo>
                    <a:pt x="242" y="314"/>
                  </a:lnTo>
                  <a:lnTo>
                    <a:pt x="249" y="317"/>
                  </a:lnTo>
                  <a:lnTo>
                    <a:pt x="255" y="323"/>
                  </a:lnTo>
                  <a:lnTo>
                    <a:pt x="263" y="327"/>
                  </a:lnTo>
                  <a:lnTo>
                    <a:pt x="270" y="331"/>
                  </a:lnTo>
                  <a:lnTo>
                    <a:pt x="278" y="335"/>
                  </a:lnTo>
                  <a:lnTo>
                    <a:pt x="286" y="338"/>
                  </a:lnTo>
                  <a:lnTo>
                    <a:pt x="291" y="344"/>
                  </a:lnTo>
                  <a:lnTo>
                    <a:pt x="299" y="348"/>
                  </a:lnTo>
                  <a:lnTo>
                    <a:pt x="305" y="354"/>
                  </a:lnTo>
                  <a:lnTo>
                    <a:pt x="310" y="355"/>
                  </a:lnTo>
                  <a:lnTo>
                    <a:pt x="318" y="361"/>
                  </a:lnTo>
                  <a:lnTo>
                    <a:pt x="325" y="365"/>
                  </a:lnTo>
                  <a:lnTo>
                    <a:pt x="333" y="371"/>
                  </a:lnTo>
                  <a:lnTo>
                    <a:pt x="339" y="374"/>
                  </a:lnTo>
                  <a:lnTo>
                    <a:pt x="346" y="380"/>
                  </a:lnTo>
                  <a:lnTo>
                    <a:pt x="354" y="382"/>
                  </a:lnTo>
                  <a:lnTo>
                    <a:pt x="360" y="388"/>
                  </a:lnTo>
                  <a:lnTo>
                    <a:pt x="367" y="392"/>
                  </a:lnTo>
                  <a:lnTo>
                    <a:pt x="375" y="397"/>
                  </a:lnTo>
                  <a:lnTo>
                    <a:pt x="381" y="401"/>
                  </a:lnTo>
                  <a:lnTo>
                    <a:pt x="388" y="405"/>
                  </a:lnTo>
                  <a:lnTo>
                    <a:pt x="396" y="409"/>
                  </a:lnTo>
                  <a:lnTo>
                    <a:pt x="403" y="414"/>
                  </a:lnTo>
                  <a:lnTo>
                    <a:pt x="409" y="418"/>
                  </a:lnTo>
                  <a:lnTo>
                    <a:pt x="417" y="422"/>
                  </a:lnTo>
                  <a:lnTo>
                    <a:pt x="424" y="426"/>
                  </a:lnTo>
                  <a:lnTo>
                    <a:pt x="430" y="430"/>
                  </a:lnTo>
                  <a:lnTo>
                    <a:pt x="438" y="435"/>
                  </a:lnTo>
                  <a:lnTo>
                    <a:pt x="445" y="439"/>
                  </a:lnTo>
                  <a:lnTo>
                    <a:pt x="453" y="443"/>
                  </a:lnTo>
                  <a:lnTo>
                    <a:pt x="459" y="447"/>
                  </a:lnTo>
                  <a:lnTo>
                    <a:pt x="466" y="450"/>
                  </a:lnTo>
                  <a:lnTo>
                    <a:pt x="474" y="454"/>
                  </a:lnTo>
                  <a:lnTo>
                    <a:pt x="481" y="458"/>
                  </a:lnTo>
                  <a:lnTo>
                    <a:pt x="489" y="462"/>
                  </a:lnTo>
                  <a:lnTo>
                    <a:pt x="495" y="466"/>
                  </a:lnTo>
                  <a:lnTo>
                    <a:pt x="502" y="470"/>
                  </a:lnTo>
                  <a:lnTo>
                    <a:pt x="510" y="473"/>
                  </a:lnTo>
                  <a:lnTo>
                    <a:pt x="519" y="479"/>
                  </a:lnTo>
                  <a:lnTo>
                    <a:pt x="554" y="475"/>
                  </a:lnTo>
                  <a:lnTo>
                    <a:pt x="592" y="473"/>
                  </a:lnTo>
                  <a:lnTo>
                    <a:pt x="628" y="471"/>
                  </a:lnTo>
                  <a:lnTo>
                    <a:pt x="664" y="470"/>
                  </a:lnTo>
                  <a:lnTo>
                    <a:pt x="700" y="468"/>
                  </a:lnTo>
                  <a:lnTo>
                    <a:pt x="736" y="466"/>
                  </a:lnTo>
                  <a:lnTo>
                    <a:pt x="772" y="464"/>
                  </a:lnTo>
                  <a:lnTo>
                    <a:pt x="810" y="464"/>
                  </a:lnTo>
                  <a:lnTo>
                    <a:pt x="846" y="464"/>
                  </a:lnTo>
                  <a:lnTo>
                    <a:pt x="882" y="462"/>
                  </a:lnTo>
                  <a:lnTo>
                    <a:pt x="919" y="462"/>
                  </a:lnTo>
                  <a:lnTo>
                    <a:pt x="957" y="462"/>
                  </a:lnTo>
                  <a:lnTo>
                    <a:pt x="993" y="462"/>
                  </a:lnTo>
                  <a:lnTo>
                    <a:pt x="1031" y="462"/>
                  </a:lnTo>
                  <a:lnTo>
                    <a:pt x="1067" y="462"/>
                  </a:lnTo>
                  <a:lnTo>
                    <a:pt x="1105" y="462"/>
                  </a:lnTo>
                  <a:lnTo>
                    <a:pt x="1141" y="460"/>
                  </a:lnTo>
                  <a:lnTo>
                    <a:pt x="1177" y="460"/>
                  </a:lnTo>
                  <a:lnTo>
                    <a:pt x="1215" y="460"/>
                  </a:lnTo>
                  <a:lnTo>
                    <a:pt x="1251" y="460"/>
                  </a:lnTo>
                  <a:lnTo>
                    <a:pt x="1287" y="460"/>
                  </a:lnTo>
                  <a:lnTo>
                    <a:pt x="1325" y="462"/>
                  </a:lnTo>
                  <a:lnTo>
                    <a:pt x="1362" y="462"/>
                  </a:lnTo>
                  <a:lnTo>
                    <a:pt x="1400" y="462"/>
                  </a:lnTo>
                  <a:lnTo>
                    <a:pt x="1436" y="462"/>
                  </a:lnTo>
                  <a:lnTo>
                    <a:pt x="1474" y="462"/>
                  </a:lnTo>
                  <a:lnTo>
                    <a:pt x="1510" y="464"/>
                  </a:lnTo>
                  <a:lnTo>
                    <a:pt x="1548" y="464"/>
                  </a:lnTo>
                  <a:lnTo>
                    <a:pt x="1584" y="464"/>
                  </a:lnTo>
                  <a:lnTo>
                    <a:pt x="1622" y="464"/>
                  </a:lnTo>
                  <a:lnTo>
                    <a:pt x="1658" y="466"/>
                  </a:lnTo>
                  <a:lnTo>
                    <a:pt x="1696" y="466"/>
                  </a:lnTo>
                  <a:lnTo>
                    <a:pt x="1732" y="466"/>
                  </a:lnTo>
                  <a:lnTo>
                    <a:pt x="1768" y="466"/>
                  </a:lnTo>
                  <a:lnTo>
                    <a:pt x="1805" y="466"/>
                  </a:lnTo>
                  <a:lnTo>
                    <a:pt x="1843" y="466"/>
                  </a:lnTo>
                  <a:lnTo>
                    <a:pt x="1879" y="466"/>
                  </a:lnTo>
                  <a:lnTo>
                    <a:pt x="1917" y="466"/>
                  </a:lnTo>
                  <a:lnTo>
                    <a:pt x="1953" y="466"/>
                  </a:lnTo>
                  <a:lnTo>
                    <a:pt x="1991" y="468"/>
                  </a:lnTo>
                  <a:lnTo>
                    <a:pt x="2027" y="466"/>
                  </a:lnTo>
                  <a:lnTo>
                    <a:pt x="2063" y="466"/>
                  </a:lnTo>
                  <a:lnTo>
                    <a:pt x="2099" y="466"/>
                  </a:lnTo>
                  <a:lnTo>
                    <a:pt x="2135" y="466"/>
                  </a:lnTo>
                  <a:lnTo>
                    <a:pt x="2171" y="466"/>
                  </a:lnTo>
                  <a:lnTo>
                    <a:pt x="2209" y="466"/>
                  </a:lnTo>
                  <a:lnTo>
                    <a:pt x="2246" y="466"/>
                  </a:lnTo>
                  <a:lnTo>
                    <a:pt x="2282" y="466"/>
                  </a:lnTo>
                  <a:lnTo>
                    <a:pt x="2318" y="464"/>
                  </a:lnTo>
                  <a:lnTo>
                    <a:pt x="2354" y="462"/>
                  </a:lnTo>
                  <a:lnTo>
                    <a:pt x="2390" y="462"/>
                  </a:lnTo>
                  <a:lnTo>
                    <a:pt x="2426" y="460"/>
                  </a:lnTo>
                  <a:lnTo>
                    <a:pt x="2462" y="458"/>
                  </a:lnTo>
                  <a:lnTo>
                    <a:pt x="2498" y="456"/>
                  </a:lnTo>
                  <a:lnTo>
                    <a:pt x="2535" y="454"/>
                  </a:lnTo>
                  <a:lnTo>
                    <a:pt x="2571" y="454"/>
                  </a:lnTo>
                  <a:lnTo>
                    <a:pt x="2607" y="450"/>
                  </a:lnTo>
                  <a:lnTo>
                    <a:pt x="2643" y="449"/>
                  </a:lnTo>
                  <a:lnTo>
                    <a:pt x="2679" y="445"/>
                  </a:lnTo>
                  <a:lnTo>
                    <a:pt x="2715" y="443"/>
                  </a:lnTo>
                  <a:lnTo>
                    <a:pt x="2749" y="441"/>
                  </a:lnTo>
                  <a:lnTo>
                    <a:pt x="2786" y="437"/>
                  </a:lnTo>
                  <a:lnTo>
                    <a:pt x="2822" y="433"/>
                  </a:lnTo>
                  <a:lnTo>
                    <a:pt x="2858" y="430"/>
                  </a:lnTo>
                  <a:lnTo>
                    <a:pt x="2850" y="428"/>
                  </a:lnTo>
                  <a:lnTo>
                    <a:pt x="2843" y="426"/>
                  </a:lnTo>
                  <a:lnTo>
                    <a:pt x="2835" y="424"/>
                  </a:lnTo>
                  <a:lnTo>
                    <a:pt x="2829" y="422"/>
                  </a:lnTo>
                  <a:lnTo>
                    <a:pt x="2822" y="420"/>
                  </a:lnTo>
                  <a:lnTo>
                    <a:pt x="2816" y="420"/>
                  </a:lnTo>
                  <a:lnTo>
                    <a:pt x="2808" y="420"/>
                  </a:lnTo>
                  <a:lnTo>
                    <a:pt x="2801" y="420"/>
                  </a:lnTo>
                  <a:lnTo>
                    <a:pt x="2795" y="420"/>
                  </a:lnTo>
                  <a:lnTo>
                    <a:pt x="2787" y="420"/>
                  </a:lnTo>
                  <a:lnTo>
                    <a:pt x="2780" y="420"/>
                  </a:lnTo>
                  <a:lnTo>
                    <a:pt x="2772" y="422"/>
                  </a:lnTo>
                  <a:lnTo>
                    <a:pt x="2765" y="422"/>
                  </a:lnTo>
                  <a:lnTo>
                    <a:pt x="2759" y="424"/>
                  </a:lnTo>
                  <a:lnTo>
                    <a:pt x="2751" y="424"/>
                  </a:lnTo>
                  <a:lnTo>
                    <a:pt x="2744" y="426"/>
                  </a:lnTo>
                  <a:lnTo>
                    <a:pt x="2736" y="426"/>
                  </a:lnTo>
                  <a:lnTo>
                    <a:pt x="2728" y="428"/>
                  </a:lnTo>
                  <a:lnTo>
                    <a:pt x="2721" y="428"/>
                  </a:lnTo>
                  <a:lnTo>
                    <a:pt x="2715" y="428"/>
                  </a:lnTo>
                  <a:lnTo>
                    <a:pt x="2708" y="428"/>
                  </a:lnTo>
                  <a:lnTo>
                    <a:pt x="2700" y="430"/>
                  </a:lnTo>
                  <a:lnTo>
                    <a:pt x="2694" y="430"/>
                  </a:lnTo>
                  <a:lnTo>
                    <a:pt x="2687" y="430"/>
                  </a:lnTo>
                  <a:lnTo>
                    <a:pt x="2679" y="430"/>
                  </a:lnTo>
                  <a:lnTo>
                    <a:pt x="2673" y="430"/>
                  </a:lnTo>
                  <a:lnTo>
                    <a:pt x="2668" y="428"/>
                  </a:lnTo>
                  <a:lnTo>
                    <a:pt x="2660" y="428"/>
                  </a:lnTo>
                  <a:lnTo>
                    <a:pt x="2654" y="426"/>
                  </a:lnTo>
                  <a:lnTo>
                    <a:pt x="2649" y="424"/>
                  </a:lnTo>
                  <a:lnTo>
                    <a:pt x="2643" y="422"/>
                  </a:lnTo>
                  <a:lnTo>
                    <a:pt x="2637" y="420"/>
                  </a:lnTo>
                  <a:lnTo>
                    <a:pt x="2643" y="418"/>
                  </a:lnTo>
                  <a:lnTo>
                    <a:pt x="2649" y="416"/>
                  </a:lnTo>
                  <a:lnTo>
                    <a:pt x="2656" y="414"/>
                  </a:lnTo>
                  <a:lnTo>
                    <a:pt x="2662" y="414"/>
                  </a:lnTo>
                  <a:lnTo>
                    <a:pt x="2668" y="412"/>
                  </a:lnTo>
                  <a:lnTo>
                    <a:pt x="2675" y="411"/>
                  </a:lnTo>
                  <a:lnTo>
                    <a:pt x="2681" y="411"/>
                  </a:lnTo>
                  <a:lnTo>
                    <a:pt x="2687" y="411"/>
                  </a:lnTo>
                  <a:lnTo>
                    <a:pt x="2694" y="409"/>
                  </a:lnTo>
                  <a:lnTo>
                    <a:pt x="2700" y="409"/>
                  </a:lnTo>
                  <a:lnTo>
                    <a:pt x="2706" y="407"/>
                  </a:lnTo>
                  <a:lnTo>
                    <a:pt x="2713" y="407"/>
                  </a:lnTo>
                  <a:lnTo>
                    <a:pt x="2719" y="407"/>
                  </a:lnTo>
                  <a:lnTo>
                    <a:pt x="2725" y="407"/>
                  </a:lnTo>
                  <a:lnTo>
                    <a:pt x="2732" y="405"/>
                  </a:lnTo>
                  <a:lnTo>
                    <a:pt x="2738" y="405"/>
                  </a:lnTo>
                  <a:lnTo>
                    <a:pt x="2744" y="405"/>
                  </a:lnTo>
                  <a:lnTo>
                    <a:pt x="2749" y="403"/>
                  </a:lnTo>
                  <a:lnTo>
                    <a:pt x="2755" y="401"/>
                  </a:lnTo>
                  <a:lnTo>
                    <a:pt x="2763" y="401"/>
                  </a:lnTo>
                  <a:lnTo>
                    <a:pt x="2768" y="401"/>
                  </a:lnTo>
                  <a:lnTo>
                    <a:pt x="2774" y="399"/>
                  </a:lnTo>
                  <a:lnTo>
                    <a:pt x="2782" y="399"/>
                  </a:lnTo>
                  <a:lnTo>
                    <a:pt x="2787" y="399"/>
                  </a:lnTo>
                  <a:lnTo>
                    <a:pt x="2795" y="397"/>
                  </a:lnTo>
                  <a:lnTo>
                    <a:pt x="2801" y="395"/>
                  </a:lnTo>
                  <a:lnTo>
                    <a:pt x="2806" y="393"/>
                  </a:lnTo>
                  <a:lnTo>
                    <a:pt x="2814" y="392"/>
                  </a:lnTo>
                  <a:lnTo>
                    <a:pt x="2820" y="390"/>
                  </a:lnTo>
                  <a:lnTo>
                    <a:pt x="2825" y="390"/>
                  </a:lnTo>
                  <a:lnTo>
                    <a:pt x="2833" y="388"/>
                  </a:lnTo>
                  <a:lnTo>
                    <a:pt x="2839" y="386"/>
                  </a:lnTo>
                  <a:lnTo>
                    <a:pt x="2835" y="378"/>
                  </a:lnTo>
                  <a:lnTo>
                    <a:pt x="2831" y="374"/>
                  </a:lnTo>
                  <a:lnTo>
                    <a:pt x="2827" y="371"/>
                  </a:lnTo>
                  <a:lnTo>
                    <a:pt x="2825" y="369"/>
                  </a:lnTo>
                  <a:lnTo>
                    <a:pt x="2816" y="365"/>
                  </a:lnTo>
                  <a:lnTo>
                    <a:pt x="2808" y="365"/>
                  </a:lnTo>
                  <a:lnTo>
                    <a:pt x="2799" y="365"/>
                  </a:lnTo>
                  <a:lnTo>
                    <a:pt x="2789" y="367"/>
                  </a:lnTo>
                  <a:lnTo>
                    <a:pt x="2780" y="365"/>
                  </a:lnTo>
                  <a:lnTo>
                    <a:pt x="2770" y="363"/>
                  </a:lnTo>
                  <a:lnTo>
                    <a:pt x="2770" y="359"/>
                  </a:lnTo>
                  <a:lnTo>
                    <a:pt x="2778" y="355"/>
                  </a:lnTo>
                  <a:lnTo>
                    <a:pt x="2784" y="354"/>
                  </a:lnTo>
                  <a:lnTo>
                    <a:pt x="2787" y="352"/>
                  </a:lnTo>
                  <a:lnTo>
                    <a:pt x="2793" y="348"/>
                  </a:lnTo>
                  <a:lnTo>
                    <a:pt x="2799" y="342"/>
                  </a:lnTo>
                  <a:lnTo>
                    <a:pt x="2801" y="335"/>
                  </a:lnTo>
                  <a:lnTo>
                    <a:pt x="2801" y="327"/>
                  </a:lnTo>
                  <a:lnTo>
                    <a:pt x="2799" y="319"/>
                  </a:lnTo>
                  <a:lnTo>
                    <a:pt x="2793" y="310"/>
                  </a:lnTo>
                  <a:lnTo>
                    <a:pt x="2787" y="304"/>
                  </a:lnTo>
                  <a:lnTo>
                    <a:pt x="2780" y="293"/>
                  </a:lnTo>
                  <a:lnTo>
                    <a:pt x="2770" y="287"/>
                  </a:lnTo>
                  <a:lnTo>
                    <a:pt x="2759" y="279"/>
                  </a:lnTo>
                  <a:lnTo>
                    <a:pt x="2749" y="276"/>
                  </a:lnTo>
                  <a:lnTo>
                    <a:pt x="2738" y="272"/>
                  </a:lnTo>
                  <a:lnTo>
                    <a:pt x="2728" y="270"/>
                  </a:lnTo>
                  <a:lnTo>
                    <a:pt x="2719" y="268"/>
                  </a:lnTo>
                  <a:lnTo>
                    <a:pt x="2709" y="270"/>
                  </a:lnTo>
                  <a:lnTo>
                    <a:pt x="2709" y="268"/>
                  </a:lnTo>
                  <a:lnTo>
                    <a:pt x="2717" y="266"/>
                  </a:lnTo>
                  <a:lnTo>
                    <a:pt x="2727" y="262"/>
                  </a:lnTo>
                  <a:lnTo>
                    <a:pt x="2732" y="257"/>
                  </a:lnTo>
                  <a:lnTo>
                    <a:pt x="2740" y="251"/>
                  </a:lnTo>
                  <a:lnTo>
                    <a:pt x="2744" y="243"/>
                  </a:lnTo>
                  <a:lnTo>
                    <a:pt x="2744" y="236"/>
                  </a:lnTo>
                  <a:lnTo>
                    <a:pt x="2742" y="226"/>
                  </a:lnTo>
                  <a:lnTo>
                    <a:pt x="2736" y="220"/>
                  </a:lnTo>
                  <a:lnTo>
                    <a:pt x="2728" y="226"/>
                  </a:lnTo>
                  <a:lnTo>
                    <a:pt x="2719" y="232"/>
                  </a:lnTo>
                  <a:lnTo>
                    <a:pt x="2708" y="230"/>
                  </a:lnTo>
                  <a:lnTo>
                    <a:pt x="2698" y="224"/>
                  </a:lnTo>
                  <a:lnTo>
                    <a:pt x="2698" y="220"/>
                  </a:lnTo>
                  <a:lnTo>
                    <a:pt x="2706" y="219"/>
                  </a:lnTo>
                  <a:lnTo>
                    <a:pt x="2715" y="215"/>
                  </a:lnTo>
                  <a:lnTo>
                    <a:pt x="2721" y="209"/>
                  </a:lnTo>
                  <a:lnTo>
                    <a:pt x="2725" y="203"/>
                  </a:lnTo>
                  <a:lnTo>
                    <a:pt x="2725" y="196"/>
                  </a:lnTo>
                  <a:lnTo>
                    <a:pt x="2725" y="188"/>
                  </a:lnTo>
                  <a:lnTo>
                    <a:pt x="2721" y="181"/>
                  </a:lnTo>
                  <a:lnTo>
                    <a:pt x="2713" y="173"/>
                  </a:lnTo>
                  <a:lnTo>
                    <a:pt x="2704" y="179"/>
                  </a:lnTo>
                  <a:lnTo>
                    <a:pt x="2694" y="182"/>
                  </a:lnTo>
                  <a:lnTo>
                    <a:pt x="2681" y="182"/>
                  </a:lnTo>
                  <a:lnTo>
                    <a:pt x="2675" y="177"/>
                  </a:lnTo>
                  <a:lnTo>
                    <a:pt x="2675" y="173"/>
                  </a:lnTo>
                  <a:lnTo>
                    <a:pt x="2679" y="169"/>
                  </a:lnTo>
                  <a:lnTo>
                    <a:pt x="2685" y="169"/>
                  </a:lnTo>
                  <a:lnTo>
                    <a:pt x="2689" y="169"/>
                  </a:lnTo>
                  <a:lnTo>
                    <a:pt x="2694" y="171"/>
                  </a:lnTo>
                  <a:lnTo>
                    <a:pt x="2690" y="163"/>
                  </a:lnTo>
                  <a:lnTo>
                    <a:pt x="2685" y="158"/>
                  </a:lnTo>
                  <a:lnTo>
                    <a:pt x="2677" y="154"/>
                  </a:lnTo>
                  <a:lnTo>
                    <a:pt x="2668" y="152"/>
                  </a:lnTo>
                  <a:lnTo>
                    <a:pt x="2658" y="150"/>
                  </a:lnTo>
                  <a:lnTo>
                    <a:pt x="2647" y="150"/>
                  </a:lnTo>
                  <a:lnTo>
                    <a:pt x="2635" y="148"/>
                  </a:lnTo>
                  <a:lnTo>
                    <a:pt x="2626" y="148"/>
                  </a:lnTo>
                  <a:lnTo>
                    <a:pt x="2614" y="146"/>
                  </a:lnTo>
                  <a:lnTo>
                    <a:pt x="2605" y="144"/>
                  </a:lnTo>
                  <a:lnTo>
                    <a:pt x="2595" y="143"/>
                  </a:lnTo>
                  <a:lnTo>
                    <a:pt x="2588" y="141"/>
                  </a:lnTo>
                  <a:lnTo>
                    <a:pt x="2582" y="135"/>
                  </a:lnTo>
                  <a:lnTo>
                    <a:pt x="2578" y="127"/>
                  </a:lnTo>
                  <a:lnTo>
                    <a:pt x="2578" y="122"/>
                  </a:lnTo>
                  <a:lnTo>
                    <a:pt x="2580" y="112"/>
                  </a:lnTo>
                  <a:lnTo>
                    <a:pt x="2578" y="106"/>
                  </a:lnTo>
                  <a:lnTo>
                    <a:pt x="2576" y="103"/>
                  </a:lnTo>
                  <a:lnTo>
                    <a:pt x="2571" y="106"/>
                  </a:lnTo>
                  <a:lnTo>
                    <a:pt x="2565" y="112"/>
                  </a:lnTo>
                  <a:lnTo>
                    <a:pt x="2559" y="116"/>
                  </a:lnTo>
                  <a:lnTo>
                    <a:pt x="2555" y="120"/>
                  </a:lnTo>
                  <a:lnTo>
                    <a:pt x="2550" y="122"/>
                  </a:lnTo>
                  <a:lnTo>
                    <a:pt x="2546" y="125"/>
                  </a:lnTo>
                  <a:lnTo>
                    <a:pt x="2538" y="125"/>
                  </a:lnTo>
                  <a:lnTo>
                    <a:pt x="2533" y="125"/>
                  </a:lnTo>
                  <a:lnTo>
                    <a:pt x="253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83400" y="1052640"/>
              <a:ext cx="2426760" cy="1404720"/>
            </a:xfrm>
            <a:custGeom>
              <a:avLst/>
              <a:gdLst/>
              <a:ahLst/>
              <a:rect l="l" t="t" r="r" b="b"/>
              <a:pathLst>
                <a:path w="3057" h="1770">
                  <a:moveTo>
                    <a:pt x="2753" y="1770"/>
                  </a:moveTo>
                  <a:lnTo>
                    <a:pt x="2751" y="1762"/>
                  </a:lnTo>
                  <a:lnTo>
                    <a:pt x="2751" y="1755"/>
                  </a:lnTo>
                  <a:lnTo>
                    <a:pt x="2749" y="1747"/>
                  </a:lnTo>
                  <a:lnTo>
                    <a:pt x="2749" y="1740"/>
                  </a:lnTo>
                  <a:lnTo>
                    <a:pt x="2747" y="1730"/>
                  </a:lnTo>
                  <a:lnTo>
                    <a:pt x="2747" y="1722"/>
                  </a:lnTo>
                  <a:lnTo>
                    <a:pt x="2747" y="1715"/>
                  </a:lnTo>
                  <a:lnTo>
                    <a:pt x="2747" y="1709"/>
                  </a:lnTo>
                  <a:lnTo>
                    <a:pt x="2747" y="1700"/>
                  </a:lnTo>
                  <a:lnTo>
                    <a:pt x="2747" y="1692"/>
                  </a:lnTo>
                  <a:lnTo>
                    <a:pt x="2745" y="1682"/>
                  </a:lnTo>
                  <a:lnTo>
                    <a:pt x="2745" y="1675"/>
                  </a:lnTo>
                  <a:lnTo>
                    <a:pt x="2745" y="1667"/>
                  </a:lnTo>
                  <a:lnTo>
                    <a:pt x="2745" y="1660"/>
                  </a:lnTo>
                  <a:lnTo>
                    <a:pt x="2745" y="1650"/>
                  </a:lnTo>
                  <a:lnTo>
                    <a:pt x="2745" y="1644"/>
                  </a:lnTo>
                  <a:lnTo>
                    <a:pt x="2745" y="1635"/>
                  </a:lnTo>
                  <a:lnTo>
                    <a:pt x="2745" y="1627"/>
                  </a:lnTo>
                  <a:lnTo>
                    <a:pt x="2745" y="1618"/>
                  </a:lnTo>
                  <a:lnTo>
                    <a:pt x="2745" y="1610"/>
                  </a:lnTo>
                  <a:lnTo>
                    <a:pt x="2745" y="1601"/>
                  </a:lnTo>
                  <a:lnTo>
                    <a:pt x="2745" y="1593"/>
                  </a:lnTo>
                  <a:lnTo>
                    <a:pt x="2745" y="1586"/>
                  </a:lnTo>
                  <a:lnTo>
                    <a:pt x="2745" y="1578"/>
                  </a:lnTo>
                  <a:lnTo>
                    <a:pt x="2745" y="1568"/>
                  </a:lnTo>
                  <a:lnTo>
                    <a:pt x="2745" y="1561"/>
                  </a:lnTo>
                  <a:lnTo>
                    <a:pt x="2745" y="1551"/>
                  </a:lnTo>
                  <a:lnTo>
                    <a:pt x="2747" y="1546"/>
                  </a:lnTo>
                  <a:lnTo>
                    <a:pt x="2747" y="1536"/>
                  </a:lnTo>
                  <a:lnTo>
                    <a:pt x="2747" y="1528"/>
                  </a:lnTo>
                  <a:lnTo>
                    <a:pt x="2747" y="1521"/>
                  </a:lnTo>
                  <a:lnTo>
                    <a:pt x="2749" y="1513"/>
                  </a:lnTo>
                  <a:lnTo>
                    <a:pt x="2749" y="1504"/>
                  </a:lnTo>
                  <a:lnTo>
                    <a:pt x="2749" y="1496"/>
                  </a:lnTo>
                  <a:lnTo>
                    <a:pt x="2749" y="1487"/>
                  </a:lnTo>
                  <a:lnTo>
                    <a:pt x="2749" y="1479"/>
                  </a:lnTo>
                  <a:lnTo>
                    <a:pt x="2749" y="1471"/>
                  </a:lnTo>
                  <a:lnTo>
                    <a:pt x="2751" y="1464"/>
                  </a:lnTo>
                  <a:lnTo>
                    <a:pt x="2751" y="1454"/>
                  </a:lnTo>
                  <a:lnTo>
                    <a:pt x="2751" y="1447"/>
                  </a:lnTo>
                  <a:lnTo>
                    <a:pt x="2751" y="1437"/>
                  </a:lnTo>
                  <a:lnTo>
                    <a:pt x="2753" y="1430"/>
                  </a:lnTo>
                  <a:lnTo>
                    <a:pt x="2753" y="1422"/>
                  </a:lnTo>
                  <a:lnTo>
                    <a:pt x="2753" y="1414"/>
                  </a:lnTo>
                  <a:lnTo>
                    <a:pt x="2753" y="1407"/>
                  </a:lnTo>
                  <a:lnTo>
                    <a:pt x="2755" y="1399"/>
                  </a:lnTo>
                  <a:lnTo>
                    <a:pt x="2755" y="1392"/>
                  </a:lnTo>
                  <a:lnTo>
                    <a:pt x="2757" y="1384"/>
                  </a:lnTo>
                  <a:lnTo>
                    <a:pt x="2757" y="1376"/>
                  </a:lnTo>
                  <a:lnTo>
                    <a:pt x="2758" y="1369"/>
                  </a:lnTo>
                  <a:lnTo>
                    <a:pt x="2758" y="1361"/>
                  </a:lnTo>
                  <a:lnTo>
                    <a:pt x="2760" y="1354"/>
                  </a:lnTo>
                  <a:lnTo>
                    <a:pt x="2760" y="1346"/>
                  </a:lnTo>
                  <a:lnTo>
                    <a:pt x="2760" y="1338"/>
                  </a:lnTo>
                  <a:lnTo>
                    <a:pt x="2762" y="1331"/>
                  </a:lnTo>
                  <a:lnTo>
                    <a:pt x="2762" y="1325"/>
                  </a:lnTo>
                  <a:lnTo>
                    <a:pt x="2762" y="1317"/>
                  </a:lnTo>
                  <a:lnTo>
                    <a:pt x="2764" y="1310"/>
                  </a:lnTo>
                  <a:lnTo>
                    <a:pt x="2764" y="1302"/>
                  </a:lnTo>
                  <a:lnTo>
                    <a:pt x="2768" y="1297"/>
                  </a:lnTo>
                  <a:lnTo>
                    <a:pt x="2768" y="1289"/>
                  </a:lnTo>
                  <a:lnTo>
                    <a:pt x="2768" y="1283"/>
                  </a:lnTo>
                  <a:lnTo>
                    <a:pt x="2770" y="1276"/>
                  </a:lnTo>
                  <a:lnTo>
                    <a:pt x="2772" y="1270"/>
                  </a:lnTo>
                  <a:lnTo>
                    <a:pt x="2768" y="1264"/>
                  </a:lnTo>
                  <a:lnTo>
                    <a:pt x="2766" y="1257"/>
                  </a:lnTo>
                  <a:lnTo>
                    <a:pt x="2764" y="1251"/>
                  </a:lnTo>
                  <a:lnTo>
                    <a:pt x="2762" y="1245"/>
                  </a:lnTo>
                  <a:lnTo>
                    <a:pt x="2758" y="1240"/>
                  </a:lnTo>
                  <a:lnTo>
                    <a:pt x="2758" y="1234"/>
                  </a:lnTo>
                  <a:lnTo>
                    <a:pt x="2755" y="1228"/>
                  </a:lnTo>
                  <a:lnTo>
                    <a:pt x="2753" y="1222"/>
                  </a:lnTo>
                  <a:lnTo>
                    <a:pt x="2751" y="1217"/>
                  </a:lnTo>
                  <a:lnTo>
                    <a:pt x="2749" y="1209"/>
                  </a:lnTo>
                  <a:lnTo>
                    <a:pt x="2745" y="1205"/>
                  </a:lnTo>
                  <a:lnTo>
                    <a:pt x="2745" y="1200"/>
                  </a:lnTo>
                  <a:lnTo>
                    <a:pt x="2743" y="1192"/>
                  </a:lnTo>
                  <a:lnTo>
                    <a:pt x="2741" y="1186"/>
                  </a:lnTo>
                  <a:lnTo>
                    <a:pt x="2738" y="1181"/>
                  </a:lnTo>
                  <a:lnTo>
                    <a:pt x="2738" y="1175"/>
                  </a:lnTo>
                  <a:lnTo>
                    <a:pt x="2734" y="1169"/>
                  </a:lnTo>
                  <a:lnTo>
                    <a:pt x="2734" y="1163"/>
                  </a:lnTo>
                  <a:lnTo>
                    <a:pt x="2732" y="1156"/>
                  </a:lnTo>
                  <a:lnTo>
                    <a:pt x="2730" y="1152"/>
                  </a:lnTo>
                  <a:lnTo>
                    <a:pt x="2728" y="1144"/>
                  </a:lnTo>
                  <a:lnTo>
                    <a:pt x="2726" y="1139"/>
                  </a:lnTo>
                  <a:lnTo>
                    <a:pt x="2724" y="1133"/>
                  </a:lnTo>
                  <a:lnTo>
                    <a:pt x="2724" y="1127"/>
                  </a:lnTo>
                  <a:lnTo>
                    <a:pt x="2722" y="1120"/>
                  </a:lnTo>
                  <a:lnTo>
                    <a:pt x="2720" y="1114"/>
                  </a:lnTo>
                  <a:lnTo>
                    <a:pt x="2719" y="1108"/>
                  </a:lnTo>
                  <a:lnTo>
                    <a:pt x="2717" y="1103"/>
                  </a:lnTo>
                  <a:lnTo>
                    <a:pt x="2715" y="1097"/>
                  </a:lnTo>
                  <a:lnTo>
                    <a:pt x="2715" y="1091"/>
                  </a:lnTo>
                  <a:lnTo>
                    <a:pt x="2713" y="1084"/>
                  </a:lnTo>
                  <a:lnTo>
                    <a:pt x="2713" y="1080"/>
                  </a:lnTo>
                  <a:lnTo>
                    <a:pt x="2711" y="1072"/>
                  </a:lnTo>
                  <a:lnTo>
                    <a:pt x="2709" y="1067"/>
                  </a:lnTo>
                  <a:lnTo>
                    <a:pt x="2709" y="1061"/>
                  </a:lnTo>
                  <a:lnTo>
                    <a:pt x="2709" y="1053"/>
                  </a:lnTo>
                  <a:lnTo>
                    <a:pt x="2707" y="1048"/>
                  </a:lnTo>
                  <a:lnTo>
                    <a:pt x="2707" y="1042"/>
                  </a:lnTo>
                  <a:lnTo>
                    <a:pt x="2707" y="1034"/>
                  </a:lnTo>
                  <a:lnTo>
                    <a:pt x="2707" y="1029"/>
                  </a:lnTo>
                  <a:lnTo>
                    <a:pt x="2705" y="1023"/>
                  </a:lnTo>
                  <a:lnTo>
                    <a:pt x="2705" y="1015"/>
                  </a:lnTo>
                  <a:lnTo>
                    <a:pt x="2705" y="1010"/>
                  </a:lnTo>
                  <a:lnTo>
                    <a:pt x="2705" y="1004"/>
                  </a:lnTo>
                  <a:lnTo>
                    <a:pt x="2705" y="996"/>
                  </a:lnTo>
                  <a:lnTo>
                    <a:pt x="2705" y="990"/>
                  </a:lnTo>
                  <a:lnTo>
                    <a:pt x="2705" y="985"/>
                  </a:lnTo>
                  <a:lnTo>
                    <a:pt x="2707" y="979"/>
                  </a:lnTo>
                  <a:lnTo>
                    <a:pt x="2707" y="971"/>
                  </a:lnTo>
                  <a:lnTo>
                    <a:pt x="2707" y="964"/>
                  </a:lnTo>
                  <a:lnTo>
                    <a:pt x="2707" y="958"/>
                  </a:lnTo>
                  <a:lnTo>
                    <a:pt x="2709" y="952"/>
                  </a:lnTo>
                  <a:lnTo>
                    <a:pt x="2709" y="945"/>
                  </a:lnTo>
                  <a:lnTo>
                    <a:pt x="2711" y="939"/>
                  </a:lnTo>
                  <a:lnTo>
                    <a:pt x="2713" y="933"/>
                  </a:lnTo>
                  <a:lnTo>
                    <a:pt x="2715" y="926"/>
                  </a:lnTo>
                  <a:lnTo>
                    <a:pt x="2715" y="918"/>
                  </a:lnTo>
                  <a:lnTo>
                    <a:pt x="2717" y="913"/>
                  </a:lnTo>
                  <a:lnTo>
                    <a:pt x="2719" y="907"/>
                  </a:lnTo>
                  <a:lnTo>
                    <a:pt x="2722" y="899"/>
                  </a:lnTo>
                  <a:lnTo>
                    <a:pt x="2724" y="894"/>
                  </a:lnTo>
                  <a:lnTo>
                    <a:pt x="2726" y="886"/>
                  </a:lnTo>
                  <a:lnTo>
                    <a:pt x="2728" y="880"/>
                  </a:lnTo>
                  <a:lnTo>
                    <a:pt x="2732" y="873"/>
                  </a:lnTo>
                  <a:lnTo>
                    <a:pt x="2738" y="876"/>
                  </a:lnTo>
                  <a:lnTo>
                    <a:pt x="2743" y="882"/>
                  </a:lnTo>
                  <a:lnTo>
                    <a:pt x="2745" y="888"/>
                  </a:lnTo>
                  <a:lnTo>
                    <a:pt x="2749" y="894"/>
                  </a:lnTo>
                  <a:lnTo>
                    <a:pt x="2751" y="899"/>
                  </a:lnTo>
                  <a:lnTo>
                    <a:pt x="2751" y="907"/>
                  </a:lnTo>
                  <a:lnTo>
                    <a:pt x="2751" y="914"/>
                  </a:lnTo>
                  <a:lnTo>
                    <a:pt x="2753" y="922"/>
                  </a:lnTo>
                  <a:lnTo>
                    <a:pt x="2758" y="930"/>
                  </a:lnTo>
                  <a:lnTo>
                    <a:pt x="2762" y="937"/>
                  </a:lnTo>
                  <a:lnTo>
                    <a:pt x="2768" y="947"/>
                  </a:lnTo>
                  <a:lnTo>
                    <a:pt x="2774" y="958"/>
                  </a:lnTo>
                  <a:lnTo>
                    <a:pt x="2777" y="968"/>
                  </a:lnTo>
                  <a:lnTo>
                    <a:pt x="2781" y="977"/>
                  </a:lnTo>
                  <a:lnTo>
                    <a:pt x="2785" y="987"/>
                  </a:lnTo>
                  <a:lnTo>
                    <a:pt x="2789" y="998"/>
                  </a:lnTo>
                  <a:lnTo>
                    <a:pt x="2791" y="1008"/>
                  </a:lnTo>
                  <a:lnTo>
                    <a:pt x="2795" y="1017"/>
                  </a:lnTo>
                  <a:lnTo>
                    <a:pt x="2796" y="1029"/>
                  </a:lnTo>
                  <a:lnTo>
                    <a:pt x="2800" y="1040"/>
                  </a:lnTo>
                  <a:lnTo>
                    <a:pt x="2802" y="1051"/>
                  </a:lnTo>
                  <a:lnTo>
                    <a:pt x="2804" y="1063"/>
                  </a:lnTo>
                  <a:lnTo>
                    <a:pt x="2806" y="1072"/>
                  </a:lnTo>
                  <a:lnTo>
                    <a:pt x="2808" y="1084"/>
                  </a:lnTo>
                  <a:lnTo>
                    <a:pt x="2810" y="1095"/>
                  </a:lnTo>
                  <a:lnTo>
                    <a:pt x="2810" y="1106"/>
                  </a:lnTo>
                  <a:lnTo>
                    <a:pt x="2812" y="1118"/>
                  </a:lnTo>
                  <a:lnTo>
                    <a:pt x="2812" y="1129"/>
                  </a:lnTo>
                  <a:lnTo>
                    <a:pt x="2814" y="1139"/>
                  </a:lnTo>
                  <a:lnTo>
                    <a:pt x="2815" y="1152"/>
                  </a:lnTo>
                  <a:lnTo>
                    <a:pt x="2815" y="1162"/>
                  </a:lnTo>
                  <a:lnTo>
                    <a:pt x="2817" y="1175"/>
                  </a:lnTo>
                  <a:lnTo>
                    <a:pt x="2817" y="1186"/>
                  </a:lnTo>
                  <a:lnTo>
                    <a:pt x="2817" y="1198"/>
                  </a:lnTo>
                  <a:lnTo>
                    <a:pt x="2819" y="1207"/>
                  </a:lnTo>
                  <a:lnTo>
                    <a:pt x="2819" y="1219"/>
                  </a:lnTo>
                  <a:lnTo>
                    <a:pt x="2819" y="1230"/>
                  </a:lnTo>
                  <a:lnTo>
                    <a:pt x="2821" y="1241"/>
                  </a:lnTo>
                  <a:lnTo>
                    <a:pt x="2821" y="1253"/>
                  </a:lnTo>
                  <a:lnTo>
                    <a:pt x="2825" y="1264"/>
                  </a:lnTo>
                  <a:lnTo>
                    <a:pt x="2825" y="1274"/>
                  </a:lnTo>
                  <a:lnTo>
                    <a:pt x="2827" y="1285"/>
                  </a:lnTo>
                  <a:lnTo>
                    <a:pt x="2827" y="1297"/>
                  </a:lnTo>
                  <a:lnTo>
                    <a:pt x="2829" y="1308"/>
                  </a:lnTo>
                  <a:lnTo>
                    <a:pt x="2831" y="1317"/>
                  </a:lnTo>
                  <a:lnTo>
                    <a:pt x="2833" y="1327"/>
                  </a:lnTo>
                  <a:lnTo>
                    <a:pt x="2834" y="1338"/>
                  </a:lnTo>
                  <a:lnTo>
                    <a:pt x="2838" y="1348"/>
                  </a:lnTo>
                  <a:lnTo>
                    <a:pt x="2840" y="1357"/>
                  </a:lnTo>
                  <a:lnTo>
                    <a:pt x="2844" y="1367"/>
                  </a:lnTo>
                  <a:lnTo>
                    <a:pt x="2846" y="1376"/>
                  </a:lnTo>
                  <a:lnTo>
                    <a:pt x="2852" y="1388"/>
                  </a:lnTo>
                  <a:lnTo>
                    <a:pt x="2854" y="1395"/>
                  </a:lnTo>
                  <a:lnTo>
                    <a:pt x="2857" y="1405"/>
                  </a:lnTo>
                  <a:lnTo>
                    <a:pt x="2863" y="1414"/>
                  </a:lnTo>
                  <a:lnTo>
                    <a:pt x="2869" y="1424"/>
                  </a:lnTo>
                  <a:lnTo>
                    <a:pt x="2873" y="1432"/>
                  </a:lnTo>
                  <a:lnTo>
                    <a:pt x="2878" y="1439"/>
                  </a:lnTo>
                  <a:lnTo>
                    <a:pt x="2884" y="1449"/>
                  </a:lnTo>
                  <a:lnTo>
                    <a:pt x="2892" y="1456"/>
                  </a:lnTo>
                  <a:lnTo>
                    <a:pt x="2897" y="1464"/>
                  </a:lnTo>
                  <a:lnTo>
                    <a:pt x="2907" y="1471"/>
                  </a:lnTo>
                  <a:lnTo>
                    <a:pt x="2912" y="1479"/>
                  </a:lnTo>
                  <a:lnTo>
                    <a:pt x="2922" y="1487"/>
                  </a:lnTo>
                  <a:lnTo>
                    <a:pt x="2931" y="1492"/>
                  </a:lnTo>
                  <a:lnTo>
                    <a:pt x="2941" y="1498"/>
                  </a:lnTo>
                  <a:lnTo>
                    <a:pt x="2950" y="1504"/>
                  </a:lnTo>
                  <a:lnTo>
                    <a:pt x="2962" y="1511"/>
                  </a:lnTo>
                  <a:lnTo>
                    <a:pt x="2973" y="1517"/>
                  </a:lnTo>
                  <a:lnTo>
                    <a:pt x="2985" y="1521"/>
                  </a:lnTo>
                  <a:lnTo>
                    <a:pt x="2998" y="1527"/>
                  </a:lnTo>
                  <a:lnTo>
                    <a:pt x="3011" y="1532"/>
                  </a:lnTo>
                  <a:lnTo>
                    <a:pt x="3002" y="1521"/>
                  </a:lnTo>
                  <a:lnTo>
                    <a:pt x="2992" y="1511"/>
                  </a:lnTo>
                  <a:lnTo>
                    <a:pt x="2981" y="1502"/>
                  </a:lnTo>
                  <a:lnTo>
                    <a:pt x="2971" y="1494"/>
                  </a:lnTo>
                  <a:lnTo>
                    <a:pt x="2962" y="1485"/>
                  </a:lnTo>
                  <a:lnTo>
                    <a:pt x="2952" y="1475"/>
                  </a:lnTo>
                  <a:lnTo>
                    <a:pt x="2945" y="1466"/>
                  </a:lnTo>
                  <a:lnTo>
                    <a:pt x="2939" y="1456"/>
                  </a:lnTo>
                  <a:lnTo>
                    <a:pt x="2947" y="1454"/>
                  </a:lnTo>
                  <a:lnTo>
                    <a:pt x="2954" y="1456"/>
                  </a:lnTo>
                  <a:lnTo>
                    <a:pt x="2962" y="1458"/>
                  </a:lnTo>
                  <a:lnTo>
                    <a:pt x="2971" y="1464"/>
                  </a:lnTo>
                  <a:lnTo>
                    <a:pt x="2977" y="1468"/>
                  </a:lnTo>
                  <a:lnTo>
                    <a:pt x="2985" y="1475"/>
                  </a:lnTo>
                  <a:lnTo>
                    <a:pt x="2990" y="1483"/>
                  </a:lnTo>
                  <a:lnTo>
                    <a:pt x="2998" y="1490"/>
                  </a:lnTo>
                  <a:lnTo>
                    <a:pt x="3004" y="1498"/>
                  </a:lnTo>
                  <a:lnTo>
                    <a:pt x="3011" y="1504"/>
                  </a:lnTo>
                  <a:lnTo>
                    <a:pt x="3017" y="1509"/>
                  </a:lnTo>
                  <a:lnTo>
                    <a:pt x="3025" y="1513"/>
                  </a:lnTo>
                  <a:lnTo>
                    <a:pt x="3030" y="1517"/>
                  </a:lnTo>
                  <a:lnTo>
                    <a:pt x="3040" y="1519"/>
                  </a:lnTo>
                  <a:lnTo>
                    <a:pt x="3047" y="1519"/>
                  </a:lnTo>
                  <a:lnTo>
                    <a:pt x="3057" y="1517"/>
                  </a:lnTo>
                  <a:lnTo>
                    <a:pt x="3049" y="1506"/>
                  </a:lnTo>
                  <a:lnTo>
                    <a:pt x="3044" y="1494"/>
                  </a:lnTo>
                  <a:lnTo>
                    <a:pt x="3038" y="1485"/>
                  </a:lnTo>
                  <a:lnTo>
                    <a:pt x="3030" y="1477"/>
                  </a:lnTo>
                  <a:lnTo>
                    <a:pt x="3027" y="1462"/>
                  </a:lnTo>
                  <a:lnTo>
                    <a:pt x="3025" y="1449"/>
                  </a:lnTo>
                  <a:lnTo>
                    <a:pt x="3021" y="1433"/>
                  </a:lnTo>
                  <a:lnTo>
                    <a:pt x="3019" y="1420"/>
                  </a:lnTo>
                  <a:lnTo>
                    <a:pt x="3015" y="1405"/>
                  </a:lnTo>
                  <a:lnTo>
                    <a:pt x="3013" y="1392"/>
                  </a:lnTo>
                  <a:lnTo>
                    <a:pt x="3011" y="1376"/>
                  </a:lnTo>
                  <a:lnTo>
                    <a:pt x="3009" y="1365"/>
                  </a:lnTo>
                  <a:lnTo>
                    <a:pt x="3004" y="1350"/>
                  </a:lnTo>
                  <a:lnTo>
                    <a:pt x="3002" y="1336"/>
                  </a:lnTo>
                  <a:lnTo>
                    <a:pt x="2998" y="1321"/>
                  </a:lnTo>
                  <a:lnTo>
                    <a:pt x="2994" y="1308"/>
                  </a:lnTo>
                  <a:lnTo>
                    <a:pt x="2992" y="1295"/>
                  </a:lnTo>
                  <a:lnTo>
                    <a:pt x="2988" y="1281"/>
                  </a:lnTo>
                  <a:lnTo>
                    <a:pt x="2985" y="1266"/>
                  </a:lnTo>
                  <a:lnTo>
                    <a:pt x="2983" y="1255"/>
                  </a:lnTo>
                  <a:lnTo>
                    <a:pt x="2977" y="1240"/>
                  </a:lnTo>
                  <a:lnTo>
                    <a:pt x="2973" y="1226"/>
                  </a:lnTo>
                  <a:lnTo>
                    <a:pt x="2971" y="1211"/>
                  </a:lnTo>
                  <a:lnTo>
                    <a:pt x="2968" y="1200"/>
                  </a:lnTo>
                  <a:lnTo>
                    <a:pt x="2964" y="1186"/>
                  </a:lnTo>
                  <a:lnTo>
                    <a:pt x="2958" y="1171"/>
                  </a:lnTo>
                  <a:lnTo>
                    <a:pt x="2956" y="1158"/>
                  </a:lnTo>
                  <a:lnTo>
                    <a:pt x="2952" y="1144"/>
                  </a:lnTo>
                  <a:lnTo>
                    <a:pt x="2949" y="1131"/>
                  </a:lnTo>
                  <a:lnTo>
                    <a:pt x="2945" y="1118"/>
                  </a:lnTo>
                  <a:lnTo>
                    <a:pt x="2941" y="1105"/>
                  </a:lnTo>
                  <a:lnTo>
                    <a:pt x="2937" y="1091"/>
                  </a:lnTo>
                  <a:lnTo>
                    <a:pt x="2933" y="1078"/>
                  </a:lnTo>
                  <a:lnTo>
                    <a:pt x="2930" y="1063"/>
                  </a:lnTo>
                  <a:lnTo>
                    <a:pt x="2928" y="1049"/>
                  </a:lnTo>
                  <a:lnTo>
                    <a:pt x="2924" y="1036"/>
                  </a:lnTo>
                  <a:lnTo>
                    <a:pt x="2920" y="1023"/>
                  </a:lnTo>
                  <a:lnTo>
                    <a:pt x="2916" y="1008"/>
                  </a:lnTo>
                  <a:lnTo>
                    <a:pt x="2912" y="994"/>
                  </a:lnTo>
                  <a:lnTo>
                    <a:pt x="2909" y="981"/>
                  </a:lnTo>
                  <a:lnTo>
                    <a:pt x="2907" y="966"/>
                  </a:lnTo>
                  <a:lnTo>
                    <a:pt x="2903" y="952"/>
                  </a:lnTo>
                  <a:lnTo>
                    <a:pt x="2899" y="937"/>
                  </a:lnTo>
                  <a:lnTo>
                    <a:pt x="2897" y="926"/>
                  </a:lnTo>
                  <a:lnTo>
                    <a:pt x="2893" y="911"/>
                  </a:lnTo>
                  <a:lnTo>
                    <a:pt x="2892" y="897"/>
                  </a:lnTo>
                  <a:lnTo>
                    <a:pt x="2888" y="884"/>
                  </a:lnTo>
                  <a:lnTo>
                    <a:pt x="2886" y="871"/>
                  </a:lnTo>
                  <a:lnTo>
                    <a:pt x="2882" y="856"/>
                  </a:lnTo>
                  <a:lnTo>
                    <a:pt x="2880" y="842"/>
                  </a:lnTo>
                  <a:lnTo>
                    <a:pt x="2878" y="829"/>
                  </a:lnTo>
                  <a:lnTo>
                    <a:pt x="2876" y="816"/>
                  </a:lnTo>
                  <a:lnTo>
                    <a:pt x="2874" y="800"/>
                  </a:lnTo>
                  <a:lnTo>
                    <a:pt x="2873" y="787"/>
                  </a:lnTo>
                  <a:lnTo>
                    <a:pt x="2871" y="772"/>
                  </a:lnTo>
                  <a:lnTo>
                    <a:pt x="2869" y="759"/>
                  </a:lnTo>
                  <a:lnTo>
                    <a:pt x="2867" y="743"/>
                  </a:lnTo>
                  <a:lnTo>
                    <a:pt x="2865" y="730"/>
                  </a:lnTo>
                  <a:lnTo>
                    <a:pt x="2863" y="715"/>
                  </a:lnTo>
                  <a:lnTo>
                    <a:pt x="2863" y="702"/>
                  </a:lnTo>
                  <a:lnTo>
                    <a:pt x="2863" y="686"/>
                  </a:lnTo>
                  <a:lnTo>
                    <a:pt x="2861" y="671"/>
                  </a:lnTo>
                  <a:lnTo>
                    <a:pt x="2861" y="656"/>
                  </a:lnTo>
                  <a:lnTo>
                    <a:pt x="2861" y="643"/>
                  </a:lnTo>
                  <a:lnTo>
                    <a:pt x="2861" y="627"/>
                  </a:lnTo>
                  <a:lnTo>
                    <a:pt x="2861" y="614"/>
                  </a:lnTo>
                  <a:lnTo>
                    <a:pt x="2861" y="599"/>
                  </a:lnTo>
                  <a:lnTo>
                    <a:pt x="2863" y="586"/>
                  </a:lnTo>
                  <a:lnTo>
                    <a:pt x="2863" y="574"/>
                  </a:lnTo>
                  <a:lnTo>
                    <a:pt x="2865" y="563"/>
                  </a:lnTo>
                  <a:lnTo>
                    <a:pt x="2865" y="551"/>
                  </a:lnTo>
                  <a:lnTo>
                    <a:pt x="2865" y="540"/>
                  </a:lnTo>
                  <a:lnTo>
                    <a:pt x="2865" y="530"/>
                  </a:lnTo>
                  <a:lnTo>
                    <a:pt x="2865" y="519"/>
                  </a:lnTo>
                  <a:lnTo>
                    <a:pt x="2865" y="510"/>
                  </a:lnTo>
                  <a:lnTo>
                    <a:pt x="2865" y="500"/>
                  </a:lnTo>
                  <a:lnTo>
                    <a:pt x="2863" y="491"/>
                  </a:lnTo>
                  <a:lnTo>
                    <a:pt x="2863" y="479"/>
                  </a:lnTo>
                  <a:lnTo>
                    <a:pt x="2861" y="468"/>
                  </a:lnTo>
                  <a:lnTo>
                    <a:pt x="2861" y="458"/>
                  </a:lnTo>
                  <a:lnTo>
                    <a:pt x="2857" y="449"/>
                  </a:lnTo>
                  <a:lnTo>
                    <a:pt x="2855" y="439"/>
                  </a:lnTo>
                  <a:lnTo>
                    <a:pt x="2854" y="430"/>
                  </a:lnTo>
                  <a:lnTo>
                    <a:pt x="2852" y="422"/>
                  </a:lnTo>
                  <a:lnTo>
                    <a:pt x="2848" y="413"/>
                  </a:lnTo>
                  <a:lnTo>
                    <a:pt x="2844" y="403"/>
                  </a:lnTo>
                  <a:lnTo>
                    <a:pt x="2842" y="394"/>
                  </a:lnTo>
                  <a:lnTo>
                    <a:pt x="2838" y="384"/>
                  </a:lnTo>
                  <a:lnTo>
                    <a:pt x="2834" y="375"/>
                  </a:lnTo>
                  <a:lnTo>
                    <a:pt x="2831" y="367"/>
                  </a:lnTo>
                  <a:lnTo>
                    <a:pt x="2827" y="357"/>
                  </a:lnTo>
                  <a:lnTo>
                    <a:pt x="2821" y="350"/>
                  </a:lnTo>
                  <a:lnTo>
                    <a:pt x="2817" y="340"/>
                  </a:lnTo>
                  <a:lnTo>
                    <a:pt x="2812" y="333"/>
                  </a:lnTo>
                  <a:lnTo>
                    <a:pt x="2806" y="325"/>
                  </a:lnTo>
                  <a:lnTo>
                    <a:pt x="2802" y="319"/>
                  </a:lnTo>
                  <a:lnTo>
                    <a:pt x="2796" y="310"/>
                  </a:lnTo>
                  <a:lnTo>
                    <a:pt x="2791" y="302"/>
                  </a:lnTo>
                  <a:lnTo>
                    <a:pt x="2783" y="297"/>
                  </a:lnTo>
                  <a:lnTo>
                    <a:pt x="2779" y="291"/>
                  </a:lnTo>
                  <a:lnTo>
                    <a:pt x="2772" y="283"/>
                  </a:lnTo>
                  <a:lnTo>
                    <a:pt x="2764" y="276"/>
                  </a:lnTo>
                  <a:lnTo>
                    <a:pt x="2758" y="268"/>
                  </a:lnTo>
                  <a:lnTo>
                    <a:pt x="2751" y="264"/>
                  </a:lnTo>
                  <a:lnTo>
                    <a:pt x="2743" y="257"/>
                  </a:lnTo>
                  <a:lnTo>
                    <a:pt x="2736" y="251"/>
                  </a:lnTo>
                  <a:lnTo>
                    <a:pt x="2728" y="245"/>
                  </a:lnTo>
                  <a:lnTo>
                    <a:pt x="2722" y="240"/>
                  </a:lnTo>
                  <a:lnTo>
                    <a:pt x="2713" y="234"/>
                  </a:lnTo>
                  <a:lnTo>
                    <a:pt x="2705" y="230"/>
                  </a:lnTo>
                  <a:lnTo>
                    <a:pt x="2696" y="224"/>
                  </a:lnTo>
                  <a:lnTo>
                    <a:pt x="2688" y="221"/>
                  </a:lnTo>
                  <a:lnTo>
                    <a:pt x="2679" y="217"/>
                  </a:lnTo>
                  <a:lnTo>
                    <a:pt x="2671" y="213"/>
                  </a:lnTo>
                  <a:lnTo>
                    <a:pt x="2661" y="209"/>
                  </a:lnTo>
                  <a:lnTo>
                    <a:pt x="2654" y="207"/>
                  </a:lnTo>
                  <a:lnTo>
                    <a:pt x="2644" y="203"/>
                  </a:lnTo>
                  <a:lnTo>
                    <a:pt x="2635" y="200"/>
                  </a:lnTo>
                  <a:lnTo>
                    <a:pt x="2625" y="198"/>
                  </a:lnTo>
                  <a:lnTo>
                    <a:pt x="2616" y="194"/>
                  </a:lnTo>
                  <a:lnTo>
                    <a:pt x="2606" y="192"/>
                  </a:lnTo>
                  <a:lnTo>
                    <a:pt x="2597" y="190"/>
                  </a:lnTo>
                  <a:lnTo>
                    <a:pt x="2587" y="188"/>
                  </a:lnTo>
                  <a:lnTo>
                    <a:pt x="2578" y="188"/>
                  </a:lnTo>
                  <a:lnTo>
                    <a:pt x="2566" y="186"/>
                  </a:lnTo>
                  <a:lnTo>
                    <a:pt x="2557" y="184"/>
                  </a:lnTo>
                  <a:lnTo>
                    <a:pt x="2546" y="184"/>
                  </a:lnTo>
                  <a:lnTo>
                    <a:pt x="2536" y="184"/>
                  </a:lnTo>
                  <a:lnTo>
                    <a:pt x="2525" y="184"/>
                  </a:lnTo>
                  <a:lnTo>
                    <a:pt x="2515" y="186"/>
                  </a:lnTo>
                  <a:lnTo>
                    <a:pt x="2504" y="188"/>
                  </a:lnTo>
                  <a:lnTo>
                    <a:pt x="2494" y="190"/>
                  </a:lnTo>
                  <a:lnTo>
                    <a:pt x="2487" y="190"/>
                  </a:lnTo>
                  <a:lnTo>
                    <a:pt x="2479" y="190"/>
                  </a:lnTo>
                  <a:lnTo>
                    <a:pt x="2475" y="190"/>
                  </a:lnTo>
                  <a:lnTo>
                    <a:pt x="2473" y="192"/>
                  </a:lnTo>
                  <a:lnTo>
                    <a:pt x="2468" y="192"/>
                  </a:lnTo>
                  <a:lnTo>
                    <a:pt x="2466" y="194"/>
                  </a:lnTo>
                  <a:lnTo>
                    <a:pt x="2468" y="194"/>
                  </a:lnTo>
                  <a:lnTo>
                    <a:pt x="2469" y="194"/>
                  </a:lnTo>
                  <a:lnTo>
                    <a:pt x="2270" y="205"/>
                  </a:lnTo>
                  <a:lnTo>
                    <a:pt x="2258" y="207"/>
                  </a:lnTo>
                  <a:lnTo>
                    <a:pt x="2249" y="209"/>
                  </a:lnTo>
                  <a:lnTo>
                    <a:pt x="2238" y="211"/>
                  </a:lnTo>
                  <a:lnTo>
                    <a:pt x="2228" y="215"/>
                  </a:lnTo>
                  <a:lnTo>
                    <a:pt x="2217" y="217"/>
                  </a:lnTo>
                  <a:lnTo>
                    <a:pt x="2205" y="219"/>
                  </a:lnTo>
                  <a:lnTo>
                    <a:pt x="2196" y="221"/>
                  </a:lnTo>
                  <a:lnTo>
                    <a:pt x="2186" y="222"/>
                  </a:lnTo>
                  <a:lnTo>
                    <a:pt x="2175" y="224"/>
                  </a:lnTo>
                  <a:lnTo>
                    <a:pt x="2165" y="224"/>
                  </a:lnTo>
                  <a:lnTo>
                    <a:pt x="2152" y="226"/>
                  </a:lnTo>
                  <a:lnTo>
                    <a:pt x="2142" y="226"/>
                  </a:lnTo>
                  <a:lnTo>
                    <a:pt x="2133" y="228"/>
                  </a:lnTo>
                  <a:lnTo>
                    <a:pt x="2122" y="228"/>
                  </a:lnTo>
                  <a:lnTo>
                    <a:pt x="2112" y="230"/>
                  </a:lnTo>
                  <a:lnTo>
                    <a:pt x="2103" y="230"/>
                  </a:lnTo>
                  <a:lnTo>
                    <a:pt x="2091" y="230"/>
                  </a:lnTo>
                  <a:lnTo>
                    <a:pt x="2082" y="230"/>
                  </a:lnTo>
                  <a:lnTo>
                    <a:pt x="2068" y="230"/>
                  </a:lnTo>
                  <a:lnTo>
                    <a:pt x="2059" y="232"/>
                  </a:lnTo>
                  <a:lnTo>
                    <a:pt x="2049" y="232"/>
                  </a:lnTo>
                  <a:lnTo>
                    <a:pt x="2038" y="232"/>
                  </a:lnTo>
                  <a:lnTo>
                    <a:pt x="2028" y="232"/>
                  </a:lnTo>
                  <a:lnTo>
                    <a:pt x="2019" y="232"/>
                  </a:lnTo>
                  <a:lnTo>
                    <a:pt x="2006" y="230"/>
                  </a:lnTo>
                  <a:lnTo>
                    <a:pt x="1996" y="230"/>
                  </a:lnTo>
                  <a:lnTo>
                    <a:pt x="1985" y="230"/>
                  </a:lnTo>
                  <a:lnTo>
                    <a:pt x="1975" y="230"/>
                  </a:lnTo>
                  <a:lnTo>
                    <a:pt x="1966" y="230"/>
                  </a:lnTo>
                  <a:lnTo>
                    <a:pt x="1954" y="230"/>
                  </a:lnTo>
                  <a:lnTo>
                    <a:pt x="1945" y="230"/>
                  </a:lnTo>
                  <a:lnTo>
                    <a:pt x="1935" y="230"/>
                  </a:lnTo>
                  <a:lnTo>
                    <a:pt x="1922" y="230"/>
                  </a:lnTo>
                  <a:lnTo>
                    <a:pt x="1912" y="228"/>
                  </a:lnTo>
                  <a:lnTo>
                    <a:pt x="1901" y="228"/>
                  </a:lnTo>
                  <a:lnTo>
                    <a:pt x="1892" y="228"/>
                  </a:lnTo>
                  <a:lnTo>
                    <a:pt x="1880" y="228"/>
                  </a:lnTo>
                  <a:lnTo>
                    <a:pt x="1869" y="226"/>
                  </a:lnTo>
                  <a:lnTo>
                    <a:pt x="1857" y="226"/>
                  </a:lnTo>
                  <a:lnTo>
                    <a:pt x="1848" y="226"/>
                  </a:lnTo>
                  <a:lnTo>
                    <a:pt x="1836" y="226"/>
                  </a:lnTo>
                  <a:lnTo>
                    <a:pt x="1825" y="224"/>
                  </a:lnTo>
                  <a:lnTo>
                    <a:pt x="1814" y="224"/>
                  </a:lnTo>
                  <a:lnTo>
                    <a:pt x="1802" y="224"/>
                  </a:lnTo>
                  <a:lnTo>
                    <a:pt x="1791" y="224"/>
                  </a:lnTo>
                  <a:lnTo>
                    <a:pt x="1781" y="224"/>
                  </a:lnTo>
                  <a:lnTo>
                    <a:pt x="1770" y="224"/>
                  </a:lnTo>
                  <a:lnTo>
                    <a:pt x="1760" y="224"/>
                  </a:lnTo>
                  <a:lnTo>
                    <a:pt x="1749" y="222"/>
                  </a:lnTo>
                  <a:lnTo>
                    <a:pt x="1736" y="222"/>
                  </a:lnTo>
                  <a:lnTo>
                    <a:pt x="1724" y="221"/>
                  </a:lnTo>
                  <a:lnTo>
                    <a:pt x="1715" y="221"/>
                  </a:lnTo>
                  <a:lnTo>
                    <a:pt x="1703" y="221"/>
                  </a:lnTo>
                  <a:lnTo>
                    <a:pt x="1692" y="221"/>
                  </a:lnTo>
                  <a:lnTo>
                    <a:pt x="1681" y="221"/>
                  </a:lnTo>
                  <a:lnTo>
                    <a:pt x="1669" y="221"/>
                  </a:lnTo>
                  <a:lnTo>
                    <a:pt x="1658" y="221"/>
                  </a:lnTo>
                  <a:lnTo>
                    <a:pt x="1646" y="221"/>
                  </a:lnTo>
                  <a:lnTo>
                    <a:pt x="1633" y="221"/>
                  </a:lnTo>
                  <a:lnTo>
                    <a:pt x="1623" y="222"/>
                  </a:lnTo>
                  <a:lnTo>
                    <a:pt x="1610" y="222"/>
                  </a:lnTo>
                  <a:lnTo>
                    <a:pt x="1599" y="224"/>
                  </a:lnTo>
                  <a:lnTo>
                    <a:pt x="1587" y="224"/>
                  </a:lnTo>
                  <a:lnTo>
                    <a:pt x="1576" y="226"/>
                  </a:lnTo>
                  <a:lnTo>
                    <a:pt x="1561" y="224"/>
                  </a:lnTo>
                  <a:lnTo>
                    <a:pt x="1547" y="221"/>
                  </a:lnTo>
                  <a:lnTo>
                    <a:pt x="1534" y="219"/>
                  </a:lnTo>
                  <a:lnTo>
                    <a:pt x="1521" y="217"/>
                  </a:lnTo>
                  <a:lnTo>
                    <a:pt x="1506" y="215"/>
                  </a:lnTo>
                  <a:lnTo>
                    <a:pt x="1492" y="215"/>
                  </a:lnTo>
                  <a:lnTo>
                    <a:pt x="1481" y="213"/>
                  </a:lnTo>
                  <a:lnTo>
                    <a:pt x="1468" y="213"/>
                  </a:lnTo>
                  <a:lnTo>
                    <a:pt x="1454" y="211"/>
                  </a:lnTo>
                  <a:lnTo>
                    <a:pt x="1439" y="211"/>
                  </a:lnTo>
                  <a:lnTo>
                    <a:pt x="1426" y="211"/>
                  </a:lnTo>
                  <a:lnTo>
                    <a:pt x="1412" y="211"/>
                  </a:lnTo>
                  <a:lnTo>
                    <a:pt x="1401" y="211"/>
                  </a:lnTo>
                  <a:lnTo>
                    <a:pt x="1388" y="211"/>
                  </a:lnTo>
                  <a:lnTo>
                    <a:pt x="1374" y="211"/>
                  </a:lnTo>
                  <a:lnTo>
                    <a:pt x="1363" y="211"/>
                  </a:lnTo>
                  <a:lnTo>
                    <a:pt x="1348" y="211"/>
                  </a:lnTo>
                  <a:lnTo>
                    <a:pt x="1336" y="211"/>
                  </a:lnTo>
                  <a:lnTo>
                    <a:pt x="1321" y="213"/>
                  </a:lnTo>
                  <a:lnTo>
                    <a:pt x="1310" y="215"/>
                  </a:lnTo>
                  <a:lnTo>
                    <a:pt x="1296" y="215"/>
                  </a:lnTo>
                  <a:lnTo>
                    <a:pt x="1283" y="215"/>
                  </a:lnTo>
                  <a:lnTo>
                    <a:pt x="1272" y="217"/>
                  </a:lnTo>
                  <a:lnTo>
                    <a:pt x="1258" y="217"/>
                  </a:lnTo>
                  <a:lnTo>
                    <a:pt x="1245" y="217"/>
                  </a:lnTo>
                  <a:lnTo>
                    <a:pt x="1234" y="219"/>
                  </a:lnTo>
                  <a:lnTo>
                    <a:pt x="1220" y="219"/>
                  </a:lnTo>
                  <a:lnTo>
                    <a:pt x="1209" y="221"/>
                  </a:lnTo>
                  <a:lnTo>
                    <a:pt x="1196" y="222"/>
                  </a:lnTo>
                  <a:lnTo>
                    <a:pt x="1184" y="224"/>
                  </a:lnTo>
                  <a:lnTo>
                    <a:pt x="1171" y="224"/>
                  </a:lnTo>
                  <a:lnTo>
                    <a:pt x="1160" y="226"/>
                  </a:lnTo>
                  <a:lnTo>
                    <a:pt x="1146" y="226"/>
                  </a:lnTo>
                  <a:lnTo>
                    <a:pt x="1133" y="228"/>
                  </a:lnTo>
                  <a:lnTo>
                    <a:pt x="1122" y="228"/>
                  </a:lnTo>
                  <a:lnTo>
                    <a:pt x="1108" y="228"/>
                  </a:lnTo>
                  <a:lnTo>
                    <a:pt x="1095" y="228"/>
                  </a:lnTo>
                  <a:lnTo>
                    <a:pt x="1084" y="230"/>
                  </a:lnTo>
                  <a:lnTo>
                    <a:pt x="1072" y="230"/>
                  </a:lnTo>
                  <a:lnTo>
                    <a:pt x="1059" y="232"/>
                  </a:lnTo>
                  <a:lnTo>
                    <a:pt x="1047" y="232"/>
                  </a:lnTo>
                  <a:lnTo>
                    <a:pt x="1034" y="232"/>
                  </a:lnTo>
                  <a:lnTo>
                    <a:pt x="1021" y="232"/>
                  </a:lnTo>
                  <a:lnTo>
                    <a:pt x="1009" y="232"/>
                  </a:lnTo>
                  <a:lnTo>
                    <a:pt x="998" y="232"/>
                  </a:lnTo>
                  <a:lnTo>
                    <a:pt x="985" y="232"/>
                  </a:lnTo>
                  <a:lnTo>
                    <a:pt x="973" y="232"/>
                  </a:lnTo>
                  <a:lnTo>
                    <a:pt x="962" y="232"/>
                  </a:lnTo>
                  <a:lnTo>
                    <a:pt x="949" y="230"/>
                  </a:lnTo>
                  <a:lnTo>
                    <a:pt x="935" y="228"/>
                  </a:lnTo>
                  <a:lnTo>
                    <a:pt x="922" y="228"/>
                  </a:lnTo>
                  <a:lnTo>
                    <a:pt x="911" y="226"/>
                  </a:lnTo>
                  <a:lnTo>
                    <a:pt x="899" y="224"/>
                  </a:lnTo>
                  <a:lnTo>
                    <a:pt x="888" y="222"/>
                  </a:lnTo>
                  <a:lnTo>
                    <a:pt x="874" y="221"/>
                  </a:lnTo>
                  <a:lnTo>
                    <a:pt x="863" y="219"/>
                  </a:lnTo>
                  <a:lnTo>
                    <a:pt x="850" y="217"/>
                  </a:lnTo>
                  <a:lnTo>
                    <a:pt x="836" y="213"/>
                  </a:lnTo>
                  <a:lnTo>
                    <a:pt x="825" y="209"/>
                  </a:lnTo>
                  <a:lnTo>
                    <a:pt x="814" y="207"/>
                  </a:lnTo>
                  <a:lnTo>
                    <a:pt x="800" y="203"/>
                  </a:lnTo>
                  <a:lnTo>
                    <a:pt x="789" y="200"/>
                  </a:lnTo>
                  <a:lnTo>
                    <a:pt x="777" y="196"/>
                  </a:lnTo>
                  <a:lnTo>
                    <a:pt x="764" y="192"/>
                  </a:lnTo>
                  <a:lnTo>
                    <a:pt x="758" y="183"/>
                  </a:lnTo>
                  <a:lnTo>
                    <a:pt x="753" y="173"/>
                  </a:lnTo>
                  <a:lnTo>
                    <a:pt x="749" y="164"/>
                  </a:lnTo>
                  <a:lnTo>
                    <a:pt x="743" y="156"/>
                  </a:lnTo>
                  <a:lnTo>
                    <a:pt x="739" y="148"/>
                  </a:lnTo>
                  <a:lnTo>
                    <a:pt x="734" y="141"/>
                  </a:lnTo>
                  <a:lnTo>
                    <a:pt x="730" y="135"/>
                  </a:lnTo>
                  <a:lnTo>
                    <a:pt x="726" y="127"/>
                  </a:lnTo>
                  <a:lnTo>
                    <a:pt x="720" y="122"/>
                  </a:lnTo>
                  <a:lnTo>
                    <a:pt x="717" y="116"/>
                  </a:lnTo>
                  <a:lnTo>
                    <a:pt x="713" y="110"/>
                  </a:lnTo>
                  <a:lnTo>
                    <a:pt x="707" y="106"/>
                  </a:lnTo>
                  <a:lnTo>
                    <a:pt x="698" y="97"/>
                  </a:lnTo>
                  <a:lnTo>
                    <a:pt x="688" y="91"/>
                  </a:lnTo>
                  <a:lnTo>
                    <a:pt x="677" y="87"/>
                  </a:lnTo>
                  <a:lnTo>
                    <a:pt x="667" y="84"/>
                  </a:lnTo>
                  <a:lnTo>
                    <a:pt x="660" y="82"/>
                  </a:lnTo>
                  <a:lnTo>
                    <a:pt x="652" y="82"/>
                  </a:lnTo>
                  <a:lnTo>
                    <a:pt x="646" y="82"/>
                  </a:lnTo>
                  <a:lnTo>
                    <a:pt x="641" y="82"/>
                  </a:lnTo>
                  <a:lnTo>
                    <a:pt x="631" y="82"/>
                  </a:lnTo>
                  <a:lnTo>
                    <a:pt x="623" y="82"/>
                  </a:lnTo>
                  <a:lnTo>
                    <a:pt x="614" y="84"/>
                  </a:lnTo>
                  <a:lnTo>
                    <a:pt x="606" y="86"/>
                  </a:lnTo>
                  <a:lnTo>
                    <a:pt x="597" y="87"/>
                  </a:lnTo>
                  <a:lnTo>
                    <a:pt x="587" y="89"/>
                  </a:lnTo>
                  <a:lnTo>
                    <a:pt x="576" y="93"/>
                  </a:lnTo>
                  <a:lnTo>
                    <a:pt x="566" y="97"/>
                  </a:lnTo>
                  <a:lnTo>
                    <a:pt x="559" y="91"/>
                  </a:lnTo>
                  <a:lnTo>
                    <a:pt x="555" y="84"/>
                  </a:lnTo>
                  <a:lnTo>
                    <a:pt x="547" y="80"/>
                  </a:lnTo>
                  <a:lnTo>
                    <a:pt x="542" y="74"/>
                  </a:lnTo>
                  <a:lnTo>
                    <a:pt x="536" y="68"/>
                  </a:lnTo>
                  <a:lnTo>
                    <a:pt x="530" y="65"/>
                  </a:lnTo>
                  <a:lnTo>
                    <a:pt x="525" y="61"/>
                  </a:lnTo>
                  <a:lnTo>
                    <a:pt x="519" y="57"/>
                  </a:lnTo>
                  <a:lnTo>
                    <a:pt x="513" y="53"/>
                  </a:lnTo>
                  <a:lnTo>
                    <a:pt x="506" y="51"/>
                  </a:lnTo>
                  <a:lnTo>
                    <a:pt x="500" y="48"/>
                  </a:lnTo>
                  <a:lnTo>
                    <a:pt x="494" y="44"/>
                  </a:lnTo>
                  <a:lnTo>
                    <a:pt x="487" y="42"/>
                  </a:lnTo>
                  <a:lnTo>
                    <a:pt x="481" y="38"/>
                  </a:lnTo>
                  <a:lnTo>
                    <a:pt x="475" y="36"/>
                  </a:lnTo>
                  <a:lnTo>
                    <a:pt x="469" y="36"/>
                  </a:lnTo>
                  <a:lnTo>
                    <a:pt x="462" y="32"/>
                  </a:lnTo>
                  <a:lnTo>
                    <a:pt x="456" y="32"/>
                  </a:lnTo>
                  <a:lnTo>
                    <a:pt x="449" y="29"/>
                  </a:lnTo>
                  <a:lnTo>
                    <a:pt x="441" y="29"/>
                  </a:lnTo>
                  <a:lnTo>
                    <a:pt x="435" y="27"/>
                  </a:lnTo>
                  <a:lnTo>
                    <a:pt x="428" y="27"/>
                  </a:lnTo>
                  <a:lnTo>
                    <a:pt x="420" y="25"/>
                  </a:lnTo>
                  <a:lnTo>
                    <a:pt x="414" y="25"/>
                  </a:lnTo>
                  <a:lnTo>
                    <a:pt x="407" y="25"/>
                  </a:lnTo>
                  <a:lnTo>
                    <a:pt x="399" y="23"/>
                  </a:lnTo>
                  <a:lnTo>
                    <a:pt x="392" y="23"/>
                  </a:lnTo>
                  <a:lnTo>
                    <a:pt x="386" y="23"/>
                  </a:lnTo>
                  <a:lnTo>
                    <a:pt x="378" y="23"/>
                  </a:lnTo>
                  <a:lnTo>
                    <a:pt x="373" y="23"/>
                  </a:lnTo>
                  <a:lnTo>
                    <a:pt x="365" y="23"/>
                  </a:lnTo>
                  <a:lnTo>
                    <a:pt x="357" y="23"/>
                  </a:lnTo>
                  <a:lnTo>
                    <a:pt x="350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7" y="23"/>
                  </a:lnTo>
                  <a:lnTo>
                    <a:pt x="319" y="23"/>
                  </a:lnTo>
                  <a:lnTo>
                    <a:pt x="312" y="23"/>
                  </a:lnTo>
                  <a:lnTo>
                    <a:pt x="304" y="23"/>
                  </a:lnTo>
                  <a:lnTo>
                    <a:pt x="298" y="23"/>
                  </a:lnTo>
                  <a:lnTo>
                    <a:pt x="289" y="23"/>
                  </a:lnTo>
                  <a:lnTo>
                    <a:pt x="283" y="23"/>
                  </a:lnTo>
                  <a:lnTo>
                    <a:pt x="274" y="23"/>
                  </a:lnTo>
                  <a:lnTo>
                    <a:pt x="268" y="23"/>
                  </a:lnTo>
                  <a:lnTo>
                    <a:pt x="260" y="23"/>
                  </a:lnTo>
                  <a:lnTo>
                    <a:pt x="253" y="23"/>
                  </a:lnTo>
                  <a:lnTo>
                    <a:pt x="245" y="23"/>
                  </a:lnTo>
                  <a:lnTo>
                    <a:pt x="238" y="23"/>
                  </a:lnTo>
                  <a:lnTo>
                    <a:pt x="230" y="23"/>
                  </a:lnTo>
                  <a:lnTo>
                    <a:pt x="222" y="21"/>
                  </a:lnTo>
                  <a:lnTo>
                    <a:pt x="215" y="19"/>
                  </a:lnTo>
                  <a:lnTo>
                    <a:pt x="207" y="19"/>
                  </a:lnTo>
                  <a:lnTo>
                    <a:pt x="200" y="19"/>
                  </a:lnTo>
                  <a:lnTo>
                    <a:pt x="194" y="17"/>
                  </a:lnTo>
                  <a:lnTo>
                    <a:pt x="184" y="17"/>
                  </a:lnTo>
                  <a:lnTo>
                    <a:pt x="179" y="17"/>
                  </a:lnTo>
                  <a:lnTo>
                    <a:pt x="169" y="15"/>
                  </a:lnTo>
                  <a:lnTo>
                    <a:pt x="162" y="13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1" y="8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20" y="0"/>
                  </a:lnTo>
                  <a:lnTo>
                    <a:pt x="118" y="8"/>
                  </a:lnTo>
                  <a:lnTo>
                    <a:pt x="118" y="15"/>
                  </a:lnTo>
                  <a:lnTo>
                    <a:pt x="118" y="21"/>
                  </a:lnTo>
                  <a:lnTo>
                    <a:pt x="120" y="27"/>
                  </a:lnTo>
                  <a:lnTo>
                    <a:pt x="122" y="36"/>
                  </a:lnTo>
                  <a:lnTo>
                    <a:pt x="129" y="48"/>
                  </a:lnTo>
                  <a:lnTo>
                    <a:pt x="133" y="55"/>
                  </a:lnTo>
                  <a:lnTo>
                    <a:pt x="142" y="67"/>
                  </a:lnTo>
                  <a:lnTo>
                    <a:pt x="146" y="72"/>
                  </a:lnTo>
                  <a:lnTo>
                    <a:pt x="152" y="78"/>
                  </a:lnTo>
                  <a:lnTo>
                    <a:pt x="156" y="84"/>
                  </a:lnTo>
                  <a:lnTo>
                    <a:pt x="162" y="91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54" y="95"/>
                  </a:lnTo>
                  <a:lnTo>
                    <a:pt x="148" y="93"/>
                  </a:lnTo>
                  <a:lnTo>
                    <a:pt x="141" y="93"/>
                  </a:lnTo>
                  <a:lnTo>
                    <a:pt x="135" y="93"/>
                  </a:lnTo>
                  <a:lnTo>
                    <a:pt x="123" y="91"/>
                  </a:lnTo>
                  <a:lnTo>
                    <a:pt x="114" y="91"/>
                  </a:lnTo>
                  <a:lnTo>
                    <a:pt x="104" y="89"/>
                  </a:lnTo>
                  <a:lnTo>
                    <a:pt x="97" y="89"/>
                  </a:lnTo>
                  <a:lnTo>
                    <a:pt x="87" y="89"/>
                  </a:lnTo>
                  <a:lnTo>
                    <a:pt x="80" y="89"/>
                  </a:lnTo>
                  <a:lnTo>
                    <a:pt x="72" y="87"/>
                  </a:lnTo>
                  <a:lnTo>
                    <a:pt x="65" y="87"/>
                  </a:lnTo>
                  <a:lnTo>
                    <a:pt x="55" y="86"/>
                  </a:lnTo>
                  <a:lnTo>
                    <a:pt x="47" y="84"/>
                  </a:lnTo>
                  <a:lnTo>
                    <a:pt x="36" y="82"/>
                  </a:lnTo>
                  <a:lnTo>
                    <a:pt x="27" y="80"/>
                  </a:lnTo>
                  <a:lnTo>
                    <a:pt x="19" y="80"/>
                  </a:lnTo>
                  <a:lnTo>
                    <a:pt x="13" y="78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9" y="99"/>
                  </a:lnTo>
                  <a:lnTo>
                    <a:pt x="13" y="106"/>
                  </a:lnTo>
                  <a:lnTo>
                    <a:pt x="17" y="112"/>
                  </a:lnTo>
                  <a:lnTo>
                    <a:pt x="21" y="118"/>
                  </a:lnTo>
                  <a:lnTo>
                    <a:pt x="23" y="125"/>
                  </a:lnTo>
                  <a:lnTo>
                    <a:pt x="28" y="131"/>
                  </a:lnTo>
                  <a:lnTo>
                    <a:pt x="34" y="141"/>
                  </a:lnTo>
                  <a:lnTo>
                    <a:pt x="42" y="152"/>
                  </a:lnTo>
                  <a:lnTo>
                    <a:pt x="51" y="160"/>
                  </a:lnTo>
                  <a:lnTo>
                    <a:pt x="61" y="169"/>
                  </a:lnTo>
                  <a:lnTo>
                    <a:pt x="70" y="175"/>
                  </a:lnTo>
                  <a:lnTo>
                    <a:pt x="82" y="183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101" y="190"/>
                  </a:lnTo>
                  <a:lnTo>
                    <a:pt x="106" y="192"/>
                  </a:lnTo>
                  <a:lnTo>
                    <a:pt x="114" y="194"/>
                  </a:lnTo>
                  <a:lnTo>
                    <a:pt x="120" y="196"/>
                  </a:lnTo>
                  <a:lnTo>
                    <a:pt x="127" y="198"/>
                  </a:lnTo>
                  <a:lnTo>
                    <a:pt x="135" y="200"/>
                  </a:lnTo>
                  <a:lnTo>
                    <a:pt x="142" y="200"/>
                  </a:lnTo>
                  <a:lnTo>
                    <a:pt x="150" y="202"/>
                  </a:lnTo>
                  <a:lnTo>
                    <a:pt x="160" y="203"/>
                  </a:lnTo>
                  <a:lnTo>
                    <a:pt x="169" y="205"/>
                  </a:lnTo>
                  <a:lnTo>
                    <a:pt x="171" y="213"/>
                  </a:lnTo>
                  <a:lnTo>
                    <a:pt x="171" y="221"/>
                  </a:lnTo>
                  <a:lnTo>
                    <a:pt x="171" y="230"/>
                  </a:lnTo>
                  <a:lnTo>
                    <a:pt x="171" y="240"/>
                  </a:lnTo>
                  <a:lnTo>
                    <a:pt x="169" y="247"/>
                  </a:lnTo>
                  <a:lnTo>
                    <a:pt x="167" y="257"/>
                  </a:lnTo>
                  <a:lnTo>
                    <a:pt x="163" y="266"/>
                  </a:lnTo>
                  <a:lnTo>
                    <a:pt x="162" y="276"/>
                  </a:lnTo>
                  <a:lnTo>
                    <a:pt x="156" y="285"/>
                  </a:lnTo>
                  <a:lnTo>
                    <a:pt x="152" y="295"/>
                  </a:lnTo>
                  <a:lnTo>
                    <a:pt x="148" y="304"/>
                  </a:lnTo>
                  <a:lnTo>
                    <a:pt x="142" y="314"/>
                  </a:lnTo>
                  <a:lnTo>
                    <a:pt x="137" y="323"/>
                  </a:lnTo>
                  <a:lnTo>
                    <a:pt x="131" y="333"/>
                  </a:lnTo>
                  <a:lnTo>
                    <a:pt x="123" y="342"/>
                  </a:lnTo>
                  <a:lnTo>
                    <a:pt x="120" y="354"/>
                  </a:lnTo>
                  <a:lnTo>
                    <a:pt x="110" y="363"/>
                  </a:lnTo>
                  <a:lnTo>
                    <a:pt x="103" y="373"/>
                  </a:lnTo>
                  <a:lnTo>
                    <a:pt x="95" y="382"/>
                  </a:lnTo>
                  <a:lnTo>
                    <a:pt x="87" y="392"/>
                  </a:lnTo>
                  <a:lnTo>
                    <a:pt x="80" y="401"/>
                  </a:lnTo>
                  <a:lnTo>
                    <a:pt x="74" y="411"/>
                  </a:lnTo>
                  <a:lnTo>
                    <a:pt x="65" y="420"/>
                  </a:lnTo>
                  <a:lnTo>
                    <a:pt x="59" y="432"/>
                  </a:lnTo>
                  <a:lnTo>
                    <a:pt x="49" y="441"/>
                  </a:lnTo>
                  <a:lnTo>
                    <a:pt x="42" y="451"/>
                  </a:lnTo>
                  <a:lnTo>
                    <a:pt x="36" y="460"/>
                  </a:lnTo>
                  <a:lnTo>
                    <a:pt x="28" y="471"/>
                  </a:lnTo>
                  <a:lnTo>
                    <a:pt x="23" y="481"/>
                  </a:lnTo>
                  <a:lnTo>
                    <a:pt x="17" y="491"/>
                  </a:lnTo>
                  <a:lnTo>
                    <a:pt x="9" y="502"/>
                  </a:lnTo>
                  <a:lnTo>
                    <a:pt x="4" y="511"/>
                  </a:lnTo>
                  <a:lnTo>
                    <a:pt x="4" y="523"/>
                  </a:lnTo>
                  <a:lnTo>
                    <a:pt x="6" y="534"/>
                  </a:lnTo>
                  <a:lnTo>
                    <a:pt x="8" y="544"/>
                  </a:lnTo>
                  <a:lnTo>
                    <a:pt x="9" y="555"/>
                  </a:lnTo>
                  <a:lnTo>
                    <a:pt x="9" y="563"/>
                  </a:lnTo>
                  <a:lnTo>
                    <a:pt x="13" y="572"/>
                  </a:lnTo>
                  <a:lnTo>
                    <a:pt x="17" y="578"/>
                  </a:lnTo>
                  <a:lnTo>
                    <a:pt x="19" y="587"/>
                  </a:lnTo>
                  <a:lnTo>
                    <a:pt x="23" y="593"/>
                  </a:lnTo>
                  <a:lnTo>
                    <a:pt x="27" y="599"/>
                  </a:lnTo>
                  <a:lnTo>
                    <a:pt x="28" y="605"/>
                  </a:lnTo>
                  <a:lnTo>
                    <a:pt x="34" y="610"/>
                  </a:lnTo>
                  <a:lnTo>
                    <a:pt x="42" y="620"/>
                  </a:lnTo>
                  <a:lnTo>
                    <a:pt x="55" y="627"/>
                  </a:lnTo>
                  <a:lnTo>
                    <a:pt x="59" y="629"/>
                  </a:lnTo>
                  <a:lnTo>
                    <a:pt x="65" y="631"/>
                  </a:lnTo>
                  <a:lnTo>
                    <a:pt x="70" y="633"/>
                  </a:lnTo>
                  <a:lnTo>
                    <a:pt x="76" y="637"/>
                  </a:lnTo>
                  <a:lnTo>
                    <a:pt x="84" y="637"/>
                  </a:lnTo>
                  <a:lnTo>
                    <a:pt x="89" y="639"/>
                  </a:lnTo>
                  <a:lnTo>
                    <a:pt x="95" y="639"/>
                  </a:lnTo>
                  <a:lnTo>
                    <a:pt x="103" y="641"/>
                  </a:lnTo>
                  <a:lnTo>
                    <a:pt x="110" y="639"/>
                  </a:lnTo>
                  <a:lnTo>
                    <a:pt x="116" y="639"/>
                  </a:lnTo>
                  <a:lnTo>
                    <a:pt x="123" y="639"/>
                  </a:lnTo>
                  <a:lnTo>
                    <a:pt x="131" y="639"/>
                  </a:lnTo>
                  <a:lnTo>
                    <a:pt x="139" y="639"/>
                  </a:lnTo>
                  <a:lnTo>
                    <a:pt x="148" y="637"/>
                  </a:lnTo>
                  <a:lnTo>
                    <a:pt x="154" y="637"/>
                  </a:lnTo>
                  <a:lnTo>
                    <a:pt x="163" y="637"/>
                  </a:lnTo>
                  <a:lnTo>
                    <a:pt x="171" y="633"/>
                  </a:lnTo>
                  <a:lnTo>
                    <a:pt x="181" y="631"/>
                  </a:lnTo>
                  <a:lnTo>
                    <a:pt x="188" y="629"/>
                  </a:lnTo>
                  <a:lnTo>
                    <a:pt x="196" y="629"/>
                  </a:lnTo>
                  <a:lnTo>
                    <a:pt x="203" y="627"/>
                  </a:lnTo>
                  <a:lnTo>
                    <a:pt x="213" y="625"/>
                  </a:lnTo>
                  <a:lnTo>
                    <a:pt x="219" y="624"/>
                  </a:lnTo>
                  <a:lnTo>
                    <a:pt x="228" y="622"/>
                  </a:lnTo>
                  <a:lnTo>
                    <a:pt x="236" y="620"/>
                  </a:lnTo>
                  <a:lnTo>
                    <a:pt x="245" y="618"/>
                  </a:lnTo>
                  <a:lnTo>
                    <a:pt x="253" y="614"/>
                  </a:lnTo>
                  <a:lnTo>
                    <a:pt x="262" y="614"/>
                  </a:lnTo>
                  <a:lnTo>
                    <a:pt x="270" y="612"/>
                  </a:lnTo>
                  <a:lnTo>
                    <a:pt x="279" y="610"/>
                  </a:lnTo>
                  <a:lnTo>
                    <a:pt x="287" y="608"/>
                  </a:lnTo>
                  <a:lnTo>
                    <a:pt x="296" y="608"/>
                  </a:lnTo>
                  <a:lnTo>
                    <a:pt x="304" y="606"/>
                  </a:lnTo>
                  <a:lnTo>
                    <a:pt x="312" y="605"/>
                  </a:lnTo>
                  <a:lnTo>
                    <a:pt x="319" y="603"/>
                  </a:lnTo>
                  <a:lnTo>
                    <a:pt x="329" y="603"/>
                  </a:lnTo>
                  <a:lnTo>
                    <a:pt x="336" y="603"/>
                  </a:lnTo>
                  <a:lnTo>
                    <a:pt x="344" y="603"/>
                  </a:lnTo>
                  <a:lnTo>
                    <a:pt x="352" y="603"/>
                  </a:lnTo>
                  <a:lnTo>
                    <a:pt x="361" y="603"/>
                  </a:lnTo>
                  <a:lnTo>
                    <a:pt x="367" y="603"/>
                  </a:lnTo>
                  <a:lnTo>
                    <a:pt x="374" y="603"/>
                  </a:lnTo>
                  <a:lnTo>
                    <a:pt x="382" y="603"/>
                  </a:lnTo>
                  <a:lnTo>
                    <a:pt x="390" y="605"/>
                  </a:lnTo>
                  <a:lnTo>
                    <a:pt x="395" y="606"/>
                  </a:lnTo>
                  <a:lnTo>
                    <a:pt x="403" y="608"/>
                  </a:lnTo>
                  <a:lnTo>
                    <a:pt x="409" y="610"/>
                  </a:lnTo>
                  <a:lnTo>
                    <a:pt x="416" y="614"/>
                  </a:lnTo>
                  <a:lnTo>
                    <a:pt x="426" y="622"/>
                  </a:lnTo>
                  <a:lnTo>
                    <a:pt x="437" y="629"/>
                  </a:lnTo>
                  <a:lnTo>
                    <a:pt x="447" y="637"/>
                  </a:lnTo>
                  <a:lnTo>
                    <a:pt x="456" y="646"/>
                  </a:lnTo>
                  <a:lnTo>
                    <a:pt x="466" y="652"/>
                  </a:lnTo>
                  <a:lnTo>
                    <a:pt x="475" y="662"/>
                  </a:lnTo>
                  <a:lnTo>
                    <a:pt x="485" y="669"/>
                  </a:lnTo>
                  <a:lnTo>
                    <a:pt x="494" y="679"/>
                  </a:lnTo>
                  <a:lnTo>
                    <a:pt x="502" y="688"/>
                  </a:lnTo>
                  <a:lnTo>
                    <a:pt x="511" y="696"/>
                  </a:lnTo>
                  <a:lnTo>
                    <a:pt x="519" y="705"/>
                  </a:lnTo>
                  <a:lnTo>
                    <a:pt x="528" y="715"/>
                  </a:lnTo>
                  <a:lnTo>
                    <a:pt x="536" y="722"/>
                  </a:lnTo>
                  <a:lnTo>
                    <a:pt x="546" y="732"/>
                  </a:lnTo>
                  <a:lnTo>
                    <a:pt x="553" y="740"/>
                  </a:lnTo>
                  <a:lnTo>
                    <a:pt x="561" y="749"/>
                  </a:lnTo>
                  <a:lnTo>
                    <a:pt x="568" y="759"/>
                  </a:lnTo>
                  <a:lnTo>
                    <a:pt x="576" y="766"/>
                  </a:lnTo>
                  <a:lnTo>
                    <a:pt x="584" y="776"/>
                  </a:lnTo>
                  <a:lnTo>
                    <a:pt x="591" y="785"/>
                  </a:lnTo>
                  <a:lnTo>
                    <a:pt x="597" y="795"/>
                  </a:lnTo>
                  <a:lnTo>
                    <a:pt x="604" y="804"/>
                  </a:lnTo>
                  <a:lnTo>
                    <a:pt x="610" y="814"/>
                  </a:lnTo>
                  <a:lnTo>
                    <a:pt x="618" y="823"/>
                  </a:lnTo>
                  <a:lnTo>
                    <a:pt x="623" y="831"/>
                  </a:lnTo>
                  <a:lnTo>
                    <a:pt x="631" y="840"/>
                  </a:lnTo>
                  <a:lnTo>
                    <a:pt x="637" y="850"/>
                  </a:lnTo>
                  <a:lnTo>
                    <a:pt x="642" y="859"/>
                  </a:lnTo>
                  <a:lnTo>
                    <a:pt x="648" y="869"/>
                  </a:lnTo>
                  <a:lnTo>
                    <a:pt x="654" y="878"/>
                  </a:lnTo>
                  <a:lnTo>
                    <a:pt x="662" y="888"/>
                  </a:lnTo>
                  <a:lnTo>
                    <a:pt x="667" y="899"/>
                  </a:lnTo>
                  <a:lnTo>
                    <a:pt x="673" y="909"/>
                  </a:lnTo>
                  <a:lnTo>
                    <a:pt x="679" y="918"/>
                  </a:lnTo>
                  <a:lnTo>
                    <a:pt x="684" y="928"/>
                  </a:lnTo>
                  <a:lnTo>
                    <a:pt x="688" y="937"/>
                  </a:lnTo>
                  <a:lnTo>
                    <a:pt x="694" y="947"/>
                  </a:lnTo>
                  <a:lnTo>
                    <a:pt x="700" y="958"/>
                  </a:lnTo>
                  <a:lnTo>
                    <a:pt x="705" y="968"/>
                  </a:lnTo>
                  <a:lnTo>
                    <a:pt x="711" y="977"/>
                  </a:lnTo>
                  <a:lnTo>
                    <a:pt x="715" y="987"/>
                  </a:lnTo>
                  <a:lnTo>
                    <a:pt x="722" y="996"/>
                  </a:lnTo>
                  <a:lnTo>
                    <a:pt x="726" y="1008"/>
                  </a:lnTo>
                  <a:lnTo>
                    <a:pt x="732" y="1017"/>
                  </a:lnTo>
                  <a:lnTo>
                    <a:pt x="736" y="1027"/>
                  </a:lnTo>
                  <a:lnTo>
                    <a:pt x="743" y="1038"/>
                  </a:lnTo>
                  <a:lnTo>
                    <a:pt x="747" y="1049"/>
                  </a:lnTo>
                  <a:lnTo>
                    <a:pt x="753" y="1059"/>
                  </a:lnTo>
                  <a:lnTo>
                    <a:pt x="758" y="1068"/>
                  </a:lnTo>
                  <a:lnTo>
                    <a:pt x="762" y="1080"/>
                  </a:lnTo>
                  <a:lnTo>
                    <a:pt x="768" y="1089"/>
                  </a:lnTo>
                  <a:lnTo>
                    <a:pt x="774" y="1101"/>
                  </a:lnTo>
                  <a:lnTo>
                    <a:pt x="779" y="1110"/>
                  </a:lnTo>
                  <a:lnTo>
                    <a:pt x="783" y="1120"/>
                  </a:lnTo>
                  <a:lnTo>
                    <a:pt x="789" y="1131"/>
                  </a:lnTo>
                  <a:lnTo>
                    <a:pt x="796" y="1143"/>
                  </a:lnTo>
                  <a:lnTo>
                    <a:pt x="800" y="1152"/>
                  </a:lnTo>
                  <a:lnTo>
                    <a:pt x="806" y="1163"/>
                  </a:lnTo>
                  <a:lnTo>
                    <a:pt x="810" y="1175"/>
                  </a:lnTo>
                  <a:lnTo>
                    <a:pt x="817" y="1186"/>
                  </a:lnTo>
                  <a:lnTo>
                    <a:pt x="823" y="1198"/>
                  </a:lnTo>
                  <a:lnTo>
                    <a:pt x="827" y="1209"/>
                  </a:lnTo>
                  <a:lnTo>
                    <a:pt x="835" y="1219"/>
                  </a:lnTo>
                  <a:lnTo>
                    <a:pt x="840" y="1232"/>
                  </a:lnTo>
                  <a:lnTo>
                    <a:pt x="833" y="1234"/>
                  </a:lnTo>
                  <a:lnTo>
                    <a:pt x="827" y="1241"/>
                  </a:lnTo>
                  <a:lnTo>
                    <a:pt x="823" y="1247"/>
                  </a:lnTo>
                  <a:lnTo>
                    <a:pt x="823" y="1257"/>
                  </a:lnTo>
                  <a:lnTo>
                    <a:pt x="821" y="1264"/>
                  </a:lnTo>
                  <a:lnTo>
                    <a:pt x="823" y="1276"/>
                  </a:lnTo>
                  <a:lnTo>
                    <a:pt x="823" y="1281"/>
                  </a:lnTo>
                  <a:lnTo>
                    <a:pt x="825" y="1285"/>
                  </a:lnTo>
                  <a:lnTo>
                    <a:pt x="827" y="1293"/>
                  </a:lnTo>
                  <a:lnTo>
                    <a:pt x="831" y="1298"/>
                  </a:lnTo>
                  <a:lnTo>
                    <a:pt x="835" y="1310"/>
                  </a:lnTo>
                  <a:lnTo>
                    <a:pt x="838" y="1321"/>
                  </a:lnTo>
                  <a:lnTo>
                    <a:pt x="844" y="1331"/>
                  </a:lnTo>
                  <a:lnTo>
                    <a:pt x="852" y="1344"/>
                  </a:lnTo>
                  <a:lnTo>
                    <a:pt x="855" y="1354"/>
                  </a:lnTo>
                  <a:lnTo>
                    <a:pt x="861" y="1363"/>
                  </a:lnTo>
                  <a:lnTo>
                    <a:pt x="867" y="1373"/>
                  </a:lnTo>
                  <a:lnTo>
                    <a:pt x="873" y="1380"/>
                  </a:lnTo>
                  <a:lnTo>
                    <a:pt x="874" y="1376"/>
                  </a:lnTo>
                  <a:lnTo>
                    <a:pt x="871" y="1369"/>
                  </a:lnTo>
                  <a:lnTo>
                    <a:pt x="869" y="1361"/>
                  </a:lnTo>
                  <a:lnTo>
                    <a:pt x="867" y="1354"/>
                  </a:lnTo>
                  <a:lnTo>
                    <a:pt x="865" y="1346"/>
                  </a:lnTo>
                  <a:lnTo>
                    <a:pt x="863" y="1338"/>
                  </a:lnTo>
                  <a:lnTo>
                    <a:pt x="861" y="1331"/>
                  </a:lnTo>
                  <a:lnTo>
                    <a:pt x="859" y="1323"/>
                  </a:lnTo>
                  <a:lnTo>
                    <a:pt x="857" y="1317"/>
                  </a:lnTo>
                  <a:lnTo>
                    <a:pt x="855" y="1308"/>
                  </a:lnTo>
                  <a:lnTo>
                    <a:pt x="854" y="1300"/>
                  </a:lnTo>
                  <a:lnTo>
                    <a:pt x="852" y="1293"/>
                  </a:lnTo>
                  <a:lnTo>
                    <a:pt x="852" y="1285"/>
                  </a:lnTo>
                  <a:lnTo>
                    <a:pt x="848" y="1279"/>
                  </a:lnTo>
                  <a:lnTo>
                    <a:pt x="846" y="1272"/>
                  </a:lnTo>
                  <a:lnTo>
                    <a:pt x="844" y="1264"/>
                  </a:lnTo>
                  <a:lnTo>
                    <a:pt x="844" y="1257"/>
                  </a:lnTo>
                  <a:lnTo>
                    <a:pt x="850" y="1255"/>
                  </a:lnTo>
                  <a:lnTo>
                    <a:pt x="857" y="1255"/>
                  </a:lnTo>
                  <a:lnTo>
                    <a:pt x="863" y="1257"/>
                  </a:lnTo>
                  <a:lnTo>
                    <a:pt x="871" y="1259"/>
                  </a:lnTo>
                  <a:lnTo>
                    <a:pt x="878" y="1260"/>
                  </a:lnTo>
                  <a:lnTo>
                    <a:pt x="884" y="1264"/>
                  </a:lnTo>
                  <a:lnTo>
                    <a:pt x="892" y="1266"/>
                  </a:lnTo>
                  <a:lnTo>
                    <a:pt x="899" y="1270"/>
                  </a:lnTo>
                  <a:lnTo>
                    <a:pt x="899" y="1279"/>
                  </a:lnTo>
                  <a:lnTo>
                    <a:pt x="899" y="1291"/>
                  </a:lnTo>
                  <a:lnTo>
                    <a:pt x="899" y="1297"/>
                  </a:lnTo>
                  <a:lnTo>
                    <a:pt x="901" y="1302"/>
                  </a:lnTo>
                  <a:lnTo>
                    <a:pt x="901" y="1308"/>
                  </a:lnTo>
                  <a:lnTo>
                    <a:pt x="903" y="1316"/>
                  </a:lnTo>
                  <a:lnTo>
                    <a:pt x="903" y="1319"/>
                  </a:lnTo>
                  <a:lnTo>
                    <a:pt x="903" y="1327"/>
                  </a:lnTo>
                  <a:lnTo>
                    <a:pt x="905" y="1331"/>
                  </a:lnTo>
                  <a:lnTo>
                    <a:pt x="907" y="1338"/>
                  </a:lnTo>
                  <a:lnTo>
                    <a:pt x="907" y="1344"/>
                  </a:lnTo>
                  <a:lnTo>
                    <a:pt x="909" y="1350"/>
                  </a:lnTo>
                  <a:lnTo>
                    <a:pt x="911" y="1355"/>
                  </a:lnTo>
                  <a:lnTo>
                    <a:pt x="912" y="1363"/>
                  </a:lnTo>
                  <a:lnTo>
                    <a:pt x="912" y="1367"/>
                  </a:lnTo>
                  <a:lnTo>
                    <a:pt x="914" y="1375"/>
                  </a:lnTo>
                  <a:lnTo>
                    <a:pt x="916" y="1380"/>
                  </a:lnTo>
                  <a:lnTo>
                    <a:pt x="918" y="1386"/>
                  </a:lnTo>
                  <a:lnTo>
                    <a:pt x="918" y="1392"/>
                  </a:lnTo>
                  <a:lnTo>
                    <a:pt x="920" y="1399"/>
                  </a:lnTo>
                  <a:lnTo>
                    <a:pt x="922" y="1405"/>
                  </a:lnTo>
                  <a:lnTo>
                    <a:pt x="924" y="1411"/>
                  </a:lnTo>
                  <a:lnTo>
                    <a:pt x="926" y="1416"/>
                  </a:lnTo>
                  <a:lnTo>
                    <a:pt x="928" y="1422"/>
                  </a:lnTo>
                  <a:lnTo>
                    <a:pt x="928" y="1430"/>
                  </a:lnTo>
                  <a:lnTo>
                    <a:pt x="930" y="1435"/>
                  </a:lnTo>
                  <a:lnTo>
                    <a:pt x="931" y="1443"/>
                  </a:lnTo>
                  <a:lnTo>
                    <a:pt x="933" y="1449"/>
                  </a:lnTo>
                  <a:lnTo>
                    <a:pt x="935" y="1454"/>
                  </a:lnTo>
                  <a:lnTo>
                    <a:pt x="937" y="1462"/>
                  </a:lnTo>
                  <a:lnTo>
                    <a:pt x="937" y="1466"/>
                  </a:lnTo>
                  <a:lnTo>
                    <a:pt x="939" y="1473"/>
                  </a:lnTo>
                  <a:lnTo>
                    <a:pt x="939" y="1479"/>
                  </a:lnTo>
                  <a:lnTo>
                    <a:pt x="941" y="1485"/>
                  </a:lnTo>
                  <a:lnTo>
                    <a:pt x="943" y="1490"/>
                  </a:lnTo>
                  <a:lnTo>
                    <a:pt x="943" y="1498"/>
                  </a:lnTo>
                  <a:lnTo>
                    <a:pt x="945" y="1504"/>
                  </a:lnTo>
                  <a:lnTo>
                    <a:pt x="947" y="1509"/>
                  </a:lnTo>
                  <a:lnTo>
                    <a:pt x="947" y="1515"/>
                  </a:lnTo>
                  <a:lnTo>
                    <a:pt x="949" y="1521"/>
                  </a:lnTo>
                  <a:lnTo>
                    <a:pt x="949" y="1527"/>
                  </a:lnTo>
                  <a:lnTo>
                    <a:pt x="950" y="1532"/>
                  </a:lnTo>
                  <a:lnTo>
                    <a:pt x="950" y="1538"/>
                  </a:lnTo>
                  <a:lnTo>
                    <a:pt x="952" y="1546"/>
                  </a:lnTo>
                  <a:lnTo>
                    <a:pt x="952" y="1551"/>
                  </a:lnTo>
                  <a:lnTo>
                    <a:pt x="954" y="1557"/>
                  </a:lnTo>
                  <a:lnTo>
                    <a:pt x="954" y="1563"/>
                  </a:lnTo>
                  <a:lnTo>
                    <a:pt x="956" y="1568"/>
                  </a:lnTo>
                  <a:lnTo>
                    <a:pt x="956" y="1574"/>
                  </a:lnTo>
                  <a:lnTo>
                    <a:pt x="956" y="1582"/>
                  </a:lnTo>
                  <a:lnTo>
                    <a:pt x="956" y="1586"/>
                  </a:lnTo>
                  <a:lnTo>
                    <a:pt x="956" y="1591"/>
                  </a:lnTo>
                  <a:lnTo>
                    <a:pt x="956" y="1599"/>
                  </a:lnTo>
                  <a:lnTo>
                    <a:pt x="958" y="1605"/>
                  </a:lnTo>
                  <a:lnTo>
                    <a:pt x="956" y="1614"/>
                  </a:lnTo>
                  <a:lnTo>
                    <a:pt x="956" y="1625"/>
                  </a:lnTo>
                  <a:lnTo>
                    <a:pt x="956" y="1637"/>
                  </a:lnTo>
                  <a:lnTo>
                    <a:pt x="956" y="1648"/>
                  </a:lnTo>
                  <a:lnTo>
                    <a:pt x="952" y="1654"/>
                  </a:lnTo>
                  <a:lnTo>
                    <a:pt x="949" y="1660"/>
                  </a:lnTo>
                  <a:lnTo>
                    <a:pt x="947" y="1665"/>
                  </a:lnTo>
                  <a:lnTo>
                    <a:pt x="945" y="1673"/>
                  </a:lnTo>
                  <a:lnTo>
                    <a:pt x="939" y="1679"/>
                  </a:lnTo>
                  <a:lnTo>
                    <a:pt x="937" y="1686"/>
                  </a:lnTo>
                  <a:lnTo>
                    <a:pt x="933" y="1694"/>
                  </a:lnTo>
                  <a:lnTo>
                    <a:pt x="930" y="1701"/>
                  </a:lnTo>
                  <a:lnTo>
                    <a:pt x="926" y="1709"/>
                  </a:lnTo>
                  <a:lnTo>
                    <a:pt x="922" y="1715"/>
                  </a:lnTo>
                  <a:lnTo>
                    <a:pt x="920" y="1721"/>
                  </a:lnTo>
                  <a:lnTo>
                    <a:pt x="916" y="1728"/>
                  </a:lnTo>
                  <a:lnTo>
                    <a:pt x="912" y="1732"/>
                  </a:lnTo>
                  <a:lnTo>
                    <a:pt x="911" y="1738"/>
                  </a:lnTo>
                  <a:lnTo>
                    <a:pt x="907" y="1741"/>
                  </a:lnTo>
                  <a:lnTo>
                    <a:pt x="907" y="1747"/>
                  </a:lnTo>
                  <a:lnTo>
                    <a:pt x="1076" y="1753"/>
                  </a:lnTo>
                  <a:lnTo>
                    <a:pt x="1078" y="1747"/>
                  </a:lnTo>
                  <a:lnTo>
                    <a:pt x="1078" y="1741"/>
                  </a:lnTo>
                  <a:lnTo>
                    <a:pt x="1080" y="1734"/>
                  </a:lnTo>
                  <a:lnTo>
                    <a:pt x="1082" y="1728"/>
                  </a:lnTo>
                  <a:lnTo>
                    <a:pt x="1084" y="1721"/>
                  </a:lnTo>
                  <a:lnTo>
                    <a:pt x="1085" y="1713"/>
                  </a:lnTo>
                  <a:lnTo>
                    <a:pt x="1085" y="1703"/>
                  </a:lnTo>
                  <a:lnTo>
                    <a:pt x="1087" y="1696"/>
                  </a:lnTo>
                  <a:lnTo>
                    <a:pt x="1089" y="1686"/>
                  </a:lnTo>
                  <a:lnTo>
                    <a:pt x="1091" y="1677"/>
                  </a:lnTo>
                  <a:lnTo>
                    <a:pt x="1093" y="1667"/>
                  </a:lnTo>
                  <a:lnTo>
                    <a:pt x="1095" y="1660"/>
                  </a:lnTo>
                  <a:lnTo>
                    <a:pt x="1095" y="1648"/>
                  </a:lnTo>
                  <a:lnTo>
                    <a:pt x="1097" y="1639"/>
                  </a:lnTo>
                  <a:lnTo>
                    <a:pt x="1099" y="1629"/>
                  </a:lnTo>
                  <a:lnTo>
                    <a:pt x="1103" y="1620"/>
                  </a:lnTo>
                  <a:lnTo>
                    <a:pt x="1103" y="1610"/>
                  </a:lnTo>
                  <a:lnTo>
                    <a:pt x="1104" y="1599"/>
                  </a:lnTo>
                  <a:lnTo>
                    <a:pt x="1106" y="1589"/>
                  </a:lnTo>
                  <a:lnTo>
                    <a:pt x="1108" y="1580"/>
                  </a:lnTo>
                  <a:lnTo>
                    <a:pt x="1110" y="1568"/>
                  </a:lnTo>
                  <a:lnTo>
                    <a:pt x="1112" y="1559"/>
                  </a:lnTo>
                  <a:lnTo>
                    <a:pt x="1112" y="1551"/>
                  </a:lnTo>
                  <a:lnTo>
                    <a:pt x="1116" y="1542"/>
                  </a:lnTo>
                  <a:lnTo>
                    <a:pt x="1116" y="1532"/>
                  </a:lnTo>
                  <a:lnTo>
                    <a:pt x="1120" y="1527"/>
                  </a:lnTo>
                  <a:lnTo>
                    <a:pt x="1122" y="1519"/>
                  </a:lnTo>
                  <a:lnTo>
                    <a:pt x="1123" y="1511"/>
                  </a:lnTo>
                  <a:lnTo>
                    <a:pt x="1125" y="1504"/>
                  </a:lnTo>
                  <a:lnTo>
                    <a:pt x="1127" y="1500"/>
                  </a:lnTo>
                  <a:lnTo>
                    <a:pt x="1131" y="1492"/>
                  </a:lnTo>
                  <a:lnTo>
                    <a:pt x="1133" y="1490"/>
                  </a:lnTo>
                  <a:lnTo>
                    <a:pt x="1141" y="1492"/>
                  </a:lnTo>
                  <a:lnTo>
                    <a:pt x="1146" y="1494"/>
                  </a:lnTo>
                  <a:lnTo>
                    <a:pt x="1152" y="1498"/>
                  </a:lnTo>
                  <a:lnTo>
                    <a:pt x="1158" y="1504"/>
                  </a:lnTo>
                  <a:lnTo>
                    <a:pt x="1162" y="1509"/>
                  </a:lnTo>
                  <a:lnTo>
                    <a:pt x="1167" y="1513"/>
                  </a:lnTo>
                  <a:lnTo>
                    <a:pt x="1171" y="1521"/>
                  </a:lnTo>
                  <a:lnTo>
                    <a:pt x="1175" y="1528"/>
                  </a:lnTo>
                  <a:lnTo>
                    <a:pt x="1177" y="1534"/>
                  </a:lnTo>
                  <a:lnTo>
                    <a:pt x="1179" y="1542"/>
                  </a:lnTo>
                  <a:lnTo>
                    <a:pt x="1181" y="1549"/>
                  </a:lnTo>
                  <a:lnTo>
                    <a:pt x="1184" y="1557"/>
                  </a:lnTo>
                  <a:lnTo>
                    <a:pt x="1184" y="1565"/>
                  </a:lnTo>
                  <a:lnTo>
                    <a:pt x="1186" y="1574"/>
                  </a:lnTo>
                  <a:lnTo>
                    <a:pt x="1186" y="1582"/>
                  </a:lnTo>
                  <a:lnTo>
                    <a:pt x="1188" y="1591"/>
                  </a:lnTo>
                  <a:lnTo>
                    <a:pt x="1186" y="1601"/>
                  </a:lnTo>
                  <a:lnTo>
                    <a:pt x="1186" y="1608"/>
                  </a:lnTo>
                  <a:lnTo>
                    <a:pt x="1186" y="1618"/>
                  </a:lnTo>
                  <a:lnTo>
                    <a:pt x="1186" y="1627"/>
                  </a:lnTo>
                  <a:lnTo>
                    <a:pt x="1184" y="1635"/>
                  </a:lnTo>
                  <a:lnTo>
                    <a:pt x="1184" y="1644"/>
                  </a:lnTo>
                  <a:lnTo>
                    <a:pt x="1184" y="1652"/>
                  </a:lnTo>
                  <a:lnTo>
                    <a:pt x="1184" y="1662"/>
                  </a:lnTo>
                  <a:lnTo>
                    <a:pt x="1181" y="1669"/>
                  </a:lnTo>
                  <a:lnTo>
                    <a:pt x="1181" y="1677"/>
                  </a:lnTo>
                  <a:lnTo>
                    <a:pt x="1179" y="1684"/>
                  </a:lnTo>
                  <a:lnTo>
                    <a:pt x="1179" y="1694"/>
                  </a:lnTo>
                  <a:lnTo>
                    <a:pt x="1177" y="1700"/>
                  </a:lnTo>
                  <a:lnTo>
                    <a:pt x="1177" y="1707"/>
                  </a:lnTo>
                  <a:lnTo>
                    <a:pt x="1177" y="1713"/>
                  </a:lnTo>
                  <a:lnTo>
                    <a:pt x="1177" y="1721"/>
                  </a:lnTo>
                  <a:lnTo>
                    <a:pt x="1327" y="1713"/>
                  </a:lnTo>
                  <a:lnTo>
                    <a:pt x="1327" y="1701"/>
                  </a:lnTo>
                  <a:lnTo>
                    <a:pt x="1329" y="1690"/>
                  </a:lnTo>
                  <a:lnTo>
                    <a:pt x="1329" y="1679"/>
                  </a:lnTo>
                  <a:lnTo>
                    <a:pt x="1331" y="1667"/>
                  </a:lnTo>
                  <a:lnTo>
                    <a:pt x="1333" y="1656"/>
                  </a:lnTo>
                  <a:lnTo>
                    <a:pt x="1335" y="1646"/>
                  </a:lnTo>
                  <a:lnTo>
                    <a:pt x="1335" y="1635"/>
                  </a:lnTo>
                  <a:lnTo>
                    <a:pt x="1336" y="1624"/>
                  </a:lnTo>
                  <a:lnTo>
                    <a:pt x="1336" y="1612"/>
                  </a:lnTo>
                  <a:lnTo>
                    <a:pt x="1338" y="1603"/>
                  </a:lnTo>
                  <a:lnTo>
                    <a:pt x="1340" y="1591"/>
                  </a:lnTo>
                  <a:lnTo>
                    <a:pt x="1342" y="1582"/>
                  </a:lnTo>
                  <a:lnTo>
                    <a:pt x="1344" y="1570"/>
                  </a:lnTo>
                  <a:lnTo>
                    <a:pt x="1346" y="1559"/>
                  </a:lnTo>
                  <a:lnTo>
                    <a:pt x="1346" y="1549"/>
                  </a:lnTo>
                  <a:lnTo>
                    <a:pt x="1348" y="1540"/>
                  </a:lnTo>
                  <a:lnTo>
                    <a:pt x="1350" y="1528"/>
                  </a:lnTo>
                  <a:lnTo>
                    <a:pt x="1352" y="1519"/>
                  </a:lnTo>
                  <a:lnTo>
                    <a:pt x="1354" y="1508"/>
                  </a:lnTo>
                  <a:lnTo>
                    <a:pt x="1355" y="1498"/>
                  </a:lnTo>
                  <a:lnTo>
                    <a:pt x="1355" y="1489"/>
                  </a:lnTo>
                  <a:lnTo>
                    <a:pt x="1357" y="1479"/>
                  </a:lnTo>
                  <a:lnTo>
                    <a:pt x="1361" y="1470"/>
                  </a:lnTo>
                  <a:lnTo>
                    <a:pt x="1363" y="1460"/>
                  </a:lnTo>
                  <a:lnTo>
                    <a:pt x="1365" y="1451"/>
                  </a:lnTo>
                  <a:lnTo>
                    <a:pt x="1367" y="1441"/>
                  </a:lnTo>
                  <a:lnTo>
                    <a:pt x="1371" y="1433"/>
                  </a:lnTo>
                  <a:lnTo>
                    <a:pt x="1374" y="1424"/>
                  </a:lnTo>
                  <a:lnTo>
                    <a:pt x="1376" y="1414"/>
                  </a:lnTo>
                  <a:lnTo>
                    <a:pt x="1380" y="1407"/>
                  </a:lnTo>
                  <a:lnTo>
                    <a:pt x="1384" y="1399"/>
                  </a:lnTo>
                  <a:lnTo>
                    <a:pt x="1388" y="1392"/>
                  </a:lnTo>
                  <a:lnTo>
                    <a:pt x="1392" y="1382"/>
                  </a:lnTo>
                  <a:lnTo>
                    <a:pt x="1393" y="1375"/>
                  </a:lnTo>
                  <a:lnTo>
                    <a:pt x="1399" y="1367"/>
                  </a:lnTo>
                  <a:lnTo>
                    <a:pt x="1403" y="1361"/>
                  </a:lnTo>
                  <a:lnTo>
                    <a:pt x="1407" y="1354"/>
                  </a:lnTo>
                  <a:lnTo>
                    <a:pt x="1412" y="1346"/>
                  </a:lnTo>
                  <a:lnTo>
                    <a:pt x="1416" y="1340"/>
                  </a:lnTo>
                  <a:lnTo>
                    <a:pt x="1422" y="1335"/>
                  </a:lnTo>
                  <a:lnTo>
                    <a:pt x="1428" y="1327"/>
                  </a:lnTo>
                  <a:lnTo>
                    <a:pt x="1431" y="1321"/>
                  </a:lnTo>
                  <a:lnTo>
                    <a:pt x="1439" y="1316"/>
                  </a:lnTo>
                  <a:lnTo>
                    <a:pt x="1445" y="1312"/>
                  </a:lnTo>
                  <a:lnTo>
                    <a:pt x="1450" y="1308"/>
                  </a:lnTo>
                  <a:lnTo>
                    <a:pt x="1458" y="1302"/>
                  </a:lnTo>
                  <a:lnTo>
                    <a:pt x="1466" y="1300"/>
                  </a:lnTo>
                  <a:lnTo>
                    <a:pt x="1473" y="1297"/>
                  </a:lnTo>
                  <a:lnTo>
                    <a:pt x="1481" y="1293"/>
                  </a:lnTo>
                  <a:lnTo>
                    <a:pt x="1488" y="1289"/>
                  </a:lnTo>
                  <a:lnTo>
                    <a:pt x="1496" y="1285"/>
                  </a:lnTo>
                  <a:lnTo>
                    <a:pt x="1506" y="1285"/>
                  </a:lnTo>
                  <a:lnTo>
                    <a:pt x="1513" y="1281"/>
                  </a:lnTo>
                  <a:lnTo>
                    <a:pt x="1523" y="1281"/>
                  </a:lnTo>
                  <a:lnTo>
                    <a:pt x="1532" y="1279"/>
                  </a:lnTo>
                  <a:lnTo>
                    <a:pt x="1544" y="1279"/>
                  </a:lnTo>
                  <a:lnTo>
                    <a:pt x="1553" y="1279"/>
                  </a:lnTo>
                  <a:lnTo>
                    <a:pt x="1565" y="1279"/>
                  </a:lnTo>
                  <a:lnTo>
                    <a:pt x="1576" y="1279"/>
                  </a:lnTo>
                  <a:lnTo>
                    <a:pt x="1587" y="1281"/>
                  </a:lnTo>
                  <a:lnTo>
                    <a:pt x="1599" y="1281"/>
                  </a:lnTo>
                  <a:lnTo>
                    <a:pt x="1612" y="1283"/>
                  </a:lnTo>
                  <a:lnTo>
                    <a:pt x="1625" y="1287"/>
                  </a:lnTo>
                  <a:lnTo>
                    <a:pt x="1639" y="1291"/>
                  </a:lnTo>
                  <a:lnTo>
                    <a:pt x="1644" y="1289"/>
                  </a:lnTo>
                  <a:lnTo>
                    <a:pt x="1652" y="1289"/>
                  </a:lnTo>
                  <a:lnTo>
                    <a:pt x="1660" y="1287"/>
                  </a:lnTo>
                  <a:lnTo>
                    <a:pt x="1667" y="1287"/>
                  </a:lnTo>
                  <a:lnTo>
                    <a:pt x="1675" y="1285"/>
                  </a:lnTo>
                  <a:lnTo>
                    <a:pt x="1681" y="1285"/>
                  </a:lnTo>
                  <a:lnTo>
                    <a:pt x="1688" y="1285"/>
                  </a:lnTo>
                  <a:lnTo>
                    <a:pt x="1696" y="1285"/>
                  </a:lnTo>
                  <a:lnTo>
                    <a:pt x="1703" y="1283"/>
                  </a:lnTo>
                  <a:lnTo>
                    <a:pt x="1709" y="1283"/>
                  </a:lnTo>
                  <a:lnTo>
                    <a:pt x="1717" y="1283"/>
                  </a:lnTo>
                  <a:lnTo>
                    <a:pt x="1724" y="1283"/>
                  </a:lnTo>
                  <a:lnTo>
                    <a:pt x="1732" y="1283"/>
                  </a:lnTo>
                  <a:lnTo>
                    <a:pt x="1739" y="1283"/>
                  </a:lnTo>
                  <a:lnTo>
                    <a:pt x="1747" y="1283"/>
                  </a:lnTo>
                  <a:lnTo>
                    <a:pt x="1755" y="1283"/>
                  </a:lnTo>
                  <a:lnTo>
                    <a:pt x="1760" y="1283"/>
                  </a:lnTo>
                  <a:lnTo>
                    <a:pt x="1768" y="1283"/>
                  </a:lnTo>
                  <a:lnTo>
                    <a:pt x="1774" y="1283"/>
                  </a:lnTo>
                  <a:lnTo>
                    <a:pt x="1781" y="1283"/>
                  </a:lnTo>
                  <a:lnTo>
                    <a:pt x="1789" y="1281"/>
                  </a:lnTo>
                  <a:lnTo>
                    <a:pt x="1796" y="1281"/>
                  </a:lnTo>
                  <a:lnTo>
                    <a:pt x="1802" y="1281"/>
                  </a:lnTo>
                  <a:lnTo>
                    <a:pt x="1810" y="1281"/>
                  </a:lnTo>
                  <a:lnTo>
                    <a:pt x="1817" y="1281"/>
                  </a:lnTo>
                  <a:lnTo>
                    <a:pt x="1825" y="1281"/>
                  </a:lnTo>
                  <a:lnTo>
                    <a:pt x="1831" y="1281"/>
                  </a:lnTo>
                  <a:lnTo>
                    <a:pt x="1838" y="1281"/>
                  </a:lnTo>
                  <a:lnTo>
                    <a:pt x="1844" y="1281"/>
                  </a:lnTo>
                  <a:lnTo>
                    <a:pt x="1852" y="1281"/>
                  </a:lnTo>
                  <a:lnTo>
                    <a:pt x="1859" y="1281"/>
                  </a:lnTo>
                  <a:lnTo>
                    <a:pt x="1867" y="1281"/>
                  </a:lnTo>
                  <a:lnTo>
                    <a:pt x="1873" y="1279"/>
                  </a:lnTo>
                  <a:lnTo>
                    <a:pt x="1880" y="1279"/>
                  </a:lnTo>
                  <a:lnTo>
                    <a:pt x="1886" y="1278"/>
                  </a:lnTo>
                  <a:lnTo>
                    <a:pt x="1893" y="1278"/>
                  </a:lnTo>
                  <a:lnTo>
                    <a:pt x="1899" y="1276"/>
                  </a:lnTo>
                  <a:lnTo>
                    <a:pt x="1907" y="1276"/>
                  </a:lnTo>
                  <a:lnTo>
                    <a:pt x="1912" y="1276"/>
                  </a:lnTo>
                  <a:lnTo>
                    <a:pt x="1920" y="1276"/>
                  </a:lnTo>
                  <a:lnTo>
                    <a:pt x="1928" y="1274"/>
                  </a:lnTo>
                  <a:lnTo>
                    <a:pt x="1935" y="1274"/>
                  </a:lnTo>
                  <a:lnTo>
                    <a:pt x="1941" y="1272"/>
                  </a:lnTo>
                  <a:lnTo>
                    <a:pt x="1949" y="1272"/>
                  </a:lnTo>
                  <a:lnTo>
                    <a:pt x="1954" y="1270"/>
                  </a:lnTo>
                  <a:lnTo>
                    <a:pt x="1962" y="1270"/>
                  </a:lnTo>
                  <a:lnTo>
                    <a:pt x="1968" y="1268"/>
                  </a:lnTo>
                  <a:lnTo>
                    <a:pt x="1975" y="1268"/>
                  </a:lnTo>
                  <a:lnTo>
                    <a:pt x="1983" y="1266"/>
                  </a:lnTo>
                  <a:lnTo>
                    <a:pt x="1988" y="1264"/>
                  </a:lnTo>
                  <a:lnTo>
                    <a:pt x="1994" y="1262"/>
                  </a:lnTo>
                  <a:lnTo>
                    <a:pt x="2002" y="1260"/>
                  </a:lnTo>
                  <a:lnTo>
                    <a:pt x="2008" y="1259"/>
                  </a:lnTo>
                  <a:lnTo>
                    <a:pt x="2015" y="1257"/>
                  </a:lnTo>
                  <a:lnTo>
                    <a:pt x="2021" y="1255"/>
                  </a:lnTo>
                  <a:lnTo>
                    <a:pt x="2028" y="1253"/>
                  </a:lnTo>
                  <a:lnTo>
                    <a:pt x="2036" y="1251"/>
                  </a:lnTo>
                  <a:lnTo>
                    <a:pt x="2042" y="1247"/>
                  </a:lnTo>
                  <a:lnTo>
                    <a:pt x="2047" y="1245"/>
                  </a:lnTo>
                  <a:lnTo>
                    <a:pt x="2055" y="1243"/>
                  </a:lnTo>
                  <a:lnTo>
                    <a:pt x="2061" y="1241"/>
                  </a:lnTo>
                  <a:lnTo>
                    <a:pt x="2068" y="1238"/>
                  </a:lnTo>
                  <a:lnTo>
                    <a:pt x="2074" y="1236"/>
                  </a:lnTo>
                  <a:lnTo>
                    <a:pt x="2082" y="1234"/>
                  </a:lnTo>
                  <a:lnTo>
                    <a:pt x="2085" y="1240"/>
                  </a:lnTo>
                  <a:lnTo>
                    <a:pt x="2089" y="1249"/>
                  </a:lnTo>
                  <a:lnTo>
                    <a:pt x="2091" y="1257"/>
                  </a:lnTo>
                  <a:lnTo>
                    <a:pt x="2095" y="1268"/>
                  </a:lnTo>
                  <a:lnTo>
                    <a:pt x="2095" y="1278"/>
                  </a:lnTo>
                  <a:lnTo>
                    <a:pt x="2095" y="1289"/>
                  </a:lnTo>
                  <a:lnTo>
                    <a:pt x="2095" y="1297"/>
                  </a:lnTo>
                  <a:lnTo>
                    <a:pt x="2095" y="1302"/>
                  </a:lnTo>
                  <a:lnTo>
                    <a:pt x="2093" y="1308"/>
                  </a:lnTo>
                  <a:lnTo>
                    <a:pt x="2093" y="1316"/>
                  </a:lnTo>
                  <a:lnTo>
                    <a:pt x="2091" y="1321"/>
                  </a:lnTo>
                  <a:lnTo>
                    <a:pt x="2091" y="1327"/>
                  </a:lnTo>
                  <a:lnTo>
                    <a:pt x="2087" y="1335"/>
                  </a:lnTo>
                  <a:lnTo>
                    <a:pt x="2087" y="1340"/>
                  </a:lnTo>
                  <a:lnTo>
                    <a:pt x="2085" y="1346"/>
                  </a:lnTo>
                  <a:lnTo>
                    <a:pt x="2084" y="1354"/>
                  </a:lnTo>
                  <a:lnTo>
                    <a:pt x="2082" y="1361"/>
                  </a:lnTo>
                  <a:lnTo>
                    <a:pt x="2080" y="1369"/>
                  </a:lnTo>
                  <a:lnTo>
                    <a:pt x="2076" y="1375"/>
                  </a:lnTo>
                  <a:lnTo>
                    <a:pt x="2074" y="1382"/>
                  </a:lnTo>
                  <a:lnTo>
                    <a:pt x="2070" y="1390"/>
                  </a:lnTo>
                  <a:lnTo>
                    <a:pt x="2068" y="1397"/>
                  </a:lnTo>
                  <a:lnTo>
                    <a:pt x="2066" y="1405"/>
                  </a:lnTo>
                  <a:lnTo>
                    <a:pt x="2063" y="1413"/>
                  </a:lnTo>
                  <a:lnTo>
                    <a:pt x="2059" y="1420"/>
                  </a:lnTo>
                  <a:lnTo>
                    <a:pt x="2057" y="1428"/>
                  </a:lnTo>
                  <a:lnTo>
                    <a:pt x="2053" y="1435"/>
                  </a:lnTo>
                  <a:lnTo>
                    <a:pt x="2049" y="1443"/>
                  </a:lnTo>
                  <a:lnTo>
                    <a:pt x="2047" y="1449"/>
                  </a:lnTo>
                  <a:lnTo>
                    <a:pt x="2044" y="1458"/>
                  </a:lnTo>
                  <a:lnTo>
                    <a:pt x="2040" y="1464"/>
                  </a:lnTo>
                  <a:lnTo>
                    <a:pt x="2036" y="1473"/>
                  </a:lnTo>
                  <a:lnTo>
                    <a:pt x="2032" y="1479"/>
                  </a:lnTo>
                  <a:lnTo>
                    <a:pt x="2028" y="1487"/>
                  </a:lnTo>
                  <a:lnTo>
                    <a:pt x="2025" y="1494"/>
                  </a:lnTo>
                  <a:lnTo>
                    <a:pt x="2021" y="1502"/>
                  </a:lnTo>
                  <a:lnTo>
                    <a:pt x="2017" y="1509"/>
                  </a:lnTo>
                  <a:lnTo>
                    <a:pt x="2013" y="1517"/>
                  </a:lnTo>
                  <a:lnTo>
                    <a:pt x="2009" y="1523"/>
                  </a:lnTo>
                  <a:lnTo>
                    <a:pt x="2004" y="1530"/>
                  </a:lnTo>
                  <a:lnTo>
                    <a:pt x="2000" y="1538"/>
                  </a:lnTo>
                  <a:lnTo>
                    <a:pt x="1996" y="1546"/>
                  </a:lnTo>
                  <a:lnTo>
                    <a:pt x="1992" y="1551"/>
                  </a:lnTo>
                  <a:lnTo>
                    <a:pt x="1988" y="1557"/>
                  </a:lnTo>
                  <a:lnTo>
                    <a:pt x="1985" y="1565"/>
                  </a:lnTo>
                  <a:lnTo>
                    <a:pt x="1981" y="1570"/>
                  </a:lnTo>
                  <a:lnTo>
                    <a:pt x="1977" y="1576"/>
                  </a:lnTo>
                  <a:lnTo>
                    <a:pt x="1973" y="1584"/>
                  </a:lnTo>
                  <a:lnTo>
                    <a:pt x="1968" y="1589"/>
                  </a:lnTo>
                  <a:lnTo>
                    <a:pt x="1966" y="1595"/>
                  </a:lnTo>
                  <a:lnTo>
                    <a:pt x="1958" y="1606"/>
                  </a:lnTo>
                  <a:lnTo>
                    <a:pt x="1950" y="1618"/>
                  </a:lnTo>
                  <a:lnTo>
                    <a:pt x="1945" y="1627"/>
                  </a:lnTo>
                  <a:lnTo>
                    <a:pt x="1937" y="1637"/>
                  </a:lnTo>
                  <a:lnTo>
                    <a:pt x="2135" y="1688"/>
                  </a:lnTo>
                  <a:lnTo>
                    <a:pt x="2139" y="1681"/>
                  </a:lnTo>
                  <a:lnTo>
                    <a:pt x="2144" y="1673"/>
                  </a:lnTo>
                  <a:lnTo>
                    <a:pt x="2150" y="1665"/>
                  </a:lnTo>
                  <a:lnTo>
                    <a:pt x="2156" y="1658"/>
                  </a:lnTo>
                  <a:lnTo>
                    <a:pt x="2161" y="1648"/>
                  </a:lnTo>
                  <a:lnTo>
                    <a:pt x="2167" y="1641"/>
                  </a:lnTo>
                  <a:lnTo>
                    <a:pt x="2175" y="1633"/>
                  </a:lnTo>
                  <a:lnTo>
                    <a:pt x="2181" y="1625"/>
                  </a:lnTo>
                  <a:lnTo>
                    <a:pt x="2188" y="1616"/>
                  </a:lnTo>
                  <a:lnTo>
                    <a:pt x="2194" y="1608"/>
                  </a:lnTo>
                  <a:lnTo>
                    <a:pt x="2201" y="1599"/>
                  </a:lnTo>
                  <a:lnTo>
                    <a:pt x="2209" y="1591"/>
                  </a:lnTo>
                  <a:lnTo>
                    <a:pt x="2215" y="1584"/>
                  </a:lnTo>
                  <a:lnTo>
                    <a:pt x="2222" y="1574"/>
                  </a:lnTo>
                  <a:lnTo>
                    <a:pt x="2230" y="1567"/>
                  </a:lnTo>
                  <a:lnTo>
                    <a:pt x="2239" y="1559"/>
                  </a:lnTo>
                  <a:lnTo>
                    <a:pt x="2245" y="1549"/>
                  </a:lnTo>
                  <a:lnTo>
                    <a:pt x="2253" y="1542"/>
                  </a:lnTo>
                  <a:lnTo>
                    <a:pt x="2260" y="1532"/>
                  </a:lnTo>
                  <a:lnTo>
                    <a:pt x="2268" y="1525"/>
                  </a:lnTo>
                  <a:lnTo>
                    <a:pt x="2274" y="1517"/>
                  </a:lnTo>
                  <a:lnTo>
                    <a:pt x="2281" y="1509"/>
                  </a:lnTo>
                  <a:lnTo>
                    <a:pt x="2289" y="1500"/>
                  </a:lnTo>
                  <a:lnTo>
                    <a:pt x="2296" y="1492"/>
                  </a:lnTo>
                  <a:lnTo>
                    <a:pt x="2302" y="1485"/>
                  </a:lnTo>
                  <a:lnTo>
                    <a:pt x="2308" y="1477"/>
                  </a:lnTo>
                  <a:lnTo>
                    <a:pt x="2315" y="1468"/>
                  </a:lnTo>
                  <a:lnTo>
                    <a:pt x="2323" y="1462"/>
                  </a:lnTo>
                  <a:lnTo>
                    <a:pt x="2327" y="1454"/>
                  </a:lnTo>
                  <a:lnTo>
                    <a:pt x="2335" y="1447"/>
                  </a:lnTo>
                  <a:lnTo>
                    <a:pt x="2340" y="1439"/>
                  </a:lnTo>
                  <a:lnTo>
                    <a:pt x="2346" y="1433"/>
                  </a:lnTo>
                  <a:lnTo>
                    <a:pt x="2346" y="1430"/>
                  </a:lnTo>
                  <a:lnTo>
                    <a:pt x="2348" y="1428"/>
                  </a:lnTo>
                  <a:lnTo>
                    <a:pt x="2352" y="1422"/>
                  </a:lnTo>
                  <a:lnTo>
                    <a:pt x="2355" y="1418"/>
                  </a:lnTo>
                  <a:lnTo>
                    <a:pt x="2361" y="1413"/>
                  </a:lnTo>
                  <a:lnTo>
                    <a:pt x="2367" y="1411"/>
                  </a:lnTo>
                  <a:lnTo>
                    <a:pt x="2373" y="1411"/>
                  </a:lnTo>
                  <a:lnTo>
                    <a:pt x="2380" y="1414"/>
                  </a:lnTo>
                  <a:lnTo>
                    <a:pt x="2390" y="1420"/>
                  </a:lnTo>
                  <a:lnTo>
                    <a:pt x="2397" y="1426"/>
                  </a:lnTo>
                  <a:lnTo>
                    <a:pt x="2405" y="1430"/>
                  </a:lnTo>
                  <a:lnTo>
                    <a:pt x="2412" y="1433"/>
                  </a:lnTo>
                  <a:lnTo>
                    <a:pt x="2418" y="1435"/>
                  </a:lnTo>
                  <a:lnTo>
                    <a:pt x="2426" y="1437"/>
                  </a:lnTo>
                  <a:lnTo>
                    <a:pt x="2430" y="1439"/>
                  </a:lnTo>
                  <a:lnTo>
                    <a:pt x="2437" y="1439"/>
                  </a:lnTo>
                  <a:lnTo>
                    <a:pt x="2447" y="1437"/>
                  </a:lnTo>
                  <a:lnTo>
                    <a:pt x="2456" y="1432"/>
                  </a:lnTo>
                  <a:lnTo>
                    <a:pt x="2460" y="1426"/>
                  </a:lnTo>
                  <a:lnTo>
                    <a:pt x="2466" y="1422"/>
                  </a:lnTo>
                  <a:lnTo>
                    <a:pt x="2471" y="1416"/>
                  </a:lnTo>
                  <a:lnTo>
                    <a:pt x="2477" y="1409"/>
                  </a:lnTo>
                  <a:lnTo>
                    <a:pt x="2483" y="1409"/>
                  </a:lnTo>
                  <a:lnTo>
                    <a:pt x="2490" y="1411"/>
                  </a:lnTo>
                  <a:lnTo>
                    <a:pt x="2496" y="1413"/>
                  </a:lnTo>
                  <a:lnTo>
                    <a:pt x="2502" y="1416"/>
                  </a:lnTo>
                  <a:lnTo>
                    <a:pt x="2508" y="1416"/>
                  </a:lnTo>
                  <a:lnTo>
                    <a:pt x="2513" y="1420"/>
                  </a:lnTo>
                  <a:lnTo>
                    <a:pt x="2519" y="1422"/>
                  </a:lnTo>
                  <a:lnTo>
                    <a:pt x="2525" y="1426"/>
                  </a:lnTo>
                  <a:lnTo>
                    <a:pt x="2532" y="1433"/>
                  </a:lnTo>
                  <a:lnTo>
                    <a:pt x="2542" y="1439"/>
                  </a:lnTo>
                  <a:lnTo>
                    <a:pt x="2549" y="1449"/>
                  </a:lnTo>
                  <a:lnTo>
                    <a:pt x="2557" y="1458"/>
                  </a:lnTo>
                  <a:lnTo>
                    <a:pt x="2563" y="1466"/>
                  </a:lnTo>
                  <a:lnTo>
                    <a:pt x="2568" y="1477"/>
                  </a:lnTo>
                  <a:lnTo>
                    <a:pt x="2570" y="1481"/>
                  </a:lnTo>
                  <a:lnTo>
                    <a:pt x="2572" y="1487"/>
                  </a:lnTo>
                  <a:lnTo>
                    <a:pt x="2574" y="1492"/>
                  </a:lnTo>
                  <a:lnTo>
                    <a:pt x="2578" y="1500"/>
                  </a:lnTo>
                  <a:lnTo>
                    <a:pt x="2578" y="1504"/>
                  </a:lnTo>
                  <a:lnTo>
                    <a:pt x="2580" y="1509"/>
                  </a:lnTo>
                  <a:lnTo>
                    <a:pt x="2580" y="1517"/>
                  </a:lnTo>
                  <a:lnTo>
                    <a:pt x="2584" y="1523"/>
                  </a:lnTo>
                  <a:lnTo>
                    <a:pt x="2584" y="1528"/>
                  </a:lnTo>
                  <a:lnTo>
                    <a:pt x="2585" y="1536"/>
                  </a:lnTo>
                  <a:lnTo>
                    <a:pt x="2585" y="1542"/>
                  </a:lnTo>
                  <a:lnTo>
                    <a:pt x="2587" y="1549"/>
                  </a:lnTo>
                  <a:lnTo>
                    <a:pt x="2587" y="1555"/>
                  </a:lnTo>
                  <a:lnTo>
                    <a:pt x="2587" y="1563"/>
                  </a:lnTo>
                  <a:lnTo>
                    <a:pt x="2587" y="1568"/>
                  </a:lnTo>
                  <a:lnTo>
                    <a:pt x="2587" y="1574"/>
                  </a:lnTo>
                  <a:lnTo>
                    <a:pt x="2585" y="1582"/>
                  </a:lnTo>
                  <a:lnTo>
                    <a:pt x="2585" y="1589"/>
                  </a:lnTo>
                  <a:lnTo>
                    <a:pt x="2585" y="1595"/>
                  </a:lnTo>
                  <a:lnTo>
                    <a:pt x="2585" y="1603"/>
                  </a:lnTo>
                  <a:lnTo>
                    <a:pt x="2585" y="1608"/>
                  </a:lnTo>
                  <a:lnTo>
                    <a:pt x="2584" y="1616"/>
                  </a:lnTo>
                  <a:lnTo>
                    <a:pt x="2584" y="1622"/>
                  </a:lnTo>
                  <a:lnTo>
                    <a:pt x="2584" y="1629"/>
                  </a:lnTo>
                  <a:lnTo>
                    <a:pt x="2580" y="1637"/>
                  </a:lnTo>
                  <a:lnTo>
                    <a:pt x="2580" y="1644"/>
                  </a:lnTo>
                  <a:lnTo>
                    <a:pt x="2578" y="1650"/>
                  </a:lnTo>
                  <a:lnTo>
                    <a:pt x="2578" y="1658"/>
                  </a:lnTo>
                  <a:lnTo>
                    <a:pt x="2576" y="1665"/>
                  </a:lnTo>
                  <a:lnTo>
                    <a:pt x="2576" y="1671"/>
                  </a:lnTo>
                  <a:lnTo>
                    <a:pt x="2574" y="1677"/>
                  </a:lnTo>
                  <a:lnTo>
                    <a:pt x="2572" y="1684"/>
                  </a:lnTo>
                  <a:lnTo>
                    <a:pt x="2570" y="1692"/>
                  </a:lnTo>
                  <a:lnTo>
                    <a:pt x="2568" y="1698"/>
                  </a:lnTo>
                  <a:lnTo>
                    <a:pt x="2566" y="1703"/>
                  </a:lnTo>
                  <a:lnTo>
                    <a:pt x="2566" y="1711"/>
                  </a:lnTo>
                  <a:lnTo>
                    <a:pt x="2565" y="1717"/>
                  </a:lnTo>
                  <a:lnTo>
                    <a:pt x="2561" y="1722"/>
                  </a:lnTo>
                  <a:lnTo>
                    <a:pt x="2559" y="1730"/>
                  </a:lnTo>
                  <a:lnTo>
                    <a:pt x="2559" y="1736"/>
                  </a:lnTo>
                  <a:lnTo>
                    <a:pt x="2557" y="1741"/>
                  </a:lnTo>
                  <a:lnTo>
                    <a:pt x="2555" y="1747"/>
                  </a:lnTo>
                  <a:lnTo>
                    <a:pt x="2551" y="1753"/>
                  </a:lnTo>
                  <a:lnTo>
                    <a:pt x="2551" y="1760"/>
                  </a:lnTo>
                  <a:lnTo>
                    <a:pt x="2753" y="1770"/>
                  </a:lnTo>
                  <a:lnTo>
                    <a:pt x="2753" y="1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749320" y="1082880"/>
              <a:ext cx="7272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404800" y="1074960"/>
              <a:ext cx="27576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01760" y="1139760"/>
              <a:ext cx="20160" cy="288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632680" y="1147680"/>
              <a:ext cx="115560" cy="3204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269800" y="1150920"/>
              <a:ext cx="12528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56200" y="1166760"/>
              <a:ext cx="331560" cy="71640"/>
            </a:xfrm>
            <a:custGeom>
              <a:avLst/>
              <a:gdLst/>
              <a:ahLst/>
              <a:rect l="l" t="t" r="r" b="b"/>
              <a:pathLst>
                <a:path w="418" h="89">
                  <a:moveTo>
                    <a:pt x="8" y="1"/>
                  </a:moveTo>
                  <a:lnTo>
                    <a:pt x="15" y="1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2" y="1"/>
                  </a:lnTo>
                  <a:lnTo>
                    <a:pt x="160" y="1"/>
                  </a:lnTo>
                  <a:lnTo>
                    <a:pt x="165" y="3"/>
                  </a:lnTo>
                  <a:lnTo>
                    <a:pt x="173" y="5"/>
                  </a:lnTo>
                  <a:lnTo>
                    <a:pt x="179" y="5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5" y="9"/>
                  </a:lnTo>
                  <a:lnTo>
                    <a:pt x="211" y="11"/>
                  </a:lnTo>
                  <a:lnTo>
                    <a:pt x="219" y="13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8" y="17"/>
                  </a:lnTo>
                  <a:lnTo>
                    <a:pt x="243" y="17"/>
                  </a:lnTo>
                  <a:lnTo>
                    <a:pt x="249" y="19"/>
                  </a:lnTo>
                  <a:lnTo>
                    <a:pt x="257" y="20"/>
                  </a:lnTo>
                  <a:lnTo>
                    <a:pt x="262" y="22"/>
                  </a:lnTo>
                  <a:lnTo>
                    <a:pt x="268" y="24"/>
                  </a:lnTo>
                  <a:lnTo>
                    <a:pt x="276" y="26"/>
                  </a:lnTo>
                  <a:lnTo>
                    <a:pt x="280" y="28"/>
                  </a:lnTo>
                  <a:lnTo>
                    <a:pt x="287" y="30"/>
                  </a:lnTo>
                  <a:lnTo>
                    <a:pt x="293" y="30"/>
                  </a:lnTo>
                  <a:lnTo>
                    <a:pt x="299" y="34"/>
                  </a:lnTo>
                  <a:lnTo>
                    <a:pt x="304" y="36"/>
                  </a:lnTo>
                  <a:lnTo>
                    <a:pt x="312" y="38"/>
                  </a:lnTo>
                  <a:lnTo>
                    <a:pt x="318" y="39"/>
                  </a:lnTo>
                  <a:lnTo>
                    <a:pt x="323" y="43"/>
                  </a:lnTo>
                  <a:lnTo>
                    <a:pt x="329" y="45"/>
                  </a:lnTo>
                  <a:lnTo>
                    <a:pt x="335" y="47"/>
                  </a:lnTo>
                  <a:lnTo>
                    <a:pt x="340" y="49"/>
                  </a:lnTo>
                  <a:lnTo>
                    <a:pt x="348" y="53"/>
                  </a:lnTo>
                  <a:lnTo>
                    <a:pt x="352" y="55"/>
                  </a:lnTo>
                  <a:lnTo>
                    <a:pt x="359" y="57"/>
                  </a:lnTo>
                  <a:lnTo>
                    <a:pt x="365" y="60"/>
                  </a:lnTo>
                  <a:lnTo>
                    <a:pt x="371" y="64"/>
                  </a:lnTo>
                  <a:lnTo>
                    <a:pt x="376" y="66"/>
                  </a:lnTo>
                  <a:lnTo>
                    <a:pt x="382" y="70"/>
                  </a:lnTo>
                  <a:lnTo>
                    <a:pt x="388" y="72"/>
                  </a:lnTo>
                  <a:lnTo>
                    <a:pt x="395" y="76"/>
                  </a:lnTo>
                  <a:lnTo>
                    <a:pt x="399" y="79"/>
                  </a:lnTo>
                  <a:lnTo>
                    <a:pt x="407" y="81"/>
                  </a:lnTo>
                  <a:lnTo>
                    <a:pt x="413" y="85"/>
                  </a:lnTo>
                  <a:lnTo>
                    <a:pt x="418" y="89"/>
                  </a:lnTo>
                  <a:lnTo>
                    <a:pt x="413" y="85"/>
                  </a:lnTo>
                  <a:lnTo>
                    <a:pt x="407" y="83"/>
                  </a:lnTo>
                  <a:lnTo>
                    <a:pt x="399" y="81"/>
                  </a:lnTo>
                  <a:lnTo>
                    <a:pt x="394" y="79"/>
                  </a:lnTo>
                  <a:lnTo>
                    <a:pt x="388" y="77"/>
                  </a:lnTo>
                  <a:lnTo>
                    <a:pt x="380" y="76"/>
                  </a:lnTo>
                  <a:lnTo>
                    <a:pt x="375" y="74"/>
                  </a:lnTo>
                  <a:lnTo>
                    <a:pt x="369" y="72"/>
                  </a:lnTo>
                  <a:lnTo>
                    <a:pt x="363" y="70"/>
                  </a:lnTo>
                  <a:lnTo>
                    <a:pt x="357" y="70"/>
                  </a:lnTo>
                  <a:lnTo>
                    <a:pt x="350" y="66"/>
                  </a:lnTo>
                  <a:lnTo>
                    <a:pt x="344" y="66"/>
                  </a:lnTo>
                  <a:lnTo>
                    <a:pt x="338" y="64"/>
                  </a:lnTo>
                  <a:lnTo>
                    <a:pt x="331" y="62"/>
                  </a:lnTo>
                  <a:lnTo>
                    <a:pt x="325" y="60"/>
                  </a:lnTo>
                  <a:lnTo>
                    <a:pt x="319" y="60"/>
                  </a:lnTo>
                  <a:lnTo>
                    <a:pt x="314" y="57"/>
                  </a:lnTo>
                  <a:lnTo>
                    <a:pt x="306" y="57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7" y="51"/>
                  </a:lnTo>
                  <a:lnTo>
                    <a:pt x="281" y="49"/>
                  </a:lnTo>
                  <a:lnTo>
                    <a:pt x="276" y="47"/>
                  </a:lnTo>
                  <a:lnTo>
                    <a:pt x="268" y="47"/>
                  </a:lnTo>
                  <a:lnTo>
                    <a:pt x="262" y="45"/>
                  </a:lnTo>
                  <a:lnTo>
                    <a:pt x="257" y="43"/>
                  </a:lnTo>
                  <a:lnTo>
                    <a:pt x="249" y="43"/>
                  </a:lnTo>
                  <a:lnTo>
                    <a:pt x="243" y="41"/>
                  </a:lnTo>
                  <a:lnTo>
                    <a:pt x="238" y="39"/>
                  </a:lnTo>
                  <a:lnTo>
                    <a:pt x="230" y="39"/>
                  </a:lnTo>
                  <a:lnTo>
                    <a:pt x="224" y="38"/>
                  </a:lnTo>
                  <a:lnTo>
                    <a:pt x="219" y="38"/>
                  </a:lnTo>
                  <a:lnTo>
                    <a:pt x="211" y="36"/>
                  </a:lnTo>
                  <a:lnTo>
                    <a:pt x="203" y="34"/>
                  </a:lnTo>
                  <a:lnTo>
                    <a:pt x="196" y="34"/>
                  </a:lnTo>
                  <a:lnTo>
                    <a:pt x="190" y="32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9" y="28"/>
                  </a:lnTo>
                  <a:lnTo>
                    <a:pt x="164" y="28"/>
                  </a:lnTo>
                  <a:lnTo>
                    <a:pt x="156" y="26"/>
                  </a:lnTo>
                  <a:lnTo>
                    <a:pt x="150" y="26"/>
                  </a:lnTo>
                  <a:lnTo>
                    <a:pt x="145" y="24"/>
                  </a:lnTo>
                  <a:lnTo>
                    <a:pt x="137" y="24"/>
                  </a:lnTo>
                  <a:lnTo>
                    <a:pt x="129" y="22"/>
                  </a:lnTo>
                  <a:lnTo>
                    <a:pt x="124" y="20"/>
                  </a:lnTo>
                  <a:lnTo>
                    <a:pt x="118" y="20"/>
                  </a:lnTo>
                  <a:lnTo>
                    <a:pt x="110" y="20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89" y="17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68" y="15"/>
                  </a:lnTo>
                  <a:lnTo>
                    <a:pt x="63" y="15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548440" y="1198800"/>
              <a:ext cx="112680" cy="11556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311840" y="1185840"/>
              <a:ext cx="83880" cy="1908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33" y="4"/>
                  </a:moveTo>
                  <a:lnTo>
                    <a:pt x="34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7" y="12"/>
                  </a:lnTo>
                  <a:lnTo>
                    <a:pt x="107" y="17"/>
                  </a:lnTo>
                  <a:lnTo>
                    <a:pt x="107" y="25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6" y="25"/>
                  </a:lnTo>
                  <a:lnTo>
                    <a:pt x="80" y="25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9" y="25"/>
                  </a:lnTo>
                  <a:lnTo>
                    <a:pt x="54" y="25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8"/>
                  </a:lnTo>
                  <a:lnTo>
                    <a:pt x="33" y="4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724840" y="1216080"/>
              <a:ext cx="7740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230120" y="1244520"/>
              <a:ext cx="979200" cy="120960"/>
            </a:xfrm>
            <a:custGeom>
              <a:avLst/>
              <a:gdLst/>
              <a:ahLst/>
              <a:rect l="l" t="t" r="r" b="b"/>
              <a:pathLst>
                <a:path w="1233" h="153">
                  <a:moveTo>
                    <a:pt x="437" y="0"/>
                  </a:moveTo>
                  <a:lnTo>
                    <a:pt x="448" y="2"/>
                  </a:lnTo>
                  <a:lnTo>
                    <a:pt x="460" y="4"/>
                  </a:lnTo>
                  <a:lnTo>
                    <a:pt x="471" y="4"/>
                  </a:lnTo>
                  <a:lnTo>
                    <a:pt x="482" y="6"/>
                  </a:lnTo>
                  <a:lnTo>
                    <a:pt x="494" y="8"/>
                  </a:lnTo>
                  <a:lnTo>
                    <a:pt x="505" y="10"/>
                  </a:lnTo>
                  <a:lnTo>
                    <a:pt x="517" y="12"/>
                  </a:lnTo>
                  <a:lnTo>
                    <a:pt x="530" y="14"/>
                  </a:lnTo>
                  <a:lnTo>
                    <a:pt x="541" y="14"/>
                  </a:lnTo>
                  <a:lnTo>
                    <a:pt x="553" y="16"/>
                  </a:lnTo>
                  <a:lnTo>
                    <a:pt x="564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21"/>
                  </a:lnTo>
                  <a:lnTo>
                    <a:pt x="612" y="23"/>
                  </a:lnTo>
                  <a:lnTo>
                    <a:pt x="625" y="25"/>
                  </a:lnTo>
                  <a:lnTo>
                    <a:pt x="636" y="25"/>
                  </a:lnTo>
                  <a:lnTo>
                    <a:pt x="648" y="25"/>
                  </a:lnTo>
                  <a:lnTo>
                    <a:pt x="659" y="27"/>
                  </a:lnTo>
                  <a:lnTo>
                    <a:pt x="673" y="27"/>
                  </a:lnTo>
                  <a:lnTo>
                    <a:pt x="684" y="27"/>
                  </a:lnTo>
                  <a:lnTo>
                    <a:pt x="697" y="29"/>
                  </a:lnTo>
                  <a:lnTo>
                    <a:pt x="709" y="31"/>
                  </a:lnTo>
                  <a:lnTo>
                    <a:pt x="722" y="31"/>
                  </a:lnTo>
                  <a:lnTo>
                    <a:pt x="733" y="31"/>
                  </a:lnTo>
                  <a:lnTo>
                    <a:pt x="747" y="33"/>
                  </a:lnTo>
                  <a:lnTo>
                    <a:pt x="758" y="33"/>
                  </a:lnTo>
                  <a:lnTo>
                    <a:pt x="771" y="33"/>
                  </a:lnTo>
                  <a:lnTo>
                    <a:pt x="783" y="33"/>
                  </a:lnTo>
                  <a:lnTo>
                    <a:pt x="796" y="35"/>
                  </a:lnTo>
                  <a:lnTo>
                    <a:pt x="809" y="35"/>
                  </a:lnTo>
                  <a:lnTo>
                    <a:pt x="821" y="37"/>
                  </a:lnTo>
                  <a:lnTo>
                    <a:pt x="832" y="37"/>
                  </a:lnTo>
                  <a:lnTo>
                    <a:pt x="846" y="37"/>
                  </a:lnTo>
                  <a:lnTo>
                    <a:pt x="859" y="37"/>
                  </a:lnTo>
                  <a:lnTo>
                    <a:pt x="872" y="38"/>
                  </a:lnTo>
                  <a:lnTo>
                    <a:pt x="884" y="38"/>
                  </a:lnTo>
                  <a:lnTo>
                    <a:pt x="897" y="38"/>
                  </a:lnTo>
                  <a:lnTo>
                    <a:pt x="910" y="38"/>
                  </a:lnTo>
                  <a:lnTo>
                    <a:pt x="922" y="38"/>
                  </a:lnTo>
                  <a:lnTo>
                    <a:pt x="935" y="38"/>
                  </a:lnTo>
                  <a:lnTo>
                    <a:pt x="948" y="38"/>
                  </a:lnTo>
                  <a:lnTo>
                    <a:pt x="960" y="38"/>
                  </a:lnTo>
                  <a:lnTo>
                    <a:pt x="973" y="38"/>
                  </a:lnTo>
                  <a:lnTo>
                    <a:pt x="986" y="38"/>
                  </a:lnTo>
                  <a:lnTo>
                    <a:pt x="998" y="38"/>
                  </a:lnTo>
                  <a:lnTo>
                    <a:pt x="1011" y="38"/>
                  </a:lnTo>
                  <a:lnTo>
                    <a:pt x="1024" y="38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2" y="38"/>
                  </a:lnTo>
                  <a:lnTo>
                    <a:pt x="1076" y="38"/>
                  </a:lnTo>
                  <a:lnTo>
                    <a:pt x="1087" y="37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27" y="37"/>
                  </a:lnTo>
                  <a:lnTo>
                    <a:pt x="1140" y="35"/>
                  </a:lnTo>
                  <a:lnTo>
                    <a:pt x="1154" y="35"/>
                  </a:lnTo>
                  <a:lnTo>
                    <a:pt x="1165" y="35"/>
                  </a:lnTo>
                  <a:lnTo>
                    <a:pt x="1180" y="35"/>
                  </a:lnTo>
                  <a:lnTo>
                    <a:pt x="1192" y="35"/>
                  </a:lnTo>
                  <a:lnTo>
                    <a:pt x="1207" y="35"/>
                  </a:lnTo>
                  <a:lnTo>
                    <a:pt x="1220" y="35"/>
                  </a:lnTo>
                  <a:lnTo>
                    <a:pt x="1233" y="35"/>
                  </a:lnTo>
                  <a:lnTo>
                    <a:pt x="1224" y="37"/>
                  </a:lnTo>
                  <a:lnTo>
                    <a:pt x="1216" y="38"/>
                  </a:lnTo>
                  <a:lnTo>
                    <a:pt x="1207" y="40"/>
                  </a:lnTo>
                  <a:lnTo>
                    <a:pt x="1199" y="44"/>
                  </a:lnTo>
                  <a:lnTo>
                    <a:pt x="1190" y="44"/>
                  </a:lnTo>
                  <a:lnTo>
                    <a:pt x="1182" y="48"/>
                  </a:lnTo>
                  <a:lnTo>
                    <a:pt x="1173" y="48"/>
                  </a:lnTo>
                  <a:lnTo>
                    <a:pt x="1165" y="50"/>
                  </a:lnTo>
                  <a:lnTo>
                    <a:pt x="1155" y="52"/>
                  </a:lnTo>
                  <a:lnTo>
                    <a:pt x="1146" y="52"/>
                  </a:lnTo>
                  <a:lnTo>
                    <a:pt x="1136" y="54"/>
                  </a:lnTo>
                  <a:lnTo>
                    <a:pt x="1129" y="56"/>
                  </a:lnTo>
                  <a:lnTo>
                    <a:pt x="1119" y="56"/>
                  </a:lnTo>
                  <a:lnTo>
                    <a:pt x="1110" y="57"/>
                  </a:lnTo>
                  <a:lnTo>
                    <a:pt x="1100" y="57"/>
                  </a:lnTo>
                  <a:lnTo>
                    <a:pt x="1093" y="59"/>
                  </a:lnTo>
                  <a:lnTo>
                    <a:pt x="1083" y="59"/>
                  </a:lnTo>
                  <a:lnTo>
                    <a:pt x="1074" y="61"/>
                  </a:lnTo>
                  <a:lnTo>
                    <a:pt x="1064" y="61"/>
                  </a:lnTo>
                  <a:lnTo>
                    <a:pt x="1055" y="61"/>
                  </a:lnTo>
                  <a:lnTo>
                    <a:pt x="1045" y="61"/>
                  </a:lnTo>
                  <a:lnTo>
                    <a:pt x="1036" y="63"/>
                  </a:lnTo>
                  <a:lnTo>
                    <a:pt x="1026" y="63"/>
                  </a:lnTo>
                  <a:lnTo>
                    <a:pt x="1017" y="63"/>
                  </a:lnTo>
                  <a:lnTo>
                    <a:pt x="1007" y="63"/>
                  </a:lnTo>
                  <a:lnTo>
                    <a:pt x="998" y="63"/>
                  </a:lnTo>
                  <a:lnTo>
                    <a:pt x="988" y="63"/>
                  </a:lnTo>
                  <a:lnTo>
                    <a:pt x="979" y="65"/>
                  </a:lnTo>
                  <a:lnTo>
                    <a:pt x="969" y="65"/>
                  </a:lnTo>
                  <a:lnTo>
                    <a:pt x="960" y="67"/>
                  </a:lnTo>
                  <a:lnTo>
                    <a:pt x="950" y="67"/>
                  </a:lnTo>
                  <a:lnTo>
                    <a:pt x="943" y="67"/>
                  </a:lnTo>
                  <a:lnTo>
                    <a:pt x="933" y="67"/>
                  </a:lnTo>
                  <a:lnTo>
                    <a:pt x="924" y="67"/>
                  </a:lnTo>
                  <a:lnTo>
                    <a:pt x="914" y="67"/>
                  </a:lnTo>
                  <a:lnTo>
                    <a:pt x="905" y="69"/>
                  </a:lnTo>
                  <a:lnTo>
                    <a:pt x="895" y="69"/>
                  </a:lnTo>
                  <a:lnTo>
                    <a:pt x="885" y="69"/>
                  </a:lnTo>
                  <a:lnTo>
                    <a:pt x="876" y="71"/>
                  </a:lnTo>
                  <a:lnTo>
                    <a:pt x="866" y="71"/>
                  </a:lnTo>
                  <a:lnTo>
                    <a:pt x="857" y="71"/>
                  </a:lnTo>
                  <a:lnTo>
                    <a:pt x="847" y="73"/>
                  </a:lnTo>
                  <a:lnTo>
                    <a:pt x="838" y="73"/>
                  </a:lnTo>
                  <a:lnTo>
                    <a:pt x="830" y="75"/>
                  </a:lnTo>
                  <a:lnTo>
                    <a:pt x="821" y="77"/>
                  </a:lnTo>
                  <a:lnTo>
                    <a:pt x="811" y="78"/>
                  </a:lnTo>
                  <a:lnTo>
                    <a:pt x="804" y="78"/>
                  </a:lnTo>
                  <a:lnTo>
                    <a:pt x="794" y="82"/>
                  </a:lnTo>
                  <a:lnTo>
                    <a:pt x="785" y="82"/>
                  </a:lnTo>
                  <a:lnTo>
                    <a:pt x="777" y="86"/>
                  </a:lnTo>
                  <a:lnTo>
                    <a:pt x="768" y="86"/>
                  </a:lnTo>
                  <a:lnTo>
                    <a:pt x="762" y="90"/>
                  </a:lnTo>
                  <a:lnTo>
                    <a:pt x="752" y="92"/>
                  </a:lnTo>
                  <a:lnTo>
                    <a:pt x="745" y="96"/>
                  </a:lnTo>
                  <a:lnTo>
                    <a:pt x="737" y="97"/>
                  </a:lnTo>
                  <a:lnTo>
                    <a:pt x="730" y="101"/>
                  </a:lnTo>
                  <a:lnTo>
                    <a:pt x="720" y="105"/>
                  </a:lnTo>
                  <a:lnTo>
                    <a:pt x="714" y="107"/>
                  </a:lnTo>
                  <a:lnTo>
                    <a:pt x="707" y="111"/>
                  </a:lnTo>
                  <a:lnTo>
                    <a:pt x="699" y="115"/>
                  </a:lnTo>
                  <a:lnTo>
                    <a:pt x="692" y="118"/>
                  </a:lnTo>
                  <a:lnTo>
                    <a:pt x="686" y="124"/>
                  </a:lnTo>
                  <a:lnTo>
                    <a:pt x="680" y="128"/>
                  </a:lnTo>
                  <a:lnTo>
                    <a:pt x="673" y="134"/>
                  </a:lnTo>
                  <a:lnTo>
                    <a:pt x="671" y="132"/>
                  </a:lnTo>
                  <a:lnTo>
                    <a:pt x="674" y="122"/>
                  </a:lnTo>
                  <a:lnTo>
                    <a:pt x="684" y="115"/>
                  </a:lnTo>
                  <a:lnTo>
                    <a:pt x="692" y="105"/>
                  </a:lnTo>
                  <a:lnTo>
                    <a:pt x="697" y="96"/>
                  </a:lnTo>
                  <a:lnTo>
                    <a:pt x="686" y="92"/>
                  </a:lnTo>
                  <a:lnTo>
                    <a:pt x="676" y="92"/>
                  </a:lnTo>
                  <a:lnTo>
                    <a:pt x="667" y="92"/>
                  </a:lnTo>
                  <a:lnTo>
                    <a:pt x="657" y="92"/>
                  </a:lnTo>
                  <a:lnTo>
                    <a:pt x="648" y="92"/>
                  </a:lnTo>
                  <a:lnTo>
                    <a:pt x="638" y="96"/>
                  </a:lnTo>
                  <a:lnTo>
                    <a:pt x="629" y="96"/>
                  </a:lnTo>
                  <a:lnTo>
                    <a:pt x="621" y="99"/>
                  </a:lnTo>
                  <a:lnTo>
                    <a:pt x="612" y="101"/>
                  </a:lnTo>
                  <a:lnTo>
                    <a:pt x="604" y="105"/>
                  </a:lnTo>
                  <a:lnTo>
                    <a:pt x="595" y="107"/>
                  </a:lnTo>
                  <a:lnTo>
                    <a:pt x="587" y="113"/>
                  </a:lnTo>
                  <a:lnTo>
                    <a:pt x="578" y="116"/>
                  </a:lnTo>
                  <a:lnTo>
                    <a:pt x="570" y="122"/>
                  </a:lnTo>
                  <a:lnTo>
                    <a:pt x="562" y="126"/>
                  </a:lnTo>
                  <a:lnTo>
                    <a:pt x="555" y="132"/>
                  </a:lnTo>
                  <a:lnTo>
                    <a:pt x="558" y="124"/>
                  </a:lnTo>
                  <a:lnTo>
                    <a:pt x="560" y="118"/>
                  </a:lnTo>
                  <a:lnTo>
                    <a:pt x="564" y="113"/>
                  </a:lnTo>
                  <a:lnTo>
                    <a:pt x="568" y="105"/>
                  </a:lnTo>
                  <a:lnTo>
                    <a:pt x="574" y="94"/>
                  </a:lnTo>
                  <a:lnTo>
                    <a:pt x="578" y="84"/>
                  </a:lnTo>
                  <a:lnTo>
                    <a:pt x="579" y="73"/>
                  </a:lnTo>
                  <a:lnTo>
                    <a:pt x="583" y="67"/>
                  </a:lnTo>
                  <a:lnTo>
                    <a:pt x="583" y="59"/>
                  </a:lnTo>
                  <a:lnTo>
                    <a:pt x="583" y="56"/>
                  </a:lnTo>
                  <a:lnTo>
                    <a:pt x="579" y="52"/>
                  </a:lnTo>
                  <a:lnTo>
                    <a:pt x="576" y="50"/>
                  </a:lnTo>
                  <a:lnTo>
                    <a:pt x="568" y="50"/>
                  </a:lnTo>
                  <a:lnTo>
                    <a:pt x="560" y="52"/>
                  </a:lnTo>
                  <a:lnTo>
                    <a:pt x="555" y="54"/>
                  </a:lnTo>
                  <a:lnTo>
                    <a:pt x="549" y="57"/>
                  </a:lnTo>
                  <a:lnTo>
                    <a:pt x="543" y="59"/>
                  </a:lnTo>
                  <a:lnTo>
                    <a:pt x="538" y="63"/>
                  </a:lnTo>
                  <a:lnTo>
                    <a:pt x="530" y="69"/>
                  </a:lnTo>
                  <a:lnTo>
                    <a:pt x="522" y="73"/>
                  </a:lnTo>
                  <a:lnTo>
                    <a:pt x="513" y="80"/>
                  </a:lnTo>
                  <a:lnTo>
                    <a:pt x="505" y="88"/>
                  </a:lnTo>
                  <a:lnTo>
                    <a:pt x="498" y="92"/>
                  </a:lnTo>
                  <a:lnTo>
                    <a:pt x="492" y="97"/>
                  </a:lnTo>
                  <a:lnTo>
                    <a:pt x="484" y="103"/>
                  </a:lnTo>
                  <a:lnTo>
                    <a:pt x="479" y="107"/>
                  </a:lnTo>
                  <a:lnTo>
                    <a:pt x="471" y="111"/>
                  </a:lnTo>
                  <a:lnTo>
                    <a:pt x="463" y="115"/>
                  </a:lnTo>
                  <a:lnTo>
                    <a:pt x="456" y="116"/>
                  </a:lnTo>
                  <a:lnTo>
                    <a:pt x="450" y="122"/>
                  </a:lnTo>
                  <a:lnTo>
                    <a:pt x="448" y="118"/>
                  </a:lnTo>
                  <a:lnTo>
                    <a:pt x="448" y="111"/>
                  </a:lnTo>
                  <a:lnTo>
                    <a:pt x="450" y="105"/>
                  </a:lnTo>
                  <a:lnTo>
                    <a:pt x="452" y="97"/>
                  </a:lnTo>
                  <a:lnTo>
                    <a:pt x="458" y="94"/>
                  </a:lnTo>
                  <a:lnTo>
                    <a:pt x="463" y="88"/>
                  </a:lnTo>
                  <a:lnTo>
                    <a:pt x="469" y="82"/>
                  </a:lnTo>
                  <a:lnTo>
                    <a:pt x="477" y="78"/>
                  </a:lnTo>
                  <a:lnTo>
                    <a:pt x="482" y="75"/>
                  </a:lnTo>
                  <a:lnTo>
                    <a:pt x="488" y="69"/>
                  </a:lnTo>
                  <a:lnTo>
                    <a:pt x="494" y="65"/>
                  </a:lnTo>
                  <a:lnTo>
                    <a:pt x="500" y="59"/>
                  </a:lnTo>
                  <a:lnTo>
                    <a:pt x="505" y="56"/>
                  </a:lnTo>
                  <a:lnTo>
                    <a:pt x="509" y="50"/>
                  </a:lnTo>
                  <a:lnTo>
                    <a:pt x="513" y="44"/>
                  </a:lnTo>
                  <a:lnTo>
                    <a:pt x="515" y="40"/>
                  </a:lnTo>
                  <a:lnTo>
                    <a:pt x="515" y="35"/>
                  </a:lnTo>
                  <a:lnTo>
                    <a:pt x="509" y="35"/>
                  </a:lnTo>
                  <a:lnTo>
                    <a:pt x="503" y="38"/>
                  </a:lnTo>
                  <a:lnTo>
                    <a:pt x="496" y="40"/>
                  </a:lnTo>
                  <a:lnTo>
                    <a:pt x="490" y="42"/>
                  </a:lnTo>
                  <a:lnTo>
                    <a:pt x="484" y="44"/>
                  </a:lnTo>
                  <a:lnTo>
                    <a:pt x="479" y="46"/>
                  </a:lnTo>
                  <a:lnTo>
                    <a:pt x="471" y="50"/>
                  </a:lnTo>
                  <a:lnTo>
                    <a:pt x="467" y="52"/>
                  </a:lnTo>
                  <a:lnTo>
                    <a:pt x="456" y="57"/>
                  </a:lnTo>
                  <a:lnTo>
                    <a:pt x="444" y="63"/>
                  </a:lnTo>
                  <a:lnTo>
                    <a:pt x="433" y="71"/>
                  </a:lnTo>
                  <a:lnTo>
                    <a:pt x="422" y="78"/>
                  </a:lnTo>
                  <a:lnTo>
                    <a:pt x="410" y="86"/>
                  </a:lnTo>
                  <a:lnTo>
                    <a:pt x="401" y="94"/>
                  </a:lnTo>
                  <a:lnTo>
                    <a:pt x="389" y="101"/>
                  </a:lnTo>
                  <a:lnTo>
                    <a:pt x="380" y="111"/>
                  </a:lnTo>
                  <a:lnTo>
                    <a:pt x="368" y="120"/>
                  </a:lnTo>
                  <a:lnTo>
                    <a:pt x="359" y="130"/>
                  </a:lnTo>
                  <a:lnTo>
                    <a:pt x="355" y="135"/>
                  </a:lnTo>
                  <a:lnTo>
                    <a:pt x="349" y="141"/>
                  </a:lnTo>
                  <a:lnTo>
                    <a:pt x="346" y="147"/>
                  </a:lnTo>
                  <a:lnTo>
                    <a:pt x="340" y="153"/>
                  </a:lnTo>
                  <a:lnTo>
                    <a:pt x="338" y="143"/>
                  </a:lnTo>
                  <a:lnTo>
                    <a:pt x="338" y="135"/>
                  </a:lnTo>
                  <a:lnTo>
                    <a:pt x="338" y="126"/>
                  </a:lnTo>
                  <a:lnTo>
                    <a:pt x="342" y="118"/>
                  </a:lnTo>
                  <a:lnTo>
                    <a:pt x="346" y="111"/>
                  </a:lnTo>
                  <a:lnTo>
                    <a:pt x="351" y="103"/>
                  </a:lnTo>
                  <a:lnTo>
                    <a:pt x="357" y="96"/>
                  </a:lnTo>
                  <a:lnTo>
                    <a:pt x="366" y="88"/>
                  </a:lnTo>
                  <a:lnTo>
                    <a:pt x="372" y="80"/>
                  </a:lnTo>
                  <a:lnTo>
                    <a:pt x="382" y="73"/>
                  </a:lnTo>
                  <a:lnTo>
                    <a:pt x="389" y="67"/>
                  </a:lnTo>
                  <a:lnTo>
                    <a:pt x="399" y="61"/>
                  </a:lnTo>
                  <a:lnTo>
                    <a:pt x="408" y="54"/>
                  </a:lnTo>
                  <a:lnTo>
                    <a:pt x="416" y="48"/>
                  </a:lnTo>
                  <a:lnTo>
                    <a:pt x="424" y="42"/>
                  </a:lnTo>
                  <a:lnTo>
                    <a:pt x="431" y="40"/>
                  </a:lnTo>
                  <a:lnTo>
                    <a:pt x="424" y="40"/>
                  </a:lnTo>
                  <a:lnTo>
                    <a:pt x="418" y="42"/>
                  </a:lnTo>
                  <a:lnTo>
                    <a:pt x="410" y="42"/>
                  </a:lnTo>
                  <a:lnTo>
                    <a:pt x="405" y="44"/>
                  </a:lnTo>
                  <a:lnTo>
                    <a:pt x="397" y="44"/>
                  </a:lnTo>
                  <a:lnTo>
                    <a:pt x="389" y="46"/>
                  </a:lnTo>
                  <a:lnTo>
                    <a:pt x="384" y="48"/>
                  </a:lnTo>
                  <a:lnTo>
                    <a:pt x="376" y="50"/>
                  </a:lnTo>
                  <a:lnTo>
                    <a:pt x="368" y="50"/>
                  </a:lnTo>
                  <a:lnTo>
                    <a:pt x="363" y="52"/>
                  </a:lnTo>
                  <a:lnTo>
                    <a:pt x="355" y="52"/>
                  </a:lnTo>
                  <a:lnTo>
                    <a:pt x="349" y="54"/>
                  </a:lnTo>
                  <a:lnTo>
                    <a:pt x="342" y="54"/>
                  </a:lnTo>
                  <a:lnTo>
                    <a:pt x="336" y="56"/>
                  </a:lnTo>
                  <a:lnTo>
                    <a:pt x="328" y="57"/>
                  </a:lnTo>
                  <a:lnTo>
                    <a:pt x="323" y="59"/>
                  </a:lnTo>
                  <a:lnTo>
                    <a:pt x="315" y="59"/>
                  </a:lnTo>
                  <a:lnTo>
                    <a:pt x="309" y="59"/>
                  </a:lnTo>
                  <a:lnTo>
                    <a:pt x="302" y="61"/>
                  </a:lnTo>
                  <a:lnTo>
                    <a:pt x="294" y="61"/>
                  </a:lnTo>
                  <a:lnTo>
                    <a:pt x="289" y="63"/>
                  </a:lnTo>
                  <a:lnTo>
                    <a:pt x="281" y="63"/>
                  </a:lnTo>
                  <a:lnTo>
                    <a:pt x="275" y="65"/>
                  </a:lnTo>
                  <a:lnTo>
                    <a:pt x="270" y="67"/>
                  </a:lnTo>
                  <a:lnTo>
                    <a:pt x="262" y="67"/>
                  </a:lnTo>
                  <a:lnTo>
                    <a:pt x="254" y="67"/>
                  </a:lnTo>
                  <a:lnTo>
                    <a:pt x="247" y="67"/>
                  </a:lnTo>
                  <a:lnTo>
                    <a:pt x="241" y="69"/>
                  </a:lnTo>
                  <a:lnTo>
                    <a:pt x="233" y="69"/>
                  </a:lnTo>
                  <a:lnTo>
                    <a:pt x="228" y="69"/>
                  </a:lnTo>
                  <a:lnTo>
                    <a:pt x="220" y="71"/>
                  </a:lnTo>
                  <a:lnTo>
                    <a:pt x="214" y="71"/>
                  </a:lnTo>
                  <a:lnTo>
                    <a:pt x="207" y="71"/>
                  </a:lnTo>
                  <a:lnTo>
                    <a:pt x="201" y="71"/>
                  </a:lnTo>
                  <a:lnTo>
                    <a:pt x="193" y="71"/>
                  </a:lnTo>
                  <a:lnTo>
                    <a:pt x="188" y="71"/>
                  </a:lnTo>
                  <a:lnTo>
                    <a:pt x="180" y="71"/>
                  </a:lnTo>
                  <a:lnTo>
                    <a:pt x="173" y="71"/>
                  </a:lnTo>
                  <a:lnTo>
                    <a:pt x="167" y="71"/>
                  </a:lnTo>
                  <a:lnTo>
                    <a:pt x="161" y="71"/>
                  </a:lnTo>
                  <a:lnTo>
                    <a:pt x="154" y="71"/>
                  </a:lnTo>
                  <a:lnTo>
                    <a:pt x="146" y="69"/>
                  </a:lnTo>
                  <a:lnTo>
                    <a:pt x="140" y="69"/>
                  </a:lnTo>
                  <a:lnTo>
                    <a:pt x="133" y="69"/>
                  </a:lnTo>
                  <a:lnTo>
                    <a:pt x="125" y="67"/>
                  </a:lnTo>
                  <a:lnTo>
                    <a:pt x="119" y="67"/>
                  </a:lnTo>
                  <a:lnTo>
                    <a:pt x="114" y="65"/>
                  </a:lnTo>
                  <a:lnTo>
                    <a:pt x="106" y="65"/>
                  </a:lnTo>
                  <a:lnTo>
                    <a:pt x="98" y="63"/>
                  </a:lnTo>
                  <a:lnTo>
                    <a:pt x="93" y="61"/>
                  </a:lnTo>
                  <a:lnTo>
                    <a:pt x="85" y="59"/>
                  </a:lnTo>
                  <a:lnTo>
                    <a:pt x="79" y="59"/>
                  </a:lnTo>
                  <a:lnTo>
                    <a:pt x="72" y="57"/>
                  </a:lnTo>
                  <a:lnTo>
                    <a:pt x="66" y="54"/>
                  </a:lnTo>
                  <a:lnTo>
                    <a:pt x="58" y="52"/>
                  </a:lnTo>
                  <a:lnTo>
                    <a:pt x="53" y="52"/>
                  </a:lnTo>
                  <a:lnTo>
                    <a:pt x="45" y="48"/>
                  </a:lnTo>
                  <a:lnTo>
                    <a:pt x="39" y="46"/>
                  </a:lnTo>
                  <a:lnTo>
                    <a:pt x="32" y="44"/>
                  </a:lnTo>
                  <a:lnTo>
                    <a:pt x="24" y="42"/>
                  </a:lnTo>
                  <a:lnTo>
                    <a:pt x="19" y="38"/>
                  </a:lnTo>
                  <a:lnTo>
                    <a:pt x="13" y="35"/>
                  </a:lnTo>
                  <a:lnTo>
                    <a:pt x="5" y="3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3" y="31"/>
                  </a:lnTo>
                  <a:lnTo>
                    <a:pt x="20" y="31"/>
                  </a:lnTo>
                  <a:lnTo>
                    <a:pt x="26" y="31"/>
                  </a:lnTo>
                  <a:lnTo>
                    <a:pt x="34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70" y="33"/>
                  </a:lnTo>
                  <a:lnTo>
                    <a:pt x="78" y="33"/>
                  </a:lnTo>
                  <a:lnTo>
                    <a:pt x="85" y="33"/>
                  </a:lnTo>
                  <a:lnTo>
                    <a:pt x="91" y="33"/>
                  </a:lnTo>
                  <a:lnTo>
                    <a:pt x="98" y="35"/>
                  </a:lnTo>
                  <a:lnTo>
                    <a:pt x="106" y="35"/>
                  </a:lnTo>
                  <a:lnTo>
                    <a:pt x="114" y="37"/>
                  </a:lnTo>
                  <a:lnTo>
                    <a:pt x="119" y="37"/>
                  </a:lnTo>
                  <a:lnTo>
                    <a:pt x="125" y="37"/>
                  </a:lnTo>
                  <a:lnTo>
                    <a:pt x="133" y="37"/>
                  </a:lnTo>
                  <a:lnTo>
                    <a:pt x="140" y="38"/>
                  </a:lnTo>
                  <a:lnTo>
                    <a:pt x="146" y="38"/>
                  </a:lnTo>
                  <a:lnTo>
                    <a:pt x="154" y="38"/>
                  </a:lnTo>
                  <a:lnTo>
                    <a:pt x="161" y="38"/>
                  </a:lnTo>
                  <a:lnTo>
                    <a:pt x="169" y="40"/>
                  </a:lnTo>
                  <a:lnTo>
                    <a:pt x="174" y="40"/>
                  </a:lnTo>
                  <a:lnTo>
                    <a:pt x="180" y="40"/>
                  </a:lnTo>
                  <a:lnTo>
                    <a:pt x="188" y="40"/>
                  </a:lnTo>
                  <a:lnTo>
                    <a:pt x="195" y="40"/>
                  </a:lnTo>
                  <a:lnTo>
                    <a:pt x="201" y="40"/>
                  </a:lnTo>
                  <a:lnTo>
                    <a:pt x="209" y="42"/>
                  </a:lnTo>
                  <a:lnTo>
                    <a:pt x="216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5" y="42"/>
                  </a:lnTo>
                  <a:lnTo>
                    <a:pt x="243" y="42"/>
                  </a:lnTo>
                  <a:lnTo>
                    <a:pt x="251" y="42"/>
                  </a:lnTo>
                  <a:lnTo>
                    <a:pt x="256" y="40"/>
                  </a:lnTo>
                  <a:lnTo>
                    <a:pt x="262" y="40"/>
                  </a:lnTo>
                  <a:lnTo>
                    <a:pt x="270" y="40"/>
                  </a:lnTo>
                  <a:lnTo>
                    <a:pt x="275" y="40"/>
                  </a:lnTo>
                  <a:lnTo>
                    <a:pt x="283" y="40"/>
                  </a:lnTo>
                  <a:lnTo>
                    <a:pt x="289" y="38"/>
                  </a:lnTo>
                  <a:lnTo>
                    <a:pt x="294" y="38"/>
                  </a:lnTo>
                  <a:lnTo>
                    <a:pt x="302" y="38"/>
                  </a:lnTo>
                  <a:lnTo>
                    <a:pt x="309" y="37"/>
                  </a:lnTo>
                  <a:lnTo>
                    <a:pt x="317" y="35"/>
                  </a:lnTo>
                  <a:lnTo>
                    <a:pt x="323" y="35"/>
                  </a:lnTo>
                  <a:lnTo>
                    <a:pt x="330" y="35"/>
                  </a:lnTo>
                  <a:lnTo>
                    <a:pt x="336" y="33"/>
                  </a:lnTo>
                  <a:lnTo>
                    <a:pt x="344" y="31"/>
                  </a:lnTo>
                  <a:lnTo>
                    <a:pt x="349" y="29"/>
                  </a:lnTo>
                  <a:lnTo>
                    <a:pt x="357" y="27"/>
                  </a:lnTo>
                  <a:lnTo>
                    <a:pt x="363" y="25"/>
                  </a:lnTo>
                  <a:lnTo>
                    <a:pt x="368" y="23"/>
                  </a:lnTo>
                  <a:lnTo>
                    <a:pt x="376" y="21"/>
                  </a:lnTo>
                  <a:lnTo>
                    <a:pt x="384" y="21"/>
                  </a:lnTo>
                  <a:lnTo>
                    <a:pt x="389" y="18"/>
                  </a:lnTo>
                  <a:lnTo>
                    <a:pt x="395" y="16"/>
                  </a:lnTo>
                  <a:lnTo>
                    <a:pt x="403" y="14"/>
                  </a:lnTo>
                  <a:lnTo>
                    <a:pt x="410" y="12"/>
                  </a:lnTo>
                  <a:lnTo>
                    <a:pt x="416" y="8"/>
                  </a:lnTo>
                  <a:lnTo>
                    <a:pt x="424" y="6"/>
                  </a:lnTo>
                  <a:lnTo>
                    <a:pt x="429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51600" y="1270080"/>
              <a:ext cx="1077480" cy="1198440"/>
            </a:xfrm>
            <a:custGeom>
              <a:avLst/>
              <a:gdLst/>
              <a:ahLst/>
              <a:rect l="l" t="t" r="r" b="b"/>
              <a:pathLst>
                <a:path w="1358" h="1509">
                  <a:moveTo>
                    <a:pt x="993" y="2"/>
                  </a:moveTo>
                  <a:lnTo>
                    <a:pt x="1000" y="0"/>
                  </a:lnTo>
                  <a:lnTo>
                    <a:pt x="1006" y="0"/>
                  </a:lnTo>
                  <a:lnTo>
                    <a:pt x="1013" y="0"/>
                  </a:lnTo>
                  <a:lnTo>
                    <a:pt x="1023" y="0"/>
                  </a:lnTo>
                  <a:lnTo>
                    <a:pt x="1031" y="0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5" y="0"/>
                  </a:lnTo>
                  <a:lnTo>
                    <a:pt x="1061" y="0"/>
                  </a:lnTo>
                  <a:lnTo>
                    <a:pt x="1069" y="0"/>
                  </a:lnTo>
                  <a:lnTo>
                    <a:pt x="1076" y="0"/>
                  </a:lnTo>
                  <a:lnTo>
                    <a:pt x="1086" y="2"/>
                  </a:lnTo>
                  <a:lnTo>
                    <a:pt x="1093" y="2"/>
                  </a:lnTo>
                  <a:lnTo>
                    <a:pt x="1101" y="5"/>
                  </a:lnTo>
                  <a:lnTo>
                    <a:pt x="1108" y="5"/>
                  </a:lnTo>
                  <a:lnTo>
                    <a:pt x="1116" y="9"/>
                  </a:lnTo>
                  <a:lnTo>
                    <a:pt x="1124" y="9"/>
                  </a:lnTo>
                  <a:lnTo>
                    <a:pt x="1131" y="11"/>
                  </a:lnTo>
                  <a:lnTo>
                    <a:pt x="1137" y="15"/>
                  </a:lnTo>
                  <a:lnTo>
                    <a:pt x="1145" y="17"/>
                  </a:lnTo>
                  <a:lnTo>
                    <a:pt x="1150" y="21"/>
                  </a:lnTo>
                  <a:lnTo>
                    <a:pt x="1158" y="24"/>
                  </a:lnTo>
                  <a:lnTo>
                    <a:pt x="1164" y="26"/>
                  </a:lnTo>
                  <a:lnTo>
                    <a:pt x="1169" y="32"/>
                  </a:lnTo>
                  <a:lnTo>
                    <a:pt x="1179" y="40"/>
                  </a:lnTo>
                  <a:lnTo>
                    <a:pt x="1190" y="53"/>
                  </a:lnTo>
                  <a:lnTo>
                    <a:pt x="1194" y="59"/>
                  </a:lnTo>
                  <a:lnTo>
                    <a:pt x="1198" y="64"/>
                  </a:lnTo>
                  <a:lnTo>
                    <a:pt x="1202" y="72"/>
                  </a:lnTo>
                  <a:lnTo>
                    <a:pt x="1205" y="82"/>
                  </a:lnTo>
                  <a:lnTo>
                    <a:pt x="1194" y="72"/>
                  </a:lnTo>
                  <a:lnTo>
                    <a:pt x="1186" y="64"/>
                  </a:lnTo>
                  <a:lnTo>
                    <a:pt x="1177" y="59"/>
                  </a:lnTo>
                  <a:lnTo>
                    <a:pt x="1169" y="55"/>
                  </a:lnTo>
                  <a:lnTo>
                    <a:pt x="1164" y="51"/>
                  </a:lnTo>
                  <a:lnTo>
                    <a:pt x="1158" y="49"/>
                  </a:lnTo>
                  <a:lnTo>
                    <a:pt x="1154" y="47"/>
                  </a:lnTo>
                  <a:lnTo>
                    <a:pt x="1152" y="49"/>
                  </a:lnTo>
                  <a:lnTo>
                    <a:pt x="1148" y="51"/>
                  </a:lnTo>
                  <a:lnTo>
                    <a:pt x="1147" y="57"/>
                  </a:lnTo>
                  <a:lnTo>
                    <a:pt x="1148" y="64"/>
                  </a:lnTo>
                  <a:lnTo>
                    <a:pt x="1154" y="74"/>
                  </a:lnTo>
                  <a:lnTo>
                    <a:pt x="1160" y="83"/>
                  </a:lnTo>
                  <a:lnTo>
                    <a:pt x="1169" y="97"/>
                  </a:lnTo>
                  <a:lnTo>
                    <a:pt x="1175" y="101"/>
                  </a:lnTo>
                  <a:lnTo>
                    <a:pt x="1181" y="106"/>
                  </a:lnTo>
                  <a:lnTo>
                    <a:pt x="1186" y="112"/>
                  </a:lnTo>
                  <a:lnTo>
                    <a:pt x="1194" y="118"/>
                  </a:lnTo>
                  <a:lnTo>
                    <a:pt x="1200" y="121"/>
                  </a:lnTo>
                  <a:lnTo>
                    <a:pt x="1207" y="127"/>
                  </a:lnTo>
                  <a:lnTo>
                    <a:pt x="1215" y="131"/>
                  </a:lnTo>
                  <a:lnTo>
                    <a:pt x="1223" y="137"/>
                  </a:lnTo>
                  <a:lnTo>
                    <a:pt x="1230" y="139"/>
                  </a:lnTo>
                  <a:lnTo>
                    <a:pt x="1238" y="142"/>
                  </a:lnTo>
                  <a:lnTo>
                    <a:pt x="1245" y="144"/>
                  </a:lnTo>
                  <a:lnTo>
                    <a:pt x="1255" y="146"/>
                  </a:lnTo>
                  <a:lnTo>
                    <a:pt x="1262" y="148"/>
                  </a:lnTo>
                  <a:lnTo>
                    <a:pt x="1272" y="154"/>
                  </a:lnTo>
                  <a:lnTo>
                    <a:pt x="1280" y="161"/>
                  </a:lnTo>
                  <a:lnTo>
                    <a:pt x="1287" y="167"/>
                  </a:lnTo>
                  <a:lnTo>
                    <a:pt x="1293" y="175"/>
                  </a:lnTo>
                  <a:lnTo>
                    <a:pt x="1302" y="182"/>
                  </a:lnTo>
                  <a:lnTo>
                    <a:pt x="1310" y="188"/>
                  </a:lnTo>
                  <a:lnTo>
                    <a:pt x="1318" y="196"/>
                  </a:lnTo>
                  <a:lnTo>
                    <a:pt x="1310" y="192"/>
                  </a:lnTo>
                  <a:lnTo>
                    <a:pt x="1300" y="190"/>
                  </a:lnTo>
                  <a:lnTo>
                    <a:pt x="1293" y="184"/>
                  </a:lnTo>
                  <a:lnTo>
                    <a:pt x="1285" y="180"/>
                  </a:lnTo>
                  <a:lnTo>
                    <a:pt x="1276" y="175"/>
                  </a:lnTo>
                  <a:lnTo>
                    <a:pt x="1268" y="171"/>
                  </a:lnTo>
                  <a:lnTo>
                    <a:pt x="1259" y="165"/>
                  </a:lnTo>
                  <a:lnTo>
                    <a:pt x="1251" y="161"/>
                  </a:lnTo>
                  <a:lnTo>
                    <a:pt x="1242" y="156"/>
                  </a:lnTo>
                  <a:lnTo>
                    <a:pt x="1232" y="152"/>
                  </a:lnTo>
                  <a:lnTo>
                    <a:pt x="1223" y="146"/>
                  </a:lnTo>
                  <a:lnTo>
                    <a:pt x="1213" y="142"/>
                  </a:lnTo>
                  <a:lnTo>
                    <a:pt x="1204" y="139"/>
                  </a:lnTo>
                  <a:lnTo>
                    <a:pt x="1196" y="135"/>
                  </a:lnTo>
                  <a:lnTo>
                    <a:pt x="1186" y="131"/>
                  </a:lnTo>
                  <a:lnTo>
                    <a:pt x="1177" y="131"/>
                  </a:lnTo>
                  <a:lnTo>
                    <a:pt x="1171" y="137"/>
                  </a:lnTo>
                  <a:lnTo>
                    <a:pt x="1169" y="144"/>
                  </a:lnTo>
                  <a:lnTo>
                    <a:pt x="1171" y="152"/>
                  </a:lnTo>
                  <a:lnTo>
                    <a:pt x="1173" y="158"/>
                  </a:lnTo>
                  <a:lnTo>
                    <a:pt x="1177" y="165"/>
                  </a:lnTo>
                  <a:lnTo>
                    <a:pt x="1181" y="173"/>
                  </a:lnTo>
                  <a:lnTo>
                    <a:pt x="1183" y="180"/>
                  </a:lnTo>
                  <a:lnTo>
                    <a:pt x="1185" y="188"/>
                  </a:lnTo>
                  <a:lnTo>
                    <a:pt x="1190" y="188"/>
                  </a:lnTo>
                  <a:lnTo>
                    <a:pt x="1196" y="190"/>
                  </a:lnTo>
                  <a:lnTo>
                    <a:pt x="1204" y="192"/>
                  </a:lnTo>
                  <a:lnTo>
                    <a:pt x="1209" y="196"/>
                  </a:lnTo>
                  <a:lnTo>
                    <a:pt x="1219" y="203"/>
                  </a:lnTo>
                  <a:lnTo>
                    <a:pt x="1230" y="217"/>
                  </a:lnTo>
                  <a:lnTo>
                    <a:pt x="1234" y="220"/>
                  </a:lnTo>
                  <a:lnTo>
                    <a:pt x="1238" y="226"/>
                  </a:lnTo>
                  <a:lnTo>
                    <a:pt x="1243" y="232"/>
                  </a:lnTo>
                  <a:lnTo>
                    <a:pt x="1247" y="239"/>
                  </a:lnTo>
                  <a:lnTo>
                    <a:pt x="1251" y="245"/>
                  </a:lnTo>
                  <a:lnTo>
                    <a:pt x="1255" y="249"/>
                  </a:lnTo>
                  <a:lnTo>
                    <a:pt x="1259" y="255"/>
                  </a:lnTo>
                  <a:lnTo>
                    <a:pt x="1262" y="260"/>
                  </a:lnTo>
                  <a:lnTo>
                    <a:pt x="1261" y="264"/>
                  </a:lnTo>
                  <a:lnTo>
                    <a:pt x="1253" y="258"/>
                  </a:lnTo>
                  <a:lnTo>
                    <a:pt x="1245" y="253"/>
                  </a:lnTo>
                  <a:lnTo>
                    <a:pt x="1238" y="247"/>
                  </a:lnTo>
                  <a:lnTo>
                    <a:pt x="1232" y="241"/>
                  </a:lnTo>
                  <a:lnTo>
                    <a:pt x="1223" y="236"/>
                  </a:lnTo>
                  <a:lnTo>
                    <a:pt x="1215" y="230"/>
                  </a:lnTo>
                  <a:lnTo>
                    <a:pt x="1207" y="224"/>
                  </a:lnTo>
                  <a:lnTo>
                    <a:pt x="1202" y="218"/>
                  </a:lnTo>
                  <a:lnTo>
                    <a:pt x="1194" y="213"/>
                  </a:lnTo>
                  <a:lnTo>
                    <a:pt x="1186" y="209"/>
                  </a:lnTo>
                  <a:lnTo>
                    <a:pt x="1177" y="203"/>
                  </a:lnTo>
                  <a:lnTo>
                    <a:pt x="1169" y="199"/>
                  </a:lnTo>
                  <a:lnTo>
                    <a:pt x="1160" y="196"/>
                  </a:lnTo>
                  <a:lnTo>
                    <a:pt x="1152" y="192"/>
                  </a:lnTo>
                  <a:lnTo>
                    <a:pt x="1143" y="190"/>
                  </a:lnTo>
                  <a:lnTo>
                    <a:pt x="1135" y="188"/>
                  </a:lnTo>
                  <a:lnTo>
                    <a:pt x="1137" y="197"/>
                  </a:lnTo>
                  <a:lnTo>
                    <a:pt x="1143" y="207"/>
                  </a:lnTo>
                  <a:lnTo>
                    <a:pt x="1148" y="217"/>
                  </a:lnTo>
                  <a:lnTo>
                    <a:pt x="1154" y="226"/>
                  </a:lnTo>
                  <a:lnTo>
                    <a:pt x="1162" y="236"/>
                  </a:lnTo>
                  <a:lnTo>
                    <a:pt x="1169" y="245"/>
                  </a:lnTo>
                  <a:lnTo>
                    <a:pt x="1177" y="253"/>
                  </a:lnTo>
                  <a:lnTo>
                    <a:pt x="1186" y="262"/>
                  </a:lnTo>
                  <a:lnTo>
                    <a:pt x="1194" y="272"/>
                  </a:lnTo>
                  <a:lnTo>
                    <a:pt x="1204" y="279"/>
                  </a:lnTo>
                  <a:lnTo>
                    <a:pt x="1211" y="287"/>
                  </a:lnTo>
                  <a:lnTo>
                    <a:pt x="1219" y="298"/>
                  </a:lnTo>
                  <a:lnTo>
                    <a:pt x="1226" y="306"/>
                  </a:lnTo>
                  <a:lnTo>
                    <a:pt x="1234" y="315"/>
                  </a:lnTo>
                  <a:lnTo>
                    <a:pt x="1238" y="325"/>
                  </a:lnTo>
                  <a:lnTo>
                    <a:pt x="1245" y="336"/>
                  </a:lnTo>
                  <a:lnTo>
                    <a:pt x="1236" y="329"/>
                  </a:lnTo>
                  <a:lnTo>
                    <a:pt x="1228" y="321"/>
                  </a:lnTo>
                  <a:lnTo>
                    <a:pt x="1219" y="315"/>
                  </a:lnTo>
                  <a:lnTo>
                    <a:pt x="1213" y="312"/>
                  </a:lnTo>
                  <a:lnTo>
                    <a:pt x="1205" y="308"/>
                  </a:lnTo>
                  <a:lnTo>
                    <a:pt x="1198" y="304"/>
                  </a:lnTo>
                  <a:lnTo>
                    <a:pt x="1192" y="300"/>
                  </a:lnTo>
                  <a:lnTo>
                    <a:pt x="1186" y="300"/>
                  </a:lnTo>
                  <a:lnTo>
                    <a:pt x="1181" y="296"/>
                  </a:lnTo>
                  <a:lnTo>
                    <a:pt x="1175" y="294"/>
                  </a:lnTo>
                  <a:lnTo>
                    <a:pt x="1169" y="294"/>
                  </a:lnTo>
                  <a:lnTo>
                    <a:pt x="1167" y="294"/>
                  </a:lnTo>
                  <a:lnTo>
                    <a:pt x="1160" y="298"/>
                  </a:lnTo>
                  <a:lnTo>
                    <a:pt x="1154" y="302"/>
                  </a:lnTo>
                  <a:lnTo>
                    <a:pt x="1152" y="306"/>
                  </a:lnTo>
                  <a:lnTo>
                    <a:pt x="1152" y="313"/>
                  </a:lnTo>
                  <a:lnTo>
                    <a:pt x="1154" y="321"/>
                  </a:lnTo>
                  <a:lnTo>
                    <a:pt x="1160" y="331"/>
                  </a:lnTo>
                  <a:lnTo>
                    <a:pt x="1164" y="336"/>
                  </a:lnTo>
                  <a:lnTo>
                    <a:pt x="1167" y="342"/>
                  </a:lnTo>
                  <a:lnTo>
                    <a:pt x="1173" y="348"/>
                  </a:lnTo>
                  <a:lnTo>
                    <a:pt x="1179" y="355"/>
                  </a:lnTo>
                  <a:lnTo>
                    <a:pt x="1186" y="363"/>
                  </a:lnTo>
                  <a:lnTo>
                    <a:pt x="1194" y="369"/>
                  </a:lnTo>
                  <a:lnTo>
                    <a:pt x="1204" y="376"/>
                  </a:lnTo>
                  <a:lnTo>
                    <a:pt x="1213" y="384"/>
                  </a:lnTo>
                  <a:lnTo>
                    <a:pt x="1219" y="384"/>
                  </a:lnTo>
                  <a:lnTo>
                    <a:pt x="1226" y="388"/>
                  </a:lnTo>
                  <a:lnTo>
                    <a:pt x="1230" y="393"/>
                  </a:lnTo>
                  <a:lnTo>
                    <a:pt x="1234" y="399"/>
                  </a:lnTo>
                  <a:lnTo>
                    <a:pt x="1238" y="405"/>
                  </a:lnTo>
                  <a:lnTo>
                    <a:pt x="1242" y="412"/>
                  </a:lnTo>
                  <a:lnTo>
                    <a:pt x="1245" y="418"/>
                  </a:lnTo>
                  <a:lnTo>
                    <a:pt x="1251" y="424"/>
                  </a:lnTo>
                  <a:lnTo>
                    <a:pt x="1247" y="429"/>
                  </a:lnTo>
                  <a:lnTo>
                    <a:pt x="1242" y="426"/>
                  </a:lnTo>
                  <a:lnTo>
                    <a:pt x="1234" y="422"/>
                  </a:lnTo>
                  <a:lnTo>
                    <a:pt x="1228" y="418"/>
                  </a:lnTo>
                  <a:lnTo>
                    <a:pt x="1223" y="412"/>
                  </a:lnTo>
                  <a:lnTo>
                    <a:pt x="1211" y="405"/>
                  </a:lnTo>
                  <a:lnTo>
                    <a:pt x="1200" y="395"/>
                  </a:lnTo>
                  <a:lnTo>
                    <a:pt x="1194" y="391"/>
                  </a:lnTo>
                  <a:lnTo>
                    <a:pt x="1188" y="386"/>
                  </a:lnTo>
                  <a:lnTo>
                    <a:pt x="1183" y="382"/>
                  </a:lnTo>
                  <a:lnTo>
                    <a:pt x="1177" y="378"/>
                  </a:lnTo>
                  <a:lnTo>
                    <a:pt x="1171" y="374"/>
                  </a:lnTo>
                  <a:lnTo>
                    <a:pt x="1164" y="372"/>
                  </a:lnTo>
                  <a:lnTo>
                    <a:pt x="1158" y="369"/>
                  </a:lnTo>
                  <a:lnTo>
                    <a:pt x="1152" y="367"/>
                  </a:lnTo>
                  <a:lnTo>
                    <a:pt x="1145" y="376"/>
                  </a:lnTo>
                  <a:lnTo>
                    <a:pt x="1145" y="386"/>
                  </a:lnTo>
                  <a:lnTo>
                    <a:pt x="1150" y="393"/>
                  </a:lnTo>
                  <a:lnTo>
                    <a:pt x="1160" y="403"/>
                  </a:lnTo>
                  <a:lnTo>
                    <a:pt x="1164" y="405"/>
                  </a:lnTo>
                  <a:lnTo>
                    <a:pt x="1171" y="410"/>
                  </a:lnTo>
                  <a:lnTo>
                    <a:pt x="1177" y="412"/>
                  </a:lnTo>
                  <a:lnTo>
                    <a:pt x="1183" y="418"/>
                  </a:lnTo>
                  <a:lnTo>
                    <a:pt x="1194" y="428"/>
                  </a:lnTo>
                  <a:lnTo>
                    <a:pt x="1204" y="437"/>
                  </a:lnTo>
                  <a:lnTo>
                    <a:pt x="1198" y="439"/>
                  </a:lnTo>
                  <a:lnTo>
                    <a:pt x="1188" y="431"/>
                  </a:lnTo>
                  <a:lnTo>
                    <a:pt x="1179" y="424"/>
                  </a:lnTo>
                  <a:lnTo>
                    <a:pt x="1167" y="420"/>
                  </a:lnTo>
                  <a:lnTo>
                    <a:pt x="1158" y="414"/>
                  </a:lnTo>
                  <a:lnTo>
                    <a:pt x="1147" y="410"/>
                  </a:lnTo>
                  <a:lnTo>
                    <a:pt x="1135" y="407"/>
                  </a:lnTo>
                  <a:lnTo>
                    <a:pt x="1126" y="403"/>
                  </a:lnTo>
                  <a:lnTo>
                    <a:pt x="1116" y="397"/>
                  </a:lnTo>
                  <a:lnTo>
                    <a:pt x="1110" y="405"/>
                  </a:lnTo>
                  <a:lnTo>
                    <a:pt x="1105" y="412"/>
                  </a:lnTo>
                  <a:lnTo>
                    <a:pt x="1097" y="420"/>
                  </a:lnTo>
                  <a:lnTo>
                    <a:pt x="1093" y="428"/>
                  </a:lnTo>
                  <a:lnTo>
                    <a:pt x="1086" y="433"/>
                  </a:lnTo>
                  <a:lnTo>
                    <a:pt x="1080" y="441"/>
                  </a:lnTo>
                  <a:lnTo>
                    <a:pt x="1074" y="448"/>
                  </a:lnTo>
                  <a:lnTo>
                    <a:pt x="1070" y="458"/>
                  </a:lnTo>
                  <a:lnTo>
                    <a:pt x="1065" y="464"/>
                  </a:lnTo>
                  <a:lnTo>
                    <a:pt x="1059" y="473"/>
                  </a:lnTo>
                  <a:lnTo>
                    <a:pt x="1055" y="479"/>
                  </a:lnTo>
                  <a:lnTo>
                    <a:pt x="1051" y="486"/>
                  </a:lnTo>
                  <a:lnTo>
                    <a:pt x="1048" y="494"/>
                  </a:lnTo>
                  <a:lnTo>
                    <a:pt x="1046" y="502"/>
                  </a:lnTo>
                  <a:lnTo>
                    <a:pt x="1042" y="509"/>
                  </a:lnTo>
                  <a:lnTo>
                    <a:pt x="1042" y="517"/>
                  </a:lnTo>
                  <a:lnTo>
                    <a:pt x="1040" y="523"/>
                  </a:lnTo>
                  <a:lnTo>
                    <a:pt x="1040" y="530"/>
                  </a:lnTo>
                  <a:lnTo>
                    <a:pt x="1038" y="536"/>
                  </a:lnTo>
                  <a:lnTo>
                    <a:pt x="1040" y="542"/>
                  </a:lnTo>
                  <a:lnTo>
                    <a:pt x="1040" y="547"/>
                  </a:lnTo>
                  <a:lnTo>
                    <a:pt x="1044" y="555"/>
                  </a:lnTo>
                  <a:lnTo>
                    <a:pt x="1048" y="559"/>
                  </a:lnTo>
                  <a:lnTo>
                    <a:pt x="1051" y="564"/>
                  </a:lnTo>
                  <a:lnTo>
                    <a:pt x="1057" y="568"/>
                  </a:lnTo>
                  <a:lnTo>
                    <a:pt x="1063" y="574"/>
                  </a:lnTo>
                  <a:lnTo>
                    <a:pt x="1069" y="578"/>
                  </a:lnTo>
                  <a:lnTo>
                    <a:pt x="1078" y="583"/>
                  </a:lnTo>
                  <a:lnTo>
                    <a:pt x="1088" y="585"/>
                  </a:lnTo>
                  <a:lnTo>
                    <a:pt x="1097" y="587"/>
                  </a:lnTo>
                  <a:lnTo>
                    <a:pt x="1105" y="589"/>
                  </a:lnTo>
                  <a:lnTo>
                    <a:pt x="1110" y="591"/>
                  </a:lnTo>
                  <a:lnTo>
                    <a:pt x="1116" y="593"/>
                  </a:lnTo>
                  <a:lnTo>
                    <a:pt x="1124" y="595"/>
                  </a:lnTo>
                  <a:lnTo>
                    <a:pt x="1131" y="597"/>
                  </a:lnTo>
                  <a:lnTo>
                    <a:pt x="1137" y="602"/>
                  </a:lnTo>
                  <a:lnTo>
                    <a:pt x="1143" y="604"/>
                  </a:lnTo>
                  <a:lnTo>
                    <a:pt x="1150" y="610"/>
                  </a:lnTo>
                  <a:lnTo>
                    <a:pt x="1156" y="614"/>
                  </a:lnTo>
                  <a:lnTo>
                    <a:pt x="1162" y="620"/>
                  </a:lnTo>
                  <a:lnTo>
                    <a:pt x="1169" y="623"/>
                  </a:lnTo>
                  <a:lnTo>
                    <a:pt x="1177" y="629"/>
                  </a:lnTo>
                  <a:lnTo>
                    <a:pt x="1183" y="633"/>
                  </a:lnTo>
                  <a:lnTo>
                    <a:pt x="1188" y="637"/>
                  </a:lnTo>
                  <a:lnTo>
                    <a:pt x="1196" y="640"/>
                  </a:lnTo>
                  <a:lnTo>
                    <a:pt x="1204" y="644"/>
                  </a:lnTo>
                  <a:lnTo>
                    <a:pt x="1209" y="648"/>
                  </a:lnTo>
                  <a:lnTo>
                    <a:pt x="1215" y="650"/>
                  </a:lnTo>
                  <a:lnTo>
                    <a:pt x="1223" y="652"/>
                  </a:lnTo>
                  <a:lnTo>
                    <a:pt x="1232" y="654"/>
                  </a:lnTo>
                  <a:lnTo>
                    <a:pt x="1223" y="656"/>
                  </a:lnTo>
                  <a:lnTo>
                    <a:pt x="1213" y="658"/>
                  </a:lnTo>
                  <a:lnTo>
                    <a:pt x="1204" y="654"/>
                  </a:lnTo>
                  <a:lnTo>
                    <a:pt x="1194" y="652"/>
                  </a:lnTo>
                  <a:lnTo>
                    <a:pt x="1183" y="648"/>
                  </a:lnTo>
                  <a:lnTo>
                    <a:pt x="1171" y="644"/>
                  </a:lnTo>
                  <a:lnTo>
                    <a:pt x="1162" y="639"/>
                  </a:lnTo>
                  <a:lnTo>
                    <a:pt x="1150" y="633"/>
                  </a:lnTo>
                  <a:lnTo>
                    <a:pt x="1145" y="629"/>
                  </a:lnTo>
                  <a:lnTo>
                    <a:pt x="1139" y="625"/>
                  </a:lnTo>
                  <a:lnTo>
                    <a:pt x="1133" y="623"/>
                  </a:lnTo>
                  <a:lnTo>
                    <a:pt x="1127" y="620"/>
                  </a:lnTo>
                  <a:lnTo>
                    <a:pt x="1116" y="614"/>
                  </a:lnTo>
                  <a:lnTo>
                    <a:pt x="1105" y="610"/>
                  </a:lnTo>
                  <a:lnTo>
                    <a:pt x="1099" y="606"/>
                  </a:lnTo>
                  <a:lnTo>
                    <a:pt x="1093" y="604"/>
                  </a:lnTo>
                  <a:lnTo>
                    <a:pt x="1088" y="602"/>
                  </a:lnTo>
                  <a:lnTo>
                    <a:pt x="1082" y="601"/>
                  </a:lnTo>
                  <a:lnTo>
                    <a:pt x="1076" y="599"/>
                  </a:lnTo>
                  <a:lnTo>
                    <a:pt x="1069" y="597"/>
                  </a:lnTo>
                  <a:lnTo>
                    <a:pt x="1065" y="597"/>
                  </a:lnTo>
                  <a:lnTo>
                    <a:pt x="1059" y="597"/>
                  </a:lnTo>
                  <a:lnTo>
                    <a:pt x="1067" y="606"/>
                  </a:lnTo>
                  <a:lnTo>
                    <a:pt x="1078" y="618"/>
                  </a:lnTo>
                  <a:lnTo>
                    <a:pt x="1082" y="621"/>
                  </a:lnTo>
                  <a:lnTo>
                    <a:pt x="1088" y="627"/>
                  </a:lnTo>
                  <a:lnTo>
                    <a:pt x="1093" y="631"/>
                  </a:lnTo>
                  <a:lnTo>
                    <a:pt x="1099" y="637"/>
                  </a:lnTo>
                  <a:lnTo>
                    <a:pt x="1105" y="640"/>
                  </a:lnTo>
                  <a:lnTo>
                    <a:pt x="1110" y="644"/>
                  </a:lnTo>
                  <a:lnTo>
                    <a:pt x="1116" y="650"/>
                  </a:lnTo>
                  <a:lnTo>
                    <a:pt x="1124" y="654"/>
                  </a:lnTo>
                  <a:lnTo>
                    <a:pt x="1129" y="658"/>
                  </a:lnTo>
                  <a:lnTo>
                    <a:pt x="1135" y="663"/>
                  </a:lnTo>
                  <a:lnTo>
                    <a:pt x="1143" y="667"/>
                  </a:lnTo>
                  <a:lnTo>
                    <a:pt x="1150" y="671"/>
                  </a:lnTo>
                  <a:lnTo>
                    <a:pt x="1156" y="675"/>
                  </a:lnTo>
                  <a:lnTo>
                    <a:pt x="1162" y="678"/>
                  </a:lnTo>
                  <a:lnTo>
                    <a:pt x="1169" y="682"/>
                  </a:lnTo>
                  <a:lnTo>
                    <a:pt x="1175" y="686"/>
                  </a:lnTo>
                  <a:lnTo>
                    <a:pt x="1181" y="690"/>
                  </a:lnTo>
                  <a:lnTo>
                    <a:pt x="1188" y="694"/>
                  </a:lnTo>
                  <a:lnTo>
                    <a:pt x="1194" y="696"/>
                  </a:lnTo>
                  <a:lnTo>
                    <a:pt x="1202" y="701"/>
                  </a:lnTo>
                  <a:lnTo>
                    <a:pt x="1207" y="703"/>
                  </a:lnTo>
                  <a:lnTo>
                    <a:pt x="1215" y="707"/>
                  </a:lnTo>
                  <a:lnTo>
                    <a:pt x="1221" y="711"/>
                  </a:lnTo>
                  <a:lnTo>
                    <a:pt x="1228" y="713"/>
                  </a:lnTo>
                  <a:lnTo>
                    <a:pt x="1234" y="716"/>
                  </a:lnTo>
                  <a:lnTo>
                    <a:pt x="1242" y="720"/>
                  </a:lnTo>
                  <a:lnTo>
                    <a:pt x="1247" y="722"/>
                  </a:lnTo>
                  <a:lnTo>
                    <a:pt x="1255" y="726"/>
                  </a:lnTo>
                  <a:lnTo>
                    <a:pt x="1255" y="728"/>
                  </a:lnTo>
                  <a:lnTo>
                    <a:pt x="1249" y="730"/>
                  </a:lnTo>
                  <a:lnTo>
                    <a:pt x="1243" y="732"/>
                  </a:lnTo>
                  <a:lnTo>
                    <a:pt x="1238" y="732"/>
                  </a:lnTo>
                  <a:lnTo>
                    <a:pt x="1232" y="732"/>
                  </a:lnTo>
                  <a:lnTo>
                    <a:pt x="1226" y="732"/>
                  </a:lnTo>
                  <a:lnTo>
                    <a:pt x="1221" y="732"/>
                  </a:lnTo>
                  <a:lnTo>
                    <a:pt x="1215" y="730"/>
                  </a:lnTo>
                  <a:lnTo>
                    <a:pt x="1209" y="730"/>
                  </a:lnTo>
                  <a:lnTo>
                    <a:pt x="1204" y="726"/>
                  </a:lnTo>
                  <a:lnTo>
                    <a:pt x="1196" y="724"/>
                  </a:lnTo>
                  <a:lnTo>
                    <a:pt x="1190" y="722"/>
                  </a:lnTo>
                  <a:lnTo>
                    <a:pt x="1185" y="722"/>
                  </a:lnTo>
                  <a:lnTo>
                    <a:pt x="1173" y="716"/>
                  </a:lnTo>
                  <a:lnTo>
                    <a:pt x="1164" y="715"/>
                  </a:lnTo>
                  <a:lnTo>
                    <a:pt x="1160" y="722"/>
                  </a:lnTo>
                  <a:lnTo>
                    <a:pt x="1158" y="730"/>
                  </a:lnTo>
                  <a:lnTo>
                    <a:pt x="1158" y="736"/>
                  </a:lnTo>
                  <a:lnTo>
                    <a:pt x="1162" y="743"/>
                  </a:lnTo>
                  <a:lnTo>
                    <a:pt x="1167" y="749"/>
                  </a:lnTo>
                  <a:lnTo>
                    <a:pt x="1173" y="756"/>
                  </a:lnTo>
                  <a:lnTo>
                    <a:pt x="1181" y="760"/>
                  </a:lnTo>
                  <a:lnTo>
                    <a:pt x="1188" y="768"/>
                  </a:lnTo>
                  <a:lnTo>
                    <a:pt x="1196" y="772"/>
                  </a:lnTo>
                  <a:lnTo>
                    <a:pt x="1204" y="777"/>
                  </a:lnTo>
                  <a:lnTo>
                    <a:pt x="1211" y="785"/>
                  </a:lnTo>
                  <a:lnTo>
                    <a:pt x="1219" y="791"/>
                  </a:lnTo>
                  <a:lnTo>
                    <a:pt x="1224" y="796"/>
                  </a:lnTo>
                  <a:lnTo>
                    <a:pt x="1226" y="802"/>
                  </a:lnTo>
                  <a:lnTo>
                    <a:pt x="1228" y="808"/>
                  </a:lnTo>
                  <a:lnTo>
                    <a:pt x="1228" y="817"/>
                  </a:lnTo>
                  <a:lnTo>
                    <a:pt x="1223" y="817"/>
                  </a:lnTo>
                  <a:lnTo>
                    <a:pt x="1217" y="815"/>
                  </a:lnTo>
                  <a:lnTo>
                    <a:pt x="1211" y="813"/>
                  </a:lnTo>
                  <a:lnTo>
                    <a:pt x="1207" y="808"/>
                  </a:lnTo>
                  <a:lnTo>
                    <a:pt x="1200" y="804"/>
                  </a:lnTo>
                  <a:lnTo>
                    <a:pt x="1196" y="800"/>
                  </a:lnTo>
                  <a:lnTo>
                    <a:pt x="1190" y="798"/>
                  </a:lnTo>
                  <a:lnTo>
                    <a:pt x="1185" y="802"/>
                  </a:lnTo>
                  <a:lnTo>
                    <a:pt x="1188" y="812"/>
                  </a:lnTo>
                  <a:lnTo>
                    <a:pt x="1196" y="821"/>
                  </a:lnTo>
                  <a:lnTo>
                    <a:pt x="1204" y="831"/>
                  </a:lnTo>
                  <a:lnTo>
                    <a:pt x="1213" y="840"/>
                  </a:lnTo>
                  <a:lnTo>
                    <a:pt x="1223" y="850"/>
                  </a:lnTo>
                  <a:lnTo>
                    <a:pt x="1230" y="859"/>
                  </a:lnTo>
                  <a:lnTo>
                    <a:pt x="1232" y="863"/>
                  </a:lnTo>
                  <a:lnTo>
                    <a:pt x="1236" y="869"/>
                  </a:lnTo>
                  <a:lnTo>
                    <a:pt x="1238" y="874"/>
                  </a:lnTo>
                  <a:lnTo>
                    <a:pt x="1240" y="880"/>
                  </a:lnTo>
                  <a:lnTo>
                    <a:pt x="1236" y="882"/>
                  </a:lnTo>
                  <a:lnTo>
                    <a:pt x="1228" y="880"/>
                  </a:lnTo>
                  <a:lnTo>
                    <a:pt x="1224" y="878"/>
                  </a:lnTo>
                  <a:lnTo>
                    <a:pt x="1223" y="880"/>
                  </a:lnTo>
                  <a:lnTo>
                    <a:pt x="1223" y="882"/>
                  </a:lnTo>
                  <a:lnTo>
                    <a:pt x="1223" y="891"/>
                  </a:lnTo>
                  <a:lnTo>
                    <a:pt x="1226" y="905"/>
                  </a:lnTo>
                  <a:lnTo>
                    <a:pt x="1226" y="908"/>
                  </a:lnTo>
                  <a:lnTo>
                    <a:pt x="1226" y="914"/>
                  </a:lnTo>
                  <a:lnTo>
                    <a:pt x="1228" y="922"/>
                  </a:lnTo>
                  <a:lnTo>
                    <a:pt x="1230" y="928"/>
                  </a:lnTo>
                  <a:lnTo>
                    <a:pt x="1232" y="937"/>
                  </a:lnTo>
                  <a:lnTo>
                    <a:pt x="1236" y="950"/>
                  </a:lnTo>
                  <a:lnTo>
                    <a:pt x="1238" y="960"/>
                  </a:lnTo>
                  <a:lnTo>
                    <a:pt x="1245" y="971"/>
                  </a:lnTo>
                  <a:lnTo>
                    <a:pt x="1255" y="971"/>
                  </a:lnTo>
                  <a:lnTo>
                    <a:pt x="1264" y="977"/>
                  </a:lnTo>
                  <a:lnTo>
                    <a:pt x="1272" y="981"/>
                  </a:lnTo>
                  <a:lnTo>
                    <a:pt x="1280" y="988"/>
                  </a:lnTo>
                  <a:lnTo>
                    <a:pt x="1287" y="996"/>
                  </a:lnTo>
                  <a:lnTo>
                    <a:pt x="1297" y="1004"/>
                  </a:lnTo>
                  <a:lnTo>
                    <a:pt x="1302" y="1009"/>
                  </a:lnTo>
                  <a:lnTo>
                    <a:pt x="1312" y="1017"/>
                  </a:lnTo>
                  <a:lnTo>
                    <a:pt x="1316" y="1005"/>
                  </a:lnTo>
                  <a:lnTo>
                    <a:pt x="1316" y="996"/>
                  </a:lnTo>
                  <a:lnTo>
                    <a:pt x="1316" y="988"/>
                  </a:lnTo>
                  <a:lnTo>
                    <a:pt x="1314" y="983"/>
                  </a:lnTo>
                  <a:lnTo>
                    <a:pt x="1312" y="977"/>
                  </a:lnTo>
                  <a:lnTo>
                    <a:pt x="1312" y="969"/>
                  </a:lnTo>
                  <a:lnTo>
                    <a:pt x="1310" y="962"/>
                  </a:lnTo>
                  <a:lnTo>
                    <a:pt x="1308" y="956"/>
                  </a:lnTo>
                  <a:lnTo>
                    <a:pt x="1306" y="950"/>
                  </a:lnTo>
                  <a:lnTo>
                    <a:pt x="1306" y="943"/>
                  </a:lnTo>
                  <a:lnTo>
                    <a:pt x="1302" y="937"/>
                  </a:lnTo>
                  <a:lnTo>
                    <a:pt x="1302" y="931"/>
                  </a:lnTo>
                  <a:lnTo>
                    <a:pt x="1300" y="924"/>
                  </a:lnTo>
                  <a:lnTo>
                    <a:pt x="1300" y="920"/>
                  </a:lnTo>
                  <a:lnTo>
                    <a:pt x="1297" y="908"/>
                  </a:lnTo>
                  <a:lnTo>
                    <a:pt x="1297" y="903"/>
                  </a:lnTo>
                  <a:lnTo>
                    <a:pt x="1299" y="897"/>
                  </a:lnTo>
                  <a:lnTo>
                    <a:pt x="1302" y="897"/>
                  </a:lnTo>
                  <a:lnTo>
                    <a:pt x="1308" y="899"/>
                  </a:lnTo>
                  <a:lnTo>
                    <a:pt x="1318" y="905"/>
                  </a:lnTo>
                  <a:lnTo>
                    <a:pt x="1321" y="908"/>
                  </a:lnTo>
                  <a:lnTo>
                    <a:pt x="1329" y="916"/>
                  </a:lnTo>
                  <a:lnTo>
                    <a:pt x="1337" y="924"/>
                  </a:lnTo>
                  <a:lnTo>
                    <a:pt x="1346" y="933"/>
                  </a:lnTo>
                  <a:lnTo>
                    <a:pt x="1350" y="943"/>
                  </a:lnTo>
                  <a:lnTo>
                    <a:pt x="1354" y="952"/>
                  </a:lnTo>
                  <a:lnTo>
                    <a:pt x="1356" y="962"/>
                  </a:lnTo>
                  <a:lnTo>
                    <a:pt x="1358" y="971"/>
                  </a:lnTo>
                  <a:lnTo>
                    <a:pt x="1358" y="979"/>
                  </a:lnTo>
                  <a:lnTo>
                    <a:pt x="1358" y="988"/>
                  </a:lnTo>
                  <a:lnTo>
                    <a:pt x="1356" y="998"/>
                  </a:lnTo>
                  <a:lnTo>
                    <a:pt x="1356" y="1007"/>
                  </a:lnTo>
                  <a:lnTo>
                    <a:pt x="1354" y="1015"/>
                  </a:lnTo>
                  <a:lnTo>
                    <a:pt x="1352" y="1024"/>
                  </a:lnTo>
                  <a:lnTo>
                    <a:pt x="1348" y="1032"/>
                  </a:lnTo>
                  <a:lnTo>
                    <a:pt x="1346" y="1042"/>
                  </a:lnTo>
                  <a:lnTo>
                    <a:pt x="1344" y="1051"/>
                  </a:lnTo>
                  <a:lnTo>
                    <a:pt x="1340" y="1059"/>
                  </a:lnTo>
                  <a:lnTo>
                    <a:pt x="1337" y="1066"/>
                  </a:lnTo>
                  <a:lnTo>
                    <a:pt x="1335" y="1076"/>
                  </a:lnTo>
                  <a:lnTo>
                    <a:pt x="1333" y="1083"/>
                  </a:lnTo>
                  <a:lnTo>
                    <a:pt x="1329" y="1093"/>
                  </a:lnTo>
                  <a:lnTo>
                    <a:pt x="1325" y="1101"/>
                  </a:lnTo>
                  <a:lnTo>
                    <a:pt x="1325" y="1110"/>
                  </a:lnTo>
                  <a:lnTo>
                    <a:pt x="1321" y="1118"/>
                  </a:lnTo>
                  <a:lnTo>
                    <a:pt x="1320" y="1127"/>
                  </a:lnTo>
                  <a:lnTo>
                    <a:pt x="1320" y="1137"/>
                  </a:lnTo>
                  <a:lnTo>
                    <a:pt x="1320" y="1146"/>
                  </a:lnTo>
                  <a:lnTo>
                    <a:pt x="1320" y="1154"/>
                  </a:lnTo>
                  <a:lnTo>
                    <a:pt x="1321" y="1163"/>
                  </a:lnTo>
                  <a:lnTo>
                    <a:pt x="1323" y="1173"/>
                  </a:lnTo>
                  <a:lnTo>
                    <a:pt x="1327" y="1182"/>
                  </a:lnTo>
                  <a:lnTo>
                    <a:pt x="1331" y="1190"/>
                  </a:lnTo>
                  <a:lnTo>
                    <a:pt x="1337" y="1199"/>
                  </a:lnTo>
                  <a:lnTo>
                    <a:pt x="1344" y="1211"/>
                  </a:lnTo>
                  <a:lnTo>
                    <a:pt x="1352" y="1220"/>
                  </a:lnTo>
                  <a:lnTo>
                    <a:pt x="1354" y="1230"/>
                  </a:lnTo>
                  <a:lnTo>
                    <a:pt x="1354" y="1241"/>
                  </a:lnTo>
                  <a:lnTo>
                    <a:pt x="1354" y="1251"/>
                  </a:lnTo>
                  <a:lnTo>
                    <a:pt x="1356" y="1262"/>
                  </a:lnTo>
                  <a:lnTo>
                    <a:pt x="1354" y="1272"/>
                  </a:lnTo>
                  <a:lnTo>
                    <a:pt x="1354" y="1281"/>
                  </a:lnTo>
                  <a:lnTo>
                    <a:pt x="1354" y="1291"/>
                  </a:lnTo>
                  <a:lnTo>
                    <a:pt x="1354" y="1300"/>
                  </a:lnTo>
                  <a:lnTo>
                    <a:pt x="1352" y="1308"/>
                  </a:lnTo>
                  <a:lnTo>
                    <a:pt x="1348" y="1317"/>
                  </a:lnTo>
                  <a:lnTo>
                    <a:pt x="1346" y="1327"/>
                  </a:lnTo>
                  <a:lnTo>
                    <a:pt x="1344" y="1336"/>
                  </a:lnTo>
                  <a:lnTo>
                    <a:pt x="1340" y="1344"/>
                  </a:lnTo>
                  <a:lnTo>
                    <a:pt x="1337" y="1353"/>
                  </a:lnTo>
                  <a:lnTo>
                    <a:pt x="1335" y="1363"/>
                  </a:lnTo>
                  <a:lnTo>
                    <a:pt x="1333" y="1372"/>
                  </a:lnTo>
                  <a:lnTo>
                    <a:pt x="1327" y="1380"/>
                  </a:lnTo>
                  <a:lnTo>
                    <a:pt x="1323" y="1389"/>
                  </a:lnTo>
                  <a:lnTo>
                    <a:pt x="1320" y="1395"/>
                  </a:lnTo>
                  <a:lnTo>
                    <a:pt x="1316" y="1405"/>
                  </a:lnTo>
                  <a:lnTo>
                    <a:pt x="1312" y="1412"/>
                  </a:lnTo>
                  <a:lnTo>
                    <a:pt x="1308" y="1422"/>
                  </a:lnTo>
                  <a:lnTo>
                    <a:pt x="1302" y="1429"/>
                  </a:lnTo>
                  <a:lnTo>
                    <a:pt x="1300" y="1439"/>
                  </a:lnTo>
                  <a:lnTo>
                    <a:pt x="1295" y="1447"/>
                  </a:lnTo>
                  <a:lnTo>
                    <a:pt x="1291" y="1456"/>
                  </a:lnTo>
                  <a:lnTo>
                    <a:pt x="1287" y="1464"/>
                  </a:lnTo>
                  <a:lnTo>
                    <a:pt x="1283" y="1473"/>
                  </a:lnTo>
                  <a:lnTo>
                    <a:pt x="1280" y="1483"/>
                  </a:lnTo>
                  <a:lnTo>
                    <a:pt x="1274" y="1490"/>
                  </a:lnTo>
                  <a:lnTo>
                    <a:pt x="1272" y="1500"/>
                  </a:lnTo>
                  <a:lnTo>
                    <a:pt x="1268" y="1509"/>
                  </a:lnTo>
                  <a:lnTo>
                    <a:pt x="1262" y="1507"/>
                  </a:lnTo>
                  <a:lnTo>
                    <a:pt x="1259" y="1505"/>
                  </a:lnTo>
                  <a:lnTo>
                    <a:pt x="1255" y="1500"/>
                  </a:lnTo>
                  <a:lnTo>
                    <a:pt x="1255" y="1496"/>
                  </a:lnTo>
                  <a:lnTo>
                    <a:pt x="1255" y="1488"/>
                  </a:lnTo>
                  <a:lnTo>
                    <a:pt x="1255" y="1485"/>
                  </a:lnTo>
                  <a:lnTo>
                    <a:pt x="1255" y="1477"/>
                  </a:lnTo>
                  <a:lnTo>
                    <a:pt x="1255" y="1473"/>
                  </a:lnTo>
                  <a:lnTo>
                    <a:pt x="1249" y="1471"/>
                  </a:lnTo>
                  <a:lnTo>
                    <a:pt x="1243" y="1473"/>
                  </a:lnTo>
                  <a:lnTo>
                    <a:pt x="1240" y="1475"/>
                  </a:lnTo>
                  <a:lnTo>
                    <a:pt x="1236" y="1479"/>
                  </a:lnTo>
                  <a:lnTo>
                    <a:pt x="1238" y="1473"/>
                  </a:lnTo>
                  <a:lnTo>
                    <a:pt x="1240" y="1467"/>
                  </a:lnTo>
                  <a:lnTo>
                    <a:pt x="1242" y="1460"/>
                  </a:lnTo>
                  <a:lnTo>
                    <a:pt x="1243" y="1456"/>
                  </a:lnTo>
                  <a:lnTo>
                    <a:pt x="1245" y="1448"/>
                  </a:lnTo>
                  <a:lnTo>
                    <a:pt x="1247" y="1445"/>
                  </a:lnTo>
                  <a:lnTo>
                    <a:pt x="1249" y="1437"/>
                  </a:lnTo>
                  <a:lnTo>
                    <a:pt x="1253" y="1431"/>
                  </a:lnTo>
                  <a:lnTo>
                    <a:pt x="1253" y="1426"/>
                  </a:lnTo>
                  <a:lnTo>
                    <a:pt x="1255" y="1420"/>
                  </a:lnTo>
                  <a:lnTo>
                    <a:pt x="1257" y="1414"/>
                  </a:lnTo>
                  <a:lnTo>
                    <a:pt x="1261" y="1408"/>
                  </a:lnTo>
                  <a:lnTo>
                    <a:pt x="1261" y="1403"/>
                  </a:lnTo>
                  <a:lnTo>
                    <a:pt x="1264" y="1397"/>
                  </a:lnTo>
                  <a:lnTo>
                    <a:pt x="1264" y="1391"/>
                  </a:lnTo>
                  <a:lnTo>
                    <a:pt x="1268" y="1386"/>
                  </a:lnTo>
                  <a:lnTo>
                    <a:pt x="1270" y="1380"/>
                  </a:lnTo>
                  <a:lnTo>
                    <a:pt x="1272" y="1372"/>
                  </a:lnTo>
                  <a:lnTo>
                    <a:pt x="1272" y="1367"/>
                  </a:lnTo>
                  <a:lnTo>
                    <a:pt x="1274" y="1361"/>
                  </a:lnTo>
                  <a:lnTo>
                    <a:pt x="1276" y="1355"/>
                  </a:lnTo>
                  <a:lnTo>
                    <a:pt x="1278" y="1348"/>
                  </a:lnTo>
                  <a:lnTo>
                    <a:pt x="1280" y="1342"/>
                  </a:lnTo>
                  <a:lnTo>
                    <a:pt x="1281" y="1336"/>
                  </a:lnTo>
                  <a:lnTo>
                    <a:pt x="1281" y="1331"/>
                  </a:lnTo>
                  <a:lnTo>
                    <a:pt x="1283" y="1325"/>
                  </a:lnTo>
                  <a:lnTo>
                    <a:pt x="1283" y="1317"/>
                  </a:lnTo>
                  <a:lnTo>
                    <a:pt x="1287" y="1312"/>
                  </a:lnTo>
                  <a:lnTo>
                    <a:pt x="1287" y="1306"/>
                  </a:lnTo>
                  <a:lnTo>
                    <a:pt x="1289" y="1300"/>
                  </a:lnTo>
                  <a:lnTo>
                    <a:pt x="1289" y="1293"/>
                  </a:lnTo>
                  <a:lnTo>
                    <a:pt x="1291" y="1289"/>
                  </a:lnTo>
                  <a:lnTo>
                    <a:pt x="1291" y="1281"/>
                  </a:lnTo>
                  <a:lnTo>
                    <a:pt x="1293" y="1275"/>
                  </a:lnTo>
                  <a:lnTo>
                    <a:pt x="1293" y="1268"/>
                  </a:lnTo>
                  <a:lnTo>
                    <a:pt x="1293" y="1262"/>
                  </a:lnTo>
                  <a:lnTo>
                    <a:pt x="1293" y="1256"/>
                  </a:lnTo>
                  <a:lnTo>
                    <a:pt x="1293" y="1249"/>
                  </a:lnTo>
                  <a:lnTo>
                    <a:pt x="1293" y="1243"/>
                  </a:lnTo>
                  <a:lnTo>
                    <a:pt x="1295" y="1237"/>
                  </a:lnTo>
                  <a:lnTo>
                    <a:pt x="1293" y="1232"/>
                  </a:lnTo>
                  <a:lnTo>
                    <a:pt x="1293" y="1226"/>
                  </a:lnTo>
                  <a:lnTo>
                    <a:pt x="1293" y="1218"/>
                  </a:lnTo>
                  <a:lnTo>
                    <a:pt x="1293" y="1213"/>
                  </a:lnTo>
                  <a:lnTo>
                    <a:pt x="1293" y="1207"/>
                  </a:lnTo>
                  <a:lnTo>
                    <a:pt x="1293" y="1199"/>
                  </a:lnTo>
                  <a:lnTo>
                    <a:pt x="1291" y="1194"/>
                  </a:lnTo>
                  <a:lnTo>
                    <a:pt x="1291" y="1188"/>
                  </a:lnTo>
                  <a:lnTo>
                    <a:pt x="1289" y="1182"/>
                  </a:lnTo>
                  <a:lnTo>
                    <a:pt x="1289" y="1175"/>
                  </a:lnTo>
                  <a:lnTo>
                    <a:pt x="1287" y="1169"/>
                  </a:lnTo>
                  <a:lnTo>
                    <a:pt x="1285" y="1163"/>
                  </a:lnTo>
                  <a:lnTo>
                    <a:pt x="1283" y="1158"/>
                  </a:lnTo>
                  <a:lnTo>
                    <a:pt x="1281" y="1152"/>
                  </a:lnTo>
                  <a:lnTo>
                    <a:pt x="1280" y="1144"/>
                  </a:lnTo>
                  <a:lnTo>
                    <a:pt x="1280" y="1139"/>
                  </a:lnTo>
                  <a:lnTo>
                    <a:pt x="1276" y="1133"/>
                  </a:lnTo>
                  <a:lnTo>
                    <a:pt x="1274" y="1127"/>
                  </a:lnTo>
                  <a:lnTo>
                    <a:pt x="1270" y="1120"/>
                  </a:lnTo>
                  <a:lnTo>
                    <a:pt x="1268" y="1116"/>
                  </a:lnTo>
                  <a:lnTo>
                    <a:pt x="1262" y="1102"/>
                  </a:lnTo>
                  <a:lnTo>
                    <a:pt x="1255" y="1093"/>
                  </a:lnTo>
                  <a:lnTo>
                    <a:pt x="1249" y="1085"/>
                  </a:lnTo>
                  <a:lnTo>
                    <a:pt x="1243" y="1080"/>
                  </a:lnTo>
                  <a:lnTo>
                    <a:pt x="1238" y="1072"/>
                  </a:lnTo>
                  <a:lnTo>
                    <a:pt x="1234" y="1066"/>
                  </a:lnTo>
                  <a:lnTo>
                    <a:pt x="1226" y="1059"/>
                  </a:lnTo>
                  <a:lnTo>
                    <a:pt x="1223" y="1051"/>
                  </a:lnTo>
                  <a:lnTo>
                    <a:pt x="1217" y="1043"/>
                  </a:lnTo>
                  <a:lnTo>
                    <a:pt x="1213" y="1038"/>
                  </a:lnTo>
                  <a:lnTo>
                    <a:pt x="1205" y="1028"/>
                  </a:lnTo>
                  <a:lnTo>
                    <a:pt x="1202" y="1023"/>
                  </a:lnTo>
                  <a:lnTo>
                    <a:pt x="1196" y="1015"/>
                  </a:lnTo>
                  <a:lnTo>
                    <a:pt x="1190" y="1007"/>
                  </a:lnTo>
                  <a:lnTo>
                    <a:pt x="1186" y="998"/>
                  </a:lnTo>
                  <a:lnTo>
                    <a:pt x="1181" y="992"/>
                  </a:lnTo>
                  <a:lnTo>
                    <a:pt x="1177" y="983"/>
                  </a:lnTo>
                  <a:lnTo>
                    <a:pt x="1171" y="977"/>
                  </a:lnTo>
                  <a:lnTo>
                    <a:pt x="1166" y="969"/>
                  </a:lnTo>
                  <a:lnTo>
                    <a:pt x="1162" y="962"/>
                  </a:lnTo>
                  <a:lnTo>
                    <a:pt x="1154" y="952"/>
                  </a:lnTo>
                  <a:lnTo>
                    <a:pt x="1150" y="945"/>
                  </a:lnTo>
                  <a:lnTo>
                    <a:pt x="1145" y="937"/>
                  </a:lnTo>
                  <a:lnTo>
                    <a:pt x="1141" y="931"/>
                  </a:lnTo>
                  <a:lnTo>
                    <a:pt x="1135" y="924"/>
                  </a:lnTo>
                  <a:lnTo>
                    <a:pt x="1131" y="916"/>
                  </a:lnTo>
                  <a:lnTo>
                    <a:pt x="1124" y="908"/>
                  </a:lnTo>
                  <a:lnTo>
                    <a:pt x="1120" y="901"/>
                  </a:lnTo>
                  <a:lnTo>
                    <a:pt x="1114" y="895"/>
                  </a:lnTo>
                  <a:lnTo>
                    <a:pt x="1108" y="888"/>
                  </a:lnTo>
                  <a:lnTo>
                    <a:pt x="1103" y="880"/>
                  </a:lnTo>
                  <a:lnTo>
                    <a:pt x="1099" y="874"/>
                  </a:lnTo>
                  <a:lnTo>
                    <a:pt x="1093" y="869"/>
                  </a:lnTo>
                  <a:lnTo>
                    <a:pt x="1088" y="863"/>
                  </a:lnTo>
                  <a:lnTo>
                    <a:pt x="1082" y="855"/>
                  </a:lnTo>
                  <a:lnTo>
                    <a:pt x="1076" y="850"/>
                  </a:lnTo>
                  <a:lnTo>
                    <a:pt x="1070" y="844"/>
                  </a:lnTo>
                  <a:lnTo>
                    <a:pt x="1065" y="840"/>
                  </a:lnTo>
                  <a:lnTo>
                    <a:pt x="1059" y="832"/>
                  </a:lnTo>
                  <a:lnTo>
                    <a:pt x="1051" y="829"/>
                  </a:lnTo>
                  <a:lnTo>
                    <a:pt x="1046" y="823"/>
                  </a:lnTo>
                  <a:lnTo>
                    <a:pt x="1040" y="821"/>
                  </a:lnTo>
                  <a:lnTo>
                    <a:pt x="1032" y="815"/>
                  </a:lnTo>
                  <a:lnTo>
                    <a:pt x="1025" y="812"/>
                  </a:lnTo>
                  <a:lnTo>
                    <a:pt x="1019" y="808"/>
                  </a:lnTo>
                  <a:lnTo>
                    <a:pt x="1013" y="806"/>
                  </a:lnTo>
                  <a:lnTo>
                    <a:pt x="1006" y="802"/>
                  </a:lnTo>
                  <a:lnTo>
                    <a:pt x="1000" y="800"/>
                  </a:lnTo>
                  <a:lnTo>
                    <a:pt x="993" y="798"/>
                  </a:lnTo>
                  <a:lnTo>
                    <a:pt x="985" y="796"/>
                  </a:lnTo>
                  <a:lnTo>
                    <a:pt x="977" y="794"/>
                  </a:lnTo>
                  <a:lnTo>
                    <a:pt x="970" y="794"/>
                  </a:lnTo>
                  <a:lnTo>
                    <a:pt x="962" y="794"/>
                  </a:lnTo>
                  <a:lnTo>
                    <a:pt x="954" y="794"/>
                  </a:lnTo>
                  <a:lnTo>
                    <a:pt x="945" y="794"/>
                  </a:lnTo>
                  <a:lnTo>
                    <a:pt x="937" y="794"/>
                  </a:lnTo>
                  <a:lnTo>
                    <a:pt x="928" y="794"/>
                  </a:lnTo>
                  <a:lnTo>
                    <a:pt x="920" y="798"/>
                  </a:lnTo>
                  <a:lnTo>
                    <a:pt x="911" y="798"/>
                  </a:lnTo>
                  <a:lnTo>
                    <a:pt x="901" y="802"/>
                  </a:lnTo>
                  <a:lnTo>
                    <a:pt x="892" y="806"/>
                  </a:lnTo>
                  <a:lnTo>
                    <a:pt x="884" y="810"/>
                  </a:lnTo>
                  <a:lnTo>
                    <a:pt x="873" y="813"/>
                  </a:lnTo>
                  <a:lnTo>
                    <a:pt x="863" y="817"/>
                  </a:lnTo>
                  <a:lnTo>
                    <a:pt x="854" y="825"/>
                  </a:lnTo>
                  <a:lnTo>
                    <a:pt x="844" y="831"/>
                  </a:lnTo>
                  <a:lnTo>
                    <a:pt x="833" y="834"/>
                  </a:lnTo>
                  <a:lnTo>
                    <a:pt x="823" y="838"/>
                  </a:lnTo>
                  <a:lnTo>
                    <a:pt x="810" y="842"/>
                  </a:lnTo>
                  <a:lnTo>
                    <a:pt x="800" y="848"/>
                  </a:lnTo>
                  <a:lnTo>
                    <a:pt x="789" y="851"/>
                  </a:lnTo>
                  <a:lnTo>
                    <a:pt x="778" y="855"/>
                  </a:lnTo>
                  <a:lnTo>
                    <a:pt x="766" y="861"/>
                  </a:lnTo>
                  <a:lnTo>
                    <a:pt x="755" y="865"/>
                  </a:lnTo>
                  <a:lnTo>
                    <a:pt x="743" y="869"/>
                  </a:lnTo>
                  <a:lnTo>
                    <a:pt x="734" y="874"/>
                  </a:lnTo>
                  <a:lnTo>
                    <a:pt x="723" y="878"/>
                  </a:lnTo>
                  <a:lnTo>
                    <a:pt x="713" y="886"/>
                  </a:lnTo>
                  <a:lnTo>
                    <a:pt x="702" y="889"/>
                  </a:lnTo>
                  <a:lnTo>
                    <a:pt x="690" y="895"/>
                  </a:lnTo>
                  <a:lnTo>
                    <a:pt x="681" y="901"/>
                  </a:lnTo>
                  <a:lnTo>
                    <a:pt x="671" y="907"/>
                  </a:lnTo>
                  <a:lnTo>
                    <a:pt x="669" y="905"/>
                  </a:lnTo>
                  <a:lnTo>
                    <a:pt x="675" y="895"/>
                  </a:lnTo>
                  <a:lnTo>
                    <a:pt x="683" y="888"/>
                  </a:lnTo>
                  <a:lnTo>
                    <a:pt x="690" y="878"/>
                  </a:lnTo>
                  <a:lnTo>
                    <a:pt x="700" y="872"/>
                  </a:lnTo>
                  <a:lnTo>
                    <a:pt x="707" y="865"/>
                  </a:lnTo>
                  <a:lnTo>
                    <a:pt x="715" y="859"/>
                  </a:lnTo>
                  <a:lnTo>
                    <a:pt x="724" y="853"/>
                  </a:lnTo>
                  <a:lnTo>
                    <a:pt x="734" y="848"/>
                  </a:lnTo>
                  <a:lnTo>
                    <a:pt x="743" y="842"/>
                  </a:lnTo>
                  <a:lnTo>
                    <a:pt x="753" y="836"/>
                  </a:lnTo>
                  <a:lnTo>
                    <a:pt x="762" y="832"/>
                  </a:lnTo>
                  <a:lnTo>
                    <a:pt x="772" y="829"/>
                  </a:lnTo>
                  <a:lnTo>
                    <a:pt x="781" y="825"/>
                  </a:lnTo>
                  <a:lnTo>
                    <a:pt x="791" y="823"/>
                  </a:lnTo>
                  <a:lnTo>
                    <a:pt x="802" y="821"/>
                  </a:lnTo>
                  <a:lnTo>
                    <a:pt x="814" y="821"/>
                  </a:lnTo>
                  <a:lnTo>
                    <a:pt x="806" y="819"/>
                  </a:lnTo>
                  <a:lnTo>
                    <a:pt x="800" y="817"/>
                  </a:lnTo>
                  <a:lnTo>
                    <a:pt x="795" y="817"/>
                  </a:lnTo>
                  <a:lnTo>
                    <a:pt x="789" y="817"/>
                  </a:lnTo>
                  <a:lnTo>
                    <a:pt x="781" y="817"/>
                  </a:lnTo>
                  <a:lnTo>
                    <a:pt x="776" y="817"/>
                  </a:lnTo>
                  <a:lnTo>
                    <a:pt x="770" y="819"/>
                  </a:lnTo>
                  <a:lnTo>
                    <a:pt x="764" y="821"/>
                  </a:lnTo>
                  <a:lnTo>
                    <a:pt x="759" y="821"/>
                  </a:lnTo>
                  <a:lnTo>
                    <a:pt x="751" y="821"/>
                  </a:lnTo>
                  <a:lnTo>
                    <a:pt x="745" y="821"/>
                  </a:lnTo>
                  <a:lnTo>
                    <a:pt x="740" y="823"/>
                  </a:lnTo>
                  <a:lnTo>
                    <a:pt x="734" y="823"/>
                  </a:lnTo>
                  <a:lnTo>
                    <a:pt x="726" y="825"/>
                  </a:lnTo>
                  <a:lnTo>
                    <a:pt x="721" y="827"/>
                  </a:lnTo>
                  <a:lnTo>
                    <a:pt x="715" y="829"/>
                  </a:lnTo>
                  <a:lnTo>
                    <a:pt x="709" y="831"/>
                  </a:lnTo>
                  <a:lnTo>
                    <a:pt x="704" y="832"/>
                  </a:lnTo>
                  <a:lnTo>
                    <a:pt x="696" y="832"/>
                  </a:lnTo>
                  <a:lnTo>
                    <a:pt x="690" y="834"/>
                  </a:lnTo>
                  <a:lnTo>
                    <a:pt x="685" y="836"/>
                  </a:lnTo>
                  <a:lnTo>
                    <a:pt x="677" y="838"/>
                  </a:lnTo>
                  <a:lnTo>
                    <a:pt x="671" y="840"/>
                  </a:lnTo>
                  <a:lnTo>
                    <a:pt x="666" y="842"/>
                  </a:lnTo>
                  <a:lnTo>
                    <a:pt x="658" y="844"/>
                  </a:lnTo>
                  <a:lnTo>
                    <a:pt x="652" y="846"/>
                  </a:lnTo>
                  <a:lnTo>
                    <a:pt x="645" y="848"/>
                  </a:lnTo>
                  <a:lnTo>
                    <a:pt x="639" y="851"/>
                  </a:lnTo>
                  <a:lnTo>
                    <a:pt x="633" y="853"/>
                  </a:lnTo>
                  <a:lnTo>
                    <a:pt x="626" y="855"/>
                  </a:lnTo>
                  <a:lnTo>
                    <a:pt x="620" y="857"/>
                  </a:lnTo>
                  <a:lnTo>
                    <a:pt x="614" y="861"/>
                  </a:lnTo>
                  <a:lnTo>
                    <a:pt x="607" y="861"/>
                  </a:lnTo>
                  <a:lnTo>
                    <a:pt x="601" y="863"/>
                  </a:lnTo>
                  <a:lnTo>
                    <a:pt x="595" y="865"/>
                  </a:lnTo>
                  <a:lnTo>
                    <a:pt x="588" y="869"/>
                  </a:lnTo>
                  <a:lnTo>
                    <a:pt x="582" y="870"/>
                  </a:lnTo>
                  <a:lnTo>
                    <a:pt x="576" y="872"/>
                  </a:lnTo>
                  <a:lnTo>
                    <a:pt x="569" y="874"/>
                  </a:lnTo>
                  <a:lnTo>
                    <a:pt x="563" y="878"/>
                  </a:lnTo>
                  <a:lnTo>
                    <a:pt x="555" y="878"/>
                  </a:lnTo>
                  <a:lnTo>
                    <a:pt x="550" y="882"/>
                  </a:lnTo>
                  <a:lnTo>
                    <a:pt x="542" y="882"/>
                  </a:lnTo>
                  <a:lnTo>
                    <a:pt x="536" y="886"/>
                  </a:lnTo>
                  <a:lnTo>
                    <a:pt x="531" y="888"/>
                  </a:lnTo>
                  <a:lnTo>
                    <a:pt x="523" y="889"/>
                  </a:lnTo>
                  <a:lnTo>
                    <a:pt x="517" y="891"/>
                  </a:lnTo>
                  <a:lnTo>
                    <a:pt x="512" y="895"/>
                  </a:lnTo>
                  <a:lnTo>
                    <a:pt x="504" y="895"/>
                  </a:lnTo>
                  <a:lnTo>
                    <a:pt x="496" y="897"/>
                  </a:lnTo>
                  <a:lnTo>
                    <a:pt x="491" y="897"/>
                  </a:lnTo>
                  <a:lnTo>
                    <a:pt x="485" y="899"/>
                  </a:lnTo>
                  <a:lnTo>
                    <a:pt x="477" y="901"/>
                  </a:lnTo>
                  <a:lnTo>
                    <a:pt x="472" y="903"/>
                  </a:lnTo>
                  <a:lnTo>
                    <a:pt x="466" y="905"/>
                  </a:lnTo>
                  <a:lnTo>
                    <a:pt x="458" y="907"/>
                  </a:lnTo>
                  <a:lnTo>
                    <a:pt x="453" y="907"/>
                  </a:lnTo>
                  <a:lnTo>
                    <a:pt x="445" y="907"/>
                  </a:lnTo>
                  <a:lnTo>
                    <a:pt x="439" y="907"/>
                  </a:lnTo>
                  <a:lnTo>
                    <a:pt x="432" y="908"/>
                  </a:lnTo>
                  <a:lnTo>
                    <a:pt x="426" y="908"/>
                  </a:lnTo>
                  <a:lnTo>
                    <a:pt x="420" y="908"/>
                  </a:lnTo>
                  <a:lnTo>
                    <a:pt x="413" y="910"/>
                  </a:lnTo>
                  <a:lnTo>
                    <a:pt x="407" y="912"/>
                  </a:lnTo>
                  <a:lnTo>
                    <a:pt x="413" y="908"/>
                  </a:lnTo>
                  <a:lnTo>
                    <a:pt x="420" y="905"/>
                  </a:lnTo>
                  <a:lnTo>
                    <a:pt x="428" y="901"/>
                  </a:lnTo>
                  <a:lnTo>
                    <a:pt x="435" y="899"/>
                  </a:lnTo>
                  <a:lnTo>
                    <a:pt x="441" y="895"/>
                  </a:lnTo>
                  <a:lnTo>
                    <a:pt x="451" y="893"/>
                  </a:lnTo>
                  <a:lnTo>
                    <a:pt x="458" y="891"/>
                  </a:lnTo>
                  <a:lnTo>
                    <a:pt x="466" y="889"/>
                  </a:lnTo>
                  <a:lnTo>
                    <a:pt x="474" y="886"/>
                  </a:lnTo>
                  <a:lnTo>
                    <a:pt x="483" y="884"/>
                  </a:lnTo>
                  <a:lnTo>
                    <a:pt x="491" y="880"/>
                  </a:lnTo>
                  <a:lnTo>
                    <a:pt x="498" y="878"/>
                  </a:lnTo>
                  <a:lnTo>
                    <a:pt x="506" y="874"/>
                  </a:lnTo>
                  <a:lnTo>
                    <a:pt x="513" y="872"/>
                  </a:lnTo>
                  <a:lnTo>
                    <a:pt x="521" y="870"/>
                  </a:lnTo>
                  <a:lnTo>
                    <a:pt x="531" y="869"/>
                  </a:lnTo>
                  <a:lnTo>
                    <a:pt x="538" y="865"/>
                  </a:lnTo>
                  <a:lnTo>
                    <a:pt x="548" y="863"/>
                  </a:lnTo>
                  <a:lnTo>
                    <a:pt x="555" y="859"/>
                  </a:lnTo>
                  <a:lnTo>
                    <a:pt x="563" y="855"/>
                  </a:lnTo>
                  <a:lnTo>
                    <a:pt x="570" y="851"/>
                  </a:lnTo>
                  <a:lnTo>
                    <a:pt x="578" y="850"/>
                  </a:lnTo>
                  <a:lnTo>
                    <a:pt x="586" y="846"/>
                  </a:lnTo>
                  <a:lnTo>
                    <a:pt x="595" y="842"/>
                  </a:lnTo>
                  <a:lnTo>
                    <a:pt x="601" y="836"/>
                  </a:lnTo>
                  <a:lnTo>
                    <a:pt x="610" y="832"/>
                  </a:lnTo>
                  <a:lnTo>
                    <a:pt x="616" y="829"/>
                  </a:lnTo>
                  <a:lnTo>
                    <a:pt x="624" y="825"/>
                  </a:lnTo>
                  <a:lnTo>
                    <a:pt x="631" y="819"/>
                  </a:lnTo>
                  <a:lnTo>
                    <a:pt x="639" y="813"/>
                  </a:lnTo>
                  <a:lnTo>
                    <a:pt x="645" y="808"/>
                  </a:lnTo>
                  <a:lnTo>
                    <a:pt x="652" y="802"/>
                  </a:lnTo>
                  <a:lnTo>
                    <a:pt x="645" y="802"/>
                  </a:lnTo>
                  <a:lnTo>
                    <a:pt x="639" y="802"/>
                  </a:lnTo>
                  <a:lnTo>
                    <a:pt x="631" y="804"/>
                  </a:lnTo>
                  <a:lnTo>
                    <a:pt x="626" y="804"/>
                  </a:lnTo>
                  <a:lnTo>
                    <a:pt x="618" y="806"/>
                  </a:lnTo>
                  <a:lnTo>
                    <a:pt x="612" y="806"/>
                  </a:lnTo>
                  <a:lnTo>
                    <a:pt x="605" y="808"/>
                  </a:lnTo>
                  <a:lnTo>
                    <a:pt x="599" y="810"/>
                  </a:lnTo>
                  <a:lnTo>
                    <a:pt x="591" y="810"/>
                  </a:lnTo>
                  <a:lnTo>
                    <a:pt x="586" y="812"/>
                  </a:lnTo>
                  <a:lnTo>
                    <a:pt x="578" y="813"/>
                  </a:lnTo>
                  <a:lnTo>
                    <a:pt x="570" y="815"/>
                  </a:lnTo>
                  <a:lnTo>
                    <a:pt x="565" y="815"/>
                  </a:lnTo>
                  <a:lnTo>
                    <a:pt x="559" y="819"/>
                  </a:lnTo>
                  <a:lnTo>
                    <a:pt x="551" y="821"/>
                  </a:lnTo>
                  <a:lnTo>
                    <a:pt x="546" y="823"/>
                  </a:lnTo>
                  <a:lnTo>
                    <a:pt x="538" y="825"/>
                  </a:lnTo>
                  <a:lnTo>
                    <a:pt x="532" y="827"/>
                  </a:lnTo>
                  <a:lnTo>
                    <a:pt x="527" y="829"/>
                  </a:lnTo>
                  <a:lnTo>
                    <a:pt x="519" y="831"/>
                  </a:lnTo>
                  <a:lnTo>
                    <a:pt x="512" y="832"/>
                  </a:lnTo>
                  <a:lnTo>
                    <a:pt x="506" y="834"/>
                  </a:lnTo>
                  <a:lnTo>
                    <a:pt x="500" y="836"/>
                  </a:lnTo>
                  <a:lnTo>
                    <a:pt x="493" y="840"/>
                  </a:lnTo>
                  <a:lnTo>
                    <a:pt x="485" y="842"/>
                  </a:lnTo>
                  <a:lnTo>
                    <a:pt x="479" y="844"/>
                  </a:lnTo>
                  <a:lnTo>
                    <a:pt x="474" y="846"/>
                  </a:lnTo>
                  <a:lnTo>
                    <a:pt x="466" y="850"/>
                  </a:lnTo>
                  <a:lnTo>
                    <a:pt x="460" y="851"/>
                  </a:lnTo>
                  <a:lnTo>
                    <a:pt x="454" y="855"/>
                  </a:lnTo>
                  <a:lnTo>
                    <a:pt x="447" y="857"/>
                  </a:lnTo>
                  <a:lnTo>
                    <a:pt x="441" y="861"/>
                  </a:lnTo>
                  <a:lnTo>
                    <a:pt x="434" y="861"/>
                  </a:lnTo>
                  <a:lnTo>
                    <a:pt x="428" y="865"/>
                  </a:lnTo>
                  <a:lnTo>
                    <a:pt x="420" y="865"/>
                  </a:lnTo>
                  <a:lnTo>
                    <a:pt x="413" y="869"/>
                  </a:lnTo>
                  <a:lnTo>
                    <a:pt x="407" y="870"/>
                  </a:lnTo>
                  <a:lnTo>
                    <a:pt x="399" y="872"/>
                  </a:lnTo>
                  <a:lnTo>
                    <a:pt x="394" y="874"/>
                  </a:lnTo>
                  <a:lnTo>
                    <a:pt x="388" y="878"/>
                  </a:lnTo>
                  <a:lnTo>
                    <a:pt x="380" y="880"/>
                  </a:lnTo>
                  <a:lnTo>
                    <a:pt x="373" y="882"/>
                  </a:lnTo>
                  <a:lnTo>
                    <a:pt x="365" y="884"/>
                  </a:lnTo>
                  <a:lnTo>
                    <a:pt x="359" y="886"/>
                  </a:lnTo>
                  <a:lnTo>
                    <a:pt x="352" y="888"/>
                  </a:lnTo>
                  <a:lnTo>
                    <a:pt x="346" y="889"/>
                  </a:lnTo>
                  <a:lnTo>
                    <a:pt x="339" y="891"/>
                  </a:lnTo>
                  <a:lnTo>
                    <a:pt x="333" y="895"/>
                  </a:lnTo>
                  <a:lnTo>
                    <a:pt x="325" y="895"/>
                  </a:lnTo>
                  <a:lnTo>
                    <a:pt x="320" y="897"/>
                  </a:lnTo>
                  <a:lnTo>
                    <a:pt x="312" y="897"/>
                  </a:lnTo>
                  <a:lnTo>
                    <a:pt x="306" y="899"/>
                  </a:lnTo>
                  <a:lnTo>
                    <a:pt x="299" y="901"/>
                  </a:lnTo>
                  <a:lnTo>
                    <a:pt x="291" y="903"/>
                  </a:lnTo>
                  <a:lnTo>
                    <a:pt x="283" y="905"/>
                  </a:lnTo>
                  <a:lnTo>
                    <a:pt x="278" y="907"/>
                  </a:lnTo>
                  <a:lnTo>
                    <a:pt x="270" y="907"/>
                  </a:lnTo>
                  <a:lnTo>
                    <a:pt x="264" y="907"/>
                  </a:lnTo>
                  <a:lnTo>
                    <a:pt x="257" y="907"/>
                  </a:lnTo>
                  <a:lnTo>
                    <a:pt x="251" y="908"/>
                  </a:lnTo>
                  <a:lnTo>
                    <a:pt x="243" y="908"/>
                  </a:lnTo>
                  <a:lnTo>
                    <a:pt x="236" y="908"/>
                  </a:lnTo>
                  <a:lnTo>
                    <a:pt x="228" y="910"/>
                  </a:lnTo>
                  <a:lnTo>
                    <a:pt x="223" y="912"/>
                  </a:lnTo>
                  <a:lnTo>
                    <a:pt x="228" y="907"/>
                  </a:lnTo>
                  <a:lnTo>
                    <a:pt x="236" y="901"/>
                  </a:lnTo>
                  <a:lnTo>
                    <a:pt x="243" y="899"/>
                  </a:lnTo>
                  <a:lnTo>
                    <a:pt x="253" y="895"/>
                  </a:lnTo>
                  <a:lnTo>
                    <a:pt x="262" y="891"/>
                  </a:lnTo>
                  <a:lnTo>
                    <a:pt x="272" y="889"/>
                  </a:lnTo>
                  <a:lnTo>
                    <a:pt x="281" y="888"/>
                  </a:lnTo>
                  <a:lnTo>
                    <a:pt x="291" y="886"/>
                  </a:lnTo>
                  <a:lnTo>
                    <a:pt x="301" y="882"/>
                  </a:lnTo>
                  <a:lnTo>
                    <a:pt x="310" y="880"/>
                  </a:lnTo>
                  <a:lnTo>
                    <a:pt x="320" y="878"/>
                  </a:lnTo>
                  <a:lnTo>
                    <a:pt x="331" y="874"/>
                  </a:lnTo>
                  <a:lnTo>
                    <a:pt x="340" y="872"/>
                  </a:lnTo>
                  <a:lnTo>
                    <a:pt x="350" y="870"/>
                  </a:lnTo>
                  <a:lnTo>
                    <a:pt x="359" y="869"/>
                  </a:lnTo>
                  <a:lnTo>
                    <a:pt x="371" y="867"/>
                  </a:lnTo>
                  <a:lnTo>
                    <a:pt x="363" y="861"/>
                  </a:lnTo>
                  <a:lnTo>
                    <a:pt x="358" y="859"/>
                  </a:lnTo>
                  <a:lnTo>
                    <a:pt x="352" y="855"/>
                  </a:lnTo>
                  <a:lnTo>
                    <a:pt x="346" y="853"/>
                  </a:lnTo>
                  <a:lnTo>
                    <a:pt x="340" y="851"/>
                  </a:lnTo>
                  <a:lnTo>
                    <a:pt x="335" y="850"/>
                  </a:lnTo>
                  <a:lnTo>
                    <a:pt x="327" y="850"/>
                  </a:lnTo>
                  <a:lnTo>
                    <a:pt x="321" y="851"/>
                  </a:lnTo>
                  <a:lnTo>
                    <a:pt x="314" y="851"/>
                  </a:lnTo>
                  <a:lnTo>
                    <a:pt x="308" y="851"/>
                  </a:lnTo>
                  <a:lnTo>
                    <a:pt x="301" y="853"/>
                  </a:lnTo>
                  <a:lnTo>
                    <a:pt x="295" y="855"/>
                  </a:lnTo>
                  <a:lnTo>
                    <a:pt x="287" y="857"/>
                  </a:lnTo>
                  <a:lnTo>
                    <a:pt x="281" y="859"/>
                  </a:lnTo>
                  <a:lnTo>
                    <a:pt x="274" y="863"/>
                  </a:lnTo>
                  <a:lnTo>
                    <a:pt x="268" y="865"/>
                  </a:lnTo>
                  <a:lnTo>
                    <a:pt x="259" y="869"/>
                  </a:lnTo>
                  <a:lnTo>
                    <a:pt x="253" y="870"/>
                  </a:lnTo>
                  <a:lnTo>
                    <a:pt x="243" y="872"/>
                  </a:lnTo>
                  <a:lnTo>
                    <a:pt x="238" y="874"/>
                  </a:lnTo>
                  <a:lnTo>
                    <a:pt x="228" y="878"/>
                  </a:lnTo>
                  <a:lnTo>
                    <a:pt x="223" y="880"/>
                  </a:lnTo>
                  <a:lnTo>
                    <a:pt x="215" y="882"/>
                  </a:lnTo>
                  <a:lnTo>
                    <a:pt x="207" y="886"/>
                  </a:lnTo>
                  <a:lnTo>
                    <a:pt x="200" y="886"/>
                  </a:lnTo>
                  <a:lnTo>
                    <a:pt x="192" y="888"/>
                  </a:lnTo>
                  <a:lnTo>
                    <a:pt x="185" y="888"/>
                  </a:lnTo>
                  <a:lnTo>
                    <a:pt x="177" y="889"/>
                  </a:lnTo>
                  <a:lnTo>
                    <a:pt x="169" y="889"/>
                  </a:lnTo>
                  <a:lnTo>
                    <a:pt x="162" y="889"/>
                  </a:lnTo>
                  <a:lnTo>
                    <a:pt x="154" y="888"/>
                  </a:lnTo>
                  <a:lnTo>
                    <a:pt x="148" y="888"/>
                  </a:lnTo>
                  <a:lnTo>
                    <a:pt x="154" y="882"/>
                  </a:lnTo>
                  <a:lnTo>
                    <a:pt x="162" y="878"/>
                  </a:lnTo>
                  <a:lnTo>
                    <a:pt x="169" y="872"/>
                  </a:lnTo>
                  <a:lnTo>
                    <a:pt x="179" y="870"/>
                  </a:lnTo>
                  <a:lnTo>
                    <a:pt x="186" y="865"/>
                  </a:lnTo>
                  <a:lnTo>
                    <a:pt x="196" y="863"/>
                  </a:lnTo>
                  <a:lnTo>
                    <a:pt x="205" y="861"/>
                  </a:lnTo>
                  <a:lnTo>
                    <a:pt x="217" y="859"/>
                  </a:lnTo>
                  <a:lnTo>
                    <a:pt x="226" y="855"/>
                  </a:lnTo>
                  <a:lnTo>
                    <a:pt x="236" y="853"/>
                  </a:lnTo>
                  <a:lnTo>
                    <a:pt x="245" y="851"/>
                  </a:lnTo>
                  <a:lnTo>
                    <a:pt x="257" y="850"/>
                  </a:lnTo>
                  <a:lnTo>
                    <a:pt x="266" y="848"/>
                  </a:lnTo>
                  <a:lnTo>
                    <a:pt x="278" y="846"/>
                  </a:lnTo>
                  <a:lnTo>
                    <a:pt x="287" y="844"/>
                  </a:lnTo>
                  <a:lnTo>
                    <a:pt x="297" y="844"/>
                  </a:lnTo>
                  <a:lnTo>
                    <a:pt x="293" y="836"/>
                  </a:lnTo>
                  <a:lnTo>
                    <a:pt x="289" y="832"/>
                  </a:lnTo>
                  <a:lnTo>
                    <a:pt x="283" y="827"/>
                  </a:lnTo>
                  <a:lnTo>
                    <a:pt x="280" y="825"/>
                  </a:lnTo>
                  <a:lnTo>
                    <a:pt x="270" y="821"/>
                  </a:lnTo>
                  <a:lnTo>
                    <a:pt x="259" y="817"/>
                  </a:lnTo>
                  <a:lnTo>
                    <a:pt x="251" y="817"/>
                  </a:lnTo>
                  <a:lnTo>
                    <a:pt x="245" y="817"/>
                  </a:lnTo>
                  <a:lnTo>
                    <a:pt x="238" y="817"/>
                  </a:lnTo>
                  <a:lnTo>
                    <a:pt x="232" y="821"/>
                  </a:lnTo>
                  <a:lnTo>
                    <a:pt x="224" y="821"/>
                  </a:lnTo>
                  <a:lnTo>
                    <a:pt x="219" y="823"/>
                  </a:lnTo>
                  <a:lnTo>
                    <a:pt x="211" y="825"/>
                  </a:lnTo>
                  <a:lnTo>
                    <a:pt x="205" y="829"/>
                  </a:lnTo>
                  <a:lnTo>
                    <a:pt x="196" y="831"/>
                  </a:lnTo>
                  <a:lnTo>
                    <a:pt x="188" y="832"/>
                  </a:lnTo>
                  <a:lnTo>
                    <a:pt x="181" y="834"/>
                  </a:lnTo>
                  <a:lnTo>
                    <a:pt x="173" y="838"/>
                  </a:lnTo>
                  <a:lnTo>
                    <a:pt x="166" y="840"/>
                  </a:lnTo>
                  <a:lnTo>
                    <a:pt x="158" y="842"/>
                  </a:lnTo>
                  <a:lnTo>
                    <a:pt x="150" y="844"/>
                  </a:lnTo>
                  <a:lnTo>
                    <a:pt x="143" y="848"/>
                  </a:lnTo>
                  <a:lnTo>
                    <a:pt x="135" y="850"/>
                  </a:lnTo>
                  <a:lnTo>
                    <a:pt x="127" y="851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7" y="853"/>
                  </a:lnTo>
                  <a:lnTo>
                    <a:pt x="99" y="853"/>
                  </a:lnTo>
                  <a:lnTo>
                    <a:pt x="93" y="853"/>
                  </a:lnTo>
                  <a:lnTo>
                    <a:pt x="88" y="853"/>
                  </a:lnTo>
                  <a:lnTo>
                    <a:pt x="93" y="850"/>
                  </a:lnTo>
                  <a:lnTo>
                    <a:pt x="99" y="844"/>
                  </a:lnTo>
                  <a:lnTo>
                    <a:pt x="107" y="840"/>
                  </a:lnTo>
                  <a:lnTo>
                    <a:pt x="114" y="836"/>
                  </a:lnTo>
                  <a:lnTo>
                    <a:pt x="122" y="832"/>
                  </a:lnTo>
                  <a:lnTo>
                    <a:pt x="131" y="827"/>
                  </a:lnTo>
                  <a:lnTo>
                    <a:pt x="139" y="825"/>
                  </a:lnTo>
                  <a:lnTo>
                    <a:pt x="148" y="821"/>
                  </a:lnTo>
                  <a:lnTo>
                    <a:pt x="158" y="817"/>
                  </a:lnTo>
                  <a:lnTo>
                    <a:pt x="167" y="815"/>
                  </a:lnTo>
                  <a:lnTo>
                    <a:pt x="177" y="812"/>
                  </a:lnTo>
                  <a:lnTo>
                    <a:pt x="186" y="810"/>
                  </a:lnTo>
                  <a:lnTo>
                    <a:pt x="194" y="808"/>
                  </a:lnTo>
                  <a:lnTo>
                    <a:pt x="204" y="808"/>
                  </a:lnTo>
                  <a:lnTo>
                    <a:pt x="213" y="808"/>
                  </a:lnTo>
                  <a:lnTo>
                    <a:pt x="223" y="808"/>
                  </a:lnTo>
                  <a:lnTo>
                    <a:pt x="219" y="798"/>
                  </a:lnTo>
                  <a:lnTo>
                    <a:pt x="215" y="793"/>
                  </a:lnTo>
                  <a:lnTo>
                    <a:pt x="209" y="787"/>
                  </a:lnTo>
                  <a:lnTo>
                    <a:pt x="205" y="783"/>
                  </a:lnTo>
                  <a:lnTo>
                    <a:pt x="200" y="779"/>
                  </a:lnTo>
                  <a:lnTo>
                    <a:pt x="196" y="777"/>
                  </a:lnTo>
                  <a:lnTo>
                    <a:pt x="188" y="774"/>
                  </a:lnTo>
                  <a:lnTo>
                    <a:pt x="185" y="774"/>
                  </a:lnTo>
                  <a:lnTo>
                    <a:pt x="177" y="772"/>
                  </a:lnTo>
                  <a:lnTo>
                    <a:pt x="169" y="772"/>
                  </a:lnTo>
                  <a:lnTo>
                    <a:pt x="162" y="772"/>
                  </a:lnTo>
                  <a:lnTo>
                    <a:pt x="156" y="774"/>
                  </a:lnTo>
                  <a:lnTo>
                    <a:pt x="148" y="774"/>
                  </a:lnTo>
                  <a:lnTo>
                    <a:pt x="141" y="775"/>
                  </a:lnTo>
                  <a:lnTo>
                    <a:pt x="133" y="777"/>
                  </a:lnTo>
                  <a:lnTo>
                    <a:pt x="126" y="781"/>
                  </a:lnTo>
                  <a:lnTo>
                    <a:pt x="116" y="781"/>
                  </a:lnTo>
                  <a:lnTo>
                    <a:pt x="108" y="785"/>
                  </a:lnTo>
                  <a:lnTo>
                    <a:pt x="99" y="787"/>
                  </a:lnTo>
                  <a:lnTo>
                    <a:pt x="93" y="791"/>
                  </a:lnTo>
                  <a:lnTo>
                    <a:pt x="84" y="793"/>
                  </a:lnTo>
                  <a:lnTo>
                    <a:pt x="76" y="794"/>
                  </a:lnTo>
                  <a:lnTo>
                    <a:pt x="67" y="796"/>
                  </a:lnTo>
                  <a:lnTo>
                    <a:pt x="59" y="800"/>
                  </a:lnTo>
                  <a:lnTo>
                    <a:pt x="51" y="800"/>
                  </a:lnTo>
                  <a:lnTo>
                    <a:pt x="44" y="804"/>
                  </a:lnTo>
                  <a:lnTo>
                    <a:pt x="34" y="804"/>
                  </a:lnTo>
                  <a:lnTo>
                    <a:pt x="29" y="806"/>
                  </a:lnTo>
                  <a:lnTo>
                    <a:pt x="21" y="806"/>
                  </a:lnTo>
                  <a:lnTo>
                    <a:pt x="13" y="808"/>
                  </a:lnTo>
                  <a:lnTo>
                    <a:pt x="6" y="808"/>
                  </a:lnTo>
                  <a:lnTo>
                    <a:pt x="0" y="808"/>
                  </a:lnTo>
                  <a:lnTo>
                    <a:pt x="8" y="800"/>
                  </a:lnTo>
                  <a:lnTo>
                    <a:pt x="19" y="794"/>
                  </a:lnTo>
                  <a:lnTo>
                    <a:pt x="29" y="789"/>
                  </a:lnTo>
                  <a:lnTo>
                    <a:pt x="40" y="785"/>
                  </a:lnTo>
                  <a:lnTo>
                    <a:pt x="50" y="779"/>
                  </a:lnTo>
                  <a:lnTo>
                    <a:pt x="61" y="777"/>
                  </a:lnTo>
                  <a:lnTo>
                    <a:pt x="69" y="775"/>
                  </a:lnTo>
                  <a:lnTo>
                    <a:pt x="74" y="774"/>
                  </a:lnTo>
                  <a:lnTo>
                    <a:pt x="80" y="772"/>
                  </a:lnTo>
                  <a:lnTo>
                    <a:pt x="88" y="770"/>
                  </a:lnTo>
                  <a:lnTo>
                    <a:pt x="93" y="768"/>
                  </a:lnTo>
                  <a:lnTo>
                    <a:pt x="99" y="766"/>
                  </a:lnTo>
                  <a:lnTo>
                    <a:pt x="105" y="762"/>
                  </a:lnTo>
                  <a:lnTo>
                    <a:pt x="110" y="762"/>
                  </a:lnTo>
                  <a:lnTo>
                    <a:pt x="116" y="758"/>
                  </a:lnTo>
                  <a:lnTo>
                    <a:pt x="122" y="758"/>
                  </a:lnTo>
                  <a:lnTo>
                    <a:pt x="129" y="755"/>
                  </a:lnTo>
                  <a:lnTo>
                    <a:pt x="135" y="753"/>
                  </a:lnTo>
                  <a:lnTo>
                    <a:pt x="145" y="747"/>
                  </a:lnTo>
                  <a:lnTo>
                    <a:pt x="158" y="741"/>
                  </a:lnTo>
                  <a:lnTo>
                    <a:pt x="167" y="734"/>
                  </a:lnTo>
                  <a:lnTo>
                    <a:pt x="179" y="728"/>
                  </a:lnTo>
                  <a:lnTo>
                    <a:pt x="171" y="724"/>
                  </a:lnTo>
                  <a:lnTo>
                    <a:pt x="164" y="724"/>
                  </a:lnTo>
                  <a:lnTo>
                    <a:pt x="158" y="724"/>
                  </a:lnTo>
                  <a:lnTo>
                    <a:pt x="152" y="726"/>
                  </a:lnTo>
                  <a:lnTo>
                    <a:pt x="145" y="726"/>
                  </a:lnTo>
                  <a:lnTo>
                    <a:pt x="139" y="726"/>
                  </a:lnTo>
                  <a:lnTo>
                    <a:pt x="133" y="728"/>
                  </a:lnTo>
                  <a:lnTo>
                    <a:pt x="126" y="730"/>
                  </a:lnTo>
                  <a:lnTo>
                    <a:pt x="120" y="732"/>
                  </a:lnTo>
                  <a:lnTo>
                    <a:pt x="112" y="732"/>
                  </a:lnTo>
                  <a:lnTo>
                    <a:pt x="107" y="734"/>
                  </a:lnTo>
                  <a:lnTo>
                    <a:pt x="99" y="734"/>
                  </a:lnTo>
                  <a:lnTo>
                    <a:pt x="93" y="734"/>
                  </a:lnTo>
                  <a:lnTo>
                    <a:pt x="88" y="734"/>
                  </a:lnTo>
                  <a:lnTo>
                    <a:pt x="80" y="734"/>
                  </a:lnTo>
                  <a:lnTo>
                    <a:pt x="74" y="734"/>
                  </a:lnTo>
                  <a:lnTo>
                    <a:pt x="74" y="730"/>
                  </a:lnTo>
                  <a:lnTo>
                    <a:pt x="74" y="728"/>
                  </a:lnTo>
                  <a:lnTo>
                    <a:pt x="82" y="724"/>
                  </a:lnTo>
                  <a:lnTo>
                    <a:pt x="89" y="722"/>
                  </a:lnTo>
                  <a:lnTo>
                    <a:pt x="99" y="718"/>
                  </a:lnTo>
                  <a:lnTo>
                    <a:pt x="107" y="716"/>
                  </a:lnTo>
                  <a:lnTo>
                    <a:pt x="114" y="713"/>
                  </a:lnTo>
                  <a:lnTo>
                    <a:pt x="124" y="711"/>
                  </a:lnTo>
                  <a:lnTo>
                    <a:pt x="131" y="709"/>
                  </a:lnTo>
                  <a:lnTo>
                    <a:pt x="141" y="707"/>
                  </a:lnTo>
                  <a:lnTo>
                    <a:pt x="148" y="703"/>
                  </a:lnTo>
                  <a:lnTo>
                    <a:pt x="158" y="701"/>
                  </a:lnTo>
                  <a:lnTo>
                    <a:pt x="166" y="699"/>
                  </a:lnTo>
                  <a:lnTo>
                    <a:pt x="175" y="697"/>
                  </a:lnTo>
                  <a:lnTo>
                    <a:pt x="185" y="696"/>
                  </a:lnTo>
                  <a:lnTo>
                    <a:pt x="192" y="694"/>
                  </a:lnTo>
                  <a:lnTo>
                    <a:pt x="200" y="692"/>
                  </a:lnTo>
                  <a:lnTo>
                    <a:pt x="209" y="692"/>
                  </a:lnTo>
                  <a:lnTo>
                    <a:pt x="204" y="686"/>
                  </a:lnTo>
                  <a:lnTo>
                    <a:pt x="196" y="680"/>
                  </a:lnTo>
                  <a:lnTo>
                    <a:pt x="188" y="678"/>
                  </a:lnTo>
                  <a:lnTo>
                    <a:pt x="181" y="678"/>
                  </a:lnTo>
                  <a:lnTo>
                    <a:pt x="171" y="677"/>
                  </a:lnTo>
                  <a:lnTo>
                    <a:pt x="162" y="677"/>
                  </a:lnTo>
                  <a:lnTo>
                    <a:pt x="154" y="678"/>
                  </a:lnTo>
                  <a:lnTo>
                    <a:pt x="145" y="680"/>
                  </a:lnTo>
                  <a:lnTo>
                    <a:pt x="135" y="680"/>
                  </a:lnTo>
                  <a:lnTo>
                    <a:pt x="127" y="682"/>
                  </a:lnTo>
                  <a:lnTo>
                    <a:pt x="118" y="684"/>
                  </a:lnTo>
                  <a:lnTo>
                    <a:pt x="110" y="686"/>
                  </a:lnTo>
                  <a:lnTo>
                    <a:pt x="99" y="686"/>
                  </a:lnTo>
                  <a:lnTo>
                    <a:pt x="89" y="688"/>
                  </a:lnTo>
                  <a:lnTo>
                    <a:pt x="82" y="688"/>
                  </a:lnTo>
                  <a:lnTo>
                    <a:pt x="74" y="688"/>
                  </a:lnTo>
                  <a:lnTo>
                    <a:pt x="76" y="678"/>
                  </a:lnTo>
                  <a:lnTo>
                    <a:pt x="80" y="671"/>
                  </a:lnTo>
                  <a:lnTo>
                    <a:pt x="84" y="663"/>
                  </a:lnTo>
                  <a:lnTo>
                    <a:pt x="89" y="658"/>
                  </a:lnTo>
                  <a:lnTo>
                    <a:pt x="97" y="652"/>
                  </a:lnTo>
                  <a:lnTo>
                    <a:pt x="105" y="648"/>
                  </a:lnTo>
                  <a:lnTo>
                    <a:pt x="112" y="644"/>
                  </a:lnTo>
                  <a:lnTo>
                    <a:pt x="122" y="640"/>
                  </a:lnTo>
                  <a:lnTo>
                    <a:pt x="129" y="639"/>
                  </a:lnTo>
                  <a:lnTo>
                    <a:pt x="139" y="635"/>
                  </a:lnTo>
                  <a:lnTo>
                    <a:pt x="148" y="631"/>
                  </a:lnTo>
                  <a:lnTo>
                    <a:pt x="158" y="629"/>
                  </a:lnTo>
                  <a:lnTo>
                    <a:pt x="166" y="625"/>
                  </a:lnTo>
                  <a:lnTo>
                    <a:pt x="175" y="623"/>
                  </a:lnTo>
                  <a:lnTo>
                    <a:pt x="185" y="621"/>
                  </a:lnTo>
                  <a:lnTo>
                    <a:pt x="194" y="620"/>
                  </a:lnTo>
                  <a:lnTo>
                    <a:pt x="194" y="616"/>
                  </a:lnTo>
                  <a:lnTo>
                    <a:pt x="194" y="614"/>
                  </a:lnTo>
                  <a:lnTo>
                    <a:pt x="185" y="610"/>
                  </a:lnTo>
                  <a:lnTo>
                    <a:pt x="177" y="608"/>
                  </a:lnTo>
                  <a:lnTo>
                    <a:pt x="167" y="608"/>
                  </a:lnTo>
                  <a:lnTo>
                    <a:pt x="160" y="608"/>
                  </a:lnTo>
                  <a:lnTo>
                    <a:pt x="150" y="608"/>
                  </a:lnTo>
                  <a:lnTo>
                    <a:pt x="141" y="608"/>
                  </a:lnTo>
                  <a:lnTo>
                    <a:pt x="131" y="606"/>
                  </a:lnTo>
                  <a:lnTo>
                    <a:pt x="124" y="604"/>
                  </a:lnTo>
                  <a:lnTo>
                    <a:pt x="127" y="595"/>
                  </a:lnTo>
                  <a:lnTo>
                    <a:pt x="133" y="587"/>
                  </a:lnTo>
                  <a:lnTo>
                    <a:pt x="141" y="580"/>
                  </a:lnTo>
                  <a:lnTo>
                    <a:pt x="148" y="574"/>
                  </a:lnTo>
                  <a:lnTo>
                    <a:pt x="154" y="566"/>
                  </a:lnTo>
                  <a:lnTo>
                    <a:pt x="164" y="559"/>
                  </a:lnTo>
                  <a:lnTo>
                    <a:pt x="171" y="551"/>
                  </a:lnTo>
                  <a:lnTo>
                    <a:pt x="181" y="545"/>
                  </a:lnTo>
                  <a:lnTo>
                    <a:pt x="188" y="538"/>
                  </a:lnTo>
                  <a:lnTo>
                    <a:pt x="198" y="530"/>
                  </a:lnTo>
                  <a:lnTo>
                    <a:pt x="205" y="523"/>
                  </a:lnTo>
                  <a:lnTo>
                    <a:pt x="213" y="515"/>
                  </a:lnTo>
                  <a:lnTo>
                    <a:pt x="217" y="505"/>
                  </a:lnTo>
                  <a:lnTo>
                    <a:pt x="224" y="500"/>
                  </a:lnTo>
                  <a:lnTo>
                    <a:pt x="228" y="490"/>
                  </a:lnTo>
                  <a:lnTo>
                    <a:pt x="234" y="483"/>
                  </a:lnTo>
                  <a:lnTo>
                    <a:pt x="223" y="483"/>
                  </a:lnTo>
                  <a:lnTo>
                    <a:pt x="211" y="485"/>
                  </a:lnTo>
                  <a:lnTo>
                    <a:pt x="200" y="486"/>
                  </a:lnTo>
                  <a:lnTo>
                    <a:pt x="190" y="492"/>
                  </a:lnTo>
                  <a:lnTo>
                    <a:pt x="181" y="498"/>
                  </a:lnTo>
                  <a:lnTo>
                    <a:pt x="171" y="504"/>
                  </a:lnTo>
                  <a:lnTo>
                    <a:pt x="162" y="511"/>
                  </a:lnTo>
                  <a:lnTo>
                    <a:pt x="152" y="517"/>
                  </a:lnTo>
                  <a:lnTo>
                    <a:pt x="141" y="523"/>
                  </a:lnTo>
                  <a:lnTo>
                    <a:pt x="131" y="528"/>
                  </a:lnTo>
                  <a:lnTo>
                    <a:pt x="122" y="534"/>
                  </a:lnTo>
                  <a:lnTo>
                    <a:pt x="112" y="540"/>
                  </a:lnTo>
                  <a:lnTo>
                    <a:pt x="103" y="543"/>
                  </a:lnTo>
                  <a:lnTo>
                    <a:pt x="93" y="547"/>
                  </a:lnTo>
                  <a:lnTo>
                    <a:pt x="84" y="551"/>
                  </a:lnTo>
                  <a:lnTo>
                    <a:pt x="74" y="553"/>
                  </a:lnTo>
                  <a:lnTo>
                    <a:pt x="74" y="547"/>
                  </a:lnTo>
                  <a:lnTo>
                    <a:pt x="76" y="542"/>
                  </a:lnTo>
                  <a:lnTo>
                    <a:pt x="78" y="536"/>
                  </a:lnTo>
                  <a:lnTo>
                    <a:pt x="82" y="532"/>
                  </a:lnTo>
                  <a:lnTo>
                    <a:pt x="88" y="523"/>
                  </a:lnTo>
                  <a:lnTo>
                    <a:pt x="97" y="515"/>
                  </a:lnTo>
                  <a:lnTo>
                    <a:pt x="105" y="509"/>
                  </a:lnTo>
                  <a:lnTo>
                    <a:pt x="114" y="502"/>
                  </a:lnTo>
                  <a:lnTo>
                    <a:pt x="126" y="496"/>
                  </a:lnTo>
                  <a:lnTo>
                    <a:pt x="135" y="492"/>
                  </a:lnTo>
                  <a:lnTo>
                    <a:pt x="145" y="485"/>
                  </a:lnTo>
                  <a:lnTo>
                    <a:pt x="154" y="481"/>
                  </a:lnTo>
                  <a:lnTo>
                    <a:pt x="164" y="475"/>
                  </a:lnTo>
                  <a:lnTo>
                    <a:pt x="173" y="469"/>
                  </a:lnTo>
                  <a:lnTo>
                    <a:pt x="179" y="464"/>
                  </a:lnTo>
                  <a:lnTo>
                    <a:pt x="186" y="458"/>
                  </a:lnTo>
                  <a:lnTo>
                    <a:pt x="190" y="450"/>
                  </a:lnTo>
                  <a:lnTo>
                    <a:pt x="194" y="445"/>
                  </a:lnTo>
                  <a:lnTo>
                    <a:pt x="186" y="447"/>
                  </a:lnTo>
                  <a:lnTo>
                    <a:pt x="179" y="448"/>
                  </a:lnTo>
                  <a:lnTo>
                    <a:pt x="171" y="450"/>
                  </a:lnTo>
                  <a:lnTo>
                    <a:pt x="166" y="454"/>
                  </a:lnTo>
                  <a:lnTo>
                    <a:pt x="158" y="456"/>
                  </a:lnTo>
                  <a:lnTo>
                    <a:pt x="152" y="458"/>
                  </a:lnTo>
                  <a:lnTo>
                    <a:pt x="145" y="460"/>
                  </a:lnTo>
                  <a:lnTo>
                    <a:pt x="139" y="464"/>
                  </a:lnTo>
                  <a:lnTo>
                    <a:pt x="129" y="466"/>
                  </a:lnTo>
                  <a:lnTo>
                    <a:pt x="122" y="467"/>
                  </a:lnTo>
                  <a:lnTo>
                    <a:pt x="114" y="469"/>
                  </a:lnTo>
                  <a:lnTo>
                    <a:pt x="108" y="473"/>
                  </a:lnTo>
                  <a:lnTo>
                    <a:pt x="99" y="475"/>
                  </a:lnTo>
                  <a:lnTo>
                    <a:pt x="93" y="479"/>
                  </a:lnTo>
                  <a:lnTo>
                    <a:pt x="86" y="483"/>
                  </a:lnTo>
                  <a:lnTo>
                    <a:pt x="78" y="486"/>
                  </a:lnTo>
                  <a:lnTo>
                    <a:pt x="76" y="485"/>
                  </a:lnTo>
                  <a:lnTo>
                    <a:pt x="82" y="475"/>
                  </a:lnTo>
                  <a:lnTo>
                    <a:pt x="88" y="467"/>
                  </a:lnTo>
                  <a:lnTo>
                    <a:pt x="95" y="460"/>
                  </a:lnTo>
                  <a:lnTo>
                    <a:pt x="105" y="454"/>
                  </a:lnTo>
                  <a:lnTo>
                    <a:pt x="112" y="448"/>
                  </a:lnTo>
                  <a:lnTo>
                    <a:pt x="122" y="443"/>
                  </a:lnTo>
                  <a:lnTo>
                    <a:pt x="131" y="439"/>
                  </a:lnTo>
                  <a:lnTo>
                    <a:pt x="141" y="437"/>
                  </a:lnTo>
                  <a:lnTo>
                    <a:pt x="150" y="431"/>
                  </a:lnTo>
                  <a:lnTo>
                    <a:pt x="158" y="428"/>
                  </a:lnTo>
                  <a:lnTo>
                    <a:pt x="166" y="422"/>
                  </a:lnTo>
                  <a:lnTo>
                    <a:pt x="173" y="416"/>
                  </a:lnTo>
                  <a:lnTo>
                    <a:pt x="179" y="410"/>
                  </a:lnTo>
                  <a:lnTo>
                    <a:pt x="186" y="403"/>
                  </a:lnTo>
                  <a:lnTo>
                    <a:pt x="190" y="395"/>
                  </a:lnTo>
                  <a:lnTo>
                    <a:pt x="194" y="388"/>
                  </a:lnTo>
                  <a:lnTo>
                    <a:pt x="185" y="391"/>
                  </a:lnTo>
                  <a:lnTo>
                    <a:pt x="175" y="393"/>
                  </a:lnTo>
                  <a:lnTo>
                    <a:pt x="164" y="395"/>
                  </a:lnTo>
                  <a:lnTo>
                    <a:pt x="154" y="395"/>
                  </a:lnTo>
                  <a:lnTo>
                    <a:pt x="143" y="395"/>
                  </a:lnTo>
                  <a:lnTo>
                    <a:pt x="131" y="395"/>
                  </a:lnTo>
                  <a:lnTo>
                    <a:pt x="120" y="393"/>
                  </a:lnTo>
                  <a:lnTo>
                    <a:pt x="110" y="395"/>
                  </a:lnTo>
                  <a:lnTo>
                    <a:pt x="118" y="388"/>
                  </a:lnTo>
                  <a:lnTo>
                    <a:pt x="126" y="384"/>
                  </a:lnTo>
                  <a:lnTo>
                    <a:pt x="131" y="376"/>
                  </a:lnTo>
                  <a:lnTo>
                    <a:pt x="139" y="372"/>
                  </a:lnTo>
                  <a:lnTo>
                    <a:pt x="145" y="365"/>
                  </a:lnTo>
                  <a:lnTo>
                    <a:pt x="150" y="359"/>
                  </a:lnTo>
                  <a:lnTo>
                    <a:pt x="156" y="353"/>
                  </a:lnTo>
                  <a:lnTo>
                    <a:pt x="162" y="348"/>
                  </a:lnTo>
                  <a:lnTo>
                    <a:pt x="167" y="340"/>
                  </a:lnTo>
                  <a:lnTo>
                    <a:pt x="171" y="332"/>
                  </a:lnTo>
                  <a:lnTo>
                    <a:pt x="175" y="325"/>
                  </a:lnTo>
                  <a:lnTo>
                    <a:pt x="179" y="319"/>
                  </a:lnTo>
                  <a:lnTo>
                    <a:pt x="183" y="312"/>
                  </a:lnTo>
                  <a:lnTo>
                    <a:pt x="186" y="304"/>
                  </a:lnTo>
                  <a:lnTo>
                    <a:pt x="190" y="296"/>
                  </a:lnTo>
                  <a:lnTo>
                    <a:pt x="194" y="291"/>
                  </a:lnTo>
                  <a:lnTo>
                    <a:pt x="196" y="281"/>
                  </a:lnTo>
                  <a:lnTo>
                    <a:pt x="200" y="274"/>
                  </a:lnTo>
                  <a:lnTo>
                    <a:pt x="202" y="266"/>
                  </a:lnTo>
                  <a:lnTo>
                    <a:pt x="205" y="258"/>
                  </a:lnTo>
                  <a:lnTo>
                    <a:pt x="207" y="249"/>
                  </a:lnTo>
                  <a:lnTo>
                    <a:pt x="209" y="241"/>
                  </a:lnTo>
                  <a:lnTo>
                    <a:pt x="213" y="236"/>
                  </a:lnTo>
                  <a:lnTo>
                    <a:pt x="215" y="228"/>
                  </a:lnTo>
                  <a:lnTo>
                    <a:pt x="217" y="218"/>
                  </a:lnTo>
                  <a:lnTo>
                    <a:pt x="219" y="211"/>
                  </a:lnTo>
                  <a:lnTo>
                    <a:pt x="221" y="203"/>
                  </a:lnTo>
                  <a:lnTo>
                    <a:pt x="224" y="196"/>
                  </a:lnTo>
                  <a:lnTo>
                    <a:pt x="226" y="186"/>
                  </a:lnTo>
                  <a:lnTo>
                    <a:pt x="228" y="180"/>
                  </a:lnTo>
                  <a:lnTo>
                    <a:pt x="230" y="171"/>
                  </a:lnTo>
                  <a:lnTo>
                    <a:pt x="234" y="165"/>
                  </a:lnTo>
                  <a:lnTo>
                    <a:pt x="236" y="171"/>
                  </a:lnTo>
                  <a:lnTo>
                    <a:pt x="238" y="177"/>
                  </a:lnTo>
                  <a:lnTo>
                    <a:pt x="240" y="182"/>
                  </a:lnTo>
                  <a:lnTo>
                    <a:pt x="242" y="190"/>
                  </a:lnTo>
                  <a:lnTo>
                    <a:pt x="242" y="197"/>
                  </a:lnTo>
                  <a:lnTo>
                    <a:pt x="242" y="207"/>
                  </a:lnTo>
                  <a:lnTo>
                    <a:pt x="240" y="213"/>
                  </a:lnTo>
                  <a:lnTo>
                    <a:pt x="238" y="222"/>
                  </a:lnTo>
                  <a:lnTo>
                    <a:pt x="236" y="230"/>
                  </a:lnTo>
                  <a:lnTo>
                    <a:pt x="234" y="239"/>
                  </a:lnTo>
                  <a:lnTo>
                    <a:pt x="232" y="247"/>
                  </a:lnTo>
                  <a:lnTo>
                    <a:pt x="230" y="256"/>
                  </a:lnTo>
                  <a:lnTo>
                    <a:pt x="226" y="264"/>
                  </a:lnTo>
                  <a:lnTo>
                    <a:pt x="226" y="272"/>
                  </a:lnTo>
                  <a:lnTo>
                    <a:pt x="224" y="277"/>
                  </a:lnTo>
                  <a:lnTo>
                    <a:pt x="223" y="285"/>
                  </a:lnTo>
                  <a:lnTo>
                    <a:pt x="224" y="287"/>
                  </a:lnTo>
                  <a:lnTo>
                    <a:pt x="228" y="291"/>
                  </a:lnTo>
                  <a:lnTo>
                    <a:pt x="236" y="283"/>
                  </a:lnTo>
                  <a:lnTo>
                    <a:pt x="245" y="277"/>
                  </a:lnTo>
                  <a:lnTo>
                    <a:pt x="251" y="272"/>
                  </a:lnTo>
                  <a:lnTo>
                    <a:pt x="259" y="264"/>
                  </a:lnTo>
                  <a:lnTo>
                    <a:pt x="262" y="255"/>
                  </a:lnTo>
                  <a:lnTo>
                    <a:pt x="268" y="247"/>
                  </a:lnTo>
                  <a:lnTo>
                    <a:pt x="272" y="237"/>
                  </a:lnTo>
                  <a:lnTo>
                    <a:pt x="278" y="228"/>
                  </a:lnTo>
                  <a:lnTo>
                    <a:pt x="280" y="218"/>
                  </a:lnTo>
                  <a:lnTo>
                    <a:pt x="283" y="209"/>
                  </a:lnTo>
                  <a:lnTo>
                    <a:pt x="287" y="199"/>
                  </a:lnTo>
                  <a:lnTo>
                    <a:pt x="291" y="190"/>
                  </a:lnTo>
                  <a:lnTo>
                    <a:pt x="293" y="180"/>
                  </a:lnTo>
                  <a:lnTo>
                    <a:pt x="297" y="171"/>
                  </a:lnTo>
                  <a:lnTo>
                    <a:pt x="301" y="161"/>
                  </a:lnTo>
                  <a:lnTo>
                    <a:pt x="308" y="154"/>
                  </a:lnTo>
                  <a:lnTo>
                    <a:pt x="314" y="154"/>
                  </a:lnTo>
                  <a:lnTo>
                    <a:pt x="314" y="159"/>
                  </a:lnTo>
                  <a:lnTo>
                    <a:pt x="316" y="165"/>
                  </a:lnTo>
                  <a:lnTo>
                    <a:pt x="318" y="173"/>
                  </a:lnTo>
                  <a:lnTo>
                    <a:pt x="318" y="178"/>
                  </a:lnTo>
                  <a:lnTo>
                    <a:pt x="318" y="184"/>
                  </a:lnTo>
                  <a:lnTo>
                    <a:pt x="318" y="190"/>
                  </a:lnTo>
                  <a:lnTo>
                    <a:pt x="318" y="196"/>
                  </a:lnTo>
                  <a:lnTo>
                    <a:pt x="318" y="203"/>
                  </a:lnTo>
                  <a:lnTo>
                    <a:pt x="316" y="213"/>
                  </a:lnTo>
                  <a:lnTo>
                    <a:pt x="314" y="226"/>
                  </a:lnTo>
                  <a:lnTo>
                    <a:pt x="312" y="230"/>
                  </a:lnTo>
                  <a:lnTo>
                    <a:pt x="310" y="237"/>
                  </a:lnTo>
                  <a:lnTo>
                    <a:pt x="310" y="241"/>
                  </a:lnTo>
                  <a:lnTo>
                    <a:pt x="308" y="249"/>
                  </a:lnTo>
                  <a:lnTo>
                    <a:pt x="302" y="258"/>
                  </a:lnTo>
                  <a:lnTo>
                    <a:pt x="301" y="272"/>
                  </a:lnTo>
                  <a:lnTo>
                    <a:pt x="295" y="281"/>
                  </a:lnTo>
                  <a:lnTo>
                    <a:pt x="291" y="293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83" y="321"/>
                  </a:lnTo>
                  <a:lnTo>
                    <a:pt x="283" y="327"/>
                  </a:lnTo>
                  <a:lnTo>
                    <a:pt x="283" y="332"/>
                  </a:lnTo>
                  <a:lnTo>
                    <a:pt x="283" y="340"/>
                  </a:lnTo>
                  <a:lnTo>
                    <a:pt x="293" y="336"/>
                  </a:lnTo>
                  <a:lnTo>
                    <a:pt x="302" y="332"/>
                  </a:lnTo>
                  <a:lnTo>
                    <a:pt x="310" y="327"/>
                  </a:lnTo>
                  <a:lnTo>
                    <a:pt x="320" y="319"/>
                  </a:lnTo>
                  <a:lnTo>
                    <a:pt x="325" y="310"/>
                  </a:lnTo>
                  <a:lnTo>
                    <a:pt x="333" y="300"/>
                  </a:lnTo>
                  <a:lnTo>
                    <a:pt x="339" y="291"/>
                  </a:lnTo>
                  <a:lnTo>
                    <a:pt x="346" y="279"/>
                  </a:lnTo>
                  <a:lnTo>
                    <a:pt x="348" y="274"/>
                  </a:lnTo>
                  <a:lnTo>
                    <a:pt x="350" y="266"/>
                  </a:lnTo>
                  <a:lnTo>
                    <a:pt x="352" y="260"/>
                  </a:lnTo>
                  <a:lnTo>
                    <a:pt x="356" y="255"/>
                  </a:lnTo>
                  <a:lnTo>
                    <a:pt x="358" y="249"/>
                  </a:lnTo>
                  <a:lnTo>
                    <a:pt x="359" y="241"/>
                  </a:lnTo>
                  <a:lnTo>
                    <a:pt x="361" y="236"/>
                  </a:lnTo>
                  <a:lnTo>
                    <a:pt x="365" y="230"/>
                  </a:lnTo>
                  <a:lnTo>
                    <a:pt x="365" y="224"/>
                  </a:lnTo>
                  <a:lnTo>
                    <a:pt x="369" y="218"/>
                  </a:lnTo>
                  <a:lnTo>
                    <a:pt x="371" y="213"/>
                  </a:lnTo>
                  <a:lnTo>
                    <a:pt x="373" y="207"/>
                  </a:lnTo>
                  <a:lnTo>
                    <a:pt x="377" y="196"/>
                  </a:lnTo>
                  <a:lnTo>
                    <a:pt x="382" y="188"/>
                  </a:lnTo>
                  <a:lnTo>
                    <a:pt x="390" y="190"/>
                  </a:lnTo>
                  <a:lnTo>
                    <a:pt x="397" y="194"/>
                  </a:lnTo>
                  <a:lnTo>
                    <a:pt x="401" y="199"/>
                  </a:lnTo>
                  <a:lnTo>
                    <a:pt x="405" y="207"/>
                  </a:lnTo>
                  <a:lnTo>
                    <a:pt x="407" y="213"/>
                  </a:lnTo>
                  <a:lnTo>
                    <a:pt x="407" y="220"/>
                  </a:lnTo>
                  <a:lnTo>
                    <a:pt x="407" y="230"/>
                  </a:lnTo>
                  <a:lnTo>
                    <a:pt x="405" y="239"/>
                  </a:lnTo>
                  <a:lnTo>
                    <a:pt x="401" y="249"/>
                  </a:lnTo>
                  <a:lnTo>
                    <a:pt x="399" y="260"/>
                  </a:lnTo>
                  <a:lnTo>
                    <a:pt x="394" y="272"/>
                  </a:lnTo>
                  <a:lnTo>
                    <a:pt x="390" y="283"/>
                  </a:lnTo>
                  <a:lnTo>
                    <a:pt x="384" y="293"/>
                  </a:lnTo>
                  <a:lnTo>
                    <a:pt x="380" y="304"/>
                  </a:lnTo>
                  <a:lnTo>
                    <a:pt x="377" y="310"/>
                  </a:lnTo>
                  <a:lnTo>
                    <a:pt x="375" y="317"/>
                  </a:lnTo>
                  <a:lnTo>
                    <a:pt x="373" y="321"/>
                  </a:lnTo>
                  <a:lnTo>
                    <a:pt x="371" y="329"/>
                  </a:lnTo>
                  <a:lnTo>
                    <a:pt x="363" y="338"/>
                  </a:lnTo>
                  <a:lnTo>
                    <a:pt x="358" y="348"/>
                  </a:lnTo>
                  <a:lnTo>
                    <a:pt x="354" y="355"/>
                  </a:lnTo>
                  <a:lnTo>
                    <a:pt x="350" y="365"/>
                  </a:lnTo>
                  <a:lnTo>
                    <a:pt x="346" y="372"/>
                  </a:lnTo>
                  <a:lnTo>
                    <a:pt x="344" y="380"/>
                  </a:lnTo>
                  <a:lnTo>
                    <a:pt x="342" y="386"/>
                  </a:lnTo>
                  <a:lnTo>
                    <a:pt x="342" y="391"/>
                  </a:lnTo>
                  <a:lnTo>
                    <a:pt x="344" y="397"/>
                  </a:lnTo>
                  <a:lnTo>
                    <a:pt x="354" y="399"/>
                  </a:lnTo>
                  <a:lnTo>
                    <a:pt x="358" y="395"/>
                  </a:lnTo>
                  <a:lnTo>
                    <a:pt x="367" y="393"/>
                  </a:lnTo>
                  <a:lnTo>
                    <a:pt x="373" y="390"/>
                  </a:lnTo>
                  <a:lnTo>
                    <a:pt x="377" y="386"/>
                  </a:lnTo>
                  <a:lnTo>
                    <a:pt x="384" y="384"/>
                  </a:lnTo>
                  <a:lnTo>
                    <a:pt x="392" y="380"/>
                  </a:lnTo>
                  <a:lnTo>
                    <a:pt x="397" y="369"/>
                  </a:lnTo>
                  <a:lnTo>
                    <a:pt x="401" y="359"/>
                  </a:lnTo>
                  <a:lnTo>
                    <a:pt x="407" y="350"/>
                  </a:lnTo>
                  <a:lnTo>
                    <a:pt x="413" y="340"/>
                  </a:lnTo>
                  <a:lnTo>
                    <a:pt x="418" y="329"/>
                  </a:lnTo>
                  <a:lnTo>
                    <a:pt x="426" y="319"/>
                  </a:lnTo>
                  <a:lnTo>
                    <a:pt x="432" y="310"/>
                  </a:lnTo>
                  <a:lnTo>
                    <a:pt x="437" y="300"/>
                  </a:lnTo>
                  <a:lnTo>
                    <a:pt x="445" y="289"/>
                  </a:lnTo>
                  <a:lnTo>
                    <a:pt x="451" y="279"/>
                  </a:lnTo>
                  <a:lnTo>
                    <a:pt x="458" y="270"/>
                  </a:lnTo>
                  <a:lnTo>
                    <a:pt x="466" y="260"/>
                  </a:lnTo>
                  <a:lnTo>
                    <a:pt x="474" y="251"/>
                  </a:lnTo>
                  <a:lnTo>
                    <a:pt x="481" y="241"/>
                  </a:lnTo>
                  <a:lnTo>
                    <a:pt x="489" y="232"/>
                  </a:lnTo>
                  <a:lnTo>
                    <a:pt x="498" y="226"/>
                  </a:lnTo>
                  <a:lnTo>
                    <a:pt x="498" y="232"/>
                  </a:lnTo>
                  <a:lnTo>
                    <a:pt x="498" y="241"/>
                  </a:lnTo>
                  <a:lnTo>
                    <a:pt x="496" y="249"/>
                  </a:lnTo>
                  <a:lnTo>
                    <a:pt x="494" y="258"/>
                  </a:lnTo>
                  <a:lnTo>
                    <a:pt x="493" y="266"/>
                  </a:lnTo>
                  <a:lnTo>
                    <a:pt x="491" y="274"/>
                  </a:lnTo>
                  <a:lnTo>
                    <a:pt x="487" y="283"/>
                  </a:lnTo>
                  <a:lnTo>
                    <a:pt x="483" y="291"/>
                  </a:lnTo>
                  <a:lnTo>
                    <a:pt x="477" y="298"/>
                  </a:lnTo>
                  <a:lnTo>
                    <a:pt x="474" y="308"/>
                  </a:lnTo>
                  <a:lnTo>
                    <a:pt x="470" y="313"/>
                  </a:lnTo>
                  <a:lnTo>
                    <a:pt x="466" y="323"/>
                  </a:lnTo>
                  <a:lnTo>
                    <a:pt x="460" y="331"/>
                  </a:lnTo>
                  <a:lnTo>
                    <a:pt x="454" y="340"/>
                  </a:lnTo>
                  <a:lnTo>
                    <a:pt x="449" y="348"/>
                  </a:lnTo>
                  <a:lnTo>
                    <a:pt x="445" y="357"/>
                  </a:lnTo>
                  <a:lnTo>
                    <a:pt x="439" y="365"/>
                  </a:lnTo>
                  <a:lnTo>
                    <a:pt x="435" y="372"/>
                  </a:lnTo>
                  <a:lnTo>
                    <a:pt x="430" y="380"/>
                  </a:lnTo>
                  <a:lnTo>
                    <a:pt x="426" y="390"/>
                  </a:lnTo>
                  <a:lnTo>
                    <a:pt x="420" y="397"/>
                  </a:lnTo>
                  <a:lnTo>
                    <a:pt x="416" y="405"/>
                  </a:lnTo>
                  <a:lnTo>
                    <a:pt x="413" y="412"/>
                  </a:lnTo>
                  <a:lnTo>
                    <a:pt x="411" y="422"/>
                  </a:lnTo>
                  <a:lnTo>
                    <a:pt x="407" y="429"/>
                  </a:lnTo>
                  <a:lnTo>
                    <a:pt x="403" y="439"/>
                  </a:lnTo>
                  <a:lnTo>
                    <a:pt x="401" y="447"/>
                  </a:lnTo>
                  <a:lnTo>
                    <a:pt x="401" y="456"/>
                  </a:lnTo>
                  <a:lnTo>
                    <a:pt x="401" y="466"/>
                  </a:lnTo>
                  <a:lnTo>
                    <a:pt x="403" y="473"/>
                  </a:lnTo>
                  <a:lnTo>
                    <a:pt x="403" y="483"/>
                  </a:lnTo>
                  <a:lnTo>
                    <a:pt x="407" y="492"/>
                  </a:lnTo>
                  <a:lnTo>
                    <a:pt x="409" y="485"/>
                  </a:lnTo>
                  <a:lnTo>
                    <a:pt x="413" y="479"/>
                  </a:lnTo>
                  <a:lnTo>
                    <a:pt x="416" y="471"/>
                  </a:lnTo>
                  <a:lnTo>
                    <a:pt x="420" y="464"/>
                  </a:lnTo>
                  <a:lnTo>
                    <a:pt x="426" y="456"/>
                  </a:lnTo>
                  <a:lnTo>
                    <a:pt x="430" y="447"/>
                  </a:lnTo>
                  <a:lnTo>
                    <a:pt x="435" y="439"/>
                  </a:lnTo>
                  <a:lnTo>
                    <a:pt x="441" y="429"/>
                  </a:lnTo>
                  <a:lnTo>
                    <a:pt x="447" y="420"/>
                  </a:lnTo>
                  <a:lnTo>
                    <a:pt x="453" y="412"/>
                  </a:lnTo>
                  <a:lnTo>
                    <a:pt x="458" y="403"/>
                  </a:lnTo>
                  <a:lnTo>
                    <a:pt x="464" y="395"/>
                  </a:lnTo>
                  <a:lnTo>
                    <a:pt x="470" y="388"/>
                  </a:lnTo>
                  <a:lnTo>
                    <a:pt x="475" y="380"/>
                  </a:lnTo>
                  <a:lnTo>
                    <a:pt x="481" y="374"/>
                  </a:lnTo>
                  <a:lnTo>
                    <a:pt x="487" y="369"/>
                  </a:lnTo>
                  <a:lnTo>
                    <a:pt x="493" y="363"/>
                  </a:lnTo>
                  <a:lnTo>
                    <a:pt x="496" y="357"/>
                  </a:lnTo>
                  <a:lnTo>
                    <a:pt x="500" y="353"/>
                  </a:lnTo>
                  <a:lnTo>
                    <a:pt x="504" y="350"/>
                  </a:lnTo>
                  <a:lnTo>
                    <a:pt x="512" y="346"/>
                  </a:lnTo>
                  <a:lnTo>
                    <a:pt x="515" y="350"/>
                  </a:lnTo>
                  <a:lnTo>
                    <a:pt x="515" y="351"/>
                  </a:lnTo>
                  <a:lnTo>
                    <a:pt x="515" y="355"/>
                  </a:lnTo>
                  <a:lnTo>
                    <a:pt x="513" y="363"/>
                  </a:lnTo>
                  <a:lnTo>
                    <a:pt x="513" y="369"/>
                  </a:lnTo>
                  <a:lnTo>
                    <a:pt x="510" y="378"/>
                  </a:lnTo>
                  <a:lnTo>
                    <a:pt x="506" y="390"/>
                  </a:lnTo>
                  <a:lnTo>
                    <a:pt x="504" y="395"/>
                  </a:lnTo>
                  <a:lnTo>
                    <a:pt x="502" y="403"/>
                  </a:lnTo>
                  <a:lnTo>
                    <a:pt x="498" y="410"/>
                  </a:lnTo>
                  <a:lnTo>
                    <a:pt x="496" y="420"/>
                  </a:lnTo>
                  <a:lnTo>
                    <a:pt x="489" y="429"/>
                  </a:lnTo>
                  <a:lnTo>
                    <a:pt x="481" y="441"/>
                  </a:lnTo>
                  <a:lnTo>
                    <a:pt x="474" y="450"/>
                  </a:lnTo>
                  <a:lnTo>
                    <a:pt x="466" y="462"/>
                  </a:lnTo>
                  <a:lnTo>
                    <a:pt x="464" y="467"/>
                  </a:lnTo>
                  <a:lnTo>
                    <a:pt x="460" y="473"/>
                  </a:lnTo>
                  <a:lnTo>
                    <a:pt x="456" y="479"/>
                  </a:lnTo>
                  <a:lnTo>
                    <a:pt x="456" y="486"/>
                  </a:lnTo>
                  <a:lnTo>
                    <a:pt x="454" y="492"/>
                  </a:lnTo>
                  <a:lnTo>
                    <a:pt x="454" y="500"/>
                  </a:lnTo>
                  <a:lnTo>
                    <a:pt x="454" y="505"/>
                  </a:lnTo>
                  <a:lnTo>
                    <a:pt x="456" y="513"/>
                  </a:lnTo>
                  <a:lnTo>
                    <a:pt x="458" y="513"/>
                  </a:lnTo>
                  <a:lnTo>
                    <a:pt x="462" y="513"/>
                  </a:lnTo>
                  <a:lnTo>
                    <a:pt x="472" y="504"/>
                  </a:lnTo>
                  <a:lnTo>
                    <a:pt x="483" y="492"/>
                  </a:lnTo>
                  <a:lnTo>
                    <a:pt x="493" y="483"/>
                  </a:lnTo>
                  <a:lnTo>
                    <a:pt x="502" y="471"/>
                  </a:lnTo>
                  <a:lnTo>
                    <a:pt x="510" y="460"/>
                  </a:lnTo>
                  <a:lnTo>
                    <a:pt x="519" y="448"/>
                  </a:lnTo>
                  <a:lnTo>
                    <a:pt x="527" y="439"/>
                  </a:lnTo>
                  <a:lnTo>
                    <a:pt x="536" y="428"/>
                  </a:lnTo>
                  <a:lnTo>
                    <a:pt x="544" y="416"/>
                  </a:lnTo>
                  <a:lnTo>
                    <a:pt x="551" y="405"/>
                  </a:lnTo>
                  <a:lnTo>
                    <a:pt x="561" y="393"/>
                  </a:lnTo>
                  <a:lnTo>
                    <a:pt x="570" y="384"/>
                  </a:lnTo>
                  <a:lnTo>
                    <a:pt x="578" y="372"/>
                  </a:lnTo>
                  <a:lnTo>
                    <a:pt x="588" y="361"/>
                  </a:lnTo>
                  <a:lnTo>
                    <a:pt x="599" y="350"/>
                  </a:lnTo>
                  <a:lnTo>
                    <a:pt x="610" y="340"/>
                  </a:lnTo>
                  <a:lnTo>
                    <a:pt x="610" y="348"/>
                  </a:lnTo>
                  <a:lnTo>
                    <a:pt x="610" y="355"/>
                  </a:lnTo>
                  <a:lnTo>
                    <a:pt x="610" y="365"/>
                  </a:lnTo>
                  <a:lnTo>
                    <a:pt x="608" y="372"/>
                  </a:lnTo>
                  <a:lnTo>
                    <a:pt x="605" y="380"/>
                  </a:lnTo>
                  <a:lnTo>
                    <a:pt x="603" y="388"/>
                  </a:lnTo>
                  <a:lnTo>
                    <a:pt x="601" y="395"/>
                  </a:lnTo>
                  <a:lnTo>
                    <a:pt x="597" y="405"/>
                  </a:lnTo>
                  <a:lnTo>
                    <a:pt x="593" y="410"/>
                  </a:lnTo>
                  <a:lnTo>
                    <a:pt x="589" y="418"/>
                  </a:lnTo>
                  <a:lnTo>
                    <a:pt x="584" y="426"/>
                  </a:lnTo>
                  <a:lnTo>
                    <a:pt x="580" y="433"/>
                  </a:lnTo>
                  <a:lnTo>
                    <a:pt x="576" y="439"/>
                  </a:lnTo>
                  <a:lnTo>
                    <a:pt x="572" y="447"/>
                  </a:lnTo>
                  <a:lnTo>
                    <a:pt x="569" y="454"/>
                  </a:lnTo>
                  <a:lnTo>
                    <a:pt x="567" y="462"/>
                  </a:lnTo>
                  <a:lnTo>
                    <a:pt x="563" y="467"/>
                  </a:lnTo>
                  <a:lnTo>
                    <a:pt x="559" y="475"/>
                  </a:lnTo>
                  <a:lnTo>
                    <a:pt x="557" y="481"/>
                  </a:lnTo>
                  <a:lnTo>
                    <a:pt x="557" y="488"/>
                  </a:lnTo>
                  <a:lnTo>
                    <a:pt x="555" y="494"/>
                  </a:lnTo>
                  <a:lnTo>
                    <a:pt x="555" y="502"/>
                  </a:lnTo>
                  <a:lnTo>
                    <a:pt x="557" y="507"/>
                  </a:lnTo>
                  <a:lnTo>
                    <a:pt x="559" y="515"/>
                  </a:lnTo>
                  <a:lnTo>
                    <a:pt x="561" y="521"/>
                  </a:lnTo>
                  <a:lnTo>
                    <a:pt x="567" y="528"/>
                  </a:lnTo>
                  <a:lnTo>
                    <a:pt x="570" y="534"/>
                  </a:lnTo>
                  <a:lnTo>
                    <a:pt x="578" y="542"/>
                  </a:lnTo>
                  <a:lnTo>
                    <a:pt x="586" y="549"/>
                  </a:lnTo>
                  <a:lnTo>
                    <a:pt x="595" y="557"/>
                  </a:lnTo>
                  <a:lnTo>
                    <a:pt x="601" y="559"/>
                  </a:lnTo>
                  <a:lnTo>
                    <a:pt x="607" y="564"/>
                  </a:lnTo>
                  <a:lnTo>
                    <a:pt x="614" y="566"/>
                  </a:lnTo>
                  <a:lnTo>
                    <a:pt x="622" y="570"/>
                  </a:lnTo>
                  <a:lnTo>
                    <a:pt x="626" y="570"/>
                  </a:lnTo>
                  <a:lnTo>
                    <a:pt x="633" y="572"/>
                  </a:lnTo>
                  <a:lnTo>
                    <a:pt x="639" y="574"/>
                  </a:lnTo>
                  <a:lnTo>
                    <a:pt x="645" y="574"/>
                  </a:lnTo>
                  <a:lnTo>
                    <a:pt x="650" y="574"/>
                  </a:lnTo>
                  <a:lnTo>
                    <a:pt x="658" y="574"/>
                  </a:lnTo>
                  <a:lnTo>
                    <a:pt x="662" y="574"/>
                  </a:lnTo>
                  <a:lnTo>
                    <a:pt x="669" y="576"/>
                  </a:lnTo>
                  <a:lnTo>
                    <a:pt x="679" y="574"/>
                  </a:lnTo>
                  <a:lnTo>
                    <a:pt x="690" y="574"/>
                  </a:lnTo>
                  <a:lnTo>
                    <a:pt x="700" y="574"/>
                  </a:lnTo>
                  <a:lnTo>
                    <a:pt x="711" y="572"/>
                  </a:lnTo>
                  <a:lnTo>
                    <a:pt x="721" y="568"/>
                  </a:lnTo>
                  <a:lnTo>
                    <a:pt x="730" y="566"/>
                  </a:lnTo>
                  <a:lnTo>
                    <a:pt x="738" y="563"/>
                  </a:lnTo>
                  <a:lnTo>
                    <a:pt x="747" y="559"/>
                  </a:lnTo>
                  <a:lnTo>
                    <a:pt x="755" y="555"/>
                  </a:lnTo>
                  <a:lnTo>
                    <a:pt x="764" y="551"/>
                  </a:lnTo>
                  <a:lnTo>
                    <a:pt x="772" y="545"/>
                  </a:lnTo>
                  <a:lnTo>
                    <a:pt x="781" y="542"/>
                  </a:lnTo>
                  <a:lnTo>
                    <a:pt x="789" y="534"/>
                  </a:lnTo>
                  <a:lnTo>
                    <a:pt x="797" y="528"/>
                  </a:lnTo>
                  <a:lnTo>
                    <a:pt x="804" y="523"/>
                  </a:lnTo>
                  <a:lnTo>
                    <a:pt x="810" y="515"/>
                  </a:lnTo>
                  <a:lnTo>
                    <a:pt x="818" y="509"/>
                  </a:lnTo>
                  <a:lnTo>
                    <a:pt x="825" y="502"/>
                  </a:lnTo>
                  <a:lnTo>
                    <a:pt x="831" y="494"/>
                  </a:lnTo>
                  <a:lnTo>
                    <a:pt x="839" y="486"/>
                  </a:lnTo>
                  <a:lnTo>
                    <a:pt x="844" y="477"/>
                  </a:lnTo>
                  <a:lnTo>
                    <a:pt x="852" y="469"/>
                  </a:lnTo>
                  <a:lnTo>
                    <a:pt x="859" y="460"/>
                  </a:lnTo>
                  <a:lnTo>
                    <a:pt x="865" y="452"/>
                  </a:lnTo>
                  <a:lnTo>
                    <a:pt x="873" y="443"/>
                  </a:lnTo>
                  <a:lnTo>
                    <a:pt x="878" y="433"/>
                  </a:lnTo>
                  <a:lnTo>
                    <a:pt x="886" y="424"/>
                  </a:lnTo>
                  <a:lnTo>
                    <a:pt x="894" y="416"/>
                  </a:lnTo>
                  <a:lnTo>
                    <a:pt x="888" y="412"/>
                  </a:lnTo>
                  <a:lnTo>
                    <a:pt x="880" y="410"/>
                  </a:lnTo>
                  <a:lnTo>
                    <a:pt x="873" y="410"/>
                  </a:lnTo>
                  <a:lnTo>
                    <a:pt x="867" y="410"/>
                  </a:lnTo>
                  <a:lnTo>
                    <a:pt x="859" y="410"/>
                  </a:lnTo>
                  <a:lnTo>
                    <a:pt x="852" y="410"/>
                  </a:lnTo>
                  <a:lnTo>
                    <a:pt x="846" y="410"/>
                  </a:lnTo>
                  <a:lnTo>
                    <a:pt x="839" y="409"/>
                  </a:lnTo>
                  <a:lnTo>
                    <a:pt x="839" y="405"/>
                  </a:lnTo>
                  <a:lnTo>
                    <a:pt x="839" y="403"/>
                  </a:lnTo>
                  <a:lnTo>
                    <a:pt x="846" y="401"/>
                  </a:lnTo>
                  <a:lnTo>
                    <a:pt x="854" y="397"/>
                  </a:lnTo>
                  <a:lnTo>
                    <a:pt x="861" y="395"/>
                  </a:lnTo>
                  <a:lnTo>
                    <a:pt x="869" y="393"/>
                  </a:lnTo>
                  <a:lnTo>
                    <a:pt x="877" y="390"/>
                  </a:lnTo>
                  <a:lnTo>
                    <a:pt x="884" y="388"/>
                  </a:lnTo>
                  <a:lnTo>
                    <a:pt x="892" y="386"/>
                  </a:lnTo>
                  <a:lnTo>
                    <a:pt x="901" y="384"/>
                  </a:lnTo>
                  <a:lnTo>
                    <a:pt x="909" y="378"/>
                  </a:lnTo>
                  <a:lnTo>
                    <a:pt x="916" y="376"/>
                  </a:lnTo>
                  <a:lnTo>
                    <a:pt x="922" y="372"/>
                  </a:lnTo>
                  <a:lnTo>
                    <a:pt x="930" y="369"/>
                  </a:lnTo>
                  <a:lnTo>
                    <a:pt x="935" y="363"/>
                  </a:lnTo>
                  <a:lnTo>
                    <a:pt x="943" y="357"/>
                  </a:lnTo>
                  <a:lnTo>
                    <a:pt x="947" y="350"/>
                  </a:lnTo>
                  <a:lnTo>
                    <a:pt x="954" y="344"/>
                  </a:lnTo>
                  <a:lnTo>
                    <a:pt x="943" y="340"/>
                  </a:lnTo>
                  <a:lnTo>
                    <a:pt x="934" y="340"/>
                  </a:lnTo>
                  <a:lnTo>
                    <a:pt x="926" y="338"/>
                  </a:lnTo>
                  <a:lnTo>
                    <a:pt x="920" y="338"/>
                  </a:lnTo>
                  <a:lnTo>
                    <a:pt x="915" y="338"/>
                  </a:lnTo>
                  <a:lnTo>
                    <a:pt x="909" y="340"/>
                  </a:lnTo>
                  <a:lnTo>
                    <a:pt x="903" y="340"/>
                  </a:lnTo>
                  <a:lnTo>
                    <a:pt x="897" y="340"/>
                  </a:lnTo>
                  <a:lnTo>
                    <a:pt x="890" y="340"/>
                  </a:lnTo>
                  <a:lnTo>
                    <a:pt x="884" y="340"/>
                  </a:lnTo>
                  <a:lnTo>
                    <a:pt x="878" y="338"/>
                  </a:lnTo>
                  <a:lnTo>
                    <a:pt x="873" y="338"/>
                  </a:lnTo>
                  <a:lnTo>
                    <a:pt x="867" y="338"/>
                  </a:lnTo>
                  <a:lnTo>
                    <a:pt x="863" y="338"/>
                  </a:lnTo>
                  <a:lnTo>
                    <a:pt x="863" y="334"/>
                  </a:lnTo>
                  <a:lnTo>
                    <a:pt x="863" y="332"/>
                  </a:lnTo>
                  <a:lnTo>
                    <a:pt x="869" y="331"/>
                  </a:lnTo>
                  <a:lnTo>
                    <a:pt x="875" y="331"/>
                  </a:lnTo>
                  <a:lnTo>
                    <a:pt x="880" y="329"/>
                  </a:lnTo>
                  <a:lnTo>
                    <a:pt x="888" y="329"/>
                  </a:lnTo>
                  <a:lnTo>
                    <a:pt x="892" y="329"/>
                  </a:lnTo>
                  <a:lnTo>
                    <a:pt x="899" y="329"/>
                  </a:lnTo>
                  <a:lnTo>
                    <a:pt x="905" y="327"/>
                  </a:lnTo>
                  <a:lnTo>
                    <a:pt x="911" y="327"/>
                  </a:lnTo>
                  <a:lnTo>
                    <a:pt x="916" y="325"/>
                  </a:lnTo>
                  <a:lnTo>
                    <a:pt x="922" y="323"/>
                  </a:lnTo>
                  <a:lnTo>
                    <a:pt x="928" y="323"/>
                  </a:lnTo>
                  <a:lnTo>
                    <a:pt x="935" y="321"/>
                  </a:lnTo>
                  <a:lnTo>
                    <a:pt x="939" y="319"/>
                  </a:lnTo>
                  <a:lnTo>
                    <a:pt x="947" y="317"/>
                  </a:lnTo>
                  <a:lnTo>
                    <a:pt x="953" y="315"/>
                  </a:lnTo>
                  <a:lnTo>
                    <a:pt x="958" y="313"/>
                  </a:lnTo>
                  <a:lnTo>
                    <a:pt x="958" y="312"/>
                  </a:lnTo>
                  <a:lnTo>
                    <a:pt x="958" y="310"/>
                  </a:lnTo>
                  <a:lnTo>
                    <a:pt x="947" y="308"/>
                  </a:lnTo>
                  <a:lnTo>
                    <a:pt x="937" y="308"/>
                  </a:lnTo>
                  <a:lnTo>
                    <a:pt x="928" y="306"/>
                  </a:lnTo>
                  <a:lnTo>
                    <a:pt x="918" y="306"/>
                  </a:lnTo>
                  <a:lnTo>
                    <a:pt x="909" y="304"/>
                  </a:lnTo>
                  <a:lnTo>
                    <a:pt x="899" y="302"/>
                  </a:lnTo>
                  <a:lnTo>
                    <a:pt x="890" y="300"/>
                  </a:lnTo>
                  <a:lnTo>
                    <a:pt x="880" y="300"/>
                  </a:lnTo>
                  <a:lnTo>
                    <a:pt x="871" y="296"/>
                  </a:lnTo>
                  <a:lnTo>
                    <a:pt x="861" y="294"/>
                  </a:lnTo>
                  <a:lnTo>
                    <a:pt x="852" y="293"/>
                  </a:lnTo>
                  <a:lnTo>
                    <a:pt x="842" y="293"/>
                  </a:lnTo>
                  <a:lnTo>
                    <a:pt x="831" y="291"/>
                  </a:lnTo>
                  <a:lnTo>
                    <a:pt x="821" y="291"/>
                  </a:lnTo>
                  <a:lnTo>
                    <a:pt x="812" y="291"/>
                  </a:lnTo>
                  <a:lnTo>
                    <a:pt x="802" y="291"/>
                  </a:lnTo>
                  <a:lnTo>
                    <a:pt x="802" y="287"/>
                  </a:lnTo>
                  <a:lnTo>
                    <a:pt x="802" y="285"/>
                  </a:lnTo>
                  <a:lnTo>
                    <a:pt x="808" y="283"/>
                  </a:lnTo>
                  <a:lnTo>
                    <a:pt x="816" y="283"/>
                  </a:lnTo>
                  <a:lnTo>
                    <a:pt x="823" y="281"/>
                  </a:lnTo>
                  <a:lnTo>
                    <a:pt x="829" y="281"/>
                  </a:lnTo>
                  <a:lnTo>
                    <a:pt x="837" y="281"/>
                  </a:lnTo>
                  <a:lnTo>
                    <a:pt x="846" y="281"/>
                  </a:lnTo>
                  <a:lnTo>
                    <a:pt x="854" y="281"/>
                  </a:lnTo>
                  <a:lnTo>
                    <a:pt x="861" y="283"/>
                  </a:lnTo>
                  <a:lnTo>
                    <a:pt x="869" y="283"/>
                  </a:lnTo>
                  <a:lnTo>
                    <a:pt x="877" y="283"/>
                  </a:lnTo>
                  <a:lnTo>
                    <a:pt x="884" y="283"/>
                  </a:lnTo>
                  <a:lnTo>
                    <a:pt x="892" y="283"/>
                  </a:lnTo>
                  <a:lnTo>
                    <a:pt x="899" y="281"/>
                  </a:lnTo>
                  <a:lnTo>
                    <a:pt x="907" y="281"/>
                  </a:lnTo>
                  <a:lnTo>
                    <a:pt x="915" y="281"/>
                  </a:lnTo>
                  <a:lnTo>
                    <a:pt x="922" y="281"/>
                  </a:lnTo>
                  <a:lnTo>
                    <a:pt x="922" y="277"/>
                  </a:lnTo>
                  <a:lnTo>
                    <a:pt x="922" y="275"/>
                  </a:lnTo>
                  <a:lnTo>
                    <a:pt x="915" y="268"/>
                  </a:lnTo>
                  <a:lnTo>
                    <a:pt x="907" y="264"/>
                  </a:lnTo>
                  <a:lnTo>
                    <a:pt x="897" y="260"/>
                  </a:lnTo>
                  <a:lnTo>
                    <a:pt x="890" y="256"/>
                  </a:lnTo>
                  <a:lnTo>
                    <a:pt x="882" y="253"/>
                  </a:lnTo>
                  <a:lnTo>
                    <a:pt x="873" y="249"/>
                  </a:lnTo>
                  <a:lnTo>
                    <a:pt x="865" y="247"/>
                  </a:lnTo>
                  <a:lnTo>
                    <a:pt x="858" y="245"/>
                  </a:lnTo>
                  <a:lnTo>
                    <a:pt x="848" y="241"/>
                  </a:lnTo>
                  <a:lnTo>
                    <a:pt x="840" y="237"/>
                  </a:lnTo>
                  <a:lnTo>
                    <a:pt x="831" y="236"/>
                  </a:lnTo>
                  <a:lnTo>
                    <a:pt x="823" y="234"/>
                  </a:lnTo>
                  <a:lnTo>
                    <a:pt x="814" y="230"/>
                  </a:lnTo>
                  <a:lnTo>
                    <a:pt x="806" y="230"/>
                  </a:lnTo>
                  <a:lnTo>
                    <a:pt x="797" y="226"/>
                  </a:lnTo>
                  <a:lnTo>
                    <a:pt x="789" y="226"/>
                  </a:lnTo>
                  <a:lnTo>
                    <a:pt x="793" y="217"/>
                  </a:lnTo>
                  <a:lnTo>
                    <a:pt x="799" y="211"/>
                  </a:lnTo>
                  <a:lnTo>
                    <a:pt x="806" y="203"/>
                  </a:lnTo>
                  <a:lnTo>
                    <a:pt x="818" y="201"/>
                  </a:lnTo>
                  <a:lnTo>
                    <a:pt x="821" y="199"/>
                  </a:lnTo>
                  <a:lnTo>
                    <a:pt x="827" y="197"/>
                  </a:lnTo>
                  <a:lnTo>
                    <a:pt x="833" y="196"/>
                  </a:lnTo>
                  <a:lnTo>
                    <a:pt x="839" y="194"/>
                  </a:lnTo>
                  <a:lnTo>
                    <a:pt x="846" y="194"/>
                  </a:lnTo>
                  <a:lnTo>
                    <a:pt x="852" y="192"/>
                  </a:lnTo>
                  <a:lnTo>
                    <a:pt x="859" y="192"/>
                  </a:lnTo>
                  <a:lnTo>
                    <a:pt x="867" y="192"/>
                  </a:lnTo>
                  <a:lnTo>
                    <a:pt x="873" y="192"/>
                  </a:lnTo>
                  <a:lnTo>
                    <a:pt x="880" y="190"/>
                  </a:lnTo>
                  <a:lnTo>
                    <a:pt x="888" y="190"/>
                  </a:lnTo>
                  <a:lnTo>
                    <a:pt x="894" y="190"/>
                  </a:lnTo>
                  <a:lnTo>
                    <a:pt x="901" y="188"/>
                  </a:lnTo>
                  <a:lnTo>
                    <a:pt x="909" y="188"/>
                  </a:lnTo>
                  <a:lnTo>
                    <a:pt x="916" y="186"/>
                  </a:lnTo>
                  <a:lnTo>
                    <a:pt x="924" y="186"/>
                  </a:lnTo>
                  <a:lnTo>
                    <a:pt x="930" y="186"/>
                  </a:lnTo>
                  <a:lnTo>
                    <a:pt x="937" y="184"/>
                  </a:lnTo>
                  <a:lnTo>
                    <a:pt x="943" y="184"/>
                  </a:lnTo>
                  <a:lnTo>
                    <a:pt x="951" y="182"/>
                  </a:lnTo>
                  <a:lnTo>
                    <a:pt x="956" y="180"/>
                  </a:lnTo>
                  <a:lnTo>
                    <a:pt x="962" y="180"/>
                  </a:lnTo>
                  <a:lnTo>
                    <a:pt x="968" y="178"/>
                  </a:lnTo>
                  <a:lnTo>
                    <a:pt x="975" y="177"/>
                  </a:lnTo>
                  <a:lnTo>
                    <a:pt x="968" y="171"/>
                  </a:lnTo>
                  <a:lnTo>
                    <a:pt x="962" y="163"/>
                  </a:lnTo>
                  <a:lnTo>
                    <a:pt x="954" y="158"/>
                  </a:lnTo>
                  <a:lnTo>
                    <a:pt x="947" y="156"/>
                  </a:lnTo>
                  <a:lnTo>
                    <a:pt x="937" y="152"/>
                  </a:lnTo>
                  <a:lnTo>
                    <a:pt x="930" y="148"/>
                  </a:lnTo>
                  <a:lnTo>
                    <a:pt x="920" y="146"/>
                  </a:lnTo>
                  <a:lnTo>
                    <a:pt x="911" y="144"/>
                  </a:lnTo>
                  <a:lnTo>
                    <a:pt x="901" y="142"/>
                  </a:lnTo>
                  <a:lnTo>
                    <a:pt x="892" y="140"/>
                  </a:lnTo>
                  <a:lnTo>
                    <a:pt x="882" y="139"/>
                  </a:lnTo>
                  <a:lnTo>
                    <a:pt x="873" y="139"/>
                  </a:lnTo>
                  <a:lnTo>
                    <a:pt x="863" y="137"/>
                  </a:lnTo>
                  <a:lnTo>
                    <a:pt x="854" y="135"/>
                  </a:lnTo>
                  <a:lnTo>
                    <a:pt x="846" y="131"/>
                  </a:lnTo>
                  <a:lnTo>
                    <a:pt x="839" y="131"/>
                  </a:lnTo>
                  <a:lnTo>
                    <a:pt x="846" y="127"/>
                  </a:lnTo>
                  <a:lnTo>
                    <a:pt x="856" y="123"/>
                  </a:lnTo>
                  <a:lnTo>
                    <a:pt x="865" y="121"/>
                  </a:lnTo>
                  <a:lnTo>
                    <a:pt x="875" y="121"/>
                  </a:lnTo>
                  <a:lnTo>
                    <a:pt x="884" y="121"/>
                  </a:lnTo>
                  <a:lnTo>
                    <a:pt x="896" y="125"/>
                  </a:lnTo>
                  <a:lnTo>
                    <a:pt x="901" y="125"/>
                  </a:lnTo>
                  <a:lnTo>
                    <a:pt x="907" y="127"/>
                  </a:lnTo>
                  <a:lnTo>
                    <a:pt x="913" y="129"/>
                  </a:lnTo>
                  <a:lnTo>
                    <a:pt x="918" y="131"/>
                  </a:lnTo>
                  <a:lnTo>
                    <a:pt x="930" y="135"/>
                  </a:lnTo>
                  <a:lnTo>
                    <a:pt x="941" y="137"/>
                  </a:lnTo>
                  <a:lnTo>
                    <a:pt x="947" y="139"/>
                  </a:lnTo>
                  <a:lnTo>
                    <a:pt x="953" y="140"/>
                  </a:lnTo>
                  <a:lnTo>
                    <a:pt x="958" y="142"/>
                  </a:lnTo>
                  <a:lnTo>
                    <a:pt x="966" y="144"/>
                  </a:lnTo>
                  <a:lnTo>
                    <a:pt x="972" y="144"/>
                  </a:lnTo>
                  <a:lnTo>
                    <a:pt x="977" y="146"/>
                  </a:lnTo>
                  <a:lnTo>
                    <a:pt x="983" y="148"/>
                  </a:lnTo>
                  <a:lnTo>
                    <a:pt x="989" y="150"/>
                  </a:lnTo>
                  <a:lnTo>
                    <a:pt x="994" y="150"/>
                  </a:lnTo>
                  <a:lnTo>
                    <a:pt x="1000" y="152"/>
                  </a:lnTo>
                  <a:lnTo>
                    <a:pt x="1006" y="152"/>
                  </a:lnTo>
                  <a:lnTo>
                    <a:pt x="1012" y="154"/>
                  </a:lnTo>
                  <a:lnTo>
                    <a:pt x="1006" y="148"/>
                  </a:lnTo>
                  <a:lnTo>
                    <a:pt x="1000" y="142"/>
                  </a:lnTo>
                  <a:lnTo>
                    <a:pt x="993" y="137"/>
                  </a:lnTo>
                  <a:lnTo>
                    <a:pt x="985" y="133"/>
                  </a:lnTo>
                  <a:lnTo>
                    <a:pt x="977" y="129"/>
                  </a:lnTo>
                  <a:lnTo>
                    <a:pt x="970" y="125"/>
                  </a:lnTo>
                  <a:lnTo>
                    <a:pt x="962" y="121"/>
                  </a:lnTo>
                  <a:lnTo>
                    <a:pt x="954" y="118"/>
                  </a:lnTo>
                  <a:lnTo>
                    <a:pt x="945" y="116"/>
                  </a:lnTo>
                  <a:lnTo>
                    <a:pt x="935" y="112"/>
                  </a:lnTo>
                  <a:lnTo>
                    <a:pt x="928" y="108"/>
                  </a:lnTo>
                  <a:lnTo>
                    <a:pt x="920" y="106"/>
                  </a:lnTo>
                  <a:lnTo>
                    <a:pt x="911" y="102"/>
                  </a:lnTo>
                  <a:lnTo>
                    <a:pt x="903" y="101"/>
                  </a:lnTo>
                  <a:lnTo>
                    <a:pt x="896" y="99"/>
                  </a:lnTo>
                  <a:lnTo>
                    <a:pt x="890" y="97"/>
                  </a:lnTo>
                  <a:lnTo>
                    <a:pt x="896" y="93"/>
                  </a:lnTo>
                  <a:lnTo>
                    <a:pt x="903" y="91"/>
                  </a:lnTo>
                  <a:lnTo>
                    <a:pt x="913" y="91"/>
                  </a:lnTo>
                  <a:lnTo>
                    <a:pt x="922" y="93"/>
                  </a:lnTo>
                  <a:lnTo>
                    <a:pt x="932" y="93"/>
                  </a:lnTo>
                  <a:lnTo>
                    <a:pt x="941" y="97"/>
                  </a:lnTo>
                  <a:lnTo>
                    <a:pt x="951" y="99"/>
                  </a:lnTo>
                  <a:lnTo>
                    <a:pt x="962" y="102"/>
                  </a:lnTo>
                  <a:lnTo>
                    <a:pt x="972" y="104"/>
                  </a:lnTo>
                  <a:lnTo>
                    <a:pt x="981" y="108"/>
                  </a:lnTo>
                  <a:lnTo>
                    <a:pt x="993" y="110"/>
                  </a:lnTo>
                  <a:lnTo>
                    <a:pt x="1004" y="114"/>
                  </a:lnTo>
                  <a:lnTo>
                    <a:pt x="1013" y="116"/>
                  </a:lnTo>
                  <a:lnTo>
                    <a:pt x="1025" y="118"/>
                  </a:lnTo>
                  <a:lnTo>
                    <a:pt x="1036" y="120"/>
                  </a:lnTo>
                  <a:lnTo>
                    <a:pt x="1048" y="120"/>
                  </a:lnTo>
                  <a:lnTo>
                    <a:pt x="1040" y="116"/>
                  </a:lnTo>
                  <a:lnTo>
                    <a:pt x="1032" y="110"/>
                  </a:lnTo>
                  <a:lnTo>
                    <a:pt x="1025" y="106"/>
                  </a:lnTo>
                  <a:lnTo>
                    <a:pt x="1019" y="101"/>
                  </a:lnTo>
                  <a:lnTo>
                    <a:pt x="1012" y="97"/>
                  </a:lnTo>
                  <a:lnTo>
                    <a:pt x="1004" y="93"/>
                  </a:lnTo>
                  <a:lnTo>
                    <a:pt x="996" y="87"/>
                  </a:lnTo>
                  <a:lnTo>
                    <a:pt x="989" y="83"/>
                  </a:lnTo>
                  <a:lnTo>
                    <a:pt x="981" y="80"/>
                  </a:lnTo>
                  <a:lnTo>
                    <a:pt x="974" y="76"/>
                  </a:lnTo>
                  <a:lnTo>
                    <a:pt x="964" y="72"/>
                  </a:lnTo>
                  <a:lnTo>
                    <a:pt x="956" y="68"/>
                  </a:lnTo>
                  <a:lnTo>
                    <a:pt x="949" y="64"/>
                  </a:lnTo>
                  <a:lnTo>
                    <a:pt x="941" y="61"/>
                  </a:lnTo>
                  <a:lnTo>
                    <a:pt x="934" y="57"/>
                  </a:lnTo>
                  <a:lnTo>
                    <a:pt x="926" y="55"/>
                  </a:lnTo>
                  <a:lnTo>
                    <a:pt x="916" y="49"/>
                  </a:lnTo>
                  <a:lnTo>
                    <a:pt x="909" y="47"/>
                  </a:lnTo>
                  <a:lnTo>
                    <a:pt x="899" y="44"/>
                  </a:lnTo>
                  <a:lnTo>
                    <a:pt x="892" y="42"/>
                  </a:lnTo>
                  <a:lnTo>
                    <a:pt x="882" y="38"/>
                  </a:lnTo>
                  <a:lnTo>
                    <a:pt x="875" y="36"/>
                  </a:lnTo>
                  <a:lnTo>
                    <a:pt x="865" y="34"/>
                  </a:lnTo>
                  <a:lnTo>
                    <a:pt x="859" y="32"/>
                  </a:lnTo>
                  <a:lnTo>
                    <a:pt x="848" y="28"/>
                  </a:lnTo>
                  <a:lnTo>
                    <a:pt x="840" y="26"/>
                  </a:lnTo>
                  <a:lnTo>
                    <a:pt x="833" y="24"/>
                  </a:lnTo>
                  <a:lnTo>
                    <a:pt x="823" y="24"/>
                  </a:lnTo>
                  <a:lnTo>
                    <a:pt x="816" y="23"/>
                  </a:lnTo>
                  <a:lnTo>
                    <a:pt x="806" y="23"/>
                  </a:lnTo>
                  <a:lnTo>
                    <a:pt x="799" y="23"/>
                  </a:lnTo>
                  <a:lnTo>
                    <a:pt x="789" y="23"/>
                  </a:lnTo>
                  <a:lnTo>
                    <a:pt x="789" y="19"/>
                  </a:lnTo>
                  <a:lnTo>
                    <a:pt x="789" y="17"/>
                  </a:lnTo>
                  <a:lnTo>
                    <a:pt x="795" y="15"/>
                  </a:lnTo>
                  <a:lnTo>
                    <a:pt x="800" y="15"/>
                  </a:lnTo>
                  <a:lnTo>
                    <a:pt x="806" y="13"/>
                  </a:lnTo>
                  <a:lnTo>
                    <a:pt x="814" y="13"/>
                  </a:lnTo>
                  <a:lnTo>
                    <a:pt x="820" y="11"/>
                  </a:lnTo>
                  <a:lnTo>
                    <a:pt x="825" y="11"/>
                  </a:lnTo>
                  <a:lnTo>
                    <a:pt x="833" y="11"/>
                  </a:lnTo>
                  <a:lnTo>
                    <a:pt x="839" y="11"/>
                  </a:lnTo>
                  <a:lnTo>
                    <a:pt x="844" y="11"/>
                  </a:lnTo>
                  <a:lnTo>
                    <a:pt x="852" y="11"/>
                  </a:lnTo>
                  <a:lnTo>
                    <a:pt x="858" y="11"/>
                  </a:lnTo>
                  <a:lnTo>
                    <a:pt x="865" y="11"/>
                  </a:lnTo>
                  <a:lnTo>
                    <a:pt x="871" y="11"/>
                  </a:lnTo>
                  <a:lnTo>
                    <a:pt x="878" y="13"/>
                  </a:lnTo>
                  <a:lnTo>
                    <a:pt x="884" y="13"/>
                  </a:lnTo>
                  <a:lnTo>
                    <a:pt x="892" y="15"/>
                  </a:lnTo>
                  <a:lnTo>
                    <a:pt x="897" y="13"/>
                  </a:lnTo>
                  <a:lnTo>
                    <a:pt x="903" y="13"/>
                  </a:lnTo>
                  <a:lnTo>
                    <a:pt x="911" y="13"/>
                  </a:lnTo>
                  <a:lnTo>
                    <a:pt x="916" y="13"/>
                  </a:lnTo>
                  <a:lnTo>
                    <a:pt x="922" y="11"/>
                  </a:lnTo>
                  <a:lnTo>
                    <a:pt x="930" y="11"/>
                  </a:lnTo>
                  <a:lnTo>
                    <a:pt x="935" y="11"/>
                  </a:lnTo>
                  <a:lnTo>
                    <a:pt x="943" y="11"/>
                  </a:lnTo>
                  <a:lnTo>
                    <a:pt x="949" y="11"/>
                  </a:lnTo>
                  <a:lnTo>
                    <a:pt x="954" y="9"/>
                  </a:lnTo>
                  <a:lnTo>
                    <a:pt x="962" y="9"/>
                  </a:lnTo>
                  <a:lnTo>
                    <a:pt x="968" y="7"/>
                  </a:lnTo>
                  <a:lnTo>
                    <a:pt x="974" y="5"/>
                  </a:lnTo>
                  <a:lnTo>
                    <a:pt x="981" y="5"/>
                  </a:lnTo>
                  <a:lnTo>
                    <a:pt x="987" y="2"/>
                  </a:lnTo>
                  <a:lnTo>
                    <a:pt x="993" y="2"/>
                  </a:lnTo>
                  <a:lnTo>
                    <a:pt x="9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037160" y="1892520"/>
              <a:ext cx="45720" cy="1908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6" y="25"/>
                  </a:moveTo>
                  <a:lnTo>
                    <a:pt x="13" y="25"/>
                  </a:lnTo>
                  <a:lnTo>
                    <a:pt x="19" y="25"/>
                  </a:lnTo>
                  <a:lnTo>
                    <a:pt x="25" y="21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4" y="13"/>
                  </a:lnTo>
                  <a:lnTo>
                    <a:pt x="49" y="10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69760" y="1363680"/>
              <a:ext cx="2808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7" y="11"/>
                  </a:lnTo>
                  <a:lnTo>
                    <a:pt x="13" y="17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505600" y="1279440"/>
              <a:ext cx="4428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05520" y="1290600"/>
              <a:ext cx="99720" cy="10008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1" y="8"/>
                  </a:lnTo>
                  <a:lnTo>
                    <a:pt x="44" y="14"/>
                  </a:lnTo>
                  <a:lnTo>
                    <a:pt x="53" y="19"/>
                  </a:lnTo>
                  <a:lnTo>
                    <a:pt x="63" y="27"/>
                  </a:lnTo>
                  <a:lnTo>
                    <a:pt x="74" y="33"/>
                  </a:lnTo>
                  <a:lnTo>
                    <a:pt x="84" y="44"/>
                  </a:lnTo>
                  <a:lnTo>
                    <a:pt x="91" y="52"/>
                  </a:lnTo>
                  <a:lnTo>
                    <a:pt x="101" y="61"/>
                  </a:lnTo>
                  <a:lnTo>
                    <a:pt x="107" y="71"/>
                  </a:lnTo>
                  <a:lnTo>
                    <a:pt x="114" y="82"/>
                  </a:lnTo>
                  <a:lnTo>
                    <a:pt x="118" y="92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6"/>
                  </a:lnTo>
                  <a:lnTo>
                    <a:pt x="118" y="116"/>
                  </a:lnTo>
                  <a:lnTo>
                    <a:pt x="110" y="109"/>
                  </a:lnTo>
                  <a:lnTo>
                    <a:pt x="103" y="99"/>
                  </a:lnTo>
                  <a:lnTo>
                    <a:pt x="93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7" y="67"/>
                  </a:lnTo>
                  <a:lnTo>
                    <a:pt x="57" y="59"/>
                  </a:lnTo>
                  <a:lnTo>
                    <a:pt x="48" y="50"/>
                  </a:lnTo>
                  <a:lnTo>
                    <a:pt x="38" y="40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829440" y="1316160"/>
              <a:ext cx="94680" cy="5544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4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71" y="7"/>
                  </a:lnTo>
                  <a:lnTo>
                    <a:pt x="80" y="11"/>
                  </a:lnTo>
                  <a:lnTo>
                    <a:pt x="88" y="15"/>
                  </a:lnTo>
                  <a:lnTo>
                    <a:pt x="95" y="21"/>
                  </a:lnTo>
                  <a:lnTo>
                    <a:pt x="103" y="24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20" y="68"/>
                  </a:lnTo>
                  <a:lnTo>
                    <a:pt x="113" y="62"/>
                  </a:lnTo>
                  <a:lnTo>
                    <a:pt x="103" y="59"/>
                  </a:lnTo>
                  <a:lnTo>
                    <a:pt x="94" y="57"/>
                  </a:lnTo>
                  <a:lnTo>
                    <a:pt x="86" y="53"/>
                  </a:lnTo>
                  <a:lnTo>
                    <a:pt x="75" y="49"/>
                  </a:lnTo>
                  <a:lnTo>
                    <a:pt x="65" y="45"/>
                  </a:lnTo>
                  <a:lnTo>
                    <a:pt x="54" y="42"/>
                  </a:lnTo>
                  <a:lnTo>
                    <a:pt x="44" y="38"/>
                  </a:lnTo>
                  <a:lnTo>
                    <a:pt x="33" y="34"/>
                  </a:lnTo>
                  <a:lnTo>
                    <a:pt x="25" y="30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6" y="17"/>
                  </a:lnTo>
                  <a:lnTo>
                    <a:pt x="2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514240" y="1336680"/>
              <a:ext cx="2376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41360" y="1373400"/>
              <a:ext cx="7416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840" y="1392480"/>
              <a:ext cx="12168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20040" y="1419480"/>
              <a:ext cx="140760" cy="1317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69" y="0"/>
                  </a:moveTo>
                  <a:lnTo>
                    <a:pt x="175" y="9"/>
                  </a:lnTo>
                  <a:lnTo>
                    <a:pt x="177" y="19"/>
                  </a:lnTo>
                  <a:lnTo>
                    <a:pt x="171" y="29"/>
                  </a:lnTo>
                  <a:lnTo>
                    <a:pt x="163" y="36"/>
                  </a:lnTo>
                  <a:lnTo>
                    <a:pt x="158" y="40"/>
                  </a:lnTo>
                  <a:lnTo>
                    <a:pt x="152" y="44"/>
                  </a:lnTo>
                  <a:lnTo>
                    <a:pt x="144" y="48"/>
                  </a:lnTo>
                  <a:lnTo>
                    <a:pt x="139" y="53"/>
                  </a:lnTo>
                  <a:lnTo>
                    <a:pt x="131" y="57"/>
                  </a:lnTo>
                  <a:lnTo>
                    <a:pt x="123" y="61"/>
                  </a:lnTo>
                  <a:lnTo>
                    <a:pt x="114" y="65"/>
                  </a:lnTo>
                  <a:lnTo>
                    <a:pt x="106" y="70"/>
                  </a:lnTo>
                  <a:lnTo>
                    <a:pt x="97" y="72"/>
                  </a:lnTo>
                  <a:lnTo>
                    <a:pt x="89" y="78"/>
                  </a:lnTo>
                  <a:lnTo>
                    <a:pt x="80" y="84"/>
                  </a:lnTo>
                  <a:lnTo>
                    <a:pt x="70" y="87"/>
                  </a:lnTo>
                  <a:lnTo>
                    <a:pt x="63" y="93"/>
                  </a:lnTo>
                  <a:lnTo>
                    <a:pt x="53" y="97"/>
                  </a:lnTo>
                  <a:lnTo>
                    <a:pt x="46" y="105"/>
                  </a:lnTo>
                  <a:lnTo>
                    <a:pt x="40" y="110"/>
                  </a:lnTo>
                  <a:lnTo>
                    <a:pt x="32" y="116"/>
                  </a:lnTo>
                  <a:lnTo>
                    <a:pt x="25" y="122"/>
                  </a:lnTo>
                  <a:lnTo>
                    <a:pt x="19" y="127"/>
                  </a:lnTo>
                  <a:lnTo>
                    <a:pt x="15" y="135"/>
                  </a:lnTo>
                  <a:lnTo>
                    <a:pt x="9" y="141"/>
                  </a:lnTo>
                  <a:lnTo>
                    <a:pt x="8" y="148"/>
                  </a:lnTo>
                  <a:lnTo>
                    <a:pt x="4" y="156"/>
                  </a:lnTo>
                  <a:lnTo>
                    <a:pt x="4" y="165"/>
                  </a:lnTo>
                  <a:lnTo>
                    <a:pt x="2" y="160"/>
                  </a:lnTo>
                  <a:lnTo>
                    <a:pt x="2" y="152"/>
                  </a:lnTo>
                  <a:lnTo>
                    <a:pt x="0" y="146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4" y="127"/>
                  </a:lnTo>
                  <a:lnTo>
                    <a:pt x="8" y="122"/>
                  </a:lnTo>
                  <a:lnTo>
                    <a:pt x="11" y="116"/>
                  </a:lnTo>
                  <a:lnTo>
                    <a:pt x="15" y="110"/>
                  </a:lnTo>
                  <a:lnTo>
                    <a:pt x="19" y="103"/>
                  </a:lnTo>
                  <a:lnTo>
                    <a:pt x="25" y="97"/>
                  </a:lnTo>
                  <a:lnTo>
                    <a:pt x="30" y="93"/>
                  </a:lnTo>
                  <a:lnTo>
                    <a:pt x="36" y="86"/>
                  </a:lnTo>
                  <a:lnTo>
                    <a:pt x="42" y="80"/>
                  </a:lnTo>
                  <a:lnTo>
                    <a:pt x="49" y="76"/>
                  </a:lnTo>
                  <a:lnTo>
                    <a:pt x="57" y="70"/>
                  </a:lnTo>
                  <a:lnTo>
                    <a:pt x="63" y="65"/>
                  </a:lnTo>
                  <a:lnTo>
                    <a:pt x="70" y="61"/>
                  </a:lnTo>
                  <a:lnTo>
                    <a:pt x="78" y="53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08" y="34"/>
                  </a:lnTo>
                  <a:lnTo>
                    <a:pt x="118" y="32"/>
                  </a:lnTo>
                  <a:lnTo>
                    <a:pt x="123" y="27"/>
                  </a:lnTo>
                  <a:lnTo>
                    <a:pt x="131" y="23"/>
                  </a:lnTo>
                  <a:lnTo>
                    <a:pt x="137" y="19"/>
                  </a:lnTo>
                  <a:lnTo>
                    <a:pt x="144" y="15"/>
                  </a:lnTo>
                  <a:lnTo>
                    <a:pt x="152" y="11"/>
                  </a:lnTo>
                  <a:lnTo>
                    <a:pt x="158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978480" y="1430280"/>
              <a:ext cx="3636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73000" y="1436760"/>
              <a:ext cx="104400" cy="7308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51400" y="1446480"/>
              <a:ext cx="114120" cy="237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55" y="4"/>
                  </a:move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9" y="4"/>
                  </a:lnTo>
                  <a:lnTo>
                    <a:pt x="99" y="8"/>
                  </a:lnTo>
                  <a:lnTo>
                    <a:pt x="110" y="12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31" y="23"/>
                  </a:lnTo>
                  <a:lnTo>
                    <a:pt x="137" y="25"/>
                  </a:lnTo>
                  <a:lnTo>
                    <a:pt x="145" y="27"/>
                  </a:lnTo>
                  <a:lnTo>
                    <a:pt x="145" y="29"/>
                  </a:lnTo>
                  <a:lnTo>
                    <a:pt x="135" y="29"/>
                  </a:lnTo>
                  <a:lnTo>
                    <a:pt x="126" y="31"/>
                  </a:lnTo>
                  <a:lnTo>
                    <a:pt x="116" y="31"/>
                  </a:lnTo>
                  <a:lnTo>
                    <a:pt x="108" y="31"/>
                  </a:lnTo>
                  <a:lnTo>
                    <a:pt x="99" y="29"/>
                  </a:lnTo>
                  <a:lnTo>
                    <a:pt x="89" y="29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3" y="25"/>
                  </a:lnTo>
                  <a:lnTo>
                    <a:pt x="53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4"/>
                  </a:lnTo>
                  <a:lnTo>
                    <a:pt x="13" y="12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64960" y="1455840"/>
              <a:ext cx="150480" cy="1490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50" y="2"/>
                  </a:moveTo>
                  <a:lnTo>
                    <a:pt x="154" y="0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3" y="3"/>
                  </a:lnTo>
                  <a:lnTo>
                    <a:pt x="163" y="7"/>
                  </a:lnTo>
                  <a:lnTo>
                    <a:pt x="162" y="17"/>
                  </a:lnTo>
                  <a:lnTo>
                    <a:pt x="156" y="22"/>
                  </a:lnTo>
                  <a:lnTo>
                    <a:pt x="150" y="32"/>
                  </a:lnTo>
                  <a:lnTo>
                    <a:pt x="148" y="40"/>
                  </a:lnTo>
                  <a:lnTo>
                    <a:pt x="150" y="47"/>
                  </a:lnTo>
                  <a:lnTo>
                    <a:pt x="160" y="43"/>
                  </a:lnTo>
                  <a:lnTo>
                    <a:pt x="169" y="43"/>
                  </a:lnTo>
                  <a:lnTo>
                    <a:pt x="177" y="43"/>
                  </a:lnTo>
                  <a:lnTo>
                    <a:pt x="182" y="43"/>
                  </a:lnTo>
                  <a:lnTo>
                    <a:pt x="188" y="47"/>
                  </a:lnTo>
                  <a:lnTo>
                    <a:pt x="190" y="53"/>
                  </a:lnTo>
                  <a:lnTo>
                    <a:pt x="184" y="59"/>
                  </a:lnTo>
                  <a:lnTo>
                    <a:pt x="175" y="68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4" y="83"/>
                  </a:lnTo>
                  <a:lnTo>
                    <a:pt x="146" y="89"/>
                  </a:lnTo>
                  <a:lnTo>
                    <a:pt x="137" y="95"/>
                  </a:lnTo>
                  <a:lnTo>
                    <a:pt x="127" y="100"/>
                  </a:lnTo>
                  <a:lnTo>
                    <a:pt x="118" y="106"/>
                  </a:lnTo>
                  <a:lnTo>
                    <a:pt x="108" y="114"/>
                  </a:lnTo>
                  <a:lnTo>
                    <a:pt x="99" y="119"/>
                  </a:lnTo>
                  <a:lnTo>
                    <a:pt x="89" y="125"/>
                  </a:lnTo>
                  <a:lnTo>
                    <a:pt x="80" y="133"/>
                  </a:lnTo>
                  <a:lnTo>
                    <a:pt x="70" y="140"/>
                  </a:lnTo>
                  <a:lnTo>
                    <a:pt x="61" y="144"/>
                  </a:lnTo>
                  <a:lnTo>
                    <a:pt x="51" y="152"/>
                  </a:lnTo>
                  <a:lnTo>
                    <a:pt x="42" y="157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5" y="176"/>
                  </a:lnTo>
                  <a:lnTo>
                    <a:pt x="19" y="180"/>
                  </a:lnTo>
                  <a:lnTo>
                    <a:pt x="15" y="188"/>
                  </a:lnTo>
                  <a:lnTo>
                    <a:pt x="11" y="178"/>
                  </a:lnTo>
                  <a:lnTo>
                    <a:pt x="13" y="169"/>
                  </a:lnTo>
                  <a:lnTo>
                    <a:pt x="21" y="157"/>
                  </a:lnTo>
                  <a:lnTo>
                    <a:pt x="25" y="148"/>
                  </a:lnTo>
                  <a:lnTo>
                    <a:pt x="25" y="144"/>
                  </a:lnTo>
                  <a:lnTo>
                    <a:pt x="23" y="142"/>
                  </a:lnTo>
                  <a:lnTo>
                    <a:pt x="17" y="140"/>
                  </a:lnTo>
                  <a:lnTo>
                    <a:pt x="11" y="142"/>
                  </a:lnTo>
                  <a:lnTo>
                    <a:pt x="6" y="144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6" y="135"/>
                  </a:lnTo>
                  <a:lnTo>
                    <a:pt x="13" y="125"/>
                  </a:lnTo>
                  <a:lnTo>
                    <a:pt x="21" y="116"/>
                  </a:lnTo>
                  <a:lnTo>
                    <a:pt x="30" y="106"/>
                  </a:lnTo>
                  <a:lnTo>
                    <a:pt x="38" y="97"/>
                  </a:lnTo>
                  <a:lnTo>
                    <a:pt x="47" y="87"/>
                  </a:lnTo>
                  <a:lnTo>
                    <a:pt x="57" y="79"/>
                  </a:lnTo>
                  <a:lnTo>
                    <a:pt x="68" y="70"/>
                  </a:lnTo>
                  <a:lnTo>
                    <a:pt x="78" y="60"/>
                  </a:lnTo>
                  <a:lnTo>
                    <a:pt x="87" y="51"/>
                  </a:lnTo>
                  <a:lnTo>
                    <a:pt x="97" y="43"/>
                  </a:lnTo>
                  <a:lnTo>
                    <a:pt x="108" y="34"/>
                  </a:lnTo>
                  <a:lnTo>
                    <a:pt x="118" y="26"/>
                  </a:lnTo>
                  <a:lnTo>
                    <a:pt x="129" y="17"/>
                  </a:lnTo>
                  <a:lnTo>
                    <a:pt x="139" y="9"/>
                  </a:lnTo>
                  <a:lnTo>
                    <a:pt x="150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59760" y="1454400"/>
              <a:ext cx="310680" cy="28872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352" y="4"/>
                  </a:moveTo>
                  <a:lnTo>
                    <a:pt x="361" y="0"/>
                  </a:lnTo>
                  <a:lnTo>
                    <a:pt x="371" y="0"/>
                  </a:lnTo>
                  <a:lnTo>
                    <a:pt x="378" y="2"/>
                  </a:lnTo>
                  <a:lnTo>
                    <a:pt x="386" y="5"/>
                  </a:lnTo>
                  <a:lnTo>
                    <a:pt x="390" y="7"/>
                  </a:lnTo>
                  <a:lnTo>
                    <a:pt x="392" y="15"/>
                  </a:lnTo>
                  <a:lnTo>
                    <a:pt x="392" y="19"/>
                  </a:lnTo>
                  <a:lnTo>
                    <a:pt x="392" y="23"/>
                  </a:lnTo>
                  <a:lnTo>
                    <a:pt x="392" y="28"/>
                  </a:lnTo>
                  <a:lnTo>
                    <a:pt x="392" y="34"/>
                  </a:lnTo>
                  <a:lnTo>
                    <a:pt x="382" y="36"/>
                  </a:lnTo>
                  <a:lnTo>
                    <a:pt x="375" y="38"/>
                  </a:lnTo>
                  <a:lnTo>
                    <a:pt x="367" y="40"/>
                  </a:lnTo>
                  <a:lnTo>
                    <a:pt x="361" y="42"/>
                  </a:lnTo>
                  <a:lnTo>
                    <a:pt x="354" y="43"/>
                  </a:lnTo>
                  <a:lnTo>
                    <a:pt x="346" y="47"/>
                  </a:lnTo>
                  <a:lnTo>
                    <a:pt x="338" y="51"/>
                  </a:lnTo>
                  <a:lnTo>
                    <a:pt x="333" y="53"/>
                  </a:lnTo>
                  <a:lnTo>
                    <a:pt x="325" y="57"/>
                  </a:lnTo>
                  <a:lnTo>
                    <a:pt x="317" y="61"/>
                  </a:lnTo>
                  <a:lnTo>
                    <a:pt x="310" y="62"/>
                  </a:lnTo>
                  <a:lnTo>
                    <a:pt x="304" y="66"/>
                  </a:lnTo>
                  <a:lnTo>
                    <a:pt x="297" y="70"/>
                  </a:lnTo>
                  <a:lnTo>
                    <a:pt x="289" y="74"/>
                  </a:lnTo>
                  <a:lnTo>
                    <a:pt x="283" y="78"/>
                  </a:lnTo>
                  <a:lnTo>
                    <a:pt x="278" y="83"/>
                  </a:lnTo>
                  <a:lnTo>
                    <a:pt x="270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4"/>
                  </a:lnTo>
                  <a:lnTo>
                    <a:pt x="236" y="108"/>
                  </a:lnTo>
                  <a:lnTo>
                    <a:pt x="230" y="114"/>
                  </a:lnTo>
                  <a:lnTo>
                    <a:pt x="224" y="118"/>
                  </a:lnTo>
                  <a:lnTo>
                    <a:pt x="217" y="123"/>
                  </a:lnTo>
                  <a:lnTo>
                    <a:pt x="211" y="127"/>
                  </a:lnTo>
                  <a:lnTo>
                    <a:pt x="205" y="133"/>
                  </a:lnTo>
                  <a:lnTo>
                    <a:pt x="198" y="138"/>
                  </a:lnTo>
                  <a:lnTo>
                    <a:pt x="192" y="144"/>
                  </a:lnTo>
                  <a:lnTo>
                    <a:pt x="186" y="150"/>
                  </a:lnTo>
                  <a:lnTo>
                    <a:pt x="179" y="154"/>
                  </a:lnTo>
                  <a:lnTo>
                    <a:pt x="173" y="161"/>
                  </a:lnTo>
                  <a:lnTo>
                    <a:pt x="183" y="158"/>
                  </a:lnTo>
                  <a:lnTo>
                    <a:pt x="194" y="154"/>
                  </a:lnTo>
                  <a:lnTo>
                    <a:pt x="203" y="150"/>
                  </a:lnTo>
                  <a:lnTo>
                    <a:pt x="215" y="144"/>
                  </a:lnTo>
                  <a:lnTo>
                    <a:pt x="226" y="138"/>
                  </a:lnTo>
                  <a:lnTo>
                    <a:pt x="238" y="133"/>
                  </a:lnTo>
                  <a:lnTo>
                    <a:pt x="249" y="127"/>
                  </a:lnTo>
                  <a:lnTo>
                    <a:pt x="260" y="121"/>
                  </a:lnTo>
                  <a:lnTo>
                    <a:pt x="270" y="116"/>
                  </a:lnTo>
                  <a:lnTo>
                    <a:pt x="281" y="110"/>
                  </a:lnTo>
                  <a:lnTo>
                    <a:pt x="287" y="106"/>
                  </a:lnTo>
                  <a:lnTo>
                    <a:pt x="295" y="106"/>
                  </a:lnTo>
                  <a:lnTo>
                    <a:pt x="300" y="104"/>
                  </a:lnTo>
                  <a:lnTo>
                    <a:pt x="306" y="102"/>
                  </a:lnTo>
                  <a:lnTo>
                    <a:pt x="314" y="100"/>
                  </a:lnTo>
                  <a:lnTo>
                    <a:pt x="319" y="99"/>
                  </a:lnTo>
                  <a:lnTo>
                    <a:pt x="325" y="97"/>
                  </a:lnTo>
                  <a:lnTo>
                    <a:pt x="333" y="97"/>
                  </a:lnTo>
                  <a:lnTo>
                    <a:pt x="338" y="97"/>
                  </a:lnTo>
                  <a:lnTo>
                    <a:pt x="344" y="97"/>
                  </a:lnTo>
                  <a:lnTo>
                    <a:pt x="352" y="97"/>
                  </a:lnTo>
                  <a:lnTo>
                    <a:pt x="359" y="99"/>
                  </a:lnTo>
                  <a:lnTo>
                    <a:pt x="350" y="104"/>
                  </a:lnTo>
                  <a:lnTo>
                    <a:pt x="338" y="112"/>
                  </a:lnTo>
                  <a:lnTo>
                    <a:pt x="327" y="118"/>
                  </a:lnTo>
                  <a:lnTo>
                    <a:pt x="317" y="123"/>
                  </a:lnTo>
                  <a:lnTo>
                    <a:pt x="310" y="127"/>
                  </a:lnTo>
                  <a:lnTo>
                    <a:pt x="306" y="131"/>
                  </a:lnTo>
                  <a:lnTo>
                    <a:pt x="298" y="133"/>
                  </a:lnTo>
                  <a:lnTo>
                    <a:pt x="295" y="137"/>
                  </a:lnTo>
                  <a:lnTo>
                    <a:pt x="287" y="140"/>
                  </a:lnTo>
                  <a:lnTo>
                    <a:pt x="281" y="142"/>
                  </a:lnTo>
                  <a:lnTo>
                    <a:pt x="276" y="146"/>
                  </a:lnTo>
                  <a:lnTo>
                    <a:pt x="270" y="150"/>
                  </a:lnTo>
                  <a:lnTo>
                    <a:pt x="264" y="152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45" y="161"/>
                  </a:lnTo>
                  <a:lnTo>
                    <a:pt x="240" y="165"/>
                  </a:lnTo>
                  <a:lnTo>
                    <a:pt x="232" y="169"/>
                  </a:lnTo>
                  <a:lnTo>
                    <a:pt x="226" y="171"/>
                  </a:lnTo>
                  <a:lnTo>
                    <a:pt x="221" y="175"/>
                  </a:lnTo>
                  <a:lnTo>
                    <a:pt x="213" y="178"/>
                  </a:lnTo>
                  <a:lnTo>
                    <a:pt x="207" y="180"/>
                  </a:lnTo>
                  <a:lnTo>
                    <a:pt x="202" y="184"/>
                  </a:lnTo>
                  <a:lnTo>
                    <a:pt x="194" y="188"/>
                  </a:lnTo>
                  <a:lnTo>
                    <a:pt x="188" y="190"/>
                  </a:lnTo>
                  <a:lnTo>
                    <a:pt x="181" y="196"/>
                  </a:lnTo>
                  <a:lnTo>
                    <a:pt x="175" y="199"/>
                  </a:lnTo>
                  <a:lnTo>
                    <a:pt x="169" y="203"/>
                  </a:lnTo>
                  <a:lnTo>
                    <a:pt x="163" y="207"/>
                  </a:lnTo>
                  <a:lnTo>
                    <a:pt x="158" y="209"/>
                  </a:lnTo>
                  <a:lnTo>
                    <a:pt x="150" y="213"/>
                  </a:lnTo>
                  <a:lnTo>
                    <a:pt x="144" y="216"/>
                  </a:lnTo>
                  <a:lnTo>
                    <a:pt x="139" y="220"/>
                  </a:lnTo>
                  <a:lnTo>
                    <a:pt x="131" y="224"/>
                  </a:lnTo>
                  <a:lnTo>
                    <a:pt x="127" y="228"/>
                  </a:lnTo>
                  <a:lnTo>
                    <a:pt x="122" y="234"/>
                  </a:lnTo>
                  <a:lnTo>
                    <a:pt x="110" y="243"/>
                  </a:lnTo>
                  <a:lnTo>
                    <a:pt x="99" y="251"/>
                  </a:lnTo>
                  <a:lnTo>
                    <a:pt x="87" y="260"/>
                  </a:lnTo>
                  <a:lnTo>
                    <a:pt x="78" y="272"/>
                  </a:lnTo>
                  <a:lnTo>
                    <a:pt x="68" y="281"/>
                  </a:lnTo>
                  <a:lnTo>
                    <a:pt x="59" y="291"/>
                  </a:lnTo>
                  <a:lnTo>
                    <a:pt x="51" y="302"/>
                  </a:lnTo>
                  <a:lnTo>
                    <a:pt x="46" y="313"/>
                  </a:lnTo>
                  <a:lnTo>
                    <a:pt x="42" y="319"/>
                  </a:lnTo>
                  <a:lnTo>
                    <a:pt x="38" y="325"/>
                  </a:lnTo>
                  <a:lnTo>
                    <a:pt x="36" y="332"/>
                  </a:lnTo>
                  <a:lnTo>
                    <a:pt x="32" y="338"/>
                  </a:lnTo>
                  <a:lnTo>
                    <a:pt x="29" y="344"/>
                  </a:lnTo>
                  <a:lnTo>
                    <a:pt x="27" y="351"/>
                  </a:lnTo>
                  <a:lnTo>
                    <a:pt x="25" y="357"/>
                  </a:lnTo>
                  <a:lnTo>
                    <a:pt x="23" y="365"/>
                  </a:lnTo>
                  <a:lnTo>
                    <a:pt x="17" y="365"/>
                  </a:lnTo>
                  <a:lnTo>
                    <a:pt x="13" y="365"/>
                  </a:lnTo>
                  <a:lnTo>
                    <a:pt x="8" y="363"/>
                  </a:lnTo>
                  <a:lnTo>
                    <a:pt x="0" y="363"/>
                  </a:lnTo>
                  <a:lnTo>
                    <a:pt x="2" y="351"/>
                  </a:lnTo>
                  <a:lnTo>
                    <a:pt x="6" y="342"/>
                  </a:lnTo>
                  <a:lnTo>
                    <a:pt x="8" y="332"/>
                  </a:lnTo>
                  <a:lnTo>
                    <a:pt x="9" y="323"/>
                  </a:lnTo>
                  <a:lnTo>
                    <a:pt x="11" y="313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7" y="285"/>
                  </a:lnTo>
                  <a:lnTo>
                    <a:pt x="17" y="273"/>
                  </a:lnTo>
                  <a:lnTo>
                    <a:pt x="19" y="264"/>
                  </a:lnTo>
                  <a:lnTo>
                    <a:pt x="19" y="254"/>
                  </a:lnTo>
                  <a:lnTo>
                    <a:pt x="21" y="245"/>
                  </a:lnTo>
                  <a:lnTo>
                    <a:pt x="21" y="234"/>
                  </a:lnTo>
                  <a:lnTo>
                    <a:pt x="21" y="224"/>
                  </a:lnTo>
                  <a:lnTo>
                    <a:pt x="21" y="213"/>
                  </a:lnTo>
                  <a:lnTo>
                    <a:pt x="21" y="201"/>
                  </a:lnTo>
                  <a:lnTo>
                    <a:pt x="13" y="201"/>
                  </a:lnTo>
                  <a:lnTo>
                    <a:pt x="6" y="207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8" y="196"/>
                  </a:lnTo>
                  <a:lnTo>
                    <a:pt x="13" y="188"/>
                  </a:lnTo>
                  <a:lnTo>
                    <a:pt x="23" y="177"/>
                  </a:lnTo>
                  <a:lnTo>
                    <a:pt x="32" y="165"/>
                  </a:lnTo>
                  <a:lnTo>
                    <a:pt x="42" y="154"/>
                  </a:lnTo>
                  <a:lnTo>
                    <a:pt x="51" y="144"/>
                  </a:lnTo>
                  <a:lnTo>
                    <a:pt x="63" y="133"/>
                  </a:lnTo>
                  <a:lnTo>
                    <a:pt x="72" y="123"/>
                  </a:lnTo>
                  <a:lnTo>
                    <a:pt x="82" y="114"/>
                  </a:lnTo>
                  <a:lnTo>
                    <a:pt x="93" y="106"/>
                  </a:lnTo>
                  <a:lnTo>
                    <a:pt x="103" y="99"/>
                  </a:lnTo>
                  <a:lnTo>
                    <a:pt x="114" y="97"/>
                  </a:lnTo>
                  <a:lnTo>
                    <a:pt x="124" y="93"/>
                  </a:lnTo>
                  <a:lnTo>
                    <a:pt x="133" y="95"/>
                  </a:lnTo>
                  <a:lnTo>
                    <a:pt x="141" y="99"/>
                  </a:lnTo>
                  <a:lnTo>
                    <a:pt x="150" y="106"/>
                  </a:lnTo>
                  <a:lnTo>
                    <a:pt x="160" y="97"/>
                  </a:lnTo>
                  <a:lnTo>
                    <a:pt x="171" y="89"/>
                  </a:lnTo>
                  <a:lnTo>
                    <a:pt x="177" y="85"/>
                  </a:lnTo>
                  <a:lnTo>
                    <a:pt x="184" y="80"/>
                  </a:lnTo>
                  <a:lnTo>
                    <a:pt x="190" y="76"/>
                  </a:lnTo>
                  <a:lnTo>
                    <a:pt x="196" y="72"/>
                  </a:lnTo>
                  <a:lnTo>
                    <a:pt x="202" y="68"/>
                  </a:lnTo>
                  <a:lnTo>
                    <a:pt x="207" y="64"/>
                  </a:lnTo>
                  <a:lnTo>
                    <a:pt x="215" y="61"/>
                  </a:lnTo>
                  <a:lnTo>
                    <a:pt x="221" y="59"/>
                  </a:lnTo>
                  <a:lnTo>
                    <a:pt x="226" y="53"/>
                  </a:lnTo>
                  <a:lnTo>
                    <a:pt x="234" y="51"/>
                  </a:lnTo>
                  <a:lnTo>
                    <a:pt x="240" y="47"/>
                  </a:lnTo>
                  <a:lnTo>
                    <a:pt x="245" y="43"/>
                  </a:lnTo>
                  <a:lnTo>
                    <a:pt x="251" y="40"/>
                  </a:lnTo>
                  <a:lnTo>
                    <a:pt x="259" y="36"/>
                  </a:lnTo>
                  <a:lnTo>
                    <a:pt x="264" y="34"/>
                  </a:lnTo>
                  <a:lnTo>
                    <a:pt x="270" y="30"/>
                  </a:lnTo>
                  <a:lnTo>
                    <a:pt x="278" y="26"/>
                  </a:lnTo>
                  <a:lnTo>
                    <a:pt x="283" y="24"/>
                  </a:lnTo>
                  <a:lnTo>
                    <a:pt x="289" y="23"/>
                  </a:lnTo>
                  <a:lnTo>
                    <a:pt x="297" y="19"/>
                  </a:lnTo>
                  <a:lnTo>
                    <a:pt x="304" y="17"/>
                  </a:lnTo>
                  <a:lnTo>
                    <a:pt x="310" y="13"/>
                  </a:lnTo>
                  <a:lnTo>
                    <a:pt x="316" y="11"/>
                  </a:lnTo>
                  <a:lnTo>
                    <a:pt x="323" y="9"/>
                  </a:lnTo>
                  <a:lnTo>
                    <a:pt x="329" y="7"/>
                  </a:lnTo>
                  <a:lnTo>
                    <a:pt x="336" y="5"/>
                  </a:lnTo>
                  <a:lnTo>
                    <a:pt x="344" y="4"/>
                  </a:lnTo>
                  <a:lnTo>
                    <a:pt x="352" y="4"/>
                  </a:lnTo>
                  <a:lnTo>
                    <a:pt x="35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61880" y="1484280"/>
              <a:ext cx="37440" cy="12888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9" y="0"/>
                  </a:moveTo>
                  <a:lnTo>
                    <a:pt x="15" y="4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0" y="28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38" y="76"/>
                  </a:lnTo>
                  <a:lnTo>
                    <a:pt x="38" y="81"/>
                  </a:lnTo>
                  <a:lnTo>
                    <a:pt x="38" y="87"/>
                  </a:lnTo>
                  <a:lnTo>
                    <a:pt x="38" y="95"/>
                  </a:lnTo>
                  <a:lnTo>
                    <a:pt x="38" y="99"/>
                  </a:lnTo>
                  <a:lnTo>
                    <a:pt x="39" y="106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39" y="123"/>
                  </a:lnTo>
                  <a:lnTo>
                    <a:pt x="41" y="129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45" y="152"/>
                  </a:lnTo>
                  <a:lnTo>
                    <a:pt x="49" y="161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2" y="144"/>
                  </a:lnTo>
                  <a:lnTo>
                    <a:pt x="17" y="137"/>
                  </a:lnTo>
                  <a:lnTo>
                    <a:pt x="11" y="125"/>
                  </a:lnTo>
                  <a:lnTo>
                    <a:pt x="7" y="116"/>
                  </a:lnTo>
                  <a:lnTo>
                    <a:pt x="5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3" y="91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68000" y="1501920"/>
              <a:ext cx="133200" cy="665280"/>
            </a:xfrm>
            <a:custGeom>
              <a:avLst/>
              <a:gdLst/>
              <a:ahLst/>
              <a:rect l="l" t="t" r="r" b="b"/>
              <a:pathLst>
                <a:path w="167" h="836">
                  <a:moveTo>
                    <a:pt x="0" y="0"/>
                  </a:moveTo>
                  <a:lnTo>
                    <a:pt x="4" y="7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2" y="34"/>
                  </a:lnTo>
                  <a:lnTo>
                    <a:pt x="13" y="43"/>
                  </a:lnTo>
                  <a:lnTo>
                    <a:pt x="17" y="51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23" y="79"/>
                  </a:lnTo>
                  <a:lnTo>
                    <a:pt x="25" y="89"/>
                  </a:lnTo>
                  <a:lnTo>
                    <a:pt x="27" y="98"/>
                  </a:lnTo>
                  <a:lnTo>
                    <a:pt x="29" y="108"/>
                  </a:lnTo>
                  <a:lnTo>
                    <a:pt x="31" y="117"/>
                  </a:lnTo>
                  <a:lnTo>
                    <a:pt x="32" y="127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8" y="165"/>
                  </a:lnTo>
                  <a:lnTo>
                    <a:pt x="40" y="174"/>
                  </a:lnTo>
                  <a:lnTo>
                    <a:pt x="42" y="184"/>
                  </a:lnTo>
                  <a:lnTo>
                    <a:pt x="44" y="193"/>
                  </a:lnTo>
                  <a:lnTo>
                    <a:pt x="46" y="205"/>
                  </a:lnTo>
                  <a:lnTo>
                    <a:pt x="46" y="214"/>
                  </a:lnTo>
                  <a:lnTo>
                    <a:pt x="50" y="226"/>
                  </a:lnTo>
                  <a:lnTo>
                    <a:pt x="50" y="235"/>
                  </a:lnTo>
                  <a:lnTo>
                    <a:pt x="51" y="245"/>
                  </a:lnTo>
                  <a:lnTo>
                    <a:pt x="51" y="254"/>
                  </a:lnTo>
                  <a:lnTo>
                    <a:pt x="53" y="266"/>
                  </a:lnTo>
                  <a:lnTo>
                    <a:pt x="55" y="275"/>
                  </a:lnTo>
                  <a:lnTo>
                    <a:pt x="57" y="285"/>
                  </a:lnTo>
                  <a:lnTo>
                    <a:pt x="59" y="296"/>
                  </a:lnTo>
                  <a:lnTo>
                    <a:pt x="61" y="306"/>
                  </a:lnTo>
                  <a:lnTo>
                    <a:pt x="61" y="317"/>
                  </a:lnTo>
                  <a:lnTo>
                    <a:pt x="63" y="327"/>
                  </a:lnTo>
                  <a:lnTo>
                    <a:pt x="63" y="336"/>
                  </a:lnTo>
                  <a:lnTo>
                    <a:pt x="65" y="346"/>
                  </a:lnTo>
                  <a:lnTo>
                    <a:pt x="67" y="355"/>
                  </a:lnTo>
                  <a:lnTo>
                    <a:pt x="69" y="366"/>
                  </a:lnTo>
                  <a:lnTo>
                    <a:pt x="71" y="376"/>
                  </a:lnTo>
                  <a:lnTo>
                    <a:pt x="72" y="385"/>
                  </a:lnTo>
                  <a:lnTo>
                    <a:pt x="74" y="395"/>
                  </a:lnTo>
                  <a:lnTo>
                    <a:pt x="76" y="404"/>
                  </a:lnTo>
                  <a:lnTo>
                    <a:pt x="78" y="414"/>
                  </a:lnTo>
                  <a:lnTo>
                    <a:pt x="80" y="425"/>
                  </a:lnTo>
                  <a:lnTo>
                    <a:pt x="82" y="435"/>
                  </a:lnTo>
                  <a:lnTo>
                    <a:pt x="84" y="446"/>
                  </a:lnTo>
                  <a:lnTo>
                    <a:pt x="88" y="456"/>
                  </a:lnTo>
                  <a:lnTo>
                    <a:pt x="91" y="465"/>
                  </a:lnTo>
                  <a:lnTo>
                    <a:pt x="93" y="475"/>
                  </a:lnTo>
                  <a:lnTo>
                    <a:pt x="97" y="484"/>
                  </a:lnTo>
                  <a:lnTo>
                    <a:pt x="99" y="494"/>
                  </a:lnTo>
                  <a:lnTo>
                    <a:pt x="103" y="503"/>
                  </a:lnTo>
                  <a:lnTo>
                    <a:pt x="107" y="513"/>
                  </a:lnTo>
                  <a:lnTo>
                    <a:pt x="109" y="522"/>
                  </a:lnTo>
                  <a:lnTo>
                    <a:pt x="112" y="532"/>
                  </a:lnTo>
                  <a:lnTo>
                    <a:pt x="116" y="541"/>
                  </a:lnTo>
                  <a:lnTo>
                    <a:pt x="120" y="549"/>
                  </a:lnTo>
                  <a:lnTo>
                    <a:pt x="124" y="558"/>
                  </a:lnTo>
                  <a:lnTo>
                    <a:pt x="128" y="568"/>
                  </a:lnTo>
                  <a:lnTo>
                    <a:pt x="133" y="577"/>
                  </a:lnTo>
                  <a:lnTo>
                    <a:pt x="137" y="587"/>
                  </a:lnTo>
                  <a:lnTo>
                    <a:pt x="143" y="596"/>
                  </a:lnTo>
                  <a:lnTo>
                    <a:pt x="147" y="604"/>
                  </a:lnTo>
                  <a:lnTo>
                    <a:pt x="152" y="614"/>
                  </a:lnTo>
                  <a:lnTo>
                    <a:pt x="154" y="623"/>
                  </a:lnTo>
                  <a:lnTo>
                    <a:pt x="156" y="633"/>
                  </a:lnTo>
                  <a:lnTo>
                    <a:pt x="158" y="642"/>
                  </a:lnTo>
                  <a:lnTo>
                    <a:pt x="160" y="652"/>
                  </a:lnTo>
                  <a:lnTo>
                    <a:pt x="162" y="661"/>
                  </a:lnTo>
                  <a:lnTo>
                    <a:pt x="162" y="673"/>
                  </a:lnTo>
                  <a:lnTo>
                    <a:pt x="164" y="684"/>
                  </a:lnTo>
                  <a:lnTo>
                    <a:pt x="166" y="695"/>
                  </a:lnTo>
                  <a:lnTo>
                    <a:pt x="166" y="705"/>
                  </a:lnTo>
                  <a:lnTo>
                    <a:pt x="166" y="714"/>
                  </a:lnTo>
                  <a:lnTo>
                    <a:pt x="166" y="726"/>
                  </a:lnTo>
                  <a:lnTo>
                    <a:pt x="166" y="735"/>
                  </a:lnTo>
                  <a:lnTo>
                    <a:pt x="166" y="747"/>
                  </a:lnTo>
                  <a:lnTo>
                    <a:pt x="166" y="758"/>
                  </a:lnTo>
                  <a:lnTo>
                    <a:pt x="166" y="764"/>
                  </a:lnTo>
                  <a:lnTo>
                    <a:pt x="166" y="769"/>
                  </a:lnTo>
                  <a:lnTo>
                    <a:pt x="166" y="775"/>
                  </a:lnTo>
                  <a:lnTo>
                    <a:pt x="166" y="781"/>
                  </a:lnTo>
                  <a:lnTo>
                    <a:pt x="162" y="781"/>
                  </a:lnTo>
                  <a:lnTo>
                    <a:pt x="158" y="781"/>
                  </a:lnTo>
                  <a:lnTo>
                    <a:pt x="156" y="771"/>
                  </a:lnTo>
                  <a:lnTo>
                    <a:pt x="154" y="762"/>
                  </a:lnTo>
                  <a:lnTo>
                    <a:pt x="152" y="756"/>
                  </a:lnTo>
                  <a:lnTo>
                    <a:pt x="152" y="750"/>
                  </a:lnTo>
                  <a:lnTo>
                    <a:pt x="147" y="743"/>
                  </a:lnTo>
                  <a:lnTo>
                    <a:pt x="145" y="739"/>
                  </a:lnTo>
                  <a:lnTo>
                    <a:pt x="139" y="739"/>
                  </a:lnTo>
                  <a:lnTo>
                    <a:pt x="137" y="743"/>
                  </a:lnTo>
                  <a:lnTo>
                    <a:pt x="133" y="749"/>
                  </a:lnTo>
                  <a:lnTo>
                    <a:pt x="133" y="758"/>
                  </a:lnTo>
                  <a:lnTo>
                    <a:pt x="129" y="766"/>
                  </a:lnTo>
                  <a:lnTo>
                    <a:pt x="129" y="777"/>
                  </a:lnTo>
                  <a:lnTo>
                    <a:pt x="129" y="783"/>
                  </a:lnTo>
                  <a:lnTo>
                    <a:pt x="129" y="788"/>
                  </a:lnTo>
                  <a:lnTo>
                    <a:pt x="131" y="794"/>
                  </a:lnTo>
                  <a:lnTo>
                    <a:pt x="135" y="800"/>
                  </a:lnTo>
                  <a:lnTo>
                    <a:pt x="139" y="809"/>
                  </a:lnTo>
                  <a:lnTo>
                    <a:pt x="147" y="821"/>
                  </a:lnTo>
                  <a:lnTo>
                    <a:pt x="148" y="825"/>
                  </a:lnTo>
                  <a:lnTo>
                    <a:pt x="156" y="830"/>
                  </a:lnTo>
                  <a:lnTo>
                    <a:pt x="162" y="832"/>
                  </a:lnTo>
                  <a:lnTo>
                    <a:pt x="167" y="836"/>
                  </a:lnTo>
                  <a:lnTo>
                    <a:pt x="162" y="834"/>
                  </a:lnTo>
                  <a:lnTo>
                    <a:pt x="156" y="830"/>
                  </a:lnTo>
                  <a:lnTo>
                    <a:pt x="150" y="827"/>
                  </a:lnTo>
                  <a:lnTo>
                    <a:pt x="147" y="825"/>
                  </a:lnTo>
                  <a:lnTo>
                    <a:pt x="137" y="817"/>
                  </a:lnTo>
                  <a:lnTo>
                    <a:pt x="129" y="811"/>
                  </a:lnTo>
                  <a:lnTo>
                    <a:pt x="122" y="804"/>
                  </a:lnTo>
                  <a:lnTo>
                    <a:pt x="116" y="796"/>
                  </a:lnTo>
                  <a:lnTo>
                    <a:pt x="110" y="787"/>
                  </a:lnTo>
                  <a:lnTo>
                    <a:pt x="107" y="779"/>
                  </a:lnTo>
                  <a:lnTo>
                    <a:pt x="103" y="769"/>
                  </a:lnTo>
                  <a:lnTo>
                    <a:pt x="99" y="760"/>
                  </a:lnTo>
                  <a:lnTo>
                    <a:pt x="97" y="750"/>
                  </a:lnTo>
                  <a:lnTo>
                    <a:pt x="97" y="741"/>
                  </a:lnTo>
                  <a:lnTo>
                    <a:pt x="93" y="730"/>
                  </a:lnTo>
                  <a:lnTo>
                    <a:pt x="93" y="718"/>
                  </a:lnTo>
                  <a:lnTo>
                    <a:pt x="93" y="709"/>
                  </a:lnTo>
                  <a:lnTo>
                    <a:pt x="93" y="699"/>
                  </a:lnTo>
                  <a:lnTo>
                    <a:pt x="93" y="693"/>
                  </a:lnTo>
                  <a:lnTo>
                    <a:pt x="93" y="688"/>
                  </a:lnTo>
                  <a:lnTo>
                    <a:pt x="93" y="680"/>
                  </a:lnTo>
                  <a:lnTo>
                    <a:pt x="93" y="676"/>
                  </a:lnTo>
                  <a:lnTo>
                    <a:pt x="93" y="665"/>
                  </a:lnTo>
                  <a:lnTo>
                    <a:pt x="95" y="654"/>
                  </a:lnTo>
                  <a:lnTo>
                    <a:pt x="95" y="642"/>
                  </a:lnTo>
                  <a:lnTo>
                    <a:pt x="97" y="631"/>
                  </a:lnTo>
                  <a:lnTo>
                    <a:pt x="97" y="619"/>
                  </a:lnTo>
                  <a:lnTo>
                    <a:pt x="99" y="610"/>
                  </a:lnTo>
                  <a:lnTo>
                    <a:pt x="97" y="598"/>
                  </a:lnTo>
                  <a:lnTo>
                    <a:pt x="97" y="587"/>
                  </a:lnTo>
                  <a:lnTo>
                    <a:pt x="97" y="576"/>
                  </a:lnTo>
                  <a:lnTo>
                    <a:pt x="97" y="566"/>
                  </a:lnTo>
                  <a:lnTo>
                    <a:pt x="95" y="557"/>
                  </a:lnTo>
                  <a:lnTo>
                    <a:pt x="93" y="545"/>
                  </a:lnTo>
                  <a:lnTo>
                    <a:pt x="91" y="536"/>
                  </a:lnTo>
                  <a:lnTo>
                    <a:pt x="90" y="528"/>
                  </a:lnTo>
                  <a:lnTo>
                    <a:pt x="82" y="519"/>
                  </a:lnTo>
                  <a:lnTo>
                    <a:pt x="74" y="511"/>
                  </a:lnTo>
                  <a:lnTo>
                    <a:pt x="69" y="501"/>
                  </a:lnTo>
                  <a:lnTo>
                    <a:pt x="65" y="492"/>
                  </a:lnTo>
                  <a:lnTo>
                    <a:pt x="59" y="479"/>
                  </a:lnTo>
                  <a:lnTo>
                    <a:pt x="53" y="469"/>
                  </a:lnTo>
                  <a:lnTo>
                    <a:pt x="51" y="458"/>
                  </a:lnTo>
                  <a:lnTo>
                    <a:pt x="48" y="446"/>
                  </a:lnTo>
                  <a:lnTo>
                    <a:pt x="44" y="439"/>
                  </a:lnTo>
                  <a:lnTo>
                    <a:pt x="44" y="433"/>
                  </a:lnTo>
                  <a:lnTo>
                    <a:pt x="42" y="427"/>
                  </a:lnTo>
                  <a:lnTo>
                    <a:pt x="40" y="420"/>
                  </a:lnTo>
                  <a:lnTo>
                    <a:pt x="38" y="412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4" y="385"/>
                  </a:lnTo>
                  <a:lnTo>
                    <a:pt x="34" y="378"/>
                  </a:lnTo>
                  <a:lnTo>
                    <a:pt x="32" y="370"/>
                  </a:lnTo>
                  <a:lnTo>
                    <a:pt x="32" y="365"/>
                  </a:lnTo>
                  <a:lnTo>
                    <a:pt x="32" y="357"/>
                  </a:lnTo>
                  <a:lnTo>
                    <a:pt x="31" y="351"/>
                  </a:lnTo>
                  <a:lnTo>
                    <a:pt x="31" y="344"/>
                  </a:lnTo>
                  <a:lnTo>
                    <a:pt x="31" y="338"/>
                  </a:lnTo>
                  <a:lnTo>
                    <a:pt x="29" y="328"/>
                  </a:lnTo>
                  <a:lnTo>
                    <a:pt x="29" y="321"/>
                  </a:lnTo>
                  <a:lnTo>
                    <a:pt x="27" y="313"/>
                  </a:lnTo>
                  <a:lnTo>
                    <a:pt x="27" y="306"/>
                  </a:lnTo>
                  <a:lnTo>
                    <a:pt x="27" y="300"/>
                  </a:lnTo>
                  <a:lnTo>
                    <a:pt x="25" y="292"/>
                  </a:lnTo>
                  <a:lnTo>
                    <a:pt x="25" y="285"/>
                  </a:lnTo>
                  <a:lnTo>
                    <a:pt x="25" y="277"/>
                  </a:lnTo>
                  <a:lnTo>
                    <a:pt x="25" y="270"/>
                  </a:lnTo>
                  <a:lnTo>
                    <a:pt x="25" y="262"/>
                  </a:lnTo>
                  <a:lnTo>
                    <a:pt x="23" y="254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1"/>
                  </a:lnTo>
                  <a:lnTo>
                    <a:pt x="23" y="226"/>
                  </a:lnTo>
                  <a:lnTo>
                    <a:pt x="23" y="218"/>
                  </a:lnTo>
                  <a:lnTo>
                    <a:pt x="21" y="211"/>
                  </a:lnTo>
                  <a:lnTo>
                    <a:pt x="19" y="203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17" y="182"/>
                  </a:lnTo>
                  <a:lnTo>
                    <a:pt x="17" y="174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5" y="154"/>
                  </a:lnTo>
                  <a:lnTo>
                    <a:pt x="15" y="148"/>
                  </a:lnTo>
                  <a:lnTo>
                    <a:pt x="13" y="140"/>
                  </a:lnTo>
                  <a:lnTo>
                    <a:pt x="13" y="135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8" y="116"/>
                  </a:lnTo>
                  <a:lnTo>
                    <a:pt x="8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4400" y="1532160"/>
              <a:ext cx="59760" cy="239400"/>
            </a:xfrm>
            <a:custGeom>
              <a:avLst/>
              <a:gdLst/>
              <a:ahLst/>
              <a:rect l="l" t="t" r="r" b="b"/>
              <a:pathLst>
                <a:path w="74" h="302">
                  <a:moveTo>
                    <a:pt x="70" y="0"/>
                  </a:moveTo>
                  <a:lnTo>
                    <a:pt x="70" y="9"/>
                  </a:lnTo>
                  <a:lnTo>
                    <a:pt x="72" y="19"/>
                  </a:lnTo>
                  <a:lnTo>
                    <a:pt x="72" y="28"/>
                  </a:lnTo>
                  <a:lnTo>
                    <a:pt x="74" y="38"/>
                  </a:lnTo>
                  <a:lnTo>
                    <a:pt x="74" y="47"/>
                  </a:lnTo>
                  <a:lnTo>
                    <a:pt x="74" y="57"/>
                  </a:lnTo>
                  <a:lnTo>
                    <a:pt x="72" y="66"/>
                  </a:lnTo>
                  <a:lnTo>
                    <a:pt x="72" y="78"/>
                  </a:lnTo>
                  <a:lnTo>
                    <a:pt x="70" y="87"/>
                  </a:lnTo>
                  <a:lnTo>
                    <a:pt x="68" y="97"/>
                  </a:lnTo>
                  <a:lnTo>
                    <a:pt x="66" y="106"/>
                  </a:lnTo>
                  <a:lnTo>
                    <a:pt x="65" y="116"/>
                  </a:lnTo>
                  <a:lnTo>
                    <a:pt x="61" y="125"/>
                  </a:lnTo>
                  <a:lnTo>
                    <a:pt x="59" y="135"/>
                  </a:lnTo>
                  <a:lnTo>
                    <a:pt x="55" y="144"/>
                  </a:lnTo>
                  <a:lnTo>
                    <a:pt x="53" y="154"/>
                  </a:lnTo>
                  <a:lnTo>
                    <a:pt x="49" y="163"/>
                  </a:lnTo>
                  <a:lnTo>
                    <a:pt x="46" y="173"/>
                  </a:lnTo>
                  <a:lnTo>
                    <a:pt x="42" y="180"/>
                  </a:lnTo>
                  <a:lnTo>
                    <a:pt x="40" y="190"/>
                  </a:lnTo>
                  <a:lnTo>
                    <a:pt x="34" y="199"/>
                  </a:lnTo>
                  <a:lnTo>
                    <a:pt x="32" y="209"/>
                  </a:lnTo>
                  <a:lnTo>
                    <a:pt x="28" y="218"/>
                  </a:lnTo>
                  <a:lnTo>
                    <a:pt x="25" y="228"/>
                  </a:lnTo>
                  <a:lnTo>
                    <a:pt x="21" y="237"/>
                  </a:lnTo>
                  <a:lnTo>
                    <a:pt x="17" y="247"/>
                  </a:lnTo>
                  <a:lnTo>
                    <a:pt x="15" y="254"/>
                  </a:lnTo>
                  <a:lnTo>
                    <a:pt x="11" y="264"/>
                  </a:lnTo>
                  <a:lnTo>
                    <a:pt x="7" y="273"/>
                  </a:lnTo>
                  <a:lnTo>
                    <a:pt x="6" y="283"/>
                  </a:lnTo>
                  <a:lnTo>
                    <a:pt x="4" y="292"/>
                  </a:lnTo>
                  <a:lnTo>
                    <a:pt x="2" y="302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6" y="232"/>
                  </a:lnTo>
                  <a:lnTo>
                    <a:pt x="7" y="222"/>
                  </a:lnTo>
                  <a:lnTo>
                    <a:pt x="9" y="212"/>
                  </a:lnTo>
                  <a:lnTo>
                    <a:pt x="13" y="203"/>
                  </a:lnTo>
                  <a:lnTo>
                    <a:pt x="15" y="193"/>
                  </a:lnTo>
                  <a:lnTo>
                    <a:pt x="19" y="184"/>
                  </a:lnTo>
                  <a:lnTo>
                    <a:pt x="23" y="174"/>
                  </a:lnTo>
                  <a:lnTo>
                    <a:pt x="25" y="165"/>
                  </a:lnTo>
                  <a:lnTo>
                    <a:pt x="28" y="155"/>
                  </a:lnTo>
                  <a:lnTo>
                    <a:pt x="32" y="144"/>
                  </a:lnTo>
                  <a:lnTo>
                    <a:pt x="34" y="135"/>
                  </a:lnTo>
                  <a:lnTo>
                    <a:pt x="38" y="125"/>
                  </a:lnTo>
                  <a:lnTo>
                    <a:pt x="42" y="116"/>
                  </a:lnTo>
                  <a:lnTo>
                    <a:pt x="44" y="106"/>
                  </a:lnTo>
                  <a:lnTo>
                    <a:pt x="47" y="97"/>
                  </a:lnTo>
                  <a:lnTo>
                    <a:pt x="51" y="87"/>
                  </a:lnTo>
                  <a:lnTo>
                    <a:pt x="53" y="78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1" y="47"/>
                  </a:lnTo>
                  <a:lnTo>
                    <a:pt x="63" y="38"/>
                  </a:lnTo>
                  <a:lnTo>
                    <a:pt x="65" y="28"/>
                  </a:lnTo>
                  <a:lnTo>
                    <a:pt x="66" y="19"/>
                  </a:lnTo>
                  <a:lnTo>
                    <a:pt x="68" y="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248560" y="1540080"/>
              <a:ext cx="131400" cy="1476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0" y="0"/>
                  </a:moveTo>
                  <a:lnTo>
                    <a:pt x="9" y="8"/>
                  </a:lnTo>
                  <a:lnTo>
                    <a:pt x="19" y="17"/>
                  </a:lnTo>
                  <a:lnTo>
                    <a:pt x="24" y="23"/>
                  </a:lnTo>
                  <a:lnTo>
                    <a:pt x="32" y="29"/>
                  </a:lnTo>
                  <a:lnTo>
                    <a:pt x="38" y="32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7" y="48"/>
                  </a:lnTo>
                  <a:lnTo>
                    <a:pt x="62" y="53"/>
                  </a:lnTo>
                  <a:lnTo>
                    <a:pt x="70" y="61"/>
                  </a:lnTo>
                  <a:lnTo>
                    <a:pt x="76" y="65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95" y="84"/>
                  </a:lnTo>
                  <a:lnTo>
                    <a:pt x="100" y="89"/>
                  </a:lnTo>
                  <a:lnTo>
                    <a:pt x="106" y="97"/>
                  </a:lnTo>
                  <a:lnTo>
                    <a:pt x="110" y="101"/>
                  </a:lnTo>
                  <a:lnTo>
                    <a:pt x="118" y="108"/>
                  </a:lnTo>
                  <a:lnTo>
                    <a:pt x="123" y="114"/>
                  </a:lnTo>
                  <a:lnTo>
                    <a:pt x="127" y="120"/>
                  </a:lnTo>
                  <a:lnTo>
                    <a:pt x="133" y="127"/>
                  </a:lnTo>
                  <a:lnTo>
                    <a:pt x="139" y="133"/>
                  </a:lnTo>
                  <a:lnTo>
                    <a:pt x="142" y="139"/>
                  </a:lnTo>
                  <a:lnTo>
                    <a:pt x="146" y="146"/>
                  </a:lnTo>
                  <a:lnTo>
                    <a:pt x="148" y="152"/>
                  </a:lnTo>
                  <a:lnTo>
                    <a:pt x="154" y="160"/>
                  </a:lnTo>
                  <a:lnTo>
                    <a:pt x="156" y="165"/>
                  </a:lnTo>
                  <a:lnTo>
                    <a:pt x="159" y="173"/>
                  </a:lnTo>
                  <a:lnTo>
                    <a:pt x="161" y="179"/>
                  </a:lnTo>
                  <a:lnTo>
                    <a:pt x="165" y="186"/>
                  </a:lnTo>
                  <a:lnTo>
                    <a:pt x="156" y="181"/>
                  </a:lnTo>
                  <a:lnTo>
                    <a:pt x="148" y="177"/>
                  </a:lnTo>
                  <a:lnTo>
                    <a:pt x="142" y="173"/>
                  </a:lnTo>
                  <a:lnTo>
                    <a:pt x="135" y="169"/>
                  </a:lnTo>
                  <a:lnTo>
                    <a:pt x="127" y="164"/>
                  </a:lnTo>
                  <a:lnTo>
                    <a:pt x="120" y="158"/>
                  </a:lnTo>
                  <a:lnTo>
                    <a:pt x="112" y="152"/>
                  </a:lnTo>
                  <a:lnTo>
                    <a:pt x="106" y="148"/>
                  </a:lnTo>
                  <a:lnTo>
                    <a:pt x="99" y="143"/>
                  </a:lnTo>
                  <a:lnTo>
                    <a:pt x="91" y="137"/>
                  </a:lnTo>
                  <a:lnTo>
                    <a:pt x="85" y="131"/>
                  </a:lnTo>
                  <a:lnTo>
                    <a:pt x="80" y="126"/>
                  </a:lnTo>
                  <a:lnTo>
                    <a:pt x="72" y="120"/>
                  </a:lnTo>
                  <a:lnTo>
                    <a:pt x="64" y="114"/>
                  </a:lnTo>
                  <a:lnTo>
                    <a:pt x="61" y="108"/>
                  </a:lnTo>
                  <a:lnTo>
                    <a:pt x="55" y="103"/>
                  </a:lnTo>
                  <a:lnTo>
                    <a:pt x="49" y="97"/>
                  </a:lnTo>
                  <a:lnTo>
                    <a:pt x="42" y="89"/>
                  </a:lnTo>
                  <a:lnTo>
                    <a:pt x="36" y="84"/>
                  </a:lnTo>
                  <a:lnTo>
                    <a:pt x="32" y="78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19" y="57"/>
                  </a:lnTo>
                  <a:lnTo>
                    <a:pt x="15" y="51"/>
                  </a:lnTo>
                  <a:lnTo>
                    <a:pt x="11" y="44"/>
                  </a:lnTo>
                  <a:lnTo>
                    <a:pt x="7" y="38"/>
                  </a:lnTo>
                  <a:lnTo>
                    <a:pt x="5" y="32"/>
                  </a:lnTo>
                  <a:lnTo>
                    <a:pt x="4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460240" y="1557360"/>
              <a:ext cx="17928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931680" y="1578240"/>
              <a:ext cx="142560" cy="139680"/>
            </a:xfrm>
            <a:custGeom>
              <a:avLst/>
              <a:gdLst/>
              <a:ahLst/>
              <a:rect l="l" t="t" r="r" b="b"/>
              <a:pathLst>
                <a:path w="181" h="176">
                  <a:moveTo>
                    <a:pt x="168" y="0"/>
                  </a:move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75" y="5"/>
                  </a:lnTo>
                  <a:lnTo>
                    <a:pt x="169" y="11"/>
                  </a:lnTo>
                  <a:lnTo>
                    <a:pt x="166" y="17"/>
                  </a:lnTo>
                  <a:lnTo>
                    <a:pt x="160" y="24"/>
                  </a:lnTo>
                  <a:lnTo>
                    <a:pt x="156" y="32"/>
                  </a:lnTo>
                  <a:lnTo>
                    <a:pt x="150" y="40"/>
                  </a:lnTo>
                  <a:lnTo>
                    <a:pt x="147" y="47"/>
                  </a:lnTo>
                  <a:lnTo>
                    <a:pt x="143" y="55"/>
                  </a:lnTo>
                  <a:lnTo>
                    <a:pt x="139" y="62"/>
                  </a:lnTo>
                  <a:lnTo>
                    <a:pt x="137" y="72"/>
                  </a:lnTo>
                  <a:lnTo>
                    <a:pt x="131" y="79"/>
                  </a:lnTo>
                  <a:lnTo>
                    <a:pt x="129" y="87"/>
                  </a:lnTo>
                  <a:lnTo>
                    <a:pt x="124" y="95"/>
                  </a:lnTo>
                  <a:lnTo>
                    <a:pt x="120" y="104"/>
                  </a:lnTo>
                  <a:lnTo>
                    <a:pt x="116" y="112"/>
                  </a:lnTo>
                  <a:lnTo>
                    <a:pt x="112" y="119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38"/>
                  </a:lnTo>
                  <a:lnTo>
                    <a:pt x="93" y="146"/>
                  </a:lnTo>
                  <a:lnTo>
                    <a:pt x="88" y="152"/>
                  </a:lnTo>
                  <a:lnTo>
                    <a:pt x="82" y="157"/>
                  </a:lnTo>
                  <a:lnTo>
                    <a:pt x="76" y="161"/>
                  </a:lnTo>
                  <a:lnTo>
                    <a:pt x="71" y="167"/>
                  </a:lnTo>
                  <a:lnTo>
                    <a:pt x="63" y="169"/>
                  </a:lnTo>
                  <a:lnTo>
                    <a:pt x="55" y="173"/>
                  </a:lnTo>
                  <a:lnTo>
                    <a:pt x="48" y="175"/>
                  </a:lnTo>
                  <a:lnTo>
                    <a:pt x="40" y="176"/>
                  </a:lnTo>
                  <a:lnTo>
                    <a:pt x="31" y="176"/>
                  </a:lnTo>
                  <a:lnTo>
                    <a:pt x="21" y="176"/>
                  </a:lnTo>
                  <a:lnTo>
                    <a:pt x="10" y="176"/>
                  </a:lnTo>
                  <a:lnTo>
                    <a:pt x="0" y="176"/>
                  </a:lnTo>
                  <a:lnTo>
                    <a:pt x="2" y="169"/>
                  </a:lnTo>
                  <a:lnTo>
                    <a:pt x="6" y="161"/>
                  </a:lnTo>
                  <a:lnTo>
                    <a:pt x="10" y="155"/>
                  </a:lnTo>
                  <a:lnTo>
                    <a:pt x="12" y="150"/>
                  </a:lnTo>
                  <a:lnTo>
                    <a:pt x="21" y="136"/>
                  </a:lnTo>
                  <a:lnTo>
                    <a:pt x="31" y="127"/>
                  </a:lnTo>
                  <a:lnTo>
                    <a:pt x="40" y="116"/>
                  </a:lnTo>
                  <a:lnTo>
                    <a:pt x="50" y="104"/>
                  </a:lnTo>
                  <a:lnTo>
                    <a:pt x="55" y="98"/>
                  </a:lnTo>
                  <a:lnTo>
                    <a:pt x="63" y="95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80" y="78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7" y="62"/>
                  </a:lnTo>
                  <a:lnTo>
                    <a:pt x="103" y="57"/>
                  </a:lnTo>
                  <a:lnTo>
                    <a:pt x="110" y="51"/>
                  </a:lnTo>
                  <a:lnTo>
                    <a:pt x="116" y="45"/>
                  </a:lnTo>
                  <a:lnTo>
                    <a:pt x="122" y="41"/>
                  </a:lnTo>
                  <a:lnTo>
                    <a:pt x="128" y="36"/>
                  </a:lnTo>
                  <a:lnTo>
                    <a:pt x="133" y="32"/>
                  </a:lnTo>
                  <a:lnTo>
                    <a:pt x="139" y="24"/>
                  </a:lnTo>
                  <a:lnTo>
                    <a:pt x="147" y="21"/>
                  </a:lnTo>
                  <a:lnTo>
                    <a:pt x="156" y="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93520" y="1586160"/>
              <a:ext cx="72720" cy="11088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91" y="0"/>
                  </a:moveTo>
                  <a:lnTo>
                    <a:pt x="86" y="8"/>
                  </a:lnTo>
                  <a:lnTo>
                    <a:pt x="82" y="15"/>
                  </a:lnTo>
                  <a:lnTo>
                    <a:pt x="78" y="25"/>
                  </a:lnTo>
                  <a:lnTo>
                    <a:pt x="74" y="34"/>
                  </a:lnTo>
                  <a:lnTo>
                    <a:pt x="70" y="4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7" y="76"/>
                  </a:lnTo>
                  <a:lnTo>
                    <a:pt x="51" y="86"/>
                  </a:lnTo>
                  <a:lnTo>
                    <a:pt x="48" y="95"/>
                  </a:lnTo>
                  <a:lnTo>
                    <a:pt x="40" y="105"/>
                  </a:lnTo>
                  <a:lnTo>
                    <a:pt x="34" y="114"/>
                  </a:lnTo>
                  <a:lnTo>
                    <a:pt x="27" y="122"/>
                  </a:lnTo>
                  <a:lnTo>
                    <a:pt x="19" y="129"/>
                  </a:lnTo>
                  <a:lnTo>
                    <a:pt x="10" y="135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8" y="122"/>
                  </a:lnTo>
                  <a:lnTo>
                    <a:pt x="12" y="112"/>
                  </a:lnTo>
                  <a:lnTo>
                    <a:pt x="19" y="103"/>
                  </a:lnTo>
                  <a:lnTo>
                    <a:pt x="23" y="93"/>
                  </a:lnTo>
                  <a:lnTo>
                    <a:pt x="29" y="86"/>
                  </a:lnTo>
                  <a:lnTo>
                    <a:pt x="32" y="76"/>
                  </a:lnTo>
                  <a:lnTo>
                    <a:pt x="40" y="69"/>
                  </a:lnTo>
                  <a:lnTo>
                    <a:pt x="44" y="59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63" y="34"/>
                  </a:lnTo>
                  <a:lnTo>
                    <a:pt x="70" y="25"/>
                  </a:lnTo>
                  <a:lnTo>
                    <a:pt x="78" y="17"/>
                  </a:lnTo>
                  <a:lnTo>
                    <a:pt x="84" y="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889640" y="1595520"/>
              <a:ext cx="255240" cy="297000"/>
            </a:xfrm>
            <a:custGeom>
              <a:avLst/>
              <a:gdLst/>
              <a:ahLst/>
              <a:rect l="l" t="t" r="r" b="b"/>
              <a:pathLst>
                <a:path w="324" h="373">
                  <a:moveTo>
                    <a:pt x="261" y="0"/>
                  </a:moveTo>
                  <a:lnTo>
                    <a:pt x="268" y="0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24" y="2"/>
                  </a:lnTo>
                  <a:lnTo>
                    <a:pt x="324" y="6"/>
                  </a:lnTo>
                  <a:lnTo>
                    <a:pt x="312" y="12"/>
                  </a:lnTo>
                  <a:lnTo>
                    <a:pt x="303" y="19"/>
                  </a:lnTo>
                  <a:lnTo>
                    <a:pt x="289" y="25"/>
                  </a:lnTo>
                  <a:lnTo>
                    <a:pt x="280" y="31"/>
                  </a:lnTo>
                  <a:lnTo>
                    <a:pt x="274" y="33"/>
                  </a:lnTo>
                  <a:lnTo>
                    <a:pt x="267" y="37"/>
                  </a:lnTo>
                  <a:lnTo>
                    <a:pt x="261" y="38"/>
                  </a:lnTo>
                  <a:lnTo>
                    <a:pt x="255" y="40"/>
                  </a:lnTo>
                  <a:lnTo>
                    <a:pt x="249" y="42"/>
                  </a:lnTo>
                  <a:lnTo>
                    <a:pt x="244" y="46"/>
                  </a:lnTo>
                  <a:lnTo>
                    <a:pt x="238" y="46"/>
                  </a:lnTo>
                  <a:lnTo>
                    <a:pt x="232" y="50"/>
                  </a:lnTo>
                  <a:lnTo>
                    <a:pt x="225" y="50"/>
                  </a:lnTo>
                  <a:lnTo>
                    <a:pt x="219" y="52"/>
                  </a:lnTo>
                  <a:lnTo>
                    <a:pt x="213" y="56"/>
                  </a:lnTo>
                  <a:lnTo>
                    <a:pt x="208" y="57"/>
                  </a:lnTo>
                  <a:lnTo>
                    <a:pt x="196" y="63"/>
                  </a:lnTo>
                  <a:lnTo>
                    <a:pt x="185" y="69"/>
                  </a:lnTo>
                  <a:lnTo>
                    <a:pt x="173" y="75"/>
                  </a:lnTo>
                  <a:lnTo>
                    <a:pt x="164" y="82"/>
                  </a:lnTo>
                  <a:lnTo>
                    <a:pt x="153" y="90"/>
                  </a:lnTo>
                  <a:lnTo>
                    <a:pt x="143" y="101"/>
                  </a:lnTo>
                  <a:lnTo>
                    <a:pt x="149" y="99"/>
                  </a:lnTo>
                  <a:lnTo>
                    <a:pt x="156" y="99"/>
                  </a:lnTo>
                  <a:lnTo>
                    <a:pt x="164" y="99"/>
                  </a:lnTo>
                  <a:lnTo>
                    <a:pt x="173" y="99"/>
                  </a:lnTo>
                  <a:lnTo>
                    <a:pt x="181" y="99"/>
                  </a:lnTo>
                  <a:lnTo>
                    <a:pt x="191" y="97"/>
                  </a:lnTo>
                  <a:lnTo>
                    <a:pt x="198" y="95"/>
                  </a:lnTo>
                  <a:lnTo>
                    <a:pt x="208" y="95"/>
                  </a:lnTo>
                  <a:lnTo>
                    <a:pt x="215" y="94"/>
                  </a:lnTo>
                  <a:lnTo>
                    <a:pt x="225" y="94"/>
                  </a:lnTo>
                  <a:lnTo>
                    <a:pt x="232" y="92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1" y="92"/>
                  </a:lnTo>
                  <a:lnTo>
                    <a:pt x="270" y="94"/>
                  </a:lnTo>
                  <a:lnTo>
                    <a:pt x="280" y="95"/>
                  </a:lnTo>
                  <a:lnTo>
                    <a:pt x="272" y="95"/>
                  </a:lnTo>
                  <a:lnTo>
                    <a:pt x="265" y="95"/>
                  </a:lnTo>
                  <a:lnTo>
                    <a:pt x="259" y="95"/>
                  </a:lnTo>
                  <a:lnTo>
                    <a:pt x="251" y="97"/>
                  </a:lnTo>
                  <a:lnTo>
                    <a:pt x="246" y="97"/>
                  </a:lnTo>
                  <a:lnTo>
                    <a:pt x="238" y="99"/>
                  </a:lnTo>
                  <a:lnTo>
                    <a:pt x="232" y="101"/>
                  </a:lnTo>
                  <a:lnTo>
                    <a:pt x="229" y="103"/>
                  </a:lnTo>
                  <a:lnTo>
                    <a:pt x="221" y="103"/>
                  </a:lnTo>
                  <a:lnTo>
                    <a:pt x="215" y="105"/>
                  </a:lnTo>
                  <a:lnTo>
                    <a:pt x="210" y="109"/>
                  </a:lnTo>
                  <a:lnTo>
                    <a:pt x="204" y="111"/>
                  </a:lnTo>
                  <a:lnTo>
                    <a:pt x="194" y="118"/>
                  </a:lnTo>
                  <a:lnTo>
                    <a:pt x="185" y="124"/>
                  </a:lnTo>
                  <a:lnTo>
                    <a:pt x="175" y="130"/>
                  </a:lnTo>
                  <a:lnTo>
                    <a:pt x="166" y="137"/>
                  </a:lnTo>
                  <a:lnTo>
                    <a:pt x="156" y="145"/>
                  </a:lnTo>
                  <a:lnTo>
                    <a:pt x="149" y="154"/>
                  </a:lnTo>
                  <a:lnTo>
                    <a:pt x="141" y="162"/>
                  </a:lnTo>
                  <a:lnTo>
                    <a:pt x="135" y="172"/>
                  </a:lnTo>
                  <a:lnTo>
                    <a:pt x="128" y="181"/>
                  </a:lnTo>
                  <a:lnTo>
                    <a:pt x="122" y="192"/>
                  </a:lnTo>
                  <a:lnTo>
                    <a:pt x="116" y="202"/>
                  </a:lnTo>
                  <a:lnTo>
                    <a:pt x="111" y="211"/>
                  </a:lnTo>
                  <a:lnTo>
                    <a:pt x="103" y="223"/>
                  </a:lnTo>
                  <a:lnTo>
                    <a:pt x="99" y="234"/>
                  </a:lnTo>
                  <a:lnTo>
                    <a:pt x="94" y="244"/>
                  </a:lnTo>
                  <a:lnTo>
                    <a:pt x="90" y="257"/>
                  </a:lnTo>
                  <a:lnTo>
                    <a:pt x="86" y="261"/>
                  </a:lnTo>
                  <a:lnTo>
                    <a:pt x="84" y="267"/>
                  </a:lnTo>
                  <a:lnTo>
                    <a:pt x="82" y="274"/>
                  </a:lnTo>
                  <a:lnTo>
                    <a:pt x="82" y="280"/>
                  </a:lnTo>
                  <a:lnTo>
                    <a:pt x="78" y="286"/>
                  </a:lnTo>
                  <a:lnTo>
                    <a:pt x="76" y="291"/>
                  </a:lnTo>
                  <a:lnTo>
                    <a:pt x="75" y="297"/>
                  </a:lnTo>
                  <a:lnTo>
                    <a:pt x="75" y="303"/>
                  </a:lnTo>
                  <a:lnTo>
                    <a:pt x="73" y="308"/>
                  </a:lnTo>
                  <a:lnTo>
                    <a:pt x="71" y="314"/>
                  </a:lnTo>
                  <a:lnTo>
                    <a:pt x="69" y="320"/>
                  </a:lnTo>
                  <a:lnTo>
                    <a:pt x="67" y="326"/>
                  </a:lnTo>
                  <a:lnTo>
                    <a:pt x="65" y="331"/>
                  </a:lnTo>
                  <a:lnTo>
                    <a:pt x="65" y="339"/>
                  </a:lnTo>
                  <a:lnTo>
                    <a:pt x="63" y="343"/>
                  </a:lnTo>
                  <a:lnTo>
                    <a:pt x="61" y="350"/>
                  </a:lnTo>
                  <a:lnTo>
                    <a:pt x="59" y="356"/>
                  </a:lnTo>
                  <a:lnTo>
                    <a:pt x="59" y="362"/>
                  </a:lnTo>
                  <a:lnTo>
                    <a:pt x="57" y="367"/>
                  </a:lnTo>
                  <a:lnTo>
                    <a:pt x="57" y="373"/>
                  </a:lnTo>
                  <a:lnTo>
                    <a:pt x="54" y="367"/>
                  </a:lnTo>
                  <a:lnTo>
                    <a:pt x="52" y="360"/>
                  </a:lnTo>
                  <a:lnTo>
                    <a:pt x="48" y="354"/>
                  </a:lnTo>
                  <a:lnTo>
                    <a:pt x="46" y="348"/>
                  </a:lnTo>
                  <a:lnTo>
                    <a:pt x="44" y="341"/>
                  </a:lnTo>
                  <a:lnTo>
                    <a:pt x="44" y="335"/>
                  </a:lnTo>
                  <a:lnTo>
                    <a:pt x="44" y="329"/>
                  </a:lnTo>
                  <a:lnTo>
                    <a:pt x="44" y="324"/>
                  </a:lnTo>
                  <a:lnTo>
                    <a:pt x="44" y="316"/>
                  </a:lnTo>
                  <a:lnTo>
                    <a:pt x="44" y="310"/>
                  </a:lnTo>
                  <a:lnTo>
                    <a:pt x="44" y="303"/>
                  </a:lnTo>
                  <a:lnTo>
                    <a:pt x="46" y="297"/>
                  </a:lnTo>
                  <a:lnTo>
                    <a:pt x="46" y="289"/>
                  </a:lnTo>
                  <a:lnTo>
                    <a:pt x="48" y="284"/>
                  </a:lnTo>
                  <a:lnTo>
                    <a:pt x="48" y="276"/>
                  </a:lnTo>
                  <a:lnTo>
                    <a:pt x="52" y="270"/>
                  </a:lnTo>
                  <a:lnTo>
                    <a:pt x="54" y="263"/>
                  </a:lnTo>
                  <a:lnTo>
                    <a:pt x="56" y="257"/>
                  </a:lnTo>
                  <a:lnTo>
                    <a:pt x="57" y="249"/>
                  </a:lnTo>
                  <a:lnTo>
                    <a:pt x="61" y="242"/>
                  </a:lnTo>
                  <a:lnTo>
                    <a:pt x="65" y="234"/>
                  </a:lnTo>
                  <a:lnTo>
                    <a:pt x="67" y="229"/>
                  </a:lnTo>
                  <a:lnTo>
                    <a:pt x="71" y="223"/>
                  </a:lnTo>
                  <a:lnTo>
                    <a:pt x="75" y="215"/>
                  </a:lnTo>
                  <a:lnTo>
                    <a:pt x="78" y="210"/>
                  </a:lnTo>
                  <a:lnTo>
                    <a:pt x="82" y="204"/>
                  </a:lnTo>
                  <a:lnTo>
                    <a:pt x="86" y="196"/>
                  </a:lnTo>
                  <a:lnTo>
                    <a:pt x="90" y="191"/>
                  </a:lnTo>
                  <a:lnTo>
                    <a:pt x="97" y="179"/>
                  </a:lnTo>
                  <a:lnTo>
                    <a:pt x="107" y="168"/>
                  </a:lnTo>
                  <a:lnTo>
                    <a:pt x="99" y="168"/>
                  </a:lnTo>
                  <a:lnTo>
                    <a:pt x="94" y="168"/>
                  </a:lnTo>
                  <a:lnTo>
                    <a:pt x="88" y="168"/>
                  </a:lnTo>
                  <a:lnTo>
                    <a:pt x="82" y="170"/>
                  </a:lnTo>
                  <a:lnTo>
                    <a:pt x="73" y="175"/>
                  </a:lnTo>
                  <a:lnTo>
                    <a:pt x="65" y="183"/>
                  </a:lnTo>
                  <a:lnTo>
                    <a:pt x="57" y="189"/>
                  </a:lnTo>
                  <a:lnTo>
                    <a:pt x="54" y="198"/>
                  </a:lnTo>
                  <a:lnTo>
                    <a:pt x="48" y="208"/>
                  </a:lnTo>
                  <a:lnTo>
                    <a:pt x="44" y="219"/>
                  </a:lnTo>
                  <a:lnTo>
                    <a:pt x="38" y="229"/>
                  </a:lnTo>
                  <a:lnTo>
                    <a:pt x="37" y="240"/>
                  </a:lnTo>
                  <a:lnTo>
                    <a:pt x="35" y="246"/>
                  </a:lnTo>
                  <a:lnTo>
                    <a:pt x="33" y="251"/>
                  </a:lnTo>
                  <a:lnTo>
                    <a:pt x="31" y="257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5" y="286"/>
                  </a:lnTo>
                  <a:lnTo>
                    <a:pt x="21" y="295"/>
                  </a:lnTo>
                  <a:lnTo>
                    <a:pt x="19" y="305"/>
                  </a:lnTo>
                  <a:lnTo>
                    <a:pt x="12" y="293"/>
                  </a:lnTo>
                  <a:lnTo>
                    <a:pt x="8" y="284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0" y="253"/>
                  </a:lnTo>
                  <a:lnTo>
                    <a:pt x="0" y="248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6" y="213"/>
                  </a:lnTo>
                  <a:lnTo>
                    <a:pt x="8" y="208"/>
                  </a:lnTo>
                  <a:lnTo>
                    <a:pt x="10" y="202"/>
                  </a:lnTo>
                  <a:lnTo>
                    <a:pt x="10" y="194"/>
                  </a:lnTo>
                  <a:lnTo>
                    <a:pt x="14" y="189"/>
                  </a:lnTo>
                  <a:lnTo>
                    <a:pt x="19" y="177"/>
                  </a:lnTo>
                  <a:lnTo>
                    <a:pt x="27" y="168"/>
                  </a:lnTo>
                  <a:lnTo>
                    <a:pt x="29" y="160"/>
                  </a:lnTo>
                  <a:lnTo>
                    <a:pt x="33" y="154"/>
                  </a:lnTo>
                  <a:lnTo>
                    <a:pt x="37" y="149"/>
                  </a:lnTo>
                  <a:lnTo>
                    <a:pt x="42" y="145"/>
                  </a:lnTo>
                  <a:lnTo>
                    <a:pt x="52" y="132"/>
                  </a:lnTo>
                  <a:lnTo>
                    <a:pt x="63" y="122"/>
                  </a:lnTo>
                  <a:lnTo>
                    <a:pt x="73" y="111"/>
                  </a:lnTo>
                  <a:lnTo>
                    <a:pt x="82" y="101"/>
                  </a:lnTo>
                  <a:lnTo>
                    <a:pt x="88" y="95"/>
                  </a:lnTo>
                  <a:lnTo>
                    <a:pt x="94" y="92"/>
                  </a:lnTo>
                  <a:lnTo>
                    <a:pt x="101" y="86"/>
                  </a:lnTo>
                  <a:lnTo>
                    <a:pt x="107" y="82"/>
                  </a:lnTo>
                  <a:lnTo>
                    <a:pt x="113" y="76"/>
                  </a:lnTo>
                  <a:lnTo>
                    <a:pt x="118" y="73"/>
                  </a:lnTo>
                  <a:lnTo>
                    <a:pt x="126" y="67"/>
                  </a:lnTo>
                  <a:lnTo>
                    <a:pt x="132" y="63"/>
                  </a:lnTo>
                  <a:lnTo>
                    <a:pt x="137" y="57"/>
                  </a:lnTo>
                  <a:lnTo>
                    <a:pt x="145" y="54"/>
                  </a:lnTo>
                  <a:lnTo>
                    <a:pt x="151" y="50"/>
                  </a:lnTo>
                  <a:lnTo>
                    <a:pt x="158" y="46"/>
                  </a:lnTo>
                  <a:lnTo>
                    <a:pt x="164" y="42"/>
                  </a:lnTo>
                  <a:lnTo>
                    <a:pt x="172" y="38"/>
                  </a:lnTo>
                  <a:lnTo>
                    <a:pt x="177" y="33"/>
                  </a:lnTo>
                  <a:lnTo>
                    <a:pt x="183" y="31"/>
                  </a:lnTo>
                  <a:lnTo>
                    <a:pt x="191" y="27"/>
                  </a:lnTo>
                  <a:lnTo>
                    <a:pt x="196" y="23"/>
                  </a:lnTo>
                  <a:lnTo>
                    <a:pt x="202" y="21"/>
                  </a:lnTo>
                  <a:lnTo>
                    <a:pt x="210" y="19"/>
                  </a:lnTo>
                  <a:lnTo>
                    <a:pt x="215" y="16"/>
                  </a:lnTo>
                  <a:lnTo>
                    <a:pt x="223" y="12"/>
                  </a:lnTo>
                  <a:lnTo>
                    <a:pt x="229" y="10"/>
                  </a:lnTo>
                  <a:lnTo>
                    <a:pt x="236" y="8"/>
                  </a:lnTo>
                  <a:lnTo>
                    <a:pt x="242" y="4"/>
                  </a:lnTo>
                  <a:lnTo>
                    <a:pt x="248" y="4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341360" y="1704960"/>
              <a:ext cx="75600" cy="52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59" y="2"/>
                  </a:move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4" y="19"/>
                  </a:lnTo>
                  <a:lnTo>
                    <a:pt x="78" y="25"/>
                  </a:lnTo>
                  <a:lnTo>
                    <a:pt x="81" y="29"/>
                  </a:lnTo>
                  <a:lnTo>
                    <a:pt x="74" y="36"/>
                  </a:lnTo>
                  <a:lnTo>
                    <a:pt x="66" y="36"/>
                  </a:lnTo>
                  <a:lnTo>
                    <a:pt x="59" y="36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2" y="54"/>
                  </a:lnTo>
                  <a:lnTo>
                    <a:pt x="78" y="55"/>
                  </a:lnTo>
                  <a:lnTo>
                    <a:pt x="83" y="57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97" y="67"/>
                  </a:lnTo>
                  <a:lnTo>
                    <a:pt x="91" y="67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60" y="65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36" y="61"/>
                  </a:lnTo>
                  <a:lnTo>
                    <a:pt x="30" y="59"/>
                  </a:lnTo>
                  <a:lnTo>
                    <a:pt x="24" y="59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5" y="46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24" y="38"/>
                  </a:lnTo>
                  <a:lnTo>
                    <a:pt x="32" y="38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41" y="27"/>
                  </a:lnTo>
                  <a:lnTo>
                    <a:pt x="40" y="17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9" y="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285560" y="1717920"/>
              <a:ext cx="2520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6"/>
                  </a:lnTo>
                  <a:lnTo>
                    <a:pt x="32" y="25"/>
                  </a:lnTo>
                  <a:lnTo>
                    <a:pt x="30" y="27"/>
                  </a:lnTo>
                  <a:lnTo>
                    <a:pt x="30" y="31"/>
                  </a:lnTo>
                  <a:lnTo>
                    <a:pt x="22" y="29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5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174680" y="1736640"/>
              <a:ext cx="3744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9" y="6"/>
                  </a:lnTo>
                  <a:lnTo>
                    <a:pt x="14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948240" y="1751040"/>
              <a:ext cx="237960" cy="36720"/>
            </a:xfrm>
            <a:custGeom>
              <a:avLst/>
              <a:gdLst/>
              <a:ahLst/>
              <a:rect l="l" t="t" r="r" b="b"/>
              <a:pathLst>
                <a:path w="300" h="46">
                  <a:moveTo>
                    <a:pt x="0" y="4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2"/>
                  </a:lnTo>
                  <a:lnTo>
                    <a:pt x="144" y="4"/>
                  </a:lnTo>
                  <a:lnTo>
                    <a:pt x="155" y="4"/>
                  </a:lnTo>
                  <a:lnTo>
                    <a:pt x="163" y="4"/>
                  </a:lnTo>
                  <a:lnTo>
                    <a:pt x="174" y="6"/>
                  </a:lnTo>
                  <a:lnTo>
                    <a:pt x="182" y="6"/>
                  </a:lnTo>
                  <a:lnTo>
                    <a:pt x="192" y="8"/>
                  </a:lnTo>
                  <a:lnTo>
                    <a:pt x="199" y="8"/>
                  </a:lnTo>
                  <a:lnTo>
                    <a:pt x="209" y="10"/>
                  </a:lnTo>
                  <a:lnTo>
                    <a:pt x="218" y="12"/>
                  </a:lnTo>
                  <a:lnTo>
                    <a:pt x="228" y="15"/>
                  </a:lnTo>
                  <a:lnTo>
                    <a:pt x="237" y="15"/>
                  </a:lnTo>
                  <a:lnTo>
                    <a:pt x="247" y="17"/>
                  </a:lnTo>
                  <a:lnTo>
                    <a:pt x="254" y="21"/>
                  </a:lnTo>
                  <a:lnTo>
                    <a:pt x="264" y="25"/>
                  </a:lnTo>
                  <a:lnTo>
                    <a:pt x="273" y="27"/>
                  </a:lnTo>
                  <a:lnTo>
                    <a:pt x="283" y="29"/>
                  </a:lnTo>
                  <a:lnTo>
                    <a:pt x="290" y="34"/>
                  </a:lnTo>
                  <a:lnTo>
                    <a:pt x="300" y="38"/>
                  </a:lnTo>
                  <a:lnTo>
                    <a:pt x="292" y="38"/>
                  </a:lnTo>
                  <a:lnTo>
                    <a:pt x="285" y="40"/>
                  </a:lnTo>
                  <a:lnTo>
                    <a:pt x="277" y="42"/>
                  </a:lnTo>
                  <a:lnTo>
                    <a:pt x="268" y="44"/>
                  </a:lnTo>
                  <a:lnTo>
                    <a:pt x="258" y="44"/>
                  </a:lnTo>
                  <a:lnTo>
                    <a:pt x="249" y="44"/>
                  </a:lnTo>
                  <a:lnTo>
                    <a:pt x="239" y="44"/>
                  </a:lnTo>
                  <a:lnTo>
                    <a:pt x="231" y="46"/>
                  </a:lnTo>
                  <a:lnTo>
                    <a:pt x="218" y="46"/>
                  </a:lnTo>
                  <a:lnTo>
                    <a:pt x="209" y="46"/>
                  </a:lnTo>
                  <a:lnTo>
                    <a:pt x="197" y="46"/>
                  </a:lnTo>
                  <a:lnTo>
                    <a:pt x="188" y="46"/>
                  </a:lnTo>
                  <a:lnTo>
                    <a:pt x="176" y="44"/>
                  </a:lnTo>
                  <a:lnTo>
                    <a:pt x="167" y="44"/>
                  </a:lnTo>
                  <a:lnTo>
                    <a:pt x="154" y="42"/>
                  </a:lnTo>
                  <a:lnTo>
                    <a:pt x="144" y="42"/>
                  </a:lnTo>
                  <a:lnTo>
                    <a:pt x="133" y="40"/>
                  </a:lnTo>
                  <a:lnTo>
                    <a:pt x="123" y="38"/>
                  </a:lnTo>
                  <a:lnTo>
                    <a:pt x="112" y="36"/>
                  </a:lnTo>
                  <a:lnTo>
                    <a:pt x="102" y="36"/>
                  </a:lnTo>
                  <a:lnTo>
                    <a:pt x="89" y="34"/>
                  </a:lnTo>
                  <a:lnTo>
                    <a:pt x="79" y="33"/>
                  </a:lnTo>
                  <a:lnTo>
                    <a:pt x="70" y="29"/>
                  </a:lnTo>
                  <a:lnTo>
                    <a:pt x="60" y="27"/>
                  </a:lnTo>
                  <a:lnTo>
                    <a:pt x="51" y="25"/>
                  </a:lnTo>
                  <a:lnTo>
                    <a:pt x="41" y="23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1" y="1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282320" y="1771560"/>
              <a:ext cx="156960" cy="3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3"/>
                  </a:lnTo>
                  <a:lnTo>
                    <a:pt x="110" y="15"/>
                  </a:lnTo>
                  <a:lnTo>
                    <a:pt x="118" y="15"/>
                  </a:lnTo>
                  <a:lnTo>
                    <a:pt x="124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3" y="19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2" y="25"/>
                  </a:lnTo>
                  <a:lnTo>
                    <a:pt x="167" y="25"/>
                  </a:lnTo>
                  <a:lnTo>
                    <a:pt x="173" y="26"/>
                  </a:lnTo>
                  <a:lnTo>
                    <a:pt x="181" y="28"/>
                  </a:lnTo>
                  <a:lnTo>
                    <a:pt x="186" y="30"/>
                  </a:lnTo>
                  <a:lnTo>
                    <a:pt x="192" y="32"/>
                  </a:lnTo>
                  <a:lnTo>
                    <a:pt x="200" y="36"/>
                  </a:lnTo>
                  <a:lnTo>
                    <a:pt x="200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81" y="36"/>
                  </a:lnTo>
                  <a:lnTo>
                    <a:pt x="175" y="36"/>
                  </a:lnTo>
                  <a:lnTo>
                    <a:pt x="167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7" y="36"/>
                  </a:lnTo>
                  <a:lnTo>
                    <a:pt x="139" y="36"/>
                  </a:lnTo>
                  <a:lnTo>
                    <a:pt x="131" y="36"/>
                  </a:lnTo>
                  <a:lnTo>
                    <a:pt x="124" y="34"/>
                  </a:lnTo>
                  <a:lnTo>
                    <a:pt x="118" y="34"/>
                  </a:lnTo>
                  <a:lnTo>
                    <a:pt x="109" y="34"/>
                  </a:lnTo>
                  <a:lnTo>
                    <a:pt x="101" y="34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0" y="30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7" y="28"/>
                  </a:lnTo>
                  <a:lnTo>
                    <a:pt x="51" y="26"/>
                  </a:lnTo>
                  <a:lnTo>
                    <a:pt x="46" y="26"/>
                  </a:lnTo>
                  <a:lnTo>
                    <a:pt x="38" y="25"/>
                  </a:lnTo>
                  <a:lnTo>
                    <a:pt x="34" y="23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028600" y="1781280"/>
              <a:ext cx="42480" cy="1364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54" y="0"/>
                  </a:moveTo>
                  <a:lnTo>
                    <a:pt x="54" y="6"/>
                  </a:lnTo>
                  <a:lnTo>
                    <a:pt x="54" y="14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40"/>
                  </a:lnTo>
                  <a:lnTo>
                    <a:pt x="50" y="50"/>
                  </a:lnTo>
                  <a:lnTo>
                    <a:pt x="48" y="61"/>
                  </a:lnTo>
                  <a:lnTo>
                    <a:pt x="46" y="71"/>
                  </a:lnTo>
                  <a:lnTo>
                    <a:pt x="44" y="80"/>
                  </a:lnTo>
                  <a:lnTo>
                    <a:pt x="40" y="92"/>
                  </a:lnTo>
                  <a:lnTo>
                    <a:pt x="37" y="101"/>
                  </a:lnTo>
                  <a:lnTo>
                    <a:pt x="35" y="112"/>
                  </a:lnTo>
                  <a:lnTo>
                    <a:pt x="33" y="120"/>
                  </a:lnTo>
                  <a:lnTo>
                    <a:pt x="29" y="130"/>
                  </a:lnTo>
                  <a:lnTo>
                    <a:pt x="25" y="137"/>
                  </a:lnTo>
                  <a:lnTo>
                    <a:pt x="23" y="145"/>
                  </a:lnTo>
                  <a:lnTo>
                    <a:pt x="19" y="150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0" y="166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2" y="128"/>
                  </a:lnTo>
                  <a:lnTo>
                    <a:pt x="4" y="120"/>
                  </a:lnTo>
                  <a:lnTo>
                    <a:pt x="6" y="114"/>
                  </a:lnTo>
                  <a:lnTo>
                    <a:pt x="6" y="105"/>
                  </a:lnTo>
                  <a:lnTo>
                    <a:pt x="8" y="97"/>
                  </a:lnTo>
                  <a:lnTo>
                    <a:pt x="8" y="90"/>
                  </a:lnTo>
                  <a:lnTo>
                    <a:pt x="8" y="82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5"/>
                  </a:lnTo>
                  <a:lnTo>
                    <a:pt x="16" y="50"/>
                  </a:lnTo>
                  <a:lnTo>
                    <a:pt x="18" y="44"/>
                  </a:lnTo>
                  <a:lnTo>
                    <a:pt x="21" y="36"/>
                  </a:lnTo>
                  <a:lnTo>
                    <a:pt x="23" y="31"/>
                  </a:lnTo>
                  <a:lnTo>
                    <a:pt x="27" y="25"/>
                  </a:lnTo>
                  <a:lnTo>
                    <a:pt x="31" y="19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027800" y="1797120"/>
              <a:ext cx="177480" cy="9540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6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7" y="2"/>
                  </a:lnTo>
                  <a:lnTo>
                    <a:pt x="142" y="4"/>
                  </a:lnTo>
                  <a:lnTo>
                    <a:pt x="148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7" y="6"/>
                  </a:lnTo>
                  <a:lnTo>
                    <a:pt x="186" y="10"/>
                  </a:lnTo>
                  <a:lnTo>
                    <a:pt x="194" y="10"/>
                  </a:lnTo>
                  <a:lnTo>
                    <a:pt x="203" y="14"/>
                  </a:lnTo>
                  <a:lnTo>
                    <a:pt x="209" y="15"/>
                  </a:lnTo>
                  <a:lnTo>
                    <a:pt x="215" y="19"/>
                  </a:lnTo>
                  <a:lnTo>
                    <a:pt x="222" y="25"/>
                  </a:lnTo>
                  <a:lnTo>
                    <a:pt x="224" y="33"/>
                  </a:lnTo>
                  <a:lnTo>
                    <a:pt x="220" y="36"/>
                  </a:lnTo>
                  <a:lnTo>
                    <a:pt x="217" y="42"/>
                  </a:lnTo>
                  <a:lnTo>
                    <a:pt x="211" y="46"/>
                  </a:lnTo>
                  <a:lnTo>
                    <a:pt x="203" y="52"/>
                  </a:lnTo>
                  <a:lnTo>
                    <a:pt x="198" y="53"/>
                  </a:lnTo>
                  <a:lnTo>
                    <a:pt x="192" y="57"/>
                  </a:lnTo>
                  <a:lnTo>
                    <a:pt x="186" y="59"/>
                  </a:lnTo>
                  <a:lnTo>
                    <a:pt x="179" y="63"/>
                  </a:lnTo>
                  <a:lnTo>
                    <a:pt x="173" y="67"/>
                  </a:lnTo>
                  <a:lnTo>
                    <a:pt x="165" y="69"/>
                  </a:lnTo>
                  <a:lnTo>
                    <a:pt x="156" y="73"/>
                  </a:lnTo>
                  <a:lnTo>
                    <a:pt x="148" y="76"/>
                  </a:lnTo>
                  <a:lnTo>
                    <a:pt x="139" y="78"/>
                  </a:lnTo>
                  <a:lnTo>
                    <a:pt x="131" y="80"/>
                  </a:lnTo>
                  <a:lnTo>
                    <a:pt x="121" y="82"/>
                  </a:lnTo>
                  <a:lnTo>
                    <a:pt x="114" y="86"/>
                  </a:lnTo>
                  <a:lnTo>
                    <a:pt x="106" y="88"/>
                  </a:lnTo>
                  <a:lnTo>
                    <a:pt x="99" y="90"/>
                  </a:lnTo>
                  <a:lnTo>
                    <a:pt x="91" y="93"/>
                  </a:lnTo>
                  <a:lnTo>
                    <a:pt x="83" y="97"/>
                  </a:lnTo>
                  <a:lnTo>
                    <a:pt x="74" y="99"/>
                  </a:lnTo>
                  <a:lnTo>
                    <a:pt x="66" y="103"/>
                  </a:lnTo>
                  <a:lnTo>
                    <a:pt x="57" y="105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4" y="114"/>
                  </a:lnTo>
                  <a:lnTo>
                    <a:pt x="26" y="116"/>
                  </a:lnTo>
                  <a:lnTo>
                    <a:pt x="19" y="120"/>
                  </a:lnTo>
                  <a:lnTo>
                    <a:pt x="23" y="111"/>
                  </a:lnTo>
                  <a:lnTo>
                    <a:pt x="28" y="105"/>
                  </a:lnTo>
                  <a:lnTo>
                    <a:pt x="34" y="97"/>
                  </a:lnTo>
                  <a:lnTo>
                    <a:pt x="40" y="92"/>
                  </a:lnTo>
                  <a:lnTo>
                    <a:pt x="45" y="86"/>
                  </a:lnTo>
                  <a:lnTo>
                    <a:pt x="53" y="80"/>
                  </a:lnTo>
                  <a:lnTo>
                    <a:pt x="61" y="76"/>
                  </a:lnTo>
                  <a:lnTo>
                    <a:pt x="68" y="73"/>
                  </a:lnTo>
                  <a:lnTo>
                    <a:pt x="74" y="67"/>
                  </a:lnTo>
                  <a:lnTo>
                    <a:pt x="83" y="63"/>
                  </a:lnTo>
                  <a:lnTo>
                    <a:pt x="89" y="57"/>
                  </a:lnTo>
                  <a:lnTo>
                    <a:pt x="99" y="53"/>
                  </a:lnTo>
                  <a:lnTo>
                    <a:pt x="104" y="48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3" y="31"/>
                  </a:lnTo>
                  <a:lnTo>
                    <a:pt x="116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7"/>
                  </a:lnTo>
                  <a:lnTo>
                    <a:pt x="80" y="27"/>
                  </a:lnTo>
                  <a:lnTo>
                    <a:pt x="70" y="27"/>
                  </a:lnTo>
                  <a:lnTo>
                    <a:pt x="61" y="27"/>
                  </a:lnTo>
                  <a:lnTo>
                    <a:pt x="49" y="27"/>
                  </a:lnTo>
                  <a:lnTo>
                    <a:pt x="40" y="27"/>
                  </a:lnTo>
                  <a:lnTo>
                    <a:pt x="30" y="27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50000" y="1808280"/>
              <a:ext cx="37800" cy="633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7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4" y="25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8" y="42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3" y="73"/>
                  </a:lnTo>
                  <a:lnTo>
                    <a:pt x="47" y="80"/>
                  </a:lnTo>
                  <a:lnTo>
                    <a:pt x="36" y="73"/>
                  </a:lnTo>
                  <a:lnTo>
                    <a:pt x="26" y="65"/>
                  </a:lnTo>
                  <a:lnTo>
                    <a:pt x="17" y="54"/>
                  </a:lnTo>
                  <a:lnTo>
                    <a:pt x="9" y="44"/>
                  </a:lnTo>
                  <a:lnTo>
                    <a:pt x="5" y="37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410480" y="1819440"/>
              <a:ext cx="61560" cy="3312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42" y="0"/>
                  </a:moveTo>
                  <a:lnTo>
                    <a:pt x="52" y="4"/>
                  </a:lnTo>
                  <a:lnTo>
                    <a:pt x="61" y="5"/>
                  </a:lnTo>
                  <a:lnTo>
                    <a:pt x="67" y="9"/>
                  </a:lnTo>
                  <a:lnTo>
                    <a:pt x="74" y="13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1" y="30"/>
                  </a:lnTo>
                  <a:lnTo>
                    <a:pt x="61" y="34"/>
                  </a:lnTo>
                  <a:lnTo>
                    <a:pt x="55" y="36"/>
                  </a:lnTo>
                  <a:lnTo>
                    <a:pt x="50" y="38"/>
                  </a:lnTo>
                  <a:lnTo>
                    <a:pt x="44" y="40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930960" y="1836720"/>
              <a:ext cx="23400" cy="15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6" y="0"/>
                  </a:moveTo>
                  <a:lnTo>
                    <a:pt x="10" y="5"/>
                  </a:lnTo>
                  <a:lnTo>
                    <a:pt x="18" y="7"/>
                  </a:lnTo>
                  <a:lnTo>
                    <a:pt x="25" y="7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7"/>
                  </a:lnTo>
                  <a:lnTo>
                    <a:pt x="0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344240" y="1844640"/>
              <a:ext cx="63360" cy="3348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46" y="2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0" y="8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6" y="21"/>
                  </a:lnTo>
                  <a:lnTo>
                    <a:pt x="70" y="27"/>
                  </a:lnTo>
                  <a:lnTo>
                    <a:pt x="63" y="32"/>
                  </a:lnTo>
                  <a:lnTo>
                    <a:pt x="55" y="36"/>
                  </a:lnTo>
                  <a:lnTo>
                    <a:pt x="46" y="38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15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73080" y="1844640"/>
              <a:ext cx="67680" cy="2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1" y="2"/>
                  </a:move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85" y="17"/>
                  </a:lnTo>
                  <a:lnTo>
                    <a:pt x="78" y="19"/>
                  </a:lnTo>
                  <a:lnTo>
                    <a:pt x="74" y="23"/>
                  </a:lnTo>
                  <a:lnTo>
                    <a:pt x="66" y="25"/>
                  </a:lnTo>
                  <a:lnTo>
                    <a:pt x="59" y="27"/>
                  </a:lnTo>
                  <a:lnTo>
                    <a:pt x="49" y="27"/>
                  </a:lnTo>
                  <a:lnTo>
                    <a:pt x="40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29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8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780200" y="1863720"/>
              <a:ext cx="393480" cy="665280"/>
            </a:xfrm>
            <a:custGeom>
              <a:avLst/>
              <a:gdLst/>
              <a:ahLst/>
              <a:rect l="l" t="t" r="r" b="b"/>
              <a:pathLst>
                <a:path w="496" h="836">
                  <a:moveTo>
                    <a:pt x="0" y="0"/>
                  </a:moveTo>
                  <a:lnTo>
                    <a:pt x="6" y="7"/>
                  </a:lnTo>
                  <a:lnTo>
                    <a:pt x="10" y="13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29" y="36"/>
                  </a:lnTo>
                  <a:lnTo>
                    <a:pt x="36" y="42"/>
                  </a:lnTo>
                  <a:lnTo>
                    <a:pt x="44" y="47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3" y="66"/>
                  </a:lnTo>
                  <a:lnTo>
                    <a:pt x="71" y="72"/>
                  </a:lnTo>
                  <a:lnTo>
                    <a:pt x="78" y="78"/>
                  </a:lnTo>
                  <a:lnTo>
                    <a:pt x="86" y="83"/>
                  </a:lnTo>
                  <a:lnTo>
                    <a:pt x="93" y="87"/>
                  </a:lnTo>
                  <a:lnTo>
                    <a:pt x="101" y="93"/>
                  </a:lnTo>
                  <a:lnTo>
                    <a:pt x="111" y="101"/>
                  </a:lnTo>
                  <a:lnTo>
                    <a:pt x="118" y="104"/>
                  </a:lnTo>
                  <a:lnTo>
                    <a:pt x="126" y="108"/>
                  </a:lnTo>
                  <a:lnTo>
                    <a:pt x="133" y="112"/>
                  </a:lnTo>
                  <a:lnTo>
                    <a:pt x="143" y="116"/>
                  </a:lnTo>
                  <a:lnTo>
                    <a:pt x="149" y="121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5" y="133"/>
                  </a:lnTo>
                  <a:lnTo>
                    <a:pt x="183" y="137"/>
                  </a:lnTo>
                  <a:lnTo>
                    <a:pt x="190" y="140"/>
                  </a:lnTo>
                  <a:lnTo>
                    <a:pt x="198" y="144"/>
                  </a:lnTo>
                  <a:lnTo>
                    <a:pt x="208" y="148"/>
                  </a:lnTo>
                  <a:lnTo>
                    <a:pt x="213" y="152"/>
                  </a:lnTo>
                  <a:lnTo>
                    <a:pt x="223" y="156"/>
                  </a:lnTo>
                  <a:lnTo>
                    <a:pt x="230" y="158"/>
                  </a:lnTo>
                  <a:lnTo>
                    <a:pt x="240" y="163"/>
                  </a:lnTo>
                  <a:lnTo>
                    <a:pt x="236" y="156"/>
                  </a:lnTo>
                  <a:lnTo>
                    <a:pt x="232" y="148"/>
                  </a:lnTo>
                  <a:lnTo>
                    <a:pt x="230" y="140"/>
                  </a:lnTo>
                  <a:lnTo>
                    <a:pt x="227" y="135"/>
                  </a:lnTo>
                  <a:lnTo>
                    <a:pt x="223" y="127"/>
                  </a:lnTo>
                  <a:lnTo>
                    <a:pt x="219" y="121"/>
                  </a:lnTo>
                  <a:lnTo>
                    <a:pt x="217" y="114"/>
                  </a:lnTo>
                  <a:lnTo>
                    <a:pt x="213" y="108"/>
                  </a:lnTo>
                  <a:lnTo>
                    <a:pt x="209" y="101"/>
                  </a:lnTo>
                  <a:lnTo>
                    <a:pt x="208" y="93"/>
                  </a:lnTo>
                  <a:lnTo>
                    <a:pt x="204" y="85"/>
                  </a:lnTo>
                  <a:lnTo>
                    <a:pt x="204" y="80"/>
                  </a:lnTo>
                  <a:lnTo>
                    <a:pt x="202" y="72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4" y="47"/>
                  </a:lnTo>
                  <a:lnTo>
                    <a:pt x="209" y="55"/>
                  </a:lnTo>
                  <a:lnTo>
                    <a:pt x="215" y="64"/>
                  </a:lnTo>
                  <a:lnTo>
                    <a:pt x="221" y="74"/>
                  </a:lnTo>
                  <a:lnTo>
                    <a:pt x="228" y="83"/>
                  </a:lnTo>
                  <a:lnTo>
                    <a:pt x="232" y="93"/>
                  </a:lnTo>
                  <a:lnTo>
                    <a:pt x="240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49" y="123"/>
                  </a:lnTo>
                  <a:lnTo>
                    <a:pt x="253" y="129"/>
                  </a:lnTo>
                  <a:lnTo>
                    <a:pt x="259" y="140"/>
                  </a:lnTo>
                  <a:lnTo>
                    <a:pt x="266" y="150"/>
                  </a:lnTo>
                  <a:lnTo>
                    <a:pt x="276" y="159"/>
                  </a:lnTo>
                  <a:lnTo>
                    <a:pt x="285" y="171"/>
                  </a:lnTo>
                  <a:lnTo>
                    <a:pt x="293" y="179"/>
                  </a:lnTo>
                  <a:lnTo>
                    <a:pt x="304" y="186"/>
                  </a:lnTo>
                  <a:lnTo>
                    <a:pt x="308" y="190"/>
                  </a:lnTo>
                  <a:lnTo>
                    <a:pt x="314" y="194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20" y="190"/>
                  </a:lnTo>
                  <a:lnTo>
                    <a:pt x="316" y="182"/>
                  </a:lnTo>
                  <a:lnTo>
                    <a:pt x="312" y="173"/>
                  </a:lnTo>
                  <a:lnTo>
                    <a:pt x="308" y="163"/>
                  </a:lnTo>
                  <a:lnTo>
                    <a:pt x="304" y="152"/>
                  </a:lnTo>
                  <a:lnTo>
                    <a:pt x="303" y="142"/>
                  </a:lnTo>
                  <a:lnTo>
                    <a:pt x="303" y="131"/>
                  </a:lnTo>
                  <a:lnTo>
                    <a:pt x="303" y="121"/>
                  </a:lnTo>
                  <a:lnTo>
                    <a:pt x="301" y="112"/>
                  </a:lnTo>
                  <a:lnTo>
                    <a:pt x="301" y="101"/>
                  </a:lnTo>
                  <a:lnTo>
                    <a:pt x="301" y="91"/>
                  </a:lnTo>
                  <a:lnTo>
                    <a:pt x="303" y="82"/>
                  </a:lnTo>
                  <a:lnTo>
                    <a:pt x="304" y="72"/>
                  </a:lnTo>
                  <a:lnTo>
                    <a:pt x="306" y="63"/>
                  </a:lnTo>
                  <a:lnTo>
                    <a:pt x="310" y="55"/>
                  </a:lnTo>
                  <a:lnTo>
                    <a:pt x="312" y="47"/>
                  </a:lnTo>
                  <a:lnTo>
                    <a:pt x="316" y="40"/>
                  </a:lnTo>
                  <a:lnTo>
                    <a:pt x="320" y="34"/>
                  </a:lnTo>
                  <a:lnTo>
                    <a:pt x="323" y="28"/>
                  </a:lnTo>
                  <a:lnTo>
                    <a:pt x="329" y="25"/>
                  </a:lnTo>
                  <a:lnTo>
                    <a:pt x="333" y="21"/>
                  </a:lnTo>
                  <a:lnTo>
                    <a:pt x="339" y="19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8" y="21"/>
                  </a:lnTo>
                  <a:lnTo>
                    <a:pt x="363" y="23"/>
                  </a:lnTo>
                  <a:lnTo>
                    <a:pt x="369" y="28"/>
                  </a:lnTo>
                  <a:lnTo>
                    <a:pt x="379" y="36"/>
                  </a:lnTo>
                  <a:lnTo>
                    <a:pt x="384" y="45"/>
                  </a:lnTo>
                  <a:lnTo>
                    <a:pt x="394" y="55"/>
                  </a:lnTo>
                  <a:lnTo>
                    <a:pt x="396" y="61"/>
                  </a:lnTo>
                  <a:lnTo>
                    <a:pt x="400" y="68"/>
                  </a:lnTo>
                  <a:lnTo>
                    <a:pt x="405" y="76"/>
                  </a:lnTo>
                  <a:lnTo>
                    <a:pt x="409" y="83"/>
                  </a:lnTo>
                  <a:lnTo>
                    <a:pt x="415" y="87"/>
                  </a:lnTo>
                  <a:lnTo>
                    <a:pt x="420" y="91"/>
                  </a:lnTo>
                  <a:lnTo>
                    <a:pt x="426" y="95"/>
                  </a:lnTo>
                  <a:lnTo>
                    <a:pt x="434" y="99"/>
                  </a:lnTo>
                  <a:lnTo>
                    <a:pt x="439" y="102"/>
                  </a:lnTo>
                  <a:lnTo>
                    <a:pt x="445" y="108"/>
                  </a:lnTo>
                  <a:lnTo>
                    <a:pt x="451" y="114"/>
                  </a:lnTo>
                  <a:lnTo>
                    <a:pt x="457" y="121"/>
                  </a:lnTo>
                  <a:lnTo>
                    <a:pt x="455" y="123"/>
                  </a:lnTo>
                  <a:lnTo>
                    <a:pt x="447" y="120"/>
                  </a:lnTo>
                  <a:lnTo>
                    <a:pt x="441" y="116"/>
                  </a:lnTo>
                  <a:lnTo>
                    <a:pt x="434" y="114"/>
                  </a:lnTo>
                  <a:lnTo>
                    <a:pt x="428" y="110"/>
                  </a:lnTo>
                  <a:lnTo>
                    <a:pt x="422" y="106"/>
                  </a:lnTo>
                  <a:lnTo>
                    <a:pt x="415" y="106"/>
                  </a:lnTo>
                  <a:lnTo>
                    <a:pt x="407" y="104"/>
                  </a:lnTo>
                  <a:lnTo>
                    <a:pt x="401" y="104"/>
                  </a:lnTo>
                  <a:lnTo>
                    <a:pt x="405" y="114"/>
                  </a:lnTo>
                  <a:lnTo>
                    <a:pt x="413" y="123"/>
                  </a:lnTo>
                  <a:lnTo>
                    <a:pt x="417" y="131"/>
                  </a:lnTo>
                  <a:lnTo>
                    <a:pt x="424" y="140"/>
                  </a:lnTo>
                  <a:lnTo>
                    <a:pt x="430" y="146"/>
                  </a:lnTo>
                  <a:lnTo>
                    <a:pt x="438" y="152"/>
                  </a:lnTo>
                  <a:lnTo>
                    <a:pt x="445" y="159"/>
                  </a:lnTo>
                  <a:lnTo>
                    <a:pt x="457" y="165"/>
                  </a:lnTo>
                  <a:lnTo>
                    <a:pt x="455" y="169"/>
                  </a:lnTo>
                  <a:lnTo>
                    <a:pt x="455" y="173"/>
                  </a:lnTo>
                  <a:lnTo>
                    <a:pt x="445" y="169"/>
                  </a:lnTo>
                  <a:lnTo>
                    <a:pt x="439" y="167"/>
                  </a:lnTo>
                  <a:lnTo>
                    <a:pt x="434" y="163"/>
                  </a:lnTo>
                  <a:lnTo>
                    <a:pt x="430" y="163"/>
                  </a:lnTo>
                  <a:lnTo>
                    <a:pt x="422" y="163"/>
                  </a:lnTo>
                  <a:lnTo>
                    <a:pt x="419" y="165"/>
                  </a:lnTo>
                  <a:lnTo>
                    <a:pt x="417" y="167"/>
                  </a:lnTo>
                  <a:lnTo>
                    <a:pt x="417" y="173"/>
                  </a:lnTo>
                  <a:lnTo>
                    <a:pt x="420" y="179"/>
                  </a:lnTo>
                  <a:lnTo>
                    <a:pt x="426" y="188"/>
                  </a:lnTo>
                  <a:lnTo>
                    <a:pt x="432" y="194"/>
                  </a:lnTo>
                  <a:lnTo>
                    <a:pt x="438" y="203"/>
                  </a:lnTo>
                  <a:lnTo>
                    <a:pt x="445" y="211"/>
                  </a:lnTo>
                  <a:lnTo>
                    <a:pt x="455" y="218"/>
                  </a:lnTo>
                  <a:lnTo>
                    <a:pt x="462" y="222"/>
                  </a:lnTo>
                  <a:lnTo>
                    <a:pt x="472" y="228"/>
                  </a:lnTo>
                  <a:lnTo>
                    <a:pt x="479" y="232"/>
                  </a:lnTo>
                  <a:lnTo>
                    <a:pt x="489" y="234"/>
                  </a:lnTo>
                  <a:lnTo>
                    <a:pt x="481" y="237"/>
                  </a:lnTo>
                  <a:lnTo>
                    <a:pt x="476" y="237"/>
                  </a:lnTo>
                  <a:lnTo>
                    <a:pt x="470" y="237"/>
                  </a:lnTo>
                  <a:lnTo>
                    <a:pt x="464" y="237"/>
                  </a:lnTo>
                  <a:lnTo>
                    <a:pt x="458" y="234"/>
                  </a:lnTo>
                  <a:lnTo>
                    <a:pt x="451" y="230"/>
                  </a:lnTo>
                  <a:lnTo>
                    <a:pt x="445" y="226"/>
                  </a:lnTo>
                  <a:lnTo>
                    <a:pt x="439" y="222"/>
                  </a:lnTo>
                  <a:lnTo>
                    <a:pt x="432" y="215"/>
                  </a:lnTo>
                  <a:lnTo>
                    <a:pt x="426" y="211"/>
                  </a:lnTo>
                  <a:lnTo>
                    <a:pt x="419" y="205"/>
                  </a:lnTo>
                  <a:lnTo>
                    <a:pt x="413" y="201"/>
                  </a:lnTo>
                  <a:lnTo>
                    <a:pt x="407" y="196"/>
                  </a:lnTo>
                  <a:lnTo>
                    <a:pt x="400" y="194"/>
                  </a:lnTo>
                  <a:lnTo>
                    <a:pt x="394" y="194"/>
                  </a:lnTo>
                  <a:lnTo>
                    <a:pt x="388" y="194"/>
                  </a:lnTo>
                  <a:lnTo>
                    <a:pt x="390" y="199"/>
                  </a:lnTo>
                  <a:lnTo>
                    <a:pt x="394" y="205"/>
                  </a:lnTo>
                  <a:lnTo>
                    <a:pt x="398" y="211"/>
                  </a:lnTo>
                  <a:lnTo>
                    <a:pt x="403" y="218"/>
                  </a:lnTo>
                  <a:lnTo>
                    <a:pt x="409" y="222"/>
                  </a:lnTo>
                  <a:lnTo>
                    <a:pt x="415" y="228"/>
                  </a:lnTo>
                  <a:lnTo>
                    <a:pt x="422" y="232"/>
                  </a:lnTo>
                  <a:lnTo>
                    <a:pt x="428" y="239"/>
                  </a:lnTo>
                  <a:lnTo>
                    <a:pt x="434" y="243"/>
                  </a:lnTo>
                  <a:lnTo>
                    <a:pt x="439" y="249"/>
                  </a:lnTo>
                  <a:lnTo>
                    <a:pt x="445" y="253"/>
                  </a:lnTo>
                  <a:lnTo>
                    <a:pt x="453" y="258"/>
                  </a:lnTo>
                  <a:lnTo>
                    <a:pt x="457" y="264"/>
                  </a:lnTo>
                  <a:lnTo>
                    <a:pt x="462" y="270"/>
                  </a:lnTo>
                  <a:lnTo>
                    <a:pt x="466" y="277"/>
                  </a:lnTo>
                  <a:lnTo>
                    <a:pt x="470" y="283"/>
                  </a:lnTo>
                  <a:lnTo>
                    <a:pt x="468" y="285"/>
                  </a:lnTo>
                  <a:lnTo>
                    <a:pt x="464" y="289"/>
                  </a:lnTo>
                  <a:lnTo>
                    <a:pt x="457" y="287"/>
                  </a:lnTo>
                  <a:lnTo>
                    <a:pt x="451" y="283"/>
                  </a:lnTo>
                  <a:lnTo>
                    <a:pt x="445" y="279"/>
                  </a:lnTo>
                  <a:lnTo>
                    <a:pt x="439" y="275"/>
                  </a:lnTo>
                  <a:lnTo>
                    <a:pt x="434" y="270"/>
                  </a:lnTo>
                  <a:lnTo>
                    <a:pt x="426" y="266"/>
                  </a:lnTo>
                  <a:lnTo>
                    <a:pt x="419" y="266"/>
                  </a:lnTo>
                  <a:lnTo>
                    <a:pt x="413" y="268"/>
                  </a:lnTo>
                  <a:lnTo>
                    <a:pt x="419" y="275"/>
                  </a:lnTo>
                  <a:lnTo>
                    <a:pt x="426" y="285"/>
                  </a:lnTo>
                  <a:lnTo>
                    <a:pt x="432" y="294"/>
                  </a:lnTo>
                  <a:lnTo>
                    <a:pt x="438" y="304"/>
                  </a:lnTo>
                  <a:lnTo>
                    <a:pt x="439" y="313"/>
                  </a:lnTo>
                  <a:lnTo>
                    <a:pt x="441" y="323"/>
                  </a:lnTo>
                  <a:lnTo>
                    <a:pt x="443" y="332"/>
                  </a:lnTo>
                  <a:lnTo>
                    <a:pt x="445" y="342"/>
                  </a:lnTo>
                  <a:lnTo>
                    <a:pt x="445" y="352"/>
                  </a:lnTo>
                  <a:lnTo>
                    <a:pt x="447" y="361"/>
                  </a:lnTo>
                  <a:lnTo>
                    <a:pt x="449" y="371"/>
                  </a:lnTo>
                  <a:lnTo>
                    <a:pt x="451" y="382"/>
                  </a:lnTo>
                  <a:lnTo>
                    <a:pt x="453" y="391"/>
                  </a:lnTo>
                  <a:lnTo>
                    <a:pt x="458" y="403"/>
                  </a:lnTo>
                  <a:lnTo>
                    <a:pt x="462" y="412"/>
                  </a:lnTo>
                  <a:lnTo>
                    <a:pt x="470" y="422"/>
                  </a:lnTo>
                  <a:lnTo>
                    <a:pt x="464" y="428"/>
                  </a:lnTo>
                  <a:lnTo>
                    <a:pt x="458" y="424"/>
                  </a:lnTo>
                  <a:lnTo>
                    <a:pt x="455" y="420"/>
                  </a:lnTo>
                  <a:lnTo>
                    <a:pt x="451" y="422"/>
                  </a:lnTo>
                  <a:lnTo>
                    <a:pt x="449" y="428"/>
                  </a:lnTo>
                  <a:lnTo>
                    <a:pt x="457" y="437"/>
                  </a:lnTo>
                  <a:lnTo>
                    <a:pt x="464" y="448"/>
                  </a:lnTo>
                  <a:lnTo>
                    <a:pt x="466" y="452"/>
                  </a:lnTo>
                  <a:lnTo>
                    <a:pt x="470" y="460"/>
                  </a:lnTo>
                  <a:lnTo>
                    <a:pt x="472" y="466"/>
                  </a:lnTo>
                  <a:lnTo>
                    <a:pt x="476" y="471"/>
                  </a:lnTo>
                  <a:lnTo>
                    <a:pt x="477" y="479"/>
                  </a:lnTo>
                  <a:lnTo>
                    <a:pt x="479" y="485"/>
                  </a:lnTo>
                  <a:lnTo>
                    <a:pt x="481" y="492"/>
                  </a:lnTo>
                  <a:lnTo>
                    <a:pt x="485" y="500"/>
                  </a:lnTo>
                  <a:lnTo>
                    <a:pt x="487" y="505"/>
                  </a:lnTo>
                  <a:lnTo>
                    <a:pt x="489" y="515"/>
                  </a:lnTo>
                  <a:lnTo>
                    <a:pt x="489" y="523"/>
                  </a:lnTo>
                  <a:lnTo>
                    <a:pt x="491" y="530"/>
                  </a:lnTo>
                  <a:lnTo>
                    <a:pt x="491" y="536"/>
                  </a:lnTo>
                  <a:lnTo>
                    <a:pt x="493" y="545"/>
                  </a:lnTo>
                  <a:lnTo>
                    <a:pt x="493" y="553"/>
                  </a:lnTo>
                  <a:lnTo>
                    <a:pt x="495" y="561"/>
                  </a:lnTo>
                  <a:lnTo>
                    <a:pt x="495" y="568"/>
                  </a:lnTo>
                  <a:lnTo>
                    <a:pt x="495" y="578"/>
                  </a:lnTo>
                  <a:lnTo>
                    <a:pt x="495" y="585"/>
                  </a:lnTo>
                  <a:lnTo>
                    <a:pt x="496" y="595"/>
                  </a:lnTo>
                  <a:lnTo>
                    <a:pt x="495" y="601"/>
                  </a:lnTo>
                  <a:lnTo>
                    <a:pt x="495" y="610"/>
                  </a:lnTo>
                  <a:lnTo>
                    <a:pt x="495" y="618"/>
                  </a:lnTo>
                  <a:lnTo>
                    <a:pt x="495" y="627"/>
                  </a:lnTo>
                  <a:lnTo>
                    <a:pt x="493" y="635"/>
                  </a:lnTo>
                  <a:lnTo>
                    <a:pt x="493" y="644"/>
                  </a:lnTo>
                  <a:lnTo>
                    <a:pt x="491" y="652"/>
                  </a:lnTo>
                  <a:lnTo>
                    <a:pt x="491" y="661"/>
                  </a:lnTo>
                  <a:lnTo>
                    <a:pt x="489" y="669"/>
                  </a:lnTo>
                  <a:lnTo>
                    <a:pt x="487" y="677"/>
                  </a:lnTo>
                  <a:lnTo>
                    <a:pt x="485" y="682"/>
                  </a:lnTo>
                  <a:lnTo>
                    <a:pt x="483" y="692"/>
                  </a:lnTo>
                  <a:lnTo>
                    <a:pt x="481" y="698"/>
                  </a:lnTo>
                  <a:lnTo>
                    <a:pt x="479" y="707"/>
                  </a:lnTo>
                  <a:lnTo>
                    <a:pt x="477" y="713"/>
                  </a:lnTo>
                  <a:lnTo>
                    <a:pt x="474" y="720"/>
                  </a:lnTo>
                  <a:lnTo>
                    <a:pt x="472" y="728"/>
                  </a:lnTo>
                  <a:lnTo>
                    <a:pt x="468" y="736"/>
                  </a:lnTo>
                  <a:lnTo>
                    <a:pt x="464" y="743"/>
                  </a:lnTo>
                  <a:lnTo>
                    <a:pt x="462" y="751"/>
                  </a:lnTo>
                  <a:lnTo>
                    <a:pt x="458" y="756"/>
                  </a:lnTo>
                  <a:lnTo>
                    <a:pt x="455" y="762"/>
                  </a:lnTo>
                  <a:lnTo>
                    <a:pt x="453" y="770"/>
                  </a:lnTo>
                  <a:lnTo>
                    <a:pt x="449" y="775"/>
                  </a:lnTo>
                  <a:lnTo>
                    <a:pt x="441" y="787"/>
                  </a:lnTo>
                  <a:lnTo>
                    <a:pt x="434" y="796"/>
                  </a:lnTo>
                  <a:lnTo>
                    <a:pt x="424" y="806"/>
                  </a:lnTo>
                  <a:lnTo>
                    <a:pt x="415" y="815"/>
                  </a:lnTo>
                  <a:lnTo>
                    <a:pt x="405" y="821"/>
                  </a:lnTo>
                  <a:lnTo>
                    <a:pt x="394" y="827"/>
                  </a:lnTo>
                  <a:lnTo>
                    <a:pt x="384" y="832"/>
                  </a:lnTo>
                  <a:lnTo>
                    <a:pt x="373" y="836"/>
                  </a:lnTo>
                  <a:lnTo>
                    <a:pt x="369" y="832"/>
                  </a:lnTo>
                  <a:lnTo>
                    <a:pt x="367" y="823"/>
                  </a:lnTo>
                  <a:lnTo>
                    <a:pt x="363" y="813"/>
                  </a:lnTo>
                  <a:lnTo>
                    <a:pt x="360" y="810"/>
                  </a:lnTo>
                  <a:lnTo>
                    <a:pt x="352" y="812"/>
                  </a:lnTo>
                  <a:lnTo>
                    <a:pt x="342" y="817"/>
                  </a:lnTo>
                  <a:lnTo>
                    <a:pt x="333" y="819"/>
                  </a:lnTo>
                  <a:lnTo>
                    <a:pt x="325" y="821"/>
                  </a:lnTo>
                  <a:lnTo>
                    <a:pt x="329" y="812"/>
                  </a:lnTo>
                  <a:lnTo>
                    <a:pt x="335" y="802"/>
                  </a:lnTo>
                  <a:lnTo>
                    <a:pt x="339" y="793"/>
                  </a:lnTo>
                  <a:lnTo>
                    <a:pt x="346" y="785"/>
                  </a:lnTo>
                  <a:lnTo>
                    <a:pt x="350" y="777"/>
                  </a:lnTo>
                  <a:lnTo>
                    <a:pt x="356" y="770"/>
                  </a:lnTo>
                  <a:lnTo>
                    <a:pt x="362" y="762"/>
                  </a:lnTo>
                  <a:lnTo>
                    <a:pt x="367" y="756"/>
                  </a:lnTo>
                  <a:lnTo>
                    <a:pt x="373" y="749"/>
                  </a:lnTo>
                  <a:lnTo>
                    <a:pt x="379" y="743"/>
                  </a:lnTo>
                  <a:lnTo>
                    <a:pt x="384" y="736"/>
                  </a:lnTo>
                  <a:lnTo>
                    <a:pt x="390" y="730"/>
                  </a:lnTo>
                  <a:lnTo>
                    <a:pt x="396" y="724"/>
                  </a:lnTo>
                  <a:lnTo>
                    <a:pt x="400" y="717"/>
                  </a:lnTo>
                  <a:lnTo>
                    <a:pt x="405" y="711"/>
                  </a:lnTo>
                  <a:lnTo>
                    <a:pt x="413" y="705"/>
                  </a:lnTo>
                  <a:lnTo>
                    <a:pt x="417" y="698"/>
                  </a:lnTo>
                  <a:lnTo>
                    <a:pt x="420" y="692"/>
                  </a:lnTo>
                  <a:lnTo>
                    <a:pt x="424" y="686"/>
                  </a:lnTo>
                  <a:lnTo>
                    <a:pt x="430" y="678"/>
                  </a:lnTo>
                  <a:lnTo>
                    <a:pt x="434" y="671"/>
                  </a:lnTo>
                  <a:lnTo>
                    <a:pt x="438" y="665"/>
                  </a:lnTo>
                  <a:lnTo>
                    <a:pt x="441" y="658"/>
                  </a:lnTo>
                  <a:lnTo>
                    <a:pt x="443" y="650"/>
                  </a:lnTo>
                  <a:lnTo>
                    <a:pt x="445" y="642"/>
                  </a:lnTo>
                  <a:lnTo>
                    <a:pt x="447" y="633"/>
                  </a:lnTo>
                  <a:lnTo>
                    <a:pt x="449" y="625"/>
                  </a:lnTo>
                  <a:lnTo>
                    <a:pt x="449" y="616"/>
                  </a:lnTo>
                  <a:lnTo>
                    <a:pt x="449" y="606"/>
                  </a:lnTo>
                  <a:lnTo>
                    <a:pt x="449" y="597"/>
                  </a:lnTo>
                  <a:lnTo>
                    <a:pt x="449" y="585"/>
                  </a:lnTo>
                  <a:lnTo>
                    <a:pt x="447" y="576"/>
                  </a:lnTo>
                  <a:lnTo>
                    <a:pt x="445" y="563"/>
                  </a:lnTo>
                  <a:lnTo>
                    <a:pt x="445" y="553"/>
                  </a:lnTo>
                  <a:lnTo>
                    <a:pt x="443" y="542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6" y="509"/>
                  </a:lnTo>
                  <a:lnTo>
                    <a:pt x="434" y="500"/>
                  </a:lnTo>
                  <a:lnTo>
                    <a:pt x="432" y="488"/>
                  </a:lnTo>
                  <a:lnTo>
                    <a:pt x="426" y="477"/>
                  </a:lnTo>
                  <a:lnTo>
                    <a:pt x="422" y="467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09" y="433"/>
                  </a:lnTo>
                  <a:lnTo>
                    <a:pt x="405" y="422"/>
                  </a:lnTo>
                  <a:lnTo>
                    <a:pt x="400" y="410"/>
                  </a:lnTo>
                  <a:lnTo>
                    <a:pt x="396" y="399"/>
                  </a:lnTo>
                  <a:lnTo>
                    <a:pt x="388" y="388"/>
                  </a:lnTo>
                  <a:lnTo>
                    <a:pt x="384" y="378"/>
                  </a:lnTo>
                  <a:lnTo>
                    <a:pt x="379" y="367"/>
                  </a:lnTo>
                  <a:lnTo>
                    <a:pt x="375" y="355"/>
                  </a:lnTo>
                  <a:lnTo>
                    <a:pt x="369" y="344"/>
                  </a:lnTo>
                  <a:lnTo>
                    <a:pt x="365" y="332"/>
                  </a:lnTo>
                  <a:lnTo>
                    <a:pt x="360" y="321"/>
                  </a:lnTo>
                  <a:lnTo>
                    <a:pt x="356" y="312"/>
                  </a:lnTo>
                  <a:lnTo>
                    <a:pt x="350" y="302"/>
                  </a:lnTo>
                  <a:lnTo>
                    <a:pt x="346" y="291"/>
                  </a:lnTo>
                  <a:lnTo>
                    <a:pt x="342" y="279"/>
                  </a:lnTo>
                  <a:lnTo>
                    <a:pt x="341" y="270"/>
                  </a:lnTo>
                  <a:lnTo>
                    <a:pt x="337" y="260"/>
                  </a:lnTo>
                  <a:lnTo>
                    <a:pt x="335" y="251"/>
                  </a:lnTo>
                  <a:lnTo>
                    <a:pt x="333" y="241"/>
                  </a:lnTo>
                  <a:lnTo>
                    <a:pt x="331" y="234"/>
                  </a:lnTo>
                  <a:lnTo>
                    <a:pt x="323" y="230"/>
                  </a:lnTo>
                  <a:lnTo>
                    <a:pt x="316" y="230"/>
                  </a:lnTo>
                  <a:lnTo>
                    <a:pt x="310" y="228"/>
                  </a:lnTo>
                  <a:lnTo>
                    <a:pt x="304" y="226"/>
                  </a:lnTo>
                  <a:lnTo>
                    <a:pt x="297" y="222"/>
                  </a:lnTo>
                  <a:lnTo>
                    <a:pt x="289" y="222"/>
                  </a:lnTo>
                  <a:lnTo>
                    <a:pt x="284" y="220"/>
                  </a:lnTo>
                  <a:lnTo>
                    <a:pt x="276" y="218"/>
                  </a:lnTo>
                  <a:lnTo>
                    <a:pt x="268" y="215"/>
                  </a:lnTo>
                  <a:lnTo>
                    <a:pt x="263" y="215"/>
                  </a:lnTo>
                  <a:lnTo>
                    <a:pt x="255" y="213"/>
                  </a:lnTo>
                  <a:lnTo>
                    <a:pt x="249" y="211"/>
                  </a:lnTo>
                  <a:lnTo>
                    <a:pt x="242" y="209"/>
                  </a:lnTo>
                  <a:lnTo>
                    <a:pt x="236" y="207"/>
                  </a:lnTo>
                  <a:lnTo>
                    <a:pt x="228" y="205"/>
                  </a:lnTo>
                  <a:lnTo>
                    <a:pt x="223" y="203"/>
                  </a:lnTo>
                  <a:lnTo>
                    <a:pt x="215" y="201"/>
                  </a:lnTo>
                  <a:lnTo>
                    <a:pt x="209" y="199"/>
                  </a:lnTo>
                  <a:lnTo>
                    <a:pt x="202" y="196"/>
                  </a:lnTo>
                  <a:lnTo>
                    <a:pt x="194" y="194"/>
                  </a:lnTo>
                  <a:lnTo>
                    <a:pt x="189" y="192"/>
                  </a:lnTo>
                  <a:lnTo>
                    <a:pt x="183" y="188"/>
                  </a:lnTo>
                  <a:lnTo>
                    <a:pt x="175" y="186"/>
                  </a:lnTo>
                  <a:lnTo>
                    <a:pt x="169" y="184"/>
                  </a:lnTo>
                  <a:lnTo>
                    <a:pt x="164" y="182"/>
                  </a:lnTo>
                  <a:lnTo>
                    <a:pt x="156" y="179"/>
                  </a:lnTo>
                  <a:lnTo>
                    <a:pt x="150" y="177"/>
                  </a:lnTo>
                  <a:lnTo>
                    <a:pt x="145" y="175"/>
                  </a:lnTo>
                  <a:lnTo>
                    <a:pt x="133" y="167"/>
                  </a:lnTo>
                  <a:lnTo>
                    <a:pt x="122" y="163"/>
                  </a:lnTo>
                  <a:lnTo>
                    <a:pt x="116" y="158"/>
                  </a:lnTo>
                  <a:lnTo>
                    <a:pt x="109" y="156"/>
                  </a:lnTo>
                  <a:lnTo>
                    <a:pt x="103" y="152"/>
                  </a:lnTo>
                  <a:lnTo>
                    <a:pt x="99" y="148"/>
                  </a:lnTo>
                  <a:lnTo>
                    <a:pt x="88" y="140"/>
                  </a:lnTo>
                  <a:lnTo>
                    <a:pt x="78" y="133"/>
                  </a:lnTo>
                  <a:lnTo>
                    <a:pt x="69" y="123"/>
                  </a:lnTo>
                  <a:lnTo>
                    <a:pt x="57" y="116"/>
                  </a:lnTo>
                  <a:lnTo>
                    <a:pt x="50" y="106"/>
                  </a:lnTo>
                  <a:lnTo>
                    <a:pt x="42" y="97"/>
                  </a:lnTo>
                  <a:lnTo>
                    <a:pt x="35" y="85"/>
                  </a:lnTo>
                  <a:lnTo>
                    <a:pt x="27" y="76"/>
                  </a:lnTo>
                  <a:lnTo>
                    <a:pt x="21" y="64"/>
                  </a:lnTo>
                  <a:lnTo>
                    <a:pt x="15" y="53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8" y="34"/>
                  </a:lnTo>
                  <a:lnTo>
                    <a:pt x="6" y="28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065960" y="1863720"/>
              <a:ext cx="93240" cy="428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101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8" y="6"/>
                  </a:lnTo>
                  <a:lnTo>
                    <a:pt x="108" y="7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87" y="17"/>
                  </a:lnTo>
                  <a:lnTo>
                    <a:pt x="80" y="21"/>
                  </a:lnTo>
                  <a:lnTo>
                    <a:pt x="72" y="23"/>
                  </a:lnTo>
                  <a:lnTo>
                    <a:pt x="64" y="26"/>
                  </a:lnTo>
                  <a:lnTo>
                    <a:pt x="59" y="30"/>
                  </a:lnTo>
                  <a:lnTo>
                    <a:pt x="51" y="32"/>
                  </a:lnTo>
                  <a:lnTo>
                    <a:pt x="43" y="36"/>
                  </a:lnTo>
                  <a:lnTo>
                    <a:pt x="36" y="40"/>
                  </a:lnTo>
                  <a:lnTo>
                    <a:pt x="30" y="42"/>
                  </a:lnTo>
                  <a:lnTo>
                    <a:pt x="23" y="45"/>
                  </a:lnTo>
                  <a:lnTo>
                    <a:pt x="15" y="47"/>
                  </a:lnTo>
                  <a:lnTo>
                    <a:pt x="7" y="49"/>
                  </a:lnTo>
                  <a:lnTo>
                    <a:pt x="2" y="53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3" y="34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61" y="17"/>
                  </a:lnTo>
                  <a:lnTo>
                    <a:pt x="68" y="13"/>
                  </a:lnTo>
                  <a:lnTo>
                    <a:pt x="76" y="13"/>
                  </a:lnTo>
                  <a:lnTo>
                    <a:pt x="81" y="9"/>
                  </a:lnTo>
                  <a:lnTo>
                    <a:pt x="87" y="7"/>
                  </a:lnTo>
                  <a:lnTo>
                    <a:pt x="95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488240" y="1873440"/>
              <a:ext cx="45720" cy="172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8" y="0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4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1"/>
                  </a:lnTo>
                  <a:lnTo>
                    <a:pt x="23" y="21"/>
                  </a:lnTo>
                  <a:lnTo>
                    <a:pt x="17" y="21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273680" y="1881360"/>
              <a:ext cx="66600" cy="3636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57" y="2"/>
                  </a:moveTo>
                  <a:lnTo>
                    <a:pt x="66" y="0"/>
                  </a:lnTo>
                  <a:lnTo>
                    <a:pt x="72" y="5"/>
                  </a:lnTo>
                  <a:lnTo>
                    <a:pt x="76" y="11"/>
                  </a:lnTo>
                  <a:lnTo>
                    <a:pt x="83" y="19"/>
                  </a:lnTo>
                  <a:lnTo>
                    <a:pt x="74" y="21"/>
                  </a:lnTo>
                  <a:lnTo>
                    <a:pt x="64" y="24"/>
                  </a:lnTo>
                  <a:lnTo>
                    <a:pt x="55" y="26"/>
                  </a:lnTo>
                  <a:lnTo>
                    <a:pt x="45" y="30"/>
                  </a:lnTo>
                  <a:lnTo>
                    <a:pt x="36" y="34"/>
                  </a:lnTo>
                  <a:lnTo>
                    <a:pt x="26" y="36"/>
                  </a:lnTo>
                  <a:lnTo>
                    <a:pt x="17" y="40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8" y="11"/>
                  </a:lnTo>
                  <a:lnTo>
                    <a:pt x="47" y="7"/>
                  </a:lnTo>
                  <a:lnTo>
                    <a:pt x="57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24400" y="1882800"/>
              <a:ext cx="58680" cy="4284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0" y="0"/>
                  </a:moveTo>
                  <a:lnTo>
                    <a:pt x="11" y="3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5" y="22"/>
                  </a:lnTo>
                  <a:lnTo>
                    <a:pt x="62" y="28"/>
                  </a:lnTo>
                  <a:lnTo>
                    <a:pt x="66" y="32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74" y="51"/>
                  </a:lnTo>
                  <a:lnTo>
                    <a:pt x="72" y="53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49" y="43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2" y="34"/>
                  </a:lnTo>
                  <a:lnTo>
                    <a:pt x="26" y="32"/>
                  </a:lnTo>
                  <a:lnTo>
                    <a:pt x="15" y="22"/>
                  </a:lnTo>
                  <a:lnTo>
                    <a:pt x="7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431000" y="1892520"/>
              <a:ext cx="55080" cy="219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33" y="0"/>
                  </a:moveTo>
                  <a:lnTo>
                    <a:pt x="42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1" y="13"/>
                  </a:lnTo>
                  <a:lnTo>
                    <a:pt x="67" y="15"/>
                  </a:lnTo>
                  <a:lnTo>
                    <a:pt x="59" y="21"/>
                  </a:lnTo>
                  <a:lnTo>
                    <a:pt x="50" y="23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1" y="27"/>
                  </a:lnTo>
                  <a:lnTo>
                    <a:pt x="17" y="29"/>
                  </a:lnTo>
                  <a:lnTo>
                    <a:pt x="10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5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369800" y="1922400"/>
              <a:ext cx="66240" cy="1908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30" y="0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72" y="11"/>
                  </a:lnTo>
                  <a:lnTo>
                    <a:pt x="61" y="17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0" y="25"/>
                  </a:lnTo>
                  <a:lnTo>
                    <a:pt x="21" y="25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73720" y="1941480"/>
              <a:ext cx="20916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692000" y="1974960"/>
              <a:ext cx="26640" cy="98280"/>
            </a:xfrm>
            <a:custGeom>
              <a:avLst/>
              <a:gdLst/>
              <a:ahLst/>
              <a:rect l="l" t="t" r="r" b="b"/>
              <a:pathLst>
                <a:path w="35" h="123">
                  <a:moveTo>
                    <a:pt x="29" y="0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5" y="57"/>
                  </a:lnTo>
                  <a:lnTo>
                    <a:pt x="35" y="66"/>
                  </a:lnTo>
                  <a:lnTo>
                    <a:pt x="33" y="74"/>
                  </a:lnTo>
                  <a:lnTo>
                    <a:pt x="33" y="81"/>
                  </a:lnTo>
                  <a:lnTo>
                    <a:pt x="29" y="91"/>
                  </a:lnTo>
                  <a:lnTo>
                    <a:pt x="27" y="98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0" y="117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2" y="114"/>
                  </a:lnTo>
                  <a:lnTo>
                    <a:pt x="6" y="106"/>
                  </a:lnTo>
                  <a:lnTo>
                    <a:pt x="6" y="98"/>
                  </a:lnTo>
                  <a:lnTo>
                    <a:pt x="8" y="91"/>
                  </a:lnTo>
                  <a:lnTo>
                    <a:pt x="8" y="81"/>
                  </a:lnTo>
                  <a:lnTo>
                    <a:pt x="8" y="74"/>
                  </a:lnTo>
                  <a:lnTo>
                    <a:pt x="8" y="64"/>
                  </a:lnTo>
                  <a:lnTo>
                    <a:pt x="8" y="57"/>
                  </a:lnTo>
                  <a:lnTo>
                    <a:pt x="8" y="47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2" y="24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17440" y="1984320"/>
              <a:ext cx="3312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84160" y="2003400"/>
              <a:ext cx="34560" cy="176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8" y="2"/>
                  </a:moveTo>
                  <a:lnTo>
                    <a:pt x="17" y="0"/>
                  </a:lnTo>
                  <a:lnTo>
                    <a:pt x="27" y="2"/>
                  </a:lnTo>
                  <a:lnTo>
                    <a:pt x="36" y="7"/>
                  </a:lnTo>
                  <a:lnTo>
                    <a:pt x="44" y="13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9" y="9"/>
                  </a:lnTo>
                  <a:lnTo>
                    <a:pt x="0" y="9"/>
                  </a:lnTo>
                  <a:lnTo>
                    <a:pt x="2" y="5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22240" y="2076480"/>
              <a:ext cx="3456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958760" y="2087640"/>
              <a:ext cx="97920" cy="388800"/>
            </a:xfrm>
            <a:custGeom>
              <a:avLst/>
              <a:gdLst/>
              <a:ahLst/>
              <a:rect l="l" t="t" r="r" b="b"/>
              <a:pathLst>
                <a:path w="123" h="491">
                  <a:moveTo>
                    <a:pt x="24" y="0"/>
                  </a:moveTo>
                  <a:lnTo>
                    <a:pt x="32" y="4"/>
                  </a:lnTo>
                  <a:lnTo>
                    <a:pt x="38" y="8"/>
                  </a:lnTo>
                  <a:lnTo>
                    <a:pt x="45" y="13"/>
                  </a:lnTo>
                  <a:lnTo>
                    <a:pt x="51" y="17"/>
                  </a:lnTo>
                  <a:lnTo>
                    <a:pt x="55" y="23"/>
                  </a:lnTo>
                  <a:lnTo>
                    <a:pt x="60" y="31"/>
                  </a:lnTo>
                  <a:lnTo>
                    <a:pt x="66" y="36"/>
                  </a:lnTo>
                  <a:lnTo>
                    <a:pt x="72" y="44"/>
                  </a:lnTo>
                  <a:lnTo>
                    <a:pt x="74" y="50"/>
                  </a:lnTo>
                  <a:lnTo>
                    <a:pt x="79" y="57"/>
                  </a:lnTo>
                  <a:lnTo>
                    <a:pt x="83" y="63"/>
                  </a:lnTo>
                  <a:lnTo>
                    <a:pt x="89" y="71"/>
                  </a:lnTo>
                  <a:lnTo>
                    <a:pt x="93" y="76"/>
                  </a:lnTo>
                  <a:lnTo>
                    <a:pt x="98" y="84"/>
                  </a:lnTo>
                  <a:lnTo>
                    <a:pt x="106" y="90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93" y="112"/>
                  </a:lnTo>
                  <a:lnTo>
                    <a:pt x="98" y="118"/>
                  </a:lnTo>
                  <a:lnTo>
                    <a:pt x="106" y="124"/>
                  </a:lnTo>
                  <a:lnTo>
                    <a:pt x="112" y="131"/>
                  </a:lnTo>
                  <a:lnTo>
                    <a:pt x="108" y="135"/>
                  </a:lnTo>
                  <a:lnTo>
                    <a:pt x="102" y="135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2" y="160"/>
                  </a:lnTo>
                  <a:lnTo>
                    <a:pt x="108" y="169"/>
                  </a:lnTo>
                  <a:lnTo>
                    <a:pt x="112" y="181"/>
                  </a:lnTo>
                  <a:lnTo>
                    <a:pt x="116" y="192"/>
                  </a:lnTo>
                  <a:lnTo>
                    <a:pt x="119" y="204"/>
                  </a:lnTo>
                  <a:lnTo>
                    <a:pt x="121" y="213"/>
                  </a:lnTo>
                  <a:lnTo>
                    <a:pt x="123" y="224"/>
                  </a:lnTo>
                  <a:lnTo>
                    <a:pt x="123" y="236"/>
                  </a:lnTo>
                  <a:lnTo>
                    <a:pt x="123" y="245"/>
                  </a:lnTo>
                  <a:lnTo>
                    <a:pt x="123" y="257"/>
                  </a:lnTo>
                  <a:lnTo>
                    <a:pt x="123" y="268"/>
                  </a:lnTo>
                  <a:lnTo>
                    <a:pt x="119" y="280"/>
                  </a:lnTo>
                  <a:lnTo>
                    <a:pt x="119" y="289"/>
                  </a:lnTo>
                  <a:lnTo>
                    <a:pt x="117" y="301"/>
                  </a:lnTo>
                  <a:lnTo>
                    <a:pt x="116" y="312"/>
                  </a:lnTo>
                  <a:lnTo>
                    <a:pt x="110" y="321"/>
                  </a:lnTo>
                  <a:lnTo>
                    <a:pt x="108" y="333"/>
                  </a:lnTo>
                  <a:lnTo>
                    <a:pt x="104" y="344"/>
                  </a:lnTo>
                  <a:lnTo>
                    <a:pt x="100" y="356"/>
                  </a:lnTo>
                  <a:lnTo>
                    <a:pt x="97" y="365"/>
                  </a:lnTo>
                  <a:lnTo>
                    <a:pt x="93" y="377"/>
                  </a:lnTo>
                  <a:lnTo>
                    <a:pt x="89" y="388"/>
                  </a:lnTo>
                  <a:lnTo>
                    <a:pt x="85" y="399"/>
                  </a:lnTo>
                  <a:lnTo>
                    <a:pt x="79" y="409"/>
                  </a:lnTo>
                  <a:lnTo>
                    <a:pt x="76" y="420"/>
                  </a:lnTo>
                  <a:lnTo>
                    <a:pt x="72" y="432"/>
                  </a:lnTo>
                  <a:lnTo>
                    <a:pt x="68" y="443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2" y="460"/>
                  </a:lnTo>
                  <a:lnTo>
                    <a:pt x="60" y="466"/>
                  </a:lnTo>
                  <a:lnTo>
                    <a:pt x="59" y="472"/>
                  </a:lnTo>
                  <a:lnTo>
                    <a:pt x="59" y="477"/>
                  </a:lnTo>
                  <a:lnTo>
                    <a:pt x="55" y="483"/>
                  </a:lnTo>
                  <a:lnTo>
                    <a:pt x="55" y="491"/>
                  </a:lnTo>
                  <a:lnTo>
                    <a:pt x="7" y="477"/>
                  </a:lnTo>
                  <a:lnTo>
                    <a:pt x="3" y="470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3" y="432"/>
                  </a:lnTo>
                  <a:lnTo>
                    <a:pt x="5" y="424"/>
                  </a:lnTo>
                  <a:lnTo>
                    <a:pt x="9" y="415"/>
                  </a:lnTo>
                  <a:lnTo>
                    <a:pt x="13" y="405"/>
                  </a:lnTo>
                  <a:lnTo>
                    <a:pt x="19" y="396"/>
                  </a:lnTo>
                  <a:lnTo>
                    <a:pt x="22" y="384"/>
                  </a:lnTo>
                  <a:lnTo>
                    <a:pt x="28" y="375"/>
                  </a:lnTo>
                  <a:lnTo>
                    <a:pt x="34" y="365"/>
                  </a:lnTo>
                  <a:lnTo>
                    <a:pt x="40" y="356"/>
                  </a:lnTo>
                  <a:lnTo>
                    <a:pt x="45" y="344"/>
                  </a:lnTo>
                  <a:lnTo>
                    <a:pt x="51" y="335"/>
                  </a:lnTo>
                  <a:lnTo>
                    <a:pt x="55" y="323"/>
                  </a:lnTo>
                  <a:lnTo>
                    <a:pt x="60" y="314"/>
                  </a:lnTo>
                  <a:lnTo>
                    <a:pt x="64" y="302"/>
                  </a:lnTo>
                  <a:lnTo>
                    <a:pt x="68" y="293"/>
                  </a:lnTo>
                  <a:lnTo>
                    <a:pt x="70" y="282"/>
                  </a:lnTo>
                  <a:lnTo>
                    <a:pt x="74" y="272"/>
                  </a:lnTo>
                  <a:lnTo>
                    <a:pt x="74" y="261"/>
                  </a:lnTo>
                  <a:lnTo>
                    <a:pt x="76" y="251"/>
                  </a:lnTo>
                  <a:lnTo>
                    <a:pt x="74" y="242"/>
                  </a:lnTo>
                  <a:lnTo>
                    <a:pt x="72" y="232"/>
                  </a:lnTo>
                  <a:lnTo>
                    <a:pt x="68" y="223"/>
                  </a:lnTo>
                  <a:lnTo>
                    <a:pt x="64" y="213"/>
                  </a:lnTo>
                  <a:lnTo>
                    <a:pt x="59" y="204"/>
                  </a:lnTo>
                  <a:lnTo>
                    <a:pt x="51" y="194"/>
                  </a:lnTo>
                  <a:lnTo>
                    <a:pt x="41" y="186"/>
                  </a:lnTo>
                  <a:lnTo>
                    <a:pt x="30" y="179"/>
                  </a:lnTo>
                  <a:lnTo>
                    <a:pt x="28" y="171"/>
                  </a:lnTo>
                  <a:lnTo>
                    <a:pt x="26" y="166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26" y="143"/>
                  </a:lnTo>
                  <a:lnTo>
                    <a:pt x="26" y="131"/>
                  </a:lnTo>
                  <a:lnTo>
                    <a:pt x="26" y="120"/>
                  </a:lnTo>
                  <a:lnTo>
                    <a:pt x="26" y="109"/>
                  </a:lnTo>
                  <a:lnTo>
                    <a:pt x="26" y="97"/>
                  </a:lnTo>
                  <a:lnTo>
                    <a:pt x="26" y="88"/>
                  </a:lnTo>
                  <a:lnTo>
                    <a:pt x="26" y="76"/>
                  </a:lnTo>
                  <a:lnTo>
                    <a:pt x="26" y="67"/>
                  </a:lnTo>
                  <a:lnTo>
                    <a:pt x="26" y="53"/>
                  </a:lnTo>
                  <a:lnTo>
                    <a:pt x="28" y="44"/>
                  </a:lnTo>
                  <a:lnTo>
                    <a:pt x="26" y="32"/>
                  </a:lnTo>
                  <a:lnTo>
                    <a:pt x="26" y="21"/>
                  </a:lnTo>
                  <a:lnTo>
                    <a:pt x="26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199880" y="2087640"/>
              <a:ext cx="226800" cy="138240"/>
            </a:xfrm>
            <a:custGeom>
              <a:avLst/>
              <a:gdLst/>
              <a:ahLst/>
              <a:rect l="l" t="t" r="r" b="b"/>
              <a:pathLst>
                <a:path w="285" h="173">
                  <a:moveTo>
                    <a:pt x="266" y="0"/>
                  </a:moveTo>
                  <a:lnTo>
                    <a:pt x="274" y="2"/>
                  </a:lnTo>
                  <a:lnTo>
                    <a:pt x="280" y="8"/>
                  </a:lnTo>
                  <a:lnTo>
                    <a:pt x="280" y="12"/>
                  </a:lnTo>
                  <a:lnTo>
                    <a:pt x="284" y="17"/>
                  </a:lnTo>
                  <a:lnTo>
                    <a:pt x="284" y="23"/>
                  </a:lnTo>
                  <a:lnTo>
                    <a:pt x="285" y="31"/>
                  </a:lnTo>
                  <a:lnTo>
                    <a:pt x="284" y="34"/>
                  </a:lnTo>
                  <a:lnTo>
                    <a:pt x="284" y="42"/>
                  </a:lnTo>
                  <a:lnTo>
                    <a:pt x="284" y="50"/>
                  </a:lnTo>
                  <a:lnTo>
                    <a:pt x="282" y="57"/>
                  </a:lnTo>
                  <a:lnTo>
                    <a:pt x="280" y="63"/>
                  </a:lnTo>
                  <a:lnTo>
                    <a:pt x="278" y="72"/>
                  </a:lnTo>
                  <a:lnTo>
                    <a:pt x="274" y="80"/>
                  </a:lnTo>
                  <a:lnTo>
                    <a:pt x="272" y="90"/>
                  </a:lnTo>
                  <a:lnTo>
                    <a:pt x="268" y="97"/>
                  </a:lnTo>
                  <a:lnTo>
                    <a:pt x="265" y="105"/>
                  </a:lnTo>
                  <a:lnTo>
                    <a:pt x="261" y="112"/>
                  </a:lnTo>
                  <a:lnTo>
                    <a:pt x="257" y="120"/>
                  </a:lnTo>
                  <a:lnTo>
                    <a:pt x="251" y="126"/>
                  </a:lnTo>
                  <a:lnTo>
                    <a:pt x="247" y="133"/>
                  </a:lnTo>
                  <a:lnTo>
                    <a:pt x="242" y="141"/>
                  </a:lnTo>
                  <a:lnTo>
                    <a:pt x="238" y="148"/>
                  </a:lnTo>
                  <a:lnTo>
                    <a:pt x="228" y="158"/>
                  </a:lnTo>
                  <a:lnTo>
                    <a:pt x="219" y="166"/>
                  </a:lnTo>
                  <a:lnTo>
                    <a:pt x="207" y="171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198" y="166"/>
                  </a:lnTo>
                  <a:lnTo>
                    <a:pt x="204" y="156"/>
                  </a:lnTo>
                  <a:lnTo>
                    <a:pt x="207" y="150"/>
                  </a:lnTo>
                  <a:lnTo>
                    <a:pt x="204" y="143"/>
                  </a:lnTo>
                  <a:lnTo>
                    <a:pt x="198" y="139"/>
                  </a:lnTo>
                  <a:lnTo>
                    <a:pt x="192" y="135"/>
                  </a:lnTo>
                  <a:lnTo>
                    <a:pt x="187" y="131"/>
                  </a:lnTo>
                  <a:lnTo>
                    <a:pt x="179" y="129"/>
                  </a:lnTo>
                  <a:lnTo>
                    <a:pt x="173" y="129"/>
                  </a:lnTo>
                  <a:lnTo>
                    <a:pt x="166" y="126"/>
                  </a:lnTo>
                  <a:lnTo>
                    <a:pt x="158" y="124"/>
                  </a:lnTo>
                  <a:lnTo>
                    <a:pt x="149" y="122"/>
                  </a:lnTo>
                  <a:lnTo>
                    <a:pt x="141" y="122"/>
                  </a:lnTo>
                  <a:lnTo>
                    <a:pt x="130" y="120"/>
                  </a:lnTo>
                  <a:lnTo>
                    <a:pt x="120" y="118"/>
                  </a:lnTo>
                  <a:lnTo>
                    <a:pt x="111" y="116"/>
                  </a:lnTo>
                  <a:lnTo>
                    <a:pt x="101" y="116"/>
                  </a:lnTo>
                  <a:lnTo>
                    <a:pt x="92" y="116"/>
                  </a:lnTo>
                  <a:lnTo>
                    <a:pt x="82" y="114"/>
                  </a:lnTo>
                  <a:lnTo>
                    <a:pt x="72" y="114"/>
                  </a:lnTo>
                  <a:lnTo>
                    <a:pt x="63" y="114"/>
                  </a:lnTo>
                  <a:lnTo>
                    <a:pt x="53" y="114"/>
                  </a:lnTo>
                  <a:lnTo>
                    <a:pt x="44" y="114"/>
                  </a:lnTo>
                  <a:lnTo>
                    <a:pt x="34" y="114"/>
                  </a:lnTo>
                  <a:lnTo>
                    <a:pt x="27" y="114"/>
                  </a:lnTo>
                  <a:lnTo>
                    <a:pt x="19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0" y="116"/>
                  </a:lnTo>
                  <a:lnTo>
                    <a:pt x="6" y="109"/>
                  </a:lnTo>
                  <a:lnTo>
                    <a:pt x="12" y="105"/>
                  </a:lnTo>
                  <a:lnTo>
                    <a:pt x="17" y="101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6" y="91"/>
                  </a:lnTo>
                  <a:lnTo>
                    <a:pt x="53" y="91"/>
                  </a:lnTo>
                  <a:lnTo>
                    <a:pt x="59" y="90"/>
                  </a:lnTo>
                  <a:lnTo>
                    <a:pt x="69" y="90"/>
                  </a:lnTo>
                  <a:lnTo>
                    <a:pt x="76" y="91"/>
                  </a:lnTo>
                  <a:lnTo>
                    <a:pt x="84" y="93"/>
                  </a:lnTo>
                  <a:lnTo>
                    <a:pt x="93" y="93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0" y="97"/>
                  </a:lnTo>
                  <a:lnTo>
                    <a:pt x="128" y="97"/>
                  </a:lnTo>
                  <a:lnTo>
                    <a:pt x="135" y="99"/>
                  </a:lnTo>
                  <a:lnTo>
                    <a:pt x="145" y="99"/>
                  </a:lnTo>
                  <a:lnTo>
                    <a:pt x="152" y="101"/>
                  </a:lnTo>
                  <a:lnTo>
                    <a:pt x="160" y="101"/>
                  </a:lnTo>
                  <a:lnTo>
                    <a:pt x="169" y="101"/>
                  </a:lnTo>
                  <a:lnTo>
                    <a:pt x="177" y="101"/>
                  </a:lnTo>
                  <a:lnTo>
                    <a:pt x="187" y="103"/>
                  </a:lnTo>
                  <a:lnTo>
                    <a:pt x="194" y="101"/>
                  </a:lnTo>
                  <a:lnTo>
                    <a:pt x="202" y="101"/>
                  </a:lnTo>
                  <a:lnTo>
                    <a:pt x="209" y="99"/>
                  </a:lnTo>
                  <a:lnTo>
                    <a:pt x="217" y="97"/>
                  </a:lnTo>
                  <a:lnTo>
                    <a:pt x="225" y="95"/>
                  </a:lnTo>
                  <a:lnTo>
                    <a:pt x="232" y="93"/>
                  </a:lnTo>
                  <a:lnTo>
                    <a:pt x="240" y="90"/>
                  </a:lnTo>
                  <a:lnTo>
                    <a:pt x="247" y="86"/>
                  </a:lnTo>
                  <a:lnTo>
                    <a:pt x="236" y="82"/>
                  </a:lnTo>
                  <a:lnTo>
                    <a:pt x="225" y="80"/>
                  </a:lnTo>
                  <a:lnTo>
                    <a:pt x="215" y="80"/>
                  </a:lnTo>
                  <a:lnTo>
                    <a:pt x="204" y="80"/>
                  </a:lnTo>
                  <a:lnTo>
                    <a:pt x="198" y="80"/>
                  </a:lnTo>
                  <a:lnTo>
                    <a:pt x="192" y="80"/>
                  </a:lnTo>
                  <a:lnTo>
                    <a:pt x="187" y="80"/>
                  </a:lnTo>
                  <a:lnTo>
                    <a:pt x="181" y="80"/>
                  </a:lnTo>
                  <a:lnTo>
                    <a:pt x="169" y="80"/>
                  </a:lnTo>
                  <a:lnTo>
                    <a:pt x="158" y="82"/>
                  </a:lnTo>
                  <a:lnTo>
                    <a:pt x="152" y="80"/>
                  </a:lnTo>
                  <a:lnTo>
                    <a:pt x="147" y="80"/>
                  </a:lnTo>
                  <a:lnTo>
                    <a:pt x="141" y="80"/>
                  </a:lnTo>
                  <a:lnTo>
                    <a:pt x="135" y="80"/>
                  </a:lnTo>
                  <a:lnTo>
                    <a:pt x="124" y="80"/>
                  </a:lnTo>
                  <a:lnTo>
                    <a:pt x="112" y="80"/>
                  </a:lnTo>
                  <a:lnTo>
                    <a:pt x="103" y="76"/>
                  </a:lnTo>
                  <a:lnTo>
                    <a:pt x="93" y="72"/>
                  </a:lnTo>
                  <a:lnTo>
                    <a:pt x="84" y="69"/>
                  </a:lnTo>
                  <a:lnTo>
                    <a:pt x="74" y="63"/>
                  </a:lnTo>
                  <a:lnTo>
                    <a:pt x="82" y="57"/>
                  </a:lnTo>
                  <a:lnTo>
                    <a:pt x="90" y="53"/>
                  </a:lnTo>
                  <a:lnTo>
                    <a:pt x="97" y="50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6"/>
                  </a:lnTo>
                  <a:lnTo>
                    <a:pt x="133" y="46"/>
                  </a:lnTo>
                  <a:lnTo>
                    <a:pt x="143" y="46"/>
                  </a:lnTo>
                  <a:lnTo>
                    <a:pt x="150" y="46"/>
                  </a:lnTo>
                  <a:lnTo>
                    <a:pt x="160" y="46"/>
                  </a:lnTo>
                  <a:lnTo>
                    <a:pt x="169" y="46"/>
                  </a:lnTo>
                  <a:lnTo>
                    <a:pt x="179" y="46"/>
                  </a:lnTo>
                  <a:lnTo>
                    <a:pt x="188" y="44"/>
                  </a:lnTo>
                  <a:lnTo>
                    <a:pt x="198" y="44"/>
                  </a:lnTo>
                  <a:lnTo>
                    <a:pt x="209" y="44"/>
                  </a:lnTo>
                  <a:lnTo>
                    <a:pt x="219" y="44"/>
                  </a:lnTo>
                  <a:lnTo>
                    <a:pt x="219" y="40"/>
                  </a:lnTo>
                  <a:lnTo>
                    <a:pt x="219" y="36"/>
                  </a:lnTo>
                  <a:lnTo>
                    <a:pt x="211" y="32"/>
                  </a:lnTo>
                  <a:lnTo>
                    <a:pt x="204" y="32"/>
                  </a:lnTo>
                  <a:lnTo>
                    <a:pt x="196" y="32"/>
                  </a:lnTo>
                  <a:lnTo>
                    <a:pt x="188" y="32"/>
                  </a:lnTo>
                  <a:lnTo>
                    <a:pt x="181" y="32"/>
                  </a:lnTo>
                  <a:lnTo>
                    <a:pt x="173" y="32"/>
                  </a:lnTo>
                  <a:lnTo>
                    <a:pt x="168" y="31"/>
                  </a:lnTo>
                  <a:lnTo>
                    <a:pt x="160" y="31"/>
                  </a:lnTo>
                  <a:lnTo>
                    <a:pt x="160" y="27"/>
                  </a:lnTo>
                  <a:lnTo>
                    <a:pt x="160" y="25"/>
                  </a:lnTo>
                  <a:lnTo>
                    <a:pt x="166" y="21"/>
                  </a:lnTo>
                  <a:lnTo>
                    <a:pt x="173" y="17"/>
                  </a:lnTo>
                  <a:lnTo>
                    <a:pt x="179" y="13"/>
                  </a:lnTo>
                  <a:lnTo>
                    <a:pt x="185" y="13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6" y="12"/>
                  </a:lnTo>
                  <a:lnTo>
                    <a:pt x="213" y="12"/>
                  </a:lnTo>
                  <a:lnTo>
                    <a:pt x="219" y="12"/>
                  </a:lnTo>
                  <a:lnTo>
                    <a:pt x="225" y="12"/>
                  </a:lnTo>
                  <a:lnTo>
                    <a:pt x="232" y="10"/>
                  </a:lnTo>
                  <a:lnTo>
                    <a:pt x="240" y="10"/>
                  </a:lnTo>
                  <a:lnTo>
                    <a:pt x="245" y="8"/>
                  </a:lnTo>
                  <a:lnTo>
                    <a:pt x="251" y="6"/>
                  </a:lnTo>
                  <a:lnTo>
                    <a:pt x="259" y="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053720" y="2097000"/>
              <a:ext cx="218880" cy="343080"/>
            </a:xfrm>
            <a:custGeom>
              <a:avLst/>
              <a:gdLst/>
              <a:ahLst/>
              <a:rect l="l" t="t" r="r" b="b"/>
              <a:pathLst>
                <a:path w="276" h="431">
                  <a:moveTo>
                    <a:pt x="232" y="0"/>
                  </a:moveTo>
                  <a:lnTo>
                    <a:pt x="238" y="0"/>
                  </a:lnTo>
                  <a:lnTo>
                    <a:pt x="242" y="1"/>
                  </a:lnTo>
                  <a:lnTo>
                    <a:pt x="247" y="3"/>
                  </a:lnTo>
                  <a:lnTo>
                    <a:pt x="251" y="5"/>
                  </a:lnTo>
                  <a:lnTo>
                    <a:pt x="259" y="11"/>
                  </a:lnTo>
                  <a:lnTo>
                    <a:pt x="266" y="17"/>
                  </a:lnTo>
                  <a:lnTo>
                    <a:pt x="270" y="22"/>
                  </a:lnTo>
                  <a:lnTo>
                    <a:pt x="272" y="28"/>
                  </a:lnTo>
                  <a:lnTo>
                    <a:pt x="274" y="34"/>
                  </a:lnTo>
                  <a:lnTo>
                    <a:pt x="276" y="41"/>
                  </a:lnTo>
                  <a:lnTo>
                    <a:pt x="276" y="49"/>
                  </a:lnTo>
                  <a:lnTo>
                    <a:pt x="274" y="57"/>
                  </a:lnTo>
                  <a:lnTo>
                    <a:pt x="272" y="64"/>
                  </a:lnTo>
                  <a:lnTo>
                    <a:pt x="272" y="74"/>
                  </a:lnTo>
                  <a:lnTo>
                    <a:pt x="270" y="81"/>
                  </a:lnTo>
                  <a:lnTo>
                    <a:pt x="270" y="91"/>
                  </a:lnTo>
                  <a:lnTo>
                    <a:pt x="270" y="100"/>
                  </a:lnTo>
                  <a:lnTo>
                    <a:pt x="272" y="110"/>
                  </a:lnTo>
                  <a:lnTo>
                    <a:pt x="274" y="117"/>
                  </a:lnTo>
                  <a:lnTo>
                    <a:pt x="276" y="127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2" y="152"/>
                  </a:lnTo>
                  <a:lnTo>
                    <a:pt x="272" y="161"/>
                  </a:lnTo>
                  <a:lnTo>
                    <a:pt x="268" y="171"/>
                  </a:lnTo>
                  <a:lnTo>
                    <a:pt x="266" y="182"/>
                  </a:lnTo>
                  <a:lnTo>
                    <a:pt x="261" y="192"/>
                  </a:lnTo>
                  <a:lnTo>
                    <a:pt x="257" y="201"/>
                  </a:lnTo>
                  <a:lnTo>
                    <a:pt x="249" y="211"/>
                  </a:lnTo>
                  <a:lnTo>
                    <a:pt x="244" y="220"/>
                  </a:lnTo>
                  <a:lnTo>
                    <a:pt x="238" y="230"/>
                  </a:lnTo>
                  <a:lnTo>
                    <a:pt x="230" y="239"/>
                  </a:lnTo>
                  <a:lnTo>
                    <a:pt x="223" y="249"/>
                  </a:lnTo>
                  <a:lnTo>
                    <a:pt x="217" y="258"/>
                  </a:lnTo>
                  <a:lnTo>
                    <a:pt x="207" y="268"/>
                  </a:lnTo>
                  <a:lnTo>
                    <a:pt x="200" y="277"/>
                  </a:lnTo>
                  <a:lnTo>
                    <a:pt x="192" y="287"/>
                  </a:lnTo>
                  <a:lnTo>
                    <a:pt x="183" y="296"/>
                  </a:lnTo>
                  <a:lnTo>
                    <a:pt x="173" y="306"/>
                  </a:lnTo>
                  <a:lnTo>
                    <a:pt x="166" y="315"/>
                  </a:lnTo>
                  <a:lnTo>
                    <a:pt x="156" y="325"/>
                  </a:lnTo>
                  <a:lnTo>
                    <a:pt x="148" y="334"/>
                  </a:lnTo>
                  <a:lnTo>
                    <a:pt x="139" y="344"/>
                  </a:lnTo>
                  <a:lnTo>
                    <a:pt x="131" y="353"/>
                  </a:lnTo>
                  <a:lnTo>
                    <a:pt x="122" y="363"/>
                  </a:lnTo>
                  <a:lnTo>
                    <a:pt x="114" y="372"/>
                  </a:lnTo>
                  <a:lnTo>
                    <a:pt x="109" y="382"/>
                  </a:lnTo>
                  <a:lnTo>
                    <a:pt x="101" y="391"/>
                  </a:lnTo>
                  <a:lnTo>
                    <a:pt x="93" y="401"/>
                  </a:lnTo>
                  <a:lnTo>
                    <a:pt x="88" y="410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29"/>
                  </a:lnTo>
                  <a:lnTo>
                    <a:pt x="53" y="431"/>
                  </a:lnTo>
                  <a:lnTo>
                    <a:pt x="55" y="425"/>
                  </a:lnTo>
                  <a:lnTo>
                    <a:pt x="57" y="422"/>
                  </a:lnTo>
                  <a:lnTo>
                    <a:pt x="57" y="416"/>
                  </a:lnTo>
                  <a:lnTo>
                    <a:pt x="57" y="414"/>
                  </a:lnTo>
                  <a:lnTo>
                    <a:pt x="55" y="408"/>
                  </a:lnTo>
                  <a:lnTo>
                    <a:pt x="50" y="406"/>
                  </a:lnTo>
                  <a:lnTo>
                    <a:pt x="44" y="406"/>
                  </a:lnTo>
                  <a:lnTo>
                    <a:pt x="36" y="406"/>
                  </a:lnTo>
                  <a:lnTo>
                    <a:pt x="27" y="406"/>
                  </a:lnTo>
                  <a:lnTo>
                    <a:pt x="19" y="408"/>
                  </a:lnTo>
                  <a:lnTo>
                    <a:pt x="10" y="408"/>
                  </a:lnTo>
                  <a:lnTo>
                    <a:pt x="4" y="408"/>
                  </a:lnTo>
                  <a:lnTo>
                    <a:pt x="0" y="406"/>
                  </a:lnTo>
                  <a:lnTo>
                    <a:pt x="0" y="405"/>
                  </a:lnTo>
                  <a:lnTo>
                    <a:pt x="0" y="399"/>
                  </a:lnTo>
                  <a:lnTo>
                    <a:pt x="8" y="391"/>
                  </a:lnTo>
                  <a:lnTo>
                    <a:pt x="12" y="385"/>
                  </a:lnTo>
                  <a:lnTo>
                    <a:pt x="19" y="380"/>
                  </a:lnTo>
                  <a:lnTo>
                    <a:pt x="27" y="372"/>
                  </a:lnTo>
                  <a:lnTo>
                    <a:pt x="38" y="366"/>
                  </a:lnTo>
                  <a:lnTo>
                    <a:pt x="44" y="361"/>
                  </a:lnTo>
                  <a:lnTo>
                    <a:pt x="50" y="357"/>
                  </a:lnTo>
                  <a:lnTo>
                    <a:pt x="55" y="353"/>
                  </a:lnTo>
                  <a:lnTo>
                    <a:pt x="63" y="349"/>
                  </a:lnTo>
                  <a:lnTo>
                    <a:pt x="72" y="342"/>
                  </a:lnTo>
                  <a:lnTo>
                    <a:pt x="84" y="332"/>
                  </a:lnTo>
                  <a:lnTo>
                    <a:pt x="93" y="323"/>
                  </a:lnTo>
                  <a:lnTo>
                    <a:pt x="103" y="313"/>
                  </a:lnTo>
                  <a:lnTo>
                    <a:pt x="110" y="304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6" y="283"/>
                  </a:lnTo>
                  <a:lnTo>
                    <a:pt x="129" y="275"/>
                  </a:lnTo>
                  <a:lnTo>
                    <a:pt x="131" y="270"/>
                  </a:lnTo>
                  <a:lnTo>
                    <a:pt x="139" y="258"/>
                  </a:lnTo>
                  <a:lnTo>
                    <a:pt x="145" y="249"/>
                  </a:lnTo>
                  <a:lnTo>
                    <a:pt x="147" y="241"/>
                  </a:lnTo>
                  <a:lnTo>
                    <a:pt x="148" y="235"/>
                  </a:lnTo>
                  <a:lnTo>
                    <a:pt x="150" y="230"/>
                  </a:lnTo>
                  <a:lnTo>
                    <a:pt x="154" y="224"/>
                  </a:lnTo>
                  <a:lnTo>
                    <a:pt x="156" y="216"/>
                  </a:lnTo>
                  <a:lnTo>
                    <a:pt x="160" y="211"/>
                  </a:lnTo>
                  <a:lnTo>
                    <a:pt x="162" y="205"/>
                  </a:lnTo>
                  <a:lnTo>
                    <a:pt x="166" y="199"/>
                  </a:lnTo>
                  <a:lnTo>
                    <a:pt x="166" y="192"/>
                  </a:lnTo>
                  <a:lnTo>
                    <a:pt x="167" y="186"/>
                  </a:lnTo>
                  <a:lnTo>
                    <a:pt x="169" y="178"/>
                  </a:lnTo>
                  <a:lnTo>
                    <a:pt x="173" y="173"/>
                  </a:lnTo>
                  <a:lnTo>
                    <a:pt x="173" y="167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1" y="140"/>
                  </a:lnTo>
                  <a:lnTo>
                    <a:pt x="183" y="133"/>
                  </a:lnTo>
                  <a:lnTo>
                    <a:pt x="185" y="127"/>
                  </a:lnTo>
                  <a:lnTo>
                    <a:pt x="186" y="121"/>
                  </a:lnTo>
                  <a:lnTo>
                    <a:pt x="186" y="114"/>
                  </a:lnTo>
                  <a:lnTo>
                    <a:pt x="190" y="108"/>
                  </a:lnTo>
                  <a:lnTo>
                    <a:pt x="192" y="102"/>
                  </a:lnTo>
                  <a:lnTo>
                    <a:pt x="194" y="95"/>
                  </a:lnTo>
                  <a:lnTo>
                    <a:pt x="196" y="87"/>
                  </a:lnTo>
                  <a:lnTo>
                    <a:pt x="198" y="81"/>
                  </a:lnTo>
                  <a:lnTo>
                    <a:pt x="198" y="76"/>
                  </a:lnTo>
                  <a:lnTo>
                    <a:pt x="202" y="68"/>
                  </a:lnTo>
                  <a:lnTo>
                    <a:pt x="204" y="62"/>
                  </a:lnTo>
                  <a:lnTo>
                    <a:pt x="205" y="57"/>
                  </a:lnTo>
                  <a:lnTo>
                    <a:pt x="207" y="49"/>
                  </a:lnTo>
                  <a:lnTo>
                    <a:pt x="211" y="45"/>
                  </a:lnTo>
                  <a:lnTo>
                    <a:pt x="213" y="38"/>
                  </a:lnTo>
                  <a:lnTo>
                    <a:pt x="215" y="32"/>
                  </a:lnTo>
                  <a:lnTo>
                    <a:pt x="217" y="24"/>
                  </a:lnTo>
                  <a:lnTo>
                    <a:pt x="221" y="20"/>
                  </a:lnTo>
                  <a:lnTo>
                    <a:pt x="224" y="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467360" y="2105280"/>
              <a:ext cx="198360" cy="50760"/>
            </a:xfrm>
            <a:custGeom>
              <a:avLst/>
              <a:gdLst/>
              <a:ahLst/>
              <a:rect l="l" t="t" r="r" b="b"/>
              <a:pathLst>
                <a:path w="251" h="63">
                  <a:moveTo>
                    <a:pt x="148" y="0"/>
                  </a:moveTo>
                  <a:lnTo>
                    <a:pt x="154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4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1" y="2"/>
                  </a:lnTo>
                  <a:lnTo>
                    <a:pt x="251" y="6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2" y="4"/>
                  </a:lnTo>
                  <a:lnTo>
                    <a:pt x="213" y="8"/>
                  </a:lnTo>
                  <a:lnTo>
                    <a:pt x="207" y="8"/>
                  </a:lnTo>
                  <a:lnTo>
                    <a:pt x="201" y="9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1" y="17"/>
                  </a:lnTo>
                  <a:lnTo>
                    <a:pt x="165" y="19"/>
                  </a:lnTo>
                  <a:lnTo>
                    <a:pt x="160" y="21"/>
                  </a:lnTo>
                  <a:lnTo>
                    <a:pt x="154" y="23"/>
                  </a:lnTo>
                  <a:lnTo>
                    <a:pt x="146" y="23"/>
                  </a:lnTo>
                  <a:lnTo>
                    <a:pt x="141" y="27"/>
                  </a:lnTo>
                  <a:lnTo>
                    <a:pt x="135" y="28"/>
                  </a:lnTo>
                  <a:lnTo>
                    <a:pt x="127" y="30"/>
                  </a:lnTo>
                  <a:lnTo>
                    <a:pt x="122" y="32"/>
                  </a:lnTo>
                  <a:lnTo>
                    <a:pt x="116" y="36"/>
                  </a:lnTo>
                  <a:lnTo>
                    <a:pt x="108" y="36"/>
                  </a:lnTo>
                  <a:lnTo>
                    <a:pt x="103" y="38"/>
                  </a:lnTo>
                  <a:lnTo>
                    <a:pt x="97" y="40"/>
                  </a:lnTo>
                  <a:lnTo>
                    <a:pt x="91" y="44"/>
                  </a:lnTo>
                  <a:lnTo>
                    <a:pt x="80" y="48"/>
                  </a:lnTo>
                  <a:lnTo>
                    <a:pt x="68" y="51"/>
                  </a:lnTo>
                  <a:lnTo>
                    <a:pt x="57" y="53"/>
                  </a:lnTo>
                  <a:lnTo>
                    <a:pt x="47" y="57"/>
                  </a:lnTo>
                  <a:lnTo>
                    <a:pt x="36" y="59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5" y="21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6" y="9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70" y="11"/>
                  </a:lnTo>
                  <a:lnTo>
                    <a:pt x="80" y="11"/>
                  </a:lnTo>
                  <a:lnTo>
                    <a:pt x="87" y="11"/>
                  </a:lnTo>
                  <a:lnTo>
                    <a:pt x="95" y="11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20" y="9"/>
                  </a:lnTo>
                  <a:lnTo>
                    <a:pt x="127" y="8"/>
                  </a:lnTo>
                  <a:lnTo>
                    <a:pt x="135" y="6"/>
                  </a:lnTo>
                  <a:lnTo>
                    <a:pt x="141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489680" y="2347920"/>
              <a:ext cx="3132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4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1" y="19"/>
                  </a:lnTo>
                  <a:lnTo>
                    <a:pt x="16" y="23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9" y="8"/>
                  </a:lnTo>
                  <a:lnTo>
                    <a:pt x="35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485080" y="2411640"/>
              <a:ext cx="55080" cy="2052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54" y="0"/>
                  </a:move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63" y="8"/>
                  </a:lnTo>
                  <a:lnTo>
                    <a:pt x="57" y="15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35" y="8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269720" y="2411640"/>
              <a:ext cx="840960" cy="217440"/>
            </a:xfrm>
            <a:custGeom>
              <a:avLst/>
              <a:gdLst/>
              <a:ahLst/>
              <a:rect l="l" t="t" r="r" b="b"/>
              <a:pathLst>
                <a:path w="1061" h="274">
                  <a:moveTo>
                    <a:pt x="783" y="0"/>
                  </a:moveTo>
                  <a:lnTo>
                    <a:pt x="787" y="8"/>
                  </a:lnTo>
                  <a:lnTo>
                    <a:pt x="787" y="15"/>
                  </a:lnTo>
                  <a:lnTo>
                    <a:pt x="783" y="21"/>
                  </a:lnTo>
                  <a:lnTo>
                    <a:pt x="780" y="27"/>
                  </a:lnTo>
                  <a:lnTo>
                    <a:pt x="774" y="30"/>
                  </a:lnTo>
                  <a:lnTo>
                    <a:pt x="768" y="36"/>
                  </a:lnTo>
                  <a:lnTo>
                    <a:pt x="759" y="42"/>
                  </a:lnTo>
                  <a:lnTo>
                    <a:pt x="751" y="47"/>
                  </a:lnTo>
                  <a:lnTo>
                    <a:pt x="742" y="51"/>
                  </a:lnTo>
                  <a:lnTo>
                    <a:pt x="734" y="57"/>
                  </a:lnTo>
                  <a:lnTo>
                    <a:pt x="726" y="63"/>
                  </a:lnTo>
                  <a:lnTo>
                    <a:pt x="719" y="70"/>
                  </a:lnTo>
                  <a:lnTo>
                    <a:pt x="713" y="76"/>
                  </a:lnTo>
                  <a:lnTo>
                    <a:pt x="709" y="84"/>
                  </a:lnTo>
                  <a:lnTo>
                    <a:pt x="707" y="91"/>
                  </a:lnTo>
                  <a:lnTo>
                    <a:pt x="709" y="103"/>
                  </a:lnTo>
                  <a:lnTo>
                    <a:pt x="719" y="99"/>
                  </a:lnTo>
                  <a:lnTo>
                    <a:pt x="732" y="97"/>
                  </a:lnTo>
                  <a:lnTo>
                    <a:pt x="742" y="93"/>
                  </a:lnTo>
                  <a:lnTo>
                    <a:pt x="753" y="91"/>
                  </a:lnTo>
                  <a:lnTo>
                    <a:pt x="764" y="87"/>
                  </a:lnTo>
                  <a:lnTo>
                    <a:pt x="776" y="84"/>
                  </a:lnTo>
                  <a:lnTo>
                    <a:pt x="787" y="82"/>
                  </a:lnTo>
                  <a:lnTo>
                    <a:pt x="799" y="78"/>
                  </a:lnTo>
                  <a:lnTo>
                    <a:pt x="808" y="74"/>
                  </a:lnTo>
                  <a:lnTo>
                    <a:pt x="820" y="70"/>
                  </a:lnTo>
                  <a:lnTo>
                    <a:pt x="831" y="66"/>
                  </a:lnTo>
                  <a:lnTo>
                    <a:pt x="842" y="65"/>
                  </a:lnTo>
                  <a:lnTo>
                    <a:pt x="854" y="61"/>
                  </a:lnTo>
                  <a:lnTo>
                    <a:pt x="865" y="57"/>
                  </a:lnTo>
                  <a:lnTo>
                    <a:pt x="871" y="55"/>
                  </a:lnTo>
                  <a:lnTo>
                    <a:pt x="877" y="55"/>
                  </a:lnTo>
                  <a:lnTo>
                    <a:pt x="882" y="53"/>
                  </a:lnTo>
                  <a:lnTo>
                    <a:pt x="888" y="53"/>
                  </a:lnTo>
                  <a:lnTo>
                    <a:pt x="899" y="49"/>
                  </a:lnTo>
                  <a:lnTo>
                    <a:pt x="909" y="47"/>
                  </a:lnTo>
                  <a:lnTo>
                    <a:pt x="920" y="46"/>
                  </a:lnTo>
                  <a:lnTo>
                    <a:pt x="932" y="46"/>
                  </a:lnTo>
                  <a:lnTo>
                    <a:pt x="943" y="44"/>
                  </a:lnTo>
                  <a:lnTo>
                    <a:pt x="955" y="42"/>
                  </a:lnTo>
                  <a:lnTo>
                    <a:pt x="964" y="42"/>
                  </a:lnTo>
                  <a:lnTo>
                    <a:pt x="975" y="44"/>
                  </a:lnTo>
                  <a:lnTo>
                    <a:pt x="987" y="44"/>
                  </a:lnTo>
                  <a:lnTo>
                    <a:pt x="998" y="44"/>
                  </a:lnTo>
                  <a:lnTo>
                    <a:pt x="1008" y="46"/>
                  </a:lnTo>
                  <a:lnTo>
                    <a:pt x="1019" y="47"/>
                  </a:lnTo>
                  <a:lnTo>
                    <a:pt x="1029" y="49"/>
                  </a:lnTo>
                  <a:lnTo>
                    <a:pt x="1040" y="53"/>
                  </a:lnTo>
                  <a:lnTo>
                    <a:pt x="1050" y="57"/>
                  </a:lnTo>
                  <a:lnTo>
                    <a:pt x="1061" y="63"/>
                  </a:lnTo>
                  <a:lnTo>
                    <a:pt x="1051" y="65"/>
                  </a:lnTo>
                  <a:lnTo>
                    <a:pt x="1046" y="66"/>
                  </a:lnTo>
                  <a:lnTo>
                    <a:pt x="1036" y="66"/>
                  </a:lnTo>
                  <a:lnTo>
                    <a:pt x="1029" y="70"/>
                  </a:lnTo>
                  <a:lnTo>
                    <a:pt x="1021" y="72"/>
                  </a:lnTo>
                  <a:lnTo>
                    <a:pt x="1013" y="74"/>
                  </a:lnTo>
                  <a:lnTo>
                    <a:pt x="1006" y="76"/>
                  </a:lnTo>
                  <a:lnTo>
                    <a:pt x="1000" y="80"/>
                  </a:lnTo>
                  <a:lnTo>
                    <a:pt x="991" y="80"/>
                  </a:lnTo>
                  <a:lnTo>
                    <a:pt x="983" y="82"/>
                  </a:lnTo>
                  <a:lnTo>
                    <a:pt x="975" y="84"/>
                  </a:lnTo>
                  <a:lnTo>
                    <a:pt x="968" y="87"/>
                  </a:lnTo>
                  <a:lnTo>
                    <a:pt x="962" y="89"/>
                  </a:lnTo>
                  <a:lnTo>
                    <a:pt x="955" y="91"/>
                  </a:lnTo>
                  <a:lnTo>
                    <a:pt x="947" y="95"/>
                  </a:lnTo>
                  <a:lnTo>
                    <a:pt x="939" y="99"/>
                  </a:lnTo>
                  <a:lnTo>
                    <a:pt x="932" y="101"/>
                  </a:lnTo>
                  <a:lnTo>
                    <a:pt x="924" y="103"/>
                  </a:lnTo>
                  <a:lnTo>
                    <a:pt x="916" y="104"/>
                  </a:lnTo>
                  <a:lnTo>
                    <a:pt x="909" y="108"/>
                  </a:lnTo>
                  <a:lnTo>
                    <a:pt x="901" y="110"/>
                  </a:lnTo>
                  <a:lnTo>
                    <a:pt x="894" y="112"/>
                  </a:lnTo>
                  <a:lnTo>
                    <a:pt x="886" y="116"/>
                  </a:lnTo>
                  <a:lnTo>
                    <a:pt x="880" y="120"/>
                  </a:lnTo>
                  <a:lnTo>
                    <a:pt x="873" y="122"/>
                  </a:lnTo>
                  <a:lnTo>
                    <a:pt x="865" y="125"/>
                  </a:lnTo>
                  <a:lnTo>
                    <a:pt x="858" y="127"/>
                  </a:lnTo>
                  <a:lnTo>
                    <a:pt x="852" y="131"/>
                  </a:lnTo>
                  <a:lnTo>
                    <a:pt x="844" y="135"/>
                  </a:lnTo>
                  <a:lnTo>
                    <a:pt x="837" y="137"/>
                  </a:lnTo>
                  <a:lnTo>
                    <a:pt x="829" y="141"/>
                  </a:lnTo>
                  <a:lnTo>
                    <a:pt x="823" y="144"/>
                  </a:lnTo>
                  <a:lnTo>
                    <a:pt x="814" y="146"/>
                  </a:lnTo>
                  <a:lnTo>
                    <a:pt x="806" y="148"/>
                  </a:lnTo>
                  <a:lnTo>
                    <a:pt x="799" y="152"/>
                  </a:lnTo>
                  <a:lnTo>
                    <a:pt x="793" y="156"/>
                  </a:lnTo>
                  <a:lnTo>
                    <a:pt x="785" y="158"/>
                  </a:lnTo>
                  <a:lnTo>
                    <a:pt x="778" y="161"/>
                  </a:lnTo>
                  <a:lnTo>
                    <a:pt x="770" y="163"/>
                  </a:lnTo>
                  <a:lnTo>
                    <a:pt x="764" y="167"/>
                  </a:lnTo>
                  <a:lnTo>
                    <a:pt x="757" y="171"/>
                  </a:lnTo>
                  <a:lnTo>
                    <a:pt x="749" y="173"/>
                  </a:lnTo>
                  <a:lnTo>
                    <a:pt x="742" y="177"/>
                  </a:lnTo>
                  <a:lnTo>
                    <a:pt x="736" y="181"/>
                  </a:lnTo>
                  <a:lnTo>
                    <a:pt x="728" y="182"/>
                  </a:lnTo>
                  <a:lnTo>
                    <a:pt x="721" y="186"/>
                  </a:lnTo>
                  <a:lnTo>
                    <a:pt x="713" y="190"/>
                  </a:lnTo>
                  <a:lnTo>
                    <a:pt x="707" y="192"/>
                  </a:lnTo>
                  <a:lnTo>
                    <a:pt x="698" y="196"/>
                  </a:lnTo>
                  <a:lnTo>
                    <a:pt x="690" y="200"/>
                  </a:lnTo>
                  <a:lnTo>
                    <a:pt x="685" y="201"/>
                  </a:lnTo>
                  <a:lnTo>
                    <a:pt x="677" y="205"/>
                  </a:lnTo>
                  <a:lnTo>
                    <a:pt x="669" y="209"/>
                  </a:lnTo>
                  <a:lnTo>
                    <a:pt x="662" y="211"/>
                  </a:lnTo>
                  <a:lnTo>
                    <a:pt x="654" y="215"/>
                  </a:lnTo>
                  <a:lnTo>
                    <a:pt x="648" y="219"/>
                  </a:lnTo>
                  <a:lnTo>
                    <a:pt x="641" y="220"/>
                  </a:lnTo>
                  <a:lnTo>
                    <a:pt x="633" y="224"/>
                  </a:lnTo>
                  <a:lnTo>
                    <a:pt x="626" y="228"/>
                  </a:lnTo>
                  <a:lnTo>
                    <a:pt x="620" y="230"/>
                  </a:lnTo>
                  <a:lnTo>
                    <a:pt x="612" y="234"/>
                  </a:lnTo>
                  <a:lnTo>
                    <a:pt x="605" y="238"/>
                  </a:lnTo>
                  <a:lnTo>
                    <a:pt x="597" y="239"/>
                  </a:lnTo>
                  <a:lnTo>
                    <a:pt x="591" y="243"/>
                  </a:lnTo>
                  <a:lnTo>
                    <a:pt x="597" y="238"/>
                  </a:lnTo>
                  <a:lnTo>
                    <a:pt x="605" y="232"/>
                  </a:lnTo>
                  <a:lnTo>
                    <a:pt x="610" y="226"/>
                  </a:lnTo>
                  <a:lnTo>
                    <a:pt x="618" y="222"/>
                  </a:lnTo>
                  <a:lnTo>
                    <a:pt x="624" y="217"/>
                  </a:lnTo>
                  <a:lnTo>
                    <a:pt x="631" y="211"/>
                  </a:lnTo>
                  <a:lnTo>
                    <a:pt x="639" y="207"/>
                  </a:lnTo>
                  <a:lnTo>
                    <a:pt x="647" y="201"/>
                  </a:lnTo>
                  <a:lnTo>
                    <a:pt x="652" y="198"/>
                  </a:lnTo>
                  <a:lnTo>
                    <a:pt x="660" y="192"/>
                  </a:lnTo>
                  <a:lnTo>
                    <a:pt x="667" y="188"/>
                  </a:lnTo>
                  <a:lnTo>
                    <a:pt x="677" y="182"/>
                  </a:lnTo>
                  <a:lnTo>
                    <a:pt x="685" y="177"/>
                  </a:lnTo>
                  <a:lnTo>
                    <a:pt x="692" y="173"/>
                  </a:lnTo>
                  <a:lnTo>
                    <a:pt x="700" y="167"/>
                  </a:lnTo>
                  <a:lnTo>
                    <a:pt x="707" y="165"/>
                  </a:lnTo>
                  <a:lnTo>
                    <a:pt x="715" y="160"/>
                  </a:lnTo>
                  <a:lnTo>
                    <a:pt x="723" y="156"/>
                  </a:lnTo>
                  <a:lnTo>
                    <a:pt x="730" y="152"/>
                  </a:lnTo>
                  <a:lnTo>
                    <a:pt x="740" y="148"/>
                  </a:lnTo>
                  <a:lnTo>
                    <a:pt x="745" y="144"/>
                  </a:lnTo>
                  <a:lnTo>
                    <a:pt x="755" y="139"/>
                  </a:lnTo>
                  <a:lnTo>
                    <a:pt x="762" y="137"/>
                  </a:lnTo>
                  <a:lnTo>
                    <a:pt x="772" y="133"/>
                  </a:lnTo>
                  <a:lnTo>
                    <a:pt x="780" y="129"/>
                  </a:lnTo>
                  <a:lnTo>
                    <a:pt x="787" y="127"/>
                  </a:lnTo>
                  <a:lnTo>
                    <a:pt x="797" y="123"/>
                  </a:lnTo>
                  <a:lnTo>
                    <a:pt x="804" y="122"/>
                  </a:lnTo>
                  <a:lnTo>
                    <a:pt x="812" y="118"/>
                  </a:lnTo>
                  <a:lnTo>
                    <a:pt x="821" y="118"/>
                  </a:lnTo>
                  <a:lnTo>
                    <a:pt x="829" y="116"/>
                  </a:lnTo>
                  <a:lnTo>
                    <a:pt x="839" y="116"/>
                  </a:lnTo>
                  <a:lnTo>
                    <a:pt x="833" y="112"/>
                  </a:lnTo>
                  <a:lnTo>
                    <a:pt x="825" y="112"/>
                  </a:lnTo>
                  <a:lnTo>
                    <a:pt x="820" y="112"/>
                  </a:lnTo>
                  <a:lnTo>
                    <a:pt x="816" y="112"/>
                  </a:lnTo>
                  <a:lnTo>
                    <a:pt x="808" y="112"/>
                  </a:lnTo>
                  <a:lnTo>
                    <a:pt x="802" y="112"/>
                  </a:lnTo>
                  <a:lnTo>
                    <a:pt x="797" y="112"/>
                  </a:lnTo>
                  <a:lnTo>
                    <a:pt x="791" y="112"/>
                  </a:lnTo>
                  <a:lnTo>
                    <a:pt x="785" y="112"/>
                  </a:lnTo>
                  <a:lnTo>
                    <a:pt x="780" y="112"/>
                  </a:lnTo>
                  <a:lnTo>
                    <a:pt x="774" y="112"/>
                  </a:lnTo>
                  <a:lnTo>
                    <a:pt x="768" y="114"/>
                  </a:lnTo>
                  <a:lnTo>
                    <a:pt x="757" y="116"/>
                  </a:lnTo>
                  <a:lnTo>
                    <a:pt x="745" y="120"/>
                  </a:lnTo>
                  <a:lnTo>
                    <a:pt x="740" y="120"/>
                  </a:lnTo>
                  <a:lnTo>
                    <a:pt x="734" y="122"/>
                  </a:lnTo>
                  <a:lnTo>
                    <a:pt x="728" y="123"/>
                  </a:lnTo>
                  <a:lnTo>
                    <a:pt x="723" y="125"/>
                  </a:lnTo>
                  <a:lnTo>
                    <a:pt x="717" y="125"/>
                  </a:lnTo>
                  <a:lnTo>
                    <a:pt x="709" y="129"/>
                  </a:lnTo>
                  <a:lnTo>
                    <a:pt x="705" y="129"/>
                  </a:lnTo>
                  <a:lnTo>
                    <a:pt x="700" y="133"/>
                  </a:lnTo>
                  <a:lnTo>
                    <a:pt x="694" y="135"/>
                  </a:lnTo>
                  <a:lnTo>
                    <a:pt x="688" y="137"/>
                  </a:lnTo>
                  <a:lnTo>
                    <a:pt x="681" y="139"/>
                  </a:lnTo>
                  <a:lnTo>
                    <a:pt x="677" y="142"/>
                  </a:lnTo>
                  <a:lnTo>
                    <a:pt x="666" y="146"/>
                  </a:lnTo>
                  <a:lnTo>
                    <a:pt x="654" y="154"/>
                  </a:lnTo>
                  <a:lnTo>
                    <a:pt x="648" y="156"/>
                  </a:lnTo>
                  <a:lnTo>
                    <a:pt x="641" y="158"/>
                  </a:lnTo>
                  <a:lnTo>
                    <a:pt x="635" y="160"/>
                  </a:lnTo>
                  <a:lnTo>
                    <a:pt x="631" y="163"/>
                  </a:lnTo>
                  <a:lnTo>
                    <a:pt x="624" y="165"/>
                  </a:lnTo>
                  <a:lnTo>
                    <a:pt x="618" y="167"/>
                  </a:lnTo>
                  <a:lnTo>
                    <a:pt x="612" y="171"/>
                  </a:lnTo>
                  <a:lnTo>
                    <a:pt x="607" y="175"/>
                  </a:lnTo>
                  <a:lnTo>
                    <a:pt x="595" y="181"/>
                  </a:lnTo>
                  <a:lnTo>
                    <a:pt x="586" y="186"/>
                  </a:lnTo>
                  <a:lnTo>
                    <a:pt x="574" y="192"/>
                  </a:lnTo>
                  <a:lnTo>
                    <a:pt x="563" y="200"/>
                  </a:lnTo>
                  <a:lnTo>
                    <a:pt x="557" y="201"/>
                  </a:lnTo>
                  <a:lnTo>
                    <a:pt x="550" y="203"/>
                  </a:lnTo>
                  <a:lnTo>
                    <a:pt x="546" y="207"/>
                  </a:lnTo>
                  <a:lnTo>
                    <a:pt x="540" y="211"/>
                  </a:lnTo>
                  <a:lnTo>
                    <a:pt x="529" y="217"/>
                  </a:lnTo>
                  <a:lnTo>
                    <a:pt x="517" y="222"/>
                  </a:lnTo>
                  <a:lnTo>
                    <a:pt x="506" y="228"/>
                  </a:lnTo>
                  <a:lnTo>
                    <a:pt x="494" y="232"/>
                  </a:lnTo>
                  <a:lnTo>
                    <a:pt x="483" y="238"/>
                  </a:lnTo>
                  <a:lnTo>
                    <a:pt x="474" y="243"/>
                  </a:lnTo>
                  <a:lnTo>
                    <a:pt x="477" y="236"/>
                  </a:lnTo>
                  <a:lnTo>
                    <a:pt x="483" y="228"/>
                  </a:lnTo>
                  <a:lnTo>
                    <a:pt x="489" y="220"/>
                  </a:lnTo>
                  <a:lnTo>
                    <a:pt x="494" y="215"/>
                  </a:lnTo>
                  <a:lnTo>
                    <a:pt x="502" y="207"/>
                  </a:lnTo>
                  <a:lnTo>
                    <a:pt x="510" y="200"/>
                  </a:lnTo>
                  <a:lnTo>
                    <a:pt x="515" y="192"/>
                  </a:lnTo>
                  <a:lnTo>
                    <a:pt x="525" y="186"/>
                  </a:lnTo>
                  <a:lnTo>
                    <a:pt x="531" y="179"/>
                  </a:lnTo>
                  <a:lnTo>
                    <a:pt x="540" y="171"/>
                  </a:lnTo>
                  <a:lnTo>
                    <a:pt x="548" y="165"/>
                  </a:lnTo>
                  <a:lnTo>
                    <a:pt x="557" y="158"/>
                  </a:lnTo>
                  <a:lnTo>
                    <a:pt x="565" y="152"/>
                  </a:lnTo>
                  <a:lnTo>
                    <a:pt x="574" y="144"/>
                  </a:lnTo>
                  <a:lnTo>
                    <a:pt x="582" y="139"/>
                  </a:lnTo>
                  <a:lnTo>
                    <a:pt x="591" y="135"/>
                  </a:lnTo>
                  <a:lnTo>
                    <a:pt x="586" y="135"/>
                  </a:lnTo>
                  <a:lnTo>
                    <a:pt x="578" y="135"/>
                  </a:lnTo>
                  <a:lnTo>
                    <a:pt x="574" y="137"/>
                  </a:lnTo>
                  <a:lnTo>
                    <a:pt x="569" y="139"/>
                  </a:lnTo>
                  <a:lnTo>
                    <a:pt x="557" y="142"/>
                  </a:lnTo>
                  <a:lnTo>
                    <a:pt x="546" y="144"/>
                  </a:lnTo>
                  <a:lnTo>
                    <a:pt x="534" y="148"/>
                  </a:lnTo>
                  <a:lnTo>
                    <a:pt x="523" y="154"/>
                  </a:lnTo>
                  <a:lnTo>
                    <a:pt x="512" y="158"/>
                  </a:lnTo>
                  <a:lnTo>
                    <a:pt x="502" y="163"/>
                  </a:lnTo>
                  <a:lnTo>
                    <a:pt x="491" y="165"/>
                  </a:lnTo>
                  <a:lnTo>
                    <a:pt x="481" y="171"/>
                  </a:lnTo>
                  <a:lnTo>
                    <a:pt x="468" y="175"/>
                  </a:lnTo>
                  <a:lnTo>
                    <a:pt x="458" y="182"/>
                  </a:lnTo>
                  <a:lnTo>
                    <a:pt x="449" y="186"/>
                  </a:lnTo>
                  <a:lnTo>
                    <a:pt x="437" y="192"/>
                  </a:lnTo>
                  <a:lnTo>
                    <a:pt x="428" y="198"/>
                  </a:lnTo>
                  <a:lnTo>
                    <a:pt x="418" y="201"/>
                  </a:lnTo>
                  <a:lnTo>
                    <a:pt x="407" y="207"/>
                  </a:lnTo>
                  <a:lnTo>
                    <a:pt x="396" y="211"/>
                  </a:lnTo>
                  <a:lnTo>
                    <a:pt x="384" y="215"/>
                  </a:lnTo>
                  <a:lnTo>
                    <a:pt x="375" y="219"/>
                  </a:lnTo>
                  <a:lnTo>
                    <a:pt x="365" y="222"/>
                  </a:lnTo>
                  <a:lnTo>
                    <a:pt x="354" y="226"/>
                  </a:lnTo>
                  <a:lnTo>
                    <a:pt x="344" y="228"/>
                  </a:lnTo>
                  <a:lnTo>
                    <a:pt x="335" y="232"/>
                  </a:lnTo>
                  <a:lnTo>
                    <a:pt x="323" y="232"/>
                  </a:lnTo>
                  <a:lnTo>
                    <a:pt x="314" y="236"/>
                  </a:lnTo>
                  <a:lnTo>
                    <a:pt x="304" y="236"/>
                  </a:lnTo>
                  <a:lnTo>
                    <a:pt x="295" y="238"/>
                  </a:lnTo>
                  <a:lnTo>
                    <a:pt x="283" y="238"/>
                  </a:lnTo>
                  <a:lnTo>
                    <a:pt x="272" y="238"/>
                  </a:lnTo>
                  <a:lnTo>
                    <a:pt x="262" y="236"/>
                  </a:lnTo>
                  <a:lnTo>
                    <a:pt x="253" y="234"/>
                  </a:lnTo>
                  <a:lnTo>
                    <a:pt x="247" y="236"/>
                  </a:lnTo>
                  <a:lnTo>
                    <a:pt x="242" y="239"/>
                  </a:lnTo>
                  <a:lnTo>
                    <a:pt x="238" y="245"/>
                  </a:lnTo>
                  <a:lnTo>
                    <a:pt x="236" y="249"/>
                  </a:lnTo>
                  <a:lnTo>
                    <a:pt x="234" y="258"/>
                  </a:lnTo>
                  <a:lnTo>
                    <a:pt x="242" y="270"/>
                  </a:lnTo>
                  <a:lnTo>
                    <a:pt x="238" y="274"/>
                  </a:lnTo>
                  <a:lnTo>
                    <a:pt x="230" y="268"/>
                  </a:lnTo>
                  <a:lnTo>
                    <a:pt x="224" y="268"/>
                  </a:lnTo>
                  <a:lnTo>
                    <a:pt x="219" y="268"/>
                  </a:lnTo>
                  <a:lnTo>
                    <a:pt x="213" y="268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09" y="251"/>
                  </a:lnTo>
                  <a:lnTo>
                    <a:pt x="209" y="243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20"/>
                  </a:lnTo>
                  <a:lnTo>
                    <a:pt x="207" y="220"/>
                  </a:lnTo>
                  <a:lnTo>
                    <a:pt x="202" y="219"/>
                  </a:lnTo>
                  <a:lnTo>
                    <a:pt x="196" y="220"/>
                  </a:lnTo>
                  <a:lnTo>
                    <a:pt x="188" y="222"/>
                  </a:lnTo>
                  <a:lnTo>
                    <a:pt x="181" y="226"/>
                  </a:lnTo>
                  <a:lnTo>
                    <a:pt x="175" y="228"/>
                  </a:lnTo>
                  <a:lnTo>
                    <a:pt x="167" y="232"/>
                  </a:lnTo>
                  <a:lnTo>
                    <a:pt x="160" y="238"/>
                  </a:lnTo>
                  <a:lnTo>
                    <a:pt x="154" y="241"/>
                  </a:lnTo>
                  <a:lnTo>
                    <a:pt x="148" y="241"/>
                  </a:lnTo>
                  <a:lnTo>
                    <a:pt x="143" y="245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3" y="239"/>
                  </a:lnTo>
                  <a:lnTo>
                    <a:pt x="133" y="234"/>
                  </a:lnTo>
                  <a:lnTo>
                    <a:pt x="133" y="230"/>
                  </a:lnTo>
                  <a:lnTo>
                    <a:pt x="137" y="226"/>
                  </a:lnTo>
                  <a:lnTo>
                    <a:pt x="139" y="220"/>
                  </a:lnTo>
                  <a:lnTo>
                    <a:pt x="141" y="215"/>
                  </a:lnTo>
                  <a:lnTo>
                    <a:pt x="135" y="211"/>
                  </a:lnTo>
                  <a:lnTo>
                    <a:pt x="129" y="213"/>
                  </a:lnTo>
                  <a:lnTo>
                    <a:pt x="122" y="215"/>
                  </a:lnTo>
                  <a:lnTo>
                    <a:pt x="116" y="220"/>
                  </a:lnTo>
                  <a:lnTo>
                    <a:pt x="109" y="226"/>
                  </a:lnTo>
                  <a:lnTo>
                    <a:pt x="103" y="230"/>
                  </a:lnTo>
                  <a:lnTo>
                    <a:pt x="97" y="236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4" y="213"/>
                  </a:lnTo>
                  <a:lnTo>
                    <a:pt x="82" y="203"/>
                  </a:lnTo>
                  <a:lnTo>
                    <a:pt x="76" y="194"/>
                  </a:lnTo>
                  <a:lnTo>
                    <a:pt x="72" y="186"/>
                  </a:lnTo>
                  <a:lnTo>
                    <a:pt x="67" y="177"/>
                  </a:lnTo>
                  <a:lnTo>
                    <a:pt x="63" y="171"/>
                  </a:lnTo>
                  <a:lnTo>
                    <a:pt x="55" y="163"/>
                  </a:lnTo>
                  <a:lnTo>
                    <a:pt x="48" y="156"/>
                  </a:lnTo>
                  <a:lnTo>
                    <a:pt x="40" y="150"/>
                  </a:lnTo>
                  <a:lnTo>
                    <a:pt x="34" y="146"/>
                  </a:lnTo>
                  <a:lnTo>
                    <a:pt x="27" y="141"/>
                  </a:lnTo>
                  <a:lnTo>
                    <a:pt x="17" y="139"/>
                  </a:lnTo>
                  <a:lnTo>
                    <a:pt x="8" y="137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8" y="127"/>
                  </a:lnTo>
                  <a:lnTo>
                    <a:pt x="17" y="125"/>
                  </a:lnTo>
                  <a:lnTo>
                    <a:pt x="25" y="123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8" y="129"/>
                  </a:lnTo>
                  <a:lnTo>
                    <a:pt x="55" y="133"/>
                  </a:lnTo>
                  <a:lnTo>
                    <a:pt x="63" y="139"/>
                  </a:lnTo>
                  <a:lnTo>
                    <a:pt x="69" y="144"/>
                  </a:lnTo>
                  <a:lnTo>
                    <a:pt x="74" y="150"/>
                  </a:lnTo>
                  <a:lnTo>
                    <a:pt x="80" y="158"/>
                  </a:lnTo>
                  <a:lnTo>
                    <a:pt x="86" y="165"/>
                  </a:lnTo>
                  <a:lnTo>
                    <a:pt x="88" y="171"/>
                  </a:lnTo>
                  <a:lnTo>
                    <a:pt x="93" y="179"/>
                  </a:lnTo>
                  <a:lnTo>
                    <a:pt x="95" y="186"/>
                  </a:lnTo>
                  <a:lnTo>
                    <a:pt x="99" y="194"/>
                  </a:lnTo>
                  <a:lnTo>
                    <a:pt x="105" y="190"/>
                  </a:lnTo>
                  <a:lnTo>
                    <a:pt x="110" y="184"/>
                  </a:lnTo>
                  <a:lnTo>
                    <a:pt x="118" y="181"/>
                  </a:lnTo>
                  <a:lnTo>
                    <a:pt x="126" y="175"/>
                  </a:lnTo>
                  <a:lnTo>
                    <a:pt x="131" y="169"/>
                  </a:lnTo>
                  <a:lnTo>
                    <a:pt x="141" y="163"/>
                  </a:lnTo>
                  <a:lnTo>
                    <a:pt x="147" y="160"/>
                  </a:lnTo>
                  <a:lnTo>
                    <a:pt x="156" y="156"/>
                  </a:lnTo>
                  <a:lnTo>
                    <a:pt x="162" y="154"/>
                  </a:lnTo>
                  <a:lnTo>
                    <a:pt x="167" y="152"/>
                  </a:lnTo>
                  <a:lnTo>
                    <a:pt x="173" y="152"/>
                  </a:lnTo>
                  <a:lnTo>
                    <a:pt x="179" y="154"/>
                  </a:lnTo>
                  <a:lnTo>
                    <a:pt x="181" y="156"/>
                  </a:lnTo>
                  <a:lnTo>
                    <a:pt x="185" y="163"/>
                  </a:lnTo>
                  <a:lnTo>
                    <a:pt x="185" y="165"/>
                  </a:lnTo>
                  <a:lnTo>
                    <a:pt x="185" y="171"/>
                  </a:lnTo>
                  <a:lnTo>
                    <a:pt x="185" y="177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2" y="181"/>
                  </a:lnTo>
                  <a:lnTo>
                    <a:pt x="196" y="177"/>
                  </a:lnTo>
                  <a:lnTo>
                    <a:pt x="202" y="175"/>
                  </a:lnTo>
                  <a:lnTo>
                    <a:pt x="207" y="177"/>
                  </a:lnTo>
                  <a:lnTo>
                    <a:pt x="215" y="181"/>
                  </a:lnTo>
                  <a:lnTo>
                    <a:pt x="221" y="184"/>
                  </a:lnTo>
                  <a:lnTo>
                    <a:pt x="226" y="188"/>
                  </a:lnTo>
                  <a:lnTo>
                    <a:pt x="234" y="188"/>
                  </a:lnTo>
                  <a:lnTo>
                    <a:pt x="240" y="190"/>
                  </a:lnTo>
                  <a:lnTo>
                    <a:pt x="245" y="192"/>
                  </a:lnTo>
                  <a:lnTo>
                    <a:pt x="253" y="194"/>
                  </a:lnTo>
                  <a:lnTo>
                    <a:pt x="259" y="194"/>
                  </a:lnTo>
                  <a:lnTo>
                    <a:pt x="266" y="194"/>
                  </a:lnTo>
                  <a:lnTo>
                    <a:pt x="272" y="194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1" y="194"/>
                  </a:lnTo>
                  <a:lnTo>
                    <a:pt x="297" y="194"/>
                  </a:lnTo>
                  <a:lnTo>
                    <a:pt x="304" y="194"/>
                  </a:lnTo>
                  <a:lnTo>
                    <a:pt x="310" y="192"/>
                  </a:lnTo>
                  <a:lnTo>
                    <a:pt x="316" y="192"/>
                  </a:lnTo>
                  <a:lnTo>
                    <a:pt x="323" y="190"/>
                  </a:lnTo>
                  <a:lnTo>
                    <a:pt x="329" y="188"/>
                  </a:lnTo>
                  <a:lnTo>
                    <a:pt x="335" y="184"/>
                  </a:lnTo>
                  <a:lnTo>
                    <a:pt x="342" y="182"/>
                  </a:lnTo>
                  <a:lnTo>
                    <a:pt x="348" y="181"/>
                  </a:lnTo>
                  <a:lnTo>
                    <a:pt x="354" y="179"/>
                  </a:lnTo>
                  <a:lnTo>
                    <a:pt x="361" y="175"/>
                  </a:lnTo>
                  <a:lnTo>
                    <a:pt x="367" y="173"/>
                  </a:lnTo>
                  <a:lnTo>
                    <a:pt x="373" y="169"/>
                  </a:lnTo>
                  <a:lnTo>
                    <a:pt x="380" y="167"/>
                  </a:lnTo>
                  <a:lnTo>
                    <a:pt x="386" y="163"/>
                  </a:lnTo>
                  <a:lnTo>
                    <a:pt x="392" y="161"/>
                  </a:lnTo>
                  <a:lnTo>
                    <a:pt x="399" y="158"/>
                  </a:lnTo>
                  <a:lnTo>
                    <a:pt x="407" y="154"/>
                  </a:lnTo>
                  <a:lnTo>
                    <a:pt x="411" y="150"/>
                  </a:lnTo>
                  <a:lnTo>
                    <a:pt x="418" y="146"/>
                  </a:lnTo>
                  <a:lnTo>
                    <a:pt x="424" y="142"/>
                  </a:lnTo>
                  <a:lnTo>
                    <a:pt x="430" y="139"/>
                  </a:lnTo>
                  <a:lnTo>
                    <a:pt x="437" y="135"/>
                  </a:lnTo>
                  <a:lnTo>
                    <a:pt x="443" y="129"/>
                  </a:lnTo>
                  <a:lnTo>
                    <a:pt x="449" y="125"/>
                  </a:lnTo>
                  <a:lnTo>
                    <a:pt x="456" y="123"/>
                  </a:lnTo>
                  <a:lnTo>
                    <a:pt x="462" y="118"/>
                  </a:lnTo>
                  <a:lnTo>
                    <a:pt x="468" y="112"/>
                  </a:lnTo>
                  <a:lnTo>
                    <a:pt x="475" y="108"/>
                  </a:lnTo>
                  <a:lnTo>
                    <a:pt x="481" y="106"/>
                  </a:lnTo>
                  <a:lnTo>
                    <a:pt x="487" y="101"/>
                  </a:lnTo>
                  <a:lnTo>
                    <a:pt x="494" y="97"/>
                  </a:lnTo>
                  <a:lnTo>
                    <a:pt x="500" y="93"/>
                  </a:lnTo>
                  <a:lnTo>
                    <a:pt x="506" y="89"/>
                  </a:lnTo>
                  <a:lnTo>
                    <a:pt x="512" y="84"/>
                  </a:lnTo>
                  <a:lnTo>
                    <a:pt x="519" y="80"/>
                  </a:lnTo>
                  <a:lnTo>
                    <a:pt x="525" y="76"/>
                  </a:lnTo>
                  <a:lnTo>
                    <a:pt x="531" y="72"/>
                  </a:lnTo>
                  <a:lnTo>
                    <a:pt x="538" y="68"/>
                  </a:lnTo>
                  <a:lnTo>
                    <a:pt x="544" y="65"/>
                  </a:lnTo>
                  <a:lnTo>
                    <a:pt x="550" y="61"/>
                  </a:lnTo>
                  <a:lnTo>
                    <a:pt x="557" y="57"/>
                  </a:lnTo>
                  <a:lnTo>
                    <a:pt x="561" y="53"/>
                  </a:lnTo>
                  <a:lnTo>
                    <a:pt x="569" y="49"/>
                  </a:lnTo>
                  <a:lnTo>
                    <a:pt x="574" y="47"/>
                  </a:lnTo>
                  <a:lnTo>
                    <a:pt x="580" y="44"/>
                  </a:lnTo>
                  <a:lnTo>
                    <a:pt x="586" y="40"/>
                  </a:lnTo>
                  <a:lnTo>
                    <a:pt x="593" y="38"/>
                  </a:lnTo>
                  <a:lnTo>
                    <a:pt x="599" y="36"/>
                  </a:lnTo>
                  <a:lnTo>
                    <a:pt x="605" y="34"/>
                  </a:lnTo>
                  <a:lnTo>
                    <a:pt x="601" y="40"/>
                  </a:lnTo>
                  <a:lnTo>
                    <a:pt x="595" y="47"/>
                  </a:lnTo>
                  <a:lnTo>
                    <a:pt x="589" y="55"/>
                  </a:lnTo>
                  <a:lnTo>
                    <a:pt x="584" y="63"/>
                  </a:lnTo>
                  <a:lnTo>
                    <a:pt x="576" y="68"/>
                  </a:lnTo>
                  <a:lnTo>
                    <a:pt x="569" y="74"/>
                  </a:lnTo>
                  <a:lnTo>
                    <a:pt x="561" y="82"/>
                  </a:lnTo>
                  <a:lnTo>
                    <a:pt x="551" y="89"/>
                  </a:lnTo>
                  <a:lnTo>
                    <a:pt x="542" y="93"/>
                  </a:lnTo>
                  <a:lnTo>
                    <a:pt x="532" y="101"/>
                  </a:lnTo>
                  <a:lnTo>
                    <a:pt x="523" y="106"/>
                  </a:lnTo>
                  <a:lnTo>
                    <a:pt x="515" y="110"/>
                  </a:lnTo>
                  <a:lnTo>
                    <a:pt x="506" y="116"/>
                  </a:lnTo>
                  <a:lnTo>
                    <a:pt x="496" y="120"/>
                  </a:lnTo>
                  <a:lnTo>
                    <a:pt x="489" y="125"/>
                  </a:lnTo>
                  <a:lnTo>
                    <a:pt x="481" y="129"/>
                  </a:lnTo>
                  <a:lnTo>
                    <a:pt x="491" y="127"/>
                  </a:lnTo>
                  <a:lnTo>
                    <a:pt x="498" y="127"/>
                  </a:lnTo>
                  <a:lnTo>
                    <a:pt x="506" y="125"/>
                  </a:lnTo>
                  <a:lnTo>
                    <a:pt x="515" y="123"/>
                  </a:lnTo>
                  <a:lnTo>
                    <a:pt x="525" y="120"/>
                  </a:lnTo>
                  <a:lnTo>
                    <a:pt x="532" y="118"/>
                  </a:lnTo>
                  <a:lnTo>
                    <a:pt x="542" y="114"/>
                  </a:lnTo>
                  <a:lnTo>
                    <a:pt x="551" y="110"/>
                  </a:lnTo>
                  <a:lnTo>
                    <a:pt x="561" y="106"/>
                  </a:lnTo>
                  <a:lnTo>
                    <a:pt x="570" y="101"/>
                  </a:lnTo>
                  <a:lnTo>
                    <a:pt x="580" y="97"/>
                  </a:lnTo>
                  <a:lnTo>
                    <a:pt x="589" y="93"/>
                  </a:lnTo>
                  <a:lnTo>
                    <a:pt x="599" y="87"/>
                  </a:lnTo>
                  <a:lnTo>
                    <a:pt x="608" y="82"/>
                  </a:lnTo>
                  <a:lnTo>
                    <a:pt x="618" y="76"/>
                  </a:lnTo>
                  <a:lnTo>
                    <a:pt x="628" y="72"/>
                  </a:lnTo>
                  <a:lnTo>
                    <a:pt x="637" y="65"/>
                  </a:lnTo>
                  <a:lnTo>
                    <a:pt x="647" y="61"/>
                  </a:lnTo>
                  <a:lnTo>
                    <a:pt x="656" y="53"/>
                  </a:lnTo>
                  <a:lnTo>
                    <a:pt x="666" y="47"/>
                  </a:lnTo>
                  <a:lnTo>
                    <a:pt x="675" y="42"/>
                  </a:lnTo>
                  <a:lnTo>
                    <a:pt x="685" y="38"/>
                  </a:lnTo>
                  <a:lnTo>
                    <a:pt x="694" y="32"/>
                  </a:lnTo>
                  <a:lnTo>
                    <a:pt x="704" y="28"/>
                  </a:lnTo>
                  <a:lnTo>
                    <a:pt x="713" y="23"/>
                  </a:lnTo>
                  <a:lnTo>
                    <a:pt x="723" y="19"/>
                  </a:lnTo>
                  <a:lnTo>
                    <a:pt x="732" y="13"/>
                  </a:lnTo>
                  <a:lnTo>
                    <a:pt x="743" y="9"/>
                  </a:lnTo>
                  <a:lnTo>
                    <a:pt x="753" y="8"/>
                  </a:lnTo>
                  <a:lnTo>
                    <a:pt x="762" y="4"/>
                  </a:lnTo>
                  <a:lnTo>
                    <a:pt x="772" y="0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059480" y="2432160"/>
              <a:ext cx="129960" cy="58680"/>
            </a:xfrm>
            <a:custGeom>
              <a:avLst/>
              <a:gdLst/>
              <a:ahLst/>
              <a:rect l="l" t="t" r="r" b="b"/>
              <a:pathLst>
                <a:path w="163" h="74">
                  <a:moveTo>
                    <a:pt x="163" y="0"/>
                  </a:moveTo>
                  <a:lnTo>
                    <a:pt x="163" y="3"/>
                  </a:lnTo>
                  <a:lnTo>
                    <a:pt x="163" y="11"/>
                  </a:lnTo>
                  <a:lnTo>
                    <a:pt x="161" y="17"/>
                  </a:lnTo>
                  <a:lnTo>
                    <a:pt x="158" y="22"/>
                  </a:lnTo>
                  <a:lnTo>
                    <a:pt x="152" y="28"/>
                  </a:lnTo>
                  <a:lnTo>
                    <a:pt x="146" y="36"/>
                  </a:lnTo>
                  <a:lnTo>
                    <a:pt x="139" y="40"/>
                  </a:lnTo>
                  <a:lnTo>
                    <a:pt x="131" y="45"/>
                  </a:lnTo>
                  <a:lnTo>
                    <a:pt x="119" y="49"/>
                  </a:lnTo>
                  <a:lnTo>
                    <a:pt x="110" y="55"/>
                  </a:lnTo>
                  <a:lnTo>
                    <a:pt x="100" y="57"/>
                  </a:lnTo>
                  <a:lnTo>
                    <a:pt x="89" y="62"/>
                  </a:lnTo>
                  <a:lnTo>
                    <a:pt x="78" y="64"/>
                  </a:lnTo>
                  <a:lnTo>
                    <a:pt x="68" y="66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2"/>
                  </a:lnTo>
                  <a:lnTo>
                    <a:pt x="28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7" y="74"/>
                  </a:lnTo>
                  <a:lnTo>
                    <a:pt x="4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7" y="59"/>
                  </a:lnTo>
                  <a:lnTo>
                    <a:pt x="17" y="55"/>
                  </a:lnTo>
                  <a:lnTo>
                    <a:pt x="19" y="51"/>
                  </a:lnTo>
                  <a:lnTo>
                    <a:pt x="26" y="47"/>
                  </a:lnTo>
                  <a:lnTo>
                    <a:pt x="32" y="45"/>
                  </a:lnTo>
                  <a:lnTo>
                    <a:pt x="40" y="41"/>
                  </a:lnTo>
                  <a:lnTo>
                    <a:pt x="45" y="40"/>
                  </a:lnTo>
                  <a:lnTo>
                    <a:pt x="55" y="36"/>
                  </a:lnTo>
                  <a:lnTo>
                    <a:pt x="62" y="32"/>
                  </a:lnTo>
                  <a:lnTo>
                    <a:pt x="74" y="30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4"/>
                  </a:lnTo>
                  <a:lnTo>
                    <a:pt x="97" y="22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4" y="19"/>
                  </a:lnTo>
                  <a:lnTo>
                    <a:pt x="119" y="17"/>
                  </a:lnTo>
                  <a:lnTo>
                    <a:pt x="131" y="13"/>
                  </a:lnTo>
                  <a:lnTo>
                    <a:pt x="142" y="9"/>
                  </a:lnTo>
                  <a:lnTo>
                    <a:pt x="152" y="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2438640"/>
              <a:ext cx="56520" cy="25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32" y="2"/>
                  </a:moveTo>
                  <a:lnTo>
                    <a:pt x="38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6"/>
                  </a:lnTo>
                  <a:lnTo>
                    <a:pt x="72" y="14"/>
                  </a:lnTo>
                  <a:lnTo>
                    <a:pt x="72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6" y="29"/>
                  </a:lnTo>
                  <a:lnTo>
                    <a:pt x="19" y="31"/>
                  </a:lnTo>
                  <a:lnTo>
                    <a:pt x="9" y="33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090520" y="2440080"/>
              <a:ext cx="144000" cy="1573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0" y="0"/>
                  </a:moveTo>
                  <a:lnTo>
                    <a:pt x="8" y="4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4" y="21"/>
                  </a:lnTo>
                  <a:lnTo>
                    <a:pt x="42" y="27"/>
                  </a:lnTo>
                  <a:lnTo>
                    <a:pt x="50" y="31"/>
                  </a:lnTo>
                  <a:lnTo>
                    <a:pt x="57" y="36"/>
                  </a:lnTo>
                  <a:lnTo>
                    <a:pt x="63" y="42"/>
                  </a:lnTo>
                  <a:lnTo>
                    <a:pt x="71" y="48"/>
                  </a:lnTo>
                  <a:lnTo>
                    <a:pt x="76" y="53"/>
                  </a:lnTo>
                  <a:lnTo>
                    <a:pt x="84" y="59"/>
                  </a:lnTo>
                  <a:lnTo>
                    <a:pt x="91" y="65"/>
                  </a:lnTo>
                  <a:lnTo>
                    <a:pt x="97" y="72"/>
                  </a:lnTo>
                  <a:lnTo>
                    <a:pt x="103" y="78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22" y="99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9" y="118"/>
                  </a:lnTo>
                  <a:lnTo>
                    <a:pt x="145" y="126"/>
                  </a:lnTo>
                  <a:lnTo>
                    <a:pt x="149" y="133"/>
                  </a:lnTo>
                  <a:lnTo>
                    <a:pt x="154" y="141"/>
                  </a:lnTo>
                  <a:lnTo>
                    <a:pt x="158" y="147"/>
                  </a:lnTo>
                  <a:lnTo>
                    <a:pt x="162" y="154"/>
                  </a:lnTo>
                  <a:lnTo>
                    <a:pt x="166" y="162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5" y="185"/>
                  </a:lnTo>
                  <a:lnTo>
                    <a:pt x="179" y="192"/>
                  </a:lnTo>
                  <a:lnTo>
                    <a:pt x="183" y="200"/>
                  </a:lnTo>
                  <a:lnTo>
                    <a:pt x="177" y="194"/>
                  </a:lnTo>
                  <a:lnTo>
                    <a:pt x="171" y="186"/>
                  </a:lnTo>
                  <a:lnTo>
                    <a:pt x="166" y="181"/>
                  </a:lnTo>
                  <a:lnTo>
                    <a:pt x="160" y="175"/>
                  </a:lnTo>
                  <a:lnTo>
                    <a:pt x="154" y="167"/>
                  </a:lnTo>
                  <a:lnTo>
                    <a:pt x="149" y="162"/>
                  </a:lnTo>
                  <a:lnTo>
                    <a:pt x="143" y="156"/>
                  </a:lnTo>
                  <a:lnTo>
                    <a:pt x="137" y="150"/>
                  </a:lnTo>
                  <a:lnTo>
                    <a:pt x="131" y="143"/>
                  </a:lnTo>
                  <a:lnTo>
                    <a:pt x="124" y="137"/>
                  </a:lnTo>
                  <a:lnTo>
                    <a:pt x="118" y="131"/>
                  </a:lnTo>
                  <a:lnTo>
                    <a:pt x="112" y="124"/>
                  </a:lnTo>
                  <a:lnTo>
                    <a:pt x="105" y="118"/>
                  </a:lnTo>
                  <a:lnTo>
                    <a:pt x="99" y="112"/>
                  </a:lnTo>
                  <a:lnTo>
                    <a:pt x="93" y="105"/>
                  </a:lnTo>
                  <a:lnTo>
                    <a:pt x="88" y="101"/>
                  </a:lnTo>
                  <a:lnTo>
                    <a:pt x="82" y="93"/>
                  </a:lnTo>
                  <a:lnTo>
                    <a:pt x="74" y="88"/>
                  </a:lnTo>
                  <a:lnTo>
                    <a:pt x="69" y="82"/>
                  </a:lnTo>
                  <a:lnTo>
                    <a:pt x="63" y="74"/>
                  </a:lnTo>
                  <a:lnTo>
                    <a:pt x="55" y="69"/>
                  </a:lnTo>
                  <a:lnTo>
                    <a:pt x="50" y="63"/>
                  </a:lnTo>
                  <a:lnTo>
                    <a:pt x="44" y="55"/>
                  </a:lnTo>
                  <a:lnTo>
                    <a:pt x="38" y="50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1" y="31"/>
                  </a:lnTo>
                  <a:lnTo>
                    <a:pt x="17" y="23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203200" y="2457360"/>
              <a:ext cx="166320" cy="14472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0" y="0"/>
                  </a:moveTo>
                  <a:lnTo>
                    <a:pt x="10" y="6"/>
                  </a:lnTo>
                  <a:lnTo>
                    <a:pt x="21" y="9"/>
                  </a:lnTo>
                  <a:lnTo>
                    <a:pt x="27" y="13"/>
                  </a:lnTo>
                  <a:lnTo>
                    <a:pt x="32" y="15"/>
                  </a:lnTo>
                  <a:lnTo>
                    <a:pt x="40" y="19"/>
                  </a:lnTo>
                  <a:lnTo>
                    <a:pt x="46" y="23"/>
                  </a:lnTo>
                  <a:lnTo>
                    <a:pt x="51" y="25"/>
                  </a:lnTo>
                  <a:lnTo>
                    <a:pt x="57" y="28"/>
                  </a:lnTo>
                  <a:lnTo>
                    <a:pt x="63" y="32"/>
                  </a:lnTo>
                  <a:lnTo>
                    <a:pt x="68" y="34"/>
                  </a:lnTo>
                  <a:lnTo>
                    <a:pt x="74" y="38"/>
                  </a:lnTo>
                  <a:lnTo>
                    <a:pt x="80" y="42"/>
                  </a:lnTo>
                  <a:lnTo>
                    <a:pt x="87" y="44"/>
                  </a:lnTo>
                  <a:lnTo>
                    <a:pt x="93" y="49"/>
                  </a:lnTo>
                  <a:lnTo>
                    <a:pt x="105" y="55"/>
                  </a:lnTo>
                  <a:lnTo>
                    <a:pt x="116" y="63"/>
                  </a:lnTo>
                  <a:lnTo>
                    <a:pt x="126" y="72"/>
                  </a:lnTo>
                  <a:lnTo>
                    <a:pt x="135" y="82"/>
                  </a:lnTo>
                  <a:lnTo>
                    <a:pt x="141" y="87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4"/>
                  </a:lnTo>
                  <a:lnTo>
                    <a:pt x="154" y="108"/>
                  </a:lnTo>
                  <a:lnTo>
                    <a:pt x="158" y="116"/>
                  </a:lnTo>
                  <a:lnTo>
                    <a:pt x="162" y="122"/>
                  </a:lnTo>
                  <a:lnTo>
                    <a:pt x="165" y="129"/>
                  </a:lnTo>
                  <a:lnTo>
                    <a:pt x="171" y="127"/>
                  </a:lnTo>
                  <a:lnTo>
                    <a:pt x="177" y="127"/>
                  </a:lnTo>
                  <a:lnTo>
                    <a:pt x="179" y="127"/>
                  </a:lnTo>
                  <a:lnTo>
                    <a:pt x="184" y="131"/>
                  </a:lnTo>
                  <a:lnTo>
                    <a:pt x="188" y="135"/>
                  </a:lnTo>
                  <a:lnTo>
                    <a:pt x="194" y="144"/>
                  </a:lnTo>
                  <a:lnTo>
                    <a:pt x="198" y="152"/>
                  </a:lnTo>
                  <a:lnTo>
                    <a:pt x="200" y="162"/>
                  </a:lnTo>
                  <a:lnTo>
                    <a:pt x="203" y="171"/>
                  </a:lnTo>
                  <a:lnTo>
                    <a:pt x="209" y="179"/>
                  </a:lnTo>
                  <a:lnTo>
                    <a:pt x="205" y="182"/>
                  </a:lnTo>
                  <a:lnTo>
                    <a:pt x="198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1" y="148"/>
                  </a:lnTo>
                  <a:lnTo>
                    <a:pt x="165" y="143"/>
                  </a:lnTo>
                  <a:lnTo>
                    <a:pt x="158" y="135"/>
                  </a:lnTo>
                  <a:lnTo>
                    <a:pt x="152" y="129"/>
                  </a:lnTo>
                  <a:lnTo>
                    <a:pt x="143" y="124"/>
                  </a:lnTo>
                  <a:lnTo>
                    <a:pt x="135" y="116"/>
                  </a:lnTo>
                  <a:lnTo>
                    <a:pt x="129" y="110"/>
                  </a:lnTo>
                  <a:lnTo>
                    <a:pt x="122" y="104"/>
                  </a:lnTo>
                  <a:lnTo>
                    <a:pt x="112" y="97"/>
                  </a:lnTo>
                  <a:lnTo>
                    <a:pt x="107" y="91"/>
                  </a:lnTo>
                  <a:lnTo>
                    <a:pt x="97" y="87"/>
                  </a:lnTo>
                  <a:lnTo>
                    <a:pt x="91" y="82"/>
                  </a:lnTo>
                  <a:lnTo>
                    <a:pt x="84" y="76"/>
                  </a:lnTo>
                  <a:lnTo>
                    <a:pt x="76" y="70"/>
                  </a:lnTo>
                  <a:lnTo>
                    <a:pt x="68" y="65"/>
                  </a:lnTo>
                  <a:lnTo>
                    <a:pt x="61" y="59"/>
                  </a:lnTo>
                  <a:lnTo>
                    <a:pt x="55" y="53"/>
                  </a:lnTo>
                  <a:lnTo>
                    <a:pt x="48" y="47"/>
                  </a:lnTo>
                  <a:lnTo>
                    <a:pt x="40" y="42"/>
                  </a:lnTo>
                  <a:lnTo>
                    <a:pt x="36" y="38"/>
                  </a:lnTo>
                  <a:lnTo>
                    <a:pt x="29" y="32"/>
                  </a:lnTo>
                  <a:lnTo>
                    <a:pt x="23" y="28"/>
                  </a:lnTo>
                  <a:lnTo>
                    <a:pt x="17" y="23"/>
                  </a:lnTo>
                  <a:lnTo>
                    <a:pt x="13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51720" y="2457360"/>
              <a:ext cx="129960" cy="136800"/>
            </a:xfrm>
            <a:custGeom>
              <a:avLst/>
              <a:gdLst/>
              <a:ahLst/>
              <a:rect l="l" t="t" r="r" b="b"/>
              <a:pathLst>
                <a:path w="164" h="171">
                  <a:moveTo>
                    <a:pt x="0" y="0"/>
                  </a:moveTo>
                  <a:lnTo>
                    <a:pt x="6" y="2"/>
                  </a:lnTo>
                  <a:lnTo>
                    <a:pt x="14" y="6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4" y="28"/>
                  </a:lnTo>
                  <a:lnTo>
                    <a:pt x="65" y="38"/>
                  </a:lnTo>
                  <a:lnTo>
                    <a:pt x="76" y="49"/>
                  </a:lnTo>
                  <a:lnTo>
                    <a:pt x="80" y="53"/>
                  </a:lnTo>
                  <a:lnTo>
                    <a:pt x="86" y="61"/>
                  </a:lnTo>
                  <a:lnTo>
                    <a:pt x="90" y="66"/>
                  </a:lnTo>
                  <a:lnTo>
                    <a:pt x="95" y="72"/>
                  </a:lnTo>
                  <a:lnTo>
                    <a:pt x="99" y="78"/>
                  </a:lnTo>
                  <a:lnTo>
                    <a:pt x="105" y="85"/>
                  </a:lnTo>
                  <a:lnTo>
                    <a:pt x="109" y="91"/>
                  </a:lnTo>
                  <a:lnTo>
                    <a:pt x="114" y="97"/>
                  </a:lnTo>
                  <a:lnTo>
                    <a:pt x="116" y="104"/>
                  </a:lnTo>
                  <a:lnTo>
                    <a:pt x="122" y="110"/>
                  </a:lnTo>
                  <a:lnTo>
                    <a:pt x="126" y="116"/>
                  </a:lnTo>
                  <a:lnTo>
                    <a:pt x="131" y="124"/>
                  </a:lnTo>
                  <a:lnTo>
                    <a:pt x="133" y="127"/>
                  </a:lnTo>
                  <a:lnTo>
                    <a:pt x="139" y="135"/>
                  </a:lnTo>
                  <a:lnTo>
                    <a:pt x="143" y="141"/>
                  </a:lnTo>
                  <a:lnTo>
                    <a:pt x="149" y="146"/>
                  </a:lnTo>
                  <a:lnTo>
                    <a:pt x="150" y="152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64" y="171"/>
                  </a:lnTo>
                  <a:lnTo>
                    <a:pt x="158" y="167"/>
                  </a:lnTo>
                  <a:lnTo>
                    <a:pt x="152" y="163"/>
                  </a:lnTo>
                  <a:lnTo>
                    <a:pt x="145" y="162"/>
                  </a:lnTo>
                  <a:lnTo>
                    <a:pt x="141" y="158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2" y="144"/>
                  </a:lnTo>
                  <a:lnTo>
                    <a:pt x="116" y="141"/>
                  </a:lnTo>
                  <a:lnTo>
                    <a:pt x="105" y="131"/>
                  </a:lnTo>
                  <a:lnTo>
                    <a:pt x="95" y="120"/>
                  </a:lnTo>
                  <a:lnTo>
                    <a:pt x="88" y="114"/>
                  </a:lnTo>
                  <a:lnTo>
                    <a:pt x="84" y="108"/>
                  </a:lnTo>
                  <a:lnTo>
                    <a:pt x="78" y="101"/>
                  </a:lnTo>
                  <a:lnTo>
                    <a:pt x="74" y="97"/>
                  </a:lnTo>
                  <a:lnTo>
                    <a:pt x="67" y="89"/>
                  </a:lnTo>
                  <a:lnTo>
                    <a:pt x="61" y="84"/>
                  </a:lnTo>
                  <a:lnTo>
                    <a:pt x="57" y="78"/>
                  </a:lnTo>
                  <a:lnTo>
                    <a:pt x="52" y="70"/>
                  </a:lnTo>
                  <a:lnTo>
                    <a:pt x="46" y="65"/>
                  </a:lnTo>
                  <a:lnTo>
                    <a:pt x="42" y="59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0"/>
                  </a:lnTo>
                  <a:lnTo>
                    <a:pt x="23" y="34"/>
                  </a:lnTo>
                  <a:lnTo>
                    <a:pt x="19" y="27"/>
                  </a:lnTo>
                  <a:lnTo>
                    <a:pt x="16" y="23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918360" y="2455920"/>
              <a:ext cx="443880" cy="168480"/>
            </a:xfrm>
            <a:custGeom>
              <a:avLst/>
              <a:gdLst/>
              <a:ahLst/>
              <a:rect l="l" t="t" r="r" b="b"/>
              <a:pathLst>
                <a:path w="559" h="213">
                  <a:moveTo>
                    <a:pt x="542" y="2"/>
                  </a:moveTo>
                  <a:lnTo>
                    <a:pt x="548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59" y="6"/>
                  </a:lnTo>
                  <a:lnTo>
                    <a:pt x="557" y="11"/>
                  </a:lnTo>
                  <a:lnTo>
                    <a:pt x="557" y="25"/>
                  </a:lnTo>
                  <a:lnTo>
                    <a:pt x="548" y="25"/>
                  </a:lnTo>
                  <a:lnTo>
                    <a:pt x="538" y="25"/>
                  </a:lnTo>
                  <a:lnTo>
                    <a:pt x="529" y="27"/>
                  </a:lnTo>
                  <a:lnTo>
                    <a:pt x="519" y="27"/>
                  </a:lnTo>
                  <a:lnTo>
                    <a:pt x="510" y="29"/>
                  </a:lnTo>
                  <a:lnTo>
                    <a:pt x="500" y="30"/>
                  </a:lnTo>
                  <a:lnTo>
                    <a:pt x="491" y="32"/>
                  </a:lnTo>
                  <a:lnTo>
                    <a:pt x="483" y="34"/>
                  </a:lnTo>
                  <a:lnTo>
                    <a:pt x="473" y="34"/>
                  </a:lnTo>
                  <a:lnTo>
                    <a:pt x="464" y="36"/>
                  </a:lnTo>
                  <a:lnTo>
                    <a:pt x="454" y="38"/>
                  </a:lnTo>
                  <a:lnTo>
                    <a:pt x="447" y="40"/>
                  </a:lnTo>
                  <a:lnTo>
                    <a:pt x="437" y="42"/>
                  </a:lnTo>
                  <a:lnTo>
                    <a:pt x="428" y="44"/>
                  </a:lnTo>
                  <a:lnTo>
                    <a:pt x="420" y="46"/>
                  </a:lnTo>
                  <a:lnTo>
                    <a:pt x="411" y="49"/>
                  </a:lnTo>
                  <a:lnTo>
                    <a:pt x="401" y="51"/>
                  </a:lnTo>
                  <a:lnTo>
                    <a:pt x="392" y="53"/>
                  </a:lnTo>
                  <a:lnTo>
                    <a:pt x="384" y="55"/>
                  </a:lnTo>
                  <a:lnTo>
                    <a:pt x="375" y="59"/>
                  </a:lnTo>
                  <a:lnTo>
                    <a:pt x="365" y="61"/>
                  </a:lnTo>
                  <a:lnTo>
                    <a:pt x="358" y="65"/>
                  </a:lnTo>
                  <a:lnTo>
                    <a:pt x="348" y="68"/>
                  </a:lnTo>
                  <a:lnTo>
                    <a:pt x="340" y="70"/>
                  </a:lnTo>
                  <a:lnTo>
                    <a:pt x="331" y="74"/>
                  </a:lnTo>
                  <a:lnTo>
                    <a:pt x="321" y="78"/>
                  </a:lnTo>
                  <a:lnTo>
                    <a:pt x="314" y="80"/>
                  </a:lnTo>
                  <a:lnTo>
                    <a:pt x="306" y="84"/>
                  </a:lnTo>
                  <a:lnTo>
                    <a:pt x="297" y="87"/>
                  </a:lnTo>
                  <a:lnTo>
                    <a:pt x="289" y="89"/>
                  </a:lnTo>
                  <a:lnTo>
                    <a:pt x="280" y="93"/>
                  </a:lnTo>
                  <a:lnTo>
                    <a:pt x="272" y="97"/>
                  </a:lnTo>
                  <a:lnTo>
                    <a:pt x="262" y="101"/>
                  </a:lnTo>
                  <a:lnTo>
                    <a:pt x="255" y="103"/>
                  </a:lnTo>
                  <a:lnTo>
                    <a:pt x="245" y="106"/>
                  </a:lnTo>
                  <a:lnTo>
                    <a:pt x="238" y="110"/>
                  </a:lnTo>
                  <a:lnTo>
                    <a:pt x="228" y="112"/>
                  </a:lnTo>
                  <a:lnTo>
                    <a:pt x="221" y="116"/>
                  </a:lnTo>
                  <a:lnTo>
                    <a:pt x="211" y="120"/>
                  </a:lnTo>
                  <a:lnTo>
                    <a:pt x="204" y="124"/>
                  </a:lnTo>
                  <a:lnTo>
                    <a:pt x="194" y="127"/>
                  </a:lnTo>
                  <a:lnTo>
                    <a:pt x="186" y="129"/>
                  </a:lnTo>
                  <a:lnTo>
                    <a:pt x="177" y="135"/>
                  </a:lnTo>
                  <a:lnTo>
                    <a:pt x="169" y="139"/>
                  </a:lnTo>
                  <a:lnTo>
                    <a:pt x="160" y="143"/>
                  </a:lnTo>
                  <a:lnTo>
                    <a:pt x="152" y="145"/>
                  </a:lnTo>
                  <a:lnTo>
                    <a:pt x="143" y="148"/>
                  </a:lnTo>
                  <a:lnTo>
                    <a:pt x="135" y="154"/>
                  </a:lnTo>
                  <a:lnTo>
                    <a:pt x="126" y="156"/>
                  </a:lnTo>
                  <a:lnTo>
                    <a:pt x="118" y="160"/>
                  </a:lnTo>
                  <a:lnTo>
                    <a:pt x="108" y="164"/>
                  </a:lnTo>
                  <a:lnTo>
                    <a:pt x="103" y="167"/>
                  </a:lnTo>
                  <a:lnTo>
                    <a:pt x="93" y="171"/>
                  </a:lnTo>
                  <a:lnTo>
                    <a:pt x="84" y="175"/>
                  </a:lnTo>
                  <a:lnTo>
                    <a:pt x="76" y="179"/>
                  </a:lnTo>
                  <a:lnTo>
                    <a:pt x="69" y="183"/>
                  </a:lnTo>
                  <a:lnTo>
                    <a:pt x="59" y="186"/>
                  </a:lnTo>
                  <a:lnTo>
                    <a:pt x="50" y="190"/>
                  </a:lnTo>
                  <a:lnTo>
                    <a:pt x="42" y="194"/>
                  </a:lnTo>
                  <a:lnTo>
                    <a:pt x="34" y="198"/>
                  </a:lnTo>
                  <a:lnTo>
                    <a:pt x="25" y="202"/>
                  </a:lnTo>
                  <a:lnTo>
                    <a:pt x="15" y="203"/>
                  </a:lnTo>
                  <a:lnTo>
                    <a:pt x="8" y="209"/>
                  </a:lnTo>
                  <a:lnTo>
                    <a:pt x="0" y="213"/>
                  </a:lnTo>
                  <a:lnTo>
                    <a:pt x="6" y="207"/>
                  </a:lnTo>
                  <a:lnTo>
                    <a:pt x="13" y="200"/>
                  </a:lnTo>
                  <a:lnTo>
                    <a:pt x="19" y="194"/>
                  </a:lnTo>
                  <a:lnTo>
                    <a:pt x="25" y="188"/>
                  </a:lnTo>
                  <a:lnTo>
                    <a:pt x="32" y="183"/>
                  </a:lnTo>
                  <a:lnTo>
                    <a:pt x="40" y="177"/>
                  </a:lnTo>
                  <a:lnTo>
                    <a:pt x="48" y="173"/>
                  </a:lnTo>
                  <a:lnTo>
                    <a:pt x="55" y="167"/>
                  </a:lnTo>
                  <a:lnTo>
                    <a:pt x="61" y="164"/>
                  </a:lnTo>
                  <a:lnTo>
                    <a:pt x="69" y="158"/>
                  </a:lnTo>
                  <a:lnTo>
                    <a:pt x="76" y="154"/>
                  </a:lnTo>
                  <a:lnTo>
                    <a:pt x="84" y="148"/>
                  </a:lnTo>
                  <a:lnTo>
                    <a:pt x="91" y="145"/>
                  </a:lnTo>
                  <a:lnTo>
                    <a:pt x="99" y="141"/>
                  </a:lnTo>
                  <a:lnTo>
                    <a:pt x="107" y="137"/>
                  </a:lnTo>
                  <a:lnTo>
                    <a:pt x="116" y="133"/>
                  </a:lnTo>
                  <a:lnTo>
                    <a:pt x="124" y="129"/>
                  </a:lnTo>
                  <a:lnTo>
                    <a:pt x="131" y="126"/>
                  </a:lnTo>
                  <a:lnTo>
                    <a:pt x="139" y="120"/>
                  </a:lnTo>
                  <a:lnTo>
                    <a:pt x="148" y="118"/>
                  </a:lnTo>
                  <a:lnTo>
                    <a:pt x="156" y="112"/>
                  </a:lnTo>
                  <a:lnTo>
                    <a:pt x="164" y="110"/>
                  </a:lnTo>
                  <a:lnTo>
                    <a:pt x="173" y="106"/>
                  </a:lnTo>
                  <a:lnTo>
                    <a:pt x="183" y="103"/>
                  </a:lnTo>
                  <a:lnTo>
                    <a:pt x="190" y="101"/>
                  </a:lnTo>
                  <a:lnTo>
                    <a:pt x="200" y="97"/>
                  </a:lnTo>
                  <a:lnTo>
                    <a:pt x="207" y="93"/>
                  </a:lnTo>
                  <a:lnTo>
                    <a:pt x="217" y="91"/>
                  </a:lnTo>
                  <a:lnTo>
                    <a:pt x="226" y="87"/>
                  </a:lnTo>
                  <a:lnTo>
                    <a:pt x="234" y="86"/>
                  </a:lnTo>
                  <a:lnTo>
                    <a:pt x="243" y="82"/>
                  </a:lnTo>
                  <a:lnTo>
                    <a:pt x="253" y="80"/>
                  </a:lnTo>
                  <a:lnTo>
                    <a:pt x="262" y="78"/>
                  </a:lnTo>
                  <a:lnTo>
                    <a:pt x="270" y="74"/>
                  </a:lnTo>
                  <a:lnTo>
                    <a:pt x="280" y="70"/>
                  </a:lnTo>
                  <a:lnTo>
                    <a:pt x="289" y="68"/>
                  </a:lnTo>
                  <a:lnTo>
                    <a:pt x="297" y="65"/>
                  </a:lnTo>
                  <a:lnTo>
                    <a:pt x="306" y="63"/>
                  </a:lnTo>
                  <a:lnTo>
                    <a:pt x="316" y="61"/>
                  </a:lnTo>
                  <a:lnTo>
                    <a:pt x="325" y="59"/>
                  </a:lnTo>
                  <a:lnTo>
                    <a:pt x="335" y="55"/>
                  </a:lnTo>
                  <a:lnTo>
                    <a:pt x="344" y="53"/>
                  </a:lnTo>
                  <a:lnTo>
                    <a:pt x="354" y="51"/>
                  </a:lnTo>
                  <a:lnTo>
                    <a:pt x="363" y="49"/>
                  </a:lnTo>
                  <a:lnTo>
                    <a:pt x="371" y="46"/>
                  </a:lnTo>
                  <a:lnTo>
                    <a:pt x="380" y="44"/>
                  </a:lnTo>
                  <a:lnTo>
                    <a:pt x="390" y="42"/>
                  </a:lnTo>
                  <a:lnTo>
                    <a:pt x="399" y="40"/>
                  </a:lnTo>
                  <a:lnTo>
                    <a:pt x="409" y="36"/>
                  </a:lnTo>
                  <a:lnTo>
                    <a:pt x="416" y="34"/>
                  </a:lnTo>
                  <a:lnTo>
                    <a:pt x="426" y="32"/>
                  </a:lnTo>
                  <a:lnTo>
                    <a:pt x="435" y="30"/>
                  </a:lnTo>
                  <a:lnTo>
                    <a:pt x="445" y="27"/>
                  </a:lnTo>
                  <a:lnTo>
                    <a:pt x="453" y="27"/>
                  </a:lnTo>
                  <a:lnTo>
                    <a:pt x="462" y="23"/>
                  </a:lnTo>
                  <a:lnTo>
                    <a:pt x="472" y="21"/>
                  </a:lnTo>
                  <a:lnTo>
                    <a:pt x="481" y="19"/>
                  </a:lnTo>
                  <a:lnTo>
                    <a:pt x="489" y="17"/>
                  </a:lnTo>
                  <a:lnTo>
                    <a:pt x="496" y="15"/>
                  </a:lnTo>
                  <a:lnTo>
                    <a:pt x="506" y="11"/>
                  </a:lnTo>
                  <a:lnTo>
                    <a:pt x="515" y="10"/>
                  </a:lnTo>
                  <a:lnTo>
                    <a:pt x="523" y="8"/>
                  </a:lnTo>
                  <a:lnTo>
                    <a:pt x="532" y="6"/>
                  </a:lnTo>
                  <a:lnTo>
                    <a:pt x="542" y="2"/>
                  </a:lnTo>
                  <a:lnTo>
                    <a:pt x="5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11120" y="2457360"/>
              <a:ext cx="2952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0" y="13"/>
                  </a:lnTo>
                  <a:lnTo>
                    <a:pt x="24" y="17"/>
                  </a:lnTo>
                  <a:lnTo>
                    <a:pt x="15" y="19"/>
                  </a:lnTo>
                  <a:lnTo>
                    <a:pt x="9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48280" y="2484360"/>
              <a:ext cx="495000" cy="140040"/>
            </a:xfrm>
            <a:custGeom>
              <a:avLst/>
              <a:gdLst/>
              <a:ahLst/>
              <a:rect l="l" t="t" r="r" b="b"/>
              <a:pathLst>
                <a:path w="626" h="177">
                  <a:moveTo>
                    <a:pt x="536" y="0"/>
                  </a:moveTo>
                  <a:lnTo>
                    <a:pt x="540" y="0"/>
                  </a:lnTo>
                  <a:lnTo>
                    <a:pt x="548" y="2"/>
                  </a:lnTo>
                  <a:lnTo>
                    <a:pt x="553" y="2"/>
                  </a:lnTo>
                  <a:lnTo>
                    <a:pt x="561" y="2"/>
                  </a:lnTo>
                  <a:lnTo>
                    <a:pt x="569" y="0"/>
                  </a:lnTo>
                  <a:lnTo>
                    <a:pt x="576" y="0"/>
                  </a:lnTo>
                  <a:lnTo>
                    <a:pt x="584" y="0"/>
                  </a:lnTo>
                  <a:lnTo>
                    <a:pt x="591" y="0"/>
                  </a:lnTo>
                  <a:lnTo>
                    <a:pt x="597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6" y="2"/>
                  </a:lnTo>
                  <a:lnTo>
                    <a:pt x="620" y="6"/>
                  </a:lnTo>
                  <a:lnTo>
                    <a:pt x="624" y="10"/>
                  </a:lnTo>
                  <a:lnTo>
                    <a:pt x="624" y="15"/>
                  </a:lnTo>
                  <a:lnTo>
                    <a:pt x="626" y="21"/>
                  </a:lnTo>
                  <a:lnTo>
                    <a:pt x="618" y="21"/>
                  </a:lnTo>
                  <a:lnTo>
                    <a:pt x="610" y="21"/>
                  </a:lnTo>
                  <a:lnTo>
                    <a:pt x="603" y="21"/>
                  </a:lnTo>
                  <a:lnTo>
                    <a:pt x="595" y="23"/>
                  </a:lnTo>
                  <a:lnTo>
                    <a:pt x="586" y="23"/>
                  </a:lnTo>
                  <a:lnTo>
                    <a:pt x="580" y="25"/>
                  </a:lnTo>
                  <a:lnTo>
                    <a:pt x="572" y="25"/>
                  </a:lnTo>
                  <a:lnTo>
                    <a:pt x="565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9"/>
                  </a:lnTo>
                  <a:lnTo>
                    <a:pt x="536" y="29"/>
                  </a:lnTo>
                  <a:lnTo>
                    <a:pt x="529" y="31"/>
                  </a:lnTo>
                  <a:lnTo>
                    <a:pt x="521" y="32"/>
                  </a:lnTo>
                  <a:lnTo>
                    <a:pt x="514" y="32"/>
                  </a:lnTo>
                  <a:lnTo>
                    <a:pt x="508" y="34"/>
                  </a:lnTo>
                  <a:lnTo>
                    <a:pt x="500" y="34"/>
                  </a:lnTo>
                  <a:lnTo>
                    <a:pt x="493" y="36"/>
                  </a:lnTo>
                  <a:lnTo>
                    <a:pt x="485" y="36"/>
                  </a:lnTo>
                  <a:lnTo>
                    <a:pt x="479" y="38"/>
                  </a:lnTo>
                  <a:lnTo>
                    <a:pt x="472" y="40"/>
                  </a:lnTo>
                  <a:lnTo>
                    <a:pt x="464" y="42"/>
                  </a:lnTo>
                  <a:lnTo>
                    <a:pt x="457" y="42"/>
                  </a:lnTo>
                  <a:lnTo>
                    <a:pt x="449" y="44"/>
                  </a:lnTo>
                  <a:lnTo>
                    <a:pt x="443" y="46"/>
                  </a:lnTo>
                  <a:lnTo>
                    <a:pt x="436" y="48"/>
                  </a:lnTo>
                  <a:lnTo>
                    <a:pt x="428" y="48"/>
                  </a:lnTo>
                  <a:lnTo>
                    <a:pt x="422" y="51"/>
                  </a:lnTo>
                  <a:lnTo>
                    <a:pt x="415" y="51"/>
                  </a:lnTo>
                  <a:lnTo>
                    <a:pt x="407" y="53"/>
                  </a:lnTo>
                  <a:lnTo>
                    <a:pt x="401" y="55"/>
                  </a:lnTo>
                  <a:lnTo>
                    <a:pt x="394" y="57"/>
                  </a:lnTo>
                  <a:lnTo>
                    <a:pt x="388" y="57"/>
                  </a:lnTo>
                  <a:lnTo>
                    <a:pt x="380" y="61"/>
                  </a:lnTo>
                  <a:lnTo>
                    <a:pt x="373" y="61"/>
                  </a:lnTo>
                  <a:lnTo>
                    <a:pt x="365" y="63"/>
                  </a:lnTo>
                  <a:lnTo>
                    <a:pt x="360" y="65"/>
                  </a:lnTo>
                  <a:lnTo>
                    <a:pt x="352" y="67"/>
                  </a:lnTo>
                  <a:lnTo>
                    <a:pt x="344" y="67"/>
                  </a:lnTo>
                  <a:lnTo>
                    <a:pt x="337" y="70"/>
                  </a:lnTo>
                  <a:lnTo>
                    <a:pt x="331" y="70"/>
                  </a:lnTo>
                  <a:lnTo>
                    <a:pt x="323" y="72"/>
                  </a:lnTo>
                  <a:lnTo>
                    <a:pt x="316" y="74"/>
                  </a:lnTo>
                  <a:lnTo>
                    <a:pt x="310" y="76"/>
                  </a:lnTo>
                  <a:lnTo>
                    <a:pt x="303" y="78"/>
                  </a:lnTo>
                  <a:lnTo>
                    <a:pt x="295" y="82"/>
                  </a:lnTo>
                  <a:lnTo>
                    <a:pt x="289" y="82"/>
                  </a:lnTo>
                  <a:lnTo>
                    <a:pt x="282" y="86"/>
                  </a:lnTo>
                  <a:lnTo>
                    <a:pt x="276" y="86"/>
                  </a:lnTo>
                  <a:lnTo>
                    <a:pt x="268" y="90"/>
                  </a:lnTo>
                  <a:lnTo>
                    <a:pt x="261" y="91"/>
                  </a:lnTo>
                  <a:lnTo>
                    <a:pt x="253" y="93"/>
                  </a:lnTo>
                  <a:lnTo>
                    <a:pt x="245" y="93"/>
                  </a:lnTo>
                  <a:lnTo>
                    <a:pt x="240" y="97"/>
                  </a:lnTo>
                  <a:lnTo>
                    <a:pt x="234" y="99"/>
                  </a:lnTo>
                  <a:lnTo>
                    <a:pt x="226" y="101"/>
                  </a:lnTo>
                  <a:lnTo>
                    <a:pt x="221" y="103"/>
                  </a:lnTo>
                  <a:lnTo>
                    <a:pt x="213" y="105"/>
                  </a:lnTo>
                  <a:lnTo>
                    <a:pt x="206" y="107"/>
                  </a:lnTo>
                  <a:lnTo>
                    <a:pt x="198" y="109"/>
                  </a:lnTo>
                  <a:lnTo>
                    <a:pt x="192" y="110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8"/>
                  </a:lnTo>
                  <a:lnTo>
                    <a:pt x="173" y="122"/>
                  </a:lnTo>
                  <a:lnTo>
                    <a:pt x="177" y="126"/>
                  </a:lnTo>
                  <a:lnTo>
                    <a:pt x="185" y="128"/>
                  </a:lnTo>
                  <a:lnTo>
                    <a:pt x="194" y="128"/>
                  </a:lnTo>
                  <a:lnTo>
                    <a:pt x="202" y="128"/>
                  </a:lnTo>
                  <a:lnTo>
                    <a:pt x="209" y="126"/>
                  </a:lnTo>
                  <a:lnTo>
                    <a:pt x="217" y="126"/>
                  </a:lnTo>
                  <a:lnTo>
                    <a:pt x="223" y="126"/>
                  </a:lnTo>
                  <a:lnTo>
                    <a:pt x="230" y="129"/>
                  </a:lnTo>
                  <a:lnTo>
                    <a:pt x="230" y="135"/>
                  </a:lnTo>
                  <a:lnTo>
                    <a:pt x="223" y="137"/>
                  </a:lnTo>
                  <a:lnTo>
                    <a:pt x="215" y="139"/>
                  </a:lnTo>
                  <a:lnTo>
                    <a:pt x="207" y="139"/>
                  </a:lnTo>
                  <a:lnTo>
                    <a:pt x="202" y="139"/>
                  </a:lnTo>
                  <a:lnTo>
                    <a:pt x="194" y="139"/>
                  </a:lnTo>
                  <a:lnTo>
                    <a:pt x="188" y="137"/>
                  </a:lnTo>
                  <a:lnTo>
                    <a:pt x="183" y="137"/>
                  </a:lnTo>
                  <a:lnTo>
                    <a:pt x="175" y="135"/>
                  </a:lnTo>
                  <a:lnTo>
                    <a:pt x="168" y="133"/>
                  </a:lnTo>
                  <a:lnTo>
                    <a:pt x="162" y="131"/>
                  </a:lnTo>
                  <a:lnTo>
                    <a:pt x="156" y="129"/>
                  </a:lnTo>
                  <a:lnTo>
                    <a:pt x="149" y="129"/>
                  </a:lnTo>
                  <a:lnTo>
                    <a:pt x="141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2" y="129"/>
                  </a:lnTo>
                  <a:lnTo>
                    <a:pt x="122" y="133"/>
                  </a:lnTo>
                  <a:lnTo>
                    <a:pt x="122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9" y="139"/>
                  </a:lnTo>
                  <a:lnTo>
                    <a:pt x="143" y="143"/>
                  </a:lnTo>
                  <a:lnTo>
                    <a:pt x="143" y="145"/>
                  </a:lnTo>
                  <a:lnTo>
                    <a:pt x="133" y="147"/>
                  </a:lnTo>
                  <a:lnTo>
                    <a:pt x="126" y="148"/>
                  </a:lnTo>
                  <a:lnTo>
                    <a:pt x="118" y="150"/>
                  </a:lnTo>
                  <a:lnTo>
                    <a:pt x="109" y="154"/>
                  </a:lnTo>
                  <a:lnTo>
                    <a:pt x="99" y="156"/>
                  </a:lnTo>
                  <a:lnTo>
                    <a:pt x="91" y="158"/>
                  </a:lnTo>
                  <a:lnTo>
                    <a:pt x="82" y="160"/>
                  </a:lnTo>
                  <a:lnTo>
                    <a:pt x="72" y="162"/>
                  </a:lnTo>
                  <a:lnTo>
                    <a:pt x="63" y="164"/>
                  </a:lnTo>
                  <a:lnTo>
                    <a:pt x="53" y="166"/>
                  </a:lnTo>
                  <a:lnTo>
                    <a:pt x="44" y="166"/>
                  </a:lnTo>
                  <a:lnTo>
                    <a:pt x="36" y="169"/>
                  </a:lnTo>
                  <a:lnTo>
                    <a:pt x="27" y="171"/>
                  </a:lnTo>
                  <a:lnTo>
                    <a:pt x="17" y="173"/>
                  </a:lnTo>
                  <a:lnTo>
                    <a:pt x="8" y="173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14" y="166"/>
                  </a:lnTo>
                  <a:lnTo>
                    <a:pt x="21" y="160"/>
                  </a:lnTo>
                  <a:lnTo>
                    <a:pt x="29" y="156"/>
                  </a:lnTo>
                  <a:lnTo>
                    <a:pt x="34" y="150"/>
                  </a:lnTo>
                  <a:lnTo>
                    <a:pt x="44" y="147"/>
                  </a:lnTo>
                  <a:lnTo>
                    <a:pt x="50" y="141"/>
                  </a:lnTo>
                  <a:lnTo>
                    <a:pt x="59" y="139"/>
                  </a:lnTo>
                  <a:lnTo>
                    <a:pt x="65" y="133"/>
                  </a:lnTo>
                  <a:lnTo>
                    <a:pt x="74" y="129"/>
                  </a:lnTo>
                  <a:lnTo>
                    <a:pt x="82" y="126"/>
                  </a:lnTo>
                  <a:lnTo>
                    <a:pt x="90" y="122"/>
                  </a:lnTo>
                  <a:lnTo>
                    <a:pt x="97" y="118"/>
                  </a:lnTo>
                  <a:lnTo>
                    <a:pt x="105" y="114"/>
                  </a:lnTo>
                  <a:lnTo>
                    <a:pt x="112" y="110"/>
                  </a:lnTo>
                  <a:lnTo>
                    <a:pt x="122" y="109"/>
                  </a:lnTo>
                  <a:lnTo>
                    <a:pt x="130" y="103"/>
                  </a:lnTo>
                  <a:lnTo>
                    <a:pt x="137" y="101"/>
                  </a:lnTo>
                  <a:lnTo>
                    <a:pt x="145" y="97"/>
                  </a:lnTo>
                  <a:lnTo>
                    <a:pt x="152" y="93"/>
                  </a:lnTo>
                  <a:lnTo>
                    <a:pt x="160" y="91"/>
                  </a:lnTo>
                  <a:lnTo>
                    <a:pt x="169" y="88"/>
                  </a:lnTo>
                  <a:lnTo>
                    <a:pt x="177" y="84"/>
                  </a:lnTo>
                  <a:lnTo>
                    <a:pt x="187" y="82"/>
                  </a:lnTo>
                  <a:lnTo>
                    <a:pt x="194" y="80"/>
                  </a:lnTo>
                  <a:lnTo>
                    <a:pt x="204" y="76"/>
                  </a:lnTo>
                  <a:lnTo>
                    <a:pt x="211" y="72"/>
                  </a:lnTo>
                  <a:lnTo>
                    <a:pt x="221" y="70"/>
                  </a:lnTo>
                  <a:lnTo>
                    <a:pt x="230" y="67"/>
                  </a:lnTo>
                  <a:lnTo>
                    <a:pt x="238" y="65"/>
                  </a:lnTo>
                  <a:lnTo>
                    <a:pt x="245" y="63"/>
                  </a:lnTo>
                  <a:lnTo>
                    <a:pt x="255" y="61"/>
                  </a:lnTo>
                  <a:lnTo>
                    <a:pt x="263" y="57"/>
                  </a:lnTo>
                  <a:lnTo>
                    <a:pt x="272" y="55"/>
                  </a:lnTo>
                  <a:lnTo>
                    <a:pt x="280" y="53"/>
                  </a:lnTo>
                  <a:lnTo>
                    <a:pt x="289" y="51"/>
                  </a:lnTo>
                  <a:lnTo>
                    <a:pt x="299" y="48"/>
                  </a:lnTo>
                  <a:lnTo>
                    <a:pt x="306" y="46"/>
                  </a:lnTo>
                  <a:lnTo>
                    <a:pt x="316" y="44"/>
                  </a:lnTo>
                  <a:lnTo>
                    <a:pt x="325" y="44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60" y="34"/>
                  </a:lnTo>
                  <a:lnTo>
                    <a:pt x="369" y="32"/>
                  </a:lnTo>
                  <a:lnTo>
                    <a:pt x="377" y="31"/>
                  </a:lnTo>
                  <a:lnTo>
                    <a:pt x="384" y="29"/>
                  </a:lnTo>
                  <a:lnTo>
                    <a:pt x="394" y="27"/>
                  </a:lnTo>
                  <a:lnTo>
                    <a:pt x="403" y="25"/>
                  </a:lnTo>
                  <a:lnTo>
                    <a:pt x="411" y="23"/>
                  </a:lnTo>
                  <a:lnTo>
                    <a:pt x="420" y="21"/>
                  </a:lnTo>
                  <a:lnTo>
                    <a:pt x="430" y="19"/>
                  </a:lnTo>
                  <a:lnTo>
                    <a:pt x="437" y="17"/>
                  </a:lnTo>
                  <a:lnTo>
                    <a:pt x="447" y="17"/>
                  </a:lnTo>
                  <a:lnTo>
                    <a:pt x="457" y="15"/>
                  </a:lnTo>
                  <a:lnTo>
                    <a:pt x="466" y="13"/>
                  </a:lnTo>
                  <a:lnTo>
                    <a:pt x="474" y="12"/>
                  </a:lnTo>
                  <a:lnTo>
                    <a:pt x="483" y="10"/>
                  </a:lnTo>
                  <a:lnTo>
                    <a:pt x="491" y="8"/>
                  </a:lnTo>
                  <a:lnTo>
                    <a:pt x="500" y="8"/>
                  </a:lnTo>
                  <a:lnTo>
                    <a:pt x="510" y="6"/>
                  </a:lnTo>
                  <a:lnTo>
                    <a:pt x="519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4120" y="2484360"/>
              <a:ext cx="2664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1" y="0"/>
                  </a:moveTo>
                  <a:lnTo>
                    <a:pt x="28" y="2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3"/>
                  </a:lnTo>
                  <a:lnTo>
                    <a:pt x="26" y="19"/>
                  </a:lnTo>
                  <a:lnTo>
                    <a:pt x="17" y="27"/>
                  </a:lnTo>
                  <a:lnTo>
                    <a:pt x="5" y="2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215000" y="2495520"/>
              <a:ext cx="284040" cy="147600"/>
            </a:xfrm>
            <a:custGeom>
              <a:avLst/>
              <a:gdLst/>
              <a:ahLst/>
              <a:rect l="l" t="t" r="r" b="b"/>
              <a:pathLst>
                <a:path w="359" h="187">
                  <a:moveTo>
                    <a:pt x="359" y="0"/>
                  </a:moveTo>
                  <a:lnTo>
                    <a:pt x="350" y="6"/>
                  </a:lnTo>
                  <a:lnTo>
                    <a:pt x="342" y="14"/>
                  </a:lnTo>
                  <a:lnTo>
                    <a:pt x="335" y="21"/>
                  </a:lnTo>
                  <a:lnTo>
                    <a:pt x="325" y="27"/>
                  </a:lnTo>
                  <a:lnTo>
                    <a:pt x="316" y="33"/>
                  </a:lnTo>
                  <a:lnTo>
                    <a:pt x="306" y="38"/>
                  </a:lnTo>
                  <a:lnTo>
                    <a:pt x="297" y="42"/>
                  </a:lnTo>
                  <a:lnTo>
                    <a:pt x="285" y="48"/>
                  </a:lnTo>
                  <a:lnTo>
                    <a:pt x="280" y="50"/>
                  </a:lnTo>
                  <a:lnTo>
                    <a:pt x="274" y="52"/>
                  </a:lnTo>
                  <a:lnTo>
                    <a:pt x="268" y="54"/>
                  </a:lnTo>
                  <a:lnTo>
                    <a:pt x="262" y="57"/>
                  </a:lnTo>
                  <a:lnTo>
                    <a:pt x="257" y="57"/>
                  </a:lnTo>
                  <a:lnTo>
                    <a:pt x="249" y="61"/>
                  </a:lnTo>
                  <a:lnTo>
                    <a:pt x="243" y="61"/>
                  </a:lnTo>
                  <a:lnTo>
                    <a:pt x="238" y="65"/>
                  </a:lnTo>
                  <a:lnTo>
                    <a:pt x="232" y="67"/>
                  </a:lnTo>
                  <a:lnTo>
                    <a:pt x="224" y="69"/>
                  </a:lnTo>
                  <a:lnTo>
                    <a:pt x="219" y="71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200" y="77"/>
                  </a:lnTo>
                  <a:lnTo>
                    <a:pt x="194" y="78"/>
                  </a:lnTo>
                  <a:lnTo>
                    <a:pt x="186" y="80"/>
                  </a:lnTo>
                  <a:lnTo>
                    <a:pt x="179" y="82"/>
                  </a:lnTo>
                  <a:lnTo>
                    <a:pt x="173" y="84"/>
                  </a:lnTo>
                  <a:lnTo>
                    <a:pt x="167" y="86"/>
                  </a:lnTo>
                  <a:lnTo>
                    <a:pt x="160" y="88"/>
                  </a:lnTo>
                  <a:lnTo>
                    <a:pt x="152" y="90"/>
                  </a:lnTo>
                  <a:lnTo>
                    <a:pt x="146" y="92"/>
                  </a:lnTo>
                  <a:lnTo>
                    <a:pt x="141" y="94"/>
                  </a:lnTo>
                  <a:lnTo>
                    <a:pt x="133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14" y="103"/>
                  </a:lnTo>
                  <a:lnTo>
                    <a:pt x="108" y="107"/>
                  </a:lnTo>
                  <a:lnTo>
                    <a:pt x="103" y="109"/>
                  </a:lnTo>
                  <a:lnTo>
                    <a:pt x="95" y="113"/>
                  </a:lnTo>
                  <a:lnTo>
                    <a:pt x="89" y="115"/>
                  </a:lnTo>
                  <a:lnTo>
                    <a:pt x="84" y="118"/>
                  </a:lnTo>
                  <a:lnTo>
                    <a:pt x="78" y="122"/>
                  </a:lnTo>
                  <a:lnTo>
                    <a:pt x="72" y="124"/>
                  </a:lnTo>
                  <a:lnTo>
                    <a:pt x="65" y="128"/>
                  </a:lnTo>
                  <a:lnTo>
                    <a:pt x="59" y="132"/>
                  </a:lnTo>
                  <a:lnTo>
                    <a:pt x="48" y="137"/>
                  </a:lnTo>
                  <a:lnTo>
                    <a:pt x="38" y="147"/>
                  </a:lnTo>
                  <a:lnTo>
                    <a:pt x="27" y="154"/>
                  </a:lnTo>
                  <a:lnTo>
                    <a:pt x="17" y="164"/>
                  </a:lnTo>
                  <a:lnTo>
                    <a:pt x="12" y="170"/>
                  </a:lnTo>
                  <a:lnTo>
                    <a:pt x="8" y="173"/>
                  </a:lnTo>
                  <a:lnTo>
                    <a:pt x="2" y="181"/>
                  </a:lnTo>
                  <a:lnTo>
                    <a:pt x="0" y="187"/>
                  </a:lnTo>
                  <a:lnTo>
                    <a:pt x="2" y="181"/>
                  </a:lnTo>
                  <a:lnTo>
                    <a:pt x="4" y="173"/>
                  </a:lnTo>
                  <a:lnTo>
                    <a:pt x="8" y="168"/>
                  </a:lnTo>
                  <a:lnTo>
                    <a:pt x="12" y="162"/>
                  </a:lnTo>
                  <a:lnTo>
                    <a:pt x="17" y="153"/>
                  </a:lnTo>
                  <a:lnTo>
                    <a:pt x="27" y="143"/>
                  </a:lnTo>
                  <a:lnTo>
                    <a:pt x="34" y="134"/>
                  </a:lnTo>
                  <a:lnTo>
                    <a:pt x="42" y="124"/>
                  </a:lnTo>
                  <a:lnTo>
                    <a:pt x="51" y="115"/>
                  </a:lnTo>
                  <a:lnTo>
                    <a:pt x="63" y="107"/>
                  </a:lnTo>
                  <a:lnTo>
                    <a:pt x="72" y="99"/>
                  </a:lnTo>
                  <a:lnTo>
                    <a:pt x="82" y="92"/>
                  </a:lnTo>
                  <a:lnTo>
                    <a:pt x="93" y="86"/>
                  </a:lnTo>
                  <a:lnTo>
                    <a:pt x="105" y="78"/>
                  </a:lnTo>
                  <a:lnTo>
                    <a:pt x="110" y="77"/>
                  </a:lnTo>
                  <a:lnTo>
                    <a:pt x="116" y="73"/>
                  </a:lnTo>
                  <a:lnTo>
                    <a:pt x="122" y="69"/>
                  </a:lnTo>
                  <a:lnTo>
                    <a:pt x="129" y="67"/>
                  </a:lnTo>
                  <a:lnTo>
                    <a:pt x="135" y="63"/>
                  </a:lnTo>
                  <a:lnTo>
                    <a:pt x="141" y="61"/>
                  </a:lnTo>
                  <a:lnTo>
                    <a:pt x="148" y="59"/>
                  </a:lnTo>
                  <a:lnTo>
                    <a:pt x="154" y="57"/>
                  </a:lnTo>
                  <a:lnTo>
                    <a:pt x="160" y="54"/>
                  </a:lnTo>
                  <a:lnTo>
                    <a:pt x="167" y="50"/>
                  </a:lnTo>
                  <a:lnTo>
                    <a:pt x="173" y="48"/>
                  </a:lnTo>
                  <a:lnTo>
                    <a:pt x="179" y="46"/>
                  </a:lnTo>
                  <a:lnTo>
                    <a:pt x="186" y="42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11" y="35"/>
                  </a:lnTo>
                  <a:lnTo>
                    <a:pt x="217" y="33"/>
                  </a:lnTo>
                  <a:lnTo>
                    <a:pt x="224" y="31"/>
                  </a:lnTo>
                  <a:lnTo>
                    <a:pt x="232" y="31"/>
                  </a:lnTo>
                  <a:lnTo>
                    <a:pt x="238" y="29"/>
                  </a:lnTo>
                  <a:lnTo>
                    <a:pt x="243" y="27"/>
                  </a:lnTo>
                  <a:lnTo>
                    <a:pt x="251" y="25"/>
                  </a:lnTo>
                  <a:lnTo>
                    <a:pt x="259" y="23"/>
                  </a:lnTo>
                  <a:lnTo>
                    <a:pt x="264" y="21"/>
                  </a:lnTo>
                  <a:lnTo>
                    <a:pt x="270" y="19"/>
                  </a:lnTo>
                  <a:lnTo>
                    <a:pt x="278" y="18"/>
                  </a:lnTo>
                  <a:lnTo>
                    <a:pt x="283" y="16"/>
                  </a:lnTo>
                  <a:lnTo>
                    <a:pt x="289" y="14"/>
                  </a:lnTo>
                  <a:lnTo>
                    <a:pt x="297" y="14"/>
                  </a:lnTo>
                  <a:lnTo>
                    <a:pt x="302" y="12"/>
                  </a:lnTo>
                  <a:lnTo>
                    <a:pt x="310" y="12"/>
                  </a:lnTo>
                  <a:lnTo>
                    <a:pt x="316" y="8"/>
                  </a:lnTo>
                  <a:lnTo>
                    <a:pt x="321" y="8"/>
                  </a:lnTo>
                  <a:lnTo>
                    <a:pt x="327" y="6"/>
                  </a:lnTo>
                  <a:lnTo>
                    <a:pt x="335" y="4"/>
                  </a:lnTo>
                  <a:lnTo>
                    <a:pt x="340" y="2"/>
                  </a:lnTo>
                  <a:lnTo>
                    <a:pt x="346" y="2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12520" y="2495520"/>
              <a:ext cx="399600" cy="120600"/>
            </a:xfrm>
            <a:custGeom>
              <a:avLst/>
              <a:gdLst/>
              <a:ahLst/>
              <a:rect l="l" t="t" r="r" b="b"/>
              <a:pathLst>
                <a:path w="504" h="153">
                  <a:moveTo>
                    <a:pt x="401" y="0"/>
                  </a:moveTo>
                  <a:lnTo>
                    <a:pt x="407" y="0"/>
                  </a:lnTo>
                  <a:lnTo>
                    <a:pt x="415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04" y="2"/>
                  </a:lnTo>
                  <a:lnTo>
                    <a:pt x="504" y="6"/>
                  </a:lnTo>
                  <a:lnTo>
                    <a:pt x="495" y="6"/>
                  </a:lnTo>
                  <a:lnTo>
                    <a:pt x="487" y="8"/>
                  </a:lnTo>
                  <a:lnTo>
                    <a:pt x="479" y="10"/>
                  </a:lnTo>
                  <a:lnTo>
                    <a:pt x="472" y="12"/>
                  </a:lnTo>
                  <a:lnTo>
                    <a:pt x="462" y="14"/>
                  </a:lnTo>
                  <a:lnTo>
                    <a:pt x="455" y="16"/>
                  </a:lnTo>
                  <a:lnTo>
                    <a:pt x="447" y="16"/>
                  </a:lnTo>
                  <a:lnTo>
                    <a:pt x="439" y="19"/>
                  </a:lnTo>
                  <a:lnTo>
                    <a:pt x="432" y="19"/>
                  </a:lnTo>
                  <a:lnTo>
                    <a:pt x="424" y="21"/>
                  </a:lnTo>
                  <a:lnTo>
                    <a:pt x="415" y="23"/>
                  </a:lnTo>
                  <a:lnTo>
                    <a:pt x="407" y="25"/>
                  </a:lnTo>
                  <a:lnTo>
                    <a:pt x="399" y="29"/>
                  </a:lnTo>
                  <a:lnTo>
                    <a:pt x="392" y="31"/>
                  </a:lnTo>
                  <a:lnTo>
                    <a:pt x="384" y="33"/>
                  </a:lnTo>
                  <a:lnTo>
                    <a:pt x="377" y="35"/>
                  </a:lnTo>
                  <a:lnTo>
                    <a:pt x="367" y="37"/>
                  </a:lnTo>
                  <a:lnTo>
                    <a:pt x="360" y="38"/>
                  </a:lnTo>
                  <a:lnTo>
                    <a:pt x="352" y="40"/>
                  </a:lnTo>
                  <a:lnTo>
                    <a:pt x="344" y="44"/>
                  </a:lnTo>
                  <a:lnTo>
                    <a:pt x="335" y="46"/>
                  </a:lnTo>
                  <a:lnTo>
                    <a:pt x="329" y="48"/>
                  </a:lnTo>
                  <a:lnTo>
                    <a:pt x="320" y="50"/>
                  </a:lnTo>
                  <a:lnTo>
                    <a:pt x="312" y="54"/>
                  </a:lnTo>
                  <a:lnTo>
                    <a:pt x="304" y="56"/>
                  </a:lnTo>
                  <a:lnTo>
                    <a:pt x="297" y="57"/>
                  </a:lnTo>
                  <a:lnTo>
                    <a:pt x="287" y="59"/>
                  </a:lnTo>
                  <a:lnTo>
                    <a:pt x="282" y="63"/>
                  </a:lnTo>
                  <a:lnTo>
                    <a:pt x="274" y="65"/>
                  </a:lnTo>
                  <a:lnTo>
                    <a:pt x="266" y="67"/>
                  </a:lnTo>
                  <a:lnTo>
                    <a:pt x="257" y="71"/>
                  </a:lnTo>
                  <a:lnTo>
                    <a:pt x="251" y="73"/>
                  </a:lnTo>
                  <a:lnTo>
                    <a:pt x="242" y="77"/>
                  </a:lnTo>
                  <a:lnTo>
                    <a:pt x="236" y="78"/>
                  </a:lnTo>
                  <a:lnTo>
                    <a:pt x="226" y="80"/>
                  </a:lnTo>
                  <a:lnTo>
                    <a:pt x="219" y="84"/>
                  </a:lnTo>
                  <a:lnTo>
                    <a:pt x="211" y="86"/>
                  </a:lnTo>
                  <a:lnTo>
                    <a:pt x="204" y="88"/>
                  </a:lnTo>
                  <a:lnTo>
                    <a:pt x="196" y="90"/>
                  </a:lnTo>
                  <a:lnTo>
                    <a:pt x="188" y="94"/>
                  </a:lnTo>
                  <a:lnTo>
                    <a:pt x="181" y="96"/>
                  </a:lnTo>
                  <a:lnTo>
                    <a:pt x="173" y="97"/>
                  </a:lnTo>
                  <a:lnTo>
                    <a:pt x="164" y="99"/>
                  </a:lnTo>
                  <a:lnTo>
                    <a:pt x="156" y="103"/>
                  </a:lnTo>
                  <a:lnTo>
                    <a:pt x="148" y="105"/>
                  </a:lnTo>
                  <a:lnTo>
                    <a:pt x="141" y="107"/>
                  </a:lnTo>
                  <a:lnTo>
                    <a:pt x="133" y="111"/>
                  </a:lnTo>
                  <a:lnTo>
                    <a:pt x="126" y="115"/>
                  </a:lnTo>
                  <a:lnTo>
                    <a:pt x="118" y="116"/>
                  </a:lnTo>
                  <a:lnTo>
                    <a:pt x="110" y="118"/>
                  </a:lnTo>
                  <a:lnTo>
                    <a:pt x="101" y="120"/>
                  </a:lnTo>
                  <a:lnTo>
                    <a:pt x="93" y="124"/>
                  </a:lnTo>
                  <a:lnTo>
                    <a:pt x="86" y="126"/>
                  </a:lnTo>
                  <a:lnTo>
                    <a:pt x="78" y="128"/>
                  </a:lnTo>
                  <a:lnTo>
                    <a:pt x="71" y="130"/>
                  </a:lnTo>
                  <a:lnTo>
                    <a:pt x="63" y="134"/>
                  </a:lnTo>
                  <a:lnTo>
                    <a:pt x="55" y="135"/>
                  </a:lnTo>
                  <a:lnTo>
                    <a:pt x="48" y="137"/>
                  </a:lnTo>
                  <a:lnTo>
                    <a:pt x="38" y="139"/>
                  </a:lnTo>
                  <a:lnTo>
                    <a:pt x="33" y="143"/>
                  </a:lnTo>
                  <a:lnTo>
                    <a:pt x="23" y="145"/>
                  </a:lnTo>
                  <a:lnTo>
                    <a:pt x="15" y="147"/>
                  </a:lnTo>
                  <a:lnTo>
                    <a:pt x="8" y="151"/>
                  </a:lnTo>
                  <a:lnTo>
                    <a:pt x="0" y="153"/>
                  </a:lnTo>
                  <a:lnTo>
                    <a:pt x="10" y="145"/>
                  </a:lnTo>
                  <a:lnTo>
                    <a:pt x="23" y="137"/>
                  </a:lnTo>
                  <a:lnTo>
                    <a:pt x="27" y="135"/>
                  </a:lnTo>
                  <a:lnTo>
                    <a:pt x="33" y="132"/>
                  </a:lnTo>
                  <a:lnTo>
                    <a:pt x="38" y="128"/>
                  </a:lnTo>
                  <a:lnTo>
                    <a:pt x="46" y="126"/>
                  </a:lnTo>
                  <a:lnTo>
                    <a:pt x="55" y="118"/>
                  </a:lnTo>
                  <a:lnTo>
                    <a:pt x="69" y="113"/>
                  </a:lnTo>
                  <a:lnTo>
                    <a:pt x="74" y="109"/>
                  </a:lnTo>
                  <a:lnTo>
                    <a:pt x="80" y="107"/>
                  </a:lnTo>
                  <a:lnTo>
                    <a:pt x="88" y="103"/>
                  </a:lnTo>
                  <a:lnTo>
                    <a:pt x="93" y="101"/>
                  </a:lnTo>
                  <a:lnTo>
                    <a:pt x="99" y="97"/>
                  </a:lnTo>
                  <a:lnTo>
                    <a:pt x="105" y="96"/>
                  </a:lnTo>
                  <a:lnTo>
                    <a:pt x="110" y="92"/>
                  </a:lnTo>
                  <a:lnTo>
                    <a:pt x="116" y="90"/>
                  </a:lnTo>
                  <a:lnTo>
                    <a:pt x="122" y="86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3" y="80"/>
                  </a:lnTo>
                  <a:lnTo>
                    <a:pt x="148" y="77"/>
                  </a:lnTo>
                  <a:lnTo>
                    <a:pt x="154" y="75"/>
                  </a:lnTo>
                  <a:lnTo>
                    <a:pt x="162" y="73"/>
                  </a:lnTo>
                  <a:lnTo>
                    <a:pt x="168" y="71"/>
                  </a:lnTo>
                  <a:lnTo>
                    <a:pt x="173" y="67"/>
                  </a:lnTo>
                  <a:lnTo>
                    <a:pt x="181" y="65"/>
                  </a:lnTo>
                  <a:lnTo>
                    <a:pt x="187" y="63"/>
                  </a:lnTo>
                  <a:lnTo>
                    <a:pt x="192" y="61"/>
                  </a:lnTo>
                  <a:lnTo>
                    <a:pt x="200" y="59"/>
                  </a:lnTo>
                  <a:lnTo>
                    <a:pt x="206" y="57"/>
                  </a:lnTo>
                  <a:lnTo>
                    <a:pt x="211" y="54"/>
                  </a:lnTo>
                  <a:lnTo>
                    <a:pt x="219" y="52"/>
                  </a:lnTo>
                  <a:lnTo>
                    <a:pt x="225" y="50"/>
                  </a:lnTo>
                  <a:lnTo>
                    <a:pt x="230" y="48"/>
                  </a:lnTo>
                  <a:lnTo>
                    <a:pt x="238" y="44"/>
                  </a:lnTo>
                  <a:lnTo>
                    <a:pt x="244" y="44"/>
                  </a:lnTo>
                  <a:lnTo>
                    <a:pt x="249" y="40"/>
                  </a:lnTo>
                  <a:lnTo>
                    <a:pt x="257" y="40"/>
                  </a:lnTo>
                  <a:lnTo>
                    <a:pt x="263" y="37"/>
                  </a:lnTo>
                  <a:lnTo>
                    <a:pt x="268" y="35"/>
                  </a:lnTo>
                  <a:lnTo>
                    <a:pt x="276" y="33"/>
                  </a:lnTo>
                  <a:lnTo>
                    <a:pt x="282" y="31"/>
                  </a:lnTo>
                  <a:lnTo>
                    <a:pt x="287" y="29"/>
                  </a:lnTo>
                  <a:lnTo>
                    <a:pt x="295" y="29"/>
                  </a:lnTo>
                  <a:lnTo>
                    <a:pt x="302" y="25"/>
                  </a:lnTo>
                  <a:lnTo>
                    <a:pt x="308" y="23"/>
                  </a:lnTo>
                  <a:lnTo>
                    <a:pt x="314" y="21"/>
                  </a:lnTo>
                  <a:lnTo>
                    <a:pt x="322" y="21"/>
                  </a:lnTo>
                  <a:lnTo>
                    <a:pt x="327" y="18"/>
                  </a:lnTo>
                  <a:lnTo>
                    <a:pt x="335" y="16"/>
                  </a:lnTo>
                  <a:lnTo>
                    <a:pt x="341" y="14"/>
                  </a:lnTo>
                  <a:lnTo>
                    <a:pt x="348" y="14"/>
                  </a:lnTo>
                  <a:lnTo>
                    <a:pt x="354" y="12"/>
                  </a:lnTo>
                  <a:lnTo>
                    <a:pt x="361" y="10"/>
                  </a:lnTo>
                  <a:lnTo>
                    <a:pt x="367" y="8"/>
                  </a:lnTo>
                  <a:lnTo>
                    <a:pt x="373" y="6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282040" y="2502000"/>
              <a:ext cx="140760" cy="81000"/>
            </a:xfrm>
            <a:custGeom>
              <a:avLst/>
              <a:gdLst/>
              <a:ahLst/>
              <a:rect l="l" t="t" r="r" b="b"/>
              <a:pathLst>
                <a:path w="178" h="101">
                  <a:moveTo>
                    <a:pt x="5" y="2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4" y="11"/>
                  </a:lnTo>
                  <a:lnTo>
                    <a:pt x="76" y="17"/>
                  </a:lnTo>
                  <a:lnTo>
                    <a:pt x="87" y="23"/>
                  </a:lnTo>
                  <a:lnTo>
                    <a:pt x="98" y="30"/>
                  </a:lnTo>
                  <a:lnTo>
                    <a:pt x="108" y="36"/>
                  </a:lnTo>
                  <a:lnTo>
                    <a:pt x="117" y="44"/>
                  </a:lnTo>
                  <a:lnTo>
                    <a:pt x="127" y="51"/>
                  </a:lnTo>
                  <a:lnTo>
                    <a:pt x="138" y="61"/>
                  </a:lnTo>
                  <a:lnTo>
                    <a:pt x="148" y="70"/>
                  </a:lnTo>
                  <a:lnTo>
                    <a:pt x="157" y="80"/>
                  </a:lnTo>
                  <a:lnTo>
                    <a:pt x="167" y="89"/>
                  </a:lnTo>
                  <a:lnTo>
                    <a:pt x="178" y="99"/>
                  </a:lnTo>
                  <a:lnTo>
                    <a:pt x="175" y="101"/>
                  </a:lnTo>
                  <a:lnTo>
                    <a:pt x="163" y="93"/>
                  </a:lnTo>
                  <a:lnTo>
                    <a:pt x="154" y="86"/>
                  </a:lnTo>
                  <a:lnTo>
                    <a:pt x="142" y="78"/>
                  </a:lnTo>
                  <a:lnTo>
                    <a:pt x="133" y="72"/>
                  </a:lnTo>
                  <a:lnTo>
                    <a:pt x="119" y="65"/>
                  </a:lnTo>
                  <a:lnTo>
                    <a:pt x="110" y="59"/>
                  </a:lnTo>
                  <a:lnTo>
                    <a:pt x="98" y="53"/>
                  </a:lnTo>
                  <a:lnTo>
                    <a:pt x="89" y="47"/>
                  </a:lnTo>
                  <a:lnTo>
                    <a:pt x="78" y="42"/>
                  </a:lnTo>
                  <a:lnTo>
                    <a:pt x="66" y="36"/>
                  </a:lnTo>
                  <a:lnTo>
                    <a:pt x="55" y="30"/>
                  </a:lnTo>
                  <a:lnTo>
                    <a:pt x="43" y="27"/>
                  </a:lnTo>
                  <a:lnTo>
                    <a:pt x="32" y="23"/>
                  </a:lnTo>
                  <a:lnTo>
                    <a:pt x="22" y="19"/>
                  </a:lnTo>
                  <a:lnTo>
                    <a:pt x="9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53160" y="2532240"/>
              <a:ext cx="32760" cy="140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9400" y="2541600"/>
              <a:ext cx="329760" cy="46080"/>
            </a:xfrm>
            <a:custGeom>
              <a:avLst/>
              <a:gdLst/>
              <a:ahLst/>
              <a:rect l="l" t="t" r="r" b="b"/>
              <a:pathLst>
                <a:path w="416" h="57">
                  <a:moveTo>
                    <a:pt x="313" y="0"/>
                  </a:moveTo>
                  <a:lnTo>
                    <a:pt x="319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6" y="4"/>
                  </a:lnTo>
                  <a:lnTo>
                    <a:pt x="410" y="6"/>
                  </a:lnTo>
                  <a:lnTo>
                    <a:pt x="403" y="8"/>
                  </a:lnTo>
                  <a:lnTo>
                    <a:pt x="397" y="10"/>
                  </a:lnTo>
                  <a:lnTo>
                    <a:pt x="391" y="12"/>
                  </a:lnTo>
                  <a:lnTo>
                    <a:pt x="384" y="12"/>
                  </a:lnTo>
                  <a:lnTo>
                    <a:pt x="378" y="14"/>
                  </a:lnTo>
                  <a:lnTo>
                    <a:pt x="372" y="16"/>
                  </a:lnTo>
                  <a:lnTo>
                    <a:pt x="365" y="18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6" y="21"/>
                  </a:lnTo>
                  <a:lnTo>
                    <a:pt x="340" y="23"/>
                  </a:lnTo>
                  <a:lnTo>
                    <a:pt x="334" y="25"/>
                  </a:lnTo>
                  <a:lnTo>
                    <a:pt x="327" y="25"/>
                  </a:lnTo>
                  <a:lnTo>
                    <a:pt x="321" y="27"/>
                  </a:lnTo>
                  <a:lnTo>
                    <a:pt x="315" y="29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9" y="31"/>
                  </a:lnTo>
                  <a:lnTo>
                    <a:pt x="281" y="31"/>
                  </a:lnTo>
                  <a:lnTo>
                    <a:pt x="275" y="31"/>
                  </a:lnTo>
                  <a:lnTo>
                    <a:pt x="268" y="33"/>
                  </a:lnTo>
                  <a:lnTo>
                    <a:pt x="262" y="35"/>
                  </a:lnTo>
                  <a:lnTo>
                    <a:pt x="255" y="35"/>
                  </a:lnTo>
                  <a:lnTo>
                    <a:pt x="249" y="35"/>
                  </a:lnTo>
                  <a:lnTo>
                    <a:pt x="241" y="35"/>
                  </a:lnTo>
                  <a:lnTo>
                    <a:pt x="236" y="37"/>
                  </a:lnTo>
                  <a:lnTo>
                    <a:pt x="230" y="37"/>
                  </a:lnTo>
                  <a:lnTo>
                    <a:pt x="222" y="37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3" y="38"/>
                  </a:lnTo>
                  <a:lnTo>
                    <a:pt x="196" y="38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5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56" y="40"/>
                  </a:lnTo>
                  <a:lnTo>
                    <a:pt x="148" y="40"/>
                  </a:lnTo>
                  <a:lnTo>
                    <a:pt x="142" y="40"/>
                  </a:lnTo>
                  <a:lnTo>
                    <a:pt x="135" y="40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44"/>
                  </a:lnTo>
                  <a:lnTo>
                    <a:pt x="83" y="46"/>
                  </a:lnTo>
                  <a:lnTo>
                    <a:pt x="76" y="46"/>
                  </a:lnTo>
                  <a:lnTo>
                    <a:pt x="70" y="46"/>
                  </a:lnTo>
                  <a:lnTo>
                    <a:pt x="64" y="46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5" y="48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7" y="56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0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2"/>
                  </a:lnTo>
                  <a:lnTo>
                    <a:pt x="53" y="40"/>
                  </a:lnTo>
                  <a:lnTo>
                    <a:pt x="63" y="38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93" y="35"/>
                  </a:lnTo>
                  <a:lnTo>
                    <a:pt x="102" y="31"/>
                  </a:lnTo>
                  <a:lnTo>
                    <a:pt x="112" y="31"/>
                  </a:lnTo>
                  <a:lnTo>
                    <a:pt x="121" y="29"/>
                  </a:lnTo>
                  <a:lnTo>
                    <a:pt x="133" y="29"/>
                  </a:lnTo>
                  <a:lnTo>
                    <a:pt x="142" y="27"/>
                  </a:lnTo>
                  <a:lnTo>
                    <a:pt x="154" y="27"/>
                  </a:lnTo>
                  <a:lnTo>
                    <a:pt x="163" y="25"/>
                  </a:lnTo>
                  <a:lnTo>
                    <a:pt x="173" y="23"/>
                  </a:lnTo>
                  <a:lnTo>
                    <a:pt x="184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8"/>
                  </a:lnTo>
                  <a:lnTo>
                    <a:pt x="224" y="18"/>
                  </a:lnTo>
                  <a:lnTo>
                    <a:pt x="236" y="16"/>
                  </a:lnTo>
                  <a:lnTo>
                    <a:pt x="245" y="14"/>
                  </a:lnTo>
                  <a:lnTo>
                    <a:pt x="255" y="12"/>
                  </a:lnTo>
                  <a:lnTo>
                    <a:pt x="264" y="10"/>
                  </a:lnTo>
                  <a:lnTo>
                    <a:pt x="275" y="10"/>
                  </a:lnTo>
                  <a:lnTo>
                    <a:pt x="285" y="6"/>
                  </a:lnTo>
                  <a:lnTo>
                    <a:pt x="294" y="4"/>
                  </a:lnTo>
                  <a:lnTo>
                    <a:pt x="304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310480" y="2560680"/>
              <a:ext cx="317160" cy="158760"/>
            </a:xfrm>
            <a:custGeom>
              <a:avLst/>
              <a:gdLst/>
              <a:ahLst/>
              <a:rect l="l" t="t" r="r" b="b"/>
              <a:pathLst>
                <a:path w="401" h="202">
                  <a:moveTo>
                    <a:pt x="6" y="0"/>
                  </a:moveTo>
                  <a:lnTo>
                    <a:pt x="10" y="2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9" y="14"/>
                  </a:lnTo>
                  <a:lnTo>
                    <a:pt x="55" y="15"/>
                  </a:lnTo>
                  <a:lnTo>
                    <a:pt x="61" y="17"/>
                  </a:lnTo>
                  <a:lnTo>
                    <a:pt x="67" y="21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1" y="31"/>
                  </a:lnTo>
                  <a:lnTo>
                    <a:pt x="99" y="33"/>
                  </a:lnTo>
                  <a:lnTo>
                    <a:pt x="105" y="34"/>
                  </a:lnTo>
                  <a:lnTo>
                    <a:pt x="110" y="36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5" y="46"/>
                  </a:lnTo>
                  <a:lnTo>
                    <a:pt x="141" y="50"/>
                  </a:lnTo>
                  <a:lnTo>
                    <a:pt x="146" y="52"/>
                  </a:lnTo>
                  <a:lnTo>
                    <a:pt x="154" y="53"/>
                  </a:lnTo>
                  <a:lnTo>
                    <a:pt x="160" y="55"/>
                  </a:lnTo>
                  <a:lnTo>
                    <a:pt x="165" y="59"/>
                  </a:lnTo>
                  <a:lnTo>
                    <a:pt x="171" y="61"/>
                  </a:lnTo>
                  <a:lnTo>
                    <a:pt x="177" y="65"/>
                  </a:lnTo>
                  <a:lnTo>
                    <a:pt x="183" y="67"/>
                  </a:lnTo>
                  <a:lnTo>
                    <a:pt x="190" y="71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7" y="78"/>
                  </a:lnTo>
                  <a:lnTo>
                    <a:pt x="213" y="82"/>
                  </a:lnTo>
                  <a:lnTo>
                    <a:pt x="219" y="84"/>
                  </a:lnTo>
                  <a:lnTo>
                    <a:pt x="226" y="88"/>
                  </a:lnTo>
                  <a:lnTo>
                    <a:pt x="230" y="90"/>
                  </a:lnTo>
                  <a:lnTo>
                    <a:pt x="238" y="91"/>
                  </a:lnTo>
                  <a:lnTo>
                    <a:pt x="243" y="95"/>
                  </a:lnTo>
                  <a:lnTo>
                    <a:pt x="249" y="99"/>
                  </a:lnTo>
                  <a:lnTo>
                    <a:pt x="255" y="103"/>
                  </a:lnTo>
                  <a:lnTo>
                    <a:pt x="262" y="105"/>
                  </a:lnTo>
                  <a:lnTo>
                    <a:pt x="266" y="109"/>
                  </a:lnTo>
                  <a:lnTo>
                    <a:pt x="274" y="112"/>
                  </a:lnTo>
                  <a:lnTo>
                    <a:pt x="280" y="114"/>
                  </a:lnTo>
                  <a:lnTo>
                    <a:pt x="285" y="118"/>
                  </a:lnTo>
                  <a:lnTo>
                    <a:pt x="293" y="122"/>
                  </a:lnTo>
                  <a:lnTo>
                    <a:pt x="299" y="124"/>
                  </a:lnTo>
                  <a:lnTo>
                    <a:pt x="304" y="126"/>
                  </a:lnTo>
                  <a:lnTo>
                    <a:pt x="310" y="129"/>
                  </a:lnTo>
                  <a:lnTo>
                    <a:pt x="316" y="133"/>
                  </a:lnTo>
                  <a:lnTo>
                    <a:pt x="321" y="135"/>
                  </a:lnTo>
                  <a:lnTo>
                    <a:pt x="327" y="139"/>
                  </a:lnTo>
                  <a:lnTo>
                    <a:pt x="333" y="143"/>
                  </a:lnTo>
                  <a:lnTo>
                    <a:pt x="340" y="145"/>
                  </a:lnTo>
                  <a:lnTo>
                    <a:pt x="346" y="148"/>
                  </a:lnTo>
                  <a:lnTo>
                    <a:pt x="352" y="152"/>
                  </a:lnTo>
                  <a:lnTo>
                    <a:pt x="357" y="154"/>
                  </a:lnTo>
                  <a:lnTo>
                    <a:pt x="363" y="158"/>
                  </a:lnTo>
                  <a:lnTo>
                    <a:pt x="369" y="162"/>
                  </a:lnTo>
                  <a:lnTo>
                    <a:pt x="376" y="166"/>
                  </a:lnTo>
                  <a:lnTo>
                    <a:pt x="382" y="169"/>
                  </a:lnTo>
                  <a:lnTo>
                    <a:pt x="388" y="171"/>
                  </a:lnTo>
                  <a:lnTo>
                    <a:pt x="395" y="177"/>
                  </a:lnTo>
                  <a:lnTo>
                    <a:pt x="395" y="181"/>
                  </a:lnTo>
                  <a:lnTo>
                    <a:pt x="395" y="188"/>
                  </a:lnTo>
                  <a:lnTo>
                    <a:pt x="395" y="196"/>
                  </a:lnTo>
                  <a:lnTo>
                    <a:pt x="401" y="202"/>
                  </a:lnTo>
                  <a:lnTo>
                    <a:pt x="394" y="200"/>
                  </a:lnTo>
                  <a:lnTo>
                    <a:pt x="386" y="198"/>
                  </a:lnTo>
                  <a:lnTo>
                    <a:pt x="380" y="196"/>
                  </a:lnTo>
                  <a:lnTo>
                    <a:pt x="375" y="196"/>
                  </a:lnTo>
                  <a:lnTo>
                    <a:pt x="367" y="192"/>
                  </a:lnTo>
                  <a:lnTo>
                    <a:pt x="361" y="190"/>
                  </a:lnTo>
                  <a:lnTo>
                    <a:pt x="356" y="188"/>
                  </a:lnTo>
                  <a:lnTo>
                    <a:pt x="348" y="188"/>
                  </a:lnTo>
                  <a:lnTo>
                    <a:pt x="342" y="185"/>
                  </a:lnTo>
                  <a:lnTo>
                    <a:pt x="337" y="183"/>
                  </a:lnTo>
                  <a:lnTo>
                    <a:pt x="329" y="179"/>
                  </a:lnTo>
                  <a:lnTo>
                    <a:pt x="323" y="177"/>
                  </a:lnTo>
                  <a:lnTo>
                    <a:pt x="318" y="173"/>
                  </a:lnTo>
                  <a:lnTo>
                    <a:pt x="310" y="171"/>
                  </a:lnTo>
                  <a:lnTo>
                    <a:pt x="304" y="169"/>
                  </a:lnTo>
                  <a:lnTo>
                    <a:pt x="299" y="168"/>
                  </a:lnTo>
                  <a:lnTo>
                    <a:pt x="291" y="164"/>
                  </a:lnTo>
                  <a:lnTo>
                    <a:pt x="285" y="162"/>
                  </a:lnTo>
                  <a:lnTo>
                    <a:pt x="278" y="158"/>
                  </a:lnTo>
                  <a:lnTo>
                    <a:pt x="272" y="154"/>
                  </a:lnTo>
                  <a:lnTo>
                    <a:pt x="266" y="152"/>
                  </a:lnTo>
                  <a:lnTo>
                    <a:pt x="259" y="148"/>
                  </a:lnTo>
                  <a:lnTo>
                    <a:pt x="253" y="145"/>
                  </a:lnTo>
                  <a:lnTo>
                    <a:pt x="247" y="143"/>
                  </a:lnTo>
                  <a:lnTo>
                    <a:pt x="241" y="139"/>
                  </a:lnTo>
                  <a:lnTo>
                    <a:pt x="236" y="135"/>
                  </a:lnTo>
                  <a:lnTo>
                    <a:pt x="228" y="131"/>
                  </a:lnTo>
                  <a:lnTo>
                    <a:pt x="222" y="128"/>
                  </a:lnTo>
                  <a:lnTo>
                    <a:pt x="217" y="124"/>
                  </a:lnTo>
                  <a:lnTo>
                    <a:pt x="211" y="122"/>
                  </a:lnTo>
                  <a:lnTo>
                    <a:pt x="205" y="118"/>
                  </a:lnTo>
                  <a:lnTo>
                    <a:pt x="200" y="114"/>
                  </a:lnTo>
                  <a:lnTo>
                    <a:pt x="194" y="110"/>
                  </a:lnTo>
                  <a:lnTo>
                    <a:pt x="188" y="107"/>
                  </a:lnTo>
                  <a:lnTo>
                    <a:pt x="181" y="103"/>
                  </a:lnTo>
                  <a:lnTo>
                    <a:pt x="175" y="99"/>
                  </a:lnTo>
                  <a:lnTo>
                    <a:pt x="169" y="95"/>
                  </a:lnTo>
                  <a:lnTo>
                    <a:pt x="162" y="91"/>
                  </a:lnTo>
                  <a:lnTo>
                    <a:pt x="156" y="88"/>
                  </a:lnTo>
                  <a:lnTo>
                    <a:pt x="150" y="84"/>
                  </a:lnTo>
                  <a:lnTo>
                    <a:pt x="145" y="80"/>
                  </a:lnTo>
                  <a:lnTo>
                    <a:pt x="137" y="76"/>
                  </a:lnTo>
                  <a:lnTo>
                    <a:pt x="131" y="72"/>
                  </a:lnTo>
                  <a:lnTo>
                    <a:pt x="126" y="69"/>
                  </a:lnTo>
                  <a:lnTo>
                    <a:pt x="118" y="65"/>
                  </a:lnTo>
                  <a:lnTo>
                    <a:pt x="112" y="63"/>
                  </a:lnTo>
                  <a:lnTo>
                    <a:pt x="107" y="59"/>
                  </a:lnTo>
                  <a:lnTo>
                    <a:pt x="101" y="55"/>
                  </a:lnTo>
                  <a:lnTo>
                    <a:pt x="95" y="52"/>
                  </a:lnTo>
                  <a:lnTo>
                    <a:pt x="88" y="50"/>
                  </a:lnTo>
                  <a:lnTo>
                    <a:pt x="82" y="44"/>
                  </a:lnTo>
                  <a:lnTo>
                    <a:pt x="74" y="42"/>
                  </a:lnTo>
                  <a:lnTo>
                    <a:pt x="68" y="38"/>
                  </a:lnTo>
                  <a:lnTo>
                    <a:pt x="63" y="34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44" y="25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5" y="17"/>
                  </a:lnTo>
                  <a:lnTo>
                    <a:pt x="17" y="14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24000" y="2559240"/>
              <a:ext cx="36000" cy="284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6" y="2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4"/>
                  </a:lnTo>
                  <a:lnTo>
                    <a:pt x="35" y="8"/>
                  </a:lnTo>
                  <a:lnTo>
                    <a:pt x="40" y="12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5"/>
                  </a:lnTo>
                  <a:lnTo>
                    <a:pt x="36" y="36"/>
                  </a:lnTo>
                  <a:lnTo>
                    <a:pt x="27" y="35"/>
                  </a:lnTo>
                  <a:lnTo>
                    <a:pt x="19" y="33"/>
                  </a:lnTo>
                  <a:lnTo>
                    <a:pt x="10" y="27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80960" y="2587680"/>
              <a:ext cx="445680" cy="73080"/>
            </a:xfrm>
            <a:custGeom>
              <a:avLst/>
              <a:gdLst/>
              <a:ahLst/>
              <a:rect l="l" t="t" r="r" b="b"/>
              <a:pathLst>
                <a:path w="562" h="94">
                  <a:moveTo>
                    <a:pt x="484" y="0"/>
                  </a:moveTo>
                  <a:lnTo>
                    <a:pt x="494" y="0"/>
                  </a:lnTo>
                  <a:lnTo>
                    <a:pt x="503" y="0"/>
                  </a:lnTo>
                  <a:lnTo>
                    <a:pt x="513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43" y="0"/>
                  </a:lnTo>
                  <a:lnTo>
                    <a:pt x="553" y="0"/>
                  </a:lnTo>
                  <a:lnTo>
                    <a:pt x="562" y="0"/>
                  </a:lnTo>
                  <a:lnTo>
                    <a:pt x="562" y="4"/>
                  </a:lnTo>
                  <a:lnTo>
                    <a:pt x="562" y="8"/>
                  </a:lnTo>
                  <a:lnTo>
                    <a:pt x="553" y="10"/>
                  </a:lnTo>
                  <a:lnTo>
                    <a:pt x="545" y="12"/>
                  </a:lnTo>
                  <a:lnTo>
                    <a:pt x="536" y="12"/>
                  </a:lnTo>
                  <a:lnTo>
                    <a:pt x="526" y="16"/>
                  </a:lnTo>
                  <a:lnTo>
                    <a:pt x="517" y="16"/>
                  </a:lnTo>
                  <a:lnTo>
                    <a:pt x="509" y="18"/>
                  </a:lnTo>
                  <a:lnTo>
                    <a:pt x="500" y="19"/>
                  </a:lnTo>
                  <a:lnTo>
                    <a:pt x="492" y="21"/>
                  </a:lnTo>
                  <a:lnTo>
                    <a:pt x="482" y="21"/>
                  </a:lnTo>
                  <a:lnTo>
                    <a:pt x="473" y="23"/>
                  </a:lnTo>
                  <a:lnTo>
                    <a:pt x="465" y="25"/>
                  </a:lnTo>
                  <a:lnTo>
                    <a:pt x="456" y="27"/>
                  </a:lnTo>
                  <a:lnTo>
                    <a:pt x="446" y="27"/>
                  </a:lnTo>
                  <a:lnTo>
                    <a:pt x="439" y="29"/>
                  </a:lnTo>
                  <a:lnTo>
                    <a:pt x="429" y="29"/>
                  </a:lnTo>
                  <a:lnTo>
                    <a:pt x="422" y="31"/>
                  </a:lnTo>
                  <a:lnTo>
                    <a:pt x="412" y="31"/>
                  </a:lnTo>
                  <a:lnTo>
                    <a:pt x="403" y="33"/>
                  </a:lnTo>
                  <a:lnTo>
                    <a:pt x="395" y="35"/>
                  </a:lnTo>
                  <a:lnTo>
                    <a:pt x="385" y="37"/>
                  </a:lnTo>
                  <a:lnTo>
                    <a:pt x="376" y="37"/>
                  </a:lnTo>
                  <a:lnTo>
                    <a:pt x="368" y="37"/>
                  </a:lnTo>
                  <a:lnTo>
                    <a:pt x="359" y="38"/>
                  </a:lnTo>
                  <a:lnTo>
                    <a:pt x="351" y="40"/>
                  </a:lnTo>
                  <a:lnTo>
                    <a:pt x="342" y="40"/>
                  </a:lnTo>
                  <a:lnTo>
                    <a:pt x="332" y="42"/>
                  </a:lnTo>
                  <a:lnTo>
                    <a:pt x="323" y="42"/>
                  </a:lnTo>
                  <a:lnTo>
                    <a:pt x="315" y="44"/>
                  </a:lnTo>
                  <a:lnTo>
                    <a:pt x="306" y="44"/>
                  </a:lnTo>
                  <a:lnTo>
                    <a:pt x="296" y="46"/>
                  </a:lnTo>
                  <a:lnTo>
                    <a:pt x="288" y="46"/>
                  </a:lnTo>
                  <a:lnTo>
                    <a:pt x="279" y="48"/>
                  </a:lnTo>
                  <a:lnTo>
                    <a:pt x="269" y="48"/>
                  </a:lnTo>
                  <a:lnTo>
                    <a:pt x="260" y="50"/>
                  </a:lnTo>
                  <a:lnTo>
                    <a:pt x="252" y="52"/>
                  </a:lnTo>
                  <a:lnTo>
                    <a:pt x="243" y="52"/>
                  </a:lnTo>
                  <a:lnTo>
                    <a:pt x="233" y="54"/>
                  </a:lnTo>
                  <a:lnTo>
                    <a:pt x="226" y="54"/>
                  </a:lnTo>
                  <a:lnTo>
                    <a:pt x="216" y="56"/>
                  </a:lnTo>
                  <a:lnTo>
                    <a:pt x="209" y="57"/>
                  </a:lnTo>
                  <a:lnTo>
                    <a:pt x="199" y="57"/>
                  </a:lnTo>
                  <a:lnTo>
                    <a:pt x="190" y="59"/>
                  </a:lnTo>
                  <a:lnTo>
                    <a:pt x="182" y="59"/>
                  </a:lnTo>
                  <a:lnTo>
                    <a:pt x="173" y="61"/>
                  </a:lnTo>
                  <a:lnTo>
                    <a:pt x="163" y="63"/>
                  </a:lnTo>
                  <a:lnTo>
                    <a:pt x="155" y="63"/>
                  </a:lnTo>
                  <a:lnTo>
                    <a:pt x="146" y="65"/>
                  </a:lnTo>
                  <a:lnTo>
                    <a:pt x="138" y="67"/>
                  </a:lnTo>
                  <a:lnTo>
                    <a:pt x="129" y="67"/>
                  </a:lnTo>
                  <a:lnTo>
                    <a:pt x="119" y="69"/>
                  </a:lnTo>
                  <a:lnTo>
                    <a:pt x="112" y="71"/>
                  </a:lnTo>
                  <a:lnTo>
                    <a:pt x="102" y="73"/>
                  </a:lnTo>
                  <a:lnTo>
                    <a:pt x="93" y="73"/>
                  </a:lnTo>
                  <a:lnTo>
                    <a:pt x="85" y="75"/>
                  </a:lnTo>
                  <a:lnTo>
                    <a:pt x="76" y="76"/>
                  </a:lnTo>
                  <a:lnTo>
                    <a:pt x="68" y="78"/>
                  </a:lnTo>
                  <a:lnTo>
                    <a:pt x="58" y="80"/>
                  </a:lnTo>
                  <a:lnTo>
                    <a:pt x="49" y="82"/>
                  </a:lnTo>
                  <a:lnTo>
                    <a:pt x="41" y="82"/>
                  </a:lnTo>
                  <a:lnTo>
                    <a:pt x="34" y="84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7" y="92"/>
                  </a:lnTo>
                  <a:lnTo>
                    <a:pt x="0" y="94"/>
                  </a:lnTo>
                  <a:lnTo>
                    <a:pt x="7" y="92"/>
                  </a:lnTo>
                  <a:lnTo>
                    <a:pt x="13" y="88"/>
                  </a:lnTo>
                  <a:lnTo>
                    <a:pt x="19" y="84"/>
                  </a:lnTo>
                  <a:lnTo>
                    <a:pt x="26" y="82"/>
                  </a:lnTo>
                  <a:lnTo>
                    <a:pt x="34" y="80"/>
                  </a:lnTo>
                  <a:lnTo>
                    <a:pt x="39" y="78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8" y="69"/>
                  </a:lnTo>
                  <a:lnTo>
                    <a:pt x="76" y="65"/>
                  </a:lnTo>
                  <a:lnTo>
                    <a:pt x="83" y="63"/>
                  </a:lnTo>
                  <a:lnTo>
                    <a:pt x="91" y="61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6"/>
                  </a:lnTo>
                  <a:lnTo>
                    <a:pt x="127" y="54"/>
                  </a:lnTo>
                  <a:lnTo>
                    <a:pt x="135" y="52"/>
                  </a:lnTo>
                  <a:lnTo>
                    <a:pt x="142" y="52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5" y="46"/>
                  </a:lnTo>
                  <a:lnTo>
                    <a:pt x="173" y="44"/>
                  </a:lnTo>
                  <a:lnTo>
                    <a:pt x="180" y="42"/>
                  </a:lnTo>
                  <a:lnTo>
                    <a:pt x="188" y="42"/>
                  </a:lnTo>
                  <a:lnTo>
                    <a:pt x="195" y="40"/>
                  </a:lnTo>
                  <a:lnTo>
                    <a:pt x="203" y="38"/>
                  </a:lnTo>
                  <a:lnTo>
                    <a:pt x="211" y="38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5" y="37"/>
                  </a:lnTo>
                  <a:lnTo>
                    <a:pt x="241" y="35"/>
                  </a:lnTo>
                  <a:lnTo>
                    <a:pt x="250" y="33"/>
                  </a:lnTo>
                  <a:lnTo>
                    <a:pt x="258" y="31"/>
                  </a:lnTo>
                  <a:lnTo>
                    <a:pt x="266" y="31"/>
                  </a:lnTo>
                  <a:lnTo>
                    <a:pt x="271" y="29"/>
                  </a:lnTo>
                  <a:lnTo>
                    <a:pt x="281" y="29"/>
                  </a:lnTo>
                  <a:lnTo>
                    <a:pt x="288" y="27"/>
                  </a:lnTo>
                  <a:lnTo>
                    <a:pt x="296" y="27"/>
                  </a:lnTo>
                  <a:lnTo>
                    <a:pt x="304" y="25"/>
                  </a:lnTo>
                  <a:lnTo>
                    <a:pt x="311" y="25"/>
                  </a:lnTo>
                  <a:lnTo>
                    <a:pt x="319" y="21"/>
                  </a:lnTo>
                  <a:lnTo>
                    <a:pt x="327" y="21"/>
                  </a:lnTo>
                  <a:lnTo>
                    <a:pt x="334" y="21"/>
                  </a:lnTo>
                  <a:lnTo>
                    <a:pt x="344" y="19"/>
                  </a:lnTo>
                  <a:lnTo>
                    <a:pt x="351" y="19"/>
                  </a:lnTo>
                  <a:lnTo>
                    <a:pt x="359" y="19"/>
                  </a:lnTo>
                  <a:lnTo>
                    <a:pt x="366" y="18"/>
                  </a:lnTo>
                  <a:lnTo>
                    <a:pt x="374" y="16"/>
                  </a:lnTo>
                  <a:lnTo>
                    <a:pt x="382" y="16"/>
                  </a:lnTo>
                  <a:lnTo>
                    <a:pt x="389" y="14"/>
                  </a:lnTo>
                  <a:lnTo>
                    <a:pt x="397" y="12"/>
                  </a:lnTo>
                  <a:lnTo>
                    <a:pt x="406" y="12"/>
                  </a:lnTo>
                  <a:lnTo>
                    <a:pt x="414" y="10"/>
                  </a:lnTo>
                  <a:lnTo>
                    <a:pt x="422" y="10"/>
                  </a:lnTo>
                  <a:lnTo>
                    <a:pt x="429" y="8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2" y="4"/>
                  </a:lnTo>
                  <a:lnTo>
                    <a:pt x="460" y="2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30840" y="2695680"/>
              <a:ext cx="447480" cy="58680"/>
            </a:xfrm>
            <a:custGeom>
              <a:avLst/>
              <a:gdLst/>
              <a:ahLst/>
              <a:rect l="l" t="t" r="r" b="b"/>
              <a:pathLst>
                <a:path w="564" h="74">
                  <a:moveTo>
                    <a:pt x="188" y="6"/>
                  </a:moveTo>
                  <a:lnTo>
                    <a:pt x="199" y="6"/>
                  </a:lnTo>
                  <a:lnTo>
                    <a:pt x="211" y="6"/>
                  </a:lnTo>
                  <a:lnTo>
                    <a:pt x="215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39" y="6"/>
                  </a:lnTo>
                  <a:lnTo>
                    <a:pt x="247" y="6"/>
                  </a:lnTo>
                  <a:lnTo>
                    <a:pt x="251" y="6"/>
                  </a:lnTo>
                  <a:lnTo>
                    <a:pt x="258" y="6"/>
                  </a:lnTo>
                  <a:lnTo>
                    <a:pt x="262" y="6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83" y="6"/>
                  </a:lnTo>
                  <a:lnTo>
                    <a:pt x="287" y="6"/>
                  </a:lnTo>
                  <a:lnTo>
                    <a:pt x="295" y="6"/>
                  </a:lnTo>
                  <a:lnTo>
                    <a:pt x="298" y="4"/>
                  </a:lnTo>
                  <a:lnTo>
                    <a:pt x="306" y="4"/>
                  </a:lnTo>
                  <a:lnTo>
                    <a:pt x="312" y="4"/>
                  </a:lnTo>
                  <a:lnTo>
                    <a:pt x="317" y="4"/>
                  </a:lnTo>
                  <a:lnTo>
                    <a:pt x="323" y="4"/>
                  </a:lnTo>
                  <a:lnTo>
                    <a:pt x="331" y="4"/>
                  </a:lnTo>
                  <a:lnTo>
                    <a:pt x="334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3" y="2"/>
                  </a:lnTo>
                  <a:lnTo>
                    <a:pt x="361" y="2"/>
                  </a:lnTo>
                  <a:lnTo>
                    <a:pt x="367" y="2"/>
                  </a:lnTo>
                  <a:lnTo>
                    <a:pt x="372" y="2"/>
                  </a:lnTo>
                  <a:lnTo>
                    <a:pt x="380" y="2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2"/>
                  </a:lnTo>
                  <a:lnTo>
                    <a:pt x="469" y="2"/>
                  </a:lnTo>
                  <a:lnTo>
                    <a:pt x="475" y="2"/>
                  </a:lnTo>
                  <a:lnTo>
                    <a:pt x="487" y="2"/>
                  </a:lnTo>
                  <a:lnTo>
                    <a:pt x="498" y="6"/>
                  </a:lnTo>
                  <a:lnTo>
                    <a:pt x="502" y="6"/>
                  </a:lnTo>
                  <a:lnTo>
                    <a:pt x="509" y="6"/>
                  </a:lnTo>
                  <a:lnTo>
                    <a:pt x="515" y="8"/>
                  </a:lnTo>
                  <a:lnTo>
                    <a:pt x="521" y="10"/>
                  </a:lnTo>
                  <a:lnTo>
                    <a:pt x="530" y="12"/>
                  </a:lnTo>
                  <a:lnTo>
                    <a:pt x="544" y="16"/>
                  </a:lnTo>
                  <a:lnTo>
                    <a:pt x="553" y="19"/>
                  </a:lnTo>
                  <a:lnTo>
                    <a:pt x="564" y="23"/>
                  </a:lnTo>
                  <a:lnTo>
                    <a:pt x="557" y="23"/>
                  </a:lnTo>
                  <a:lnTo>
                    <a:pt x="549" y="23"/>
                  </a:lnTo>
                  <a:lnTo>
                    <a:pt x="542" y="23"/>
                  </a:lnTo>
                  <a:lnTo>
                    <a:pt x="534" y="23"/>
                  </a:lnTo>
                  <a:lnTo>
                    <a:pt x="525" y="23"/>
                  </a:lnTo>
                  <a:lnTo>
                    <a:pt x="517" y="23"/>
                  </a:lnTo>
                  <a:lnTo>
                    <a:pt x="509" y="25"/>
                  </a:lnTo>
                  <a:lnTo>
                    <a:pt x="502" y="25"/>
                  </a:lnTo>
                  <a:lnTo>
                    <a:pt x="494" y="25"/>
                  </a:lnTo>
                  <a:lnTo>
                    <a:pt x="487" y="25"/>
                  </a:lnTo>
                  <a:lnTo>
                    <a:pt x="479" y="27"/>
                  </a:lnTo>
                  <a:lnTo>
                    <a:pt x="471" y="27"/>
                  </a:lnTo>
                  <a:lnTo>
                    <a:pt x="464" y="27"/>
                  </a:lnTo>
                  <a:lnTo>
                    <a:pt x="456" y="29"/>
                  </a:lnTo>
                  <a:lnTo>
                    <a:pt x="449" y="29"/>
                  </a:lnTo>
                  <a:lnTo>
                    <a:pt x="443" y="31"/>
                  </a:lnTo>
                  <a:lnTo>
                    <a:pt x="433" y="31"/>
                  </a:lnTo>
                  <a:lnTo>
                    <a:pt x="426" y="31"/>
                  </a:lnTo>
                  <a:lnTo>
                    <a:pt x="418" y="33"/>
                  </a:lnTo>
                  <a:lnTo>
                    <a:pt x="412" y="35"/>
                  </a:lnTo>
                  <a:lnTo>
                    <a:pt x="405" y="35"/>
                  </a:lnTo>
                  <a:lnTo>
                    <a:pt x="397" y="35"/>
                  </a:lnTo>
                  <a:lnTo>
                    <a:pt x="390" y="36"/>
                  </a:lnTo>
                  <a:lnTo>
                    <a:pt x="382" y="36"/>
                  </a:lnTo>
                  <a:lnTo>
                    <a:pt x="374" y="36"/>
                  </a:lnTo>
                  <a:lnTo>
                    <a:pt x="367" y="38"/>
                  </a:lnTo>
                  <a:lnTo>
                    <a:pt x="359" y="38"/>
                  </a:lnTo>
                  <a:lnTo>
                    <a:pt x="352" y="42"/>
                  </a:lnTo>
                  <a:lnTo>
                    <a:pt x="344" y="42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3" y="46"/>
                  </a:lnTo>
                  <a:lnTo>
                    <a:pt x="315" y="46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93" y="50"/>
                  </a:lnTo>
                  <a:lnTo>
                    <a:pt x="285" y="50"/>
                  </a:lnTo>
                  <a:lnTo>
                    <a:pt x="277" y="52"/>
                  </a:lnTo>
                  <a:lnTo>
                    <a:pt x="270" y="52"/>
                  </a:lnTo>
                  <a:lnTo>
                    <a:pt x="262" y="54"/>
                  </a:lnTo>
                  <a:lnTo>
                    <a:pt x="255" y="54"/>
                  </a:lnTo>
                  <a:lnTo>
                    <a:pt x="247" y="55"/>
                  </a:lnTo>
                  <a:lnTo>
                    <a:pt x="239" y="55"/>
                  </a:lnTo>
                  <a:lnTo>
                    <a:pt x="234" y="57"/>
                  </a:lnTo>
                  <a:lnTo>
                    <a:pt x="224" y="57"/>
                  </a:lnTo>
                  <a:lnTo>
                    <a:pt x="218" y="61"/>
                  </a:lnTo>
                  <a:lnTo>
                    <a:pt x="211" y="61"/>
                  </a:lnTo>
                  <a:lnTo>
                    <a:pt x="203" y="63"/>
                  </a:lnTo>
                  <a:lnTo>
                    <a:pt x="196" y="63"/>
                  </a:lnTo>
                  <a:lnTo>
                    <a:pt x="188" y="63"/>
                  </a:lnTo>
                  <a:lnTo>
                    <a:pt x="180" y="65"/>
                  </a:lnTo>
                  <a:lnTo>
                    <a:pt x="173" y="65"/>
                  </a:lnTo>
                  <a:lnTo>
                    <a:pt x="165" y="65"/>
                  </a:lnTo>
                  <a:lnTo>
                    <a:pt x="158" y="67"/>
                  </a:lnTo>
                  <a:lnTo>
                    <a:pt x="150" y="67"/>
                  </a:lnTo>
                  <a:lnTo>
                    <a:pt x="144" y="69"/>
                  </a:lnTo>
                  <a:lnTo>
                    <a:pt x="135" y="69"/>
                  </a:lnTo>
                  <a:lnTo>
                    <a:pt x="127" y="71"/>
                  </a:lnTo>
                  <a:lnTo>
                    <a:pt x="120" y="71"/>
                  </a:lnTo>
                  <a:lnTo>
                    <a:pt x="112" y="73"/>
                  </a:lnTo>
                  <a:lnTo>
                    <a:pt x="104" y="73"/>
                  </a:lnTo>
                  <a:lnTo>
                    <a:pt x="99" y="73"/>
                  </a:lnTo>
                  <a:lnTo>
                    <a:pt x="89" y="74"/>
                  </a:lnTo>
                  <a:lnTo>
                    <a:pt x="83" y="74"/>
                  </a:lnTo>
                  <a:lnTo>
                    <a:pt x="83" y="65"/>
                  </a:lnTo>
                  <a:lnTo>
                    <a:pt x="91" y="57"/>
                  </a:lnTo>
                  <a:lnTo>
                    <a:pt x="82" y="55"/>
                  </a:lnTo>
                  <a:lnTo>
                    <a:pt x="74" y="55"/>
                  </a:lnTo>
                  <a:lnTo>
                    <a:pt x="68" y="54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1" y="46"/>
                  </a:lnTo>
                  <a:lnTo>
                    <a:pt x="15" y="44"/>
                  </a:lnTo>
                  <a:lnTo>
                    <a:pt x="9" y="42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7" y="12"/>
                  </a:lnTo>
                  <a:lnTo>
                    <a:pt x="57" y="12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10"/>
                  </a:lnTo>
                  <a:lnTo>
                    <a:pt x="116" y="12"/>
                  </a:lnTo>
                  <a:lnTo>
                    <a:pt x="127" y="12"/>
                  </a:lnTo>
                  <a:lnTo>
                    <a:pt x="139" y="16"/>
                  </a:lnTo>
                  <a:lnTo>
                    <a:pt x="144" y="14"/>
                  </a:lnTo>
                  <a:lnTo>
                    <a:pt x="150" y="14"/>
                  </a:lnTo>
                  <a:lnTo>
                    <a:pt x="156" y="14"/>
                  </a:lnTo>
                  <a:lnTo>
                    <a:pt x="163" y="14"/>
                  </a:lnTo>
                  <a:lnTo>
                    <a:pt x="169" y="12"/>
                  </a:lnTo>
                  <a:lnTo>
                    <a:pt x="177" y="10"/>
                  </a:lnTo>
                  <a:lnTo>
                    <a:pt x="182" y="8"/>
                  </a:lnTo>
                  <a:lnTo>
                    <a:pt x="188" y="6"/>
                  </a:lnTo>
                  <a:lnTo>
                    <a:pt x="1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221480" y="2718000"/>
              <a:ext cx="1063080" cy="74520"/>
            </a:xfrm>
            <a:custGeom>
              <a:avLst/>
              <a:gdLst/>
              <a:ahLst/>
              <a:rect l="l" t="t" r="r" b="b"/>
              <a:pathLst>
                <a:path w="1340" h="93">
                  <a:moveTo>
                    <a:pt x="482" y="0"/>
                  </a:moveTo>
                  <a:lnTo>
                    <a:pt x="496" y="0"/>
                  </a:lnTo>
                  <a:lnTo>
                    <a:pt x="507" y="0"/>
                  </a:lnTo>
                  <a:lnTo>
                    <a:pt x="520" y="0"/>
                  </a:lnTo>
                  <a:lnTo>
                    <a:pt x="534" y="0"/>
                  </a:lnTo>
                  <a:lnTo>
                    <a:pt x="545" y="0"/>
                  </a:lnTo>
                  <a:lnTo>
                    <a:pt x="558" y="0"/>
                  </a:lnTo>
                  <a:lnTo>
                    <a:pt x="572" y="0"/>
                  </a:lnTo>
                  <a:lnTo>
                    <a:pt x="585" y="2"/>
                  </a:lnTo>
                  <a:lnTo>
                    <a:pt x="598" y="2"/>
                  </a:lnTo>
                  <a:lnTo>
                    <a:pt x="610" y="2"/>
                  </a:lnTo>
                  <a:lnTo>
                    <a:pt x="623" y="2"/>
                  </a:lnTo>
                  <a:lnTo>
                    <a:pt x="636" y="2"/>
                  </a:lnTo>
                  <a:lnTo>
                    <a:pt x="650" y="2"/>
                  </a:lnTo>
                  <a:lnTo>
                    <a:pt x="663" y="2"/>
                  </a:lnTo>
                  <a:lnTo>
                    <a:pt x="676" y="2"/>
                  </a:lnTo>
                  <a:lnTo>
                    <a:pt x="692" y="2"/>
                  </a:lnTo>
                  <a:lnTo>
                    <a:pt x="703" y="2"/>
                  </a:lnTo>
                  <a:lnTo>
                    <a:pt x="716" y="2"/>
                  </a:lnTo>
                  <a:lnTo>
                    <a:pt x="730" y="2"/>
                  </a:lnTo>
                  <a:lnTo>
                    <a:pt x="745" y="2"/>
                  </a:lnTo>
                  <a:lnTo>
                    <a:pt x="756" y="2"/>
                  </a:lnTo>
                  <a:lnTo>
                    <a:pt x="769" y="2"/>
                  </a:lnTo>
                  <a:lnTo>
                    <a:pt x="785" y="2"/>
                  </a:lnTo>
                  <a:lnTo>
                    <a:pt x="798" y="4"/>
                  </a:lnTo>
                  <a:lnTo>
                    <a:pt x="811" y="4"/>
                  </a:lnTo>
                  <a:lnTo>
                    <a:pt x="825" y="4"/>
                  </a:lnTo>
                  <a:lnTo>
                    <a:pt x="838" y="4"/>
                  </a:lnTo>
                  <a:lnTo>
                    <a:pt x="851" y="4"/>
                  </a:lnTo>
                  <a:lnTo>
                    <a:pt x="865" y="4"/>
                  </a:lnTo>
                  <a:lnTo>
                    <a:pt x="878" y="4"/>
                  </a:lnTo>
                  <a:lnTo>
                    <a:pt x="893" y="4"/>
                  </a:lnTo>
                  <a:lnTo>
                    <a:pt x="906" y="6"/>
                  </a:lnTo>
                  <a:lnTo>
                    <a:pt x="920" y="6"/>
                  </a:lnTo>
                  <a:lnTo>
                    <a:pt x="933" y="6"/>
                  </a:lnTo>
                  <a:lnTo>
                    <a:pt x="948" y="6"/>
                  </a:lnTo>
                  <a:lnTo>
                    <a:pt x="961" y="6"/>
                  </a:lnTo>
                  <a:lnTo>
                    <a:pt x="973" y="6"/>
                  </a:lnTo>
                  <a:lnTo>
                    <a:pt x="988" y="6"/>
                  </a:lnTo>
                  <a:lnTo>
                    <a:pt x="1001" y="6"/>
                  </a:lnTo>
                  <a:lnTo>
                    <a:pt x="1015" y="7"/>
                  </a:lnTo>
                  <a:lnTo>
                    <a:pt x="1028" y="7"/>
                  </a:lnTo>
                  <a:lnTo>
                    <a:pt x="1041" y="7"/>
                  </a:lnTo>
                  <a:lnTo>
                    <a:pt x="1055" y="7"/>
                  </a:lnTo>
                  <a:lnTo>
                    <a:pt x="1070" y="9"/>
                  </a:lnTo>
                  <a:lnTo>
                    <a:pt x="1081" y="9"/>
                  </a:lnTo>
                  <a:lnTo>
                    <a:pt x="1096" y="9"/>
                  </a:lnTo>
                  <a:lnTo>
                    <a:pt x="1110" y="11"/>
                  </a:lnTo>
                  <a:lnTo>
                    <a:pt x="1125" y="13"/>
                  </a:lnTo>
                  <a:lnTo>
                    <a:pt x="1136" y="13"/>
                  </a:lnTo>
                  <a:lnTo>
                    <a:pt x="1152" y="13"/>
                  </a:lnTo>
                  <a:lnTo>
                    <a:pt x="1163" y="15"/>
                  </a:lnTo>
                  <a:lnTo>
                    <a:pt x="1176" y="15"/>
                  </a:lnTo>
                  <a:lnTo>
                    <a:pt x="1190" y="15"/>
                  </a:lnTo>
                  <a:lnTo>
                    <a:pt x="1203" y="17"/>
                  </a:lnTo>
                  <a:lnTo>
                    <a:pt x="1218" y="17"/>
                  </a:lnTo>
                  <a:lnTo>
                    <a:pt x="1231" y="19"/>
                  </a:lnTo>
                  <a:lnTo>
                    <a:pt x="1245" y="21"/>
                  </a:lnTo>
                  <a:lnTo>
                    <a:pt x="1258" y="23"/>
                  </a:lnTo>
                  <a:lnTo>
                    <a:pt x="1271" y="25"/>
                  </a:lnTo>
                  <a:lnTo>
                    <a:pt x="1285" y="26"/>
                  </a:lnTo>
                  <a:lnTo>
                    <a:pt x="1298" y="26"/>
                  </a:lnTo>
                  <a:lnTo>
                    <a:pt x="1311" y="28"/>
                  </a:lnTo>
                  <a:lnTo>
                    <a:pt x="1325" y="30"/>
                  </a:lnTo>
                  <a:lnTo>
                    <a:pt x="1340" y="34"/>
                  </a:lnTo>
                  <a:lnTo>
                    <a:pt x="1319" y="34"/>
                  </a:lnTo>
                  <a:lnTo>
                    <a:pt x="1298" y="38"/>
                  </a:lnTo>
                  <a:lnTo>
                    <a:pt x="1277" y="38"/>
                  </a:lnTo>
                  <a:lnTo>
                    <a:pt x="1258" y="42"/>
                  </a:lnTo>
                  <a:lnTo>
                    <a:pt x="1237" y="44"/>
                  </a:lnTo>
                  <a:lnTo>
                    <a:pt x="1218" y="45"/>
                  </a:lnTo>
                  <a:lnTo>
                    <a:pt x="1195" y="45"/>
                  </a:lnTo>
                  <a:lnTo>
                    <a:pt x="1176" y="47"/>
                  </a:lnTo>
                  <a:lnTo>
                    <a:pt x="1155" y="47"/>
                  </a:lnTo>
                  <a:lnTo>
                    <a:pt x="1136" y="49"/>
                  </a:lnTo>
                  <a:lnTo>
                    <a:pt x="1115" y="51"/>
                  </a:lnTo>
                  <a:lnTo>
                    <a:pt x="1096" y="51"/>
                  </a:lnTo>
                  <a:lnTo>
                    <a:pt x="1074" y="51"/>
                  </a:lnTo>
                  <a:lnTo>
                    <a:pt x="1055" y="53"/>
                  </a:lnTo>
                  <a:lnTo>
                    <a:pt x="1034" y="53"/>
                  </a:lnTo>
                  <a:lnTo>
                    <a:pt x="1015" y="53"/>
                  </a:lnTo>
                  <a:lnTo>
                    <a:pt x="992" y="53"/>
                  </a:lnTo>
                  <a:lnTo>
                    <a:pt x="973" y="53"/>
                  </a:lnTo>
                  <a:lnTo>
                    <a:pt x="952" y="53"/>
                  </a:lnTo>
                  <a:lnTo>
                    <a:pt x="931" y="53"/>
                  </a:lnTo>
                  <a:lnTo>
                    <a:pt x="910" y="53"/>
                  </a:lnTo>
                  <a:lnTo>
                    <a:pt x="889" y="53"/>
                  </a:lnTo>
                  <a:lnTo>
                    <a:pt x="868" y="53"/>
                  </a:lnTo>
                  <a:lnTo>
                    <a:pt x="849" y="53"/>
                  </a:lnTo>
                  <a:lnTo>
                    <a:pt x="828" y="51"/>
                  </a:lnTo>
                  <a:lnTo>
                    <a:pt x="809" y="51"/>
                  </a:lnTo>
                  <a:lnTo>
                    <a:pt x="787" y="51"/>
                  </a:lnTo>
                  <a:lnTo>
                    <a:pt x="768" y="51"/>
                  </a:lnTo>
                  <a:lnTo>
                    <a:pt x="747" y="51"/>
                  </a:lnTo>
                  <a:lnTo>
                    <a:pt x="726" y="51"/>
                  </a:lnTo>
                  <a:lnTo>
                    <a:pt x="705" y="51"/>
                  </a:lnTo>
                  <a:lnTo>
                    <a:pt x="686" y="51"/>
                  </a:lnTo>
                  <a:lnTo>
                    <a:pt x="665" y="49"/>
                  </a:lnTo>
                  <a:lnTo>
                    <a:pt x="644" y="49"/>
                  </a:lnTo>
                  <a:lnTo>
                    <a:pt x="623" y="47"/>
                  </a:lnTo>
                  <a:lnTo>
                    <a:pt x="602" y="47"/>
                  </a:lnTo>
                  <a:lnTo>
                    <a:pt x="581" y="47"/>
                  </a:lnTo>
                  <a:lnTo>
                    <a:pt x="562" y="47"/>
                  </a:lnTo>
                  <a:lnTo>
                    <a:pt x="541" y="47"/>
                  </a:lnTo>
                  <a:lnTo>
                    <a:pt x="520" y="47"/>
                  </a:lnTo>
                  <a:lnTo>
                    <a:pt x="500" y="47"/>
                  </a:lnTo>
                  <a:lnTo>
                    <a:pt x="479" y="47"/>
                  </a:lnTo>
                  <a:lnTo>
                    <a:pt x="458" y="47"/>
                  </a:lnTo>
                  <a:lnTo>
                    <a:pt x="439" y="47"/>
                  </a:lnTo>
                  <a:lnTo>
                    <a:pt x="416" y="47"/>
                  </a:lnTo>
                  <a:lnTo>
                    <a:pt x="397" y="49"/>
                  </a:lnTo>
                  <a:lnTo>
                    <a:pt x="376" y="51"/>
                  </a:lnTo>
                  <a:lnTo>
                    <a:pt x="357" y="53"/>
                  </a:lnTo>
                  <a:lnTo>
                    <a:pt x="336" y="53"/>
                  </a:lnTo>
                  <a:lnTo>
                    <a:pt x="315" y="55"/>
                  </a:lnTo>
                  <a:lnTo>
                    <a:pt x="294" y="55"/>
                  </a:lnTo>
                  <a:lnTo>
                    <a:pt x="273" y="57"/>
                  </a:lnTo>
                  <a:lnTo>
                    <a:pt x="252" y="59"/>
                  </a:lnTo>
                  <a:lnTo>
                    <a:pt x="233" y="61"/>
                  </a:lnTo>
                  <a:lnTo>
                    <a:pt x="212" y="63"/>
                  </a:lnTo>
                  <a:lnTo>
                    <a:pt x="193" y="66"/>
                  </a:lnTo>
                  <a:lnTo>
                    <a:pt x="173" y="68"/>
                  </a:lnTo>
                  <a:lnTo>
                    <a:pt x="153" y="70"/>
                  </a:lnTo>
                  <a:lnTo>
                    <a:pt x="133" y="74"/>
                  </a:lnTo>
                  <a:lnTo>
                    <a:pt x="114" y="78"/>
                  </a:lnTo>
                  <a:lnTo>
                    <a:pt x="93" y="82"/>
                  </a:lnTo>
                  <a:lnTo>
                    <a:pt x="74" y="83"/>
                  </a:lnTo>
                  <a:lnTo>
                    <a:pt x="53" y="89"/>
                  </a:lnTo>
                  <a:lnTo>
                    <a:pt x="34" y="93"/>
                  </a:lnTo>
                  <a:lnTo>
                    <a:pt x="28" y="91"/>
                  </a:lnTo>
                  <a:lnTo>
                    <a:pt x="22" y="87"/>
                  </a:lnTo>
                  <a:lnTo>
                    <a:pt x="17" y="85"/>
                  </a:lnTo>
                  <a:lnTo>
                    <a:pt x="15" y="83"/>
                  </a:lnTo>
                  <a:lnTo>
                    <a:pt x="7" y="80"/>
                  </a:lnTo>
                  <a:lnTo>
                    <a:pt x="3" y="76"/>
                  </a:lnTo>
                  <a:lnTo>
                    <a:pt x="0" y="68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15" y="55"/>
                  </a:lnTo>
                  <a:lnTo>
                    <a:pt x="22" y="53"/>
                  </a:lnTo>
                  <a:lnTo>
                    <a:pt x="32" y="51"/>
                  </a:lnTo>
                  <a:lnTo>
                    <a:pt x="39" y="47"/>
                  </a:lnTo>
                  <a:lnTo>
                    <a:pt x="51" y="47"/>
                  </a:lnTo>
                  <a:lnTo>
                    <a:pt x="55" y="45"/>
                  </a:lnTo>
                  <a:lnTo>
                    <a:pt x="62" y="45"/>
                  </a:lnTo>
                  <a:lnTo>
                    <a:pt x="68" y="44"/>
                  </a:lnTo>
                  <a:lnTo>
                    <a:pt x="74" y="44"/>
                  </a:lnTo>
                  <a:lnTo>
                    <a:pt x="79" y="42"/>
                  </a:lnTo>
                  <a:lnTo>
                    <a:pt x="87" y="42"/>
                  </a:lnTo>
                  <a:lnTo>
                    <a:pt x="93" y="40"/>
                  </a:lnTo>
                  <a:lnTo>
                    <a:pt x="98" y="40"/>
                  </a:lnTo>
                  <a:lnTo>
                    <a:pt x="106" y="38"/>
                  </a:lnTo>
                  <a:lnTo>
                    <a:pt x="112" y="38"/>
                  </a:lnTo>
                  <a:lnTo>
                    <a:pt x="119" y="36"/>
                  </a:lnTo>
                  <a:lnTo>
                    <a:pt x="127" y="36"/>
                  </a:lnTo>
                  <a:lnTo>
                    <a:pt x="133" y="36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53" y="34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0" y="32"/>
                  </a:lnTo>
                  <a:lnTo>
                    <a:pt x="186" y="30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5" y="28"/>
                  </a:lnTo>
                  <a:lnTo>
                    <a:pt x="216" y="26"/>
                  </a:lnTo>
                  <a:lnTo>
                    <a:pt x="228" y="26"/>
                  </a:lnTo>
                  <a:lnTo>
                    <a:pt x="237" y="25"/>
                  </a:lnTo>
                  <a:lnTo>
                    <a:pt x="247" y="25"/>
                  </a:lnTo>
                  <a:lnTo>
                    <a:pt x="254" y="23"/>
                  </a:lnTo>
                  <a:lnTo>
                    <a:pt x="262" y="23"/>
                  </a:lnTo>
                  <a:lnTo>
                    <a:pt x="268" y="19"/>
                  </a:lnTo>
                  <a:lnTo>
                    <a:pt x="275" y="17"/>
                  </a:lnTo>
                  <a:lnTo>
                    <a:pt x="281" y="15"/>
                  </a:lnTo>
                  <a:lnTo>
                    <a:pt x="287" y="13"/>
                  </a:lnTo>
                  <a:lnTo>
                    <a:pt x="294" y="11"/>
                  </a:lnTo>
                  <a:lnTo>
                    <a:pt x="302" y="9"/>
                  </a:lnTo>
                  <a:lnTo>
                    <a:pt x="309" y="9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28" y="9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49" y="9"/>
                  </a:lnTo>
                  <a:lnTo>
                    <a:pt x="359" y="9"/>
                  </a:lnTo>
                  <a:lnTo>
                    <a:pt x="365" y="9"/>
                  </a:lnTo>
                  <a:lnTo>
                    <a:pt x="374" y="11"/>
                  </a:lnTo>
                  <a:lnTo>
                    <a:pt x="380" y="11"/>
                  </a:lnTo>
                  <a:lnTo>
                    <a:pt x="387" y="11"/>
                  </a:lnTo>
                  <a:lnTo>
                    <a:pt x="393" y="11"/>
                  </a:lnTo>
                  <a:lnTo>
                    <a:pt x="401" y="11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9" y="9"/>
                  </a:lnTo>
                  <a:lnTo>
                    <a:pt x="435" y="9"/>
                  </a:lnTo>
                  <a:lnTo>
                    <a:pt x="442" y="7"/>
                  </a:lnTo>
                  <a:lnTo>
                    <a:pt x="448" y="7"/>
                  </a:lnTo>
                  <a:lnTo>
                    <a:pt x="456" y="6"/>
                  </a:lnTo>
                  <a:lnTo>
                    <a:pt x="461" y="4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780000" y="1341360"/>
            <a:ext cx="1784160" cy="1092240"/>
            <a:chOff x="3780000" y="1341360"/>
            <a:chExt cx="1784160" cy="1092240"/>
          </a:xfrm>
        </p:grpSpPr>
        <p:sp>
          <p:nvSpPr>
            <p:cNvPr id="326" name=""/>
            <p:cNvSpPr/>
            <p:nvPr/>
          </p:nvSpPr>
          <p:spPr>
            <a:xfrm>
              <a:off x="3780000" y="1341360"/>
              <a:ext cx="1784160" cy="10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32200" y="2060640"/>
              <a:ext cx="1679760" cy="372960"/>
            </a:xfrm>
            <a:custGeom>
              <a:avLst/>
              <a:gdLst/>
              <a:ahLst/>
              <a:rect l="l" t="t" r="r" b="b"/>
              <a:pathLst>
                <a:path w="2114" h="470">
                  <a:moveTo>
                    <a:pt x="2070" y="470"/>
                  </a:moveTo>
                  <a:lnTo>
                    <a:pt x="2078" y="458"/>
                  </a:lnTo>
                  <a:lnTo>
                    <a:pt x="2087" y="446"/>
                  </a:lnTo>
                  <a:lnTo>
                    <a:pt x="2095" y="433"/>
                  </a:lnTo>
                  <a:lnTo>
                    <a:pt x="2101" y="419"/>
                  </a:lnTo>
                  <a:lnTo>
                    <a:pt x="2106" y="405"/>
                  </a:lnTo>
                  <a:lnTo>
                    <a:pt x="2111" y="393"/>
                  </a:lnTo>
                  <a:lnTo>
                    <a:pt x="2113" y="379"/>
                  </a:lnTo>
                  <a:lnTo>
                    <a:pt x="2114" y="366"/>
                  </a:lnTo>
                  <a:lnTo>
                    <a:pt x="2113" y="348"/>
                  </a:lnTo>
                  <a:lnTo>
                    <a:pt x="2108" y="329"/>
                  </a:lnTo>
                  <a:lnTo>
                    <a:pt x="2101" y="311"/>
                  </a:lnTo>
                  <a:lnTo>
                    <a:pt x="2092" y="292"/>
                  </a:lnTo>
                  <a:lnTo>
                    <a:pt x="2081" y="275"/>
                  </a:lnTo>
                  <a:lnTo>
                    <a:pt x="2067" y="258"/>
                  </a:lnTo>
                  <a:lnTo>
                    <a:pt x="2050" y="241"/>
                  </a:lnTo>
                  <a:lnTo>
                    <a:pt x="2031" y="223"/>
                  </a:lnTo>
                  <a:lnTo>
                    <a:pt x="2009" y="207"/>
                  </a:lnTo>
                  <a:lnTo>
                    <a:pt x="1986" y="192"/>
                  </a:lnTo>
                  <a:lnTo>
                    <a:pt x="1961" y="176"/>
                  </a:lnTo>
                  <a:lnTo>
                    <a:pt x="1933" y="161"/>
                  </a:lnTo>
                  <a:lnTo>
                    <a:pt x="1904" y="147"/>
                  </a:lnTo>
                  <a:lnTo>
                    <a:pt x="1872" y="133"/>
                  </a:lnTo>
                  <a:lnTo>
                    <a:pt x="1840" y="120"/>
                  </a:lnTo>
                  <a:lnTo>
                    <a:pt x="1804" y="107"/>
                  </a:lnTo>
                  <a:lnTo>
                    <a:pt x="1767" y="95"/>
                  </a:lnTo>
                  <a:lnTo>
                    <a:pt x="1729" y="84"/>
                  </a:lnTo>
                  <a:lnTo>
                    <a:pt x="1689" y="72"/>
                  </a:lnTo>
                  <a:lnTo>
                    <a:pt x="1649" y="62"/>
                  </a:lnTo>
                  <a:lnTo>
                    <a:pt x="1605" y="53"/>
                  </a:lnTo>
                  <a:lnTo>
                    <a:pt x="1561" y="45"/>
                  </a:lnTo>
                  <a:lnTo>
                    <a:pt x="1515" y="35"/>
                  </a:lnTo>
                  <a:lnTo>
                    <a:pt x="1469" y="29"/>
                  </a:lnTo>
                  <a:lnTo>
                    <a:pt x="1421" y="22"/>
                  </a:lnTo>
                  <a:lnTo>
                    <a:pt x="1372" y="16"/>
                  </a:lnTo>
                  <a:lnTo>
                    <a:pt x="1321" y="11"/>
                  </a:lnTo>
                  <a:lnTo>
                    <a:pt x="1271" y="7"/>
                  </a:lnTo>
                  <a:lnTo>
                    <a:pt x="1219" y="4"/>
                  </a:lnTo>
                  <a:lnTo>
                    <a:pt x="1166" y="2"/>
                  </a:lnTo>
                  <a:lnTo>
                    <a:pt x="1112" y="0"/>
                  </a:lnTo>
                  <a:lnTo>
                    <a:pt x="1058" y="0"/>
                  </a:lnTo>
                  <a:lnTo>
                    <a:pt x="1003" y="0"/>
                  </a:lnTo>
                  <a:lnTo>
                    <a:pt x="949" y="2"/>
                  </a:lnTo>
                  <a:lnTo>
                    <a:pt x="896" y="4"/>
                  </a:lnTo>
                  <a:lnTo>
                    <a:pt x="844" y="7"/>
                  </a:lnTo>
                  <a:lnTo>
                    <a:pt x="794" y="11"/>
                  </a:lnTo>
                  <a:lnTo>
                    <a:pt x="743" y="16"/>
                  </a:lnTo>
                  <a:lnTo>
                    <a:pt x="693" y="22"/>
                  </a:lnTo>
                  <a:lnTo>
                    <a:pt x="646" y="29"/>
                  </a:lnTo>
                  <a:lnTo>
                    <a:pt x="599" y="35"/>
                  </a:lnTo>
                  <a:lnTo>
                    <a:pt x="553" y="45"/>
                  </a:lnTo>
                  <a:lnTo>
                    <a:pt x="509" y="53"/>
                  </a:lnTo>
                  <a:lnTo>
                    <a:pt x="466" y="62"/>
                  </a:lnTo>
                  <a:lnTo>
                    <a:pt x="425" y="72"/>
                  </a:lnTo>
                  <a:lnTo>
                    <a:pt x="385" y="84"/>
                  </a:lnTo>
                  <a:lnTo>
                    <a:pt x="347" y="95"/>
                  </a:lnTo>
                  <a:lnTo>
                    <a:pt x="310" y="107"/>
                  </a:lnTo>
                  <a:lnTo>
                    <a:pt x="274" y="120"/>
                  </a:lnTo>
                  <a:lnTo>
                    <a:pt x="242" y="133"/>
                  </a:lnTo>
                  <a:lnTo>
                    <a:pt x="210" y="147"/>
                  </a:lnTo>
                  <a:lnTo>
                    <a:pt x="181" y="161"/>
                  </a:lnTo>
                  <a:lnTo>
                    <a:pt x="153" y="176"/>
                  </a:lnTo>
                  <a:lnTo>
                    <a:pt x="128" y="192"/>
                  </a:lnTo>
                  <a:lnTo>
                    <a:pt x="105" y="207"/>
                  </a:lnTo>
                  <a:lnTo>
                    <a:pt x="83" y="223"/>
                  </a:lnTo>
                  <a:lnTo>
                    <a:pt x="64" y="241"/>
                  </a:lnTo>
                  <a:lnTo>
                    <a:pt x="47" y="258"/>
                  </a:lnTo>
                  <a:lnTo>
                    <a:pt x="33" y="275"/>
                  </a:lnTo>
                  <a:lnTo>
                    <a:pt x="22" y="292"/>
                  </a:lnTo>
                  <a:lnTo>
                    <a:pt x="13" y="311"/>
                  </a:lnTo>
                  <a:lnTo>
                    <a:pt x="6" y="329"/>
                  </a:lnTo>
                  <a:lnTo>
                    <a:pt x="1" y="348"/>
                  </a:lnTo>
                  <a:lnTo>
                    <a:pt x="0" y="366"/>
                  </a:lnTo>
                  <a:lnTo>
                    <a:pt x="1" y="379"/>
                  </a:lnTo>
                  <a:lnTo>
                    <a:pt x="2" y="391"/>
                  </a:lnTo>
                  <a:lnTo>
                    <a:pt x="6" y="405"/>
                  </a:lnTo>
                  <a:lnTo>
                    <a:pt x="10" y="418"/>
                  </a:lnTo>
                  <a:lnTo>
                    <a:pt x="16" y="431"/>
                  </a:lnTo>
                  <a:lnTo>
                    <a:pt x="23" y="442"/>
                  </a:lnTo>
                  <a:lnTo>
                    <a:pt x="31" y="455"/>
                  </a:lnTo>
                  <a:lnTo>
                    <a:pt x="40" y="466"/>
                  </a:lnTo>
                  <a:lnTo>
                    <a:pt x="2070" y="4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0200" y="1360440"/>
              <a:ext cx="1454400" cy="1069920"/>
            </a:xfrm>
            <a:custGeom>
              <a:avLst/>
              <a:gdLst/>
              <a:ahLst/>
              <a:rect l="l" t="t" r="r" b="b"/>
              <a:pathLst>
                <a:path w="1832" h="1349">
                  <a:moveTo>
                    <a:pt x="1789" y="1035"/>
                  </a:moveTo>
                  <a:lnTo>
                    <a:pt x="1780" y="1033"/>
                  </a:lnTo>
                  <a:lnTo>
                    <a:pt x="1771" y="1032"/>
                  </a:lnTo>
                  <a:lnTo>
                    <a:pt x="1761" y="1029"/>
                  </a:lnTo>
                  <a:lnTo>
                    <a:pt x="1753" y="1025"/>
                  </a:lnTo>
                  <a:lnTo>
                    <a:pt x="1744" y="1023"/>
                  </a:lnTo>
                  <a:lnTo>
                    <a:pt x="1736" y="1021"/>
                  </a:lnTo>
                  <a:lnTo>
                    <a:pt x="1727" y="1022"/>
                  </a:lnTo>
                  <a:lnTo>
                    <a:pt x="1716" y="1024"/>
                  </a:lnTo>
                  <a:lnTo>
                    <a:pt x="1716" y="1053"/>
                  </a:lnTo>
                  <a:lnTo>
                    <a:pt x="1714" y="1082"/>
                  </a:lnTo>
                  <a:lnTo>
                    <a:pt x="1711" y="1111"/>
                  </a:lnTo>
                  <a:lnTo>
                    <a:pt x="1706" y="1139"/>
                  </a:lnTo>
                  <a:lnTo>
                    <a:pt x="1699" y="1167"/>
                  </a:lnTo>
                  <a:lnTo>
                    <a:pt x="1690" y="1194"/>
                  </a:lnTo>
                  <a:lnTo>
                    <a:pt x="1678" y="1219"/>
                  </a:lnTo>
                  <a:lnTo>
                    <a:pt x="1663" y="1243"/>
                  </a:lnTo>
                  <a:lnTo>
                    <a:pt x="1650" y="1251"/>
                  </a:lnTo>
                  <a:lnTo>
                    <a:pt x="1635" y="1259"/>
                  </a:lnTo>
                  <a:lnTo>
                    <a:pt x="1620" y="1266"/>
                  </a:lnTo>
                  <a:lnTo>
                    <a:pt x="1605" y="1272"/>
                  </a:lnTo>
                  <a:lnTo>
                    <a:pt x="1589" y="1278"/>
                  </a:lnTo>
                  <a:lnTo>
                    <a:pt x="1572" y="1284"/>
                  </a:lnTo>
                  <a:lnTo>
                    <a:pt x="1556" y="1288"/>
                  </a:lnTo>
                  <a:lnTo>
                    <a:pt x="1540" y="1293"/>
                  </a:lnTo>
                  <a:lnTo>
                    <a:pt x="1523" y="1296"/>
                  </a:lnTo>
                  <a:lnTo>
                    <a:pt x="1506" y="1301"/>
                  </a:lnTo>
                  <a:lnTo>
                    <a:pt x="1488" y="1304"/>
                  </a:lnTo>
                  <a:lnTo>
                    <a:pt x="1471" y="1308"/>
                  </a:lnTo>
                  <a:lnTo>
                    <a:pt x="1454" y="1311"/>
                  </a:lnTo>
                  <a:lnTo>
                    <a:pt x="1438" y="1315"/>
                  </a:lnTo>
                  <a:lnTo>
                    <a:pt x="1420" y="1318"/>
                  </a:lnTo>
                  <a:lnTo>
                    <a:pt x="1403" y="1322"/>
                  </a:lnTo>
                  <a:lnTo>
                    <a:pt x="1276" y="1334"/>
                  </a:lnTo>
                  <a:lnTo>
                    <a:pt x="1244" y="1337"/>
                  </a:lnTo>
                  <a:lnTo>
                    <a:pt x="1211" y="1339"/>
                  </a:lnTo>
                  <a:lnTo>
                    <a:pt x="1178" y="1340"/>
                  </a:lnTo>
                  <a:lnTo>
                    <a:pt x="1145" y="1342"/>
                  </a:lnTo>
                  <a:lnTo>
                    <a:pt x="1113" y="1343"/>
                  </a:lnTo>
                  <a:lnTo>
                    <a:pt x="1079" y="1346"/>
                  </a:lnTo>
                  <a:lnTo>
                    <a:pt x="1047" y="1347"/>
                  </a:lnTo>
                  <a:lnTo>
                    <a:pt x="1014" y="1348"/>
                  </a:lnTo>
                  <a:lnTo>
                    <a:pt x="980" y="1348"/>
                  </a:lnTo>
                  <a:lnTo>
                    <a:pt x="948" y="1349"/>
                  </a:lnTo>
                  <a:lnTo>
                    <a:pt x="915" y="1349"/>
                  </a:lnTo>
                  <a:lnTo>
                    <a:pt x="881" y="1349"/>
                  </a:lnTo>
                  <a:lnTo>
                    <a:pt x="849" y="1349"/>
                  </a:lnTo>
                  <a:lnTo>
                    <a:pt x="815" y="1348"/>
                  </a:lnTo>
                  <a:lnTo>
                    <a:pt x="782" y="1348"/>
                  </a:lnTo>
                  <a:lnTo>
                    <a:pt x="750" y="1347"/>
                  </a:lnTo>
                  <a:lnTo>
                    <a:pt x="716" y="1345"/>
                  </a:lnTo>
                  <a:lnTo>
                    <a:pt x="684" y="1343"/>
                  </a:lnTo>
                  <a:lnTo>
                    <a:pt x="652" y="1341"/>
                  </a:lnTo>
                  <a:lnTo>
                    <a:pt x="620" y="1339"/>
                  </a:lnTo>
                  <a:lnTo>
                    <a:pt x="587" y="1335"/>
                  </a:lnTo>
                  <a:lnTo>
                    <a:pt x="555" y="1332"/>
                  </a:lnTo>
                  <a:lnTo>
                    <a:pt x="523" y="1328"/>
                  </a:lnTo>
                  <a:lnTo>
                    <a:pt x="490" y="1324"/>
                  </a:lnTo>
                  <a:lnTo>
                    <a:pt x="459" y="1319"/>
                  </a:lnTo>
                  <a:lnTo>
                    <a:pt x="427" y="1315"/>
                  </a:lnTo>
                  <a:lnTo>
                    <a:pt x="396" y="1309"/>
                  </a:lnTo>
                  <a:lnTo>
                    <a:pt x="365" y="1303"/>
                  </a:lnTo>
                  <a:lnTo>
                    <a:pt x="334" y="1296"/>
                  </a:lnTo>
                  <a:lnTo>
                    <a:pt x="304" y="1289"/>
                  </a:lnTo>
                  <a:lnTo>
                    <a:pt x="273" y="1281"/>
                  </a:lnTo>
                  <a:lnTo>
                    <a:pt x="243" y="1273"/>
                  </a:lnTo>
                  <a:lnTo>
                    <a:pt x="159" y="1244"/>
                  </a:lnTo>
                  <a:lnTo>
                    <a:pt x="147" y="1234"/>
                  </a:lnTo>
                  <a:lnTo>
                    <a:pt x="141" y="1221"/>
                  </a:lnTo>
                  <a:lnTo>
                    <a:pt x="138" y="1209"/>
                  </a:lnTo>
                  <a:lnTo>
                    <a:pt x="136" y="1198"/>
                  </a:lnTo>
                  <a:lnTo>
                    <a:pt x="131" y="1169"/>
                  </a:lnTo>
                  <a:lnTo>
                    <a:pt x="124" y="1139"/>
                  </a:lnTo>
                  <a:lnTo>
                    <a:pt x="119" y="1110"/>
                  </a:lnTo>
                  <a:lnTo>
                    <a:pt x="116" y="1078"/>
                  </a:lnTo>
                  <a:lnTo>
                    <a:pt x="106" y="1083"/>
                  </a:lnTo>
                  <a:lnTo>
                    <a:pt x="95" y="1089"/>
                  </a:lnTo>
                  <a:lnTo>
                    <a:pt x="85" y="1096"/>
                  </a:lnTo>
                  <a:lnTo>
                    <a:pt x="73" y="1100"/>
                  </a:lnTo>
                  <a:lnTo>
                    <a:pt x="63" y="1105"/>
                  </a:lnTo>
                  <a:lnTo>
                    <a:pt x="51" y="1106"/>
                  </a:lnTo>
                  <a:lnTo>
                    <a:pt x="39" y="1104"/>
                  </a:lnTo>
                  <a:lnTo>
                    <a:pt x="27" y="1097"/>
                  </a:lnTo>
                  <a:lnTo>
                    <a:pt x="19" y="1085"/>
                  </a:lnTo>
                  <a:lnTo>
                    <a:pt x="13" y="1072"/>
                  </a:lnTo>
                  <a:lnTo>
                    <a:pt x="12" y="1058"/>
                  </a:lnTo>
                  <a:lnTo>
                    <a:pt x="15" y="1044"/>
                  </a:lnTo>
                  <a:lnTo>
                    <a:pt x="40" y="1017"/>
                  </a:lnTo>
                  <a:lnTo>
                    <a:pt x="17" y="1007"/>
                  </a:lnTo>
                  <a:lnTo>
                    <a:pt x="3" y="999"/>
                  </a:lnTo>
                  <a:lnTo>
                    <a:pt x="0" y="985"/>
                  </a:lnTo>
                  <a:lnTo>
                    <a:pt x="1" y="969"/>
                  </a:lnTo>
                  <a:lnTo>
                    <a:pt x="0" y="954"/>
                  </a:lnTo>
                  <a:lnTo>
                    <a:pt x="10" y="945"/>
                  </a:lnTo>
                  <a:lnTo>
                    <a:pt x="22" y="937"/>
                  </a:lnTo>
                  <a:lnTo>
                    <a:pt x="34" y="931"/>
                  </a:lnTo>
                  <a:lnTo>
                    <a:pt x="47" y="925"/>
                  </a:lnTo>
                  <a:lnTo>
                    <a:pt x="61" y="923"/>
                  </a:lnTo>
                  <a:lnTo>
                    <a:pt x="75" y="921"/>
                  </a:lnTo>
                  <a:lnTo>
                    <a:pt x="88" y="921"/>
                  </a:lnTo>
                  <a:lnTo>
                    <a:pt x="102" y="922"/>
                  </a:lnTo>
                  <a:lnTo>
                    <a:pt x="94" y="894"/>
                  </a:lnTo>
                  <a:lnTo>
                    <a:pt x="90" y="863"/>
                  </a:lnTo>
                  <a:lnTo>
                    <a:pt x="91" y="831"/>
                  </a:lnTo>
                  <a:lnTo>
                    <a:pt x="100" y="801"/>
                  </a:lnTo>
                  <a:lnTo>
                    <a:pt x="95" y="785"/>
                  </a:lnTo>
                  <a:lnTo>
                    <a:pt x="93" y="765"/>
                  </a:lnTo>
                  <a:lnTo>
                    <a:pt x="95" y="748"/>
                  </a:lnTo>
                  <a:lnTo>
                    <a:pt x="104" y="733"/>
                  </a:lnTo>
                  <a:lnTo>
                    <a:pt x="95" y="729"/>
                  </a:lnTo>
                  <a:lnTo>
                    <a:pt x="86" y="729"/>
                  </a:lnTo>
                  <a:lnTo>
                    <a:pt x="77" y="730"/>
                  </a:lnTo>
                  <a:lnTo>
                    <a:pt x="68" y="733"/>
                  </a:lnTo>
                  <a:lnTo>
                    <a:pt x="58" y="734"/>
                  </a:lnTo>
                  <a:lnTo>
                    <a:pt x="50" y="734"/>
                  </a:lnTo>
                  <a:lnTo>
                    <a:pt x="42" y="729"/>
                  </a:lnTo>
                  <a:lnTo>
                    <a:pt x="35" y="721"/>
                  </a:lnTo>
                  <a:lnTo>
                    <a:pt x="33" y="704"/>
                  </a:lnTo>
                  <a:lnTo>
                    <a:pt x="34" y="688"/>
                  </a:lnTo>
                  <a:lnTo>
                    <a:pt x="38" y="672"/>
                  </a:lnTo>
                  <a:lnTo>
                    <a:pt x="43" y="657"/>
                  </a:lnTo>
                  <a:lnTo>
                    <a:pt x="50" y="643"/>
                  </a:lnTo>
                  <a:lnTo>
                    <a:pt x="60" y="629"/>
                  </a:lnTo>
                  <a:lnTo>
                    <a:pt x="70" y="615"/>
                  </a:lnTo>
                  <a:lnTo>
                    <a:pt x="81" y="603"/>
                  </a:lnTo>
                  <a:lnTo>
                    <a:pt x="73" y="598"/>
                  </a:lnTo>
                  <a:lnTo>
                    <a:pt x="66" y="593"/>
                  </a:lnTo>
                  <a:lnTo>
                    <a:pt x="60" y="589"/>
                  </a:lnTo>
                  <a:lnTo>
                    <a:pt x="54" y="583"/>
                  </a:lnTo>
                  <a:lnTo>
                    <a:pt x="47" y="578"/>
                  </a:lnTo>
                  <a:lnTo>
                    <a:pt x="41" y="571"/>
                  </a:lnTo>
                  <a:lnTo>
                    <a:pt x="37" y="565"/>
                  </a:lnTo>
                  <a:lnTo>
                    <a:pt x="32" y="558"/>
                  </a:lnTo>
                  <a:lnTo>
                    <a:pt x="34" y="533"/>
                  </a:lnTo>
                  <a:lnTo>
                    <a:pt x="39" y="510"/>
                  </a:lnTo>
                  <a:lnTo>
                    <a:pt x="47" y="487"/>
                  </a:lnTo>
                  <a:lnTo>
                    <a:pt x="56" y="465"/>
                  </a:lnTo>
                  <a:lnTo>
                    <a:pt x="66" y="445"/>
                  </a:lnTo>
                  <a:lnTo>
                    <a:pt x="78" y="423"/>
                  </a:lnTo>
                  <a:lnTo>
                    <a:pt x="90" y="402"/>
                  </a:lnTo>
                  <a:lnTo>
                    <a:pt x="100" y="380"/>
                  </a:lnTo>
                  <a:lnTo>
                    <a:pt x="114" y="361"/>
                  </a:lnTo>
                  <a:lnTo>
                    <a:pt x="126" y="340"/>
                  </a:lnTo>
                  <a:lnTo>
                    <a:pt x="139" y="319"/>
                  </a:lnTo>
                  <a:lnTo>
                    <a:pt x="152" y="298"/>
                  </a:lnTo>
                  <a:lnTo>
                    <a:pt x="164" y="278"/>
                  </a:lnTo>
                  <a:lnTo>
                    <a:pt x="178" y="257"/>
                  </a:lnTo>
                  <a:lnTo>
                    <a:pt x="191" y="236"/>
                  </a:lnTo>
                  <a:lnTo>
                    <a:pt x="205" y="217"/>
                  </a:lnTo>
                  <a:lnTo>
                    <a:pt x="219" y="197"/>
                  </a:lnTo>
                  <a:lnTo>
                    <a:pt x="234" y="179"/>
                  </a:lnTo>
                  <a:lnTo>
                    <a:pt x="250" y="161"/>
                  </a:lnTo>
                  <a:lnTo>
                    <a:pt x="267" y="144"/>
                  </a:lnTo>
                  <a:lnTo>
                    <a:pt x="285" y="129"/>
                  </a:lnTo>
                  <a:lnTo>
                    <a:pt x="304" y="116"/>
                  </a:lnTo>
                  <a:lnTo>
                    <a:pt x="325" y="105"/>
                  </a:lnTo>
                  <a:lnTo>
                    <a:pt x="348" y="95"/>
                  </a:lnTo>
                  <a:lnTo>
                    <a:pt x="361" y="85"/>
                  </a:lnTo>
                  <a:lnTo>
                    <a:pt x="375" y="77"/>
                  </a:lnTo>
                  <a:lnTo>
                    <a:pt x="391" y="70"/>
                  </a:lnTo>
                  <a:lnTo>
                    <a:pt x="408" y="66"/>
                  </a:lnTo>
                  <a:lnTo>
                    <a:pt x="426" y="61"/>
                  </a:lnTo>
                  <a:lnTo>
                    <a:pt x="443" y="59"/>
                  </a:lnTo>
                  <a:lnTo>
                    <a:pt x="462" y="58"/>
                  </a:lnTo>
                  <a:lnTo>
                    <a:pt x="481" y="56"/>
                  </a:lnTo>
                  <a:lnTo>
                    <a:pt x="500" y="56"/>
                  </a:lnTo>
                  <a:lnTo>
                    <a:pt x="519" y="59"/>
                  </a:lnTo>
                  <a:lnTo>
                    <a:pt x="538" y="61"/>
                  </a:lnTo>
                  <a:lnTo>
                    <a:pt x="556" y="63"/>
                  </a:lnTo>
                  <a:lnTo>
                    <a:pt x="575" y="67"/>
                  </a:lnTo>
                  <a:lnTo>
                    <a:pt x="592" y="71"/>
                  </a:lnTo>
                  <a:lnTo>
                    <a:pt x="609" y="76"/>
                  </a:lnTo>
                  <a:lnTo>
                    <a:pt x="625" y="82"/>
                  </a:lnTo>
                  <a:lnTo>
                    <a:pt x="640" y="86"/>
                  </a:lnTo>
                  <a:lnTo>
                    <a:pt x="655" y="91"/>
                  </a:lnTo>
                  <a:lnTo>
                    <a:pt x="670" y="97"/>
                  </a:lnTo>
                  <a:lnTo>
                    <a:pt x="685" y="101"/>
                  </a:lnTo>
                  <a:lnTo>
                    <a:pt x="699" y="108"/>
                  </a:lnTo>
                  <a:lnTo>
                    <a:pt x="714" y="114"/>
                  </a:lnTo>
                  <a:lnTo>
                    <a:pt x="728" y="121"/>
                  </a:lnTo>
                  <a:lnTo>
                    <a:pt x="742" y="129"/>
                  </a:lnTo>
                  <a:lnTo>
                    <a:pt x="758" y="109"/>
                  </a:lnTo>
                  <a:lnTo>
                    <a:pt x="774" y="92"/>
                  </a:lnTo>
                  <a:lnTo>
                    <a:pt x="791" y="75"/>
                  </a:lnTo>
                  <a:lnTo>
                    <a:pt x="810" y="60"/>
                  </a:lnTo>
                  <a:lnTo>
                    <a:pt x="828" y="46"/>
                  </a:lnTo>
                  <a:lnTo>
                    <a:pt x="849" y="35"/>
                  </a:lnTo>
                  <a:lnTo>
                    <a:pt x="870" y="24"/>
                  </a:lnTo>
                  <a:lnTo>
                    <a:pt x="890" y="15"/>
                  </a:lnTo>
                  <a:lnTo>
                    <a:pt x="906" y="10"/>
                  </a:lnTo>
                  <a:lnTo>
                    <a:pt x="923" y="6"/>
                  </a:lnTo>
                  <a:lnTo>
                    <a:pt x="939" y="2"/>
                  </a:lnTo>
                  <a:lnTo>
                    <a:pt x="956" y="0"/>
                  </a:lnTo>
                  <a:lnTo>
                    <a:pt x="973" y="0"/>
                  </a:lnTo>
                  <a:lnTo>
                    <a:pt x="991" y="0"/>
                  </a:lnTo>
                  <a:lnTo>
                    <a:pt x="1008" y="1"/>
                  </a:lnTo>
                  <a:lnTo>
                    <a:pt x="1026" y="3"/>
                  </a:lnTo>
                  <a:lnTo>
                    <a:pt x="1041" y="5"/>
                  </a:lnTo>
                  <a:lnTo>
                    <a:pt x="1056" y="7"/>
                  </a:lnTo>
                  <a:lnTo>
                    <a:pt x="1069" y="10"/>
                  </a:lnTo>
                  <a:lnTo>
                    <a:pt x="1083" y="15"/>
                  </a:lnTo>
                  <a:lnTo>
                    <a:pt x="1095" y="20"/>
                  </a:lnTo>
                  <a:lnTo>
                    <a:pt x="1107" y="27"/>
                  </a:lnTo>
                  <a:lnTo>
                    <a:pt x="1118" y="33"/>
                  </a:lnTo>
                  <a:lnTo>
                    <a:pt x="1130" y="40"/>
                  </a:lnTo>
                  <a:lnTo>
                    <a:pt x="1140" y="48"/>
                  </a:lnTo>
                  <a:lnTo>
                    <a:pt x="1151" y="56"/>
                  </a:lnTo>
                  <a:lnTo>
                    <a:pt x="1161" y="66"/>
                  </a:lnTo>
                  <a:lnTo>
                    <a:pt x="1171" y="74"/>
                  </a:lnTo>
                  <a:lnTo>
                    <a:pt x="1181" y="83"/>
                  </a:lnTo>
                  <a:lnTo>
                    <a:pt x="1191" y="92"/>
                  </a:lnTo>
                  <a:lnTo>
                    <a:pt x="1201" y="101"/>
                  </a:lnTo>
                  <a:lnTo>
                    <a:pt x="1212" y="109"/>
                  </a:lnTo>
                  <a:lnTo>
                    <a:pt x="1223" y="111"/>
                  </a:lnTo>
                  <a:lnTo>
                    <a:pt x="1236" y="112"/>
                  </a:lnTo>
                  <a:lnTo>
                    <a:pt x="1249" y="112"/>
                  </a:lnTo>
                  <a:lnTo>
                    <a:pt x="1261" y="112"/>
                  </a:lnTo>
                  <a:lnTo>
                    <a:pt x="1274" y="112"/>
                  </a:lnTo>
                  <a:lnTo>
                    <a:pt x="1287" y="111"/>
                  </a:lnTo>
                  <a:lnTo>
                    <a:pt x="1301" y="111"/>
                  </a:lnTo>
                  <a:lnTo>
                    <a:pt x="1313" y="111"/>
                  </a:lnTo>
                  <a:lnTo>
                    <a:pt x="1326" y="111"/>
                  </a:lnTo>
                  <a:lnTo>
                    <a:pt x="1339" y="111"/>
                  </a:lnTo>
                  <a:lnTo>
                    <a:pt x="1351" y="112"/>
                  </a:lnTo>
                  <a:lnTo>
                    <a:pt x="1364" y="114"/>
                  </a:lnTo>
                  <a:lnTo>
                    <a:pt x="1375" y="116"/>
                  </a:lnTo>
                  <a:lnTo>
                    <a:pt x="1388" y="120"/>
                  </a:lnTo>
                  <a:lnTo>
                    <a:pt x="1398" y="124"/>
                  </a:lnTo>
                  <a:lnTo>
                    <a:pt x="1410" y="130"/>
                  </a:lnTo>
                  <a:lnTo>
                    <a:pt x="1435" y="139"/>
                  </a:lnTo>
                  <a:lnTo>
                    <a:pt x="1458" y="150"/>
                  </a:lnTo>
                  <a:lnTo>
                    <a:pt x="1481" y="164"/>
                  </a:lnTo>
                  <a:lnTo>
                    <a:pt x="1502" y="179"/>
                  </a:lnTo>
                  <a:lnTo>
                    <a:pt x="1523" y="195"/>
                  </a:lnTo>
                  <a:lnTo>
                    <a:pt x="1541" y="213"/>
                  </a:lnTo>
                  <a:lnTo>
                    <a:pt x="1560" y="233"/>
                  </a:lnTo>
                  <a:lnTo>
                    <a:pt x="1577" y="252"/>
                  </a:lnTo>
                  <a:lnTo>
                    <a:pt x="1593" y="274"/>
                  </a:lnTo>
                  <a:lnTo>
                    <a:pt x="1608" y="296"/>
                  </a:lnTo>
                  <a:lnTo>
                    <a:pt x="1623" y="319"/>
                  </a:lnTo>
                  <a:lnTo>
                    <a:pt x="1637" y="342"/>
                  </a:lnTo>
                  <a:lnTo>
                    <a:pt x="1650" y="365"/>
                  </a:lnTo>
                  <a:lnTo>
                    <a:pt x="1661" y="388"/>
                  </a:lnTo>
                  <a:lnTo>
                    <a:pt x="1673" y="410"/>
                  </a:lnTo>
                  <a:lnTo>
                    <a:pt x="1683" y="433"/>
                  </a:lnTo>
                  <a:lnTo>
                    <a:pt x="1692" y="463"/>
                  </a:lnTo>
                  <a:lnTo>
                    <a:pt x="1701" y="493"/>
                  </a:lnTo>
                  <a:lnTo>
                    <a:pt x="1707" y="524"/>
                  </a:lnTo>
                  <a:lnTo>
                    <a:pt x="1710" y="557"/>
                  </a:lnTo>
                  <a:lnTo>
                    <a:pt x="1704" y="563"/>
                  </a:lnTo>
                  <a:lnTo>
                    <a:pt x="1696" y="568"/>
                  </a:lnTo>
                  <a:lnTo>
                    <a:pt x="1688" y="573"/>
                  </a:lnTo>
                  <a:lnTo>
                    <a:pt x="1678" y="577"/>
                  </a:lnTo>
                  <a:lnTo>
                    <a:pt x="1670" y="581"/>
                  </a:lnTo>
                  <a:lnTo>
                    <a:pt x="1661" y="584"/>
                  </a:lnTo>
                  <a:lnTo>
                    <a:pt x="1653" y="589"/>
                  </a:lnTo>
                  <a:lnTo>
                    <a:pt x="1646" y="595"/>
                  </a:lnTo>
                  <a:lnTo>
                    <a:pt x="1650" y="601"/>
                  </a:lnTo>
                  <a:lnTo>
                    <a:pt x="1657" y="606"/>
                  </a:lnTo>
                  <a:lnTo>
                    <a:pt x="1665" y="611"/>
                  </a:lnTo>
                  <a:lnTo>
                    <a:pt x="1672" y="615"/>
                  </a:lnTo>
                  <a:lnTo>
                    <a:pt x="1692" y="634"/>
                  </a:lnTo>
                  <a:lnTo>
                    <a:pt x="1712" y="653"/>
                  </a:lnTo>
                  <a:lnTo>
                    <a:pt x="1729" y="674"/>
                  </a:lnTo>
                  <a:lnTo>
                    <a:pt x="1745" y="696"/>
                  </a:lnTo>
                  <a:lnTo>
                    <a:pt x="1758" y="719"/>
                  </a:lnTo>
                  <a:lnTo>
                    <a:pt x="1767" y="743"/>
                  </a:lnTo>
                  <a:lnTo>
                    <a:pt x="1772" y="769"/>
                  </a:lnTo>
                  <a:lnTo>
                    <a:pt x="1772" y="796"/>
                  </a:lnTo>
                  <a:lnTo>
                    <a:pt x="1768" y="802"/>
                  </a:lnTo>
                  <a:lnTo>
                    <a:pt x="1763" y="804"/>
                  </a:lnTo>
                  <a:lnTo>
                    <a:pt x="1757" y="804"/>
                  </a:lnTo>
                  <a:lnTo>
                    <a:pt x="1751" y="802"/>
                  </a:lnTo>
                  <a:lnTo>
                    <a:pt x="1751" y="820"/>
                  </a:lnTo>
                  <a:lnTo>
                    <a:pt x="1749" y="839"/>
                  </a:lnTo>
                  <a:lnTo>
                    <a:pt x="1744" y="857"/>
                  </a:lnTo>
                  <a:lnTo>
                    <a:pt x="1737" y="873"/>
                  </a:lnTo>
                  <a:lnTo>
                    <a:pt x="1746" y="872"/>
                  </a:lnTo>
                  <a:lnTo>
                    <a:pt x="1756" y="871"/>
                  </a:lnTo>
                  <a:lnTo>
                    <a:pt x="1766" y="871"/>
                  </a:lnTo>
                  <a:lnTo>
                    <a:pt x="1775" y="870"/>
                  </a:lnTo>
                  <a:lnTo>
                    <a:pt x="1784" y="871"/>
                  </a:lnTo>
                  <a:lnTo>
                    <a:pt x="1794" y="871"/>
                  </a:lnTo>
                  <a:lnTo>
                    <a:pt x="1803" y="873"/>
                  </a:lnTo>
                  <a:lnTo>
                    <a:pt x="1812" y="877"/>
                  </a:lnTo>
                  <a:lnTo>
                    <a:pt x="1822" y="885"/>
                  </a:lnTo>
                  <a:lnTo>
                    <a:pt x="1829" y="896"/>
                  </a:lnTo>
                  <a:lnTo>
                    <a:pt x="1832" y="909"/>
                  </a:lnTo>
                  <a:lnTo>
                    <a:pt x="1828" y="922"/>
                  </a:lnTo>
                  <a:lnTo>
                    <a:pt x="1825" y="934"/>
                  </a:lnTo>
                  <a:lnTo>
                    <a:pt x="1817" y="945"/>
                  </a:lnTo>
                  <a:lnTo>
                    <a:pt x="1809" y="955"/>
                  </a:lnTo>
                  <a:lnTo>
                    <a:pt x="1802" y="964"/>
                  </a:lnTo>
                  <a:lnTo>
                    <a:pt x="1807" y="977"/>
                  </a:lnTo>
                  <a:lnTo>
                    <a:pt x="1813" y="990"/>
                  </a:lnTo>
                  <a:lnTo>
                    <a:pt x="1818" y="1002"/>
                  </a:lnTo>
                  <a:lnTo>
                    <a:pt x="1818" y="1015"/>
                  </a:lnTo>
                  <a:lnTo>
                    <a:pt x="1810" y="1032"/>
                  </a:lnTo>
                  <a:lnTo>
                    <a:pt x="1789" y="10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6920" y="1374840"/>
              <a:ext cx="1306440" cy="415800"/>
            </a:xfrm>
            <a:custGeom>
              <a:avLst/>
              <a:gdLst/>
              <a:ahLst/>
              <a:rect l="l" t="t" r="r" b="b"/>
              <a:pathLst>
                <a:path w="1644" h="526">
                  <a:moveTo>
                    <a:pt x="944" y="0"/>
                  </a:moveTo>
                  <a:lnTo>
                    <a:pt x="961" y="2"/>
                  </a:lnTo>
                  <a:lnTo>
                    <a:pt x="978" y="4"/>
                  </a:lnTo>
                  <a:lnTo>
                    <a:pt x="995" y="7"/>
                  </a:lnTo>
                  <a:lnTo>
                    <a:pt x="1013" y="11"/>
                  </a:lnTo>
                  <a:lnTo>
                    <a:pt x="1030" y="17"/>
                  </a:lnTo>
                  <a:lnTo>
                    <a:pt x="1046" y="22"/>
                  </a:lnTo>
                  <a:lnTo>
                    <a:pt x="1062" y="29"/>
                  </a:lnTo>
                  <a:lnTo>
                    <a:pt x="1078" y="36"/>
                  </a:lnTo>
                  <a:lnTo>
                    <a:pt x="1093" y="48"/>
                  </a:lnTo>
                  <a:lnTo>
                    <a:pt x="1107" y="59"/>
                  </a:lnTo>
                  <a:lnTo>
                    <a:pt x="1121" y="72"/>
                  </a:lnTo>
                  <a:lnTo>
                    <a:pt x="1135" y="85"/>
                  </a:lnTo>
                  <a:lnTo>
                    <a:pt x="1149" y="98"/>
                  </a:lnTo>
                  <a:lnTo>
                    <a:pt x="1161" y="111"/>
                  </a:lnTo>
                  <a:lnTo>
                    <a:pt x="1174" y="124"/>
                  </a:lnTo>
                  <a:lnTo>
                    <a:pt x="1188" y="136"/>
                  </a:lnTo>
                  <a:lnTo>
                    <a:pt x="1202" y="148"/>
                  </a:lnTo>
                  <a:lnTo>
                    <a:pt x="1215" y="159"/>
                  </a:lnTo>
                  <a:lnTo>
                    <a:pt x="1229" y="169"/>
                  </a:lnTo>
                  <a:lnTo>
                    <a:pt x="1244" y="178"/>
                  </a:lnTo>
                  <a:lnTo>
                    <a:pt x="1260" y="186"/>
                  </a:lnTo>
                  <a:lnTo>
                    <a:pt x="1277" y="192"/>
                  </a:lnTo>
                  <a:lnTo>
                    <a:pt x="1295" y="195"/>
                  </a:lnTo>
                  <a:lnTo>
                    <a:pt x="1313" y="197"/>
                  </a:lnTo>
                  <a:lnTo>
                    <a:pt x="1317" y="191"/>
                  </a:lnTo>
                  <a:lnTo>
                    <a:pt x="1316" y="186"/>
                  </a:lnTo>
                  <a:lnTo>
                    <a:pt x="1312" y="183"/>
                  </a:lnTo>
                  <a:lnTo>
                    <a:pt x="1308" y="179"/>
                  </a:lnTo>
                  <a:lnTo>
                    <a:pt x="1301" y="177"/>
                  </a:lnTo>
                  <a:lnTo>
                    <a:pt x="1295" y="174"/>
                  </a:lnTo>
                  <a:lnTo>
                    <a:pt x="1289" y="172"/>
                  </a:lnTo>
                  <a:lnTo>
                    <a:pt x="1285" y="168"/>
                  </a:lnTo>
                  <a:lnTo>
                    <a:pt x="1273" y="157"/>
                  </a:lnTo>
                  <a:lnTo>
                    <a:pt x="1260" y="150"/>
                  </a:lnTo>
                  <a:lnTo>
                    <a:pt x="1248" y="144"/>
                  </a:lnTo>
                  <a:lnTo>
                    <a:pt x="1234" y="140"/>
                  </a:lnTo>
                  <a:lnTo>
                    <a:pt x="1220" y="135"/>
                  </a:lnTo>
                  <a:lnTo>
                    <a:pt x="1207" y="130"/>
                  </a:lnTo>
                  <a:lnTo>
                    <a:pt x="1195" y="121"/>
                  </a:lnTo>
                  <a:lnTo>
                    <a:pt x="1184" y="109"/>
                  </a:lnTo>
                  <a:lnTo>
                    <a:pt x="1198" y="109"/>
                  </a:lnTo>
                  <a:lnTo>
                    <a:pt x="1211" y="108"/>
                  </a:lnTo>
                  <a:lnTo>
                    <a:pt x="1225" y="108"/>
                  </a:lnTo>
                  <a:lnTo>
                    <a:pt x="1239" y="108"/>
                  </a:lnTo>
                  <a:lnTo>
                    <a:pt x="1251" y="108"/>
                  </a:lnTo>
                  <a:lnTo>
                    <a:pt x="1265" y="109"/>
                  </a:lnTo>
                  <a:lnTo>
                    <a:pt x="1278" y="110"/>
                  </a:lnTo>
                  <a:lnTo>
                    <a:pt x="1290" y="111"/>
                  </a:lnTo>
                  <a:lnTo>
                    <a:pt x="1303" y="112"/>
                  </a:lnTo>
                  <a:lnTo>
                    <a:pt x="1316" y="115"/>
                  </a:lnTo>
                  <a:lnTo>
                    <a:pt x="1328" y="118"/>
                  </a:lnTo>
                  <a:lnTo>
                    <a:pt x="1341" y="121"/>
                  </a:lnTo>
                  <a:lnTo>
                    <a:pt x="1354" y="126"/>
                  </a:lnTo>
                  <a:lnTo>
                    <a:pt x="1365" y="131"/>
                  </a:lnTo>
                  <a:lnTo>
                    <a:pt x="1377" y="136"/>
                  </a:lnTo>
                  <a:lnTo>
                    <a:pt x="1388" y="143"/>
                  </a:lnTo>
                  <a:lnTo>
                    <a:pt x="1410" y="153"/>
                  </a:lnTo>
                  <a:lnTo>
                    <a:pt x="1431" y="164"/>
                  </a:lnTo>
                  <a:lnTo>
                    <a:pt x="1451" y="177"/>
                  </a:lnTo>
                  <a:lnTo>
                    <a:pt x="1468" y="192"/>
                  </a:lnTo>
                  <a:lnTo>
                    <a:pt x="1485" y="208"/>
                  </a:lnTo>
                  <a:lnTo>
                    <a:pt x="1501" y="224"/>
                  </a:lnTo>
                  <a:lnTo>
                    <a:pt x="1516" y="242"/>
                  </a:lnTo>
                  <a:lnTo>
                    <a:pt x="1530" y="261"/>
                  </a:lnTo>
                  <a:lnTo>
                    <a:pt x="1544" y="280"/>
                  </a:lnTo>
                  <a:lnTo>
                    <a:pt x="1557" y="300"/>
                  </a:lnTo>
                  <a:lnTo>
                    <a:pt x="1568" y="321"/>
                  </a:lnTo>
                  <a:lnTo>
                    <a:pt x="1580" y="340"/>
                  </a:lnTo>
                  <a:lnTo>
                    <a:pt x="1590" y="361"/>
                  </a:lnTo>
                  <a:lnTo>
                    <a:pt x="1600" y="382"/>
                  </a:lnTo>
                  <a:lnTo>
                    <a:pt x="1611" y="401"/>
                  </a:lnTo>
                  <a:lnTo>
                    <a:pt x="1621" y="421"/>
                  </a:lnTo>
                  <a:lnTo>
                    <a:pt x="1628" y="445"/>
                  </a:lnTo>
                  <a:lnTo>
                    <a:pt x="1635" y="469"/>
                  </a:lnTo>
                  <a:lnTo>
                    <a:pt x="1642" y="495"/>
                  </a:lnTo>
                  <a:lnTo>
                    <a:pt x="1644" y="521"/>
                  </a:lnTo>
                  <a:lnTo>
                    <a:pt x="1625" y="512"/>
                  </a:lnTo>
                  <a:lnTo>
                    <a:pt x="1605" y="504"/>
                  </a:lnTo>
                  <a:lnTo>
                    <a:pt x="1585" y="497"/>
                  </a:lnTo>
                  <a:lnTo>
                    <a:pt x="1565" y="489"/>
                  </a:lnTo>
                  <a:lnTo>
                    <a:pt x="1545" y="483"/>
                  </a:lnTo>
                  <a:lnTo>
                    <a:pt x="1524" y="476"/>
                  </a:lnTo>
                  <a:lnTo>
                    <a:pt x="1504" y="472"/>
                  </a:lnTo>
                  <a:lnTo>
                    <a:pt x="1483" y="466"/>
                  </a:lnTo>
                  <a:lnTo>
                    <a:pt x="1462" y="461"/>
                  </a:lnTo>
                  <a:lnTo>
                    <a:pt x="1440" y="457"/>
                  </a:lnTo>
                  <a:lnTo>
                    <a:pt x="1419" y="453"/>
                  </a:lnTo>
                  <a:lnTo>
                    <a:pt x="1398" y="450"/>
                  </a:lnTo>
                  <a:lnTo>
                    <a:pt x="1376" y="446"/>
                  </a:lnTo>
                  <a:lnTo>
                    <a:pt x="1354" y="443"/>
                  </a:lnTo>
                  <a:lnTo>
                    <a:pt x="1332" y="441"/>
                  </a:lnTo>
                  <a:lnTo>
                    <a:pt x="1310" y="438"/>
                  </a:lnTo>
                  <a:lnTo>
                    <a:pt x="1302" y="437"/>
                  </a:lnTo>
                  <a:lnTo>
                    <a:pt x="1294" y="435"/>
                  </a:lnTo>
                  <a:lnTo>
                    <a:pt x="1287" y="431"/>
                  </a:lnTo>
                  <a:lnTo>
                    <a:pt x="1280" y="427"/>
                  </a:lnTo>
                  <a:lnTo>
                    <a:pt x="1273" y="422"/>
                  </a:lnTo>
                  <a:lnTo>
                    <a:pt x="1266" y="419"/>
                  </a:lnTo>
                  <a:lnTo>
                    <a:pt x="1259" y="414"/>
                  </a:lnTo>
                  <a:lnTo>
                    <a:pt x="1252" y="411"/>
                  </a:lnTo>
                  <a:lnTo>
                    <a:pt x="1250" y="405"/>
                  </a:lnTo>
                  <a:lnTo>
                    <a:pt x="1250" y="398"/>
                  </a:lnTo>
                  <a:lnTo>
                    <a:pt x="1249" y="392"/>
                  </a:lnTo>
                  <a:lnTo>
                    <a:pt x="1244" y="389"/>
                  </a:lnTo>
                  <a:lnTo>
                    <a:pt x="1237" y="390"/>
                  </a:lnTo>
                  <a:lnTo>
                    <a:pt x="1234" y="395"/>
                  </a:lnTo>
                  <a:lnTo>
                    <a:pt x="1230" y="399"/>
                  </a:lnTo>
                  <a:lnTo>
                    <a:pt x="1228" y="406"/>
                  </a:lnTo>
                  <a:lnTo>
                    <a:pt x="1226" y="413"/>
                  </a:lnTo>
                  <a:lnTo>
                    <a:pt x="1222" y="418"/>
                  </a:lnTo>
                  <a:lnTo>
                    <a:pt x="1218" y="422"/>
                  </a:lnTo>
                  <a:lnTo>
                    <a:pt x="1210" y="423"/>
                  </a:lnTo>
                  <a:lnTo>
                    <a:pt x="1195" y="423"/>
                  </a:lnTo>
                  <a:lnTo>
                    <a:pt x="1181" y="423"/>
                  </a:lnTo>
                  <a:lnTo>
                    <a:pt x="1167" y="422"/>
                  </a:lnTo>
                  <a:lnTo>
                    <a:pt x="1152" y="422"/>
                  </a:lnTo>
                  <a:lnTo>
                    <a:pt x="1138" y="421"/>
                  </a:lnTo>
                  <a:lnTo>
                    <a:pt x="1123" y="421"/>
                  </a:lnTo>
                  <a:lnTo>
                    <a:pt x="1109" y="420"/>
                  </a:lnTo>
                  <a:lnTo>
                    <a:pt x="1096" y="420"/>
                  </a:lnTo>
                  <a:lnTo>
                    <a:pt x="1081" y="419"/>
                  </a:lnTo>
                  <a:lnTo>
                    <a:pt x="1067" y="419"/>
                  </a:lnTo>
                  <a:lnTo>
                    <a:pt x="1053" y="418"/>
                  </a:lnTo>
                  <a:lnTo>
                    <a:pt x="1039" y="416"/>
                  </a:lnTo>
                  <a:lnTo>
                    <a:pt x="1025" y="415"/>
                  </a:lnTo>
                  <a:lnTo>
                    <a:pt x="1010" y="414"/>
                  </a:lnTo>
                  <a:lnTo>
                    <a:pt x="997" y="413"/>
                  </a:lnTo>
                  <a:lnTo>
                    <a:pt x="983" y="412"/>
                  </a:lnTo>
                  <a:lnTo>
                    <a:pt x="965" y="401"/>
                  </a:lnTo>
                  <a:lnTo>
                    <a:pt x="968" y="400"/>
                  </a:lnTo>
                  <a:lnTo>
                    <a:pt x="968" y="398"/>
                  </a:lnTo>
                  <a:lnTo>
                    <a:pt x="968" y="396"/>
                  </a:lnTo>
                  <a:lnTo>
                    <a:pt x="968" y="393"/>
                  </a:lnTo>
                  <a:lnTo>
                    <a:pt x="964" y="391"/>
                  </a:lnTo>
                  <a:lnTo>
                    <a:pt x="962" y="388"/>
                  </a:lnTo>
                  <a:lnTo>
                    <a:pt x="959" y="385"/>
                  </a:lnTo>
                  <a:lnTo>
                    <a:pt x="955" y="385"/>
                  </a:lnTo>
                  <a:lnTo>
                    <a:pt x="952" y="400"/>
                  </a:lnTo>
                  <a:lnTo>
                    <a:pt x="944" y="409"/>
                  </a:lnTo>
                  <a:lnTo>
                    <a:pt x="932" y="413"/>
                  </a:lnTo>
                  <a:lnTo>
                    <a:pt x="918" y="414"/>
                  </a:lnTo>
                  <a:lnTo>
                    <a:pt x="903" y="413"/>
                  </a:lnTo>
                  <a:lnTo>
                    <a:pt x="888" y="412"/>
                  </a:lnTo>
                  <a:lnTo>
                    <a:pt x="873" y="412"/>
                  </a:lnTo>
                  <a:lnTo>
                    <a:pt x="861" y="415"/>
                  </a:lnTo>
                  <a:lnTo>
                    <a:pt x="835" y="418"/>
                  </a:lnTo>
                  <a:lnTo>
                    <a:pt x="809" y="419"/>
                  </a:lnTo>
                  <a:lnTo>
                    <a:pt x="783" y="421"/>
                  </a:lnTo>
                  <a:lnTo>
                    <a:pt x="757" y="422"/>
                  </a:lnTo>
                  <a:lnTo>
                    <a:pt x="732" y="423"/>
                  </a:lnTo>
                  <a:lnTo>
                    <a:pt x="705" y="423"/>
                  </a:lnTo>
                  <a:lnTo>
                    <a:pt x="680" y="424"/>
                  </a:lnTo>
                  <a:lnTo>
                    <a:pt x="653" y="424"/>
                  </a:lnTo>
                  <a:lnTo>
                    <a:pt x="627" y="424"/>
                  </a:lnTo>
                  <a:lnTo>
                    <a:pt x="601" y="424"/>
                  </a:lnTo>
                  <a:lnTo>
                    <a:pt x="575" y="426"/>
                  </a:lnTo>
                  <a:lnTo>
                    <a:pt x="548" y="426"/>
                  </a:lnTo>
                  <a:lnTo>
                    <a:pt x="523" y="426"/>
                  </a:lnTo>
                  <a:lnTo>
                    <a:pt x="496" y="426"/>
                  </a:lnTo>
                  <a:lnTo>
                    <a:pt x="471" y="427"/>
                  </a:lnTo>
                  <a:lnTo>
                    <a:pt x="445" y="427"/>
                  </a:lnTo>
                  <a:lnTo>
                    <a:pt x="429" y="429"/>
                  </a:lnTo>
                  <a:lnTo>
                    <a:pt x="411" y="433"/>
                  </a:lnTo>
                  <a:lnTo>
                    <a:pt x="395" y="435"/>
                  </a:lnTo>
                  <a:lnTo>
                    <a:pt x="379" y="437"/>
                  </a:lnTo>
                  <a:lnTo>
                    <a:pt x="363" y="439"/>
                  </a:lnTo>
                  <a:lnTo>
                    <a:pt x="346" y="442"/>
                  </a:lnTo>
                  <a:lnTo>
                    <a:pt x="329" y="443"/>
                  </a:lnTo>
                  <a:lnTo>
                    <a:pt x="313" y="445"/>
                  </a:lnTo>
                  <a:lnTo>
                    <a:pt x="296" y="447"/>
                  </a:lnTo>
                  <a:lnTo>
                    <a:pt x="280" y="450"/>
                  </a:lnTo>
                  <a:lnTo>
                    <a:pt x="263" y="451"/>
                  </a:lnTo>
                  <a:lnTo>
                    <a:pt x="246" y="453"/>
                  </a:lnTo>
                  <a:lnTo>
                    <a:pt x="230" y="456"/>
                  </a:lnTo>
                  <a:lnTo>
                    <a:pt x="214" y="457"/>
                  </a:lnTo>
                  <a:lnTo>
                    <a:pt x="197" y="459"/>
                  </a:lnTo>
                  <a:lnTo>
                    <a:pt x="181" y="461"/>
                  </a:lnTo>
                  <a:lnTo>
                    <a:pt x="184" y="452"/>
                  </a:lnTo>
                  <a:lnTo>
                    <a:pt x="182" y="445"/>
                  </a:lnTo>
                  <a:lnTo>
                    <a:pt x="178" y="439"/>
                  </a:lnTo>
                  <a:lnTo>
                    <a:pt x="172" y="435"/>
                  </a:lnTo>
                  <a:lnTo>
                    <a:pt x="165" y="431"/>
                  </a:lnTo>
                  <a:lnTo>
                    <a:pt x="159" y="426"/>
                  </a:lnTo>
                  <a:lnTo>
                    <a:pt x="154" y="420"/>
                  </a:lnTo>
                  <a:lnTo>
                    <a:pt x="153" y="412"/>
                  </a:lnTo>
                  <a:lnTo>
                    <a:pt x="150" y="409"/>
                  </a:lnTo>
                  <a:lnTo>
                    <a:pt x="146" y="408"/>
                  </a:lnTo>
                  <a:lnTo>
                    <a:pt x="142" y="408"/>
                  </a:lnTo>
                  <a:lnTo>
                    <a:pt x="138" y="408"/>
                  </a:lnTo>
                  <a:lnTo>
                    <a:pt x="135" y="415"/>
                  </a:lnTo>
                  <a:lnTo>
                    <a:pt x="135" y="423"/>
                  </a:lnTo>
                  <a:lnTo>
                    <a:pt x="137" y="431"/>
                  </a:lnTo>
                  <a:lnTo>
                    <a:pt x="140" y="438"/>
                  </a:lnTo>
                  <a:lnTo>
                    <a:pt x="150" y="443"/>
                  </a:lnTo>
                  <a:lnTo>
                    <a:pt x="154" y="452"/>
                  </a:lnTo>
                  <a:lnTo>
                    <a:pt x="154" y="462"/>
                  </a:lnTo>
                  <a:lnTo>
                    <a:pt x="154" y="474"/>
                  </a:lnTo>
                  <a:lnTo>
                    <a:pt x="135" y="480"/>
                  </a:lnTo>
                  <a:lnTo>
                    <a:pt x="115" y="487"/>
                  </a:lnTo>
                  <a:lnTo>
                    <a:pt x="96" y="494"/>
                  </a:lnTo>
                  <a:lnTo>
                    <a:pt x="76" y="499"/>
                  </a:lnTo>
                  <a:lnTo>
                    <a:pt x="56" y="506"/>
                  </a:lnTo>
                  <a:lnTo>
                    <a:pt x="37" y="513"/>
                  </a:lnTo>
                  <a:lnTo>
                    <a:pt x="18" y="520"/>
                  </a:lnTo>
                  <a:lnTo>
                    <a:pt x="0" y="526"/>
                  </a:lnTo>
                  <a:lnTo>
                    <a:pt x="7" y="505"/>
                  </a:lnTo>
                  <a:lnTo>
                    <a:pt x="15" y="482"/>
                  </a:lnTo>
                  <a:lnTo>
                    <a:pt x="26" y="457"/>
                  </a:lnTo>
                  <a:lnTo>
                    <a:pt x="38" y="430"/>
                  </a:lnTo>
                  <a:lnTo>
                    <a:pt x="53" y="403"/>
                  </a:lnTo>
                  <a:lnTo>
                    <a:pt x="68" y="375"/>
                  </a:lnTo>
                  <a:lnTo>
                    <a:pt x="84" y="346"/>
                  </a:lnTo>
                  <a:lnTo>
                    <a:pt x="101" y="318"/>
                  </a:lnTo>
                  <a:lnTo>
                    <a:pt x="117" y="291"/>
                  </a:lnTo>
                  <a:lnTo>
                    <a:pt x="135" y="264"/>
                  </a:lnTo>
                  <a:lnTo>
                    <a:pt x="152" y="239"/>
                  </a:lnTo>
                  <a:lnTo>
                    <a:pt x="169" y="216"/>
                  </a:lnTo>
                  <a:lnTo>
                    <a:pt x="185" y="194"/>
                  </a:lnTo>
                  <a:lnTo>
                    <a:pt x="200" y="176"/>
                  </a:lnTo>
                  <a:lnTo>
                    <a:pt x="213" y="159"/>
                  </a:lnTo>
                  <a:lnTo>
                    <a:pt x="226" y="147"/>
                  </a:lnTo>
                  <a:lnTo>
                    <a:pt x="245" y="132"/>
                  </a:lnTo>
                  <a:lnTo>
                    <a:pt x="267" y="119"/>
                  </a:lnTo>
                  <a:lnTo>
                    <a:pt x="289" y="108"/>
                  </a:lnTo>
                  <a:lnTo>
                    <a:pt x="312" y="96"/>
                  </a:lnTo>
                  <a:lnTo>
                    <a:pt x="335" y="87"/>
                  </a:lnTo>
                  <a:lnTo>
                    <a:pt x="358" y="78"/>
                  </a:lnTo>
                  <a:lnTo>
                    <a:pt x="380" y="70"/>
                  </a:lnTo>
                  <a:lnTo>
                    <a:pt x="402" y="62"/>
                  </a:lnTo>
                  <a:lnTo>
                    <a:pt x="424" y="59"/>
                  </a:lnTo>
                  <a:lnTo>
                    <a:pt x="445" y="59"/>
                  </a:lnTo>
                  <a:lnTo>
                    <a:pt x="465" y="60"/>
                  </a:lnTo>
                  <a:lnTo>
                    <a:pt x="486" y="62"/>
                  </a:lnTo>
                  <a:lnTo>
                    <a:pt x="507" y="65"/>
                  </a:lnTo>
                  <a:lnTo>
                    <a:pt x="528" y="67"/>
                  </a:lnTo>
                  <a:lnTo>
                    <a:pt x="548" y="71"/>
                  </a:lnTo>
                  <a:lnTo>
                    <a:pt x="570" y="74"/>
                  </a:lnTo>
                  <a:lnTo>
                    <a:pt x="582" y="79"/>
                  </a:lnTo>
                  <a:lnTo>
                    <a:pt x="591" y="81"/>
                  </a:lnTo>
                  <a:lnTo>
                    <a:pt x="598" y="83"/>
                  </a:lnTo>
                  <a:lnTo>
                    <a:pt x="604" y="87"/>
                  </a:lnTo>
                  <a:lnTo>
                    <a:pt x="679" y="124"/>
                  </a:lnTo>
                  <a:lnTo>
                    <a:pt x="677" y="143"/>
                  </a:lnTo>
                  <a:lnTo>
                    <a:pt x="669" y="158"/>
                  </a:lnTo>
                  <a:lnTo>
                    <a:pt x="656" y="170"/>
                  </a:lnTo>
                  <a:lnTo>
                    <a:pt x="641" y="180"/>
                  </a:lnTo>
                  <a:lnTo>
                    <a:pt x="626" y="191"/>
                  </a:lnTo>
                  <a:lnTo>
                    <a:pt x="612" y="201"/>
                  </a:lnTo>
                  <a:lnTo>
                    <a:pt x="601" y="216"/>
                  </a:lnTo>
                  <a:lnTo>
                    <a:pt x="598" y="234"/>
                  </a:lnTo>
                  <a:lnTo>
                    <a:pt x="601" y="242"/>
                  </a:lnTo>
                  <a:lnTo>
                    <a:pt x="607" y="249"/>
                  </a:lnTo>
                  <a:lnTo>
                    <a:pt x="614" y="256"/>
                  </a:lnTo>
                  <a:lnTo>
                    <a:pt x="620" y="263"/>
                  </a:lnTo>
                  <a:lnTo>
                    <a:pt x="626" y="270"/>
                  </a:lnTo>
                  <a:lnTo>
                    <a:pt x="629" y="278"/>
                  </a:lnTo>
                  <a:lnTo>
                    <a:pt x="630" y="286"/>
                  </a:lnTo>
                  <a:lnTo>
                    <a:pt x="627" y="295"/>
                  </a:lnTo>
                  <a:lnTo>
                    <a:pt x="621" y="302"/>
                  </a:lnTo>
                  <a:lnTo>
                    <a:pt x="615" y="308"/>
                  </a:lnTo>
                  <a:lnTo>
                    <a:pt x="611" y="315"/>
                  </a:lnTo>
                  <a:lnTo>
                    <a:pt x="608" y="323"/>
                  </a:lnTo>
                  <a:lnTo>
                    <a:pt x="614" y="330"/>
                  </a:lnTo>
                  <a:lnTo>
                    <a:pt x="623" y="322"/>
                  </a:lnTo>
                  <a:lnTo>
                    <a:pt x="634" y="314"/>
                  </a:lnTo>
                  <a:lnTo>
                    <a:pt x="644" y="306"/>
                  </a:lnTo>
                  <a:lnTo>
                    <a:pt x="654" y="298"/>
                  </a:lnTo>
                  <a:lnTo>
                    <a:pt x="662" y="289"/>
                  </a:lnTo>
                  <a:lnTo>
                    <a:pt x="668" y="278"/>
                  </a:lnTo>
                  <a:lnTo>
                    <a:pt x="668" y="267"/>
                  </a:lnTo>
                  <a:lnTo>
                    <a:pt x="665" y="253"/>
                  </a:lnTo>
                  <a:lnTo>
                    <a:pt x="660" y="248"/>
                  </a:lnTo>
                  <a:lnTo>
                    <a:pt x="656" y="242"/>
                  </a:lnTo>
                  <a:lnTo>
                    <a:pt x="652" y="237"/>
                  </a:lnTo>
                  <a:lnTo>
                    <a:pt x="654" y="230"/>
                  </a:lnTo>
                  <a:lnTo>
                    <a:pt x="669" y="218"/>
                  </a:lnTo>
                  <a:lnTo>
                    <a:pt x="683" y="207"/>
                  </a:lnTo>
                  <a:lnTo>
                    <a:pt x="695" y="194"/>
                  </a:lnTo>
                  <a:lnTo>
                    <a:pt x="704" y="179"/>
                  </a:lnTo>
                  <a:lnTo>
                    <a:pt x="711" y="164"/>
                  </a:lnTo>
                  <a:lnTo>
                    <a:pt x="717" y="148"/>
                  </a:lnTo>
                  <a:lnTo>
                    <a:pt x="720" y="131"/>
                  </a:lnTo>
                  <a:lnTo>
                    <a:pt x="721" y="112"/>
                  </a:lnTo>
                  <a:lnTo>
                    <a:pt x="726" y="103"/>
                  </a:lnTo>
                  <a:lnTo>
                    <a:pt x="732" y="93"/>
                  </a:lnTo>
                  <a:lnTo>
                    <a:pt x="738" y="85"/>
                  </a:lnTo>
                  <a:lnTo>
                    <a:pt x="748" y="75"/>
                  </a:lnTo>
                  <a:lnTo>
                    <a:pt x="757" y="67"/>
                  </a:lnTo>
                  <a:lnTo>
                    <a:pt x="767" y="60"/>
                  </a:lnTo>
                  <a:lnTo>
                    <a:pt x="778" y="53"/>
                  </a:lnTo>
                  <a:lnTo>
                    <a:pt x="787" y="47"/>
                  </a:lnTo>
                  <a:lnTo>
                    <a:pt x="804" y="35"/>
                  </a:lnTo>
                  <a:lnTo>
                    <a:pt x="821" y="25"/>
                  </a:lnTo>
                  <a:lnTo>
                    <a:pt x="841" y="17"/>
                  </a:lnTo>
                  <a:lnTo>
                    <a:pt x="861" y="11"/>
                  </a:lnTo>
                  <a:lnTo>
                    <a:pt x="880" y="6"/>
                  </a:lnTo>
                  <a:lnTo>
                    <a:pt x="901" y="3"/>
                  </a:lnTo>
                  <a:lnTo>
                    <a:pt x="922" y="0"/>
                  </a:lnTo>
                  <a:lnTo>
                    <a:pt x="9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2320" y="1407960"/>
              <a:ext cx="58680" cy="367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2" y="21"/>
                  </a:moveTo>
                  <a:lnTo>
                    <a:pt x="74" y="29"/>
                  </a:lnTo>
                  <a:lnTo>
                    <a:pt x="72" y="36"/>
                  </a:lnTo>
                  <a:lnTo>
                    <a:pt x="65" y="43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45" y="46"/>
                  </a:lnTo>
                  <a:lnTo>
                    <a:pt x="40" y="46"/>
                  </a:lnTo>
                  <a:lnTo>
                    <a:pt x="34" y="45"/>
                  </a:lnTo>
                  <a:lnTo>
                    <a:pt x="28" y="44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3" y="38"/>
                  </a:lnTo>
                  <a:lnTo>
                    <a:pt x="7" y="35"/>
                  </a:lnTo>
                  <a:lnTo>
                    <a:pt x="3" y="28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3" y="5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8" y="15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16720" y="1422360"/>
              <a:ext cx="31680" cy="11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8"/>
                  </a:moveTo>
                  <a:lnTo>
                    <a:pt x="34" y="11"/>
                  </a:lnTo>
                  <a:lnTo>
                    <a:pt x="29" y="12"/>
                  </a:lnTo>
                  <a:lnTo>
                    <a:pt x="24" y="12"/>
                  </a:lnTo>
                  <a:lnTo>
                    <a:pt x="19" y="11"/>
                  </a:lnTo>
                  <a:lnTo>
                    <a:pt x="15" y="9"/>
                  </a:lnTo>
                  <a:lnTo>
                    <a:pt x="10" y="6"/>
                  </a:lnTo>
                  <a:lnTo>
                    <a:pt x="4" y="5"/>
                  </a:lnTo>
                  <a:lnTo>
                    <a:pt x="0" y="4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7" y="5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31040" y="1436760"/>
              <a:ext cx="53640" cy="4752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68" y="14"/>
                  </a:moveTo>
                  <a:lnTo>
                    <a:pt x="66" y="22"/>
                  </a:lnTo>
                  <a:lnTo>
                    <a:pt x="64" y="30"/>
                  </a:lnTo>
                  <a:lnTo>
                    <a:pt x="61" y="37"/>
                  </a:lnTo>
                  <a:lnTo>
                    <a:pt x="56" y="44"/>
                  </a:lnTo>
                  <a:lnTo>
                    <a:pt x="50" y="49"/>
                  </a:lnTo>
                  <a:lnTo>
                    <a:pt x="43" y="54"/>
                  </a:lnTo>
                  <a:lnTo>
                    <a:pt x="36" y="57"/>
                  </a:lnTo>
                  <a:lnTo>
                    <a:pt x="30" y="61"/>
                  </a:lnTo>
                  <a:lnTo>
                    <a:pt x="20" y="61"/>
                  </a:lnTo>
                  <a:lnTo>
                    <a:pt x="12" y="60"/>
                  </a:lnTo>
                  <a:lnTo>
                    <a:pt x="5" y="56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5" y="29"/>
                  </a:lnTo>
                  <a:lnTo>
                    <a:pt x="10" y="22"/>
                  </a:lnTo>
                  <a:lnTo>
                    <a:pt x="16" y="16"/>
                  </a:lnTo>
                  <a:lnTo>
                    <a:pt x="21" y="10"/>
                  </a:lnTo>
                  <a:lnTo>
                    <a:pt x="27" y="6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4" y="3"/>
                  </a:lnTo>
                  <a:lnTo>
                    <a:pt x="66" y="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43640" y="1450800"/>
              <a:ext cx="2844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4" y="0"/>
                  </a:moveTo>
                  <a:lnTo>
                    <a:pt x="31" y="9"/>
                  </a:lnTo>
                  <a:lnTo>
                    <a:pt x="25" y="19"/>
                  </a:lnTo>
                  <a:lnTo>
                    <a:pt x="18" y="25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9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4920" y="1461960"/>
              <a:ext cx="63720" cy="3816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79" y="29"/>
                  </a:moveTo>
                  <a:lnTo>
                    <a:pt x="78" y="36"/>
                  </a:lnTo>
                  <a:lnTo>
                    <a:pt x="74" y="40"/>
                  </a:lnTo>
                  <a:lnTo>
                    <a:pt x="70" y="45"/>
                  </a:lnTo>
                  <a:lnTo>
                    <a:pt x="64" y="48"/>
                  </a:lnTo>
                  <a:lnTo>
                    <a:pt x="55" y="48"/>
                  </a:lnTo>
                  <a:lnTo>
                    <a:pt x="46" y="48"/>
                  </a:lnTo>
                  <a:lnTo>
                    <a:pt x="38" y="47"/>
                  </a:lnTo>
                  <a:lnTo>
                    <a:pt x="30" y="45"/>
                  </a:lnTo>
                  <a:lnTo>
                    <a:pt x="21" y="43"/>
                  </a:lnTo>
                  <a:lnTo>
                    <a:pt x="15" y="39"/>
                  </a:lnTo>
                  <a:lnTo>
                    <a:pt x="8" y="35"/>
                  </a:lnTo>
                  <a:lnTo>
                    <a:pt x="2" y="29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7" y="4"/>
                  </a:lnTo>
                  <a:lnTo>
                    <a:pt x="55" y="6"/>
                  </a:lnTo>
                  <a:lnTo>
                    <a:pt x="62" y="10"/>
                  </a:lnTo>
                  <a:lnTo>
                    <a:pt x="68" y="16"/>
                  </a:lnTo>
                  <a:lnTo>
                    <a:pt x="73" y="22"/>
                  </a:lnTo>
                  <a:lnTo>
                    <a:pt x="7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19680" y="1461960"/>
              <a:ext cx="54000" cy="4608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68" y="38"/>
                  </a:moveTo>
                  <a:lnTo>
                    <a:pt x="68" y="45"/>
                  </a:lnTo>
                  <a:lnTo>
                    <a:pt x="65" y="52"/>
                  </a:lnTo>
                  <a:lnTo>
                    <a:pt x="60" y="57"/>
                  </a:lnTo>
                  <a:lnTo>
                    <a:pt x="53" y="59"/>
                  </a:lnTo>
                  <a:lnTo>
                    <a:pt x="45" y="58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3" y="51"/>
                  </a:lnTo>
                  <a:lnTo>
                    <a:pt x="16" y="46"/>
                  </a:lnTo>
                  <a:lnTo>
                    <a:pt x="9" y="42"/>
                  </a:lnTo>
                  <a:lnTo>
                    <a:pt x="5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9" y="5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48" y="9"/>
                  </a:lnTo>
                  <a:lnTo>
                    <a:pt x="54" y="16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6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7880" y="1473120"/>
              <a:ext cx="34920" cy="144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2" y="15"/>
                  </a:moveTo>
                  <a:lnTo>
                    <a:pt x="39" y="16"/>
                  </a:lnTo>
                  <a:lnTo>
                    <a:pt x="33" y="17"/>
                  </a:lnTo>
                  <a:lnTo>
                    <a:pt x="28" y="17"/>
                  </a:lnTo>
                  <a:lnTo>
                    <a:pt x="22" y="16"/>
                  </a:lnTo>
                  <a:lnTo>
                    <a:pt x="16" y="15"/>
                  </a:lnTo>
                  <a:lnTo>
                    <a:pt x="10" y="13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5"/>
                  </a:lnTo>
                  <a:lnTo>
                    <a:pt x="39" y="9"/>
                  </a:lnTo>
                  <a:lnTo>
                    <a:pt x="4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32640" y="1474920"/>
              <a:ext cx="27000" cy="205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27"/>
                  </a:moveTo>
                  <a:lnTo>
                    <a:pt x="30" y="27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5" y="21"/>
                  </a:lnTo>
                  <a:lnTo>
                    <a:pt x="10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5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6" y="5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31" y="16"/>
                  </a:lnTo>
                  <a:lnTo>
                    <a:pt x="36" y="20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59520" y="1481040"/>
              <a:ext cx="52200" cy="54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5" y="12"/>
                  </a:moveTo>
                  <a:lnTo>
                    <a:pt x="67" y="20"/>
                  </a:lnTo>
                  <a:lnTo>
                    <a:pt x="65" y="28"/>
                  </a:lnTo>
                  <a:lnTo>
                    <a:pt x="63" y="35"/>
                  </a:lnTo>
                  <a:lnTo>
                    <a:pt x="59" y="42"/>
                  </a:lnTo>
                  <a:lnTo>
                    <a:pt x="53" y="48"/>
                  </a:lnTo>
                  <a:lnTo>
                    <a:pt x="47" y="53"/>
                  </a:lnTo>
                  <a:lnTo>
                    <a:pt x="40" y="58"/>
                  </a:lnTo>
                  <a:lnTo>
                    <a:pt x="33" y="62"/>
                  </a:lnTo>
                  <a:lnTo>
                    <a:pt x="26" y="66"/>
                  </a:lnTo>
                  <a:lnTo>
                    <a:pt x="19" y="68"/>
                  </a:lnTo>
                  <a:lnTo>
                    <a:pt x="12" y="68"/>
                  </a:lnTo>
                  <a:lnTo>
                    <a:pt x="6" y="62"/>
                  </a:lnTo>
                  <a:lnTo>
                    <a:pt x="1" y="58"/>
                  </a:lnTo>
                  <a:lnTo>
                    <a:pt x="0" y="51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6" y="31"/>
                  </a:lnTo>
                  <a:lnTo>
                    <a:pt x="10" y="26"/>
                  </a:lnTo>
                  <a:lnTo>
                    <a:pt x="15" y="20"/>
                  </a:lnTo>
                  <a:lnTo>
                    <a:pt x="19" y="15"/>
                  </a:lnTo>
                  <a:lnTo>
                    <a:pt x="24" y="9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6" y="3"/>
                  </a:lnTo>
                  <a:lnTo>
                    <a:pt x="62" y="6"/>
                  </a:lnTo>
                  <a:lnTo>
                    <a:pt x="6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37280" y="1481040"/>
              <a:ext cx="58680" cy="44640"/>
            </a:xfrm>
            <a:custGeom>
              <a:avLst/>
              <a:gdLst/>
              <a:ahLst/>
              <a:rect l="l" t="t" r="r" b="b"/>
              <a:pathLst>
                <a:path w="74" h="57">
                  <a:moveTo>
                    <a:pt x="62" y="14"/>
                  </a:moveTo>
                  <a:lnTo>
                    <a:pt x="67" y="20"/>
                  </a:lnTo>
                  <a:lnTo>
                    <a:pt x="71" y="27"/>
                  </a:lnTo>
                  <a:lnTo>
                    <a:pt x="74" y="34"/>
                  </a:lnTo>
                  <a:lnTo>
                    <a:pt x="71" y="42"/>
                  </a:lnTo>
                  <a:lnTo>
                    <a:pt x="67" y="46"/>
                  </a:lnTo>
                  <a:lnTo>
                    <a:pt x="62" y="50"/>
                  </a:lnTo>
                  <a:lnTo>
                    <a:pt x="56" y="53"/>
                  </a:lnTo>
                  <a:lnTo>
                    <a:pt x="51" y="54"/>
                  </a:lnTo>
                  <a:lnTo>
                    <a:pt x="45" y="56"/>
                  </a:lnTo>
                  <a:lnTo>
                    <a:pt x="39" y="57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18" y="50"/>
                  </a:lnTo>
                  <a:lnTo>
                    <a:pt x="11" y="44"/>
                  </a:lnTo>
                  <a:lnTo>
                    <a:pt x="6" y="37"/>
                  </a:lnTo>
                  <a:lnTo>
                    <a:pt x="1" y="29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9" y="5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6" y="5"/>
                  </a:lnTo>
                  <a:lnTo>
                    <a:pt x="52" y="7"/>
                  </a:lnTo>
                  <a:lnTo>
                    <a:pt x="57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53120" y="1495440"/>
              <a:ext cx="30240" cy="172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5"/>
                  </a:moveTo>
                  <a:lnTo>
                    <a:pt x="31" y="19"/>
                  </a:lnTo>
                  <a:lnTo>
                    <a:pt x="22" y="21"/>
                  </a:lnTo>
                  <a:lnTo>
                    <a:pt x="14" y="20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1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5" y="11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73560" y="1495440"/>
              <a:ext cx="2376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9" y="10"/>
                  </a:lnTo>
                  <a:lnTo>
                    <a:pt x="23" y="18"/>
                  </a:lnTo>
                  <a:lnTo>
                    <a:pt x="15" y="25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5" y="20"/>
                  </a:lnTo>
                  <a:lnTo>
                    <a:pt x="12" y="10"/>
                  </a:lnTo>
                  <a:lnTo>
                    <a:pt x="21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38960" y="1498680"/>
              <a:ext cx="50760" cy="4752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15"/>
                  </a:moveTo>
                  <a:lnTo>
                    <a:pt x="63" y="22"/>
                  </a:lnTo>
                  <a:lnTo>
                    <a:pt x="61" y="29"/>
                  </a:lnTo>
                  <a:lnTo>
                    <a:pt x="58" y="36"/>
                  </a:lnTo>
                  <a:lnTo>
                    <a:pt x="52" y="42"/>
                  </a:lnTo>
                  <a:lnTo>
                    <a:pt x="46" y="46"/>
                  </a:lnTo>
                  <a:lnTo>
                    <a:pt x="40" y="51"/>
                  </a:lnTo>
                  <a:lnTo>
                    <a:pt x="33" y="54"/>
                  </a:lnTo>
                  <a:lnTo>
                    <a:pt x="28" y="58"/>
                  </a:lnTo>
                  <a:lnTo>
                    <a:pt x="20" y="60"/>
                  </a:lnTo>
                  <a:lnTo>
                    <a:pt x="10" y="59"/>
                  </a:lnTo>
                  <a:lnTo>
                    <a:pt x="3" y="55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5" y="29"/>
                  </a:lnTo>
                  <a:lnTo>
                    <a:pt x="9" y="21"/>
                  </a:lnTo>
                  <a:lnTo>
                    <a:pt x="16" y="13"/>
                  </a:lnTo>
                  <a:lnTo>
                    <a:pt x="22" y="11"/>
                  </a:lnTo>
                  <a:lnTo>
                    <a:pt x="28" y="7"/>
                  </a:lnTo>
                  <a:lnTo>
                    <a:pt x="36" y="4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1" y="7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48280" y="1508040"/>
              <a:ext cx="50760" cy="61920"/>
            </a:xfrm>
            <a:custGeom>
              <a:avLst/>
              <a:gdLst/>
              <a:ahLst/>
              <a:rect l="l" t="t" r="r" b="b"/>
              <a:pathLst>
                <a:path w="65" h="77">
                  <a:moveTo>
                    <a:pt x="65" y="17"/>
                  </a:moveTo>
                  <a:lnTo>
                    <a:pt x="64" y="26"/>
                  </a:lnTo>
                  <a:lnTo>
                    <a:pt x="61" y="36"/>
                  </a:lnTo>
                  <a:lnTo>
                    <a:pt x="58" y="45"/>
                  </a:lnTo>
                  <a:lnTo>
                    <a:pt x="53" y="53"/>
                  </a:lnTo>
                  <a:lnTo>
                    <a:pt x="48" y="60"/>
                  </a:lnTo>
                  <a:lnTo>
                    <a:pt x="41" y="67"/>
                  </a:lnTo>
                  <a:lnTo>
                    <a:pt x="33" y="72"/>
                  </a:lnTo>
                  <a:lnTo>
                    <a:pt x="25" y="77"/>
                  </a:lnTo>
                  <a:lnTo>
                    <a:pt x="16" y="76"/>
                  </a:lnTo>
                  <a:lnTo>
                    <a:pt x="11" y="71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5" y="41"/>
                  </a:lnTo>
                  <a:lnTo>
                    <a:pt x="10" y="32"/>
                  </a:lnTo>
                  <a:lnTo>
                    <a:pt x="14" y="24"/>
                  </a:lnTo>
                  <a:lnTo>
                    <a:pt x="21" y="16"/>
                  </a:lnTo>
                  <a:lnTo>
                    <a:pt x="28" y="9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8" y="4"/>
                  </a:lnTo>
                  <a:lnTo>
                    <a:pt x="61" y="10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54800" y="1511280"/>
              <a:ext cx="19080" cy="205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28"/>
                  </a:moveTo>
                  <a:lnTo>
                    <a:pt x="0" y="23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8" y="6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19" y="17"/>
                  </a:lnTo>
                  <a:lnTo>
                    <a:pt x="9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2680" y="1522440"/>
              <a:ext cx="2520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0"/>
                  </a:moveTo>
                  <a:lnTo>
                    <a:pt x="31" y="14"/>
                  </a:lnTo>
                  <a:lnTo>
                    <a:pt x="25" y="25"/>
                  </a:lnTo>
                  <a:lnTo>
                    <a:pt x="16" y="3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4" y="21"/>
                  </a:lnTo>
                  <a:lnTo>
                    <a:pt x="8" y="14"/>
                  </a:lnTo>
                  <a:lnTo>
                    <a:pt x="15" y="6"/>
                  </a:lnTo>
                  <a:lnTo>
                    <a:pt x="22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35760" y="1547640"/>
              <a:ext cx="47520" cy="540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60" y="11"/>
                  </a:moveTo>
                  <a:lnTo>
                    <a:pt x="59" y="20"/>
                  </a:lnTo>
                  <a:lnTo>
                    <a:pt x="56" y="29"/>
                  </a:lnTo>
                  <a:lnTo>
                    <a:pt x="52" y="37"/>
                  </a:lnTo>
                  <a:lnTo>
                    <a:pt x="47" y="45"/>
                  </a:lnTo>
                  <a:lnTo>
                    <a:pt x="41" y="53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12" y="68"/>
                  </a:lnTo>
                  <a:lnTo>
                    <a:pt x="8" y="67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49"/>
                  </a:lnTo>
                  <a:lnTo>
                    <a:pt x="2" y="38"/>
                  </a:lnTo>
                  <a:lnTo>
                    <a:pt x="7" y="29"/>
                  </a:lnTo>
                  <a:lnTo>
                    <a:pt x="12" y="20"/>
                  </a:lnTo>
                  <a:lnTo>
                    <a:pt x="21" y="14"/>
                  </a:lnTo>
                  <a:lnTo>
                    <a:pt x="27" y="7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7" y="6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03800" y="1549440"/>
              <a:ext cx="4608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9"/>
                  </a:moveTo>
                  <a:lnTo>
                    <a:pt x="60" y="21"/>
                  </a:lnTo>
                  <a:lnTo>
                    <a:pt x="59" y="32"/>
                  </a:lnTo>
                  <a:lnTo>
                    <a:pt x="54" y="42"/>
                  </a:lnTo>
                  <a:lnTo>
                    <a:pt x="47" y="51"/>
                  </a:lnTo>
                  <a:lnTo>
                    <a:pt x="43" y="55"/>
                  </a:lnTo>
                  <a:lnTo>
                    <a:pt x="38" y="57"/>
                  </a:lnTo>
                  <a:lnTo>
                    <a:pt x="33" y="59"/>
                  </a:lnTo>
                  <a:lnTo>
                    <a:pt x="29" y="62"/>
                  </a:lnTo>
                  <a:lnTo>
                    <a:pt x="24" y="63"/>
                  </a:lnTo>
                  <a:lnTo>
                    <a:pt x="19" y="64"/>
                  </a:lnTo>
                  <a:lnTo>
                    <a:pt x="14" y="63"/>
                  </a:lnTo>
                  <a:lnTo>
                    <a:pt x="8" y="62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7" y="28"/>
                  </a:lnTo>
                  <a:lnTo>
                    <a:pt x="12" y="19"/>
                  </a:lnTo>
                  <a:lnTo>
                    <a:pt x="19" y="11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5" y="3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1600" y="156384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9"/>
                  </a:moveTo>
                  <a:lnTo>
                    <a:pt x="0" y="24"/>
                  </a:lnTo>
                  <a:lnTo>
                    <a:pt x="3" y="17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20" y="7"/>
                  </a:lnTo>
                  <a:lnTo>
                    <a:pt x="15" y="15"/>
                  </a:lnTo>
                  <a:lnTo>
                    <a:pt x="8" y="2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18200" y="1563840"/>
              <a:ext cx="19080" cy="21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22" y="8"/>
                  </a:lnTo>
                  <a:lnTo>
                    <a:pt x="18" y="16"/>
                  </a:lnTo>
                  <a:lnTo>
                    <a:pt x="12" y="22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7" y="10"/>
                  </a:lnTo>
                  <a:lnTo>
                    <a:pt x="1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78520" y="1565280"/>
              <a:ext cx="42840" cy="41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5" y="15"/>
                  </a:moveTo>
                  <a:lnTo>
                    <a:pt x="53" y="27"/>
                  </a:lnTo>
                  <a:lnTo>
                    <a:pt x="48" y="37"/>
                  </a:lnTo>
                  <a:lnTo>
                    <a:pt x="40" y="47"/>
                  </a:lnTo>
                  <a:lnTo>
                    <a:pt x="31" y="53"/>
                  </a:lnTo>
                  <a:lnTo>
                    <a:pt x="21" y="53"/>
                  </a:lnTo>
                  <a:lnTo>
                    <a:pt x="12" y="52"/>
                  </a:lnTo>
                  <a:lnTo>
                    <a:pt x="5" y="46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7" y="16"/>
                  </a:lnTo>
                  <a:lnTo>
                    <a:pt x="14" y="8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0" y="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16440" y="1576440"/>
              <a:ext cx="57240" cy="4752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15"/>
                  </a:moveTo>
                  <a:lnTo>
                    <a:pt x="72" y="22"/>
                  </a:lnTo>
                  <a:lnTo>
                    <a:pt x="68" y="29"/>
                  </a:lnTo>
                  <a:lnTo>
                    <a:pt x="65" y="35"/>
                  </a:lnTo>
                  <a:lnTo>
                    <a:pt x="60" y="39"/>
                  </a:lnTo>
                  <a:lnTo>
                    <a:pt x="55" y="44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7" y="55"/>
                  </a:lnTo>
                  <a:lnTo>
                    <a:pt x="33" y="55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20" y="59"/>
                  </a:lnTo>
                  <a:lnTo>
                    <a:pt x="15" y="60"/>
                  </a:lnTo>
                  <a:lnTo>
                    <a:pt x="11" y="59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45"/>
                  </a:lnTo>
                  <a:lnTo>
                    <a:pt x="3" y="35"/>
                  </a:lnTo>
                  <a:lnTo>
                    <a:pt x="9" y="25"/>
                  </a:lnTo>
                  <a:lnTo>
                    <a:pt x="15" y="17"/>
                  </a:lnTo>
                  <a:lnTo>
                    <a:pt x="22" y="12"/>
                  </a:lnTo>
                  <a:lnTo>
                    <a:pt x="29" y="7"/>
                  </a:lnTo>
                  <a:lnTo>
                    <a:pt x="37" y="4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2" y="1"/>
                  </a:lnTo>
                  <a:lnTo>
                    <a:pt x="68" y="7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91120" y="1577880"/>
              <a:ext cx="17640" cy="17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3" y="3"/>
                  </a:moveTo>
                  <a:lnTo>
                    <a:pt x="20" y="8"/>
                  </a:lnTo>
                  <a:lnTo>
                    <a:pt x="16" y="15"/>
                  </a:lnTo>
                  <a:lnTo>
                    <a:pt x="11" y="20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4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37200" y="1585800"/>
              <a:ext cx="38160" cy="4932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8" y="30"/>
                  </a:moveTo>
                  <a:lnTo>
                    <a:pt x="48" y="38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3" y="60"/>
                  </a:lnTo>
                  <a:lnTo>
                    <a:pt x="36" y="61"/>
                  </a:lnTo>
                  <a:lnTo>
                    <a:pt x="30" y="61"/>
                  </a:lnTo>
                  <a:lnTo>
                    <a:pt x="23" y="59"/>
                  </a:lnTo>
                  <a:lnTo>
                    <a:pt x="17" y="55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6" y="10"/>
                  </a:lnTo>
                  <a:lnTo>
                    <a:pt x="40" y="16"/>
                  </a:lnTo>
                  <a:lnTo>
                    <a:pt x="45" y="23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29400" y="1589040"/>
              <a:ext cx="28440" cy="205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5" y="1"/>
                  </a:moveTo>
                  <a:lnTo>
                    <a:pt x="33" y="7"/>
                  </a:lnTo>
                  <a:lnTo>
                    <a:pt x="31" y="12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7" y="22"/>
                  </a:lnTo>
                  <a:lnTo>
                    <a:pt x="11" y="24"/>
                  </a:lnTo>
                  <a:lnTo>
                    <a:pt x="6" y="26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46920" y="1600200"/>
              <a:ext cx="15840" cy="237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15"/>
                  </a:moveTo>
                  <a:lnTo>
                    <a:pt x="19" y="30"/>
                  </a:lnTo>
                  <a:lnTo>
                    <a:pt x="11" y="24"/>
                  </a:lnTo>
                  <a:lnTo>
                    <a:pt x="6" y="16"/>
                  </a:lnTo>
                  <a:lnTo>
                    <a:pt x="3" y="8"/>
                  </a:lnTo>
                  <a:lnTo>
                    <a:pt x="0" y="0"/>
                  </a:lnTo>
                  <a:lnTo>
                    <a:pt x="6" y="1"/>
                  </a:lnTo>
                  <a:lnTo>
                    <a:pt x="11" y="5"/>
                  </a:lnTo>
                  <a:lnTo>
                    <a:pt x="16" y="9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02200" y="1611360"/>
              <a:ext cx="47520" cy="5868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59" y="17"/>
                  </a:moveTo>
                  <a:lnTo>
                    <a:pt x="57" y="26"/>
                  </a:lnTo>
                  <a:lnTo>
                    <a:pt x="55" y="34"/>
                  </a:lnTo>
                  <a:lnTo>
                    <a:pt x="52" y="43"/>
                  </a:lnTo>
                  <a:lnTo>
                    <a:pt x="48" y="51"/>
                  </a:lnTo>
                  <a:lnTo>
                    <a:pt x="44" y="59"/>
                  </a:lnTo>
                  <a:lnTo>
                    <a:pt x="38" y="64"/>
                  </a:lnTo>
                  <a:lnTo>
                    <a:pt x="31" y="70"/>
                  </a:lnTo>
                  <a:lnTo>
                    <a:pt x="23" y="74"/>
                  </a:lnTo>
                  <a:lnTo>
                    <a:pt x="15" y="72"/>
                  </a:lnTo>
                  <a:lnTo>
                    <a:pt x="8" y="69"/>
                  </a:lnTo>
                  <a:lnTo>
                    <a:pt x="2" y="63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20" y="9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52" y="3"/>
                  </a:lnTo>
                  <a:lnTo>
                    <a:pt x="56" y="9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19840" y="1628640"/>
              <a:ext cx="936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32"/>
                  </a:moveTo>
                  <a:lnTo>
                    <a:pt x="0" y="25"/>
                  </a:lnTo>
                  <a:lnTo>
                    <a:pt x="2" y="17"/>
                  </a:lnTo>
                  <a:lnTo>
                    <a:pt x="6" y="8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12" y="17"/>
                  </a:lnTo>
                  <a:lnTo>
                    <a:pt x="9" y="25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21360" y="1633680"/>
              <a:ext cx="41400" cy="5364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51" y="25"/>
                  </a:moveTo>
                  <a:lnTo>
                    <a:pt x="53" y="37"/>
                  </a:lnTo>
                  <a:lnTo>
                    <a:pt x="52" y="48"/>
                  </a:lnTo>
                  <a:lnTo>
                    <a:pt x="50" y="60"/>
                  </a:lnTo>
                  <a:lnTo>
                    <a:pt x="43" y="68"/>
                  </a:lnTo>
                  <a:lnTo>
                    <a:pt x="37" y="68"/>
                  </a:lnTo>
                  <a:lnTo>
                    <a:pt x="30" y="65"/>
                  </a:lnTo>
                  <a:lnTo>
                    <a:pt x="26" y="63"/>
                  </a:lnTo>
                  <a:lnTo>
                    <a:pt x="20" y="58"/>
                  </a:lnTo>
                  <a:lnTo>
                    <a:pt x="15" y="54"/>
                  </a:lnTo>
                  <a:lnTo>
                    <a:pt x="12" y="49"/>
                  </a:lnTo>
                  <a:lnTo>
                    <a:pt x="8" y="43"/>
                  </a:lnTo>
                  <a:lnTo>
                    <a:pt x="6" y="38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2" y="5"/>
                  </a:lnTo>
                  <a:lnTo>
                    <a:pt x="37" y="10"/>
                  </a:lnTo>
                  <a:lnTo>
                    <a:pt x="43" y="15"/>
                  </a:lnTo>
                  <a:lnTo>
                    <a:pt x="46" y="19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29280" y="1647720"/>
              <a:ext cx="19080" cy="2880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4" y="13"/>
                  </a:moveTo>
                  <a:lnTo>
                    <a:pt x="24" y="36"/>
                  </a:lnTo>
                  <a:lnTo>
                    <a:pt x="15" y="29"/>
                  </a:lnTo>
                  <a:lnTo>
                    <a:pt x="8" y="20"/>
                  </a:lnTo>
                  <a:lnTo>
                    <a:pt x="3" y="10"/>
                  </a:lnTo>
                  <a:lnTo>
                    <a:pt x="0" y="0"/>
                  </a:lnTo>
                  <a:lnTo>
                    <a:pt x="7" y="1"/>
                  </a:lnTo>
                  <a:lnTo>
                    <a:pt x="14" y="5"/>
                  </a:lnTo>
                  <a:lnTo>
                    <a:pt x="19" y="8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70440" y="1724040"/>
              <a:ext cx="347760" cy="52200"/>
            </a:xfrm>
            <a:custGeom>
              <a:avLst/>
              <a:gdLst/>
              <a:ahLst/>
              <a:rect l="l" t="t" r="r" b="b"/>
              <a:pathLst>
                <a:path w="437" h="66">
                  <a:moveTo>
                    <a:pt x="326" y="40"/>
                  </a:moveTo>
                  <a:lnTo>
                    <a:pt x="341" y="42"/>
                  </a:lnTo>
                  <a:lnTo>
                    <a:pt x="354" y="45"/>
                  </a:lnTo>
                  <a:lnTo>
                    <a:pt x="369" y="48"/>
                  </a:lnTo>
                  <a:lnTo>
                    <a:pt x="383" y="51"/>
                  </a:lnTo>
                  <a:lnTo>
                    <a:pt x="396" y="55"/>
                  </a:lnTo>
                  <a:lnTo>
                    <a:pt x="410" y="59"/>
                  </a:lnTo>
                  <a:lnTo>
                    <a:pt x="424" y="63"/>
                  </a:lnTo>
                  <a:lnTo>
                    <a:pt x="437" y="66"/>
                  </a:lnTo>
                  <a:lnTo>
                    <a:pt x="411" y="64"/>
                  </a:lnTo>
                  <a:lnTo>
                    <a:pt x="383" y="62"/>
                  </a:lnTo>
                  <a:lnTo>
                    <a:pt x="356" y="59"/>
                  </a:lnTo>
                  <a:lnTo>
                    <a:pt x="328" y="58"/>
                  </a:lnTo>
                  <a:lnTo>
                    <a:pt x="300" y="56"/>
                  </a:lnTo>
                  <a:lnTo>
                    <a:pt x="273" y="54"/>
                  </a:lnTo>
                  <a:lnTo>
                    <a:pt x="244" y="51"/>
                  </a:lnTo>
                  <a:lnTo>
                    <a:pt x="216" y="48"/>
                  </a:lnTo>
                  <a:lnTo>
                    <a:pt x="189" y="46"/>
                  </a:lnTo>
                  <a:lnTo>
                    <a:pt x="161" y="42"/>
                  </a:lnTo>
                  <a:lnTo>
                    <a:pt x="133" y="39"/>
                  </a:lnTo>
                  <a:lnTo>
                    <a:pt x="106" y="34"/>
                  </a:lnTo>
                  <a:lnTo>
                    <a:pt x="79" y="30"/>
                  </a:lnTo>
                  <a:lnTo>
                    <a:pt x="51" y="24"/>
                  </a:lnTo>
                  <a:lnTo>
                    <a:pt x="26" y="1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2" y="6"/>
                  </a:lnTo>
                  <a:lnTo>
                    <a:pt x="40" y="12"/>
                  </a:lnTo>
                  <a:lnTo>
                    <a:pt x="60" y="17"/>
                  </a:lnTo>
                  <a:lnTo>
                    <a:pt x="79" y="21"/>
                  </a:lnTo>
                  <a:lnTo>
                    <a:pt x="99" y="26"/>
                  </a:lnTo>
                  <a:lnTo>
                    <a:pt x="119" y="30"/>
                  </a:lnTo>
                  <a:lnTo>
                    <a:pt x="140" y="32"/>
                  </a:lnTo>
                  <a:lnTo>
                    <a:pt x="161" y="34"/>
                  </a:lnTo>
                  <a:lnTo>
                    <a:pt x="182" y="35"/>
                  </a:lnTo>
                  <a:lnTo>
                    <a:pt x="202" y="38"/>
                  </a:lnTo>
                  <a:lnTo>
                    <a:pt x="223" y="39"/>
                  </a:lnTo>
                  <a:lnTo>
                    <a:pt x="244" y="39"/>
                  </a:lnTo>
                  <a:lnTo>
                    <a:pt x="265" y="40"/>
                  </a:lnTo>
                  <a:lnTo>
                    <a:pt x="285" y="40"/>
                  </a:lnTo>
                  <a:lnTo>
                    <a:pt x="305" y="40"/>
                  </a:lnTo>
                  <a:lnTo>
                    <a:pt x="32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1680" y="1727280"/>
              <a:ext cx="339480" cy="63360"/>
            </a:xfrm>
            <a:custGeom>
              <a:avLst/>
              <a:gdLst/>
              <a:ahLst/>
              <a:rect l="l" t="t" r="r" b="b"/>
              <a:pathLst>
                <a:path w="429" h="81">
                  <a:moveTo>
                    <a:pt x="429" y="0"/>
                  </a:moveTo>
                  <a:lnTo>
                    <a:pt x="415" y="7"/>
                  </a:lnTo>
                  <a:lnTo>
                    <a:pt x="402" y="14"/>
                  </a:lnTo>
                  <a:lnTo>
                    <a:pt x="390" y="22"/>
                  </a:lnTo>
                  <a:lnTo>
                    <a:pt x="376" y="29"/>
                  </a:lnTo>
                  <a:lnTo>
                    <a:pt x="363" y="37"/>
                  </a:lnTo>
                  <a:lnTo>
                    <a:pt x="349" y="44"/>
                  </a:lnTo>
                  <a:lnTo>
                    <a:pt x="337" y="52"/>
                  </a:lnTo>
                  <a:lnTo>
                    <a:pt x="323" y="58"/>
                  </a:lnTo>
                  <a:lnTo>
                    <a:pt x="309" y="65"/>
                  </a:lnTo>
                  <a:lnTo>
                    <a:pt x="295" y="69"/>
                  </a:lnTo>
                  <a:lnTo>
                    <a:pt x="280" y="74"/>
                  </a:lnTo>
                  <a:lnTo>
                    <a:pt x="265" y="77"/>
                  </a:lnTo>
                  <a:lnTo>
                    <a:pt x="250" y="80"/>
                  </a:lnTo>
                  <a:lnTo>
                    <a:pt x="235" y="81"/>
                  </a:lnTo>
                  <a:lnTo>
                    <a:pt x="219" y="80"/>
                  </a:lnTo>
                  <a:lnTo>
                    <a:pt x="202" y="77"/>
                  </a:lnTo>
                  <a:lnTo>
                    <a:pt x="189" y="76"/>
                  </a:lnTo>
                  <a:lnTo>
                    <a:pt x="176" y="74"/>
                  </a:lnTo>
                  <a:lnTo>
                    <a:pt x="164" y="73"/>
                  </a:lnTo>
                  <a:lnTo>
                    <a:pt x="151" y="70"/>
                  </a:lnTo>
                  <a:lnTo>
                    <a:pt x="138" y="68"/>
                  </a:lnTo>
                  <a:lnTo>
                    <a:pt x="126" y="67"/>
                  </a:lnTo>
                  <a:lnTo>
                    <a:pt x="113" y="65"/>
                  </a:lnTo>
                  <a:lnTo>
                    <a:pt x="100" y="62"/>
                  </a:lnTo>
                  <a:lnTo>
                    <a:pt x="88" y="61"/>
                  </a:lnTo>
                  <a:lnTo>
                    <a:pt x="75" y="60"/>
                  </a:lnTo>
                  <a:lnTo>
                    <a:pt x="62" y="60"/>
                  </a:lnTo>
                  <a:lnTo>
                    <a:pt x="50" y="60"/>
                  </a:lnTo>
                  <a:lnTo>
                    <a:pt x="37" y="61"/>
                  </a:lnTo>
                  <a:lnTo>
                    <a:pt x="25" y="62"/>
                  </a:lnTo>
                  <a:lnTo>
                    <a:pt x="13" y="65"/>
                  </a:lnTo>
                  <a:lnTo>
                    <a:pt x="0" y="68"/>
                  </a:lnTo>
                  <a:lnTo>
                    <a:pt x="15" y="59"/>
                  </a:lnTo>
                  <a:lnTo>
                    <a:pt x="31" y="53"/>
                  </a:lnTo>
                  <a:lnTo>
                    <a:pt x="46" y="50"/>
                  </a:lnTo>
                  <a:lnTo>
                    <a:pt x="61" y="48"/>
                  </a:lnTo>
                  <a:lnTo>
                    <a:pt x="76" y="48"/>
                  </a:lnTo>
                  <a:lnTo>
                    <a:pt x="91" y="51"/>
                  </a:lnTo>
                  <a:lnTo>
                    <a:pt x="107" y="53"/>
                  </a:lnTo>
                  <a:lnTo>
                    <a:pt x="122" y="56"/>
                  </a:lnTo>
                  <a:lnTo>
                    <a:pt x="138" y="60"/>
                  </a:lnTo>
                  <a:lnTo>
                    <a:pt x="153" y="65"/>
                  </a:lnTo>
                  <a:lnTo>
                    <a:pt x="169" y="68"/>
                  </a:lnTo>
                  <a:lnTo>
                    <a:pt x="186" y="70"/>
                  </a:lnTo>
                  <a:lnTo>
                    <a:pt x="202" y="71"/>
                  </a:lnTo>
                  <a:lnTo>
                    <a:pt x="219" y="71"/>
                  </a:lnTo>
                  <a:lnTo>
                    <a:pt x="235" y="70"/>
                  </a:lnTo>
                  <a:lnTo>
                    <a:pt x="252" y="67"/>
                  </a:lnTo>
                  <a:lnTo>
                    <a:pt x="271" y="63"/>
                  </a:lnTo>
                  <a:lnTo>
                    <a:pt x="289" y="58"/>
                  </a:lnTo>
                  <a:lnTo>
                    <a:pt x="307" y="52"/>
                  </a:lnTo>
                  <a:lnTo>
                    <a:pt x="324" y="44"/>
                  </a:lnTo>
                  <a:lnTo>
                    <a:pt x="340" y="36"/>
                  </a:lnTo>
                  <a:lnTo>
                    <a:pt x="356" y="25"/>
                  </a:lnTo>
                  <a:lnTo>
                    <a:pt x="371" y="14"/>
                  </a:lnTo>
                  <a:lnTo>
                    <a:pt x="385" y="0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7480" y="1749240"/>
              <a:ext cx="88920" cy="55800"/>
            </a:xfrm>
            <a:custGeom>
              <a:avLst/>
              <a:gdLst/>
              <a:ahLst/>
              <a:rect l="l" t="t" r="r" b="b"/>
              <a:pathLst>
                <a:path w="112" h="69">
                  <a:moveTo>
                    <a:pt x="112" y="5"/>
                  </a:moveTo>
                  <a:lnTo>
                    <a:pt x="103" y="16"/>
                  </a:lnTo>
                  <a:lnTo>
                    <a:pt x="92" y="26"/>
                  </a:lnTo>
                  <a:lnTo>
                    <a:pt x="80" y="35"/>
                  </a:lnTo>
                  <a:lnTo>
                    <a:pt x="68" y="41"/>
                  </a:lnTo>
                  <a:lnTo>
                    <a:pt x="54" y="48"/>
                  </a:lnTo>
                  <a:lnTo>
                    <a:pt x="42" y="55"/>
                  </a:lnTo>
                  <a:lnTo>
                    <a:pt x="29" y="61"/>
                  </a:lnTo>
                  <a:lnTo>
                    <a:pt x="16" y="68"/>
                  </a:lnTo>
                  <a:lnTo>
                    <a:pt x="12" y="69"/>
                  </a:lnTo>
                  <a:lnTo>
                    <a:pt x="8" y="68"/>
                  </a:lnTo>
                  <a:lnTo>
                    <a:pt x="5" y="66"/>
                  </a:lnTo>
                  <a:lnTo>
                    <a:pt x="0" y="65"/>
                  </a:lnTo>
                  <a:lnTo>
                    <a:pt x="13" y="59"/>
                  </a:lnTo>
                  <a:lnTo>
                    <a:pt x="26" y="52"/>
                  </a:lnTo>
                  <a:lnTo>
                    <a:pt x="38" y="45"/>
                  </a:lnTo>
                  <a:lnTo>
                    <a:pt x="51" y="37"/>
                  </a:lnTo>
                  <a:lnTo>
                    <a:pt x="62" y="29"/>
                  </a:lnTo>
                  <a:lnTo>
                    <a:pt x="74" y="21"/>
                  </a:lnTo>
                  <a:lnTo>
                    <a:pt x="86" y="10"/>
                  </a:lnTo>
                  <a:lnTo>
                    <a:pt x="97" y="0"/>
                  </a:lnTo>
                  <a:lnTo>
                    <a:pt x="11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6640" y="1771560"/>
              <a:ext cx="115920" cy="7632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146" y="40"/>
                  </a:moveTo>
                  <a:lnTo>
                    <a:pt x="132" y="50"/>
                  </a:lnTo>
                  <a:lnTo>
                    <a:pt x="118" y="60"/>
                  </a:lnTo>
                  <a:lnTo>
                    <a:pt x="103" y="70"/>
                  </a:lnTo>
                  <a:lnTo>
                    <a:pt x="88" y="78"/>
                  </a:lnTo>
                  <a:lnTo>
                    <a:pt x="73" y="85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3" y="97"/>
                  </a:lnTo>
                  <a:lnTo>
                    <a:pt x="0" y="65"/>
                  </a:lnTo>
                  <a:lnTo>
                    <a:pt x="18" y="59"/>
                  </a:lnTo>
                  <a:lnTo>
                    <a:pt x="34" y="53"/>
                  </a:lnTo>
                  <a:lnTo>
                    <a:pt x="50" y="47"/>
                  </a:lnTo>
                  <a:lnTo>
                    <a:pt x="66" y="37"/>
                  </a:lnTo>
                  <a:lnTo>
                    <a:pt x="82" y="29"/>
                  </a:lnTo>
                  <a:lnTo>
                    <a:pt x="97" y="20"/>
                  </a:lnTo>
                  <a:lnTo>
                    <a:pt x="113" y="11"/>
                  </a:lnTo>
                  <a:lnTo>
                    <a:pt x="128" y="0"/>
                  </a:lnTo>
                  <a:lnTo>
                    <a:pt x="135" y="9"/>
                  </a:lnTo>
                  <a:lnTo>
                    <a:pt x="139" y="18"/>
                  </a:lnTo>
                  <a:lnTo>
                    <a:pt x="142" y="29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8720" y="1785960"/>
              <a:ext cx="38160" cy="2700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20"/>
                  </a:moveTo>
                  <a:lnTo>
                    <a:pt x="40" y="25"/>
                  </a:lnTo>
                  <a:lnTo>
                    <a:pt x="32" y="29"/>
                  </a:lnTo>
                  <a:lnTo>
                    <a:pt x="22" y="31"/>
                  </a:lnTo>
                  <a:lnTo>
                    <a:pt x="14" y="34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4" y="10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1" y="18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83040" y="1793880"/>
              <a:ext cx="30240" cy="284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28" y="36"/>
                  </a:moveTo>
                  <a:lnTo>
                    <a:pt x="20" y="31"/>
                  </a:lnTo>
                  <a:lnTo>
                    <a:pt x="11" y="27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38" y="0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06960" y="1798560"/>
              <a:ext cx="98640" cy="46080"/>
            </a:xfrm>
            <a:custGeom>
              <a:avLst/>
              <a:gdLst/>
              <a:ahLst/>
              <a:rect l="l" t="t" r="r" b="b"/>
              <a:pathLst>
                <a:path w="123" h="58">
                  <a:moveTo>
                    <a:pt x="123" y="18"/>
                  </a:moveTo>
                  <a:lnTo>
                    <a:pt x="120" y="29"/>
                  </a:lnTo>
                  <a:lnTo>
                    <a:pt x="116" y="39"/>
                  </a:lnTo>
                  <a:lnTo>
                    <a:pt x="113" y="48"/>
                  </a:lnTo>
                  <a:lnTo>
                    <a:pt x="106" y="58"/>
                  </a:lnTo>
                  <a:lnTo>
                    <a:pt x="92" y="57"/>
                  </a:lnTo>
                  <a:lnTo>
                    <a:pt x="78" y="55"/>
                  </a:lnTo>
                  <a:lnTo>
                    <a:pt x="66" y="53"/>
                  </a:lnTo>
                  <a:lnTo>
                    <a:pt x="52" y="50"/>
                  </a:lnTo>
                  <a:lnTo>
                    <a:pt x="39" y="46"/>
                  </a:lnTo>
                  <a:lnTo>
                    <a:pt x="26" y="43"/>
                  </a:lnTo>
                  <a:lnTo>
                    <a:pt x="14" y="39"/>
                  </a:lnTo>
                  <a:lnTo>
                    <a:pt x="0" y="37"/>
                  </a:lnTo>
                  <a:lnTo>
                    <a:pt x="2" y="15"/>
                  </a:lnTo>
                  <a:lnTo>
                    <a:pt x="10" y="4"/>
                  </a:lnTo>
                  <a:lnTo>
                    <a:pt x="23" y="0"/>
                  </a:lnTo>
                  <a:lnTo>
                    <a:pt x="38" y="2"/>
                  </a:lnTo>
                  <a:lnTo>
                    <a:pt x="55" y="8"/>
                  </a:lnTo>
                  <a:lnTo>
                    <a:pt x="72" y="13"/>
                  </a:lnTo>
                  <a:lnTo>
                    <a:pt x="89" y="16"/>
                  </a:lnTo>
                  <a:lnTo>
                    <a:pt x="104" y="15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80160" y="1817640"/>
              <a:ext cx="1353960" cy="184320"/>
            </a:xfrm>
            <a:custGeom>
              <a:avLst/>
              <a:gdLst/>
              <a:ahLst/>
              <a:rect l="l" t="t" r="r" b="b"/>
              <a:pathLst>
                <a:path w="1708" h="233">
                  <a:moveTo>
                    <a:pt x="1534" y="103"/>
                  </a:moveTo>
                  <a:lnTo>
                    <a:pt x="1542" y="103"/>
                  </a:lnTo>
                  <a:lnTo>
                    <a:pt x="1550" y="102"/>
                  </a:lnTo>
                  <a:lnTo>
                    <a:pt x="1557" y="99"/>
                  </a:lnTo>
                  <a:lnTo>
                    <a:pt x="1565" y="96"/>
                  </a:lnTo>
                  <a:lnTo>
                    <a:pt x="1572" y="91"/>
                  </a:lnTo>
                  <a:lnTo>
                    <a:pt x="1579" y="86"/>
                  </a:lnTo>
                  <a:lnTo>
                    <a:pt x="1583" y="79"/>
                  </a:lnTo>
                  <a:lnTo>
                    <a:pt x="1587" y="71"/>
                  </a:lnTo>
                  <a:lnTo>
                    <a:pt x="1597" y="41"/>
                  </a:lnTo>
                  <a:lnTo>
                    <a:pt x="1609" y="49"/>
                  </a:lnTo>
                  <a:lnTo>
                    <a:pt x="1620" y="57"/>
                  </a:lnTo>
                  <a:lnTo>
                    <a:pt x="1632" y="66"/>
                  </a:lnTo>
                  <a:lnTo>
                    <a:pt x="1642" y="76"/>
                  </a:lnTo>
                  <a:lnTo>
                    <a:pt x="1651" y="87"/>
                  </a:lnTo>
                  <a:lnTo>
                    <a:pt x="1661" y="97"/>
                  </a:lnTo>
                  <a:lnTo>
                    <a:pt x="1670" y="107"/>
                  </a:lnTo>
                  <a:lnTo>
                    <a:pt x="1678" y="119"/>
                  </a:lnTo>
                  <a:lnTo>
                    <a:pt x="1671" y="115"/>
                  </a:lnTo>
                  <a:lnTo>
                    <a:pt x="1665" y="111"/>
                  </a:lnTo>
                  <a:lnTo>
                    <a:pt x="1658" y="106"/>
                  </a:lnTo>
                  <a:lnTo>
                    <a:pt x="1651" y="102"/>
                  </a:lnTo>
                  <a:lnTo>
                    <a:pt x="1644" y="98"/>
                  </a:lnTo>
                  <a:lnTo>
                    <a:pt x="1638" y="97"/>
                  </a:lnTo>
                  <a:lnTo>
                    <a:pt x="1629" y="98"/>
                  </a:lnTo>
                  <a:lnTo>
                    <a:pt x="1623" y="103"/>
                  </a:lnTo>
                  <a:lnTo>
                    <a:pt x="1623" y="106"/>
                  </a:lnTo>
                  <a:lnTo>
                    <a:pt x="1634" y="113"/>
                  </a:lnTo>
                  <a:lnTo>
                    <a:pt x="1646" y="120"/>
                  </a:lnTo>
                  <a:lnTo>
                    <a:pt x="1657" y="128"/>
                  </a:lnTo>
                  <a:lnTo>
                    <a:pt x="1669" y="137"/>
                  </a:lnTo>
                  <a:lnTo>
                    <a:pt x="1679" y="147"/>
                  </a:lnTo>
                  <a:lnTo>
                    <a:pt x="1689" y="157"/>
                  </a:lnTo>
                  <a:lnTo>
                    <a:pt x="1699" y="167"/>
                  </a:lnTo>
                  <a:lnTo>
                    <a:pt x="1708" y="179"/>
                  </a:lnTo>
                  <a:lnTo>
                    <a:pt x="1708" y="209"/>
                  </a:lnTo>
                  <a:lnTo>
                    <a:pt x="1701" y="201"/>
                  </a:lnTo>
                  <a:lnTo>
                    <a:pt x="1694" y="194"/>
                  </a:lnTo>
                  <a:lnTo>
                    <a:pt x="1686" y="187"/>
                  </a:lnTo>
                  <a:lnTo>
                    <a:pt x="1679" y="181"/>
                  </a:lnTo>
                  <a:lnTo>
                    <a:pt x="1671" y="175"/>
                  </a:lnTo>
                  <a:lnTo>
                    <a:pt x="1663" y="170"/>
                  </a:lnTo>
                  <a:lnTo>
                    <a:pt x="1654" y="165"/>
                  </a:lnTo>
                  <a:lnTo>
                    <a:pt x="1646" y="160"/>
                  </a:lnTo>
                  <a:lnTo>
                    <a:pt x="1628" y="157"/>
                  </a:lnTo>
                  <a:lnTo>
                    <a:pt x="1610" y="153"/>
                  </a:lnTo>
                  <a:lnTo>
                    <a:pt x="1593" y="148"/>
                  </a:lnTo>
                  <a:lnTo>
                    <a:pt x="1574" y="143"/>
                  </a:lnTo>
                  <a:lnTo>
                    <a:pt x="1556" y="137"/>
                  </a:lnTo>
                  <a:lnTo>
                    <a:pt x="1537" y="133"/>
                  </a:lnTo>
                  <a:lnTo>
                    <a:pt x="1520" y="127"/>
                  </a:lnTo>
                  <a:lnTo>
                    <a:pt x="1502" y="124"/>
                  </a:lnTo>
                  <a:lnTo>
                    <a:pt x="1474" y="118"/>
                  </a:lnTo>
                  <a:lnTo>
                    <a:pt x="1446" y="113"/>
                  </a:lnTo>
                  <a:lnTo>
                    <a:pt x="1417" y="110"/>
                  </a:lnTo>
                  <a:lnTo>
                    <a:pt x="1389" y="106"/>
                  </a:lnTo>
                  <a:lnTo>
                    <a:pt x="1360" y="105"/>
                  </a:lnTo>
                  <a:lnTo>
                    <a:pt x="1331" y="104"/>
                  </a:lnTo>
                  <a:lnTo>
                    <a:pt x="1301" y="104"/>
                  </a:lnTo>
                  <a:lnTo>
                    <a:pt x="1272" y="104"/>
                  </a:lnTo>
                  <a:lnTo>
                    <a:pt x="1242" y="106"/>
                  </a:lnTo>
                  <a:lnTo>
                    <a:pt x="1213" y="109"/>
                  </a:lnTo>
                  <a:lnTo>
                    <a:pt x="1185" y="111"/>
                  </a:lnTo>
                  <a:lnTo>
                    <a:pt x="1156" y="115"/>
                  </a:lnTo>
                  <a:lnTo>
                    <a:pt x="1127" y="120"/>
                  </a:lnTo>
                  <a:lnTo>
                    <a:pt x="1099" y="126"/>
                  </a:lnTo>
                  <a:lnTo>
                    <a:pt x="1073" y="132"/>
                  </a:lnTo>
                  <a:lnTo>
                    <a:pt x="1046" y="139"/>
                  </a:lnTo>
                  <a:lnTo>
                    <a:pt x="1025" y="144"/>
                  </a:lnTo>
                  <a:lnTo>
                    <a:pt x="1003" y="151"/>
                  </a:lnTo>
                  <a:lnTo>
                    <a:pt x="981" y="158"/>
                  </a:lnTo>
                  <a:lnTo>
                    <a:pt x="960" y="165"/>
                  </a:lnTo>
                  <a:lnTo>
                    <a:pt x="938" y="173"/>
                  </a:lnTo>
                  <a:lnTo>
                    <a:pt x="916" y="180"/>
                  </a:lnTo>
                  <a:lnTo>
                    <a:pt x="894" y="187"/>
                  </a:lnTo>
                  <a:lnTo>
                    <a:pt x="874" y="194"/>
                  </a:lnTo>
                  <a:lnTo>
                    <a:pt x="852" y="201"/>
                  </a:lnTo>
                  <a:lnTo>
                    <a:pt x="830" y="208"/>
                  </a:lnTo>
                  <a:lnTo>
                    <a:pt x="808" y="213"/>
                  </a:lnTo>
                  <a:lnTo>
                    <a:pt x="786" y="219"/>
                  </a:lnTo>
                  <a:lnTo>
                    <a:pt x="764" y="224"/>
                  </a:lnTo>
                  <a:lnTo>
                    <a:pt x="741" y="228"/>
                  </a:lnTo>
                  <a:lnTo>
                    <a:pt x="718" y="231"/>
                  </a:lnTo>
                  <a:lnTo>
                    <a:pt x="695" y="233"/>
                  </a:lnTo>
                  <a:lnTo>
                    <a:pt x="675" y="226"/>
                  </a:lnTo>
                  <a:lnTo>
                    <a:pt x="656" y="217"/>
                  </a:lnTo>
                  <a:lnTo>
                    <a:pt x="636" y="206"/>
                  </a:lnTo>
                  <a:lnTo>
                    <a:pt x="618" y="196"/>
                  </a:lnTo>
                  <a:lnTo>
                    <a:pt x="598" y="186"/>
                  </a:lnTo>
                  <a:lnTo>
                    <a:pt x="579" y="175"/>
                  </a:lnTo>
                  <a:lnTo>
                    <a:pt x="558" y="168"/>
                  </a:lnTo>
                  <a:lnTo>
                    <a:pt x="536" y="164"/>
                  </a:lnTo>
                  <a:lnTo>
                    <a:pt x="511" y="156"/>
                  </a:lnTo>
                  <a:lnTo>
                    <a:pt x="485" y="149"/>
                  </a:lnTo>
                  <a:lnTo>
                    <a:pt x="459" y="143"/>
                  </a:lnTo>
                  <a:lnTo>
                    <a:pt x="432" y="139"/>
                  </a:lnTo>
                  <a:lnTo>
                    <a:pt x="406" y="135"/>
                  </a:lnTo>
                  <a:lnTo>
                    <a:pt x="378" y="133"/>
                  </a:lnTo>
                  <a:lnTo>
                    <a:pt x="350" y="132"/>
                  </a:lnTo>
                  <a:lnTo>
                    <a:pt x="323" y="130"/>
                  </a:lnTo>
                  <a:lnTo>
                    <a:pt x="294" y="129"/>
                  </a:lnTo>
                  <a:lnTo>
                    <a:pt x="266" y="129"/>
                  </a:lnTo>
                  <a:lnTo>
                    <a:pt x="238" y="130"/>
                  </a:lnTo>
                  <a:lnTo>
                    <a:pt x="210" y="130"/>
                  </a:lnTo>
                  <a:lnTo>
                    <a:pt x="182" y="132"/>
                  </a:lnTo>
                  <a:lnTo>
                    <a:pt x="153" y="132"/>
                  </a:lnTo>
                  <a:lnTo>
                    <a:pt x="127" y="133"/>
                  </a:lnTo>
                  <a:lnTo>
                    <a:pt x="99" y="133"/>
                  </a:lnTo>
                  <a:lnTo>
                    <a:pt x="89" y="133"/>
                  </a:lnTo>
                  <a:lnTo>
                    <a:pt x="77" y="134"/>
                  </a:lnTo>
                  <a:lnTo>
                    <a:pt x="65" y="134"/>
                  </a:lnTo>
                  <a:lnTo>
                    <a:pt x="52" y="134"/>
                  </a:lnTo>
                  <a:lnTo>
                    <a:pt x="38" y="134"/>
                  </a:lnTo>
                  <a:lnTo>
                    <a:pt x="24" y="134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1" y="124"/>
                  </a:lnTo>
                  <a:lnTo>
                    <a:pt x="4" y="100"/>
                  </a:lnTo>
                  <a:lnTo>
                    <a:pt x="12" y="76"/>
                  </a:lnTo>
                  <a:lnTo>
                    <a:pt x="24" y="60"/>
                  </a:lnTo>
                  <a:lnTo>
                    <a:pt x="24" y="61"/>
                  </a:lnTo>
                  <a:lnTo>
                    <a:pt x="28" y="64"/>
                  </a:lnTo>
                  <a:lnTo>
                    <a:pt x="31" y="66"/>
                  </a:lnTo>
                  <a:lnTo>
                    <a:pt x="38" y="69"/>
                  </a:lnTo>
                  <a:lnTo>
                    <a:pt x="46" y="73"/>
                  </a:lnTo>
                  <a:lnTo>
                    <a:pt x="57" y="76"/>
                  </a:lnTo>
                  <a:lnTo>
                    <a:pt x="69" y="81"/>
                  </a:lnTo>
                  <a:lnTo>
                    <a:pt x="84" y="84"/>
                  </a:lnTo>
                  <a:lnTo>
                    <a:pt x="100" y="88"/>
                  </a:lnTo>
                  <a:lnTo>
                    <a:pt x="120" y="90"/>
                  </a:lnTo>
                  <a:lnTo>
                    <a:pt x="141" y="92"/>
                  </a:lnTo>
                  <a:lnTo>
                    <a:pt x="164" y="94"/>
                  </a:lnTo>
                  <a:lnTo>
                    <a:pt x="189" y="94"/>
                  </a:lnTo>
                  <a:lnTo>
                    <a:pt x="218" y="92"/>
                  </a:lnTo>
                  <a:lnTo>
                    <a:pt x="248" y="90"/>
                  </a:lnTo>
                  <a:lnTo>
                    <a:pt x="280" y="87"/>
                  </a:lnTo>
                  <a:lnTo>
                    <a:pt x="296" y="92"/>
                  </a:lnTo>
                  <a:lnTo>
                    <a:pt x="311" y="96"/>
                  </a:lnTo>
                  <a:lnTo>
                    <a:pt x="329" y="99"/>
                  </a:lnTo>
                  <a:lnTo>
                    <a:pt x="345" y="102"/>
                  </a:lnTo>
                  <a:lnTo>
                    <a:pt x="362" y="104"/>
                  </a:lnTo>
                  <a:lnTo>
                    <a:pt x="379" y="105"/>
                  </a:lnTo>
                  <a:lnTo>
                    <a:pt x="397" y="106"/>
                  </a:lnTo>
                  <a:lnTo>
                    <a:pt x="414" y="107"/>
                  </a:lnTo>
                  <a:lnTo>
                    <a:pt x="431" y="107"/>
                  </a:lnTo>
                  <a:lnTo>
                    <a:pt x="448" y="109"/>
                  </a:lnTo>
                  <a:lnTo>
                    <a:pt x="466" y="109"/>
                  </a:lnTo>
                  <a:lnTo>
                    <a:pt x="483" y="110"/>
                  </a:lnTo>
                  <a:lnTo>
                    <a:pt x="500" y="111"/>
                  </a:lnTo>
                  <a:lnTo>
                    <a:pt x="516" y="113"/>
                  </a:lnTo>
                  <a:lnTo>
                    <a:pt x="533" y="115"/>
                  </a:lnTo>
                  <a:lnTo>
                    <a:pt x="549" y="119"/>
                  </a:lnTo>
                  <a:lnTo>
                    <a:pt x="561" y="121"/>
                  </a:lnTo>
                  <a:lnTo>
                    <a:pt x="574" y="124"/>
                  </a:lnTo>
                  <a:lnTo>
                    <a:pt x="587" y="127"/>
                  </a:lnTo>
                  <a:lnTo>
                    <a:pt x="599" y="132"/>
                  </a:lnTo>
                  <a:lnTo>
                    <a:pt x="612" y="137"/>
                  </a:lnTo>
                  <a:lnTo>
                    <a:pt x="624" y="142"/>
                  </a:lnTo>
                  <a:lnTo>
                    <a:pt x="636" y="148"/>
                  </a:lnTo>
                  <a:lnTo>
                    <a:pt x="648" y="153"/>
                  </a:lnTo>
                  <a:lnTo>
                    <a:pt x="660" y="158"/>
                  </a:lnTo>
                  <a:lnTo>
                    <a:pt x="673" y="164"/>
                  </a:lnTo>
                  <a:lnTo>
                    <a:pt x="685" y="168"/>
                  </a:lnTo>
                  <a:lnTo>
                    <a:pt x="697" y="172"/>
                  </a:lnTo>
                  <a:lnTo>
                    <a:pt x="710" y="175"/>
                  </a:lnTo>
                  <a:lnTo>
                    <a:pt x="724" y="178"/>
                  </a:lnTo>
                  <a:lnTo>
                    <a:pt x="736" y="179"/>
                  </a:lnTo>
                  <a:lnTo>
                    <a:pt x="750" y="179"/>
                  </a:lnTo>
                  <a:lnTo>
                    <a:pt x="763" y="175"/>
                  </a:lnTo>
                  <a:lnTo>
                    <a:pt x="776" y="172"/>
                  </a:lnTo>
                  <a:lnTo>
                    <a:pt x="788" y="167"/>
                  </a:lnTo>
                  <a:lnTo>
                    <a:pt x="801" y="163"/>
                  </a:lnTo>
                  <a:lnTo>
                    <a:pt x="814" y="157"/>
                  </a:lnTo>
                  <a:lnTo>
                    <a:pt x="825" y="152"/>
                  </a:lnTo>
                  <a:lnTo>
                    <a:pt x="838" y="147"/>
                  </a:lnTo>
                  <a:lnTo>
                    <a:pt x="851" y="142"/>
                  </a:lnTo>
                  <a:lnTo>
                    <a:pt x="862" y="136"/>
                  </a:lnTo>
                  <a:lnTo>
                    <a:pt x="875" y="132"/>
                  </a:lnTo>
                  <a:lnTo>
                    <a:pt x="887" y="126"/>
                  </a:lnTo>
                  <a:lnTo>
                    <a:pt x="900" y="121"/>
                  </a:lnTo>
                  <a:lnTo>
                    <a:pt x="912" y="117"/>
                  </a:lnTo>
                  <a:lnTo>
                    <a:pt x="924" y="113"/>
                  </a:lnTo>
                  <a:lnTo>
                    <a:pt x="938" y="110"/>
                  </a:lnTo>
                  <a:lnTo>
                    <a:pt x="951" y="106"/>
                  </a:lnTo>
                  <a:lnTo>
                    <a:pt x="954" y="104"/>
                  </a:lnTo>
                  <a:lnTo>
                    <a:pt x="957" y="100"/>
                  </a:lnTo>
                  <a:lnTo>
                    <a:pt x="957" y="97"/>
                  </a:lnTo>
                  <a:lnTo>
                    <a:pt x="954" y="95"/>
                  </a:lnTo>
                  <a:lnTo>
                    <a:pt x="943" y="91"/>
                  </a:lnTo>
                  <a:lnTo>
                    <a:pt x="930" y="91"/>
                  </a:lnTo>
                  <a:lnTo>
                    <a:pt x="919" y="92"/>
                  </a:lnTo>
                  <a:lnTo>
                    <a:pt x="906" y="96"/>
                  </a:lnTo>
                  <a:lnTo>
                    <a:pt x="893" y="100"/>
                  </a:lnTo>
                  <a:lnTo>
                    <a:pt x="882" y="105"/>
                  </a:lnTo>
                  <a:lnTo>
                    <a:pt x="869" y="110"/>
                  </a:lnTo>
                  <a:lnTo>
                    <a:pt x="857" y="113"/>
                  </a:lnTo>
                  <a:lnTo>
                    <a:pt x="847" y="118"/>
                  </a:lnTo>
                  <a:lnTo>
                    <a:pt x="836" y="122"/>
                  </a:lnTo>
                  <a:lnTo>
                    <a:pt x="824" y="127"/>
                  </a:lnTo>
                  <a:lnTo>
                    <a:pt x="813" y="132"/>
                  </a:lnTo>
                  <a:lnTo>
                    <a:pt x="801" y="136"/>
                  </a:lnTo>
                  <a:lnTo>
                    <a:pt x="789" y="141"/>
                  </a:lnTo>
                  <a:lnTo>
                    <a:pt x="777" y="144"/>
                  </a:lnTo>
                  <a:lnTo>
                    <a:pt x="764" y="147"/>
                  </a:lnTo>
                  <a:lnTo>
                    <a:pt x="753" y="149"/>
                  </a:lnTo>
                  <a:lnTo>
                    <a:pt x="740" y="150"/>
                  </a:lnTo>
                  <a:lnTo>
                    <a:pt x="727" y="149"/>
                  </a:lnTo>
                  <a:lnTo>
                    <a:pt x="716" y="148"/>
                  </a:lnTo>
                  <a:lnTo>
                    <a:pt x="703" y="145"/>
                  </a:lnTo>
                  <a:lnTo>
                    <a:pt x="692" y="141"/>
                  </a:lnTo>
                  <a:lnTo>
                    <a:pt x="681" y="136"/>
                  </a:lnTo>
                  <a:lnTo>
                    <a:pt x="670" y="128"/>
                  </a:lnTo>
                  <a:lnTo>
                    <a:pt x="574" y="86"/>
                  </a:lnTo>
                  <a:lnTo>
                    <a:pt x="587" y="81"/>
                  </a:lnTo>
                  <a:lnTo>
                    <a:pt x="599" y="75"/>
                  </a:lnTo>
                  <a:lnTo>
                    <a:pt x="612" y="68"/>
                  </a:lnTo>
                  <a:lnTo>
                    <a:pt x="624" y="60"/>
                  </a:lnTo>
                  <a:lnTo>
                    <a:pt x="635" y="52"/>
                  </a:lnTo>
                  <a:lnTo>
                    <a:pt x="647" y="44"/>
                  </a:lnTo>
                  <a:lnTo>
                    <a:pt x="658" y="36"/>
                  </a:lnTo>
                  <a:lnTo>
                    <a:pt x="670" y="28"/>
                  </a:lnTo>
                  <a:lnTo>
                    <a:pt x="692" y="37"/>
                  </a:lnTo>
                  <a:lnTo>
                    <a:pt x="709" y="37"/>
                  </a:lnTo>
                  <a:lnTo>
                    <a:pt x="726" y="38"/>
                  </a:lnTo>
                  <a:lnTo>
                    <a:pt x="743" y="38"/>
                  </a:lnTo>
                  <a:lnTo>
                    <a:pt x="761" y="37"/>
                  </a:lnTo>
                  <a:lnTo>
                    <a:pt x="778" y="37"/>
                  </a:lnTo>
                  <a:lnTo>
                    <a:pt x="795" y="36"/>
                  </a:lnTo>
                  <a:lnTo>
                    <a:pt x="813" y="35"/>
                  </a:lnTo>
                  <a:lnTo>
                    <a:pt x="830" y="33"/>
                  </a:lnTo>
                  <a:lnTo>
                    <a:pt x="847" y="30"/>
                  </a:lnTo>
                  <a:lnTo>
                    <a:pt x="864" y="28"/>
                  </a:lnTo>
                  <a:lnTo>
                    <a:pt x="882" y="24"/>
                  </a:lnTo>
                  <a:lnTo>
                    <a:pt x="898" y="21"/>
                  </a:lnTo>
                  <a:lnTo>
                    <a:pt x="914" y="16"/>
                  </a:lnTo>
                  <a:lnTo>
                    <a:pt x="930" y="12"/>
                  </a:lnTo>
                  <a:lnTo>
                    <a:pt x="946" y="6"/>
                  </a:lnTo>
                  <a:lnTo>
                    <a:pt x="961" y="0"/>
                  </a:lnTo>
                  <a:lnTo>
                    <a:pt x="995" y="12"/>
                  </a:lnTo>
                  <a:lnTo>
                    <a:pt x="1029" y="21"/>
                  </a:lnTo>
                  <a:lnTo>
                    <a:pt x="1065" y="29"/>
                  </a:lnTo>
                  <a:lnTo>
                    <a:pt x="1101" y="35"/>
                  </a:lnTo>
                  <a:lnTo>
                    <a:pt x="1137" y="39"/>
                  </a:lnTo>
                  <a:lnTo>
                    <a:pt x="1174" y="43"/>
                  </a:lnTo>
                  <a:lnTo>
                    <a:pt x="1211" y="46"/>
                  </a:lnTo>
                  <a:lnTo>
                    <a:pt x="1248" y="49"/>
                  </a:lnTo>
                  <a:lnTo>
                    <a:pt x="1286" y="52"/>
                  </a:lnTo>
                  <a:lnTo>
                    <a:pt x="1323" y="56"/>
                  </a:lnTo>
                  <a:lnTo>
                    <a:pt x="1360" y="59"/>
                  </a:lnTo>
                  <a:lnTo>
                    <a:pt x="1396" y="65"/>
                  </a:lnTo>
                  <a:lnTo>
                    <a:pt x="1431" y="71"/>
                  </a:lnTo>
                  <a:lnTo>
                    <a:pt x="1467" y="80"/>
                  </a:lnTo>
                  <a:lnTo>
                    <a:pt x="1500" y="90"/>
                  </a:lnTo>
                  <a:lnTo>
                    <a:pt x="15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18120" y="1822320"/>
              <a:ext cx="92160" cy="3348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5" y="43"/>
                  </a:moveTo>
                  <a:lnTo>
                    <a:pt x="101" y="43"/>
                  </a:lnTo>
                  <a:lnTo>
                    <a:pt x="89" y="41"/>
                  </a:lnTo>
                  <a:lnTo>
                    <a:pt x="75" y="40"/>
                  </a:lnTo>
                  <a:lnTo>
                    <a:pt x="61" y="39"/>
                  </a:lnTo>
                  <a:lnTo>
                    <a:pt x="48" y="38"/>
                  </a:lnTo>
                  <a:lnTo>
                    <a:pt x="34" y="36"/>
                  </a:lnTo>
                  <a:lnTo>
                    <a:pt x="22" y="33"/>
                  </a:lnTo>
                  <a:lnTo>
                    <a:pt x="9" y="31"/>
                  </a:lnTo>
                  <a:lnTo>
                    <a:pt x="8" y="24"/>
                  </a:lnTo>
                  <a:lnTo>
                    <a:pt x="7" y="17"/>
                  </a:lnTo>
                  <a:lnTo>
                    <a:pt x="3" y="10"/>
                  </a:lnTo>
                  <a:lnTo>
                    <a:pt x="0" y="5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43" y="5"/>
                  </a:lnTo>
                  <a:lnTo>
                    <a:pt x="53" y="5"/>
                  </a:lnTo>
                  <a:lnTo>
                    <a:pt x="62" y="3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2" y="9"/>
                  </a:lnTo>
                  <a:lnTo>
                    <a:pt x="100" y="20"/>
                  </a:lnTo>
                  <a:lnTo>
                    <a:pt x="107" y="32"/>
                  </a:lnTo>
                  <a:lnTo>
                    <a:pt x="1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57760" y="1874880"/>
              <a:ext cx="41400" cy="1908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53" y="2"/>
                  </a:moveTo>
                  <a:lnTo>
                    <a:pt x="50" y="7"/>
                  </a:lnTo>
                  <a:lnTo>
                    <a:pt x="48" y="11"/>
                  </a:lnTo>
                  <a:lnTo>
                    <a:pt x="44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9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25880" y="1935000"/>
              <a:ext cx="38160" cy="163800"/>
            </a:xfrm>
            <a:custGeom>
              <a:avLst/>
              <a:gdLst/>
              <a:ahLst/>
              <a:rect l="l" t="t" r="r" b="b"/>
              <a:pathLst>
                <a:path w="47" h="205">
                  <a:moveTo>
                    <a:pt x="40" y="0"/>
                  </a:moveTo>
                  <a:lnTo>
                    <a:pt x="32" y="17"/>
                  </a:lnTo>
                  <a:lnTo>
                    <a:pt x="25" y="37"/>
                  </a:lnTo>
                  <a:lnTo>
                    <a:pt x="23" y="55"/>
                  </a:lnTo>
                  <a:lnTo>
                    <a:pt x="28" y="75"/>
                  </a:lnTo>
                  <a:lnTo>
                    <a:pt x="33" y="89"/>
                  </a:lnTo>
                  <a:lnTo>
                    <a:pt x="36" y="102"/>
                  </a:lnTo>
                  <a:lnTo>
                    <a:pt x="36" y="116"/>
                  </a:lnTo>
                  <a:lnTo>
                    <a:pt x="33" y="130"/>
                  </a:lnTo>
                  <a:lnTo>
                    <a:pt x="31" y="145"/>
                  </a:lnTo>
                  <a:lnTo>
                    <a:pt x="30" y="159"/>
                  </a:lnTo>
                  <a:lnTo>
                    <a:pt x="31" y="174"/>
                  </a:lnTo>
                  <a:lnTo>
                    <a:pt x="37" y="188"/>
                  </a:lnTo>
                  <a:lnTo>
                    <a:pt x="47" y="203"/>
                  </a:lnTo>
                  <a:lnTo>
                    <a:pt x="40" y="205"/>
                  </a:lnTo>
                  <a:lnTo>
                    <a:pt x="33" y="204"/>
                  </a:lnTo>
                  <a:lnTo>
                    <a:pt x="26" y="200"/>
                  </a:lnTo>
                  <a:lnTo>
                    <a:pt x="22" y="196"/>
                  </a:lnTo>
                  <a:lnTo>
                    <a:pt x="16" y="189"/>
                  </a:lnTo>
                  <a:lnTo>
                    <a:pt x="13" y="182"/>
                  </a:lnTo>
                  <a:lnTo>
                    <a:pt x="8" y="176"/>
                  </a:lnTo>
                  <a:lnTo>
                    <a:pt x="5" y="170"/>
                  </a:lnTo>
                  <a:lnTo>
                    <a:pt x="0" y="147"/>
                  </a:lnTo>
                  <a:lnTo>
                    <a:pt x="3" y="125"/>
                  </a:lnTo>
                  <a:lnTo>
                    <a:pt x="8" y="102"/>
                  </a:lnTo>
                  <a:lnTo>
                    <a:pt x="8" y="79"/>
                  </a:lnTo>
                  <a:lnTo>
                    <a:pt x="8" y="60"/>
                  </a:lnTo>
                  <a:lnTo>
                    <a:pt x="9" y="40"/>
                  </a:lnTo>
                  <a:lnTo>
                    <a:pt x="11" y="22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3520" y="1951200"/>
              <a:ext cx="61920" cy="2844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5" y="31"/>
                  </a:moveTo>
                  <a:lnTo>
                    <a:pt x="67" y="31"/>
                  </a:lnTo>
                  <a:lnTo>
                    <a:pt x="60" y="33"/>
                  </a:lnTo>
                  <a:lnTo>
                    <a:pt x="52" y="34"/>
                  </a:lnTo>
                  <a:lnTo>
                    <a:pt x="45" y="35"/>
                  </a:lnTo>
                  <a:lnTo>
                    <a:pt x="37" y="36"/>
                  </a:lnTo>
                  <a:lnTo>
                    <a:pt x="29" y="36"/>
                  </a:lnTo>
                  <a:lnTo>
                    <a:pt x="22" y="35"/>
                  </a:lnTo>
                  <a:lnTo>
                    <a:pt x="14" y="34"/>
                  </a:lnTo>
                  <a:lnTo>
                    <a:pt x="8" y="28"/>
                  </a:lnTo>
                  <a:lnTo>
                    <a:pt x="4" y="21"/>
                  </a:lnTo>
                  <a:lnTo>
                    <a:pt x="2" y="13"/>
                  </a:lnTo>
                  <a:lnTo>
                    <a:pt x="0" y="5"/>
                  </a:lnTo>
                  <a:lnTo>
                    <a:pt x="10" y="3"/>
                  </a:lnTo>
                  <a:lnTo>
                    <a:pt x="19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68" y="3"/>
                  </a:lnTo>
                  <a:lnTo>
                    <a:pt x="77" y="5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69000" y="1955880"/>
              <a:ext cx="66600" cy="4284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38"/>
                  </a:moveTo>
                  <a:lnTo>
                    <a:pt x="80" y="44"/>
                  </a:lnTo>
                  <a:lnTo>
                    <a:pt x="75" y="50"/>
                  </a:lnTo>
                  <a:lnTo>
                    <a:pt x="69" y="54"/>
                  </a:lnTo>
                  <a:lnTo>
                    <a:pt x="62" y="55"/>
                  </a:lnTo>
                  <a:lnTo>
                    <a:pt x="54" y="51"/>
                  </a:lnTo>
                  <a:lnTo>
                    <a:pt x="47" y="45"/>
                  </a:lnTo>
                  <a:lnTo>
                    <a:pt x="40" y="39"/>
                  </a:lnTo>
                  <a:lnTo>
                    <a:pt x="32" y="33"/>
                  </a:lnTo>
                  <a:lnTo>
                    <a:pt x="26" y="28"/>
                  </a:lnTo>
                  <a:lnTo>
                    <a:pt x="17" y="22"/>
                  </a:lnTo>
                  <a:lnTo>
                    <a:pt x="9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0" y="4"/>
                  </a:lnTo>
                  <a:lnTo>
                    <a:pt x="51" y="7"/>
                  </a:lnTo>
                  <a:lnTo>
                    <a:pt x="60" y="13"/>
                  </a:lnTo>
                  <a:lnTo>
                    <a:pt x="69" y="20"/>
                  </a:lnTo>
                  <a:lnTo>
                    <a:pt x="77" y="29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38640" y="1957320"/>
              <a:ext cx="14400" cy="190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21"/>
                  </a:moveTo>
                  <a:lnTo>
                    <a:pt x="15" y="23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5"/>
                  </a:lnTo>
                  <a:lnTo>
                    <a:pt x="3" y="0"/>
                  </a:lnTo>
                  <a:lnTo>
                    <a:pt x="7" y="5"/>
                  </a:lnTo>
                  <a:lnTo>
                    <a:pt x="13" y="8"/>
                  </a:lnTo>
                  <a:lnTo>
                    <a:pt x="18" y="1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77080" y="1959120"/>
              <a:ext cx="46080" cy="2052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42" y="2"/>
                  </a:moveTo>
                  <a:lnTo>
                    <a:pt x="46" y="8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59" y="15"/>
                  </a:lnTo>
                  <a:lnTo>
                    <a:pt x="54" y="19"/>
                  </a:lnTo>
                  <a:lnTo>
                    <a:pt x="48" y="23"/>
                  </a:lnTo>
                  <a:lnTo>
                    <a:pt x="41" y="24"/>
                  </a:lnTo>
                  <a:lnTo>
                    <a:pt x="36" y="24"/>
                  </a:lnTo>
                  <a:lnTo>
                    <a:pt x="29" y="24"/>
                  </a:lnTo>
                  <a:lnTo>
                    <a:pt x="22" y="23"/>
                  </a:lnTo>
                  <a:lnTo>
                    <a:pt x="16" y="23"/>
                  </a:lnTo>
                  <a:lnTo>
                    <a:pt x="10" y="22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4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30640" y="1971720"/>
              <a:ext cx="44640" cy="3024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57" y="7"/>
                  </a:moveTo>
                  <a:lnTo>
                    <a:pt x="51" y="11"/>
                  </a:lnTo>
                  <a:lnTo>
                    <a:pt x="47" y="17"/>
                  </a:lnTo>
                  <a:lnTo>
                    <a:pt x="41" y="23"/>
                  </a:lnTo>
                  <a:lnTo>
                    <a:pt x="35" y="29"/>
                  </a:lnTo>
                  <a:lnTo>
                    <a:pt x="29" y="34"/>
                  </a:lnTo>
                  <a:lnTo>
                    <a:pt x="22" y="38"/>
                  </a:lnTo>
                  <a:lnTo>
                    <a:pt x="14" y="39"/>
                  </a:lnTo>
                  <a:lnTo>
                    <a:pt x="6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58080" y="1971720"/>
              <a:ext cx="34920" cy="3024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11"/>
                  </a:moveTo>
                  <a:lnTo>
                    <a:pt x="43" y="20"/>
                  </a:lnTo>
                  <a:lnTo>
                    <a:pt x="38" y="26"/>
                  </a:lnTo>
                  <a:lnTo>
                    <a:pt x="34" y="32"/>
                  </a:lnTo>
                  <a:lnTo>
                    <a:pt x="28" y="38"/>
                  </a:lnTo>
                  <a:lnTo>
                    <a:pt x="15" y="36"/>
                  </a:lnTo>
                  <a:lnTo>
                    <a:pt x="9" y="25"/>
                  </a:lnTo>
                  <a:lnTo>
                    <a:pt x="5" y="14"/>
                  </a:lnTo>
                  <a:lnTo>
                    <a:pt x="0" y="3"/>
                  </a:lnTo>
                  <a:lnTo>
                    <a:pt x="6" y="2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3" y="6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03800" y="1977840"/>
              <a:ext cx="41400" cy="3348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3" y="11"/>
                  </a:moveTo>
                  <a:lnTo>
                    <a:pt x="53" y="22"/>
                  </a:lnTo>
                  <a:lnTo>
                    <a:pt x="45" y="30"/>
                  </a:lnTo>
                  <a:lnTo>
                    <a:pt x="35" y="37"/>
                  </a:lnTo>
                  <a:lnTo>
                    <a:pt x="25" y="43"/>
                  </a:lnTo>
                  <a:lnTo>
                    <a:pt x="23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9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3" y="3"/>
                  </a:lnTo>
                  <a:lnTo>
                    <a:pt x="40" y="6"/>
                  </a:lnTo>
                  <a:lnTo>
                    <a:pt x="47" y="9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5400" y="1982880"/>
              <a:ext cx="71280" cy="4752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80" y="20"/>
                  </a:moveTo>
                  <a:lnTo>
                    <a:pt x="85" y="28"/>
                  </a:lnTo>
                  <a:lnTo>
                    <a:pt x="88" y="39"/>
                  </a:lnTo>
                  <a:lnTo>
                    <a:pt x="87" y="47"/>
                  </a:lnTo>
                  <a:lnTo>
                    <a:pt x="80" y="54"/>
                  </a:lnTo>
                  <a:lnTo>
                    <a:pt x="34" y="60"/>
                  </a:lnTo>
                  <a:lnTo>
                    <a:pt x="29" y="55"/>
                  </a:lnTo>
                  <a:lnTo>
                    <a:pt x="22" y="50"/>
                  </a:lnTo>
                  <a:lnTo>
                    <a:pt x="15" y="47"/>
                  </a:lnTo>
                  <a:lnTo>
                    <a:pt x="8" y="43"/>
                  </a:lnTo>
                  <a:lnTo>
                    <a:pt x="3" y="39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5" y="0"/>
                  </a:lnTo>
                  <a:lnTo>
                    <a:pt x="56" y="2"/>
                  </a:lnTo>
                  <a:lnTo>
                    <a:pt x="67" y="7"/>
                  </a:lnTo>
                  <a:lnTo>
                    <a:pt x="75" y="12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84800" y="1982880"/>
              <a:ext cx="32040" cy="112680"/>
            </a:xfrm>
            <a:custGeom>
              <a:avLst/>
              <a:gdLst/>
              <a:ahLst/>
              <a:rect l="l" t="t" r="r" b="b"/>
              <a:pathLst>
                <a:path w="39" h="140">
                  <a:moveTo>
                    <a:pt x="36" y="9"/>
                  </a:moveTo>
                  <a:lnTo>
                    <a:pt x="39" y="24"/>
                  </a:lnTo>
                  <a:lnTo>
                    <a:pt x="39" y="38"/>
                  </a:lnTo>
                  <a:lnTo>
                    <a:pt x="38" y="53"/>
                  </a:lnTo>
                  <a:lnTo>
                    <a:pt x="34" y="65"/>
                  </a:lnTo>
                  <a:lnTo>
                    <a:pt x="30" y="79"/>
                  </a:lnTo>
                  <a:lnTo>
                    <a:pt x="24" y="92"/>
                  </a:lnTo>
                  <a:lnTo>
                    <a:pt x="17" y="103"/>
                  </a:lnTo>
                  <a:lnTo>
                    <a:pt x="9" y="115"/>
                  </a:lnTo>
                  <a:lnTo>
                    <a:pt x="9" y="122"/>
                  </a:lnTo>
                  <a:lnTo>
                    <a:pt x="8" y="128"/>
                  </a:lnTo>
                  <a:lnTo>
                    <a:pt x="5" y="135"/>
                  </a:lnTo>
                  <a:lnTo>
                    <a:pt x="3" y="140"/>
                  </a:lnTo>
                  <a:lnTo>
                    <a:pt x="0" y="140"/>
                  </a:lnTo>
                  <a:lnTo>
                    <a:pt x="1" y="105"/>
                  </a:lnTo>
                  <a:lnTo>
                    <a:pt x="8" y="70"/>
                  </a:lnTo>
                  <a:lnTo>
                    <a:pt x="16" y="3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29360" y="1989000"/>
              <a:ext cx="17640" cy="223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7"/>
                  </a:moveTo>
                  <a:lnTo>
                    <a:pt x="20" y="13"/>
                  </a:lnTo>
                  <a:lnTo>
                    <a:pt x="19" y="17"/>
                  </a:lnTo>
                  <a:lnTo>
                    <a:pt x="15" y="22"/>
                  </a:lnTo>
                  <a:lnTo>
                    <a:pt x="12" y="26"/>
                  </a:lnTo>
                  <a:lnTo>
                    <a:pt x="5" y="25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3" y="7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1120" y="2006640"/>
              <a:ext cx="33480" cy="5724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41" y="2"/>
                  </a:moveTo>
                  <a:lnTo>
                    <a:pt x="38" y="22"/>
                  </a:lnTo>
                  <a:lnTo>
                    <a:pt x="32" y="39"/>
                  </a:lnTo>
                  <a:lnTo>
                    <a:pt x="25" y="56"/>
                  </a:lnTo>
                  <a:lnTo>
                    <a:pt x="14" y="71"/>
                  </a:lnTo>
                  <a:lnTo>
                    <a:pt x="9" y="71"/>
                  </a:lnTo>
                  <a:lnTo>
                    <a:pt x="5" y="68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4" y="44"/>
                  </a:lnTo>
                  <a:lnTo>
                    <a:pt x="12" y="27"/>
                  </a:lnTo>
                  <a:lnTo>
                    <a:pt x="21" y="14"/>
                  </a:lnTo>
                  <a:lnTo>
                    <a:pt x="29" y="0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59240" y="2019240"/>
              <a:ext cx="47880" cy="36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9"/>
                  </a:moveTo>
                  <a:lnTo>
                    <a:pt x="60" y="17"/>
                  </a:lnTo>
                  <a:lnTo>
                    <a:pt x="57" y="25"/>
                  </a:lnTo>
                  <a:lnTo>
                    <a:pt x="51" y="33"/>
                  </a:lnTo>
                  <a:lnTo>
                    <a:pt x="46" y="41"/>
                  </a:lnTo>
                  <a:lnTo>
                    <a:pt x="41" y="44"/>
                  </a:lnTo>
                  <a:lnTo>
                    <a:pt x="36" y="45"/>
                  </a:lnTo>
                  <a:lnTo>
                    <a:pt x="29" y="46"/>
                  </a:lnTo>
                  <a:lnTo>
                    <a:pt x="23" y="45"/>
                  </a:lnTo>
                  <a:lnTo>
                    <a:pt x="18" y="44"/>
                  </a:lnTo>
                  <a:lnTo>
                    <a:pt x="12" y="43"/>
                  </a:lnTo>
                  <a:lnTo>
                    <a:pt x="6" y="41"/>
                  </a:lnTo>
                  <a:lnTo>
                    <a:pt x="0" y="41"/>
                  </a:lnTo>
                  <a:lnTo>
                    <a:pt x="5" y="29"/>
                  </a:lnTo>
                  <a:lnTo>
                    <a:pt x="12" y="18"/>
                  </a:lnTo>
                  <a:lnTo>
                    <a:pt x="22" y="9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86440" y="2022480"/>
              <a:ext cx="34920" cy="1440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7"/>
                  </a:moveTo>
                  <a:lnTo>
                    <a:pt x="39" y="13"/>
                  </a:lnTo>
                  <a:lnTo>
                    <a:pt x="32" y="16"/>
                  </a:lnTo>
                  <a:lnTo>
                    <a:pt x="24" y="19"/>
                  </a:lnTo>
                  <a:lnTo>
                    <a:pt x="16" y="20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39" y="4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08680" y="2023920"/>
              <a:ext cx="60480" cy="39960"/>
            </a:xfrm>
            <a:custGeom>
              <a:avLst/>
              <a:gdLst/>
              <a:ahLst/>
              <a:rect l="l" t="t" r="r" b="b"/>
              <a:pathLst>
                <a:path w="78" h="51">
                  <a:moveTo>
                    <a:pt x="78" y="30"/>
                  </a:moveTo>
                  <a:lnTo>
                    <a:pt x="72" y="37"/>
                  </a:lnTo>
                  <a:lnTo>
                    <a:pt x="66" y="43"/>
                  </a:lnTo>
                  <a:lnTo>
                    <a:pt x="59" y="47"/>
                  </a:lnTo>
                  <a:lnTo>
                    <a:pt x="52" y="48"/>
                  </a:lnTo>
                  <a:lnTo>
                    <a:pt x="44" y="49"/>
                  </a:lnTo>
                  <a:lnTo>
                    <a:pt x="36" y="50"/>
                  </a:lnTo>
                  <a:lnTo>
                    <a:pt x="28" y="50"/>
                  </a:lnTo>
                  <a:lnTo>
                    <a:pt x="20" y="51"/>
                  </a:lnTo>
                  <a:lnTo>
                    <a:pt x="14" y="43"/>
                  </a:lnTo>
                  <a:lnTo>
                    <a:pt x="6" y="36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11" y="14"/>
                  </a:lnTo>
                  <a:lnTo>
                    <a:pt x="21" y="9"/>
                  </a:lnTo>
                  <a:lnTo>
                    <a:pt x="35" y="3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4"/>
                  </a:lnTo>
                  <a:lnTo>
                    <a:pt x="76" y="14"/>
                  </a:lnTo>
                  <a:lnTo>
                    <a:pt x="7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4840" y="203184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6" y="2"/>
                  </a:moveTo>
                  <a:lnTo>
                    <a:pt x="23" y="14"/>
                  </a:lnTo>
                  <a:lnTo>
                    <a:pt x="22" y="26"/>
                  </a:lnTo>
                  <a:lnTo>
                    <a:pt x="17" y="38"/>
                  </a:lnTo>
                  <a:lnTo>
                    <a:pt x="6" y="45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7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6760" y="2049480"/>
              <a:ext cx="20520" cy="460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26" y="23"/>
                  </a:moveTo>
                  <a:lnTo>
                    <a:pt x="0" y="57"/>
                  </a:lnTo>
                  <a:lnTo>
                    <a:pt x="4" y="48"/>
                  </a:lnTo>
                  <a:lnTo>
                    <a:pt x="5" y="39"/>
                  </a:lnTo>
                  <a:lnTo>
                    <a:pt x="4" y="29"/>
                  </a:lnTo>
                  <a:lnTo>
                    <a:pt x="4" y="18"/>
                  </a:lnTo>
                  <a:lnTo>
                    <a:pt x="4" y="9"/>
                  </a:lnTo>
                  <a:lnTo>
                    <a:pt x="7" y="3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62600" y="2055960"/>
              <a:ext cx="1301760" cy="345960"/>
            </a:xfrm>
            <a:custGeom>
              <a:avLst/>
              <a:gdLst/>
              <a:ahLst/>
              <a:rect l="l" t="t" r="r" b="b"/>
              <a:pathLst>
                <a:path w="1641" h="435">
                  <a:moveTo>
                    <a:pt x="577" y="7"/>
                  </a:moveTo>
                  <a:lnTo>
                    <a:pt x="570" y="15"/>
                  </a:lnTo>
                  <a:lnTo>
                    <a:pt x="563" y="23"/>
                  </a:lnTo>
                  <a:lnTo>
                    <a:pt x="559" y="32"/>
                  </a:lnTo>
                  <a:lnTo>
                    <a:pt x="561" y="42"/>
                  </a:lnTo>
                  <a:lnTo>
                    <a:pt x="569" y="46"/>
                  </a:lnTo>
                  <a:lnTo>
                    <a:pt x="576" y="47"/>
                  </a:lnTo>
                  <a:lnTo>
                    <a:pt x="583" y="46"/>
                  </a:lnTo>
                  <a:lnTo>
                    <a:pt x="590" y="42"/>
                  </a:lnTo>
                  <a:lnTo>
                    <a:pt x="597" y="39"/>
                  </a:lnTo>
                  <a:lnTo>
                    <a:pt x="604" y="37"/>
                  </a:lnTo>
                  <a:lnTo>
                    <a:pt x="612" y="36"/>
                  </a:lnTo>
                  <a:lnTo>
                    <a:pt x="620" y="37"/>
                  </a:lnTo>
                  <a:lnTo>
                    <a:pt x="619" y="44"/>
                  </a:lnTo>
                  <a:lnTo>
                    <a:pt x="615" y="50"/>
                  </a:lnTo>
                  <a:lnTo>
                    <a:pt x="610" y="57"/>
                  </a:lnTo>
                  <a:lnTo>
                    <a:pt x="604" y="64"/>
                  </a:lnTo>
                  <a:lnTo>
                    <a:pt x="599" y="71"/>
                  </a:lnTo>
                  <a:lnTo>
                    <a:pt x="598" y="79"/>
                  </a:lnTo>
                  <a:lnTo>
                    <a:pt x="600" y="86"/>
                  </a:lnTo>
                  <a:lnTo>
                    <a:pt x="607" y="94"/>
                  </a:lnTo>
                  <a:lnTo>
                    <a:pt x="620" y="94"/>
                  </a:lnTo>
                  <a:lnTo>
                    <a:pt x="612" y="103"/>
                  </a:lnTo>
                  <a:lnTo>
                    <a:pt x="606" y="115"/>
                  </a:lnTo>
                  <a:lnTo>
                    <a:pt x="603" y="127"/>
                  </a:lnTo>
                  <a:lnTo>
                    <a:pt x="599" y="138"/>
                  </a:lnTo>
                  <a:lnTo>
                    <a:pt x="602" y="140"/>
                  </a:lnTo>
                  <a:lnTo>
                    <a:pt x="605" y="140"/>
                  </a:lnTo>
                  <a:lnTo>
                    <a:pt x="608" y="140"/>
                  </a:lnTo>
                  <a:lnTo>
                    <a:pt x="611" y="140"/>
                  </a:lnTo>
                  <a:lnTo>
                    <a:pt x="620" y="130"/>
                  </a:lnTo>
                  <a:lnTo>
                    <a:pt x="628" y="120"/>
                  </a:lnTo>
                  <a:lnTo>
                    <a:pt x="636" y="108"/>
                  </a:lnTo>
                  <a:lnTo>
                    <a:pt x="644" y="98"/>
                  </a:lnTo>
                  <a:lnTo>
                    <a:pt x="652" y="87"/>
                  </a:lnTo>
                  <a:lnTo>
                    <a:pt x="661" y="78"/>
                  </a:lnTo>
                  <a:lnTo>
                    <a:pt x="671" y="68"/>
                  </a:lnTo>
                  <a:lnTo>
                    <a:pt x="682" y="60"/>
                  </a:lnTo>
                  <a:lnTo>
                    <a:pt x="682" y="69"/>
                  </a:lnTo>
                  <a:lnTo>
                    <a:pt x="682" y="80"/>
                  </a:lnTo>
                  <a:lnTo>
                    <a:pt x="684" y="91"/>
                  </a:lnTo>
                  <a:lnTo>
                    <a:pt x="690" y="100"/>
                  </a:lnTo>
                  <a:lnTo>
                    <a:pt x="701" y="98"/>
                  </a:lnTo>
                  <a:lnTo>
                    <a:pt x="709" y="92"/>
                  </a:lnTo>
                  <a:lnTo>
                    <a:pt x="716" y="84"/>
                  </a:lnTo>
                  <a:lnTo>
                    <a:pt x="720" y="75"/>
                  </a:lnTo>
                  <a:lnTo>
                    <a:pt x="725" y="64"/>
                  </a:lnTo>
                  <a:lnTo>
                    <a:pt x="729" y="54"/>
                  </a:lnTo>
                  <a:lnTo>
                    <a:pt x="735" y="45"/>
                  </a:lnTo>
                  <a:lnTo>
                    <a:pt x="742" y="37"/>
                  </a:lnTo>
                  <a:lnTo>
                    <a:pt x="746" y="32"/>
                  </a:lnTo>
                  <a:lnTo>
                    <a:pt x="750" y="27"/>
                  </a:lnTo>
                  <a:lnTo>
                    <a:pt x="755" y="24"/>
                  </a:lnTo>
                  <a:lnTo>
                    <a:pt x="759" y="21"/>
                  </a:lnTo>
                  <a:lnTo>
                    <a:pt x="765" y="17"/>
                  </a:lnTo>
                  <a:lnTo>
                    <a:pt x="770" y="14"/>
                  </a:lnTo>
                  <a:lnTo>
                    <a:pt x="775" y="10"/>
                  </a:lnTo>
                  <a:lnTo>
                    <a:pt x="780" y="7"/>
                  </a:lnTo>
                  <a:lnTo>
                    <a:pt x="803" y="10"/>
                  </a:lnTo>
                  <a:lnTo>
                    <a:pt x="799" y="16"/>
                  </a:lnTo>
                  <a:lnTo>
                    <a:pt x="793" y="21"/>
                  </a:lnTo>
                  <a:lnTo>
                    <a:pt x="787" y="26"/>
                  </a:lnTo>
                  <a:lnTo>
                    <a:pt x="781" y="32"/>
                  </a:lnTo>
                  <a:lnTo>
                    <a:pt x="775" y="38"/>
                  </a:lnTo>
                  <a:lnTo>
                    <a:pt x="771" y="44"/>
                  </a:lnTo>
                  <a:lnTo>
                    <a:pt x="769" y="50"/>
                  </a:lnTo>
                  <a:lnTo>
                    <a:pt x="767" y="57"/>
                  </a:lnTo>
                  <a:lnTo>
                    <a:pt x="774" y="64"/>
                  </a:lnTo>
                  <a:lnTo>
                    <a:pt x="780" y="71"/>
                  </a:lnTo>
                  <a:lnTo>
                    <a:pt x="782" y="79"/>
                  </a:lnTo>
                  <a:lnTo>
                    <a:pt x="780" y="90"/>
                  </a:lnTo>
                  <a:lnTo>
                    <a:pt x="775" y="100"/>
                  </a:lnTo>
                  <a:lnTo>
                    <a:pt x="770" y="110"/>
                  </a:lnTo>
                  <a:lnTo>
                    <a:pt x="766" y="121"/>
                  </a:lnTo>
                  <a:lnTo>
                    <a:pt x="771" y="130"/>
                  </a:lnTo>
                  <a:lnTo>
                    <a:pt x="779" y="125"/>
                  </a:lnTo>
                  <a:lnTo>
                    <a:pt x="787" y="118"/>
                  </a:lnTo>
                  <a:lnTo>
                    <a:pt x="794" y="110"/>
                  </a:lnTo>
                  <a:lnTo>
                    <a:pt x="800" y="102"/>
                  </a:lnTo>
                  <a:lnTo>
                    <a:pt x="804" y="94"/>
                  </a:lnTo>
                  <a:lnTo>
                    <a:pt x="808" y="85"/>
                  </a:lnTo>
                  <a:lnTo>
                    <a:pt x="810" y="76"/>
                  </a:lnTo>
                  <a:lnTo>
                    <a:pt x="810" y="67"/>
                  </a:lnTo>
                  <a:lnTo>
                    <a:pt x="807" y="61"/>
                  </a:lnTo>
                  <a:lnTo>
                    <a:pt x="801" y="56"/>
                  </a:lnTo>
                  <a:lnTo>
                    <a:pt x="795" y="54"/>
                  </a:lnTo>
                  <a:lnTo>
                    <a:pt x="788" y="53"/>
                  </a:lnTo>
                  <a:lnTo>
                    <a:pt x="793" y="47"/>
                  </a:lnTo>
                  <a:lnTo>
                    <a:pt x="799" y="45"/>
                  </a:lnTo>
                  <a:lnTo>
                    <a:pt x="803" y="46"/>
                  </a:lnTo>
                  <a:lnTo>
                    <a:pt x="808" y="48"/>
                  </a:lnTo>
                  <a:lnTo>
                    <a:pt x="812" y="53"/>
                  </a:lnTo>
                  <a:lnTo>
                    <a:pt x="818" y="56"/>
                  </a:lnTo>
                  <a:lnTo>
                    <a:pt x="823" y="60"/>
                  </a:lnTo>
                  <a:lnTo>
                    <a:pt x="828" y="62"/>
                  </a:lnTo>
                  <a:lnTo>
                    <a:pt x="840" y="61"/>
                  </a:lnTo>
                  <a:lnTo>
                    <a:pt x="852" y="61"/>
                  </a:lnTo>
                  <a:lnTo>
                    <a:pt x="863" y="62"/>
                  </a:lnTo>
                  <a:lnTo>
                    <a:pt x="876" y="63"/>
                  </a:lnTo>
                  <a:lnTo>
                    <a:pt x="887" y="63"/>
                  </a:lnTo>
                  <a:lnTo>
                    <a:pt x="899" y="63"/>
                  </a:lnTo>
                  <a:lnTo>
                    <a:pt x="910" y="61"/>
                  </a:lnTo>
                  <a:lnTo>
                    <a:pt x="922" y="57"/>
                  </a:lnTo>
                  <a:lnTo>
                    <a:pt x="918" y="69"/>
                  </a:lnTo>
                  <a:lnTo>
                    <a:pt x="913" y="75"/>
                  </a:lnTo>
                  <a:lnTo>
                    <a:pt x="906" y="74"/>
                  </a:lnTo>
                  <a:lnTo>
                    <a:pt x="898" y="71"/>
                  </a:lnTo>
                  <a:lnTo>
                    <a:pt x="890" y="69"/>
                  </a:lnTo>
                  <a:lnTo>
                    <a:pt x="883" y="68"/>
                  </a:lnTo>
                  <a:lnTo>
                    <a:pt x="878" y="72"/>
                  </a:lnTo>
                  <a:lnTo>
                    <a:pt x="877" y="83"/>
                  </a:lnTo>
                  <a:lnTo>
                    <a:pt x="883" y="87"/>
                  </a:lnTo>
                  <a:lnTo>
                    <a:pt x="890" y="90"/>
                  </a:lnTo>
                  <a:lnTo>
                    <a:pt x="898" y="92"/>
                  </a:lnTo>
                  <a:lnTo>
                    <a:pt x="906" y="93"/>
                  </a:lnTo>
                  <a:lnTo>
                    <a:pt x="911" y="95"/>
                  </a:lnTo>
                  <a:lnTo>
                    <a:pt x="917" y="99"/>
                  </a:lnTo>
                  <a:lnTo>
                    <a:pt x="920" y="106"/>
                  </a:lnTo>
                  <a:lnTo>
                    <a:pt x="920" y="115"/>
                  </a:lnTo>
                  <a:lnTo>
                    <a:pt x="914" y="132"/>
                  </a:lnTo>
                  <a:lnTo>
                    <a:pt x="911" y="124"/>
                  </a:lnTo>
                  <a:lnTo>
                    <a:pt x="907" y="117"/>
                  </a:lnTo>
                  <a:lnTo>
                    <a:pt x="902" y="110"/>
                  </a:lnTo>
                  <a:lnTo>
                    <a:pt x="895" y="106"/>
                  </a:lnTo>
                  <a:lnTo>
                    <a:pt x="888" y="107"/>
                  </a:lnTo>
                  <a:lnTo>
                    <a:pt x="883" y="109"/>
                  </a:lnTo>
                  <a:lnTo>
                    <a:pt x="878" y="113"/>
                  </a:lnTo>
                  <a:lnTo>
                    <a:pt x="873" y="116"/>
                  </a:lnTo>
                  <a:lnTo>
                    <a:pt x="869" y="121"/>
                  </a:lnTo>
                  <a:lnTo>
                    <a:pt x="865" y="127"/>
                  </a:lnTo>
                  <a:lnTo>
                    <a:pt x="861" y="131"/>
                  </a:lnTo>
                  <a:lnTo>
                    <a:pt x="856" y="136"/>
                  </a:lnTo>
                  <a:lnTo>
                    <a:pt x="854" y="146"/>
                  </a:lnTo>
                  <a:lnTo>
                    <a:pt x="855" y="156"/>
                  </a:lnTo>
                  <a:lnTo>
                    <a:pt x="858" y="166"/>
                  </a:lnTo>
                  <a:lnTo>
                    <a:pt x="863" y="175"/>
                  </a:lnTo>
                  <a:lnTo>
                    <a:pt x="849" y="174"/>
                  </a:lnTo>
                  <a:lnTo>
                    <a:pt x="840" y="169"/>
                  </a:lnTo>
                  <a:lnTo>
                    <a:pt x="837" y="162"/>
                  </a:lnTo>
                  <a:lnTo>
                    <a:pt x="835" y="152"/>
                  </a:lnTo>
                  <a:lnTo>
                    <a:pt x="837" y="142"/>
                  </a:lnTo>
                  <a:lnTo>
                    <a:pt x="838" y="130"/>
                  </a:lnTo>
                  <a:lnTo>
                    <a:pt x="839" y="120"/>
                  </a:lnTo>
                  <a:lnTo>
                    <a:pt x="839" y="109"/>
                  </a:lnTo>
                  <a:lnTo>
                    <a:pt x="840" y="103"/>
                  </a:lnTo>
                  <a:lnTo>
                    <a:pt x="838" y="98"/>
                  </a:lnTo>
                  <a:lnTo>
                    <a:pt x="833" y="94"/>
                  </a:lnTo>
                  <a:lnTo>
                    <a:pt x="828" y="92"/>
                  </a:lnTo>
                  <a:lnTo>
                    <a:pt x="818" y="95"/>
                  </a:lnTo>
                  <a:lnTo>
                    <a:pt x="816" y="112"/>
                  </a:lnTo>
                  <a:lnTo>
                    <a:pt x="811" y="128"/>
                  </a:lnTo>
                  <a:lnTo>
                    <a:pt x="805" y="145"/>
                  </a:lnTo>
                  <a:lnTo>
                    <a:pt x="801" y="162"/>
                  </a:lnTo>
                  <a:lnTo>
                    <a:pt x="799" y="178"/>
                  </a:lnTo>
                  <a:lnTo>
                    <a:pt x="801" y="193"/>
                  </a:lnTo>
                  <a:lnTo>
                    <a:pt x="810" y="206"/>
                  </a:lnTo>
                  <a:lnTo>
                    <a:pt x="826" y="216"/>
                  </a:lnTo>
                  <a:lnTo>
                    <a:pt x="835" y="218"/>
                  </a:lnTo>
                  <a:lnTo>
                    <a:pt x="845" y="219"/>
                  </a:lnTo>
                  <a:lnTo>
                    <a:pt x="854" y="219"/>
                  </a:lnTo>
                  <a:lnTo>
                    <a:pt x="863" y="218"/>
                  </a:lnTo>
                  <a:lnTo>
                    <a:pt x="871" y="215"/>
                  </a:lnTo>
                  <a:lnTo>
                    <a:pt x="879" y="211"/>
                  </a:lnTo>
                  <a:lnTo>
                    <a:pt x="886" y="205"/>
                  </a:lnTo>
                  <a:lnTo>
                    <a:pt x="891" y="196"/>
                  </a:lnTo>
                  <a:lnTo>
                    <a:pt x="891" y="180"/>
                  </a:lnTo>
                  <a:lnTo>
                    <a:pt x="887" y="165"/>
                  </a:lnTo>
                  <a:lnTo>
                    <a:pt x="885" y="148"/>
                  </a:lnTo>
                  <a:lnTo>
                    <a:pt x="887" y="132"/>
                  </a:lnTo>
                  <a:lnTo>
                    <a:pt x="893" y="140"/>
                  </a:lnTo>
                  <a:lnTo>
                    <a:pt x="898" y="151"/>
                  </a:lnTo>
                  <a:lnTo>
                    <a:pt x="903" y="161"/>
                  </a:lnTo>
                  <a:lnTo>
                    <a:pt x="914" y="167"/>
                  </a:lnTo>
                  <a:lnTo>
                    <a:pt x="923" y="163"/>
                  </a:lnTo>
                  <a:lnTo>
                    <a:pt x="932" y="160"/>
                  </a:lnTo>
                  <a:lnTo>
                    <a:pt x="939" y="154"/>
                  </a:lnTo>
                  <a:lnTo>
                    <a:pt x="944" y="145"/>
                  </a:lnTo>
                  <a:lnTo>
                    <a:pt x="945" y="130"/>
                  </a:lnTo>
                  <a:lnTo>
                    <a:pt x="946" y="114"/>
                  </a:lnTo>
                  <a:lnTo>
                    <a:pt x="944" y="99"/>
                  </a:lnTo>
                  <a:lnTo>
                    <a:pt x="934" y="87"/>
                  </a:lnTo>
                  <a:lnTo>
                    <a:pt x="937" y="80"/>
                  </a:lnTo>
                  <a:lnTo>
                    <a:pt x="941" y="75"/>
                  </a:lnTo>
                  <a:lnTo>
                    <a:pt x="946" y="70"/>
                  </a:lnTo>
                  <a:lnTo>
                    <a:pt x="952" y="64"/>
                  </a:lnTo>
                  <a:lnTo>
                    <a:pt x="959" y="61"/>
                  </a:lnTo>
                  <a:lnTo>
                    <a:pt x="966" y="57"/>
                  </a:lnTo>
                  <a:lnTo>
                    <a:pt x="973" y="55"/>
                  </a:lnTo>
                  <a:lnTo>
                    <a:pt x="979" y="53"/>
                  </a:lnTo>
                  <a:lnTo>
                    <a:pt x="987" y="64"/>
                  </a:lnTo>
                  <a:lnTo>
                    <a:pt x="986" y="79"/>
                  </a:lnTo>
                  <a:lnTo>
                    <a:pt x="983" y="94"/>
                  </a:lnTo>
                  <a:lnTo>
                    <a:pt x="982" y="109"/>
                  </a:lnTo>
                  <a:lnTo>
                    <a:pt x="974" y="125"/>
                  </a:lnTo>
                  <a:lnTo>
                    <a:pt x="966" y="142"/>
                  </a:lnTo>
                  <a:lnTo>
                    <a:pt x="960" y="159"/>
                  </a:lnTo>
                  <a:lnTo>
                    <a:pt x="961" y="177"/>
                  </a:lnTo>
                  <a:lnTo>
                    <a:pt x="964" y="185"/>
                  </a:lnTo>
                  <a:lnTo>
                    <a:pt x="970" y="190"/>
                  </a:lnTo>
                  <a:lnTo>
                    <a:pt x="976" y="192"/>
                  </a:lnTo>
                  <a:lnTo>
                    <a:pt x="984" y="192"/>
                  </a:lnTo>
                  <a:lnTo>
                    <a:pt x="991" y="192"/>
                  </a:lnTo>
                  <a:lnTo>
                    <a:pt x="999" y="191"/>
                  </a:lnTo>
                  <a:lnTo>
                    <a:pt x="1007" y="189"/>
                  </a:lnTo>
                  <a:lnTo>
                    <a:pt x="1014" y="188"/>
                  </a:lnTo>
                  <a:lnTo>
                    <a:pt x="1020" y="185"/>
                  </a:lnTo>
                  <a:lnTo>
                    <a:pt x="1026" y="182"/>
                  </a:lnTo>
                  <a:lnTo>
                    <a:pt x="1031" y="177"/>
                  </a:lnTo>
                  <a:lnTo>
                    <a:pt x="1037" y="171"/>
                  </a:lnTo>
                  <a:lnTo>
                    <a:pt x="1042" y="167"/>
                  </a:lnTo>
                  <a:lnTo>
                    <a:pt x="1046" y="161"/>
                  </a:lnTo>
                  <a:lnTo>
                    <a:pt x="1050" y="154"/>
                  </a:lnTo>
                  <a:lnTo>
                    <a:pt x="1052" y="148"/>
                  </a:lnTo>
                  <a:lnTo>
                    <a:pt x="1047" y="136"/>
                  </a:lnTo>
                  <a:lnTo>
                    <a:pt x="1043" y="123"/>
                  </a:lnTo>
                  <a:lnTo>
                    <a:pt x="1041" y="110"/>
                  </a:lnTo>
                  <a:lnTo>
                    <a:pt x="1045" y="98"/>
                  </a:lnTo>
                  <a:lnTo>
                    <a:pt x="1049" y="94"/>
                  </a:lnTo>
                  <a:lnTo>
                    <a:pt x="1052" y="91"/>
                  </a:lnTo>
                  <a:lnTo>
                    <a:pt x="1054" y="87"/>
                  </a:lnTo>
                  <a:lnTo>
                    <a:pt x="1054" y="82"/>
                  </a:lnTo>
                  <a:lnTo>
                    <a:pt x="1050" y="78"/>
                  </a:lnTo>
                  <a:lnTo>
                    <a:pt x="1045" y="77"/>
                  </a:lnTo>
                  <a:lnTo>
                    <a:pt x="1039" y="78"/>
                  </a:lnTo>
                  <a:lnTo>
                    <a:pt x="1035" y="82"/>
                  </a:lnTo>
                  <a:lnTo>
                    <a:pt x="1027" y="93"/>
                  </a:lnTo>
                  <a:lnTo>
                    <a:pt x="1022" y="107"/>
                  </a:lnTo>
                  <a:lnTo>
                    <a:pt x="1022" y="122"/>
                  </a:lnTo>
                  <a:lnTo>
                    <a:pt x="1026" y="136"/>
                  </a:lnTo>
                  <a:lnTo>
                    <a:pt x="1030" y="143"/>
                  </a:lnTo>
                  <a:lnTo>
                    <a:pt x="1026" y="146"/>
                  </a:lnTo>
                  <a:lnTo>
                    <a:pt x="1020" y="148"/>
                  </a:lnTo>
                  <a:lnTo>
                    <a:pt x="1014" y="152"/>
                  </a:lnTo>
                  <a:lnTo>
                    <a:pt x="1008" y="154"/>
                  </a:lnTo>
                  <a:lnTo>
                    <a:pt x="1002" y="156"/>
                  </a:lnTo>
                  <a:lnTo>
                    <a:pt x="996" y="159"/>
                  </a:lnTo>
                  <a:lnTo>
                    <a:pt x="989" y="159"/>
                  </a:lnTo>
                  <a:lnTo>
                    <a:pt x="982" y="159"/>
                  </a:lnTo>
                  <a:lnTo>
                    <a:pt x="989" y="142"/>
                  </a:lnTo>
                  <a:lnTo>
                    <a:pt x="999" y="124"/>
                  </a:lnTo>
                  <a:lnTo>
                    <a:pt x="1008" y="106"/>
                  </a:lnTo>
                  <a:lnTo>
                    <a:pt x="1014" y="87"/>
                  </a:lnTo>
                  <a:lnTo>
                    <a:pt x="1026" y="78"/>
                  </a:lnTo>
                  <a:lnTo>
                    <a:pt x="1037" y="69"/>
                  </a:lnTo>
                  <a:lnTo>
                    <a:pt x="1049" y="60"/>
                  </a:lnTo>
                  <a:lnTo>
                    <a:pt x="1061" y="52"/>
                  </a:lnTo>
                  <a:lnTo>
                    <a:pt x="1073" y="45"/>
                  </a:lnTo>
                  <a:lnTo>
                    <a:pt x="1087" y="40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13" y="54"/>
                  </a:lnTo>
                  <a:lnTo>
                    <a:pt x="1114" y="69"/>
                  </a:lnTo>
                  <a:lnTo>
                    <a:pt x="1118" y="84"/>
                  </a:lnTo>
                  <a:lnTo>
                    <a:pt x="1122" y="98"/>
                  </a:lnTo>
                  <a:lnTo>
                    <a:pt x="1129" y="110"/>
                  </a:lnTo>
                  <a:lnTo>
                    <a:pt x="1138" y="123"/>
                  </a:lnTo>
                  <a:lnTo>
                    <a:pt x="1150" y="133"/>
                  </a:lnTo>
                  <a:lnTo>
                    <a:pt x="1163" y="145"/>
                  </a:lnTo>
                  <a:lnTo>
                    <a:pt x="1167" y="145"/>
                  </a:lnTo>
                  <a:lnTo>
                    <a:pt x="1172" y="144"/>
                  </a:lnTo>
                  <a:lnTo>
                    <a:pt x="1175" y="140"/>
                  </a:lnTo>
                  <a:lnTo>
                    <a:pt x="1178" y="136"/>
                  </a:lnTo>
                  <a:lnTo>
                    <a:pt x="1153" y="110"/>
                  </a:lnTo>
                  <a:lnTo>
                    <a:pt x="1174" y="107"/>
                  </a:lnTo>
                  <a:lnTo>
                    <a:pt x="1195" y="99"/>
                  </a:lnTo>
                  <a:lnTo>
                    <a:pt x="1214" y="87"/>
                  </a:lnTo>
                  <a:lnTo>
                    <a:pt x="1234" y="75"/>
                  </a:lnTo>
                  <a:lnTo>
                    <a:pt x="1255" y="64"/>
                  </a:lnTo>
                  <a:lnTo>
                    <a:pt x="1276" y="57"/>
                  </a:lnTo>
                  <a:lnTo>
                    <a:pt x="1297" y="56"/>
                  </a:lnTo>
                  <a:lnTo>
                    <a:pt x="1322" y="63"/>
                  </a:lnTo>
                  <a:lnTo>
                    <a:pt x="1316" y="77"/>
                  </a:lnTo>
                  <a:lnTo>
                    <a:pt x="1308" y="91"/>
                  </a:lnTo>
                  <a:lnTo>
                    <a:pt x="1304" y="103"/>
                  </a:lnTo>
                  <a:lnTo>
                    <a:pt x="1311" y="115"/>
                  </a:lnTo>
                  <a:lnTo>
                    <a:pt x="1319" y="112"/>
                  </a:lnTo>
                  <a:lnTo>
                    <a:pt x="1327" y="107"/>
                  </a:lnTo>
                  <a:lnTo>
                    <a:pt x="1335" y="102"/>
                  </a:lnTo>
                  <a:lnTo>
                    <a:pt x="1344" y="100"/>
                  </a:lnTo>
                  <a:lnTo>
                    <a:pt x="1353" y="98"/>
                  </a:lnTo>
                  <a:lnTo>
                    <a:pt x="1361" y="98"/>
                  </a:lnTo>
                  <a:lnTo>
                    <a:pt x="1369" y="100"/>
                  </a:lnTo>
                  <a:lnTo>
                    <a:pt x="1377" y="106"/>
                  </a:lnTo>
                  <a:lnTo>
                    <a:pt x="1385" y="117"/>
                  </a:lnTo>
                  <a:lnTo>
                    <a:pt x="1386" y="132"/>
                  </a:lnTo>
                  <a:lnTo>
                    <a:pt x="1385" y="150"/>
                  </a:lnTo>
                  <a:lnTo>
                    <a:pt x="1386" y="163"/>
                  </a:lnTo>
                  <a:lnTo>
                    <a:pt x="1388" y="180"/>
                  </a:lnTo>
                  <a:lnTo>
                    <a:pt x="1395" y="195"/>
                  </a:lnTo>
                  <a:lnTo>
                    <a:pt x="1406" y="206"/>
                  </a:lnTo>
                  <a:lnTo>
                    <a:pt x="1420" y="213"/>
                  </a:lnTo>
                  <a:lnTo>
                    <a:pt x="1426" y="212"/>
                  </a:lnTo>
                  <a:lnTo>
                    <a:pt x="1432" y="207"/>
                  </a:lnTo>
                  <a:lnTo>
                    <a:pt x="1436" y="203"/>
                  </a:lnTo>
                  <a:lnTo>
                    <a:pt x="1440" y="198"/>
                  </a:lnTo>
                  <a:lnTo>
                    <a:pt x="1430" y="191"/>
                  </a:lnTo>
                  <a:lnTo>
                    <a:pt x="1429" y="180"/>
                  </a:lnTo>
                  <a:lnTo>
                    <a:pt x="1429" y="167"/>
                  </a:lnTo>
                  <a:lnTo>
                    <a:pt x="1426" y="155"/>
                  </a:lnTo>
                  <a:lnTo>
                    <a:pt x="1469" y="152"/>
                  </a:lnTo>
                  <a:lnTo>
                    <a:pt x="1469" y="160"/>
                  </a:lnTo>
                  <a:lnTo>
                    <a:pt x="1465" y="168"/>
                  </a:lnTo>
                  <a:lnTo>
                    <a:pt x="1458" y="175"/>
                  </a:lnTo>
                  <a:lnTo>
                    <a:pt x="1452" y="183"/>
                  </a:lnTo>
                  <a:lnTo>
                    <a:pt x="1446" y="190"/>
                  </a:lnTo>
                  <a:lnTo>
                    <a:pt x="1445" y="196"/>
                  </a:lnTo>
                  <a:lnTo>
                    <a:pt x="1450" y="201"/>
                  </a:lnTo>
                  <a:lnTo>
                    <a:pt x="1460" y="206"/>
                  </a:lnTo>
                  <a:lnTo>
                    <a:pt x="1471" y="195"/>
                  </a:lnTo>
                  <a:lnTo>
                    <a:pt x="1481" y="183"/>
                  </a:lnTo>
                  <a:lnTo>
                    <a:pt x="1489" y="169"/>
                  </a:lnTo>
                  <a:lnTo>
                    <a:pt x="1494" y="155"/>
                  </a:lnTo>
                  <a:lnTo>
                    <a:pt x="1499" y="142"/>
                  </a:lnTo>
                  <a:lnTo>
                    <a:pt x="1504" y="127"/>
                  </a:lnTo>
                  <a:lnTo>
                    <a:pt x="1507" y="113"/>
                  </a:lnTo>
                  <a:lnTo>
                    <a:pt x="1512" y="98"/>
                  </a:lnTo>
                  <a:lnTo>
                    <a:pt x="1523" y="91"/>
                  </a:lnTo>
                  <a:lnTo>
                    <a:pt x="1535" y="86"/>
                  </a:lnTo>
                  <a:lnTo>
                    <a:pt x="1547" y="82"/>
                  </a:lnTo>
                  <a:lnTo>
                    <a:pt x="1561" y="79"/>
                  </a:lnTo>
                  <a:lnTo>
                    <a:pt x="1575" y="79"/>
                  </a:lnTo>
                  <a:lnTo>
                    <a:pt x="1589" y="79"/>
                  </a:lnTo>
                  <a:lnTo>
                    <a:pt x="1603" y="82"/>
                  </a:lnTo>
                  <a:lnTo>
                    <a:pt x="1615" y="85"/>
                  </a:lnTo>
                  <a:lnTo>
                    <a:pt x="1622" y="87"/>
                  </a:lnTo>
                  <a:lnTo>
                    <a:pt x="1629" y="92"/>
                  </a:lnTo>
                  <a:lnTo>
                    <a:pt x="1635" y="99"/>
                  </a:lnTo>
                  <a:lnTo>
                    <a:pt x="1640" y="105"/>
                  </a:lnTo>
                  <a:lnTo>
                    <a:pt x="1640" y="115"/>
                  </a:lnTo>
                  <a:lnTo>
                    <a:pt x="1641" y="125"/>
                  </a:lnTo>
                  <a:lnTo>
                    <a:pt x="1639" y="135"/>
                  </a:lnTo>
                  <a:lnTo>
                    <a:pt x="1629" y="140"/>
                  </a:lnTo>
                  <a:lnTo>
                    <a:pt x="1620" y="136"/>
                  </a:lnTo>
                  <a:lnTo>
                    <a:pt x="1612" y="131"/>
                  </a:lnTo>
                  <a:lnTo>
                    <a:pt x="1603" y="127"/>
                  </a:lnTo>
                  <a:lnTo>
                    <a:pt x="1592" y="122"/>
                  </a:lnTo>
                  <a:lnTo>
                    <a:pt x="1583" y="120"/>
                  </a:lnTo>
                  <a:lnTo>
                    <a:pt x="1573" y="118"/>
                  </a:lnTo>
                  <a:lnTo>
                    <a:pt x="1562" y="118"/>
                  </a:lnTo>
                  <a:lnTo>
                    <a:pt x="1552" y="121"/>
                  </a:lnTo>
                  <a:lnTo>
                    <a:pt x="1542" y="129"/>
                  </a:lnTo>
                  <a:lnTo>
                    <a:pt x="1531" y="137"/>
                  </a:lnTo>
                  <a:lnTo>
                    <a:pt x="1521" y="146"/>
                  </a:lnTo>
                  <a:lnTo>
                    <a:pt x="1512" y="155"/>
                  </a:lnTo>
                  <a:lnTo>
                    <a:pt x="1503" y="166"/>
                  </a:lnTo>
                  <a:lnTo>
                    <a:pt x="1494" y="176"/>
                  </a:lnTo>
                  <a:lnTo>
                    <a:pt x="1488" y="188"/>
                  </a:lnTo>
                  <a:lnTo>
                    <a:pt x="1482" y="198"/>
                  </a:lnTo>
                  <a:lnTo>
                    <a:pt x="1483" y="200"/>
                  </a:lnTo>
                  <a:lnTo>
                    <a:pt x="1483" y="204"/>
                  </a:lnTo>
                  <a:lnTo>
                    <a:pt x="1485" y="207"/>
                  </a:lnTo>
                  <a:lnTo>
                    <a:pt x="1488" y="209"/>
                  </a:lnTo>
                  <a:lnTo>
                    <a:pt x="1494" y="205"/>
                  </a:lnTo>
                  <a:lnTo>
                    <a:pt x="1500" y="201"/>
                  </a:lnTo>
                  <a:lnTo>
                    <a:pt x="1505" y="196"/>
                  </a:lnTo>
                  <a:lnTo>
                    <a:pt x="1511" y="191"/>
                  </a:lnTo>
                  <a:lnTo>
                    <a:pt x="1515" y="186"/>
                  </a:lnTo>
                  <a:lnTo>
                    <a:pt x="1520" y="181"/>
                  </a:lnTo>
                  <a:lnTo>
                    <a:pt x="1524" y="176"/>
                  </a:lnTo>
                  <a:lnTo>
                    <a:pt x="1530" y="170"/>
                  </a:lnTo>
                  <a:lnTo>
                    <a:pt x="1519" y="198"/>
                  </a:lnTo>
                  <a:lnTo>
                    <a:pt x="1512" y="230"/>
                  </a:lnTo>
                  <a:lnTo>
                    <a:pt x="1506" y="262"/>
                  </a:lnTo>
                  <a:lnTo>
                    <a:pt x="1499" y="295"/>
                  </a:lnTo>
                  <a:lnTo>
                    <a:pt x="1489" y="324"/>
                  </a:lnTo>
                  <a:lnTo>
                    <a:pt x="1473" y="348"/>
                  </a:lnTo>
                  <a:lnTo>
                    <a:pt x="1450" y="364"/>
                  </a:lnTo>
                  <a:lnTo>
                    <a:pt x="1416" y="372"/>
                  </a:lnTo>
                  <a:lnTo>
                    <a:pt x="1393" y="378"/>
                  </a:lnTo>
                  <a:lnTo>
                    <a:pt x="1370" y="382"/>
                  </a:lnTo>
                  <a:lnTo>
                    <a:pt x="1347" y="387"/>
                  </a:lnTo>
                  <a:lnTo>
                    <a:pt x="1323" y="392"/>
                  </a:lnTo>
                  <a:lnTo>
                    <a:pt x="1300" y="396"/>
                  </a:lnTo>
                  <a:lnTo>
                    <a:pt x="1277" y="401"/>
                  </a:lnTo>
                  <a:lnTo>
                    <a:pt x="1253" y="404"/>
                  </a:lnTo>
                  <a:lnTo>
                    <a:pt x="1229" y="409"/>
                  </a:lnTo>
                  <a:lnTo>
                    <a:pt x="1205" y="412"/>
                  </a:lnTo>
                  <a:lnTo>
                    <a:pt x="1181" y="415"/>
                  </a:lnTo>
                  <a:lnTo>
                    <a:pt x="1157" y="418"/>
                  </a:lnTo>
                  <a:lnTo>
                    <a:pt x="1133" y="420"/>
                  </a:lnTo>
                  <a:lnTo>
                    <a:pt x="1108" y="423"/>
                  </a:lnTo>
                  <a:lnTo>
                    <a:pt x="1084" y="425"/>
                  </a:lnTo>
                  <a:lnTo>
                    <a:pt x="1059" y="427"/>
                  </a:lnTo>
                  <a:lnTo>
                    <a:pt x="1035" y="428"/>
                  </a:lnTo>
                  <a:lnTo>
                    <a:pt x="642" y="435"/>
                  </a:lnTo>
                  <a:lnTo>
                    <a:pt x="603" y="433"/>
                  </a:lnTo>
                  <a:lnTo>
                    <a:pt x="563" y="431"/>
                  </a:lnTo>
                  <a:lnTo>
                    <a:pt x="524" y="428"/>
                  </a:lnTo>
                  <a:lnTo>
                    <a:pt x="485" y="425"/>
                  </a:lnTo>
                  <a:lnTo>
                    <a:pt x="447" y="421"/>
                  </a:lnTo>
                  <a:lnTo>
                    <a:pt x="408" y="418"/>
                  </a:lnTo>
                  <a:lnTo>
                    <a:pt x="370" y="415"/>
                  </a:lnTo>
                  <a:lnTo>
                    <a:pt x="332" y="409"/>
                  </a:lnTo>
                  <a:lnTo>
                    <a:pt x="294" y="404"/>
                  </a:lnTo>
                  <a:lnTo>
                    <a:pt x="257" y="398"/>
                  </a:lnTo>
                  <a:lnTo>
                    <a:pt x="219" y="392"/>
                  </a:lnTo>
                  <a:lnTo>
                    <a:pt x="182" y="385"/>
                  </a:lnTo>
                  <a:lnTo>
                    <a:pt x="145" y="377"/>
                  </a:lnTo>
                  <a:lnTo>
                    <a:pt x="108" y="367"/>
                  </a:lnTo>
                  <a:lnTo>
                    <a:pt x="73" y="358"/>
                  </a:lnTo>
                  <a:lnTo>
                    <a:pt x="37" y="348"/>
                  </a:lnTo>
                  <a:lnTo>
                    <a:pt x="25" y="328"/>
                  </a:lnTo>
                  <a:lnTo>
                    <a:pt x="15" y="306"/>
                  </a:lnTo>
                  <a:lnTo>
                    <a:pt x="7" y="282"/>
                  </a:lnTo>
                  <a:lnTo>
                    <a:pt x="2" y="259"/>
                  </a:lnTo>
                  <a:lnTo>
                    <a:pt x="0" y="235"/>
                  </a:lnTo>
                  <a:lnTo>
                    <a:pt x="0" y="212"/>
                  </a:lnTo>
                  <a:lnTo>
                    <a:pt x="3" y="189"/>
                  </a:lnTo>
                  <a:lnTo>
                    <a:pt x="9" y="168"/>
                  </a:lnTo>
                  <a:lnTo>
                    <a:pt x="18" y="163"/>
                  </a:lnTo>
                  <a:lnTo>
                    <a:pt x="15" y="170"/>
                  </a:lnTo>
                  <a:lnTo>
                    <a:pt x="14" y="177"/>
                  </a:lnTo>
                  <a:lnTo>
                    <a:pt x="15" y="185"/>
                  </a:lnTo>
                  <a:lnTo>
                    <a:pt x="18" y="191"/>
                  </a:lnTo>
                  <a:lnTo>
                    <a:pt x="25" y="198"/>
                  </a:lnTo>
                  <a:lnTo>
                    <a:pt x="33" y="203"/>
                  </a:lnTo>
                  <a:lnTo>
                    <a:pt x="42" y="207"/>
                  </a:lnTo>
                  <a:lnTo>
                    <a:pt x="50" y="211"/>
                  </a:lnTo>
                  <a:lnTo>
                    <a:pt x="58" y="216"/>
                  </a:lnTo>
                  <a:lnTo>
                    <a:pt x="63" y="221"/>
                  </a:lnTo>
                  <a:lnTo>
                    <a:pt x="69" y="229"/>
                  </a:lnTo>
                  <a:lnTo>
                    <a:pt x="74" y="238"/>
                  </a:lnTo>
                  <a:lnTo>
                    <a:pt x="83" y="246"/>
                  </a:lnTo>
                  <a:lnTo>
                    <a:pt x="95" y="251"/>
                  </a:lnTo>
                  <a:lnTo>
                    <a:pt x="106" y="253"/>
                  </a:lnTo>
                  <a:lnTo>
                    <a:pt x="119" y="254"/>
                  </a:lnTo>
                  <a:lnTo>
                    <a:pt x="131" y="253"/>
                  </a:lnTo>
                  <a:lnTo>
                    <a:pt x="144" y="251"/>
                  </a:lnTo>
                  <a:lnTo>
                    <a:pt x="156" y="248"/>
                  </a:lnTo>
                  <a:lnTo>
                    <a:pt x="167" y="244"/>
                  </a:lnTo>
                  <a:lnTo>
                    <a:pt x="179" y="233"/>
                  </a:lnTo>
                  <a:lnTo>
                    <a:pt x="191" y="227"/>
                  </a:lnTo>
                  <a:lnTo>
                    <a:pt x="206" y="226"/>
                  </a:lnTo>
                  <a:lnTo>
                    <a:pt x="221" y="227"/>
                  </a:lnTo>
                  <a:lnTo>
                    <a:pt x="236" y="229"/>
                  </a:lnTo>
                  <a:lnTo>
                    <a:pt x="251" y="231"/>
                  </a:lnTo>
                  <a:lnTo>
                    <a:pt x="266" y="234"/>
                  </a:lnTo>
                  <a:lnTo>
                    <a:pt x="281" y="234"/>
                  </a:lnTo>
                  <a:lnTo>
                    <a:pt x="441" y="249"/>
                  </a:lnTo>
                  <a:lnTo>
                    <a:pt x="781" y="262"/>
                  </a:lnTo>
                  <a:lnTo>
                    <a:pt x="804" y="262"/>
                  </a:lnTo>
                  <a:lnTo>
                    <a:pt x="827" y="262"/>
                  </a:lnTo>
                  <a:lnTo>
                    <a:pt x="849" y="262"/>
                  </a:lnTo>
                  <a:lnTo>
                    <a:pt x="872" y="261"/>
                  </a:lnTo>
                  <a:lnTo>
                    <a:pt x="895" y="260"/>
                  </a:lnTo>
                  <a:lnTo>
                    <a:pt x="917" y="259"/>
                  </a:lnTo>
                  <a:lnTo>
                    <a:pt x="939" y="257"/>
                  </a:lnTo>
                  <a:lnTo>
                    <a:pt x="961" y="253"/>
                  </a:lnTo>
                  <a:lnTo>
                    <a:pt x="962" y="248"/>
                  </a:lnTo>
                  <a:lnTo>
                    <a:pt x="962" y="238"/>
                  </a:lnTo>
                  <a:lnTo>
                    <a:pt x="960" y="231"/>
                  </a:lnTo>
                  <a:lnTo>
                    <a:pt x="959" y="228"/>
                  </a:lnTo>
                  <a:lnTo>
                    <a:pt x="945" y="229"/>
                  </a:lnTo>
                  <a:lnTo>
                    <a:pt x="932" y="230"/>
                  </a:lnTo>
                  <a:lnTo>
                    <a:pt x="920" y="233"/>
                  </a:lnTo>
                  <a:lnTo>
                    <a:pt x="906" y="234"/>
                  </a:lnTo>
                  <a:lnTo>
                    <a:pt x="893" y="234"/>
                  </a:lnTo>
                  <a:lnTo>
                    <a:pt x="880" y="235"/>
                  </a:lnTo>
                  <a:lnTo>
                    <a:pt x="867" y="235"/>
                  </a:lnTo>
                  <a:lnTo>
                    <a:pt x="854" y="235"/>
                  </a:lnTo>
                  <a:lnTo>
                    <a:pt x="841" y="235"/>
                  </a:lnTo>
                  <a:lnTo>
                    <a:pt x="827" y="235"/>
                  </a:lnTo>
                  <a:lnTo>
                    <a:pt x="814" y="234"/>
                  </a:lnTo>
                  <a:lnTo>
                    <a:pt x="801" y="233"/>
                  </a:lnTo>
                  <a:lnTo>
                    <a:pt x="787" y="230"/>
                  </a:lnTo>
                  <a:lnTo>
                    <a:pt x="772" y="228"/>
                  </a:lnTo>
                  <a:lnTo>
                    <a:pt x="758" y="226"/>
                  </a:lnTo>
                  <a:lnTo>
                    <a:pt x="743" y="222"/>
                  </a:lnTo>
                  <a:lnTo>
                    <a:pt x="742" y="233"/>
                  </a:lnTo>
                  <a:lnTo>
                    <a:pt x="710" y="233"/>
                  </a:lnTo>
                  <a:lnTo>
                    <a:pt x="679" y="231"/>
                  </a:lnTo>
                  <a:lnTo>
                    <a:pt x="646" y="231"/>
                  </a:lnTo>
                  <a:lnTo>
                    <a:pt x="615" y="230"/>
                  </a:lnTo>
                  <a:lnTo>
                    <a:pt x="583" y="229"/>
                  </a:lnTo>
                  <a:lnTo>
                    <a:pt x="552" y="227"/>
                  </a:lnTo>
                  <a:lnTo>
                    <a:pt x="520" y="226"/>
                  </a:lnTo>
                  <a:lnTo>
                    <a:pt x="489" y="223"/>
                  </a:lnTo>
                  <a:lnTo>
                    <a:pt x="456" y="221"/>
                  </a:lnTo>
                  <a:lnTo>
                    <a:pt x="425" y="219"/>
                  </a:lnTo>
                  <a:lnTo>
                    <a:pt x="393" y="216"/>
                  </a:lnTo>
                  <a:lnTo>
                    <a:pt x="362" y="214"/>
                  </a:lnTo>
                  <a:lnTo>
                    <a:pt x="331" y="211"/>
                  </a:lnTo>
                  <a:lnTo>
                    <a:pt x="300" y="208"/>
                  </a:lnTo>
                  <a:lnTo>
                    <a:pt x="269" y="205"/>
                  </a:lnTo>
                  <a:lnTo>
                    <a:pt x="237" y="201"/>
                  </a:lnTo>
                  <a:lnTo>
                    <a:pt x="247" y="193"/>
                  </a:lnTo>
                  <a:lnTo>
                    <a:pt x="257" y="185"/>
                  </a:lnTo>
                  <a:lnTo>
                    <a:pt x="267" y="178"/>
                  </a:lnTo>
                  <a:lnTo>
                    <a:pt x="278" y="171"/>
                  </a:lnTo>
                  <a:lnTo>
                    <a:pt x="289" y="166"/>
                  </a:lnTo>
                  <a:lnTo>
                    <a:pt x="301" y="161"/>
                  </a:lnTo>
                  <a:lnTo>
                    <a:pt x="312" y="156"/>
                  </a:lnTo>
                  <a:lnTo>
                    <a:pt x="324" y="152"/>
                  </a:lnTo>
                  <a:lnTo>
                    <a:pt x="340" y="154"/>
                  </a:lnTo>
                  <a:lnTo>
                    <a:pt x="354" y="160"/>
                  </a:lnTo>
                  <a:lnTo>
                    <a:pt x="366" y="167"/>
                  </a:lnTo>
                  <a:lnTo>
                    <a:pt x="380" y="175"/>
                  </a:lnTo>
                  <a:lnTo>
                    <a:pt x="393" y="183"/>
                  </a:lnTo>
                  <a:lnTo>
                    <a:pt x="407" y="189"/>
                  </a:lnTo>
                  <a:lnTo>
                    <a:pt x="422" y="193"/>
                  </a:lnTo>
                  <a:lnTo>
                    <a:pt x="438" y="193"/>
                  </a:lnTo>
                  <a:lnTo>
                    <a:pt x="441" y="189"/>
                  </a:lnTo>
                  <a:lnTo>
                    <a:pt x="442" y="184"/>
                  </a:lnTo>
                  <a:lnTo>
                    <a:pt x="441" y="180"/>
                  </a:lnTo>
                  <a:lnTo>
                    <a:pt x="438" y="175"/>
                  </a:lnTo>
                  <a:lnTo>
                    <a:pt x="380" y="148"/>
                  </a:lnTo>
                  <a:lnTo>
                    <a:pt x="372" y="139"/>
                  </a:lnTo>
                  <a:lnTo>
                    <a:pt x="366" y="129"/>
                  </a:lnTo>
                  <a:lnTo>
                    <a:pt x="362" y="118"/>
                  </a:lnTo>
                  <a:lnTo>
                    <a:pt x="357" y="108"/>
                  </a:lnTo>
                  <a:lnTo>
                    <a:pt x="353" y="98"/>
                  </a:lnTo>
                  <a:lnTo>
                    <a:pt x="347" y="87"/>
                  </a:lnTo>
                  <a:lnTo>
                    <a:pt x="341" y="77"/>
                  </a:lnTo>
                  <a:lnTo>
                    <a:pt x="334" y="68"/>
                  </a:lnTo>
                  <a:lnTo>
                    <a:pt x="327" y="69"/>
                  </a:lnTo>
                  <a:lnTo>
                    <a:pt x="325" y="75"/>
                  </a:lnTo>
                  <a:lnTo>
                    <a:pt x="325" y="83"/>
                  </a:lnTo>
                  <a:lnTo>
                    <a:pt x="327" y="90"/>
                  </a:lnTo>
                  <a:lnTo>
                    <a:pt x="332" y="100"/>
                  </a:lnTo>
                  <a:lnTo>
                    <a:pt x="336" y="110"/>
                  </a:lnTo>
                  <a:lnTo>
                    <a:pt x="340" y="121"/>
                  </a:lnTo>
                  <a:lnTo>
                    <a:pt x="343" y="132"/>
                  </a:lnTo>
                  <a:lnTo>
                    <a:pt x="326" y="131"/>
                  </a:lnTo>
                  <a:lnTo>
                    <a:pt x="309" y="130"/>
                  </a:lnTo>
                  <a:lnTo>
                    <a:pt x="292" y="130"/>
                  </a:lnTo>
                  <a:lnTo>
                    <a:pt x="274" y="131"/>
                  </a:lnTo>
                  <a:lnTo>
                    <a:pt x="257" y="133"/>
                  </a:lnTo>
                  <a:lnTo>
                    <a:pt x="240" y="137"/>
                  </a:lnTo>
                  <a:lnTo>
                    <a:pt x="225" y="144"/>
                  </a:lnTo>
                  <a:lnTo>
                    <a:pt x="210" y="152"/>
                  </a:lnTo>
                  <a:lnTo>
                    <a:pt x="206" y="145"/>
                  </a:lnTo>
                  <a:lnTo>
                    <a:pt x="201" y="138"/>
                  </a:lnTo>
                  <a:lnTo>
                    <a:pt x="196" y="132"/>
                  </a:lnTo>
                  <a:lnTo>
                    <a:pt x="190" y="125"/>
                  </a:lnTo>
                  <a:lnTo>
                    <a:pt x="184" y="120"/>
                  </a:lnTo>
                  <a:lnTo>
                    <a:pt x="180" y="114"/>
                  </a:lnTo>
                  <a:lnTo>
                    <a:pt x="175" y="107"/>
                  </a:lnTo>
                  <a:lnTo>
                    <a:pt x="173" y="100"/>
                  </a:lnTo>
                  <a:lnTo>
                    <a:pt x="189" y="98"/>
                  </a:lnTo>
                  <a:lnTo>
                    <a:pt x="202" y="91"/>
                  </a:lnTo>
                  <a:lnTo>
                    <a:pt x="212" y="80"/>
                  </a:lnTo>
                  <a:lnTo>
                    <a:pt x="220" y="68"/>
                  </a:lnTo>
                  <a:lnTo>
                    <a:pt x="228" y="55"/>
                  </a:lnTo>
                  <a:lnTo>
                    <a:pt x="236" y="44"/>
                  </a:lnTo>
                  <a:lnTo>
                    <a:pt x="247" y="33"/>
                  </a:lnTo>
                  <a:lnTo>
                    <a:pt x="258" y="25"/>
                  </a:lnTo>
                  <a:lnTo>
                    <a:pt x="254" y="47"/>
                  </a:lnTo>
                  <a:lnTo>
                    <a:pt x="255" y="69"/>
                  </a:lnTo>
                  <a:lnTo>
                    <a:pt x="263" y="89"/>
                  </a:lnTo>
                  <a:lnTo>
                    <a:pt x="275" y="106"/>
                  </a:lnTo>
                  <a:lnTo>
                    <a:pt x="280" y="108"/>
                  </a:lnTo>
                  <a:lnTo>
                    <a:pt x="285" y="108"/>
                  </a:lnTo>
                  <a:lnTo>
                    <a:pt x="288" y="105"/>
                  </a:lnTo>
                  <a:lnTo>
                    <a:pt x="290" y="100"/>
                  </a:lnTo>
                  <a:lnTo>
                    <a:pt x="280" y="90"/>
                  </a:lnTo>
                  <a:lnTo>
                    <a:pt x="278" y="80"/>
                  </a:lnTo>
                  <a:lnTo>
                    <a:pt x="281" y="74"/>
                  </a:lnTo>
                  <a:lnTo>
                    <a:pt x="288" y="67"/>
                  </a:lnTo>
                  <a:lnTo>
                    <a:pt x="296" y="60"/>
                  </a:lnTo>
                  <a:lnTo>
                    <a:pt x="304" y="53"/>
                  </a:lnTo>
                  <a:lnTo>
                    <a:pt x="311" y="45"/>
                  </a:lnTo>
                  <a:lnTo>
                    <a:pt x="313" y="34"/>
                  </a:lnTo>
                  <a:lnTo>
                    <a:pt x="319" y="29"/>
                  </a:lnTo>
                  <a:lnTo>
                    <a:pt x="327" y="27"/>
                  </a:lnTo>
                  <a:lnTo>
                    <a:pt x="335" y="31"/>
                  </a:lnTo>
                  <a:lnTo>
                    <a:pt x="342" y="34"/>
                  </a:lnTo>
                  <a:lnTo>
                    <a:pt x="354" y="47"/>
                  </a:lnTo>
                  <a:lnTo>
                    <a:pt x="355" y="64"/>
                  </a:lnTo>
                  <a:lnTo>
                    <a:pt x="358" y="82"/>
                  </a:lnTo>
                  <a:lnTo>
                    <a:pt x="371" y="95"/>
                  </a:lnTo>
                  <a:lnTo>
                    <a:pt x="379" y="95"/>
                  </a:lnTo>
                  <a:lnTo>
                    <a:pt x="385" y="92"/>
                  </a:lnTo>
                  <a:lnTo>
                    <a:pt x="392" y="90"/>
                  </a:lnTo>
                  <a:lnTo>
                    <a:pt x="399" y="92"/>
                  </a:lnTo>
                  <a:lnTo>
                    <a:pt x="401" y="98"/>
                  </a:lnTo>
                  <a:lnTo>
                    <a:pt x="403" y="106"/>
                  </a:lnTo>
                  <a:lnTo>
                    <a:pt x="406" y="114"/>
                  </a:lnTo>
                  <a:lnTo>
                    <a:pt x="409" y="121"/>
                  </a:lnTo>
                  <a:lnTo>
                    <a:pt x="413" y="128"/>
                  </a:lnTo>
                  <a:lnTo>
                    <a:pt x="417" y="132"/>
                  </a:lnTo>
                  <a:lnTo>
                    <a:pt x="424" y="133"/>
                  </a:lnTo>
                  <a:lnTo>
                    <a:pt x="433" y="130"/>
                  </a:lnTo>
                  <a:lnTo>
                    <a:pt x="440" y="120"/>
                  </a:lnTo>
                  <a:lnTo>
                    <a:pt x="446" y="109"/>
                  </a:lnTo>
                  <a:lnTo>
                    <a:pt x="451" y="97"/>
                  </a:lnTo>
                  <a:lnTo>
                    <a:pt x="454" y="85"/>
                  </a:lnTo>
                  <a:lnTo>
                    <a:pt x="460" y="91"/>
                  </a:lnTo>
                  <a:lnTo>
                    <a:pt x="468" y="93"/>
                  </a:lnTo>
                  <a:lnTo>
                    <a:pt x="476" y="93"/>
                  </a:lnTo>
                  <a:lnTo>
                    <a:pt x="484" y="90"/>
                  </a:lnTo>
                  <a:lnTo>
                    <a:pt x="493" y="78"/>
                  </a:lnTo>
                  <a:lnTo>
                    <a:pt x="499" y="64"/>
                  </a:lnTo>
                  <a:lnTo>
                    <a:pt x="505" y="50"/>
                  </a:lnTo>
                  <a:lnTo>
                    <a:pt x="510" y="36"/>
                  </a:lnTo>
                  <a:lnTo>
                    <a:pt x="517" y="23"/>
                  </a:lnTo>
                  <a:lnTo>
                    <a:pt x="525" y="12"/>
                  </a:lnTo>
                  <a:lnTo>
                    <a:pt x="538" y="4"/>
                  </a:lnTo>
                  <a:lnTo>
                    <a:pt x="554" y="0"/>
                  </a:lnTo>
                  <a:lnTo>
                    <a:pt x="561" y="0"/>
                  </a:lnTo>
                  <a:lnTo>
                    <a:pt x="567" y="1"/>
                  </a:lnTo>
                  <a:lnTo>
                    <a:pt x="573" y="3"/>
                  </a:lnTo>
                  <a:lnTo>
                    <a:pt x="57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02440" y="2060640"/>
              <a:ext cx="79200" cy="4608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101" y="19"/>
                  </a:moveTo>
                  <a:lnTo>
                    <a:pt x="98" y="30"/>
                  </a:lnTo>
                  <a:lnTo>
                    <a:pt x="96" y="39"/>
                  </a:lnTo>
                  <a:lnTo>
                    <a:pt x="93" y="48"/>
                  </a:lnTo>
                  <a:lnTo>
                    <a:pt x="88" y="56"/>
                  </a:lnTo>
                  <a:lnTo>
                    <a:pt x="86" y="43"/>
                  </a:lnTo>
                  <a:lnTo>
                    <a:pt x="87" y="26"/>
                  </a:lnTo>
                  <a:lnTo>
                    <a:pt x="83" y="13"/>
                  </a:lnTo>
                  <a:lnTo>
                    <a:pt x="68" y="11"/>
                  </a:lnTo>
                  <a:lnTo>
                    <a:pt x="57" y="20"/>
                  </a:lnTo>
                  <a:lnTo>
                    <a:pt x="53" y="34"/>
                  </a:lnTo>
                  <a:lnTo>
                    <a:pt x="53" y="47"/>
                  </a:lnTo>
                  <a:lnTo>
                    <a:pt x="56" y="57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6" y="30"/>
                  </a:lnTo>
                  <a:lnTo>
                    <a:pt x="11" y="23"/>
                  </a:lnTo>
                  <a:lnTo>
                    <a:pt x="18" y="16"/>
                  </a:lnTo>
                  <a:lnTo>
                    <a:pt x="24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5" y="5"/>
                  </a:lnTo>
                  <a:lnTo>
                    <a:pt x="90" y="9"/>
                  </a:lnTo>
                  <a:lnTo>
                    <a:pt x="96" y="13"/>
                  </a:lnTo>
                  <a:lnTo>
                    <a:pt x="10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56040" y="2082960"/>
              <a:ext cx="25092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262" y="79"/>
                  </a:moveTo>
                  <a:lnTo>
                    <a:pt x="264" y="76"/>
                  </a:lnTo>
                  <a:lnTo>
                    <a:pt x="302" y="118"/>
                  </a:lnTo>
                  <a:lnTo>
                    <a:pt x="288" y="111"/>
                  </a:lnTo>
                  <a:lnTo>
                    <a:pt x="274" y="102"/>
                  </a:lnTo>
                  <a:lnTo>
                    <a:pt x="262" y="90"/>
                  </a:lnTo>
                  <a:lnTo>
                    <a:pt x="250" y="79"/>
                  </a:lnTo>
                  <a:lnTo>
                    <a:pt x="239" y="66"/>
                  </a:lnTo>
                  <a:lnTo>
                    <a:pt x="227" y="56"/>
                  </a:lnTo>
                  <a:lnTo>
                    <a:pt x="215" y="46"/>
                  </a:lnTo>
                  <a:lnTo>
                    <a:pt x="201" y="41"/>
                  </a:lnTo>
                  <a:lnTo>
                    <a:pt x="196" y="50"/>
                  </a:lnTo>
                  <a:lnTo>
                    <a:pt x="202" y="56"/>
                  </a:lnTo>
                  <a:lnTo>
                    <a:pt x="211" y="61"/>
                  </a:lnTo>
                  <a:lnTo>
                    <a:pt x="217" y="68"/>
                  </a:lnTo>
                  <a:lnTo>
                    <a:pt x="227" y="81"/>
                  </a:lnTo>
                  <a:lnTo>
                    <a:pt x="239" y="94"/>
                  </a:lnTo>
                  <a:lnTo>
                    <a:pt x="250" y="104"/>
                  </a:lnTo>
                  <a:lnTo>
                    <a:pt x="264" y="114"/>
                  </a:lnTo>
                  <a:lnTo>
                    <a:pt x="277" y="124"/>
                  </a:lnTo>
                  <a:lnTo>
                    <a:pt x="291" y="132"/>
                  </a:lnTo>
                  <a:lnTo>
                    <a:pt x="303" y="139"/>
                  </a:lnTo>
                  <a:lnTo>
                    <a:pt x="317" y="144"/>
                  </a:lnTo>
                  <a:lnTo>
                    <a:pt x="307" y="150"/>
                  </a:lnTo>
                  <a:lnTo>
                    <a:pt x="296" y="157"/>
                  </a:lnTo>
                  <a:lnTo>
                    <a:pt x="286" y="164"/>
                  </a:lnTo>
                  <a:lnTo>
                    <a:pt x="276" y="171"/>
                  </a:lnTo>
                  <a:lnTo>
                    <a:pt x="265" y="177"/>
                  </a:lnTo>
                  <a:lnTo>
                    <a:pt x="254" y="182"/>
                  </a:lnTo>
                  <a:lnTo>
                    <a:pt x="242" y="185"/>
                  </a:lnTo>
                  <a:lnTo>
                    <a:pt x="230" y="186"/>
                  </a:lnTo>
                  <a:lnTo>
                    <a:pt x="224" y="179"/>
                  </a:lnTo>
                  <a:lnTo>
                    <a:pt x="232" y="175"/>
                  </a:lnTo>
                  <a:lnTo>
                    <a:pt x="240" y="171"/>
                  </a:lnTo>
                  <a:lnTo>
                    <a:pt x="247" y="164"/>
                  </a:lnTo>
                  <a:lnTo>
                    <a:pt x="254" y="157"/>
                  </a:lnTo>
                  <a:lnTo>
                    <a:pt x="251" y="149"/>
                  </a:lnTo>
                  <a:lnTo>
                    <a:pt x="248" y="146"/>
                  </a:lnTo>
                  <a:lnTo>
                    <a:pt x="242" y="144"/>
                  </a:lnTo>
                  <a:lnTo>
                    <a:pt x="236" y="147"/>
                  </a:lnTo>
                  <a:lnTo>
                    <a:pt x="231" y="150"/>
                  </a:lnTo>
                  <a:lnTo>
                    <a:pt x="224" y="154"/>
                  </a:lnTo>
                  <a:lnTo>
                    <a:pt x="217" y="156"/>
                  </a:lnTo>
                  <a:lnTo>
                    <a:pt x="211" y="156"/>
                  </a:lnTo>
                  <a:lnTo>
                    <a:pt x="203" y="154"/>
                  </a:lnTo>
                  <a:lnTo>
                    <a:pt x="194" y="152"/>
                  </a:lnTo>
                  <a:lnTo>
                    <a:pt x="186" y="150"/>
                  </a:lnTo>
                  <a:lnTo>
                    <a:pt x="179" y="144"/>
                  </a:lnTo>
                  <a:lnTo>
                    <a:pt x="182" y="137"/>
                  </a:lnTo>
                  <a:lnTo>
                    <a:pt x="189" y="131"/>
                  </a:lnTo>
                  <a:lnTo>
                    <a:pt x="195" y="124"/>
                  </a:lnTo>
                  <a:lnTo>
                    <a:pt x="193" y="113"/>
                  </a:lnTo>
                  <a:lnTo>
                    <a:pt x="188" y="109"/>
                  </a:lnTo>
                  <a:lnTo>
                    <a:pt x="183" y="104"/>
                  </a:lnTo>
                  <a:lnTo>
                    <a:pt x="179" y="102"/>
                  </a:lnTo>
                  <a:lnTo>
                    <a:pt x="174" y="99"/>
                  </a:lnTo>
                  <a:lnTo>
                    <a:pt x="168" y="98"/>
                  </a:lnTo>
                  <a:lnTo>
                    <a:pt x="163" y="97"/>
                  </a:lnTo>
                  <a:lnTo>
                    <a:pt x="157" y="97"/>
                  </a:lnTo>
                  <a:lnTo>
                    <a:pt x="151" y="96"/>
                  </a:lnTo>
                  <a:lnTo>
                    <a:pt x="155" y="93"/>
                  </a:lnTo>
                  <a:lnTo>
                    <a:pt x="160" y="90"/>
                  </a:lnTo>
                  <a:lnTo>
                    <a:pt x="166" y="89"/>
                  </a:lnTo>
                  <a:lnTo>
                    <a:pt x="172" y="89"/>
                  </a:lnTo>
                  <a:lnTo>
                    <a:pt x="178" y="88"/>
                  </a:lnTo>
                  <a:lnTo>
                    <a:pt x="181" y="86"/>
                  </a:lnTo>
                  <a:lnTo>
                    <a:pt x="183" y="82"/>
                  </a:lnTo>
                  <a:lnTo>
                    <a:pt x="182" y="75"/>
                  </a:lnTo>
                  <a:lnTo>
                    <a:pt x="178" y="72"/>
                  </a:lnTo>
                  <a:lnTo>
                    <a:pt x="172" y="69"/>
                  </a:lnTo>
                  <a:lnTo>
                    <a:pt x="167" y="69"/>
                  </a:lnTo>
                  <a:lnTo>
                    <a:pt x="162" y="69"/>
                  </a:lnTo>
                  <a:lnTo>
                    <a:pt x="156" y="69"/>
                  </a:lnTo>
                  <a:lnTo>
                    <a:pt x="150" y="72"/>
                  </a:lnTo>
                  <a:lnTo>
                    <a:pt x="145" y="73"/>
                  </a:lnTo>
                  <a:lnTo>
                    <a:pt x="140" y="75"/>
                  </a:lnTo>
                  <a:lnTo>
                    <a:pt x="130" y="79"/>
                  </a:lnTo>
                  <a:lnTo>
                    <a:pt x="128" y="87"/>
                  </a:lnTo>
                  <a:lnTo>
                    <a:pt x="128" y="97"/>
                  </a:lnTo>
                  <a:lnTo>
                    <a:pt x="129" y="106"/>
                  </a:lnTo>
                  <a:lnTo>
                    <a:pt x="138" y="114"/>
                  </a:lnTo>
                  <a:lnTo>
                    <a:pt x="125" y="120"/>
                  </a:lnTo>
                  <a:lnTo>
                    <a:pt x="111" y="127"/>
                  </a:lnTo>
                  <a:lnTo>
                    <a:pt x="98" y="134"/>
                  </a:lnTo>
                  <a:lnTo>
                    <a:pt x="84" y="141"/>
                  </a:lnTo>
                  <a:lnTo>
                    <a:pt x="72" y="147"/>
                  </a:lnTo>
                  <a:lnTo>
                    <a:pt x="58" y="151"/>
                  </a:lnTo>
                  <a:lnTo>
                    <a:pt x="44" y="155"/>
                  </a:lnTo>
                  <a:lnTo>
                    <a:pt x="30" y="157"/>
                  </a:lnTo>
                  <a:lnTo>
                    <a:pt x="27" y="150"/>
                  </a:lnTo>
                  <a:lnTo>
                    <a:pt x="24" y="141"/>
                  </a:lnTo>
                  <a:lnTo>
                    <a:pt x="24" y="133"/>
                  </a:lnTo>
                  <a:lnTo>
                    <a:pt x="28" y="125"/>
                  </a:lnTo>
                  <a:lnTo>
                    <a:pt x="35" y="126"/>
                  </a:lnTo>
                  <a:lnTo>
                    <a:pt x="43" y="125"/>
                  </a:lnTo>
                  <a:lnTo>
                    <a:pt x="49" y="122"/>
                  </a:lnTo>
                  <a:lnTo>
                    <a:pt x="56" y="120"/>
                  </a:lnTo>
                  <a:lnTo>
                    <a:pt x="61" y="116"/>
                  </a:lnTo>
                  <a:lnTo>
                    <a:pt x="66" y="111"/>
                  </a:lnTo>
                  <a:lnTo>
                    <a:pt x="71" y="105"/>
                  </a:lnTo>
                  <a:lnTo>
                    <a:pt x="73" y="98"/>
                  </a:lnTo>
                  <a:lnTo>
                    <a:pt x="71" y="86"/>
                  </a:lnTo>
                  <a:lnTo>
                    <a:pt x="65" y="73"/>
                  </a:lnTo>
                  <a:lnTo>
                    <a:pt x="56" y="63"/>
                  </a:lnTo>
                  <a:lnTo>
                    <a:pt x="44" y="56"/>
                  </a:lnTo>
                  <a:lnTo>
                    <a:pt x="38" y="53"/>
                  </a:lnTo>
                  <a:lnTo>
                    <a:pt x="32" y="56"/>
                  </a:lnTo>
                  <a:lnTo>
                    <a:pt x="28" y="60"/>
                  </a:lnTo>
                  <a:lnTo>
                    <a:pt x="26" y="66"/>
                  </a:lnTo>
                  <a:lnTo>
                    <a:pt x="26" y="71"/>
                  </a:lnTo>
                  <a:lnTo>
                    <a:pt x="18" y="68"/>
                  </a:lnTo>
                  <a:lnTo>
                    <a:pt x="7" y="68"/>
                  </a:lnTo>
                  <a:lnTo>
                    <a:pt x="0" y="65"/>
                  </a:lnTo>
                  <a:lnTo>
                    <a:pt x="1" y="56"/>
                  </a:lnTo>
                  <a:lnTo>
                    <a:pt x="16" y="45"/>
                  </a:lnTo>
                  <a:lnTo>
                    <a:pt x="34" y="40"/>
                  </a:lnTo>
                  <a:lnTo>
                    <a:pt x="51" y="36"/>
                  </a:lnTo>
                  <a:lnTo>
                    <a:pt x="69" y="35"/>
                  </a:lnTo>
                  <a:lnTo>
                    <a:pt x="89" y="36"/>
                  </a:lnTo>
                  <a:lnTo>
                    <a:pt x="107" y="38"/>
                  </a:lnTo>
                  <a:lnTo>
                    <a:pt x="126" y="41"/>
                  </a:lnTo>
                  <a:lnTo>
                    <a:pt x="143" y="44"/>
                  </a:lnTo>
                  <a:lnTo>
                    <a:pt x="150" y="44"/>
                  </a:lnTo>
                  <a:lnTo>
                    <a:pt x="156" y="46"/>
                  </a:lnTo>
                  <a:lnTo>
                    <a:pt x="162" y="51"/>
                  </a:lnTo>
                  <a:lnTo>
                    <a:pt x="167" y="55"/>
                  </a:lnTo>
                  <a:lnTo>
                    <a:pt x="172" y="59"/>
                  </a:lnTo>
                  <a:lnTo>
                    <a:pt x="178" y="61"/>
                  </a:lnTo>
                  <a:lnTo>
                    <a:pt x="185" y="60"/>
                  </a:lnTo>
                  <a:lnTo>
                    <a:pt x="191" y="56"/>
                  </a:lnTo>
                  <a:lnTo>
                    <a:pt x="187" y="49"/>
                  </a:lnTo>
                  <a:lnTo>
                    <a:pt x="181" y="43"/>
                  </a:lnTo>
                  <a:lnTo>
                    <a:pt x="174" y="36"/>
                  </a:lnTo>
                  <a:lnTo>
                    <a:pt x="168" y="29"/>
                  </a:lnTo>
                  <a:lnTo>
                    <a:pt x="164" y="23"/>
                  </a:lnTo>
                  <a:lnTo>
                    <a:pt x="163" y="16"/>
                  </a:lnTo>
                  <a:lnTo>
                    <a:pt x="165" y="10"/>
                  </a:lnTo>
                  <a:lnTo>
                    <a:pt x="174" y="3"/>
                  </a:lnTo>
                  <a:lnTo>
                    <a:pt x="193" y="0"/>
                  </a:lnTo>
                  <a:lnTo>
                    <a:pt x="209" y="4"/>
                  </a:lnTo>
                  <a:lnTo>
                    <a:pt x="220" y="12"/>
                  </a:lnTo>
                  <a:lnTo>
                    <a:pt x="231" y="23"/>
                  </a:lnTo>
                  <a:lnTo>
                    <a:pt x="240" y="37"/>
                  </a:lnTo>
                  <a:lnTo>
                    <a:pt x="247" y="52"/>
                  </a:lnTo>
                  <a:lnTo>
                    <a:pt x="255" y="66"/>
                  </a:lnTo>
                  <a:lnTo>
                    <a:pt x="2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26200" y="2149560"/>
              <a:ext cx="268200" cy="68040"/>
            </a:xfrm>
            <a:custGeom>
              <a:avLst/>
              <a:gdLst/>
              <a:ahLst/>
              <a:rect l="l" t="t" r="r" b="b"/>
              <a:pathLst>
                <a:path w="337" h="88">
                  <a:moveTo>
                    <a:pt x="133" y="4"/>
                  </a:moveTo>
                  <a:lnTo>
                    <a:pt x="129" y="15"/>
                  </a:lnTo>
                  <a:lnTo>
                    <a:pt x="122" y="25"/>
                  </a:lnTo>
                  <a:lnTo>
                    <a:pt x="114" y="33"/>
                  </a:lnTo>
                  <a:lnTo>
                    <a:pt x="106" y="42"/>
                  </a:lnTo>
                  <a:lnTo>
                    <a:pt x="125" y="50"/>
                  </a:lnTo>
                  <a:lnTo>
                    <a:pt x="145" y="52"/>
                  </a:lnTo>
                  <a:lnTo>
                    <a:pt x="163" y="50"/>
                  </a:lnTo>
                  <a:lnTo>
                    <a:pt x="183" y="45"/>
                  </a:lnTo>
                  <a:lnTo>
                    <a:pt x="201" y="38"/>
                  </a:lnTo>
                  <a:lnTo>
                    <a:pt x="221" y="31"/>
                  </a:lnTo>
                  <a:lnTo>
                    <a:pt x="239" y="26"/>
                  </a:lnTo>
                  <a:lnTo>
                    <a:pt x="259" y="21"/>
                  </a:lnTo>
                  <a:lnTo>
                    <a:pt x="269" y="22"/>
                  </a:lnTo>
                  <a:lnTo>
                    <a:pt x="280" y="23"/>
                  </a:lnTo>
                  <a:lnTo>
                    <a:pt x="290" y="23"/>
                  </a:lnTo>
                  <a:lnTo>
                    <a:pt x="302" y="25"/>
                  </a:lnTo>
                  <a:lnTo>
                    <a:pt x="311" y="27"/>
                  </a:lnTo>
                  <a:lnTo>
                    <a:pt x="320" y="30"/>
                  </a:lnTo>
                  <a:lnTo>
                    <a:pt x="329" y="35"/>
                  </a:lnTo>
                  <a:lnTo>
                    <a:pt x="336" y="41"/>
                  </a:lnTo>
                  <a:lnTo>
                    <a:pt x="337" y="51"/>
                  </a:lnTo>
                  <a:lnTo>
                    <a:pt x="329" y="51"/>
                  </a:lnTo>
                  <a:lnTo>
                    <a:pt x="321" y="50"/>
                  </a:lnTo>
                  <a:lnTo>
                    <a:pt x="313" y="48"/>
                  </a:lnTo>
                  <a:lnTo>
                    <a:pt x="305" y="46"/>
                  </a:lnTo>
                  <a:lnTo>
                    <a:pt x="296" y="45"/>
                  </a:lnTo>
                  <a:lnTo>
                    <a:pt x="287" y="45"/>
                  </a:lnTo>
                  <a:lnTo>
                    <a:pt x="278" y="46"/>
                  </a:lnTo>
                  <a:lnTo>
                    <a:pt x="269" y="50"/>
                  </a:lnTo>
                  <a:lnTo>
                    <a:pt x="258" y="52"/>
                  </a:lnTo>
                  <a:lnTo>
                    <a:pt x="246" y="56"/>
                  </a:lnTo>
                  <a:lnTo>
                    <a:pt x="234" y="60"/>
                  </a:lnTo>
                  <a:lnTo>
                    <a:pt x="222" y="65"/>
                  </a:lnTo>
                  <a:lnTo>
                    <a:pt x="209" y="69"/>
                  </a:lnTo>
                  <a:lnTo>
                    <a:pt x="198" y="74"/>
                  </a:lnTo>
                  <a:lnTo>
                    <a:pt x="185" y="78"/>
                  </a:lnTo>
                  <a:lnTo>
                    <a:pt x="172" y="82"/>
                  </a:lnTo>
                  <a:lnTo>
                    <a:pt x="160" y="84"/>
                  </a:lnTo>
                  <a:lnTo>
                    <a:pt x="147" y="87"/>
                  </a:lnTo>
                  <a:lnTo>
                    <a:pt x="136" y="88"/>
                  </a:lnTo>
                  <a:lnTo>
                    <a:pt x="123" y="87"/>
                  </a:lnTo>
                  <a:lnTo>
                    <a:pt x="111" y="84"/>
                  </a:lnTo>
                  <a:lnTo>
                    <a:pt x="99" y="81"/>
                  </a:lnTo>
                  <a:lnTo>
                    <a:pt x="87" y="74"/>
                  </a:lnTo>
                  <a:lnTo>
                    <a:pt x="76" y="66"/>
                  </a:lnTo>
                  <a:lnTo>
                    <a:pt x="66" y="68"/>
                  </a:lnTo>
                  <a:lnTo>
                    <a:pt x="56" y="72"/>
                  </a:lnTo>
                  <a:lnTo>
                    <a:pt x="46" y="74"/>
                  </a:lnTo>
                  <a:lnTo>
                    <a:pt x="35" y="76"/>
                  </a:lnTo>
                  <a:lnTo>
                    <a:pt x="25" y="78"/>
                  </a:lnTo>
                  <a:lnTo>
                    <a:pt x="16" y="76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5" y="60"/>
                  </a:lnTo>
                  <a:lnTo>
                    <a:pt x="12" y="61"/>
                  </a:lnTo>
                  <a:lnTo>
                    <a:pt x="20" y="63"/>
                  </a:lnTo>
                  <a:lnTo>
                    <a:pt x="27" y="60"/>
                  </a:lnTo>
                  <a:lnTo>
                    <a:pt x="39" y="53"/>
                  </a:lnTo>
                  <a:lnTo>
                    <a:pt x="51" y="48"/>
                  </a:lnTo>
                  <a:lnTo>
                    <a:pt x="63" y="43"/>
                  </a:lnTo>
                  <a:lnTo>
                    <a:pt x="76" y="37"/>
                  </a:lnTo>
                  <a:lnTo>
                    <a:pt x="87" y="30"/>
                  </a:lnTo>
                  <a:lnTo>
                    <a:pt x="99" y="22"/>
                  </a:lnTo>
                  <a:lnTo>
                    <a:pt x="109" y="12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2179800"/>
              <a:ext cx="343080" cy="77760"/>
            </a:xfrm>
            <a:custGeom>
              <a:avLst/>
              <a:gdLst/>
              <a:ahLst/>
              <a:rect l="l" t="t" r="r" b="b"/>
              <a:pathLst>
                <a:path w="433" h="98">
                  <a:moveTo>
                    <a:pt x="188" y="3"/>
                  </a:moveTo>
                  <a:lnTo>
                    <a:pt x="188" y="11"/>
                  </a:lnTo>
                  <a:lnTo>
                    <a:pt x="183" y="14"/>
                  </a:lnTo>
                  <a:lnTo>
                    <a:pt x="175" y="15"/>
                  </a:lnTo>
                  <a:lnTo>
                    <a:pt x="167" y="18"/>
                  </a:lnTo>
                  <a:lnTo>
                    <a:pt x="147" y="30"/>
                  </a:lnTo>
                  <a:lnTo>
                    <a:pt x="159" y="29"/>
                  </a:lnTo>
                  <a:lnTo>
                    <a:pt x="170" y="28"/>
                  </a:lnTo>
                  <a:lnTo>
                    <a:pt x="183" y="26"/>
                  </a:lnTo>
                  <a:lnTo>
                    <a:pt x="194" y="23"/>
                  </a:lnTo>
                  <a:lnTo>
                    <a:pt x="207" y="22"/>
                  </a:lnTo>
                  <a:lnTo>
                    <a:pt x="220" y="20"/>
                  </a:lnTo>
                  <a:lnTo>
                    <a:pt x="232" y="19"/>
                  </a:lnTo>
                  <a:lnTo>
                    <a:pt x="246" y="18"/>
                  </a:lnTo>
                  <a:lnTo>
                    <a:pt x="259" y="16"/>
                  </a:lnTo>
                  <a:lnTo>
                    <a:pt x="270" y="16"/>
                  </a:lnTo>
                  <a:lnTo>
                    <a:pt x="283" y="18"/>
                  </a:lnTo>
                  <a:lnTo>
                    <a:pt x="296" y="19"/>
                  </a:lnTo>
                  <a:lnTo>
                    <a:pt x="307" y="22"/>
                  </a:lnTo>
                  <a:lnTo>
                    <a:pt x="319" y="26"/>
                  </a:lnTo>
                  <a:lnTo>
                    <a:pt x="330" y="30"/>
                  </a:lnTo>
                  <a:lnTo>
                    <a:pt x="341" y="36"/>
                  </a:lnTo>
                  <a:lnTo>
                    <a:pt x="347" y="44"/>
                  </a:lnTo>
                  <a:lnTo>
                    <a:pt x="356" y="53"/>
                  </a:lnTo>
                  <a:lnTo>
                    <a:pt x="362" y="60"/>
                  </a:lnTo>
                  <a:lnTo>
                    <a:pt x="372" y="67"/>
                  </a:lnTo>
                  <a:lnTo>
                    <a:pt x="380" y="73"/>
                  </a:lnTo>
                  <a:lnTo>
                    <a:pt x="390" y="78"/>
                  </a:lnTo>
                  <a:lnTo>
                    <a:pt x="400" y="80"/>
                  </a:lnTo>
                  <a:lnTo>
                    <a:pt x="411" y="81"/>
                  </a:lnTo>
                  <a:lnTo>
                    <a:pt x="417" y="79"/>
                  </a:lnTo>
                  <a:lnTo>
                    <a:pt x="422" y="76"/>
                  </a:lnTo>
                  <a:lnTo>
                    <a:pt x="427" y="75"/>
                  </a:lnTo>
                  <a:lnTo>
                    <a:pt x="433" y="79"/>
                  </a:lnTo>
                  <a:lnTo>
                    <a:pt x="430" y="84"/>
                  </a:lnTo>
                  <a:lnTo>
                    <a:pt x="427" y="89"/>
                  </a:lnTo>
                  <a:lnTo>
                    <a:pt x="422" y="93"/>
                  </a:lnTo>
                  <a:lnTo>
                    <a:pt x="418" y="96"/>
                  </a:lnTo>
                  <a:lnTo>
                    <a:pt x="404" y="98"/>
                  </a:lnTo>
                  <a:lnTo>
                    <a:pt x="390" y="98"/>
                  </a:lnTo>
                  <a:lnTo>
                    <a:pt x="377" y="97"/>
                  </a:lnTo>
                  <a:lnTo>
                    <a:pt x="365" y="94"/>
                  </a:lnTo>
                  <a:lnTo>
                    <a:pt x="353" y="89"/>
                  </a:lnTo>
                  <a:lnTo>
                    <a:pt x="343" y="83"/>
                  </a:lnTo>
                  <a:lnTo>
                    <a:pt x="331" y="78"/>
                  </a:lnTo>
                  <a:lnTo>
                    <a:pt x="320" y="71"/>
                  </a:lnTo>
                  <a:lnTo>
                    <a:pt x="309" y="65"/>
                  </a:lnTo>
                  <a:lnTo>
                    <a:pt x="298" y="58"/>
                  </a:lnTo>
                  <a:lnTo>
                    <a:pt x="286" y="53"/>
                  </a:lnTo>
                  <a:lnTo>
                    <a:pt x="275" y="49"/>
                  </a:lnTo>
                  <a:lnTo>
                    <a:pt x="262" y="45"/>
                  </a:lnTo>
                  <a:lnTo>
                    <a:pt x="250" y="43"/>
                  </a:lnTo>
                  <a:lnTo>
                    <a:pt x="237" y="43"/>
                  </a:lnTo>
                  <a:lnTo>
                    <a:pt x="222" y="45"/>
                  </a:lnTo>
                  <a:lnTo>
                    <a:pt x="206" y="51"/>
                  </a:lnTo>
                  <a:lnTo>
                    <a:pt x="188" y="52"/>
                  </a:lnTo>
                  <a:lnTo>
                    <a:pt x="171" y="51"/>
                  </a:lnTo>
                  <a:lnTo>
                    <a:pt x="154" y="50"/>
                  </a:lnTo>
                  <a:lnTo>
                    <a:pt x="137" y="49"/>
                  </a:lnTo>
                  <a:lnTo>
                    <a:pt x="119" y="51"/>
                  </a:lnTo>
                  <a:lnTo>
                    <a:pt x="104" y="57"/>
                  </a:lnTo>
                  <a:lnTo>
                    <a:pt x="92" y="68"/>
                  </a:lnTo>
                  <a:lnTo>
                    <a:pt x="79" y="72"/>
                  </a:lnTo>
                  <a:lnTo>
                    <a:pt x="66" y="73"/>
                  </a:lnTo>
                  <a:lnTo>
                    <a:pt x="55" y="72"/>
                  </a:lnTo>
                  <a:lnTo>
                    <a:pt x="42" y="68"/>
                  </a:lnTo>
                  <a:lnTo>
                    <a:pt x="32" y="64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6" y="33"/>
                  </a:lnTo>
                  <a:lnTo>
                    <a:pt x="13" y="33"/>
                  </a:lnTo>
                  <a:lnTo>
                    <a:pt x="19" y="30"/>
                  </a:lnTo>
                  <a:lnTo>
                    <a:pt x="36" y="40"/>
                  </a:lnTo>
                  <a:lnTo>
                    <a:pt x="53" y="43"/>
                  </a:lnTo>
                  <a:lnTo>
                    <a:pt x="69" y="42"/>
                  </a:lnTo>
                  <a:lnTo>
                    <a:pt x="85" y="37"/>
                  </a:lnTo>
                  <a:lnTo>
                    <a:pt x="100" y="30"/>
                  </a:lnTo>
                  <a:lnTo>
                    <a:pt x="116" y="22"/>
                  </a:lnTo>
                  <a:lnTo>
                    <a:pt x="131" y="13"/>
                  </a:lnTo>
                  <a:lnTo>
                    <a:pt x="146" y="4"/>
                  </a:lnTo>
                  <a:lnTo>
                    <a:pt x="150" y="4"/>
                  </a:lnTo>
                  <a:lnTo>
                    <a:pt x="156" y="3"/>
                  </a:lnTo>
                  <a:lnTo>
                    <a:pt x="161" y="1"/>
                  </a:lnTo>
                  <a:lnTo>
                    <a:pt x="167" y="1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3" y="1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443280" y="981000"/>
            <a:ext cx="2498760" cy="1739880"/>
            <a:chOff x="6443280" y="981000"/>
            <a:chExt cx="2498760" cy="1739880"/>
          </a:xfrm>
        </p:grpSpPr>
        <p:sp>
          <p:nvSpPr>
            <p:cNvPr id="393" name=""/>
            <p:cNvSpPr/>
            <p:nvPr/>
          </p:nvSpPr>
          <p:spPr>
            <a:xfrm flipH="1">
              <a:off x="6469920" y="2247840"/>
              <a:ext cx="2268360" cy="380880"/>
            </a:xfrm>
            <a:custGeom>
              <a:avLst/>
              <a:gdLst/>
              <a:ahLst/>
              <a:rect l="l" t="t" r="r" b="b"/>
              <a:pathLst>
                <a:path w="2858" h="479">
                  <a:moveTo>
                    <a:pt x="2533" y="125"/>
                  </a:moveTo>
                  <a:lnTo>
                    <a:pt x="2527" y="129"/>
                  </a:lnTo>
                  <a:lnTo>
                    <a:pt x="2521" y="133"/>
                  </a:lnTo>
                  <a:lnTo>
                    <a:pt x="2514" y="135"/>
                  </a:lnTo>
                  <a:lnTo>
                    <a:pt x="2504" y="139"/>
                  </a:lnTo>
                  <a:lnTo>
                    <a:pt x="2495" y="141"/>
                  </a:lnTo>
                  <a:lnTo>
                    <a:pt x="2485" y="143"/>
                  </a:lnTo>
                  <a:lnTo>
                    <a:pt x="2478" y="144"/>
                  </a:lnTo>
                  <a:lnTo>
                    <a:pt x="2474" y="144"/>
                  </a:lnTo>
                  <a:lnTo>
                    <a:pt x="2466" y="146"/>
                  </a:lnTo>
                  <a:lnTo>
                    <a:pt x="2462" y="146"/>
                  </a:lnTo>
                  <a:lnTo>
                    <a:pt x="2455" y="146"/>
                  </a:lnTo>
                  <a:lnTo>
                    <a:pt x="2447" y="146"/>
                  </a:lnTo>
                  <a:lnTo>
                    <a:pt x="2440" y="146"/>
                  </a:lnTo>
                  <a:lnTo>
                    <a:pt x="2432" y="148"/>
                  </a:lnTo>
                  <a:lnTo>
                    <a:pt x="2426" y="148"/>
                  </a:lnTo>
                  <a:lnTo>
                    <a:pt x="2419" y="148"/>
                  </a:lnTo>
                  <a:lnTo>
                    <a:pt x="2411" y="148"/>
                  </a:lnTo>
                  <a:lnTo>
                    <a:pt x="2403" y="150"/>
                  </a:lnTo>
                  <a:lnTo>
                    <a:pt x="2396" y="148"/>
                  </a:lnTo>
                  <a:lnTo>
                    <a:pt x="2388" y="148"/>
                  </a:lnTo>
                  <a:lnTo>
                    <a:pt x="2381" y="148"/>
                  </a:lnTo>
                  <a:lnTo>
                    <a:pt x="2373" y="148"/>
                  </a:lnTo>
                  <a:lnTo>
                    <a:pt x="2363" y="146"/>
                  </a:lnTo>
                  <a:lnTo>
                    <a:pt x="2356" y="146"/>
                  </a:lnTo>
                  <a:lnTo>
                    <a:pt x="2348" y="146"/>
                  </a:lnTo>
                  <a:lnTo>
                    <a:pt x="2341" y="146"/>
                  </a:lnTo>
                  <a:lnTo>
                    <a:pt x="2331" y="146"/>
                  </a:lnTo>
                  <a:lnTo>
                    <a:pt x="2324" y="144"/>
                  </a:lnTo>
                  <a:lnTo>
                    <a:pt x="2314" y="144"/>
                  </a:lnTo>
                  <a:lnTo>
                    <a:pt x="2306" y="143"/>
                  </a:lnTo>
                  <a:lnTo>
                    <a:pt x="2299" y="143"/>
                  </a:lnTo>
                  <a:lnTo>
                    <a:pt x="2289" y="141"/>
                  </a:lnTo>
                  <a:lnTo>
                    <a:pt x="2282" y="141"/>
                  </a:lnTo>
                  <a:lnTo>
                    <a:pt x="2274" y="141"/>
                  </a:lnTo>
                  <a:lnTo>
                    <a:pt x="2265" y="137"/>
                  </a:lnTo>
                  <a:lnTo>
                    <a:pt x="2259" y="137"/>
                  </a:lnTo>
                  <a:lnTo>
                    <a:pt x="2249" y="135"/>
                  </a:lnTo>
                  <a:lnTo>
                    <a:pt x="2242" y="135"/>
                  </a:lnTo>
                  <a:lnTo>
                    <a:pt x="2234" y="133"/>
                  </a:lnTo>
                  <a:lnTo>
                    <a:pt x="2227" y="133"/>
                  </a:lnTo>
                  <a:lnTo>
                    <a:pt x="2219" y="131"/>
                  </a:lnTo>
                  <a:lnTo>
                    <a:pt x="2213" y="131"/>
                  </a:lnTo>
                  <a:lnTo>
                    <a:pt x="2204" y="127"/>
                  </a:lnTo>
                  <a:lnTo>
                    <a:pt x="2196" y="125"/>
                  </a:lnTo>
                  <a:lnTo>
                    <a:pt x="2190" y="124"/>
                  </a:lnTo>
                  <a:lnTo>
                    <a:pt x="2185" y="124"/>
                  </a:lnTo>
                  <a:lnTo>
                    <a:pt x="2177" y="122"/>
                  </a:lnTo>
                  <a:lnTo>
                    <a:pt x="2170" y="120"/>
                  </a:lnTo>
                  <a:lnTo>
                    <a:pt x="2164" y="118"/>
                  </a:lnTo>
                  <a:lnTo>
                    <a:pt x="2158" y="116"/>
                  </a:lnTo>
                  <a:lnTo>
                    <a:pt x="2147" y="112"/>
                  </a:lnTo>
                  <a:lnTo>
                    <a:pt x="2137" y="108"/>
                  </a:lnTo>
                  <a:lnTo>
                    <a:pt x="2128" y="104"/>
                  </a:lnTo>
                  <a:lnTo>
                    <a:pt x="2122" y="101"/>
                  </a:lnTo>
                  <a:lnTo>
                    <a:pt x="2114" y="97"/>
                  </a:lnTo>
                  <a:lnTo>
                    <a:pt x="2105" y="95"/>
                  </a:lnTo>
                  <a:lnTo>
                    <a:pt x="2095" y="91"/>
                  </a:lnTo>
                  <a:lnTo>
                    <a:pt x="2086" y="89"/>
                  </a:lnTo>
                  <a:lnTo>
                    <a:pt x="2080" y="87"/>
                  </a:lnTo>
                  <a:lnTo>
                    <a:pt x="2074" y="87"/>
                  </a:lnTo>
                  <a:lnTo>
                    <a:pt x="2067" y="85"/>
                  </a:lnTo>
                  <a:lnTo>
                    <a:pt x="2063" y="85"/>
                  </a:lnTo>
                  <a:lnTo>
                    <a:pt x="2055" y="82"/>
                  </a:lnTo>
                  <a:lnTo>
                    <a:pt x="2050" y="82"/>
                  </a:lnTo>
                  <a:lnTo>
                    <a:pt x="2042" y="80"/>
                  </a:lnTo>
                  <a:lnTo>
                    <a:pt x="2036" y="80"/>
                  </a:lnTo>
                  <a:lnTo>
                    <a:pt x="2029" y="78"/>
                  </a:lnTo>
                  <a:lnTo>
                    <a:pt x="2021" y="78"/>
                  </a:lnTo>
                  <a:lnTo>
                    <a:pt x="2014" y="76"/>
                  </a:lnTo>
                  <a:lnTo>
                    <a:pt x="2008" y="76"/>
                  </a:lnTo>
                  <a:lnTo>
                    <a:pt x="1998" y="72"/>
                  </a:lnTo>
                  <a:lnTo>
                    <a:pt x="1991" y="72"/>
                  </a:lnTo>
                  <a:lnTo>
                    <a:pt x="1983" y="70"/>
                  </a:lnTo>
                  <a:lnTo>
                    <a:pt x="1976" y="70"/>
                  </a:lnTo>
                  <a:lnTo>
                    <a:pt x="1968" y="68"/>
                  </a:lnTo>
                  <a:lnTo>
                    <a:pt x="1959" y="66"/>
                  </a:lnTo>
                  <a:lnTo>
                    <a:pt x="1951" y="66"/>
                  </a:lnTo>
                  <a:lnTo>
                    <a:pt x="1943" y="65"/>
                  </a:lnTo>
                  <a:lnTo>
                    <a:pt x="1936" y="63"/>
                  </a:lnTo>
                  <a:lnTo>
                    <a:pt x="1928" y="63"/>
                  </a:lnTo>
                  <a:lnTo>
                    <a:pt x="1919" y="61"/>
                  </a:lnTo>
                  <a:lnTo>
                    <a:pt x="1911" y="61"/>
                  </a:lnTo>
                  <a:lnTo>
                    <a:pt x="1901" y="59"/>
                  </a:lnTo>
                  <a:lnTo>
                    <a:pt x="1894" y="57"/>
                  </a:lnTo>
                  <a:lnTo>
                    <a:pt x="1886" y="57"/>
                  </a:lnTo>
                  <a:lnTo>
                    <a:pt x="1879" y="55"/>
                  </a:lnTo>
                  <a:lnTo>
                    <a:pt x="1871" y="53"/>
                  </a:lnTo>
                  <a:lnTo>
                    <a:pt x="1863" y="53"/>
                  </a:lnTo>
                  <a:lnTo>
                    <a:pt x="1854" y="51"/>
                  </a:lnTo>
                  <a:lnTo>
                    <a:pt x="1846" y="51"/>
                  </a:lnTo>
                  <a:lnTo>
                    <a:pt x="1839" y="49"/>
                  </a:lnTo>
                  <a:lnTo>
                    <a:pt x="1831" y="47"/>
                  </a:lnTo>
                  <a:lnTo>
                    <a:pt x="1824" y="47"/>
                  </a:lnTo>
                  <a:lnTo>
                    <a:pt x="1816" y="46"/>
                  </a:lnTo>
                  <a:lnTo>
                    <a:pt x="1808" y="44"/>
                  </a:lnTo>
                  <a:lnTo>
                    <a:pt x="1801" y="44"/>
                  </a:lnTo>
                  <a:lnTo>
                    <a:pt x="1795" y="42"/>
                  </a:lnTo>
                  <a:lnTo>
                    <a:pt x="1787" y="42"/>
                  </a:lnTo>
                  <a:lnTo>
                    <a:pt x="1780" y="40"/>
                  </a:lnTo>
                  <a:lnTo>
                    <a:pt x="1772" y="38"/>
                  </a:lnTo>
                  <a:lnTo>
                    <a:pt x="1767" y="38"/>
                  </a:lnTo>
                  <a:lnTo>
                    <a:pt x="1761" y="36"/>
                  </a:lnTo>
                  <a:lnTo>
                    <a:pt x="1753" y="34"/>
                  </a:lnTo>
                  <a:lnTo>
                    <a:pt x="1747" y="34"/>
                  </a:lnTo>
                  <a:lnTo>
                    <a:pt x="1742" y="32"/>
                  </a:lnTo>
                  <a:lnTo>
                    <a:pt x="1738" y="32"/>
                  </a:lnTo>
                  <a:lnTo>
                    <a:pt x="1727" y="30"/>
                  </a:lnTo>
                  <a:lnTo>
                    <a:pt x="1719" y="27"/>
                  </a:lnTo>
                  <a:lnTo>
                    <a:pt x="1711" y="25"/>
                  </a:lnTo>
                  <a:lnTo>
                    <a:pt x="1706" y="25"/>
                  </a:lnTo>
                  <a:lnTo>
                    <a:pt x="1696" y="34"/>
                  </a:lnTo>
                  <a:lnTo>
                    <a:pt x="1687" y="44"/>
                  </a:lnTo>
                  <a:lnTo>
                    <a:pt x="1677" y="51"/>
                  </a:lnTo>
                  <a:lnTo>
                    <a:pt x="1668" y="59"/>
                  </a:lnTo>
                  <a:lnTo>
                    <a:pt x="1656" y="65"/>
                  </a:lnTo>
                  <a:lnTo>
                    <a:pt x="1647" y="70"/>
                  </a:lnTo>
                  <a:lnTo>
                    <a:pt x="1637" y="76"/>
                  </a:lnTo>
                  <a:lnTo>
                    <a:pt x="1630" y="78"/>
                  </a:lnTo>
                  <a:lnTo>
                    <a:pt x="1622" y="78"/>
                  </a:lnTo>
                  <a:lnTo>
                    <a:pt x="1616" y="78"/>
                  </a:lnTo>
                  <a:lnTo>
                    <a:pt x="1614" y="72"/>
                  </a:lnTo>
                  <a:lnTo>
                    <a:pt x="1614" y="68"/>
                  </a:lnTo>
                  <a:lnTo>
                    <a:pt x="1616" y="59"/>
                  </a:lnTo>
                  <a:lnTo>
                    <a:pt x="1622" y="49"/>
                  </a:lnTo>
                  <a:lnTo>
                    <a:pt x="1626" y="44"/>
                  </a:lnTo>
                  <a:lnTo>
                    <a:pt x="1632" y="38"/>
                  </a:lnTo>
                  <a:lnTo>
                    <a:pt x="1639" y="28"/>
                  </a:lnTo>
                  <a:lnTo>
                    <a:pt x="1647" y="21"/>
                  </a:lnTo>
                  <a:lnTo>
                    <a:pt x="1641" y="21"/>
                  </a:lnTo>
                  <a:lnTo>
                    <a:pt x="1633" y="23"/>
                  </a:lnTo>
                  <a:lnTo>
                    <a:pt x="1628" y="25"/>
                  </a:lnTo>
                  <a:lnTo>
                    <a:pt x="1622" y="30"/>
                  </a:lnTo>
                  <a:lnTo>
                    <a:pt x="1613" y="38"/>
                  </a:lnTo>
                  <a:lnTo>
                    <a:pt x="1603" y="47"/>
                  </a:lnTo>
                  <a:lnTo>
                    <a:pt x="1592" y="55"/>
                  </a:lnTo>
                  <a:lnTo>
                    <a:pt x="1582" y="63"/>
                  </a:lnTo>
                  <a:lnTo>
                    <a:pt x="1574" y="66"/>
                  </a:lnTo>
                  <a:lnTo>
                    <a:pt x="1569" y="70"/>
                  </a:lnTo>
                  <a:lnTo>
                    <a:pt x="1563" y="72"/>
                  </a:lnTo>
                  <a:lnTo>
                    <a:pt x="1557" y="74"/>
                  </a:lnTo>
                  <a:lnTo>
                    <a:pt x="1555" y="70"/>
                  </a:lnTo>
                  <a:lnTo>
                    <a:pt x="1559" y="61"/>
                  </a:lnTo>
                  <a:lnTo>
                    <a:pt x="1565" y="55"/>
                  </a:lnTo>
                  <a:lnTo>
                    <a:pt x="1567" y="47"/>
                  </a:lnTo>
                  <a:lnTo>
                    <a:pt x="1571" y="42"/>
                  </a:lnTo>
                  <a:lnTo>
                    <a:pt x="1573" y="32"/>
                  </a:lnTo>
                  <a:lnTo>
                    <a:pt x="1573" y="27"/>
                  </a:lnTo>
                  <a:lnTo>
                    <a:pt x="1569" y="21"/>
                  </a:lnTo>
                  <a:lnTo>
                    <a:pt x="1565" y="19"/>
                  </a:lnTo>
                  <a:lnTo>
                    <a:pt x="1557" y="19"/>
                  </a:lnTo>
                  <a:lnTo>
                    <a:pt x="1550" y="21"/>
                  </a:lnTo>
                  <a:lnTo>
                    <a:pt x="1540" y="23"/>
                  </a:lnTo>
                  <a:lnTo>
                    <a:pt x="1531" y="27"/>
                  </a:lnTo>
                  <a:lnTo>
                    <a:pt x="1519" y="32"/>
                  </a:lnTo>
                  <a:lnTo>
                    <a:pt x="1510" y="40"/>
                  </a:lnTo>
                  <a:lnTo>
                    <a:pt x="1498" y="47"/>
                  </a:lnTo>
                  <a:lnTo>
                    <a:pt x="1489" y="55"/>
                  </a:lnTo>
                  <a:lnTo>
                    <a:pt x="1479" y="65"/>
                  </a:lnTo>
                  <a:lnTo>
                    <a:pt x="1472" y="74"/>
                  </a:lnTo>
                  <a:lnTo>
                    <a:pt x="1468" y="70"/>
                  </a:lnTo>
                  <a:lnTo>
                    <a:pt x="1470" y="63"/>
                  </a:lnTo>
                  <a:lnTo>
                    <a:pt x="1472" y="57"/>
                  </a:lnTo>
                  <a:lnTo>
                    <a:pt x="1474" y="49"/>
                  </a:lnTo>
                  <a:lnTo>
                    <a:pt x="1478" y="42"/>
                  </a:lnTo>
                  <a:lnTo>
                    <a:pt x="1481" y="36"/>
                  </a:lnTo>
                  <a:lnTo>
                    <a:pt x="1485" y="30"/>
                  </a:lnTo>
                  <a:lnTo>
                    <a:pt x="1489" y="23"/>
                  </a:lnTo>
                  <a:lnTo>
                    <a:pt x="1495" y="17"/>
                  </a:lnTo>
                  <a:lnTo>
                    <a:pt x="1493" y="13"/>
                  </a:lnTo>
                  <a:lnTo>
                    <a:pt x="1493" y="11"/>
                  </a:lnTo>
                  <a:lnTo>
                    <a:pt x="1485" y="11"/>
                  </a:lnTo>
                  <a:lnTo>
                    <a:pt x="1478" y="13"/>
                  </a:lnTo>
                  <a:lnTo>
                    <a:pt x="1474" y="13"/>
                  </a:lnTo>
                  <a:lnTo>
                    <a:pt x="1468" y="17"/>
                  </a:lnTo>
                  <a:lnTo>
                    <a:pt x="1457" y="21"/>
                  </a:lnTo>
                  <a:lnTo>
                    <a:pt x="1447" y="27"/>
                  </a:lnTo>
                  <a:lnTo>
                    <a:pt x="1443" y="25"/>
                  </a:lnTo>
                  <a:lnTo>
                    <a:pt x="1440" y="17"/>
                  </a:lnTo>
                  <a:lnTo>
                    <a:pt x="1438" y="11"/>
                  </a:lnTo>
                  <a:lnTo>
                    <a:pt x="1436" y="8"/>
                  </a:lnTo>
                  <a:lnTo>
                    <a:pt x="1436" y="4"/>
                  </a:lnTo>
                  <a:lnTo>
                    <a:pt x="1428" y="0"/>
                  </a:lnTo>
                  <a:lnTo>
                    <a:pt x="1422" y="0"/>
                  </a:lnTo>
                  <a:lnTo>
                    <a:pt x="1413" y="0"/>
                  </a:lnTo>
                  <a:lnTo>
                    <a:pt x="1407" y="4"/>
                  </a:lnTo>
                  <a:lnTo>
                    <a:pt x="1398" y="9"/>
                  </a:lnTo>
                  <a:lnTo>
                    <a:pt x="1388" y="17"/>
                  </a:lnTo>
                  <a:lnTo>
                    <a:pt x="1375" y="23"/>
                  </a:lnTo>
                  <a:lnTo>
                    <a:pt x="1365" y="30"/>
                  </a:lnTo>
                  <a:lnTo>
                    <a:pt x="1354" y="38"/>
                  </a:lnTo>
                  <a:lnTo>
                    <a:pt x="1344" y="44"/>
                  </a:lnTo>
                  <a:lnTo>
                    <a:pt x="1333" y="49"/>
                  </a:lnTo>
                  <a:lnTo>
                    <a:pt x="1324" y="51"/>
                  </a:lnTo>
                  <a:lnTo>
                    <a:pt x="1312" y="53"/>
                  </a:lnTo>
                  <a:lnTo>
                    <a:pt x="1305" y="53"/>
                  </a:lnTo>
                  <a:lnTo>
                    <a:pt x="1306" y="47"/>
                  </a:lnTo>
                  <a:lnTo>
                    <a:pt x="1310" y="42"/>
                  </a:lnTo>
                  <a:lnTo>
                    <a:pt x="1314" y="38"/>
                  </a:lnTo>
                  <a:lnTo>
                    <a:pt x="1320" y="34"/>
                  </a:lnTo>
                  <a:lnTo>
                    <a:pt x="1325" y="28"/>
                  </a:lnTo>
                  <a:lnTo>
                    <a:pt x="1329" y="25"/>
                  </a:lnTo>
                  <a:lnTo>
                    <a:pt x="1333" y="19"/>
                  </a:lnTo>
                  <a:lnTo>
                    <a:pt x="1335" y="13"/>
                  </a:lnTo>
                  <a:lnTo>
                    <a:pt x="1333" y="11"/>
                  </a:lnTo>
                  <a:lnTo>
                    <a:pt x="1325" y="13"/>
                  </a:lnTo>
                  <a:lnTo>
                    <a:pt x="1316" y="17"/>
                  </a:lnTo>
                  <a:lnTo>
                    <a:pt x="1306" y="21"/>
                  </a:lnTo>
                  <a:lnTo>
                    <a:pt x="1297" y="23"/>
                  </a:lnTo>
                  <a:lnTo>
                    <a:pt x="1287" y="27"/>
                  </a:lnTo>
                  <a:lnTo>
                    <a:pt x="1276" y="30"/>
                  </a:lnTo>
                  <a:lnTo>
                    <a:pt x="1270" y="30"/>
                  </a:lnTo>
                  <a:lnTo>
                    <a:pt x="1265" y="32"/>
                  </a:lnTo>
                  <a:lnTo>
                    <a:pt x="1259" y="34"/>
                  </a:lnTo>
                  <a:lnTo>
                    <a:pt x="1253" y="38"/>
                  </a:lnTo>
                  <a:lnTo>
                    <a:pt x="1246" y="38"/>
                  </a:lnTo>
                  <a:lnTo>
                    <a:pt x="1240" y="40"/>
                  </a:lnTo>
                  <a:lnTo>
                    <a:pt x="1232" y="42"/>
                  </a:lnTo>
                  <a:lnTo>
                    <a:pt x="1227" y="44"/>
                  </a:lnTo>
                  <a:lnTo>
                    <a:pt x="1219" y="44"/>
                  </a:lnTo>
                  <a:lnTo>
                    <a:pt x="1213" y="47"/>
                  </a:lnTo>
                  <a:lnTo>
                    <a:pt x="1206" y="49"/>
                  </a:lnTo>
                  <a:lnTo>
                    <a:pt x="1200" y="51"/>
                  </a:lnTo>
                  <a:lnTo>
                    <a:pt x="1192" y="51"/>
                  </a:lnTo>
                  <a:lnTo>
                    <a:pt x="1187" y="53"/>
                  </a:lnTo>
                  <a:lnTo>
                    <a:pt x="1179" y="55"/>
                  </a:lnTo>
                  <a:lnTo>
                    <a:pt x="1171" y="59"/>
                  </a:lnTo>
                  <a:lnTo>
                    <a:pt x="1166" y="59"/>
                  </a:lnTo>
                  <a:lnTo>
                    <a:pt x="1158" y="61"/>
                  </a:lnTo>
                  <a:lnTo>
                    <a:pt x="1151" y="63"/>
                  </a:lnTo>
                  <a:lnTo>
                    <a:pt x="1145" y="66"/>
                  </a:lnTo>
                  <a:lnTo>
                    <a:pt x="1135" y="66"/>
                  </a:lnTo>
                  <a:lnTo>
                    <a:pt x="1130" y="68"/>
                  </a:lnTo>
                  <a:lnTo>
                    <a:pt x="1122" y="68"/>
                  </a:lnTo>
                  <a:lnTo>
                    <a:pt x="1114" y="70"/>
                  </a:lnTo>
                  <a:lnTo>
                    <a:pt x="1107" y="72"/>
                  </a:lnTo>
                  <a:lnTo>
                    <a:pt x="1099" y="74"/>
                  </a:lnTo>
                  <a:lnTo>
                    <a:pt x="1092" y="76"/>
                  </a:lnTo>
                  <a:lnTo>
                    <a:pt x="1086" y="78"/>
                  </a:lnTo>
                  <a:lnTo>
                    <a:pt x="1078" y="78"/>
                  </a:lnTo>
                  <a:lnTo>
                    <a:pt x="1071" y="80"/>
                  </a:lnTo>
                  <a:lnTo>
                    <a:pt x="1063" y="80"/>
                  </a:lnTo>
                  <a:lnTo>
                    <a:pt x="1057" y="82"/>
                  </a:lnTo>
                  <a:lnTo>
                    <a:pt x="1050" y="84"/>
                  </a:lnTo>
                  <a:lnTo>
                    <a:pt x="1042" y="85"/>
                  </a:lnTo>
                  <a:lnTo>
                    <a:pt x="1036" y="87"/>
                  </a:lnTo>
                  <a:lnTo>
                    <a:pt x="1031" y="89"/>
                  </a:lnTo>
                  <a:lnTo>
                    <a:pt x="1023" y="89"/>
                  </a:lnTo>
                  <a:lnTo>
                    <a:pt x="1016" y="89"/>
                  </a:lnTo>
                  <a:lnTo>
                    <a:pt x="1010" y="91"/>
                  </a:lnTo>
                  <a:lnTo>
                    <a:pt x="1002" y="93"/>
                  </a:lnTo>
                  <a:lnTo>
                    <a:pt x="997" y="93"/>
                  </a:lnTo>
                  <a:lnTo>
                    <a:pt x="991" y="95"/>
                  </a:lnTo>
                  <a:lnTo>
                    <a:pt x="983" y="95"/>
                  </a:lnTo>
                  <a:lnTo>
                    <a:pt x="978" y="97"/>
                  </a:lnTo>
                  <a:lnTo>
                    <a:pt x="972" y="97"/>
                  </a:lnTo>
                  <a:lnTo>
                    <a:pt x="964" y="99"/>
                  </a:lnTo>
                  <a:lnTo>
                    <a:pt x="959" y="99"/>
                  </a:lnTo>
                  <a:lnTo>
                    <a:pt x="955" y="99"/>
                  </a:lnTo>
                  <a:lnTo>
                    <a:pt x="945" y="101"/>
                  </a:lnTo>
                  <a:lnTo>
                    <a:pt x="936" y="103"/>
                  </a:lnTo>
                  <a:lnTo>
                    <a:pt x="928" y="106"/>
                  </a:lnTo>
                  <a:lnTo>
                    <a:pt x="919" y="110"/>
                  </a:lnTo>
                  <a:lnTo>
                    <a:pt x="911" y="112"/>
                  </a:lnTo>
                  <a:lnTo>
                    <a:pt x="905" y="114"/>
                  </a:lnTo>
                  <a:lnTo>
                    <a:pt x="896" y="116"/>
                  </a:lnTo>
                  <a:lnTo>
                    <a:pt x="888" y="118"/>
                  </a:lnTo>
                  <a:lnTo>
                    <a:pt x="879" y="118"/>
                  </a:lnTo>
                  <a:lnTo>
                    <a:pt x="869" y="120"/>
                  </a:lnTo>
                  <a:lnTo>
                    <a:pt x="860" y="122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5" y="125"/>
                  </a:lnTo>
                  <a:lnTo>
                    <a:pt x="816" y="125"/>
                  </a:lnTo>
                  <a:lnTo>
                    <a:pt x="805" y="127"/>
                  </a:lnTo>
                  <a:lnTo>
                    <a:pt x="799" y="127"/>
                  </a:lnTo>
                  <a:lnTo>
                    <a:pt x="791" y="127"/>
                  </a:lnTo>
                  <a:lnTo>
                    <a:pt x="787" y="127"/>
                  </a:lnTo>
                  <a:lnTo>
                    <a:pt x="782" y="127"/>
                  </a:lnTo>
                  <a:lnTo>
                    <a:pt x="770" y="127"/>
                  </a:lnTo>
                  <a:lnTo>
                    <a:pt x="759" y="129"/>
                  </a:lnTo>
                  <a:lnTo>
                    <a:pt x="748" y="127"/>
                  </a:lnTo>
                  <a:lnTo>
                    <a:pt x="738" y="127"/>
                  </a:lnTo>
                  <a:lnTo>
                    <a:pt x="728" y="127"/>
                  </a:lnTo>
                  <a:lnTo>
                    <a:pt x="721" y="127"/>
                  </a:lnTo>
                  <a:lnTo>
                    <a:pt x="711" y="127"/>
                  </a:lnTo>
                  <a:lnTo>
                    <a:pt x="704" y="125"/>
                  </a:lnTo>
                  <a:lnTo>
                    <a:pt x="696" y="125"/>
                  </a:lnTo>
                  <a:lnTo>
                    <a:pt x="692" y="125"/>
                  </a:lnTo>
                  <a:lnTo>
                    <a:pt x="683" y="122"/>
                  </a:lnTo>
                  <a:lnTo>
                    <a:pt x="681" y="118"/>
                  </a:lnTo>
                  <a:lnTo>
                    <a:pt x="673" y="124"/>
                  </a:lnTo>
                  <a:lnTo>
                    <a:pt x="666" y="127"/>
                  </a:lnTo>
                  <a:lnTo>
                    <a:pt x="658" y="131"/>
                  </a:lnTo>
                  <a:lnTo>
                    <a:pt x="651" y="135"/>
                  </a:lnTo>
                  <a:lnTo>
                    <a:pt x="643" y="137"/>
                  </a:lnTo>
                  <a:lnTo>
                    <a:pt x="635" y="139"/>
                  </a:lnTo>
                  <a:lnTo>
                    <a:pt x="628" y="139"/>
                  </a:lnTo>
                  <a:lnTo>
                    <a:pt x="620" y="139"/>
                  </a:lnTo>
                  <a:lnTo>
                    <a:pt x="611" y="137"/>
                  </a:lnTo>
                  <a:lnTo>
                    <a:pt x="601" y="135"/>
                  </a:lnTo>
                  <a:lnTo>
                    <a:pt x="594" y="131"/>
                  </a:lnTo>
                  <a:lnTo>
                    <a:pt x="584" y="129"/>
                  </a:lnTo>
                  <a:lnTo>
                    <a:pt x="574" y="125"/>
                  </a:lnTo>
                  <a:lnTo>
                    <a:pt x="565" y="122"/>
                  </a:lnTo>
                  <a:lnTo>
                    <a:pt x="555" y="118"/>
                  </a:lnTo>
                  <a:lnTo>
                    <a:pt x="548" y="114"/>
                  </a:lnTo>
                  <a:lnTo>
                    <a:pt x="536" y="108"/>
                  </a:lnTo>
                  <a:lnTo>
                    <a:pt x="527" y="103"/>
                  </a:lnTo>
                  <a:lnTo>
                    <a:pt x="517" y="97"/>
                  </a:lnTo>
                  <a:lnTo>
                    <a:pt x="508" y="93"/>
                  </a:lnTo>
                  <a:lnTo>
                    <a:pt x="498" y="87"/>
                  </a:lnTo>
                  <a:lnTo>
                    <a:pt x="489" y="84"/>
                  </a:lnTo>
                  <a:lnTo>
                    <a:pt x="478" y="80"/>
                  </a:lnTo>
                  <a:lnTo>
                    <a:pt x="468" y="76"/>
                  </a:lnTo>
                  <a:lnTo>
                    <a:pt x="459" y="72"/>
                  </a:lnTo>
                  <a:lnTo>
                    <a:pt x="449" y="68"/>
                  </a:lnTo>
                  <a:lnTo>
                    <a:pt x="440" y="66"/>
                  </a:lnTo>
                  <a:lnTo>
                    <a:pt x="430" y="63"/>
                  </a:lnTo>
                  <a:lnTo>
                    <a:pt x="421" y="61"/>
                  </a:lnTo>
                  <a:lnTo>
                    <a:pt x="411" y="61"/>
                  </a:lnTo>
                  <a:lnTo>
                    <a:pt x="401" y="61"/>
                  </a:lnTo>
                  <a:lnTo>
                    <a:pt x="392" y="61"/>
                  </a:lnTo>
                  <a:lnTo>
                    <a:pt x="392" y="63"/>
                  </a:lnTo>
                  <a:lnTo>
                    <a:pt x="392" y="66"/>
                  </a:lnTo>
                  <a:lnTo>
                    <a:pt x="401" y="66"/>
                  </a:lnTo>
                  <a:lnTo>
                    <a:pt x="411" y="70"/>
                  </a:lnTo>
                  <a:lnTo>
                    <a:pt x="421" y="72"/>
                  </a:lnTo>
                  <a:lnTo>
                    <a:pt x="430" y="78"/>
                  </a:lnTo>
                  <a:lnTo>
                    <a:pt x="438" y="82"/>
                  </a:lnTo>
                  <a:lnTo>
                    <a:pt x="445" y="87"/>
                  </a:lnTo>
                  <a:lnTo>
                    <a:pt x="455" y="91"/>
                  </a:lnTo>
                  <a:lnTo>
                    <a:pt x="464" y="95"/>
                  </a:lnTo>
                  <a:lnTo>
                    <a:pt x="464" y="97"/>
                  </a:lnTo>
                  <a:lnTo>
                    <a:pt x="464" y="101"/>
                  </a:lnTo>
                  <a:lnTo>
                    <a:pt x="453" y="101"/>
                  </a:lnTo>
                  <a:lnTo>
                    <a:pt x="443" y="101"/>
                  </a:lnTo>
                  <a:lnTo>
                    <a:pt x="434" y="99"/>
                  </a:lnTo>
                  <a:lnTo>
                    <a:pt x="424" y="97"/>
                  </a:lnTo>
                  <a:lnTo>
                    <a:pt x="415" y="91"/>
                  </a:lnTo>
                  <a:lnTo>
                    <a:pt x="407" y="89"/>
                  </a:lnTo>
                  <a:lnTo>
                    <a:pt x="398" y="85"/>
                  </a:lnTo>
                  <a:lnTo>
                    <a:pt x="388" y="82"/>
                  </a:lnTo>
                  <a:lnTo>
                    <a:pt x="379" y="78"/>
                  </a:lnTo>
                  <a:lnTo>
                    <a:pt x="371" y="76"/>
                  </a:lnTo>
                  <a:lnTo>
                    <a:pt x="362" y="72"/>
                  </a:lnTo>
                  <a:lnTo>
                    <a:pt x="354" y="72"/>
                  </a:lnTo>
                  <a:lnTo>
                    <a:pt x="344" y="72"/>
                  </a:lnTo>
                  <a:lnTo>
                    <a:pt x="337" y="74"/>
                  </a:lnTo>
                  <a:lnTo>
                    <a:pt x="327" y="78"/>
                  </a:lnTo>
                  <a:lnTo>
                    <a:pt x="320" y="85"/>
                  </a:lnTo>
                  <a:lnTo>
                    <a:pt x="320" y="87"/>
                  </a:lnTo>
                  <a:lnTo>
                    <a:pt x="320" y="89"/>
                  </a:lnTo>
                  <a:lnTo>
                    <a:pt x="329" y="89"/>
                  </a:lnTo>
                  <a:lnTo>
                    <a:pt x="337" y="93"/>
                  </a:lnTo>
                  <a:lnTo>
                    <a:pt x="344" y="99"/>
                  </a:lnTo>
                  <a:lnTo>
                    <a:pt x="354" y="106"/>
                  </a:lnTo>
                  <a:lnTo>
                    <a:pt x="354" y="110"/>
                  </a:lnTo>
                  <a:lnTo>
                    <a:pt x="354" y="114"/>
                  </a:lnTo>
                  <a:lnTo>
                    <a:pt x="346" y="114"/>
                  </a:lnTo>
                  <a:lnTo>
                    <a:pt x="341" y="114"/>
                  </a:lnTo>
                  <a:lnTo>
                    <a:pt x="335" y="112"/>
                  </a:lnTo>
                  <a:lnTo>
                    <a:pt x="329" y="112"/>
                  </a:lnTo>
                  <a:lnTo>
                    <a:pt x="324" y="108"/>
                  </a:lnTo>
                  <a:lnTo>
                    <a:pt x="316" y="108"/>
                  </a:lnTo>
                  <a:lnTo>
                    <a:pt x="310" y="106"/>
                  </a:lnTo>
                  <a:lnTo>
                    <a:pt x="305" y="106"/>
                  </a:lnTo>
                  <a:lnTo>
                    <a:pt x="293" y="104"/>
                  </a:lnTo>
                  <a:lnTo>
                    <a:pt x="284" y="106"/>
                  </a:lnTo>
                  <a:lnTo>
                    <a:pt x="278" y="106"/>
                  </a:lnTo>
                  <a:lnTo>
                    <a:pt x="274" y="112"/>
                  </a:lnTo>
                  <a:lnTo>
                    <a:pt x="272" y="116"/>
                  </a:lnTo>
                  <a:lnTo>
                    <a:pt x="270" y="124"/>
                  </a:lnTo>
                  <a:lnTo>
                    <a:pt x="276" y="124"/>
                  </a:lnTo>
                  <a:lnTo>
                    <a:pt x="282" y="125"/>
                  </a:lnTo>
                  <a:lnTo>
                    <a:pt x="286" y="125"/>
                  </a:lnTo>
                  <a:lnTo>
                    <a:pt x="289" y="129"/>
                  </a:lnTo>
                  <a:lnTo>
                    <a:pt x="289" y="131"/>
                  </a:lnTo>
                  <a:lnTo>
                    <a:pt x="289" y="137"/>
                  </a:lnTo>
                  <a:lnTo>
                    <a:pt x="282" y="137"/>
                  </a:lnTo>
                  <a:lnTo>
                    <a:pt x="274" y="137"/>
                  </a:lnTo>
                  <a:lnTo>
                    <a:pt x="267" y="137"/>
                  </a:lnTo>
                  <a:lnTo>
                    <a:pt x="259" y="139"/>
                  </a:lnTo>
                  <a:lnTo>
                    <a:pt x="251" y="137"/>
                  </a:lnTo>
                  <a:lnTo>
                    <a:pt x="244" y="137"/>
                  </a:lnTo>
                  <a:lnTo>
                    <a:pt x="234" y="137"/>
                  </a:lnTo>
                  <a:lnTo>
                    <a:pt x="228" y="139"/>
                  </a:lnTo>
                  <a:lnTo>
                    <a:pt x="221" y="139"/>
                  </a:lnTo>
                  <a:lnTo>
                    <a:pt x="213" y="141"/>
                  </a:lnTo>
                  <a:lnTo>
                    <a:pt x="206" y="143"/>
                  </a:lnTo>
                  <a:lnTo>
                    <a:pt x="200" y="146"/>
                  </a:lnTo>
                  <a:lnTo>
                    <a:pt x="194" y="150"/>
                  </a:lnTo>
                  <a:lnTo>
                    <a:pt x="189" y="156"/>
                  </a:lnTo>
                  <a:lnTo>
                    <a:pt x="185" y="162"/>
                  </a:lnTo>
                  <a:lnTo>
                    <a:pt x="183" y="171"/>
                  </a:lnTo>
                  <a:lnTo>
                    <a:pt x="189" y="171"/>
                  </a:lnTo>
                  <a:lnTo>
                    <a:pt x="194" y="171"/>
                  </a:lnTo>
                  <a:lnTo>
                    <a:pt x="198" y="173"/>
                  </a:lnTo>
                  <a:lnTo>
                    <a:pt x="204" y="177"/>
                  </a:lnTo>
                  <a:lnTo>
                    <a:pt x="204" y="179"/>
                  </a:lnTo>
                  <a:lnTo>
                    <a:pt x="204" y="181"/>
                  </a:lnTo>
                  <a:lnTo>
                    <a:pt x="192" y="179"/>
                  </a:lnTo>
                  <a:lnTo>
                    <a:pt x="181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1" y="175"/>
                  </a:lnTo>
                  <a:lnTo>
                    <a:pt x="139" y="175"/>
                  </a:lnTo>
                  <a:lnTo>
                    <a:pt x="130" y="177"/>
                  </a:lnTo>
                  <a:lnTo>
                    <a:pt x="120" y="179"/>
                  </a:lnTo>
                  <a:lnTo>
                    <a:pt x="109" y="179"/>
                  </a:lnTo>
                  <a:lnTo>
                    <a:pt x="97" y="181"/>
                  </a:lnTo>
                  <a:lnTo>
                    <a:pt x="88" y="182"/>
                  </a:lnTo>
                  <a:lnTo>
                    <a:pt x="78" y="186"/>
                  </a:lnTo>
                  <a:lnTo>
                    <a:pt x="67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8" y="200"/>
                  </a:lnTo>
                  <a:lnTo>
                    <a:pt x="40" y="205"/>
                  </a:lnTo>
                  <a:lnTo>
                    <a:pt x="46" y="213"/>
                  </a:lnTo>
                  <a:lnTo>
                    <a:pt x="50" y="217"/>
                  </a:lnTo>
                  <a:lnTo>
                    <a:pt x="57" y="224"/>
                  </a:lnTo>
                  <a:lnTo>
                    <a:pt x="57" y="226"/>
                  </a:lnTo>
                  <a:lnTo>
                    <a:pt x="57" y="228"/>
                  </a:lnTo>
                  <a:lnTo>
                    <a:pt x="48" y="228"/>
                  </a:lnTo>
                  <a:lnTo>
                    <a:pt x="42" y="226"/>
                  </a:lnTo>
                  <a:lnTo>
                    <a:pt x="35" y="224"/>
                  </a:lnTo>
                  <a:lnTo>
                    <a:pt x="29" y="222"/>
                  </a:lnTo>
                  <a:lnTo>
                    <a:pt x="21" y="217"/>
                  </a:lnTo>
                  <a:lnTo>
                    <a:pt x="14" y="215"/>
                  </a:lnTo>
                  <a:lnTo>
                    <a:pt x="6" y="20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6" y="232"/>
                  </a:lnTo>
                  <a:lnTo>
                    <a:pt x="12" y="234"/>
                  </a:lnTo>
                  <a:lnTo>
                    <a:pt x="19" y="238"/>
                  </a:lnTo>
                  <a:lnTo>
                    <a:pt x="27" y="241"/>
                  </a:lnTo>
                  <a:lnTo>
                    <a:pt x="33" y="243"/>
                  </a:lnTo>
                  <a:lnTo>
                    <a:pt x="38" y="245"/>
                  </a:lnTo>
                  <a:lnTo>
                    <a:pt x="46" y="249"/>
                  </a:lnTo>
                  <a:lnTo>
                    <a:pt x="52" y="253"/>
                  </a:lnTo>
                  <a:lnTo>
                    <a:pt x="59" y="257"/>
                  </a:lnTo>
                  <a:lnTo>
                    <a:pt x="65" y="260"/>
                  </a:lnTo>
                  <a:lnTo>
                    <a:pt x="71" y="264"/>
                  </a:lnTo>
                  <a:lnTo>
                    <a:pt x="78" y="268"/>
                  </a:lnTo>
                  <a:lnTo>
                    <a:pt x="84" y="272"/>
                  </a:lnTo>
                  <a:lnTo>
                    <a:pt x="92" y="277"/>
                  </a:lnTo>
                  <a:lnTo>
                    <a:pt x="97" y="279"/>
                  </a:lnTo>
                  <a:lnTo>
                    <a:pt x="105" y="285"/>
                  </a:lnTo>
                  <a:lnTo>
                    <a:pt x="111" y="289"/>
                  </a:lnTo>
                  <a:lnTo>
                    <a:pt x="116" y="293"/>
                  </a:lnTo>
                  <a:lnTo>
                    <a:pt x="124" y="297"/>
                  </a:lnTo>
                  <a:lnTo>
                    <a:pt x="130" y="300"/>
                  </a:lnTo>
                  <a:lnTo>
                    <a:pt x="135" y="304"/>
                  </a:lnTo>
                  <a:lnTo>
                    <a:pt x="143" y="306"/>
                  </a:lnTo>
                  <a:lnTo>
                    <a:pt x="149" y="310"/>
                  </a:lnTo>
                  <a:lnTo>
                    <a:pt x="156" y="314"/>
                  </a:lnTo>
                  <a:lnTo>
                    <a:pt x="162" y="316"/>
                  </a:lnTo>
                  <a:lnTo>
                    <a:pt x="170" y="319"/>
                  </a:lnTo>
                  <a:lnTo>
                    <a:pt x="175" y="321"/>
                  </a:lnTo>
                  <a:lnTo>
                    <a:pt x="181" y="325"/>
                  </a:lnTo>
                  <a:lnTo>
                    <a:pt x="189" y="325"/>
                  </a:lnTo>
                  <a:lnTo>
                    <a:pt x="196" y="327"/>
                  </a:lnTo>
                  <a:lnTo>
                    <a:pt x="202" y="329"/>
                  </a:lnTo>
                  <a:lnTo>
                    <a:pt x="209" y="331"/>
                  </a:lnTo>
                  <a:lnTo>
                    <a:pt x="198" y="325"/>
                  </a:lnTo>
                  <a:lnTo>
                    <a:pt x="189" y="319"/>
                  </a:lnTo>
                  <a:lnTo>
                    <a:pt x="179" y="316"/>
                  </a:lnTo>
                  <a:lnTo>
                    <a:pt x="170" y="310"/>
                  </a:lnTo>
                  <a:lnTo>
                    <a:pt x="160" y="304"/>
                  </a:lnTo>
                  <a:lnTo>
                    <a:pt x="151" y="298"/>
                  </a:lnTo>
                  <a:lnTo>
                    <a:pt x="141" y="293"/>
                  </a:lnTo>
                  <a:lnTo>
                    <a:pt x="133" y="289"/>
                  </a:lnTo>
                  <a:lnTo>
                    <a:pt x="124" y="281"/>
                  </a:lnTo>
                  <a:lnTo>
                    <a:pt x="114" y="276"/>
                  </a:lnTo>
                  <a:lnTo>
                    <a:pt x="105" y="270"/>
                  </a:lnTo>
                  <a:lnTo>
                    <a:pt x="95" y="264"/>
                  </a:lnTo>
                  <a:lnTo>
                    <a:pt x="86" y="258"/>
                  </a:lnTo>
                  <a:lnTo>
                    <a:pt x="78" y="251"/>
                  </a:lnTo>
                  <a:lnTo>
                    <a:pt x="69" y="245"/>
                  </a:lnTo>
                  <a:lnTo>
                    <a:pt x="59" y="239"/>
                  </a:lnTo>
                  <a:lnTo>
                    <a:pt x="59" y="234"/>
                  </a:lnTo>
                  <a:lnTo>
                    <a:pt x="59" y="232"/>
                  </a:lnTo>
                  <a:lnTo>
                    <a:pt x="67" y="232"/>
                  </a:lnTo>
                  <a:lnTo>
                    <a:pt x="75" y="234"/>
                  </a:lnTo>
                  <a:lnTo>
                    <a:pt x="82" y="236"/>
                  </a:lnTo>
                  <a:lnTo>
                    <a:pt x="90" y="239"/>
                  </a:lnTo>
                  <a:lnTo>
                    <a:pt x="97" y="243"/>
                  </a:lnTo>
                  <a:lnTo>
                    <a:pt x="105" y="245"/>
                  </a:lnTo>
                  <a:lnTo>
                    <a:pt x="113" y="249"/>
                  </a:lnTo>
                  <a:lnTo>
                    <a:pt x="120" y="253"/>
                  </a:lnTo>
                  <a:lnTo>
                    <a:pt x="126" y="255"/>
                  </a:lnTo>
                  <a:lnTo>
                    <a:pt x="135" y="258"/>
                  </a:lnTo>
                  <a:lnTo>
                    <a:pt x="141" y="260"/>
                  </a:lnTo>
                  <a:lnTo>
                    <a:pt x="151" y="264"/>
                  </a:lnTo>
                  <a:lnTo>
                    <a:pt x="156" y="268"/>
                  </a:lnTo>
                  <a:lnTo>
                    <a:pt x="166" y="272"/>
                  </a:lnTo>
                  <a:lnTo>
                    <a:pt x="171" y="276"/>
                  </a:lnTo>
                  <a:lnTo>
                    <a:pt x="179" y="279"/>
                  </a:lnTo>
                  <a:lnTo>
                    <a:pt x="187" y="283"/>
                  </a:lnTo>
                  <a:lnTo>
                    <a:pt x="194" y="287"/>
                  </a:lnTo>
                  <a:lnTo>
                    <a:pt x="200" y="289"/>
                  </a:lnTo>
                  <a:lnTo>
                    <a:pt x="208" y="293"/>
                  </a:lnTo>
                  <a:lnTo>
                    <a:pt x="213" y="297"/>
                  </a:lnTo>
                  <a:lnTo>
                    <a:pt x="221" y="300"/>
                  </a:lnTo>
                  <a:lnTo>
                    <a:pt x="228" y="306"/>
                  </a:lnTo>
                  <a:lnTo>
                    <a:pt x="236" y="310"/>
                  </a:lnTo>
                  <a:lnTo>
                    <a:pt x="242" y="314"/>
                  </a:lnTo>
                  <a:lnTo>
                    <a:pt x="249" y="317"/>
                  </a:lnTo>
                  <a:lnTo>
                    <a:pt x="255" y="323"/>
                  </a:lnTo>
                  <a:lnTo>
                    <a:pt x="263" y="327"/>
                  </a:lnTo>
                  <a:lnTo>
                    <a:pt x="270" y="331"/>
                  </a:lnTo>
                  <a:lnTo>
                    <a:pt x="278" y="335"/>
                  </a:lnTo>
                  <a:lnTo>
                    <a:pt x="286" y="338"/>
                  </a:lnTo>
                  <a:lnTo>
                    <a:pt x="291" y="344"/>
                  </a:lnTo>
                  <a:lnTo>
                    <a:pt x="299" y="348"/>
                  </a:lnTo>
                  <a:lnTo>
                    <a:pt x="305" y="354"/>
                  </a:lnTo>
                  <a:lnTo>
                    <a:pt x="310" y="355"/>
                  </a:lnTo>
                  <a:lnTo>
                    <a:pt x="318" y="361"/>
                  </a:lnTo>
                  <a:lnTo>
                    <a:pt x="325" y="365"/>
                  </a:lnTo>
                  <a:lnTo>
                    <a:pt x="333" y="371"/>
                  </a:lnTo>
                  <a:lnTo>
                    <a:pt x="339" y="374"/>
                  </a:lnTo>
                  <a:lnTo>
                    <a:pt x="346" y="380"/>
                  </a:lnTo>
                  <a:lnTo>
                    <a:pt x="354" y="382"/>
                  </a:lnTo>
                  <a:lnTo>
                    <a:pt x="360" y="388"/>
                  </a:lnTo>
                  <a:lnTo>
                    <a:pt x="367" y="392"/>
                  </a:lnTo>
                  <a:lnTo>
                    <a:pt x="375" y="397"/>
                  </a:lnTo>
                  <a:lnTo>
                    <a:pt x="381" y="401"/>
                  </a:lnTo>
                  <a:lnTo>
                    <a:pt x="388" y="405"/>
                  </a:lnTo>
                  <a:lnTo>
                    <a:pt x="396" y="409"/>
                  </a:lnTo>
                  <a:lnTo>
                    <a:pt x="403" y="414"/>
                  </a:lnTo>
                  <a:lnTo>
                    <a:pt x="409" y="418"/>
                  </a:lnTo>
                  <a:lnTo>
                    <a:pt x="417" y="422"/>
                  </a:lnTo>
                  <a:lnTo>
                    <a:pt x="424" y="426"/>
                  </a:lnTo>
                  <a:lnTo>
                    <a:pt x="430" y="430"/>
                  </a:lnTo>
                  <a:lnTo>
                    <a:pt x="438" y="435"/>
                  </a:lnTo>
                  <a:lnTo>
                    <a:pt x="445" y="439"/>
                  </a:lnTo>
                  <a:lnTo>
                    <a:pt x="453" y="443"/>
                  </a:lnTo>
                  <a:lnTo>
                    <a:pt x="459" y="447"/>
                  </a:lnTo>
                  <a:lnTo>
                    <a:pt x="466" y="450"/>
                  </a:lnTo>
                  <a:lnTo>
                    <a:pt x="474" y="454"/>
                  </a:lnTo>
                  <a:lnTo>
                    <a:pt x="481" y="458"/>
                  </a:lnTo>
                  <a:lnTo>
                    <a:pt x="489" y="462"/>
                  </a:lnTo>
                  <a:lnTo>
                    <a:pt x="495" y="466"/>
                  </a:lnTo>
                  <a:lnTo>
                    <a:pt x="502" y="470"/>
                  </a:lnTo>
                  <a:lnTo>
                    <a:pt x="510" y="473"/>
                  </a:lnTo>
                  <a:lnTo>
                    <a:pt x="519" y="479"/>
                  </a:lnTo>
                  <a:lnTo>
                    <a:pt x="554" y="475"/>
                  </a:lnTo>
                  <a:lnTo>
                    <a:pt x="592" y="473"/>
                  </a:lnTo>
                  <a:lnTo>
                    <a:pt x="628" y="471"/>
                  </a:lnTo>
                  <a:lnTo>
                    <a:pt x="664" y="470"/>
                  </a:lnTo>
                  <a:lnTo>
                    <a:pt x="700" y="468"/>
                  </a:lnTo>
                  <a:lnTo>
                    <a:pt x="736" y="466"/>
                  </a:lnTo>
                  <a:lnTo>
                    <a:pt x="772" y="464"/>
                  </a:lnTo>
                  <a:lnTo>
                    <a:pt x="810" y="464"/>
                  </a:lnTo>
                  <a:lnTo>
                    <a:pt x="846" y="464"/>
                  </a:lnTo>
                  <a:lnTo>
                    <a:pt x="882" y="462"/>
                  </a:lnTo>
                  <a:lnTo>
                    <a:pt x="919" y="462"/>
                  </a:lnTo>
                  <a:lnTo>
                    <a:pt x="957" y="462"/>
                  </a:lnTo>
                  <a:lnTo>
                    <a:pt x="993" y="462"/>
                  </a:lnTo>
                  <a:lnTo>
                    <a:pt x="1031" y="462"/>
                  </a:lnTo>
                  <a:lnTo>
                    <a:pt x="1067" y="462"/>
                  </a:lnTo>
                  <a:lnTo>
                    <a:pt x="1105" y="462"/>
                  </a:lnTo>
                  <a:lnTo>
                    <a:pt x="1141" y="460"/>
                  </a:lnTo>
                  <a:lnTo>
                    <a:pt x="1177" y="460"/>
                  </a:lnTo>
                  <a:lnTo>
                    <a:pt x="1215" y="460"/>
                  </a:lnTo>
                  <a:lnTo>
                    <a:pt x="1251" y="460"/>
                  </a:lnTo>
                  <a:lnTo>
                    <a:pt x="1287" y="460"/>
                  </a:lnTo>
                  <a:lnTo>
                    <a:pt x="1325" y="462"/>
                  </a:lnTo>
                  <a:lnTo>
                    <a:pt x="1362" y="462"/>
                  </a:lnTo>
                  <a:lnTo>
                    <a:pt x="1400" y="462"/>
                  </a:lnTo>
                  <a:lnTo>
                    <a:pt x="1436" y="462"/>
                  </a:lnTo>
                  <a:lnTo>
                    <a:pt x="1474" y="462"/>
                  </a:lnTo>
                  <a:lnTo>
                    <a:pt x="1510" y="464"/>
                  </a:lnTo>
                  <a:lnTo>
                    <a:pt x="1548" y="464"/>
                  </a:lnTo>
                  <a:lnTo>
                    <a:pt x="1584" y="464"/>
                  </a:lnTo>
                  <a:lnTo>
                    <a:pt x="1622" y="464"/>
                  </a:lnTo>
                  <a:lnTo>
                    <a:pt x="1658" y="466"/>
                  </a:lnTo>
                  <a:lnTo>
                    <a:pt x="1696" y="466"/>
                  </a:lnTo>
                  <a:lnTo>
                    <a:pt x="1732" y="466"/>
                  </a:lnTo>
                  <a:lnTo>
                    <a:pt x="1768" y="466"/>
                  </a:lnTo>
                  <a:lnTo>
                    <a:pt x="1805" y="466"/>
                  </a:lnTo>
                  <a:lnTo>
                    <a:pt x="1843" y="466"/>
                  </a:lnTo>
                  <a:lnTo>
                    <a:pt x="1879" y="466"/>
                  </a:lnTo>
                  <a:lnTo>
                    <a:pt x="1917" y="466"/>
                  </a:lnTo>
                  <a:lnTo>
                    <a:pt x="1953" y="466"/>
                  </a:lnTo>
                  <a:lnTo>
                    <a:pt x="1991" y="468"/>
                  </a:lnTo>
                  <a:lnTo>
                    <a:pt x="2027" y="466"/>
                  </a:lnTo>
                  <a:lnTo>
                    <a:pt x="2063" y="466"/>
                  </a:lnTo>
                  <a:lnTo>
                    <a:pt x="2099" y="466"/>
                  </a:lnTo>
                  <a:lnTo>
                    <a:pt x="2135" y="466"/>
                  </a:lnTo>
                  <a:lnTo>
                    <a:pt x="2171" y="466"/>
                  </a:lnTo>
                  <a:lnTo>
                    <a:pt x="2209" y="466"/>
                  </a:lnTo>
                  <a:lnTo>
                    <a:pt x="2246" y="466"/>
                  </a:lnTo>
                  <a:lnTo>
                    <a:pt x="2282" y="466"/>
                  </a:lnTo>
                  <a:lnTo>
                    <a:pt x="2318" y="464"/>
                  </a:lnTo>
                  <a:lnTo>
                    <a:pt x="2354" y="462"/>
                  </a:lnTo>
                  <a:lnTo>
                    <a:pt x="2390" y="462"/>
                  </a:lnTo>
                  <a:lnTo>
                    <a:pt x="2426" y="460"/>
                  </a:lnTo>
                  <a:lnTo>
                    <a:pt x="2462" y="458"/>
                  </a:lnTo>
                  <a:lnTo>
                    <a:pt x="2498" y="456"/>
                  </a:lnTo>
                  <a:lnTo>
                    <a:pt x="2535" y="454"/>
                  </a:lnTo>
                  <a:lnTo>
                    <a:pt x="2571" y="454"/>
                  </a:lnTo>
                  <a:lnTo>
                    <a:pt x="2607" y="450"/>
                  </a:lnTo>
                  <a:lnTo>
                    <a:pt x="2643" y="449"/>
                  </a:lnTo>
                  <a:lnTo>
                    <a:pt x="2679" y="445"/>
                  </a:lnTo>
                  <a:lnTo>
                    <a:pt x="2715" y="443"/>
                  </a:lnTo>
                  <a:lnTo>
                    <a:pt x="2749" y="441"/>
                  </a:lnTo>
                  <a:lnTo>
                    <a:pt x="2786" y="437"/>
                  </a:lnTo>
                  <a:lnTo>
                    <a:pt x="2822" y="433"/>
                  </a:lnTo>
                  <a:lnTo>
                    <a:pt x="2858" y="430"/>
                  </a:lnTo>
                  <a:lnTo>
                    <a:pt x="2850" y="428"/>
                  </a:lnTo>
                  <a:lnTo>
                    <a:pt x="2843" y="426"/>
                  </a:lnTo>
                  <a:lnTo>
                    <a:pt x="2835" y="424"/>
                  </a:lnTo>
                  <a:lnTo>
                    <a:pt x="2829" y="422"/>
                  </a:lnTo>
                  <a:lnTo>
                    <a:pt x="2822" y="420"/>
                  </a:lnTo>
                  <a:lnTo>
                    <a:pt x="2816" y="420"/>
                  </a:lnTo>
                  <a:lnTo>
                    <a:pt x="2808" y="420"/>
                  </a:lnTo>
                  <a:lnTo>
                    <a:pt x="2801" y="420"/>
                  </a:lnTo>
                  <a:lnTo>
                    <a:pt x="2795" y="420"/>
                  </a:lnTo>
                  <a:lnTo>
                    <a:pt x="2787" y="420"/>
                  </a:lnTo>
                  <a:lnTo>
                    <a:pt x="2780" y="420"/>
                  </a:lnTo>
                  <a:lnTo>
                    <a:pt x="2772" y="422"/>
                  </a:lnTo>
                  <a:lnTo>
                    <a:pt x="2765" y="422"/>
                  </a:lnTo>
                  <a:lnTo>
                    <a:pt x="2759" y="424"/>
                  </a:lnTo>
                  <a:lnTo>
                    <a:pt x="2751" y="424"/>
                  </a:lnTo>
                  <a:lnTo>
                    <a:pt x="2744" y="426"/>
                  </a:lnTo>
                  <a:lnTo>
                    <a:pt x="2736" y="426"/>
                  </a:lnTo>
                  <a:lnTo>
                    <a:pt x="2728" y="428"/>
                  </a:lnTo>
                  <a:lnTo>
                    <a:pt x="2721" y="428"/>
                  </a:lnTo>
                  <a:lnTo>
                    <a:pt x="2715" y="428"/>
                  </a:lnTo>
                  <a:lnTo>
                    <a:pt x="2708" y="428"/>
                  </a:lnTo>
                  <a:lnTo>
                    <a:pt x="2700" y="430"/>
                  </a:lnTo>
                  <a:lnTo>
                    <a:pt x="2694" y="430"/>
                  </a:lnTo>
                  <a:lnTo>
                    <a:pt x="2687" y="430"/>
                  </a:lnTo>
                  <a:lnTo>
                    <a:pt x="2679" y="430"/>
                  </a:lnTo>
                  <a:lnTo>
                    <a:pt x="2673" y="430"/>
                  </a:lnTo>
                  <a:lnTo>
                    <a:pt x="2668" y="428"/>
                  </a:lnTo>
                  <a:lnTo>
                    <a:pt x="2660" y="428"/>
                  </a:lnTo>
                  <a:lnTo>
                    <a:pt x="2654" y="426"/>
                  </a:lnTo>
                  <a:lnTo>
                    <a:pt x="2649" y="424"/>
                  </a:lnTo>
                  <a:lnTo>
                    <a:pt x="2643" y="422"/>
                  </a:lnTo>
                  <a:lnTo>
                    <a:pt x="2637" y="420"/>
                  </a:lnTo>
                  <a:lnTo>
                    <a:pt x="2643" y="418"/>
                  </a:lnTo>
                  <a:lnTo>
                    <a:pt x="2649" y="416"/>
                  </a:lnTo>
                  <a:lnTo>
                    <a:pt x="2656" y="414"/>
                  </a:lnTo>
                  <a:lnTo>
                    <a:pt x="2662" y="414"/>
                  </a:lnTo>
                  <a:lnTo>
                    <a:pt x="2668" y="412"/>
                  </a:lnTo>
                  <a:lnTo>
                    <a:pt x="2675" y="411"/>
                  </a:lnTo>
                  <a:lnTo>
                    <a:pt x="2681" y="411"/>
                  </a:lnTo>
                  <a:lnTo>
                    <a:pt x="2687" y="411"/>
                  </a:lnTo>
                  <a:lnTo>
                    <a:pt x="2694" y="409"/>
                  </a:lnTo>
                  <a:lnTo>
                    <a:pt x="2700" y="409"/>
                  </a:lnTo>
                  <a:lnTo>
                    <a:pt x="2706" y="407"/>
                  </a:lnTo>
                  <a:lnTo>
                    <a:pt x="2713" y="407"/>
                  </a:lnTo>
                  <a:lnTo>
                    <a:pt x="2719" y="407"/>
                  </a:lnTo>
                  <a:lnTo>
                    <a:pt x="2725" y="407"/>
                  </a:lnTo>
                  <a:lnTo>
                    <a:pt x="2732" y="405"/>
                  </a:lnTo>
                  <a:lnTo>
                    <a:pt x="2738" y="405"/>
                  </a:lnTo>
                  <a:lnTo>
                    <a:pt x="2744" y="405"/>
                  </a:lnTo>
                  <a:lnTo>
                    <a:pt x="2749" y="403"/>
                  </a:lnTo>
                  <a:lnTo>
                    <a:pt x="2755" y="401"/>
                  </a:lnTo>
                  <a:lnTo>
                    <a:pt x="2763" y="401"/>
                  </a:lnTo>
                  <a:lnTo>
                    <a:pt x="2768" y="401"/>
                  </a:lnTo>
                  <a:lnTo>
                    <a:pt x="2774" y="399"/>
                  </a:lnTo>
                  <a:lnTo>
                    <a:pt x="2782" y="399"/>
                  </a:lnTo>
                  <a:lnTo>
                    <a:pt x="2787" y="399"/>
                  </a:lnTo>
                  <a:lnTo>
                    <a:pt x="2795" y="397"/>
                  </a:lnTo>
                  <a:lnTo>
                    <a:pt x="2801" y="395"/>
                  </a:lnTo>
                  <a:lnTo>
                    <a:pt x="2806" y="393"/>
                  </a:lnTo>
                  <a:lnTo>
                    <a:pt x="2814" y="392"/>
                  </a:lnTo>
                  <a:lnTo>
                    <a:pt x="2820" y="390"/>
                  </a:lnTo>
                  <a:lnTo>
                    <a:pt x="2825" y="390"/>
                  </a:lnTo>
                  <a:lnTo>
                    <a:pt x="2833" y="388"/>
                  </a:lnTo>
                  <a:lnTo>
                    <a:pt x="2839" y="386"/>
                  </a:lnTo>
                  <a:lnTo>
                    <a:pt x="2835" y="378"/>
                  </a:lnTo>
                  <a:lnTo>
                    <a:pt x="2831" y="374"/>
                  </a:lnTo>
                  <a:lnTo>
                    <a:pt x="2827" y="371"/>
                  </a:lnTo>
                  <a:lnTo>
                    <a:pt x="2825" y="369"/>
                  </a:lnTo>
                  <a:lnTo>
                    <a:pt x="2816" y="365"/>
                  </a:lnTo>
                  <a:lnTo>
                    <a:pt x="2808" y="365"/>
                  </a:lnTo>
                  <a:lnTo>
                    <a:pt x="2799" y="365"/>
                  </a:lnTo>
                  <a:lnTo>
                    <a:pt x="2789" y="367"/>
                  </a:lnTo>
                  <a:lnTo>
                    <a:pt x="2780" y="365"/>
                  </a:lnTo>
                  <a:lnTo>
                    <a:pt x="2770" y="363"/>
                  </a:lnTo>
                  <a:lnTo>
                    <a:pt x="2770" y="359"/>
                  </a:lnTo>
                  <a:lnTo>
                    <a:pt x="2778" y="355"/>
                  </a:lnTo>
                  <a:lnTo>
                    <a:pt x="2784" y="354"/>
                  </a:lnTo>
                  <a:lnTo>
                    <a:pt x="2787" y="352"/>
                  </a:lnTo>
                  <a:lnTo>
                    <a:pt x="2793" y="348"/>
                  </a:lnTo>
                  <a:lnTo>
                    <a:pt x="2799" y="342"/>
                  </a:lnTo>
                  <a:lnTo>
                    <a:pt x="2801" y="335"/>
                  </a:lnTo>
                  <a:lnTo>
                    <a:pt x="2801" y="327"/>
                  </a:lnTo>
                  <a:lnTo>
                    <a:pt x="2799" y="319"/>
                  </a:lnTo>
                  <a:lnTo>
                    <a:pt x="2793" y="310"/>
                  </a:lnTo>
                  <a:lnTo>
                    <a:pt x="2787" y="304"/>
                  </a:lnTo>
                  <a:lnTo>
                    <a:pt x="2780" y="293"/>
                  </a:lnTo>
                  <a:lnTo>
                    <a:pt x="2770" y="287"/>
                  </a:lnTo>
                  <a:lnTo>
                    <a:pt x="2759" y="279"/>
                  </a:lnTo>
                  <a:lnTo>
                    <a:pt x="2749" y="276"/>
                  </a:lnTo>
                  <a:lnTo>
                    <a:pt x="2738" y="272"/>
                  </a:lnTo>
                  <a:lnTo>
                    <a:pt x="2728" y="270"/>
                  </a:lnTo>
                  <a:lnTo>
                    <a:pt x="2719" y="268"/>
                  </a:lnTo>
                  <a:lnTo>
                    <a:pt x="2709" y="270"/>
                  </a:lnTo>
                  <a:lnTo>
                    <a:pt x="2709" y="268"/>
                  </a:lnTo>
                  <a:lnTo>
                    <a:pt x="2717" y="266"/>
                  </a:lnTo>
                  <a:lnTo>
                    <a:pt x="2727" y="262"/>
                  </a:lnTo>
                  <a:lnTo>
                    <a:pt x="2732" y="257"/>
                  </a:lnTo>
                  <a:lnTo>
                    <a:pt x="2740" y="251"/>
                  </a:lnTo>
                  <a:lnTo>
                    <a:pt x="2744" y="243"/>
                  </a:lnTo>
                  <a:lnTo>
                    <a:pt x="2744" y="236"/>
                  </a:lnTo>
                  <a:lnTo>
                    <a:pt x="2742" y="226"/>
                  </a:lnTo>
                  <a:lnTo>
                    <a:pt x="2736" y="220"/>
                  </a:lnTo>
                  <a:lnTo>
                    <a:pt x="2728" y="226"/>
                  </a:lnTo>
                  <a:lnTo>
                    <a:pt x="2719" y="232"/>
                  </a:lnTo>
                  <a:lnTo>
                    <a:pt x="2708" y="230"/>
                  </a:lnTo>
                  <a:lnTo>
                    <a:pt x="2698" y="224"/>
                  </a:lnTo>
                  <a:lnTo>
                    <a:pt x="2698" y="220"/>
                  </a:lnTo>
                  <a:lnTo>
                    <a:pt x="2706" y="219"/>
                  </a:lnTo>
                  <a:lnTo>
                    <a:pt x="2715" y="215"/>
                  </a:lnTo>
                  <a:lnTo>
                    <a:pt x="2721" y="209"/>
                  </a:lnTo>
                  <a:lnTo>
                    <a:pt x="2725" y="203"/>
                  </a:lnTo>
                  <a:lnTo>
                    <a:pt x="2725" y="196"/>
                  </a:lnTo>
                  <a:lnTo>
                    <a:pt x="2725" y="188"/>
                  </a:lnTo>
                  <a:lnTo>
                    <a:pt x="2721" y="181"/>
                  </a:lnTo>
                  <a:lnTo>
                    <a:pt x="2713" y="173"/>
                  </a:lnTo>
                  <a:lnTo>
                    <a:pt x="2704" y="179"/>
                  </a:lnTo>
                  <a:lnTo>
                    <a:pt x="2694" y="182"/>
                  </a:lnTo>
                  <a:lnTo>
                    <a:pt x="2681" y="182"/>
                  </a:lnTo>
                  <a:lnTo>
                    <a:pt x="2675" y="177"/>
                  </a:lnTo>
                  <a:lnTo>
                    <a:pt x="2675" y="173"/>
                  </a:lnTo>
                  <a:lnTo>
                    <a:pt x="2679" y="169"/>
                  </a:lnTo>
                  <a:lnTo>
                    <a:pt x="2685" y="169"/>
                  </a:lnTo>
                  <a:lnTo>
                    <a:pt x="2689" y="169"/>
                  </a:lnTo>
                  <a:lnTo>
                    <a:pt x="2694" y="171"/>
                  </a:lnTo>
                  <a:lnTo>
                    <a:pt x="2690" y="163"/>
                  </a:lnTo>
                  <a:lnTo>
                    <a:pt x="2685" y="158"/>
                  </a:lnTo>
                  <a:lnTo>
                    <a:pt x="2677" y="154"/>
                  </a:lnTo>
                  <a:lnTo>
                    <a:pt x="2668" y="152"/>
                  </a:lnTo>
                  <a:lnTo>
                    <a:pt x="2658" y="150"/>
                  </a:lnTo>
                  <a:lnTo>
                    <a:pt x="2647" y="150"/>
                  </a:lnTo>
                  <a:lnTo>
                    <a:pt x="2635" y="148"/>
                  </a:lnTo>
                  <a:lnTo>
                    <a:pt x="2626" y="148"/>
                  </a:lnTo>
                  <a:lnTo>
                    <a:pt x="2614" y="146"/>
                  </a:lnTo>
                  <a:lnTo>
                    <a:pt x="2605" y="144"/>
                  </a:lnTo>
                  <a:lnTo>
                    <a:pt x="2595" y="143"/>
                  </a:lnTo>
                  <a:lnTo>
                    <a:pt x="2588" y="141"/>
                  </a:lnTo>
                  <a:lnTo>
                    <a:pt x="2582" y="135"/>
                  </a:lnTo>
                  <a:lnTo>
                    <a:pt x="2578" y="127"/>
                  </a:lnTo>
                  <a:lnTo>
                    <a:pt x="2578" y="122"/>
                  </a:lnTo>
                  <a:lnTo>
                    <a:pt x="2580" y="112"/>
                  </a:lnTo>
                  <a:lnTo>
                    <a:pt x="2578" y="106"/>
                  </a:lnTo>
                  <a:lnTo>
                    <a:pt x="2576" y="103"/>
                  </a:lnTo>
                  <a:lnTo>
                    <a:pt x="2571" y="106"/>
                  </a:lnTo>
                  <a:lnTo>
                    <a:pt x="2565" y="112"/>
                  </a:lnTo>
                  <a:lnTo>
                    <a:pt x="2559" y="116"/>
                  </a:lnTo>
                  <a:lnTo>
                    <a:pt x="2555" y="120"/>
                  </a:lnTo>
                  <a:lnTo>
                    <a:pt x="2550" y="122"/>
                  </a:lnTo>
                  <a:lnTo>
                    <a:pt x="2546" y="125"/>
                  </a:lnTo>
                  <a:lnTo>
                    <a:pt x="2538" y="125"/>
                  </a:lnTo>
                  <a:lnTo>
                    <a:pt x="2533" y="125"/>
                  </a:lnTo>
                  <a:lnTo>
                    <a:pt x="253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04120" y="981000"/>
              <a:ext cx="2427120" cy="1404720"/>
            </a:xfrm>
            <a:custGeom>
              <a:avLst/>
              <a:gdLst/>
              <a:ahLst/>
              <a:rect l="l" t="t" r="r" b="b"/>
              <a:pathLst>
                <a:path w="3057" h="1770">
                  <a:moveTo>
                    <a:pt x="2753" y="1770"/>
                  </a:moveTo>
                  <a:lnTo>
                    <a:pt x="2751" y="1762"/>
                  </a:lnTo>
                  <a:lnTo>
                    <a:pt x="2751" y="1755"/>
                  </a:lnTo>
                  <a:lnTo>
                    <a:pt x="2749" y="1747"/>
                  </a:lnTo>
                  <a:lnTo>
                    <a:pt x="2749" y="1740"/>
                  </a:lnTo>
                  <a:lnTo>
                    <a:pt x="2747" y="1730"/>
                  </a:lnTo>
                  <a:lnTo>
                    <a:pt x="2747" y="1722"/>
                  </a:lnTo>
                  <a:lnTo>
                    <a:pt x="2747" y="1715"/>
                  </a:lnTo>
                  <a:lnTo>
                    <a:pt x="2747" y="1709"/>
                  </a:lnTo>
                  <a:lnTo>
                    <a:pt x="2747" y="1700"/>
                  </a:lnTo>
                  <a:lnTo>
                    <a:pt x="2747" y="1692"/>
                  </a:lnTo>
                  <a:lnTo>
                    <a:pt x="2745" y="1682"/>
                  </a:lnTo>
                  <a:lnTo>
                    <a:pt x="2745" y="1675"/>
                  </a:lnTo>
                  <a:lnTo>
                    <a:pt x="2745" y="1667"/>
                  </a:lnTo>
                  <a:lnTo>
                    <a:pt x="2745" y="1660"/>
                  </a:lnTo>
                  <a:lnTo>
                    <a:pt x="2745" y="1650"/>
                  </a:lnTo>
                  <a:lnTo>
                    <a:pt x="2745" y="1644"/>
                  </a:lnTo>
                  <a:lnTo>
                    <a:pt x="2745" y="1635"/>
                  </a:lnTo>
                  <a:lnTo>
                    <a:pt x="2745" y="1627"/>
                  </a:lnTo>
                  <a:lnTo>
                    <a:pt x="2745" y="1618"/>
                  </a:lnTo>
                  <a:lnTo>
                    <a:pt x="2745" y="1610"/>
                  </a:lnTo>
                  <a:lnTo>
                    <a:pt x="2745" y="1601"/>
                  </a:lnTo>
                  <a:lnTo>
                    <a:pt x="2745" y="1593"/>
                  </a:lnTo>
                  <a:lnTo>
                    <a:pt x="2745" y="1586"/>
                  </a:lnTo>
                  <a:lnTo>
                    <a:pt x="2745" y="1578"/>
                  </a:lnTo>
                  <a:lnTo>
                    <a:pt x="2745" y="1568"/>
                  </a:lnTo>
                  <a:lnTo>
                    <a:pt x="2745" y="1561"/>
                  </a:lnTo>
                  <a:lnTo>
                    <a:pt x="2745" y="1551"/>
                  </a:lnTo>
                  <a:lnTo>
                    <a:pt x="2747" y="1546"/>
                  </a:lnTo>
                  <a:lnTo>
                    <a:pt x="2747" y="1536"/>
                  </a:lnTo>
                  <a:lnTo>
                    <a:pt x="2747" y="1528"/>
                  </a:lnTo>
                  <a:lnTo>
                    <a:pt x="2747" y="1521"/>
                  </a:lnTo>
                  <a:lnTo>
                    <a:pt x="2749" y="1513"/>
                  </a:lnTo>
                  <a:lnTo>
                    <a:pt x="2749" y="1504"/>
                  </a:lnTo>
                  <a:lnTo>
                    <a:pt x="2749" y="1496"/>
                  </a:lnTo>
                  <a:lnTo>
                    <a:pt x="2749" y="1487"/>
                  </a:lnTo>
                  <a:lnTo>
                    <a:pt x="2749" y="1479"/>
                  </a:lnTo>
                  <a:lnTo>
                    <a:pt x="2749" y="1471"/>
                  </a:lnTo>
                  <a:lnTo>
                    <a:pt x="2751" y="1464"/>
                  </a:lnTo>
                  <a:lnTo>
                    <a:pt x="2751" y="1454"/>
                  </a:lnTo>
                  <a:lnTo>
                    <a:pt x="2751" y="1447"/>
                  </a:lnTo>
                  <a:lnTo>
                    <a:pt x="2751" y="1437"/>
                  </a:lnTo>
                  <a:lnTo>
                    <a:pt x="2753" y="1430"/>
                  </a:lnTo>
                  <a:lnTo>
                    <a:pt x="2753" y="1422"/>
                  </a:lnTo>
                  <a:lnTo>
                    <a:pt x="2753" y="1414"/>
                  </a:lnTo>
                  <a:lnTo>
                    <a:pt x="2753" y="1407"/>
                  </a:lnTo>
                  <a:lnTo>
                    <a:pt x="2755" y="1399"/>
                  </a:lnTo>
                  <a:lnTo>
                    <a:pt x="2755" y="1392"/>
                  </a:lnTo>
                  <a:lnTo>
                    <a:pt x="2757" y="1384"/>
                  </a:lnTo>
                  <a:lnTo>
                    <a:pt x="2757" y="1376"/>
                  </a:lnTo>
                  <a:lnTo>
                    <a:pt x="2758" y="1369"/>
                  </a:lnTo>
                  <a:lnTo>
                    <a:pt x="2758" y="1361"/>
                  </a:lnTo>
                  <a:lnTo>
                    <a:pt x="2760" y="1354"/>
                  </a:lnTo>
                  <a:lnTo>
                    <a:pt x="2760" y="1346"/>
                  </a:lnTo>
                  <a:lnTo>
                    <a:pt x="2760" y="1338"/>
                  </a:lnTo>
                  <a:lnTo>
                    <a:pt x="2762" y="1331"/>
                  </a:lnTo>
                  <a:lnTo>
                    <a:pt x="2762" y="1325"/>
                  </a:lnTo>
                  <a:lnTo>
                    <a:pt x="2762" y="1317"/>
                  </a:lnTo>
                  <a:lnTo>
                    <a:pt x="2764" y="1310"/>
                  </a:lnTo>
                  <a:lnTo>
                    <a:pt x="2764" y="1302"/>
                  </a:lnTo>
                  <a:lnTo>
                    <a:pt x="2768" y="1297"/>
                  </a:lnTo>
                  <a:lnTo>
                    <a:pt x="2768" y="1289"/>
                  </a:lnTo>
                  <a:lnTo>
                    <a:pt x="2768" y="1283"/>
                  </a:lnTo>
                  <a:lnTo>
                    <a:pt x="2770" y="1276"/>
                  </a:lnTo>
                  <a:lnTo>
                    <a:pt x="2772" y="1270"/>
                  </a:lnTo>
                  <a:lnTo>
                    <a:pt x="2768" y="1264"/>
                  </a:lnTo>
                  <a:lnTo>
                    <a:pt x="2766" y="1257"/>
                  </a:lnTo>
                  <a:lnTo>
                    <a:pt x="2764" y="1251"/>
                  </a:lnTo>
                  <a:lnTo>
                    <a:pt x="2762" y="1245"/>
                  </a:lnTo>
                  <a:lnTo>
                    <a:pt x="2758" y="1240"/>
                  </a:lnTo>
                  <a:lnTo>
                    <a:pt x="2758" y="1234"/>
                  </a:lnTo>
                  <a:lnTo>
                    <a:pt x="2755" y="1228"/>
                  </a:lnTo>
                  <a:lnTo>
                    <a:pt x="2753" y="1222"/>
                  </a:lnTo>
                  <a:lnTo>
                    <a:pt x="2751" y="1217"/>
                  </a:lnTo>
                  <a:lnTo>
                    <a:pt x="2749" y="1209"/>
                  </a:lnTo>
                  <a:lnTo>
                    <a:pt x="2745" y="1205"/>
                  </a:lnTo>
                  <a:lnTo>
                    <a:pt x="2745" y="1200"/>
                  </a:lnTo>
                  <a:lnTo>
                    <a:pt x="2743" y="1192"/>
                  </a:lnTo>
                  <a:lnTo>
                    <a:pt x="2741" y="1186"/>
                  </a:lnTo>
                  <a:lnTo>
                    <a:pt x="2738" y="1181"/>
                  </a:lnTo>
                  <a:lnTo>
                    <a:pt x="2738" y="1175"/>
                  </a:lnTo>
                  <a:lnTo>
                    <a:pt x="2734" y="1169"/>
                  </a:lnTo>
                  <a:lnTo>
                    <a:pt x="2734" y="1163"/>
                  </a:lnTo>
                  <a:lnTo>
                    <a:pt x="2732" y="1156"/>
                  </a:lnTo>
                  <a:lnTo>
                    <a:pt x="2730" y="1152"/>
                  </a:lnTo>
                  <a:lnTo>
                    <a:pt x="2728" y="1144"/>
                  </a:lnTo>
                  <a:lnTo>
                    <a:pt x="2726" y="1139"/>
                  </a:lnTo>
                  <a:lnTo>
                    <a:pt x="2724" y="1133"/>
                  </a:lnTo>
                  <a:lnTo>
                    <a:pt x="2724" y="1127"/>
                  </a:lnTo>
                  <a:lnTo>
                    <a:pt x="2722" y="1120"/>
                  </a:lnTo>
                  <a:lnTo>
                    <a:pt x="2720" y="1114"/>
                  </a:lnTo>
                  <a:lnTo>
                    <a:pt x="2719" y="1108"/>
                  </a:lnTo>
                  <a:lnTo>
                    <a:pt x="2717" y="1103"/>
                  </a:lnTo>
                  <a:lnTo>
                    <a:pt x="2715" y="1097"/>
                  </a:lnTo>
                  <a:lnTo>
                    <a:pt x="2715" y="1091"/>
                  </a:lnTo>
                  <a:lnTo>
                    <a:pt x="2713" y="1084"/>
                  </a:lnTo>
                  <a:lnTo>
                    <a:pt x="2713" y="1080"/>
                  </a:lnTo>
                  <a:lnTo>
                    <a:pt x="2711" y="1072"/>
                  </a:lnTo>
                  <a:lnTo>
                    <a:pt x="2709" y="1067"/>
                  </a:lnTo>
                  <a:lnTo>
                    <a:pt x="2709" y="1061"/>
                  </a:lnTo>
                  <a:lnTo>
                    <a:pt x="2709" y="1053"/>
                  </a:lnTo>
                  <a:lnTo>
                    <a:pt x="2707" y="1048"/>
                  </a:lnTo>
                  <a:lnTo>
                    <a:pt x="2707" y="1042"/>
                  </a:lnTo>
                  <a:lnTo>
                    <a:pt x="2707" y="1034"/>
                  </a:lnTo>
                  <a:lnTo>
                    <a:pt x="2707" y="1029"/>
                  </a:lnTo>
                  <a:lnTo>
                    <a:pt x="2705" y="1023"/>
                  </a:lnTo>
                  <a:lnTo>
                    <a:pt x="2705" y="1015"/>
                  </a:lnTo>
                  <a:lnTo>
                    <a:pt x="2705" y="1010"/>
                  </a:lnTo>
                  <a:lnTo>
                    <a:pt x="2705" y="1004"/>
                  </a:lnTo>
                  <a:lnTo>
                    <a:pt x="2705" y="996"/>
                  </a:lnTo>
                  <a:lnTo>
                    <a:pt x="2705" y="990"/>
                  </a:lnTo>
                  <a:lnTo>
                    <a:pt x="2705" y="985"/>
                  </a:lnTo>
                  <a:lnTo>
                    <a:pt x="2707" y="979"/>
                  </a:lnTo>
                  <a:lnTo>
                    <a:pt x="2707" y="971"/>
                  </a:lnTo>
                  <a:lnTo>
                    <a:pt x="2707" y="964"/>
                  </a:lnTo>
                  <a:lnTo>
                    <a:pt x="2707" y="958"/>
                  </a:lnTo>
                  <a:lnTo>
                    <a:pt x="2709" y="952"/>
                  </a:lnTo>
                  <a:lnTo>
                    <a:pt x="2709" y="945"/>
                  </a:lnTo>
                  <a:lnTo>
                    <a:pt x="2711" y="939"/>
                  </a:lnTo>
                  <a:lnTo>
                    <a:pt x="2713" y="933"/>
                  </a:lnTo>
                  <a:lnTo>
                    <a:pt x="2715" y="926"/>
                  </a:lnTo>
                  <a:lnTo>
                    <a:pt x="2715" y="918"/>
                  </a:lnTo>
                  <a:lnTo>
                    <a:pt x="2717" y="913"/>
                  </a:lnTo>
                  <a:lnTo>
                    <a:pt x="2719" y="907"/>
                  </a:lnTo>
                  <a:lnTo>
                    <a:pt x="2722" y="899"/>
                  </a:lnTo>
                  <a:lnTo>
                    <a:pt x="2724" y="894"/>
                  </a:lnTo>
                  <a:lnTo>
                    <a:pt x="2726" y="886"/>
                  </a:lnTo>
                  <a:lnTo>
                    <a:pt x="2728" y="880"/>
                  </a:lnTo>
                  <a:lnTo>
                    <a:pt x="2732" y="873"/>
                  </a:lnTo>
                  <a:lnTo>
                    <a:pt x="2738" y="876"/>
                  </a:lnTo>
                  <a:lnTo>
                    <a:pt x="2743" y="882"/>
                  </a:lnTo>
                  <a:lnTo>
                    <a:pt x="2745" y="888"/>
                  </a:lnTo>
                  <a:lnTo>
                    <a:pt x="2749" y="894"/>
                  </a:lnTo>
                  <a:lnTo>
                    <a:pt x="2751" y="899"/>
                  </a:lnTo>
                  <a:lnTo>
                    <a:pt x="2751" y="907"/>
                  </a:lnTo>
                  <a:lnTo>
                    <a:pt x="2751" y="914"/>
                  </a:lnTo>
                  <a:lnTo>
                    <a:pt x="2753" y="922"/>
                  </a:lnTo>
                  <a:lnTo>
                    <a:pt x="2758" y="930"/>
                  </a:lnTo>
                  <a:lnTo>
                    <a:pt x="2762" y="937"/>
                  </a:lnTo>
                  <a:lnTo>
                    <a:pt x="2768" y="947"/>
                  </a:lnTo>
                  <a:lnTo>
                    <a:pt x="2774" y="958"/>
                  </a:lnTo>
                  <a:lnTo>
                    <a:pt x="2777" y="968"/>
                  </a:lnTo>
                  <a:lnTo>
                    <a:pt x="2781" y="977"/>
                  </a:lnTo>
                  <a:lnTo>
                    <a:pt x="2785" y="987"/>
                  </a:lnTo>
                  <a:lnTo>
                    <a:pt x="2789" y="998"/>
                  </a:lnTo>
                  <a:lnTo>
                    <a:pt x="2791" y="1008"/>
                  </a:lnTo>
                  <a:lnTo>
                    <a:pt x="2795" y="1017"/>
                  </a:lnTo>
                  <a:lnTo>
                    <a:pt x="2796" y="1029"/>
                  </a:lnTo>
                  <a:lnTo>
                    <a:pt x="2800" y="1040"/>
                  </a:lnTo>
                  <a:lnTo>
                    <a:pt x="2802" y="1051"/>
                  </a:lnTo>
                  <a:lnTo>
                    <a:pt x="2804" y="1063"/>
                  </a:lnTo>
                  <a:lnTo>
                    <a:pt x="2806" y="1072"/>
                  </a:lnTo>
                  <a:lnTo>
                    <a:pt x="2808" y="1084"/>
                  </a:lnTo>
                  <a:lnTo>
                    <a:pt x="2810" y="1095"/>
                  </a:lnTo>
                  <a:lnTo>
                    <a:pt x="2810" y="1106"/>
                  </a:lnTo>
                  <a:lnTo>
                    <a:pt x="2812" y="1118"/>
                  </a:lnTo>
                  <a:lnTo>
                    <a:pt x="2812" y="1129"/>
                  </a:lnTo>
                  <a:lnTo>
                    <a:pt x="2814" y="1139"/>
                  </a:lnTo>
                  <a:lnTo>
                    <a:pt x="2815" y="1152"/>
                  </a:lnTo>
                  <a:lnTo>
                    <a:pt x="2815" y="1162"/>
                  </a:lnTo>
                  <a:lnTo>
                    <a:pt x="2817" y="1175"/>
                  </a:lnTo>
                  <a:lnTo>
                    <a:pt x="2817" y="1186"/>
                  </a:lnTo>
                  <a:lnTo>
                    <a:pt x="2817" y="1198"/>
                  </a:lnTo>
                  <a:lnTo>
                    <a:pt x="2819" y="1207"/>
                  </a:lnTo>
                  <a:lnTo>
                    <a:pt x="2819" y="1219"/>
                  </a:lnTo>
                  <a:lnTo>
                    <a:pt x="2819" y="1230"/>
                  </a:lnTo>
                  <a:lnTo>
                    <a:pt x="2821" y="1241"/>
                  </a:lnTo>
                  <a:lnTo>
                    <a:pt x="2821" y="1253"/>
                  </a:lnTo>
                  <a:lnTo>
                    <a:pt x="2825" y="1264"/>
                  </a:lnTo>
                  <a:lnTo>
                    <a:pt x="2825" y="1274"/>
                  </a:lnTo>
                  <a:lnTo>
                    <a:pt x="2827" y="1285"/>
                  </a:lnTo>
                  <a:lnTo>
                    <a:pt x="2827" y="1297"/>
                  </a:lnTo>
                  <a:lnTo>
                    <a:pt x="2829" y="1308"/>
                  </a:lnTo>
                  <a:lnTo>
                    <a:pt x="2831" y="1317"/>
                  </a:lnTo>
                  <a:lnTo>
                    <a:pt x="2833" y="1327"/>
                  </a:lnTo>
                  <a:lnTo>
                    <a:pt x="2834" y="1338"/>
                  </a:lnTo>
                  <a:lnTo>
                    <a:pt x="2838" y="1348"/>
                  </a:lnTo>
                  <a:lnTo>
                    <a:pt x="2840" y="1357"/>
                  </a:lnTo>
                  <a:lnTo>
                    <a:pt x="2844" y="1367"/>
                  </a:lnTo>
                  <a:lnTo>
                    <a:pt x="2846" y="1376"/>
                  </a:lnTo>
                  <a:lnTo>
                    <a:pt x="2852" y="1388"/>
                  </a:lnTo>
                  <a:lnTo>
                    <a:pt x="2854" y="1395"/>
                  </a:lnTo>
                  <a:lnTo>
                    <a:pt x="2857" y="1405"/>
                  </a:lnTo>
                  <a:lnTo>
                    <a:pt x="2863" y="1414"/>
                  </a:lnTo>
                  <a:lnTo>
                    <a:pt x="2869" y="1424"/>
                  </a:lnTo>
                  <a:lnTo>
                    <a:pt x="2873" y="1432"/>
                  </a:lnTo>
                  <a:lnTo>
                    <a:pt x="2878" y="1439"/>
                  </a:lnTo>
                  <a:lnTo>
                    <a:pt x="2884" y="1449"/>
                  </a:lnTo>
                  <a:lnTo>
                    <a:pt x="2892" y="1456"/>
                  </a:lnTo>
                  <a:lnTo>
                    <a:pt x="2897" y="1464"/>
                  </a:lnTo>
                  <a:lnTo>
                    <a:pt x="2907" y="1471"/>
                  </a:lnTo>
                  <a:lnTo>
                    <a:pt x="2912" y="1479"/>
                  </a:lnTo>
                  <a:lnTo>
                    <a:pt x="2922" y="1487"/>
                  </a:lnTo>
                  <a:lnTo>
                    <a:pt x="2931" y="1492"/>
                  </a:lnTo>
                  <a:lnTo>
                    <a:pt x="2941" y="1498"/>
                  </a:lnTo>
                  <a:lnTo>
                    <a:pt x="2950" y="1504"/>
                  </a:lnTo>
                  <a:lnTo>
                    <a:pt x="2962" y="1511"/>
                  </a:lnTo>
                  <a:lnTo>
                    <a:pt x="2973" y="1517"/>
                  </a:lnTo>
                  <a:lnTo>
                    <a:pt x="2985" y="1521"/>
                  </a:lnTo>
                  <a:lnTo>
                    <a:pt x="2998" y="1527"/>
                  </a:lnTo>
                  <a:lnTo>
                    <a:pt x="3011" y="1532"/>
                  </a:lnTo>
                  <a:lnTo>
                    <a:pt x="3002" y="1521"/>
                  </a:lnTo>
                  <a:lnTo>
                    <a:pt x="2992" y="1511"/>
                  </a:lnTo>
                  <a:lnTo>
                    <a:pt x="2981" y="1502"/>
                  </a:lnTo>
                  <a:lnTo>
                    <a:pt x="2971" y="1494"/>
                  </a:lnTo>
                  <a:lnTo>
                    <a:pt x="2962" y="1485"/>
                  </a:lnTo>
                  <a:lnTo>
                    <a:pt x="2952" y="1475"/>
                  </a:lnTo>
                  <a:lnTo>
                    <a:pt x="2945" y="1466"/>
                  </a:lnTo>
                  <a:lnTo>
                    <a:pt x="2939" y="1456"/>
                  </a:lnTo>
                  <a:lnTo>
                    <a:pt x="2947" y="1454"/>
                  </a:lnTo>
                  <a:lnTo>
                    <a:pt x="2954" y="1456"/>
                  </a:lnTo>
                  <a:lnTo>
                    <a:pt x="2962" y="1458"/>
                  </a:lnTo>
                  <a:lnTo>
                    <a:pt x="2971" y="1464"/>
                  </a:lnTo>
                  <a:lnTo>
                    <a:pt x="2977" y="1468"/>
                  </a:lnTo>
                  <a:lnTo>
                    <a:pt x="2985" y="1475"/>
                  </a:lnTo>
                  <a:lnTo>
                    <a:pt x="2990" y="1483"/>
                  </a:lnTo>
                  <a:lnTo>
                    <a:pt x="2998" y="1490"/>
                  </a:lnTo>
                  <a:lnTo>
                    <a:pt x="3004" y="1498"/>
                  </a:lnTo>
                  <a:lnTo>
                    <a:pt x="3011" y="1504"/>
                  </a:lnTo>
                  <a:lnTo>
                    <a:pt x="3017" y="1509"/>
                  </a:lnTo>
                  <a:lnTo>
                    <a:pt x="3025" y="1513"/>
                  </a:lnTo>
                  <a:lnTo>
                    <a:pt x="3030" y="1517"/>
                  </a:lnTo>
                  <a:lnTo>
                    <a:pt x="3040" y="1519"/>
                  </a:lnTo>
                  <a:lnTo>
                    <a:pt x="3047" y="1519"/>
                  </a:lnTo>
                  <a:lnTo>
                    <a:pt x="3057" y="1517"/>
                  </a:lnTo>
                  <a:lnTo>
                    <a:pt x="3049" y="1506"/>
                  </a:lnTo>
                  <a:lnTo>
                    <a:pt x="3044" y="1494"/>
                  </a:lnTo>
                  <a:lnTo>
                    <a:pt x="3038" y="1485"/>
                  </a:lnTo>
                  <a:lnTo>
                    <a:pt x="3030" y="1477"/>
                  </a:lnTo>
                  <a:lnTo>
                    <a:pt x="3027" y="1462"/>
                  </a:lnTo>
                  <a:lnTo>
                    <a:pt x="3025" y="1449"/>
                  </a:lnTo>
                  <a:lnTo>
                    <a:pt x="3021" y="1433"/>
                  </a:lnTo>
                  <a:lnTo>
                    <a:pt x="3019" y="1420"/>
                  </a:lnTo>
                  <a:lnTo>
                    <a:pt x="3015" y="1405"/>
                  </a:lnTo>
                  <a:lnTo>
                    <a:pt x="3013" y="1392"/>
                  </a:lnTo>
                  <a:lnTo>
                    <a:pt x="3011" y="1376"/>
                  </a:lnTo>
                  <a:lnTo>
                    <a:pt x="3009" y="1365"/>
                  </a:lnTo>
                  <a:lnTo>
                    <a:pt x="3004" y="1350"/>
                  </a:lnTo>
                  <a:lnTo>
                    <a:pt x="3002" y="1336"/>
                  </a:lnTo>
                  <a:lnTo>
                    <a:pt x="2998" y="1321"/>
                  </a:lnTo>
                  <a:lnTo>
                    <a:pt x="2994" y="1308"/>
                  </a:lnTo>
                  <a:lnTo>
                    <a:pt x="2992" y="1295"/>
                  </a:lnTo>
                  <a:lnTo>
                    <a:pt x="2988" y="1281"/>
                  </a:lnTo>
                  <a:lnTo>
                    <a:pt x="2985" y="1266"/>
                  </a:lnTo>
                  <a:lnTo>
                    <a:pt x="2983" y="1255"/>
                  </a:lnTo>
                  <a:lnTo>
                    <a:pt x="2977" y="1240"/>
                  </a:lnTo>
                  <a:lnTo>
                    <a:pt x="2973" y="1226"/>
                  </a:lnTo>
                  <a:lnTo>
                    <a:pt x="2971" y="1211"/>
                  </a:lnTo>
                  <a:lnTo>
                    <a:pt x="2968" y="1200"/>
                  </a:lnTo>
                  <a:lnTo>
                    <a:pt x="2964" y="1186"/>
                  </a:lnTo>
                  <a:lnTo>
                    <a:pt x="2958" y="1171"/>
                  </a:lnTo>
                  <a:lnTo>
                    <a:pt x="2956" y="1158"/>
                  </a:lnTo>
                  <a:lnTo>
                    <a:pt x="2952" y="1144"/>
                  </a:lnTo>
                  <a:lnTo>
                    <a:pt x="2949" y="1131"/>
                  </a:lnTo>
                  <a:lnTo>
                    <a:pt x="2945" y="1118"/>
                  </a:lnTo>
                  <a:lnTo>
                    <a:pt x="2941" y="1105"/>
                  </a:lnTo>
                  <a:lnTo>
                    <a:pt x="2937" y="1091"/>
                  </a:lnTo>
                  <a:lnTo>
                    <a:pt x="2933" y="1078"/>
                  </a:lnTo>
                  <a:lnTo>
                    <a:pt x="2930" y="1063"/>
                  </a:lnTo>
                  <a:lnTo>
                    <a:pt x="2928" y="1049"/>
                  </a:lnTo>
                  <a:lnTo>
                    <a:pt x="2924" y="1036"/>
                  </a:lnTo>
                  <a:lnTo>
                    <a:pt x="2920" y="1023"/>
                  </a:lnTo>
                  <a:lnTo>
                    <a:pt x="2916" y="1008"/>
                  </a:lnTo>
                  <a:lnTo>
                    <a:pt x="2912" y="994"/>
                  </a:lnTo>
                  <a:lnTo>
                    <a:pt x="2909" y="981"/>
                  </a:lnTo>
                  <a:lnTo>
                    <a:pt x="2907" y="966"/>
                  </a:lnTo>
                  <a:lnTo>
                    <a:pt x="2903" y="952"/>
                  </a:lnTo>
                  <a:lnTo>
                    <a:pt x="2899" y="937"/>
                  </a:lnTo>
                  <a:lnTo>
                    <a:pt x="2897" y="926"/>
                  </a:lnTo>
                  <a:lnTo>
                    <a:pt x="2893" y="911"/>
                  </a:lnTo>
                  <a:lnTo>
                    <a:pt x="2892" y="897"/>
                  </a:lnTo>
                  <a:lnTo>
                    <a:pt x="2888" y="884"/>
                  </a:lnTo>
                  <a:lnTo>
                    <a:pt x="2886" y="871"/>
                  </a:lnTo>
                  <a:lnTo>
                    <a:pt x="2882" y="856"/>
                  </a:lnTo>
                  <a:lnTo>
                    <a:pt x="2880" y="842"/>
                  </a:lnTo>
                  <a:lnTo>
                    <a:pt x="2878" y="829"/>
                  </a:lnTo>
                  <a:lnTo>
                    <a:pt x="2876" y="816"/>
                  </a:lnTo>
                  <a:lnTo>
                    <a:pt x="2874" y="800"/>
                  </a:lnTo>
                  <a:lnTo>
                    <a:pt x="2873" y="787"/>
                  </a:lnTo>
                  <a:lnTo>
                    <a:pt x="2871" y="772"/>
                  </a:lnTo>
                  <a:lnTo>
                    <a:pt x="2869" y="759"/>
                  </a:lnTo>
                  <a:lnTo>
                    <a:pt x="2867" y="743"/>
                  </a:lnTo>
                  <a:lnTo>
                    <a:pt x="2865" y="730"/>
                  </a:lnTo>
                  <a:lnTo>
                    <a:pt x="2863" y="715"/>
                  </a:lnTo>
                  <a:lnTo>
                    <a:pt x="2863" y="702"/>
                  </a:lnTo>
                  <a:lnTo>
                    <a:pt x="2863" y="686"/>
                  </a:lnTo>
                  <a:lnTo>
                    <a:pt x="2861" y="671"/>
                  </a:lnTo>
                  <a:lnTo>
                    <a:pt x="2861" y="656"/>
                  </a:lnTo>
                  <a:lnTo>
                    <a:pt x="2861" y="643"/>
                  </a:lnTo>
                  <a:lnTo>
                    <a:pt x="2861" y="627"/>
                  </a:lnTo>
                  <a:lnTo>
                    <a:pt x="2861" y="614"/>
                  </a:lnTo>
                  <a:lnTo>
                    <a:pt x="2861" y="599"/>
                  </a:lnTo>
                  <a:lnTo>
                    <a:pt x="2863" y="586"/>
                  </a:lnTo>
                  <a:lnTo>
                    <a:pt x="2863" y="574"/>
                  </a:lnTo>
                  <a:lnTo>
                    <a:pt x="2865" y="563"/>
                  </a:lnTo>
                  <a:lnTo>
                    <a:pt x="2865" y="551"/>
                  </a:lnTo>
                  <a:lnTo>
                    <a:pt x="2865" y="540"/>
                  </a:lnTo>
                  <a:lnTo>
                    <a:pt x="2865" y="530"/>
                  </a:lnTo>
                  <a:lnTo>
                    <a:pt x="2865" y="519"/>
                  </a:lnTo>
                  <a:lnTo>
                    <a:pt x="2865" y="510"/>
                  </a:lnTo>
                  <a:lnTo>
                    <a:pt x="2865" y="500"/>
                  </a:lnTo>
                  <a:lnTo>
                    <a:pt x="2863" y="491"/>
                  </a:lnTo>
                  <a:lnTo>
                    <a:pt x="2863" y="479"/>
                  </a:lnTo>
                  <a:lnTo>
                    <a:pt x="2861" y="468"/>
                  </a:lnTo>
                  <a:lnTo>
                    <a:pt x="2861" y="458"/>
                  </a:lnTo>
                  <a:lnTo>
                    <a:pt x="2857" y="449"/>
                  </a:lnTo>
                  <a:lnTo>
                    <a:pt x="2855" y="439"/>
                  </a:lnTo>
                  <a:lnTo>
                    <a:pt x="2854" y="430"/>
                  </a:lnTo>
                  <a:lnTo>
                    <a:pt x="2852" y="422"/>
                  </a:lnTo>
                  <a:lnTo>
                    <a:pt x="2848" y="413"/>
                  </a:lnTo>
                  <a:lnTo>
                    <a:pt x="2844" y="403"/>
                  </a:lnTo>
                  <a:lnTo>
                    <a:pt x="2842" y="394"/>
                  </a:lnTo>
                  <a:lnTo>
                    <a:pt x="2838" y="384"/>
                  </a:lnTo>
                  <a:lnTo>
                    <a:pt x="2834" y="375"/>
                  </a:lnTo>
                  <a:lnTo>
                    <a:pt x="2831" y="367"/>
                  </a:lnTo>
                  <a:lnTo>
                    <a:pt x="2827" y="357"/>
                  </a:lnTo>
                  <a:lnTo>
                    <a:pt x="2821" y="350"/>
                  </a:lnTo>
                  <a:lnTo>
                    <a:pt x="2817" y="340"/>
                  </a:lnTo>
                  <a:lnTo>
                    <a:pt x="2812" y="333"/>
                  </a:lnTo>
                  <a:lnTo>
                    <a:pt x="2806" y="325"/>
                  </a:lnTo>
                  <a:lnTo>
                    <a:pt x="2802" y="319"/>
                  </a:lnTo>
                  <a:lnTo>
                    <a:pt x="2796" y="310"/>
                  </a:lnTo>
                  <a:lnTo>
                    <a:pt x="2791" y="302"/>
                  </a:lnTo>
                  <a:lnTo>
                    <a:pt x="2783" y="297"/>
                  </a:lnTo>
                  <a:lnTo>
                    <a:pt x="2779" y="291"/>
                  </a:lnTo>
                  <a:lnTo>
                    <a:pt x="2772" y="283"/>
                  </a:lnTo>
                  <a:lnTo>
                    <a:pt x="2764" y="276"/>
                  </a:lnTo>
                  <a:lnTo>
                    <a:pt x="2758" y="268"/>
                  </a:lnTo>
                  <a:lnTo>
                    <a:pt x="2751" y="264"/>
                  </a:lnTo>
                  <a:lnTo>
                    <a:pt x="2743" y="257"/>
                  </a:lnTo>
                  <a:lnTo>
                    <a:pt x="2736" y="251"/>
                  </a:lnTo>
                  <a:lnTo>
                    <a:pt x="2728" y="245"/>
                  </a:lnTo>
                  <a:lnTo>
                    <a:pt x="2722" y="240"/>
                  </a:lnTo>
                  <a:lnTo>
                    <a:pt x="2713" y="234"/>
                  </a:lnTo>
                  <a:lnTo>
                    <a:pt x="2705" y="230"/>
                  </a:lnTo>
                  <a:lnTo>
                    <a:pt x="2696" y="224"/>
                  </a:lnTo>
                  <a:lnTo>
                    <a:pt x="2688" y="221"/>
                  </a:lnTo>
                  <a:lnTo>
                    <a:pt x="2679" y="217"/>
                  </a:lnTo>
                  <a:lnTo>
                    <a:pt x="2671" y="213"/>
                  </a:lnTo>
                  <a:lnTo>
                    <a:pt x="2661" y="209"/>
                  </a:lnTo>
                  <a:lnTo>
                    <a:pt x="2654" y="207"/>
                  </a:lnTo>
                  <a:lnTo>
                    <a:pt x="2644" y="203"/>
                  </a:lnTo>
                  <a:lnTo>
                    <a:pt x="2635" y="200"/>
                  </a:lnTo>
                  <a:lnTo>
                    <a:pt x="2625" y="198"/>
                  </a:lnTo>
                  <a:lnTo>
                    <a:pt x="2616" y="194"/>
                  </a:lnTo>
                  <a:lnTo>
                    <a:pt x="2606" y="192"/>
                  </a:lnTo>
                  <a:lnTo>
                    <a:pt x="2597" y="190"/>
                  </a:lnTo>
                  <a:lnTo>
                    <a:pt x="2587" y="188"/>
                  </a:lnTo>
                  <a:lnTo>
                    <a:pt x="2578" y="188"/>
                  </a:lnTo>
                  <a:lnTo>
                    <a:pt x="2566" y="186"/>
                  </a:lnTo>
                  <a:lnTo>
                    <a:pt x="2557" y="184"/>
                  </a:lnTo>
                  <a:lnTo>
                    <a:pt x="2546" y="184"/>
                  </a:lnTo>
                  <a:lnTo>
                    <a:pt x="2536" y="184"/>
                  </a:lnTo>
                  <a:lnTo>
                    <a:pt x="2525" y="184"/>
                  </a:lnTo>
                  <a:lnTo>
                    <a:pt x="2515" y="186"/>
                  </a:lnTo>
                  <a:lnTo>
                    <a:pt x="2504" y="188"/>
                  </a:lnTo>
                  <a:lnTo>
                    <a:pt x="2494" y="190"/>
                  </a:lnTo>
                  <a:lnTo>
                    <a:pt x="2487" y="190"/>
                  </a:lnTo>
                  <a:lnTo>
                    <a:pt x="2479" y="190"/>
                  </a:lnTo>
                  <a:lnTo>
                    <a:pt x="2475" y="190"/>
                  </a:lnTo>
                  <a:lnTo>
                    <a:pt x="2473" y="192"/>
                  </a:lnTo>
                  <a:lnTo>
                    <a:pt x="2468" y="192"/>
                  </a:lnTo>
                  <a:lnTo>
                    <a:pt x="2466" y="194"/>
                  </a:lnTo>
                  <a:lnTo>
                    <a:pt x="2468" y="194"/>
                  </a:lnTo>
                  <a:lnTo>
                    <a:pt x="2469" y="194"/>
                  </a:lnTo>
                  <a:lnTo>
                    <a:pt x="2270" y="205"/>
                  </a:lnTo>
                  <a:lnTo>
                    <a:pt x="2258" y="207"/>
                  </a:lnTo>
                  <a:lnTo>
                    <a:pt x="2249" y="209"/>
                  </a:lnTo>
                  <a:lnTo>
                    <a:pt x="2238" y="211"/>
                  </a:lnTo>
                  <a:lnTo>
                    <a:pt x="2228" y="215"/>
                  </a:lnTo>
                  <a:lnTo>
                    <a:pt x="2217" y="217"/>
                  </a:lnTo>
                  <a:lnTo>
                    <a:pt x="2205" y="219"/>
                  </a:lnTo>
                  <a:lnTo>
                    <a:pt x="2196" y="221"/>
                  </a:lnTo>
                  <a:lnTo>
                    <a:pt x="2186" y="222"/>
                  </a:lnTo>
                  <a:lnTo>
                    <a:pt x="2175" y="224"/>
                  </a:lnTo>
                  <a:lnTo>
                    <a:pt x="2165" y="224"/>
                  </a:lnTo>
                  <a:lnTo>
                    <a:pt x="2152" y="226"/>
                  </a:lnTo>
                  <a:lnTo>
                    <a:pt x="2142" y="226"/>
                  </a:lnTo>
                  <a:lnTo>
                    <a:pt x="2133" y="228"/>
                  </a:lnTo>
                  <a:lnTo>
                    <a:pt x="2122" y="228"/>
                  </a:lnTo>
                  <a:lnTo>
                    <a:pt x="2112" y="230"/>
                  </a:lnTo>
                  <a:lnTo>
                    <a:pt x="2103" y="230"/>
                  </a:lnTo>
                  <a:lnTo>
                    <a:pt x="2091" y="230"/>
                  </a:lnTo>
                  <a:lnTo>
                    <a:pt x="2082" y="230"/>
                  </a:lnTo>
                  <a:lnTo>
                    <a:pt x="2068" y="230"/>
                  </a:lnTo>
                  <a:lnTo>
                    <a:pt x="2059" y="232"/>
                  </a:lnTo>
                  <a:lnTo>
                    <a:pt x="2049" y="232"/>
                  </a:lnTo>
                  <a:lnTo>
                    <a:pt x="2038" y="232"/>
                  </a:lnTo>
                  <a:lnTo>
                    <a:pt x="2028" y="232"/>
                  </a:lnTo>
                  <a:lnTo>
                    <a:pt x="2019" y="232"/>
                  </a:lnTo>
                  <a:lnTo>
                    <a:pt x="2006" y="230"/>
                  </a:lnTo>
                  <a:lnTo>
                    <a:pt x="1996" y="230"/>
                  </a:lnTo>
                  <a:lnTo>
                    <a:pt x="1985" y="230"/>
                  </a:lnTo>
                  <a:lnTo>
                    <a:pt x="1975" y="230"/>
                  </a:lnTo>
                  <a:lnTo>
                    <a:pt x="1966" y="230"/>
                  </a:lnTo>
                  <a:lnTo>
                    <a:pt x="1954" y="230"/>
                  </a:lnTo>
                  <a:lnTo>
                    <a:pt x="1945" y="230"/>
                  </a:lnTo>
                  <a:lnTo>
                    <a:pt x="1935" y="230"/>
                  </a:lnTo>
                  <a:lnTo>
                    <a:pt x="1922" y="230"/>
                  </a:lnTo>
                  <a:lnTo>
                    <a:pt x="1912" y="228"/>
                  </a:lnTo>
                  <a:lnTo>
                    <a:pt x="1901" y="228"/>
                  </a:lnTo>
                  <a:lnTo>
                    <a:pt x="1892" y="228"/>
                  </a:lnTo>
                  <a:lnTo>
                    <a:pt x="1880" y="228"/>
                  </a:lnTo>
                  <a:lnTo>
                    <a:pt x="1869" y="226"/>
                  </a:lnTo>
                  <a:lnTo>
                    <a:pt x="1857" y="226"/>
                  </a:lnTo>
                  <a:lnTo>
                    <a:pt x="1848" y="226"/>
                  </a:lnTo>
                  <a:lnTo>
                    <a:pt x="1836" y="226"/>
                  </a:lnTo>
                  <a:lnTo>
                    <a:pt x="1825" y="224"/>
                  </a:lnTo>
                  <a:lnTo>
                    <a:pt x="1814" y="224"/>
                  </a:lnTo>
                  <a:lnTo>
                    <a:pt x="1802" y="224"/>
                  </a:lnTo>
                  <a:lnTo>
                    <a:pt x="1791" y="224"/>
                  </a:lnTo>
                  <a:lnTo>
                    <a:pt x="1781" y="224"/>
                  </a:lnTo>
                  <a:lnTo>
                    <a:pt x="1770" y="224"/>
                  </a:lnTo>
                  <a:lnTo>
                    <a:pt x="1760" y="224"/>
                  </a:lnTo>
                  <a:lnTo>
                    <a:pt x="1749" y="222"/>
                  </a:lnTo>
                  <a:lnTo>
                    <a:pt x="1736" y="222"/>
                  </a:lnTo>
                  <a:lnTo>
                    <a:pt x="1724" y="221"/>
                  </a:lnTo>
                  <a:lnTo>
                    <a:pt x="1715" y="221"/>
                  </a:lnTo>
                  <a:lnTo>
                    <a:pt x="1703" y="221"/>
                  </a:lnTo>
                  <a:lnTo>
                    <a:pt x="1692" y="221"/>
                  </a:lnTo>
                  <a:lnTo>
                    <a:pt x="1681" y="221"/>
                  </a:lnTo>
                  <a:lnTo>
                    <a:pt x="1669" y="221"/>
                  </a:lnTo>
                  <a:lnTo>
                    <a:pt x="1658" y="221"/>
                  </a:lnTo>
                  <a:lnTo>
                    <a:pt x="1646" y="221"/>
                  </a:lnTo>
                  <a:lnTo>
                    <a:pt x="1633" y="221"/>
                  </a:lnTo>
                  <a:lnTo>
                    <a:pt x="1623" y="222"/>
                  </a:lnTo>
                  <a:lnTo>
                    <a:pt x="1610" y="222"/>
                  </a:lnTo>
                  <a:lnTo>
                    <a:pt x="1599" y="224"/>
                  </a:lnTo>
                  <a:lnTo>
                    <a:pt x="1587" y="224"/>
                  </a:lnTo>
                  <a:lnTo>
                    <a:pt x="1576" y="226"/>
                  </a:lnTo>
                  <a:lnTo>
                    <a:pt x="1561" y="224"/>
                  </a:lnTo>
                  <a:lnTo>
                    <a:pt x="1547" y="221"/>
                  </a:lnTo>
                  <a:lnTo>
                    <a:pt x="1534" y="219"/>
                  </a:lnTo>
                  <a:lnTo>
                    <a:pt x="1521" y="217"/>
                  </a:lnTo>
                  <a:lnTo>
                    <a:pt x="1506" y="215"/>
                  </a:lnTo>
                  <a:lnTo>
                    <a:pt x="1492" y="215"/>
                  </a:lnTo>
                  <a:lnTo>
                    <a:pt x="1481" y="213"/>
                  </a:lnTo>
                  <a:lnTo>
                    <a:pt x="1468" y="213"/>
                  </a:lnTo>
                  <a:lnTo>
                    <a:pt x="1454" y="211"/>
                  </a:lnTo>
                  <a:lnTo>
                    <a:pt x="1439" y="211"/>
                  </a:lnTo>
                  <a:lnTo>
                    <a:pt x="1426" y="211"/>
                  </a:lnTo>
                  <a:lnTo>
                    <a:pt x="1412" y="211"/>
                  </a:lnTo>
                  <a:lnTo>
                    <a:pt x="1401" y="211"/>
                  </a:lnTo>
                  <a:lnTo>
                    <a:pt x="1388" y="211"/>
                  </a:lnTo>
                  <a:lnTo>
                    <a:pt x="1374" y="211"/>
                  </a:lnTo>
                  <a:lnTo>
                    <a:pt x="1363" y="211"/>
                  </a:lnTo>
                  <a:lnTo>
                    <a:pt x="1348" y="211"/>
                  </a:lnTo>
                  <a:lnTo>
                    <a:pt x="1336" y="211"/>
                  </a:lnTo>
                  <a:lnTo>
                    <a:pt x="1321" y="213"/>
                  </a:lnTo>
                  <a:lnTo>
                    <a:pt x="1310" y="215"/>
                  </a:lnTo>
                  <a:lnTo>
                    <a:pt x="1296" y="215"/>
                  </a:lnTo>
                  <a:lnTo>
                    <a:pt x="1283" y="215"/>
                  </a:lnTo>
                  <a:lnTo>
                    <a:pt x="1272" y="217"/>
                  </a:lnTo>
                  <a:lnTo>
                    <a:pt x="1258" y="217"/>
                  </a:lnTo>
                  <a:lnTo>
                    <a:pt x="1245" y="217"/>
                  </a:lnTo>
                  <a:lnTo>
                    <a:pt x="1234" y="219"/>
                  </a:lnTo>
                  <a:lnTo>
                    <a:pt x="1220" y="219"/>
                  </a:lnTo>
                  <a:lnTo>
                    <a:pt x="1209" y="221"/>
                  </a:lnTo>
                  <a:lnTo>
                    <a:pt x="1196" y="222"/>
                  </a:lnTo>
                  <a:lnTo>
                    <a:pt x="1184" y="224"/>
                  </a:lnTo>
                  <a:lnTo>
                    <a:pt x="1171" y="224"/>
                  </a:lnTo>
                  <a:lnTo>
                    <a:pt x="1160" y="226"/>
                  </a:lnTo>
                  <a:lnTo>
                    <a:pt x="1146" y="226"/>
                  </a:lnTo>
                  <a:lnTo>
                    <a:pt x="1133" y="228"/>
                  </a:lnTo>
                  <a:lnTo>
                    <a:pt x="1122" y="228"/>
                  </a:lnTo>
                  <a:lnTo>
                    <a:pt x="1108" y="228"/>
                  </a:lnTo>
                  <a:lnTo>
                    <a:pt x="1095" y="228"/>
                  </a:lnTo>
                  <a:lnTo>
                    <a:pt x="1084" y="230"/>
                  </a:lnTo>
                  <a:lnTo>
                    <a:pt x="1072" y="230"/>
                  </a:lnTo>
                  <a:lnTo>
                    <a:pt x="1059" y="232"/>
                  </a:lnTo>
                  <a:lnTo>
                    <a:pt x="1047" y="232"/>
                  </a:lnTo>
                  <a:lnTo>
                    <a:pt x="1034" y="232"/>
                  </a:lnTo>
                  <a:lnTo>
                    <a:pt x="1021" y="232"/>
                  </a:lnTo>
                  <a:lnTo>
                    <a:pt x="1009" y="232"/>
                  </a:lnTo>
                  <a:lnTo>
                    <a:pt x="998" y="232"/>
                  </a:lnTo>
                  <a:lnTo>
                    <a:pt x="985" y="232"/>
                  </a:lnTo>
                  <a:lnTo>
                    <a:pt x="973" y="232"/>
                  </a:lnTo>
                  <a:lnTo>
                    <a:pt x="962" y="232"/>
                  </a:lnTo>
                  <a:lnTo>
                    <a:pt x="949" y="230"/>
                  </a:lnTo>
                  <a:lnTo>
                    <a:pt x="935" y="228"/>
                  </a:lnTo>
                  <a:lnTo>
                    <a:pt x="922" y="228"/>
                  </a:lnTo>
                  <a:lnTo>
                    <a:pt x="911" y="226"/>
                  </a:lnTo>
                  <a:lnTo>
                    <a:pt x="899" y="224"/>
                  </a:lnTo>
                  <a:lnTo>
                    <a:pt x="888" y="222"/>
                  </a:lnTo>
                  <a:lnTo>
                    <a:pt x="874" y="221"/>
                  </a:lnTo>
                  <a:lnTo>
                    <a:pt x="863" y="219"/>
                  </a:lnTo>
                  <a:lnTo>
                    <a:pt x="850" y="217"/>
                  </a:lnTo>
                  <a:lnTo>
                    <a:pt x="836" y="213"/>
                  </a:lnTo>
                  <a:lnTo>
                    <a:pt x="825" y="209"/>
                  </a:lnTo>
                  <a:lnTo>
                    <a:pt x="814" y="207"/>
                  </a:lnTo>
                  <a:lnTo>
                    <a:pt x="800" y="203"/>
                  </a:lnTo>
                  <a:lnTo>
                    <a:pt x="789" y="200"/>
                  </a:lnTo>
                  <a:lnTo>
                    <a:pt x="777" y="196"/>
                  </a:lnTo>
                  <a:lnTo>
                    <a:pt x="764" y="192"/>
                  </a:lnTo>
                  <a:lnTo>
                    <a:pt x="758" y="183"/>
                  </a:lnTo>
                  <a:lnTo>
                    <a:pt x="753" y="173"/>
                  </a:lnTo>
                  <a:lnTo>
                    <a:pt x="749" y="164"/>
                  </a:lnTo>
                  <a:lnTo>
                    <a:pt x="743" y="156"/>
                  </a:lnTo>
                  <a:lnTo>
                    <a:pt x="739" y="148"/>
                  </a:lnTo>
                  <a:lnTo>
                    <a:pt x="734" y="141"/>
                  </a:lnTo>
                  <a:lnTo>
                    <a:pt x="730" y="135"/>
                  </a:lnTo>
                  <a:lnTo>
                    <a:pt x="726" y="127"/>
                  </a:lnTo>
                  <a:lnTo>
                    <a:pt x="720" y="122"/>
                  </a:lnTo>
                  <a:lnTo>
                    <a:pt x="717" y="116"/>
                  </a:lnTo>
                  <a:lnTo>
                    <a:pt x="713" y="110"/>
                  </a:lnTo>
                  <a:lnTo>
                    <a:pt x="707" y="106"/>
                  </a:lnTo>
                  <a:lnTo>
                    <a:pt x="698" y="97"/>
                  </a:lnTo>
                  <a:lnTo>
                    <a:pt x="688" y="91"/>
                  </a:lnTo>
                  <a:lnTo>
                    <a:pt x="677" y="87"/>
                  </a:lnTo>
                  <a:lnTo>
                    <a:pt x="667" y="84"/>
                  </a:lnTo>
                  <a:lnTo>
                    <a:pt x="660" y="82"/>
                  </a:lnTo>
                  <a:lnTo>
                    <a:pt x="652" y="82"/>
                  </a:lnTo>
                  <a:lnTo>
                    <a:pt x="646" y="82"/>
                  </a:lnTo>
                  <a:lnTo>
                    <a:pt x="641" y="82"/>
                  </a:lnTo>
                  <a:lnTo>
                    <a:pt x="631" y="82"/>
                  </a:lnTo>
                  <a:lnTo>
                    <a:pt x="623" y="82"/>
                  </a:lnTo>
                  <a:lnTo>
                    <a:pt x="614" y="84"/>
                  </a:lnTo>
                  <a:lnTo>
                    <a:pt x="606" y="86"/>
                  </a:lnTo>
                  <a:lnTo>
                    <a:pt x="597" y="87"/>
                  </a:lnTo>
                  <a:lnTo>
                    <a:pt x="587" y="89"/>
                  </a:lnTo>
                  <a:lnTo>
                    <a:pt x="576" y="93"/>
                  </a:lnTo>
                  <a:lnTo>
                    <a:pt x="566" y="97"/>
                  </a:lnTo>
                  <a:lnTo>
                    <a:pt x="559" y="91"/>
                  </a:lnTo>
                  <a:lnTo>
                    <a:pt x="555" y="84"/>
                  </a:lnTo>
                  <a:lnTo>
                    <a:pt x="547" y="80"/>
                  </a:lnTo>
                  <a:lnTo>
                    <a:pt x="542" y="74"/>
                  </a:lnTo>
                  <a:lnTo>
                    <a:pt x="536" y="68"/>
                  </a:lnTo>
                  <a:lnTo>
                    <a:pt x="530" y="65"/>
                  </a:lnTo>
                  <a:lnTo>
                    <a:pt x="525" y="61"/>
                  </a:lnTo>
                  <a:lnTo>
                    <a:pt x="519" y="57"/>
                  </a:lnTo>
                  <a:lnTo>
                    <a:pt x="513" y="53"/>
                  </a:lnTo>
                  <a:lnTo>
                    <a:pt x="506" y="51"/>
                  </a:lnTo>
                  <a:lnTo>
                    <a:pt x="500" y="48"/>
                  </a:lnTo>
                  <a:lnTo>
                    <a:pt x="494" y="44"/>
                  </a:lnTo>
                  <a:lnTo>
                    <a:pt x="487" y="42"/>
                  </a:lnTo>
                  <a:lnTo>
                    <a:pt x="481" y="38"/>
                  </a:lnTo>
                  <a:lnTo>
                    <a:pt x="475" y="36"/>
                  </a:lnTo>
                  <a:lnTo>
                    <a:pt x="469" y="36"/>
                  </a:lnTo>
                  <a:lnTo>
                    <a:pt x="462" y="32"/>
                  </a:lnTo>
                  <a:lnTo>
                    <a:pt x="456" y="32"/>
                  </a:lnTo>
                  <a:lnTo>
                    <a:pt x="449" y="29"/>
                  </a:lnTo>
                  <a:lnTo>
                    <a:pt x="441" y="29"/>
                  </a:lnTo>
                  <a:lnTo>
                    <a:pt x="435" y="27"/>
                  </a:lnTo>
                  <a:lnTo>
                    <a:pt x="428" y="27"/>
                  </a:lnTo>
                  <a:lnTo>
                    <a:pt x="420" y="25"/>
                  </a:lnTo>
                  <a:lnTo>
                    <a:pt x="414" y="25"/>
                  </a:lnTo>
                  <a:lnTo>
                    <a:pt x="407" y="25"/>
                  </a:lnTo>
                  <a:lnTo>
                    <a:pt x="399" y="23"/>
                  </a:lnTo>
                  <a:lnTo>
                    <a:pt x="392" y="23"/>
                  </a:lnTo>
                  <a:lnTo>
                    <a:pt x="386" y="23"/>
                  </a:lnTo>
                  <a:lnTo>
                    <a:pt x="378" y="23"/>
                  </a:lnTo>
                  <a:lnTo>
                    <a:pt x="373" y="23"/>
                  </a:lnTo>
                  <a:lnTo>
                    <a:pt x="365" y="23"/>
                  </a:lnTo>
                  <a:lnTo>
                    <a:pt x="357" y="23"/>
                  </a:lnTo>
                  <a:lnTo>
                    <a:pt x="350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7" y="23"/>
                  </a:lnTo>
                  <a:lnTo>
                    <a:pt x="319" y="23"/>
                  </a:lnTo>
                  <a:lnTo>
                    <a:pt x="312" y="23"/>
                  </a:lnTo>
                  <a:lnTo>
                    <a:pt x="304" y="23"/>
                  </a:lnTo>
                  <a:lnTo>
                    <a:pt x="298" y="23"/>
                  </a:lnTo>
                  <a:lnTo>
                    <a:pt x="289" y="23"/>
                  </a:lnTo>
                  <a:lnTo>
                    <a:pt x="283" y="23"/>
                  </a:lnTo>
                  <a:lnTo>
                    <a:pt x="274" y="23"/>
                  </a:lnTo>
                  <a:lnTo>
                    <a:pt x="268" y="23"/>
                  </a:lnTo>
                  <a:lnTo>
                    <a:pt x="260" y="23"/>
                  </a:lnTo>
                  <a:lnTo>
                    <a:pt x="253" y="23"/>
                  </a:lnTo>
                  <a:lnTo>
                    <a:pt x="245" y="23"/>
                  </a:lnTo>
                  <a:lnTo>
                    <a:pt x="238" y="23"/>
                  </a:lnTo>
                  <a:lnTo>
                    <a:pt x="230" y="23"/>
                  </a:lnTo>
                  <a:lnTo>
                    <a:pt x="222" y="21"/>
                  </a:lnTo>
                  <a:lnTo>
                    <a:pt x="215" y="19"/>
                  </a:lnTo>
                  <a:lnTo>
                    <a:pt x="207" y="19"/>
                  </a:lnTo>
                  <a:lnTo>
                    <a:pt x="200" y="19"/>
                  </a:lnTo>
                  <a:lnTo>
                    <a:pt x="194" y="17"/>
                  </a:lnTo>
                  <a:lnTo>
                    <a:pt x="184" y="17"/>
                  </a:lnTo>
                  <a:lnTo>
                    <a:pt x="179" y="17"/>
                  </a:lnTo>
                  <a:lnTo>
                    <a:pt x="169" y="15"/>
                  </a:lnTo>
                  <a:lnTo>
                    <a:pt x="162" y="13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1" y="8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20" y="0"/>
                  </a:lnTo>
                  <a:lnTo>
                    <a:pt x="118" y="8"/>
                  </a:lnTo>
                  <a:lnTo>
                    <a:pt x="118" y="15"/>
                  </a:lnTo>
                  <a:lnTo>
                    <a:pt x="118" y="21"/>
                  </a:lnTo>
                  <a:lnTo>
                    <a:pt x="120" y="27"/>
                  </a:lnTo>
                  <a:lnTo>
                    <a:pt x="122" y="36"/>
                  </a:lnTo>
                  <a:lnTo>
                    <a:pt x="129" y="48"/>
                  </a:lnTo>
                  <a:lnTo>
                    <a:pt x="133" y="55"/>
                  </a:lnTo>
                  <a:lnTo>
                    <a:pt x="142" y="67"/>
                  </a:lnTo>
                  <a:lnTo>
                    <a:pt x="146" y="72"/>
                  </a:lnTo>
                  <a:lnTo>
                    <a:pt x="152" y="78"/>
                  </a:lnTo>
                  <a:lnTo>
                    <a:pt x="156" y="84"/>
                  </a:lnTo>
                  <a:lnTo>
                    <a:pt x="162" y="91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54" y="95"/>
                  </a:lnTo>
                  <a:lnTo>
                    <a:pt x="148" y="93"/>
                  </a:lnTo>
                  <a:lnTo>
                    <a:pt x="141" y="93"/>
                  </a:lnTo>
                  <a:lnTo>
                    <a:pt x="135" y="93"/>
                  </a:lnTo>
                  <a:lnTo>
                    <a:pt x="123" y="91"/>
                  </a:lnTo>
                  <a:lnTo>
                    <a:pt x="114" y="91"/>
                  </a:lnTo>
                  <a:lnTo>
                    <a:pt x="104" y="89"/>
                  </a:lnTo>
                  <a:lnTo>
                    <a:pt x="97" y="89"/>
                  </a:lnTo>
                  <a:lnTo>
                    <a:pt x="87" y="89"/>
                  </a:lnTo>
                  <a:lnTo>
                    <a:pt x="80" y="89"/>
                  </a:lnTo>
                  <a:lnTo>
                    <a:pt x="72" y="87"/>
                  </a:lnTo>
                  <a:lnTo>
                    <a:pt x="65" y="87"/>
                  </a:lnTo>
                  <a:lnTo>
                    <a:pt x="55" y="86"/>
                  </a:lnTo>
                  <a:lnTo>
                    <a:pt x="47" y="84"/>
                  </a:lnTo>
                  <a:lnTo>
                    <a:pt x="36" y="82"/>
                  </a:lnTo>
                  <a:lnTo>
                    <a:pt x="27" y="80"/>
                  </a:lnTo>
                  <a:lnTo>
                    <a:pt x="19" y="80"/>
                  </a:lnTo>
                  <a:lnTo>
                    <a:pt x="13" y="78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9" y="99"/>
                  </a:lnTo>
                  <a:lnTo>
                    <a:pt x="13" y="106"/>
                  </a:lnTo>
                  <a:lnTo>
                    <a:pt x="17" y="112"/>
                  </a:lnTo>
                  <a:lnTo>
                    <a:pt x="21" y="118"/>
                  </a:lnTo>
                  <a:lnTo>
                    <a:pt x="23" y="125"/>
                  </a:lnTo>
                  <a:lnTo>
                    <a:pt x="28" y="131"/>
                  </a:lnTo>
                  <a:lnTo>
                    <a:pt x="34" y="141"/>
                  </a:lnTo>
                  <a:lnTo>
                    <a:pt x="42" y="152"/>
                  </a:lnTo>
                  <a:lnTo>
                    <a:pt x="51" y="160"/>
                  </a:lnTo>
                  <a:lnTo>
                    <a:pt x="61" y="169"/>
                  </a:lnTo>
                  <a:lnTo>
                    <a:pt x="70" y="175"/>
                  </a:lnTo>
                  <a:lnTo>
                    <a:pt x="82" y="183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101" y="190"/>
                  </a:lnTo>
                  <a:lnTo>
                    <a:pt x="106" y="192"/>
                  </a:lnTo>
                  <a:lnTo>
                    <a:pt x="114" y="194"/>
                  </a:lnTo>
                  <a:lnTo>
                    <a:pt x="120" y="196"/>
                  </a:lnTo>
                  <a:lnTo>
                    <a:pt x="127" y="198"/>
                  </a:lnTo>
                  <a:lnTo>
                    <a:pt x="135" y="200"/>
                  </a:lnTo>
                  <a:lnTo>
                    <a:pt x="142" y="200"/>
                  </a:lnTo>
                  <a:lnTo>
                    <a:pt x="150" y="202"/>
                  </a:lnTo>
                  <a:lnTo>
                    <a:pt x="160" y="203"/>
                  </a:lnTo>
                  <a:lnTo>
                    <a:pt x="169" y="205"/>
                  </a:lnTo>
                  <a:lnTo>
                    <a:pt x="171" y="213"/>
                  </a:lnTo>
                  <a:lnTo>
                    <a:pt x="171" y="221"/>
                  </a:lnTo>
                  <a:lnTo>
                    <a:pt x="171" y="230"/>
                  </a:lnTo>
                  <a:lnTo>
                    <a:pt x="171" y="240"/>
                  </a:lnTo>
                  <a:lnTo>
                    <a:pt x="169" y="247"/>
                  </a:lnTo>
                  <a:lnTo>
                    <a:pt x="167" y="257"/>
                  </a:lnTo>
                  <a:lnTo>
                    <a:pt x="163" y="266"/>
                  </a:lnTo>
                  <a:lnTo>
                    <a:pt x="162" y="276"/>
                  </a:lnTo>
                  <a:lnTo>
                    <a:pt x="156" y="285"/>
                  </a:lnTo>
                  <a:lnTo>
                    <a:pt x="152" y="295"/>
                  </a:lnTo>
                  <a:lnTo>
                    <a:pt x="148" y="304"/>
                  </a:lnTo>
                  <a:lnTo>
                    <a:pt x="142" y="314"/>
                  </a:lnTo>
                  <a:lnTo>
                    <a:pt x="137" y="323"/>
                  </a:lnTo>
                  <a:lnTo>
                    <a:pt x="131" y="333"/>
                  </a:lnTo>
                  <a:lnTo>
                    <a:pt x="123" y="342"/>
                  </a:lnTo>
                  <a:lnTo>
                    <a:pt x="120" y="354"/>
                  </a:lnTo>
                  <a:lnTo>
                    <a:pt x="110" y="363"/>
                  </a:lnTo>
                  <a:lnTo>
                    <a:pt x="103" y="373"/>
                  </a:lnTo>
                  <a:lnTo>
                    <a:pt x="95" y="382"/>
                  </a:lnTo>
                  <a:lnTo>
                    <a:pt x="87" y="392"/>
                  </a:lnTo>
                  <a:lnTo>
                    <a:pt x="80" y="401"/>
                  </a:lnTo>
                  <a:lnTo>
                    <a:pt x="74" y="411"/>
                  </a:lnTo>
                  <a:lnTo>
                    <a:pt x="65" y="420"/>
                  </a:lnTo>
                  <a:lnTo>
                    <a:pt x="59" y="432"/>
                  </a:lnTo>
                  <a:lnTo>
                    <a:pt x="49" y="441"/>
                  </a:lnTo>
                  <a:lnTo>
                    <a:pt x="42" y="451"/>
                  </a:lnTo>
                  <a:lnTo>
                    <a:pt x="36" y="460"/>
                  </a:lnTo>
                  <a:lnTo>
                    <a:pt x="28" y="471"/>
                  </a:lnTo>
                  <a:lnTo>
                    <a:pt x="23" y="481"/>
                  </a:lnTo>
                  <a:lnTo>
                    <a:pt x="17" y="491"/>
                  </a:lnTo>
                  <a:lnTo>
                    <a:pt x="9" y="502"/>
                  </a:lnTo>
                  <a:lnTo>
                    <a:pt x="4" y="511"/>
                  </a:lnTo>
                  <a:lnTo>
                    <a:pt x="4" y="523"/>
                  </a:lnTo>
                  <a:lnTo>
                    <a:pt x="6" y="534"/>
                  </a:lnTo>
                  <a:lnTo>
                    <a:pt x="8" y="544"/>
                  </a:lnTo>
                  <a:lnTo>
                    <a:pt x="9" y="555"/>
                  </a:lnTo>
                  <a:lnTo>
                    <a:pt x="9" y="563"/>
                  </a:lnTo>
                  <a:lnTo>
                    <a:pt x="13" y="572"/>
                  </a:lnTo>
                  <a:lnTo>
                    <a:pt x="17" y="578"/>
                  </a:lnTo>
                  <a:lnTo>
                    <a:pt x="19" y="587"/>
                  </a:lnTo>
                  <a:lnTo>
                    <a:pt x="23" y="593"/>
                  </a:lnTo>
                  <a:lnTo>
                    <a:pt x="27" y="599"/>
                  </a:lnTo>
                  <a:lnTo>
                    <a:pt x="28" y="605"/>
                  </a:lnTo>
                  <a:lnTo>
                    <a:pt x="34" y="610"/>
                  </a:lnTo>
                  <a:lnTo>
                    <a:pt x="42" y="620"/>
                  </a:lnTo>
                  <a:lnTo>
                    <a:pt x="55" y="627"/>
                  </a:lnTo>
                  <a:lnTo>
                    <a:pt x="59" y="629"/>
                  </a:lnTo>
                  <a:lnTo>
                    <a:pt x="65" y="631"/>
                  </a:lnTo>
                  <a:lnTo>
                    <a:pt x="70" y="633"/>
                  </a:lnTo>
                  <a:lnTo>
                    <a:pt x="76" y="637"/>
                  </a:lnTo>
                  <a:lnTo>
                    <a:pt x="84" y="637"/>
                  </a:lnTo>
                  <a:lnTo>
                    <a:pt x="89" y="639"/>
                  </a:lnTo>
                  <a:lnTo>
                    <a:pt x="95" y="639"/>
                  </a:lnTo>
                  <a:lnTo>
                    <a:pt x="103" y="641"/>
                  </a:lnTo>
                  <a:lnTo>
                    <a:pt x="110" y="639"/>
                  </a:lnTo>
                  <a:lnTo>
                    <a:pt x="116" y="639"/>
                  </a:lnTo>
                  <a:lnTo>
                    <a:pt x="123" y="639"/>
                  </a:lnTo>
                  <a:lnTo>
                    <a:pt x="131" y="639"/>
                  </a:lnTo>
                  <a:lnTo>
                    <a:pt x="139" y="639"/>
                  </a:lnTo>
                  <a:lnTo>
                    <a:pt x="148" y="637"/>
                  </a:lnTo>
                  <a:lnTo>
                    <a:pt x="154" y="637"/>
                  </a:lnTo>
                  <a:lnTo>
                    <a:pt x="163" y="637"/>
                  </a:lnTo>
                  <a:lnTo>
                    <a:pt x="171" y="633"/>
                  </a:lnTo>
                  <a:lnTo>
                    <a:pt x="181" y="631"/>
                  </a:lnTo>
                  <a:lnTo>
                    <a:pt x="188" y="629"/>
                  </a:lnTo>
                  <a:lnTo>
                    <a:pt x="196" y="629"/>
                  </a:lnTo>
                  <a:lnTo>
                    <a:pt x="203" y="627"/>
                  </a:lnTo>
                  <a:lnTo>
                    <a:pt x="213" y="625"/>
                  </a:lnTo>
                  <a:lnTo>
                    <a:pt x="219" y="624"/>
                  </a:lnTo>
                  <a:lnTo>
                    <a:pt x="228" y="622"/>
                  </a:lnTo>
                  <a:lnTo>
                    <a:pt x="236" y="620"/>
                  </a:lnTo>
                  <a:lnTo>
                    <a:pt x="245" y="618"/>
                  </a:lnTo>
                  <a:lnTo>
                    <a:pt x="253" y="614"/>
                  </a:lnTo>
                  <a:lnTo>
                    <a:pt x="262" y="614"/>
                  </a:lnTo>
                  <a:lnTo>
                    <a:pt x="270" y="612"/>
                  </a:lnTo>
                  <a:lnTo>
                    <a:pt x="279" y="610"/>
                  </a:lnTo>
                  <a:lnTo>
                    <a:pt x="287" y="608"/>
                  </a:lnTo>
                  <a:lnTo>
                    <a:pt x="296" y="608"/>
                  </a:lnTo>
                  <a:lnTo>
                    <a:pt x="304" y="606"/>
                  </a:lnTo>
                  <a:lnTo>
                    <a:pt x="312" y="605"/>
                  </a:lnTo>
                  <a:lnTo>
                    <a:pt x="319" y="603"/>
                  </a:lnTo>
                  <a:lnTo>
                    <a:pt x="329" y="603"/>
                  </a:lnTo>
                  <a:lnTo>
                    <a:pt x="336" y="603"/>
                  </a:lnTo>
                  <a:lnTo>
                    <a:pt x="344" y="603"/>
                  </a:lnTo>
                  <a:lnTo>
                    <a:pt x="352" y="603"/>
                  </a:lnTo>
                  <a:lnTo>
                    <a:pt x="361" y="603"/>
                  </a:lnTo>
                  <a:lnTo>
                    <a:pt x="367" y="603"/>
                  </a:lnTo>
                  <a:lnTo>
                    <a:pt x="374" y="603"/>
                  </a:lnTo>
                  <a:lnTo>
                    <a:pt x="382" y="603"/>
                  </a:lnTo>
                  <a:lnTo>
                    <a:pt x="390" y="605"/>
                  </a:lnTo>
                  <a:lnTo>
                    <a:pt x="395" y="606"/>
                  </a:lnTo>
                  <a:lnTo>
                    <a:pt x="403" y="608"/>
                  </a:lnTo>
                  <a:lnTo>
                    <a:pt x="409" y="610"/>
                  </a:lnTo>
                  <a:lnTo>
                    <a:pt x="416" y="614"/>
                  </a:lnTo>
                  <a:lnTo>
                    <a:pt x="426" y="622"/>
                  </a:lnTo>
                  <a:lnTo>
                    <a:pt x="437" y="629"/>
                  </a:lnTo>
                  <a:lnTo>
                    <a:pt x="447" y="637"/>
                  </a:lnTo>
                  <a:lnTo>
                    <a:pt x="456" y="646"/>
                  </a:lnTo>
                  <a:lnTo>
                    <a:pt x="466" y="652"/>
                  </a:lnTo>
                  <a:lnTo>
                    <a:pt x="475" y="662"/>
                  </a:lnTo>
                  <a:lnTo>
                    <a:pt x="485" y="669"/>
                  </a:lnTo>
                  <a:lnTo>
                    <a:pt x="494" y="679"/>
                  </a:lnTo>
                  <a:lnTo>
                    <a:pt x="502" y="688"/>
                  </a:lnTo>
                  <a:lnTo>
                    <a:pt x="511" y="696"/>
                  </a:lnTo>
                  <a:lnTo>
                    <a:pt x="519" y="705"/>
                  </a:lnTo>
                  <a:lnTo>
                    <a:pt x="528" y="715"/>
                  </a:lnTo>
                  <a:lnTo>
                    <a:pt x="536" y="722"/>
                  </a:lnTo>
                  <a:lnTo>
                    <a:pt x="546" y="732"/>
                  </a:lnTo>
                  <a:lnTo>
                    <a:pt x="553" y="740"/>
                  </a:lnTo>
                  <a:lnTo>
                    <a:pt x="561" y="749"/>
                  </a:lnTo>
                  <a:lnTo>
                    <a:pt x="568" y="759"/>
                  </a:lnTo>
                  <a:lnTo>
                    <a:pt x="576" y="766"/>
                  </a:lnTo>
                  <a:lnTo>
                    <a:pt x="584" y="776"/>
                  </a:lnTo>
                  <a:lnTo>
                    <a:pt x="591" y="785"/>
                  </a:lnTo>
                  <a:lnTo>
                    <a:pt x="597" y="795"/>
                  </a:lnTo>
                  <a:lnTo>
                    <a:pt x="604" y="804"/>
                  </a:lnTo>
                  <a:lnTo>
                    <a:pt x="610" y="814"/>
                  </a:lnTo>
                  <a:lnTo>
                    <a:pt x="618" y="823"/>
                  </a:lnTo>
                  <a:lnTo>
                    <a:pt x="623" y="831"/>
                  </a:lnTo>
                  <a:lnTo>
                    <a:pt x="631" y="840"/>
                  </a:lnTo>
                  <a:lnTo>
                    <a:pt x="637" y="850"/>
                  </a:lnTo>
                  <a:lnTo>
                    <a:pt x="642" y="859"/>
                  </a:lnTo>
                  <a:lnTo>
                    <a:pt x="648" y="869"/>
                  </a:lnTo>
                  <a:lnTo>
                    <a:pt x="654" y="878"/>
                  </a:lnTo>
                  <a:lnTo>
                    <a:pt x="662" y="888"/>
                  </a:lnTo>
                  <a:lnTo>
                    <a:pt x="667" y="899"/>
                  </a:lnTo>
                  <a:lnTo>
                    <a:pt x="673" y="909"/>
                  </a:lnTo>
                  <a:lnTo>
                    <a:pt x="679" y="918"/>
                  </a:lnTo>
                  <a:lnTo>
                    <a:pt x="684" y="928"/>
                  </a:lnTo>
                  <a:lnTo>
                    <a:pt x="688" y="937"/>
                  </a:lnTo>
                  <a:lnTo>
                    <a:pt x="694" y="947"/>
                  </a:lnTo>
                  <a:lnTo>
                    <a:pt x="700" y="958"/>
                  </a:lnTo>
                  <a:lnTo>
                    <a:pt x="705" y="968"/>
                  </a:lnTo>
                  <a:lnTo>
                    <a:pt x="711" y="977"/>
                  </a:lnTo>
                  <a:lnTo>
                    <a:pt x="715" y="987"/>
                  </a:lnTo>
                  <a:lnTo>
                    <a:pt x="722" y="996"/>
                  </a:lnTo>
                  <a:lnTo>
                    <a:pt x="726" y="1008"/>
                  </a:lnTo>
                  <a:lnTo>
                    <a:pt x="732" y="1017"/>
                  </a:lnTo>
                  <a:lnTo>
                    <a:pt x="736" y="1027"/>
                  </a:lnTo>
                  <a:lnTo>
                    <a:pt x="743" y="1038"/>
                  </a:lnTo>
                  <a:lnTo>
                    <a:pt x="747" y="1049"/>
                  </a:lnTo>
                  <a:lnTo>
                    <a:pt x="753" y="1059"/>
                  </a:lnTo>
                  <a:lnTo>
                    <a:pt x="758" y="1068"/>
                  </a:lnTo>
                  <a:lnTo>
                    <a:pt x="762" y="1080"/>
                  </a:lnTo>
                  <a:lnTo>
                    <a:pt x="768" y="1089"/>
                  </a:lnTo>
                  <a:lnTo>
                    <a:pt x="774" y="1101"/>
                  </a:lnTo>
                  <a:lnTo>
                    <a:pt x="779" y="1110"/>
                  </a:lnTo>
                  <a:lnTo>
                    <a:pt x="783" y="1120"/>
                  </a:lnTo>
                  <a:lnTo>
                    <a:pt x="789" y="1131"/>
                  </a:lnTo>
                  <a:lnTo>
                    <a:pt x="796" y="1143"/>
                  </a:lnTo>
                  <a:lnTo>
                    <a:pt x="800" y="1152"/>
                  </a:lnTo>
                  <a:lnTo>
                    <a:pt x="806" y="1163"/>
                  </a:lnTo>
                  <a:lnTo>
                    <a:pt x="810" y="1175"/>
                  </a:lnTo>
                  <a:lnTo>
                    <a:pt x="817" y="1186"/>
                  </a:lnTo>
                  <a:lnTo>
                    <a:pt x="823" y="1198"/>
                  </a:lnTo>
                  <a:lnTo>
                    <a:pt x="827" y="1209"/>
                  </a:lnTo>
                  <a:lnTo>
                    <a:pt x="835" y="1219"/>
                  </a:lnTo>
                  <a:lnTo>
                    <a:pt x="840" y="1232"/>
                  </a:lnTo>
                  <a:lnTo>
                    <a:pt x="833" y="1234"/>
                  </a:lnTo>
                  <a:lnTo>
                    <a:pt x="827" y="1241"/>
                  </a:lnTo>
                  <a:lnTo>
                    <a:pt x="823" y="1247"/>
                  </a:lnTo>
                  <a:lnTo>
                    <a:pt x="823" y="1257"/>
                  </a:lnTo>
                  <a:lnTo>
                    <a:pt x="821" y="1264"/>
                  </a:lnTo>
                  <a:lnTo>
                    <a:pt x="823" y="1276"/>
                  </a:lnTo>
                  <a:lnTo>
                    <a:pt x="823" y="1281"/>
                  </a:lnTo>
                  <a:lnTo>
                    <a:pt x="825" y="1285"/>
                  </a:lnTo>
                  <a:lnTo>
                    <a:pt x="827" y="1293"/>
                  </a:lnTo>
                  <a:lnTo>
                    <a:pt x="831" y="1298"/>
                  </a:lnTo>
                  <a:lnTo>
                    <a:pt x="835" y="1310"/>
                  </a:lnTo>
                  <a:lnTo>
                    <a:pt x="838" y="1321"/>
                  </a:lnTo>
                  <a:lnTo>
                    <a:pt x="844" y="1331"/>
                  </a:lnTo>
                  <a:lnTo>
                    <a:pt x="852" y="1344"/>
                  </a:lnTo>
                  <a:lnTo>
                    <a:pt x="855" y="1354"/>
                  </a:lnTo>
                  <a:lnTo>
                    <a:pt x="861" y="1363"/>
                  </a:lnTo>
                  <a:lnTo>
                    <a:pt x="867" y="1373"/>
                  </a:lnTo>
                  <a:lnTo>
                    <a:pt x="873" y="1380"/>
                  </a:lnTo>
                  <a:lnTo>
                    <a:pt x="874" y="1376"/>
                  </a:lnTo>
                  <a:lnTo>
                    <a:pt x="871" y="1369"/>
                  </a:lnTo>
                  <a:lnTo>
                    <a:pt x="869" y="1361"/>
                  </a:lnTo>
                  <a:lnTo>
                    <a:pt x="867" y="1354"/>
                  </a:lnTo>
                  <a:lnTo>
                    <a:pt x="865" y="1346"/>
                  </a:lnTo>
                  <a:lnTo>
                    <a:pt x="863" y="1338"/>
                  </a:lnTo>
                  <a:lnTo>
                    <a:pt x="861" y="1331"/>
                  </a:lnTo>
                  <a:lnTo>
                    <a:pt x="859" y="1323"/>
                  </a:lnTo>
                  <a:lnTo>
                    <a:pt x="857" y="1317"/>
                  </a:lnTo>
                  <a:lnTo>
                    <a:pt x="855" y="1308"/>
                  </a:lnTo>
                  <a:lnTo>
                    <a:pt x="854" y="1300"/>
                  </a:lnTo>
                  <a:lnTo>
                    <a:pt x="852" y="1293"/>
                  </a:lnTo>
                  <a:lnTo>
                    <a:pt x="852" y="1285"/>
                  </a:lnTo>
                  <a:lnTo>
                    <a:pt x="848" y="1279"/>
                  </a:lnTo>
                  <a:lnTo>
                    <a:pt x="846" y="1272"/>
                  </a:lnTo>
                  <a:lnTo>
                    <a:pt x="844" y="1264"/>
                  </a:lnTo>
                  <a:lnTo>
                    <a:pt x="844" y="1257"/>
                  </a:lnTo>
                  <a:lnTo>
                    <a:pt x="850" y="1255"/>
                  </a:lnTo>
                  <a:lnTo>
                    <a:pt x="857" y="1255"/>
                  </a:lnTo>
                  <a:lnTo>
                    <a:pt x="863" y="1257"/>
                  </a:lnTo>
                  <a:lnTo>
                    <a:pt x="871" y="1259"/>
                  </a:lnTo>
                  <a:lnTo>
                    <a:pt x="878" y="1260"/>
                  </a:lnTo>
                  <a:lnTo>
                    <a:pt x="884" y="1264"/>
                  </a:lnTo>
                  <a:lnTo>
                    <a:pt x="892" y="1266"/>
                  </a:lnTo>
                  <a:lnTo>
                    <a:pt x="899" y="1270"/>
                  </a:lnTo>
                  <a:lnTo>
                    <a:pt x="899" y="1279"/>
                  </a:lnTo>
                  <a:lnTo>
                    <a:pt x="899" y="1291"/>
                  </a:lnTo>
                  <a:lnTo>
                    <a:pt x="899" y="1297"/>
                  </a:lnTo>
                  <a:lnTo>
                    <a:pt x="901" y="1302"/>
                  </a:lnTo>
                  <a:lnTo>
                    <a:pt x="901" y="1308"/>
                  </a:lnTo>
                  <a:lnTo>
                    <a:pt x="903" y="1316"/>
                  </a:lnTo>
                  <a:lnTo>
                    <a:pt x="903" y="1319"/>
                  </a:lnTo>
                  <a:lnTo>
                    <a:pt x="903" y="1327"/>
                  </a:lnTo>
                  <a:lnTo>
                    <a:pt x="905" y="1331"/>
                  </a:lnTo>
                  <a:lnTo>
                    <a:pt x="907" y="1338"/>
                  </a:lnTo>
                  <a:lnTo>
                    <a:pt x="907" y="1344"/>
                  </a:lnTo>
                  <a:lnTo>
                    <a:pt x="909" y="1350"/>
                  </a:lnTo>
                  <a:lnTo>
                    <a:pt x="911" y="1355"/>
                  </a:lnTo>
                  <a:lnTo>
                    <a:pt x="912" y="1363"/>
                  </a:lnTo>
                  <a:lnTo>
                    <a:pt x="912" y="1367"/>
                  </a:lnTo>
                  <a:lnTo>
                    <a:pt x="914" y="1375"/>
                  </a:lnTo>
                  <a:lnTo>
                    <a:pt x="916" y="1380"/>
                  </a:lnTo>
                  <a:lnTo>
                    <a:pt x="918" y="1386"/>
                  </a:lnTo>
                  <a:lnTo>
                    <a:pt x="918" y="1392"/>
                  </a:lnTo>
                  <a:lnTo>
                    <a:pt x="920" y="1399"/>
                  </a:lnTo>
                  <a:lnTo>
                    <a:pt x="922" y="1405"/>
                  </a:lnTo>
                  <a:lnTo>
                    <a:pt x="924" y="1411"/>
                  </a:lnTo>
                  <a:lnTo>
                    <a:pt x="926" y="1416"/>
                  </a:lnTo>
                  <a:lnTo>
                    <a:pt x="928" y="1422"/>
                  </a:lnTo>
                  <a:lnTo>
                    <a:pt x="928" y="1430"/>
                  </a:lnTo>
                  <a:lnTo>
                    <a:pt x="930" y="1435"/>
                  </a:lnTo>
                  <a:lnTo>
                    <a:pt x="931" y="1443"/>
                  </a:lnTo>
                  <a:lnTo>
                    <a:pt x="933" y="1449"/>
                  </a:lnTo>
                  <a:lnTo>
                    <a:pt x="935" y="1454"/>
                  </a:lnTo>
                  <a:lnTo>
                    <a:pt x="937" y="1462"/>
                  </a:lnTo>
                  <a:lnTo>
                    <a:pt x="937" y="1466"/>
                  </a:lnTo>
                  <a:lnTo>
                    <a:pt x="939" y="1473"/>
                  </a:lnTo>
                  <a:lnTo>
                    <a:pt x="939" y="1479"/>
                  </a:lnTo>
                  <a:lnTo>
                    <a:pt x="941" y="1485"/>
                  </a:lnTo>
                  <a:lnTo>
                    <a:pt x="943" y="1490"/>
                  </a:lnTo>
                  <a:lnTo>
                    <a:pt x="943" y="1498"/>
                  </a:lnTo>
                  <a:lnTo>
                    <a:pt x="945" y="1504"/>
                  </a:lnTo>
                  <a:lnTo>
                    <a:pt x="947" y="1509"/>
                  </a:lnTo>
                  <a:lnTo>
                    <a:pt x="947" y="1515"/>
                  </a:lnTo>
                  <a:lnTo>
                    <a:pt x="949" y="1521"/>
                  </a:lnTo>
                  <a:lnTo>
                    <a:pt x="949" y="1527"/>
                  </a:lnTo>
                  <a:lnTo>
                    <a:pt x="950" y="1532"/>
                  </a:lnTo>
                  <a:lnTo>
                    <a:pt x="950" y="1538"/>
                  </a:lnTo>
                  <a:lnTo>
                    <a:pt x="952" y="1546"/>
                  </a:lnTo>
                  <a:lnTo>
                    <a:pt x="952" y="1551"/>
                  </a:lnTo>
                  <a:lnTo>
                    <a:pt x="954" y="1557"/>
                  </a:lnTo>
                  <a:lnTo>
                    <a:pt x="954" y="1563"/>
                  </a:lnTo>
                  <a:lnTo>
                    <a:pt x="956" y="1568"/>
                  </a:lnTo>
                  <a:lnTo>
                    <a:pt x="956" y="1574"/>
                  </a:lnTo>
                  <a:lnTo>
                    <a:pt x="956" y="1582"/>
                  </a:lnTo>
                  <a:lnTo>
                    <a:pt x="956" y="1586"/>
                  </a:lnTo>
                  <a:lnTo>
                    <a:pt x="956" y="1591"/>
                  </a:lnTo>
                  <a:lnTo>
                    <a:pt x="956" y="1599"/>
                  </a:lnTo>
                  <a:lnTo>
                    <a:pt x="958" y="1605"/>
                  </a:lnTo>
                  <a:lnTo>
                    <a:pt x="956" y="1614"/>
                  </a:lnTo>
                  <a:lnTo>
                    <a:pt x="956" y="1625"/>
                  </a:lnTo>
                  <a:lnTo>
                    <a:pt x="956" y="1637"/>
                  </a:lnTo>
                  <a:lnTo>
                    <a:pt x="956" y="1648"/>
                  </a:lnTo>
                  <a:lnTo>
                    <a:pt x="952" y="1654"/>
                  </a:lnTo>
                  <a:lnTo>
                    <a:pt x="949" y="1660"/>
                  </a:lnTo>
                  <a:lnTo>
                    <a:pt x="947" y="1665"/>
                  </a:lnTo>
                  <a:lnTo>
                    <a:pt x="945" y="1673"/>
                  </a:lnTo>
                  <a:lnTo>
                    <a:pt x="939" y="1679"/>
                  </a:lnTo>
                  <a:lnTo>
                    <a:pt x="937" y="1686"/>
                  </a:lnTo>
                  <a:lnTo>
                    <a:pt x="933" y="1694"/>
                  </a:lnTo>
                  <a:lnTo>
                    <a:pt x="930" y="1701"/>
                  </a:lnTo>
                  <a:lnTo>
                    <a:pt x="926" y="1709"/>
                  </a:lnTo>
                  <a:lnTo>
                    <a:pt x="922" y="1715"/>
                  </a:lnTo>
                  <a:lnTo>
                    <a:pt x="920" y="1721"/>
                  </a:lnTo>
                  <a:lnTo>
                    <a:pt x="916" y="1728"/>
                  </a:lnTo>
                  <a:lnTo>
                    <a:pt x="912" y="1732"/>
                  </a:lnTo>
                  <a:lnTo>
                    <a:pt x="911" y="1738"/>
                  </a:lnTo>
                  <a:lnTo>
                    <a:pt x="907" y="1741"/>
                  </a:lnTo>
                  <a:lnTo>
                    <a:pt x="907" y="1747"/>
                  </a:lnTo>
                  <a:lnTo>
                    <a:pt x="1076" y="1753"/>
                  </a:lnTo>
                  <a:lnTo>
                    <a:pt x="1078" y="1747"/>
                  </a:lnTo>
                  <a:lnTo>
                    <a:pt x="1078" y="1741"/>
                  </a:lnTo>
                  <a:lnTo>
                    <a:pt x="1080" y="1734"/>
                  </a:lnTo>
                  <a:lnTo>
                    <a:pt x="1082" y="1728"/>
                  </a:lnTo>
                  <a:lnTo>
                    <a:pt x="1084" y="1721"/>
                  </a:lnTo>
                  <a:lnTo>
                    <a:pt x="1085" y="1713"/>
                  </a:lnTo>
                  <a:lnTo>
                    <a:pt x="1085" y="1703"/>
                  </a:lnTo>
                  <a:lnTo>
                    <a:pt x="1087" y="1696"/>
                  </a:lnTo>
                  <a:lnTo>
                    <a:pt x="1089" y="1686"/>
                  </a:lnTo>
                  <a:lnTo>
                    <a:pt x="1091" y="1677"/>
                  </a:lnTo>
                  <a:lnTo>
                    <a:pt x="1093" y="1667"/>
                  </a:lnTo>
                  <a:lnTo>
                    <a:pt x="1095" y="1660"/>
                  </a:lnTo>
                  <a:lnTo>
                    <a:pt x="1095" y="1648"/>
                  </a:lnTo>
                  <a:lnTo>
                    <a:pt x="1097" y="1639"/>
                  </a:lnTo>
                  <a:lnTo>
                    <a:pt x="1099" y="1629"/>
                  </a:lnTo>
                  <a:lnTo>
                    <a:pt x="1103" y="1620"/>
                  </a:lnTo>
                  <a:lnTo>
                    <a:pt x="1103" y="1610"/>
                  </a:lnTo>
                  <a:lnTo>
                    <a:pt x="1104" y="1599"/>
                  </a:lnTo>
                  <a:lnTo>
                    <a:pt x="1106" y="1589"/>
                  </a:lnTo>
                  <a:lnTo>
                    <a:pt x="1108" y="1580"/>
                  </a:lnTo>
                  <a:lnTo>
                    <a:pt x="1110" y="1568"/>
                  </a:lnTo>
                  <a:lnTo>
                    <a:pt x="1112" y="1559"/>
                  </a:lnTo>
                  <a:lnTo>
                    <a:pt x="1112" y="1551"/>
                  </a:lnTo>
                  <a:lnTo>
                    <a:pt x="1116" y="1542"/>
                  </a:lnTo>
                  <a:lnTo>
                    <a:pt x="1116" y="1532"/>
                  </a:lnTo>
                  <a:lnTo>
                    <a:pt x="1120" y="1527"/>
                  </a:lnTo>
                  <a:lnTo>
                    <a:pt x="1122" y="1519"/>
                  </a:lnTo>
                  <a:lnTo>
                    <a:pt x="1123" y="1511"/>
                  </a:lnTo>
                  <a:lnTo>
                    <a:pt x="1125" y="1504"/>
                  </a:lnTo>
                  <a:lnTo>
                    <a:pt x="1127" y="1500"/>
                  </a:lnTo>
                  <a:lnTo>
                    <a:pt x="1131" y="1492"/>
                  </a:lnTo>
                  <a:lnTo>
                    <a:pt x="1133" y="1490"/>
                  </a:lnTo>
                  <a:lnTo>
                    <a:pt x="1141" y="1492"/>
                  </a:lnTo>
                  <a:lnTo>
                    <a:pt x="1146" y="1494"/>
                  </a:lnTo>
                  <a:lnTo>
                    <a:pt x="1152" y="1498"/>
                  </a:lnTo>
                  <a:lnTo>
                    <a:pt x="1158" y="1504"/>
                  </a:lnTo>
                  <a:lnTo>
                    <a:pt x="1162" y="1509"/>
                  </a:lnTo>
                  <a:lnTo>
                    <a:pt x="1167" y="1513"/>
                  </a:lnTo>
                  <a:lnTo>
                    <a:pt x="1171" y="1521"/>
                  </a:lnTo>
                  <a:lnTo>
                    <a:pt x="1175" y="1528"/>
                  </a:lnTo>
                  <a:lnTo>
                    <a:pt x="1177" y="1534"/>
                  </a:lnTo>
                  <a:lnTo>
                    <a:pt x="1179" y="1542"/>
                  </a:lnTo>
                  <a:lnTo>
                    <a:pt x="1181" y="1549"/>
                  </a:lnTo>
                  <a:lnTo>
                    <a:pt x="1184" y="1557"/>
                  </a:lnTo>
                  <a:lnTo>
                    <a:pt x="1184" y="1565"/>
                  </a:lnTo>
                  <a:lnTo>
                    <a:pt x="1186" y="1574"/>
                  </a:lnTo>
                  <a:lnTo>
                    <a:pt x="1186" y="1582"/>
                  </a:lnTo>
                  <a:lnTo>
                    <a:pt x="1188" y="1591"/>
                  </a:lnTo>
                  <a:lnTo>
                    <a:pt x="1186" y="1601"/>
                  </a:lnTo>
                  <a:lnTo>
                    <a:pt x="1186" y="1608"/>
                  </a:lnTo>
                  <a:lnTo>
                    <a:pt x="1186" y="1618"/>
                  </a:lnTo>
                  <a:lnTo>
                    <a:pt x="1186" y="1627"/>
                  </a:lnTo>
                  <a:lnTo>
                    <a:pt x="1184" y="1635"/>
                  </a:lnTo>
                  <a:lnTo>
                    <a:pt x="1184" y="1644"/>
                  </a:lnTo>
                  <a:lnTo>
                    <a:pt x="1184" y="1652"/>
                  </a:lnTo>
                  <a:lnTo>
                    <a:pt x="1184" y="1662"/>
                  </a:lnTo>
                  <a:lnTo>
                    <a:pt x="1181" y="1669"/>
                  </a:lnTo>
                  <a:lnTo>
                    <a:pt x="1181" y="1677"/>
                  </a:lnTo>
                  <a:lnTo>
                    <a:pt x="1179" y="1684"/>
                  </a:lnTo>
                  <a:lnTo>
                    <a:pt x="1179" y="1694"/>
                  </a:lnTo>
                  <a:lnTo>
                    <a:pt x="1177" y="1700"/>
                  </a:lnTo>
                  <a:lnTo>
                    <a:pt x="1177" y="1707"/>
                  </a:lnTo>
                  <a:lnTo>
                    <a:pt x="1177" y="1713"/>
                  </a:lnTo>
                  <a:lnTo>
                    <a:pt x="1177" y="1721"/>
                  </a:lnTo>
                  <a:lnTo>
                    <a:pt x="1327" y="1713"/>
                  </a:lnTo>
                  <a:lnTo>
                    <a:pt x="1327" y="1701"/>
                  </a:lnTo>
                  <a:lnTo>
                    <a:pt x="1329" y="1690"/>
                  </a:lnTo>
                  <a:lnTo>
                    <a:pt x="1329" y="1679"/>
                  </a:lnTo>
                  <a:lnTo>
                    <a:pt x="1331" y="1667"/>
                  </a:lnTo>
                  <a:lnTo>
                    <a:pt x="1333" y="1656"/>
                  </a:lnTo>
                  <a:lnTo>
                    <a:pt x="1335" y="1646"/>
                  </a:lnTo>
                  <a:lnTo>
                    <a:pt x="1335" y="1635"/>
                  </a:lnTo>
                  <a:lnTo>
                    <a:pt x="1336" y="1624"/>
                  </a:lnTo>
                  <a:lnTo>
                    <a:pt x="1336" y="1612"/>
                  </a:lnTo>
                  <a:lnTo>
                    <a:pt x="1338" y="1603"/>
                  </a:lnTo>
                  <a:lnTo>
                    <a:pt x="1340" y="1591"/>
                  </a:lnTo>
                  <a:lnTo>
                    <a:pt x="1342" y="1582"/>
                  </a:lnTo>
                  <a:lnTo>
                    <a:pt x="1344" y="1570"/>
                  </a:lnTo>
                  <a:lnTo>
                    <a:pt x="1346" y="1559"/>
                  </a:lnTo>
                  <a:lnTo>
                    <a:pt x="1346" y="1549"/>
                  </a:lnTo>
                  <a:lnTo>
                    <a:pt x="1348" y="1540"/>
                  </a:lnTo>
                  <a:lnTo>
                    <a:pt x="1350" y="1528"/>
                  </a:lnTo>
                  <a:lnTo>
                    <a:pt x="1352" y="1519"/>
                  </a:lnTo>
                  <a:lnTo>
                    <a:pt x="1354" y="1508"/>
                  </a:lnTo>
                  <a:lnTo>
                    <a:pt x="1355" y="1498"/>
                  </a:lnTo>
                  <a:lnTo>
                    <a:pt x="1355" y="1489"/>
                  </a:lnTo>
                  <a:lnTo>
                    <a:pt x="1357" y="1479"/>
                  </a:lnTo>
                  <a:lnTo>
                    <a:pt x="1361" y="1470"/>
                  </a:lnTo>
                  <a:lnTo>
                    <a:pt x="1363" y="1460"/>
                  </a:lnTo>
                  <a:lnTo>
                    <a:pt x="1365" y="1451"/>
                  </a:lnTo>
                  <a:lnTo>
                    <a:pt x="1367" y="1441"/>
                  </a:lnTo>
                  <a:lnTo>
                    <a:pt x="1371" y="1433"/>
                  </a:lnTo>
                  <a:lnTo>
                    <a:pt x="1374" y="1424"/>
                  </a:lnTo>
                  <a:lnTo>
                    <a:pt x="1376" y="1414"/>
                  </a:lnTo>
                  <a:lnTo>
                    <a:pt x="1380" y="1407"/>
                  </a:lnTo>
                  <a:lnTo>
                    <a:pt x="1384" y="1399"/>
                  </a:lnTo>
                  <a:lnTo>
                    <a:pt x="1388" y="1392"/>
                  </a:lnTo>
                  <a:lnTo>
                    <a:pt x="1392" y="1382"/>
                  </a:lnTo>
                  <a:lnTo>
                    <a:pt x="1393" y="1375"/>
                  </a:lnTo>
                  <a:lnTo>
                    <a:pt x="1399" y="1367"/>
                  </a:lnTo>
                  <a:lnTo>
                    <a:pt x="1403" y="1361"/>
                  </a:lnTo>
                  <a:lnTo>
                    <a:pt x="1407" y="1354"/>
                  </a:lnTo>
                  <a:lnTo>
                    <a:pt x="1412" y="1346"/>
                  </a:lnTo>
                  <a:lnTo>
                    <a:pt x="1416" y="1340"/>
                  </a:lnTo>
                  <a:lnTo>
                    <a:pt x="1422" y="1335"/>
                  </a:lnTo>
                  <a:lnTo>
                    <a:pt x="1428" y="1327"/>
                  </a:lnTo>
                  <a:lnTo>
                    <a:pt x="1431" y="1321"/>
                  </a:lnTo>
                  <a:lnTo>
                    <a:pt x="1439" y="1316"/>
                  </a:lnTo>
                  <a:lnTo>
                    <a:pt x="1445" y="1312"/>
                  </a:lnTo>
                  <a:lnTo>
                    <a:pt x="1450" y="1308"/>
                  </a:lnTo>
                  <a:lnTo>
                    <a:pt x="1458" y="1302"/>
                  </a:lnTo>
                  <a:lnTo>
                    <a:pt x="1466" y="1300"/>
                  </a:lnTo>
                  <a:lnTo>
                    <a:pt x="1473" y="1297"/>
                  </a:lnTo>
                  <a:lnTo>
                    <a:pt x="1481" y="1293"/>
                  </a:lnTo>
                  <a:lnTo>
                    <a:pt x="1488" y="1289"/>
                  </a:lnTo>
                  <a:lnTo>
                    <a:pt x="1496" y="1285"/>
                  </a:lnTo>
                  <a:lnTo>
                    <a:pt x="1506" y="1285"/>
                  </a:lnTo>
                  <a:lnTo>
                    <a:pt x="1513" y="1281"/>
                  </a:lnTo>
                  <a:lnTo>
                    <a:pt x="1523" y="1281"/>
                  </a:lnTo>
                  <a:lnTo>
                    <a:pt x="1532" y="1279"/>
                  </a:lnTo>
                  <a:lnTo>
                    <a:pt x="1544" y="1279"/>
                  </a:lnTo>
                  <a:lnTo>
                    <a:pt x="1553" y="1279"/>
                  </a:lnTo>
                  <a:lnTo>
                    <a:pt x="1565" y="1279"/>
                  </a:lnTo>
                  <a:lnTo>
                    <a:pt x="1576" y="1279"/>
                  </a:lnTo>
                  <a:lnTo>
                    <a:pt x="1587" y="1281"/>
                  </a:lnTo>
                  <a:lnTo>
                    <a:pt x="1599" y="1281"/>
                  </a:lnTo>
                  <a:lnTo>
                    <a:pt x="1612" y="1283"/>
                  </a:lnTo>
                  <a:lnTo>
                    <a:pt x="1625" y="1287"/>
                  </a:lnTo>
                  <a:lnTo>
                    <a:pt x="1639" y="1291"/>
                  </a:lnTo>
                  <a:lnTo>
                    <a:pt x="1644" y="1289"/>
                  </a:lnTo>
                  <a:lnTo>
                    <a:pt x="1652" y="1289"/>
                  </a:lnTo>
                  <a:lnTo>
                    <a:pt x="1660" y="1287"/>
                  </a:lnTo>
                  <a:lnTo>
                    <a:pt x="1667" y="1287"/>
                  </a:lnTo>
                  <a:lnTo>
                    <a:pt x="1675" y="1285"/>
                  </a:lnTo>
                  <a:lnTo>
                    <a:pt x="1681" y="1285"/>
                  </a:lnTo>
                  <a:lnTo>
                    <a:pt x="1688" y="1285"/>
                  </a:lnTo>
                  <a:lnTo>
                    <a:pt x="1696" y="1285"/>
                  </a:lnTo>
                  <a:lnTo>
                    <a:pt x="1703" y="1283"/>
                  </a:lnTo>
                  <a:lnTo>
                    <a:pt x="1709" y="1283"/>
                  </a:lnTo>
                  <a:lnTo>
                    <a:pt x="1717" y="1283"/>
                  </a:lnTo>
                  <a:lnTo>
                    <a:pt x="1724" y="1283"/>
                  </a:lnTo>
                  <a:lnTo>
                    <a:pt x="1732" y="1283"/>
                  </a:lnTo>
                  <a:lnTo>
                    <a:pt x="1739" y="1283"/>
                  </a:lnTo>
                  <a:lnTo>
                    <a:pt x="1747" y="1283"/>
                  </a:lnTo>
                  <a:lnTo>
                    <a:pt x="1755" y="1283"/>
                  </a:lnTo>
                  <a:lnTo>
                    <a:pt x="1760" y="1283"/>
                  </a:lnTo>
                  <a:lnTo>
                    <a:pt x="1768" y="1283"/>
                  </a:lnTo>
                  <a:lnTo>
                    <a:pt x="1774" y="1283"/>
                  </a:lnTo>
                  <a:lnTo>
                    <a:pt x="1781" y="1283"/>
                  </a:lnTo>
                  <a:lnTo>
                    <a:pt x="1789" y="1281"/>
                  </a:lnTo>
                  <a:lnTo>
                    <a:pt x="1796" y="1281"/>
                  </a:lnTo>
                  <a:lnTo>
                    <a:pt x="1802" y="1281"/>
                  </a:lnTo>
                  <a:lnTo>
                    <a:pt x="1810" y="1281"/>
                  </a:lnTo>
                  <a:lnTo>
                    <a:pt x="1817" y="1281"/>
                  </a:lnTo>
                  <a:lnTo>
                    <a:pt x="1825" y="1281"/>
                  </a:lnTo>
                  <a:lnTo>
                    <a:pt x="1831" y="1281"/>
                  </a:lnTo>
                  <a:lnTo>
                    <a:pt x="1838" y="1281"/>
                  </a:lnTo>
                  <a:lnTo>
                    <a:pt x="1844" y="1281"/>
                  </a:lnTo>
                  <a:lnTo>
                    <a:pt x="1852" y="1281"/>
                  </a:lnTo>
                  <a:lnTo>
                    <a:pt x="1859" y="1281"/>
                  </a:lnTo>
                  <a:lnTo>
                    <a:pt x="1867" y="1281"/>
                  </a:lnTo>
                  <a:lnTo>
                    <a:pt x="1873" y="1279"/>
                  </a:lnTo>
                  <a:lnTo>
                    <a:pt x="1880" y="1279"/>
                  </a:lnTo>
                  <a:lnTo>
                    <a:pt x="1886" y="1278"/>
                  </a:lnTo>
                  <a:lnTo>
                    <a:pt x="1893" y="1278"/>
                  </a:lnTo>
                  <a:lnTo>
                    <a:pt x="1899" y="1276"/>
                  </a:lnTo>
                  <a:lnTo>
                    <a:pt x="1907" y="1276"/>
                  </a:lnTo>
                  <a:lnTo>
                    <a:pt x="1912" y="1276"/>
                  </a:lnTo>
                  <a:lnTo>
                    <a:pt x="1920" y="1276"/>
                  </a:lnTo>
                  <a:lnTo>
                    <a:pt x="1928" y="1274"/>
                  </a:lnTo>
                  <a:lnTo>
                    <a:pt x="1935" y="1274"/>
                  </a:lnTo>
                  <a:lnTo>
                    <a:pt x="1941" y="1272"/>
                  </a:lnTo>
                  <a:lnTo>
                    <a:pt x="1949" y="1272"/>
                  </a:lnTo>
                  <a:lnTo>
                    <a:pt x="1954" y="1270"/>
                  </a:lnTo>
                  <a:lnTo>
                    <a:pt x="1962" y="1270"/>
                  </a:lnTo>
                  <a:lnTo>
                    <a:pt x="1968" y="1268"/>
                  </a:lnTo>
                  <a:lnTo>
                    <a:pt x="1975" y="1268"/>
                  </a:lnTo>
                  <a:lnTo>
                    <a:pt x="1983" y="1266"/>
                  </a:lnTo>
                  <a:lnTo>
                    <a:pt x="1988" y="1264"/>
                  </a:lnTo>
                  <a:lnTo>
                    <a:pt x="1994" y="1262"/>
                  </a:lnTo>
                  <a:lnTo>
                    <a:pt x="2002" y="1260"/>
                  </a:lnTo>
                  <a:lnTo>
                    <a:pt x="2008" y="1259"/>
                  </a:lnTo>
                  <a:lnTo>
                    <a:pt x="2015" y="1257"/>
                  </a:lnTo>
                  <a:lnTo>
                    <a:pt x="2021" y="1255"/>
                  </a:lnTo>
                  <a:lnTo>
                    <a:pt x="2028" y="1253"/>
                  </a:lnTo>
                  <a:lnTo>
                    <a:pt x="2036" y="1251"/>
                  </a:lnTo>
                  <a:lnTo>
                    <a:pt x="2042" y="1247"/>
                  </a:lnTo>
                  <a:lnTo>
                    <a:pt x="2047" y="1245"/>
                  </a:lnTo>
                  <a:lnTo>
                    <a:pt x="2055" y="1243"/>
                  </a:lnTo>
                  <a:lnTo>
                    <a:pt x="2061" y="1241"/>
                  </a:lnTo>
                  <a:lnTo>
                    <a:pt x="2068" y="1238"/>
                  </a:lnTo>
                  <a:lnTo>
                    <a:pt x="2074" y="1236"/>
                  </a:lnTo>
                  <a:lnTo>
                    <a:pt x="2082" y="1234"/>
                  </a:lnTo>
                  <a:lnTo>
                    <a:pt x="2085" y="1240"/>
                  </a:lnTo>
                  <a:lnTo>
                    <a:pt x="2089" y="1249"/>
                  </a:lnTo>
                  <a:lnTo>
                    <a:pt x="2091" y="1257"/>
                  </a:lnTo>
                  <a:lnTo>
                    <a:pt x="2095" y="1268"/>
                  </a:lnTo>
                  <a:lnTo>
                    <a:pt x="2095" y="1278"/>
                  </a:lnTo>
                  <a:lnTo>
                    <a:pt x="2095" y="1289"/>
                  </a:lnTo>
                  <a:lnTo>
                    <a:pt x="2095" y="1297"/>
                  </a:lnTo>
                  <a:lnTo>
                    <a:pt x="2095" y="1302"/>
                  </a:lnTo>
                  <a:lnTo>
                    <a:pt x="2093" y="1308"/>
                  </a:lnTo>
                  <a:lnTo>
                    <a:pt x="2093" y="1316"/>
                  </a:lnTo>
                  <a:lnTo>
                    <a:pt x="2091" y="1321"/>
                  </a:lnTo>
                  <a:lnTo>
                    <a:pt x="2091" y="1327"/>
                  </a:lnTo>
                  <a:lnTo>
                    <a:pt x="2087" y="1335"/>
                  </a:lnTo>
                  <a:lnTo>
                    <a:pt x="2087" y="1340"/>
                  </a:lnTo>
                  <a:lnTo>
                    <a:pt x="2085" y="1346"/>
                  </a:lnTo>
                  <a:lnTo>
                    <a:pt x="2084" y="1354"/>
                  </a:lnTo>
                  <a:lnTo>
                    <a:pt x="2082" y="1361"/>
                  </a:lnTo>
                  <a:lnTo>
                    <a:pt x="2080" y="1369"/>
                  </a:lnTo>
                  <a:lnTo>
                    <a:pt x="2076" y="1375"/>
                  </a:lnTo>
                  <a:lnTo>
                    <a:pt x="2074" y="1382"/>
                  </a:lnTo>
                  <a:lnTo>
                    <a:pt x="2070" y="1390"/>
                  </a:lnTo>
                  <a:lnTo>
                    <a:pt x="2068" y="1397"/>
                  </a:lnTo>
                  <a:lnTo>
                    <a:pt x="2066" y="1405"/>
                  </a:lnTo>
                  <a:lnTo>
                    <a:pt x="2063" y="1413"/>
                  </a:lnTo>
                  <a:lnTo>
                    <a:pt x="2059" y="1420"/>
                  </a:lnTo>
                  <a:lnTo>
                    <a:pt x="2057" y="1428"/>
                  </a:lnTo>
                  <a:lnTo>
                    <a:pt x="2053" y="1435"/>
                  </a:lnTo>
                  <a:lnTo>
                    <a:pt x="2049" y="1443"/>
                  </a:lnTo>
                  <a:lnTo>
                    <a:pt x="2047" y="1449"/>
                  </a:lnTo>
                  <a:lnTo>
                    <a:pt x="2044" y="1458"/>
                  </a:lnTo>
                  <a:lnTo>
                    <a:pt x="2040" y="1464"/>
                  </a:lnTo>
                  <a:lnTo>
                    <a:pt x="2036" y="1473"/>
                  </a:lnTo>
                  <a:lnTo>
                    <a:pt x="2032" y="1479"/>
                  </a:lnTo>
                  <a:lnTo>
                    <a:pt x="2028" y="1487"/>
                  </a:lnTo>
                  <a:lnTo>
                    <a:pt x="2025" y="1494"/>
                  </a:lnTo>
                  <a:lnTo>
                    <a:pt x="2021" y="1502"/>
                  </a:lnTo>
                  <a:lnTo>
                    <a:pt x="2017" y="1509"/>
                  </a:lnTo>
                  <a:lnTo>
                    <a:pt x="2013" y="1517"/>
                  </a:lnTo>
                  <a:lnTo>
                    <a:pt x="2009" y="1523"/>
                  </a:lnTo>
                  <a:lnTo>
                    <a:pt x="2004" y="1530"/>
                  </a:lnTo>
                  <a:lnTo>
                    <a:pt x="2000" y="1538"/>
                  </a:lnTo>
                  <a:lnTo>
                    <a:pt x="1996" y="1546"/>
                  </a:lnTo>
                  <a:lnTo>
                    <a:pt x="1992" y="1551"/>
                  </a:lnTo>
                  <a:lnTo>
                    <a:pt x="1988" y="1557"/>
                  </a:lnTo>
                  <a:lnTo>
                    <a:pt x="1985" y="1565"/>
                  </a:lnTo>
                  <a:lnTo>
                    <a:pt x="1981" y="1570"/>
                  </a:lnTo>
                  <a:lnTo>
                    <a:pt x="1977" y="1576"/>
                  </a:lnTo>
                  <a:lnTo>
                    <a:pt x="1973" y="1584"/>
                  </a:lnTo>
                  <a:lnTo>
                    <a:pt x="1968" y="1589"/>
                  </a:lnTo>
                  <a:lnTo>
                    <a:pt x="1966" y="1595"/>
                  </a:lnTo>
                  <a:lnTo>
                    <a:pt x="1958" y="1606"/>
                  </a:lnTo>
                  <a:lnTo>
                    <a:pt x="1950" y="1618"/>
                  </a:lnTo>
                  <a:lnTo>
                    <a:pt x="1945" y="1627"/>
                  </a:lnTo>
                  <a:lnTo>
                    <a:pt x="1937" y="1637"/>
                  </a:lnTo>
                  <a:lnTo>
                    <a:pt x="2135" y="1688"/>
                  </a:lnTo>
                  <a:lnTo>
                    <a:pt x="2139" y="1681"/>
                  </a:lnTo>
                  <a:lnTo>
                    <a:pt x="2144" y="1673"/>
                  </a:lnTo>
                  <a:lnTo>
                    <a:pt x="2150" y="1665"/>
                  </a:lnTo>
                  <a:lnTo>
                    <a:pt x="2156" y="1658"/>
                  </a:lnTo>
                  <a:lnTo>
                    <a:pt x="2161" y="1648"/>
                  </a:lnTo>
                  <a:lnTo>
                    <a:pt x="2167" y="1641"/>
                  </a:lnTo>
                  <a:lnTo>
                    <a:pt x="2175" y="1633"/>
                  </a:lnTo>
                  <a:lnTo>
                    <a:pt x="2181" y="1625"/>
                  </a:lnTo>
                  <a:lnTo>
                    <a:pt x="2188" y="1616"/>
                  </a:lnTo>
                  <a:lnTo>
                    <a:pt x="2194" y="1608"/>
                  </a:lnTo>
                  <a:lnTo>
                    <a:pt x="2201" y="1599"/>
                  </a:lnTo>
                  <a:lnTo>
                    <a:pt x="2209" y="1591"/>
                  </a:lnTo>
                  <a:lnTo>
                    <a:pt x="2215" y="1584"/>
                  </a:lnTo>
                  <a:lnTo>
                    <a:pt x="2222" y="1574"/>
                  </a:lnTo>
                  <a:lnTo>
                    <a:pt x="2230" y="1567"/>
                  </a:lnTo>
                  <a:lnTo>
                    <a:pt x="2239" y="1559"/>
                  </a:lnTo>
                  <a:lnTo>
                    <a:pt x="2245" y="1549"/>
                  </a:lnTo>
                  <a:lnTo>
                    <a:pt x="2253" y="1542"/>
                  </a:lnTo>
                  <a:lnTo>
                    <a:pt x="2260" y="1532"/>
                  </a:lnTo>
                  <a:lnTo>
                    <a:pt x="2268" y="1525"/>
                  </a:lnTo>
                  <a:lnTo>
                    <a:pt x="2274" y="1517"/>
                  </a:lnTo>
                  <a:lnTo>
                    <a:pt x="2281" y="1509"/>
                  </a:lnTo>
                  <a:lnTo>
                    <a:pt x="2289" y="1500"/>
                  </a:lnTo>
                  <a:lnTo>
                    <a:pt x="2296" y="1492"/>
                  </a:lnTo>
                  <a:lnTo>
                    <a:pt x="2302" y="1485"/>
                  </a:lnTo>
                  <a:lnTo>
                    <a:pt x="2308" y="1477"/>
                  </a:lnTo>
                  <a:lnTo>
                    <a:pt x="2315" y="1468"/>
                  </a:lnTo>
                  <a:lnTo>
                    <a:pt x="2323" y="1462"/>
                  </a:lnTo>
                  <a:lnTo>
                    <a:pt x="2327" y="1454"/>
                  </a:lnTo>
                  <a:lnTo>
                    <a:pt x="2335" y="1447"/>
                  </a:lnTo>
                  <a:lnTo>
                    <a:pt x="2340" y="1439"/>
                  </a:lnTo>
                  <a:lnTo>
                    <a:pt x="2346" y="1433"/>
                  </a:lnTo>
                  <a:lnTo>
                    <a:pt x="2346" y="1430"/>
                  </a:lnTo>
                  <a:lnTo>
                    <a:pt x="2348" y="1428"/>
                  </a:lnTo>
                  <a:lnTo>
                    <a:pt x="2352" y="1422"/>
                  </a:lnTo>
                  <a:lnTo>
                    <a:pt x="2355" y="1418"/>
                  </a:lnTo>
                  <a:lnTo>
                    <a:pt x="2361" y="1413"/>
                  </a:lnTo>
                  <a:lnTo>
                    <a:pt x="2367" y="1411"/>
                  </a:lnTo>
                  <a:lnTo>
                    <a:pt x="2373" y="1411"/>
                  </a:lnTo>
                  <a:lnTo>
                    <a:pt x="2380" y="1414"/>
                  </a:lnTo>
                  <a:lnTo>
                    <a:pt x="2390" y="1420"/>
                  </a:lnTo>
                  <a:lnTo>
                    <a:pt x="2397" y="1426"/>
                  </a:lnTo>
                  <a:lnTo>
                    <a:pt x="2405" y="1430"/>
                  </a:lnTo>
                  <a:lnTo>
                    <a:pt x="2412" y="1433"/>
                  </a:lnTo>
                  <a:lnTo>
                    <a:pt x="2418" y="1435"/>
                  </a:lnTo>
                  <a:lnTo>
                    <a:pt x="2426" y="1437"/>
                  </a:lnTo>
                  <a:lnTo>
                    <a:pt x="2430" y="1439"/>
                  </a:lnTo>
                  <a:lnTo>
                    <a:pt x="2437" y="1439"/>
                  </a:lnTo>
                  <a:lnTo>
                    <a:pt x="2447" y="1437"/>
                  </a:lnTo>
                  <a:lnTo>
                    <a:pt x="2456" y="1432"/>
                  </a:lnTo>
                  <a:lnTo>
                    <a:pt x="2460" y="1426"/>
                  </a:lnTo>
                  <a:lnTo>
                    <a:pt x="2466" y="1422"/>
                  </a:lnTo>
                  <a:lnTo>
                    <a:pt x="2471" y="1416"/>
                  </a:lnTo>
                  <a:lnTo>
                    <a:pt x="2477" y="1409"/>
                  </a:lnTo>
                  <a:lnTo>
                    <a:pt x="2483" y="1409"/>
                  </a:lnTo>
                  <a:lnTo>
                    <a:pt x="2490" y="1411"/>
                  </a:lnTo>
                  <a:lnTo>
                    <a:pt x="2496" y="1413"/>
                  </a:lnTo>
                  <a:lnTo>
                    <a:pt x="2502" y="1416"/>
                  </a:lnTo>
                  <a:lnTo>
                    <a:pt x="2508" y="1416"/>
                  </a:lnTo>
                  <a:lnTo>
                    <a:pt x="2513" y="1420"/>
                  </a:lnTo>
                  <a:lnTo>
                    <a:pt x="2519" y="1422"/>
                  </a:lnTo>
                  <a:lnTo>
                    <a:pt x="2525" y="1426"/>
                  </a:lnTo>
                  <a:lnTo>
                    <a:pt x="2532" y="1433"/>
                  </a:lnTo>
                  <a:lnTo>
                    <a:pt x="2542" y="1439"/>
                  </a:lnTo>
                  <a:lnTo>
                    <a:pt x="2549" y="1449"/>
                  </a:lnTo>
                  <a:lnTo>
                    <a:pt x="2557" y="1458"/>
                  </a:lnTo>
                  <a:lnTo>
                    <a:pt x="2563" y="1466"/>
                  </a:lnTo>
                  <a:lnTo>
                    <a:pt x="2568" y="1477"/>
                  </a:lnTo>
                  <a:lnTo>
                    <a:pt x="2570" y="1481"/>
                  </a:lnTo>
                  <a:lnTo>
                    <a:pt x="2572" y="1487"/>
                  </a:lnTo>
                  <a:lnTo>
                    <a:pt x="2574" y="1492"/>
                  </a:lnTo>
                  <a:lnTo>
                    <a:pt x="2578" y="1500"/>
                  </a:lnTo>
                  <a:lnTo>
                    <a:pt x="2578" y="1504"/>
                  </a:lnTo>
                  <a:lnTo>
                    <a:pt x="2580" y="1509"/>
                  </a:lnTo>
                  <a:lnTo>
                    <a:pt x="2580" y="1517"/>
                  </a:lnTo>
                  <a:lnTo>
                    <a:pt x="2584" y="1523"/>
                  </a:lnTo>
                  <a:lnTo>
                    <a:pt x="2584" y="1528"/>
                  </a:lnTo>
                  <a:lnTo>
                    <a:pt x="2585" y="1536"/>
                  </a:lnTo>
                  <a:lnTo>
                    <a:pt x="2585" y="1542"/>
                  </a:lnTo>
                  <a:lnTo>
                    <a:pt x="2587" y="1549"/>
                  </a:lnTo>
                  <a:lnTo>
                    <a:pt x="2587" y="1555"/>
                  </a:lnTo>
                  <a:lnTo>
                    <a:pt x="2587" y="1563"/>
                  </a:lnTo>
                  <a:lnTo>
                    <a:pt x="2587" y="1568"/>
                  </a:lnTo>
                  <a:lnTo>
                    <a:pt x="2587" y="1574"/>
                  </a:lnTo>
                  <a:lnTo>
                    <a:pt x="2585" y="1582"/>
                  </a:lnTo>
                  <a:lnTo>
                    <a:pt x="2585" y="1589"/>
                  </a:lnTo>
                  <a:lnTo>
                    <a:pt x="2585" y="1595"/>
                  </a:lnTo>
                  <a:lnTo>
                    <a:pt x="2585" y="1603"/>
                  </a:lnTo>
                  <a:lnTo>
                    <a:pt x="2585" y="1608"/>
                  </a:lnTo>
                  <a:lnTo>
                    <a:pt x="2584" y="1616"/>
                  </a:lnTo>
                  <a:lnTo>
                    <a:pt x="2584" y="1622"/>
                  </a:lnTo>
                  <a:lnTo>
                    <a:pt x="2584" y="1629"/>
                  </a:lnTo>
                  <a:lnTo>
                    <a:pt x="2580" y="1637"/>
                  </a:lnTo>
                  <a:lnTo>
                    <a:pt x="2580" y="1644"/>
                  </a:lnTo>
                  <a:lnTo>
                    <a:pt x="2578" y="1650"/>
                  </a:lnTo>
                  <a:lnTo>
                    <a:pt x="2578" y="1658"/>
                  </a:lnTo>
                  <a:lnTo>
                    <a:pt x="2576" y="1665"/>
                  </a:lnTo>
                  <a:lnTo>
                    <a:pt x="2576" y="1671"/>
                  </a:lnTo>
                  <a:lnTo>
                    <a:pt x="2574" y="1677"/>
                  </a:lnTo>
                  <a:lnTo>
                    <a:pt x="2572" y="1684"/>
                  </a:lnTo>
                  <a:lnTo>
                    <a:pt x="2570" y="1692"/>
                  </a:lnTo>
                  <a:lnTo>
                    <a:pt x="2568" y="1698"/>
                  </a:lnTo>
                  <a:lnTo>
                    <a:pt x="2566" y="1703"/>
                  </a:lnTo>
                  <a:lnTo>
                    <a:pt x="2566" y="1711"/>
                  </a:lnTo>
                  <a:lnTo>
                    <a:pt x="2565" y="1717"/>
                  </a:lnTo>
                  <a:lnTo>
                    <a:pt x="2561" y="1722"/>
                  </a:lnTo>
                  <a:lnTo>
                    <a:pt x="2559" y="1730"/>
                  </a:lnTo>
                  <a:lnTo>
                    <a:pt x="2559" y="1736"/>
                  </a:lnTo>
                  <a:lnTo>
                    <a:pt x="2557" y="1741"/>
                  </a:lnTo>
                  <a:lnTo>
                    <a:pt x="2555" y="1747"/>
                  </a:lnTo>
                  <a:lnTo>
                    <a:pt x="2551" y="1753"/>
                  </a:lnTo>
                  <a:lnTo>
                    <a:pt x="2551" y="1760"/>
                  </a:lnTo>
                  <a:lnTo>
                    <a:pt x="2753" y="1770"/>
                  </a:lnTo>
                  <a:lnTo>
                    <a:pt x="2753" y="1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868600" y="1011240"/>
              <a:ext cx="7308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524080" y="1003320"/>
              <a:ext cx="27612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321040" y="1068120"/>
              <a:ext cx="20520" cy="288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8753400" y="1076040"/>
              <a:ext cx="115920" cy="3204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389080" y="1079280"/>
              <a:ext cx="12564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676920" y="1095120"/>
              <a:ext cx="331920" cy="71640"/>
            </a:xfrm>
            <a:custGeom>
              <a:avLst/>
              <a:gdLst/>
              <a:ahLst/>
              <a:rect l="l" t="t" r="r" b="b"/>
              <a:pathLst>
                <a:path w="418" h="89">
                  <a:moveTo>
                    <a:pt x="8" y="1"/>
                  </a:moveTo>
                  <a:lnTo>
                    <a:pt x="15" y="1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2" y="1"/>
                  </a:lnTo>
                  <a:lnTo>
                    <a:pt x="160" y="1"/>
                  </a:lnTo>
                  <a:lnTo>
                    <a:pt x="165" y="3"/>
                  </a:lnTo>
                  <a:lnTo>
                    <a:pt x="173" y="5"/>
                  </a:lnTo>
                  <a:lnTo>
                    <a:pt x="179" y="5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5" y="9"/>
                  </a:lnTo>
                  <a:lnTo>
                    <a:pt x="211" y="11"/>
                  </a:lnTo>
                  <a:lnTo>
                    <a:pt x="219" y="13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8" y="17"/>
                  </a:lnTo>
                  <a:lnTo>
                    <a:pt x="243" y="17"/>
                  </a:lnTo>
                  <a:lnTo>
                    <a:pt x="249" y="19"/>
                  </a:lnTo>
                  <a:lnTo>
                    <a:pt x="257" y="20"/>
                  </a:lnTo>
                  <a:lnTo>
                    <a:pt x="262" y="22"/>
                  </a:lnTo>
                  <a:lnTo>
                    <a:pt x="268" y="24"/>
                  </a:lnTo>
                  <a:lnTo>
                    <a:pt x="276" y="26"/>
                  </a:lnTo>
                  <a:lnTo>
                    <a:pt x="280" y="28"/>
                  </a:lnTo>
                  <a:lnTo>
                    <a:pt x="287" y="30"/>
                  </a:lnTo>
                  <a:lnTo>
                    <a:pt x="293" y="30"/>
                  </a:lnTo>
                  <a:lnTo>
                    <a:pt x="299" y="34"/>
                  </a:lnTo>
                  <a:lnTo>
                    <a:pt x="304" y="36"/>
                  </a:lnTo>
                  <a:lnTo>
                    <a:pt x="312" y="38"/>
                  </a:lnTo>
                  <a:lnTo>
                    <a:pt x="318" y="39"/>
                  </a:lnTo>
                  <a:lnTo>
                    <a:pt x="323" y="43"/>
                  </a:lnTo>
                  <a:lnTo>
                    <a:pt x="329" y="45"/>
                  </a:lnTo>
                  <a:lnTo>
                    <a:pt x="335" y="47"/>
                  </a:lnTo>
                  <a:lnTo>
                    <a:pt x="340" y="49"/>
                  </a:lnTo>
                  <a:lnTo>
                    <a:pt x="348" y="53"/>
                  </a:lnTo>
                  <a:lnTo>
                    <a:pt x="352" y="55"/>
                  </a:lnTo>
                  <a:lnTo>
                    <a:pt x="359" y="57"/>
                  </a:lnTo>
                  <a:lnTo>
                    <a:pt x="365" y="60"/>
                  </a:lnTo>
                  <a:lnTo>
                    <a:pt x="371" y="64"/>
                  </a:lnTo>
                  <a:lnTo>
                    <a:pt x="376" y="66"/>
                  </a:lnTo>
                  <a:lnTo>
                    <a:pt x="382" y="70"/>
                  </a:lnTo>
                  <a:lnTo>
                    <a:pt x="388" y="72"/>
                  </a:lnTo>
                  <a:lnTo>
                    <a:pt x="395" y="76"/>
                  </a:lnTo>
                  <a:lnTo>
                    <a:pt x="399" y="79"/>
                  </a:lnTo>
                  <a:lnTo>
                    <a:pt x="407" y="81"/>
                  </a:lnTo>
                  <a:lnTo>
                    <a:pt x="413" y="85"/>
                  </a:lnTo>
                  <a:lnTo>
                    <a:pt x="418" y="89"/>
                  </a:lnTo>
                  <a:lnTo>
                    <a:pt x="413" y="85"/>
                  </a:lnTo>
                  <a:lnTo>
                    <a:pt x="407" y="83"/>
                  </a:lnTo>
                  <a:lnTo>
                    <a:pt x="399" y="81"/>
                  </a:lnTo>
                  <a:lnTo>
                    <a:pt x="394" y="79"/>
                  </a:lnTo>
                  <a:lnTo>
                    <a:pt x="388" y="77"/>
                  </a:lnTo>
                  <a:lnTo>
                    <a:pt x="380" y="76"/>
                  </a:lnTo>
                  <a:lnTo>
                    <a:pt x="375" y="74"/>
                  </a:lnTo>
                  <a:lnTo>
                    <a:pt x="369" y="72"/>
                  </a:lnTo>
                  <a:lnTo>
                    <a:pt x="363" y="70"/>
                  </a:lnTo>
                  <a:lnTo>
                    <a:pt x="357" y="70"/>
                  </a:lnTo>
                  <a:lnTo>
                    <a:pt x="350" y="66"/>
                  </a:lnTo>
                  <a:lnTo>
                    <a:pt x="344" y="66"/>
                  </a:lnTo>
                  <a:lnTo>
                    <a:pt x="338" y="64"/>
                  </a:lnTo>
                  <a:lnTo>
                    <a:pt x="331" y="62"/>
                  </a:lnTo>
                  <a:lnTo>
                    <a:pt x="325" y="60"/>
                  </a:lnTo>
                  <a:lnTo>
                    <a:pt x="319" y="60"/>
                  </a:lnTo>
                  <a:lnTo>
                    <a:pt x="314" y="57"/>
                  </a:lnTo>
                  <a:lnTo>
                    <a:pt x="306" y="57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7" y="51"/>
                  </a:lnTo>
                  <a:lnTo>
                    <a:pt x="281" y="49"/>
                  </a:lnTo>
                  <a:lnTo>
                    <a:pt x="276" y="47"/>
                  </a:lnTo>
                  <a:lnTo>
                    <a:pt x="268" y="47"/>
                  </a:lnTo>
                  <a:lnTo>
                    <a:pt x="262" y="45"/>
                  </a:lnTo>
                  <a:lnTo>
                    <a:pt x="257" y="43"/>
                  </a:lnTo>
                  <a:lnTo>
                    <a:pt x="249" y="43"/>
                  </a:lnTo>
                  <a:lnTo>
                    <a:pt x="243" y="41"/>
                  </a:lnTo>
                  <a:lnTo>
                    <a:pt x="238" y="39"/>
                  </a:lnTo>
                  <a:lnTo>
                    <a:pt x="230" y="39"/>
                  </a:lnTo>
                  <a:lnTo>
                    <a:pt x="224" y="38"/>
                  </a:lnTo>
                  <a:lnTo>
                    <a:pt x="219" y="38"/>
                  </a:lnTo>
                  <a:lnTo>
                    <a:pt x="211" y="36"/>
                  </a:lnTo>
                  <a:lnTo>
                    <a:pt x="203" y="34"/>
                  </a:lnTo>
                  <a:lnTo>
                    <a:pt x="196" y="34"/>
                  </a:lnTo>
                  <a:lnTo>
                    <a:pt x="190" y="32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9" y="28"/>
                  </a:lnTo>
                  <a:lnTo>
                    <a:pt x="164" y="28"/>
                  </a:lnTo>
                  <a:lnTo>
                    <a:pt x="156" y="26"/>
                  </a:lnTo>
                  <a:lnTo>
                    <a:pt x="150" y="26"/>
                  </a:lnTo>
                  <a:lnTo>
                    <a:pt x="145" y="24"/>
                  </a:lnTo>
                  <a:lnTo>
                    <a:pt x="137" y="24"/>
                  </a:lnTo>
                  <a:lnTo>
                    <a:pt x="129" y="22"/>
                  </a:lnTo>
                  <a:lnTo>
                    <a:pt x="124" y="20"/>
                  </a:lnTo>
                  <a:lnTo>
                    <a:pt x="118" y="20"/>
                  </a:lnTo>
                  <a:lnTo>
                    <a:pt x="110" y="20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89" y="17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68" y="15"/>
                  </a:lnTo>
                  <a:lnTo>
                    <a:pt x="63" y="15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8669160" y="1127160"/>
              <a:ext cx="113040" cy="11556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432560" y="1114200"/>
              <a:ext cx="84240" cy="1908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33" y="4"/>
                  </a:moveTo>
                  <a:lnTo>
                    <a:pt x="34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7" y="12"/>
                  </a:lnTo>
                  <a:lnTo>
                    <a:pt x="107" y="17"/>
                  </a:lnTo>
                  <a:lnTo>
                    <a:pt x="107" y="25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6" y="25"/>
                  </a:lnTo>
                  <a:lnTo>
                    <a:pt x="80" y="25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9" y="25"/>
                  </a:lnTo>
                  <a:lnTo>
                    <a:pt x="54" y="25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8"/>
                  </a:lnTo>
                  <a:lnTo>
                    <a:pt x="33" y="4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845560" y="1144440"/>
              <a:ext cx="7776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349400" y="1172880"/>
              <a:ext cx="979560" cy="120960"/>
            </a:xfrm>
            <a:custGeom>
              <a:avLst/>
              <a:gdLst/>
              <a:ahLst/>
              <a:rect l="l" t="t" r="r" b="b"/>
              <a:pathLst>
                <a:path w="1233" h="153">
                  <a:moveTo>
                    <a:pt x="437" y="0"/>
                  </a:moveTo>
                  <a:lnTo>
                    <a:pt x="448" y="2"/>
                  </a:lnTo>
                  <a:lnTo>
                    <a:pt x="460" y="4"/>
                  </a:lnTo>
                  <a:lnTo>
                    <a:pt x="471" y="4"/>
                  </a:lnTo>
                  <a:lnTo>
                    <a:pt x="482" y="6"/>
                  </a:lnTo>
                  <a:lnTo>
                    <a:pt x="494" y="8"/>
                  </a:lnTo>
                  <a:lnTo>
                    <a:pt x="505" y="10"/>
                  </a:lnTo>
                  <a:lnTo>
                    <a:pt x="517" y="12"/>
                  </a:lnTo>
                  <a:lnTo>
                    <a:pt x="530" y="14"/>
                  </a:lnTo>
                  <a:lnTo>
                    <a:pt x="541" y="14"/>
                  </a:lnTo>
                  <a:lnTo>
                    <a:pt x="553" y="16"/>
                  </a:lnTo>
                  <a:lnTo>
                    <a:pt x="564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21"/>
                  </a:lnTo>
                  <a:lnTo>
                    <a:pt x="612" y="23"/>
                  </a:lnTo>
                  <a:lnTo>
                    <a:pt x="625" y="25"/>
                  </a:lnTo>
                  <a:lnTo>
                    <a:pt x="636" y="25"/>
                  </a:lnTo>
                  <a:lnTo>
                    <a:pt x="648" y="25"/>
                  </a:lnTo>
                  <a:lnTo>
                    <a:pt x="659" y="27"/>
                  </a:lnTo>
                  <a:lnTo>
                    <a:pt x="673" y="27"/>
                  </a:lnTo>
                  <a:lnTo>
                    <a:pt x="684" y="27"/>
                  </a:lnTo>
                  <a:lnTo>
                    <a:pt x="697" y="29"/>
                  </a:lnTo>
                  <a:lnTo>
                    <a:pt x="709" y="31"/>
                  </a:lnTo>
                  <a:lnTo>
                    <a:pt x="722" y="31"/>
                  </a:lnTo>
                  <a:lnTo>
                    <a:pt x="733" y="31"/>
                  </a:lnTo>
                  <a:lnTo>
                    <a:pt x="747" y="33"/>
                  </a:lnTo>
                  <a:lnTo>
                    <a:pt x="758" y="33"/>
                  </a:lnTo>
                  <a:lnTo>
                    <a:pt x="771" y="33"/>
                  </a:lnTo>
                  <a:lnTo>
                    <a:pt x="783" y="33"/>
                  </a:lnTo>
                  <a:lnTo>
                    <a:pt x="796" y="35"/>
                  </a:lnTo>
                  <a:lnTo>
                    <a:pt x="809" y="35"/>
                  </a:lnTo>
                  <a:lnTo>
                    <a:pt x="821" y="37"/>
                  </a:lnTo>
                  <a:lnTo>
                    <a:pt x="832" y="37"/>
                  </a:lnTo>
                  <a:lnTo>
                    <a:pt x="846" y="37"/>
                  </a:lnTo>
                  <a:lnTo>
                    <a:pt x="859" y="37"/>
                  </a:lnTo>
                  <a:lnTo>
                    <a:pt x="872" y="38"/>
                  </a:lnTo>
                  <a:lnTo>
                    <a:pt x="884" y="38"/>
                  </a:lnTo>
                  <a:lnTo>
                    <a:pt x="897" y="38"/>
                  </a:lnTo>
                  <a:lnTo>
                    <a:pt x="910" y="38"/>
                  </a:lnTo>
                  <a:lnTo>
                    <a:pt x="922" y="38"/>
                  </a:lnTo>
                  <a:lnTo>
                    <a:pt x="935" y="38"/>
                  </a:lnTo>
                  <a:lnTo>
                    <a:pt x="948" y="38"/>
                  </a:lnTo>
                  <a:lnTo>
                    <a:pt x="960" y="38"/>
                  </a:lnTo>
                  <a:lnTo>
                    <a:pt x="973" y="38"/>
                  </a:lnTo>
                  <a:lnTo>
                    <a:pt x="986" y="38"/>
                  </a:lnTo>
                  <a:lnTo>
                    <a:pt x="998" y="38"/>
                  </a:lnTo>
                  <a:lnTo>
                    <a:pt x="1011" y="38"/>
                  </a:lnTo>
                  <a:lnTo>
                    <a:pt x="1024" y="38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2" y="38"/>
                  </a:lnTo>
                  <a:lnTo>
                    <a:pt x="1076" y="38"/>
                  </a:lnTo>
                  <a:lnTo>
                    <a:pt x="1087" y="37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27" y="37"/>
                  </a:lnTo>
                  <a:lnTo>
                    <a:pt x="1140" y="35"/>
                  </a:lnTo>
                  <a:lnTo>
                    <a:pt x="1154" y="35"/>
                  </a:lnTo>
                  <a:lnTo>
                    <a:pt x="1165" y="35"/>
                  </a:lnTo>
                  <a:lnTo>
                    <a:pt x="1180" y="35"/>
                  </a:lnTo>
                  <a:lnTo>
                    <a:pt x="1192" y="35"/>
                  </a:lnTo>
                  <a:lnTo>
                    <a:pt x="1207" y="35"/>
                  </a:lnTo>
                  <a:lnTo>
                    <a:pt x="1220" y="35"/>
                  </a:lnTo>
                  <a:lnTo>
                    <a:pt x="1233" y="35"/>
                  </a:lnTo>
                  <a:lnTo>
                    <a:pt x="1224" y="37"/>
                  </a:lnTo>
                  <a:lnTo>
                    <a:pt x="1216" y="38"/>
                  </a:lnTo>
                  <a:lnTo>
                    <a:pt x="1207" y="40"/>
                  </a:lnTo>
                  <a:lnTo>
                    <a:pt x="1199" y="44"/>
                  </a:lnTo>
                  <a:lnTo>
                    <a:pt x="1190" y="44"/>
                  </a:lnTo>
                  <a:lnTo>
                    <a:pt x="1182" y="48"/>
                  </a:lnTo>
                  <a:lnTo>
                    <a:pt x="1173" y="48"/>
                  </a:lnTo>
                  <a:lnTo>
                    <a:pt x="1165" y="50"/>
                  </a:lnTo>
                  <a:lnTo>
                    <a:pt x="1155" y="52"/>
                  </a:lnTo>
                  <a:lnTo>
                    <a:pt x="1146" y="52"/>
                  </a:lnTo>
                  <a:lnTo>
                    <a:pt x="1136" y="54"/>
                  </a:lnTo>
                  <a:lnTo>
                    <a:pt x="1129" y="56"/>
                  </a:lnTo>
                  <a:lnTo>
                    <a:pt x="1119" y="56"/>
                  </a:lnTo>
                  <a:lnTo>
                    <a:pt x="1110" y="57"/>
                  </a:lnTo>
                  <a:lnTo>
                    <a:pt x="1100" y="57"/>
                  </a:lnTo>
                  <a:lnTo>
                    <a:pt x="1093" y="59"/>
                  </a:lnTo>
                  <a:lnTo>
                    <a:pt x="1083" y="59"/>
                  </a:lnTo>
                  <a:lnTo>
                    <a:pt x="1074" y="61"/>
                  </a:lnTo>
                  <a:lnTo>
                    <a:pt x="1064" y="61"/>
                  </a:lnTo>
                  <a:lnTo>
                    <a:pt x="1055" y="61"/>
                  </a:lnTo>
                  <a:lnTo>
                    <a:pt x="1045" y="61"/>
                  </a:lnTo>
                  <a:lnTo>
                    <a:pt x="1036" y="63"/>
                  </a:lnTo>
                  <a:lnTo>
                    <a:pt x="1026" y="63"/>
                  </a:lnTo>
                  <a:lnTo>
                    <a:pt x="1017" y="63"/>
                  </a:lnTo>
                  <a:lnTo>
                    <a:pt x="1007" y="63"/>
                  </a:lnTo>
                  <a:lnTo>
                    <a:pt x="998" y="63"/>
                  </a:lnTo>
                  <a:lnTo>
                    <a:pt x="988" y="63"/>
                  </a:lnTo>
                  <a:lnTo>
                    <a:pt x="979" y="65"/>
                  </a:lnTo>
                  <a:lnTo>
                    <a:pt x="969" y="65"/>
                  </a:lnTo>
                  <a:lnTo>
                    <a:pt x="960" y="67"/>
                  </a:lnTo>
                  <a:lnTo>
                    <a:pt x="950" y="67"/>
                  </a:lnTo>
                  <a:lnTo>
                    <a:pt x="943" y="67"/>
                  </a:lnTo>
                  <a:lnTo>
                    <a:pt x="933" y="67"/>
                  </a:lnTo>
                  <a:lnTo>
                    <a:pt x="924" y="67"/>
                  </a:lnTo>
                  <a:lnTo>
                    <a:pt x="914" y="67"/>
                  </a:lnTo>
                  <a:lnTo>
                    <a:pt x="905" y="69"/>
                  </a:lnTo>
                  <a:lnTo>
                    <a:pt x="895" y="69"/>
                  </a:lnTo>
                  <a:lnTo>
                    <a:pt x="885" y="69"/>
                  </a:lnTo>
                  <a:lnTo>
                    <a:pt x="876" y="71"/>
                  </a:lnTo>
                  <a:lnTo>
                    <a:pt x="866" y="71"/>
                  </a:lnTo>
                  <a:lnTo>
                    <a:pt x="857" y="71"/>
                  </a:lnTo>
                  <a:lnTo>
                    <a:pt x="847" y="73"/>
                  </a:lnTo>
                  <a:lnTo>
                    <a:pt x="838" y="73"/>
                  </a:lnTo>
                  <a:lnTo>
                    <a:pt x="830" y="75"/>
                  </a:lnTo>
                  <a:lnTo>
                    <a:pt x="821" y="77"/>
                  </a:lnTo>
                  <a:lnTo>
                    <a:pt x="811" y="78"/>
                  </a:lnTo>
                  <a:lnTo>
                    <a:pt x="804" y="78"/>
                  </a:lnTo>
                  <a:lnTo>
                    <a:pt x="794" y="82"/>
                  </a:lnTo>
                  <a:lnTo>
                    <a:pt x="785" y="82"/>
                  </a:lnTo>
                  <a:lnTo>
                    <a:pt x="777" y="86"/>
                  </a:lnTo>
                  <a:lnTo>
                    <a:pt x="768" y="86"/>
                  </a:lnTo>
                  <a:lnTo>
                    <a:pt x="762" y="90"/>
                  </a:lnTo>
                  <a:lnTo>
                    <a:pt x="752" y="92"/>
                  </a:lnTo>
                  <a:lnTo>
                    <a:pt x="745" y="96"/>
                  </a:lnTo>
                  <a:lnTo>
                    <a:pt x="737" y="97"/>
                  </a:lnTo>
                  <a:lnTo>
                    <a:pt x="730" y="101"/>
                  </a:lnTo>
                  <a:lnTo>
                    <a:pt x="720" y="105"/>
                  </a:lnTo>
                  <a:lnTo>
                    <a:pt x="714" y="107"/>
                  </a:lnTo>
                  <a:lnTo>
                    <a:pt x="707" y="111"/>
                  </a:lnTo>
                  <a:lnTo>
                    <a:pt x="699" y="115"/>
                  </a:lnTo>
                  <a:lnTo>
                    <a:pt x="692" y="118"/>
                  </a:lnTo>
                  <a:lnTo>
                    <a:pt x="686" y="124"/>
                  </a:lnTo>
                  <a:lnTo>
                    <a:pt x="680" y="128"/>
                  </a:lnTo>
                  <a:lnTo>
                    <a:pt x="673" y="134"/>
                  </a:lnTo>
                  <a:lnTo>
                    <a:pt x="671" y="132"/>
                  </a:lnTo>
                  <a:lnTo>
                    <a:pt x="674" y="122"/>
                  </a:lnTo>
                  <a:lnTo>
                    <a:pt x="684" y="115"/>
                  </a:lnTo>
                  <a:lnTo>
                    <a:pt x="692" y="105"/>
                  </a:lnTo>
                  <a:lnTo>
                    <a:pt x="697" y="96"/>
                  </a:lnTo>
                  <a:lnTo>
                    <a:pt x="686" y="92"/>
                  </a:lnTo>
                  <a:lnTo>
                    <a:pt x="676" y="92"/>
                  </a:lnTo>
                  <a:lnTo>
                    <a:pt x="667" y="92"/>
                  </a:lnTo>
                  <a:lnTo>
                    <a:pt x="657" y="92"/>
                  </a:lnTo>
                  <a:lnTo>
                    <a:pt x="648" y="92"/>
                  </a:lnTo>
                  <a:lnTo>
                    <a:pt x="638" y="96"/>
                  </a:lnTo>
                  <a:lnTo>
                    <a:pt x="629" y="96"/>
                  </a:lnTo>
                  <a:lnTo>
                    <a:pt x="621" y="99"/>
                  </a:lnTo>
                  <a:lnTo>
                    <a:pt x="612" y="101"/>
                  </a:lnTo>
                  <a:lnTo>
                    <a:pt x="604" y="105"/>
                  </a:lnTo>
                  <a:lnTo>
                    <a:pt x="595" y="107"/>
                  </a:lnTo>
                  <a:lnTo>
                    <a:pt x="587" y="113"/>
                  </a:lnTo>
                  <a:lnTo>
                    <a:pt x="578" y="116"/>
                  </a:lnTo>
                  <a:lnTo>
                    <a:pt x="570" y="122"/>
                  </a:lnTo>
                  <a:lnTo>
                    <a:pt x="562" y="126"/>
                  </a:lnTo>
                  <a:lnTo>
                    <a:pt x="555" y="132"/>
                  </a:lnTo>
                  <a:lnTo>
                    <a:pt x="558" y="124"/>
                  </a:lnTo>
                  <a:lnTo>
                    <a:pt x="560" y="118"/>
                  </a:lnTo>
                  <a:lnTo>
                    <a:pt x="564" y="113"/>
                  </a:lnTo>
                  <a:lnTo>
                    <a:pt x="568" y="105"/>
                  </a:lnTo>
                  <a:lnTo>
                    <a:pt x="574" y="94"/>
                  </a:lnTo>
                  <a:lnTo>
                    <a:pt x="578" y="84"/>
                  </a:lnTo>
                  <a:lnTo>
                    <a:pt x="579" y="73"/>
                  </a:lnTo>
                  <a:lnTo>
                    <a:pt x="583" y="67"/>
                  </a:lnTo>
                  <a:lnTo>
                    <a:pt x="583" y="59"/>
                  </a:lnTo>
                  <a:lnTo>
                    <a:pt x="583" y="56"/>
                  </a:lnTo>
                  <a:lnTo>
                    <a:pt x="579" y="52"/>
                  </a:lnTo>
                  <a:lnTo>
                    <a:pt x="576" y="50"/>
                  </a:lnTo>
                  <a:lnTo>
                    <a:pt x="568" y="50"/>
                  </a:lnTo>
                  <a:lnTo>
                    <a:pt x="560" y="52"/>
                  </a:lnTo>
                  <a:lnTo>
                    <a:pt x="555" y="54"/>
                  </a:lnTo>
                  <a:lnTo>
                    <a:pt x="549" y="57"/>
                  </a:lnTo>
                  <a:lnTo>
                    <a:pt x="543" y="59"/>
                  </a:lnTo>
                  <a:lnTo>
                    <a:pt x="538" y="63"/>
                  </a:lnTo>
                  <a:lnTo>
                    <a:pt x="530" y="69"/>
                  </a:lnTo>
                  <a:lnTo>
                    <a:pt x="522" y="73"/>
                  </a:lnTo>
                  <a:lnTo>
                    <a:pt x="513" y="80"/>
                  </a:lnTo>
                  <a:lnTo>
                    <a:pt x="505" y="88"/>
                  </a:lnTo>
                  <a:lnTo>
                    <a:pt x="498" y="92"/>
                  </a:lnTo>
                  <a:lnTo>
                    <a:pt x="492" y="97"/>
                  </a:lnTo>
                  <a:lnTo>
                    <a:pt x="484" y="103"/>
                  </a:lnTo>
                  <a:lnTo>
                    <a:pt x="479" y="107"/>
                  </a:lnTo>
                  <a:lnTo>
                    <a:pt x="471" y="111"/>
                  </a:lnTo>
                  <a:lnTo>
                    <a:pt x="463" y="115"/>
                  </a:lnTo>
                  <a:lnTo>
                    <a:pt x="456" y="116"/>
                  </a:lnTo>
                  <a:lnTo>
                    <a:pt x="450" y="122"/>
                  </a:lnTo>
                  <a:lnTo>
                    <a:pt x="448" y="118"/>
                  </a:lnTo>
                  <a:lnTo>
                    <a:pt x="448" y="111"/>
                  </a:lnTo>
                  <a:lnTo>
                    <a:pt x="450" y="105"/>
                  </a:lnTo>
                  <a:lnTo>
                    <a:pt x="452" y="97"/>
                  </a:lnTo>
                  <a:lnTo>
                    <a:pt x="458" y="94"/>
                  </a:lnTo>
                  <a:lnTo>
                    <a:pt x="463" y="88"/>
                  </a:lnTo>
                  <a:lnTo>
                    <a:pt x="469" y="82"/>
                  </a:lnTo>
                  <a:lnTo>
                    <a:pt x="477" y="78"/>
                  </a:lnTo>
                  <a:lnTo>
                    <a:pt x="482" y="75"/>
                  </a:lnTo>
                  <a:lnTo>
                    <a:pt x="488" y="69"/>
                  </a:lnTo>
                  <a:lnTo>
                    <a:pt x="494" y="65"/>
                  </a:lnTo>
                  <a:lnTo>
                    <a:pt x="500" y="59"/>
                  </a:lnTo>
                  <a:lnTo>
                    <a:pt x="505" y="56"/>
                  </a:lnTo>
                  <a:lnTo>
                    <a:pt x="509" y="50"/>
                  </a:lnTo>
                  <a:lnTo>
                    <a:pt x="513" y="44"/>
                  </a:lnTo>
                  <a:lnTo>
                    <a:pt x="515" y="40"/>
                  </a:lnTo>
                  <a:lnTo>
                    <a:pt x="515" y="35"/>
                  </a:lnTo>
                  <a:lnTo>
                    <a:pt x="509" y="35"/>
                  </a:lnTo>
                  <a:lnTo>
                    <a:pt x="503" y="38"/>
                  </a:lnTo>
                  <a:lnTo>
                    <a:pt x="496" y="40"/>
                  </a:lnTo>
                  <a:lnTo>
                    <a:pt x="490" y="42"/>
                  </a:lnTo>
                  <a:lnTo>
                    <a:pt x="484" y="44"/>
                  </a:lnTo>
                  <a:lnTo>
                    <a:pt x="479" y="46"/>
                  </a:lnTo>
                  <a:lnTo>
                    <a:pt x="471" y="50"/>
                  </a:lnTo>
                  <a:lnTo>
                    <a:pt x="467" y="52"/>
                  </a:lnTo>
                  <a:lnTo>
                    <a:pt x="456" y="57"/>
                  </a:lnTo>
                  <a:lnTo>
                    <a:pt x="444" y="63"/>
                  </a:lnTo>
                  <a:lnTo>
                    <a:pt x="433" y="71"/>
                  </a:lnTo>
                  <a:lnTo>
                    <a:pt x="422" y="78"/>
                  </a:lnTo>
                  <a:lnTo>
                    <a:pt x="410" y="86"/>
                  </a:lnTo>
                  <a:lnTo>
                    <a:pt x="401" y="94"/>
                  </a:lnTo>
                  <a:lnTo>
                    <a:pt x="389" y="101"/>
                  </a:lnTo>
                  <a:lnTo>
                    <a:pt x="380" y="111"/>
                  </a:lnTo>
                  <a:lnTo>
                    <a:pt x="368" y="120"/>
                  </a:lnTo>
                  <a:lnTo>
                    <a:pt x="359" y="130"/>
                  </a:lnTo>
                  <a:lnTo>
                    <a:pt x="355" y="135"/>
                  </a:lnTo>
                  <a:lnTo>
                    <a:pt x="349" y="141"/>
                  </a:lnTo>
                  <a:lnTo>
                    <a:pt x="346" y="147"/>
                  </a:lnTo>
                  <a:lnTo>
                    <a:pt x="340" y="153"/>
                  </a:lnTo>
                  <a:lnTo>
                    <a:pt x="338" y="143"/>
                  </a:lnTo>
                  <a:lnTo>
                    <a:pt x="338" y="135"/>
                  </a:lnTo>
                  <a:lnTo>
                    <a:pt x="338" y="126"/>
                  </a:lnTo>
                  <a:lnTo>
                    <a:pt x="342" y="118"/>
                  </a:lnTo>
                  <a:lnTo>
                    <a:pt x="346" y="111"/>
                  </a:lnTo>
                  <a:lnTo>
                    <a:pt x="351" y="103"/>
                  </a:lnTo>
                  <a:lnTo>
                    <a:pt x="357" y="96"/>
                  </a:lnTo>
                  <a:lnTo>
                    <a:pt x="366" y="88"/>
                  </a:lnTo>
                  <a:lnTo>
                    <a:pt x="372" y="80"/>
                  </a:lnTo>
                  <a:lnTo>
                    <a:pt x="382" y="73"/>
                  </a:lnTo>
                  <a:lnTo>
                    <a:pt x="389" y="67"/>
                  </a:lnTo>
                  <a:lnTo>
                    <a:pt x="399" y="61"/>
                  </a:lnTo>
                  <a:lnTo>
                    <a:pt x="408" y="54"/>
                  </a:lnTo>
                  <a:lnTo>
                    <a:pt x="416" y="48"/>
                  </a:lnTo>
                  <a:lnTo>
                    <a:pt x="424" y="42"/>
                  </a:lnTo>
                  <a:lnTo>
                    <a:pt x="431" y="40"/>
                  </a:lnTo>
                  <a:lnTo>
                    <a:pt x="424" y="40"/>
                  </a:lnTo>
                  <a:lnTo>
                    <a:pt x="418" y="42"/>
                  </a:lnTo>
                  <a:lnTo>
                    <a:pt x="410" y="42"/>
                  </a:lnTo>
                  <a:lnTo>
                    <a:pt x="405" y="44"/>
                  </a:lnTo>
                  <a:lnTo>
                    <a:pt x="397" y="44"/>
                  </a:lnTo>
                  <a:lnTo>
                    <a:pt x="389" y="46"/>
                  </a:lnTo>
                  <a:lnTo>
                    <a:pt x="384" y="48"/>
                  </a:lnTo>
                  <a:lnTo>
                    <a:pt x="376" y="50"/>
                  </a:lnTo>
                  <a:lnTo>
                    <a:pt x="368" y="50"/>
                  </a:lnTo>
                  <a:lnTo>
                    <a:pt x="363" y="52"/>
                  </a:lnTo>
                  <a:lnTo>
                    <a:pt x="355" y="52"/>
                  </a:lnTo>
                  <a:lnTo>
                    <a:pt x="349" y="54"/>
                  </a:lnTo>
                  <a:lnTo>
                    <a:pt x="342" y="54"/>
                  </a:lnTo>
                  <a:lnTo>
                    <a:pt x="336" y="56"/>
                  </a:lnTo>
                  <a:lnTo>
                    <a:pt x="328" y="57"/>
                  </a:lnTo>
                  <a:lnTo>
                    <a:pt x="323" y="59"/>
                  </a:lnTo>
                  <a:lnTo>
                    <a:pt x="315" y="59"/>
                  </a:lnTo>
                  <a:lnTo>
                    <a:pt x="309" y="59"/>
                  </a:lnTo>
                  <a:lnTo>
                    <a:pt x="302" y="61"/>
                  </a:lnTo>
                  <a:lnTo>
                    <a:pt x="294" y="61"/>
                  </a:lnTo>
                  <a:lnTo>
                    <a:pt x="289" y="63"/>
                  </a:lnTo>
                  <a:lnTo>
                    <a:pt x="281" y="63"/>
                  </a:lnTo>
                  <a:lnTo>
                    <a:pt x="275" y="65"/>
                  </a:lnTo>
                  <a:lnTo>
                    <a:pt x="270" y="67"/>
                  </a:lnTo>
                  <a:lnTo>
                    <a:pt x="262" y="67"/>
                  </a:lnTo>
                  <a:lnTo>
                    <a:pt x="254" y="67"/>
                  </a:lnTo>
                  <a:lnTo>
                    <a:pt x="247" y="67"/>
                  </a:lnTo>
                  <a:lnTo>
                    <a:pt x="241" y="69"/>
                  </a:lnTo>
                  <a:lnTo>
                    <a:pt x="233" y="69"/>
                  </a:lnTo>
                  <a:lnTo>
                    <a:pt x="228" y="69"/>
                  </a:lnTo>
                  <a:lnTo>
                    <a:pt x="220" y="71"/>
                  </a:lnTo>
                  <a:lnTo>
                    <a:pt x="214" y="71"/>
                  </a:lnTo>
                  <a:lnTo>
                    <a:pt x="207" y="71"/>
                  </a:lnTo>
                  <a:lnTo>
                    <a:pt x="201" y="71"/>
                  </a:lnTo>
                  <a:lnTo>
                    <a:pt x="193" y="71"/>
                  </a:lnTo>
                  <a:lnTo>
                    <a:pt x="188" y="71"/>
                  </a:lnTo>
                  <a:lnTo>
                    <a:pt x="180" y="71"/>
                  </a:lnTo>
                  <a:lnTo>
                    <a:pt x="173" y="71"/>
                  </a:lnTo>
                  <a:lnTo>
                    <a:pt x="167" y="71"/>
                  </a:lnTo>
                  <a:lnTo>
                    <a:pt x="161" y="71"/>
                  </a:lnTo>
                  <a:lnTo>
                    <a:pt x="154" y="71"/>
                  </a:lnTo>
                  <a:lnTo>
                    <a:pt x="146" y="69"/>
                  </a:lnTo>
                  <a:lnTo>
                    <a:pt x="140" y="69"/>
                  </a:lnTo>
                  <a:lnTo>
                    <a:pt x="133" y="69"/>
                  </a:lnTo>
                  <a:lnTo>
                    <a:pt x="125" y="67"/>
                  </a:lnTo>
                  <a:lnTo>
                    <a:pt x="119" y="67"/>
                  </a:lnTo>
                  <a:lnTo>
                    <a:pt x="114" y="65"/>
                  </a:lnTo>
                  <a:lnTo>
                    <a:pt x="106" y="65"/>
                  </a:lnTo>
                  <a:lnTo>
                    <a:pt x="98" y="63"/>
                  </a:lnTo>
                  <a:lnTo>
                    <a:pt x="93" y="61"/>
                  </a:lnTo>
                  <a:lnTo>
                    <a:pt x="85" y="59"/>
                  </a:lnTo>
                  <a:lnTo>
                    <a:pt x="79" y="59"/>
                  </a:lnTo>
                  <a:lnTo>
                    <a:pt x="72" y="57"/>
                  </a:lnTo>
                  <a:lnTo>
                    <a:pt x="66" y="54"/>
                  </a:lnTo>
                  <a:lnTo>
                    <a:pt x="58" y="52"/>
                  </a:lnTo>
                  <a:lnTo>
                    <a:pt x="53" y="52"/>
                  </a:lnTo>
                  <a:lnTo>
                    <a:pt x="45" y="48"/>
                  </a:lnTo>
                  <a:lnTo>
                    <a:pt x="39" y="46"/>
                  </a:lnTo>
                  <a:lnTo>
                    <a:pt x="32" y="44"/>
                  </a:lnTo>
                  <a:lnTo>
                    <a:pt x="24" y="42"/>
                  </a:lnTo>
                  <a:lnTo>
                    <a:pt x="19" y="38"/>
                  </a:lnTo>
                  <a:lnTo>
                    <a:pt x="13" y="35"/>
                  </a:lnTo>
                  <a:lnTo>
                    <a:pt x="5" y="3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3" y="31"/>
                  </a:lnTo>
                  <a:lnTo>
                    <a:pt x="20" y="31"/>
                  </a:lnTo>
                  <a:lnTo>
                    <a:pt x="26" y="31"/>
                  </a:lnTo>
                  <a:lnTo>
                    <a:pt x="34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70" y="33"/>
                  </a:lnTo>
                  <a:lnTo>
                    <a:pt x="78" y="33"/>
                  </a:lnTo>
                  <a:lnTo>
                    <a:pt x="85" y="33"/>
                  </a:lnTo>
                  <a:lnTo>
                    <a:pt x="91" y="33"/>
                  </a:lnTo>
                  <a:lnTo>
                    <a:pt x="98" y="35"/>
                  </a:lnTo>
                  <a:lnTo>
                    <a:pt x="106" y="35"/>
                  </a:lnTo>
                  <a:lnTo>
                    <a:pt x="114" y="37"/>
                  </a:lnTo>
                  <a:lnTo>
                    <a:pt x="119" y="37"/>
                  </a:lnTo>
                  <a:lnTo>
                    <a:pt x="125" y="37"/>
                  </a:lnTo>
                  <a:lnTo>
                    <a:pt x="133" y="37"/>
                  </a:lnTo>
                  <a:lnTo>
                    <a:pt x="140" y="38"/>
                  </a:lnTo>
                  <a:lnTo>
                    <a:pt x="146" y="38"/>
                  </a:lnTo>
                  <a:lnTo>
                    <a:pt x="154" y="38"/>
                  </a:lnTo>
                  <a:lnTo>
                    <a:pt x="161" y="38"/>
                  </a:lnTo>
                  <a:lnTo>
                    <a:pt x="169" y="40"/>
                  </a:lnTo>
                  <a:lnTo>
                    <a:pt x="174" y="40"/>
                  </a:lnTo>
                  <a:lnTo>
                    <a:pt x="180" y="40"/>
                  </a:lnTo>
                  <a:lnTo>
                    <a:pt x="188" y="40"/>
                  </a:lnTo>
                  <a:lnTo>
                    <a:pt x="195" y="40"/>
                  </a:lnTo>
                  <a:lnTo>
                    <a:pt x="201" y="40"/>
                  </a:lnTo>
                  <a:lnTo>
                    <a:pt x="209" y="42"/>
                  </a:lnTo>
                  <a:lnTo>
                    <a:pt x="216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5" y="42"/>
                  </a:lnTo>
                  <a:lnTo>
                    <a:pt x="243" y="42"/>
                  </a:lnTo>
                  <a:lnTo>
                    <a:pt x="251" y="42"/>
                  </a:lnTo>
                  <a:lnTo>
                    <a:pt x="256" y="40"/>
                  </a:lnTo>
                  <a:lnTo>
                    <a:pt x="262" y="40"/>
                  </a:lnTo>
                  <a:lnTo>
                    <a:pt x="270" y="40"/>
                  </a:lnTo>
                  <a:lnTo>
                    <a:pt x="275" y="40"/>
                  </a:lnTo>
                  <a:lnTo>
                    <a:pt x="283" y="40"/>
                  </a:lnTo>
                  <a:lnTo>
                    <a:pt x="289" y="38"/>
                  </a:lnTo>
                  <a:lnTo>
                    <a:pt x="294" y="38"/>
                  </a:lnTo>
                  <a:lnTo>
                    <a:pt x="302" y="38"/>
                  </a:lnTo>
                  <a:lnTo>
                    <a:pt x="309" y="37"/>
                  </a:lnTo>
                  <a:lnTo>
                    <a:pt x="317" y="35"/>
                  </a:lnTo>
                  <a:lnTo>
                    <a:pt x="323" y="35"/>
                  </a:lnTo>
                  <a:lnTo>
                    <a:pt x="330" y="35"/>
                  </a:lnTo>
                  <a:lnTo>
                    <a:pt x="336" y="33"/>
                  </a:lnTo>
                  <a:lnTo>
                    <a:pt x="344" y="31"/>
                  </a:lnTo>
                  <a:lnTo>
                    <a:pt x="349" y="29"/>
                  </a:lnTo>
                  <a:lnTo>
                    <a:pt x="357" y="27"/>
                  </a:lnTo>
                  <a:lnTo>
                    <a:pt x="363" y="25"/>
                  </a:lnTo>
                  <a:lnTo>
                    <a:pt x="368" y="23"/>
                  </a:lnTo>
                  <a:lnTo>
                    <a:pt x="376" y="21"/>
                  </a:lnTo>
                  <a:lnTo>
                    <a:pt x="384" y="21"/>
                  </a:lnTo>
                  <a:lnTo>
                    <a:pt x="389" y="18"/>
                  </a:lnTo>
                  <a:lnTo>
                    <a:pt x="395" y="16"/>
                  </a:lnTo>
                  <a:lnTo>
                    <a:pt x="403" y="14"/>
                  </a:lnTo>
                  <a:lnTo>
                    <a:pt x="410" y="12"/>
                  </a:lnTo>
                  <a:lnTo>
                    <a:pt x="416" y="8"/>
                  </a:lnTo>
                  <a:lnTo>
                    <a:pt x="424" y="6"/>
                  </a:lnTo>
                  <a:lnTo>
                    <a:pt x="429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772320" y="1198440"/>
              <a:ext cx="1077840" cy="1198440"/>
            </a:xfrm>
            <a:custGeom>
              <a:avLst/>
              <a:gdLst/>
              <a:ahLst/>
              <a:rect l="l" t="t" r="r" b="b"/>
              <a:pathLst>
                <a:path w="1358" h="1509">
                  <a:moveTo>
                    <a:pt x="993" y="2"/>
                  </a:moveTo>
                  <a:lnTo>
                    <a:pt x="1000" y="0"/>
                  </a:lnTo>
                  <a:lnTo>
                    <a:pt x="1006" y="0"/>
                  </a:lnTo>
                  <a:lnTo>
                    <a:pt x="1013" y="0"/>
                  </a:lnTo>
                  <a:lnTo>
                    <a:pt x="1023" y="0"/>
                  </a:lnTo>
                  <a:lnTo>
                    <a:pt x="1031" y="0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5" y="0"/>
                  </a:lnTo>
                  <a:lnTo>
                    <a:pt x="1061" y="0"/>
                  </a:lnTo>
                  <a:lnTo>
                    <a:pt x="1069" y="0"/>
                  </a:lnTo>
                  <a:lnTo>
                    <a:pt x="1076" y="0"/>
                  </a:lnTo>
                  <a:lnTo>
                    <a:pt x="1086" y="2"/>
                  </a:lnTo>
                  <a:lnTo>
                    <a:pt x="1093" y="2"/>
                  </a:lnTo>
                  <a:lnTo>
                    <a:pt x="1101" y="5"/>
                  </a:lnTo>
                  <a:lnTo>
                    <a:pt x="1108" y="5"/>
                  </a:lnTo>
                  <a:lnTo>
                    <a:pt x="1116" y="9"/>
                  </a:lnTo>
                  <a:lnTo>
                    <a:pt x="1124" y="9"/>
                  </a:lnTo>
                  <a:lnTo>
                    <a:pt x="1131" y="11"/>
                  </a:lnTo>
                  <a:lnTo>
                    <a:pt x="1137" y="15"/>
                  </a:lnTo>
                  <a:lnTo>
                    <a:pt x="1145" y="17"/>
                  </a:lnTo>
                  <a:lnTo>
                    <a:pt x="1150" y="21"/>
                  </a:lnTo>
                  <a:lnTo>
                    <a:pt x="1158" y="24"/>
                  </a:lnTo>
                  <a:lnTo>
                    <a:pt x="1164" y="26"/>
                  </a:lnTo>
                  <a:lnTo>
                    <a:pt x="1169" y="32"/>
                  </a:lnTo>
                  <a:lnTo>
                    <a:pt x="1179" y="40"/>
                  </a:lnTo>
                  <a:lnTo>
                    <a:pt x="1190" y="53"/>
                  </a:lnTo>
                  <a:lnTo>
                    <a:pt x="1194" y="59"/>
                  </a:lnTo>
                  <a:lnTo>
                    <a:pt x="1198" y="64"/>
                  </a:lnTo>
                  <a:lnTo>
                    <a:pt x="1202" y="72"/>
                  </a:lnTo>
                  <a:lnTo>
                    <a:pt x="1205" y="82"/>
                  </a:lnTo>
                  <a:lnTo>
                    <a:pt x="1194" y="72"/>
                  </a:lnTo>
                  <a:lnTo>
                    <a:pt x="1186" y="64"/>
                  </a:lnTo>
                  <a:lnTo>
                    <a:pt x="1177" y="59"/>
                  </a:lnTo>
                  <a:lnTo>
                    <a:pt x="1169" y="55"/>
                  </a:lnTo>
                  <a:lnTo>
                    <a:pt x="1164" y="51"/>
                  </a:lnTo>
                  <a:lnTo>
                    <a:pt x="1158" y="49"/>
                  </a:lnTo>
                  <a:lnTo>
                    <a:pt x="1154" y="47"/>
                  </a:lnTo>
                  <a:lnTo>
                    <a:pt x="1152" y="49"/>
                  </a:lnTo>
                  <a:lnTo>
                    <a:pt x="1148" y="51"/>
                  </a:lnTo>
                  <a:lnTo>
                    <a:pt x="1147" y="57"/>
                  </a:lnTo>
                  <a:lnTo>
                    <a:pt x="1148" y="64"/>
                  </a:lnTo>
                  <a:lnTo>
                    <a:pt x="1154" y="74"/>
                  </a:lnTo>
                  <a:lnTo>
                    <a:pt x="1160" y="83"/>
                  </a:lnTo>
                  <a:lnTo>
                    <a:pt x="1169" y="97"/>
                  </a:lnTo>
                  <a:lnTo>
                    <a:pt x="1175" y="101"/>
                  </a:lnTo>
                  <a:lnTo>
                    <a:pt x="1181" y="106"/>
                  </a:lnTo>
                  <a:lnTo>
                    <a:pt x="1186" y="112"/>
                  </a:lnTo>
                  <a:lnTo>
                    <a:pt x="1194" y="118"/>
                  </a:lnTo>
                  <a:lnTo>
                    <a:pt x="1200" y="121"/>
                  </a:lnTo>
                  <a:lnTo>
                    <a:pt x="1207" y="127"/>
                  </a:lnTo>
                  <a:lnTo>
                    <a:pt x="1215" y="131"/>
                  </a:lnTo>
                  <a:lnTo>
                    <a:pt x="1223" y="137"/>
                  </a:lnTo>
                  <a:lnTo>
                    <a:pt x="1230" y="139"/>
                  </a:lnTo>
                  <a:lnTo>
                    <a:pt x="1238" y="142"/>
                  </a:lnTo>
                  <a:lnTo>
                    <a:pt x="1245" y="144"/>
                  </a:lnTo>
                  <a:lnTo>
                    <a:pt x="1255" y="146"/>
                  </a:lnTo>
                  <a:lnTo>
                    <a:pt x="1262" y="148"/>
                  </a:lnTo>
                  <a:lnTo>
                    <a:pt x="1272" y="154"/>
                  </a:lnTo>
                  <a:lnTo>
                    <a:pt x="1280" y="161"/>
                  </a:lnTo>
                  <a:lnTo>
                    <a:pt x="1287" y="167"/>
                  </a:lnTo>
                  <a:lnTo>
                    <a:pt x="1293" y="175"/>
                  </a:lnTo>
                  <a:lnTo>
                    <a:pt x="1302" y="182"/>
                  </a:lnTo>
                  <a:lnTo>
                    <a:pt x="1310" y="188"/>
                  </a:lnTo>
                  <a:lnTo>
                    <a:pt x="1318" y="196"/>
                  </a:lnTo>
                  <a:lnTo>
                    <a:pt x="1310" y="192"/>
                  </a:lnTo>
                  <a:lnTo>
                    <a:pt x="1300" y="190"/>
                  </a:lnTo>
                  <a:lnTo>
                    <a:pt x="1293" y="184"/>
                  </a:lnTo>
                  <a:lnTo>
                    <a:pt x="1285" y="180"/>
                  </a:lnTo>
                  <a:lnTo>
                    <a:pt x="1276" y="175"/>
                  </a:lnTo>
                  <a:lnTo>
                    <a:pt x="1268" y="171"/>
                  </a:lnTo>
                  <a:lnTo>
                    <a:pt x="1259" y="165"/>
                  </a:lnTo>
                  <a:lnTo>
                    <a:pt x="1251" y="161"/>
                  </a:lnTo>
                  <a:lnTo>
                    <a:pt x="1242" y="156"/>
                  </a:lnTo>
                  <a:lnTo>
                    <a:pt x="1232" y="152"/>
                  </a:lnTo>
                  <a:lnTo>
                    <a:pt x="1223" y="146"/>
                  </a:lnTo>
                  <a:lnTo>
                    <a:pt x="1213" y="142"/>
                  </a:lnTo>
                  <a:lnTo>
                    <a:pt x="1204" y="139"/>
                  </a:lnTo>
                  <a:lnTo>
                    <a:pt x="1196" y="135"/>
                  </a:lnTo>
                  <a:lnTo>
                    <a:pt x="1186" y="131"/>
                  </a:lnTo>
                  <a:lnTo>
                    <a:pt x="1177" y="131"/>
                  </a:lnTo>
                  <a:lnTo>
                    <a:pt x="1171" y="137"/>
                  </a:lnTo>
                  <a:lnTo>
                    <a:pt x="1169" y="144"/>
                  </a:lnTo>
                  <a:lnTo>
                    <a:pt x="1171" y="152"/>
                  </a:lnTo>
                  <a:lnTo>
                    <a:pt x="1173" y="158"/>
                  </a:lnTo>
                  <a:lnTo>
                    <a:pt x="1177" y="165"/>
                  </a:lnTo>
                  <a:lnTo>
                    <a:pt x="1181" y="173"/>
                  </a:lnTo>
                  <a:lnTo>
                    <a:pt x="1183" y="180"/>
                  </a:lnTo>
                  <a:lnTo>
                    <a:pt x="1185" y="188"/>
                  </a:lnTo>
                  <a:lnTo>
                    <a:pt x="1190" y="188"/>
                  </a:lnTo>
                  <a:lnTo>
                    <a:pt x="1196" y="190"/>
                  </a:lnTo>
                  <a:lnTo>
                    <a:pt x="1204" y="192"/>
                  </a:lnTo>
                  <a:lnTo>
                    <a:pt x="1209" y="196"/>
                  </a:lnTo>
                  <a:lnTo>
                    <a:pt x="1219" y="203"/>
                  </a:lnTo>
                  <a:lnTo>
                    <a:pt x="1230" y="217"/>
                  </a:lnTo>
                  <a:lnTo>
                    <a:pt x="1234" y="220"/>
                  </a:lnTo>
                  <a:lnTo>
                    <a:pt x="1238" y="226"/>
                  </a:lnTo>
                  <a:lnTo>
                    <a:pt x="1243" y="232"/>
                  </a:lnTo>
                  <a:lnTo>
                    <a:pt x="1247" y="239"/>
                  </a:lnTo>
                  <a:lnTo>
                    <a:pt x="1251" y="245"/>
                  </a:lnTo>
                  <a:lnTo>
                    <a:pt x="1255" y="249"/>
                  </a:lnTo>
                  <a:lnTo>
                    <a:pt x="1259" y="255"/>
                  </a:lnTo>
                  <a:lnTo>
                    <a:pt x="1262" y="260"/>
                  </a:lnTo>
                  <a:lnTo>
                    <a:pt x="1261" y="264"/>
                  </a:lnTo>
                  <a:lnTo>
                    <a:pt x="1253" y="258"/>
                  </a:lnTo>
                  <a:lnTo>
                    <a:pt x="1245" y="253"/>
                  </a:lnTo>
                  <a:lnTo>
                    <a:pt x="1238" y="247"/>
                  </a:lnTo>
                  <a:lnTo>
                    <a:pt x="1232" y="241"/>
                  </a:lnTo>
                  <a:lnTo>
                    <a:pt x="1223" y="236"/>
                  </a:lnTo>
                  <a:lnTo>
                    <a:pt x="1215" y="230"/>
                  </a:lnTo>
                  <a:lnTo>
                    <a:pt x="1207" y="224"/>
                  </a:lnTo>
                  <a:lnTo>
                    <a:pt x="1202" y="218"/>
                  </a:lnTo>
                  <a:lnTo>
                    <a:pt x="1194" y="213"/>
                  </a:lnTo>
                  <a:lnTo>
                    <a:pt x="1186" y="209"/>
                  </a:lnTo>
                  <a:lnTo>
                    <a:pt x="1177" y="203"/>
                  </a:lnTo>
                  <a:lnTo>
                    <a:pt x="1169" y="199"/>
                  </a:lnTo>
                  <a:lnTo>
                    <a:pt x="1160" y="196"/>
                  </a:lnTo>
                  <a:lnTo>
                    <a:pt x="1152" y="192"/>
                  </a:lnTo>
                  <a:lnTo>
                    <a:pt x="1143" y="190"/>
                  </a:lnTo>
                  <a:lnTo>
                    <a:pt x="1135" y="188"/>
                  </a:lnTo>
                  <a:lnTo>
                    <a:pt x="1137" y="197"/>
                  </a:lnTo>
                  <a:lnTo>
                    <a:pt x="1143" y="207"/>
                  </a:lnTo>
                  <a:lnTo>
                    <a:pt x="1148" y="217"/>
                  </a:lnTo>
                  <a:lnTo>
                    <a:pt x="1154" y="226"/>
                  </a:lnTo>
                  <a:lnTo>
                    <a:pt x="1162" y="236"/>
                  </a:lnTo>
                  <a:lnTo>
                    <a:pt x="1169" y="245"/>
                  </a:lnTo>
                  <a:lnTo>
                    <a:pt x="1177" y="253"/>
                  </a:lnTo>
                  <a:lnTo>
                    <a:pt x="1186" y="262"/>
                  </a:lnTo>
                  <a:lnTo>
                    <a:pt x="1194" y="272"/>
                  </a:lnTo>
                  <a:lnTo>
                    <a:pt x="1204" y="279"/>
                  </a:lnTo>
                  <a:lnTo>
                    <a:pt x="1211" y="287"/>
                  </a:lnTo>
                  <a:lnTo>
                    <a:pt x="1219" y="298"/>
                  </a:lnTo>
                  <a:lnTo>
                    <a:pt x="1226" y="306"/>
                  </a:lnTo>
                  <a:lnTo>
                    <a:pt x="1234" y="315"/>
                  </a:lnTo>
                  <a:lnTo>
                    <a:pt x="1238" y="325"/>
                  </a:lnTo>
                  <a:lnTo>
                    <a:pt x="1245" y="336"/>
                  </a:lnTo>
                  <a:lnTo>
                    <a:pt x="1236" y="329"/>
                  </a:lnTo>
                  <a:lnTo>
                    <a:pt x="1228" y="321"/>
                  </a:lnTo>
                  <a:lnTo>
                    <a:pt x="1219" y="315"/>
                  </a:lnTo>
                  <a:lnTo>
                    <a:pt x="1213" y="312"/>
                  </a:lnTo>
                  <a:lnTo>
                    <a:pt x="1205" y="308"/>
                  </a:lnTo>
                  <a:lnTo>
                    <a:pt x="1198" y="304"/>
                  </a:lnTo>
                  <a:lnTo>
                    <a:pt x="1192" y="300"/>
                  </a:lnTo>
                  <a:lnTo>
                    <a:pt x="1186" y="300"/>
                  </a:lnTo>
                  <a:lnTo>
                    <a:pt x="1181" y="296"/>
                  </a:lnTo>
                  <a:lnTo>
                    <a:pt x="1175" y="294"/>
                  </a:lnTo>
                  <a:lnTo>
                    <a:pt x="1169" y="294"/>
                  </a:lnTo>
                  <a:lnTo>
                    <a:pt x="1167" y="294"/>
                  </a:lnTo>
                  <a:lnTo>
                    <a:pt x="1160" y="298"/>
                  </a:lnTo>
                  <a:lnTo>
                    <a:pt x="1154" y="302"/>
                  </a:lnTo>
                  <a:lnTo>
                    <a:pt x="1152" y="306"/>
                  </a:lnTo>
                  <a:lnTo>
                    <a:pt x="1152" y="313"/>
                  </a:lnTo>
                  <a:lnTo>
                    <a:pt x="1154" y="321"/>
                  </a:lnTo>
                  <a:lnTo>
                    <a:pt x="1160" y="331"/>
                  </a:lnTo>
                  <a:lnTo>
                    <a:pt x="1164" y="336"/>
                  </a:lnTo>
                  <a:lnTo>
                    <a:pt x="1167" y="342"/>
                  </a:lnTo>
                  <a:lnTo>
                    <a:pt x="1173" y="348"/>
                  </a:lnTo>
                  <a:lnTo>
                    <a:pt x="1179" y="355"/>
                  </a:lnTo>
                  <a:lnTo>
                    <a:pt x="1186" y="363"/>
                  </a:lnTo>
                  <a:lnTo>
                    <a:pt x="1194" y="369"/>
                  </a:lnTo>
                  <a:lnTo>
                    <a:pt x="1204" y="376"/>
                  </a:lnTo>
                  <a:lnTo>
                    <a:pt x="1213" y="384"/>
                  </a:lnTo>
                  <a:lnTo>
                    <a:pt x="1219" y="384"/>
                  </a:lnTo>
                  <a:lnTo>
                    <a:pt x="1226" y="388"/>
                  </a:lnTo>
                  <a:lnTo>
                    <a:pt x="1230" y="393"/>
                  </a:lnTo>
                  <a:lnTo>
                    <a:pt x="1234" y="399"/>
                  </a:lnTo>
                  <a:lnTo>
                    <a:pt x="1238" y="405"/>
                  </a:lnTo>
                  <a:lnTo>
                    <a:pt x="1242" y="412"/>
                  </a:lnTo>
                  <a:lnTo>
                    <a:pt x="1245" y="418"/>
                  </a:lnTo>
                  <a:lnTo>
                    <a:pt x="1251" y="424"/>
                  </a:lnTo>
                  <a:lnTo>
                    <a:pt x="1247" y="429"/>
                  </a:lnTo>
                  <a:lnTo>
                    <a:pt x="1242" y="426"/>
                  </a:lnTo>
                  <a:lnTo>
                    <a:pt x="1234" y="422"/>
                  </a:lnTo>
                  <a:lnTo>
                    <a:pt x="1228" y="418"/>
                  </a:lnTo>
                  <a:lnTo>
                    <a:pt x="1223" y="412"/>
                  </a:lnTo>
                  <a:lnTo>
                    <a:pt x="1211" y="405"/>
                  </a:lnTo>
                  <a:lnTo>
                    <a:pt x="1200" y="395"/>
                  </a:lnTo>
                  <a:lnTo>
                    <a:pt x="1194" y="391"/>
                  </a:lnTo>
                  <a:lnTo>
                    <a:pt x="1188" y="386"/>
                  </a:lnTo>
                  <a:lnTo>
                    <a:pt x="1183" y="382"/>
                  </a:lnTo>
                  <a:lnTo>
                    <a:pt x="1177" y="378"/>
                  </a:lnTo>
                  <a:lnTo>
                    <a:pt x="1171" y="374"/>
                  </a:lnTo>
                  <a:lnTo>
                    <a:pt x="1164" y="372"/>
                  </a:lnTo>
                  <a:lnTo>
                    <a:pt x="1158" y="369"/>
                  </a:lnTo>
                  <a:lnTo>
                    <a:pt x="1152" y="367"/>
                  </a:lnTo>
                  <a:lnTo>
                    <a:pt x="1145" y="376"/>
                  </a:lnTo>
                  <a:lnTo>
                    <a:pt x="1145" y="386"/>
                  </a:lnTo>
                  <a:lnTo>
                    <a:pt x="1150" y="393"/>
                  </a:lnTo>
                  <a:lnTo>
                    <a:pt x="1160" y="403"/>
                  </a:lnTo>
                  <a:lnTo>
                    <a:pt x="1164" y="405"/>
                  </a:lnTo>
                  <a:lnTo>
                    <a:pt x="1171" y="410"/>
                  </a:lnTo>
                  <a:lnTo>
                    <a:pt x="1177" y="412"/>
                  </a:lnTo>
                  <a:lnTo>
                    <a:pt x="1183" y="418"/>
                  </a:lnTo>
                  <a:lnTo>
                    <a:pt x="1194" y="428"/>
                  </a:lnTo>
                  <a:lnTo>
                    <a:pt x="1204" y="437"/>
                  </a:lnTo>
                  <a:lnTo>
                    <a:pt x="1198" y="439"/>
                  </a:lnTo>
                  <a:lnTo>
                    <a:pt x="1188" y="431"/>
                  </a:lnTo>
                  <a:lnTo>
                    <a:pt x="1179" y="424"/>
                  </a:lnTo>
                  <a:lnTo>
                    <a:pt x="1167" y="420"/>
                  </a:lnTo>
                  <a:lnTo>
                    <a:pt x="1158" y="414"/>
                  </a:lnTo>
                  <a:lnTo>
                    <a:pt x="1147" y="410"/>
                  </a:lnTo>
                  <a:lnTo>
                    <a:pt x="1135" y="407"/>
                  </a:lnTo>
                  <a:lnTo>
                    <a:pt x="1126" y="403"/>
                  </a:lnTo>
                  <a:lnTo>
                    <a:pt x="1116" y="397"/>
                  </a:lnTo>
                  <a:lnTo>
                    <a:pt x="1110" y="405"/>
                  </a:lnTo>
                  <a:lnTo>
                    <a:pt x="1105" y="412"/>
                  </a:lnTo>
                  <a:lnTo>
                    <a:pt x="1097" y="420"/>
                  </a:lnTo>
                  <a:lnTo>
                    <a:pt x="1093" y="428"/>
                  </a:lnTo>
                  <a:lnTo>
                    <a:pt x="1086" y="433"/>
                  </a:lnTo>
                  <a:lnTo>
                    <a:pt x="1080" y="441"/>
                  </a:lnTo>
                  <a:lnTo>
                    <a:pt x="1074" y="448"/>
                  </a:lnTo>
                  <a:lnTo>
                    <a:pt x="1070" y="458"/>
                  </a:lnTo>
                  <a:lnTo>
                    <a:pt x="1065" y="464"/>
                  </a:lnTo>
                  <a:lnTo>
                    <a:pt x="1059" y="473"/>
                  </a:lnTo>
                  <a:lnTo>
                    <a:pt x="1055" y="479"/>
                  </a:lnTo>
                  <a:lnTo>
                    <a:pt x="1051" y="486"/>
                  </a:lnTo>
                  <a:lnTo>
                    <a:pt x="1048" y="494"/>
                  </a:lnTo>
                  <a:lnTo>
                    <a:pt x="1046" y="502"/>
                  </a:lnTo>
                  <a:lnTo>
                    <a:pt x="1042" y="509"/>
                  </a:lnTo>
                  <a:lnTo>
                    <a:pt x="1042" y="517"/>
                  </a:lnTo>
                  <a:lnTo>
                    <a:pt x="1040" y="523"/>
                  </a:lnTo>
                  <a:lnTo>
                    <a:pt x="1040" y="530"/>
                  </a:lnTo>
                  <a:lnTo>
                    <a:pt x="1038" y="536"/>
                  </a:lnTo>
                  <a:lnTo>
                    <a:pt x="1040" y="542"/>
                  </a:lnTo>
                  <a:lnTo>
                    <a:pt x="1040" y="547"/>
                  </a:lnTo>
                  <a:lnTo>
                    <a:pt x="1044" y="555"/>
                  </a:lnTo>
                  <a:lnTo>
                    <a:pt x="1048" y="559"/>
                  </a:lnTo>
                  <a:lnTo>
                    <a:pt x="1051" y="564"/>
                  </a:lnTo>
                  <a:lnTo>
                    <a:pt x="1057" y="568"/>
                  </a:lnTo>
                  <a:lnTo>
                    <a:pt x="1063" y="574"/>
                  </a:lnTo>
                  <a:lnTo>
                    <a:pt x="1069" y="578"/>
                  </a:lnTo>
                  <a:lnTo>
                    <a:pt x="1078" y="583"/>
                  </a:lnTo>
                  <a:lnTo>
                    <a:pt x="1088" y="585"/>
                  </a:lnTo>
                  <a:lnTo>
                    <a:pt x="1097" y="587"/>
                  </a:lnTo>
                  <a:lnTo>
                    <a:pt x="1105" y="589"/>
                  </a:lnTo>
                  <a:lnTo>
                    <a:pt x="1110" y="591"/>
                  </a:lnTo>
                  <a:lnTo>
                    <a:pt x="1116" y="593"/>
                  </a:lnTo>
                  <a:lnTo>
                    <a:pt x="1124" y="595"/>
                  </a:lnTo>
                  <a:lnTo>
                    <a:pt x="1131" y="597"/>
                  </a:lnTo>
                  <a:lnTo>
                    <a:pt x="1137" y="602"/>
                  </a:lnTo>
                  <a:lnTo>
                    <a:pt x="1143" y="604"/>
                  </a:lnTo>
                  <a:lnTo>
                    <a:pt x="1150" y="610"/>
                  </a:lnTo>
                  <a:lnTo>
                    <a:pt x="1156" y="614"/>
                  </a:lnTo>
                  <a:lnTo>
                    <a:pt x="1162" y="620"/>
                  </a:lnTo>
                  <a:lnTo>
                    <a:pt x="1169" y="623"/>
                  </a:lnTo>
                  <a:lnTo>
                    <a:pt x="1177" y="629"/>
                  </a:lnTo>
                  <a:lnTo>
                    <a:pt x="1183" y="633"/>
                  </a:lnTo>
                  <a:lnTo>
                    <a:pt x="1188" y="637"/>
                  </a:lnTo>
                  <a:lnTo>
                    <a:pt x="1196" y="640"/>
                  </a:lnTo>
                  <a:lnTo>
                    <a:pt x="1204" y="644"/>
                  </a:lnTo>
                  <a:lnTo>
                    <a:pt x="1209" y="648"/>
                  </a:lnTo>
                  <a:lnTo>
                    <a:pt x="1215" y="650"/>
                  </a:lnTo>
                  <a:lnTo>
                    <a:pt x="1223" y="652"/>
                  </a:lnTo>
                  <a:lnTo>
                    <a:pt x="1232" y="654"/>
                  </a:lnTo>
                  <a:lnTo>
                    <a:pt x="1223" y="656"/>
                  </a:lnTo>
                  <a:lnTo>
                    <a:pt x="1213" y="658"/>
                  </a:lnTo>
                  <a:lnTo>
                    <a:pt x="1204" y="654"/>
                  </a:lnTo>
                  <a:lnTo>
                    <a:pt x="1194" y="652"/>
                  </a:lnTo>
                  <a:lnTo>
                    <a:pt x="1183" y="648"/>
                  </a:lnTo>
                  <a:lnTo>
                    <a:pt x="1171" y="644"/>
                  </a:lnTo>
                  <a:lnTo>
                    <a:pt x="1162" y="639"/>
                  </a:lnTo>
                  <a:lnTo>
                    <a:pt x="1150" y="633"/>
                  </a:lnTo>
                  <a:lnTo>
                    <a:pt x="1145" y="629"/>
                  </a:lnTo>
                  <a:lnTo>
                    <a:pt x="1139" y="625"/>
                  </a:lnTo>
                  <a:lnTo>
                    <a:pt x="1133" y="623"/>
                  </a:lnTo>
                  <a:lnTo>
                    <a:pt x="1127" y="620"/>
                  </a:lnTo>
                  <a:lnTo>
                    <a:pt x="1116" y="614"/>
                  </a:lnTo>
                  <a:lnTo>
                    <a:pt x="1105" y="610"/>
                  </a:lnTo>
                  <a:lnTo>
                    <a:pt x="1099" y="606"/>
                  </a:lnTo>
                  <a:lnTo>
                    <a:pt x="1093" y="604"/>
                  </a:lnTo>
                  <a:lnTo>
                    <a:pt x="1088" y="602"/>
                  </a:lnTo>
                  <a:lnTo>
                    <a:pt x="1082" y="601"/>
                  </a:lnTo>
                  <a:lnTo>
                    <a:pt x="1076" y="599"/>
                  </a:lnTo>
                  <a:lnTo>
                    <a:pt x="1069" y="597"/>
                  </a:lnTo>
                  <a:lnTo>
                    <a:pt x="1065" y="597"/>
                  </a:lnTo>
                  <a:lnTo>
                    <a:pt x="1059" y="597"/>
                  </a:lnTo>
                  <a:lnTo>
                    <a:pt x="1067" y="606"/>
                  </a:lnTo>
                  <a:lnTo>
                    <a:pt x="1078" y="618"/>
                  </a:lnTo>
                  <a:lnTo>
                    <a:pt x="1082" y="621"/>
                  </a:lnTo>
                  <a:lnTo>
                    <a:pt x="1088" y="627"/>
                  </a:lnTo>
                  <a:lnTo>
                    <a:pt x="1093" y="631"/>
                  </a:lnTo>
                  <a:lnTo>
                    <a:pt x="1099" y="637"/>
                  </a:lnTo>
                  <a:lnTo>
                    <a:pt x="1105" y="640"/>
                  </a:lnTo>
                  <a:lnTo>
                    <a:pt x="1110" y="644"/>
                  </a:lnTo>
                  <a:lnTo>
                    <a:pt x="1116" y="650"/>
                  </a:lnTo>
                  <a:lnTo>
                    <a:pt x="1124" y="654"/>
                  </a:lnTo>
                  <a:lnTo>
                    <a:pt x="1129" y="658"/>
                  </a:lnTo>
                  <a:lnTo>
                    <a:pt x="1135" y="663"/>
                  </a:lnTo>
                  <a:lnTo>
                    <a:pt x="1143" y="667"/>
                  </a:lnTo>
                  <a:lnTo>
                    <a:pt x="1150" y="671"/>
                  </a:lnTo>
                  <a:lnTo>
                    <a:pt x="1156" y="675"/>
                  </a:lnTo>
                  <a:lnTo>
                    <a:pt x="1162" y="678"/>
                  </a:lnTo>
                  <a:lnTo>
                    <a:pt x="1169" y="682"/>
                  </a:lnTo>
                  <a:lnTo>
                    <a:pt x="1175" y="686"/>
                  </a:lnTo>
                  <a:lnTo>
                    <a:pt x="1181" y="690"/>
                  </a:lnTo>
                  <a:lnTo>
                    <a:pt x="1188" y="694"/>
                  </a:lnTo>
                  <a:lnTo>
                    <a:pt x="1194" y="696"/>
                  </a:lnTo>
                  <a:lnTo>
                    <a:pt x="1202" y="701"/>
                  </a:lnTo>
                  <a:lnTo>
                    <a:pt x="1207" y="703"/>
                  </a:lnTo>
                  <a:lnTo>
                    <a:pt x="1215" y="707"/>
                  </a:lnTo>
                  <a:lnTo>
                    <a:pt x="1221" y="711"/>
                  </a:lnTo>
                  <a:lnTo>
                    <a:pt x="1228" y="713"/>
                  </a:lnTo>
                  <a:lnTo>
                    <a:pt x="1234" y="716"/>
                  </a:lnTo>
                  <a:lnTo>
                    <a:pt x="1242" y="720"/>
                  </a:lnTo>
                  <a:lnTo>
                    <a:pt x="1247" y="722"/>
                  </a:lnTo>
                  <a:lnTo>
                    <a:pt x="1255" y="726"/>
                  </a:lnTo>
                  <a:lnTo>
                    <a:pt x="1255" y="728"/>
                  </a:lnTo>
                  <a:lnTo>
                    <a:pt x="1249" y="730"/>
                  </a:lnTo>
                  <a:lnTo>
                    <a:pt x="1243" y="732"/>
                  </a:lnTo>
                  <a:lnTo>
                    <a:pt x="1238" y="732"/>
                  </a:lnTo>
                  <a:lnTo>
                    <a:pt x="1232" y="732"/>
                  </a:lnTo>
                  <a:lnTo>
                    <a:pt x="1226" y="732"/>
                  </a:lnTo>
                  <a:lnTo>
                    <a:pt x="1221" y="732"/>
                  </a:lnTo>
                  <a:lnTo>
                    <a:pt x="1215" y="730"/>
                  </a:lnTo>
                  <a:lnTo>
                    <a:pt x="1209" y="730"/>
                  </a:lnTo>
                  <a:lnTo>
                    <a:pt x="1204" y="726"/>
                  </a:lnTo>
                  <a:lnTo>
                    <a:pt x="1196" y="724"/>
                  </a:lnTo>
                  <a:lnTo>
                    <a:pt x="1190" y="722"/>
                  </a:lnTo>
                  <a:lnTo>
                    <a:pt x="1185" y="722"/>
                  </a:lnTo>
                  <a:lnTo>
                    <a:pt x="1173" y="716"/>
                  </a:lnTo>
                  <a:lnTo>
                    <a:pt x="1164" y="715"/>
                  </a:lnTo>
                  <a:lnTo>
                    <a:pt x="1160" y="722"/>
                  </a:lnTo>
                  <a:lnTo>
                    <a:pt x="1158" y="730"/>
                  </a:lnTo>
                  <a:lnTo>
                    <a:pt x="1158" y="736"/>
                  </a:lnTo>
                  <a:lnTo>
                    <a:pt x="1162" y="743"/>
                  </a:lnTo>
                  <a:lnTo>
                    <a:pt x="1167" y="749"/>
                  </a:lnTo>
                  <a:lnTo>
                    <a:pt x="1173" y="756"/>
                  </a:lnTo>
                  <a:lnTo>
                    <a:pt x="1181" y="760"/>
                  </a:lnTo>
                  <a:lnTo>
                    <a:pt x="1188" y="768"/>
                  </a:lnTo>
                  <a:lnTo>
                    <a:pt x="1196" y="772"/>
                  </a:lnTo>
                  <a:lnTo>
                    <a:pt x="1204" y="777"/>
                  </a:lnTo>
                  <a:lnTo>
                    <a:pt x="1211" y="785"/>
                  </a:lnTo>
                  <a:lnTo>
                    <a:pt x="1219" y="791"/>
                  </a:lnTo>
                  <a:lnTo>
                    <a:pt x="1224" y="796"/>
                  </a:lnTo>
                  <a:lnTo>
                    <a:pt x="1226" y="802"/>
                  </a:lnTo>
                  <a:lnTo>
                    <a:pt x="1228" y="808"/>
                  </a:lnTo>
                  <a:lnTo>
                    <a:pt x="1228" y="817"/>
                  </a:lnTo>
                  <a:lnTo>
                    <a:pt x="1223" y="817"/>
                  </a:lnTo>
                  <a:lnTo>
                    <a:pt x="1217" y="815"/>
                  </a:lnTo>
                  <a:lnTo>
                    <a:pt x="1211" y="813"/>
                  </a:lnTo>
                  <a:lnTo>
                    <a:pt x="1207" y="808"/>
                  </a:lnTo>
                  <a:lnTo>
                    <a:pt x="1200" y="804"/>
                  </a:lnTo>
                  <a:lnTo>
                    <a:pt x="1196" y="800"/>
                  </a:lnTo>
                  <a:lnTo>
                    <a:pt x="1190" y="798"/>
                  </a:lnTo>
                  <a:lnTo>
                    <a:pt x="1185" y="802"/>
                  </a:lnTo>
                  <a:lnTo>
                    <a:pt x="1188" y="812"/>
                  </a:lnTo>
                  <a:lnTo>
                    <a:pt x="1196" y="821"/>
                  </a:lnTo>
                  <a:lnTo>
                    <a:pt x="1204" y="831"/>
                  </a:lnTo>
                  <a:lnTo>
                    <a:pt x="1213" y="840"/>
                  </a:lnTo>
                  <a:lnTo>
                    <a:pt x="1223" y="850"/>
                  </a:lnTo>
                  <a:lnTo>
                    <a:pt x="1230" y="859"/>
                  </a:lnTo>
                  <a:lnTo>
                    <a:pt x="1232" y="863"/>
                  </a:lnTo>
                  <a:lnTo>
                    <a:pt x="1236" y="869"/>
                  </a:lnTo>
                  <a:lnTo>
                    <a:pt x="1238" y="874"/>
                  </a:lnTo>
                  <a:lnTo>
                    <a:pt x="1240" y="880"/>
                  </a:lnTo>
                  <a:lnTo>
                    <a:pt x="1236" y="882"/>
                  </a:lnTo>
                  <a:lnTo>
                    <a:pt x="1228" y="880"/>
                  </a:lnTo>
                  <a:lnTo>
                    <a:pt x="1224" y="878"/>
                  </a:lnTo>
                  <a:lnTo>
                    <a:pt x="1223" y="880"/>
                  </a:lnTo>
                  <a:lnTo>
                    <a:pt x="1223" y="882"/>
                  </a:lnTo>
                  <a:lnTo>
                    <a:pt x="1223" y="891"/>
                  </a:lnTo>
                  <a:lnTo>
                    <a:pt x="1226" y="905"/>
                  </a:lnTo>
                  <a:lnTo>
                    <a:pt x="1226" y="908"/>
                  </a:lnTo>
                  <a:lnTo>
                    <a:pt x="1226" y="914"/>
                  </a:lnTo>
                  <a:lnTo>
                    <a:pt x="1228" y="922"/>
                  </a:lnTo>
                  <a:lnTo>
                    <a:pt x="1230" y="928"/>
                  </a:lnTo>
                  <a:lnTo>
                    <a:pt x="1232" y="937"/>
                  </a:lnTo>
                  <a:lnTo>
                    <a:pt x="1236" y="950"/>
                  </a:lnTo>
                  <a:lnTo>
                    <a:pt x="1238" y="960"/>
                  </a:lnTo>
                  <a:lnTo>
                    <a:pt x="1245" y="971"/>
                  </a:lnTo>
                  <a:lnTo>
                    <a:pt x="1255" y="971"/>
                  </a:lnTo>
                  <a:lnTo>
                    <a:pt x="1264" y="977"/>
                  </a:lnTo>
                  <a:lnTo>
                    <a:pt x="1272" y="981"/>
                  </a:lnTo>
                  <a:lnTo>
                    <a:pt x="1280" y="988"/>
                  </a:lnTo>
                  <a:lnTo>
                    <a:pt x="1287" y="996"/>
                  </a:lnTo>
                  <a:lnTo>
                    <a:pt x="1297" y="1004"/>
                  </a:lnTo>
                  <a:lnTo>
                    <a:pt x="1302" y="1009"/>
                  </a:lnTo>
                  <a:lnTo>
                    <a:pt x="1312" y="1017"/>
                  </a:lnTo>
                  <a:lnTo>
                    <a:pt x="1316" y="1005"/>
                  </a:lnTo>
                  <a:lnTo>
                    <a:pt x="1316" y="996"/>
                  </a:lnTo>
                  <a:lnTo>
                    <a:pt x="1316" y="988"/>
                  </a:lnTo>
                  <a:lnTo>
                    <a:pt x="1314" y="983"/>
                  </a:lnTo>
                  <a:lnTo>
                    <a:pt x="1312" y="977"/>
                  </a:lnTo>
                  <a:lnTo>
                    <a:pt x="1312" y="969"/>
                  </a:lnTo>
                  <a:lnTo>
                    <a:pt x="1310" y="962"/>
                  </a:lnTo>
                  <a:lnTo>
                    <a:pt x="1308" y="956"/>
                  </a:lnTo>
                  <a:lnTo>
                    <a:pt x="1306" y="950"/>
                  </a:lnTo>
                  <a:lnTo>
                    <a:pt x="1306" y="943"/>
                  </a:lnTo>
                  <a:lnTo>
                    <a:pt x="1302" y="937"/>
                  </a:lnTo>
                  <a:lnTo>
                    <a:pt x="1302" y="931"/>
                  </a:lnTo>
                  <a:lnTo>
                    <a:pt x="1300" y="924"/>
                  </a:lnTo>
                  <a:lnTo>
                    <a:pt x="1300" y="920"/>
                  </a:lnTo>
                  <a:lnTo>
                    <a:pt x="1297" y="908"/>
                  </a:lnTo>
                  <a:lnTo>
                    <a:pt x="1297" y="903"/>
                  </a:lnTo>
                  <a:lnTo>
                    <a:pt x="1299" y="897"/>
                  </a:lnTo>
                  <a:lnTo>
                    <a:pt x="1302" y="897"/>
                  </a:lnTo>
                  <a:lnTo>
                    <a:pt x="1308" y="899"/>
                  </a:lnTo>
                  <a:lnTo>
                    <a:pt x="1318" y="905"/>
                  </a:lnTo>
                  <a:lnTo>
                    <a:pt x="1321" y="908"/>
                  </a:lnTo>
                  <a:lnTo>
                    <a:pt x="1329" y="916"/>
                  </a:lnTo>
                  <a:lnTo>
                    <a:pt x="1337" y="924"/>
                  </a:lnTo>
                  <a:lnTo>
                    <a:pt x="1346" y="933"/>
                  </a:lnTo>
                  <a:lnTo>
                    <a:pt x="1350" y="943"/>
                  </a:lnTo>
                  <a:lnTo>
                    <a:pt x="1354" y="952"/>
                  </a:lnTo>
                  <a:lnTo>
                    <a:pt x="1356" y="962"/>
                  </a:lnTo>
                  <a:lnTo>
                    <a:pt x="1358" y="971"/>
                  </a:lnTo>
                  <a:lnTo>
                    <a:pt x="1358" y="979"/>
                  </a:lnTo>
                  <a:lnTo>
                    <a:pt x="1358" y="988"/>
                  </a:lnTo>
                  <a:lnTo>
                    <a:pt x="1356" y="998"/>
                  </a:lnTo>
                  <a:lnTo>
                    <a:pt x="1356" y="1007"/>
                  </a:lnTo>
                  <a:lnTo>
                    <a:pt x="1354" y="1015"/>
                  </a:lnTo>
                  <a:lnTo>
                    <a:pt x="1352" y="1024"/>
                  </a:lnTo>
                  <a:lnTo>
                    <a:pt x="1348" y="1032"/>
                  </a:lnTo>
                  <a:lnTo>
                    <a:pt x="1346" y="1042"/>
                  </a:lnTo>
                  <a:lnTo>
                    <a:pt x="1344" y="1051"/>
                  </a:lnTo>
                  <a:lnTo>
                    <a:pt x="1340" y="1059"/>
                  </a:lnTo>
                  <a:lnTo>
                    <a:pt x="1337" y="1066"/>
                  </a:lnTo>
                  <a:lnTo>
                    <a:pt x="1335" y="1076"/>
                  </a:lnTo>
                  <a:lnTo>
                    <a:pt x="1333" y="1083"/>
                  </a:lnTo>
                  <a:lnTo>
                    <a:pt x="1329" y="1093"/>
                  </a:lnTo>
                  <a:lnTo>
                    <a:pt x="1325" y="1101"/>
                  </a:lnTo>
                  <a:lnTo>
                    <a:pt x="1325" y="1110"/>
                  </a:lnTo>
                  <a:lnTo>
                    <a:pt x="1321" y="1118"/>
                  </a:lnTo>
                  <a:lnTo>
                    <a:pt x="1320" y="1127"/>
                  </a:lnTo>
                  <a:lnTo>
                    <a:pt x="1320" y="1137"/>
                  </a:lnTo>
                  <a:lnTo>
                    <a:pt x="1320" y="1146"/>
                  </a:lnTo>
                  <a:lnTo>
                    <a:pt x="1320" y="1154"/>
                  </a:lnTo>
                  <a:lnTo>
                    <a:pt x="1321" y="1163"/>
                  </a:lnTo>
                  <a:lnTo>
                    <a:pt x="1323" y="1173"/>
                  </a:lnTo>
                  <a:lnTo>
                    <a:pt x="1327" y="1182"/>
                  </a:lnTo>
                  <a:lnTo>
                    <a:pt x="1331" y="1190"/>
                  </a:lnTo>
                  <a:lnTo>
                    <a:pt x="1337" y="1199"/>
                  </a:lnTo>
                  <a:lnTo>
                    <a:pt x="1344" y="1211"/>
                  </a:lnTo>
                  <a:lnTo>
                    <a:pt x="1352" y="1220"/>
                  </a:lnTo>
                  <a:lnTo>
                    <a:pt x="1354" y="1230"/>
                  </a:lnTo>
                  <a:lnTo>
                    <a:pt x="1354" y="1241"/>
                  </a:lnTo>
                  <a:lnTo>
                    <a:pt x="1354" y="1251"/>
                  </a:lnTo>
                  <a:lnTo>
                    <a:pt x="1356" y="1262"/>
                  </a:lnTo>
                  <a:lnTo>
                    <a:pt x="1354" y="1272"/>
                  </a:lnTo>
                  <a:lnTo>
                    <a:pt x="1354" y="1281"/>
                  </a:lnTo>
                  <a:lnTo>
                    <a:pt x="1354" y="1291"/>
                  </a:lnTo>
                  <a:lnTo>
                    <a:pt x="1354" y="1300"/>
                  </a:lnTo>
                  <a:lnTo>
                    <a:pt x="1352" y="1308"/>
                  </a:lnTo>
                  <a:lnTo>
                    <a:pt x="1348" y="1317"/>
                  </a:lnTo>
                  <a:lnTo>
                    <a:pt x="1346" y="1327"/>
                  </a:lnTo>
                  <a:lnTo>
                    <a:pt x="1344" y="1336"/>
                  </a:lnTo>
                  <a:lnTo>
                    <a:pt x="1340" y="1344"/>
                  </a:lnTo>
                  <a:lnTo>
                    <a:pt x="1337" y="1353"/>
                  </a:lnTo>
                  <a:lnTo>
                    <a:pt x="1335" y="1363"/>
                  </a:lnTo>
                  <a:lnTo>
                    <a:pt x="1333" y="1372"/>
                  </a:lnTo>
                  <a:lnTo>
                    <a:pt x="1327" y="1380"/>
                  </a:lnTo>
                  <a:lnTo>
                    <a:pt x="1323" y="1389"/>
                  </a:lnTo>
                  <a:lnTo>
                    <a:pt x="1320" y="1395"/>
                  </a:lnTo>
                  <a:lnTo>
                    <a:pt x="1316" y="1405"/>
                  </a:lnTo>
                  <a:lnTo>
                    <a:pt x="1312" y="1412"/>
                  </a:lnTo>
                  <a:lnTo>
                    <a:pt x="1308" y="1422"/>
                  </a:lnTo>
                  <a:lnTo>
                    <a:pt x="1302" y="1429"/>
                  </a:lnTo>
                  <a:lnTo>
                    <a:pt x="1300" y="1439"/>
                  </a:lnTo>
                  <a:lnTo>
                    <a:pt x="1295" y="1447"/>
                  </a:lnTo>
                  <a:lnTo>
                    <a:pt x="1291" y="1456"/>
                  </a:lnTo>
                  <a:lnTo>
                    <a:pt x="1287" y="1464"/>
                  </a:lnTo>
                  <a:lnTo>
                    <a:pt x="1283" y="1473"/>
                  </a:lnTo>
                  <a:lnTo>
                    <a:pt x="1280" y="1483"/>
                  </a:lnTo>
                  <a:lnTo>
                    <a:pt x="1274" y="1490"/>
                  </a:lnTo>
                  <a:lnTo>
                    <a:pt x="1272" y="1500"/>
                  </a:lnTo>
                  <a:lnTo>
                    <a:pt x="1268" y="1509"/>
                  </a:lnTo>
                  <a:lnTo>
                    <a:pt x="1262" y="1507"/>
                  </a:lnTo>
                  <a:lnTo>
                    <a:pt x="1259" y="1505"/>
                  </a:lnTo>
                  <a:lnTo>
                    <a:pt x="1255" y="1500"/>
                  </a:lnTo>
                  <a:lnTo>
                    <a:pt x="1255" y="1496"/>
                  </a:lnTo>
                  <a:lnTo>
                    <a:pt x="1255" y="1488"/>
                  </a:lnTo>
                  <a:lnTo>
                    <a:pt x="1255" y="1485"/>
                  </a:lnTo>
                  <a:lnTo>
                    <a:pt x="1255" y="1477"/>
                  </a:lnTo>
                  <a:lnTo>
                    <a:pt x="1255" y="1473"/>
                  </a:lnTo>
                  <a:lnTo>
                    <a:pt x="1249" y="1471"/>
                  </a:lnTo>
                  <a:lnTo>
                    <a:pt x="1243" y="1473"/>
                  </a:lnTo>
                  <a:lnTo>
                    <a:pt x="1240" y="1475"/>
                  </a:lnTo>
                  <a:lnTo>
                    <a:pt x="1236" y="1479"/>
                  </a:lnTo>
                  <a:lnTo>
                    <a:pt x="1238" y="1473"/>
                  </a:lnTo>
                  <a:lnTo>
                    <a:pt x="1240" y="1467"/>
                  </a:lnTo>
                  <a:lnTo>
                    <a:pt x="1242" y="1460"/>
                  </a:lnTo>
                  <a:lnTo>
                    <a:pt x="1243" y="1456"/>
                  </a:lnTo>
                  <a:lnTo>
                    <a:pt x="1245" y="1448"/>
                  </a:lnTo>
                  <a:lnTo>
                    <a:pt x="1247" y="1445"/>
                  </a:lnTo>
                  <a:lnTo>
                    <a:pt x="1249" y="1437"/>
                  </a:lnTo>
                  <a:lnTo>
                    <a:pt x="1253" y="1431"/>
                  </a:lnTo>
                  <a:lnTo>
                    <a:pt x="1253" y="1426"/>
                  </a:lnTo>
                  <a:lnTo>
                    <a:pt x="1255" y="1420"/>
                  </a:lnTo>
                  <a:lnTo>
                    <a:pt x="1257" y="1414"/>
                  </a:lnTo>
                  <a:lnTo>
                    <a:pt x="1261" y="1408"/>
                  </a:lnTo>
                  <a:lnTo>
                    <a:pt x="1261" y="1403"/>
                  </a:lnTo>
                  <a:lnTo>
                    <a:pt x="1264" y="1397"/>
                  </a:lnTo>
                  <a:lnTo>
                    <a:pt x="1264" y="1391"/>
                  </a:lnTo>
                  <a:lnTo>
                    <a:pt x="1268" y="1386"/>
                  </a:lnTo>
                  <a:lnTo>
                    <a:pt x="1270" y="1380"/>
                  </a:lnTo>
                  <a:lnTo>
                    <a:pt x="1272" y="1372"/>
                  </a:lnTo>
                  <a:lnTo>
                    <a:pt x="1272" y="1367"/>
                  </a:lnTo>
                  <a:lnTo>
                    <a:pt x="1274" y="1361"/>
                  </a:lnTo>
                  <a:lnTo>
                    <a:pt x="1276" y="1355"/>
                  </a:lnTo>
                  <a:lnTo>
                    <a:pt x="1278" y="1348"/>
                  </a:lnTo>
                  <a:lnTo>
                    <a:pt x="1280" y="1342"/>
                  </a:lnTo>
                  <a:lnTo>
                    <a:pt x="1281" y="1336"/>
                  </a:lnTo>
                  <a:lnTo>
                    <a:pt x="1281" y="1331"/>
                  </a:lnTo>
                  <a:lnTo>
                    <a:pt x="1283" y="1325"/>
                  </a:lnTo>
                  <a:lnTo>
                    <a:pt x="1283" y="1317"/>
                  </a:lnTo>
                  <a:lnTo>
                    <a:pt x="1287" y="1312"/>
                  </a:lnTo>
                  <a:lnTo>
                    <a:pt x="1287" y="1306"/>
                  </a:lnTo>
                  <a:lnTo>
                    <a:pt x="1289" y="1300"/>
                  </a:lnTo>
                  <a:lnTo>
                    <a:pt x="1289" y="1293"/>
                  </a:lnTo>
                  <a:lnTo>
                    <a:pt x="1291" y="1289"/>
                  </a:lnTo>
                  <a:lnTo>
                    <a:pt x="1291" y="1281"/>
                  </a:lnTo>
                  <a:lnTo>
                    <a:pt x="1293" y="1275"/>
                  </a:lnTo>
                  <a:lnTo>
                    <a:pt x="1293" y="1268"/>
                  </a:lnTo>
                  <a:lnTo>
                    <a:pt x="1293" y="1262"/>
                  </a:lnTo>
                  <a:lnTo>
                    <a:pt x="1293" y="1256"/>
                  </a:lnTo>
                  <a:lnTo>
                    <a:pt x="1293" y="1249"/>
                  </a:lnTo>
                  <a:lnTo>
                    <a:pt x="1293" y="1243"/>
                  </a:lnTo>
                  <a:lnTo>
                    <a:pt x="1295" y="1237"/>
                  </a:lnTo>
                  <a:lnTo>
                    <a:pt x="1293" y="1232"/>
                  </a:lnTo>
                  <a:lnTo>
                    <a:pt x="1293" y="1226"/>
                  </a:lnTo>
                  <a:lnTo>
                    <a:pt x="1293" y="1218"/>
                  </a:lnTo>
                  <a:lnTo>
                    <a:pt x="1293" y="1213"/>
                  </a:lnTo>
                  <a:lnTo>
                    <a:pt x="1293" y="1207"/>
                  </a:lnTo>
                  <a:lnTo>
                    <a:pt x="1293" y="1199"/>
                  </a:lnTo>
                  <a:lnTo>
                    <a:pt x="1291" y="1194"/>
                  </a:lnTo>
                  <a:lnTo>
                    <a:pt x="1291" y="1188"/>
                  </a:lnTo>
                  <a:lnTo>
                    <a:pt x="1289" y="1182"/>
                  </a:lnTo>
                  <a:lnTo>
                    <a:pt x="1289" y="1175"/>
                  </a:lnTo>
                  <a:lnTo>
                    <a:pt x="1287" y="1169"/>
                  </a:lnTo>
                  <a:lnTo>
                    <a:pt x="1285" y="1163"/>
                  </a:lnTo>
                  <a:lnTo>
                    <a:pt x="1283" y="1158"/>
                  </a:lnTo>
                  <a:lnTo>
                    <a:pt x="1281" y="1152"/>
                  </a:lnTo>
                  <a:lnTo>
                    <a:pt x="1280" y="1144"/>
                  </a:lnTo>
                  <a:lnTo>
                    <a:pt x="1280" y="1139"/>
                  </a:lnTo>
                  <a:lnTo>
                    <a:pt x="1276" y="1133"/>
                  </a:lnTo>
                  <a:lnTo>
                    <a:pt x="1274" y="1127"/>
                  </a:lnTo>
                  <a:lnTo>
                    <a:pt x="1270" y="1120"/>
                  </a:lnTo>
                  <a:lnTo>
                    <a:pt x="1268" y="1116"/>
                  </a:lnTo>
                  <a:lnTo>
                    <a:pt x="1262" y="1102"/>
                  </a:lnTo>
                  <a:lnTo>
                    <a:pt x="1255" y="1093"/>
                  </a:lnTo>
                  <a:lnTo>
                    <a:pt x="1249" y="1085"/>
                  </a:lnTo>
                  <a:lnTo>
                    <a:pt x="1243" y="1080"/>
                  </a:lnTo>
                  <a:lnTo>
                    <a:pt x="1238" y="1072"/>
                  </a:lnTo>
                  <a:lnTo>
                    <a:pt x="1234" y="1066"/>
                  </a:lnTo>
                  <a:lnTo>
                    <a:pt x="1226" y="1059"/>
                  </a:lnTo>
                  <a:lnTo>
                    <a:pt x="1223" y="1051"/>
                  </a:lnTo>
                  <a:lnTo>
                    <a:pt x="1217" y="1043"/>
                  </a:lnTo>
                  <a:lnTo>
                    <a:pt x="1213" y="1038"/>
                  </a:lnTo>
                  <a:lnTo>
                    <a:pt x="1205" y="1028"/>
                  </a:lnTo>
                  <a:lnTo>
                    <a:pt x="1202" y="1023"/>
                  </a:lnTo>
                  <a:lnTo>
                    <a:pt x="1196" y="1015"/>
                  </a:lnTo>
                  <a:lnTo>
                    <a:pt x="1190" y="1007"/>
                  </a:lnTo>
                  <a:lnTo>
                    <a:pt x="1186" y="998"/>
                  </a:lnTo>
                  <a:lnTo>
                    <a:pt x="1181" y="992"/>
                  </a:lnTo>
                  <a:lnTo>
                    <a:pt x="1177" y="983"/>
                  </a:lnTo>
                  <a:lnTo>
                    <a:pt x="1171" y="977"/>
                  </a:lnTo>
                  <a:lnTo>
                    <a:pt x="1166" y="969"/>
                  </a:lnTo>
                  <a:lnTo>
                    <a:pt x="1162" y="962"/>
                  </a:lnTo>
                  <a:lnTo>
                    <a:pt x="1154" y="952"/>
                  </a:lnTo>
                  <a:lnTo>
                    <a:pt x="1150" y="945"/>
                  </a:lnTo>
                  <a:lnTo>
                    <a:pt x="1145" y="937"/>
                  </a:lnTo>
                  <a:lnTo>
                    <a:pt x="1141" y="931"/>
                  </a:lnTo>
                  <a:lnTo>
                    <a:pt x="1135" y="924"/>
                  </a:lnTo>
                  <a:lnTo>
                    <a:pt x="1131" y="916"/>
                  </a:lnTo>
                  <a:lnTo>
                    <a:pt x="1124" y="908"/>
                  </a:lnTo>
                  <a:lnTo>
                    <a:pt x="1120" y="901"/>
                  </a:lnTo>
                  <a:lnTo>
                    <a:pt x="1114" y="895"/>
                  </a:lnTo>
                  <a:lnTo>
                    <a:pt x="1108" y="888"/>
                  </a:lnTo>
                  <a:lnTo>
                    <a:pt x="1103" y="880"/>
                  </a:lnTo>
                  <a:lnTo>
                    <a:pt x="1099" y="874"/>
                  </a:lnTo>
                  <a:lnTo>
                    <a:pt x="1093" y="869"/>
                  </a:lnTo>
                  <a:lnTo>
                    <a:pt x="1088" y="863"/>
                  </a:lnTo>
                  <a:lnTo>
                    <a:pt x="1082" y="855"/>
                  </a:lnTo>
                  <a:lnTo>
                    <a:pt x="1076" y="850"/>
                  </a:lnTo>
                  <a:lnTo>
                    <a:pt x="1070" y="844"/>
                  </a:lnTo>
                  <a:lnTo>
                    <a:pt x="1065" y="840"/>
                  </a:lnTo>
                  <a:lnTo>
                    <a:pt x="1059" y="832"/>
                  </a:lnTo>
                  <a:lnTo>
                    <a:pt x="1051" y="829"/>
                  </a:lnTo>
                  <a:lnTo>
                    <a:pt x="1046" y="823"/>
                  </a:lnTo>
                  <a:lnTo>
                    <a:pt x="1040" y="821"/>
                  </a:lnTo>
                  <a:lnTo>
                    <a:pt x="1032" y="815"/>
                  </a:lnTo>
                  <a:lnTo>
                    <a:pt x="1025" y="812"/>
                  </a:lnTo>
                  <a:lnTo>
                    <a:pt x="1019" y="808"/>
                  </a:lnTo>
                  <a:lnTo>
                    <a:pt x="1013" y="806"/>
                  </a:lnTo>
                  <a:lnTo>
                    <a:pt x="1006" y="802"/>
                  </a:lnTo>
                  <a:lnTo>
                    <a:pt x="1000" y="800"/>
                  </a:lnTo>
                  <a:lnTo>
                    <a:pt x="993" y="798"/>
                  </a:lnTo>
                  <a:lnTo>
                    <a:pt x="985" y="796"/>
                  </a:lnTo>
                  <a:lnTo>
                    <a:pt x="977" y="794"/>
                  </a:lnTo>
                  <a:lnTo>
                    <a:pt x="970" y="794"/>
                  </a:lnTo>
                  <a:lnTo>
                    <a:pt x="962" y="794"/>
                  </a:lnTo>
                  <a:lnTo>
                    <a:pt x="954" y="794"/>
                  </a:lnTo>
                  <a:lnTo>
                    <a:pt x="945" y="794"/>
                  </a:lnTo>
                  <a:lnTo>
                    <a:pt x="937" y="794"/>
                  </a:lnTo>
                  <a:lnTo>
                    <a:pt x="928" y="794"/>
                  </a:lnTo>
                  <a:lnTo>
                    <a:pt x="920" y="798"/>
                  </a:lnTo>
                  <a:lnTo>
                    <a:pt x="911" y="798"/>
                  </a:lnTo>
                  <a:lnTo>
                    <a:pt x="901" y="802"/>
                  </a:lnTo>
                  <a:lnTo>
                    <a:pt x="892" y="806"/>
                  </a:lnTo>
                  <a:lnTo>
                    <a:pt x="884" y="810"/>
                  </a:lnTo>
                  <a:lnTo>
                    <a:pt x="873" y="813"/>
                  </a:lnTo>
                  <a:lnTo>
                    <a:pt x="863" y="817"/>
                  </a:lnTo>
                  <a:lnTo>
                    <a:pt x="854" y="825"/>
                  </a:lnTo>
                  <a:lnTo>
                    <a:pt x="844" y="831"/>
                  </a:lnTo>
                  <a:lnTo>
                    <a:pt x="833" y="834"/>
                  </a:lnTo>
                  <a:lnTo>
                    <a:pt x="823" y="838"/>
                  </a:lnTo>
                  <a:lnTo>
                    <a:pt x="810" y="842"/>
                  </a:lnTo>
                  <a:lnTo>
                    <a:pt x="800" y="848"/>
                  </a:lnTo>
                  <a:lnTo>
                    <a:pt x="789" y="851"/>
                  </a:lnTo>
                  <a:lnTo>
                    <a:pt x="778" y="855"/>
                  </a:lnTo>
                  <a:lnTo>
                    <a:pt x="766" y="861"/>
                  </a:lnTo>
                  <a:lnTo>
                    <a:pt x="755" y="865"/>
                  </a:lnTo>
                  <a:lnTo>
                    <a:pt x="743" y="869"/>
                  </a:lnTo>
                  <a:lnTo>
                    <a:pt x="734" y="874"/>
                  </a:lnTo>
                  <a:lnTo>
                    <a:pt x="723" y="878"/>
                  </a:lnTo>
                  <a:lnTo>
                    <a:pt x="713" y="886"/>
                  </a:lnTo>
                  <a:lnTo>
                    <a:pt x="702" y="889"/>
                  </a:lnTo>
                  <a:lnTo>
                    <a:pt x="690" y="895"/>
                  </a:lnTo>
                  <a:lnTo>
                    <a:pt x="681" y="901"/>
                  </a:lnTo>
                  <a:lnTo>
                    <a:pt x="671" y="907"/>
                  </a:lnTo>
                  <a:lnTo>
                    <a:pt x="669" y="905"/>
                  </a:lnTo>
                  <a:lnTo>
                    <a:pt x="675" y="895"/>
                  </a:lnTo>
                  <a:lnTo>
                    <a:pt x="683" y="888"/>
                  </a:lnTo>
                  <a:lnTo>
                    <a:pt x="690" y="878"/>
                  </a:lnTo>
                  <a:lnTo>
                    <a:pt x="700" y="872"/>
                  </a:lnTo>
                  <a:lnTo>
                    <a:pt x="707" y="865"/>
                  </a:lnTo>
                  <a:lnTo>
                    <a:pt x="715" y="859"/>
                  </a:lnTo>
                  <a:lnTo>
                    <a:pt x="724" y="853"/>
                  </a:lnTo>
                  <a:lnTo>
                    <a:pt x="734" y="848"/>
                  </a:lnTo>
                  <a:lnTo>
                    <a:pt x="743" y="842"/>
                  </a:lnTo>
                  <a:lnTo>
                    <a:pt x="753" y="836"/>
                  </a:lnTo>
                  <a:lnTo>
                    <a:pt x="762" y="832"/>
                  </a:lnTo>
                  <a:lnTo>
                    <a:pt x="772" y="829"/>
                  </a:lnTo>
                  <a:lnTo>
                    <a:pt x="781" y="825"/>
                  </a:lnTo>
                  <a:lnTo>
                    <a:pt x="791" y="823"/>
                  </a:lnTo>
                  <a:lnTo>
                    <a:pt x="802" y="821"/>
                  </a:lnTo>
                  <a:lnTo>
                    <a:pt x="814" y="821"/>
                  </a:lnTo>
                  <a:lnTo>
                    <a:pt x="806" y="819"/>
                  </a:lnTo>
                  <a:lnTo>
                    <a:pt x="800" y="817"/>
                  </a:lnTo>
                  <a:lnTo>
                    <a:pt x="795" y="817"/>
                  </a:lnTo>
                  <a:lnTo>
                    <a:pt x="789" y="817"/>
                  </a:lnTo>
                  <a:lnTo>
                    <a:pt x="781" y="817"/>
                  </a:lnTo>
                  <a:lnTo>
                    <a:pt x="776" y="817"/>
                  </a:lnTo>
                  <a:lnTo>
                    <a:pt x="770" y="819"/>
                  </a:lnTo>
                  <a:lnTo>
                    <a:pt x="764" y="821"/>
                  </a:lnTo>
                  <a:lnTo>
                    <a:pt x="759" y="821"/>
                  </a:lnTo>
                  <a:lnTo>
                    <a:pt x="751" y="821"/>
                  </a:lnTo>
                  <a:lnTo>
                    <a:pt x="745" y="821"/>
                  </a:lnTo>
                  <a:lnTo>
                    <a:pt x="740" y="823"/>
                  </a:lnTo>
                  <a:lnTo>
                    <a:pt x="734" y="823"/>
                  </a:lnTo>
                  <a:lnTo>
                    <a:pt x="726" y="825"/>
                  </a:lnTo>
                  <a:lnTo>
                    <a:pt x="721" y="827"/>
                  </a:lnTo>
                  <a:lnTo>
                    <a:pt x="715" y="829"/>
                  </a:lnTo>
                  <a:lnTo>
                    <a:pt x="709" y="831"/>
                  </a:lnTo>
                  <a:lnTo>
                    <a:pt x="704" y="832"/>
                  </a:lnTo>
                  <a:lnTo>
                    <a:pt x="696" y="832"/>
                  </a:lnTo>
                  <a:lnTo>
                    <a:pt x="690" y="834"/>
                  </a:lnTo>
                  <a:lnTo>
                    <a:pt x="685" y="836"/>
                  </a:lnTo>
                  <a:lnTo>
                    <a:pt x="677" y="838"/>
                  </a:lnTo>
                  <a:lnTo>
                    <a:pt x="671" y="840"/>
                  </a:lnTo>
                  <a:lnTo>
                    <a:pt x="666" y="842"/>
                  </a:lnTo>
                  <a:lnTo>
                    <a:pt x="658" y="844"/>
                  </a:lnTo>
                  <a:lnTo>
                    <a:pt x="652" y="846"/>
                  </a:lnTo>
                  <a:lnTo>
                    <a:pt x="645" y="848"/>
                  </a:lnTo>
                  <a:lnTo>
                    <a:pt x="639" y="851"/>
                  </a:lnTo>
                  <a:lnTo>
                    <a:pt x="633" y="853"/>
                  </a:lnTo>
                  <a:lnTo>
                    <a:pt x="626" y="855"/>
                  </a:lnTo>
                  <a:lnTo>
                    <a:pt x="620" y="857"/>
                  </a:lnTo>
                  <a:lnTo>
                    <a:pt x="614" y="861"/>
                  </a:lnTo>
                  <a:lnTo>
                    <a:pt x="607" y="861"/>
                  </a:lnTo>
                  <a:lnTo>
                    <a:pt x="601" y="863"/>
                  </a:lnTo>
                  <a:lnTo>
                    <a:pt x="595" y="865"/>
                  </a:lnTo>
                  <a:lnTo>
                    <a:pt x="588" y="869"/>
                  </a:lnTo>
                  <a:lnTo>
                    <a:pt x="582" y="870"/>
                  </a:lnTo>
                  <a:lnTo>
                    <a:pt x="576" y="872"/>
                  </a:lnTo>
                  <a:lnTo>
                    <a:pt x="569" y="874"/>
                  </a:lnTo>
                  <a:lnTo>
                    <a:pt x="563" y="878"/>
                  </a:lnTo>
                  <a:lnTo>
                    <a:pt x="555" y="878"/>
                  </a:lnTo>
                  <a:lnTo>
                    <a:pt x="550" y="882"/>
                  </a:lnTo>
                  <a:lnTo>
                    <a:pt x="542" y="882"/>
                  </a:lnTo>
                  <a:lnTo>
                    <a:pt x="536" y="886"/>
                  </a:lnTo>
                  <a:lnTo>
                    <a:pt x="531" y="888"/>
                  </a:lnTo>
                  <a:lnTo>
                    <a:pt x="523" y="889"/>
                  </a:lnTo>
                  <a:lnTo>
                    <a:pt x="517" y="891"/>
                  </a:lnTo>
                  <a:lnTo>
                    <a:pt x="512" y="895"/>
                  </a:lnTo>
                  <a:lnTo>
                    <a:pt x="504" y="895"/>
                  </a:lnTo>
                  <a:lnTo>
                    <a:pt x="496" y="897"/>
                  </a:lnTo>
                  <a:lnTo>
                    <a:pt x="491" y="897"/>
                  </a:lnTo>
                  <a:lnTo>
                    <a:pt x="485" y="899"/>
                  </a:lnTo>
                  <a:lnTo>
                    <a:pt x="477" y="901"/>
                  </a:lnTo>
                  <a:lnTo>
                    <a:pt x="472" y="903"/>
                  </a:lnTo>
                  <a:lnTo>
                    <a:pt x="466" y="905"/>
                  </a:lnTo>
                  <a:lnTo>
                    <a:pt x="458" y="907"/>
                  </a:lnTo>
                  <a:lnTo>
                    <a:pt x="453" y="907"/>
                  </a:lnTo>
                  <a:lnTo>
                    <a:pt x="445" y="907"/>
                  </a:lnTo>
                  <a:lnTo>
                    <a:pt x="439" y="907"/>
                  </a:lnTo>
                  <a:lnTo>
                    <a:pt x="432" y="908"/>
                  </a:lnTo>
                  <a:lnTo>
                    <a:pt x="426" y="908"/>
                  </a:lnTo>
                  <a:lnTo>
                    <a:pt x="420" y="908"/>
                  </a:lnTo>
                  <a:lnTo>
                    <a:pt x="413" y="910"/>
                  </a:lnTo>
                  <a:lnTo>
                    <a:pt x="407" y="912"/>
                  </a:lnTo>
                  <a:lnTo>
                    <a:pt x="413" y="908"/>
                  </a:lnTo>
                  <a:lnTo>
                    <a:pt x="420" y="905"/>
                  </a:lnTo>
                  <a:lnTo>
                    <a:pt x="428" y="901"/>
                  </a:lnTo>
                  <a:lnTo>
                    <a:pt x="435" y="899"/>
                  </a:lnTo>
                  <a:lnTo>
                    <a:pt x="441" y="895"/>
                  </a:lnTo>
                  <a:lnTo>
                    <a:pt x="451" y="893"/>
                  </a:lnTo>
                  <a:lnTo>
                    <a:pt x="458" y="891"/>
                  </a:lnTo>
                  <a:lnTo>
                    <a:pt x="466" y="889"/>
                  </a:lnTo>
                  <a:lnTo>
                    <a:pt x="474" y="886"/>
                  </a:lnTo>
                  <a:lnTo>
                    <a:pt x="483" y="884"/>
                  </a:lnTo>
                  <a:lnTo>
                    <a:pt x="491" y="880"/>
                  </a:lnTo>
                  <a:lnTo>
                    <a:pt x="498" y="878"/>
                  </a:lnTo>
                  <a:lnTo>
                    <a:pt x="506" y="874"/>
                  </a:lnTo>
                  <a:lnTo>
                    <a:pt x="513" y="872"/>
                  </a:lnTo>
                  <a:lnTo>
                    <a:pt x="521" y="870"/>
                  </a:lnTo>
                  <a:lnTo>
                    <a:pt x="531" y="869"/>
                  </a:lnTo>
                  <a:lnTo>
                    <a:pt x="538" y="865"/>
                  </a:lnTo>
                  <a:lnTo>
                    <a:pt x="548" y="863"/>
                  </a:lnTo>
                  <a:lnTo>
                    <a:pt x="555" y="859"/>
                  </a:lnTo>
                  <a:lnTo>
                    <a:pt x="563" y="855"/>
                  </a:lnTo>
                  <a:lnTo>
                    <a:pt x="570" y="851"/>
                  </a:lnTo>
                  <a:lnTo>
                    <a:pt x="578" y="850"/>
                  </a:lnTo>
                  <a:lnTo>
                    <a:pt x="586" y="846"/>
                  </a:lnTo>
                  <a:lnTo>
                    <a:pt x="595" y="842"/>
                  </a:lnTo>
                  <a:lnTo>
                    <a:pt x="601" y="836"/>
                  </a:lnTo>
                  <a:lnTo>
                    <a:pt x="610" y="832"/>
                  </a:lnTo>
                  <a:lnTo>
                    <a:pt x="616" y="829"/>
                  </a:lnTo>
                  <a:lnTo>
                    <a:pt x="624" y="825"/>
                  </a:lnTo>
                  <a:lnTo>
                    <a:pt x="631" y="819"/>
                  </a:lnTo>
                  <a:lnTo>
                    <a:pt x="639" y="813"/>
                  </a:lnTo>
                  <a:lnTo>
                    <a:pt x="645" y="808"/>
                  </a:lnTo>
                  <a:lnTo>
                    <a:pt x="652" y="802"/>
                  </a:lnTo>
                  <a:lnTo>
                    <a:pt x="645" y="802"/>
                  </a:lnTo>
                  <a:lnTo>
                    <a:pt x="639" y="802"/>
                  </a:lnTo>
                  <a:lnTo>
                    <a:pt x="631" y="804"/>
                  </a:lnTo>
                  <a:lnTo>
                    <a:pt x="626" y="804"/>
                  </a:lnTo>
                  <a:lnTo>
                    <a:pt x="618" y="806"/>
                  </a:lnTo>
                  <a:lnTo>
                    <a:pt x="612" y="806"/>
                  </a:lnTo>
                  <a:lnTo>
                    <a:pt x="605" y="808"/>
                  </a:lnTo>
                  <a:lnTo>
                    <a:pt x="599" y="810"/>
                  </a:lnTo>
                  <a:lnTo>
                    <a:pt x="591" y="810"/>
                  </a:lnTo>
                  <a:lnTo>
                    <a:pt x="586" y="812"/>
                  </a:lnTo>
                  <a:lnTo>
                    <a:pt x="578" y="813"/>
                  </a:lnTo>
                  <a:lnTo>
                    <a:pt x="570" y="815"/>
                  </a:lnTo>
                  <a:lnTo>
                    <a:pt x="565" y="815"/>
                  </a:lnTo>
                  <a:lnTo>
                    <a:pt x="559" y="819"/>
                  </a:lnTo>
                  <a:lnTo>
                    <a:pt x="551" y="821"/>
                  </a:lnTo>
                  <a:lnTo>
                    <a:pt x="546" y="823"/>
                  </a:lnTo>
                  <a:lnTo>
                    <a:pt x="538" y="825"/>
                  </a:lnTo>
                  <a:lnTo>
                    <a:pt x="532" y="827"/>
                  </a:lnTo>
                  <a:lnTo>
                    <a:pt x="527" y="829"/>
                  </a:lnTo>
                  <a:lnTo>
                    <a:pt x="519" y="831"/>
                  </a:lnTo>
                  <a:lnTo>
                    <a:pt x="512" y="832"/>
                  </a:lnTo>
                  <a:lnTo>
                    <a:pt x="506" y="834"/>
                  </a:lnTo>
                  <a:lnTo>
                    <a:pt x="500" y="836"/>
                  </a:lnTo>
                  <a:lnTo>
                    <a:pt x="493" y="840"/>
                  </a:lnTo>
                  <a:lnTo>
                    <a:pt x="485" y="842"/>
                  </a:lnTo>
                  <a:lnTo>
                    <a:pt x="479" y="844"/>
                  </a:lnTo>
                  <a:lnTo>
                    <a:pt x="474" y="846"/>
                  </a:lnTo>
                  <a:lnTo>
                    <a:pt x="466" y="850"/>
                  </a:lnTo>
                  <a:lnTo>
                    <a:pt x="460" y="851"/>
                  </a:lnTo>
                  <a:lnTo>
                    <a:pt x="454" y="855"/>
                  </a:lnTo>
                  <a:lnTo>
                    <a:pt x="447" y="857"/>
                  </a:lnTo>
                  <a:lnTo>
                    <a:pt x="441" y="861"/>
                  </a:lnTo>
                  <a:lnTo>
                    <a:pt x="434" y="861"/>
                  </a:lnTo>
                  <a:lnTo>
                    <a:pt x="428" y="865"/>
                  </a:lnTo>
                  <a:lnTo>
                    <a:pt x="420" y="865"/>
                  </a:lnTo>
                  <a:lnTo>
                    <a:pt x="413" y="869"/>
                  </a:lnTo>
                  <a:lnTo>
                    <a:pt x="407" y="870"/>
                  </a:lnTo>
                  <a:lnTo>
                    <a:pt x="399" y="872"/>
                  </a:lnTo>
                  <a:lnTo>
                    <a:pt x="394" y="874"/>
                  </a:lnTo>
                  <a:lnTo>
                    <a:pt x="388" y="878"/>
                  </a:lnTo>
                  <a:lnTo>
                    <a:pt x="380" y="880"/>
                  </a:lnTo>
                  <a:lnTo>
                    <a:pt x="373" y="882"/>
                  </a:lnTo>
                  <a:lnTo>
                    <a:pt x="365" y="884"/>
                  </a:lnTo>
                  <a:lnTo>
                    <a:pt x="359" y="886"/>
                  </a:lnTo>
                  <a:lnTo>
                    <a:pt x="352" y="888"/>
                  </a:lnTo>
                  <a:lnTo>
                    <a:pt x="346" y="889"/>
                  </a:lnTo>
                  <a:lnTo>
                    <a:pt x="339" y="891"/>
                  </a:lnTo>
                  <a:lnTo>
                    <a:pt x="333" y="895"/>
                  </a:lnTo>
                  <a:lnTo>
                    <a:pt x="325" y="895"/>
                  </a:lnTo>
                  <a:lnTo>
                    <a:pt x="320" y="897"/>
                  </a:lnTo>
                  <a:lnTo>
                    <a:pt x="312" y="897"/>
                  </a:lnTo>
                  <a:lnTo>
                    <a:pt x="306" y="899"/>
                  </a:lnTo>
                  <a:lnTo>
                    <a:pt x="299" y="901"/>
                  </a:lnTo>
                  <a:lnTo>
                    <a:pt x="291" y="903"/>
                  </a:lnTo>
                  <a:lnTo>
                    <a:pt x="283" y="905"/>
                  </a:lnTo>
                  <a:lnTo>
                    <a:pt x="278" y="907"/>
                  </a:lnTo>
                  <a:lnTo>
                    <a:pt x="270" y="907"/>
                  </a:lnTo>
                  <a:lnTo>
                    <a:pt x="264" y="907"/>
                  </a:lnTo>
                  <a:lnTo>
                    <a:pt x="257" y="907"/>
                  </a:lnTo>
                  <a:lnTo>
                    <a:pt x="251" y="908"/>
                  </a:lnTo>
                  <a:lnTo>
                    <a:pt x="243" y="908"/>
                  </a:lnTo>
                  <a:lnTo>
                    <a:pt x="236" y="908"/>
                  </a:lnTo>
                  <a:lnTo>
                    <a:pt x="228" y="910"/>
                  </a:lnTo>
                  <a:lnTo>
                    <a:pt x="223" y="912"/>
                  </a:lnTo>
                  <a:lnTo>
                    <a:pt x="228" y="907"/>
                  </a:lnTo>
                  <a:lnTo>
                    <a:pt x="236" y="901"/>
                  </a:lnTo>
                  <a:lnTo>
                    <a:pt x="243" y="899"/>
                  </a:lnTo>
                  <a:lnTo>
                    <a:pt x="253" y="895"/>
                  </a:lnTo>
                  <a:lnTo>
                    <a:pt x="262" y="891"/>
                  </a:lnTo>
                  <a:lnTo>
                    <a:pt x="272" y="889"/>
                  </a:lnTo>
                  <a:lnTo>
                    <a:pt x="281" y="888"/>
                  </a:lnTo>
                  <a:lnTo>
                    <a:pt x="291" y="886"/>
                  </a:lnTo>
                  <a:lnTo>
                    <a:pt x="301" y="882"/>
                  </a:lnTo>
                  <a:lnTo>
                    <a:pt x="310" y="880"/>
                  </a:lnTo>
                  <a:lnTo>
                    <a:pt x="320" y="878"/>
                  </a:lnTo>
                  <a:lnTo>
                    <a:pt x="331" y="874"/>
                  </a:lnTo>
                  <a:lnTo>
                    <a:pt x="340" y="872"/>
                  </a:lnTo>
                  <a:lnTo>
                    <a:pt x="350" y="870"/>
                  </a:lnTo>
                  <a:lnTo>
                    <a:pt x="359" y="869"/>
                  </a:lnTo>
                  <a:lnTo>
                    <a:pt x="371" y="867"/>
                  </a:lnTo>
                  <a:lnTo>
                    <a:pt x="363" y="861"/>
                  </a:lnTo>
                  <a:lnTo>
                    <a:pt x="358" y="859"/>
                  </a:lnTo>
                  <a:lnTo>
                    <a:pt x="352" y="855"/>
                  </a:lnTo>
                  <a:lnTo>
                    <a:pt x="346" y="853"/>
                  </a:lnTo>
                  <a:lnTo>
                    <a:pt x="340" y="851"/>
                  </a:lnTo>
                  <a:lnTo>
                    <a:pt x="335" y="850"/>
                  </a:lnTo>
                  <a:lnTo>
                    <a:pt x="327" y="850"/>
                  </a:lnTo>
                  <a:lnTo>
                    <a:pt x="321" y="851"/>
                  </a:lnTo>
                  <a:lnTo>
                    <a:pt x="314" y="851"/>
                  </a:lnTo>
                  <a:lnTo>
                    <a:pt x="308" y="851"/>
                  </a:lnTo>
                  <a:lnTo>
                    <a:pt x="301" y="853"/>
                  </a:lnTo>
                  <a:lnTo>
                    <a:pt x="295" y="855"/>
                  </a:lnTo>
                  <a:lnTo>
                    <a:pt x="287" y="857"/>
                  </a:lnTo>
                  <a:lnTo>
                    <a:pt x="281" y="859"/>
                  </a:lnTo>
                  <a:lnTo>
                    <a:pt x="274" y="863"/>
                  </a:lnTo>
                  <a:lnTo>
                    <a:pt x="268" y="865"/>
                  </a:lnTo>
                  <a:lnTo>
                    <a:pt x="259" y="869"/>
                  </a:lnTo>
                  <a:lnTo>
                    <a:pt x="253" y="870"/>
                  </a:lnTo>
                  <a:lnTo>
                    <a:pt x="243" y="872"/>
                  </a:lnTo>
                  <a:lnTo>
                    <a:pt x="238" y="874"/>
                  </a:lnTo>
                  <a:lnTo>
                    <a:pt x="228" y="878"/>
                  </a:lnTo>
                  <a:lnTo>
                    <a:pt x="223" y="880"/>
                  </a:lnTo>
                  <a:lnTo>
                    <a:pt x="215" y="882"/>
                  </a:lnTo>
                  <a:lnTo>
                    <a:pt x="207" y="886"/>
                  </a:lnTo>
                  <a:lnTo>
                    <a:pt x="200" y="886"/>
                  </a:lnTo>
                  <a:lnTo>
                    <a:pt x="192" y="888"/>
                  </a:lnTo>
                  <a:lnTo>
                    <a:pt x="185" y="888"/>
                  </a:lnTo>
                  <a:lnTo>
                    <a:pt x="177" y="889"/>
                  </a:lnTo>
                  <a:lnTo>
                    <a:pt x="169" y="889"/>
                  </a:lnTo>
                  <a:lnTo>
                    <a:pt x="162" y="889"/>
                  </a:lnTo>
                  <a:lnTo>
                    <a:pt x="154" y="888"/>
                  </a:lnTo>
                  <a:lnTo>
                    <a:pt x="148" y="888"/>
                  </a:lnTo>
                  <a:lnTo>
                    <a:pt x="154" y="882"/>
                  </a:lnTo>
                  <a:lnTo>
                    <a:pt x="162" y="878"/>
                  </a:lnTo>
                  <a:lnTo>
                    <a:pt x="169" y="872"/>
                  </a:lnTo>
                  <a:lnTo>
                    <a:pt x="179" y="870"/>
                  </a:lnTo>
                  <a:lnTo>
                    <a:pt x="186" y="865"/>
                  </a:lnTo>
                  <a:lnTo>
                    <a:pt x="196" y="863"/>
                  </a:lnTo>
                  <a:lnTo>
                    <a:pt x="205" y="861"/>
                  </a:lnTo>
                  <a:lnTo>
                    <a:pt x="217" y="859"/>
                  </a:lnTo>
                  <a:lnTo>
                    <a:pt x="226" y="855"/>
                  </a:lnTo>
                  <a:lnTo>
                    <a:pt x="236" y="853"/>
                  </a:lnTo>
                  <a:lnTo>
                    <a:pt x="245" y="851"/>
                  </a:lnTo>
                  <a:lnTo>
                    <a:pt x="257" y="850"/>
                  </a:lnTo>
                  <a:lnTo>
                    <a:pt x="266" y="848"/>
                  </a:lnTo>
                  <a:lnTo>
                    <a:pt x="278" y="846"/>
                  </a:lnTo>
                  <a:lnTo>
                    <a:pt x="287" y="844"/>
                  </a:lnTo>
                  <a:lnTo>
                    <a:pt x="297" y="844"/>
                  </a:lnTo>
                  <a:lnTo>
                    <a:pt x="293" y="836"/>
                  </a:lnTo>
                  <a:lnTo>
                    <a:pt x="289" y="832"/>
                  </a:lnTo>
                  <a:lnTo>
                    <a:pt x="283" y="827"/>
                  </a:lnTo>
                  <a:lnTo>
                    <a:pt x="280" y="825"/>
                  </a:lnTo>
                  <a:lnTo>
                    <a:pt x="270" y="821"/>
                  </a:lnTo>
                  <a:lnTo>
                    <a:pt x="259" y="817"/>
                  </a:lnTo>
                  <a:lnTo>
                    <a:pt x="251" y="817"/>
                  </a:lnTo>
                  <a:lnTo>
                    <a:pt x="245" y="817"/>
                  </a:lnTo>
                  <a:lnTo>
                    <a:pt x="238" y="817"/>
                  </a:lnTo>
                  <a:lnTo>
                    <a:pt x="232" y="821"/>
                  </a:lnTo>
                  <a:lnTo>
                    <a:pt x="224" y="821"/>
                  </a:lnTo>
                  <a:lnTo>
                    <a:pt x="219" y="823"/>
                  </a:lnTo>
                  <a:lnTo>
                    <a:pt x="211" y="825"/>
                  </a:lnTo>
                  <a:lnTo>
                    <a:pt x="205" y="829"/>
                  </a:lnTo>
                  <a:lnTo>
                    <a:pt x="196" y="831"/>
                  </a:lnTo>
                  <a:lnTo>
                    <a:pt x="188" y="832"/>
                  </a:lnTo>
                  <a:lnTo>
                    <a:pt x="181" y="834"/>
                  </a:lnTo>
                  <a:lnTo>
                    <a:pt x="173" y="838"/>
                  </a:lnTo>
                  <a:lnTo>
                    <a:pt x="166" y="840"/>
                  </a:lnTo>
                  <a:lnTo>
                    <a:pt x="158" y="842"/>
                  </a:lnTo>
                  <a:lnTo>
                    <a:pt x="150" y="844"/>
                  </a:lnTo>
                  <a:lnTo>
                    <a:pt x="143" y="848"/>
                  </a:lnTo>
                  <a:lnTo>
                    <a:pt x="135" y="850"/>
                  </a:lnTo>
                  <a:lnTo>
                    <a:pt x="127" y="851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7" y="853"/>
                  </a:lnTo>
                  <a:lnTo>
                    <a:pt x="99" y="853"/>
                  </a:lnTo>
                  <a:lnTo>
                    <a:pt x="93" y="853"/>
                  </a:lnTo>
                  <a:lnTo>
                    <a:pt x="88" y="853"/>
                  </a:lnTo>
                  <a:lnTo>
                    <a:pt x="93" y="850"/>
                  </a:lnTo>
                  <a:lnTo>
                    <a:pt x="99" y="844"/>
                  </a:lnTo>
                  <a:lnTo>
                    <a:pt x="107" y="840"/>
                  </a:lnTo>
                  <a:lnTo>
                    <a:pt x="114" y="836"/>
                  </a:lnTo>
                  <a:lnTo>
                    <a:pt x="122" y="832"/>
                  </a:lnTo>
                  <a:lnTo>
                    <a:pt x="131" y="827"/>
                  </a:lnTo>
                  <a:lnTo>
                    <a:pt x="139" y="825"/>
                  </a:lnTo>
                  <a:lnTo>
                    <a:pt x="148" y="821"/>
                  </a:lnTo>
                  <a:lnTo>
                    <a:pt x="158" y="817"/>
                  </a:lnTo>
                  <a:lnTo>
                    <a:pt x="167" y="815"/>
                  </a:lnTo>
                  <a:lnTo>
                    <a:pt x="177" y="812"/>
                  </a:lnTo>
                  <a:lnTo>
                    <a:pt x="186" y="810"/>
                  </a:lnTo>
                  <a:lnTo>
                    <a:pt x="194" y="808"/>
                  </a:lnTo>
                  <a:lnTo>
                    <a:pt x="204" y="808"/>
                  </a:lnTo>
                  <a:lnTo>
                    <a:pt x="213" y="808"/>
                  </a:lnTo>
                  <a:lnTo>
                    <a:pt x="223" y="808"/>
                  </a:lnTo>
                  <a:lnTo>
                    <a:pt x="219" y="798"/>
                  </a:lnTo>
                  <a:lnTo>
                    <a:pt x="215" y="793"/>
                  </a:lnTo>
                  <a:lnTo>
                    <a:pt x="209" y="787"/>
                  </a:lnTo>
                  <a:lnTo>
                    <a:pt x="205" y="783"/>
                  </a:lnTo>
                  <a:lnTo>
                    <a:pt x="200" y="779"/>
                  </a:lnTo>
                  <a:lnTo>
                    <a:pt x="196" y="777"/>
                  </a:lnTo>
                  <a:lnTo>
                    <a:pt x="188" y="774"/>
                  </a:lnTo>
                  <a:lnTo>
                    <a:pt x="185" y="774"/>
                  </a:lnTo>
                  <a:lnTo>
                    <a:pt x="177" y="772"/>
                  </a:lnTo>
                  <a:lnTo>
                    <a:pt x="169" y="772"/>
                  </a:lnTo>
                  <a:lnTo>
                    <a:pt x="162" y="772"/>
                  </a:lnTo>
                  <a:lnTo>
                    <a:pt x="156" y="774"/>
                  </a:lnTo>
                  <a:lnTo>
                    <a:pt x="148" y="774"/>
                  </a:lnTo>
                  <a:lnTo>
                    <a:pt x="141" y="775"/>
                  </a:lnTo>
                  <a:lnTo>
                    <a:pt x="133" y="777"/>
                  </a:lnTo>
                  <a:lnTo>
                    <a:pt x="126" y="781"/>
                  </a:lnTo>
                  <a:lnTo>
                    <a:pt x="116" y="781"/>
                  </a:lnTo>
                  <a:lnTo>
                    <a:pt x="108" y="785"/>
                  </a:lnTo>
                  <a:lnTo>
                    <a:pt x="99" y="787"/>
                  </a:lnTo>
                  <a:lnTo>
                    <a:pt x="93" y="791"/>
                  </a:lnTo>
                  <a:lnTo>
                    <a:pt x="84" y="793"/>
                  </a:lnTo>
                  <a:lnTo>
                    <a:pt x="76" y="794"/>
                  </a:lnTo>
                  <a:lnTo>
                    <a:pt x="67" y="796"/>
                  </a:lnTo>
                  <a:lnTo>
                    <a:pt x="59" y="800"/>
                  </a:lnTo>
                  <a:lnTo>
                    <a:pt x="51" y="800"/>
                  </a:lnTo>
                  <a:lnTo>
                    <a:pt x="44" y="804"/>
                  </a:lnTo>
                  <a:lnTo>
                    <a:pt x="34" y="804"/>
                  </a:lnTo>
                  <a:lnTo>
                    <a:pt x="29" y="806"/>
                  </a:lnTo>
                  <a:lnTo>
                    <a:pt x="21" y="806"/>
                  </a:lnTo>
                  <a:lnTo>
                    <a:pt x="13" y="808"/>
                  </a:lnTo>
                  <a:lnTo>
                    <a:pt x="6" y="808"/>
                  </a:lnTo>
                  <a:lnTo>
                    <a:pt x="0" y="808"/>
                  </a:lnTo>
                  <a:lnTo>
                    <a:pt x="8" y="800"/>
                  </a:lnTo>
                  <a:lnTo>
                    <a:pt x="19" y="794"/>
                  </a:lnTo>
                  <a:lnTo>
                    <a:pt x="29" y="789"/>
                  </a:lnTo>
                  <a:lnTo>
                    <a:pt x="40" y="785"/>
                  </a:lnTo>
                  <a:lnTo>
                    <a:pt x="50" y="779"/>
                  </a:lnTo>
                  <a:lnTo>
                    <a:pt x="61" y="777"/>
                  </a:lnTo>
                  <a:lnTo>
                    <a:pt x="69" y="775"/>
                  </a:lnTo>
                  <a:lnTo>
                    <a:pt x="74" y="774"/>
                  </a:lnTo>
                  <a:lnTo>
                    <a:pt x="80" y="772"/>
                  </a:lnTo>
                  <a:lnTo>
                    <a:pt x="88" y="770"/>
                  </a:lnTo>
                  <a:lnTo>
                    <a:pt x="93" y="768"/>
                  </a:lnTo>
                  <a:lnTo>
                    <a:pt x="99" y="766"/>
                  </a:lnTo>
                  <a:lnTo>
                    <a:pt x="105" y="762"/>
                  </a:lnTo>
                  <a:lnTo>
                    <a:pt x="110" y="762"/>
                  </a:lnTo>
                  <a:lnTo>
                    <a:pt x="116" y="758"/>
                  </a:lnTo>
                  <a:lnTo>
                    <a:pt x="122" y="758"/>
                  </a:lnTo>
                  <a:lnTo>
                    <a:pt x="129" y="755"/>
                  </a:lnTo>
                  <a:lnTo>
                    <a:pt x="135" y="753"/>
                  </a:lnTo>
                  <a:lnTo>
                    <a:pt x="145" y="747"/>
                  </a:lnTo>
                  <a:lnTo>
                    <a:pt x="158" y="741"/>
                  </a:lnTo>
                  <a:lnTo>
                    <a:pt x="167" y="734"/>
                  </a:lnTo>
                  <a:lnTo>
                    <a:pt x="179" y="728"/>
                  </a:lnTo>
                  <a:lnTo>
                    <a:pt x="171" y="724"/>
                  </a:lnTo>
                  <a:lnTo>
                    <a:pt x="164" y="724"/>
                  </a:lnTo>
                  <a:lnTo>
                    <a:pt x="158" y="724"/>
                  </a:lnTo>
                  <a:lnTo>
                    <a:pt x="152" y="726"/>
                  </a:lnTo>
                  <a:lnTo>
                    <a:pt x="145" y="726"/>
                  </a:lnTo>
                  <a:lnTo>
                    <a:pt x="139" y="726"/>
                  </a:lnTo>
                  <a:lnTo>
                    <a:pt x="133" y="728"/>
                  </a:lnTo>
                  <a:lnTo>
                    <a:pt x="126" y="730"/>
                  </a:lnTo>
                  <a:lnTo>
                    <a:pt x="120" y="732"/>
                  </a:lnTo>
                  <a:lnTo>
                    <a:pt x="112" y="732"/>
                  </a:lnTo>
                  <a:lnTo>
                    <a:pt x="107" y="734"/>
                  </a:lnTo>
                  <a:lnTo>
                    <a:pt x="99" y="734"/>
                  </a:lnTo>
                  <a:lnTo>
                    <a:pt x="93" y="734"/>
                  </a:lnTo>
                  <a:lnTo>
                    <a:pt x="88" y="734"/>
                  </a:lnTo>
                  <a:lnTo>
                    <a:pt x="80" y="734"/>
                  </a:lnTo>
                  <a:lnTo>
                    <a:pt x="74" y="734"/>
                  </a:lnTo>
                  <a:lnTo>
                    <a:pt x="74" y="730"/>
                  </a:lnTo>
                  <a:lnTo>
                    <a:pt x="74" y="728"/>
                  </a:lnTo>
                  <a:lnTo>
                    <a:pt x="82" y="724"/>
                  </a:lnTo>
                  <a:lnTo>
                    <a:pt x="89" y="722"/>
                  </a:lnTo>
                  <a:lnTo>
                    <a:pt x="99" y="718"/>
                  </a:lnTo>
                  <a:lnTo>
                    <a:pt x="107" y="716"/>
                  </a:lnTo>
                  <a:lnTo>
                    <a:pt x="114" y="713"/>
                  </a:lnTo>
                  <a:lnTo>
                    <a:pt x="124" y="711"/>
                  </a:lnTo>
                  <a:lnTo>
                    <a:pt x="131" y="709"/>
                  </a:lnTo>
                  <a:lnTo>
                    <a:pt x="141" y="707"/>
                  </a:lnTo>
                  <a:lnTo>
                    <a:pt x="148" y="703"/>
                  </a:lnTo>
                  <a:lnTo>
                    <a:pt x="158" y="701"/>
                  </a:lnTo>
                  <a:lnTo>
                    <a:pt x="166" y="699"/>
                  </a:lnTo>
                  <a:lnTo>
                    <a:pt x="175" y="697"/>
                  </a:lnTo>
                  <a:lnTo>
                    <a:pt x="185" y="696"/>
                  </a:lnTo>
                  <a:lnTo>
                    <a:pt x="192" y="694"/>
                  </a:lnTo>
                  <a:lnTo>
                    <a:pt x="200" y="692"/>
                  </a:lnTo>
                  <a:lnTo>
                    <a:pt x="209" y="692"/>
                  </a:lnTo>
                  <a:lnTo>
                    <a:pt x="204" y="686"/>
                  </a:lnTo>
                  <a:lnTo>
                    <a:pt x="196" y="680"/>
                  </a:lnTo>
                  <a:lnTo>
                    <a:pt x="188" y="678"/>
                  </a:lnTo>
                  <a:lnTo>
                    <a:pt x="181" y="678"/>
                  </a:lnTo>
                  <a:lnTo>
                    <a:pt x="171" y="677"/>
                  </a:lnTo>
                  <a:lnTo>
                    <a:pt x="162" y="677"/>
                  </a:lnTo>
                  <a:lnTo>
                    <a:pt x="154" y="678"/>
                  </a:lnTo>
                  <a:lnTo>
                    <a:pt x="145" y="680"/>
                  </a:lnTo>
                  <a:lnTo>
                    <a:pt x="135" y="680"/>
                  </a:lnTo>
                  <a:lnTo>
                    <a:pt x="127" y="682"/>
                  </a:lnTo>
                  <a:lnTo>
                    <a:pt x="118" y="684"/>
                  </a:lnTo>
                  <a:lnTo>
                    <a:pt x="110" y="686"/>
                  </a:lnTo>
                  <a:lnTo>
                    <a:pt x="99" y="686"/>
                  </a:lnTo>
                  <a:lnTo>
                    <a:pt x="89" y="688"/>
                  </a:lnTo>
                  <a:lnTo>
                    <a:pt x="82" y="688"/>
                  </a:lnTo>
                  <a:lnTo>
                    <a:pt x="74" y="688"/>
                  </a:lnTo>
                  <a:lnTo>
                    <a:pt x="76" y="678"/>
                  </a:lnTo>
                  <a:lnTo>
                    <a:pt x="80" y="671"/>
                  </a:lnTo>
                  <a:lnTo>
                    <a:pt x="84" y="663"/>
                  </a:lnTo>
                  <a:lnTo>
                    <a:pt x="89" y="658"/>
                  </a:lnTo>
                  <a:lnTo>
                    <a:pt x="97" y="652"/>
                  </a:lnTo>
                  <a:lnTo>
                    <a:pt x="105" y="648"/>
                  </a:lnTo>
                  <a:lnTo>
                    <a:pt x="112" y="644"/>
                  </a:lnTo>
                  <a:lnTo>
                    <a:pt x="122" y="640"/>
                  </a:lnTo>
                  <a:lnTo>
                    <a:pt x="129" y="639"/>
                  </a:lnTo>
                  <a:lnTo>
                    <a:pt x="139" y="635"/>
                  </a:lnTo>
                  <a:lnTo>
                    <a:pt x="148" y="631"/>
                  </a:lnTo>
                  <a:lnTo>
                    <a:pt x="158" y="629"/>
                  </a:lnTo>
                  <a:lnTo>
                    <a:pt x="166" y="625"/>
                  </a:lnTo>
                  <a:lnTo>
                    <a:pt x="175" y="623"/>
                  </a:lnTo>
                  <a:lnTo>
                    <a:pt x="185" y="621"/>
                  </a:lnTo>
                  <a:lnTo>
                    <a:pt x="194" y="620"/>
                  </a:lnTo>
                  <a:lnTo>
                    <a:pt x="194" y="616"/>
                  </a:lnTo>
                  <a:lnTo>
                    <a:pt x="194" y="614"/>
                  </a:lnTo>
                  <a:lnTo>
                    <a:pt x="185" y="610"/>
                  </a:lnTo>
                  <a:lnTo>
                    <a:pt x="177" y="608"/>
                  </a:lnTo>
                  <a:lnTo>
                    <a:pt x="167" y="608"/>
                  </a:lnTo>
                  <a:lnTo>
                    <a:pt x="160" y="608"/>
                  </a:lnTo>
                  <a:lnTo>
                    <a:pt x="150" y="608"/>
                  </a:lnTo>
                  <a:lnTo>
                    <a:pt x="141" y="608"/>
                  </a:lnTo>
                  <a:lnTo>
                    <a:pt x="131" y="606"/>
                  </a:lnTo>
                  <a:lnTo>
                    <a:pt x="124" y="604"/>
                  </a:lnTo>
                  <a:lnTo>
                    <a:pt x="127" y="595"/>
                  </a:lnTo>
                  <a:lnTo>
                    <a:pt x="133" y="587"/>
                  </a:lnTo>
                  <a:lnTo>
                    <a:pt x="141" y="580"/>
                  </a:lnTo>
                  <a:lnTo>
                    <a:pt x="148" y="574"/>
                  </a:lnTo>
                  <a:lnTo>
                    <a:pt x="154" y="566"/>
                  </a:lnTo>
                  <a:lnTo>
                    <a:pt x="164" y="559"/>
                  </a:lnTo>
                  <a:lnTo>
                    <a:pt x="171" y="551"/>
                  </a:lnTo>
                  <a:lnTo>
                    <a:pt x="181" y="545"/>
                  </a:lnTo>
                  <a:lnTo>
                    <a:pt x="188" y="538"/>
                  </a:lnTo>
                  <a:lnTo>
                    <a:pt x="198" y="530"/>
                  </a:lnTo>
                  <a:lnTo>
                    <a:pt x="205" y="523"/>
                  </a:lnTo>
                  <a:lnTo>
                    <a:pt x="213" y="515"/>
                  </a:lnTo>
                  <a:lnTo>
                    <a:pt x="217" y="505"/>
                  </a:lnTo>
                  <a:lnTo>
                    <a:pt x="224" y="500"/>
                  </a:lnTo>
                  <a:lnTo>
                    <a:pt x="228" y="490"/>
                  </a:lnTo>
                  <a:lnTo>
                    <a:pt x="234" y="483"/>
                  </a:lnTo>
                  <a:lnTo>
                    <a:pt x="223" y="483"/>
                  </a:lnTo>
                  <a:lnTo>
                    <a:pt x="211" y="485"/>
                  </a:lnTo>
                  <a:lnTo>
                    <a:pt x="200" y="486"/>
                  </a:lnTo>
                  <a:lnTo>
                    <a:pt x="190" y="492"/>
                  </a:lnTo>
                  <a:lnTo>
                    <a:pt x="181" y="498"/>
                  </a:lnTo>
                  <a:lnTo>
                    <a:pt x="171" y="504"/>
                  </a:lnTo>
                  <a:lnTo>
                    <a:pt x="162" y="511"/>
                  </a:lnTo>
                  <a:lnTo>
                    <a:pt x="152" y="517"/>
                  </a:lnTo>
                  <a:lnTo>
                    <a:pt x="141" y="523"/>
                  </a:lnTo>
                  <a:lnTo>
                    <a:pt x="131" y="528"/>
                  </a:lnTo>
                  <a:lnTo>
                    <a:pt x="122" y="534"/>
                  </a:lnTo>
                  <a:lnTo>
                    <a:pt x="112" y="540"/>
                  </a:lnTo>
                  <a:lnTo>
                    <a:pt x="103" y="543"/>
                  </a:lnTo>
                  <a:lnTo>
                    <a:pt x="93" y="547"/>
                  </a:lnTo>
                  <a:lnTo>
                    <a:pt x="84" y="551"/>
                  </a:lnTo>
                  <a:lnTo>
                    <a:pt x="74" y="553"/>
                  </a:lnTo>
                  <a:lnTo>
                    <a:pt x="74" y="547"/>
                  </a:lnTo>
                  <a:lnTo>
                    <a:pt x="76" y="542"/>
                  </a:lnTo>
                  <a:lnTo>
                    <a:pt x="78" y="536"/>
                  </a:lnTo>
                  <a:lnTo>
                    <a:pt x="82" y="532"/>
                  </a:lnTo>
                  <a:lnTo>
                    <a:pt x="88" y="523"/>
                  </a:lnTo>
                  <a:lnTo>
                    <a:pt x="97" y="515"/>
                  </a:lnTo>
                  <a:lnTo>
                    <a:pt x="105" y="509"/>
                  </a:lnTo>
                  <a:lnTo>
                    <a:pt x="114" y="502"/>
                  </a:lnTo>
                  <a:lnTo>
                    <a:pt x="126" y="496"/>
                  </a:lnTo>
                  <a:lnTo>
                    <a:pt x="135" y="492"/>
                  </a:lnTo>
                  <a:lnTo>
                    <a:pt x="145" y="485"/>
                  </a:lnTo>
                  <a:lnTo>
                    <a:pt x="154" y="481"/>
                  </a:lnTo>
                  <a:lnTo>
                    <a:pt x="164" y="475"/>
                  </a:lnTo>
                  <a:lnTo>
                    <a:pt x="173" y="469"/>
                  </a:lnTo>
                  <a:lnTo>
                    <a:pt x="179" y="464"/>
                  </a:lnTo>
                  <a:lnTo>
                    <a:pt x="186" y="458"/>
                  </a:lnTo>
                  <a:lnTo>
                    <a:pt x="190" y="450"/>
                  </a:lnTo>
                  <a:lnTo>
                    <a:pt x="194" y="445"/>
                  </a:lnTo>
                  <a:lnTo>
                    <a:pt x="186" y="447"/>
                  </a:lnTo>
                  <a:lnTo>
                    <a:pt x="179" y="448"/>
                  </a:lnTo>
                  <a:lnTo>
                    <a:pt x="171" y="450"/>
                  </a:lnTo>
                  <a:lnTo>
                    <a:pt x="166" y="454"/>
                  </a:lnTo>
                  <a:lnTo>
                    <a:pt x="158" y="456"/>
                  </a:lnTo>
                  <a:lnTo>
                    <a:pt x="152" y="458"/>
                  </a:lnTo>
                  <a:lnTo>
                    <a:pt x="145" y="460"/>
                  </a:lnTo>
                  <a:lnTo>
                    <a:pt x="139" y="464"/>
                  </a:lnTo>
                  <a:lnTo>
                    <a:pt x="129" y="466"/>
                  </a:lnTo>
                  <a:lnTo>
                    <a:pt x="122" y="467"/>
                  </a:lnTo>
                  <a:lnTo>
                    <a:pt x="114" y="469"/>
                  </a:lnTo>
                  <a:lnTo>
                    <a:pt x="108" y="473"/>
                  </a:lnTo>
                  <a:lnTo>
                    <a:pt x="99" y="475"/>
                  </a:lnTo>
                  <a:lnTo>
                    <a:pt x="93" y="479"/>
                  </a:lnTo>
                  <a:lnTo>
                    <a:pt x="86" y="483"/>
                  </a:lnTo>
                  <a:lnTo>
                    <a:pt x="78" y="486"/>
                  </a:lnTo>
                  <a:lnTo>
                    <a:pt x="76" y="485"/>
                  </a:lnTo>
                  <a:lnTo>
                    <a:pt x="82" y="475"/>
                  </a:lnTo>
                  <a:lnTo>
                    <a:pt x="88" y="467"/>
                  </a:lnTo>
                  <a:lnTo>
                    <a:pt x="95" y="460"/>
                  </a:lnTo>
                  <a:lnTo>
                    <a:pt x="105" y="454"/>
                  </a:lnTo>
                  <a:lnTo>
                    <a:pt x="112" y="448"/>
                  </a:lnTo>
                  <a:lnTo>
                    <a:pt x="122" y="443"/>
                  </a:lnTo>
                  <a:lnTo>
                    <a:pt x="131" y="439"/>
                  </a:lnTo>
                  <a:lnTo>
                    <a:pt x="141" y="437"/>
                  </a:lnTo>
                  <a:lnTo>
                    <a:pt x="150" y="431"/>
                  </a:lnTo>
                  <a:lnTo>
                    <a:pt x="158" y="428"/>
                  </a:lnTo>
                  <a:lnTo>
                    <a:pt x="166" y="422"/>
                  </a:lnTo>
                  <a:lnTo>
                    <a:pt x="173" y="416"/>
                  </a:lnTo>
                  <a:lnTo>
                    <a:pt x="179" y="410"/>
                  </a:lnTo>
                  <a:lnTo>
                    <a:pt x="186" y="403"/>
                  </a:lnTo>
                  <a:lnTo>
                    <a:pt x="190" y="395"/>
                  </a:lnTo>
                  <a:lnTo>
                    <a:pt x="194" y="388"/>
                  </a:lnTo>
                  <a:lnTo>
                    <a:pt x="185" y="391"/>
                  </a:lnTo>
                  <a:lnTo>
                    <a:pt x="175" y="393"/>
                  </a:lnTo>
                  <a:lnTo>
                    <a:pt x="164" y="395"/>
                  </a:lnTo>
                  <a:lnTo>
                    <a:pt x="154" y="395"/>
                  </a:lnTo>
                  <a:lnTo>
                    <a:pt x="143" y="395"/>
                  </a:lnTo>
                  <a:lnTo>
                    <a:pt x="131" y="395"/>
                  </a:lnTo>
                  <a:lnTo>
                    <a:pt x="120" y="393"/>
                  </a:lnTo>
                  <a:lnTo>
                    <a:pt x="110" y="395"/>
                  </a:lnTo>
                  <a:lnTo>
                    <a:pt x="118" y="388"/>
                  </a:lnTo>
                  <a:lnTo>
                    <a:pt x="126" y="384"/>
                  </a:lnTo>
                  <a:lnTo>
                    <a:pt x="131" y="376"/>
                  </a:lnTo>
                  <a:lnTo>
                    <a:pt x="139" y="372"/>
                  </a:lnTo>
                  <a:lnTo>
                    <a:pt x="145" y="365"/>
                  </a:lnTo>
                  <a:lnTo>
                    <a:pt x="150" y="359"/>
                  </a:lnTo>
                  <a:lnTo>
                    <a:pt x="156" y="353"/>
                  </a:lnTo>
                  <a:lnTo>
                    <a:pt x="162" y="348"/>
                  </a:lnTo>
                  <a:lnTo>
                    <a:pt x="167" y="340"/>
                  </a:lnTo>
                  <a:lnTo>
                    <a:pt x="171" y="332"/>
                  </a:lnTo>
                  <a:lnTo>
                    <a:pt x="175" y="325"/>
                  </a:lnTo>
                  <a:lnTo>
                    <a:pt x="179" y="319"/>
                  </a:lnTo>
                  <a:lnTo>
                    <a:pt x="183" y="312"/>
                  </a:lnTo>
                  <a:lnTo>
                    <a:pt x="186" y="304"/>
                  </a:lnTo>
                  <a:lnTo>
                    <a:pt x="190" y="296"/>
                  </a:lnTo>
                  <a:lnTo>
                    <a:pt x="194" y="291"/>
                  </a:lnTo>
                  <a:lnTo>
                    <a:pt x="196" y="281"/>
                  </a:lnTo>
                  <a:lnTo>
                    <a:pt x="200" y="274"/>
                  </a:lnTo>
                  <a:lnTo>
                    <a:pt x="202" y="266"/>
                  </a:lnTo>
                  <a:lnTo>
                    <a:pt x="205" y="258"/>
                  </a:lnTo>
                  <a:lnTo>
                    <a:pt x="207" y="249"/>
                  </a:lnTo>
                  <a:lnTo>
                    <a:pt x="209" y="241"/>
                  </a:lnTo>
                  <a:lnTo>
                    <a:pt x="213" y="236"/>
                  </a:lnTo>
                  <a:lnTo>
                    <a:pt x="215" y="228"/>
                  </a:lnTo>
                  <a:lnTo>
                    <a:pt x="217" y="218"/>
                  </a:lnTo>
                  <a:lnTo>
                    <a:pt x="219" y="211"/>
                  </a:lnTo>
                  <a:lnTo>
                    <a:pt x="221" y="203"/>
                  </a:lnTo>
                  <a:lnTo>
                    <a:pt x="224" y="196"/>
                  </a:lnTo>
                  <a:lnTo>
                    <a:pt x="226" y="186"/>
                  </a:lnTo>
                  <a:lnTo>
                    <a:pt x="228" y="180"/>
                  </a:lnTo>
                  <a:lnTo>
                    <a:pt x="230" y="171"/>
                  </a:lnTo>
                  <a:lnTo>
                    <a:pt x="234" y="165"/>
                  </a:lnTo>
                  <a:lnTo>
                    <a:pt x="236" y="171"/>
                  </a:lnTo>
                  <a:lnTo>
                    <a:pt x="238" y="177"/>
                  </a:lnTo>
                  <a:lnTo>
                    <a:pt x="240" y="182"/>
                  </a:lnTo>
                  <a:lnTo>
                    <a:pt x="242" y="190"/>
                  </a:lnTo>
                  <a:lnTo>
                    <a:pt x="242" y="197"/>
                  </a:lnTo>
                  <a:lnTo>
                    <a:pt x="242" y="207"/>
                  </a:lnTo>
                  <a:lnTo>
                    <a:pt x="240" y="213"/>
                  </a:lnTo>
                  <a:lnTo>
                    <a:pt x="238" y="222"/>
                  </a:lnTo>
                  <a:lnTo>
                    <a:pt x="236" y="230"/>
                  </a:lnTo>
                  <a:lnTo>
                    <a:pt x="234" y="239"/>
                  </a:lnTo>
                  <a:lnTo>
                    <a:pt x="232" y="247"/>
                  </a:lnTo>
                  <a:lnTo>
                    <a:pt x="230" y="256"/>
                  </a:lnTo>
                  <a:lnTo>
                    <a:pt x="226" y="264"/>
                  </a:lnTo>
                  <a:lnTo>
                    <a:pt x="226" y="272"/>
                  </a:lnTo>
                  <a:lnTo>
                    <a:pt x="224" y="277"/>
                  </a:lnTo>
                  <a:lnTo>
                    <a:pt x="223" y="285"/>
                  </a:lnTo>
                  <a:lnTo>
                    <a:pt x="224" y="287"/>
                  </a:lnTo>
                  <a:lnTo>
                    <a:pt x="228" y="291"/>
                  </a:lnTo>
                  <a:lnTo>
                    <a:pt x="236" y="283"/>
                  </a:lnTo>
                  <a:lnTo>
                    <a:pt x="245" y="277"/>
                  </a:lnTo>
                  <a:lnTo>
                    <a:pt x="251" y="272"/>
                  </a:lnTo>
                  <a:lnTo>
                    <a:pt x="259" y="264"/>
                  </a:lnTo>
                  <a:lnTo>
                    <a:pt x="262" y="255"/>
                  </a:lnTo>
                  <a:lnTo>
                    <a:pt x="268" y="247"/>
                  </a:lnTo>
                  <a:lnTo>
                    <a:pt x="272" y="237"/>
                  </a:lnTo>
                  <a:lnTo>
                    <a:pt x="278" y="228"/>
                  </a:lnTo>
                  <a:lnTo>
                    <a:pt x="280" y="218"/>
                  </a:lnTo>
                  <a:lnTo>
                    <a:pt x="283" y="209"/>
                  </a:lnTo>
                  <a:lnTo>
                    <a:pt x="287" y="199"/>
                  </a:lnTo>
                  <a:lnTo>
                    <a:pt x="291" y="190"/>
                  </a:lnTo>
                  <a:lnTo>
                    <a:pt x="293" y="180"/>
                  </a:lnTo>
                  <a:lnTo>
                    <a:pt x="297" y="171"/>
                  </a:lnTo>
                  <a:lnTo>
                    <a:pt x="301" y="161"/>
                  </a:lnTo>
                  <a:lnTo>
                    <a:pt x="308" y="154"/>
                  </a:lnTo>
                  <a:lnTo>
                    <a:pt x="314" y="154"/>
                  </a:lnTo>
                  <a:lnTo>
                    <a:pt x="314" y="159"/>
                  </a:lnTo>
                  <a:lnTo>
                    <a:pt x="316" y="165"/>
                  </a:lnTo>
                  <a:lnTo>
                    <a:pt x="318" y="173"/>
                  </a:lnTo>
                  <a:lnTo>
                    <a:pt x="318" y="178"/>
                  </a:lnTo>
                  <a:lnTo>
                    <a:pt x="318" y="184"/>
                  </a:lnTo>
                  <a:lnTo>
                    <a:pt x="318" y="190"/>
                  </a:lnTo>
                  <a:lnTo>
                    <a:pt x="318" y="196"/>
                  </a:lnTo>
                  <a:lnTo>
                    <a:pt x="318" y="203"/>
                  </a:lnTo>
                  <a:lnTo>
                    <a:pt x="316" y="213"/>
                  </a:lnTo>
                  <a:lnTo>
                    <a:pt x="314" y="226"/>
                  </a:lnTo>
                  <a:lnTo>
                    <a:pt x="312" y="230"/>
                  </a:lnTo>
                  <a:lnTo>
                    <a:pt x="310" y="237"/>
                  </a:lnTo>
                  <a:lnTo>
                    <a:pt x="310" y="241"/>
                  </a:lnTo>
                  <a:lnTo>
                    <a:pt x="308" y="249"/>
                  </a:lnTo>
                  <a:lnTo>
                    <a:pt x="302" y="258"/>
                  </a:lnTo>
                  <a:lnTo>
                    <a:pt x="301" y="272"/>
                  </a:lnTo>
                  <a:lnTo>
                    <a:pt x="295" y="281"/>
                  </a:lnTo>
                  <a:lnTo>
                    <a:pt x="291" y="293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83" y="321"/>
                  </a:lnTo>
                  <a:lnTo>
                    <a:pt x="283" y="327"/>
                  </a:lnTo>
                  <a:lnTo>
                    <a:pt x="283" y="332"/>
                  </a:lnTo>
                  <a:lnTo>
                    <a:pt x="283" y="340"/>
                  </a:lnTo>
                  <a:lnTo>
                    <a:pt x="293" y="336"/>
                  </a:lnTo>
                  <a:lnTo>
                    <a:pt x="302" y="332"/>
                  </a:lnTo>
                  <a:lnTo>
                    <a:pt x="310" y="327"/>
                  </a:lnTo>
                  <a:lnTo>
                    <a:pt x="320" y="319"/>
                  </a:lnTo>
                  <a:lnTo>
                    <a:pt x="325" y="310"/>
                  </a:lnTo>
                  <a:lnTo>
                    <a:pt x="333" y="300"/>
                  </a:lnTo>
                  <a:lnTo>
                    <a:pt x="339" y="291"/>
                  </a:lnTo>
                  <a:lnTo>
                    <a:pt x="346" y="279"/>
                  </a:lnTo>
                  <a:lnTo>
                    <a:pt x="348" y="274"/>
                  </a:lnTo>
                  <a:lnTo>
                    <a:pt x="350" y="266"/>
                  </a:lnTo>
                  <a:lnTo>
                    <a:pt x="352" y="260"/>
                  </a:lnTo>
                  <a:lnTo>
                    <a:pt x="356" y="255"/>
                  </a:lnTo>
                  <a:lnTo>
                    <a:pt x="358" y="249"/>
                  </a:lnTo>
                  <a:lnTo>
                    <a:pt x="359" y="241"/>
                  </a:lnTo>
                  <a:lnTo>
                    <a:pt x="361" y="236"/>
                  </a:lnTo>
                  <a:lnTo>
                    <a:pt x="365" y="230"/>
                  </a:lnTo>
                  <a:lnTo>
                    <a:pt x="365" y="224"/>
                  </a:lnTo>
                  <a:lnTo>
                    <a:pt x="369" y="218"/>
                  </a:lnTo>
                  <a:lnTo>
                    <a:pt x="371" y="213"/>
                  </a:lnTo>
                  <a:lnTo>
                    <a:pt x="373" y="207"/>
                  </a:lnTo>
                  <a:lnTo>
                    <a:pt x="377" y="196"/>
                  </a:lnTo>
                  <a:lnTo>
                    <a:pt x="382" y="188"/>
                  </a:lnTo>
                  <a:lnTo>
                    <a:pt x="390" y="190"/>
                  </a:lnTo>
                  <a:lnTo>
                    <a:pt x="397" y="194"/>
                  </a:lnTo>
                  <a:lnTo>
                    <a:pt x="401" y="199"/>
                  </a:lnTo>
                  <a:lnTo>
                    <a:pt x="405" y="207"/>
                  </a:lnTo>
                  <a:lnTo>
                    <a:pt x="407" y="213"/>
                  </a:lnTo>
                  <a:lnTo>
                    <a:pt x="407" y="220"/>
                  </a:lnTo>
                  <a:lnTo>
                    <a:pt x="407" y="230"/>
                  </a:lnTo>
                  <a:lnTo>
                    <a:pt x="405" y="239"/>
                  </a:lnTo>
                  <a:lnTo>
                    <a:pt x="401" y="249"/>
                  </a:lnTo>
                  <a:lnTo>
                    <a:pt x="399" y="260"/>
                  </a:lnTo>
                  <a:lnTo>
                    <a:pt x="394" y="272"/>
                  </a:lnTo>
                  <a:lnTo>
                    <a:pt x="390" y="283"/>
                  </a:lnTo>
                  <a:lnTo>
                    <a:pt x="384" y="293"/>
                  </a:lnTo>
                  <a:lnTo>
                    <a:pt x="380" y="304"/>
                  </a:lnTo>
                  <a:lnTo>
                    <a:pt x="377" y="310"/>
                  </a:lnTo>
                  <a:lnTo>
                    <a:pt x="375" y="317"/>
                  </a:lnTo>
                  <a:lnTo>
                    <a:pt x="373" y="321"/>
                  </a:lnTo>
                  <a:lnTo>
                    <a:pt x="371" y="329"/>
                  </a:lnTo>
                  <a:lnTo>
                    <a:pt x="363" y="338"/>
                  </a:lnTo>
                  <a:lnTo>
                    <a:pt x="358" y="348"/>
                  </a:lnTo>
                  <a:lnTo>
                    <a:pt x="354" y="355"/>
                  </a:lnTo>
                  <a:lnTo>
                    <a:pt x="350" y="365"/>
                  </a:lnTo>
                  <a:lnTo>
                    <a:pt x="346" y="372"/>
                  </a:lnTo>
                  <a:lnTo>
                    <a:pt x="344" y="380"/>
                  </a:lnTo>
                  <a:lnTo>
                    <a:pt x="342" y="386"/>
                  </a:lnTo>
                  <a:lnTo>
                    <a:pt x="342" y="391"/>
                  </a:lnTo>
                  <a:lnTo>
                    <a:pt x="344" y="397"/>
                  </a:lnTo>
                  <a:lnTo>
                    <a:pt x="354" y="399"/>
                  </a:lnTo>
                  <a:lnTo>
                    <a:pt x="358" y="395"/>
                  </a:lnTo>
                  <a:lnTo>
                    <a:pt x="367" y="393"/>
                  </a:lnTo>
                  <a:lnTo>
                    <a:pt x="373" y="390"/>
                  </a:lnTo>
                  <a:lnTo>
                    <a:pt x="377" y="386"/>
                  </a:lnTo>
                  <a:lnTo>
                    <a:pt x="384" y="384"/>
                  </a:lnTo>
                  <a:lnTo>
                    <a:pt x="392" y="380"/>
                  </a:lnTo>
                  <a:lnTo>
                    <a:pt x="397" y="369"/>
                  </a:lnTo>
                  <a:lnTo>
                    <a:pt x="401" y="359"/>
                  </a:lnTo>
                  <a:lnTo>
                    <a:pt x="407" y="350"/>
                  </a:lnTo>
                  <a:lnTo>
                    <a:pt x="413" y="340"/>
                  </a:lnTo>
                  <a:lnTo>
                    <a:pt x="418" y="329"/>
                  </a:lnTo>
                  <a:lnTo>
                    <a:pt x="426" y="319"/>
                  </a:lnTo>
                  <a:lnTo>
                    <a:pt x="432" y="310"/>
                  </a:lnTo>
                  <a:lnTo>
                    <a:pt x="437" y="300"/>
                  </a:lnTo>
                  <a:lnTo>
                    <a:pt x="445" y="289"/>
                  </a:lnTo>
                  <a:lnTo>
                    <a:pt x="451" y="279"/>
                  </a:lnTo>
                  <a:lnTo>
                    <a:pt x="458" y="270"/>
                  </a:lnTo>
                  <a:lnTo>
                    <a:pt x="466" y="260"/>
                  </a:lnTo>
                  <a:lnTo>
                    <a:pt x="474" y="251"/>
                  </a:lnTo>
                  <a:lnTo>
                    <a:pt x="481" y="241"/>
                  </a:lnTo>
                  <a:lnTo>
                    <a:pt x="489" y="232"/>
                  </a:lnTo>
                  <a:lnTo>
                    <a:pt x="498" y="226"/>
                  </a:lnTo>
                  <a:lnTo>
                    <a:pt x="498" y="232"/>
                  </a:lnTo>
                  <a:lnTo>
                    <a:pt x="498" y="241"/>
                  </a:lnTo>
                  <a:lnTo>
                    <a:pt x="496" y="249"/>
                  </a:lnTo>
                  <a:lnTo>
                    <a:pt x="494" y="258"/>
                  </a:lnTo>
                  <a:lnTo>
                    <a:pt x="493" y="266"/>
                  </a:lnTo>
                  <a:lnTo>
                    <a:pt x="491" y="274"/>
                  </a:lnTo>
                  <a:lnTo>
                    <a:pt x="487" y="283"/>
                  </a:lnTo>
                  <a:lnTo>
                    <a:pt x="483" y="291"/>
                  </a:lnTo>
                  <a:lnTo>
                    <a:pt x="477" y="298"/>
                  </a:lnTo>
                  <a:lnTo>
                    <a:pt x="474" y="308"/>
                  </a:lnTo>
                  <a:lnTo>
                    <a:pt x="470" y="313"/>
                  </a:lnTo>
                  <a:lnTo>
                    <a:pt x="466" y="323"/>
                  </a:lnTo>
                  <a:lnTo>
                    <a:pt x="460" y="331"/>
                  </a:lnTo>
                  <a:lnTo>
                    <a:pt x="454" y="340"/>
                  </a:lnTo>
                  <a:lnTo>
                    <a:pt x="449" y="348"/>
                  </a:lnTo>
                  <a:lnTo>
                    <a:pt x="445" y="357"/>
                  </a:lnTo>
                  <a:lnTo>
                    <a:pt x="439" y="365"/>
                  </a:lnTo>
                  <a:lnTo>
                    <a:pt x="435" y="372"/>
                  </a:lnTo>
                  <a:lnTo>
                    <a:pt x="430" y="380"/>
                  </a:lnTo>
                  <a:lnTo>
                    <a:pt x="426" y="390"/>
                  </a:lnTo>
                  <a:lnTo>
                    <a:pt x="420" y="397"/>
                  </a:lnTo>
                  <a:lnTo>
                    <a:pt x="416" y="405"/>
                  </a:lnTo>
                  <a:lnTo>
                    <a:pt x="413" y="412"/>
                  </a:lnTo>
                  <a:lnTo>
                    <a:pt x="411" y="422"/>
                  </a:lnTo>
                  <a:lnTo>
                    <a:pt x="407" y="429"/>
                  </a:lnTo>
                  <a:lnTo>
                    <a:pt x="403" y="439"/>
                  </a:lnTo>
                  <a:lnTo>
                    <a:pt x="401" y="447"/>
                  </a:lnTo>
                  <a:lnTo>
                    <a:pt x="401" y="456"/>
                  </a:lnTo>
                  <a:lnTo>
                    <a:pt x="401" y="466"/>
                  </a:lnTo>
                  <a:lnTo>
                    <a:pt x="403" y="473"/>
                  </a:lnTo>
                  <a:lnTo>
                    <a:pt x="403" y="483"/>
                  </a:lnTo>
                  <a:lnTo>
                    <a:pt x="407" y="492"/>
                  </a:lnTo>
                  <a:lnTo>
                    <a:pt x="409" y="485"/>
                  </a:lnTo>
                  <a:lnTo>
                    <a:pt x="413" y="479"/>
                  </a:lnTo>
                  <a:lnTo>
                    <a:pt x="416" y="471"/>
                  </a:lnTo>
                  <a:lnTo>
                    <a:pt x="420" y="464"/>
                  </a:lnTo>
                  <a:lnTo>
                    <a:pt x="426" y="456"/>
                  </a:lnTo>
                  <a:lnTo>
                    <a:pt x="430" y="447"/>
                  </a:lnTo>
                  <a:lnTo>
                    <a:pt x="435" y="439"/>
                  </a:lnTo>
                  <a:lnTo>
                    <a:pt x="441" y="429"/>
                  </a:lnTo>
                  <a:lnTo>
                    <a:pt x="447" y="420"/>
                  </a:lnTo>
                  <a:lnTo>
                    <a:pt x="453" y="412"/>
                  </a:lnTo>
                  <a:lnTo>
                    <a:pt x="458" y="403"/>
                  </a:lnTo>
                  <a:lnTo>
                    <a:pt x="464" y="395"/>
                  </a:lnTo>
                  <a:lnTo>
                    <a:pt x="470" y="388"/>
                  </a:lnTo>
                  <a:lnTo>
                    <a:pt x="475" y="380"/>
                  </a:lnTo>
                  <a:lnTo>
                    <a:pt x="481" y="374"/>
                  </a:lnTo>
                  <a:lnTo>
                    <a:pt x="487" y="369"/>
                  </a:lnTo>
                  <a:lnTo>
                    <a:pt x="493" y="363"/>
                  </a:lnTo>
                  <a:lnTo>
                    <a:pt x="496" y="357"/>
                  </a:lnTo>
                  <a:lnTo>
                    <a:pt x="500" y="353"/>
                  </a:lnTo>
                  <a:lnTo>
                    <a:pt x="504" y="350"/>
                  </a:lnTo>
                  <a:lnTo>
                    <a:pt x="512" y="346"/>
                  </a:lnTo>
                  <a:lnTo>
                    <a:pt x="515" y="350"/>
                  </a:lnTo>
                  <a:lnTo>
                    <a:pt x="515" y="351"/>
                  </a:lnTo>
                  <a:lnTo>
                    <a:pt x="515" y="355"/>
                  </a:lnTo>
                  <a:lnTo>
                    <a:pt x="513" y="363"/>
                  </a:lnTo>
                  <a:lnTo>
                    <a:pt x="513" y="369"/>
                  </a:lnTo>
                  <a:lnTo>
                    <a:pt x="510" y="378"/>
                  </a:lnTo>
                  <a:lnTo>
                    <a:pt x="506" y="390"/>
                  </a:lnTo>
                  <a:lnTo>
                    <a:pt x="504" y="395"/>
                  </a:lnTo>
                  <a:lnTo>
                    <a:pt x="502" y="403"/>
                  </a:lnTo>
                  <a:lnTo>
                    <a:pt x="498" y="410"/>
                  </a:lnTo>
                  <a:lnTo>
                    <a:pt x="496" y="420"/>
                  </a:lnTo>
                  <a:lnTo>
                    <a:pt x="489" y="429"/>
                  </a:lnTo>
                  <a:lnTo>
                    <a:pt x="481" y="441"/>
                  </a:lnTo>
                  <a:lnTo>
                    <a:pt x="474" y="450"/>
                  </a:lnTo>
                  <a:lnTo>
                    <a:pt x="466" y="462"/>
                  </a:lnTo>
                  <a:lnTo>
                    <a:pt x="464" y="467"/>
                  </a:lnTo>
                  <a:lnTo>
                    <a:pt x="460" y="473"/>
                  </a:lnTo>
                  <a:lnTo>
                    <a:pt x="456" y="479"/>
                  </a:lnTo>
                  <a:lnTo>
                    <a:pt x="456" y="486"/>
                  </a:lnTo>
                  <a:lnTo>
                    <a:pt x="454" y="492"/>
                  </a:lnTo>
                  <a:lnTo>
                    <a:pt x="454" y="500"/>
                  </a:lnTo>
                  <a:lnTo>
                    <a:pt x="454" y="505"/>
                  </a:lnTo>
                  <a:lnTo>
                    <a:pt x="456" y="513"/>
                  </a:lnTo>
                  <a:lnTo>
                    <a:pt x="458" y="513"/>
                  </a:lnTo>
                  <a:lnTo>
                    <a:pt x="462" y="513"/>
                  </a:lnTo>
                  <a:lnTo>
                    <a:pt x="472" y="504"/>
                  </a:lnTo>
                  <a:lnTo>
                    <a:pt x="483" y="492"/>
                  </a:lnTo>
                  <a:lnTo>
                    <a:pt x="493" y="483"/>
                  </a:lnTo>
                  <a:lnTo>
                    <a:pt x="502" y="471"/>
                  </a:lnTo>
                  <a:lnTo>
                    <a:pt x="510" y="460"/>
                  </a:lnTo>
                  <a:lnTo>
                    <a:pt x="519" y="448"/>
                  </a:lnTo>
                  <a:lnTo>
                    <a:pt x="527" y="439"/>
                  </a:lnTo>
                  <a:lnTo>
                    <a:pt x="536" y="428"/>
                  </a:lnTo>
                  <a:lnTo>
                    <a:pt x="544" y="416"/>
                  </a:lnTo>
                  <a:lnTo>
                    <a:pt x="551" y="405"/>
                  </a:lnTo>
                  <a:lnTo>
                    <a:pt x="561" y="393"/>
                  </a:lnTo>
                  <a:lnTo>
                    <a:pt x="570" y="384"/>
                  </a:lnTo>
                  <a:lnTo>
                    <a:pt x="578" y="372"/>
                  </a:lnTo>
                  <a:lnTo>
                    <a:pt x="588" y="361"/>
                  </a:lnTo>
                  <a:lnTo>
                    <a:pt x="599" y="350"/>
                  </a:lnTo>
                  <a:lnTo>
                    <a:pt x="610" y="340"/>
                  </a:lnTo>
                  <a:lnTo>
                    <a:pt x="610" y="348"/>
                  </a:lnTo>
                  <a:lnTo>
                    <a:pt x="610" y="355"/>
                  </a:lnTo>
                  <a:lnTo>
                    <a:pt x="610" y="365"/>
                  </a:lnTo>
                  <a:lnTo>
                    <a:pt x="608" y="372"/>
                  </a:lnTo>
                  <a:lnTo>
                    <a:pt x="605" y="380"/>
                  </a:lnTo>
                  <a:lnTo>
                    <a:pt x="603" y="388"/>
                  </a:lnTo>
                  <a:lnTo>
                    <a:pt x="601" y="395"/>
                  </a:lnTo>
                  <a:lnTo>
                    <a:pt x="597" y="405"/>
                  </a:lnTo>
                  <a:lnTo>
                    <a:pt x="593" y="410"/>
                  </a:lnTo>
                  <a:lnTo>
                    <a:pt x="589" y="418"/>
                  </a:lnTo>
                  <a:lnTo>
                    <a:pt x="584" y="426"/>
                  </a:lnTo>
                  <a:lnTo>
                    <a:pt x="580" y="433"/>
                  </a:lnTo>
                  <a:lnTo>
                    <a:pt x="576" y="439"/>
                  </a:lnTo>
                  <a:lnTo>
                    <a:pt x="572" y="447"/>
                  </a:lnTo>
                  <a:lnTo>
                    <a:pt x="569" y="454"/>
                  </a:lnTo>
                  <a:lnTo>
                    <a:pt x="567" y="462"/>
                  </a:lnTo>
                  <a:lnTo>
                    <a:pt x="563" y="467"/>
                  </a:lnTo>
                  <a:lnTo>
                    <a:pt x="559" y="475"/>
                  </a:lnTo>
                  <a:lnTo>
                    <a:pt x="557" y="481"/>
                  </a:lnTo>
                  <a:lnTo>
                    <a:pt x="557" y="488"/>
                  </a:lnTo>
                  <a:lnTo>
                    <a:pt x="555" y="494"/>
                  </a:lnTo>
                  <a:lnTo>
                    <a:pt x="555" y="502"/>
                  </a:lnTo>
                  <a:lnTo>
                    <a:pt x="557" y="507"/>
                  </a:lnTo>
                  <a:lnTo>
                    <a:pt x="559" y="515"/>
                  </a:lnTo>
                  <a:lnTo>
                    <a:pt x="561" y="521"/>
                  </a:lnTo>
                  <a:lnTo>
                    <a:pt x="567" y="528"/>
                  </a:lnTo>
                  <a:lnTo>
                    <a:pt x="570" y="534"/>
                  </a:lnTo>
                  <a:lnTo>
                    <a:pt x="578" y="542"/>
                  </a:lnTo>
                  <a:lnTo>
                    <a:pt x="586" y="549"/>
                  </a:lnTo>
                  <a:lnTo>
                    <a:pt x="595" y="557"/>
                  </a:lnTo>
                  <a:lnTo>
                    <a:pt x="601" y="559"/>
                  </a:lnTo>
                  <a:lnTo>
                    <a:pt x="607" y="564"/>
                  </a:lnTo>
                  <a:lnTo>
                    <a:pt x="614" y="566"/>
                  </a:lnTo>
                  <a:lnTo>
                    <a:pt x="622" y="570"/>
                  </a:lnTo>
                  <a:lnTo>
                    <a:pt x="626" y="570"/>
                  </a:lnTo>
                  <a:lnTo>
                    <a:pt x="633" y="572"/>
                  </a:lnTo>
                  <a:lnTo>
                    <a:pt x="639" y="574"/>
                  </a:lnTo>
                  <a:lnTo>
                    <a:pt x="645" y="574"/>
                  </a:lnTo>
                  <a:lnTo>
                    <a:pt x="650" y="574"/>
                  </a:lnTo>
                  <a:lnTo>
                    <a:pt x="658" y="574"/>
                  </a:lnTo>
                  <a:lnTo>
                    <a:pt x="662" y="574"/>
                  </a:lnTo>
                  <a:lnTo>
                    <a:pt x="669" y="576"/>
                  </a:lnTo>
                  <a:lnTo>
                    <a:pt x="679" y="574"/>
                  </a:lnTo>
                  <a:lnTo>
                    <a:pt x="690" y="574"/>
                  </a:lnTo>
                  <a:lnTo>
                    <a:pt x="700" y="574"/>
                  </a:lnTo>
                  <a:lnTo>
                    <a:pt x="711" y="572"/>
                  </a:lnTo>
                  <a:lnTo>
                    <a:pt x="721" y="568"/>
                  </a:lnTo>
                  <a:lnTo>
                    <a:pt x="730" y="566"/>
                  </a:lnTo>
                  <a:lnTo>
                    <a:pt x="738" y="563"/>
                  </a:lnTo>
                  <a:lnTo>
                    <a:pt x="747" y="559"/>
                  </a:lnTo>
                  <a:lnTo>
                    <a:pt x="755" y="555"/>
                  </a:lnTo>
                  <a:lnTo>
                    <a:pt x="764" y="551"/>
                  </a:lnTo>
                  <a:lnTo>
                    <a:pt x="772" y="545"/>
                  </a:lnTo>
                  <a:lnTo>
                    <a:pt x="781" y="542"/>
                  </a:lnTo>
                  <a:lnTo>
                    <a:pt x="789" y="534"/>
                  </a:lnTo>
                  <a:lnTo>
                    <a:pt x="797" y="528"/>
                  </a:lnTo>
                  <a:lnTo>
                    <a:pt x="804" y="523"/>
                  </a:lnTo>
                  <a:lnTo>
                    <a:pt x="810" y="515"/>
                  </a:lnTo>
                  <a:lnTo>
                    <a:pt x="818" y="509"/>
                  </a:lnTo>
                  <a:lnTo>
                    <a:pt x="825" y="502"/>
                  </a:lnTo>
                  <a:lnTo>
                    <a:pt x="831" y="494"/>
                  </a:lnTo>
                  <a:lnTo>
                    <a:pt x="839" y="486"/>
                  </a:lnTo>
                  <a:lnTo>
                    <a:pt x="844" y="477"/>
                  </a:lnTo>
                  <a:lnTo>
                    <a:pt x="852" y="469"/>
                  </a:lnTo>
                  <a:lnTo>
                    <a:pt x="859" y="460"/>
                  </a:lnTo>
                  <a:lnTo>
                    <a:pt x="865" y="452"/>
                  </a:lnTo>
                  <a:lnTo>
                    <a:pt x="873" y="443"/>
                  </a:lnTo>
                  <a:lnTo>
                    <a:pt x="878" y="433"/>
                  </a:lnTo>
                  <a:lnTo>
                    <a:pt x="886" y="424"/>
                  </a:lnTo>
                  <a:lnTo>
                    <a:pt x="894" y="416"/>
                  </a:lnTo>
                  <a:lnTo>
                    <a:pt x="888" y="412"/>
                  </a:lnTo>
                  <a:lnTo>
                    <a:pt x="880" y="410"/>
                  </a:lnTo>
                  <a:lnTo>
                    <a:pt x="873" y="410"/>
                  </a:lnTo>
                  <a:lnTo>
                    <a:pt x="867" y="410"/>
                  </a:lnTo>
                  <a:lnTo>
                    <a:pt x="859" y="410"/>
                  </a:lnTo>
                  <a:lnTo>
                    <a:pt x="852" y="410"/>
                  </a:lnTo>
                  <a:lnTo>
                    <a:pt x="846" y="410"/>
                  </a:lnTo>
                  <a:lnTo>
                    <a:pt x="839" y="409"/>
                  </a:lnTo>
                  <a:lnTo>
                    <a:pt x="839" y="405"/>
                  </a:lnTo>
                  <a:lnTo>
                    <a:pt x="839" y="403"/>
                  </a:lnTo>
                  <a:lnTo>
                    <a:pt x="846" y="401"/>
                  </a:lnTo>
                  <a:lnTo>
                    <a:pt x="854" y="397"/>
                  </a:lnTo>
                  <a:lnTo>
                    <a:pt x="861" y="395"/>
                  </a:lnTo>
                  <a:lnTo>
                    <a:pt x="869" y="393"/>
                  </a:lnTo>
                  <a:lnTo>
                    <a:pt x="877" y="390"/>
                  </a:lnTo>
                  <a:lnTo>
                    <a:pt x="884" y="388"/>
                  </a:lnTo>
                  <a:lnTo>
                    <a:pt x="892" y="386"/>
                  </a:lnTo>
                  <a:lnTo>
                    <a:pt x="901" y="384"/>
                  </a:lnTo>
                  <a:lnTo>
                    <a:pt x="909" y="378"/>
                  </a:lnTo>
                  <a:lnTo>
                    <a:pt x="916" y="376"/>
                  </a:lnTo>
                  <a:lnTo>
                    <a:pt x="922" y="372"/>
                  </a:lnTo>
                  <a:lnTo>
                    <a:pt x="930" y="369"/>
                  </a:lnTo>
                  <a:lnTo>
                    <a:pt x="935" y="363"/>
                  </a:lnTo>
                  <a:lnTo>
                    <a:pt x="943" y="357"/>
                  </a:lnTo>
                  <a:lnTo>
                    <a:pt x="947" y="350"/>
                  </a:lnTo>
                  <a:lnTo>
                    <a:pt x="954" y="344"/>
                  </a:lnTo>
                  <a:lnTo>
                    <a:pt x="943" y="340"/>
                  </a:lnTo>
                  <a:lnTo>
                    <a:pt x="934" y="340"/>
                  </a:lnTo>
                  <a:lnTo>
                    <a:pt x="926" y="338"/>
                  </a:lnTo>
                  <a:lnTo>
                    <a:pt x="920" y="338"/>
                  </a:lnTo>
                  <a:lnTo>
                    <a:pt x="915" y="338"/>
                  </a:lnTo>
                  <a:lnTo>
                    <a:pt x="909" y="340"/>
                  </a:lnTo>
                  <a:lnTo>
                    <a:pt x="903" y="340"/>
                  </a:lnTo>
                  <a:lnTo>
                    <a:pt x="897" y="340"/>
                  </a:lnTo>
                  <a:lnTo>
                    <a:pt x="890" y="340"/>
                  </a:lnTo>
                  <a:lnTo>
                    <a:pt x="884" y="340"/>
                  </a:lnTo>
                  <a:lnTo>
                    <a:pt x="878" y="338"/>
                  </a:lnTo>
                  <a:lnTo>
                    <a:pt x="873" y="338"/>
                  </a:lnTo>
                  <a:lnTo>
                    <a:pt x="867" y="338"/>
                  </a:lnTo>
                  <a:lnTo>
                    <a:pt x="863" y="338"/>
                  </a:lnTo>
                  <a:lnTo>
                    <a:pt x="863" y="334"/>
                  </a:lnTo>
                  <a:lnTo>
                    <a:pt x="863" y="332"/>
                  </a:lnTo>
                  <a:lnTo>
                    <a:pt x="869" y="331"/>
                  </a:lnTo>
                  <a:lnTo>
                    <a:pt x="875" y="331"/>
                  </a:lnTo>
                  <a:lnTo>
                    <a:pt x="880" y="329"/>
                  </a:lnTo>
                  <a:lnTo>
                    <a:pt x="888" y="329"/>
                  </a:lnTo>
                  <a:lnTo>
                    <a:pt x="892" y="329"/>
                  </a:lnTo>
                  <a:lnTo>
                    <a:pt x="899" y="329"/>
                  </a:lnTo>
                  <a:lnTo>
                    <a:pt x="905" y="327"/>
                  </a:lnTo>
                  <a:lnTo>
                    <a:pt x="911" y="327"/>
                  </a:lnTo>
                  <a:lnTo>
                    <a:pt x="916" y="325"/>
                  </a:lnTo>
                  <a:lnTo>
                    <a:pt x="922" y="323"/>
                  </a:lnTo>
                  <a:lnTo>
                    <a:pt x="928" y="323"/>
                  </a:lnTo>
                  <a:lnTo>
                    <a:pt x="935" y="321"/>
                  </a:lnTo>
                  <a:lnTo>
                    <a:pt x="939" y="319"/>
                  </a:lnTo>
                  <a:lnTo>
                    <a:pt x="947" y="317"/>
                  </a:lnTo>
                  <a:lnTo>
                    <a:pt x="953" y="315"/>
                  </a:lnTo>
                  <a:lnTo>
                    <a:pt x="958" y="313"/>
                  </a:lnTo>
                  <a:lnTo>
                    <a:pt x="958" y="312"/>
                  </a:lnTo>
                  <a:lnTo>
                    <a:pt x="958" y="310"/>
                  </a:lnTo>
                  <a:lnTo>
                    <a:pt x="947" y="308"/>
                  </a:lnTo>
                  <a:lnTo>
                    <a:pt x="937" y="308"/>
                  </a:lnTo>
                  <a:lnTo>
                    <a:pt x="928" y="306"/>
                  </a:lnTo>
                  <a:lnTo>
                    <a:pt x="918" y="306"/>
                  </a:lnTo>
                  <a:lnTo>
                    <a:pt x="909" y="304"/>
                  </a:lnTo>
                  <a:lnTo>
                    <a:pt x="899" y="302"/>
                  </a:lnTo>
                  <a:lnTo>
                    <a:pt x="890" y="300"/>
                  </a:lnTo>
                  <a:lnTo>
                    <a:pt x="880" y="300"/>
                  </a:lnTo>
                  <a:lnTo>
                    <a:pt x="871" y="296"/>
                  </a:lnTo>
                  <a:lnTo>
                    <a:pt x="861" y="294"/>
                  </a:lnTo>
                  <a:lnTo>
                    <a:pt x="852" y="293"/>
                  </a:lnTo>
                  <a:lnTo>
                    <a:pt x="842" y="293"/>
                  </a:lnTo>
                  <a:lnTo>
                    <a:pt x="831" y="291"/>
                  </a:lnTo>
                  <a:lnTo>
                    <a:pt x="821" y="291"/>
                  </a:lnTo>
                  <a:lnTo>
                    <a:pt x="812" y="291"/>
                  </a:lnTo>
                  <a:lnTo>
                    <a:pt x="802" y="291"/>
                  </a:lnTo>
                  <a:lnTo>
                    <a:pt x="802" y="287"/>
                  </a:lnTo>
                  <a:lnTo>
                    <a:pt x="802" y="285"/>
                  </a:lnTo>
                  <a:lnTo>
                    <a:pt x="808" y="283"/>
                  </a:lnTo>
                  <a:lnTo>
                    <a:pt x="816" y="283"/>
                  </a:lnTo>
                  <a:lnTo>
                    <a:pt x="823" y="281"/>
                  </a:lnTo>
                  <a:lnTo>
                    <a:pt x="829" y="281"/>
                  </a:lnTo>
                  <a:lnTo>
                    <a:pt x="837" y="281"/>
                  </a:lnTo>
                  <a:lnTo>
                    <a:pt x="846" y="281"/>
                  </a:lnTo>
                  <a:lnTo>
                    <a:pt x="854" y="281"/>
                  </a:lnTo>
                  <a:lnTo>
                    <a:pt x="861" y="283"/>
                  </a:lnTo>
                  <a:lnTo>
                    <a:pt x="869" y="283"/>
                  </a:lnTo>
                  <a:lnTo>
                    <a:pt x="877" y="283"/>
                  </a:lnTo>
                  <a:lnTo>
                    <a:pt x="884" y="283"/>
                  </a:lnTo>
                  <a:lnTo>
                    <a:pt x="892" y="283"/>
                  </a:lnTo>
                  <a:lnTo>
                    <a:pt x="899" y="281"/>
                  </a:lnTo>
                  <a:lnTo>
                    <a:pt x="907" y="281"/>
                  </a:lnTo>
                  <a:lnTo>
                    <a:pt x="915" y="281"/>
                  </a:lnTo>
                  <a:lnTo>
                    <a:pt x="922" y="281"/>
                  </a:lnTo>
                  <a:lnTo>
                    <a:pt x="922" y="277"/>
                  </a:lnTo>
                  <a:lnTo>
                    <a:pt x="922" y="275"/>
                  </a:lnTo>
                  <a:lnTo>
                    <a:pt x="915" y="268"/>
                  </a:lnTo>
                  <a:lnTo>
                    <a:pt x="907" y="264"/>
                  </a:lnTo>
                  <a:lnTo>
                    <a:pt x="897" y="260"/>
                  </a:lnTo>
                  <a:lnTo>
                    <a:pt x="890" y="256"/>
                  </a:lnTo>
                  <a:lnTo>
                    <a:pt x="882" y="253"/>
                  </a:lnTo>
                  <a:lnTo>
                    <a:pt x="873" y="249"/>
                  </a:lnTo>
                  <a:lnTo>
                    <a:pt x="865" y="247"/>
                  </a:lnTo>
                  <a:lnTo>
                    <a:pt x="858" y="245"/>
                  </a:lnTo>
                  <a:lnTo>
                    <a:pt x="848" y="241"/>
                  </a:lnTo>
                  <a:lnTo>
                    <a:pt x="840" y="237"/>
                  </a:lnTo>
                  <a:lnTo>
                    <a:pt x="831" y="236"/>
                  </a:lnTo>
                  <a:lnTo>
                    <a:pt x="823" y="234"/>
                  </a:lnTo>
                  <a:lnTo>
                    <a:pt x="814" y="230"/>
                  </a:lnTo>
                  <a:lnTo>
                    <a:pt x="806" y="230"/>
                  </a:lnTo>
                  <a:lnTo>
                    <a:pt x="797" y="226"/>
                  </a:lnTo>
                  <a:lnTo>
                    <a:pt x="789" y="226"/>
                  </a:lnTo>
                  <a:lnTo>
                    <a:pt x="793" y="217"/>
                  </a:lnTo>
                  <a:lnTo>
                    <a:pt x="799" y="211"/>
                  </a:lnTo>
                  <a:lnTo>
                    <a:pt x="806" y="203"/>
                  </a:lnTo>
                  <a:lnTo>
                    <a:pt x="818" y="201"/>
                  </a:lnTo>
                  <a:lnTo>
                    <a:pt x="821" y="199"/>
                  </a:lnTo>
                  <a:lnTo>
                    <a:pt x="827" y="197"/>
                  </a:lnTo>
                  <a:lnTo>
                    <a:pt x="833" y="196"/>
                  </a:lnTo>
                  <a:lnTo>
                    <a:pt x="839" y="194"/>
                  </a:lnTo>
                  <a:lnTo>
                    <a:pt x="846" y="194"/>
                  </a:lnTo>
                  <a:lnTo>
                    <a:pt x="852" y="192"/>
                  </a:lnTo>
                  <a:lnTo>
                    <a:pt x="859" y="192"/>
                  </a:lnTo>
                  <a:lnTo>
                    <a:pt x="867" y="192"/>
                  </a:lnTo>
                  <a:lnTo>
                    <a:pt x="873" y="192"/>
                  </a:lnTo>
                  <a:lnTo>
                    <a:pt x="880" y="190"/>
                  </a:lnTo>
                  <a:lnTo>
                    <a:pt x="888" y="190"/>
                  </a:lnTo>
                  <a:lnTo>
                    <a:pt x="894" y="190"/>
                  </a:lnTo>
                  <a:lnTo>
                    <a:pt x="901" y="188"/>
                  </a:lnTo>
                  <a:lnTo>
                    <a:pt x="909" y="188"/>
                  </a:lnTo>
                  <a:lnTo>
                    <a:pt x="916" y="186"/>
                  </a:lnTo>
                  <a:lnTo>
                    <a:pt x="924" y="186"/>
                  </a:lnTo>
                  <a:lnTo>
                    <a:pt x="930" y="186"/>
                  </a:lnTo>
                  <a:lnTo>
                    <a:pt x="937" y="184"/>
                  </a:lnTo>
                  <a:lnTo>
                    <a:pt x="943" y="184"/>
                  </a:lnTo>
                  <a:lnTo>
                    <a:pt x="951" y="182"/>
                  </a:lnTo>
                  <a:lnTo>
                    <a:pt x="956" y="180"/>
                  </a:lnTo>
                  <a:lnTo>
                    <a:pt x="962" y="180"/>
                  </a:lnTo>
                  <a:lnTo>
                    <a:pt x="968" y="178"/>
                  </a:lnTo>
                  <a:lnTo>
                    <a:pt x="975" y="177"/>
                  </a:lnTo>
                  <a:lnTo>
                    <a:pt x="968" y="171"/>
                  </a:lnTo>
                  <a:lnTo>
                    <a:pt x="962" y="163"/>
                  </a:lnTo>
                  <a:lnTo>
                    <a:pt x="954" y="158"/>
                  </a:lnTo>
                  <a:lnTo>
                    <a:pt x="947" y="156"/>
                  </a:lnTo>
                  <a:lnTo>
                    <a:pt x="937" y="152"/>
                  </a:lnTo>
                  <a:lnTo>
                    <a:pt x="930" y="148"/>
                  </a:lnTo>
                  <a:lnTo>
                    <a:pt x="920" y="146"/>
                  </a:lnTo>
                  <a:lnTo>
                    <a:pt x="911" y="144"/>
                  </a:lnTo>
                  <a:lnTo>
                    <a:pt x="901" y="142"/>
                  </a:lnTo>
                  <a:lnTo>
                    <a:pt x="892" y="140"/>
                  </a:lnTo>
                  <a:lnTo>
                    <a:pt x="882" y="139"/>
                  </a:lnTo>
                  <a:lnTo>
                    <a:pt x="873" y="139"/>
                  </a:lnTo>
                  <a:lnTo>
                    <a:pt x="863" y="137"/>
                  </a:lnTo>
                  <a:lnTo>
                    <a:pt x="854" y="135"/>
                  </a:lnTo>
                  <a:lnTo>
                    <a:pt x="846" y="131"/>
                  </a:lnTo>
                  <a:lnTo>
                    <a:pt x="839" y="131"/>
                  </a:lnTo>
                  <a:lnTo>
                    <a:pt x="846" y="127"/>
                  </a:lnTo>
                  <a:lnTo>
                    <a:pt x="856" y="123"/>
                  </a:lnTo>
                  <a:lnTo>
                    <a:pt x="865" y="121"/>
                  </a:lnTo>
                  <a:lnTo>
                    <a:pt x="875" y="121"/>
                  </a:lnTo>
                  <a:lnTo>
                    <a:pt x="884" y="121"/>
                  </a:lnTo>
                  <a:lnTo>
                    <a:pt x="896" y="125"/>
                  </a:lnTo>
                  <a:lnTo>
                    <a:pt x="901" y="125"/>
                  </a:lnTo>
                  <a:lnTo>
                    <a:pt x="907" y="127"/>
                  </a:lnTo>
                  <a:lnTo>
                    <a:pt x="913" y="129"/>
                  </a:lnTo>
                  <a:lnTo>
                    <a:pt x="918" y="131"/>
                  </a:lnTo>
                  <a:lnTo>
                    <a:pt x="930" y="135"/>
                  </a:lnTo>
                  <a:lnTo>
                    <a:pt x="941" y="137"/>
                  </a:lnTo>
                  <a:lnTo>
                    <a:pt x="947" y="139"/>
                  </a:lnTo>
                  <a:lnTo>
                    <a:pt x="953" y="140"/>
                  </a:lnTo>
                  <a:lnTo>
                    <a:pt x="958" y="142"/>
                  </a:lnTo>
                  <a:lnTo>
                    <a:pt x="966" y="144"/>
                  </a:lnTo>
                  <a:lnTo>
                    <a:pt x="972" y="144"/>
                  </a:lnTo>
                  <a:lnTo>
                    <a:pt x="977" y="146"/>
                  </a:lnTo>
                  <a:lnTo>
                    <a:pt x="983" y="148"/>
                  </a:lnTo>
                  <a:lnTo>
                    <a:pt x="989" y="150"/>
                  </a:lnTo>
                  <a:lnTo>
                    <a:pt x="994" y="150"/>
                  </a:lnTo>
                  <a:lnTo>
                    <a:pt x="1000" y="152"/>
                  </a:lnTo>
                  <a:lnTo>
                    <a:pt x="1006" y="152"/>
                  </a:lnTo>
                  <a:lnTo>
                    <a:pt x="1012" y="154"/>
                  </a:lnTo>
                  <a:lnTo>
                    <a:pt x="1006" y="148"/>
                  </a:lnTo>
                  <a:lnTo>
                    <a:pt x="1000" y="142"/>
                  </a:lnTo>
                  <a:lnTo>
                    <a:pt x="993" y="137"/>
                  </a:lnTo>
                  <a:lnTo>
                    <a:pt x="985" y="133"/>
                  </a:lnTo>
                  <a:lnTo>
                    <a:pt x="977" y="129"/>
                  </a:lnTo>
                  <a:lnTo>
                    <a:pt x="970" y="125"/>
                  </a:lnTo>
                  <a:lnTo>
                    <a:pt x="962" y="121"/>
                  </a:lnTo>
                  <a:lnTo>
                    <a:pt x="954" y="118"/>
                  </a:lnTo>
                  <a:lnTo>
                    <a:pt x="945" y="116"/>
                  </a:lnTo>
                  <a:lnTo>
                    <a:pt x="935" y="112"/>
                  </a:lnTo>
                  <a:lnTo>
                    <a:pt x="928" y="108"/>
                  </a:lnTo>
                  <a:lnTo>
                    <a:pt x="920" y="106"/>
                  </a:lnTo>
                  <a:lnTo>
                    <a:pt x="911" y="102"/>
                  </a:lnTo>
                  <a:lnTo>
                    <a:pt x="903" y="101"/>
                  </a:lnTo>
                  <a:lnTo>
                    <a:pt x="896" y="99"/>
                  </a:lnTo>
                  <a:lnTo>
                    <a:pt x="890" y="97"/>
                  </a:lnTo>
                  <a:lnTo>
                    <a:pt x="896" y="93"/>
                  </a:lnTo>
                  <a:lnTo>
                    <a:pt x="903" y="91"/>
                  </a:lnTo>
                  <a:lnTo>
                    <a:pt x="913" y="91"/>
                  </a:lnTo>
                  <a:lnTo>
                    <a:pt x="922" y="93"/>
                  </a:lnTo>
                  <a:lnTo>
                    <a:pt x="932" y="93"/>
                  </a:lnTo>
                  <a:lnTo>
                    <a:pt x="941" y="97"/>
                  </a:lnTo>
                  <a:lnTo>
                    <a:pt x="951" y="99"/>
                  </a:lnTo>
                  <a:lnTo>
                    <a:pt x="962" y="102"/>
                  </a:lnTo>
                  <a:lnTo>
                    <a:pt x="972" y="104"/>
                  </a:lnTo>
                  <a:lnTo>
                    <a:pt x="981" y="108"/>
                  </a:lnTo>
                  <a:lnTo>
                    <a:pt x="993" y="110"/>
                  </a:lnTo>
                  <a:lnTo>
                    <a:pt x="1004" y="114"/>
                  </a:lnTo>
                  <a:lnTo>
                    <a:pt x="1013" y="116"/>
                  </a:lnTo>
                  <a:lnTo>
                    <a:pt x="1025" y="118"/>
                  </a:lnTo>
                  <a:lnTo>
                    <a:pt x="1036" y="120"/>
                  </a:lnTo>
                  <a:lnTo>
                    <a:pt x="1048" y="120"/>
                  </a:lnTo>
                  <a:lnTo>
                    <a:pt x="1040" y="116"/>
                  </a:lnTo>
                  <a:lnTo>
                    <a:pt x="1032" y="110"/>
                  </a:lnTo>
                  <a:lnTo>
                    <a:pt x="1025" y="106"/>
                  </a:lnTo>
                  <a:lnTo>
                    <a:pt x="1019" y="101"/>
                  </a:lnTo>
                  <a:lnTo>
                    <a:pt x="1012" y="97"/>
                  </a:lnTo>
                  <a:lnTo>
                    <a:pt x="1004" y="93"/>
                  </a:lnTo>
                  <a:lnTo>
                    <a:pt x="996" y="87"/>
                  </a:lnTo>
                  <a:lnTo>
                    <a:pt x="989" y="83"/>
                  </a:lnTo>
                  <a:lnTo>
                    <a:pt x="981" y="80"/>
                  </a:lnTo>
                  <a:lnTo>
                    <a:pt x="974" y="76"/>
                  </a:lnTo>
                  <a:lnTo>
                    <a:pt x="964" y="72"/>
                  </a:lnTo>
                  <a:lnTo>
                    <a:pt x="956" y="68"/>
                  </a:lnTo>
                  <a:lnTo>
                    <a:pt x="949" y="64"/>
                  </a:lnTo>
                  <a:lnTo>
                    <a:pt x="941" y="61"/>
                  </a:lnTo>
                  <a:lnTo>
                    <a:pt x="934" y="57"/>
                  </a:lnTo>
                  <a:lnTo>
                    <a:pt x="926" y="55"/>
                  </a:lnTo>
                  <a:lnTo>
                    <a:pt x="916" y="49"/>
                  </a:lnTo>
                  <a:lnTo>
                    <a:pt x="909" y="47"/>
                  </a:lnTo>
                  <a:lnTo>
                    <a:pt x="899" y="44"/>
                  </a:lnTo>
                  <a:lnTo>
                    <a:pt x="892" y="42"/>
                  </a:lnTo>
                  <a:lnTo>
                    <a:pt x="882" y="38"/>
                  </a:lnTo>
                  <a:lnTo>
                    <a:pt x="875" y="36"/>
                  </a:lnTo>
                  <a:lnTo>
                    <a:pt x="865" y="34"/>
                  </a:lnTo>
                  <a:lnTo>
                    <a:pt x="859" y="32"/>
                  </a:lnTo>
                  <a:lnTo>
                    <a:pt x="848" y="28"/>
                  </a:lnTo>
                  <a:lnTo>
                    <a:pt x="840" y="26"/>
                  </a:lnTo>
                  <a:lnTo>
                    <a:pt x="833" y="24"/>
                  </a:lnTo>
                  <a:lnTo>
                    <a:pt x="823" y="24"/>
                  </a:lnTo>
                  <a:lnTo>
                    <a:pt x="816" y="23"/>
                  </a:lnTo>
                  <a:lnTo>
                    <a:pt x="806" y="23"/>
                  </a:lnTo>
                  <a:lnTo>
                    <a:pt x="799" y="23"/>
                  </a:lnTo>
                  <a:lnTo>
                    <a:pt x="789" y="23"/>
                  </a:lnTo>
                  <a:lnTo>
                    <a:pt x="789" y="19"/>
                  </a:lnTo>
                  <a:lnTo>
                    <a:pt x="789" y="17"/>
                  </a:lnTo>
                  <a:lnTo>
                    <a:pt x="795" y="15"/>
                  </a:lnTo>
                  <a:lnTo>
                    <a:pt x="800" y="15"/>
                  </a:lnTo>
                  <a:lnTo>
                    <a:pt x="806" y="13"/>
                  </a:lnTo>
                  <a:lnTo>
                    <a:pt x="814" y="13"/>
                  </a:lnTo>
                  <a:lnTo>
                    <a:pt x="820" y="11"/>
                  </a:lnTo>
                  <a:lnTo>
                    <a:pt x="825" y="11"/>
                  </a:lnTo>
                  <a:lnTo>
                    <a:pt x="833" y="11"/>
                  </a:lnTo>
                  <a:lnTo>
                    <a:pt x="839" y="11"/>
                  </a:lnTo>
                  <a:lnTo>
                    <a:pt x="844" y="11"/>
                  </a:lnTo>
                  <a:lnTo>
                    <a:pt x="852" y="11"/>
                  </a:lnTo>
                  <a:lnTo>
                    <a:pt x="858" y="11"/>
                  </a:lnTo>
                  <a:lnTo>
                    <a:pt x="865" y="11"/>
                  </a:lnTo>
                  <a:lnTo>
                    <a:pt x="871" y="11"/>
                  </a:lnTo>
                  <a:lnTo>
                    <a:pt x="878" y="13"/>
                  </a:lnTo>
                  <a:lnTo>
                    <a:pt x="884" y="13"/>
                  </a:lnTo>
                  <a:lnTo>
                    <a:pt x="892" y="15"/>
                  </a:lnTo>
                  <a:lnTo>
                    <a:pt x="897" y="13"/>
                  </a:lnTo>
                  <a:lnTo>
                    <a:pt x="903" y="13"/>
                  </a:lnTo>
                  <a:lnTo>
                    <a:pt x="911" y="13"/>
                  </a:lnTo>
                  <a:lnTo>
                    <a:pt x="916" y="13"/>
                  </a:lnTo>
                  <a:lnTo>
                    <a:pt x="922" y="11"/>
                  </a:lnTo>
                  <a:lnTo>
                    <a:pt x="930" y="11"/>
                  </a:lnTo>
                  <a:lnTo>
                    <a:pt x="935" y="11"/>
                  </a:lnTo>
                  <a:lnTo>
                    <a:pt x="943" y="11"/>
                  </a:lnTo>
                  <a:lnTo>
                    <a:pt x="949" y="11"/>
                  </a:lnTo>
                  <a:lnTo>
                    <a:pt x="954" y="9"/>
                  </a:lnTo>
                  <a:lnTo>
                    <a:pt x="962" y="9"/>
                  </a:lnTo>
                  <a:lnTo>
                    <a:pt x="968" y="7"/>
                  </a:lnTo>
                  <a:lnTo>
                    <a:pt x="974" y="5"/>
                  </a:lnTo>
                  <a:lnTo>
                    <a:pt x="981" y="5"/>
                  </a:lnTo>
                  <a:lnTo>
                    <a:pt x="987" y="2"/>
                  </a:lnTo>
                  <a:lnTo>
                    <a:pt x="993" y="2"/>
                  </a:lnTo>
                  <a:lnTo>
                    <a:pt x="9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157880" y="1820880"/>
              <a:ext cx="46080" cy="1908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6" y="25"/>
                  </a:moveTo>
                  <a:lnTo>
                    <a:pt x="13" y="25"/>
                  </a:lnTo>
                  <a:lnTo>
                    <a:pt x="19" y="25"/>
                  </a:lnTo>
                  <a:lnTo>
                    <a:pt x="25" y="21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4" y="13"/>
                  </a:lnTo>
                  <a:lnTo>
                    <a:pt x="49" y="10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989040" y="129204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7" y="11"/>
                  </a:lnTo>
                  <a:lnTo>
                    <a:pt x="13" y="17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8626320" y="1207800"/>
              <a:ext cx="4464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726240" y="1218960"/>
              <a:ext cx="100080" cy="10008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1" y="8"/>
                  </a:lnTo>
                  <a:lnTo>
                    <a:pt x="44" y="14"/>
                  </a:lnTo>
                  <a:lnTo>
                    <a:pt x="53" y="19"/>
                  </a:lnTo>
                  <a:lnTo>
                    <a:pt x="63" y="27"/>
                  </a:lnTo>
                  <a:lnTo>
                    <a:pt x="74" y="33"/>
                  </a:lnTo>
                  <a:lnTo>
                    <a:pt x="84" y="44"/>
                  </a:lnTo>
                  <a:lnTo>
                    <a:pt x="91" y="52"/>
                  </a:lnTo>
                  <a:lnTo>
                    <a:pt x="101" y="61"/>
                  </a:lnTo>
                  <a:lnTo>
                    <a:pt x="107" y="71"/>
                  </a:lnTo>
                  <a:lnTo>
                    <a:pt x="114" y="82"/>
                  </a:lnTo>
                  <a:lnTo>
                    <a:pt x="118" y="92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6"/>
                  </a:lnTo>
                  <a:lnTo>
                    <a:pt x="118" y="116"/>
                  </a:lnTo>
                  <a:lnTo>
                    <a:pt x="110" y="109"/>
                  </a:lnTo>
                  <a:lnTo>
                    <a:pt x="103" y="99"/>
                  </a:lnTo>
                  <a:lnTo>
                    <a:pt x="93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7" y="67"/>
                  </a:lnTo>
                  <a:lnTo>
                    <a:pt x="57" y="59"/>
                  </a:lnTo>
                  <a:lnTo>
                    <a:pt x="48" y="50"/>
                  </a:lnTo>
                  <a:lnTo>
                    <a:pt x="38" y="40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950160" y="1244520"/>
              <a:ext cx="95040" cy="5544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4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71" y="7"/>
                  </a:lnTo>
                  <a:lnTo>
                    <a:pt x="80" y="11"/>
                  </a:lnTo>
                  <a:lnTo>
                    <a:pt x="88" y="15"/>
                  </a:lnTo>
                  <a:lnTo>
                    <a:pt x="95" y="21"/>
                  </a:lnTo>
                  <a:lnTo>
                    <a:pt x="103" y="24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20" y="68"/>
                  </a:lnTo>
                  <a:lnTo>
                    <a:pt x="113" y="62"/>
                  </a:lnTo>
                  <a:lnTo>
                    <a:pt x="103" y="59"/>
                  </a:lnTo>
                  <a:lnTo>
                    <a:pt x="94" y="57"/>
                  </a:lnTo>
                  <a:lnTo>
                    <a:pt x="86" y="53"/>
                  </a:lnTo>
                  <a:lnTo>
                    <a:pt x="75" y="49"/>
                  </a:lnTo>
                  <a:lnTo>
                    <a:pt x="65" y="45"/>
                  </a:lnTo>
                  <a:lnTo>
                    <a:pt x="54" y="42"/>
                  </a:lnTo>
                  <a:lnTo>
                    <a:pt x="44" y="38"/>
                  </a:lnTo>
                  <a:lnTo>
                    <a:pt x="33" y="34"/>
                  </a:lnTo>
                  <a:lnTo>
                    <a:pt x="25" y="30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6" y="17"/>
                  </a:lnTo>
                  <a:lnTo>
                    <a:pt x="2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8633520" y="1265040"/>
              <a:ext cx="2412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8360640" y="1301760"/>
              <a:ext cx="7452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8313120" y="1320840"/>
              <a:ext cx="12204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240760" y="1347840"/>
              <a:ext cx="141120" cy="1317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69" y="0"/>
                  </a:moveTo>
                  <a:lnTo>
                    <a:pt x="175" y="9"/>
                  </a:lnTo>
                  <a:lnTo>
                    <a:pt x="177" y="19"/>
                  </a:lnTo>
                  <a:lnTo>
                    <a:pt x="171" y="29"/>
                  </a:lnTo>
                  <a:lnTo>
                    <a:pt x="163" y="36"/>
                  </a:lnTo>
                  <a:lnTo>
                    <a:pt x="158" y="40"/>
                  </a:lnTo>
                  <a:lnTo>
                    <a:pt x="152" y="44"/>
                  </a:lnTo>
                  <a:lnTo>
                    <a:pt x="144" y="48"/>
                  </a:lnTo>
                  <a:lnTo>
                    <a:pt x="139" y="53"/>
                  </a:lnTo>
                  <a:lnTo>
                    <a:pt x="131" y="57"/>
                  </a:lnTo>
                  <a:lnTo>
                    <a:pt x="123" y="61"/>
                  </a:lnTo>
                  <a:lnTo>
                    <a:pt x="114" y="65"/>
                  </a:lnTo>
                  <a:lnTo>
                    <a:pt x="106" y="70"/>
                  </a:lnTo>
                  <a:lnTo>
                    <a:pt x="97" y="72"/>
                  </a:lnTo>
                  <a:lnTo>
                    <a:pt x="89" y="78"/>
                  </a:lnTo>
                  <a:lnTo>
                    <a:pt x="80" y="84"/>
                  </a:lnTo>
                  <a:lnTo>
                    <a:pt x="70" y="87"/>
                  </a:lnTo>
                  <a:lnTo>
                    <a:pt x="63" y="93"/>
                  </a:lnTo>
                  <a:lnTo>
                    <a:pt x="53" y="97"/>
                  </a:lnTo>
                  <a:lnTo>
                    <a:pt x="46" y="105"/>
                  </a:lnTo>
                  <a:lnTo>
                    <a:pt x="40" y="110"/>
                  </a:lnTo>
                  <a:lnTo>
                    <a:pt x="32" y="116"/>
                  </a:lnTo>
                  <a:lnTo>
                    <a:pt x="25" y="122"/>
                  </a:lnTo>
                  <a:lnTo>
                    <a:pt x="19" y="127"/>
                  </a:lnTo>
                  <a:lnTo>
                    <a:pt x="15" y="135"/>
                  </a:lnTo>
                  <a:lnTo>
                    <a:pt x="9" y="141"/>
                  </a:lnTo>
                  <a:lnTo>
                    <a:pt x="8" y="148"/>
                  </a:lnTo>
                  <a:lnTo>
                    <a:pt x="4" y="156"/>
                  </a:lnTo>
                  <a:lnTo>
                    <a:pt x="4" y="165"/>
                  </a:lnTo>
                  <a:lnTo>
                    <a:pt x="2" y="160"/>
                  </a:lnTo>
                  <a:lnTo>
                    <a:pt x="2" y="152"/>
                  </a:lnTo>
                  <a:lnTo>
                    <a:pt x="0" y="146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4" y="127"/>
                  </a:lnTo>
                  <a:lnTo>
                    <a:pt x="8" y="122"/>
                  </a:lnTo>
                  <a:lnTo>
                    <a:pt x="11" y="116"/>
                  </a:lnTo>
                  <a:lnTo>
                    <a:pt x="15" y="110"/>
                  </a:lnTo>
                  <a:lnTo>
                    <a:pt x="19" y="103"/>
                  </a:lnTo>
                  <a:lnTo>
                    <a:pt x="25" y="97"/>
                  </a:lnTo>
                  <a:lnTo>
                    <a:pt x="30" y="93"/>
                  </a:lnTo>
                  <a:lnTo>
                    <a:pt x="36" y="86"/>
                  </a:lnTo>
                  <a:lnTo>
                    <a:pt x="42" y="80"/>
                  </a:lnTo>
                  <a:lnTo>
                    <a:pt x="49" y="76"/>
                  </a:lnTo>
                  <a:lnTo>
                    <a:pt x="57" y="70"/>
                  </a:lnTo>
                  <a:lnTo>
                    <a:pt x="63" y="65"/>
                  </a:lnTo>
                  <a:lnTo>
                    <a:pt x="70" y="61"/>
                  </a:lnTo>
                  <a:lnTo>
                    <a:pt x="78" y="53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08" y="34"/>
                  </a:lnTo>
                  <a:lnTo>
                    <a:pt x="118" y="32"/>
                  </a:lnTo>
                  <a:lnTo>
                    <a:pt x="123" y="27"/>
                  </a:lnTo>
                  <a:lnTo>
                    <a:pt x="131" y="23"/>
                  </a:lnTo>
                  <a:lnTo>
                    <a:pt x="137" y="19"/>
                  </a:lnTo>
                  <a:lnTo>
                    <a:pt x="144" y="15"/>
                  </a:lnTo>
                  <a:lnTo>
                    <a:pt x="152" y="11"/>
                  </a:lnTo>
                  <a:lnTo>
                    <a:pt x="158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99200" y="1358640"/>
              <a:ext cx="3672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8792280" y="1365120"/>
              <a:ext cx="104760" cy="7308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72120" y="1374840"/>
              <a:ext cx="114480" cy="237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55" y="4"/>
                  </a:move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9" y="4"/>
                  </a:lnTo>
                  <a:lnTo>
                    <a:pt x="99" y="8"/>
                  </a:lnTo>
                  <a:lnTo>
                    <a:pt x="110" y="12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31" y="23"/>
                  </a:lnTo>
                  <a:lnTo>
                    <a:pt x="137" y="25"/>
                  </a:lnTo>
                  <a:lnTo>
                    <a:pt x="145" y="27"/>
                  </a:lnTo>
                  <a:lnTo>
                    <a:pt x="145" y="29"/>
                  </a:lnTo>
                  <a:lnTo>
                    <a:pt x="135" y="29"/>
                  </a:lnTo>
                  <a:lnTo>
                    <a:pt x="126" y="31"/>
                  </a:lnTo>
                  <a:lnTo>
                    <a:pt x="116" y="31"/>
                  </a:lnTo>
                  <a:lnTo>
                    <a:pt x="108" y="31"/>
                  </a:lnTo>
                  <a:lnTo>
                    <a:pt x="99" y="29"/>
                  </a:lnTo>
                  <a:lnTo>
                    <a:pt x="89" y="29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3" y="25"/>
                  </a:lnTo>
                  <a:lnTo>
                    <a:pt x="53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4"/>
                  </a:lnTo>
                  <a:lnTo>
                    <a:pt x="13" y="12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184240" y="1384200"/>
              <a:ext cx="150840" cy="1490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50" y="2"/>
                  </a:moveTo>
                  <a:lnTo>
                    <a:pt x="154" y="0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3" y="3"/>
                  </a:lnTo>
                  <a:lnTo>
                    <a:pt x="163" y="7"/>
                  </a:lnTo>
                  <a:lnTo>
                    <a:pt x="162" y="17"/>
                  </a:lnTo>
                  <a:lnTo>
                    <a:pt x="156" y="22"/>
                  </a:lnTo>
                  <a:lnTo>
                    <a:pt x="150" y="32"/>
                  </a:lnTo>
                  <a:lnTo>
                    <a:pt x="148" y="40"/>
                  </a:lnTo>
                  <a:lnTo>
                    <a:pt x="150" y="47"/>
                  </a:lnTo>
                  <a:lnTo>
                    <a:pt x="160" y="43"/>
                  </a:lnTo>
                  <a:lnTo>
                    <a:pt x="169" y="43"/>
                  </a:lnTo>
                  <a:lnTo>
                    <a:pt x="177" y="43"/>
                  </a:lnTo>
                  <a:lnTo>
                    <a:pt x="182" y="43"/>
                  </a:lnTo>
                  <a:lnTo>
                    <a:pt x="188" y="47"/>
                  </a:lnTo>
                  <a:lnTo>
                    <a:pt x="190" y="53"/>
                  </a:lnTo>
                  <a:lnTo>
                    <a:pt x="184" y="59"/>
                  </a:lnTo>
                  <a:lnTo>
                    <a:pt x="175" y="68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4" y="83"/>
                  </a:lnTo>
                  <a:lnTo>
                    <a:pt x="146" y="89"/>
                  </a:lnTo>
                  <a:lnTo>
                    <a:pt x="137" y="95"/>
                  </a:lnTo>
                  <a:lnTo>
                    <a:pt x="127" y="100"/>
                  </a:lnTo>
                  <a:lnTo>
                    <a:pt x="118" y="106"/>
                  </a:lnTo>
                  <a:lnTo>
                    <a:pt x="108" y="114"/>
                  </a:lnTo>
                  <a:lnTo>
                    <a:pt x="99" y="119"/>
                  </a:lnTo>
                  <a:lnTo>
                    <a:pt x="89" y="125"/>
                  </a:lnTo>
                  <a:lnTo>
                    <a:pt x="80" y="133"/>
                  </a:lnTo>
                  <a:lnTo>
                    <a:pt x="70" y="140"/>
                  </a:lnTo>
                  <a:lnTo>
                    <a:pt x="61" y="144"/>
                  </a:lnTo>
                  <a:lnTo>
                    <a:pt x="51" y="152"/>
                  </a:lnTo>
                  <a:lnTo>
                    <a:pt x="42" y="157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5" y="176"/>
                  </a:lnTo>
                  <a:lnTo>
                    <a:pt x="19" y="180"/>
                  </a:lnTo>
                  <a:lnTo>
                    <a:pt x="15" y="188"/>
                  </a:lnTo>
                  <a:lnTo>
                    <a:pt x="11" y="178"/>
                  </a:lnTo>
                  <a:lnTo>
                    <a:pt x="13" y="169"/>
                  </a:lnTo>
                  <a:lnTo>
                    <a:pt x="21" y="157"/>
                  </a:lnTo>
                  <a:lnTo>
                    <a:pt x="25" y="148"/>
                  </a:lnTo>
                  <a:lnTo>
                    <a:pt x="25" y="144"/>
                  </a:lnTo>
                  <a:lnTo>
                    <a:pt x="23" y="142"/>
                  </a:lnTo>
                  <a:lnTo>
                    <a:pt x="17" y="140"/>
                  </a:lnTo>
                  <a:lnTo>
                    <a:pt x="11" y="142"/>
                  </a:lnTo>
                  <a:lnTo>
                    <a:pt x="6" y="144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6" y="135"/>
                  </a:lnTo>
                  <a:lnTo>
                    <a:pt x="13" y="125"/>
                  </a:lnTo>
                  <a:lnTo>
                    <a:pt x="21" y="116"/>
                  </a:lnTo>
                  <a:lnTo>
                    <a:pt x="30" y="106"/>
                  </a:lnTo>
                  <a:lnTo>
                    <a:pt x="38" y="97"/>
                  </a:lnTo>
                  <a:lnTo>
                    <a:pt x="47" y="87"/>
                  </a:lnTo>
                  <a:lnTo>
                    <a:pt x="57" y="79"/>
                  </a:lnTo>
                  <a:lnTo>
                    <a:pt x="68" y="70"/>
                  </a:lnTo>
                  <a:lnTo>
                    <a:pt x="78" y="60"/>
                  </a:lnTo>
                  <a:lnTo>
                    <a:pt x="87" y="51"/>
                  </a:lnTo>
                  <a:lnTo>
                    <a:pt x="97" y="43"/>
                  </a:lnTo>
                  <a:lnTo>
                    <a:pt x="108" y="34"/>
                  </a:lnTo>
                  <a:lnTo>
                    <a:pt x="118" y="26"/>
                  </a:lnTo>
                  <a:lnTo>
                    <a:pt x="129" y="17"/>
                  </a:lnTo>
                  <a:lnTo>
                    <a:pt x="139" y="9"/>
                  </a:lnTo>
                  <a:lnTo>
                    <a:pt x="150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80480" y="1382760"/>
              <a:ext cx="311040" cy="28872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352" y="4"/>
                  </a:moveTo>
                  <a:lnTo>
                    <a:pt x="361" y="0"/>
                  </a:lnTo>
                  <a:lnTo>
                    <a:pt x="371" y="0"/>
                  </a:lnTo>
                  <a:lnTo>
                    <a:pt x="378" y="2"/>
                  </a:lnTo>
                  <a:lnTo>
                    <a:pt x="386" y="5"/>
                  </a:lnTo>
                  <a:lnTo>
                    <a:pt x="390" y="7"/>
                  </a:lnTo>
                  <a:lnTo>
                    <a:pt x="392" y="15"/>
                  </a:lnTo>
                  <a:lnTo>
                    <a:pt x="392" y="19"/>
                  </a:lnTo>
                  <a:lnTo>
                    <a:pt x="392" y="23"/>
                  </a:lnTo>
                  <a:lnTo>
                    <a:pt x="392" y="28"/>
                  </a:lnTo>
                  <a:lnTo>
                    <a:pt x="392" y="34"/>
                  </a:lnTo>
                  <a:lnTo>
                    <a:pt x="382" y="36"/>
                  </a:lnTo>
                  <a:lnTo>
                    <a:pt x="375" y="38"/>
                  </a:lnTo>
                  <a:lnTo>
                    <a:pt x="367" y="40"/>
                  </a:lnTo>
                  <a:lnTo>
                    <a:pt x="361" y="42"/>
                  </a:lnTo>
                  <a:lnTo>
                    <a:pt x="354" y="43"/>
                  </a:lnTo>
                  <a:lnTo>
                    <a:pt x="346" y="47"/>
                  </a:lnTo>
                  <a:lnTo>
                    <a:pt x="338" y="51"/>
                  </a:lnTo>
                  <a:lnTo>
                    <a:pt x="333" y="53"/>
                  </a:lnTo>
                  <a:lnTo>
                    <a:pt x="325" y="57"/>
                  </a:lnTo>
                  <a:lnTo>
                    <a:pt x="317" y="61"/>
                  </a:lnTo>
                  <a:lnTo>
                    <a:pt x="310" y="62"/>
                  </a:lnTo>
                  <a:lnTo>
                    <a:pt x="304" y="66"/>
                  </a:lnTo>
                  <a:lnTo>
                    <a:pt x="297" y="70"/>
                  </a:lnTo>
                  <a:lnTo>
                    <a:pt x="289" y="74"/>
                  </a:lnTo>
                  <a:lnTo>
                    <a:pt x="283" y="78"/>
                  </a:lnTo>
                  <a:lnTo>
                    <a:pt x="278" y="83"/>
                  </a:lnTo>
                  <a:lnTo>
                    <a:pt x="270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4"/>
                  </a:lnTo>
                  <a:lnTo>
                    <a:pt x="236" y="108"/>
                  </a:lnTo>
                  <a:lnTo>
                    <a:pt x="230" y="114"/>
                  </a:lnTo>
                  <a:lnTo>
                    <a:pt x="224" y="118"/>
                  </a:lnTo>
                  <a:lnTo>
                    <a:pt x="217" y="123"/>
                  </a:lnTo>
                  <a:lnTo>
                    <a:pt x="211" y="127"/>
                  </a:lnTo>
                  <a:lnTo>
                    <a:pt x="205" y="133"/>
                  </a:lnTo>
                  <a:lnTo>
                    <a:pt x="198" y="138"/>
                  </a:lnTo>
                  <a:lnTo>
                    <a:pt x="192" y="144"/>
                  </a:lnTo>
                  <a:lnTo>
                    <a:pt x="186" y="150"/>
                  </a:lnTo>
                  <a:lnTo>
                    <a:pt x="179" y="154"/>
                  </a:lnTo>
                  <a:lnTo>
                    <a:pt x="173" y="161"/>
                  </a:lnTo>
                  <a:lnTo>
                    <a:pt x="183" y="158"/>
                  </a:lnTo>
                  <a:lnTo>
                    <a:pt x="194" y="154"/>
                  </a:lnTo>
                  <a:lnTo>
                    <a:pt x="203" y="150"/>
                  </a:lnTo>
                  <a:lnTo>
                    <a:pt x="215" y="144"/>
                  </a:lnTo>
                  <a:lnTo>
                    <a:pt x="226" y="138"/>
                  </a:lnTo>
                  <a:lnTo>
                    <a:pt x="238" y="133"/>
                  </a:lnTo>
                  <a:lnTo>
                    <a:pt x="249" y="127"/>
                  </a:lnTo>
                  <a:lnTo>
                    <a:pt x="260" y="121"/>
                  </a:lnTo>
                  <a:lnTo>
                    <a:pt x="270" y="116"/>
                  </a:lnTo>
                  <a:lnTo>
                    <a:pt x="281" y="110"/>
                  </a:lnTo>
                  <a:lnTo>
                    <a:pt x="287" y="106"/>
                  </a:lnTo>
                  <a:lnTo>
                    <a:pt x="295" y="106"/>
                  </a:lnTo>
                  <a:lnTo>
                    <a:pt x="300" y="104"/>
                  </a:lnTo>
                  <a:lnTo>
                    <a:pt x="306" y="102"/>
                  </a:lnTo>
                  <a:lnTo>
                    <a:pt x="314" y="100"/>
                  </a:lnTo>
                  <a:lnTo>
                    <a:pt x="319" y="99"/>
                  </a:lnTo>
                  <a:lnTo>
                    <a:pt x="325" y="97"/>
                  </a:lnTo>
                  <a:lnTo>
                    <a:pt x="333" y="97"/>
                  </a:lnTo>
                  <a:lnTo>
                    <a:pt x="338" y="97"/>
                  </a:lnTo>
                  <a:lnTo>
                    <a:pt x="344" y="97"/>
                  </a:lnTo>
                  <a:lnTo>
                    <a:pt x="352" y="97"/>
                  </a:lnTo>
                  <a:lnTo>
                    <a:pt x="359" y="99"/>
                  </a:lnTo>
                  <a:lnTo>
                    <a:pt x="350" y="104"/>
                  </a:lnTo>
                  <a:lnTo>
                    <a:pt x="338" y="112"/>
                  </a:lnTo>
                  <a:lnTo>
                    <a:pt x="327" y="118"/>
                  </a:lnTo>
                  <a:lnTo>
                    <a:pt x="317" y="123"/>
                  </a:lnTo>
                  <a:lnTo>
                    <a:pt x="310" y="127"/>
                  </a:lnTo>
                  <a:lnTo>
                    <a:pt x="306" y="131"/>
                  </a:lnTo>
                  <a:lnTo>
                    <a:pt x="298" y="133"/>
                  </a:lnTo>
                  <a:lnTo>
                    <a:pt x="295" y="137"/>
                  </a:lnTo>
                  <a:lnTo>
                    <a:pt x="287" y="140"/>
                  </a:lnTo>
                  <a:lnTo>
                    <a:pt x="281" y="142"/>
                  </a:lnTo>
                  <a:lnTo>
                    <a:pt x="276" y="146"/>
                  </a:lnTo>
                  <a:lnTo>
                    <a:pt x="270" y="150"/>
                  </a:lnTo>
                  <a:lnTo>
                    <a:pt x="264" y="152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45" y="161"/>
                  </a:lnTo>
                  <a:lnTo>
                    <a:pt x="240" y="165"/>
                  </a:lnTo>
                  <a:lnTo>
                    <a:pt x="232" y="169"/>
                  </a:lnTo>
                  <a:lnTo>
                    <a:pt x="226" y="171"/>
                  </a:lnTo>
                  <a:lnTo>
                    <a:pt x="221" y="175"/>
                  </a:lnTo>
                  <a:lnTo>
                    <a:pt x="213" y="178"/>
                  </a:lnTo>
                  <a:lnTo>
                    <a:pt x="207" y="180"/>
                  </a:lnTo>
                  <a:lnTo>
                    <a:pt x="202" y="184"/>
                  </a:lnTo>
                  <a:lnTo>
                    <a:pt x="194" y="188"/>
                  </a:lnTo>
                  <a:lnTo>
                    <a:pt x="188" y="190"/>
                  </a:lnTo>
                  <a:lnTo>
                    <a:pt x="181" y="196"/>
                  </a:lnTo>
                  <a:lnTo>
                    <a:pt x="175" y="199"/>
                  </a:lnTo>
                  <a:lnTo>
                    <a:pt x="169" y="203"/>
                  </a:lnTo>
                  <a:lnTo>
                    <a:pt x="163" y="207"/>
                  </a:lnTo>
                  <a:lnTo>
                    <a:pt x="158" y="209"/>
                  </a:lnTo>
                  <a:lnTo>
                    <a:pt x="150" y="213"/>
                  </a:lnTo>
                  <a:lnTo>
                    <a:pt x="144" y="216"/>
                  </a:lnTo>
                  <a:lnTo>
                    <a:pt x="139" y="220"/>
                  </a:lnTo>
                  <a:lnTo>
                    <a:pt x="131" y="224"/>
                  </a:lnTo>
                  <a:lnTo>
                    <a:pt x="127" y="228"/>
                  </a:lnTo>
                  <a:lnTo>
                    <a:pt x="122" y="234"/>
                  </a:lnTo>
                  <a:lnTo>
                    <a:pt x="110" y="243"/>
                  </a:lnTo>
                  <a:lnTo>
                    <a:pt x="99" y="251"/>
                  </a:lnTo>
                  <a:lnTo>
                    <a:pt x="87" y="260"/>
                  </a:lnTo>
                  <a:lnTo>
                    <a:pt x="78" y="272"/>
                  </a:lnTo>
                  <a:lnTo>
                    <a:pt x="68" y="281"/>
                  </a:lnTo>
                  <a:lnTo>
                    <a:pt x="59" y="291"/>
                  </a:lnTo>
                  <a:lnTo>
                    <a:pt x="51" y="302"/>
                  </a:lnTo>
                  <a:lnTo>
                    <a:pt x="46" y="313"/>
                  </a:lnTo>
                  <a:lnTo>
                    <a:pt x="42" y="319"/>
                  </a:lnTo>
                  <a:lnTo>
                    <a:pt x="38" y="325"/>
                  </a:lnTo>
                  <a:lnTo>
                    <a:pt x="36" y="332"/>
                  </a:lnTo>
                  <a:lnTo>
                    <a:pt x="32" y="338"/>
                  </a:lnTo>
                  <a:lnTo>
                    <a:pt x="29" y="344"/>
                  </a:lnTo>
                  <a:lnTo>
                    <a:pt x="27" y="351"/>
                  </a:lnTo>
                  <a:lnTo>
                    <a:pt x="25" y="357"/>
                  </a:lnTo>
                  <a:lnTo>
                    <a:pt x="23" y="365"/>
                  </a:lnTo>
                  <a:lnTo>
                    <a:pt x="17" y="365"/>
                  </a:lnTo>
                  <a:lnTo>
                    <a:pt x="13" y="365"/>
                  </a:lnTo>
                  <a:lnTo>
                    <a:pt x="8" y="363"/>
                  </a:lnTo>
                  <a:lnTo>
                    <a:pt x="0" y="363"/>
                  </a:lnTo>
                  <a:lnTo>
                    <a:pt x="2" y="351"/>
                  </a:lnTo>
                  <a:lnTo>
                    <a:pt x="6" y="342"/>
                  </a:lnTo>
                  <a:lnTo>
                    <a:pt x="8" y="332"/>
                  </a:lnTo>
                  <a:lnTo>
                    <a:pt x="9" y="323"/>
                  </a:lnTo>
                  <a:lnTo>
                    <a:pt x="11" y="313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7" y="285"/>
                  </a:lnTo>
                  <a:lnTo>
                    <a:pt x="17" y="273"/>
                  </a:lnTo>
                  <a:lnTo>
                    <a:pt x="19" y="264"/>
                  </a:lnTo>
                  <a:lnTo>
                    <a:pt x="19" y="254"/>
                  </a:lnTo>
                  <a:lnTo>
                    <a:pt x="21" y="245"/>
                  </a:lnTo>
                  <a:lnTo>
                    <a:pt x="21" y="234"/>
                  </a:lnTo>
                  <a:lnTo>
                    <a:pt x="21" y="224"/>
                  </a:lnTo>
                  <a:lnTo>
                    <a:pt x="21" y="213"/>
                  </a:lnTo>
                  <a:lnTo>
                    <a:pt x="21" y="201"/>
                  </a:lnTo>
                  <a:lnTo>
                    <a:pt x="13" y="201"/>
                  </a:lnTo>
                  <a:lnTo>
                    <a:pt x="6" y="207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8" y="196"/>
                  </a:lnTo>
                  <a:lnTo>
                    <a:pt x="13" y="188"/>
                  </a:lnTo>
                  <a:lnTo>
                    <a:pt x="23" y="177"/>
                  </a:lnTo>
                  <a:lnTo>
                    <a:pt x="32" y="165"/>
                  </a:lnTo>
                  <a:lnTo>
                    <a:pt x="42" y="154"/>
                  </a:lnTo>
                  <a:lnTo>
                    <a:pt x="51" y="144"/>
                  </a:lnTo>
                  <a:lnTo>
                    <a:pt x="63" y="133"/>
                  </a:lnTo>
                  <a:lnTo>
                    <a:pt x="72" y="123"/>
                  </a:lnTo>
                  <a:lnTo>
                    <a:pt x="82" y="114"/>
                  </a:lnTo>
                  <a:lnTo>
                    <a:pt x="93" y="106"/>
                  </a:lnTo>
                  <a:lnTo>
                    <a:pt x="103" y="99"/>
                  </a:lnTo>
                  <a:lnTo>
                    <a:pt x="114" y="97"/>
                  </a:lnTo>
                  <a:lnTo>
                    <a:pt x="124" y="93"/>
                  </a:lnTo>
                  <a:lnTo>
                    <a:pt x="133" y="95"/>
                  </a:lnTo>
                  <a:lnTo>
                    <a:pt x="141" y="99"/>
                  </a:lnTo>
                  <a:lnTo>
                    <a:pt x="150" y="106"/>
                  </a:lnTo>
                  <a:lnTo>
                    <a:pt x="160" y="97"/>
                  </a:lnTo>
                  <a:lnTo>
                    <a:pt x="171" y="89"/>
                  </a:lnTo>
                  <a:lnTo>
                    <a:pt x="177" y="85"/>
                  </a:lnTo>
                  <a:lnTo>
                    <a:pt x="184" y="80"/>
                  </a:lnTo>
                  <a:lnTo>
                    <a:pt x="190" y="76"/>
                  </a:lnTo>
                  <a:lnTo>
                    <a:pt x="196" y="72"/>
                  </a:lnTo>
                  <a:lnTo>
                    <a:pt x="202" y="68"/>
                  </a:lnTo>
                  <a:lnTo>
                    <a:pt x="207" y="64"/>
                  </a:lnTo>
                  <a:lnTo>
                    <a:pt x="215" y="61"/>
                  </a:lnTo>
                  <a:lnTo>
                    <a:pt x="221" y="59"/>
                  </a:lnTo>
                  <a:lnTo>
                    <a:pt x="226" y="53"/>
                  </a:lnTo>
                  <a:lnTo>
                    <a:pt x="234" y="51"/>
                  </a:lnTo>
                  <a:lnTo>
                    <a:pt x="240" y="47"/>
                  </a:lnTo>
                  <a:lnTo>
                    <a:pt x="245" y="43"/>
                  </a:lnTo>
                  <a:lnTo>
                    <a:pt x="251" y="40"/>
                  </a:lnTo>
                  <a:lnTo>
                    <a:pt x="259" y="36"/>
                  </a:lnTo>
                  <a:lnTo>
                    <a:pt x="264" y="34"/>
                  </a:lnTo>
                  <a:lnTo>
                    <a:pt x="270" y="30"/>
                  </a:lnTo>
                  <a:lnTo>
                    <a:pt x="278" y="26"/>
                  </a:lnTo>
                  <a:lnTo>
                    <a:pt x="283" y="24"/>
                  </a:lnTo>
                  <a:lnTo>
                    <a:pt x="289" y="23"/>
                  </a:lnTo>
                  <a:lnTo>
                    <a:pt x="297" y="19"/>
                  </a:lnTo>
                  <a:lnTo>
                    <a:pt x="304" y="17"/>
                  </a:lnTo>
                  <a:lnTo>
                    <a:pt x="310" y="13"/>
                  </a:lnTo>
                  <a:lnTo>
                    <a:pt x="316" y="11"/>
                  </a:lnTo>
                  <a:lnTo>
                    <a:pt x="323" y="9"/>
                  </a:lnTo>
                  <a:lnTo>
                    <a:pt x="329" y="7"/>
                  </a:lnTo>
                  <a:lnTo>
                    <a:pt x="336" y="5"/>
                  </a:lnTo>
                  <a:lnTo>
                    <a:pt x="344" y="4"/>
                  </a:lnTo>
                  <a:lnTo>
                    <a:pt x="352" y="4"/>
                  </a:lnTo>
                  <a:lnTo>
                    <a:pt x="35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581160" y="1412640"/>
              <a:ext cx="37800" cy="12888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9" y="0"/>
                  </a:moveTo>
                  <a:lnTo>
                    <a:pt x="15" y="4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0" y="28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38" y="76"/>
                  </a:lnTo>
                  <a:lnTo>
                    <a:pt x="38" y="81"/>
                  </a:lnTo>
                  <a:lnTo>
                    <a:pt x="38" y="87"/>
                  </a:lnTo>
                  <a:lnTo>
                    <a:pt x="38" y="95"/>
                  </a:lnTo>
                  <a:lnTo>
                    <a:pt x="38" y="99"/>
                  </a:lnTo>
                  <a:lnTo>
                    <a:pt x="39" y="106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39" y="123"/>
                  </a:lnTo>
                  <a:lnTo>
                    <a:pt x="41" y="129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45" y="152"/>
                  </a:lnTo>
                  <a:lnTo>
                    <a:pt x="49" y="161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2" y="144"/>
                  </a:lnTo>
                  <a:lnTo>
                    <a:pt x="17" y="137"/>
                  </a:lnTo>
                  <a:lnTo>
                    <a:pt x="11" y="125"/>
                  </a:lnTo>
                  <a:lnTo>
                    <a:pt x="7" y="116"/>
                  </a:lnTo>
                  <a:lnTo>
                    <a:pt x="5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3" y="91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87280" y="1430280"/>
              <a:ext cx="133560" cy="665280"/>
            </a:xfrm>
            <a:custGeom>
              <a:avLst/>
              <a:gdLst/>
              <a:ahLst/>
              <a:rect l="l" t="t" r="r" b="b"/>
              <a:pathLst>
                <a:path w="167" h="836">
                  <a:moveTo>
                    <a:pt x="0" y="0"/>
                  </a:moveTo>
                  <a:lnTo>
                    <a:pt x="4" y="7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2" y="34"/>
                  </a:lnTo>
                  <a:lnTo>
                    <a:pt x="13" y="43"/>
                  </a:lnTo>
                  <a:lnTo>
                    <a:pt x="17" y="51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23" y="79"/>
                  </a:lnTo>
                  <a:lnTo>
                    <a:pt x="25" y="89"/>
                  </a:lnTo>
                  <a:lnTo>
                    <a:pt x="27" y="98"/>
                  </a:lnTo>
                  <a:lnTo>
                    <a:pt x="29" y="108"/>
                  </a:lnTo>
                  <a:lnTo>
                    <a:pt x="31" y="117"/>
                  </a:lnTo>
                  <a:lnTo>
                    <a:pt x="32" y="127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8" y="165"/>
                  </a:lnTo>
                  <a:lnTo>
                    <a:pt x="40" y="174"/>
                  </a:lnTo>
                  <a:lnTo>
                    <a:pt x="42" y="184"/>
                  </a:lnTo>
                  <a:lnTo>
                    <a:pt x="44" y="193"/>
                  </a:lnTo>
                  <a:lnTo>
                    <a:pt x="46" y="205"/>
                  </a:lnTo>
                  <a:lnTo>
                    <a:pt x="46" y="214"/>
                  </a:lnTo>
                  <a:lnTo>
                    <a:pt x="50" y="226"/>
                  </a:lnTo>
                  <a:lnTo>
                    <a:pt x="50" y="235"/>
                  </a:lnTo>
                  <a:lnTo>
                    <a:pt x="51" y="245"/>
                  </a:lnTo>
                  <a:lnTo>
                    <a:pt x="51" y="254"/>
                  </a:lnTo>
                  <a:lnTo>
                    <a:pt x="53" y="266"/>
                  </a:lnTo>
                  <a:lnTo>
                    <a:pt x="55" y="275"/>
                  </a:lnTo>
                  <a:lnTo>
                    <a:pt x="57" y="285"/>
                  </a:lnTo>
                  <a:lnTo>
                    <a:pt x="59" y="296"/>
                  </a:lnTo>
                  <a:lnTo>
                    <a:pt x="61" y="306"/>
                  </a:lnTo>
                  <a:lnTo>
                    <a:pt x="61" y="317"/>
                  </a:lnTo>
                  <a:lnTo>
                    <a:pt x="63" y="327"/>
                  </a:lnTo>
                  <a:lnTo>
                    <a:pt x="63" y="336"/>
                  </a:lnTo>
                  <a:lnTo>
                    <a:pt x="65" y="346"/>
                  </a:lnTo>
                  <a:lnTo>
                    <a:pt x="67" y="355"/>
                  </a:lnTo>
                  <a:lnTo>
                    <a:pt x="69" y="366"/>
                  </a:lnTo>
                  <a:lnTo>
                    <a:pt x="71" y="376"/>
                  </a:lnTo>
                  <a:lnTo>
                    <a:pt x="72" y="385"/>
                  </a:lnTo>
                  <a:lnTo>
                    <a:pt x="74" y="395"/>
                  </a:lnTo>
                  <a:lnTo>
                    <a:pt x="76" y="404"/>
                  </a:lnTo>
                  <a:lnTo>
                    <a:pt x="78" y="414"/>
                  </a:lnTo>
                  <a:lnTo>
                    <a:pt x="80" y="425"/>
                  </a:lnTo>
                  <a:lnTo>
                    <a:pt x="82" y="435"/>
                  </a:lnTo>
                  <a:lnTo>
                    <a:pt x="84" y="446"/>
                  </a:lnTo>
                  <a:lnTo>
                    <a:pt x="88" y="456"/>
                  </a:lnTo>
                  <a:lnTo>
                    <a:pt x="91" y="465"/>
                  </a:lnTo>
                  <a:lnTo>
                    <a:pt x="93" y="475"/>
                  </a:lnTo>
                  <a:lnTo>
                    <a:pt x="97" y="484"/>
                  </a:lnTo>
                  <a:lnTo>
                    <a:pt x="99" y="494"/>
                  </a:lnTo>
                  <a:lnTo>
                    <a:pt x="103" y="503"/>
                  </a:lnTo>
                  <a:lnTo>
                    <a:pt x="107" y="513"/>
                  </a:lnTo>
                  <a:lnTo>
                    <a:pt x="109" y="522"/>
                  </a:lnTo>
                  <a:lnTo>
                    <a:pt x="112" y="532"/>
                  </a:lnTo>
                  <a:lnTo>
                    <a:pt x="116" y="541"/>
                  </a:lnTo>
                  <a:lnTo>
                    <a:pt x="120" y="549"/>
                  </a:lnTo>
                  <a:lnTo>
                    <a:pt x="124" y="558"/>
                  </a:lnTo>
                  <a:lnTo>
                    <a:pt x="128" y="568"/>
                  </a:lnTo>
                  <a:lnTo>
                    <a:pt x="133" y="577"/>
                  </a:lnTo>
                  <a:lnTo>
                    <a:pt x="137" y="587"/>
                  </a:lnTo>
                  <a:lnTo>
                    <a:pt x="143" y="596"/>
                  </a:lnTo>
                  <a:lnTo>
                    <a:pt x="147" y="604"/>
                  </a:lnTo>
                  <a:lnTo>
                    <a:pt x="152" y="614"/>
                  </a:lnTo>
                  <a:lnTo>
                    <a:pt x="154" y="623"/>
                  </a:lnTo>
                  <a:lnTo>
                    <a:pt x="156" y="633"/>
                  </a:lnTo>
                  <a:lnTo>
                    <a:pt x="158" y="642"/>
                  </a:lnTo>
                  <a:lnTo>
                    <a:pt x="160" y="652"/>
                  </a:lnTo>
                  <a:lnTo>
                    <a:pt x="162" y="661"/>
                  </a:lnTo>
                  <a:lnTo>
                    <a:pt x="162" y="673"/>
                  </a:lnTo>
                  <a:lnTo>
                    <a:pt x="164" y="684"/>
                  </a:lnTo>
                  <a:lnTo>
                    <a:pt x="166" y="695"/>
                  </a:lnTo>
                  <a:lnTo>
                    <a:pt x="166" y="705"/>
                  </a:lnTo>
                  <a:lnTo>
                    <a:pt x="166" y="714"/>
                  </a:lnTo>
                  <a:lnTo>
                    <a:pt x="166" y="726"/>
                  </a:lnTo>
                  <a:lnTo>
                    <a:pt x="166" y="735"/>
                  </a:lnTo>
                  <a:lnTo>
                    <a:pt x="166" y="747"/>
                  </a:lnTo>
                  <a:lnTo>
                    <a:pt x="166" y="758"/>
                  </a:lnTo>
                  <a:lnTo>
                    <a:pt x="166" y="764"/>
                  </a:lnTo>
                  <a:lnTo>
                    <a:pt x="166" y="769"/>
                  </a:lnTo>
                  <a:lnTo>
                    <a:pt x="166" y="775"/>
                  </a:lnTo>
                  <a:lnTo>
                    <a:pt x="166" y="781"/>
                  </a:lnTo>
                  <a:lnTo>
                    <a:pt x="162" y="781"/>
                  </a:lnTo>
                  <a:lnTo>
                    <a:pt x="158" y="781"/>
                  </a:lnTo>
                  <a:lnTo>
                    <a:pt x="156" y="771"/>
                  </a:lnTo>
                  <a:lnTo>
                    <a:pt x="154" y="762"/>
                  </a:lnTo>
                  <a:lnTo>
                    <a:pt x="152" y="756"/>
                  </a:lnTo>
                  <a:lnTo>
                    <a:pt x="152" y="750"/>
                  </a:lnTo>
                  <a:lnTo>
                    <a:pt x="147" y="743"/>
                  </a:lnTo>
                  <a:lnTo>
                    <a:pt x="145" y="739"/>
                  </a:lnTo>
                  <a:lnTo>
                    <a:pt x="139" y="739"/>
                  </a:lnTo>
                  <a:lnTo>
                    <a:pt x="137" y="743"/>
                  </a:lnTo>
                  <a:lnTo>
                    <a:pt x="133" y="749"/>
                  </a:lnTo>
                  <a:lnTo>
                    <a:pt x="133" y="758"/>
                  </a:lnTo>
                  <a:lnTo>
                    <a:pt x="129" y="766"/>
                  </a:lnTo>
                  <a:lnTo>
                    <a:pt x="129" y="777"/>
                  </a:lnTo>
                  <a:lnTo>
                    <a:pt x="129" y="783"/>
                  </a:lnTo>
                  <a:lnTo>
                    <a:pt x="129" y="788"/>
                  </a:lnTo>
                  <a:lnTo>
                    <a:pt x="131" y="794"/>
                  </a:lnTo>
                  <a:lnTo>
                    <a:pt x="135" y="800"/>
                  </a:lnTo>
                  <a:lnTo>
                    <a:pt x="139" y="809"/>
                  </a:lnTo>
                  <a:lnTo>
                    <a:pt x="147" y="821"/>
                  </a:lnTo>
                  <a:lnTo>
                    <a:pt x="148" y="825"/>
                  </a:lnTo>
                  <a:lnTo>
                    <a:pt x="156" y="830"/>
                  </a:lnTo>
                  <a:lnTo>
                    <a:pt x="162" y="832"/>
                  </a:lnTo>
                  <a:lnTo>
                    <a:pt x="167" y="836"/>
                  </a:lnTo>
                  <a:lnTo>
                    <a:pt x="162" y="834"/>
                  </a:lnTo>
                  <a:lnTo>
                    <a:pt x="156" y="830"/>
                  </a:lnTo>
                  <a:lnTo>
                    <a:pt x="150" y="827"/>
                  </a:lnTo>
                  <a:lnTo>
                    <a:pt x="147" y="825"/>
                  </a:lnTo>
                  <a:lnTo>
                    <a:pt x="137" y="817"/>
                  </a:lnTo>
                  <a:lnTo>
                    <a:pt x="129" y="811"/>
                  </a:lnTo>
                  <a:lnTo>
                    <a:pt x="122" y="804"/>
                  </a:lnTo>
                  <a:lnTo>
                    <a:pt x="116" y="796"/>
                  </a:lnTo>
                  <a:lnTo>
                    <a:pt x="110" y="787"/>
                  </a:lnTo>
                  <a:lnTo>
                    <a:pt x="107" y="779"/>
                  </a:lnTo>
                  <a:lnTo>
                    <a:pt x="103" y="769"/>
                  </a:lnTo>
                  <a:lnTo>
                    <a:pt x="99" y="760"/>
                  </a:lnTo>
                  <a:lnTo>
                    <a:pt x="97" y="750"/>
                  </a:lnTo>
                  <a:lnTo>
                    <a:pt x="97" y="741"/>
                  </a:lnTo>
                  <a:lnTo>
                    <a:pt x="93" y="730"/>
                  </a:lnTo>
                  <a:lnTo>
                    <a:pt x="93" y="718"/>
                  </a:lnTo>
                  <a:lnTo>
                    <a:pt x="93" y="709"/>
                  </a:lnTo>
                  <a:lnTo>
                    <a:pt x="93" y="699"/>
                  </a:lnTo>
                  <a:lnTo>
                    <a:pt x="93" y="693"/>
                  </a:lnTo>
                  <a:lnTo>
                    <a:pt x="93" y="688"/>
                  </a:lnTo>
                  <a:lnTo>
                    <a:pt x="93" y="680"/>
                  </a:lnTo>
                  <a:lnTo>
                    <a:pt x="93" y="676"/>
                  </a:lnTo>
                  <a:lnTo>
                    <a:pt x="93" y="665"/>
                  </a:lnTo>
                  <a:lnTo>
                    <a:pt x="95" y="654"/>
                  </a:lnTo>
                  <a:lnTo>
                    <a:pt x="95" y="642"/>
                  </a:lnTo>
                  <a:lnTo>
                    <a:pt x="97" y="631"/>
                  </a:lnTo>
                  <a:lnTo>
                    <a:pt x="97" y="619"/>
                  </a:lnTo>
                  <a:lnTo>
                    <a:pt x="99" y="610"/>
                  </a:lnTo>
                  <a:lnTo>
                    <a:pt x="97" y="598"/>
                  </a:lnTo>
                  <a:lnTo>
                    <a:pt x="97" y="587"/>
                  </a:lnTo>
                  <a:lnTo>
                    <a:pt x="97" y="576"/>
                  </a:lnTo>
                  <a:lnTo>
                    <a:pt x="97" y="566"/>
                  </a:lnTo>
                  <a:lnTo>
                    <a:pt x="95" y="557"/>
                  </a:lnTo>
                  <a:lnTo>
                    <a:pt x="93" y="545"/>
                  </a:lnTo>
                  <a:lnTo>
                    <a:pt x="91" y="536"/>
                  </a:lnTo>
                  <a:lnTo>
                    <a:pt x="90" y="528"/>
                  </a:lnTo>
                  <a:lnTo>
                    <a:pt x="82" y="519"/>
                  </a:lnTo>
                  <a:lnTo>
                    <a:pt x="74" y="511"/>
                  </a:lnTo>
                  <a:lnTo>
                    <a:pt x="69" y="501"/>
                  </a:lnTo>
                  <a:lnTo>
                    <a:pt x="65" y="492"/>
                  </a:lnTo>
                  <a:lnTo>
                    <a:pt x="59" y="479"/>
                  </a:lnTo>
                  <a:lnTo>
                    <a:pt x="53" y="469"/>
                  </a:lnTo>
                  <a:lnTo>
                    <a:pt x="51" y="458"/>
                  </a:lnTo>
                  <a:lnTo>
                    <a:pt x="48" y="446"/>
                  </a:lnTo>
                  <a:lnTo>
                    <a:pt x="44" y="439"/>
                  </a:lnTo>
                  <a:lnTo>
                    <a:pt x="44" y="433"/>
                  </a:lnTo>
                  <a:lnTo>
                    <a:pt x="42" y="427"/>
                  </a:lnTo>
                  <a:lnTo>
                    <a:pt x="40" y="420"/>
                  </a:lnTo>
                  <a:lnTo>
                    <a:pt x="38" y="412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4" y="385"/>
                  </a:lnTo>
                  <a:lnTo>
                    <a:pt x="34" y="378"/>
                  </a:lnTo>
                  <a:lnTo>
                    <a:pt x="32" y="370"/>
                  </a:lnTo>
                  <a:lnTo>
                    <a:pt x="32" y="365"/>
                  </a:lnTo>
                  <a:lnTo>
                    <a:pt x="32" y="357"/>
                  </a:lnTo>
                  <a:lnTo>
                    <a:pt x="31" y="351"/>
                  </a:lnTo>
                  <a:lnTo>
                    <a:pt x="31" y="344"/>
                  </a:lnTo>
                  <a:lnTo>
                    <a:pt x="31" y="338"/>
                  </a:lnTo>
                  <a:lnTo>
                    <a:pt x="29" y="328"/>
                  </a:lnTo>
                  <a:lnTo>
                    <a:pt x="29" y="321"/>
                  </a:lnTo>
                  <a:lnTo>
                    <a:pt x="27" y="313"/>
                  </a:lnTo>
                  <a:lnTo>
                    <a:pt x="27" y="306"/>
                  </a:lnTo>
                  <a:lnTo>
                    <a:pt x="27" y="300"/>
                  </a:lnTo>
                  <a:lnTo>
                    <a:pt x="25" y="292"/>
                  </a:lnTo>
                  <a:lnTo>
                    <a:pt x="25" y="285"/>
                  </a:lnTo>
                  <a:lnTo>
                    <a:pt x="25" y="277"/>
                  </a:lnTo>
                  <a:lnTo>
                    <a:pt x="25" y="270"/>
                  </a:lnTo>
                  <a:lnTo>
                    <a:pt x="25" y="262"/>
                  </a:lnTo>
                  <a:lnTo>
                    <a:pt x="23" y="254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1"/>
                  </a:lnTo>
                  <a:lnTo>
                    <a:pt x="23" y="226"/>
                  </a:lnTo>
                  <a:lnTo>
                    <a:pt x="23" y="218"/>
                  </a:lnTo>
                  <a:lnTo>
                    <a:pt x="21" y="211"/>
                  </a:lnTo>
                  <a:lnTo>
                    <a:pt x="19" y="203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17" y="182"/>
                  </a:lnTo>
                  <a:lnTo>
                    <a:pt x="17" y="174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5" y="154"/>
                  </a:lnTo>
                  <a:lnTo>
                    <a:pt x="15" y="148"/>
                  </a:lnTo>
                  <a:lnTo>
                    <a:pt x="13" y="140"/>
                  </a:lnTo>
                  <a:lnTo>
                    <a:pt x="13" y="135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8" y="116"/>
                  </a:lnTo>
                  <a:lnTo>
                    <a:pt x="8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763680" y="1460520"/>
              <a:ext cx="60120" cy="239400"/>
            </a:xfrm>
            <a:custGeom>
              <a:avLst/>
              <a:gdLst/>
              <a:ahLst/>
              <a:rect l="l" t="t" r="r" b="b"/>
              <a:pathLst>
                <a:path w="74" h="302">
                  <a:moveTo>
                    <a:pt x="70" y="0"/>
                  </a:moveTo>
                  <a:lnTo>
                    <a:pt x="70" y="9"/>
                  </a:lnTo>
                  <a:lnTo>
                    <a:pt x="72" y="19"/>
                  </a:lnTo>
                  <a:lnTo>
                    <a:pt x="72" y="28"/>
                  </a:lnTo>
                  <a:lnTo>
                    <a:pt x="74" y="38"/>
                  </a:lnTo>
                  <a:lnTo>
                    <a:pt x="74" y="47"/>
                  </a:lnTo>
                  <a:lnTo>
                    <a:pt x="74" y="57"/>
                  </a:lnTo>
                  <a:lnTo>
                    <a:pt x="72" y="66"/>
                  </a:lnTo>
                  <a:lnTo>
                    <a:pt x="72" y="78"/>
                  </a:lnTo>
                  <a:lnTo>
                    <a:pt x="70" y="87"/>
                  </a:lnTo>
                  <a:lnTo>
                    <a:pt x="68" y="97"/>
                  </a:lnTo>
                  <a:lnTo>
                    <a:pt x="66" y="106"/>
                  </a:lnTo>
                  <a:lnTo>
                    <a:pt x="65" y="116"/>
                  </a:lnTo>
                  <a:lnTo>
                    <a:pt x="61" y="125"/>
                  </a:lnTo>
                  <a:lnTo>
                    <a:pt x="59" y="135"/>
                  </a:lnTo>
                  <a:lnTo>
                    <a:pt x="55" y="144"/>
                  </a:lnTo>
                  <a:lnTo>
                    <a:pt x="53" y="154"/>
                  </a:lnTo>
                  <a:lnTo>
                    <a:pt x="49" y="163"/>
                  </a:lnTo>
                  <a:lnTo>
                    <a:pt x="46" y="173"/>
                  </a:lnTo>
                  <a:lnTo>
                    <a:pt x="42" y="180"/>
                  </a:lnTo>
                  <a:lnTo>
                    <a:pt x="40" y="190"/>
                  </a:lnTo>
                  <a:lnTo>
                    <a:pt x="34" y="199"/>
                  </a:lnTo>
                  <a:lnTo>
                    <a:pt x="32" y="209"/>
                  </a:lnTo>
                  <a:lnTo>
                    <a:pt x="28" y="218"/>
                  </a:lnTo>
                  <a:lnTo>
                    <a:pt x="25" y="228"/>
                  </a:lnTo>
                  <a:lnTo>
                    <a:pt x="21" y="237"/>
                  </a:lnTo>
                  <a:lnTo>
                    <a:pt x="17" y="247"/>
                  </a:lnTo>
                  <a:lnTo>
                    <a:pt x="15" y="254"/>
                  </a:lnTo>
                  <a:lnTo>
                    <a:pt x="11" y="264"/>
                  </a:lnTo>
                  <a:lnTo>
                    <a:pt x="7" y="273"/>
                  </a:lnTo>
                  <a:lnTo>
                    <a:pt x="6" y="283"/>
                  </a:lnTo>
                  <a:lnTo>
                    <a:pt x="4" y="292"/>
                  </a:lnTo>
                  <a:lnTo>
                    <a:pt x="2" y="302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6" y="232"/>
                  </a:lnTo>
                  <a:lnTo>
                    <a:pt x="7" y="222"/>
                  </a:lnTo>
                  <a:lnTo>
                    <a:pt x="9" y="212"/>
                  </a:lnTo>
                  <a:lnTo>
                    <a:pt x="13" y="203"/>
                  </a:lnTo>
                  <a:lnTo>
                    <a:pt x="15" y="193"/>
                  </a:lnTo>
                  <a:lnTo>
                    <a:pt x="19" y="184"/>
                  </a:lnTo>
                  <a:lnTo>
                    <a:pt x="23" y="174"/>
                  </a:lnTo>
                  <a:lnTo>
                    <a:pt x="25" y="165"/>
                  </a:lnTo>
                  <a:lnTo>
                    <a:pt x="28" y="155"/>
                  </a:lnTo>
                  <a:lnTo>
                    <a:pt x="32" y="144"/>
                  </a:lnTo>
                  <a:lnTo>
                    <a:pt x="34" y="135"/>
                  </a:lnTo>
                  <a:lnTo>
                    <a:pt x="38" y="125"/>
                  </a:lnTo>
                  <a:lnTo>
                    <a:pt x="42" y="116"/>
                  </a:lnTo>
                  <a:lnTo>
                    <a:pt x="44" y="106"/>
                  </a:lnTo>
                  <a:lnTo>
                    <a:pt x="47" y="97"/>
                  </a:lnTo>
                  <a:lnTo>
                    <a:pt x="51" y="87"/>
                  </a:lnTo>
                  <a:lnTo>
                    <a:pt x="53" y="78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1" y="47"/>
                  </a:lnTo>
                  <a:lnTo>
                    <a:pt x="63" y="38"/>
                  </a:lnTo>
                  <a:lnTo>
                    <a:pt x="65" y="28"/>
                  </a:lnTo>
                  <a:lnTo>
                    <a:pt x="66" y="19"/>
                  </a:lnTo>
                  <a:lnTo>
                    <a:pt x="68" y="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369280" y="1468440"/>
              <a:ext cx="131760" cy="1476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0" y="0"/>
                  </a:moveTo>
                  <a:lnTo>
                    <a:pt x="9" y="8"/>
                  </a:lnTo>
                  <a:lnTo>
                    <a:pt x="19" y="17"/>
                  </a:lnTo>
                  <a:lnTo>
                    <a:pt x="24" y="23"/>
                  </a:lnTo>
                  <a:lnTo>
                    <a:pt x="32" y="29"/>
                  </a:lnTo>
                  <a:lnTo>
                    <a:pt x="38" y="32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7" y="48"/>
                  </a:lnTo>
                  <a:lnTo>
                    <a:pt x="62" y="53"/>
                  </a:lnTo>
                  <a:lnTo>
                    <a:pt x="70" y="61"/>
                  </a:lnTo>
                  <a:lnTo>
                    <a:pt x="76" y="65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95" y="84"/>
                  </a:lnTo>
                  <a:lnTo>
                    <a:pt x="100" y="89"/>
                  </a:lnTo>
                  <a:lnTo>
                    <a:pt x="106" y="97"/>
                  </a:lnTo>
                  <a:lnTo>
                    <a:pt x="110" y="101"/>
                  </a:lnTo>
                  <a:lnTo>
                    <a:pt x="118" y="108"/>
                  </a:lnTo>
                  <a:lnTo>
                    <a:pt x="123" y="114"/>
                  </a:lnTo>
                  <a:lnTo>
                    <a:pt x="127" y="120"/>
                  </a:lnTo>
                  <a:lnTo>
                    <a:pt x="133" y="127"/>
                  </a:lnTo>
                  <a:lnTo>
                    <a:pt x="139" y="133"/>
                  </a:lnTo>
                  <a:lnTo>
                    <a:pt x="142" y="139"/>
                  </a:lnTo>
                  <a:lnTo>
                    <a:pt x="146" y="146"/>
                  </a:lnTo>
                  <a:lnTo>
                    <a:pt x="148" y="152"/>
                  </a:lnTo>
                  <a:lnTo>
                    <a:pt x="154" y="160"/>
                  </a:lnTo>
                  <a:lnTo>
                    <a:pt x="156" y="165"/>
                  </a:lnTo>
                  <a:lnTo>
                    <a:pt x="159" y="173"/>
                  </a:lnTo>
                  <a:lnTo>
                    <a:pt x="161" y="179"/>
                  </a:lnTo>
                  <a:lnTo>
                    <a:pt x="165" y="186"/>
                  </a:lnTo>
                  <a:lnTo>
                    <a:pt x="156" y="181"/>
                  </a:lnTo>
                  <a:lnTo>
                    <a:pt x="148" y="177"/>
                  </a:lnTo>
                  <a:lnTo>
                    <a:pt x="142" y="173"/>
                  </a:lnTo>
                  <a:lnTo>
                    <a:pt x="135" y="169"/>
                  </a:lnTo>
                  <a:lnTo>
                    <a:pt x="127" y="164"/>
                  </a:lnTo>
                  <a:lnTo>
                    <a:pt x="120" y="158"/>
                  </a:lnTo>
                  <a:lnTo>
                    <a:pt x="112" y="152"/>
                  </a:lnTo>
                  <a:lnTo>
                    <a:pt x="106" y="148"/>
                  </a:lnTo>
                  <a:lnTo>
                    <a:pt x="99" y="143"/>
                  </a:lnTo>
                  <a:lnTo>
                    <a:pt x="91" y="137"/>
                  </a:lnTo>
                  <a:lnTo>
                    <a:pt x="85" y="131"/>
                  </a:lnTo>
                  <a:lnTo>
                    <a:pt x="80" y="126"/>
                  </a:lnTo>
                  <a:lnTo>
                    <a:pt x="72" y="120"/>
                  </a:lnTo>
                  <a:lnTo>
                    <a:pt x="64" y="114"/>
                  </a:lnTo>
                  <a:lnTo>
                    <a:pt x="61" y="108"/>
                  </a:lnTo>
                  <a:lnTo>
                    <a:pt x="55" y="103"/>
                  </a:lnTo>
                  <a:lnTo>
                    <a:pt x="49" y="97"/>
                  </a:lnTo>
                  <a:lnTo>
                    <a:pt x="42" y="89"/>
                  </a:lnTo>
                  <a:lnTo>
                    <a:pt x="36" y="84"/>
                  </a:lnTo>
                  <a:lnTo>
                    <a:pt x="32" y="78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19" y="57"/>
                  </a:lnTo>
                  <a:lnTo>
                    <a:pt x="15" y="51"/>
                  </a:lnTo>
                  <a:lnTo>
                    <a:pt x="11" y="44"/>
                  </a:lnTo>
                  <a:lnTo>
                    <a:pt x="7" y="38"/>
                  </a:lnTo>
                  <a:lnTo>
                    <a:pt x="5" y="32"/>
                  </a:lnTo>
                  <a:lnTo>
                    <a:pt x="4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579520" y="1485720"/>
              <a:ext cx="17964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050960" y="1506600"/>
              <a:ext cx="142920" cy="139680"/>
            </a:xfrm>
            <a:custGeom>
              <a:avLst/>
              <a:gdLst/>
              <a:ahLst/>
              <a:rect l="l" t="t" r="r" b="b"/>
              <a:pathLst>
                <a:path w="181" h="176">
                  <a:moveTo>
                    <a:pt x="168" y="0"/>
                  </a:move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75" y="5"/>
                  </a:lnTo>
                  <a:lnTo>
                    <a:pt x="169" y="11"/>
                  </a:lnTo>
                  <a:lnTo>
                    <a:pt x="166" y="17"/>
                  </a:lnTo>
                  <a:lnTo>
                    <a:pt x="160" y="24"/>
                  </a:lnTo>
                  <a:lnTo>
                    <a:pt x="156" y="32"/>
                  </a:lnTo>
                  <a:lnTo>
                    <a:pt x="150" y="40"/>
                  </a:lnTo>
                  <a:lnTo>
                    <a:pt x="147" y="47"/>
                  </a:lnTo>
                  <a:lnTo>
                    <a:pt x="143" y="55"/>
                  </a:lnTo>
                  <a:lnTo>
                    <a:pt x="139" y="62"/>
                  </a:lnTo>
                  <a:lnTo>
                    <a:pt x="137" y="72"/>
                  </a:lnTo>
                  <a:lnTo>
                    <a:pt x="131" y="79"/>
                  </a:lnTo>
                  <a:lnTo>
                    <a:pt x="129" y="87"/>
                  </a:lnTo>
                  <a:lnTo>
                    <a:pt x="124" y="95"/>
                  </a:lnTo>
                  <a:lnTo>
                    <a:pt x="120" y="104"/>
                  </a:lnTo>
                  <a:lnTo>
                    <a:pt x="116" y="112"/>
                  </a:lnTo>
                  <a:lnTo>
                    <a:pt x="112" y="119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38"/>
                  </a:lnTo>
                  <a:lnTo>
                    <a:pt x="93" y="146"/>
                  </a:lnTo>
                  <a:lnTo>
                    <a:pt x="88" y="152"/>
                  </a:lnTo>
                  <a:lnTo>
                    <a:pt x="82" y="157"/>
                  </a:lnTo>
                  <a:lnTo>
                    <a:pt x="76" y="161"/>
                  </a:lnTo>
                  <a:lnTo>
                    <a:pt x="71" y="167"/>
                  </a:lnTo>
                  <a:lnTo>
                    <a:pt x="63" y="169"/>
                  </a:lnTo>
                  <a:lnTo>
                    <a:pt x="55" y="173"/>
                  </a:lnTo>
                  <a:lnTo>
                    <a:pt x="48" y="175"/>
                  </a:lnTo>
                  <a:lnTo>
                    <a:pt x="40" y="176"/>
                  </a:lnTo>
                  <a:lnTo>
                    <a:pt x="31" y="176"/>
                  </a:lnTo>
                  <a:lnTo>
                    <a:pt x="21" y="176"/>
                  </a:lnTo>
                  <a:lnTo>
                    <a:pt x="10" y="176"/>
                  </a:lnTo>
                  <a:lnTo>
                    <a:pt x="0" y="176"/>
                  </a:lnTo>
                  <a:lnTo>
                    <a:pt x="2" y="169"/>
                  </a:lnTo>
                  <a:lnTo>
                    <a:pt x="6" y="161"/>
                  </a:lnTo>
                  <a:lnTo>
                    <a:pt x="10" y="155"/>
                  </a:lnTo>
                  <a:lnTo>
                    <a:pt x="12" y="150"/>
                  </a:lnTo>
                  <a:lnTo>
                    <a:pt x="21" y="136"/>
                  </a:lnTo>
                  <a:lnTo>
                    <a:pt x="31" y="127"/>
                  </a:lnTo>
                  <a:lnTo>
                    <a:pt x="40" y="116"/>
                  </a:lnTo>
                  <a:lnTo>
                    <a:pt x="50" y="104"/>
                  </a:lnTo>
                  <a:lnTo>
                    <a:pt x="55" y="98"/>
                  </a:lnTo>
                  <a:lnTo>
                    <a:pt x="63" y="95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80" y="78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7" y="62"/>
                  </a:lnTo>
                  <a:lnTo>
                    <a:pt x="103" y="57"/>
                  </a:lnTo>
                  <a:lnTo>
                    <a:pt x="110" y="51"/>
                  </a:lnTo>
                  <a:lnTo>
                    <a:pt x="116" y="45"/>
                  </a:lnTo>
                  <a:lnTo>
                    <a:pt x="122" y="41"/>
                  </a:lnTo>
                  <a:lnTo>
                    <a:pt x="128" y="36"/>
                  </a:lnTo>
                  <a:lnTo>
                    <a:pt x="133" y="32"/>
                  </a:lnTo>
                  <a:lnTo>
                    <a:pt x="139" y="24"/>
                  </a:lnTo>
                  <a:lnTo>
                    <a:pt x="147" y="21"/>
                  </a:lnTo>
                  <a:lnTo>
                    <a:pt x="156" y="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012800" y="1514520"/>
              <a:ext cx="73080" cy="11088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91" y="0"/>
                  </a:moveTo>
                  <a:lnTo>
                    <a:pt x="86" y="8"/>
                  </a:lnTo>
                  <a:lnTo>
                    <a:pt x="82" y="15"/>
                  </a:lnTo>
                  <a:lnTo>
                    <a:pt x="78" y="25"/>
                  </a:lnTo>
                  <a:lnTo>
                    <a:pt x="74" y="34"/>
                  </a:lnTo>
                  <a:lnTo>
                    <a:pt x="70" y="4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7" y="76"/>
                  </a:lnTo>
                  <a:lnTo>
                    <a:pt x="51" y="86"/>
                  </a:lnTo>
                  <a:lnTo>
                    <a:pt x="48" y="95"/>
                  </a:lnTo>
                  <a:lnTo>
                    <a:pt x="40" y="105"/>
                  </a:lnTo>
                  <a:lnTo>
                    <a:pt x="34" y="114"/>
                  </a:lnTo>
                  <a:lnTo>
                    <a:pt x="27" y="122"/>
                  </a:lnTo>
                  <a:lnTo>
                    <a:pt x="19" y="129"/>
                  </a:lnTo>
                  <a:lnTo>
                    <a:pt x="10" y="135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8" y="122"/>
                  </a:lnTo>
                  <a:lnTo>
                    <a:pt x="12" y="112"/>
                  </a:lnTo>
                  <a:lnTo>
                    <a:pt x="19" y="103"/>
                  </a:lnTo>
                  <a:lnTo>
                    <a:pt x="23" y="93"/>
                  </a:lnTo>
                  <a:lnTo>
                    <a:pt x="29" y="86"/>
                  </a:lnTo>
                  <a:lnTo>
                    <a:pt x="32" y="76"/>
                  </a:lnTo>
                  <a:lnTo>
                    <a:pt x="40" y="69"/>
                  </a:lnTo>
                  <a:lnTo>
                    <a:pt x="44" y="59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63" y="34"/>
                  </a:lnTo>
                  <a:lnTo>
                    <a:pt x="70" y="25"/>
                  </a:lnTo>
                  <a:lnTo>
                    <a:pt x="78" y="17"/>
                  </a:lnTo>
                  <a:lnTo>
                    <a:pt x="84" y="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010360" y="1523880"/>
              <a:ext cx="255600" cy="297000"/>
            </a:xfrm>
            <a:custGeom>
              <a:avLst/>
              <a:gdLst/>
              <a:ahLst/>
              <a:rect l="l" t="t" r="r" b="b"/>
              <a:pathLst>
                <a:path w="324" h="373">
                  <a:moveTo>
                    <a:pt x="261" y="0"/>
                  </a:moveTo>
                  <a:lnTo>
                    <a:pt x="268" y="0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24" y="2"/>
                  </a:lnTo>
                  <a:lnTo>
                    <a:pt x="324" y="6"/>
                  </a:lnTo>
                  <a:lnTo>
                    <a:pt x="312" y="12"/>
                  </a:lnTo>
                  <a:lnTo>
                    <a:pt x="303" y="19"/>
                  </a:lnTo>
                  <a:lnTo>
                    <a:pt x="289" y="25"/>
                  </a:lnTo>
                  <a:lnTo>
                    <a:pt x="280" y="31"/>
                  </a:lnTo>
                  <a:lnTo>
                    <a:pt x="274" y="33"/>
                  </a:lnTo>
                  <a:lnTo>
                    <a:pt x="267" y="37"/>
                  </a:lnTo>
                  <a:lnTo>
                    <a:pt x="261" y="38"/>
                  </a:lnTo>
                  <a:lnTo>
                    <a:pt x="255" y="40"/>
                  </a:lnTo>
                  <a:lnTo>
                    <a:pt x="249" y="42"/>
                  </a:lnTo>
                  <a:lnTo>
                    <a:pt x="244" y="46"/>
                  </a:lnTo>
                  <a:lnTo>
                    <a:pt x="238" y="46"/>
                  </a:lnTo>
                  <a:lnTo>
                    <a:pt x="232" y="50"/>
                  </a:lnTo>
                  <a:lnTo>
                    <a:pt x="225" y="50"/>
                  </a:lnTo>
                  <a:lnTo>
                    <a:pt x="219" y="52"/>
                  </a:lnTo>
                  <a:lnTo>
                    <a:pt x="213" y="56"/>
                  </a:lnTo>
                  <a:lnTo>
                    <a:pt x="208" y="57"/>
                  </a:lnTo>
                  <a:lnTo>
                    <a:pt x="196" y="63"/>
                  </a:lnTo>
                  <a:lnTo>
                    <a:pt x="185" y="69"/>
                  </a:lnTo>
                  <a:lnTo>
                    <a:pt x="173" y="75"/>
                  </a:lnTo>
                  <a:lnTo>
                    <a:pt x="164" y="82"/>
                  </a:lnTo>
                  <a:lnTo>
                    <a:pt x="153" y="90"/>
                  </a:lnTo>
                  <a:lnTo>
                    <a:pt x="143" y="101"/>
                  </a:lnTo>
                  <a:lnTo>
                    <a:pt x="149" y="99"/>
                  </a:lnTo>
                  <a:lnTo>
                    <a:pt x="156" y="99"/>
                  </a:lnTo>
                  <a:lnTo>
                    <a:pt x="164" y="99"/>
                  </a:lnTo>
                  <a:lnTo>
                    <a:pt x="173" y="99"/>
                  </a:lnTo>
                  <a:lnTo>
                    <a:pt x="181" y="99"/>
                  </a:lnTo>
                  <a:lnTo>
                    <a:pt x="191" y="97"/>
                  </a:lnTo>
                  <a:lnTo>
                    <a:pt x="198" y="95"/>
                  </a:lnTo>
                  <a:lnTo>
                    <a:pt x="208" y="95"/>
                  </a:lnTo>
                  <a:lnTo>
                    <a:pt x="215" y="94"/>
                  </a:lnTo>
                  <a:lnTo>
                    <a:pt x="225" y="94"/>
                  </a:lnTo>
                  <a:lnTo>
                    <a:pt x="232" y="92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1" y="92"/>
                  </a:lnTo>
                  <a:lnTo>
                    <a:pt x="270" y="94"/>
                  </a:lnTo>
                  <a:lnTo>
                    <a:pt x="280" y="95"/>
                  </a:lnTo>
                  <a:lnTo>
                    <a:pt x="272" y="95"/>
                  </a:lnTo>
                  <a:lnTo>
                    <a:pt x="265" y="95"/>
                  </a:lnTo>
                  <a:lnTo>
                    <a:pt x="259" y="95"/>
                  </a:lnTo>
                  <a:lnTo>
                    <a:pt x="251" y="97"/>
                  </a:lnTo>
                  <a:lnTo>
                    <a:pt x="246" y="97"/>
                  </a:lnTo>
                  <a:lnTo>
                    <a:pt x="238" y="99"/>
                  </a:lnTo>
                  <a:lnTo>
                    <a:pt x="232" y="101"/>
                  </a:lnTo>
                  <a:lnTo>
                    <a:pt x="229" y="103"/>
                  </a:lnTo>
                  <a:lnTo>
                    <a:pt x="221" y="103"/>
                  </a:lnTo>
                  <a:lnTo>
                    <a:pt x="215" y="105"/>
                  </a:lnTo>
                  <a:lnTo>
                    <a:pt x="210" y="109"/>
                  </a:lnTo>
                  <a:lnTo>
                    <a:pt x="204" y="111"/>
                  </a:lnTo>
                  <a:lnTo>
                    <a:pt x="194" y="118"/>
                  </a:lnTo>
                  <a:lnTo>
                    <a:pt x="185" y="124"/>
                  </a:lnTo>
                  <a:lnTo>
                    <a:pt x="175" y="130"/>
                  </a:lnTo>
                  <a:lnTo>
                    <a:pt x="166" y="137"/>
                  </a:lnTo>
                  <a:lnTo>
                    <a:pt x="156" y="145"/>
                  </a:lnTo>
                  <a:lnTo>
                    <a:pt x="149" y="154"/>
                  </a:lnTo>
                  <a:lnTo>
                    <a:pt x="141" y="162"/>
                  </a:lnTo>
                  <a:lnTo>
                    <a:pt x="135" y="172"/>
                  </a:lnTo>
                  <a:lnTo>
                    <a:pt x="128" y="181"/>
                  </a:lnTo>
                  <a:lnTo>
                    <a:pt x="122" y="192"/>
                  </a:lnTo>
                  <a:lnTo>
                    <a:pt x="116" y="202"/>
                  </a:lnTo>
                  <a:lnTo>
                    <a:pt x="111" y="211"/>
                  </a:lnTo>
                  <a:lnTo>
                    <a:pt x="103" y="223"/>
                  </a:lnTo>
                  <a:lnTo>
                    <a:pt x="99" y="234"/>
                  </a:lnTo>
                  <a:lnTo>
                    <a:pt x="94" y="244"/>
                  </a:lnTo>
                  <a:lnTo>
                    <a:pt x="90" y="257"/>
                  </a:lnTo>
                  <a:lnTo>
                    <a:pt x="86" y="261"/>
                  </a:lnTo>
                  <a:lnTo>
                    <a:pt x="84" y="267"/>
                  </a:lnTo>
                  <a:lnTo>
                    <a:pt x="82" y="274"/>
                  </a:lnTo>
                  <a:lnTo>
                    <a:pt x="82" y="280"/>
                  </a:lnTo>
                  <a:lnTo>
                    <a:pt x="78" y="286"/>
                  </a:lnTo>
                  <a:lnTo>
                    <a:pt x="76" y="291"/>
                  </a:lnTo>
                  <a:lnTo>
                    <a:pt x="75" y="297"/>
                  </a:lnTo>
                  <a:lnTo>
                    <a:pt x="75" y="303"/>
                  </a:lnTo>
                  <a:lnTo>
                    <a:pt x="73" y="308"/>
                  </a:lnTo>
                  <a:lnTo>
                    <a:pt x="71" y="314"/>
                  </a:lnTo>
                  <a:lnTo>
                    <a:pt x="69" y="320"/>
                  </a:lnTo>
                  <a:lnTo>
                    <a:pt x="67" y="326"/>
                  </a:lnTo>
                  <a:lnTo>
                    <a:pt x="65" y="331"/>
                  </a:lnTo>
                  <a:lnTo>
                    <a:pt x="65" y="339"/>
                  </a:lnTo>
                  <a:lnTo>
                    <a:pt x="63" y="343"/>
                  </a:lnTo>
                  <a:lnTo>
                    <a:pt x="61" y="350"/>
                  </a:lnTo>
                  <a:lnTo>
                    <a:pt x="59" y="356"/>
                  </a:lnTo>
                  <a:lnTo>
                    <a:pt x="59" y="362"/>
                  </a:lnTo>
                  <a:lnTo>
                    <a:pt x="57" y="367"/>
                  </a:lnTo>
                  <a:lnTo>
                    <a:pt x="57" y="373"/>
                  </a:lnTo>
                  <a:lnTo>
                    <a:pt x="54" y="367"/>
                  </a:lnTo>
                  <a:lnTo>
                    <a:pt x="52" y="360"/>
                  </a:lnTo>
                  <a:lnTo>
                    <a:pt x="48" y="354"/>
                  </a:lnTo>
                  <a:lnTo>
                    <a:pt x="46" y="348"/>
                  </a:lnTo>
                  <a:lnTo>
                    <a:pt x="44" y="341"/>
                  </a:lnTo>
                  <a:lnTo>
                    <a:pt x="44" y="335"/>
                  </a:lnTo>
                  <a:lnTo>
                    <a:pt x="44" y="329"/>
                  </a:lnTo>
                  <a:lnTo>
                    <a:pt x="44" y="324"/>
                  </a:lnTo>
                  <a:lnTo>
                    <a:pt x="44" y="316"/>
                  </a:lnTo>
                  <a:lnTo>
                    <a:pt x="44" y="310"/>
                  </a:lnTo>
                  <a:lnTo>
                    <a:pt x="44" y="303"/>
                  </a:lnTo>
                  <a:lnTo>
                    <a:pt x="46" y="297"/>
                  </a:lnTo>
                  <a:lnTo>
                    <a:pt x="46" y="289"/>
                  </a:lnTo>
                  <a:lnTo>
                    <a:pt x="48" y="284"/>
                  </a:lnTo>
                  <a:lnTo>
                    <a:pt x="48" y="276"/>
                  </a:lnTo>
                  <a:lnTo>
                    <a:pt x="52" y="270"/>
                  </a:lnTo>
                  <a:lnTo>
                    <a:pt x="54" y="263"/>
                  </a:lnTo>
                  <a:lnTo>
                    <a:pt x="56" y="257"/>
                  </a:lnTo>
                  <a:lnTo>
                    <a:pt x="57" y="249"/>
                  </a:lnTo>
                  <a:lnTo>
                    <a:pt x="61" y="242"/>
                  </a:lnTo>
                  <a:lnTo>
                    <a:pt x="65" y="234"/>
                  </a:lnTo>
                  <a:lnTo>
                    <a:pt x="67" y="229"/>
                  </a:lnTo>
                  <a:lnTo>
                    <a:pt x="71" y="223"/>
                  </a:lnTo>
                  <a:lnTo>
                    <a:pt x="75" y="215"/>
                  </a:lnTo>
                  <a:lnTo>
                    <a:pt x="78" y="210"/>
                  </a:lnTo>
                  <a:lnTo>
                    <a:pt x="82" y="204"/>
                  </a:lnTo>
                  <a:lnTo>
                    <a:pt x="86" y="196"/>
                  </a:lnTo>
                  <a:lnTo>
                    <a:pt x="90" y="191"/>
                  </a:lnTo>
                  <a:lnTo>
                    <a:pt x="97" y="179"/>
                  </a:lnTo>
                  <a:lnTo>
                    <a:pt x="107" y="168"/>
                  </a:lnTo>
                  <a:lnTo>
                    <a:pt x="99" y="168"/>
                  </a:lnTo>
                  <a:lnTo>
                    <a:pt x="94" y="168"/>
                  </a:lnTo>
                  <a:lnTo>
                    <a:pt x="88" y="168"/>
                  </a:lnTo>
                  <a:lnTo>
                    <a:pt x="82" y="170"/>
                  </a:lnTo>
                  <a:lnTo>
                    <a:pt x="73" y="175"/>
                  </a:lnTo>
                  <a:lnTo>
                    <a:pt x="65" y="183"/>
                  </a:lnTo>
                  <a:lnTo>
                    <a:pt x="57" y="189"/>
                  </a:lnTo>
                  <a:lnTo>
                    <a:pt x="54" y="198"/>
                  </a:lnTo>
                  <a:lnTo>
                    <a:pt x="48" y="208"/>
                  </a:lnTo>
                  <a:lnTo>
                    <a:pt x="44" y="219"/>
                  </a:lnTo>
                  <a:lnTo>
                    <a:pt x="38" y="229"/>
                  </a:lnTo>
                  <a:lnTo>
                    <a:pt x="37" y="240"/>
                  </a:lnTo>
                  <a:lnTo>
                    <a:pt x="35" y="246"/>
                  </a:lnTo>
                  <a:lnTo>
                    <a:pt x="33" y="251"/>
                  </a:lnTo>
                  <a:lnTo>
                    <a:pt x="31" y="257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5" y="286"/>
                  </a:lnTo>
                  <a:lnTo>
                    <a:pt x="21" y="295"/>
                  </a:lnTo>
                  <a:lnTo>
                    <a:pt x="19" y="305"/>
                  </a:lnTo>
                  <a:lnTo>
                    <a:pt x="12" y="293"/>
                  </a:lnTo>
                  <a:lnTo>
                    <a:pt x="8" y="284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0" y="253"/>
                  </a:lnTo>
                  <a:lnTo>
                    <a:pt x="0" y="248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6" y="213"/>
                  </a:lnTo>
                  <a:lnTo>
                    <a:pt x="8" y="208"/>
                  </a:lnTo>
                  <a:lnTo>
                    <a:pt x="10" y="202"/>
                  </a:lnTo>
                  <a:lnTo>
                    <a:pt x="10" y="194"/>
                  </a:lnTo>
                  <a:lnTo>
                    <a:pt x="14" y="189"/>
                  </a:lnTo>
                  <a:lnTo>
                    <a:pt x="19" y="177"/>
                  </a:lnTo>
                  <a:lnTo>
                    <a:pt x="27" y="168"/>
                  </a:lnTo>
                  <a:lnTo>
                    <a:pt x="29" y="160"/>
                  </a:lnTo>
                  <a:lnTo>
                    <a:pt x="33" y="154"/>
                  </a:lnTo>
                  <a:lnTo>
                    <a:pt x="37" y="149"/>
                  </a:lnTo>
                  <a:lnTo>
                    <a:pt x="42" y="145"/>
                  </a:lnTo>
                  <a:lnTo>
                    <a:pt x="52" y="132"/>
                  </a:lnTo>
                  <a:lnTo>
                    <a:pt x="63" y="122"/>
                  </a:lnTo>
                  <a:lnTo>
                    <a:pt x="73" y="111"/>
                  </a:lnTo>
                  <a:lnTo>
                    <a:pt x="82" y="101"/>
                  </a:lnTo>
                  <a:lnTo>
                    <a:pt x="88" y="95"/>
                  </a:lnTo>
                  <a:lnTo>
                    <a:pt x="94" y="92"/>
                  </a:lnTo>
                  <a:lnTo>
                    <a:pt x="101" y="86"/>
                  </a:lnTo>
                  <a:lnTo>
                    <a:pt x="107" y="82"/>
                  </a:lnTo>
                  <a:lnTo>
                    <a:pt x="113" y="76"/>
                  </a:lnTo>
                  <a:lnTo>
                    <a:pt x="118" y="73"/>
                  </a:lnTo>
                  <a:lnTo>
                    <a:pt x="126" y="67"/>
                  </a:lnTo>
                  <a:lnTo>
                    <a:pt x="132" y="63"/>
                  </a:lnTo>
                  <a:lnTo>
                    <a:pt x="137" y="57"/>
                  </a:lnTo>
                  <a:lnTo>
                    <a:pt x="145" y="54"/>
                  </a:lnTo>
                  <a:lnTo>
                    <a:pt x="151" y="50"/>
                  </a:lnTo>
                  <a:lnTo>
                    <a:pt x="158" y="46"/>
                  </a:lnTo>
                  <a:lnTo>
                    <a:pt x="164" y="42"/>
                  </a:lnTo>
                  <a:lnTo>
                    <a:pt x="172" y="38"/>
                  </a:lnTo>
                  <a:lnTo>
                    <a:pt x="177" y="33"/>
                  </a:lnTo>
                  <a:lnTo>
                    <a:pt x="183" y="31"/>
                  </a:lnTo>
                  <a:lnTo>
                    <a:pt x="191" y="27"/>
                  </a:lnTo>
                  <a:lnTo>
                    <a:pt x="196" y="23"/>
                  </a:lnTo>
                  <a:lnTo>
                    <a:pt x="202" y="21"/>
                  </a:lnTo>
                  <a:lnTo>
                    <a:pt x="210" y="19"/>
                  </a:lnTo>
                  <a:lnTo>
                    <a:pt x="215" y="16"/>
                  </a:lnTo>
                  <a:lnTo>
                    <a:pt x="223" y="12"/>
                  </a:lnTo>
                  <a:lnTo>
                    <a:pt x="229" y="10"/>
                  </a:lnTo>
                  <a:lnTo>
                    <a:pt x="236" y="8"/>
                  </a:lnTo>
                  <a:lnTo>
                    <a:pt x="242" y="4"/>
                  </a:lnTo>
                  <a:lnTo>
                    <a:pt x="248" y="4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460640" y="1633320"/>
              <a:ext cx="75960" cy="52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59" y="2"/>
                  </a:move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4" y="19"/>
                  </a:lnTo>
                  <a:lnTo>
                    <a:pt x="78" y="25"/>
                  </a:lnTo>
                  <a:lnTo>
                    <a:pt x="81" y="29"/>
                  </a:lnTo>
                  <a:lnTo>
                    <a:pt x="74" y="36"/>
                  </a:lnTo>
                  <a:lnTo>
                    <a:pt x="66" y="36"/>
                  </a:lnTo>
                  <a:lnTo>
                    <a:pt x="59" y="36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2" y="54"/>
                  </a:lnTo>
                  <a:lnTo>
                    <a:pt x="78" y="55"/>
                  </a:lnTo>
                  <a:lnTo>
                    <a:pt x="83" y="57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97" y="67"/>
                  </a:lnTo>
                  <a:lnTo>
                    <a:pt x="91" y="67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60" y="65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36" y="61"/>
                  </a:lnTo>
                  <a:lnTo>
                    <a:pt x="30" y="59"/>
                  </a:lnTo>
                  <a:lnTo>
                    <a:pt x="24" y="59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5" y="46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24" y="38"/>
                  </a:lnTo>
                  <a:lnTo>
                    <a:pt x="32" y="38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41" y="27"/>
                  </a:lnTo>
                  <a:lnTo>
                    <a:pt x="40" y="17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9" y="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404840" y="164628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6"/>
                  </a:lnTo>
                  <a:lnTo>
                    <a:pt x="32" y="25"/>
                  </a:lnTo>
                  <a:lnTo>
                    <a:pt x="30" y="27"/>
                  </a:lnTo>
                  <a:lnTo>
                    <a:pt x="30" y="31"/>
                  </a:lnTo>
                  <a:lnTo>
                    <a:pt x="22" y="29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5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293960" y="1665000"/>
              <a:ext cx="3780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9" y="6"/>
                  </a:lnTo>
                  <a:lnTo>
                    <a:pt x="14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68960" y="1679400"/>
              <a:ext cx="238320" cy="36720"/>
            </a:xfrm>
            <a:custGeom>
              <a:avLst/>
              <a:gdLst/>
              <a:ahLst/>
              <a:rect l="l" t="t" r="r" b="b"/>
              <a:pathLst>
                <a:path w="300" h="46">
                  <a:moveTo>
                    <a:pt x="0" y="4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2"/>
                  </a:lnTo>
                  <a:lnTo>
                    <a:pt x="144" y="4"/>
                  </a:lnTo>
                  <a:lnTo>
                    <a:pt x="155" y="4"/>
                  </a:lnTo>
                  <a:lnTo>
                    <a:pt x="163" y="4"/>
                  </a:lnTo>
                  <a:lnTo>
                    <a:pt x="174" y="6"/>
                  </a:lnTo>
                  <a:lnTo>
                    <a:pt x="182" y="6"/>
                  </a:lnTo>
                  <a:lnTo>
                    <a:pt x="192" y="8"/>
                  </a:lnTo>
                  <a:lnTo>
                    <a:pt x="199" y="8"/>
                  </a:lnTo>
                  <a:lnTo>
                    <a:pt x="209" y="10"/>
                  </a:lnTo>
                  <a:lnTo>
                    <a:pt x="218" y="12"/>
                  </a:lnTo>
                  <a:lnTo>
                    <a:pt x="228" y="15"/>
                  </a:lnTo>
                  <a:lnTo>
                    <a:pt x="237" y="15"/>
                  </a:lnTo>
                  <a:lnTo>
                    <a:pt x="247" y="17"/>
                  </a:lnTo>
                  <a:lnTo>
                    <a:pt x="254" y="21"/>
                  </a:lnTo>
                  <a:lnTo>
                    <a:pt x="264" y="25"/>
                  </a:lnTo>
                  <a:lnTo>
                    <a:pt x="273" y="27"/>
                  </a:lnTo>
                  <a:lnTo>
                    <a:pt x="283" y="29"/>
                  </a:lnTo>
                  <a:lnTo>
                    <a:pt x="290" y="34"/>
                  </a:lnTo>
                  <a:lnTo>
                    <a:pt x="300" y="38"/>
                  </a:lnTo>
                  <a:lnTo>
                    <a:pt x="292" y="38"/>
                  </a:lnTo>
                  <a:lnTo>
                    <a:pt x="285" y="40"/>
                  </a:lnTo>
                  <a:lnTo>
                    <a:pt x="277" y="42"/>
                  </a:lnTo>
                  <a:lnTo>
                    <a:pt x="268" y="44"/>
                  </a:lnTo>
                  <a:lnTo>
                    <a:pt x="258" y="44"/>
                  </a:lnTo>
                  <a:lnTo>
                    <a:pt x="249" y="44"/>
                  </a:lnTo>
                  <a:lnTo>
                    <a:pt x="239" y="44"/>
                  </a:lnTo>
                  <a:lnTo>
                    <a:pt x="231" y="46"/>
                  </a:lnTo>
                  <a:lnTo>
                    <a:pt x="218" y="46"/>
                  </a:lnTo>
                  <a:lnTo>
                    <a:pt x="209" y="46"/>
                  </a:lnTo>
                  <a:lnTo>
                    <a:pt x="197" y="46"/>
                  </a:lnTo>
                  <a:lnTo>
                    <a:pt x="188" y="46"/>
                  </a:lnTo>
                  <a:lnTo>
                    <a:pt x="176" y="44"/>
                  </a:lnTo>
                  <a:lnTo>
                    <a:pt x="167" y="44"/>
                  </a:lnTo>
                  <a:lnTo>
                    <a:pt x="154" y="42"/>
                  </a:lnTo>
                  <a:lnTo>
                    <a:pt x="144" y="42"/>
                  </a:lnTo>
                  <a:lnTo>
                    <a:pt x="133" y="40"/>
                  </a:lnTo>
                  <a:lnTo>
                    <a:pt x="123" y="38"/>
                  </a:lnTo>
                  <a:lnTo>
                    <a:pt x="112" y="36"/>
                  </a:lnTo>
                  <a:lnTo>
                    <a:pt x="102" y="36"/>
                  </a:lnTo>
                  <a:lnTo>
                    <a:pt x="89" y="34"/>
                  </a:lnTo>
                  <a:lnTo>
                    <a:pt x="79" y="33"/>
                  </a:lnTo>
                  <a:lnTo>
                    <a:pt x="70" y="29"/>
                  </a:lnTo>
                  <a:lnTo>
                    <a:pt x="60" y="27"/>
                  </a:lnTo>
                  <a:lnTo>
                    <a:pt x="51" y="25"/>
                  </a:lnTo>
                  <a:lnTo>
                    <a:pt x="41" y="23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1" y="1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401600" y="1699920"/>
              <a:ext cx="157320" cy="3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3"/>
                  </a:lnTo>
                  <a:lnTo>
                    <a:pt x="110" y="15"/>
                  </a:lnTo>
                  <a:lnTo>
                    <a:pt x="118" y="15"/>
                  </a:lnTo>
                  <a:lnTo>
                    <a:pt x="124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3" y="19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2" y="25"/>
                  </a:lnTo>
                  <a:lnTo>
                    <a:pt x="167" y="25"/>
                  </a:lnTo>
                  <a:lnTo>
                    <a:pt x="173" y="26"/>
                  </a:lnTo>
                  <a:lnTo>
                    <a:pt x="181" y="28"/>
                  </a:lnTo>
                  <a:lnTo>
                    <a:pt x="186" y="30"/>
                  </a:lnTo>
                  <a:lnTo>
                    <a:pt x="192" y="32"/>
                  </a:lnTo>
                  <a:lnTo>
                    <a:pt x="200" y="36"/>
                  </a:lnTo>
                  <a:lnTo>
                    <a:pt x="200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81" y="36"/>
                  </a:lnTo>
                  <a:lnTo>
                    <a:pt x="175" y="36"/>
                  </a:lnTo>
                  <a:lnTo>
                    <a:pt x="167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7" y="36"/>
                  </a:lnTo>
                  <a:lnTo>
                    <a:pt x="139" y="36"/>
                  </a:lnTo>
                  <a:lnTo>
                    <a:pt x="131" y="36"/>
                  </a:lnTo>
                  <a:lnTo>
                    <a:pt x="124" y="34"/>
                  </a:lnTo>
                  <a:lnTo>
                    <a:pt x="118" y="34"/>
                  </a:lnTo>
                  <a:lnTo>
                    <a:pt x="109" y="34"/>
                  </a:lnTo>
                  <a:lnTo>
                    <a:pt x="101" y="34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0" y="30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7" y="28"/>
                  </a:lnTo>
                  <a:lnTo>
                    <a:pt x="51" y="26"/>
                  </a:lnTo>
                  <a:lnTo>
                    <a:pt x="46" y="26"/>
                  </a:lnTo>
                  <a:lnTo>
                    <a:pt x="38" y="25"/>
                  </a:lnTo>
                  <a:lnTo>
                    <a:pt x="34" y="23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147880" y="1709640"/>
              <a:ext cx="42840" cy="1364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54" y="0"/>
                  </a:moveTo>
                  <a:lnTo>
                    <a:pt x="54" y="6"/>
                  </a:lnTo>
                  <a:lnTo>
                    <a:pt x="54" y="14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40"/>
                  </a:lnTo>
                  <a:lnTo>
                    <a:pt x="50" y="50"/>
                  </a:lnTo>
                  <a:lnTo>
                    <a:pt x="48" y="61"/>
                  </a:lnTo>
                  <a:lnTo>
                    <a:pt x="46" y="71"/>
                  </a:lnTo>
                  <a:lnTo>
                    <a:pt x="44" y="80"/>
                  </a:lnTo>
                  <a:lnTo>
                    <a:pt x="40" y="92"/>
                  </a:lnTo>
                  <a:lnTo>
                    <a:pt x="37" y="101"/>
                  </a:lnTo>
                  <a:lnTo>
                    <a:pt x="35" y="112"/>
                  </a:lnTo>
                  <a:lnTo>
                    <a:pt x="33" y="120"/>
                  </a:lnTo>
                  <a:lnTo>
                    <a:pt x="29" y="130"/>
                  </a:lnTo>
                  <a:lnTo>
                    <a:pt x="25" y="137"/>
                  </a:lnTo>
                  <a:lnTo>
                    <a:pt x="23" y="145"/>
                  </a:lnTo>
                  <a:lnTo>
                    <a:pt x="19" y="150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0" y="166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2" y="128"/>
                  </a:lnTo>
                  <a:lnTo>
                    <a:pt x="4" y="120"/>
                  </a:lnTo>
                  <a:lnTo>
                    <a:pt x="6" y="114"/>
                  </a:lnTo>
                  <a:lnTo>
                    <a:pt x="6" y="105"/>
                  </a:lnTo>
                  <a:lnTo>
                    <a:pt x="8" y="97"/>
                  </a:lnTo>
                  <a:lnTo>
                    <a:pt x="8" y="90"/>
                  </a:lnTo>
                  <a:lnTo>
                    <a:pt x="8" y="82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5"/>
                  </a:lnTo>
                  <a:lnTo>
                    <a:pt x="16" y="50"/>
                  </a:lnTo>
                  <a:lnTo>
                    <a:pt x="18" y="44"/>
                  </a:lnTo>
                  <a:lnTo>
                    <a:pt x="21" y="36"/>
                  </a:lnTo>
                  <a:lnTo>
                    <a:pt x="23" y="31"/>
                  </a:lnTo>
                  <a:lnTo>
                    <a:pt x="27" y="25"/>
                  </a:lnTo>
                  <a:lnTo>
                    <a:pt x="31" y="19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148520" y="1725480"/>
              <a:ext cx="177840" cy="9540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6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7" y="2"/>
                  </a:lnTo>
                  <a:lnTo>
                    <a:pt x="142" y="4"/>
                  </a:lnTo>
                  <a:lnTo>
                    <a:pt x="148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7" y="6"/>
                  </a:lnTo>
                  <a:lnTo>
                    <a:pt x="186" y="10"/>
                  </a:lnTo>
                  <a:lnTo>
                    <a:pt x="194" y="10"/>
                  </a:lnTo>
                  <a:lnTo>
                    <a:pt x="203" y="14"/>
                  </a:lnTo>
                  <a:lnTo>
                    <a:pt x="209" y="15"/>
                  </a:lnTo>
                  <a:lnTo>
                    <a:pt x="215" y="19"/>
                  </a:lnTo>
                  <a:lnTo>
                    <a:pt x="222" y="25"/>
                  </a:lnTo>
                  <a:lnTo>
                    <a:pt x="224" y="33"/>
                  </a:lnTo>
                  <a:lnTo>
                    <a:pt x="220" y="36"/>
                  </a:lnTo>
                  <a:lnTo>
                    <a:pt x="217" y="42"/>
                  </a:lnTo>
                  <a:lnTo>
                    <a:pt x="211" y="46"/>
                  </a:lnTo>
                  <a:lnTo>
                    <a:pt x="203" y="52"/>
                  </a:lnTo>
                  <a:lnTo>
                    <a:pt x="198" y="53"/>
                  </a:lnTo>
                  <a:lnTo>
                    <a:pt x="192" y="57"/>
                  </a:lnTo>
                  <a:lnTo>
                    <a:pt x="186" y="59"/>
                  </a:lnTo>
                  <a:lnTo>
                    <a:pt x="179" y="63"/>
                  </a:lnTo>
                  <a:lnTo>
                    <a:pt x="173" y="67"/>
                  </a:lnTo>
                  <a:lnTo>
                    <a:pt x="165" y="69"/>
                  </a:lnTo>
                  <a:lnTo>
                    <a:pt x="156" y="73"/>
                  </a:lnTo>
                  <a:lnTo>
                    <a:pt x="148" y="76"/>
                  </a:lnTo>
                  <a:lnTo>
                    <a:pt x="139" y="78"/>
                  </a:lnTo>
                  <a:lnTo>
                    <a:pt x="131" y="80"/>
                  </a:lnTo>
                  <a:lnTo>
                    <a:pt x="121" y="82"/>
                  </a:lnTo>
                  <a:lnTo>
                    <a:pt x="114" y="86"/>
                  </a:lnTo>
                  <a:lnTo>
                    <a:pt x="106" y="88"/>
                  </a:lnTo>
                  <a:lnTo>
                    <a:pt x="99" y="90"/>
                  </a:lnTo>
                  <a:lnTo>
                    <a:pt x="91" y="93"/>
                  </a:lnTo>
                  <a:lnTo>
                    <a:pt x="83" y="97"/>
                  </a:lnTo>
                  <a:lnTo>
                    <a:pt x="74" y="99"/>
                  </a:lnTo>
                  <a:lnTo>
                    <a:pt x="66" y="103"/>
                  </a:lnTo>
                  <a:lnTo>
                    <a:pt x="57" y="105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4" y="114"/>
                  </a:lnTo>
                  <a:lnTo>
                    <a:pt x="26" y="116"/>
                  </a:lnTo>
                  <a:lnTo>
                    <a:pt x="19" y="120"/>
                  </a:lnTo>
                  <a:lnTo>
                    <a:pt x="23" y="111"/>
                  </a:lnTo>
                  <a:lnTo>
                    <a:pt x="28" y="105"/>
                  </a:lnTo>
                  <a:lnTo>
                    <a:pt x="34" y="97"/>
                  </a:lnTo>
                  <a:lnTo>
                    <a:pt x="40" y="92"/>
                  </a:lnTo>
                  <a:lnTo>
                    <a:pt x="45" y="86"/>
                  </a:lnTo>
                  <a:lnTo>
                    <a:pt x="53" y="80"/>
                  </a:lnTo>
                  <a:lnTo>
                    <a:pt x="61" y="76"/>
                  </a:lnTo>
                  <a:lnTo>
                    <a:pt x="68" y="73"/>
                  </a:lnTo>
                  <a:lnTo>
                    <a:pt x="74" y="67"/>
                  </a:lnTo>
                  <a:lnTo>
                    <a:pt x="83" y="63"/>
                  </a:lnTo>
                  <a:lnTo>
                    <a:pt x="89" y="57"/>
                  </a:lnTo>
                  <a:lnTo>
                    <a:pt x="99" y="53"/>
                  </a:lnTo>
                  <a:lnTo>
                    <a:pt x="104" y="48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3" y="31"/>
                  </a:lnTo>
                  <a:lnTo>
                    <a:pt x="116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7"/>
                  </a:lnTo>
                  <a:lnTo>
                    <a:pt x="80" y="27"/>
                  </a:lnTo>
                  <a:lnTo>
                    <a:pt x="70" y="27"/>
                  </a:lnTo>
                  <a:lnTo>
                    <a:pt x="61" y="27"/>
                  </a:lnTo>
                  <a:lnTo>
                    <a:pt x="49" y="27"/>
                  </a:lnTo>
                  <a:lnTo>
                    <a:pt x="40" y="27"/>
                  </a:lnTo>
                  <a:lnTo>
                    <a:pt x="30" y="27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370720" y="1736640"/>
              <a:ext cx="38160" cy="633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7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4" y="25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8" y="42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3" y="73"/>
                  </a:lnTo>
                  <a:lnTo>
                    <a:pt x="47" y="80"/>
                  </a:lnTo>
                  <a:lnTo>
                    <a:pt x="36" y="73"/>
                  </a:lnTo>
                  <a:lnTo>
                    <a:pt x="26" y="65"/>
                  </a:lnTo>
                  <a:lnTo>
                    <a:pt x="17" y="54"/>
                  </a:lnTo>
                  <a:lnTo>
                    <a:pt x="9" y="44"/>
                  </a:lnTo>
                  <a:lnTo>
                    <a:pt x="5" y="37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31200" y="1747800"/>
              <a:ext cx="61920" cy="3312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42" y="0"/>
                  </a:moveTo>
                  <a:lnTo>
                    <a:pt x="52" y="4"/>
                  </a:lnTo>
                  <a:lnTo>
                    <a:pt x="61" y="5"/>
                  </a:lnTo>
                  <a:lnTo>
                    <a:pt x="67" y="9"/>
                  </a:lnTo>
                  <a:lnTo>
                    <a:pt x="74" y="13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1" y="30"/>
                  </a:lnTo>
                  <a:lnTo>
                    <a:pt x="61" y="34"/>
                  </a:lnTo>
                  <a:lnTo>
                    <a:pt x="55" y="36"/>
                  </a:lnTo>
                  <a:lnTo>
                    <a:pt x="50" y="38"/>
                  </a:lnTo>
                  <a:lnTo>
                    <a:pt x="44" y="40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051680" y="1765080"/>
              <a:ext cx="23760" cy="15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6" y="0"/>
                  </a:moveTo>
                  <a:lnTo>
                    <a:pt x="10" y="5"/>
                  </a:lnTo>
                  <a:lnTo>
                    <a:pt x="18" y="7"/>
                  </a:lnTo>
                  <a:lnTo>
                    <a:pt x="25" y="7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7"/>
                  </a:lnTo>
                  <a:lnTo>
                    <a:pt x="0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463520" y="1773000"/>
              <a:ext cx="63720" cy="3348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46" y="2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0" y="8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6" y="21"/>
                  </a:lnTo>
                  <a:lnTo>
                    <a:pt x="70" y="27"/>
                  </a:lnTo>
                  <a:lnTo>
                    <a:pt x="63" y="32"/>
                  </a:lnTo>
                  <a:lnTo>
                    <a:pt x="55" y="36"/>
                  </a:lnTo>
                  <a:lnTo>
                    <a:pt x="46" y="38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15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2360" y="1773000"/>
              <a:ext cx="68040" cy="2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1" y="2"/>
                  </a:move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85" y="17"/>
                  </a:lnTo>
                  <a:lnTo>
                    <a:pt x="78" y="19"/>
                  </a:lnTo>
                  <a:lnTo>
                    <a:pt x="74" y="23"/>
                  </a:lnTo>
                  <a:lnTo>
                    <a:pt x="66" y="25"/>
                  </a:lnTo>
                  <a:lnTo>
                    <a:pt x="59" y="27"/>
                  </a:lnTo>
                  <a:lnTo>
                    <a:pt x="49" y="27"/>
                  </a:lnTo>
                  <a:lnTo>
                    <a:pt x="40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29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8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900920" y="1792080"/>
              <a:ext cx="393840" cy="665280"/>
            </a:xfrm>
            <a:custGeom>
              <a:avLst/>
              <a:gdLst/>
              <a:ahLst/>
              <a:rect l="l" t="t" r="r" b="b"/>
              <a:pathLst>
                <a:path w="496" h="836">
                  <a:moveTo>
                    <a:pt x="0" y="0"/>
                  </a:moveTo>
                  <a:lnTo>
                    <a:pt x="6" y="7"/>
                  </a:lnTo>
                  <a:lnTo>
                    <a:pt x="10" y="13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29" y="36"/>
                  </a:lnTo>
                  <a:lnTo>
                    <a:pt x="36" y="42"/>
                  </a:lnTo>
                  <a:lnTo>
                    <a:pt x="44" y="47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3" y="66"/>
                  </a:lnTo>
                  <a:lnTo>
                    <a:pt x="71" y="72"/>
                  </a:lnTo>
                  <a:lnTo>
                    <a:pt x="78" y="78"/>
                  </a:lnTo>
                  <a:lnTo>
                    <a:pt x="86" y="83"/>
                  </a:lnTo>
                  <a:lnTo>
                    <a:pt x="93" y="87"/>
                  </a:lnTo>
                  <a:lnTo>
                    <a:pt x="101" y="93"/>
                  </a:lnTo>
                  <a:lnTo>
                    <a:pt x="111" y="101"/>
                  </a:lnTo>
                  <a:lnTo>
                    <a:pt x="118" y="104"/>
                  </a:lnTo>
                  <a:lnTo>
                    <a:pt x="126" y="108"/>
                  </a:lnTo>
                  <a:lnTo>
                    <a:pt x="133" y="112"/>
                  </a:lnTo>
                  <a:lnTo>
                    <a:pt x="143" y="116"/>
                  </a:lnTo>
                  <a:lnTo>
                    <a:pt x="149" y="121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5" y="133"/>
                  </a:lnTo>
                  <a:lnTo>
                    <a:pt x="183" y="137"/>
                  </a:lnTo>
                  <a:lnTo>
                    <a:pt x="190" y="140"/>
                  </a:lnTo>
                  <a:lnTo>
                    <a:pt x="198" y="144"/>
                  </a:lnTo>
                  <a:lnTo>
                    <a:pt x="208" y="148"/>
                  </a:lnTo>
                  <a:lnTo>
                    <a:pt x="213" y="152"/>
                  </a:lnTo>
                  <a:lnTo>
                    <a:pt x="223" y="156"/>
                  </a:lnTo>
                  <a:lnTo>
                    <a:pt x="230" y="158"/>
                  </a:lnTo>
                  <a:lnTo>
                    <a:pt x="240" y="163"/>
                  </a:lnTo>
                  <a:lnTo>
                    <a:pt x="236" y="156"/>
                  </a:lnTo>
                  <a:lnTo>
                    <a:pt x="232" y="148"/>
                  </a:lnTo>
                  <a:lnTo>
                    <a:pt x="230" y="140"/>
                  </a:lnTo>
                  <a:lnTo>
                    <a:pt x="227" y="135"/>
                  </a:lnTo>
                  <a:lnTo>
                    <a:pt x="223" y="127"/>
                  </a:lnTo>
                  <a:lnTo>
                    <a:pt x="219" y="121"/>
                  </a:lnTo>
                  <a:lnTo>
                    <a:pt x="217" y="114"/>
                  </a:lnTo>
                  <a:lnTo>
                    <a:pt x="213" y="108"/>
                  </a:lnTo>
                  <a:lnTo>
                    <a:pt x="209" y="101"/>
                  </a:lnTo>
                  <a:lnTo>
                    <a:pt x="208" y="93"/>
                  </a:lnTo>
                  <a:lnTo>
                    <a:pt x="204" y="85"/>
                  </a:lnTo>
                  <a:lnTo>
                    <a:pt x="204" y="80"/>
                  </a:lnTo>
                  <a:lnTo>
                    <a:pt x="202" y="72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4" y="47"/>
                  </a:lnTo>
                  <a:lnTo>
                    <a:pt x="209" y="55"/>
                  </a:lnTo>
                  <a:lnTo>
                    <a:pt x="215" y="64"/>
                  </a:lnTo>
                  <a:lnTo>
                    <a:pt x="221" y="74"/>
                  </a:lnTo>
                  <a:lnTo>
                    <a:pt x="228" y="83"/>
                  </a:lnTo>
                  <a:lnTo>
                    <a:pt x="232" y="93"/>
                  </a:lnTo>
                  <a:lnTo>
                    <a:pt x="240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49" y="123"/>
                  </a:lnTo>
                  <a:lnTo>
                    <a:pt x="253" y="129"/>
                  </a:lnTo>
                  <a:lnTo>
                    <a:pt x="259" y="140"/>
                  </a:lnTo>
                  <a:lnTo>
                    <a:pt x="266" y="150"/>
                  </a:lnTo>
                  <a:lnTo>
                    <a:pt x="276" y="159"/>
                  </a:lnTo>
                  <a:lnTo>
                    <a:pt x="285" y="171"/>
                  </a:lnTo>
                  <a:lnTo>
                    <a:pt x="293" y="179"/>
                  </a:lnTo>
                  <a:lnTo>
                    <a:pt x="304" y="186"/>
                  </a:lnTo>
                  <a:lnTo>
                    <a:pt x="308" y="190"/>
                  </a:lnTo>
                  <a:lnTo>
                    <a:pt x="314" y="194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20" y="190"/>
                  </a:lnTo>
                  <a:lnTo>
                    <a:pt x="316" y="182"/>
                  </a:lnTo>
                  <a:lnTo>
                    <a:pt x="312" y="173"/>
                  </a:lnTo>
                  <a:lnTo>
                    <a:pt x="308" y="163"/>
                  </a:lnTo>
                  <a:lnTo>
                    <a:pt x="304" y="152"/>
                  </a:lnTo>
                  <a:lnTo>
                    <a:pt x="303" y="142"/>
                  </a:lnTo>
                  <a:lnTo>
                    <a:pt x="303" y="131"/>
                  </a:lnTo>
                  <a:lnTo>
                    <a:pt x="303" y="121"/>
                  </a:lnTo>
                  <a:lnTo>
                    <a:pt x="301" y="112"/>
                  </a:lnTo>
                  <a:lnTo>
                    <a:pt x="301" y="101"/>
                  </a:lnTo>
                  <a:lnTo>
                    <a:pt x="301" y="91"/>
                  </a:lnTo>
                  <a:lnTo>
                    <a:pt x="303" y="82"/>
                  </a:lnTo>
                  <a:lnTo>
                    <a:pt x="304" y="72"/>
                  </a:lnTo>
                  <a:lnTo>
                    <a:pt x="306" y="63"/>
                  </a:lnTo>
                  <a:lnTo>
                    <a:pt x="310" y="55"/>
                  </a:lnTo>
                  <a:lnTo>
                    <a:pt x="312" y="47"/>
                  </a:lnTo>
                  <a:lnTo>
                    <a:pt x="316" y="40"/>
                  </a:lnTo>
                  <a:lnTo>
                    <a:pt x="320" y="34"/>
                  </a:lnTo>
                  <a:lnTo>
                    <a:pt x="323" y="28"/>
                  </a:lnTo>
                  <a:lnTo>
                    <a:pt x="329" y="25"/>
                  </a:lnTo>
                  <a:lnTo>
                    <a:pt x="333" y="21"/>
                  </a:lnTo>
                  <a:lnTo>
                    <a:pt x="339" y="19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8" y="21"/>
                  </a:lnTo>
                  <a:lnTo>
                    <a:pt x="363" y="23"/>
                  </a:lnTo>
                  <a:lnTo>
                    <a:pt x="369" y="28"/>
                  </a:lnTo>
                  <a:lnTo>
                    <a:pt x="379" y="36"/>
                  </a:lnTo>
                  <a:lnTo>
                    <a:pt x="384" y="45"/>
                  </a:lnTo>
                  <a:lnTo>
                    <a:pt x="394" y="55"/>
                  </a:lnTo>
                  <a:lnTo>
                    <a:pt x="396" y="61"/>
                  </a:lnTo>
                  <a:lnTo>
                    <a:pt x="400" y="68"/>
                  </a:lnTo>
                  <a:lnTo>
                    <a:pt x="405" y="76"/>
                  </a:lnTo>
                  <a:lnTo>
                    <a:pt x="409" y="83"/>
                  </a:lnTo>
                  <a:lnTo>
                    <a:pt x="415" y="87"/>
                  </a:lnTo>
                  <a:lnTo>
                    <a:pt x="420" y="91"/>
                  </a:lnTo>
                  <a:lnTo>
                    <a:pt x="426" y="95"/>
                  </a:lnTo>
                  <a:lnTo>
                    <a:pt x="434" y="99"/>
                  </a:lnTo>
                  <a:lnTo>
                    <a:pt x="439" y="102"/>
                  </a:lnTo>
                  <a:lnTo>
                    <a:pt x="445" y="108"/>
                  </a:lnTo>
                  <a:lnTo>
                    <a:pt x="451" y="114"/>
                  </a:lnTo>
                  <a:lnTo>
                    <a:pt x="457" y="121"/>
                  </a:lnTo>
                  <a:lnTo>
                    <a:pt x="455" y="123"/>
                  </a:lnTo>
                  <a:lnTo>
                    <a:pt x="447" y="120"/>
                  </a:lnTo>
                  <a:lnTo>
                    <a:pt x="441" y="116"/>
                  </a:lnTo>
                  <a:lnTo>
                    <a:pt x="434" y="114"/>
                  </a:lnTo>
                  <a:lnTo>
                    <a:pt x="428" y="110"/>
                  </a:lnTo>
                  <a:lnTo>
                    <a:pt x="422" y="106"/>
                  </a:lnTo>
                  <a:lnTo>
                    <a:pt x="415" y="106"/>
                  </a:lnTo>
                  <a:lnTo>
                    <a:pt x="407" y="104"/>
                  </a:lnTo>
                  <a:lnTo>
                    <a:pt x="401" y="104"/>
                  </a:lnTo>
                  <a:lnTo>
                    <a:pt x="405" y="114"/>
                  </a:lnTo>
                  <a:lnTo>
                    <a:pt x="413" y="123"/>
                  </a:lnTo>
                  <a:lnTo>
                    <a:pt x="417" y="131"/>
                  </a:lnTo>
                  <a:lnTo>
                    <a:pt x="424" y="140"/>
                  </a:lnTo>
                  <a:lnTo>
                    <a:pt x="430" y="146"/>
                  </a:lnTo>
                  <a:lnTo>
                    <a:pt x="438" y="152"/>
                  </a:lnTo>
                  <a:lnTo>
                    <a:pt x="445" y="159"/>
                  </a:lnTo>
                  <a:lnTo>
                    <a:pt x="457" y="165"/>
                  </a:lnTo>
                  <a:lnTo>
                    <a:pt x="455" y="169"/>
                  </a:lnTo>
                  <a:lnTo>
                    <a:pt x="455" y="173"/>
                  </a:lnTo>
                  <a:lnTo>
                    <a:pt x="445" y="169"/>
                  </a:lnTo>
                  <a:lnTo>
                    <a:pt x="439" y="167"/>
                  </a:lnTo>
                  <a:lnTo>
                    <a:pt x="434" y="163"/>
                  </a:lnTo>
                  <a:lnTo>
                    <a:pt x="430" y="163"/>
                  </a:lnTo>
                  <a:lnTo>
                    <a:pt x="422" y="163"/>
                  </a:lnTo>
                  <a:lnTo>
                    <a:pt x="419" y="165"/>
                  </a:lnTo>
                  <a:lnTo>
                    <a:pt x="417" y="167"/>
                  </a:lnTo>
                  <a:lnTo>
                    <a:pt x="417" y="173"/>
                  </a:lnTo>
                  <a:lnTo>
                    <a:pt x="420" y="179"/>
                  </a:lnTo>
                  <a:lnTo>
                    <a:pt x="426" y="188"/>
                  </a:lnTo>
                  <a:lnTo>
                    <a:pt x="432" y="194"/>
                  </a:lnTo>
                  <a:lnTo>
                    <a:pt x="438" y="203"/>
                  </a:lnTo>
                  <a:lnTo>
                    <a:pt x="445" y="211"/>
                  </a:lnTo>
                  <a:lnTo>
                    <a:pt x="455" y="218"/>
                  </a:lnTo>
                  <a:lnTo>
                    <a:pt x="462" y="222"/>
                  </a:lnTo>
                  <a:lnTo>
                    <a:pt x="472" y="228"/>
                  </a:lnTo>
                  <a:lnTo>
                    <a:pt x="479" y="232"/>
                  </a:lnTo>
                  <a:lnTo>
                    <a:pt x="489" y="234"/>
                  </a:lnTo>
                  <a:lnTo>
                    <a:pt x="481" y="237"/>
                  </a:lnTo>
                  <a:lnTo>
                    <a:pt x="476" y="237"/>
                  </a:lnTo>
                  <a:lnTo>
                    <a:pt x="470" y="237"/>
                  </a:lnTo>
                  <a:lnTo>
                    <a:pt x="464" y="237"/>
                  </a:lnTo>
                  <a:lnTo>
                    <a:pt x="458" y="234"/>
                  </a:lnTo>
                  <a:lnTo>
                    <a:pt x="451" y="230"/>
                  </a:lnTo>
                  <a:lnTo>
                    <a:pt x="445" y="226"/>
                  </a:lnTo>
                  <a:lnTo>
                    <a:pt x="439" y="222"/>
                  </a:lnTo>
                  <a:lnTo>
                    <a:pt x="432" y="215"/>
                  </a:lnTo>
                  <a:lnTo>
                    <a:pt x="426" y="211"/>
                  </a:lnTo>
                  <a:lnTo>
                    <a:pt x="419" y="205"/>
                  </a:lnTo>
                  <a:lnTo>
                    <a:pt x="413" y="201"/>
                  </a:lnTo>
                  <a:lnTo>
                    <a:pt x="407" y="196"/>
                  </a:lnTo>
                  <a:lnTo>
                    <a:pt x="400" y="194"/>
                  </a:lnTo>
                  <a:lnTo>
                    <a:pt x="394" y="194"/>
                  </a:lnTo>
                  <a:lnTo>
                    <a:pt x="388" y="194"/>
                  </a:lnTo>
                  <a:lnTo>
                    <a:pt x="390" y="199"/>
                  </a:lnTo>
                  <a:lnTo>
                    <a:pt x="394" y="205"/>
                  </a:lnTo>
                  <a:lnTo>
                    <a:pt x="398" y="211"/>
                  </a:lnTo>
                  <a:lnTo>
                    <a:pt x="403" y="218"/>
                  </a:lnTo>
                  <a:lnTo>
                    <a:pt x="409" y="222"/>
                  </a:lnTo>
                  <a:lnTo>
                    <a:pt x="415" y="228"/>
                  </a:lnTo>
                  <a:lnTo>
                    <a:pt x="422" y="232"/>
                  </a:lnTo>
                  <a:lnTo>
                    <a:pt x="428" y="239"/>
                  </a:lnTo>
                  <a:lnTo>
                    <a:pt x="434" y="243"/>
                  </a:lnTo>
                  <a:lnTo>
                    <a:pt x="439" y="249"/>
                  </a:lnTo>
                  <a:lnTo>
                    <a:pt x="445" y="253"/>
                  </a:lnTo>
                  <a:lnTo>
                    <a:pt x="453" y="258"/>
                  </a:lnTo>
                  <a:lnTo>
                    <a:pt x="457" y="264"/>
                  </a:lnTo>
                  <a:lnTo>
                    <a:pt x="462" y="270"/>
                  </a:lnTo>
                  <a:lnTo>
                    <a:pt x="466" y="277"/>
                  </a:lnTo>
                  <a:lnTo>
                    <a:pt x="470" y="283"/>
                  </a:lnTo>
                  <a:lnTo>
                    <a:pt x="468" y="285"/>
                  </a:lnTo>
                  <a:lnTo>
                    <a:pt x="464" y="289"/>
                  </a:lnTo>
                  <a:lnTo>
                    <a:pt x="457" y="287"/>
                  </a:lnTo>
                  <a:lnTo>
                    <a:pt x="451" y="283"/>
                  </a:lnTo>
                  <a:lnTo>
                    <a:pt x="445" y="279"/>
                  </a:lnTo>
                  <a:lnTo>
                    <a:pt x="439" y="275"/>
                  </a:lnTo>
                  <a:lnTo>
                    <a:pt x="434" y="270"/>
                  </a:lnTo>
                  <a:lnTo>
                    <a:pt x="426" y="266"/>
                  </a:lnTo>
                  <a:lnTo>
                    <a:pt x="419" y="266"/>
                  </a:lnTo>
                  <a:lnTo>
                    <a:pt x="413" y="268"/>
                  </a:lnTo>
                  <a:lnTo>
                    <a:pt x="419" y="275"/>
                  </a:lnTo>
                  <a:lnTo>
                    <a:pt x="426" y="285"/>
                  </a:lnTo>
                  <a:lnTo>
                    <a:pt x="432" y="294"/>
                  </a:lnTo>
                  <a:lnTo>
                    <a:pt x="438" y="304"/>
                  </a:lnTo>
                  <a:lnTo>
                    <a:pt x="439" y="313"/>
                  </a:lnTo>
                  <a:lnTo>
                    <a:pt x="441" y="323"/>
                  </a:lnTo>
                  <a:lnTo>
                    <a:pt x="443" y="332"/>
                  </a:lnTo>
                  <a:lnTo>
                    <a:pt x="445" y="342"/>
                  </a:lnTo>
                  <a:lnTo>
                    <a:pt x="445" y="352"/>
                  </a:lnTo>
                  <a:lnTo>
                    <a:pt x="447" y="361"/>
                  </a:lnTo>
                  <a:lnTo>
                    <a:pt x="449" y="371"/>
                  </a:lnTo>
                  <a:lnTo>
                    <a:pt x="451" y="382"/>
                  </a:lnTo>
                  <a:lnTo>
                    <a:pt x="453" y="391"/>
                  </a:lnTo>
                  <a:lnTo>
                    <a:pt x="458" y="403"/>
                  </a:lnTo>
                  <a:lnTo>
                    <a:pt x="462" y="412"/>
                  </a:lnTo>
                  <a:lnTo>
                    <a:pt x="470" y="422"/>
                  </a:lnTo>
                  <a:lnTo>
                    <a:pt x="464" y="428"/>
                  </a:lnTo>
                  <a:lnTo>
                    <a:pt x="458" y="424"/>
                  </a:lnTo>
                  <a:lnTo>
                    <a:pt x="455" y="420"/>
                  </a:lnTo>
                  <a:lnTo>
                    <a:pt x="451" y="422"/>
                  </a:lnTo>
                  <a:lnTo>
                    <a:pt x="449" y="428"/>
                  </a:lnTo>
                  <a:lnTo>
                    <a:pt x="457" y="437"/>
                  </a:lnTo>
                  <a:lnTo>
                    <a:pt x="464" y="448"/>
                  </a:lnTo>
                  <a:lnTo>
                    <a:pt x="466" y="452"/>
                  </a:lnTo>
                  <a:lnTo>
                    <a:pt x="470" y="460"/>
                  </a:lnTo>
                  <a:lnTo>
                    <a:pt x="472" y="466"/>
                  </a:lnTo>
                  <a:lnTo>
                    <a:pt x="476" y="471"/>
                  </a:lnTo>
                  <a:lnTo>
                    <a:pt x="477" y="479"/>
                  </a:lnTo>
                  <a:lnTo>
                    <a:pt x="479" y="485"/>
                  </a:lnTo>
                  <a:lnTo>
                    <a:pt x="481" y="492"/>
                  </a:lnTo>
                  <a:lnTo>
                    <a:pt x="485" y="500"/>
                  </a:lnTo>
                  <a:lnTo>
                    <a:pt x="487" y="505"/>
                  </a:lnTo>
                  <a:lnTo>
                    <a:pt x="489" y="515"/>
                  </a:lnTo>
                  <a:lnTo>
                    <a:pt x="489" y="523"/>
                  </a:lnTo>
                  <a:lnTo>
                    <a:pt x="491" y="530"/>
                  </a:lnTo>
                  <a:lnTo>
                    <a:pt x="491" y="536"/>
                  </a:lnTo>
                  <a:lnTo>
                    <a:pt x="493" y="545"/>
                  </a:lnTo>
                  <a:lnTo>
                    <a:pt x="493" y="553"/>
                  </a:lnTo>
                  <a:lnTo>
                    <a:pt x="495" y="561"/>
                  </a:lnTo>
                  <a:lnTo>
                    <a:pt x="495" y="568"/>
                  </a:lnTo>
                  <a:lnTo>
                    <a:pt x="495" y="578"/>
                  </a:lnTo>
                  <a:lnTo>
                    <a:pt x="495" y="585"/>
                  </a:lnTo>
                  <a:lnTo>
                    <a:pt x="496" y="595"/>
                  </a:lnTo>
                  <a:lnTo>
                    <a:pt x="495" y="601"/>
                  </a:lnTo>
                  <a:lnTo>
                    <a:pt x="495" y="610"/>
                  </a:lnTo>
                  <a:lnTo>
                    <a:pt x="495" y="618"/>
                  </a:lnTo>
                  <a:lnTo>
                    <a:pt x="495" y="627"/>
                  </a:lnTo>
                  <a:lnTo>
                    <a:pt x="493" y="635"/>
                  </a:lnTo>
                  <a:lnTo>
                    <a:pt x="493" y="644"/>
                  </a:lnTo>
                  <a:lnTo>
                    <a:pt x="491" y="652"/>
                  </a:lnTo>
                  <a:lnTo>
                    <a:pt x="491" y="661"/>
                  </a:lnTo>
                  <a:lnTo>
                    <a:pt x="489" y="669"/>
                  </a:lnTo>
                  <a:lnTo>
                    <a:pt x="487" y="677"/>
                  </a:lnTo>
                  <a:lnTo>
                    <a:pt x="485" y="682"/>
                  </a:lnTo>
                  <a:lnTo>
                    <a:pt x="483" y="692"/>
                  </a:lnTo>
                  <a:lnTo>
                    <a:pt x="481" y="698"/>
                  </a:lnTo>
                  <a:lnTo>
                    <a:pt x="479" y="707"/>
                  </a:lnTo>
                  <a:lnTo>
                    <a:pt x="477" y="713"/>
                  </a:lnTo>
                  <a:lnTo>
                    <a:pt x="474" y="720"/>
                  </a:lnTo>
                  <a:lnTo>
                    <a:pt x="472" y="728"/>
                  </a:lnTo>
                  <a:lnTo>
                    <a:pt x="468" y="736"/>
                  </a:lnTo>
                  <a:lnTo>
                    <a:pt x="464" y="743"/>
                  </a:lnTo>
                  <a:lnTo>
                    <a:pt x="462" y="751"/>
                  </a:lnTo>
                  <a:lnTo>
                    <a:pt x="458" y="756"/>
                  </a:lnTo>
                  <a:lnTo>
                    <a:pt x="455" y="762"/>
                  </a:lnTo>
                  <a:lnTo>
                    <a:pt x="453" y="770"/>
                  </a:lnTo>
                  <a:lnTo>
                    <a:pt x="449" y="775"/>
                  </a:lnTo>
                  <a:lnTo>
                    <a:pt x="441" y="787"/>
                  </a:lnTo>
                  <a:lnTo>
                    <a:pt x="434" y="796"/>
                  </a:lnTo>
                  <a:lnTo>
                    <a:pt x="424" y="806"/>
                  </a:lnTo>
                  <a:lnTo>
                    <a:pt x="415" y="815"/>
                  </a:lnTo>
                  <a:lnTo>
                    <a:pt x="405" y="821"/>
                  </a:lnTo>
                  <a:lnTo>
                    <a:pt x="394" y="827"/>
                  </a:lnTo>
                  <a:lnTo>
                    <a:pt x="384" y="832"/>
                  </a:lnTo>
                  <a:lnTo>
                    <a:pt x="373" y="836"/>
                  </a:lnTo>
                  <a:lnTo>
                    <a:pt x="369" y="832"/>
                  </a:lnTo>
                  <a:lnTo>
                    <a:pt x="367" y="823"/>
                  </a:lnTo>
                  <a:lnTo>
                    <a:pt x="363" y="813"/>
                  </a:lnTo>
                  <a:lnTo>
                    <a:pt x="360" y="810"/>
                  </a:lnTo>
                  <a:lnTo>
                    <a:pt x="352" y="812"/>
                  </a:lnTo>
                  <a:lnTo>
                    <a:pt x="342" y="817"/>
                  </a:lnTo>
                  <a:lnTo>
                    <a:pt x="333" y="819"/>
                  </a:lnTo>
                  <a:lnTo>
                    <a:pt x="325" y="821"/>
                  </a:lnTo>
                  <a:lnTo>
                    <a:pt x="329" y="812"/>
                  </a:lnTo>
                  <a:lnTo>
                    <a:pt x="335" y="802"/>
                  </a:lnTo>
                  <a:lnTo>
                    <a:pt x="339" y="793"/>
                  </a:lnTo>
                  <a:lnTo>
                    <a:pt x="346" y="785"/>
                  </a:lnTo>
                  <a:lnTo>
                    <a:pt x="350" y="777"/>
                  </a:lnTo>
                  <a:lnTo>
                    <a:pt x="356" y="770"/>
                  </a:lnTo>
                  <a:lnTo>
                    <a:pt x="362" y="762"/>
                  </a:lnTo>
                  <a:lnTo>
                    <a:pt x="367" y="756"/>
                  </a:lnTo>
                  <a:lnTo>
                    <a:pt x="373" y="749"/>
                  </a:lnTo>
                  <a:lnTo>
                    <a:pt x="379" y="743"/>
                  </a:lnTo>
                  <a:lnTo>
                    <a:pt x="384" y="736"/>
                  </a:lnTo>
                  <a:lnTo>
                    <a:pt x="390" y="730"/>
                  </a:lnTo>
                  <a:lnTo>
                    <a:pt x="396" y="724"/>
                  </a:lnTo>
                  <a:lnTo>
                    <a:pt x="400" y="717"/>
                  </a:lnTo>
                  <a:lnTo>
                    <a:pt x="405" y="711"/>
                  </a:lnTo>
                  <a:lnTo>
                    <a:pt x="413" y="705"/>
                  </a:lnTo>
                  <a:lnTo>
                    <a:pt x="417" y="698"/>
                  </a:lnTo>
                  <a:lnTo>
                    <a:pt x="420" y="692"/>
                  </a:lnTo>
                  <a:lnTo>
                    <a:pt x="424" y="686"/>
                  </a:lnTo>
                  <a:lnTo>
                    <a:pt x="430" y="678"/>
                  </a:lnTo>
                  <a:lnTo>
                    <a:pt x="434" y="671"/>
                  </a:lnTo>
                  <a:lnTo>
                    <a:pt x="438" y="665"/>
                  </a:lnTo>
                  <a:lnTo>
                    <a:pt x="441" y="658"/>
                  </a:lnTo>
                  <a:lnTo>
                    <a:pt x="443" y="650"/>
                  </a:lnTo>
                  <a:lnTo>
                    <a:pt x="445" y="642"/>
                  </a:lnTo>
                  <a:lnTo>
                    <a:pt x="447" y="633"/>
                  </a:lnTo>
                  <a:lnTo>
                    <a:pt x="449" y="625"/>
                  </a:lnTo>
                  <a:lnTo>
                    <a:pt x="449" y="616"/>
                  </a:lnTo>
                  <a:lnTo>
                    <a:pt x="449" y="606"/>
                  </a:lnTo>
                  <a:lnTo>
                    <a:pt x="449" y="597"/>
                  </a:lnTo>
                  <a:lnTo>
                    <a:pt x="449" y="585"/>
                  </a:lnTo>
                  <a:lnTo>
                    <a:pt x="447" y="576"/>
                  </a:lnTo>
                  <a:lnTo>
                    <a:pt x="445" y="563"/>
                  </a:lnTo>
                  <a:lnTo>
                    <a:pt x="445" y="553"/>
                  </a:lnTo>
                  <a:lnTo>
                    <a:pt x="443" y="542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6" y="509"/>
                  </a:lnTo>
                  <a:lnTo>
                    <a:pt x="434" y="500"/>
                  </a:lnTo>
                  <a:lnTo>
                    <a:pt x="432" y="488"/>
                  </a:lnTo>
                  <a:lnTo>
                    <a:pt x="426" y="477"/>
                  </a:lnTo>
                  <a:lnTo>
                    <a:pt x="422" y="467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09" y="433"/>
                  </a:lnTo>
                  <a:lnTo>
                    <a:pt x="405" y="422"/>
                  </a:lnTo>
                  <a:lnTo>
                    <a:pt x="400" y="410"/>
                  </a:lnTo>
                  <a:lnTo>
                    <a:pt x="396" y="399"/>
                  </a:lnTo>
                  <a:lnTo>
                    <a:pt x="388" y="388"/>
                  </a:lnTo>
                  <a:lnTo>
                    <a:pt x="384" y="378"/>
                  </a:lnTo>
                  <a:lnTo>
                    <a:pt x="379" y="367"/>
                  </a:lnTo>
                  <a:lnTo>
                    <a:pt x="375" y="355"/>
                  </a:lnTo>
                  <a:lnTo>
                    <a:pt x="369" y="344"/>
                  </a:lnTo>
                  <a:lnTo>
                    <a:pt x="365" y="332"/>
                  </a:lnTo>
                  <a:lnTo>
                    <a:pt x="360" y="321"/>
                  </a:lnTo>
                  <a:lnTo>
                    <a:pt x="356" y="312"/>
                  </a:lnTo>
                  <a:lnTo>
                    <a:pt x="350" y="302"/>
                  </a:lnTo>
                  <a:lnTo>
                    <a:pt x="346" y="291"/>
                  </a:lnTo>
                  <a:lnTo>
                    <a:pt x="342" y="279"/>
                  </a:lnTo>
                  <a:lnTo>
                    <a:pt x="341" y="270"/>
                  </a:lnTo>
                  <a:lnTo>
                    <a:pt x="337" y="260"/>
                  </a:lnTo>
                  <a:lnTo>
                    <a:pt x="335" y="251"/>
                  </a:lnTo>
                  <a:lnTo>
                    <a:pt x="333" y="241"/>
                  </a:lnTo>
                  <a:lnTo>
                    <a:pt x="331" y="234"/>
                  </a:lnTo>
                  <a:lnTo>
                    <a:pt x="323" y="230"/>
                  </a:lnTo>
                  <a:lnTo>
                    <a:pt x="316" y="230"/>
                  </a:lnTo>
                  <a:lnTo>
                    <a:pt x="310" y="228"/>
                  </a:lnTo>
                  <a:lnTo>
                    <a:pt x="304" y="226"/>
                  </a:lnTo>
                  <a:lnTo>
                    <a:pt x="297" y="222"/>
                  </a:lnTo>
                  <a:lnTo>
                    <a:pt x="289" y="222"/>
                  </a:lnTo>
                  <a:lnTo>
                    <a:pt x="284" y="220"/>
                  </a:lnTo>
                  <a:lnTo>
                    <a:pt x="276" y="218"/>
                  </a:lnTo>
                  <a:lnTo>
                    <a:pt x="268" y="215"/>
                  </a:lnTo>
                  <a:lnTo>
                    <a:pt x="263" y="215"/>
                  </a:lnTo>
                  <a:lnTo>
                    <a:pt x="255" y="213"/>
                  </a:lnTo>
                  <a:lnTo>
                    <a:pt x="249" y="211"/>
                  </a:lnTo>
                  <a:lnTo>
                    <a:pt x="242" y="209"/>
                  </a:lnTo>
                  <a:lnTo>
                    <a:pt x="236" y="207"/>
                  </a:lnTo>
                  <a:lnTo>
                    <a:pt x="228" y="205"/>
                  </a:lnTo>
                  <a:lnTo>
                    <a:pt x="223" y="203"/>
                  </a:lnTo>
                  <a:lnTo>
                    <a:pt x="215" y="201"/>
                  </a:lnTo>
                  <a:lnTo>
                    <a:pt x="209" y="199"/>
                  </a:lnTo>
                  <a:lnTo>
                    <a:pt x="202" y="196"/>
                  </a:lnTo>
                  <a:lnTo>
                    <a:pt x="194" y="194"/>
                  </a:lnTo>
                  <a:lnTo>
                    <a:pt x="189" y="192"/>
                  </a:lnTo>
                  <a:lnTo>
                    <a:pt x="183" y="188"/>
                  </a:lnTo>
                  <a:lnTo>
                    <a:pt x="175" y="186"/>
                  </a:lnTo>
                  <a:lnTo>
                    <a:pt x="169" y="184"/>
                  </a:lnTo>
                  <a:lnTo>
                    <a:pt x="164" y="182"/>
                  </a:lnTo>
                  <a:lnTo>
                    <a:pt x="156" y="179"/>
                  </a:lnTo>
                  <a:lnTo>
                    <a:pt x="150" y="177"/>
                  </a:lnTo>
                  <a:lnTo>
                    <a:pt x="145" y="175"/>
                  </a:lnTo>
                  <a:lnTo>
                    <a:pt x="133" y="167"/>
                  </a:lnTo>
                  <a:lnTo>
                    <a:pt x="122" y="163"/>
                  </a:lnTo>
                  <a:lnTo>
                    <a:pt x="116" y="158"/>
                  </a:lnTo>
                  <a:lnTo>
                    <a:pt x="109" y="156"/>
                  </a:lnTo>
                  <a:lnTo>
                    <a:pt x="103" y="152"/>
                  </a:lnTo>
                  <a:lnTo>
                    <a:pt x="99" y="148"/>
                  </a:lnTo>
                  <a:lnTo>
                    <a:pt x="88" y="140"/>
                  </a:lnTo>
                  <a:lnTo>
                    <a:pt x="78" y="133"/>
                  </a:lnTo>
                  <a:lnTo>
                    <a:pt x="69" y="123"/>
                  </a:lnTo>
                  <a:lnTo>
                    <a:pt x="57" y="116"/>
                  </a:lnTo>
                  <a:lnTo>
                    <a:pt x="50" y="106"/>
                  </a:lnTo>
                  <a:lnTo>
                    <a:pt x="42" y="97"/>
                  </a:lnTo>
                  <a:lnTo>
                    <a:pt x="35" y="85"/>
                  </a:lnTo>
                  <a:lnTo>
                    <a:pt x="27" y="76"/>
                  </a:lnTo>
                  <a:lnTo>
                    <a:pt x="21" y="64"/>
                  </a:lnTo>
                  <a:lnTo>
                    <a:pt x="15" y="53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8" y="34"/>
                  </a:lnTo>
                  <a:lnTo>
                    <a:pt x="6" y="28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186680" y="1792080"/>
              <a:ext cx="93600" cy="428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101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8" y="6"/>
                  </a:lnTo>
                  <a:lnTo>
                    <a:pt x="108" y="7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87" y="17"/>
                  </a:lnTo>
                  <a:lnTo>
                    <a:pt x="80" y="21"/>
                  </a:lnTo>
                  <a:lnTo>
                    <a:pt x="72" y="23"/>
                  </a:lnTo>
                  <a:lnTo>
                    <a:pt x="64" y="26"/>
                  </a:lnTo>
                  <a:lnTo>
                    <a:pt x="59" y="30"/>
                  </a:lnTo>
                  <a:lnTo>
                    <a:pt x="51" y="32"/>
                  </a:lnTo>
                  <a:lnTo>
                    <a:pt x="43" y="36"/>
                  </a:lnTo>
                  <a:lnTo>
                    <a:pt x="36" y="40"/>
                  </a:lnTo>
                  <a:lnTo>
                    <a:pt x="30" y="42"/>
                  </a:lnTo>
                  <a:lnTo>
                    <a:pt x="23" y="45"/>
                  </a:lnTo>
                  <a:lnTo>
                    <a:pt x="15" y="47"/>
                  </a:lnTo>
                  <a:lnTo>
                    <a:pt x="7" y="49"/>
                  </a:lnTo>
                  <a:lnTo>
                    <a:pt x="2" y="53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3" y="34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61" y="17"/>
                  </a:lnTo>
                  <a:lnTo>
                    <a:pt x="68" y="13"/>
                  </a:lnTo>
                  <a:lnTo>
                    <a:pt x="76" y="13"/>
                  </a:lnTo>
                  <a:lnTo>
                    <a:pt x="81" y="9"/>
                  </a:lnTo>
                  <a:lnTo>
                    <a:pt x="87" y="7"/>
                  </a:lnTo>
                  <a:lnTo>
                    <a:pt x="95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608960" y="1801800"/>
              <a:ext cx="46080" cy="172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8" y="0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4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1"/>
                  </a:lnTo>
                  <a:lnTo>
                    <a:pt x="23" y="21"/>
                  </a:lnTo>
                  <a:lnTo>
                    <a:pt x="17" y="21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94400" y="1809720"/>
              <a:ext cx="66960" cy="3636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57" y="2"/>
                  </a:moveTo>
                  <a:lnTo>
                    <a:pt x="66" y="0"/>
                  </a:lnTo>
                  <a:lnTo>
                    <a:pt x="72" y="5"/>
                  </a:lnTo>
                  <a:lnTo>
                    <a:pt x="76" y="11"/>
                  </a:lnTo>
                  <a:lnTo>
                    <a:pt x="83" y="19"/>
                  </a:lnTo>
                  <a:lnTo>
                    <a:pt x="74" y="21"/>
                  </a:lnTo>
                  <a:lnTo>
                    <a:pt x="64" y="24"/>
                  </a:lnTo>
                  <a:lnTo>
                    <a:pt x="55" y="26"/>
                  </a:lnTo>
                  <a:lnTo>
                    <a:pt x="45" y="30"/>
                  </a:lnTo>
                  <a:lnTo>
                    <a:pt x="36" y="34"/>
                  </a:lnTo>
                  <a:lnTo>
                    <a:pt x="26" y="36"/>
                  </a:lnTo>
                  <a:lnTo>
                    <a:pt x="17" y="40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8" y="11"/>
                  </a:lnTo>
                  <a:lnTo>
                    <a:pt x="47" y="7"/>
                  </a:lnTo>
                  <a:lnTo>
                    <a:pt x="57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45120" y="1811160"/>
              <a:ext cx="59040" cy="4284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0" y="0"/>
                  </a:moveTo>
                  <a:lnTo>
                    <a:pt x="11" y="3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5" y="22"/>
                  </a:lnTo>
                  <a:lnTo>
                    <a:pt x="62" y="28"/>
                  </a:lnTo>
                  <a:lnTo>
                    <a:pt x="66" y="32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74" y="51"/>
                  </a:lnTo>
                  <a:lnTo>
                    <a:pt x="72" y="53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49" y="43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2" y="34"/>
                  </a:lnTo>
                  <a:lnTo>
                    <a:pt x="26" y="32"/>
                  </a:lnTo>
                  <a:lnTo>
                    <a:pt x="15" y="22"/>
                  </a:lnTo>
                  <a:lnTo>
                    <a:pt x="7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551720" y="1820880"/>
              <a:ext cx="55440" cy="219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33" y="0"/>
                  </a:moveTo>
                  <a:lnTo>
                    <a:pt x="42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1" y="13"/>
                  </a:lnTo>
                  <a:lnTo>
                    <a:pt x="67" y="15"/>
                  </a:lnTo>
                  <a:lnTo>
                    <a:pt x="59" y="21"/>
                  </a:lnTo>
                  <a:lnTo>
                    <a:pt x="50" y="23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1" y="27"/>
                  </a:lnTo>
                  <a:lnTo>
                    <a:pt x="17" y="29"/>
                  </a:lnTo>
                  <a:lnTo>
                    <a:pt x="10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5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489080" y="1850760"/>
              <a:ext cx="66600" cy="1908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30" y="0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72" y="11"/>
                  </a:lnTo>
                  <a:lnTo>
                    <a:pt x="61" y="17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0" y="25"/>
                  </a:lnTo>
                  <a:lnTo>
                    <a:pt x="21" y="25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94440" y="1869840"/>
              <a:ext cx="20952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811280" y="1903320"/>
              <a:ext cx="27000" cy="98280"/>
            </a:xfrm>
            <a:custGeom>
              <a:avLst/>
              <a:gdLst/>
              <a:ahLst/>
              <a:rect l="l" t="t" r="r" b="b"/>
              <a:pathLst>
                <a:path w="35" h="123">
                  <a:moveTo>
                    <a:pt x="29" y="0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5" y="57"/>
                  </a:lnTo>
                  <a:lnTo>
                    <a:pt x="35" y="66"/>
                  </a:lnTo>
                  <a:lnTo>
                    <a:pt x="33" y="74"/>
                  </a:lnTo>
                  <a:lnTo>
                    <a:pt x="33" y="81"/>
                  </a:lnTo>
                  <a:lnTo>
                    <a:pt x="29" y="91"/>
                  </a:lnTo>
                  <a:lnTo>
                    <a:pt x="27" y="98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0" y="117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2" y="114"/>
                  </a:lnTo>
                  <a:lnTo>
                    <a:pt x="6" y="106"/>
                  </a:lnTo>
                  <a:lnTo>
                    <a:pt x="6" y="98"/>
                  </a:lnTo>
                  <a:lnTo>
                    <a:pt x="8" y="91"/>
                  </a:lnTo>
                  <a:lnTo>
                    <a:pt x="8" y="81"/>
                  </a:lnTo>
                  <a:lnTo>
                    <a:pt x="8" y="74"/>
                  </a:lnTo>
                  <a:lnTo>
                    <a:pt x="8" y="64"/>
                  </a:lnTo>
                  <a:lnTo>
                    <a:pt x="8" y="57"/>
                  </a:lnTo>
                  <a:lnTo>
                    <a:pt x="8" y="47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2" y="24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136720" y="1912680"/>
              <a:ext cx="3348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03440" y="1931760"/>
              <a:ext cx="34920" cy="176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8" y="2"/>
                  </a:moveTo>
                  <a:lnTo>
                    <a:pt x="17" y="0"/>
                  </a:lnTo>
                  <a:lnTo>
                    <a:pt x="27" y="2"/>
                  </a:lnTo>
                  <a:lnTo>
                    <a:pt x="36" y="7"/>
                  </a:lnTo>
                  <a:lnTo>
                    <a:pt x="44" y="13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9" y="9"/>
                  </a:lnTo>
                  <a:lnTo>
                    <a:pt x="0" y="9"/>
                  </a:lnTo>
                  <a:lnTo>
                    <a:pt x="2" y="5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941520" y="2004840"/>
              <a:ext cx="3492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8078040" y="2016000"/>
              <a:ext cx="98280" cy="388800"/>
            </a:xfrm>
            <a:custGeom>
              <a:avLst/>
              <a:gdLst/>
              <a:ahLst/>
              <a:rect l="l" t="t" r="r" b="b"/>
              <a:pathLst>
                <a:path w="123" h="491">
                  <a:moveTo>
                    <a:pt x="24" y="0"/>
                  </a:moveTo>
                  <a:lnTo>
                    <a:pt x="32" y="4"/>
                  </a:lnTo>
                  <a:lnTo>
                    <a:pt x="38" y="8"/>
                  </a:lnTo>
                  <a:lnTo>
                    <a:pt x="45" y="13"/>
                  </a:lnTo>
                  <a:lnTo>
                    <a:pt x="51" y="17"/>
                  </a:lnTo>
                  <a:lnTo>
                    <a:pt x="55" y="23"/>
                  </a:lnTo>
                  <a:lnTo>
                    <a:pt x="60" y="31"/>
                  </a:lnTo>
                  <a:lnTo>
                    <a:pt x="66" y="36"/>
                  </a:lnTo>
                  <a:lnTo>
                    <a:pt x="72" y="44"/>
                  </a:lnTo>
                  <a:lnTo>
                    <a:pt x="74" y="50"/>
                  </a:lnTo>
                  <a:lnTo>
                    <a:pt x="79" y="57"/>
                  </a:lnTo>
                  <a:lnTo>
                    <a:pt x="83" y="63"/>
                  </a:lnTo>
                  <a:lnTo>
                    <a:pt x="89" y="71"/>
                  </a:lnTo>
                  <a:lnTo>
                    <a:pt x="93" y="76"/>
                  </a:lnTo>
                  <a:lnTo>
                    <a:pt x="98" y="84"/>
                  </a:lnTo>
                  <a:lnTo>
                    <a:pt x="106" y="90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93" y="112"/>
                  </a:lnTo>
                  <a:lnTo>
                    <a:pt x="98" y="118"/>
                  </a:lnTo>
                  <a:lnTo>
                    <a:pt x="106" y="124"/>
                  </a:lnTo>
                  <a:lnTo>
                    <a:pt x="112" y="131"/>
                  </a:lnTo>
                  <a:lnTo>
                    <a:pt x="108" y="135"/>
                  </a:lnTo>
                  <a:lnTo>
                    <a:pt x="102" y="135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2" y="160"/>
                  </a:lnTo>
                  <a:lnTo>
                    <a:pt x="108" y="169"/>
                  </a:lnTo>
                  <a:lnTo>
                    <a:pt x="112" y="181"/>
                  </a:lnTo>
                  <a:lnTo>
                    <a:pt x="116" y="192"/>
                  </a:lnTo>
                  <a:lnTo>
                    <a:pt x="119" y="204"/>
                  </a:lnTo>
                  <a:lnTo>
                    <a:pt x="121" y="213"/>
                  </a:lnTo>
                  <a:lnTo>
                    <a:pt x="123" y="224"/>
                  </a:lnTo>
                  <a:lnTo>
                    <a:pt x="123" y="236"/>
                  </a:lnTo>
                  <a:lnTo>
                    <a:pt x="123" y="245"/>
                  </a:lnTo>
                  <a:lnTo>
                    <a:pt x="123" y="257"/>
                  </a:lnTo>
                  <a:lnTo>
                    <a:pt x="123" y="268"/>
                  </a:lnTo>
                  <a:lnTo>
                    <a:pt x="119" y="280"/>
                  </a:lnTo>
                  <a:lnTo>
                    <a:pt x="119" y="289"/>
                  </a:lnTo>
                  <a:lnTo>
                    <a:pt x="117" y="301"/>
                  </a:lnTo>
                  <a:lnTo>
                    <a:pt x="116" y="312"/>
                  </a:lnTo>
                  <a:lnTo>
                    <a:pt x="110" y="321"/>
                  </a:lnTo>
                  <a:lnTo>
                    <a:pt x="108" y="333"/>
                  </a:lnTo>
                  <a:lnTo>
                    <a:pt x="104" y="344"/>
                  </a:lnTo>
                  <a:lnTo>
                    <a:pt x="100" y="356"/>
                  </a:lnTo>
                  <a:lnTo>
                    <a:pt x="97" y="365"/>
                  </a:lnTo>
                  <a:lnTo>
                    <a:pt x="93" y="377"/>
                  </a:lnTo>
                  <a:lnTo>
                    <a:pt x="89" y="388"/>
                  </a:lnTo>
                  <a:lnTo>
                    <a:pt x="85" y="399"/>
                  </a:lnTo>
                  <a:lnTo>
                    <a:pt x="79" y="409"/>
                  </a:lnTo>
                  <a:lnTo>
                    <a:pt x="76" y="420"/>
                  </a:lnTo>
                  <a:lnTo>
                    <a:pt x="72" y="432"/>
                  </a:lnTo>
                  <a:lnTo>
                    <a:pt x="68" y="443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2" y="460"/>
                  </a:lnTo>
                  <a:lnTo>
                    <a:pt x="60" y="466"/>
                  </a:lnTo>
                  <a:lnTo>
                    <a:pt x="59" y="472"/>
                  </a:lnTo>
                  <a:lnTo>
                    <a:pt x="59" y="477"/>
                  </a:lnTo>
                  <a:lnTo>
                    <a:pt x="55" y="483"/>
                  </a:lnTo>
                  <a:lnTo>
                    <a:pt x="55" y="491"/>
                  </a:lnTo>
                  <a:lnTo>
                    <a:pt x="7" y="477"/>
                  </a:lnTo>
                  <a:lnTo>
                    <a:pt x="3" y="470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3" y="432"/>
                  </a:lnTo>
                  <a:lnTo>
                    <a:pt x="5" y="424"/>
                  </a:lnTo>
                  <a:lnTo>
                    <a:pt x="9" y="415"/>
                  </a:lnTo>
                  <a:lnTo>
                    <a:pt x="13" y="405"/>
                  </a:lnTo>
                  <a:lnTo>
                    <a:pt x="19" y="396"/>
                  </a:lnTo>
                  <a:lnTo>
                    <a:pt x="22" y="384"/>
                  </a:lnTo>
                  <a:lnTo>
                    <a:pt x="28" y="375"/>
                  </a:lnTo>
                  <a:lnTo>
                    <a:pt x="34" y="365"/>
                  </a:lnTo>
                  <a:lnTo>
                    <a:pt x="40" y="356"/>
                  </a:lnTo>
                  <a:lnTo>
                    <a:pt x="45" y="344"/>
                  </a:lnTo>
                  <a:lnTo>
                    <a:pt x="51" y="335"/>
                  </a:lnTo>
                  <a:lnTo>
                    <a:pt x="55" y="323"/>
                  </a:lnTo>
                  <a:lnTo>
                    <a:pt x="60" y="314"/>
                  </a:lnTo>
                  <a:lnTo>
                    <a:pt x="64" y="302"/>
                  </a:lnTo>
                  <a:lnTo>
                    <a:pt x="68" y="293"/>
                  </a:lnTo>
                  <a:lnTo>
                    <a:pt x="70" y="282"/>
                  </a:lnTo>
                  <a:lnTo>
                    <a:pt x="74" y="272"/>
                  </a:lnTo>
                  <a:lnTo>
                    <a:pt x="74" y="261"/>
                  </a:lnTo>
                  <a:lnTo>
                    <a:pt x="76" y="251"/>
                  </a:lnTo>
                  <a:lnTo>
                    <a:pt x="74" y="242"/>
                  </a:lnTo>
                  <a:lnTo>
                    <a:pt x="72" y="232"/>
                  </a:lnTo>
                  <a:lnTo>
                    <a:pt x="68" y="223"/>
                  </a:lnTo>
                  <a:lnTo>
                    <a:pt x="64" y="213"/>
                  </a:lnTo>
                  <a:lnTo>
                    <a:pt x="59" y="204"/>
                  </a:lnTo>
                  <a:lnTo>
                    <a:pt x="51" y="194"/>
                  </a:lnTo>
                  <a:lnTo>
                    <a:pt x="41" y="186"/>
                  </a:lnTo>
                  <a:lnTo>
                    <a:pt x="30" y="179"/>
                  </a:lnTo>
                  <a:lnTo>
                    <a:pt x="28" y="171"/>
                  </a:lnTo>
                  <a:lnTo>
                    <a:pt x="26" y="166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26" y="143"/>
                  </a:lnTo>
                  <a:lnTo>
                    <a:pt x="26" y="131"/>
                  </a:lnTo>
                  <a:lnTo>
                    <a:pt x="26" y="120"/>
                  </a:lnTo>
                  <a:lnTo>
                    <a:pt x="26" y="109"/>
                  </a:lnTo>
                  <a:lnTo>
                    <a:pt x="26" y="97"/>
                  </a:lnTo>
                  <a:lnTo>
                    <a:pt x="26" y="88"/>
                  </a:lnTo>
                  <a:lnTo>
                    <a:pt x="26" y="76"/>
                  </a:lnTo>
                  <a:lnTo>
                    <a:pt x="26" y="67"/>
                  </a:lnTo>
                  <a:lnTo>
                    <a:pt x="26" y="53"/>
                  </a:lnTo>
                  <a:lnTo>
                    <a:pt x="28" y="44"/>
                  </a:lnTo>
                  <a:lnTo>
                    <a:pt x="26" y="32"/>
                  </a:lnTo>
                  <a:lnTo>
                    <a:pt x="26" y="21"/>
                  </a:lnTo>
                  <a:lnTo>
                    <a:pt x="26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319160" y="2016000"/>
              <a:ext cx="227160" cy="138240"/>
            </a:xfrm>
            <a:custGeom>
              <a:avLst/>
              <a:gdLst/>
              <a:ahLst/>
              <a:rect l="l" t="t" r="r" b="b"/>
              <a:pathLst>
                <a:path w="285" h="173">
                  <a:moveTo>
                    <a:pt x="266" y="0"/>
                  </a:moveTo>
                  <a:lnTo>
                    <a:pt x="274" y="2"/>
                  </a:lnTo>
                  <a:lnTo>
                    <a:pt x="280" y="8"/>
                  </a:lnTo>
                  <a:lnTo>
                    <a:pt x="280" y="12"/>
                  </a:lnTo>
                  <a:lnTo>
                    <a:pt x="284" y="17"/>
                  </a:lnTo>
                  <a:lnTo>
                    <a:pt x="284" y="23"/>
                  </a:lnTo>
                  <a:lnTo>
                    <a:pt x="285" y="31"/>
                  </a:lnTo>
                  <a:lnTo>
                    <a:pt x="284" y="34"/>
                  </a:lnTo>
                  <a:lnTo>
                    <a:pt x="284" y="42"/>
                  </a:lnTo>
                  <a:lnTo>
                    <a:pt x="284" y="50"/>
                  </a:lnTo>
                  <a:lnTo>
                    <a:pt x="282" y="57"/>
                  </a:lnTo>
                  <a:lnTo>
                    <a:pt x="280" y="63"/>
                  </a:lnTo>
                  <a:lnTo>
                    <a:pt x="278" y="72"/>
                  </a:lnTo>
                  <a:lnTo>
                    <a:pt x="274" y="80"/>
                  </a:lnTo>
                  <a:lnTo>
                    <a:pt x="272" y="90"/>
                  </a:lnTo>
                  <a:lnTo>
                    <a:pt x="268" y="97"/>
                  </a:lnTo>
                  <a:lnTo>
                    <a:pt x="265" y="105"/>
                  </a:lnTo>
                  <a:lnTo>
                    <a:pt x="261" y="112"/>
                  </a:lnTo>
                  <a:lnTo>
                    <a:pt x="257" y="120"/>
                  </a:lnTo>
                  <a:lnTo>
                    <a:pt x="251" y="126"/>
                  </a:lnTo>
                  <a:lnTo>
                    <a:pt x="247" y="133"/>
                  </a:lnTo>
                  <a:lnTo>
                    <a:pt x="242" y="141"/>
                  </a:lnTo>
                  <a:lnTo>
                    <a:pt x="238" y="148"/>
                  </a:lnTo>
                  <a:lnTo>
                    <a:pt x="228" y="158"/>
                  </a:lnTo>
                  <a:lnTo>
                    <a:pt x="219" y="166"/>
                  </a:lnTo>
                  <a:lnTo>
                    <a:pt x="207" y="171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198" y="166"/>
                  </a:lnTo>
                  <a:lnTo>
                    <a:pt x="204" y="156"/>
                  </a:lnTo>
                  <a:lnTo>
                    <a:pt x="207" y="150"/>
                  </a:lnTo>
                  <a:lnTo>
                    <a:pt x="204" y="143"/>
                  </a:lnTo>
                  <a:lnTo>
                    <a:pt x="198" y="139"/>
                  </a:lnTo>
                  <a:lnTo>
                    <a:pt x="192" y="135"/>
                  </a:lnTo>
                  <a:lnTo>
                    <a:pt x="187" y="131"/>
                  </a:lnTo>
                  <a:lnTo>
                    <a:pt x="179" y="129"/>
                  </a:lnTo>
                  <a:lnTo>
                    <a:pt x="173" y="129"/>
                  </a:lnTo>
                  <a:lnTo>
                    <a:pt x="166" y="126"/>
                  </a:lnTo>
                  <a:lnTo>
                    <a:pt x="158" y="124"/>
                  </a:lnTo>
                  <a:lnTo>
                    <a:pt x="149" y="122"/>
                  </a:lnTo>
                  <a:lnTo>
                    <a:pt x="141" y="122"/>
                  </a:lnTo>
                  <a:lnTo>
                    <a:pt x="130" y="120"/>
                  </a:lnTo>
                  <a:lnTo>
                    <a:pt x="120" y="118"/>
                  </a:lnTo>
                  <a:lnTo>
                    <a:pt x="111" y="116"/>
                  </a:lnTo>
                  <a:lnTo>
                    <a:pt x="101" y="116"/>
                  </a:lnTo>
                  <a:lnTo>
                    <a:pt x="92" y="116"/>
                  </a:lnTo>
                  <a:lnTo>
                    <a:pt x="82" y="114"/>
                  </a:lnTo>
                  <a:lnTo>
                    <a:pt x="72" y="114"/>
                  </a:lnTo>
                  <a:lnTo>
                    <a:pt x="63" y="114"/>
                  </a:lnTo>
                  <a:lnTo>
                    <a:pt x="53" y="114"/>
                  </a:lnTo>
                  <a:lnTo>
                    <a:pt x="44" y="114"/>
                  </a:lnTo>
                  <a:lnTo>
                    <a:pt x="34" y="114"/>
                  </a:lnTo>
                  <a:lnTo>
                    <a:pt x="27" y="114"/>
                  </a:lnTo>
                  <a:lnTo>
                    <a:pt x="19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0" y="116"/>
                  </a:lnTo>
                  <a:lnTo>
                    <a:pt x="6" y="109"/>
                  </a:lnTo>
                  <a:lnTo>
                    <a:pt x="12" y="105"/>
                  </a:lnTo>
                  <a:lnTo>
                    <a:pt x="17" y="101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6" y="91"/>
                  </a:lnTo>
                  <a:lnTo>
                    <a:pt x="53" y="91"/>
                  </a:lnTo>
                  <a:lnTo>
                    <a:pt x="59" y="90"/>
                  </a:lnTo>
                  <a:lnTo>
                    <a:pt x="69" y="90"/>
                  </a:lnTo>
                  <a:lnTo>
                    <a:pt x="76" y="91"/>
                  </a:lnTo>
                  <a:lnTo>
                    <a:pt x="84" y="93"/>
                  </a:lnTo>
                  <a:lnTo>
                    <a:pt x="93" y="93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0" y="97"/>
                  </a:lnTo>
                  <a:lnTo>
                    <a:pt x="128" y="97"/>
                  </a:lnTo>
                  <a:lnTo>
                    <a:pt x="135" y="99"/>
                  </a:lnTo>
                  <a:lnTo>
                    <a:pt x="145" y="99"/>
                  </a:lnTo>
                  <a:lnTo>
                    <a:pt x="152" y="101"/>
                  </a:lnTo>
                  <a:lnTo>
                    <a:pt x="160" y="101"/>
                  </a:lnTo>
                  <a:lnTo>
                    <a:pt x="169" y="101"/>
                  </a:lnTo>
                  <a:lnTo>
                    <a:pt x="177" y="101"/>
                  </a:lnTo>
                  <a:lnTo>
                    <a:pt x="187" y="103"/>
                  </a:lnTo>
                  <a:lnTo>
                    <a:pt x="194" y="101"/>
                  </a:lnTo>
                  <a:lnTo>
                    <a:pt x="202" y="101"/>
                  </a:lnTo>
                  <a:lnTo>
                    <a:pt x="209" y="99"/>
                  </a:lnTo>
                  <a:lnTo>
                    <a:pt x="217" y="97"/>
                  </a:lnTo>
                  <a:lnTo>
                    <a:pt x="225" y="95"/>
                  </a:lnTo>
                  <a:lnTo>
                    <a:pt x="232" y="93"/>
                  </a:lnTo>
                  <a:lnTo>
                    <a:pt x="240" y="90"/>
                  </a:lnTo>
                  <a:lnTo>
                    <a:pt x="247" y="86"/>
                  </a:lnTo>
                  <a:lnTo>
                    <a:pt x="236" y="82"/>
                  </a:lnTo>
                  <a:lnTo>
                    <a:pt x="225" y="80"/>
                  </a:lnTo>
                  <a:lnTo>
                    <a:pt x="215" y="80"/>
                  </a:lnTo>
                  <a:lnTo>
                    <a:pt x="204" y="80"/>
                  </a:lnTo>
                  <a:lnTo>
                    <a:pt x="198" y="80"/>
                  </a:lnTo>
                  <a:lnTo>
                    <a:pt x="192" y="80"/>
                  </a:lnTo>
                  <a:lnTo>
                    <a:pt x="187" y="80"/>
                  </a:lnTo>
                  <a:lnTo>
                    <a:pt x="181" y="80"/>
                  </a:lnTo>
                  <a:lnTo>
                    <a:pt x="169" y="80"/>
                  </a:lnTo>
                  <a:lnTo>
                    <a:pt x="158" y="82"/>
                  </a:lnTo>
                  <a:lnTo>
                    <a:pt x="152" y="80"/>
                  </a:lnTo>
                  <a:lnTo>
                    <a:pt x="147" y="80"/>
                  </a:lnTo>
                  <a:lnTo>
                    <a:pt x="141" y="80"/>
                  </a:lnTo>
                  <a:lnTo>
                    <a:pt x="135" y="80"/>
                  </a:lnTo>
                  <a:lnTo>
                    <a:pt x="124" y="80"/>
                  </a:lnTo>
                  <a:lnTo>
                    <a:pt x="112" y="80"/>
                  </a:lnTo>
                  <a:lnTo>
                    <a:pt x="103" y="76"/>
                  </a:lnTo>
                  <a:lnTo>
                    <a:pt x="93" y="72"/>
                  </a:lnTo>
                  <a:lnTo>
                    <a:pt x="84" y="69"/>
                  </a:lnTo>
                  <a:lnTo>
                    <a:pt x="74" y="63"/>
                  </a:lnTo>
                  <a:lnTo>
                    <a:pt x="82" y="57"/>
                  </a:lnTo>
                  <a:lnTo>
                    <a:pt x="90" y="53"/>
                  </a:lnTo>
                  <a:lnTo>
                    <a:pt x="97" y="50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6"/>
                  </a:lnTo>
                  <a:lnTo>
                    <a:pt x="133" y="46"/>
                  </a:lnTo>
                  <a:lnTo>
                    <a:pt x="143" y="46"/>
                  </a:lnTo>
                  <a:lnTo>
                    <a:pt x="150" y="46"/>
                  </a:lnTo>
                  <a:lnTo>
                    <a:pt x="160" y="46"/>
                  </a:lnTo>
                  <a:lnTo>
                    <a:pt x="169" y="46"/>
                  </a:lnTo>
                  <a:lnTo>
                    <a:pt x="179" y="46"/>
                  </a:lnTo>
                  <a:lnTo>
                    <a:pt x="188" y="44"/>
                  </a:lnTo>
                  <a:lnTo>
                    <a:pt x="198" y="44"/>
                  </a:lnTo>
                  <a:lnTo>
                    <a:pt x="209" y="44"/>
                  </a:lnTo>
                  <a:lnTo>
                    <a:pt x="219" y="44"/>
                  </a:lnTo>
                  <a:lnTo>
                    <a:pt x="219" y="40"/>
                  </a:lnTo>
                  <a:lnTo>
                    <a:pt x="219" y="36"/>
                  </a:lnTo>
                  <a:lnTo>
                    <a:pt x="211" y="32"/>
                  </a:lnTo>
                  <a:lnTo>
                    <a:pt x="204" y="32"/>
                  </a:lnTo>
                  <a:lnTo>
                    <a:pt x="196" y="32"/>
                  </a:lnTo>
                  <a:lnTo>
                    <a:pt x="188" y="32"/>
                  </a:lnTo>
                  <a:lnTo>
                    <a:pt x="181" y="32"/>
                  </a:lnTo>
                  <a:lnTo>
                    <a:pt x="173" y="32"/>
                  </a:lnTo>
                  <a:lnTo>
                    <a:pt x="168" y="31"/>
                  </a:lnTo>
                  <a:lnTo>
                    <a:pt x="160" y="31"/>
                  </a:lnTo>
                  <a:lnTo>
                    <a:pt x="160" y="27"/>
                  </a:lnTo>
                  <a:lnTo>
                    <a:pt x="160" y="25"/>
                  </a:lnTo>
                  <a:lnTo>
                    <a:pt x="166" y="21"/>
                  </a:lnTo>
                  <a:lnTo>
                    <a:pt x="173" y="17"/>
                  </a:lnTo>
                  <a:lnTo>
                    <a:pt x="179" y="13"/>
                  </a:lnTo>
                  <a:lnTo>
                    <a:pt x="185" y="13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6" y="12"/>
                  </a:lnTo>
                  <a:lnTo>
                    <a:pt x="213" y="12"/>
                  </a:lnTo>
                  <a:lnTo>
                    <a:pt x="219" y="12"/>
                  </a:lnTo>
                  <a:lnTo>
                    <a:pt x="225" y="12"/>
                  </a:lnTo>
                  <a:lnTo>
                    <a:pt x="232" y="10"/>
                  </a:lnTo>
                  <a:lnTo>
                    <a:pt x="240" y="10"/>
                  </a:lnTo>
                  <a:lnTo>
                    <a:pt x="245" y="8"/>
                  </a:lnTo>
                  <a:lnTo>
                    <a:pt x="251" y="6"/>
                  </a:lnTo>
                  <a:lnTo>
                    <a:pt x="259" y="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173000" y="2025360"/>
              <a:ext cx="219240" cy="343080"/>
            </a:xfrm>
            <a:custGeom>
              <a:avLst/>
              <a:gdLst/>
              <a:ahLst/>
              <a:rect l="l" t="t" r="r" b="b"/>
              <a:pathLst>
                <a:path w="276" h="431">
                  <a:moveTo>
                    <a:pt x="232" y="0"/>
                  </a:moveTo>
                  <a:lnTo>
                    <a:pt x="238" y="0"/>
                  </a:lnTo>
                  <a:lnTo>
                    <a:pt x="242" y="1"/>
                  </a:lnTo>
                  <a:lnTo>
                    <a:pt x="247" y="3"/>
                  </a:lnTo>
                  <a:lnTo>
                    <a:pt x="251" y="5"/>
                  </a:lnTo>
                  <a:lnTo>
                    <a:pt x="259" y="11"/>
                  </a:lnTo>
                  <a:lnTo>
                    <a:pt x="266" y="17"/>
                  </a:lnTo>
                  <a:lnTo>
                    <a:pt x="270" y="22"/>
                  </a:lnTo>
                  <a:lnTo>
                    <a:pt x="272" y="28"/>
                  </a:lnTo>
                  <a:lnTo>
                    <a:pt x="274" y="34"/>
                  </a:lnTo>
                  <a:lnTo>
                    <a:pt x="276" y="41"/>
                  </a:lnTo>
                  <a:lnTo>
                    <a:pt x="276" y="49"/>
                  </a:lnTo>
                  <a:lnTo>
                    <a:pt x="274" y="57"/>
                  </a:lnTo>
                  <a:lnTo>
                    <a:pt x="272" y="64"/>
                  </a:lnTo>
                  <a:lnTo>
                    <a:pt x="272" y="74"/>
                  </a:lnTo>
                  <a:lnTo>
                    <a:pt x="270" y="81"/>
                  </a:lnTo>
                  <a:lnTo>
                    <a:pt x="270" y="91"/>
                  </a:lnTo>
                  <a:lnTo>
                    <a:pt x="270" y="100"/>
                  </a:lnTo>
                  <a:lnTo>
                    <a:pt x="272" y="110"/>
                  </a:lnTo>
                  <a:lnTo>
                    <a:pt x="274" y="117"/>
                  </a:lnTo>
                  <a:lnTo>
                    <a:pt x="276" y="127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2" y="152"/>
                  </a:lnTo>
                  <a:lnTo>
                    <a:pt x="272" y="161"/>
                  </a:lnTo>
                  <a:lnTo>
                    <a:pt x="268" y="171"/>
                  </a:lnTo>
                  <a:lnTo>
                    <a:pt x="266" y="182"/>
                  </a:lnTo>
                  <a:lnTo>
                    <a:pt x="261" y="192"/>
                  </a:lnTo>
                  <a:lnTo>
                    <a:pt x="257" y="201"/>
                  </a:lnTo>
                  <a:lnTo>
                    <a:pt x="249" y="211"/>
                  </a:lnTo>
                  <a:lnTo>
                    <a:pt x="244" y="220"/>
                  </a:lnTo>
                  <a:lnTo>
                    <a:pt x="238" y="230"/>
                  </a:lnTo>
                  <a:lnTo>
                    <a:pt x="230" y="239"/>
                  </a:lnTo>
                  <a:lnTo>
                    <a:pt x="223" y="249"/>
                  </a:lnTo>
                  <a:lnTo>
                    <a:pt x="217" y="258"/>
                  </a:lnTo>
                  <a:lnTo>
                    <a:pt x="207" y="268"/>
                  </a:lnTo>
                  <a:lnTo>
                    <a:pt x="200" y="277"/>
                  </a:lnTo>
                  <a:lnTo>
                    <a:pt x="192" y="287"/>
                  </a:lnTo>
                  <a:lnTo>
                    <a:pt x="183" y="296"/>
                  </a:lnTo>
                  <a:lnTo>
                    <a:pt x="173" y="306"/>
                  </a:lnTo>
                  <a:lnTo>
                    <a:pt x="166" y="315"/>
                  </a:lnTo>
                  <a:lnTo>
                    <a:pt x="156" y="325"/>
                  </a:lnTo>
                  <a:lnTo>
                    <a:pt x="148" y="334"/>
                  </a:lnTo>
                  <a:lnTo>
                    <a:pt x="139" y="344"/>
                  </a:lnTo>
                  <a:lnTo>
                    <a:pt x="131" y="353"/>
                  </a:lnTo>
                  <a:lnTo>
                    <a:pt x="122" y="363"/>
                  </a:lnTo>
                  <a:lnTo>
                    <a:pt x="114" y="372"/>
                  </a:lnTo>
                  <a:lnTo>
                    <a:pt x="109" y="382"/>
                  </a:lnTo>
                  <a:lnTo>
                    <a:pt x="101" y="391"/>
                  </a:lnTo>
                  <a:lnTo>
                    <a:pt x="93" y="401"/>
                  </a:lnTo>
                  <a:lnTo>
                    <a:pt x="88" y="410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29"/>
                  </a:lnTo>
                  <a:lnTo>
                    <a:pt x="53" y="431"/>
                  </a:lnTo>
                  <a:lnTo>
                    <a:pt x="55" y="425"/>
                  </a:lnTo>
                  <a:lnTo>
                    <a:pt x="57" y="422"/>
                  </a:lnTo>
                  <a:lnTo>
                    <a:pt x="57" y="416"/>
                  </a:lnTo>
                  <a:lnTo>
                    <a:pt x="57" y="414"/>
                  </a:lnTo>
                  <a:lnTo>
                    <a:pt x="55" y="408"/>
                  </a:lnTo>
                  <a:lnTo>
                    <a:pt x="50" y="406"/>
                  </a:lnTo>
                  <a:lnTo>
                    <a:pt x="44" y="406"/>
                  </a:lnTo>
                  <a:lnTo>
                    <a:pt x="36" y="406"/>
                  </a:lnTo>
                  <a:lnTo>
                    <a:pt x="27" y="406"/>
                  </a:lnTo>
                  <a:lnTo>
                    <a:pt x="19" y="408"/>
                  </a:lnTo>
                  <a:lnTo>
                    <a:pt x="10" y="408"/>
                  </a:lnTo>
                  <a:lnTo>
                    <a:pt x="4" y="408"/>
                  </a:lnTo>
                  <a:lnTo>
                    <a:pt x="0" y="406"/>
                  </a:lnTo>
                  <a:lnTo>
                    <a:pt x="0" y="405"/>
                  </a:lnTo>
                  <a:lnTo>
                    <a:pt x="0" y="399"/>
                  </a:lnTo>
                  <a:lnTo>
                    <a:pt x="8" y="391"/>
                  </a:lnTo>
                  <a:lnTo>
                    <a:pt x="12" y="385"/>
                  </a:lnTo>
                  <a:lnTo>
                    <a:pt x="19" y="380"/>
                  </a:lnTo>
                  <a:lnTo>
                    <a:pt x="27" y="372"/>
                  </a:lnTo>
                  <a:lnTo>
                    <a:pt x="38" y="366"/>
                  </a:lnTo>
                  <a:lnTo>
                    <a:pt x="44" y="361"/>
                  </a:lnTo>
                  <a:lnTo>
                    <a:pt x="50" y="357"/>
                  </a:lnTo>
                  <a:lnTo>
                    <a:pt x="55" y="353"/>
                  </a:lnTo>
                  <a:lnTo>
                    <a:pt x="63" y="349"/>
                  </a:lnTo>
                  <a:lnTo>
                    <a:pt x="72" y="342"/>
                  </a:lnTo>
                  <a:lnTo>
                    <a:pt x="84" y="332"/>
                  </a:lnTo>
                  <a:lnTo>
                    <a:pt x="93" y="323"/>
                  </a:lnTo>
                  <a:lnTo>
                    <a:pt x="103" y="313"/>
                  </a:lnTo>
                  <a:lnTo>
                    <a:pt x="110" y="304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6" y="283"/>
                  </a:lnTo>
                  <a:lnTo>
                    <a:pt x="129" y="275"/>
                  </a:lnTo>
                  <a:lnTo>
                    <a:pt x="131" y="270"/>
                  </a:lnTo>
                  <a:lnTo>
                    <a:pt x="139" y="258"/>
                  </a:lnTo>
                  <a:lnTo>
                    <a:pt x="145" y="249"/>
                  </a:lnTo>
                  <a:lnTo>
                    <a:pt x="147" y="241"/>
                  </a:lnTo>
                  <a:lnTo>
                    <a:pt x="148" y="235"/>
                  </a:lnTo>
                  <a:lnTo>
                    <a:pt x="150" y="230"/>
                  </a:lnTo>
                  <a:lnTo>
                    <a:pt x="154" y="224"/>
                  </a:lnTo>
                  <a:lnTo>
                    <a:pt x="156" y="216"/>
                  </a:lnTo>
                  <a:lnTo>
                    <a:pt x="160" y="211"/>
                  </a:lnTo>
                  <a:lnTo>
                    <a:pt x="162" y="205"/>
                  </a:lnTo>
                  <a:lnTo>
                    <a:pt x="166" y="199"/>
                  </a:lnTo>
                  <a:lnTo>
                    <a:pt x="166" y="192"/>
                  </a:lnTo>
                  <a:lnTo>
                    <a:pt x="167" y="186"/>
                  </a:lnTo>
                  <a:lnTo>
                    <a:pt x="169" y="178"/>
                  </a:lnTo>
                  <a:lnTo>
                    <a:pt x="173" y="173"/>
                  </a:lnTo>
                  <a:lnTo>
                    <a:pt x="173" y="167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1" y="140"/>
                  </a:lnTo>
                  <a:lnTo>
                    <a:pt x="183" y="133"/>
                  </a:lnTo>
                  <a:lnTo>
                    <a:pt x="185" y="127"/>
                  </a:lnTo>
                  <a:lnTo>
                    <a:pt x="186" y="121"/>
                  </a:lnTo>
                  <a:lnTo>
                    <a:pt x="186" y="114"/>
                  </a:lnTo>
                  <a:lnTo>
                    <a:pt x="190" y="108"/>
                  </a:lnTo>
                  <a:lnTo>
                    <a:pt x="192" y="102"/>
                  </a:lnTo>
                  <a:lnTo>
                    <a:pt x="194" y="95"/>
                  </a:lnTo>
                  <a:lnTo>
                    <a:pt x="196" y="87"/>
                  </a:lnTo>
                  <a:lnTo>
                    <a:pt x="198" y="81"/>
                  </a:lnTo>
                  <a:lnTo>
                    <a:pt x="198" y="76"/>
                  </a:lnTo>
                  <a:lnTo>
                    <a:pt x="202" y="68"/>
                  </a:lnTo>
                  <a:lnTo>
                    <a:pt x="204" y="62"/>
                  </a:lnTo>
                  <a:lnTo>
                    <a:pt x="205" y="57"/>
                  </a:lnTo>
                  <a:lnTo>
                    <a:pt x="207" y="49"/>
                  </a:lnTo>
                  <a:lnTo>
                    <a:pt x="211" y="45"/>
                  </a:lnTo>
                  <a:lnTo>
                    <a:pt x="213" y="38"/>
                  </a:lnTo>
                  <a:lnTo>
                    <a:pt x="215" y="32"/>
                  </a:lnTo>
                  <a:lnTo>
                    <a:pt x="217" y="24"/>
                  </a:lnTo>
                  <a:lnTo>
                    <a:pt x="221" y="20"/>
                  </a:lnTo>
                  <a:lnTo>
                    <a:pt x="224" y="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7588080" y="2033640"/>
              <a:ext cx="198720" cy="50760"/>
            </a:xfrm>
            <a:custGeom>
              <a:avLst/>
              <a:gdLst/>
              <a:ahLst/>
              <a:rect l="l" t="t" r="r" b="b"/>
              <a:pathLst>
                <a:path w="251" h="63">
                  <a:moveTo>
                    <a:pt x="148" y="0"/>
                  </a:moveTo>
                  <a:lnTo>
                    <a:pt x="154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4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1" y="2"/>
                  </a:lnTo>
                  <a:lnTo>
                    <a:pt x="251" y="6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2" y="4"/>
                  </a:lnTo>
                  <a:lnTo>
                    <a:pt x="213" y="8"/>
                  </a:lnTo>
                  <a:lnTo>
                    <a:pt x="207" y="8"/>
                  </a:lnTo>
                  <a:lnTo>
                    <a:pt x="201" y="9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1" y="17"/>
                  </a:lnTo>
                  <a:lnTo>
                    <a:pt x="165" y="19"/>
                  </a:lnTo>
                  <a:lnTo>
                    <a:pt x="160" y="21"/>
                  </a:lnTo>
                  <a:lnTo>
                    <a:pt x="154" y="23"/>
                  </a:lnTo>
                  <a:lnTo>
                    <a:pt x="146" y="23"/>
                  </a:lnTo>
                  <a:lnTo>
                    <a:pt x="141" y="27"/>
                  </a:lnTo>
                  <a:lnTo>
                    <a:pt x="135" y="28"/>
                  </a:lnTo>
                  <a:lnTo>
                    <a:pt x="127" y="30"/>
                  </a:lnTo>
                  <a:lnTo>
                    <a:pt x="122" y="32"/>
                  </a:lnTo>
                  <a:lnTo>
                    <a:pt x="116" y="36"/>
                  </a:lnTo>
                  <a:lnTo>
                    <a:pt x="108" y="36"/>
                  </a:lnTo>
                  <a:lnTo>
                    <a:pt x="103" y="38"/>
                  </a:lnTo>
                  <a:lnTo>
                    <a:pt x="97" y="40"/>
                  </a:lnTo>
                  <a:lnTo>
                    <a:pt x="91" y="44"/>
                  </a:lnTo>
                  <a:lnTo>
                    <a:pt x="80" y="48"/>
                  </a:lnTo>
                  <a:lnTo>
                    <a:pt x="68" y="51"/>
                  </a:lnTo>
                  <a:lnTo>
                    <a:pt x="57" y="53"/>
                  </a:lnTo>
                  <a:lnTo>
                    <a:pt x="47" y="57"/>
                  </a:lnTo>
                  <a:lnTo>
                    <a:pt x="36" y="59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5" y="21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6" y="9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70" y="11"/>
                  </a:lnTo>
                  <a:lnTo>
                    <a:pt x="80" y="11"/>
                  </a:lnTo>
                  <a:lnTo>
                    <a:pt x="87" y="11"/>
                  </a:lnTo>
                  <a:lnTo>
                    <a:pt x="95" y="11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20" y="9"/>
                  </a:lnTo>
                  <a:lnTo>
                    <a:pt x="127" y="8"/>
                  </a:lnTo>
                  <a:lnTo>
                    <a:pt x="135" y="6"/>
                  </a:lnTo>
                  <a:lnTo>
                    <a:pt x="141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610400" y="2276280"/>
              <a:ext cx="3168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4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1" y="19"/>
                  </a:lnTo>
                  <a:lnTo>
                    <a:pt x="16" y="23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9" y="8"/>
                  </a:lnTo>
                  <a:lnTo>
                    <a:pt x="35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605800" y="2340000"/>
              <a:ext cx="55440" cy="2052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54" y="0"/>
                  </a:move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63" y="8"/>
                  </a:lnTo>
                  <a:lnTo>
                    <a:pt x="57" y="15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35" y="8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89000" y="2340000"/>
              <a:ext cx="841320" cy="217440"/>
            </a:xfrm>
            <a:custGeom>
              <a:avLst/>
              <a:gdLst/>
              <a:ahLst/>
              <a:rect l="l" t="t" r="r" b="b"/>
              <a:pathLst>
                <a:path w="1061" h="274">
                  <a:moveTo>
                    <a:pt x="783" y="0"/>
                  </a:moveTo>
                  <a:lnTo>
                    <a:pt x="787" y="8"/>
                  </a:lnTo>
                  <a:lnTo>
                    <a:pt x="787" y="15"/>
                  </a:lnTo>
                  <a:lnTo>
                    <a:pt x="783" y="21"/>
                  </a:lnTo>
                  <a:lnTo>
                    <a:pt x="780" y="27"/>
                  </a:lnTo>
                  <a:lnTo>
                    <a:pt x="774" y="30"/>
                  </a:lnTo>
                  <a:lnTo>
                    <a:pt x="768" y="36"/>
                  </a:lnTo>
                  <a:lnTo>
                    <a:pt x="759" y="42"/>
                  </a:lnTo>
                  <a:lnTo>
                    <a:pt x="751" y="47"/>
                  </a:lnTo>
                  <a:lnTo>
                    <a:pt x="742" y="51"/>
                  </a:lnTo>
                  <a:lnTo>
                    <a:pt x="734" y="57"/>
                  </a:lnTo>
                  <a:lnTo>
                    <a:pt x="726" y="63"/>
                  </a:lnTo>
                  <a:lnTo>
                    <a:pt x="719" y="70"/>
                  </a:lnTo>
                  <a:lnTo>
                    <a:pt x="713" y="76"/>
                  </a:lnTo>
                  <a:lnTo>
                    <a:pt x="709" y="84"/>
                  </a:lnTo>
                  <a:lnTo>
                    <a:pt x="707" y="91"/>
                  </a:lnTo>
                  <a:lnTo>
                    <a:pt x="709" y="103"/>
                  </a:lnTo>
                  <a:lnTo>
                    <a:pt x="719" y="99"/>
                  </a:lnTo>
                  <a:lnTo>
                    <a:pt x="732" y="97"/>
                  </a:lnTo>
                  <a:lnTo>
                    <a:pt x="742" y="93"/>
                  </a:lnTo>
                  <a:lnTo>
                    <a:pt x="753" y="91"/>
                  </a:lnTo>
                  <a:lnTo>
                    <a:pt x="764" y="87"/>
                  </a:lnTo>
                  <a:lnTo>
                    <a:pt x="776" y="84"/>
                  </a:lnTo>
                  <a:lnTo>
                    <a:pt x="787" y="82"/>
                  </a:lnTo>
                  <a:lnTo>
                    <a:pt x="799" y="78"/>
                  </a:lnTo>
                  <a:lnTo>
                    <a:pt x="808" y="74"/>
                  </a:lnTo>
                  <a:lnTo>
                    <a:pt x="820" y="70"/>
                  </a:lnTo>
                  <a:lnTo>
                    <a:pt x="831" y="66"/>
                  </a:lnTo>
                  <a:lnTo>
                    <a:pt x="842" y="65"/>
                  </a:lnTo>
                  <a:lnTo>
                    <a:pt x="854" y="61"/>
                  </a:lnTo>
                  <a:lnTo>
                    <a:pt x="865" y="57"/>
                  </a:lnTo>
                  <a:lnTo>
                    <a:pt x="871" y="55"/>
                  </a:lnTo>
                  <a:lnTo>
                    <a:pt x="877" y="55"/>
                  </a:lnTo>
                  <a:lnTo>
                    <a:pt x="882" y="53"/>
                  </a:lnTo>
                  <a:lnTo>
                    <a:pt x="888" y="53"/>
                  </a:lnTo>
                  <a:lnTo>
                    <a:pt x="899" y="49"/>
                  </a:lnTo>
                  <a:lnTo>
                    <a:pt x="909" y="47"/>
                  </a:lnTo>
                  <a:lnTo>
                    <a:pt x="920" y="46"/>
                  </a:lnTo>
                  <a:lnTo>
                    <a:pt x="932" y="46"/>
                  </a:lnTo>
                  <a:lnTo>
                    <a:pt x="943" y="44"/>
                  </a:lnTo>
                  <a:lnTo>
                    <a:pt x="955" y="42"/>
                  </a:lnTo>
                  <a:lnTo>
                    <a:pt x="964" y="42"/>
                  </a:lnTo>
                  <a:lnTo>
                    <a:pt x="975" y="44"/>
                  </a:lnTo>
                  <a:lnTo>
                    <a:pt x="987" y="44"/>
                  </a:lnTo>
                  <a:lnTo>
                    <a:pt x="998" y="44"/>
                  </a:lnTo>
                  <a:lnTo>
                    <a:pt x="1008" y="46"/>
                  </a:lnTo>
                  <a:lnTo>
                    <a:pt x="1019" y="47"/>
                  </a:lnTo>
                  <a:lnTo>
                    <a:pt x="1029" y="49"/>
                  </a:lnTo>
                  <a:lnTo>
                    <a:pt x="1040" y="53"/>
                  </a:lnTo>
                  <a:lnTo>
                    <a:pt x="1050" y="57"/>
                  </a:lnTo>
                  <a:lnTo>
                    <a:pt x="1061" y="63"/>
                  </a:lnTo>
                  <a:lnTo>
                    <a:pt x="1051" y="65"/>
                  </a:lnTo>
                  <a:lnTo>
                    <a:pt x="1046" y="66"/>
                  </a:lnTo>
                  <a:lnTo>
                    <a:pt x="1036" y="66"/>
                  </a:lnTo>
                  <a:lnTo>
                    <a:pt x="1029" y="70"/>
                  </a:lnTo>
                  <a:lnTo>
                    <a:pt x="1021" y="72"/>
                  </a:lnTo>
                  <a:lnTo>
                    <a:pt x="1013" y="74"/>
                  </a:lnTo>
                  <a:lnTo>
                    <a:pt x="1006" y="76"/>
                  </a:lnTo>
                  <a:lnTo>
                    <a:pt x="1000" y="80"/>
                  </a:lnTo>
                  <a:lnTo>
                    <a:pt x="991" y="80"/>
                  </a:lnTo>
                  <a:lnTo>
                    <a:pt x="983" y="82"/>
                  </a:lnTo>
                  <a:lnTo>
                    <a:pt x="975" y="84"/>
                  </a:lnTo>
                  <a:lnTo>
                    <a:pt x="968" y="87"/>
                  </a:lnTo>
                  <a:lnTo>
                    <a:pt x="962" y="89"/>
                  </a:lnTo>
                  <a:lnTo>
                    <a:pt x="955" y="91"/>
                  </a:lnTo>
                  <a:lnTo>
                    <a:pt x="947" y="95"/>
                  </a:lnTo>
                  <a:lnTo>
                    <a:pt x="939" y="99"/>
                  </a:lnTo>
                  <a:lnTo>
                    <a:pt x="932" y="101"/>
                  </a:lnTo>
                  <a:lnTo>
                    <a:pt x="924" y="103"/>
                  </a:lnTo>
                  <a:lnTo>
                    <a:pt x="916" y="104"/>
                  </a:lnTo>
                  <a:lnTo>
                    <a:pt x="909" y="108"/>
                  </a:lnTo>
                  <a:lnTo>
                    <a:pt x="901" y="110"/>
                  </a:lnTo>
                  <a:lnTo>
                    <a:pt x="894" y="112"/>
                  </a:lnTo>
                  <a:lnTo>
                    <a:pt x="886" y="116"/>
                  </a:lnTo>
                  <a:lnTo>
                    <a:pt x="880" y="120"/>
                  </a:lnTo>
                  <a:lnTo>
                    <a:pt x="873" y="122"/>
                  </a:lnTo>
                  <a:lnTo>
                    <a:pt x="865" y="125"/>
                  </a:lnTo>
                  <a:lnTo>
                    <a:pt x="858" y="127"/>
                  </a:lnTo>
                  <a:lnTo>
                    <a:pt x="852" y="131"/>
                  </a:lnTo>
                  <a:lnTo>
                    <a:pt x="844" y="135"/>
                  </a:lnTo>
                  <a:lnTo>
                    <a:pt x="837" y="137"/>
                  </a:lnTo>
                  <a:lnTo>
                    <a:pt x="829" y="141"/>
                  </a:lnTo>
                  <a:lnTo>
                    <a:pt x="823" y="144"/>
                  </a:lnTo>
                  <a:lnTo>
                    <a:pt x="814" y="146"/>
                  </a:lnTo>
                  <a:lnTo>
                    <a:pt x="806" y="148"/>
                  </a:lnTo>
                  <a:lnTo>
                    <a:pt x="799" y="152"/>
                  </a:lnTo>
                  <a:lnTo>
                    <a:pt x="793" y="156"/>
                  </a:lnTo>
                  <a:lnTo>
                    <a:pt x="785" y="158"/>
                  </a:lnTo>
                  <a:lnTo>
                    <a:pt x="778" y="161"/>
                  </a:lnTo>
                  <a:lnTo>
                    <a:pt x="770" y="163"/>
                  </a:lnTo>
                  <a:lnTo>
                    <a:pt x="764" y="167"/>
                  </a:lnTo>
                  <a:lnTo>
                    <a:pt x="757" y="171"/>
                  </a:lnTo>
                  <a:lnTo>
                    <a:pt x="749" y="173"/>
                  </a:lnTo>
                  <a:lnTo>
                    <a:pt x="742" y="177"/>
                  </a:lnTo>
                  <a:lnTo>
                    <a:pt x="736" y="181"/>
                  </a:lnTo>
                  <a:lnTo>
                    <a:pt x="728" y="182"/>
                  </a:lnTo>
                  <a:lnTo>
                    <a:pt x="721" y="186"/>
                  </a:lnTo>
                  <a:lnTo>
                    <a:pt x="713" y="190"/>
                  </a:lnTo>
                  <a:lnTo>
                    <a:pt x="707" y="192"/>
                  </a:lnTo>
                  <a:lnTo>
                    <a:pt x="698" y="196"/>
                  </a:lnTo>
                  <a:lnTo>
                    <a:pt x="690" y="200"/>
                  </a:lnTo>
                  <a:lnTo>
                    <a:pt x="685" y="201"/>
                  </a:lnTo>
                  <a:lnTo>
                    <a:pt x="677" y="205"/>
                  </a:lnTo>
                  <a:lnTo>
                    <a:pt x="669" y="209"/>
                  </a:lnTo>
                  <a:lnTo>
                    <a:pt x="662" y="211"/>
                  </a:lnTo>
                  <a:lnTo>
                    <a:pt x="654" y="215"/>
                  </a:lnTo>
                  <a:lnTo>
                    <a:pt x="648" y="219"/>
                  </a:lnTo>
                  <a:lnTo>
                    <a:pt x="641" y="220"/>
                  </a:lnTo>
                  <a:lnTo>
                    <a:pt x="633" y="224"/>
                  </a:lnTo>
                  <a:lnTo>
                    <a:pt x="626" y="228"/>
                  </a:lnTo>
                  <a:lnTo>
                    <a:pt x="620" y="230"/>
                  </a:lnTo>
                  <a:lnTo>
                    <a:pt x="612" y="234"/>
                  </a:lnTo>
                  <a:lnTo>
                    <a:pt x="605" y="238"/>
                  </a:lnTo>
                  <a:lnTo>
                    <a:pt x="597" y="239"/>
                  </a:lnTo>
                  <a:lnTo>
                    <a:pt x="591" y="243"/>
                  </a:lnTo>
                  <a:lnTo>
                    <a:pt x="597" y="238"/>
                  </a:lnTo>
                  <a:lnTo>
                    <a:pt x="605" y="232"/>
                  </a:lnTo>
                  <a:lnTo>
                    <a:pt x="610" y="226"/>
                  </a:lnTo>
                  <a:lnTo>
                    <a:pt x="618" y="222"/>
                  </a:lnTo>
                  <a:lnTo>
                    <a:pt x="624" y="217"/>
                  </a:lnTo>
                  <a:lnTo>
                    <a:pt x="631" y="211"/>
                  </a:lnTo>
                  <a:lnTo>
                    <a:pt x="639" y="207"/>
                  </a:lnTo>
                  <a:lnTo>
                    <a:pt x="647" y="201"/>
                  </a:lnTo>
                  <a:lnTo>
                    <a:pt x="652" y="198"/>
                  </a:lnTo>
                  <a:lnTo>
                    <a:pt x="660" y="192"/>
                  </a:lnTo>
                  <a:lnTo>
                    <a:pt x="667" y="188"/>
                  </a:lnTo>
                  <a:lnTo>
                    <a:pt x="677" y="182"/>
                  </a:lnTo>
                  <a:lnTo>
                    <a:pt x="685" y="177"/>
                  </a:lnTo>
                  <a:lnTo>
                    <a:pt x="692" y="173"/>
                  </a:lnTo>
                  <a:lnTo>
                    <a:pt x="700" y="167"/>
                  </a:lnTo>
                  <a:lnTo>
                    <a:pt x="707" y="165"/>
                  </a:lnTo>
                  <a:lnTo>
                    <a:pt x="715" y="160"/>
                  </a:lnTo>
                  <a:lnTo>
                    <a:pt x="723" y="156"/>
                  </a:lnTo>
                  <a:lnTo>
                    <a:pt x="730" y="152"/>
                  </a:lnTo>
                  <a:lnTo>
                    <a:pt x="740" y="148"/>
                  </a:lnTo>
                  <a:lnTo>
                    <a:pt x="745" y="144"/>
                  </a:lnTo>
                  <a:lnTo>
                    <a:pt x="755" y="139"/>
                  </a:lnTo>
                  <a:lnTo>
                    <a:pt x="762" y="137"/>
                  </a:lnTo>
                  <a:lnTo>
                    <a:pt x="772" y="133"/>
                  </a:lnTo>
                  <a:lnTo>
                    <a:pt x="780" y="129"/>
                  </a:lnTo>
                  <a:lnTo>
                    <a:pt x="787" y="127"/>
                  </a:lnTo>
                  <a:lnTo>
                    <a:pt x="797" y="123"/>
                  </a:lnTo>
                  <a:lnTo>
                    <a:pt x="804" y="122"/>
                  </a:lnTo>
                  <a:lnTo>
                    <a:pt x="812" y="118"/>
                  </a:lnTo>
                  <a:lnTo>
                    <a:pt x="821" y="118"/>
                  </a:lnTo>
                  <a:lnTo>
                    <a:pt x="829" y="116"/>
                  </a:lnTo>
                  <a:lnTo>
                    <a:pt x="839" y="116"/>
                  </a:lnTo>
                  <a:lnTo>
                    <a:pt x="833" y="112"/>
                  </a:lnTo>
                  <a:lnTo>
                    <a:pt x="825" y="112"/>
                  </a:lnTo>
                  <a:lnTo>
                    <a:pt x="820" y="112"/>
                  </a:lnTo>
                  <a:lnTo>
                    <a:pt x="816" y="112"/>
                  </a:lnTo>
                  <a:lnTo>
                    <a:pt x="808" y="112"/>
                  </a:lnTo>
                  <a:lnTo>
                    <a:pt x="802" y="112"/>
                  </a:lnTo>
                  <a:lnTo>
                    <a:pt x="797" y="112"/>
                  </a:lnTo>
                  <a:lnTo>
                    <a:pt x="791" y="112"/>
                  </a:lnTo>
                  <a:lnTo>
                    <a:pt x="785" y="112"/>
                  </a:lnTo>
                  <a:lnTo>
                    <a:pt x="780" y="112"/>
                  </a:lnTo>
                  <a:lnTo>
                    <a:pt x="774" y="112"/>
                  </a:lnTo>
                  <a:lnTo>
                    <a:pt x="768" y="114"/>
                  </a:lnTo>
                  <a:lnTo>
                    <a:pt x="757" y="116"/>
                  </a:lnTo>
                  <a:lnTo>
                    <a:pt x="745" y="120"/>
                  </a:lnTo>
                  <a:lnTo>
                    <a:pt x="740" y="120"/>
                  </a:lnTo>
                  <a:lnTo>
                    <a:pt x="734" y="122"/>
                  </a:lnTo>
                  <a:lnTo>
                    <a:pt x="728" y="123"/>
                  </a:lnTo>
                  <a:lnTo>
                    <a:pt x="723" y="125"/>
                  </a:lnTo>
                  <a:lnTo>
                    <a:pt x="717" y="125"/>
                  </a:lnTo>
                  <a:lnTo>
                    <a:pt x="709" y="129"/>
                  </a:lnTo>
                  <a:lnTo>
                    <a:pt x="705" y="129"/>
                  </a:lnTo>
                  <a:lnTo>
                    <a:pt x="700" y="133"/>
                  </a:lnTo>
                  <a:lnTo>
                    <a:pt x="694" y="135"/>
                  </a:lnTo>
                  <a:lnTo>
                    <a:pt x="688" y="137"/>
                  </a:lnTo>
                  <a:lnTo>
                    <a:pt x="681" y="139"/>
                  </a:lnTo>
                  <a:lnTo>
                    <a:pt x="677" y="142"/>
                  </a:lnTo>
                  <a:lnTo>
                    <a:pt x="666" y="146"/>
                  </a:lnTo>
                  <a:lnTo>
                    <a:pt x="654" y="154"/>
                  </a:lnTo>
                  <a:lnTo>
                    <a:pt x="648" y="156"/>
                  </a:lnTo>
                  <a:lnTo>
                    <a:pt x="641" y="158"/>
                  </a:lnTo>
                  <a:lnTo>
                    <a:pt x="635" y="160"/>
                  </a:lnTo>
                  <a:lnTo>
                    <a:pt x="631" y="163"/>
                  </a:lnTo>
                  <a:lnTo>
                    <a:pt x="624" y="165"/>
                  </a:lnTo>
                  <a:lnTo>
                    <a:pt x="618" y="167"/>
                  </a:lnTo>
                  <a:lnTo>
                    <a:pt x="612" y="171"/>
                  </a:lnTo>
                  <a:lnTo>
                    <a:pt x="607" y="175"/>
                  </a:lnTo>
                  <a:lnTo>
                    <a:pt x="595" y="181"/>
                  </a:lnTo>
                  <a:lnTo>
                    <a:pt x="586" y="186"/>
                  </a:lnTo>
                  <a:lnTo>
                    <a:pt x="574" y="192"/>
                  </a:lnTo>
                  <a:lnTo>
                    <a:pt x="563" y="200"/>
                  </a:lnTo>
                  <a:lnTo>
                    <a:pt x="557" y="201"/>
                  </a:lnTo>
                  <a:lnTo>
                    <a:pt x="550" y="203"/>
                  </a:lnTo>
                  <a:lnTo>
                    <a:pt x="546" y="207"/>
                  </a:lnTo>
                  <a:lnTo>
                    <a:pt x="540" y="211"/>
                  </a:lnTo>
                  <a:lnTo>
                    <a:pt x="529" y="217"/>
                  </a:lnTo>
                  <a:lnTo>
                    <a:pt x="517" y="222"/>
                  </a:lnTo>
                  <a:lnTo>
                    <a:pt x="506" y="228"/>
                  </a:lnTo>
                  <a:lnTo>
                    <a:pt x="494" y="232"/>
                  </a:lnTo>
                  <a:lnTo>
                    <a:pt x="483" y="238"/>
                  </a:lnTo>
                  <a:lnTo>
                    <a:pt x="474" y="243"/>
                  </a:lnTo>
                  <a:lnTo>
                    <a:pt x="477" y="236"/>
                  </a:lnTo>
                  <a:lnTo>
                    <a:pt x="483" y="228"/>
                  </a:lnTo>
                  <a:lnTo>
                    <a:pt x="489" y="220"/>
                  </a:lnTo>
                  <a:lnTo>
                    <a:pt x="494" y="215"/>
                  </a:lnTo>
                  <a:lnTo>
                    <a:pt x="502" y="207"/>
                  </a:lnTo>
                  <a:lnTo>
                    <a:pt x="510" y="200"/>
                  </a:lnTo>
                  <a:lnTo>
                    <a:pt x="515" y="192"/>
                  </a:lnTo>
                  <a:lnTo>
                    <a:pt x="525" y="186"/>
                  </a:lnTo>
                  <a:lnTo>
                    <a:pt x="531" y="179"/>
                  </a:lnTo>
                  <a:lnTo>
                    <a:pt x="540" y="171"/>
                  </a:lnTo>
                  <a:lnTo>
                    <a:pt x="548" y="165"/>
                  </a:lnTo>
                  <a:lnTo>
                    <a:pt x="557" y="158"/>
                  </a:lnTo>
                  <a:lnTo>
                    <a:pt x="565" y="152"/>
                  </a:lnTo>
                  <a:lnTo>
                    <a:pt x="574" y="144"/>
                  </a:lnTo>
                  <a:lnTo>
                    <a:pt x="582" y="139"/>
                  </a:lnTo>
                  <a:lnTo>
                    <a:pt x="591" y="135"/>
                  </a:lnTo>
                  <a:lnTo>
                    <a:pt x="586" y="135"/>
                  </a:lnTo>
                  <a:lnTo>
                    <a:pt x="578" y="135"/>
                  </a:lnTo>
                  <a:lnTo>
                    <a:pt x="574" y="137"/>
                  </a:lnTo>
                  <a:lnTo>
                    <a:pt x="569" y="139"/>
                  </a:lnTo>
                  <a:lnTo>
                    <a:pt x="557" y="142"/>
                  </a:lnTo>
                  <a:lnTo>
                    <a:pt x="546" y="144"/>
                  </a:lnTo>
                  <a:lnTo>
                    <a:pt x="534" y="148"/>
                  </a:lnTo>
                  <a:lnTo>
                    <a:pt x="523" y="154"/>
                  </a:lnTo>
                  <a:lnTo>
                    <a:pt x="512" y="158"/>
                  </a:lnTo>
                  <a:lnTo>
                    <a:pt x="502" y="163"/>
                  </a:lnTo>
                  <a:lnTo>
                    <a:pt x="491" y="165"/>
                  </a:lnTo>
                  <a:lnTo>
                    <a:pt x="481" y="171"/>
                  </a:lnTo>
                  <a:lnTo>
                    <a:pt x="468" y="175"/>
                  </a:lnTo>
                  <a:lnTo>
                    <a:pt x="458" y="182"/>
                  </a:lnTo>
                  <a:lnTo>
                    <a:pt x="449" y="186"/>
                  </a:lnTo>
                  <a:lnTo>
                    <a:pt x="437" y="192"/>
                  </a:lnTo>
                  <a:lnTo>
                    <a:pt x="428" y="198"/>
                  </a:lnTo>
                  <a:lnTo>
                    <a:pt x="418" y="201"/>
                  </a:lnTo>
                  <a:lnTo>
                    <a:pt x="407" y="207"/>
                  </a:lnTo>
                  <a:lnTo>
                    <a:pt x="396" y="211"/>
                  </a:lnTo>
                  <a:lnTo>
                    <a:pt x="384" y="215"/>
                  </a:lnTo>
                  <a:lnTo>
                    <a:pt x="375" y="219"/>
                  </a:lnTo>
                  <a:lnTo>
                    <a:pt x="365" y="222"/>
                  </a:lnTo>
                  <a:lnTo>
                    <a:pt x="354" y="226"/>
                  </a:lnTo>
                  <a:lnTo>
                    <a:pt x="344" y="228"/>
                  </a:lnTo>
                  <a:lnTo>
                    <a:pt x="335" y="232"/>
                  </a:lnTo>
                  <a:lnTo>
                    <a:pt x="323" y="232"/>
                  </a:lnTo>
                  <a:lnTo>
                    <a:pt x="314" y="236"/>
                  </a:lnTo>
                  <a:lnTo>
                    <a:pt x="304" y="236"/>
                  </a:lnTo>
                  <a:lnTo>
                    <a:pt x="295" y="238"/>
                  </a:lnTo>
                  <a:lnTo>
                    <a:pt x="283" y="238"/>
                  </a:lnTo>
                  <a:lnTo>
                    <a:pt x="272" y="238"/>
                  </a:lnTo>
                  <a:lnTo>
                    <a:pt x="262" y="236"/>
                  </a:lnTo>
                  <a:lnTo>
                    <a:pt x="253" y="234"/>
                  </a:lnTo>
                  <a:lnTo>
                    <a:pt x="247" y="236"/>
                  </a:lnTo>
                  <a:lnTo>
                    <a:pt x="242" y="239"/>
                  </a:lnTo>
                  <a:lnTo>
                    <a:pt x="238" y="245"/>
                  </a:lnTo>
                  <a:lnTo>
                    <a:pt x="236" y="249"/>
                  </a:lnTo>
                  <a:lnTo>
                    <a:pt x="234" y="258"/>
                  </a:lnTo>
                  <a:lnTo>
                    <a:pt x="242" y="270"/>
                  </a:lnTo>
                  <a:lnTo>
                    <a:pt x="238" y="274"/>
                  </a:lnTo>
                  <a:lnTo>
                    <a:pt x="230" y="268"/>
                  </a:lnTo>
                  <a:lnTo>
                    <a:pt x="224" y="268"/>
                  </a:lnTo>
                  <a:lnTo>
                    <a:pt x="219" y="268"/>
                  </a:lnTo>
                  <a:lnTo>
                    <a:pt x="213" y="268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09" y="251"/>
                  </a:lnTo>
                  <a:lnTo>
                    <a:pt x="209" y="243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20"/>
                  </a:lnTo>
                  <a:lnTo>
                    <a:pt x="207" y="220"/>
                  </a:lnTo>
                  <a:lnTo>
                    <a:pt x="202" y="219"/>
                  </a:lnTo>
                  <a:lnTo>
                    <a:pt x="196" y="220"/>
                  </a:lnTo>
                  <a:lnTo>
                    <a:pt x="188" y="222"/>
                  </a:lnTo>
                  <a:lnTo>
                    <a:pt x="181" y="226"/>
                  </a:lnTo>
                  <a:lnTo>
                    <a:pt x="175" y="228"/>
                  </a:lnTo>
                  <a:lnTo>
                    <a:pt x="167" y="232"/>
                  </a:lnTo>
                  <a:lnTo>
                    <a:pt x="160" y="238"/>
                  </a:lnTo>
                  <a:lnTo>
                    <a:pt x="154" y="241"/>
                  </a:lnTo>
                  <a:lnTo>
                    <a:pt x="148" y="241"/>
                  </a:lnTo>
                  <a:lnTo>
                    <a:pt x="143" y="245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3" y="239"/>
                  </a:lnTo>
                  <a:lnTo>
                    <a:pt x="133" y="234"/>
                  </a:lnTo>
                  <a:lnTo>
                    <a:pt x="133" y="230"/>
                  </a:lnTo>
                  <a:lnTo>
                    <a:pt x="137" y="226"/>
                  </a:lnTo>
                  <a:lnTo>
                    <a:pt x="139" y="220"/>
                  </a:lnTo>
                  <a:lnTo>
                    <a:pt x="141" y="215"/>
                  </a:lnTo>
                  <a:lnTo>
                    <a:pt x="135" y="211"/>
                  </a:lnTo>
                  <a:lnTo>
                    <a:pt x="129" y="213"/>
                  </a:lnTo>
                  <a:lnTo>
                    <a:pt x="122" y="215"/>
                  </a:lnTo>
                  <a:lnTo>
                    <a:pt x="116" y="220"/>
                  </a:lnTo>
                  <a:lnTo>
                    <a:pt x="109" y="226"/>
                  </a:lnTo>
                  <a:lnTo>
                    <a:pt x="103" y="230"/>
                  </a:lnTo>
                  <a:lnTo>
                    <a:pt x="97" y="236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4" y="213"/>
                  </a:lnTo>
                  <a:lnTo>
                    <a:pt x="82" y="203"/>
                  </a:lnTo>
                  <a:lnTo>
                    <a:pt x="76" y="194"/>
                  </a:lnTo>
                  <a:lnTo>
                    <a:pt x="72" y="186"/>
                  </a:lnTo>
                  <a:lnTo>
                    <a:pt x="67" y="177"/>
                  </a:lnTo>
                  <a:lnTo>
                    <a:pt x="63" y="171"/>
                  </a:lnTo>
                  <a:lnTo>
                    <a:pt x="55" y="163"/>
                  </a:lnTo>
                  <a:lnTo>
                    <a:pt x="48" y="156"/>
                  </a:lnTo>
                  <a:lnTo>
                    <a:pt x="40" y="150"/>
                  </a:lnTo>
                  <a:lnTo>
                    <a:pt x="34" y="146"/>
                  </a:lnTo>
                  <a:lnTo>
                    <a:pt x="27" y="141"/>
                  </a:lnTo>
                  <a:lnTo>
                    <a:pt x="17" y="139"/>
                  </a:lnTo>
                  <a:lnTo>
                    <a:pt x="8" y="137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8" y="127"/>
                  </a:lnTo>
                  <a:lnTo>
                    <a:pt x="17" y="125"/>
                  </a:lnTo>
                  <a:lnTo>
                    <a:pt x="25" y="123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8" y="129"/>
                  </a:lnTo>
                  <a:lnTo>
                    <a:pt x="55" y="133"/>
                  </a:lnTo>
                  <a:lnTo>
                    <a:pt x="63" y="139"/>
                  </a:lnTo>
                  <a:lnTo>
                    <a:pt x="69" y="144"/>
                  </a:lnTo>
                  <a:lnTo>
                    <a:pt x="74" y="150"/>
                  </a:lnTo>
                  <a:lnTo>
                    <a:pt x="80" y="158"/>
                  </a:lnTo>
                  <a:lnTo>
                    <a:pt x="86" y="165"/>
                  </a:lnTo>
                  <a:lnTo>
                    <a:pt x="88" y="171"/>
                  </a:lnTo>
                  <a:lnTo>
                    <a:pt x="93" y="179"/>
                  </a:lnTo>
                  <a:lnTo>
                    <a:pt x="95" y="186"/>
                  </a:lnTo>
                  <a:lnTo>
                    <a:pt x="99" y="194"/>
                  </a:lnTo>
                  <a:lnTo>
                    <a:pt x="105" y="190"/>
                  </a:lnTo>
                  <a:lnTo>
                    <a:pt x="110" y="184"/>
                  </a:lnTo>
                  <a:lnTo>
                    <a:pt x="118" y="181"/>
                  </a:lnTo>
                  <a:lnTo>
                    <a:pt x="126" y="175"/>
                  </a:lnTo>
                  <a:lnTo>
                    <a:pt x="131" y="169"/>
                  </a:lnTo>
                  <a:lnTo>
                    <a:pt x="141" y="163"/>
                  </a:lnTo>
                  <a:lnTo>
                    <a:pt x="147" y="160"/>
                  </a:lnTo>
                  <a:lnTo>
                    <a:pt x="156" y="156"/>
                  </a:lnTo>
                  <a:lnTo>
                    <a:pt x="162" y="154"/>
                  </a:lnTo>
                  <a:lnTo>
                    <a:pt x="167" y="152"/>
                  </a:lnTo>
                  <a:lnTo>
                    <a:pt x="173" y="152"/>
                  </a:lnTo>
                  <a:lnTo>
                    <a:pt x="179" y="154"/>
                  </a:lnTo>
                  <a:lnTo>
                    <a:pt x="181" y="156"/>
                  </a:lnTo>
                  <a:lnTo>
                    <a:pt x="185" y="163"/>
                  </a:lnTo>
                  <a:lnTo>
                    <a:pt x="185" y="165"/>
                  </a:lnTo>
                  <a:lnTo>
                    <a:pt x="185" y="171"/>
                  </a:lnTo>
                  <a:lnTo>
                    <a:pt x="185" y="177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2" y="181"/>
                  </a:lnTo>
                  <a:lnTo>
                    <a:pt x="196" y="177"/>
                  </a:lnTo>
                  <a:lnTo>
                    <a:pt x="202" y="175"/>
                  </a:lnTo>
                  <a:lnTo>
                    <a:pt x="207" y="177"/>
                  </a:lnTo>
                  <a:lnTo>
                    <a:pt x="215" y="181"/>
                  </a:lnTo>
                  <a:lnTo>
                    <a:pt x="221" y="184"/>
                  </a:lnTo>
                  <a:lnTo>
                    <a:pt x="226" y="188"/>
                  </a:lnTo>
                  <a:lnTo>
                    <a:pt x="234" y="188"/>
                  </a:lnTo>
                  <a:lnTo>
                    <a:pt x="240" y="190"/>
                  </a:lnTo>
                  <a:lnTo>
                    <a:pt x="245" y="192"/>
                  </a:lnTo>
                  <a:lnTo>
                    <a:pt x="253" y="194"/>
                  </a:lnTo>
                  <a:lnTo>
                    <a:pt x="259" y="194"/>
                  </a:lnTo>
                  <a:lnTo>
                    <a:pt x="266" y="194"/>
                  </a:lnTo>
                  <a:lnTo>
                    <a:pt x="272" y="194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1" y="194"/>
                  </a:lnTo>
                  <a:lnTo>
                    <a:pt x="297" y="194"/>
                  </a:lnTo>
                  <a:lnTo>
                    <a:pt x="304" y="194"/>
                  </a:lnTo>
                  <a:lnTo>
                    <a:pt x="310" y="192"/>
                  </a:lnTo>
                  <a:lnTo>
                    <a:pt x="316" y="192"/>
                  </a:lnTo>
                  <a:lnTo>
                    <a:pt x="323" y="190"/>
                  </a:lnTo>
                  <a:lnTo>
                    <a:pt x="329" y="188"/>
                  </a:lnTo>
                  <a:lnTo>
                    <a:pt x="335" y="184"/>
                  </a:lnTo>
                  <a:lnTo>
                    <a:pt x="342" y="182"/>
                  </a:lnTo>
                  <a:lnTo>
                    <a:pt x="348" y="181"/>
                  </a:lnTo>
                  <a:lnTo>
                    <a:pt x="354" y="179"/>
                  </a:lnTo>
                  <a:lnTo>
                    <a:pt x="361" y="175"/>
                  </a:lnTo>
                  <a:lnTo>
                    <a:pt x="367" y="173"/>
                  </a:lnTo>
                  <a:lnTo>
                    <a:pt x="373" y="169"/>
                  </a:lnTo>
                  <a:lnTo>
                    <a:pt x="380" y="167"/>
                  </a:lnTo>
                  <a:lnTo>
                    <a:pt x="386" y="163"/>
                  </a:lnTo>
                  <a:lnTo>
                    <a:pt x="392" y="161"/>
                  </a:lnTo>
                  <a:lnTo>
                    <a:pt x="399" y="158"/>
                  </a:lnTo>
                  <a:lnTo>
                    <a:pt x="407" y="154"/>
                  </a:lnTo>
                  <a:lnTo>
                    <a:pt x="411" y="150"/>
                  </a:lnTo>
                  <a:lnTo>
                    <a:pt x="418" y="146"/>
                  </a:lnTo>
                  <a:lnTo>
                    <a:pt x="424" y="142"/>
                  </a:lnTo>
                  <a:lnTo>
                    <a:pt x="430" y="139"/>
                  </a:lnTo>
                  <a:lnTo>
                    <a:pt x="437" y="135"/>
                  </a:lnTo>
                  <a:lnTo>
                    <a:pt x="443" y="129"/>
                  </a:lnTo>
                  <a:lnTo>
                    <a:pt x="449" y="125"/>
                  </a:lnTo>
                  <a:lnTo>
                    <a:pt x="456" y="123"/>
                  </a:lnTo>
                  <a:lnTo>
                    <a:pt x="462" y="118"/>
                  </a:lnTo>
                  <a:lnTo>
                    <a:pt x="468" y="112"/>
                  </a:lnTo>
                  <a:lnTo>
                    <a:pt x="475" y="108"/>
                  </a:lnTo>
                  <a:lnTo>
                    <a:pt x="481" y="106"/>
                  </a:lnTo>
                  <a:lnTo>
                    <a:pt x="487" y="101"/>
                  </a:lnTo>
                  <a:lnTo>
                    <a:pt x="494" y="97"/>
                  </a:lnTo>
                  <a:lnTo>
                    <a:pt x="500" y="93"/>
                  </a:lnTo>
                  <a:lnTo>
                    <a:pt x="506" y="89"/>
                  </a:lnTo>
                  <a:lnTo>
                    <a:pt x="512" y="84"/>
                  </a:lnTo>
                  <a:lnTo>
                    <a:pt x="519" y="80"/>
                  </a:lnTo>
                  <a:lnTo>
                    <a:pt x="525" y="76"/>
                  </a:lnTo>
                  <a:lnTo>
                    <a:pt x="531" y="72"/>
                  </a:lnTo>
                  <a:lnTo>
                    <a:pt x="538" y="68"/>
                  </a:lnTo>
                  <a:lnTo>
                    <a:pt x="544" y="65"/>
                  </a:lnTo>
                  <a:lnTo>
                    <a:pt x="550" y="61"/>
                  </a:lnTo>
                  <a:lnTo>
                    <a:pt x="557" y="57"/>
                  </a:lnTo>
                  <a:lnTo>
                    <a:pt x="561" y="53"/>
                  </a:lnTo>
                  <a:lnTo>
                    <a:pt x="569" y="49"/>
                  </a:lnTo>
                  <a:lnTo>
                    <a:pt x="574" y="47"/>
                  </a:lnTo>
                  <a:lnTo>
                    <a:pt x="580" y="44"/>
                  </a:lnTo>
                  <a:lnTo>
                    <a:pt x="586" y="40"/>
                  </a:lnTo>
                  <a:lnTo>
                    <a:pt x="593" y="38"/>
                  </a:lnTo>
                  <a:lnTo>
                    <a:pt x="599" y="36"/>
                  </a:lnTo>
                  <a:lnTo>
                    <a:pt x="605" y="34"/>
                  </a:lnTo>
                  <a:lnTo>
                    <a:pt x="601" y="40"/>
                  </a:lnTo>
                  <a:lnTo>
                    <a:pt x="595" y="47"/>
                  </a:lnTo>
                  <a:lnTo>
                    <a:pt x="589" y="55"/>
                  </a:lnTo>
                  <a:lnTo>
                    <a:pt x="584" y="63"/>
                  </a:lnTo>
                  <a:lnTo>
                    <a:pt x="576" y="68"/>
                  </a:lnTo>
                  <a:lnTo>
                    <a:pt x="569" y="74"/>
                  </a:lnTo>
                  <a:lnTo>
                    <a:pt x="561" y="82"/>
                  </a:lnTo>
                  <a:lnTo>
                    <a:pt x="551" y="89"/>
                  </a:lnTo>
                  <a:lnTo>
                    <a:pt x="542" y="93"/>
                  </a:lnTo>
                  <a:lnTo>
                    <a:pt x="532" y="101"/>
                  </a:lnTo>
                  <a:lnTo>
                    <a:pt x="523" y="106"/>
                  </a:lnTo>
                  <a:lnTo>
                    <a:pt x="515" y="110"/>
                  </a:lnTo>
                  <a:lnTo>
                    <a:pt x="506" y="116"/>
                  </a:lnTo>
                  <a:lnTo>
                    <a:pt x="496" y="120"/>
                  </a:lnTo>
                  <a:lnTo>
                    <a:pt x="489" y="125"/>
                  </a:lnTo>
                  <a:lnTo>
                    <a:pt x="481" y="129"/>
                  </a:lnTo>
                  <a:lnTo>
                    <a:pt x="491" y="127"/>
                  </a:lnTo>
                  <a:lnTo>
                    <a:pt x="498" y="127"/>
                  </a:lnTo>
                  <a:lnTo>
                    <a:pt x="506" y="125"/>
                  </a:lnTo>
                  <a:lnTo>
                    <a:pt x="515" y="123"/>
                  </a:lnTo>
                  <a:lnTo>
                    <a:pt x="525" y="120"/>
                  </a:lnTo>
                  <a:lnTo>
                    <a:pt x="532" y="118"/>
                  </a:lnTo>
                  <a:lnTo>
                    <a:pt x="542" y="114"/>
                  </a:lnTo>
                  <a:lnTo>
                    <a:pt x="551" y="110"/>
                  </a:lnTo>
                  <a:lnTo>
                    <a:pt x="561" y="106"/>
                  </a:lnTo>
                  <a:lnTo>
                    <a:pt x="570" y="101"/>
                  </a:lnTo>
                  <a:lnTo>
                    <a:pt x="580" y="97"/>
                  </a:lnTo>
                  <a:lnTo>
                    <a:pt x="589" y="93"/>
                  </a:lnTo>
                  <a:lnTo>
                    <a:pt x="599" y="87"/>
                  </a:lnTo>
                  <a:lnTo>
                    <a:pt x="608" y="82"/>
                  </a:lnTo>
                  <a:lnTo>
                    <a:pt x="618" y="76"/>
                  </a:lnTo>
                  <a:lnTo>
                    <a:pt x="628" y="72"/>
                  </a:lnTo>
                  <a:lnTo>
                    <a:pt x="637" y="65"/>
                  </a:lnTo>
                  <a:lnTo>
                    <a:pt x="647" y="61"/>
                  </a:lnTo>
                  <a:lnTo>
                    <a:pt x="656" y="53"/>
                  </a:lnTo>
                  <a:lnTo>
                    <a:pt x="666" y="47"/>
                  </a:lnTo>
                  <a:lnTo>
                    <a:pt x="675" y="42"/>
                  </a:lnTo>
                  <a:lnTo>
                    <a:pt x="685" y="38"/>
                  </a:lnTo>
                  <a:lnTo>
                    <a:pt x="694" y="32"/>
                  </a:lnTo>
                  <a:lnTo>
                    <a:pt x="704" y="28"/>
                  </a:lnTo>
                  <a:lnTo>
                    <a:pt x="713" y="23"/>
                  </a:lnTo>
                  <a:lnTo>
                    <a:pt x="723" y="19"/>
                  </a:lnTo>
                  <a:lnTo>
                    <a:pt x="732" y="13"/>
                  </a:lnTo>
                  <a:lnTo>
                    <a:pt x="743" y="9"/>
                  </a:lnTo>
                  <a:lnTo>
                    <a:pt x="753" y="8"/>
                  </a:lnTo>
                  <a:lnTo>
                    <a:pt x="762" y="4"/>
                  </a:lnTo>
                  <a:lnTo>
                    <a:pt x="772" y="0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180200" y="2360520"/>
              <a:ext cx="130320" cy="58680"/>
            </a:xfrm>
            <a:custGeom>
              <a:avLst/>
              <a:gdLst/>
              <a:ahLst/>
              <a:rect l="l" t="t" r="r" b="b"/>
              <a:pathLst>
                <a:path w="163" h="74">
                  <a:moveTo>
                    <a:pt x="163" y="0"/>
                  </a:moveTo>
                  <a:lnTo>
                    <a:pt x="163" y="3"/>
                  </a:lnTo>
                  <a:lnTo>
                    <a:pt x="163" y="11"/>
                  </a:lnTo>
                  <a:lnTo>
                    <a:pt x="161" y="17"/>
                  </a:lnTo>
                  <a:lnTo>
                    <a:pt x="158" y="22"/>
                  </a:lnTo>
                  <a:lnTo>
                    <a:pt x="152" y="28"/>
                  </a:lnTo>
                  <a:lnTo>
                    <a:pt x="146" y="36"/>
                  </a:lnTo>
                  <a:lnTo>
                    <a:pt x="139" y="40"/>
                  </a:lnTo>
                  <a:lnTo>
                    <a:pt x="131" y="45"/>
                  </a:lnTo>
                  <a:lnTo>
                    <a:pt x="119" y="49"/>
                  </a:lnTo>
                  <a:lnTo>
                    <a:pt x="110" y="55"/>
                  </a:lnTo>
                  <a:lnTo>
                    <a:pt x="100" y="57"/>
                  </a:lnTo>
                  <a:lnTo>
                    <a:pt x="89" y="62"/>
                  </a:lnTo>
                  <a:lnTo>
                    <a:pt x="78" y="64"/>
                  </a:lnTo>
                  <a:lnTo>
                    <a:pt x="68" y="66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2"/>
                  </a:lnTo>
                  <a:lnTo>
                    <a:pt x="28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7" y="74"/>
                  </a:lnTo>
                  <a:lnTo>
                    <a:pt x="4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7" y="59"/>
                  </a:lnTo>
                  <a:lnTo>
                    <a:pt x="17" y="55"/>
                  </a:lnTo>
                  <a:lnTo>
                    <a:pt x="19" y="51"/>
                  </a:lnTo>
                  <a:lnTo>
                    <a:pt x="26" y="47"/>
                  </a:lnTo>
                  <a:lnTo>
                    <a:pt x="32" y="45"/>
                  </a:lnTo>
                  <a:lnTo>
                    <a:pt x="40" y="41"/>
                  </a:lnTo>
                  <a:lnTo>
                    <a:pt x="45" y="40"/>
                  </a:lnTo>
                  <a:lnTo>
                    <a:pt x="55" y="36"/>
                  </a:lnTo>
                  <a:lnTo>
                    <a:pt x="62" y="32"/>
                  </a:lnTo>
                  <a:lnTo>
                    <a:pt x="74" y="30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4"/>
                  </a:lnTo>
                  <a:lnTo>
                    <a:pt x="97" y="22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4" y="19"/>
                  </a:lnTo>
                  <a:lnTo>
                    <a:pt x="119" y="17"/>
                  </a:lnTo>
                  <a:lnTo>
                    <a:pt x="131" y="13"/>
                  </a:lnTo>
                  <a:lnTo>
                    <a:pt x="142" y="9"/>
                  </a:lnTo>
                  <a:lnTo>
                    <a:pt x="152" y="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8674200" y="2367000"/>
              <a:ext cx="56880" cy="25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32" y="2"/>
                  </a:moveTo>
                  <a:lnTo>
                    <a:pt x="38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6"/>
                  </a:lnTo>
                  <a:lnTo>
                    <a:pt x="72" y="14"/>
                  </a:lnTo>
                  <a:lnTo>
                    <a:pt x="72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6" y="29"/>
                  </a:lnTo>
                  <a:lnTo>
                    <a:pt x="19" y="31"/>
                  </a:lnTo>
                  <a:lnTo>
                    <a:pt x="9" y="33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209800" y="2368440"/>
              <a:ext cx="144360" cy="1573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0" y="0"/>
                  </a:moveTo>
                  <a:lnTo>
                    <a:pt x="8" y="4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4" y="21"/>
                  </a:lnTo>
                  <a:lnTo>
                    <a:pt x="42" y="27"/>
                  </a:lnTo>
                  <a:lnTo>
                    <a:pt x="50" y="31"/>
                  </a:lnTo>
                  <a:lnTo>
                    <a:pt x="57" y="36"/>
                  </a:lnTo>
                  <a:lnTo>
                    <a:pt x="63" y="42"/>
                  </a:lnTo>
                  <a:lnTo>
                    <a:pt x="71" y="48"/>
                  </a:lnTo>
                  <a:lnTo>
                    <a:pt x="76" y="53"/>
                  </a:lnTo>
                  <a:lnTo>
                    <a:pt x="84" y="59"/>
                  </a:lnTo>
                  <a:lnTo>
                    <a:pt x="91" y="65"/>
                  </a:lnTo>
                  <a:lnTo>
                    <a:pt x="97" y="72"/>
                  </a:lnTo>
                  <a:lnTo>
                    <a:pt x="103" y="78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22" y="99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9" y="118"/>
                  </a:lnTo>
                  <a:lnTo>
                    <a:pt x="145" y="126"/>
                  </a:lnTo>
                  <a:lnTo>
                    <a:pt x="149" y="133"/>
                  </a:lnTo>
                  <a:lnTo>
                    <a:pt x="154" y="141"/>
                  </a:lnTo>
                  <a:lnTo>
                    <a:pt x="158" y="147"/>
                  </a:lnTo>
                  <a:lnTo>
                    <a:pt x="162" y="154"/>
                  </a:lnTo>
                  <a:lnTo>
                    <a:pt x="166" y="162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5" y="185"/>
                  </a:lnTo>
                  <a:lnTo>
                    <a:pt x="179" y="192"/>
                  </a:lnTo>
                  <a:lnTo>
                    <a:pt x="183" y="200"/>
                  </a:lnTo>
                  <a:lnTo>
                    <a:pt x="177" y="194"/>
                  </a:lnTo>
                  <a:lnTo>
                    <a:pt x="171" y="186"/>
                  </a:lnTo>
                  <a:lnTo>
                    <a:pt x="166" y="181"/>
                  </a:lnTo>
                  <a:lnTo>
                    <a:pt x="160" y="175"/>
                  </a:lnTo>
                  <a:lnTo>
                    <a:pt x="154" y="167"/>
                  </a:lnTo>
                  <a:lnTo>
                    <a:pt x="149" y="162"/>
                  </a:lnTo>
                  <a:lnTo>
                    <a:pt x="143" y="156"/>
                  </a:lnTo>
                  <a:lnTo>
                    <a:pt x="137" y="150"/>
                  </a:lnTo>
                  <a:lnTo>
                    <a:pt x="131" y="143"/>
                  </a:lnTo>
                  <a:lnTo>
                    <a:pt x="124" y="137"/>
                  </a:lnTo>
                  <a:lnTo>
                    <a:pt x="118" y="131"/>
                  </a:lnTo>
                  <a:lnTo>
                    <a:pt x="112" y="124"/>
                  </a:lnTo>
                  <a:lnTo>
                    <a:pt x="105" y="118"/>
                  </a:lnTo>
                  <a:lnTo>
                    <a:pt x="99" y="112"/>
                  </a:lnTo>
                  <a:lnTo>
                    <a:pt x="93" y="105"/>
                  </a:lnTo>
                  <a:lnTo>
                    <a:pt x="88" y="101"/>
                  </a:lnTo>
                  <a:lnTo>
                    <a:pt x="82" y="93"/>
                  </a:lnTo>
                  <a:lnTo>
                    <a:pt x="74" y="88"/>
                  </a:lnTo>
                  <a:lnTo>
                    <a:pt x="69" y="82"/>
                  </a:lnTo>
                  <a:lnTo>
                    <a:pt x="63" y="74"/>
                  </a:lnTo>
                  <a:lnTo>
                    <a:pt x="55" y="69"/>
                  </a:lnTo>
                  <a:lnTo>
                    <a:pt x="50" y="63"/>
                  </a:lnTo>
                  <a:lnTo>
                    <a:pt x="44" y="55"/>
                  </a:lnTo>
                  <a:lnTo>
                    <a:pt x="38" y="50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1" y="31"/>
                  </a:lnTo>
                  <a:lnTo>
                    <a:pt x="17" y="23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322480" y="2385720"/>
              <a:ext cx="166680" cy="14472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0" y="0"/>
                  </a:moveTo>
                  <a:lnTo>
                    <a:pt x="10" y="6"/>
                  </a:lnTo>
                  <a:lnTo>
                    <a:pt x="21" y="9"/>
                  </a:lnTo>
                  <a:lnTo>
                    <a:pt x="27" y="13"/>
                  </a:lnTo>
                  <a:lnTo>
                    <a:pt x="32" y="15"/>
                  </a:lnTo>
                  <a:lnTo>
                    <a:pt x="40" y="19"/>
                  </a:lnTo>
                  <a:lnTo>
                    <a:pt x="46" y="23"/>
                  </a:lnTo>
                  <a:lnTo>
                    <a:pt x="51" y="25"/>
                  </a:lnTo>
                  <a:lnTo>
                    <a:pt x="57" y="28"/>
                  </a:lnTo>
                  <a:lnTo>
                    <a:pt x="63" y="32"/>
                  </a:lnTo>
                  <a:lnTo>
                    <a:pt x="68" y="34"/>
                  </a:lnTo>
                  <a:lnTo>
                    <a:pt x="74" y="38"/>
                  </a:lnTo>
                  <a:lnTo>
                    <a:pt x="80" y="42"/>
                  </a:lnTo>
                  <a:lnTo>
                    <a:pt x="87" y="44"/>
                  </a:lnTo>
                  <a:lnTo>
                    <a:pt x="93" y="49"/>
                  </a:lnTo>
                  <a:lnTo>
                    <a:pt x="105" y="55"/>
                  </a:lnTo>
                  <a:lnTo>
                    <a:pt x="116" y="63"/>
                  </a:lnTo>
                  <a:lnTo>
                    <a:pt x="126" y="72"/>
                  </a:lnTo>
                  <a:lnTo>
                    <a:pt x="135" y="82"/>
                  </a:lnTo>
                  <a:lnTo>
                    <a:pt x="141" y="87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4"/>
                  </a:lnTo>
                  <a:lnTo>
                    <a:pt x="154" y="108"/>
                  </a:lnTo>
                  <a:lnTo>
                    <a:pt x="158" y="116"/>
                  </a:lnTo>
                  <a:lnTo>
                    <a:pt x="162" y="122"/>
                  </a:lnTo>
                  <a:lnTo>
                    <a:pt x="165" y="129"/>
                  </a:lnTo>
                  <a:lnTo>
                    <a:pt x="171" y="127"/>
                  </a:lnTo>
                  <a:lnTo>
                    <a:pt x="177" y="127"/>
                  </a:lnTo>
                  <a:lnTo>
                    <a:pt x="179" y="127"/>
                  </a:lnTo>
                  <a:lnTo>
                    <a:pt x="184" y="131"/>
                  </a:lnTo>
                  <a:lnTo>
                    <a:pt x="188" y="135"/>
                  </a:lnTo>
                  <a:lnTo>
                    <a:pt x="194" y="144"/>
                  </a:lnTo>
                  <a:lnTo>
                    <a:pt x="198" y="152"/>
                  </a:lnTo>
                  <a:lnTo>
                    <a:pt x="200" y="162"/>
                  </a:lnTo>
                  <a:lnTo>
                    <a:pt x="203" y="171"/>
                  </a:lnTo>
                  <a:lnTo>
                    <a:pt x="209" y="179"/>
                  </a:lnTo>
                  <a:lnTo>
                    <a:pt x="205" y="182"/>
                  </a:lnTo>
                  <a:lnTo>
                    <a:pt x="198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1" y="148"/>
                  </a:lnTo>
                  <a:lnTo>
                    <a:pt x="165" y="143"/>
                  </a:lnTo>
                  <a:lnTo>
                    <a:pt x="158" y="135"/>
                  </a:lnTo>
                  <a:lnTo>
                    <a:pt x="152" y="129"/>
                  </a:lnTo>
                  <a:lnTo>
                    <a:pt x="143" y="124"/>
                  </a:lnTo>
                  <a:lnTo>
                    <a:pt x="135" y="116"/>
                  </a:lnTo>
                  <a:lnTo>
                    <a:pt x="129" y="110"/>
                  </a:lnTo>
                  <a:lnTo>
                    <a:pt x="122" y="104"/>
                  </a:lnTo>
                  <a:lnTo>
                    <a:pt x="112" y="97"/>
                  </a:lnTo>
                  <a:lnTo>
                    <a:pt x="107" y="91"/>
                  </a:lnTo>
                  <a:lnTo>
                    <a:pt x="97" y="87"/>
                  </a:lnTo>
                  <a:lnTo>
                    <a:pt x="91" y="82"/>
                  </a:lnTo>
                  <a:lnTo>
                    <a:pt x="84" y="76"/>
                  </a:lnTo>
                  <a:lnTo>
                    <a:pt x="76" y="70"/>
                  </a:lnTo>
                  <a:lnTo>
                    <a:pt x="68" y="65"/>
                  </a:lnTo>
                  <a:lnTo>
                    <a:pt x="61" y="59"/>
                  </a:lnTo>
                  <a:lnTo>
                    <a:pt x="55" y="53"/>
                  </a:lnTo>
                  <a:lnTo>
                    <a:pt x="48" y="47"/>
                  </a:lnTo>
                  <a:lnTo>
                    <a:pt x="40" y="42"/>
                  </a:lnTo>
                  <a:lnTo>
                    <a:pt x="36" y="38"/>
                  </a:lnTo>
                  <a:lnTo>
                    <a:pt x="29" y="32"/>
                  </a:lnTo>
                  <a:lnTo>
                    <a:pt x="23" y="28"/>
                  </a:lnTo>
                  <a:lnTo>
                    <a:pt x="17" y="23"/>
                  </a:lnTo>
                  <a:lnTo>
                    <a:pt x="13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272440" y="2385720"/>
              <a:ext cx="130320" cy="136800"/>
            </a:xfrm>
            <a:custGeom>
              <a:avLst/>
              <a:gdLst/>
              <a:ahLst/>
              <a:rect l="l" t="t" r="r" b="b"/>
              <a:pathLst>
                <a:path w="164" h="171">
                  <a:moveTo>
                    <a:pt x="0" y="0"/>
                  </a:moveTo>
                  <a:lnTo>
                    <a:pt x="6" y="2"/>
                  </a:lnTo>
                  <a:lnTo>
                    <a:pt x="14" y="6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4" y="28"/>
                  </a:lnTo>
                  <a:lnTo>
                    <a:pt x="65" y="38"/>
                  </a:lnTo>
                  <a:lnTo>
                    <a:pt x="76" y="49"/>
                  </a:lnTo>
                  <a:lnTo>
                    <a:pt x="80" y="53"/>
                  </a:lnTo>
                  <a:lnTo>
                    <a:pt x="86" y="61"/>
                  </a:lnTo>
                  <a:lnTo>
                    <a:pt x="90" y="66"/>
                  </a:lnTo>
                  <a:lnTo>
                    <a:pt x="95" y="72"/>
                  </a:lnTo>
                  <a:lnTo>
                    <a:pt x="99" y="78"/>
                  </a:lnTo>
                  <a:lnTo>
                    <a:pt x="105" y="85"/>
                  </a:lnTo>
                  <a:lnTo>
                    <a:pt x="109" y="91"/>
                  </a:lnTo>
                  <a:lnTo>
                    <a:pt x="114" y="97"/>
                  </a:lnTo>
                  <a:lnTo>
                    <a:pt x="116" y="104"/>
                  </a:lnTo>
                  <a:lnTo>
                    <a:pt x="122" y="110"/>
                  </a:lnTo>
                  <a:lnTo>
                    <a:pt x="126" y="116"/>
                  </a:lnTo>
                  <a:lnTo>
                    <a:pt x="131" y="124"/>
                  </a:lnTo>
                  <a:lnTo>
                    <a:pt x="133" y="127"/>
                  </a:lnTo>
                  <a:lnTo>
                    <a:pt x="139" y="135"/>
                  </a:lnTo>
                  <a:lnTo>
                    <a:pt x="143" y="141"/>
                  </a:lnTo>
                  <a:lnTo>
                    <a:pt x="149" y="146"/>
                  </a:lnTo>
                  <a:lnTo>
                    <a:pt x="150" y="152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64" y="171"/>
                  </a:lnTo>
                  <a:lnTo>
                    <a:pt x="158" y="167"/>
                  </a:lnTo>
                  <a:lnTo>
                    <a:pt x="152" y="163"/>
                  </a:lnTo>
                  <a:lnTo>
                    <a:pt x="145" y="162"/>
                  </a:lnTo>
                  <a:lnTo>
                    <a:pt x="141" y="158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2" y="144"/>
                  </a:lnTo>
                  <a:lnTo>
                    <a:pt x="116" y="141"/>
                  </a:lnTo>
                  <a:lnTo>
                    <a:pt x="105" y="131"/>
                  </a:lnTo>
                  <a:lnTo>
                    <a:pt x="95" y="120"/>
                  </a:lnTo>
                  <a:lnTo>
                    <a:pt x="88" y="114"/>
                  </a:lnTo>
                  <a:lnTo>
                    <a:pt x="84" y="108"/>
                  </a:lnTo>
                  <a:lnTo>
                    <a:pt x="78" y="101"/>
                  </a:lnTo>
                  <a:lnTo>
                    <a:pt x="74" y="97"/>
                  </a:lnTo>
                  <a:lnTo>
                    <a:pt x="67" y="89"/>
                  </a:lnTo>
                  <a:lnTo>
                    <a:pt x="61" y="84"/>
                  </a:lnTo>
                  <a:lnTo>
                    <a:pt x="57" y="78"/>
                  </a:lnTo>
                  <a:lnTo>
                    <a:pt x="52" y="70"/>
                  </a:lnTo>
                  <a:lnTo>
                    <a:pt x="46" y="65"/>
                  </a:lnTo>
                  <a:lnTo>
                    <a:pt x="42" y="59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0"/>
                  </a:lnTo>
                  <a:lnTo>
                    <a:pt x="23" y="34"/>
                  </a:lnTo>
                  <a:lnTo>
                    <a:pt x="19" y="27"/>
                  </a:lnTo>
                  <a:lnTo>
                    <a:pt x="16" y="23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039080" y="2384280"/>
              <a:ext cx="444240" cy="168480"/>
            </a:xfrm>
            <a:custGeom>
              <a:avLst/>
              <a:gdLst/>
              <a:ahLst/>
              <a:rect l="l" t="t" r="r" b="b"/>
              <a:pathLst>
                <a:path w="559" h="213">
                  <a:moveTo>
                    <a:pt x="542" y="2"/>
                  </a:moveTo>
                  <a:lnTo>
                    <a:pt x="548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59" y="6"/>
                  </a:lnTo>
                  <a:lnTo>
                    <a:pt x="557" y="11"/>
                  </a:lnTo>
                  <a:lnTo>
                    <a:pt x="557" y="25"/>
                  </a:lnTo>
                  <a:lnTo>
                    <a:pt x="548" y="25"/>
                  </a:lnTo>
                  <a:lnTo>
                    <a:pt x="538" y="25"/>
                  </a:lnTo>
                  <a:lnTo>
                    <a:pt x="529" y="27"/>
                  </a:lnTo>
                  <a:lnTo>
                    <a:pt x="519" y="27"/>
                  </a:lnTo>
                  <a:lnTo>
                    <a:pt x="510" y="29"/>
                  </a:lnTo>
                  <a:lnTo>
                    <a:pt x="500" y="30"/>
                  </a:lnTo>
                  <a:lnTo>
                    <a:pt x="491" y="32"/>
                  </a:lnTo>
                  <a:lnTo>
                    <a:pt x="483" y="34"/>
                  </a:lnTo>
                  <a:lnTo>
                    <a:pt x="473" y="34"/>
                  </a:lnTo>
                  <a:lnTo>
                    <a:pt x="464" y="36"/>
                  </a:lnTo>
                  <a:lnTo>
                    <a:pt x="454" y="38"/>
                  </a:lnTo>
                  <a:lnTo>
                    <a:pt x="447" y="40"/>
                  </a:lnTo>
                  <a:lnTo>
                    <a:pt x="437" y="42"/>
                  </a:lnTo>
                  <a:lnTo>
                    <a:pt x="428" y="44"/>
                  </a:lnTo>
                  <a:lnTo>
                    <a:pt x="420" y="46"/>
                  </a:lnTo>
                  <a:lnTo>
                    <a:pt x="411" y="49"/>
                  </a:lnTo>
                  <a:lnTo>
                    <a:pt x="401" y="51"/>
                  </a:lnTo>
                  <a:lnTo>
                    <a:pt x="392" y="53"/>
                  </a:lnTo>
                  <a:lnTo>
                    <a:pt x="384" y="55"/>
                  </a:lnTo>
                  <a:lnTo>
                    <a:pt x="375" y="59"/>
                  </a:lnTo>
                  <a:lnTo>
                    <a:pt x="365" y="61"/>
                  </a:lnTo>
                  <a:lnTo>
                    <a:pt x="358" y="65"/>
                  </a:lnTo>
                  <a:lnTo>
                    <a:pt x="348" y="68"/>
                  </a:lnTo>
                  <a:lnTo>
                    <a:pt x="340" y="70"/>
                  </a:lnTo>
                  <a:lnTo>
                    <a:pt x="331" y="74"/>
                  </a:lnTo>
                  <a:lnTo>
                    <a:pt x="321" y="78"/>
                  </a:lnTo>
                  <a:lnTo>
                    <a:pt x="314" y="80"/>
                  </a:lnTo>
                  <a:lnTo>
                    <a:pt x="306" y="84"/>
                  </a:lnTo>
                  <a:lnTo>
                    <a:pt x="297" y="87"/>
                  </a:lnTo>
                  <a:lnTo>
                    <a:pt x="289" y="89"/>
                  </a:lnTo>
                  <a:lnTo>
                    <a:pt x="280" y="93"/>
                  </a:lnTo>
                  <a:lnTo>
                    <a:pt x="272" y="97"/>
                  </a:lnTo>
                  <a:lnTo>
                    <a:pt x="262" y="101"/>
                  </a:lnTo>
                  <a:lnTo>
                    <a:pt x="255" y="103"/>
                  </a:lnTo>
                  <a:lnTo>
                    <a:pt x="245" y="106"/>
                  </a:lnTo>
                  <a:lnTo>
                    <a:pt x="238" y="110"/>
                  </a:lnTo>
                  <a:lnTo>
                    <a:pt x="228" y="112"/>
                  </a:lnTo>
                  <a:lnTo>
                    <a:pt x="221" y="116"/>
                  </a:lnTo>
                  <a:lnTo>
                    <a:pt x="211" y="120"/>
                  </a:lnTo>
                  <a:lnTo>
                    <a:pt x="204" y="124"/>
                  </a:lnTo>
                  <a:lnTo>
                    <a:pt x="194" y="127"/>
                  </a:lnTo>
                  <a:lnTo>
                    <a:pt x="186" y="129"/>
                  </a:lnTo>
                  <a:lnTo>
                    <a:pt x="177" y="135"/>
                  </a:lnTo>
                  <a:lnTo>
                    <a:pt x="169" y="139"/>
                  </a:lnTo>
                  <a:lnTo>
                    <a:pt x="160" y="143"/>
                  </a:lnTo>
                  <a:lnTo>
                    <a:pt x="152" y="145"/>
                  </a:lnTo>
                  <a:lnTo>
                    <a:pt x="143" y="148"/>
                  </a:lnTo>
                  <a:lnTo>
                    <a:pt x="135" y="154"/>
                  </a:lnTo>
                  <a:lnTo>
                    <a:pt x="126" y="156"/>
                  </a:lnTo>
                  <a:lnTo>
                    <a:pt x="118" y="160"/>
                  </a:lnTo>
                  <a:lnTo>
                    <a:pt x="108" y="164"/>
                  </a:lnTo>
                  <a:lnTo>
                    <a:pt x="103" y="167"/>
                  </a:lnTo>
                  <a:lnTo>
                    <a:pt x="93" y="171"/>
                  </a:lnTo>
                  <a:lnTo>
                    <a:pt x="84" y="175"/>
                  </a:lnTo>
                  <a:lnTo>
                    <a:pt x="76" y="179"/>
                  </a:lnTo>
                  <a:lnTo>
                    <a:pt x="69" y="183"/>
                  </a:lnTo>
                  <a:lnTo>
                    <a:pt x="59" y="186"/>
                  </a:lnTo>
                  <a:lnTo>
                    <a:pt x="50" y="190"/>
                  </a:lnTo>
                  <a:lnTo>
                    <a:pt x="42" y="194"/>
                  </a:lnTo>
                  <a:lnTo>
                    <a:pt x="34" y="198"/>
                  </a:lnTo>
                  <a:lnTo>
                    <a:pt x="25" y="202"/>
                  </a:lnTo>
                  <a:lnTo>
                    <a:pt x="15" y="203"/>
                  </a:lnTo>
                  <a:lnTo>
                    <a:pt x="8" y="209"/>
                  </a:lnTo>
                  <a:lnTo>
                    <a:pt x="0" y="213"/>
                  </a:lnTo>
                  <a:lnTo>
                    <a:pt x="6" y="207"/>
                  </a:lnTo>
                  <a:lnTo>
                    <a:pt x="13" y="200"/>
                  </a:lnTo>
                  <a:lnTo>
                    <a:pt x="19" y="194"/>
                  </a:lnTo>
                  <a:lnTo>
                    <a:pt x="25" y="188"/>
                  </a:lnTo>
                  <a:lnTo>
                    <a:pt x="32" y="183"/>
                  </a:lnTo>
                  <a:lnTo>
                    <a:pt x="40" y="177"/>
                  </a:lnTo>
                  <a:lnTo>
                    <a:pt x="48" y="173"/>
                  </a:lnTo>
                  <a:lnTo>
                    <a:pt x="55" y="167"/>
                  </a:lnTo>
                  <a:lnTo>
                    <a:pt x="61" y="164"/>
                  </a:lnTo>
                  <a:lnTo>
                    <a:pt x="69" y="158"/>
                  </a:lnTo>
                  <a:lnTo>
                    <a:pt x="76" y="154"/>
                  </a:lnTo>
                  <a:lnTo>
                    <a:pt x="84" y="148"/>
                  </a:lnTo>
                  <a:lnTo>
                    <a:pt x="91" y="145"/>
                  </a:lnTo>
                  <a:lnTo>
                    <a:pt x="99" y="141"/>
                  </a:lnTo>
                  <a:lnTo>
                    <a:pt x="107" y="137"/>
                  </a:lnTo>
                  <a:lnTo>
                    <a:pt x="116" y="133"/>
                  </a:lnTo>
                  <a:lnTo>
                    <a:pt x="124" y="129"/>
                  </a:lnTo>
                  <a:lnTo>
                    <a:pt x="131" y="126"/>
                  </a:lnTo>
                  <a:lnTo>
                    <a:pt x="139" y="120"/>
                  </a:lnTo>
                  <a:lnTo>
                    <a:pt x="148" y="118"/>
                  </a:lnTo>
                  <a:lnTo>
                    <a:pt x="156" y="112"/>
                  </a:lnTo>
                  <a:lnTo>
                    <a:pt x="164" y="110"/>
                  </a:lnTo>
                  <a:lnTo>
                    <a:pt x="173" y="106"/>
                  </a:lnTo>
                  <a:lnTo>
                    <a:pt x="183" y="103"/>
                  </a:lnTo>
                  <a:lnTo>
                    <a:pt x="190" y="101"/>
                  </a:lnTo>
                  <a:lnTo>
                    <a:pt x="200" y="97"/>
                  </a:lnTo>
                  <a:lnTo>
                    <a:pt x="207" y="93"/>
                  </a:lnTo>
                  <a:lnTo>
                    <a:pt x="217" y="91"/>
                  </a:lnTo>
                  <a:lnTo>
                    <a:pt x="226" y="87"/>
                  </a:lnTo>
                  <a:lnTo>
                    <a:pt x="234" y="86"/>
                  </a:lnTo>
                  <a:lnTo>
                    <a:pt x="243" y="82"/>
                  </a:lnTo>
                  <a:lnTo>
                    <a:pt x="253" y="80"/>
                  </a:lnTo>
                  <a:lnTo>
                    <a:pt x="262" y="78"/>
                  </a:lnTo>
                  <a:lnTo>
                    <a:pt x="270" y="74"/>
                  </a:lnTo>
                  <a:lnTo>
                    <a:pt x="280" y="70"/>
                  </a:lnTo>
                  <a:lnTo>
                    <a:pt x="289" y="68"/>
                  </a:lnTo>
                  <a:lnTo>
                    <a:pt x="297" y="65"/>
                  </a:lnTo>
                  <a:lnTo>
                    <a:pt x="306" y="63"/>
                  </a:lnTo>
                  <a:lnTo>
                    <a:pt x="316" y="61"/>
                  </a:lnTo>
                  <a:lnTo>
                    <a:pt x="325" y="59"/>
                  </a:lnTo>
                  <a:lnTo>
                    <a:pt x="335" y="55"/>
                  </a:lnTo>
                  <a:lnTo>
                    <a:pt x="344" y="53"/>
                  </a:lnTo>
                  <a:lnTo>
                    <a:pt x="354" y="51"/>
                  </a:lnTo>
                  <a:lnTo>
                    <a:pt x="363" y="49"/>
                  </a:lnTo>
                  <a:lnTo>
                    <a:pt x="371" y="46"/>
                  </a:lnTo>
                  <a:lnTo>
                    <a:pt x="380" y="44"/>
                  </a:lnTo>
                  <a:lnTo>
                    <a:pt x="390" y="42"/>
                  </a:lnTo>
                  <a:lnTo>
                    <a:pt x="399" y="40"/>
                  </a:lnTo>
                  <a:lnTo>
                    <a:pt x="409" y="36"/>
                  </a:lnTo>
                  <a:lnTo>
                    <a:pt x="416" y="34"/>
                  </a:lnTo>
                  <a:lnTo>
                    <a:pt x="426" y="32"/>
                  </a:lnTo>
                  <a:lnTo>
                    <a:pt x="435" y="30"/>
                  </a:lnTo>
                  <a:lnTo>
                    <a:pt x="445" y="27"/>
                  </a:lnTo>
                  <a:lnTo>
                    <a:pt x="453" y="27"/>
                  </a:lnTo>
                  <a:lnTo>
                    <a:pt x="462" y="23"/>
                  </a:lnTo>
                  <a:lnTo>
                    <a:pt x="472" y="21"/>
                  </a:lnTo>
                  <a:lnTo>
                    <a:pt x="481" y="19"/>
                  </a:lnTo>
                  <a:lnTo>
                    <a:pt x="489" y="17"/>
                  </a:lnTo>
                  <a:lnTo>
                    <a:pt x="496" y="15"/>
                  </a:lnTo>
                  <a:lnTo>
                    <a:pt x="506" y="11"/>
                  </a:lnTo>
                  <a:lnTo>
                    <a:pt x="515" y="10"/>
                  </a:lnTo>
                  <a:lnTo>
                    <a:pt x="523" y="8"/>
                  </a:lnTo>
                  <a:lnTo>
                    <a:pt x="532" y="6"/>
                  </a:lnTo>
                  <a:lnTo>
                    <a:pt x="542" y="2"/>
                  </a:lnTo>
                  <a:lnTo>
                    <a:pt x="5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6530400" y="238572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0" y="13"/>
                  </a:lnTo>
                  <a:lnTo>
                    <a:pt x="24" y="17"/>
                  </a:lnTo>
                  <a:lnTo>
                    <a:pt x="15" y="19"/>
                  </a:lnTo>
                  <a:lnTo>
                    <a:pt x="9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669000" y="2412720"/>
              <a:ext cx="495360" cy="140040"/>
            </a:xfrm>
            <a:custGeom>
              <a:avLst/>
              <a:gdLst/>
              <a:ahLst/>
              <a:rect l="l" t="t" r="r" b="b"/>
              <a:pathLst>
                <a:path w="626" h="177">
                  <a:moveTo>
                    <a:pt x="536" y="0"/>
                  </a:moveTo>
                  <a:lnTo>
                    <a:pt x="540" y="0"/>
                  </a:lnTo>
                  <a:lnTo>
                    <a:pt x="548" y="2"/>
                  </a:lnTo>
                  <a:lnTo>
                    <a:pt x="553" y="2"/>
                  </a:lnTo>
                  <a:lnTo>
                    <a:pt x="561" y="2"/>
                  </a:lnTo>
                  <a:lnTo>
                    <a:pt x="569" y="0"/>
                  </a:lnTo>
                  <a:lnTo>
                    <a:pt x="576" y="0"/>
                  </a:lnTo>
                  <a:lnTo>
                    <a:pt x="584" y="0"/>
                  </a:lnTo>
                  <a:lnTo>
                    <a:pt x="591" y="0"/>
                  </a:lnTo>
                  <a:lnTo>
                    <a:pt x="597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6" y="2"/>
                  </a:lnTo>
                  <a:lnTo>
                    <a:pt x="620" y="6"/>
                  </a:lnTo>
                  <a:lnTo>
                    <a:pt x="624" y="10"/>
                  </a:lnTo>
                  <a:lnTo>
                    <a:pt x="624" y="15"/>
                  </a:lnTo>
                  <a:lnTo>
                    <a:pt x="626" y="21"/>
                  </a:lnTo>
                  <a:lnTo>
                    <a:pt x="618" y="21"/>
                  </a:lnTo>
                  <a:lnTo>
                    <a:pt x="610" y="21"/>
                  </a:lnTo>
                  <a:lnTo>
                    <a:pt x="603" y="21"/>
                  </a:lnTo>
                  <a:lnTo>
                    <a:pt x="595" y="23"/>
                  </a:lnTo>
                  <a:lnTo>
                    <a:pt x="586" y="23"/>
                  </a:lnTo>
                  <a:lnTo>
                    <a:pt x="580" y="25"/>
                  </a:lnTo>
                  <a:lnTo>
                    <a:pt x="572" y="25"/>
                  </a:lnTo>
                  <a:lnTo>
                    <a:pt x="565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9"/>
                  </a:lnTo>
                  <a:lnTo>
                    <a:pt x="536" y="29"/>
                  </a:lnTo>
                  <a:lnTo>
                    <a:pt x="529" y="31"/>
                  </a:lnTo>
                  <a:lnTo>
                    <a:pt x="521" y="32"/>
                  </a:lnTo>
                  <a:lnTo>
                    <a:pt x="514" y="32"/>
                  </a:lnTo>
                  <a:lnTo>
                    <a:pt x="508" y="34"/>
                  </a:lnTo>
                  <a:lnTo>
                    <a:pt x="500" y="34"/>
                  </a:lnTo>
                  <a:lnTo>
                    <a:pt x="493" y="36"/>
                  </a:lnTo>
                  <a:lnTo>
                    <a:pt x="485" y="36"/>
                  </a:lnTo>
                  <a:lnTo>
                    <a:pt x="479" y="38"/>
                  </a:lnTo>
                  <a:lnTo>
                    <a:pt x="472" y="40"/>
                  </a:lnTo>
                  <a:lnTo>
                    <a:pt x="464" y="42"/>
                  </a:lnTo>
                  <a:lnTo>
                    <a:pt x="457" y="42"/>
                  </a:lnTo>
                  <a:lnTo>
                    <a:pt x="449" y="44"/>
                  </a:lnTo>
                  <a:lnTo>
                    <a:pt x="443" y="46"/>
                  </a:lnTo>
                  <a:lnTo>
                    <a:pt x="436" y="48"/>
                  </a:lnTo>
                  <a:lnTo>
                    <a:pt x="428" y="48"/>
                  </a:lnTo>
                  <a:lnTo>
                    <a:pt x="422" y="51"/>
                  </a:lnTo>
                  <a:lnTo>
                    <a:pt x="415" y="51"/>
                  </a:lnTo>
                  <a:lnTo>
                    <a:pt x="407" y="53"/>
                  </a:lnTo>
                  <a:lnTo>
                    <a:pt x="401" y="55"/>
                  </a:lnTo>
                  <a:lnTo>
                    <a:pt x="394" y="57"/>
                  </a:lnTo>
                  <a:lnTo>
                    <a:pt x="388" y="57"/>
                  </a:lnTo>
                  <a:lnTo>
                    <a:pt x="380" y="61"/>
                  </a:lnTo>
                  <a:lnTo>
                    <a:pt x="373" y="61"/>
                  </a:lnTo>
                  <a:lnTo>
                    <a:pt x="365" y="63"/>
                  </a:lnTo>
                  <a:lnTo>
                    <a:pt x="360" y="65"/>
                  </a:lnTo>
                  <a:lnTo>
                    <a:pt x="352" y="67"/>
                  </a:lnTo>
                  <a:lnTo>
                    <a:pt x="344" y="67"/>
                  </a:lnTo>
                  <a:lnTo>
                    <a:pt x="337" y="70"/>
                  </a:lnTo>
                  <a:lnTo>
                    <a:pt x="331" y="70"/>
                  </a:lnTo>
                  <a:lnTo>
                    <a:pt x="323" y="72"/>
                  </a:lnTo>
                  <a:lnTo>
                    <a:pt x="316" y="74"/>
                  </a:lnTo>
                  <a:lnTo>
                    <a:pt x="310" y="76"/>
                  </a:lnTo>
                  <a:lnTo>
                    <a:pt x="303" y="78"/>
                  </a:lnTo>
                  <a:lnTo>
                    <a:pt x="295" y="82"/>
                  </a:lnTo>
                  <a:lnTo>
                    <a:pt x="289" y="82"/>
                  </a:lnTo>
                  <a:lnTo>
                    <a:pt x="282" y="86"/>
                  </a:lnTo>
                  <a:lnTo>
                    <a:pt x="276" y="86"/>
                  </a:lnTo>
                  <a:lnTo>
                    <a:pt x="268" y="90"/>
                  </a:lnTo>
                  <a:lnTo>
                    <a:pt x="261" y="91"/>
                  </a:lnTo>
                  <a:lnTo>
                    <a:pt x="253" y="93"/>
                  </a:lnTo>
                  <a:lnTo>
                    <a:pt x="245" y="93"/>
                  </a:lnTo>
                  <a:lnTo>
                    <a:pt x="240" y="97"/>
                  </a:lnTo>
                  <a:lnTo>
                    <a:pt x="234" y="99"/>
                  </a:lnTo>
                  <a:lnTo>
                    <a:pt x="226" y="101"/>
                  </a:lnTo>
                  <a:lnTo>
                    <a:pt x="221" y="103"/>
                  </a:lnTo>
                  <a:lnTo>
                    <a:pt x="213" y="105"/>
                  </a:lnTo>
                  <a:lnTo>
                    <a:pt x="206" y="107"/>
                  </a:lnTo>
                  <a:lnTo>
                    <a:pt x="198" y="109"/>
                  </a:lnTo>
                  <a:lnTo>
                    <a:pt x="192" y="110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8"/>
                  </a:lnTo>
                  <a:lnTo>
                    <a:pt x="173" y="122"/>
                  </a:lnTo>
                  <a:lnTo>
                    <a:pt x="177" y="126"/>
                  </a:lnTo>
                  <a:lnTo>
                    <a:pt x="185" y="128"/>
                  </a:lnTo>
                  <a:lnTo>
                    <a:pt x="194" y="128"/>
                  </a:lnTo>
                  <a:lnTo>
                    <a:pt x="202" y="128"/>
                  </a:lnTo>
                  <a:lnTo>
                    <a:pt x="209" y="126"/>
                  </a:lnTo>
                  <a:lnTo>
                    <a:pt x="217" y="126"/>
                  </a:lnTo>
                  <a:lnTo>
                    <a:pt x="223" y="126"/>
                  </a:lnTo>
                  <a:lnTo>
                    <a:pt x="230" y="129"/>
                  </a:lnTo>
                  <a:lnTo>
                    <a:pt x="230" y="135"/>
                  </a:lnTo>
                  <a:lnTo>
                    <a:pt x="223" y="137"/>
                  </a:lnTo>
                  <a:lnTo>
                    <a:pt x="215" y="139"/>
                  </a:lnTo>
                  <a:lnTo>
                    <a:pt x="207" y="139"/>
                  </a:lnTo>
                  <a:lnTo>
                    <a:pt x="202" y="139"/>
                  </a:lnTo>
                  <a:lnTo>
                    <a:pt x="194" y="139"/>
                  </a:lnTo>
                  <a:lnTo>
                    <a:pt x="188" y="137"/>
                  </a:lnTo>
                  <a:lnTo>
                    <a:pt x="183" y="137"/>
                  </a:lnTo>
                  <a:lnTo>
                    <a:pt x="175" y="135"/>
                  </a:lnTo>
                  <a:lnTo>
                    <a:pt x="168" y="133"/>
                  </a:lnTo>
                  <a:lnTo>
                    <a:pt x="162" y="131"/>
                  </a:lnTo>
                  <a:lnTo>
                    <a:pt x="156" y="129"/>
                  </a:lnTo>
                  <a:lnTo>
                    <a:pt x="149" y="129"/>
                  </a:lnTo>
                  <a:lnTo>
                    <a:pt x="141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2" y="129"/>
                  </a:lnTo>
                  <a:lnTo>
                    <a:pt x="122" y="133"/>
                  </a:lnTo>
                  <a:lnTo>
                    <a:pt x="122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9" y="139"/>
                  </a:lnTo>
                  <a:lnTo>
                    <a:pt x="143" y="143"/>
                  </a:lnTo>
                  <a:lnTo>
                    <a:pt x="143" y="145"/>
                  </a:lnTo>
                  <a:lnTo>
                    <a:pt x="133" y="147"/>
                  </a:lnTo>
                  <a:lnTo>
                    <a:pt x="126" y="148"/>
                  </a:lnTo>
                  <a:lnTo>
                    <a:pt x="118" y="150"/>
                  </a:lnTo>
                  <a:lnTo>
                    <a:pt x="109" y="154"/>
                  </a:lnTo>
                  <a:lnTo>
                    <a:pt x="99" y="156"/>
                  </a:lnTo>
                  <a:lnTo>
                    <a:pt x="91" y="158"/>
                  </a:lnTo>
                  <a:lnTo>
                    <a:pt x="82" y="160"/>
                  </a:lnTo>
                  <a:lnTo>
                    <a:pt x="72" y="162"/>
                  </a:lnTo>
                  <a:lnTo>
                    <a:pt x="63" y="164"/>
                  </a:lnTo>
                  <a:lnTo>
                    <a:pt x="53" y="166"/>
                  </a:lnTo>
                  <a:lnTo>
                    <a:pt x="44" y="166"/>
                  </a:lnTo>
                  <a:lnTo>
                    <a:pt x="36" y="169"/>
                  </a:lnTo>
                  <a:lnTo>
                    <a:pt x="27" y="171"/>
                  </a:lnTo>
                  <a:lnTo>
                    <a:pt x="17" y="173"/>
                  </a:lnTo>
                  <a:lnTo>
                    <a:pt x="8" y="173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14" y="166"/>
                  </a:lnTo>
                  <a:lnTo>
                    <a:pt x="21" y="160"/>
                  </a:lnTo>
                  <a:lnTo>
                    <a:pt x="29" y="156"/>
                  </a:lnTo>
                  <a:lnTo>
                    <a:pt x="34" y="150"/>
                  </a:lnTo>
                  <a:lnTo>
                    <a:pt x="44" y="147"/>
                  </a:lnTo>
                  <a:lnTo>
                    <a:pt x="50" y="141"/>
                  </a:lnTo>
                  <a:lnTo>
                    <a:pt x="59" y="139"/>
                  </a:lnTo>
                  <a:lnTo>
                    <a:pt x="65" y="133"/>
                  </a:lnTo>
                  <a:lnTo>
                    <a:pt x="74" y="129"/>
                  </a:lnTo>
                  <a:lnTo>
                    <a:pt x="82" y="126"/>
                  </a:lnTo>
                  <a:lnTo>
                    <a:pt x="90" y="122"/>
                  </a:lnTo>
                  <a:lnTo>
                    <a:pt x="97" y="118"/>
                  </a:lnTo>
                  <a:lnTo>
                    <a:pt x="105" y="114"/>
                  </a:lnTo>
                  <a:lnTo>
                    <a:pt x="112" y="110"/>
                  </a:lnTo>
                  <a:lnTo>
                    <a:pt x="122" y="109"/>
                  </a:lnTo>
                  <a:lnTo>
                    <a:pt x="130" y="103"/>
                  </a:lnTo>
                  <a:lnTo>
                    <a:pt x="137" y="101"/>
                  </a:lnTo>
                  <a:lnTo>
                    <a:pt x="145" y="97"/>
                  </a:lnTo>
                  <a:lnTo>
                    <a:pt x="152" y="93"/>
                  </a:lnTo>
                  <a:lnTo>
                    <a:pt x="160" y="91"/>
                  </a:lnTo>
                  <a:lnTo>
                    <a:pt x="169" y="88"/>
                  </a:lnTo>
                  <a:lnTo>
                    <a:pt x="177" y="84"/>
                  </a:lnTo>
                  <a:lnTo>
                    <a:pt x="187" y="82"/>
                  </a:lnTo>
                  <a:lnTo>
                    <a:pt x="194" y="80"/>
                  </a:lnTo>
                  <a:lnTo>
                    <a:pt x="204" y="76"/>
                  </a:lnTo>
                  <a:lnTo>
                    <a:pt x="211" y="72"/>
                  </a:lnTo>
                  <a:lnTo>
                    <a:pt x="221" y="70"/>
                  </a:lnTo>
                  <a:lnTo>
                    <a:pt x="230" y="67"/>
                  </a:lnTo>
                  <a:lnTo>
                    <a:pt x="238" y="65"/>
                  </a:lnTo>
                  <a:lnTo>
                    <a:pt x="245" y="63"/>
                  </a:lnTo>
                  <a:lnTo>
                    <a:pt x="255" y="61"/>
                  </a:lnTo>
                  <a:lnTo>
                    <a:pt x="263" y="57"/>
                  </a:lnTo>
                  <a:lnTo>
                    <a:pt x="272" y="55"/>
                  </a:lnTo>
                  <a:lnTo>
                    <a:pt x="280" y="53"/>
                  </a:lnTo>
                  <a:lnTo>
                    <a:pt x="289" y="51"/>
                  </a:lnTo>
                  <a:lnTo>
                    <a:pt x="299" y="48"/>
                  </a:lnTo>
                  <a:lnTo>
                    <a:pt x="306" y="46"/>
                  </a:lnTo>
                  <a:lnTo>
                    <a:pt x="316" y="44"/>
                  </a:lnTo>
                  <a:lnTo>
                    <a:pt x="325" y="44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60" y="34"/>
                  </a:lnTo>
                  <a:lnTo>
                    <a:pt x="369" y="32"/>
                  </a:lnTo>
                  <a:lnTo>
                    <a:pt x="377" y="31"/>
                  </a:lnTo>
                  <a:lnTo>
                    <a:pt x="384" y="29"/>
                  </a:lnTo>
                  <a:lnTo>
                    <a:pt x="394" y="27"/>
                  </a:lnTo>
                  <a:lnTo>
                    <a:pt x="403" y="25"/>
                  </a:lnTo>
                  <a:lnTo>
                    <a:pt x="411" y="23"/>
                  </a:lnTo>
                  <a:lnTo>
                    <a:pt x="420" y="21"/>
                  </a:lnTo>
                  <a:lnTo>
                    <a:pt x="430" y="19"/>
                  </a:lnTo>
                  <a:lnTo>
                    <a:pt x="437" y="17"/>
                  </a:lnTo>
                  <a:lnTo>
                    <a:pt x="447" y="17"/>
                  </a:lnTo>
                  <a:lnTo>
                    <a:pt x="457" y="15"/>
                  </a:lnTo>
                  <a:lnTo>
                    <a:pt x="466" y="13"/>
                  </a:lnTo>
                  <a:lnTo>
                    <a:pt x="474" y="12"/>
                  </a:lnTo>
                  <a:lnTo>
                    <a:pt x="483" y="10"/>
                  </a:lnTo>
                  <a:lnTo>
                    <a:pt x="491" y="8"/>
                  </a:lnTo>
                  <a:lnTo>
                    <a:pt x="500" y="8"/>
                  </a:lnTo>
                  <a:lnTo>
                    <a:pt x="510" y="6"/>
                  </a:lnTo>
                  <a:lnTo>
                    <a:pt x="519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503400" y="2412720"/>
              <a:ext cx="2700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1" y="0"/>
                  </a:moveTo>
                  <a:lnTo>
                    <a:pt x="28" y="2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3"/>
                  </a:lnTo>
                  <a:lnTo>
                    <a:pt x="26" y="19"/>
                  </a:lnTo>
                  <a:lnTo>
                    <a:pt x="17" y="27"/>
                  </a:lnTo>
                  <a:lnTo>
                    <a:pt x="5" y="2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335720" y="2423880"/>
              <a:ext cx="284400" cy="147600"/>
            </a:xfrm>
            <a:custGeom>
              <a:avLst/>
              <a:gdLst/>
              <a:ahLst/>
              <a:rect l="l" t="t" r="r" b="b"/>
              <a:pathLst>
                <a:path w="359" h="187">
                  <a:moveTo>
                    <a:pt x="359" y="0"/>
                  </a:moveTo>
                  <a:lnTo>
                    <a:pt x="350" y="6"/>
                  </a:lnTo>
                  <a:lnTo>
                    <a:pt x="342" y="14"/>
                  </a:lnTo>
                  <a:lnTo>
                    <a:pt x="335" y="21"/>
                  </a:lnTo>
                  <a:lnTo>
                    <a:pt x="325" y="27"/>
                  </a:lnTo>
                  <a:lnTo>
                    <a:pt x="316" y="33"/>
                  </a:lnTo>
                  <a:lnTo>
                    <a:pt x="306" y="38"/>
                  </a:lnTo>
                  <a:lnTo>
                    <a:pt x="297" y="42"/>
                  </a:lnTo>
                  <a:lnTo>
                    <a:pt x="285" y="48"/>
                  </a:lnTo>
                  <a:lnTo>
                    <a:pt x="280" y="50"/>
                  </a:lnTo>
                  <a:lnTo>
                    <a:pt x="274" y="52"/>
                  </a:lnTo>
                  <a:lnTo>
                    <a:pt x="268" y="54"/>
                  </a:lnTo>
                  <a:lnTo>
                    <a:pt x="262" y="57"/>
                  </a:lnTo>
                  <a:lnTo>
                    <a:pt x="257" y="57"/>
                  </a:lnTo>
                  <a:lnTo>
                    <a:pt x="249" y="61"/>
                  </a:lnTo>
                  <a:lnTo>
                    <a:pt x="243" y="61"/>
                  </a:lnTo>
                  <a:lnTo>
                    <a:pt x="238" y="65"/>
                  </a:lnTo>
                  <a:lnTo>
                    <a:pt x="232" y="67"/>
                  </a:lnTo>
                  <a:lnTo>
                    <a:pt x="224" y="69"/>
                  </a:lnTo>
                  <a:lnTo>
                    <a:pt x="219" y="71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200" y="77"/>
                  </a:lnTo>
                  <a:lnTo>
                    <a:pt x="194" y="78"/>
                  </a:lnTo>
                  <a:lnTo>
                    <a:pt x="186" y="80"/>
                  </a:lnTo>
                  <a:lnTo>
                    <a:pt x="179" y="82"/>
                  </a:lnTo>
                  <a:lnTo>
                    <a:pt x="173" y="84"/>
                  </a:lnTo>
                  <a:lnTo>
                    <a:pt x="167" y="86"/>
                  </a:lnTo>
                  <a:lnTo>
                    <a:pt x="160" y="88"/>
                  </a:lnTo>
                  <a:lnTo>
                    <a:pt x="152" y="90"/>
                  </a:lnTo>
                  <a:lnTo>
                    <a:pt x="146" y="92"/>
                  </a:lnTo>
                  <a:lnTo>
                    <a:pt x="141" y="94"/>
                  </a:lnTo>
                  <a:lnTo>
                    <a:pt x="133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14" y="103"/>
                  </a:lnTo>
                  <a:lnTo>
                    <a:pt x="108" y="107"/>
                  </a:lnTo>
                  <a:lnTo>
                    <a:pt x="103" y="109"/>
                  </a:lnTo>
                  <a:lnTo>
                    <a:pt x="95" y="113"/>
                  </a:lnTo>
                  <a:lnTo>
                    <a:pt x="89" y="115"/>
                  </a:lnTo>
                  <a:lnTo>
                    <a:pt x="84" y="118"/>
                  </a:lnTo>
                  <a:lnTo>
                    <a:pt x="78" y="122"/>
                  </a:lnTo>
                  <a:lnTo>
                    <a:pt x="72" y="124"/>
                  </a:lnTo>
                  <a:lnTo>
                    <a:pt x="65" y="128"/>
                  </a:lnTo>
                  <a:lnTo>
                    <a:pt x="59" y="132"/>
                  </a:lnTo>
                  <a:lnTo>
                    <a:pt x="48" y="137"/>
                  </a:lnTo>
                  <a:lnTo>
                    <a:pt x="38" y="147"/>
                  </a:lnTo>
                  <a:lnTo>
                    <a:pt x="27" y="154"/>
                  </a:lnTo>
                  <a:lnTo>
                    <a:pt x="17" y="164"/>
                  </a:lnTo>
                  <a:lnTo>
                    <a:pt x="12" y="170"/>
                  </a:lnTo>
                  <a:lnTo>
                    <a:pt x="8" y="173"/>
                  </a:lnTo>
                  <a:lnTo>
                    <a:pt x="2" y="181"/>
                  </a:lnTo>
                  <a:lnTo>
                    <a:pt x="0" y="187"/>
                  </a:lnTo>
                  <a:lnTo>
                    <a:pt x="2" y="181"/>
                  </a:lnTo>
                  <a:lnTo>
                    <a:pt x="4" y="173"/>
                  </a:lnTo>
                  <a:lnTo>
                    <a:pt x="8" y="168"/>
                  </a:lnTo>
                  <a:lnTo>
                    <a:pt x="12" y="162"/>
                  </a:lnTo>
                  <a:lnTo>
                    <a:pt x="17" y="153"/>
                  </a:lnTo>
                  <a:lnTo>
                    <a:pt x="27" y="143"/>
                  </a:lnTo>
                  <a:lnTo>
                    <a:pt x="34" y="134"/>
                  </a:lnTo>
                  <a:lnTo>
                    <a:pt x="42" y="124"/>
                  </a:lnTo>
                  <a:lnTo>
                    <a:pt x="51" y="115"/>
                  </a:lnTo>
                  <a:lnTo>
                    <a:pt x="63" y="107"/>
                  </a:lnTo>
                  <a:lnTo>
                    <a:pt x="72" y="99"/>
                  </a:lnTo>
                  <a:lnTo>
                    <a:pt x="82" y="92"/>
                  </a:lnTo>
                  <a:lnTo>
                    <a:pt x="93" y="86"/>
                  </a:lnTo>
                  <a:lnTo>
                    <a:pt x="105" y="78"/>
                  </a:lnTo>
                  <a:lnTo>
                    <a:pt x="110" y="77"/>
                  </a:lnTo>
                  <a:lnTo>
                    <a:pt x="116" y="73"/>
                  </a:lnTo>
                  <a:lnTo>
                    <a:pt x="122" y="69"/>
                  </a:lnTo>
                  <a:lnTo>
                    <a:pt x="129" y="67"/>
                  </a:lnTo>
                  <a:lnTo>
                    <a:pt x="135" y="63"/>
                  </a:lnTo>
                  <a:lnTo>
                    <a:pt x="141" y="61"/>
                  </a:lnTo>
                  <a:lnTo>
                    <a:pt x="148" y="59"/>
                  </a:lnTo>
                  <a:lnTo>
                    <a:pt x="154" y="57"/>
                  </a:lnTo>
                  <a:lnTo>
                    <a:pt x="160" y="54"/>
                  </a:lnTo>
                  <a:lnTo>
                    <a:pt x="167" y="50"/>
                  </a:lnTo>
                  <a:lnTo>
                    <a:pt x="173" y="48"/>
                  </a:lnTo>
                  <a:lnTo>
                    <a:pt x="179" y="46"/>
                  </a:lnTo>
                  <a:lnTo>
                    <a:pt x="186" y="42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11" y="35"/>
                  </a:lnTo>
                  <a:lnTo>
                    <a:pt x="217" y="33"/>
                  </a:lnTo>
                  <a:lnTo>
                    <a:pt x="224" y="31"/>
                  </a:lnTo>
                  <a:lnTo>
                    <a:pt x="232" y="31"/>
                  </a:lnTo>
                  <a:lnTo>
                    <a:pt x="238" y="29"/>
                  </a:lnTo>
                  <a:lnTo>
                    <a:pt x="243" y="27"/>
                  </a:lnTo>
                  <a:lnTo>
                    <a:pt x="251" y="25"/>
                  </a:lnTo>
                  <a:lnTo>
                    <a:pt x="259" y="23"/>
                  </a:lnTo>
                  <a:lnTo>
                    <a:pt x="264" y="21"/>
                  </a:lnTo>
                  <a:lnTo>
                    <a:pt x="270" y="19"/>
                  </a:lnTo>
                  <a:lnTo>
                    <a:pt x="278" y="18"/>
                  </a:lnTo>
                  <a:lnTo>
                    <a:pt x="283" y="16"/>
                  </a:lnTo>
                  <a:lnTo>
                    <a:pt x="289" y="14"/>
                  </a:lnTo>
                  <a:lnTo>
                    <a:pt x="297" y="14"/>
                  </a:lnTo>
                  <a:lnTo>
                    <a:pt x="302" y="12"/>
                  </a:lnTo>
                  <a:lnTo>
                    <a:pt x="310" y="12"/>
                  </a:lnTo>
                  <a:lnTo>
                    <a:pt x="316" y="8"/>
                  </a:lnTo>
                  <a:lnTo>
                    <a:pt x="321" y="8"/>
                  </a:lnTo>
                  <a:lnTo>
                    <a:pt x="327" y="6"/>
                  </a:lnTo>
                  <a:lnTo>
                    <a:pt x="335" y="4"/>
                  </a:lnTo>
                  <a:lnTo>
                    <a:pt x="340" y="2"/>
                  </a:lnTo>
                  <a:lnTo>
                    <a:pt x="346" y="2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931800" y="2423880"/>
              <a:ext cx="399960" cy="120600"/>
            </a:xfrm>
            <a:custGeom>
              <a:avLst/>
              <a:gdLst/>
              <a:ahLst/>
              <a:rect l="l" t="t" r="r" b="b"/>
              <a:pathLst>
                <a:path w="504" h="153">
                  <a:moveTo>
                    <a:pt x="401" y="0"/>
                  </a:moveTo>
                  <a:lnTo>
                    <a:pt x="407" y="0"/>
                  </a:lnTo>
                  <a:lnTo>
                    <a:pt x="415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04" y="2"/>
                  </a:lnTo>
                  <a:lnTo>
                    <a:pt x="504" y="6"/>
                  </a:lnTo>
                  <a:lnTo>
                    <a:pt x="495" y="6"/>
                  </a:lnTo>
                  <a:lnTo>
                    <a:pt x="487" y="8"/>
                  </a:lnTo>
                  <a:lnTo>
                    <a:pt x="479" y="10"/>
                  </a:lnTo>
                  <a:lnTo>
                    <a:pt x="472" y="12"/>
                  </a:lnTo>
                  <a:lnTo>
                    <a:pt x="462" y="14"/>
                  </a:lnTo>
                  <a:lnTo>
                    <a:pt x="455" y="16"/>
                  </a:lnTo>
                  <a:lnTo>
                    <a:pt x="447" y="16"/>
                  </a:lnTo>
                  <a:lnTo>
                    <a:pt x="439" y="19"/>
                  </a:lnTo>
                  <a:lnTo>
                    <a:pt x="432" y="19"/>
                  </a:lnTo>
                  <a:lnTo>
                    <a:pt x="424" y="21"/>
                  </a:lnTo>
                  <a:lnTo>
                    <a:pt x="415" y="23"/>
                  </a:lnTo>
                  <a:lnTo>
                    <a:pt x="407" y="25"/>
                  </a:lnTo>
                  <a:lnTo>
                    <a:pt x="399" y="29"/>
                  </a:lnTo>
                  <a:lnTo>
                    <a:pt x="392" y="31"/>
                  </a:lnTo>
                  <a:lnTo>
                    <a:pt x="384" y="33"/>
                  </a:lnTo>
                  <a:lnTo>
                    <a:pt x="377" y="35"/>
                  </a:lnTo>
                  <a:lnTo>
                    <a:pt x="367" y="37"/>
                  </a:lnTo>
                  <a:lnTo>
                    <a:pt x="360" y="38"/>
                  </a:lnTo>
                  <a:lnTo>
                    <a:pt x="352" y="40"/>
                  </a:lnTo>
                  <a:lnTo>
                    <a:pt x="344" y="44"/>
                  </a:lnTo>
                  <a:lnTo>
                    <a:pt x="335" y="46"/>
                  </a:lnTo>
                  <a:lnTo>
                    <a:pt x="329" y="48"/>
                  </a:lnTo>
                  <a:lnTo>
                    <a:pt x="320" y="50"/>
                  </a:lnTo>
                  <a:lnTo>
                    <a:pt x="312" y="54"/>
                  </a:lnTo>
                  <a:lnTo>
                    <a:pt x="304" y="56"/>
                  </a:lnTo>
                  <a:lnTo>
                    <a:pt x="297" y="57"/>
                  </a:lnTo>
                  <a:lnTo>
                    <a:pt x="287" y="59"/>
                  </a:lnTo>
                  <a:lnTo>
                    <a:pt x="282" y="63"/>
                  </a:lnTo>
                  <a:lnTo>
                    <a:pt x="274" y="65"/>
                  </a:lnTo>
                  <a:lnTo>
                    <a:pt x="266" y="67"/>
                  </a:lnTo>
                  <a:lnTo>
                    <a:pt x="257" y="71"/>
                  </a:lnTo>
                  <a:lnTo>
                    <a:pt x="251" y="73"/>
                  </a:lnTo>
                  <a:lnTo>
                    <a:pt x="242" y="77"/>
                  </a:lnTo>
                  <a:lnTo>
                    <a:pt x="236" y="78"/>
                  </a:lnTo>
                  <a:lnTo>
                    <a:pt x="226" y="80"/>
                  </a:lnTo>
                  <a:lnTo>
                    <a:pt x="219" y="84"/>
                  </a:lnTo>
                  <a:lnTo>
                    <a:pt x="211" y="86"/>
                  </a:lnTo>
                  <a:lnTo>
                    <a:pt x="204" y="88"/>
                  </a:lnTo>
                  <a:lnTo>
                    <a:pt x="196" y="90"/>
                  </a:lnTo>
                  <a:lnTo>
                    <a:pt x="188" y="94"/>
                  </a:lnTo>
                  <a:lnTo>
                    <a:pt x="181" y="96"/>
                  </a:lnTo>
                  <a:lnTo>
                    <a:pt x="173" y="97"/>
                  </a:lnTo>
                  <a:lnTo>
                    <a:pt x="164" y="99"/>
                  </a:lnTo>
                  <a:lnTo>
                    <a:pt x="156" y="103"/>
                  </a:lnTo>
                  <a:lnTo>
                    <a:pt x="148" y="105"/>
                  </a:lnTo>
                  <a:lnTo>
                    <a:pt x="141" y="107"/>
                  </a:lnTo>
                  <a:lnTo>
                    <a:pt x="133" y="111"/>
                  </a:lnTo>
                  <a:lnTo>
                    <a:pt x="126" y="115"/>
                  </a:lnTo>
                  <a:lnTo>
                    <a:pt x="118" y="116"/>
                  </a:lnTo>
                  <a:lnTo>
                    <a:pt x="110" y="118"/>
                  </a:lnTo>
                  <a:lnTo>
                    <a:pt x="101" y="120"/>
                  </a:lnTo>
                  <a:lnTo>
                    <a:pt x="93" y="124"/>
                  </a:lnTo>
                  <a:lnTo>
                    <a:pt x="86" y="126"/>
                  </a:lnTo>
                  <a:lnTo>
                    <a:pt x="78" y="128"/>
                  </a:lnTo>
                  <a:lnTo>
                    <a:pt x="71" y="130"/>
                  </a:lnTo>
                  <a:lnTo>
                    <a:pt x="63" y="134"/>
                  </a:lnTo>
                  <a:lnTo>
                    <a:pt x="55" y="135"/>
                  </a:lnTo>
                  <a:lnTo>
                    <a:pt x="48" y="137"/>
                  </a:lnTo>
                  <a:lnTo>
                    <a:pt x="38" y="139"/>
                  </a:lnTo>
                  <a:lnTo>
                    <a:pt x="33" y="143"/>
                  </a:lnTo>
                  <a:lnTo>
                    <a:pt x="23" y="145"/>
                  </a:lnTo>
                  <a:lnTo>
                    <a:pt x="15" y="147"/>
                  </a:lnTo>
                  <a:lnTo>
                    <a:pt x="8" y="151"/>
                  </a:lnTo>
                  <a:lnTo>
                    <a:pt x="0" y="153"/>
                  </a:lnTo>
                  <a:lnTo>
                    <a:pt x="10" y="145"/>
                  </a:lnTo>
                  <a:lnTo>
                    <a:pt x="23" y="137"/>
                  </a:lnTo>
                  <a:lnTo>
                    <a:pt x="27" y="135"/>
                  </a:lnTo>
                  <a:lnTo>
                    <a:pt x="33" y="132"/>
                  </a:lnTo>
                  <a:lnTo>
                    <a:pt x="38" y="128"/>
                  </a:lnTo>
                  <a:lnTo>
                    <a:pt x="46" y="126"/>
                  </a:lnTo>
                  <a:lnTo>
                    <a:pt x="55" y="118"/>
                  </a:lnTo>
                  <a:lnTo>
                    <a:pt x="69" y="113"/>
                  </a:lnTo>
                  <a:lnTo>
                    <a:pt x="74" y="109"/>
                  </a:lnTo>
                  <a:lnTo>
                    <a:pt x="80" y="107"/>
                  </a:lnTo>
                  <a:lnTo>
                    <a:pt x="88" y="103"/>
                  </a:lnTo>
                  <a:lnTo>
                    <a:pt x="93" y="101"/>
                  </a:lnTo>
                  <a:lnTo>
                    <a:pt x="99" y="97"/>
                  </a:lnTo>
                  <a:lnTo>
                    <a:pt x="105" y="96"/>
                  </a:lnTo>
                  <a:lnTo>
                    <a:pt x="110" y="92"/>
                  </a:lnTo>
                  <a:lnTo>
                    <a:pt x="116" y="90"/>
                  </a:lnTo>
                  <a:lnTo>
                    <a:pt x="122" y="86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3" y="80"/>
                  </a:lnTo>
                  <a:lnTo>
                    <a:pt x="148" y="77"/>
                  </a:lnTo>
                  <a:lnTo>
                    <a:pt x="154" y="75"/>
                  </a:lnTo>
                  <a:lnTo>
                    <a:pt x="162" y="73"/>
                  </a:lnTo>
                  <a:lnTo>
                    <a:pt x="168" y="71"/>
                  </a:lnTo>
                  <a:lnTo>
                    <a:pt x="173" y="67"/>
                  </a:lnTo>
                  <a:lnTo>
                    <a:pt x="181" y="65"/>
                  </a:lnTo>
                  <a:lnTo>
                    <a:pt x="187" y="63"/>
                  </a:lnTo>
                  <a:lnTo>
                    <a:pt x="192" y="61"/>
                  </a:lnTo>
                  <a:lnTo>
                    <a:pt x="200" y="59"/>
                  </a:lnTo>
                  <a:lnTo>
                    <a:pt x="206" y="57"/>
                  </a:lnTo>
                  <a:lnTo>
                    <a:pt x="211" y="54"/>
                  </a:lnTo>
                  <a:lnTo>
                    <a:pt x="219" y="52"/>
                  </a:lnTo>
                  <a:lnTo>
                    <a:pt x="225" y="50"/>
                  </a:lnTo>
                  <a:lnTo>
                    <a:pt x="230" y="48"/>
                  </a:lnTo>
                  <a:lnTo>
                    <a:pt x="238" y="44"/>
                  </a:lnTo>
                  <a:lnTo>
                    <a:pt x="244" y="44"/>
                  </a:lnTo>
                  <a:lnTo>
                    <a:pt x="249" y="40"/>
                  </a:lnTo>
                  <a:lnTo>
                    <a:pt x="257" y="40"/>
                  </a:lnTo>
                  <a:lnTo>
                    <a:pt x="263" y="37"/>
                  </a:lnTo>
                  <a:lnTo>
                    <a:pt x="268" y="35"/>
                  </a:lnTo>
                  <a:lnTo>
                    <a:pt x="276" y="33"/>
                  </a:lnTo>
                  <a:lnTo>
                    <a:pt x="282" y="31"/>
                  </a:lnTo>
                  <a:lnTo>
                    <a:pt x="287" y="29"/>
                  </a:lnTo>
                  <a:lnTo>
                    <a:pt x="295" y="29"/>
                  </a:lnTo>
                  <a:lnTo>
                    <a:pt x="302" y="25"/>
                  </a:lnTo>
                  <a:lnTo>
                    <a:pt x="308" y="23"/>
                  </a:lnTo>
                  <a:lnTo>
                    <a:pt x="314" y="21"/>
                  </a:lnTo>
                  <a:lnTo>
                    <a:pt x="322" y="21"/>
                  </a:lnTo>
                  <a:lnTo>
                    <a:pt x="327" y="18"/>
                  </a:lnTo>
                  <a:lnTo>
                    <a:pt x="335" y="16"/>
                  </a:lnTo>
                  <a:lnTo>
                    <a:pt x="341" y="14"/>
                  </a:lnTo>
                  <a:lnTo>
                    <a:pt x="348" y="14"/>
                  </a:lnTo>
                  <a:lnTo>
                    <a:pt x="354" y="12"/>
                  </a:lnTo>
                  <a:lnTo>
                    <a:pt x="361" y="10"/>
                  </a:lnTo>
                  <a:lnTo>
                    <a:pt x="367" y="8"/>
                  </a:lnTo>
                  <a:lnTo>
                    <a:pt x="373" y="6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8402760" y="2430360"/>
              <a:ext cx="141120" cy="81000"/>
            </a:xfrm>
            <a:custGeom>
              <a:avLst/>
              <a:gdLst/>
              <a:ahLst/>
              <a:rect l="l" t="t" r="r" b="b"/>
              <a:pathLst>
                <a:path w="178" h="101">
                  <a:moveTo>
                    <a:pt x="5" y="2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4" y="11"/>
                  </a:lnTo>
                  <a:lnTo>
                    <a:pt x="76" y="17"/>
                  </a:lnTo>
                  <a:lnTo>
                    <a:pt x="87" y="23"/>
                  </a:lnTo>
                  <a:lnTo>
                    <a:pt x="98" y="30"/>
                  </a:lnTo>
                  <a:lnTo>
                    <a:pt x="108" y="36"/>
                  </a:lnTo>
                  <a:lnTo>
                    <a:pt x="117" y="44"/>
                  </a:lnTo>
                  <a:lnTo>
                    <a:pt x="127" y="51"/>
                  </a:lnTo>
                  <a:lnTo>
                    <a:pt x="138" y="61"/>
                  </a:lnTo>
                  <a:lnTo>
                    <a:pt x="148" y="70"/>
                  </a:lnTo>
                  <a:lnTo>
                    <a:pt x="157" y="80"/>
                  </a:lnTo>
                  <a:lnTo>
                    <a:pt x="167" y="89"/>
                  </a:lnTo>
                  <a:lnTo>
                    <a:pt x="178" y="99"/>
                  </a:lnTo>
                  <a:lnTo>
                    <a:pt x="175" y="101"/>
                  </a:lnTo>
                  <a:lnTo>
                    <a:pt x="163" y="93"/>
                  </a:lnTo>
                  <a:lnTo>
                    <a:pt x="154" y="86"/>
                  </a:lnTo>
                  <a:lnTo>
                    <a:pt x="142" y="78"/>
                  </a:lnTo>
                  <a:lnTo>
                    <a:pt x="133" y="72"/>
                  </a:lnTo>
                  <a:lnTo>
                    <a:pt x="119" y="65"/>
                  </a:lnTo>
                  <a:lnTo>
                    <a:pt x="110" y="59"/>
                  </a:lnTo>
                  <a:lnTo>
                    <a:pt x="98" y="53"/>
                  </a:lnTo>
                  <a:lnTo>
                    <a:pt x="89" y="47"/>
                  </a:lnTo>
                  <a:lnTo>
                    <a:pt x="78" y="42"/>
                  </a:lnTo>
                  <a:lnTo>
                    <a:pt x="66" y="36"/>
                  </a:lnTo>
                  <a:lnTo>
                    <a:pt x="55" y="30"/>
                  </a:lnTo>
                  <a:lnTo>
                    <a:pt x="43" y="27"/>
                  </a:lnTo>
                  <a:lnTo>
                    <a:pt x="32" y="23"/>
                  </a:lnTo>
                  <a:lnTo>
                    <a:pt x="22" y="19"/>
                  </a:lnTo>
                  <a:lnTo>
                    <a:pt x="9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473880" y="2460600"/>
              <a:ext cx="33120" cy="140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628680" y="2469960"/>
              <a:ext cx="330120" cy="46080"/>
            </a:xfrm>
            <a:custGeom>
              <a:avLst/>
              <a:gdLst/>
              <a:ahLst/>
              <a:rect l="l" t="t" r="r" b="b"/>
              <a:pathLst>
                <a:path w="416" h="57">
                  <a:moveTo>
                    <a:pt x="313" y="0"/>
                  </a:moveTo>
                  <a:lnTo>
                    <a:pt x="319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6" y="4"/>
                  </a:lnTo>
                  <a:lnTo>
                    <a:pt x="410" y="6"/>
                  </a:lnTo>
                  <a:lnTo>
                    <a:pt x="403" y="8"/>
                  </a:lnTo>
                  <a:lnTo>
                    <a:pt x="397" y="10"/>
                  </a:lnTo>
                  <a:lnTo>
                    <a:pt x="391" y="12"/>
                  </a:lnTo>
                  <a:lnTo>
                    <a:pt x="384" y="12"/>
                  </a:lnTo>
                  <a:lnTo>
                    <a:pt x="378" y="14"/>
                  </a:lnTo>
                  <a:lnTo>
                    <a:pt x="372" y="16"/>
                  </a:lnTo>
                  <a:lnTo>
                    <a:pt x="365" y="18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6" y="21"/>
                  </a:lnTo>
                  <a:lnTo>
                    <a:pt x="340" y="23"/>
                  </a:lnTo>
                  <a:lnTo>
                    <a:pt x="334" y="25"/>
                  </a:lnTo>
                  <a:lnTo>
                    <a:pt x="327" y="25"/>
                  </a:lnTo>
                  <a:lnTo>
                    <a:pt x="321" y="27"/>
                  </a:lnTo>
                  <a:lnTo>
                    <a:pt x="315" y="29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9" y="31"/>
                  </a:lnTo>
                  <a:lnTo>
                    <a:pt x="281" y="31"/>
                  </a:lnTo>
                  <a:lnTo>
                    <a:pt x="275" y="31"/>
                  </a:lnTo>
                  <a:lnTo>
                    <a:pt x="268" y="33"/>
                  </a:lnTo>
                  <a:lnTo>
                    <a:pt x="262" y="35"/>
                  </a:lnTo>
                  <a:lnTo>
                    <a:pt x="255" y="35"/>
                  </a:lnTo>
                  <a:lnTo>
                    <a:pt x="249" y="35"/>
                  </a:lnTo>
                  <a:lnTo>
                    <a:pt x="241" y="35"/>
                  </a:lnTo>
                  <a:lnTo>
                    <a:pt x="236" y="37"/>
                  </a:lnTo>
                  <a:lnTo>
                    <a:pt x="230" y="37"/>
                  </a:lnTo>
                  <a:lnTo>
                    <a:pt x="222" y="37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3" y="38"/>
                  </a:lnTo>
                  <a:lnTo>
                    <a:pt x="196" y="38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5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56" y="40"/>
                  </a:lnTo>
                  <a:lnTo>
                    <a:pt x="148" y="40"/>
                  </a:lnTo>
                  <a:lnTo>
                    <a:pt x="142" y="40"/>
                  </a:lnTo>
                  <a:lnTo>
                    <a:pt x="135" y="40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44"/>
                  </a:lnTo>
                  <a:lnTo>
                    <a:pt x="83" y="46"/>
                  </a:lnTo>
                  <a:lnTo>
                    <a:pt x="76" y="46"/>
                  </a:lnTo>
                  <a:lnTo>
                    <a:pt x="70" y="46"/>
                  </a:lnTo>
                  <a:lnTo>
                    <a:pt x="64" y="46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5" y="48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7" y="56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0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2"/>
                  </a:lnTo>
                  <a:lnTo>
                    <a:pt x="53" y="40"/>
                  </a:lnTo>
                  <a:lnTo>
                    <a:pt x="63" y="38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93" y="35"/>
                  </a:lnTo>
                  <a:lnTo>
                    <a:pt x="102" y="31"/>
                  </a:lnTo>
                  <a:lnTo>
                    <a:pt x="112" y="31"/>
                  </a:lnTo>
                  <a:lnTo>
                    <a:pt x="121" y="29"/>
                  </a:lnTo>
                  <a:lnTo>
                    <a:pt x="133" y="29"/>
                  </a:lnTo>
                  <a:lnTo>
                    <a:pt x="142" y="27"/>
                  </a:lnTo>
                  <a:lnTo>
                    <a:pt x="154" y="27"/>
                  </a:lnTo>
                  <a:lnTo>
                    <a:pt x="163" y="25"/>
                  </a:lnTo>
                  <a:lnTo>
                    <a:pt x="173" y="23"/>
                  </a:lnTo>
                  <a:lnTo>
                    <a:pt x="184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8"/>
                  </a:lnTo>
                  <a:lnTo>
                    <a:pt x="224" y="18"/>
                  </a:lnTo>
                  <a:lnTo>
                    <a:pt x="236" y="16"/>
                  </a:lnTo>
                  <a:lnTo>
                    <a:pt x="245" y="14"/>
                  </a:lnTo>
                  <a:lnTo>
                    <a:pt x="255" y="12"/>
                  </a:lnTo>
                  <a:lnTo>
                    <a:pt x="264" y="10"/>
                  </a:lnTo>
                  <a:lnTo>
                    <a:pt x="275" y="10"/>
                  </a:lnTo>
                  <a:lnTo>
                    <a:pt x="285" y="6"/>
                  </a:lnTo>
                  <a:lnTo>
                    <a:pt x="294" y="4"/>
                  </a:lnTo>
                  <a:lnTo>
                    <a:pt x="304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8431200" y="2489040"/>
              <a:ext cx="317520" cy="158760"/>
            </a:xfrm>
            <a:custGeom>
              <a:avLst/>
              <a:gdLst/>
              <a:ahLst/>
              <a:rect l="l" t="t" r="r" b="b"/>
              <a:pathLst>
                <a:path w="401" h="202">
                  <a:moveTo>
                    <a:pt x="6" y="0"/>
                  </a:moveTo>
                  <a:lnTo>
                    <a:pt x="10" y="2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9" y="14"/>
                  </a:lnTo>
                  <a:lnTo>
                    <a:pt x="55" y="15"/>
                  </a:lnTo>
                  <a:lnTo>
                    <a:pt x="61" y="17"/>
                  </a:lnTo>
                  <a:lnTo>
                    <a:pt x="67" y="21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1" y="31"/>
                  </a:lnTo>
                  <a:lnTo>
                    <a:pt x="99" y="33"/>
                  </a:lnTo>
                  <a:lnTo>
                    <a:pt x="105" y="34"/>
                  </a:lnTo>
                  <a:lnTo>
                    <a:pt x="110" y="36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5" y="46"/>
                  </a:lnTo>
                  <a:lnTo>
                    <a:pt x="141" y="50"/>
                  </a:lnTo>
                  <a:lnTo>
                    <a:pt x="146" y="52"/>
                  </a:lnTo>
                  <a:lnTo>
                    <a:pt x="154" y="53"/>
                  </a:lnTo>
                  <a:lnTo>
                    <a:pt x="160" y="55"/>
                  </a:lnTo>
                  <a:lnTo>
                    <a:pt x="165" y="59"/>
                  </a:lnTo>
                  <a:lnTo>
                    <a:pt x="171" y="61"/>
                  </a:lnTo>
                  <a:lnTo>
                    <a:pt x="177" y="65"/>
                  </a:lnTo>
                  <a:lnTo>
                    <a:pt x="183" y="67"/>
                  </a:lnTo>
                  <a:lnTo>
                    <a:pt x="190" y="71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7" y="78"/>
                  </a:lnTo>
                  <a:lnTo>
                    <a:pt x="213" y="82"/>
                  </a:lnTo>
                  <a:lnTo>
                    <a:pt x="219" y="84"/>
                  </a:lnTo>
                  <a:lnTo>
                    <a:pt x="226" y="88"/>
                  </a:lnTo>
                  <a:lnTo>
                    <a:pt x="230" y="90"/>
                  </a:lnTo>
                  <a:lnTo>
                    <a:pt x="238" y="91"/>
                  </a:lnTo>
                  <a:lnTo>
                    <a:pt x="243" y="95"/>
                  </a:lnTo>
                  <a:lnTo>
                    <a:pt x="249" y="99"/>
                  </a:lnTo>
                  <a:lnTo>
                    <a:pt x="255" y="103"/>
                  </a:lnTo>
                  <a:lnTo>
                    <a:pt x="262" y="105"/>
                  </a:lnTo>
                  <a:lnTo>
                    <a:pt x="266" y="109"/>
                  </a:lnTo>
                  <a:lnTo>
                    <a:pt x="274" y="112"/>
                  </a:lnTo>
                  <a:lnTo>
                    <a:pt x="280" y="114"/>
                  </a:lnTo>
                  <a:lnTo>
                    <a:pt x="285" y="118"/>
                  </a:lnTo>
                  <a:lnTo>
                    <a:pt x="293" y="122"/>
                  </a:lnTo>
                  <a:lnTo>
                    <a:pt x="299" y="124"/>
                  </a:lnTo>
                  <a:lnTo>
                    <a:pt x="304" y="126"/>
                  </a:lnTo>
                  <a:lnTo>
                    <a:pt x="310" y="129"/>
                  </a:lnTo>
                  <a:lnTo>
                    <a:pt x="316" y="133"/>
                  </a:lnTo>
                  <a:lnTo>
                    <a:pt x="321" y="135"/>
                  </a:lnTo>
                  <a:lnTo>
                    <a:pt x="327" y="139"/>
                  </a:lnTo>
                  <a:lnTo>
                    <a:pt x="333" y="143"/>
                  </a:lnTo>
                  <a:lnTo>
                    <a:pt x="340" y="145"/>
                  </a:lnTo>
                  <a:lnTo>
                    <a:pt x="346" y="148"/>
                  </a:lnTo>
                  <a:lnTo>
                    <a:pt x="352" y="152"/>
                  </a:lnTo>
                  <a:lnTo>
                    <a:pt x="357" y="154"/>
                  </a:lnTo>
                  <a:lnTo>
                    <a:pt x="363" y="158"/>
                  </a:lnTo>
                  <a:lnTo>
                    <a:pt x="369" y="162"/>
                  </a:lnTo>
                  <a:lnTo>
                    <a:pt x="376" y="166"/>
                  </a:lnTo>
                  <a:lnTo>
                    <a:pt x="382" y="169"/>
                  </a:lnTo>
                  <a:lnTo>
                    <a:pt x="388" y="171"/>
                  </a:lnTo>
                  <a:lnTo>
                    <a:pt x="395" y="177"/>
                  </a:lnTo>
                  <a:lnTo>
                    <a:pt x="395" y="181"/>
                  </a:lnTo>
                  <a:lnTo>
                    <a:pt x="395" y="188"/>
                  </a:lnTo>
                  <a:lnTo>
                    <a:pt x="395" y="196"/>
                  </a:lnTo>
                  <a:lnTo>
                    <a:pt x="401" y="202"/>
                  </a:lnTo>
                  <a:lnTo>
                    <a:pt x="394" y="200"/>
                  </a:lnTo>
                  <a:lnTo>
                    <a:pt x="386" y="198"/>
                  </a:lnTo>
                  <a:lnTo>
                    <a:pt x="380" y="196"/>
                  </a:lnTo>
                  <a:lnTo>
                    <a:pt x="375" y="196"/>
                  </a:lnTo>
                  <a:lnTo>
                    <a:pt x="367" y="192"/>
                  </a:lnTo>
                  <a:lnTo>
                    <a:pt x="361" y="190"/>
                  </a:lnTo>
                  <a:lnTo>
                    <a:pt x="356" y="188"/>
                  </a:lnTo>
                  <a:lnTo>
                    <a:pt x="348" y="188"/>
                  </a:lnTo>
                  <a:lnTo>
                    <a:pt x="342" y="185"/>
                  </a:lnTo>
                  <a:lnTo>
                    <a:pt x="337" y="183"/>
                  </a:lnTo>
                  <a:lnTo>
                    <a:pt x="329" y="179"/>
                  </a:lnTo>
                  <a:lnTo>
                    <a:pt x="323" y="177"/>
                  </a:lnTo>
                  <a:lnTo>
                    <a:pt x="318" y="173"/>
                  </a:lnTo>
                  <a:lnTo>
                    <a:pt x="310" y="171"/>
                  </a:lnTo>
                  <a:lnTo>
                    <a:pt x="304" y="169"/>
                  </a:lnTo>
                  <a:lnTo>
                    <a:pt x="299" y="168"/>
                  </a:lnTo>
                  <a:lnTo>
                    <a:pt x="291" y="164"/>
                  </a:lnTo>
                  <a:lnTo>
                    <a:pt x="285" y="162"/>
                  </a:lnTo>
                  <a:lnTo>
                    <a:pt x="278" y="158"/>
                  </a:lnTo>
                  <a:lnTo>
                    <a:pt x="272" y="154"/>
                  </a:lnTo>
                  <a:lnTo>
                    <a:pt x="266" y="152"/>
                  </a:lnTo>
                  <a:lnTo>
                    <a:pt x="259" y="148"/>
                  </a:lnTo>
                  <a:lnTo>
                    <a:pt x="253" y="145"/>
                  </a:lnTo>
                  <a:lnTo>
                    <a:pt x="247" y="143"/>
                  </a:lnTo>
                  <a:lnTo>
                    <a:pt x="241" y="139"/>
                  </a:lnTo>
                  <a:lnTo>
                    <a:pt x="236" y="135"/>
                  </a:lnTo>
                  <a:lnTo>
                    <a:pt x="228" y="131"/>
                  </a:lnTo>
                  <a:lnTo>
                    <a:pt x="222" y="128"/>
                  </a:lnTo>
                  <a:lnTo>
                    <a:pt x="217" y="124"/>
                  </a:lnTo>
                  <a:lnTo>
                    <a:pt x="211" y="122"/>
                  </a:lnTo>
                  <a:lnTo>
                    <a:pt x="205" y="118"/>
                  </a:lnTo>
                  <a:lnTo>
                    <a:pt x="200" y="114"/>
                  </a:lnTo>
                  <a:lnTo>
                    <a:pt x="194" y="110"/>
                  </a:lnTo>
                  <a:lnTo>
                    <a:pt x="188" y="107"/>
                  </a:lnTo>
                  <a:lnTo>
                    <a:pt x="181" y="103"/>
                  </a:lnTo>
                  <a:lnTo>
                    <a:pt x="175" y="99"/>
                  </a:lnTo>
                  <a:lnTo>
                    <a:pt x="169" y="95"/>
                  </a:lnTo>
                  <a:lnTo>
                    <a:pt x="162" y="91"/>
                  </a:lnTo>
                  <a:lnTo>
                    <a:pt x="156" y="88"/>
                  </a:lnTo>
                  <a:lnTo>
                    <a:pt x="150" y="84"/>
                  </a:lnTo>
                  <a:lnTo>
                    <a:pt x="145" y="80"/>
                  </a:lnTo>
                  <a:lnTo>
                    <a:pt x="137" y="76"/>
                  </a:lnTo>
                  <a:lnTo>
                    <a:pt x="131" y="72"/>
                  </a:lnTo>
                  <a:lnTo>
                    <a:pt x="126" y="69"/>
                  </a:lnTo>
                  <a:lnTo>
                    <a:pt x="118" y="65"/>
                  </a:lnTo>
                  <a:lnTo>
                    <a:pt x="112" y="63"/>
                  </a:lnTo>
                  <a:lnTo>
                    <a:pt x="107" y="59"/>
                  </a:lnTo>
                  <a:lnTo>
                    <a:pt x="101" y="55"/>
                  </a:lnTo>
                  <a:lnTo>
                    <a:pt x="95" y="52"/>
                  </a:lnTo>
                  <a:lnTo>
                    <a:pt x="88" y="50"/>
                  </a:lnTo>
                  <a:lnTo>
                    <a:pt x="82" y="44"/>
                  </a:lnTo>
                  <a:lnTo>
                    <a:pt x="74" y="42"/>
                  </a:lnTo>
                  <a:lnTo>
                    <a:pt x="68" y="38"/>
                  </a:lnTo>
                  <a:lnTo>
                    <a:pt x="63" y="34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44" y="25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5" y="17"/>
                  </a:lnTo>
                  <a:lnTo>
                    <a:pt x="17" y="14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442920" y="2487600"/>
              <a:ext cx="36360" cy="284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6" y="2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4"/>
                  </a:lnTo>
                  <a:lnTo>
                    <a:pt x="35" y="8"/>
                  </a:lnTo>
                  <a:lnTo>
                    <a:pt x="40" y="12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5"/>
                  </a:lnTo>
                  <a:lnTo>
                    <a:pt x="36" y="36"/>
                  </a:lnTo>
                  <a:lnTo>
                    <a:pt x="27" y="35"/>
                  </a:lnTo>
                  <a:lnTo>
                    <a:pt x="19" y="33"/>
                  </a:lnTo>
                  <a:lnTo>
                    <a:pt x="10" y="27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600240" y="2516040"/>
              <a:ext cx="446040" cy="73080"/>
            </a:xfrm>
            <a:custGeom>
              <a:avLst/>
              <a:gdLst/>
              <a:ahLst/>
              <a:rect l="l" t="t" r="r" b="b"/>
              <a:pathLst>
                <a:path w="562" h="94">
                  <a:moveTo>
                    <a:pt x="484" y="0"/>
                  </a:moveTo>
                  <a:lnTo>
                    <a:pt x="494" y="0"/>
                  </a:lnTo>
                  <a:lnTo>
                    <a:pt x="503" y="0"/>
                  </a:lnTo>
                  <a:lnTo>
                    <a:pt x="513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43" y="0"/>
                  </a:lnTo>
                  <a:lnTo>
                    <a:pt x="553" y="0"/>
                  </a:lnTo>
                  <a:lnTo>
                    <a:pt x="562" y="0"/>
                  </a:lnTo>
                  <a:lnTo>
                    <a:pt x="562" y="4"/>
                  </a:lnTo>
                  <a:lnTo>
                    <a:pt x="562" y="8"/>
                  </a:lnTo>
                  <a:lnTo>
                    <a:pt x="553" y="10"/>
                  </a:lnTo>
                  <a:lnTo>
                    <a:pt x="545" y="12"/>
                  </a:lnTo>
                  <a:lnTo>
                    <a:pt x="536" y="12"/>
                  </a:lnTo>
                  <a:lnTo>
                    <a:pt x="526" y="16"/>
                  </a:lnTo>
                  <a:lnTo>
                    <a:pt x="517" y="16"/>
                  </a:lnTo>
                  <a:lnTo>
                    <a:pt x="509" y="18"/>
                  </a:lnTo>
                  <a:lnTo>
                    <a:pt x="500" y="19"/>
                  </a:lnTo>
                  <a:lnTo>
                    <a:pt x="492" y="21"/>
                  </a:lnTo>
                  <a:lnTo>
                    <a:pt x="482" y="21"/>
                  </a:lnTo>
                  <a:lnTo>
                    <a:pt x="473" y="23"/>
                  </a:lnTo>
                  <a:lnTo>
                    <a:pt x="465" y="25"/>
                  </a:lnTo>
                  <a:lnTo>
                    <a:pt x="456" y="27"/>
                  </a:lnTo>
                  <a:lnTo>
                    <a:pt x="446" y="27"/>
                  </a:lnTo>
                  <a:lnTo>
                    <a:pt x="439" y="29"/>
                  </a:lnTo>
                  <a:lnTo>
                    <a:pt x="429" y="29"/>
                  </a:lnTo>
                  <a:lnTo>
                    <a:pt x="422" y="31"/>
                  </a:lnTo>
                  <a:lnTo>
                    <a:pt x="412" y="31"/>
                  </a:lnTo>
                  <a:lnTo>
                    <a:pt x="403" y="33"/>
                  </a:lnTo>
                  <a:lnTo>
                    <a:pt x="395" y="35"/>
                  </a:lnTo>
                  <a:lnTo>
                    <a:pt x="385" y="37"/>
                  </a:lnTo>
                  <a:lnTo>
                    <a:pt x="376" y="37"/>
                  </a:lnTo>
                  <a:lnTo>
                    <a:pt x="368" y="37"/>
                  </a:lnTo>
                  <a:lnTo>
                    <a:pt x="359" y="38"/>
                  </a:lnTo>
                  <a:lnTo>
                    <a:pt x="351" y="40"/>
                  </a:lnTo>
                  <a:lnTo>
                    <a:pt x="342" y="40"/>
                  </a:lnTo>
                  <a:lnTo>
                    <a:pt x="332" y="42"/>
                  </a:lnTo>
                  <a:lnTo>
                    <a:pt x="323" y="42"/>
                  </a:lnTo>
                  <a:lnTo>
                    <a:pt x="315" y="44"/>
                  </a:lnTo>
                  <a:lnTo>
                    <a:pt x="306" y="44"/>
                  </a:lnTo>
                  <a:lnTo>
                    <a:pt x="296" y="46"/>
                  </a:lnTo>
                  <a:lnTo>
                    <a:pt x="288" y="46"/>
                  </a:lnTo>
                  <a:lnTo>
                    <a:pt x="279" y="48"/>
                  </a:lnTo>
                  <a:lnTo>
                    <a:pt x="269" y="48"/>
                  </a:lnTo>
                  <a:lnTo>
                    <a:pt x="260" y="50"/>
                  </a:lnTo>
                  <a:lnTo>
                    <a:pt x="252" y="52"/>
                  </a:lnTo>
                  <a:lnTo>
                    <a:pt x="243" y="52"/>
                  </a:lnTo>
                  <a:lnTo>
                    <a:pt x="233" y="54"/>
                  </a:lnTo>
                  <a:lnTo>
                    <a:pt x="226" y="54"/>
                  </a:lnTo>
                  <a:lnTo>
                    <a:pt x="216" y="56"/>
                  </a:lnTo>
                  <a:lnTo>
                    <a:pt x="209" y="57"/>
                  </a:lnTo>
                  <a:lnTo>
                    <a:pt x="199" y="57"/>
                  </a:lnTo>
                  <a:lnTo>
                    <a:pt x="190" y="59"/>
                  </a:lnTo>
                  <a:lnTo>
                    <a:pt x="182" y="59"/>
                  </a:lnTo>
                  <a:lnTo>
                    <a:pt x="173" y="61"/>
                  </a:lnTo>
                  <a:lnTo>
                    <a:pt x="163" y="63"/>
                  </a:lnTo>
                  <a:lnTo>
                    <a:pt x="155" y="63"/>
                  </a:lnTo>
                  <a:lnTo>
                    <a:pt x="146" y="65"/>
                  </a:lnTo>
                  <a:lnTo>
                    <a:pt x="138" y="67"/>
                  </a:lnTo>
                  <a:lnTo>
                    <a:pt x="129" y="67"/>
                  </a:lnTo>
                  <a:lnTo>
                    <a:pt x="119" y="69"/>
                  </a:lnTo>
                  <a:lnTo>
                    <a:pt x="112" y="71"/>
                  </a:lnTo>
                  <a:lnTo>
                    <a:pt x="102" y="73"/>
                  </a:lnTo>
                  <a:lnTo>
                    <a:pt x="93" y="73"/>
                  </a:lnTo>
                  <a:lnTo>
                    <a:pt x="85" y="75"/>
                  </a:lnTo>
                  <a:lnTo>
                    <a:pt x="76" y="76"/>
                  </a:lnTo>
                  <a:lnTo>
                    <a:pt x="68" y="78"/>
                  </a:lnTo>
                  <a:lnTo>
                    <a:pt x="58" y="80"/>
                  </a:lnTo>
                  <a:lnTo>
                    <a:pt x="49" y="82"/>
                  </a:lnTo>
                  <a:lnTo>
                    <a:pt x="41" y="82"/>
                  </a:lnTo>
                  <a:lnTo>
                    <a:pt x="34" y="84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7" y="92"/>
                  </a:lnTo>
                  <a:lnTo>
                    <a:pt x="0" y="94"/>
                  </a:lnTo>
                  <a:lnTo>
                    <a:pt x="7" y="92"/>
                  </a:lnTo>
                  <a:lnTo>
                    <a:pt x="13" y="88"/>
                  </a:lnTo>
                  <a:lnTo>
                    <a:pt x="19" y="84"/>
                  </a:lnTo>
                  <a:lnTo>
                    <a:pt x="26" y="82"/>
                  </a:lnTo>
                  <a:lnTo>
                    <a:pt x="34" y="80"/>
                  </a:lnTo>
                  <a:lnTo>
                    <a:pt x="39" y="78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8" y="69"/>
                  </a:lnTo>
                  <a:lnTo>
                    <a:pt x="76" y="65"/>
                  </a:lnTo>
                  <a:lnTo>
                    <a:pt x="83" y="63"/>
                  </a:lnTo>
                  <a:lnTo>
                    <a:pt x="91" y="61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6"/>
                  </a:lnTo>
                  <a:lnTo>
                    <a:pt x="127" y="54"/>
                  </a:lnTo>
                  <a:lnTo>
                    <a:pt x="135" y="52"/>
                  </a:lnTo>
                  <a:lnTo>
                    <a:pt x="142" y="52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5" y="46"/>
                  </a:lnTo>
                  <a:lnTo>
                    <a:pt x="173" y="44"/>
                  </a:lnTo>
                  <a:lnTo>
                    <a:pt x="180" y="42"/>
                  </a:lnTo>
                  <a:lnTo>
                    <a:pt x="188" y="42"/>
                  </a:lnTo>
                  <a:lnTo>
                    <a:pt x="195" y="40"/>
                  </a:lnTo>
                  <a:lnTo>
                    <a:pt x="203" y="38"/>
                  </a:lnTo>
                  <a:lnTo>
                    <a:pt x="211" y="38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5" y="37"/>
                  </a:lnTo>
                  <a:lnTo>
                    <a:pt x="241" y="35"/>
                  </a:lnTo>
                  <a:lnTo>
                    <a:pt x="250" y="33"/>
                  </a:lnTo>
                  <a:lnTo>
                    <a:pt x="258" y="31"/>
                  </a:lnTo>
                  <a:lnTo>
                    <a:pt x="266" y="31"/>
                  </a:lnTo>
                  <a:lnTo>
                    <a:pt x="271" y="29"/>
                  </a:lnTo>
                  <a:lnTo>
                    <a:pt x="281" y="29"/>
                  </a:lnTo>
                  <a:lnTo>
                    <a:pt x="288" y="27"/>
                  </a:lnTo>
                  <a:lnTo>
                    <a:pt x="296" y="27"/>
                  </a:lnTo>
                  <a:lnTo>
                    <a:pt x="304" y="25"/>
                  </a:lnTo>
                  <a:lnTo>
                    <a:pt x="311" y="25"/>
                  </a:lnTo>
                  <a:lnTo>
                    <a:pt x="319" y="21"/>
                  </a:lnTo>
                  <a:lnTo>
                    <a:pt x="327" y="21"/>
                  </a:lnTo>
                  <a:lnTo>
                    <a:pt x="334" y="21"/>
                  </a:lnTo>
                  <a:lnTo>
                    <a:pt x="344" y="19"/>
                  </a:lnTo>
                  <a:lnTo>
                    <a:pt x="351" y="19"/>
                  </a:lnTo>
                  <a:lnTo>
                    <a:pt x="359" y="19"/>
                  </a:lnTo>
                  <a:lnTo>
                    <a:pt x="366" y="18"/>
                  </a:lnTo>
                  <a:lnTo>
                    <a:pt x="374" y="16"/>
                  </a:lnTo>
                  <a:lnTo>
                    <a:pt x="382" y="16"/>
                  </a:lnTo>
                  <a:lnTo>
                    <a:pt x="389" y="14"/>
                  </a:lnTo>
                  <a:lnTo>
                    <a:pt x="397" y="12"/>
                  </a:lnTo>
                  <a:lnTo>
                    <a:pt x="406" y="12"/>
                  </a:lnTo>
                  <a:lnTo>
                    <a:pt x="414" y="10"/>
                  </a:lnTo>
                  <a:lnTo>
                    <a:pt x="422" y="10"/>
                  </a:lnTo>
                  <a:lnTo>
                    <a:pt x="429" y="8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2" y="4"/>
                  </a:lnTo>
                  <a:lnTo>
                    <a:pt x="460" y="2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451560" y="2624040"/>
              <a:ext cx="447840" cy="58680"/>
            </a:xfrm>
            <a:custGeom>
              <a:avLst/>
              <a:gdLst/>
              <a:ahLst/>
              <a:rect l="l" t="t" r="r" b="b"/>
              <a:pathLst>
                <a:path w="564" h="74">
                  <a:moveTo>
                    <a:pt x="188" y="6"/>
                  </a:moveTo>
                  <a:lnTo>
                    <a:pt x="199" y="6"/>
                  </a:lnTo>
                  <a:lnTo>
                    <a:pt x="211" y="6"/>
                  </a:lnTo>
                  <a:lnTo>
                    <a:pt x="215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39" y="6"/>
                  </a:lnTo>
                  <a:lnTo>
                    <a:pt x="247" y="6"/>
                  </a:lnTo>
                  <a:lnTo>
                    <a:pt x="251" y="6"/>
                  </a:lnTo>
                  <a:lnTo>
                    <a:pt x="258" y="6"/>
                  </a:lnTo>
                  <a:lnTo>
                    <a:pt x="262" y="6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83" y="6"/>
                  </a:lnTo>
                  <a:lnTo>
                    <a:pt x="287" y="6"/>
                  </a:lnTo>
                  <a:lnTo>
                    <a:pt x="295" y="6"/>
                  </a:lnTo>
                  <a:lnTo>
                    <a:pt x="298" y="4"/>
                  </a:lnTo>
                  <a:lnTo>
                    <a:pt x="306" y="4"/>
                  </a:lnTo>
                  <a:lnTo>
                    <a:pt x="312" y="4"/>
                  </a:lnTo>
                  <a:lnTo>
                    <a:pt x="317" y="4"/>
                  </a:lnTo>
                  <a:lnTo>
                    <a:pt x="323" y="4"/>
                  </a:lnTo>
                  <a:lnTo>
                    <a:pt x="331" y="4"/>
                  </a:lnTo>
                  <a:lnTo>
                    <a:pt x="334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3" y="2"/>
                  </a:lnTo>
                  <a:lnTo>
                    <a:pt x="361" y="2"/>
                  </a:lnTo>
                  <a:lnTo>
                    <a:pt x="367" y="2"/>
                  </a:lnTo>
                  <a:lnTo>
                    <a:pt x="372" y="2"/>
                  </a:lnTo>
                  <a:lnTo>
                    <a:pt x="380" y="2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2"/>
                  </a:lnTo>
                  <a:lnTo>
                    <a:pt x="469" y="2"/>
                  </a:lnTo>
                  <a:lnTo>
                    <a:pt x="475" y="2"/>
                  </a:lnTo>
                  <a:lnTo>
                    <a:pt x="487" y="2"/>
                  </a:lnTo>
                  <a:lnTo>
                    <a:pt x="498" y="6"/>
                  </a:lnTo>
                  <a:lnTo>
                    <a:pt x="502" y="6"/>
                  </a:lnTo>
                  <a:lnTo>
                    <a:pt x="509" y="6"/>
                  </a:lnTo>
                  <a:lnTo>
                    <a:pt x="515" y="8"/>
                  </a:lnTo>
                  <a:lnTo>
                    <a:pt x="521" y="10"/>
                  </a:lnTo>
                  <a:lnTo>
                    <a:pt x="530" y="12"/>
                  </a:lnTo>
                  <a:lnTo>
                    <a:pt x="544" y="16"/>
                  </a:lnTo>
                  <a:lnTo>
                    <a:pt x="553" y="19"/>
                  </a:lnTo>
                  <a:lnTo>
                    <a:pt x="564" y="23"/>
                  </a:lnTo>
                  <a:lnTo>
                    <a:pt x="557" y="23"/>
                  </a:lnTo>
                  <a:lnTo>
                    <a:pt x="549" y="23"/>
                  </a:lnTo>
                  <a:lnTo>
                    <a:pt x="542" y="23"/>
                  </a:lnTo>
                  <a:lnTo>
                    <a:pt x="534" y="23"/>
                  </a:lnTo>
                  <a:lnTo>
                    <a:pt x="525" y="23"/>
                  </a:lnTo>
                  <a:lnTo>
                    <a:pt x="517" y="23"/>
                  </a:lnTo>
                  <a:lnTo>
                    <a:pt x="509" y="25"/>
                  </a:lnTo>
                  <a:lnTo>
                    <a:pt x="502" y="25"/>
                  </a:lnTo>
                  <a:lnTo>
                    <a:pt x="494" y="25"/>
                  </a:lnTo>
                  <a:lnTo>
                    <a:pt x="487" y="25"/>
                  </a:lnTo>
                  <a:lnTo>
                    <a:pt x="479" y="27"/>
                  </a:lnTo>
                  <a:lnTo>
                    <a:pt x="471" y="27"/>
                  </a:lnTo>
                  <a:lnTo>
                    <a:pt x="464" y="27"/>
                  </a:lnTo>
                  <a:lnTo>
                    <a:pt x="456" y="29"/>
                  </a:lnTo>
                  <a:lnTo>
                    <a:pt x="449" y="29"/>
                  </a:lnTo>
                  <a:lnTo>
                    <a:pt x="443" y="31"/>
                  </a:lnTo>
                  <a:lnTo>
                    <a:pt x="433" y="31"/>
                  </a:lnTo>
                  <a:lnTo>
                    <a:pt x="426" y="31"/>
                  </a:lnTo>
                  <a:lnTo>
                    <a:pt x="418" y="33"/>
                  </a:lnTo>
                  <a:lnTo>
                    <a:pt x="412" y="35"/>
                  </a:lnTo>
                  <a:lnTo>
                    <a:pt x="405" y="35"/>
                  </a:lnTo>
                  <a:lnTo>
                    <a:pt x="397" y="35"/>
                  </a:lnTo>
                  <a:lnTo>
                    <a:pt x="390" y="36"/>
                  </a:lnTo>
                  <a:lnTo>
                    <a:pt x="382" y="36"/>
                  </a:lnTo>
                  <a:lnTo>
                    <a:pt x="374" y="36"/>
                  </a:lnTo>
                  <a:lnTo>
                    <a:pt x="367" y="38"/>
                  </a:lnTo>
                  <a:lnTo>
                    <a:pt x="359" y="38"/>
                  </a:lnTo>
                  <a:lnTo>
                    <a:pt x="352" y="42"/>
                  </a:lnTo>
                  <a:lnTo>
                    <a:pt x="344" y="42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3" y="46"/>
                  </a:lnTo>
                  <a:lnTo>
                    <a:pt x="315" y="46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93" y="50"/>
                  </a:lnTo>
                  <a:lnTo>
                    <a:pt x="285" y="50"/>
                  </a:lnTo>
                  <a:lnTo>
                    <a:pt x="277" y="52"/>
                  </a:lnTo>
                  <a:lnTo>
                    <a:pt x="270" y="52"/>
                  </a:lnTo>
                  <a:lnTo>
                    <a:pt x="262" y="54"/>
                  </a:lnTo>
                  <a:lnTo>
                    <a:pt x="255" y="54"/>
                  </a:lnTo>
                  <a:lnTo>
                    <a:pt x="247" y="55"/>
                  </a:lnTo>
                  <a:lnTo>
                    <a:pt x="239" y="55"/>
                  </a:lnTo>
                  <a:lnTo>
                    <a:pt x="234" y="57"/>
                  </a:lnTo>
                  <a:lnTo>
                    <a:pt x="224" y="57"/>
                  </a:lnTo>
                  <a:lnTo>
                    <a:pt x="218" y="61"/>
                  </a:lnTo>
                  <a:lnTo>
                    <a:pt x="211" y="61"/>
                  </a:lnTo>
                  <a:lnTo>
                    <a:pt x="203" y="63"/>
                  </a:lnTo>
                  <a:lnTo>
                    <a:pt x="196" y="63"/>
                  </a:lnTo>
                  <a:lnTo>
                    <a:pt x="188" y="63"/>
                  </a:lnTo>
                  <a:lnTo>
                    <a:pt x="180" y="65"/>
                  </a:lnTo>
                  <a:lnTo>
                    <a:pt x="173" y="65"/>
                  </a:lnTo>
                  <a:lnTo>
                    <a:pt x="165" y="65"/>
                  </a:lnTo>
                  <a:lnTo>
                    <a:pt x="158" y="67"/>
                  </a:lnTo>
                  <a:lnTo>
                    <a:pt x="150" y="67"/>
                  </a:lnTo>
                  <a:lnTo>
                    <a:pt x="144" y="69"/>
                  </a:lnTo>
                  <a:lnTo>
                    <a:pt x="135" y="69"/>
                  </a:lnTo>
                  <a:lnTo>
                    <a:pt x="127" y="71"/>
                  </a:lnTo>
                  <a:lnTo>
                    <a:pt x="120" y="71"/>
                  </a:lnTo>
                  <a:lnTo>
                    <a:pt x="112" y="73"/>
                  </a:lnTo>
                  <a:lnTo>
                    <a:pt x="104" y="73"/>
                  </a:lnTo>
                  <a:lnTo>
                    <a:pt x="99" y="73"/>
                  </a:lnTo>
                  <a:lnTo>
                    <a:pt x="89" y="74"/>
                  </a:lnTo>
                  <a:lnTo>
                    <a:pt x="83" y="74"/>
                  </a:lnTo>
                  <a:lnTo>
                    <a:pt x="83" y="65"/>
                  </a:lnTo>
                  <a:lnTo>
                    <a:pt x="91" y="57"/>
                  </a:lnTo>
                  <a:lnTo>
                    <a:pt x="82" y="55"/>
                  </a:lnTo>
                  <a:lnTo>
                    <a:pt x="74" y="55"/>
                  </a:lnTo>
                  <a:lnTo>
                    <a:pt x="68" y="54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1" y="46"/>
                  </a:lnTo>
                  <a:lnTo>
                    <a:pt x="15" y="44"/>
                  </a:lnTo>
                  <a:lnTo>
                    <a:pt x="9" y="42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7" y="12"/>
                  </a:lnTo>
                  <a:lnTo>
                    <a:pt x="57" y="12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10"/>
                  </a:lnTo>
                  <a:lnTo>
                    <a:pt x="116" y="12"/>
                  </a:lnTo>
                  <a:lnTo>
                    <a:pt x="127" y="12"/>
                  </a:lnTo>
                  <a:lnTo>
                    <a:pt x="139" y="16"/>
                  </a:lnTo>
                  <a:lnTo>
                    <a:pt x="144" y="14"/>
                  </a:lnTo>
                  <a:lnTo>
                    <a:pt x="150" y="14"/>
                  </a:lnTo>
                  <a:lnTo>
                    <a:pt x="156" y="14"/>
                  </a:lnTo>
                  <a:lnTo>
                    <a:pt x="163" y="14"/>
                  </a:lnTo>
                  <a:lnTo>
                    <a:pt x="169" y="12"/>
                  </a:lnTo>
                  <a:lnTo>
                    <a:pt x="177" y="10"/>
                  </a:lnTo>
                  <a:lnTo>
                    <a:pt x="182" y="8"/>
                  </a:lnTo>
                  <a:lnTo>
                    <a:pt x="188" y="6"/>
                  </a:lnTo>
                  <a:lnTo>
                    <a:pt x="1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342200" y="2646360"/>
              <a:ext cx="1063440" cy="74520"/>
            </a:xfrm>
            <a:custGeom>
              <a:avLst/>
              <a:gdLst/>
              <a:ahLst/>
              <a:rect l="l" t="t" r="r" b="b"/>
              <a:pathLst>
                <a:path w="1340" h="93">
                  <a:moveTo>
                    <a:pt x="482" y="0"/>
                  </a:moveTo>
                  <a:lnTo>
                    <a:pt x="496" y="0"/>
                  </a:lnTo>
                  <a:lnTo>
                    <a:pt x="507" y="0"/>
                  </a:lnTo>
                  <a:lnTo>
                    <a:pt x="520" y="0"/>
                  </a:lnTo>
                  <a:lnTo>
                    <a:pt x="534" y="0"/>
                  </a:lnTo>
                  <a:lnTo>
                    <a:pt x="545" y="0"/>
                  </a:lnTo>
                  <a:lnTo>
                    <a:pt x="558" y="0"/>
                  </a:lnTo>
                  <a:lnTo>
                    <a:pt x="572" y="0"/>
                  </a:lnTo>
                  <a:lnTo>
                    <a:pt x="585" y="2"/>
                  </a:lnTo>
                  <a:lnTo>
                    <a:pt x="598" y="2"/>
                  </a:lnTo>
                  <a:lnTo>
                    <a:pt x="610" y="2"/>
                  </a:lnTo>
                  <a:lnTo>
                    <a:pt x="623" y="2"/>
                  </a:lnTo>
                  <a:lnTo>
                    <a:pt x="636" y="2"/>
                  </a:lnTo>
                  <a:lnTo>
                    <a:pt x="650" y="2"/>
                  </a:lnTo>
                  <a:lnTo>
                    <a:pt x="663" y="2"/>
                  </a:lnTo>
                  <a:lnTo>
                    <a:pt x="676" y="2"/>
                  </a:lnTo>
                  <a:lnTo>
                    <a:pt x="692" y="2"/>
                  </a:lnTo>
                  <a:lnTo>
                    <a:pt x="703" y="2"/>
                  </a:lnTo>
                  <a:lnTo>
                    <a:pt x="716" y="2"/>
                  </a:lnTo>
                  <a:lnTo>
                    <a:pt x="730" y="2"/>
                  </a:lnTo>
                  <a:lnTo>
                    <a:pt x="745" y="2"/>
                  </a:lnTo>
                  <a:lnTo>
                    <a:pt x="756" y="2"/>
                  </a:lnTo>
                  <a:lnTo>
                    <a:pt x="769" y="2"/>
                  </a:lnTo>
                  <a:lnTo>
                    <a:pt x="785" y="2"/>
                  </a:lnTo>
                  <a:lnTo>
                    <a:pt x="798" y="4"/>
                  </a:lnTo>
                  <a:lnTo>
                    <a:pt x="811" y="4"/>
                  </a:lnTo>
                  <a:lnTo>
                    <a:pt x="825" y="4"/>
                  </a:lnTo>
                  <a:lnTo>
                    <a:pt x="838" y="4"/>
                  </a:lnTo>
                  <a:lnTo>
                    <a:pt x="851" y="4"/>
                  </a:lnTo>
                  <a:lnTo>
                    <a:pt x="865" y="4"/>
                  </a:lnTo>
                  <a:lnTo>
                    <a:pt x="878" y="4"/>
                  </a:lnTo>
                  <a:lnTo>
                    <a:pt x="893" y="4"/>
                  </a:lnTo>
                  <a:lnTo>
                    <a:pt x="906" y="6"/>
                  </a:lnTo>
                  <a:lnTo>
                    <a:pt x="920" y="6"/>
                  </a:lnTo>
                  <a:lnTo>
                    <a:pt x="933" y="6"/>
                  </a:lnTo>
                  <a:lnTo>
                    <a:pt x="948" y="6"/>
                  </a:lnTo>
                  <a:lnTo>
                    <a:pt x="961" y="6"/>
                  </a:lnTo>
                  <a:lnTo>
                    <a:pt x="973" y="6"/>
                  </a:lnTo>
                  <a:lnTo>
                    <a:pt x="988" y="6"/>
                  </a:lnTo>
                  <a:lnTo>
                    <a:pt x="1001" y="6"/>
                  </a:lnTo>
                  <a:lnTo>
                    <a:pt x="1015" y="7"/>
                  </a:lnTo>
                  <a:lnTo>
                    <a:pt x="1028" y="7"/>
                  </a:lnTo>
                  <a:lnTo>
                    <a:pt x="1041" y="7"/>
                  </a:lnTo>
                  <a:lnTo>
                    <a:pt x="1055" y="7"/>
                  </a:lnTo>
                  <a:lnTo>
                    <a:pt x="1070" y="9"/>
                  </a:lnTo>
                  <a:lnTo>
                    <a:pt x="1081" y="9"/>
                  </a:lnTo>
                  <a:lnTo>
                    <a:pt x="1096" y="9"/>
                  </a:lnTo>
                  <a:lnTo>
                    <a:pt x="1110" y="11"/>
                  </a:lnTo>
                  <a:lnTo>
                    <a:pt x="1125" y="13"/>
                  </a:lnTo>
                  <a:lnTo>
                    <a:pt x="1136" y="13"/>
                  </a:lnTo>
                  <a:lnTo>
                    <a:pt x="1152" y="13"/>
                  </a:lnTo>
                  <a:lnTo>
                    <a:pt x="1163" y="15"/>
                  </a:lnTo>
                  <a:lnTo>
                    <a:pt x="1176" y="15"/>
                  </a:lnTo>
                  <a:lnTo>
                    <a:pt x="1190" y="15"/>
                  </a:lnTo>
                  <a:lnTo>
                    <a:pt x="1203" y="17"/>
                  </a:lnTo>
                  <a:lnTo>
                    <a:pt x="1218" y="17"/>
                  </a:lnTo>
                  <a:lnTo>
                    <a:pt x="1231" y="19"/>
                  </a:lnTo>
                  <a:lnTo>
                    <a:pt x="1245" y="21"/>
                  </a:lnTo>
                  <a:lnTo>
                    <a:pt x="1258" y="23"/>
                  </a:lnTo>
                  <a:lnTo>
                    <a:pt x="1271" y="25"/>
                  </a:lnTo>
                  <a:lnTo>
                    <a:pt x="1285" y="26"/>
                  </a:lnTo>
                  <a:lnTo>
                    <a:pt x="1298" y="26"/>
                  </a:lnTo>
                  <a:lnTo>
                    <a:pt x="1311" y="28"/>
                  </a:lnTo>
                  <a:lnTo>
                    <a:pt x="1325" y="30"/>
                  </a:lnTo>
                  <a:lnTo>
                    <a:pt x="1340" y="34"/>
                  </a:lnTo>
                  <a:lnTo>
                    <a:pt x="1319" y="34"/>
                  </a:lnTo>
                  <a:lnTo>
                    <a:pt x="1298" y="38"/>
                  </a:lnTo>
                  <a:lnTo>
                    <a:pt x="1277" y="38"/>
                  </a:lnTo>
                  <a:lnTo>
                    <a:pt x="1258" y="42"/>
                  </a:lnTo>
                  <a:lnTo>
                    <a:pt x="1237" y="44"/>
                  </a:lnTo>
                  <a:lnTo>
                    <a:pt x="1218" y="45"/>
                  </a:lnTo>
                  <a:lnTo>
                    <a:pt x="1195" y="45"/>
                  </a:lnTo>
                  <a:lnTo>
                    <a:pt x="1176" y="47"/>
                  </a:lnTo>
                  <a:lnTo>
                    <a:pt x="1155" y="47"/>
                  </a:lnTo>
                  <a:lnTo>
                    <a:pt x="1136" y="49"/>
                  </a:lnTo>
                  <a:lnTo>
                    <a:pt x="1115" y="51"/>
                  </a:lnTo>
                  <a:lnTo>
                    <a:pt x="1096" y="51"/>
                  </a:lnTo>
                  <a:lnTo>
                    <a:pt x="1074" y="51"/>
                  </a:lnTo>
                  <a:lnTo>
                    <a:pt x="1055" y="53"/>
                  </a:lnTo>
                  <a:lnTo>
                    <a:pt x="1034" y="53"/>
                  </a:lnTo>
                  <a:lnTo>
                    <a:pt x="1015" y="53"/>
                  </a:lnTo>
                  <a:lnTo>
                    <a:pt x="992" y="53"/>
                  </a:lnTo>
                  <a:lnTo>
                    <a:pt x="973" y="53"/>
                  </a:lnTo>
                  <a:lnTo>
                    <a:pt x="952" y="53"/>
                  </a:lnTo>
                  <a:lnTo>
                    <a:pt x="931" y="53"/>
                  </a:lnTo>
                  <a:lnTo>
                    <a:pt x="910" y="53"/>
                  </a:lnTo>
                  <a:lnTo>
                    <a:pt x="889" y="53"/>
                  </a:lnTo>
                  <a:lnTo>
                    <a:pt x="868" y="53"/>
                  </a:lnTo>
                  <a:lnTo>
                    <a:pt x="849" y="53"/>
                  </a:lnTo>
                  <a:lnTo>
                    <a:pt x="828" y="51"/>
                  </a:lnTo>
                  <a:lnTo>
                    <a:pt x="809" y="51"/>
                  </a:lnTo>
                  <a:lnTo>
                    <a:pt x="787" y="51"/>
                  </a:lnTo>
                  <a:lnTo>
                    <a:pt x="768" y="51"/>
                  </a:lnTo>
                  <a:lnTo>
                    <a:pt x="747" y="51"/>
                  </a:lnTo>
                  <a:lnTo>
                    <a:pt x="726" y="51"/>
                  </a:lnTo>
                  <a:lnTo>
                    <a:pt x="705" y="51"/>
                  </a:lnTo>
                  <a:lnTo>
                    <a:pt x="686" y="51"/>
                  </a:lnTo>
                  <a:lnTo>
                    <a:pt x="665" y="49"/>
                  </a:lnTo>
                  <a:lnTo>
                    <a:pt x="644" y="49"/>
                  </a:lnTo>
                  <a:lnTo>
                    <a:pt x="623" y="47"/>
                  </a:lnTo>
                  <a:lnTo>
                    <a:pt x="602" y="47"/>
                  </a:lnTo>
                  <a:lnTo>
                    <a:pt x="581" y="47"/>
                  </a:lnTo>
                  <a:lnTo>
                    <a:pt x="562" y="47"/>
                  </a:lnTo>
                  <a:lnTo>
                    <a:pt x="541" y="47"/>
                  </a:lnTo>
                  <a:lnTo>
                    <a:pt x="520" y="47"/>
                  </a:lnTo>
                  <a:lnTo>
                    <a:pt x="500" y="47"/>
                  </a:lnTo>
                  <a:lnTo>
                    <a:pt x="479" y="47"/>
                  </a:lnTo>
                  <a:lnTo>
                    <a:pt x="458" y="47"/>
                  </a:lnTo>
                  <a:lnTo>
                    <a:pt x="439" y="47"/>
                  </a:lnTo>
                  <a:lnTo>
                    <a:pt x="416" y="47"/>
                  </a:lnTo>
                  <a:lnTo>
                    <a:pt x="397" y="49"/>
                  </a:lnTo>
                  <a:lnTo>
                    <a:pt x="376" y="51"/>
                  </a:lnTo>
                  <a:lnTo>
                    <a:pt x="357" y="53"/>
                  </a:lnTo>
                  <a:lnTo>
                    <a:pt x="336" y="53"/>
                  </a:lnTo>
                  <a:lnTo>
                    <a:pt x="315" y="55"/>
                  </a:lnTo>
                  <a:lnTo>
                    <a:pt x="294" y="55"/>
                  </a:lnTo>
                  <a:lnTo>
                    <a:pt x="273" y="57"/>
                  </a:lnTo>
                  <a:lnTo>
                    <a:pt x="252" y="59"/>
                  </a:lnTo>
                  <a:lnTo>
                    <a:pt x="233" y="61"/>
                  </a:lnTo>
                  <a:lnTo>
                    <a:pt x="212" y="63"/>
                  </a:lnTo>
                  <a:lnTo>
                    <a:pt x="193" y="66"/>
                  </a:lnTo>
                  <a:lnTo>
                    <a:pt x="173" y="68"/>
                  </a:lnTo>
                  <a:lnTo>
                    <a:pt x="153" y="70"/>
                  </a:lnTo>
                  <a:lnTo>
                    <a:pt x="133" y="74"/>
                  </a:lnTo>
                  <a:lnTo>
                    <a:pt x="114" y="78"/>
                  </a:lnTo>
                  <a:lnTo>
                    <a:pt x="93" y="82"/>
                  </a:lnTo>
                  <a:lnTo>
                    <a:pt x="74" y="83"/>
                  </a:lnTo>
                  <a:lnTo>
                    <a:pt x="53" y="89"/>
                  </a:lnTo>
                  <a:lnTo>
                    <a:pt x="34" y="93"/>
                  </a:lnTo>
                  <a:lnTo>
                    <a:pt x="28" y="91"/>
                  </a:lnTo>
                  <a:lnTo>
                    <a:pt x="22" y="87"/>
                  </a:lnTo>
                  <a:lnTo>
                    <a:pt x="17" y="85"/>
                  </a:lnTo>
                  <a:lnTo>
                    <a:pt x="15" y="83"/>
                  </a:lnTo>
                  <a:lnTo>
                    <a:pt x="7" y="80"/>
                  </a:lnTo>
                  <a:lnTo>
                    <a:pt x="3" y="76"/>
                  </a:lnTo>
                  <a:lnTo>
                    <a:pt x="0" y="68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15" y="55"/>
                  </a:lnTo>
                  <a:lnTo>
                    <a:pt x="22" y="53"/>
                  </a:lnTo>
                  <a:lnTo>
                    <a:pt x="32" y="51"/>
                  </a:lnTo>
                  <a:lnTo>
                    <a:pt x="39" y="47"/>
                  </a:lnTo>
                  <a:lnTo>
                    <a:pt x="51" y="47"/>
                  </a:lnTo>
                  <a:lnTo>
                    <a:pt x="55" y="45"/>
                  </a:lnTo>
                  <a:lnTo>
                    <a:pt x="62" y="45"/>
                  </a:lnTo>
                  <a:lnTo>
                    <a:pt x="68" y="44"/>
                  </a:lnTo>
                  <a:lnTo>
                    <a:pt x="74" y="44"/>
                  </a:lnTo>
                  <a:lnTo>
                    <a:pt x="79" y="42"/>
                  </a:lnTo>
                  <a:lnTo>
                    <a:pt x="87" y="42"/>
                  </a:lnTo>
                  <a:lnTo>
                    <a:pt x="93" y="40"/>
                  </a:lnTo>
                  <a:lnTo>
                    <a:pt x="98" y="40"/>
                  </a:lnTo>
                  <a:lnTo>
                    <a:pt x="106" y="38"/>
                  </a:lnTo>
                  <a:lnTo>
                    <a:pt x="112" y="38"/>
                  </a:lnTo>
                  <a:lnTo>
                    <a:pt x="119" y="36"/>
                  </a:lnTo>
                  <a:lnTo>
                    <a:pt x="127" y="36"/>
                  </a:lnTo>
                  <a:lnTo>
                    <a:pt x="133" y="36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53" y="34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0" y="32"/>
                  </a:lnTo>
                  <a:lnTo>
                    <a:pt x="186" y="30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5" y="28"/>
                  </a:lnTo>
                  <a:lnTo>
                    <a:pt x="216" y="26"/>
                  </a:lnTo>
                  <a:lnTo>
                    <a:pt x="228" y="26"/>
                  </a:lnTo>
                  <a:lnTo>
                    <a:pt x="237" y="25"/>
                  </a:lnTo>
                  <a:lnTo>
                    <a:pt x="247" y="25"/>
                  </a:lnTo>
                  <a:lnTo>
                    <a:pt x="254" y="23"/>
                  </a:lnTo>
                  <a:lnTo>
                    <a:pt x="262" y="23"/>
                  </a:lnTo>
                  <a:lnTo>
                    <a:pt x="268" y="19"/>
                  </a:lnTo>
                  <a:lnTo>
                    <a:pt x="275" y="17"/>
                  </a:lnTo>
                  <a:lnTo>
                    <a:pt x="281" y="15"/>
                  </a:lnTo>
                  <a:lnTo>
                    <a:pt x="287" y="13"/>
                  </a:lnTo>
                  <a:lnTo>
                    <a:pt x="294" y="11"/>
                  </a:lnTo>
                  <a:lnTo>
                    <a:pt x="302" y="9"/>
                  </a:lnTo>
                  <a:lnTo>
                    <a:pt x="309" y="9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28" y="9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49" y="9"/>
                  </a:lnTo>
                  <a:lnTo>
                    <a:pt x="359" y="9"/>
                  </a:lnTo>
                  <a:lnTo>
                    <a:pt x="365" y="9"/>
                  </a:lnTo>
                  <a:lnTo>
                    <a:pt x="374" y="11"/>
                  </a:lnTo>
                  <a:lnTo>
                    <a:pt x="380" y="11"/>
                  </a:lnTo>
                  <a:lnTo>
                    <a:pt x="387" y="11"/>
                  </a:lnTo>
                  <a:lnTo>
                    <a:pt x="393" y="11"/>
                  </a:lnTo>
                  <a:lnTo>
                    <a:pt x="401" y="11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9" y="9"/>
                  </a:lnTo>
                  <a:lnTo>
                    <a:pt x="435" y="9"/>
                  </a:lnTo>
                  <a:lnTo>
                    <a:pt x="442" y="7"/>
                  </a:lnTo>
                  <a:lnTo>
                    <a:pt x="448" y="7"/>
                  </a:lnTo>
                  <a:lnTo>
                    <a:pt x="456" y="6"/>
                  </a:lnTo>
                  <a:lnTo>
                    <a:pt x="461" y="4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916360" y="19177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80000" y="19177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89480" y="189000"/>
            <a:ext cx="57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urger to Cow algorithm or "Wishful Thinki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Jurassic Park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744200" y="17208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TIFF export following 3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from gray version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185800" y="5127480"/>
            <a:ext cx="2268360" cy="381240"/>
          </a:xfrm>
          <a:custGeom>
            <a:avLst/>
            <a:gdLst/>
            <a:ahLst/>
            <a:rect l="l" t="t" r="r" b="b"/>
            <a:pathLst>
              <a:path w="2858" h="479">
                <a:moveTo>
                  <a:pt x="2533" y="125"/>
                </a:moveTo>
                <a:lnTo>
                  <a:pt x="2527" y="129"/>
                </a:lnTo>
                <a:lnTo>
                  <a:pt x="2521" y="133"/>
                </a:lnTo>
                <a:lnTo>
                  <a:pt x="2514" y="135"/>
                </a:lnTo>
                <a:lnTo>
                  <a:pt x="2504" y="139"/>
                </a:lnTo>
                <a:lnTo>
                  <a:pt x="2495" y="141"/>
                </a:lnTo>
                <a:lnTo>
                  <a:pt x="2485" y="143"/>
                </a:lnTo>
                <a:lnTo>
                  <a:pt x="2478" y="144"/>
                </a:lnTo>
                <a:lnTo>
                  <a:pt x="2474" y="144"/>
                </a:lnTo>
                <a:lnTo>
                  <a:pt x="2466" y="146"/>
                </a:lnTo>
                <a:lnTo>
                  <a:pt x="2462" y="146"/>
                </a:lnTo>
                <a:lnTo>
                  <a:pt x="2455" y="146"/>
                </a:lnTo>
                <a:lnTo>
                  <a:pt x="2447" y="146"/>
                </a:lnTo>
                <a:lnTo>
                  <a:pt x="2440" y="146"/>
                </a:lnTo>
                <a:lnTo>
                  <a:pt x="2432" y="148"/>
                </a:lnTo>
                <a:lnTo>
                  <a:pt x="2426" y="148"/>
                </a:lnTo>
                <a:lnTo>
                  <a:pt x="2419" y="148"/>
                </a:lnTo>
                <a:lnTo>
                  <a:pt x="2411" y="148"/>
                </a:lnTo>
                <a:lnTo>
                  <a:pt x="2403" y="150"/>
                </a:lnTo>
                <a:lnTo>
                  <a:pt x="2396" y="148"/>
                </a:lnTo>
                <a:lnTo>
                  <a:pt x="2388" y="148"/>
                </a:lnTo>
                <a:lnTo>
                  <a:pt x="2381" y="148"/>
                </a:lnTo>
                <a:lnTo>
                  <a:pt x="2373" y="148"/>
                </a:lnTo>
                <a:lnTo>
                  <a:pt x="2363" y="146"/>
                </a:lnTo>
                <a:lnTo>
                  <a:pt x="2356" y="146"/>
                </a:lnTo>
                <a:lnTo>
                  <a:pt x="2348" y="146"/>
                </a:lnTo>
                <a:lnTo>
                  <a:pt x="2341" y="146"/>
                </a:lnTo>
                <a:lnTo>
                  <a:pt x="2331" y="146"/>
                </a:lnTo>
                <a:lnTo>
                  <a:pt x="2324" y="144"/>
                </a:lnTo>
                <a:lnTo>
                  <a:pt x="2314" y="144"/>
                </a:lnTo>
                <a:lnTo>
                  <a:pt x="2306" y="143"/>
                </a:lnTo>
                <a:lnTo>
                  <a:pt x="2299" y="143"/>
                </a:lnTo>
                <a:lnTo>
                  <a:pt x="2289" y="141"/>
                </a:lnTo>
                <a:lnTo>
                  <a:pt x="2282" y="141"/>
                </a:lnTo>
                <a:lnTo>
                  <a:pt x="2274" y="141"/>
                </a:lnTo>
                <a:lnTo>
                  <a:pt x="2265" y="137"/>
                </a:lnTo>
                <a:lnTo>
                  <a:pt x="2259" y="137"/>
                </a:lnTo>
                <a:lnTo>
                  <a:pt x="2249" y="135"/>
                </a:lnTo>
                <a:lnTo>
                  <a:pt x="2242" y="135"/>
                </a:lnTo>
                <a:lnTo>
                  <a:pt x="2234" y="133"/>
                </a:lnTo>
                <a:lnTo>
                  <a:pt x="2227" y="133"/>
                </a:lnTo>
                <a:lnTo>
                  <a:pt x="2219" y="131"/>
                </a:lnTo>
                <a:lnTo>
                  <a:pt x="2213" y="131"/>
                </a:lnTo>
                <a:lnTo>
                  <a:pt x="2204" y="127"/>
                </a:lnTo>
                <a:lnTo>
                  <a:pt x="2196" y="125"/>
                </a:lnTo>
                <a:lnTo>
                  <a:pt x="2190" y="124"/>
                </a:lnTo>
                <a:lnTo>
                  <a:pt x="2185" y="124"/>
                </a:lnTo>
                <a:lnTo>
                  <a:pt x="2177" y="122"/>
                </a:lnTo>
                <a:lnTo>
                  <a:pt x="2170" y="120"/>
                </a:lnTo>
                <a:lnTo>
                  <a:pt x="2164" y="118"/>
                </a:lnTo>
                <a:lnTo>
                  <a:pt x="2158" y="116"/>
                </a:lnTo>
                <a:lnTo>
                  <a:pt x="2147" y="112"/>
                </a:lnTo>
                <a:lnTo>
                  <a:pt x="2137" y="108"/>
                </a:lnTo>
                <a:lnTo>
                  <a:pt x="2128" y="104"/>
                </a:lnTo>
                <a:lnTo>
                  <a:pt x="2122" y="101"/>
                </a:lnTo>
                <a:lnTo>
                  <a:pt x="2114" y="97"/>
                </a:lnTo>
                <a:lnTo>
                  <a:pt x="2105" y="95"/>
                </a:lnTo>
                <a:lnTo>
                  <a:pt x="2095" y="91"/>
                </a:lnTo>
                <a:lnTo>
                  <a:pt x="2086" y="89"/>
                </a:lnTo>
                <a:lnTo>
                  <a:pt x="2080" y="87"/>
                </a:lnTo>
                <a:lnTo>
                  <a:pt x="2074" y="87"/>
                </a:lnTo>
                <a:lnTo>
                  <a:pt x="2067" y="85"/>
                </a:lnTo>
                <a:lnTo>
                  <a:pt x="2063" y="85"/>
                </a:lnTo>
                <a:lnTo>
                  <a:pt x="2055" y="82"/>
                </a:lnTo>
                <a:lnTo>
                  <a:pt x="2050" y="82"/>
                </a:lnTo>
                <a:lnTo>
                  <a:pt x="2042" y="80"/>
                </a:lnTo>
                <a:lnTo>
                  <a:pt x="2036" y="80"/>
                </a:lnTo>
                <a:lnTo>
                  <a:pt x="2029" y="78"/>
                </a:lnTo>
                <a:lnTo>
                  <a:pt x="2021" y="78"/>
                </a:lnTo>
                <a:lnTo>
                  <a:pt x="2014" y="76"/>
                </a:lnTo>
                <a:lnTo>
                  <a:pt x="2008" y="76"/>
                </a:lnTo>
                <a:lnTo>
                  <a:pt x="1998" y="72"/>
                </a:lnTo>
                <a:lnTo>
                  <a:pt x="1991" y="72"/>
                </a:lnTo>
                <a:lnTo>
                  <a:pt x="1983" y="70"/>
                </a:lnTo>
                <a:lnTo>
                  <a:pt x="1976" y="70"/>
                </a:lnTo>
                <a:lnTo>
                  <a:pt x="1968" y="68"/>
                </a:lnTo>
                <a:lnTo>
                  <a:pt x="1959" y="66"/>
                </a:lnTo>
                <a:lnTo>
                  <a:pt x="1951" y="66"/>
                </a:lnTo>
                <a:lnTo>
                  <a:pt x="1943" y="65"/>
                </a:lnTo>
                <a:lnTo>
                  <a:pt x="1936" y="63"/>
                </a:lnTo>
                <a:lnTo>
                  <a:pt x="1928" y="63"/>
                </a:lnTo>
                <a:lnTo>
                  <a:pt x="1919" y="61"/>
                </a:lnTo>
                <a:lnTo>
                  <a:pt x="1911" y="61"/>
                </a:lnTo>
                <a:lnTo>
                  <a:pt x="1901" y="59"/>
                </a:lnTo>
                <a:lnTo>
                  <a:pt x="1894" y="57"/>
                </a:lnTo>
                <a:lnTo>
                  <a:pt x="1886" y="57"/>
                </a:lnTo>
                <a:lnTo>
                  <a:pt x="1879" y="55"/>
                </a:lnTo>
                <a:lnTo>
                  <a:pt x="1871" y="53"/>
                </a:lnTo>
                <a:lnTo>
                  <a:pt x="1863" y="53"/>
                </a:lnTo>
                <a:lnTo>
                  <a:pt x="1854" y="51"/>
                </a:lnTo>
                <a:lnTo>
                  <a:pt x="1846" y="51"/>
                </a:lnTo>
                <a:lnTo>
                  <a:pt x="1839" y="49"/>
                </a:lnTo>
                <a:lnTo>
                  <a:pt x="1831" y="47"/>
                </a:lnTo>
                <a:lnTo>
                  <a:pt x="1824" y="47"/>
                </a:lnTo>
                <a:lnTo>
                  <a:pt x="1816" y="46"/>
                </a:lnTo>
                <a:lnTo>
                  <a:pt x="1808" y="44"/>
                </a:lnTo>
                <a:lnTo>
                  <a:pt x="1801" y="44"/>
                </a:lnTo>
                <a:lnTo>
                  <a:pt x="1795" y="42"/>
                </a:lnTo>
                <a:lnTo>
                  <a:pt x="1787" y="42"/>
                </a:lnTo>
                <a:lnTo>
                  <a:pt x="1780" y="40"/>
                </a:lnTo>
                <a:lnTo>
                  <a:pt x="1772" y="38"/>
                </a:lnTo>
                <a:lnTo>
                  <a:pt x="1767" y="38"/>
                </a:lnTo>
                <a:lnTo>
                  <a:pt x="1761" y="36"/>
                </a:lnTo>
                <a:lnTo>
                  <a:pt x="1753" y="34"/>
                </a:lnTo>
                <a:lnTo>
                  <a:pt x="1747" y="34"/>
                </a:lnTo>
                <a:lnTo>
                  <a:pt x="1742" y="32"/>
                </a:lnTo>
                <a:lnTo>
                  <a:pt x="1738" y="32"/>
                </a:lnTo>
                <a:lnTo>
                  <a:pt x="1727" y="30"/>
                </a:lnTo>
                <a:lnTo>
                  <a:pt x="1719" y="27"/>
                </a:lnTo>
                <a:lnTo>
                  <a:pt x="1711" y="25"/>
                </a:lnTo>
                <a:lnTo>
                  <a:pt x="1706" y="25"/>
                </a:lnTo>
                <a:lnTo>
                  <a:pt x="1696" y="34"/>
                </a:lnTo>
                <a:lnTo>
                  <a:pt x="1687" y="44"/>
                </a:lnTo>
                <a:lnTo>
                  <a:pt x="1677" y="51"/>
                </a:lnTo>
                <a:lnTo>
                  <a:pt x="1668" y="59"/>
                </a:lnTo>
                <a:lnTo>
                  <a:pt x="1656" y="65"/>
                </a:lnTo>
                <a:lnTo>
                  <a:pt x="1647" y="70"/>
                </a:lnTo>
                <a:lnTo>
                  <a:pt x="1637" y="76"/>
                </a:lnTo>
                <a:lnTo>
                  <a:pt x="1630" y="78"/>
                </a:lnTo>
                <a:lnTo>
                  <a:pt x="1622" y="78"/>
                </a:lnTo>
                <a:lnTo>
                  <a:pt x="1616" y="78"/>
                </a:lnTo>
                <a:lnTo>
                  <a:pt x="1614" y="72"/>
                </a:lnTo>
                <a:lnTo>
                  <a:pt x="1614" y="68"/>
                </a:lnTo>
                <a:lnTo>
                  <a:pt x="1616" y="59"/>
                </a:lnTo>
                <a:lnTo>
                  <a:pt x="1622" y="49"/>
                </a:lnTo>
                <a:lnTo>
                  <a:pt x="1626" y="44"/>
                </a:lnTo>
                <a:lnTo>
                  <a:pt x="1632" y="38"/>
                </a:lnTo>
                <a:lnTo>
                  <a:pt x="1639" y="28"/>
                </a:lnTo>
                <a:lnTo>
                  <a:pt x="1647" y="21"/>
                </a:lnTo>
                <a:lnTo>
                  <a:pt x="1641" y="21"/>
                </a:lnTo>
                <a:lnTo>
                  <a:pt x="1633" y="23"/>
                </a:lnTo>
                <a:lnTo>
                  <a:pt x="1628" y="25"/>
                </a:lnTo>
                <a:lnTo>
                  <a:pt x="1622" y="30"/>
                </a:lnTo>
                <a:lnTo>
                  <a:pt x="1613" y="38"/>
                </a:lnTo>
                <a:lnTo>
                  <a:pt x="1603" y="47"/>
                </a:lnTo>
                <a:lnTo>
                  <a:pt x="1592" y="55"/>
                </a:lnTo>
                <a:lnTo>
                  <a:pt x="1582" y="63"/>
                </a:lnTo>
                <a:lnTo>
                  <a:pt x="1574" y="66"/>
                </a:lnTo>
                <a:lnTo>
                  <a:pt x="1569" y="70"/>
                </a:lnTo>
                <a:lnTo>
                  <a:pt x="1563" y="72"/>
                </a:lnTo>
                <a:lnTo>
                  <a:pt x="1557" y="74"/>
                </a:lnTo>
                <a:lnTo>
                  <a:pt x="1555" y="70"/>
                </a:lnTo>
                <a:lnTo>
                  <a:pt x="1559" y="61"/>
                </a:lnTo>
                <a:lnTo>
                  <a:pt x="1565" y="55"/>
                </a:lnTo>
                <a:lnTo>
                  <a:pt x="1567" y="47"/>
                </a:lnTo>
                <a:lnTo>
                  <a:pt x="1571" y="42"/>
                </a:lnTo>
                <a:lnTo>
                  <a:pt x="1573" y="32"/>
                </a:lnTo>
                <a:lnTo>
                  <a:pt x="1573" y="27"/>
                </a:lnTo>
                <a:lnTo>
                  <a:pt x="1569" y="21"/>
                </a:lnTo>
                <a:lnTo>
                  <a:pt x="1565" y="19"/>
                </a:lnTo>
                <a:lnTo>
                  <a:pt x="1557" y="19"/>
                </a:lnTo>
                <a:lnTo>
                  <a:pt x="1550" y="21"/>
                </a:lnTo>
                <a:lnTo>
                  <a:pt x="1540" y="23"/>
                </a:lnTo>
                <a:lnTo>
                  <a:pt x="1531" y="27"/>
                </a:lnTo>
                <a:lnTo>
                  <a:pt x="1519" y="32"/>
                </a:lnTo>
                <a:lnTo>
                  <a:pt x="1510" y="40"/>
                </a:lnTo>
                <a:lnTo>
                  <a:pt x="1498" y="47"/>
                </a:lnTo>
                <a:lnTo>
                  <a:pt x="1489" y="55"/>
                </a:lnTo>
                <a:lnTo>
                  <a:pt x="1479" y="65"/>
                </a:lnTo>
                <a:lnTo>
                  <a:pt x="1472" y="74"/>
                </a:lnTo>
                <a:lnTo>
                  <a:pt x="1468" y="70"/>
                </a:lnTo>
                <a:lnTo>
                  <a:pt x="1470" y="63"/>
                </a:lnTo>
                <a:lnTo>
                  <a:pt x="1472" y="57"/>
                </a:lnTo>
                <a:lnTo>
                  <a:pt x="1474" y="49"/>
                </a:lnTo>
                <a:lnTo>
                  <a:pt x="1478" y="42"/>
                </a:lnTo>
                <a:lnTo>
                  <a:pt x="1481" y="36"/>
                </a:lnTo>
                <a:lnTo>
                  <a:pt x="1485" y="30"/>
                </a:lnTo>
                <a:lnTo>
                  <a:pt x="1489" y="23"/>
                </a:lnTo>
                <a:lnTo>
                  <a:pt x="1495" y="17"/>
                </a:lnTo>
                <a:lnTo>
                  <a:pt x="1493" y="13"/>
                </a:lnTo>
                <a:lnTo>
                  <a:pt x="1493" y="11"/>
                </a:lnTo>
                <a:lnTo>
                  <a:pt x="1485" y="11"/>
                </a:lnTo>
                <a:lnTo>
                  <a:pt x="1478" y="13"/>
                </a:lnTo>
                <a:lnTo>
                  <a:pt x="1474" y="13"/>
                </a:lnTo>
                <a:lnTo>
                  <a:pt x="1468" y="17"/>
                </a:lnTo>
                <a:lnTo>
                  <a:pt x="1457" y="21"/>
                </a:lnTo>
                <a:lnTo>
                  <a:pt x="1447" y="27"/>
                </a:lnTo>
                <a:lnTo>
                  <a:pt x="1443" y="25"/>
                </a:lnTo>
                <a:lnTo>
                  <a:pt x="1440" y="17"/>
                </a:lnTo>
                <a:lnTo>
                  <a:pt x="1438" y="11"/>
                </a:lnTo>
                <a:lnTo>
                  <a:pt x="1436" y="8"/>
                </a:lnTo>
                <a:lnTo>
                  <a:pt x="1436" y="4"/>
                </a:lnTo>
                <a:lnTo>
                  <a:pt x="1428" y="0"/>
                </a:lnTo>
                <a:lnTo>
                  <a:pt x="1422" y="0"/>
                </a:lnTo>
                <a:lnTo>
                  <a:pt x="1413" y="0"/>
                </a:lnTo>
                <a:lnTo>
                  <a:pt x="1407" y="4"/>
                </a:lnTo>
                <a:lnTo>
                  <a:pt x="1398" y="9"/>
                </a:lnTo>
                <a:lnTo>
                  <a:pt x="1388" y="17"/>
                </a:lnTo>
                <a:lnTo>
                  <a:pt x="1375" y="23"/>
                </a:lnTo>
                <a:lnTo>
                  <a:pt x="1365" y="30"/>
                </a:lnTo>
                <a:lnTo>
                  <a:pt x="1354" y="38"/>
                </a:lnTo>
                <a:lnTo>
                  <a:pt x="1344" y="44"/>
                </a:lnTo>
                <a:lnTo>
                  <a:pt x="1333" y="49"/>
                </a:lnTo>
                <a:lnTo>
                  <a:pt x="1324" y="51"/>
                </a:lnTo>
                <a:lnTo>
                  <a:pt x="1312" y="53"/>
                </a:lnTo>
                <a:lnTo>
                  <a:pt x="1305" y="53"/>
                </a:lnTo>
                <a:lnTo>
                  <a:pt x="1306" y="47"/>
                </a:lnTo>
                <a:lnTo>
                  <a:pt x="1310" y="42"/>
                </a:lnTo>
                <a:lnTo>
                  <a:pt x="1314" y="38"/>
                </a:lnTo>
                <a:lnTo>
                  <a:pt x="1320" y="34"/>
                </a:lnTo>
                <a:lnTo>
                  <a:pt x="1325" y="28"/>
                </a:lnTo>
                <a:lnTo>
                  <a:pt x="1329" y="25"/>
                </a:lnTo>
                <a:lnTo>
                  <a:pt x="1333" y="19"/>
                </a:lnTo>
                <a:lnTo>
                  <a:pt x="1335" y="13"/>
                </a:lnTo>
                <a:lnTo>
                  <a:pt x="1333" y="11"/>
                </a:lnTo>
                <a:lnTo>
                  <a:pt x="1325" y="13"/>
                </a:lnTo>
                <a:lnTo>
                  <a:pt x="1316" y="17"/>
                </a:lnTo>
                <a:lnTo>
                  <a:pt x="1306" y="21"/>
                </a:lnTo>
                <a:lnTo>
                  <a:pt x="1297" y="23"/>
                </a:lnTo>
                <a:lnTo>
                  <a:pt x="1287" y="27"/>
                </a:lnTo>
                <a:lnTo>
                  <a:pt x="1276" y="30"/>
                </a:lnTo>
                <a:lnTo>
                  <a:pt x="1270" y="30"/>
                </a:lnTo>
                <a:lnTo>
                  <a:pt x="1265" y="32"/>
                </a:lnTo>
                <a:lnTo>
                  <a:pt x="1259" y="34"/>
                </a:lnTo>
                <a:lnTo>
                  <a:pt x="1253" y="38"/>
                </a:lnTo>
                <a:lnTo>
                  <a:pt x="1246" y="38"/>
                </a:lnTo>
                <a:lnTo>
                  <a:pt x="1240" y="40"/>
                </a:lnTo>
                <a:lnTo>
                  <a:pt x="1232" y="42"/>
                </a:lnTo>
                <a:lnTo>
                  <a:pt x="1227" y="44"/>
                </a:lnTo>
                <a:lnTo>
                  <a:pt x="1219" y="44"/>
                </a:lnTo>
                <a:lnTo>
                  <a:pt x="1213" y="47"/>
                </a:lnTo>
                <a:lnTo>
                  <a:pt x="1206" y="49"/>
                </a:lnTo>
                <a:lnTo>
                  <a:pt x="1200" y="51"/>
                </a:lnTo>
                <a:lnTo>
                  <a:pt x="1192" y="51"/>
                </a:lnTo>
                <a:lnTo>
                  <a:pt x="1187" y="53"/>
                </a:lnTo>
                <a:lnTo>
                  <a:pt x="1179" y="55"/>
                </a:lnTo>
                <a:lnTo>
                  <a:pt x="1171" y="59"/>
                </a:lnTo>
                <a:lnTo>
                  <a:pt x="1166" y="59"/>
                </a:lnTo>
                <a:lnTo>
                  <a:pt x="1158" y="61"/>
                </a:lnTo>
                <a:lnTo>
                  <a:pt x="1151" y="63"/>
                </a:lnTo>
                <a:lnTo>
                  <a:pt x="1145" y="66"/>
                </a:lnTo>
                <a:lnTo>
                  <a:pt x="1135" y="66"/>
                </a:lnTo>
                <a:lnTo>
                  <a:pt x="1130" y="68"/>
                </a:lnTo>
                <a:lnTo>
                  <a:pt x="1122" y="68"/>
                </a:lnTo>
                <a:lnTo>
                  <a:pt x="1114" y="70"/>
                </a:lnTo>
                <a:lnTo>
                  <a:pt x="1107" y="72"/>
                </a:lnTo>
                <a:lnTo>
                  <a:pt x="1099" y="74"/>
                </a:lnTo>
                <a:lnTo>
                  <a:pt x="1092" y="76"/>
                </a:lnTo>
                <a:lnTo>
                  <a:pt x="1086" y="78"/>
                </a:lnTo>
                <a:lnTo>
                  <a:pt x="1078" y="78"/>
                </a:lnTo>
                <a:lnTo>
                  <a:pt x="1071" y="80"/>
                </a:lnTo>
                <a:lnTo>
                  <a:pt x="1063" y="80"/>
                </a:lnTo>
                <a:lnTo>
                  <a:pt x="1057" y="82"/>
                </a:lnTo>
                <a:lnTo>
                  <a:pt x="1050" y="84"/>
                </a:lnTo>
                <a:lnTo>
                  <a:pt x="1042" y="85"/>
                </a:lnTo>
                <a:lnTo>
                  <a:pt x="1036" y="87"/>
                </a:lnTo>
                <a:lnTo>
                  <a:pt x="1031" y="89"/>
                </a:lnTo>
                <a:lnTo>
                  <a:pt x="1023" y="89"/>
                </a:lnTo>
                <a:lnTo>
                  <a:pt x="1016" y="89"/>
                </a:lnTo>
                <a:lnTo>
                  <a:pt x="1010" y="91"/>
                </a:lnTo>
                <a:lnTo>
                  <a:pt x="1002" y="93"/>
                </a:lnTo>
                <a:lnTo>
                  <a:pt x="997" y="93"/>
                </a:lnTo>
                <a:lnTo>
                  <a:pt x="991" y="95"/>
                </a:lnTo>
                <a:lnTo>
                  <a:pt x="983" y="95"/>
                </a:lnTo>
                <a:lnTo>
                  <a:pt x="978" y="97"/>
                </a:lnTo>
                <a:lnTo>
                  <a:pt x="972" y="97"/>
                </a:lnTo>
                <a:lnTo>
                  <a:pt x="964" y="99"/>
                </a:lnTo>
                <a:lnTo>
                  <a:pt x="959" y="99"/>
                </a:lnTo>
                <a:lnTo>
                  <a:pt x="955" y="99"/>
                </a:lnTo>
                <a:lnTo>
                  <a:pt x="945" y="101"/>
                </a:lnTo>
                <a:lnTo>
                  <a:pt x="936" y="103"/>
                </a:lnTo>
                <a:lnTo>
                  <a:pt x="928" y="106"/>
                </a:lnTo>
                <a:lnTo>
                  <a:pt x="919" y="110"/>
                </a:lnTo>
                <a:lnTo>
                  <a:pt x="911" y="112"/>
                </a:lnTo>
                <a:lnTo>
                  <a:pt x="905" y="114"/>
                </a:lnTo>
                <a:lnTo>
                  <a:pt x="896" y="116"/>
                </a:lnTo>
                <a:lnTo>
                  <a:pt x="888" y="118"/>
                </a:lnTo>
                <a:lnTo>
                  <a:pt x="879" y="118"/>
                </a:lnTo>
                <a:lnTo>
                  <a:pt x="869" y="120"/>
                </a:lnTo>
                <a:lnTo>
                  <a:pt x="860" y="122"/>
                </a:lnTo>
                <a:lnTo>
                  <a:pt x="848" y="124"/>
                </a:lnTo>
                <a:lnTo>
                  <a:pt x="837" y="124"/>
                </a:lnTo>
                <a:lnTo>
                  <a:pt x="825" y="125"/>
                </a:lnTo>
                <a:lnTo>
                  <a:pt x="816" y="125"/>
                </a:lnTo>
                <a:lnTo>
                  <a:pt x="805" y="127"/>
                </a:lnTo>
                <a:lnTo>
                  <a:pt x="799" y="127"/>
                </a:lnTo>
                <a:lnTo>
                  <a:pt x="791" y="127"/>
                </a:lnTo>
                <a:lnTo>
                  <a:pt x="787" y="127"/>
                </a:lnTo>
                <a:lnTo>
                  <a:pt x="782" y="127"/>
                </a:lnTo>
                <a:lnTo>
                  <a:pt x="770" y="127"/>
                </a:lnTo>
                <a:lnTo>
                  <a:pt x="759" y="129"/>
                </a:lnTo>
                <a:lnTo>
                  <a:pt x="748" y="127"/>
                </a:lnTo>
                <a:lnTo>
                  <a:pt x="738" y="127"/>
                </a:lnTo>
                <a:lnTo>
                  <a:pt x="728" y="127"/>
                </a:lnTo>
                <a:lnTo>
                  <a:pt x="721" y="127"/>
                </a:lnTo>
                <a:lnTo>
                  <a:pt x="711" y="127"/>
                </a:lnTo>
                <a:lnTo>
                  <a:pt x="704" y="125"/>
                </a:lnTo>
                <a:lnTo>
                  <a:pt x="696" y="125"/>
                </a:lnTo>
                <a:lnTo>
                  <a:pt x="692" y="125"/>
                </a:lnTo>
                <a:lnTo>
                  <a:pt x="683" y="122"/>
                </a:lnTo>
                <a:lnTo>
                  <a:pt x="681" y="118"/>
                </a:lnTo>
                <a:lnTo>
                  <a:pt x="673" y="124"/>
                </a:lnTo>
                <a:lnTo>
                  <a:pt x="666" y="127"/>
                </a:lnTo>
                <a:lnTo>
                  <a:pt x="658" y="131"/>
                </a:lnTo>
                <a:lnTo>
                  <a:pt x="651" y="135"/>
                </a:lnTo>
                <a:lnTo>
                  <a:pt x="643" y="137"/>
                </a:lnTo>
                <a:lnTo>
                  <a:pt x="635" y="139"/>
                </a:lnTo>
                <a:lnTo>
                  <a:pt x="628" y="139"/>
                </a:lnTo>
                <a:lnTo>
                  <a:pt x="620" y="139"/>
                </a:lnTo>
                <a:lnTo>
                  <a:pt x="611" y="137"/>
                </a:lnTo>
                <a:lnTo>
                  <a:pt x="601" y="135"/>
                </a:lnTo>
                <a:lnTo>
                  <a:pt x="594" y="131"/>
                </a:lnTo>
                <a:lnTo>
                  <a:pt x="584" y="129"/>
                </a:lnTo>
                <a:lnTo>
                  <a:pt x="574" y="125"/>
                </a:lnTo>
                <a:lnTo>
                  <a:pt x="565" y="122"/>
                </a:lnTo>
                <a:lnTo>
                  <a:pt x="555" y="118"/>
                </a:lnTo>
                <a:lnTo>
                  <a:pt x="548" y="114"/>
                </a:lnTo>
                <a:lnTo>
                  <a:pt x="536" y="108"/>
                </a:lnTo>
                <a:lnTo>
                  <a:pt x="527" y="103"/>
                </a:lnTo>
                <a:lnTo>
                  <a:pt x="517" y="97"/>
                </a:lnTo>
                <a:lnTo>
                  <a:pt x="508" y="93"/>
                </a:lnTo>
                <a:lnTo>
                  <a:pt x="498" y="87"/>
                </a:lnTo>
                <a:lnTo>
                  <a:pt x="489" y="84"/>
                </a:lnTo>
                <a:lnTo>
                  <a:pt x="478" y="80"/>
                </a:lnTo>
                <a:lnTo>
                  <a:pt x="468" y="76"/>
                </a:lnTo>
                <a:lnTo>
                  <a:pt x="459" y="72"/>
                </a:lnTo>
                <a:lnTo>
                  <a:pt x="449" y="68"/>
                </a:lnTo>
                <a:lnTo>
                  <a:pt x="440" y="66"/>
                </a:lnTo>
                <a:lnTo>
                  <a:pt x="430" y="63"/>
                </a:lnTo>
                <a:lnTo>
                  <a:pt x="421" y="61"/>
                </a:lnTo>
                <a:lnTo>
                  <a:pt x="411" y="61"/>
                </a:lnTo>
                <a:lnTo>
                  <a:pt x="401" y="61"/>
                </a:lnTo>
                <a:lnTo>
                  <a:pt x="392" y="61"/>
                </a:lnTo>
                <a:lnTo>
                  <a:pt x="392" y="63"/>
                </a:lnTo>
                <a:lnTo>
                  <a:pt x="392" y="66"/>
                </a:lnTo>
                <a:lnTo>
                  <a:pt x="401" y="66"/>
                </a:lnTo>
                <a:lnTo>
                  <a:pt x="411" y="70"/>
                </a:lnTo>
                <a:lnTo>
                  <a:pt x="421" y="72"/>
                </a:lnTo>
                <a:lnTo>
                  <a:pt x="430" y="78"/>
                </a:lnTo>
                <a:lnTo>
                  <a:pt x="438" y="82"/>
                </a:lnTo>
                <a:lnTo>
                  <a:pt x="445" y="87"/>
                </a:lnTo>
                <a:lnTo>
                  <a:pt x="455" y="91"/>
                </a:lnTo>
                <a:lnTo>
                  <a:pt x="464" y="95"/>
                </a:lnTo>
                <a:lnTo>
                  <a:pt x="464" y="97"/>
                </a:lnTo>
                <a:lnTo>
                  <a:pt x="464" y="101"/>
                </a:lnTo>
                <a:lnTo>
                  <a:pt x="453" y="101"/>
                </a:lnTo>
                <a:lnTo>
                  <a:pt x="443" y="101"/>
                </a:lnTo>
                <a:lnTo>
                  <a:pt x="434" y="99"/>
                </a:lnTo>
                <a:lnTo>
                  <a:pt x="424" y="97"/>
                </a:lnTo>
                <a:lnTo>
                  <a:pt x="415" y="91"/>
                </a:lnTo>
                <a:lnTo>
                  <a:pt x="407" y="89"/>
                </a:lnTo>
                <a:lnTo>
                  <a:pt x="398" y="85"/>
                </a:lnTo>
                <a:lnTo>
                  <a:pt x="388" y="82"/>
                </a:lnTo>
                <a:lnTo>
                  <a:pt x="379" y="78"/>
                </a:lnTo>
                <a:lnTo>
                  <a:pt x="371" y="76"/>
                </a:lnTo>
                <a:lnTo>
                  <a:pt x="362" y="72"/>
                </a:lnTo>
                <a:lnTo>
                  <a:pt x="354" y="72"/>
                </a:lnTo>
                <a:lnTo>
                  <a:pt x="344" y="72"/>
                </a:lnTo>
                <a:lnTo>
                  <a:pt x="337" y="74"/>
                </a:lnTo>
                <a:lnTo>
                  <a:pt x="327" y="78"/>
                </a:lnTo>
                <a:lnTo>
                  <a:pt x="320" y="85"/>
                </a:lnTo>
                <a:lnTo>
                  <a:pt x="320" y="87"/>
                </a:lnTo>
                <a:lnTo>
                  <a:pt x="320" y="89"/>
                </a:lnTo>
                <a:lnTo>
                  <a:pt x="329" y="89"/>
                </a:lnTo>
                <a:lnTo>
                  <a:pt x="337" y="93"/>
                </a:lnTo>
                <a:lnTo>
                  <a:pt x="344" y="99"/>
                </a:lnTo>
                <a:lnTo>
                  <a:pt x="354" y="106"/>
                </a:lnTo>
                <a:lnTo>
                  <a:pt x="354" y="110"/>
                </a:lnTo>
                <a:lnTo>
                  <a:pt x="354" y="114"/>
                </a:lnTo>
                <a:lnTo>
                  <a:pt x="346" y="114"/>
                </a:lnTo>
                <a:lnTo>
                  <a:pt x="341" y="114"/>
                </a:lnTo>
                <a:lnTo>
                  <a:pt x="335" y="112"/>
                </a:lnTo>
                <a:lnTo>
                  <a:pt x="329" y="112"/>
                </a:lnTo>
                <a:lnTo>
                  <a:pt x="324" y="108"/>
                </a:lnTo>
                <a:lnTo>
                  <a:pt x="316" y="108"/>
                </a:lnTo>
                <a:lnTo>
                  <a:pt x="310" y="106"/>
                </a:lnTo>
                <a:lnTo>
                  <a:pt x="305" y="106"/>
                </a:lnTo>
                <a:lnTo>
                  <a:pt x="293" y="104"/>
                </a:lnTo>
                <a:lnTo>
                  <a:pt x="284" y="106"/>
                </a:lnTo>
                <a:lnTo>
                  <a:pt x="278" y="106"/>
                </a:lnTo>
                <a:lnTo>
                  <a:pt x="274" y="112"/>
                </a:lnTo>
                <a:lnTo>
                  <a:pt x="272" y="116"/>
                </a:lnTo>
                <a:lnTo>
                  <a:pt x="270" y="124"/>
                </a:lnTo>
                <a:lnTo>
                  <a:pt x="276" y="124"/>
                </a:lnTo>
                <a:lnTo>
                  <a:pt x="282" y="125"/>
                </a:lnTo>
                <a:lnTo>
                  <a:pt x="286" y="125"/>
                </a:lnTo>
                <a:lnTo>
                  <a:pt x="289" y="129"/>
                </a:lnTo>
                <a:lnTo>
                  <a:pt x="289" y="131"/>
                </a:lnTo>
                <a:lnTo>
                  <a:pt x="289" y="137"/>
                </a:lnTo>
                <a:lnTo>
                  <a:pt x="282" y="137"/>
                </a:lnTo>
                <a:lnTo>
                  <a:pt x="274" y="137"/>
                </a:lnTo>
                <a:lnTo>
                  <a:pt x="267" y="137"/>
                </a:lnTo>
                <a:lnTo>
                  <a:pt x="259" y="139"/>
                </a:lnTo>
                <a:lnTo>
                  <a:pt x="251" y="137"/>
                </a:lnTo>
                <a:lnTo>
                  <a:pt x="244" y="137"/>
                </a:lnTo>
                <a:lnTo>
                  <a:pt x="234" y="137"/>
                </a:lnTo>
                <a:lnTo>
                  <a:pt x="228" y="139"/>
                </a:lnTo>
                <a:lnTo>
                  <a:pt x="221" y="139"/>
                </a:lnTo>
                <a:lnTo>
                  <a:pt x="213" y="141"/>
                </a:lnTo>
                <a:lnTo>
                  <a:pt x="206" y="143"/>
                </a:lnTo>
                <a:lnTo>
                  <a:pt x="200" y="146"/>
                </a:lnTo>
                <a:lnTo>
                  <a:pt x="194" y="150"/>
                </a:lnTo>
                <a:lnTo>
                  <a:pt x="189" y="156"/>
                </a:lnTo>
                <a:lnTo>
                  <a:pt x="185" y="162"/>
                </a:lnTo>
                <a:lnTo>
                  <a:pt x="183" y="171"/>
                </a:lnTo>
                <a:lnTo>
                  <a:pt x="189" y="171"/>
                </a:lnTo>
                <a:lnTo>
                  <a:pt x="194" y="171"/>
                </a:lnTo>
                <a:lnTo>
                  <a:pt x="198" y="173"/>
                </a:lnTo>
                <a:lnTo>
                  <a:pt x="204" y="177"/>
                </a:lnTo>
                <a:lnTo>
                  <a:pt x="204" y="179"/>
                </a:lnTo>
                <a:lnTo>
                  <a:pt x="204" y="181"/>
                </a:lnTo>
                <a:lnTo>
                  <a:pt x="192" y="179"/>
                </a:lnTo>
                <a:lnTo>
                  <a:pt x="181" y="177"/>
                </a:lnTo>
                <a:lnTo>
                  <a:pt x="170" y="175"/>
                </a:lnTo>
                <a:lnTo>
                  <a:pt x="160" y="175"/>
                </a:lnTo>
                <a:lnTo>
                  <a:pt x="151" y="175"/>
                </a:lnTo>
                <a:lnTo>
                  <a:pt x="139" y="175"/>
                </a:lnTo>
                <a:lnTo>
                  <a:pt x="130" y="177"/>
                </a:lnTo>
                <a:lnTo>
                  <a:pt x="120" y="179"/>
                </a:lnTo>
                <a:lnTo>
                  <a:pt x="109" y="179"/>
                </a:lnTo>
                <a:lnTo>
                  <a:pt x="97" y="181"/>
                </a:lnTo>
                <a:lnTo>
                  <a:pt x="88" y="182"/>
                </a:lnTo>
                <a:lnTo>
                  <a:pt x="78" y="186"/>
                </a:lnTo>
                <a:lnTo>
                  <a:pt x="67" y="188"/>
                </a:lnTo>
                <a:lnTo>
                  <a:pt x="57" y="192"/>
                </a:lnTo>
                <a:lnTo>
                  <a:pt x="48" y="196"/>
                </a:lnTo>
                <a:lnTo>
                  <a:pt x="38" y="200"/>
                </a:lnTo>
                <a:lnTo>
                  <a:pt x="40" y="205"/>
                </a:lnTo>
                <a:lnTo>
                  <a:pt x="46" y="213"/>
                </a:lnTo>
                <a:lnTo>
                  <a:pt x="50" y="217"/>
                </a:lnTo>
                <a:lnTo>
                  <a:pt x="57" y="224"/>
                </a:lnTo>
                <a:lnTo>
                  <a:pt x="57" y="226"/>
                </a:lnTo>
                <a:lnTo>
                  <a:pt x="57" y="228"/>
                </a:lnTo>
                <a:lnTo>
                  <a:pt x="48" y="228"/>
                </a:lnTo>
                <a:lnTo>
                  <a:pt x="42" y="226"/>
                </a:lnTo>
                <a:lnTo>
                  <a:pt x="35" y="224"/>
                </a:lnTo>
                <a:lnTo>
                  <a:pt x="29" y="222"/>
                </a:lnTo>
                <a:lnTo>
                  <a:pt x="21" y="217"/>
                </a:lnTo>
                <a:lnTo>
                  <a:pt x="14" y="215"/>
                </a:lnTo>
                <a:lnTo>
                  <a:pt x="6" y="209"/>
                </a:lnTo>
                <a:lnTo>
                  <a:pt x="0" y="207"/>
                </a:lnTo>
                <a:lnTo>
                  <a:pt x="0" y="215"/>
                </a:lnTo>
                <a:lnTo>
                  <a:pt x="0" y="220"/>
                </a:lnTo>
                <a:lnTo>
                  <a:pt x="0" y="224"/>
                </a:lnTo>
                <a:lnTo>
                  <a:pt x="0" y="232"/>
                </a:lnTo>
                <a:lnTo>
                  <a:pt x="6" y="232"/>
                </a:lnTo>
                <a:lnTo>
                  <a:pt x="12" y="234"/>
                </a:lnTo>
                <a:lnTo>
                  <a:pt x="19" y="238"/>
                </a:lnTo>
                <a:lnTo>
                  <a:pt x="27" y="241"/>
                </a:lnTo>
                <a:lnTo>
                  <a:pt x="33" y="243"/>
                </a:lnTo>
                <a:lnTo>
                  <a:pt x="38" y="245"/>
                </a:lnTo>
                <a:lnTo>
                  <a:pt x="46" y="249"/>
                </a:lnTo>
                <a:lnTo>
                  <a:pt x="52" y="253"/>
                </a:lnTo>
                <a:lnTo>
                  <a:pt x="59" y="257"/>
                </a:lnTo>
                <a:lnTo>
                  <a:pt x="65" y="260"/>
                </a:lnTo>
                <a:lnTo>
                  <a:pt x="71" y="264"/>
                </a:lnTo>
                <a:lnTo>
                  <a:pt x="78" y="268"/>
                </a:lnTo>
                <a:lnTo>
                  <a:pt x="84" y="272"/>
                </a:lnTo>
                <a:lnTo>
                  <a:pt x="92" y="277"/>
                </a:lnTo>
                <a:lnTo>
                  <a:pt x="97" y="279"/>
                </a:lnTo>
                <a:lnTo>
                  <a:pt x="105" y="285"/>
                </a:lnTo>
                <a:lnTo>
                  <a:pt x="111" y="289"/>
                </a:lnTo>
                <a:lnTo>
                  <a:pt x="116" y="293"/>
                </a:lnTo>
                <a:lnTo>
                  <a:pt x="124" y="297"/>
                </a:lnTo>
                <a:lnTo>
                  <a:pt x="130" y="300"/>
                </a:lnTo>
                <a:lnTo>
                  <a:pt x="135" y="304"/>
                </a:lnTo>
                <a:lnTo>
                  <a:pt x="143" y="306"/>
                </a:lnTo>
                <a:lnTo>
                  <a:pt x="149" y="310"/>
                </a:lnTo>
                <a:lnTo>
                  <a:pt x="156" y="314"/>
                </a:lnTo>
                <a:lnTo>
                  <a:pt x="162" y="316"/>
                </a:lnTo>
                <a:lnTo>
                  <a:pt x="170" y="319"/>
                </a:lnTo>
                <a:lnTo>
                  <a:pt x="175" y="321"/>
                </a:lnTo>
                <a:lnTo>
                  <a:pt x="181" y="325"/>
                </a:lnTo>
                <a:lnTo>
                  <a:pt x="189" y="325"/>
                </a:lnTo>
                <a:lnTo>
                  <a:pt x="196" y="327"/>
                </a:lnTo>
                <a:lnTo>
                  <a:pt x="202" y="329"/>
                </a:lnTo>
                <a:lnTo>
                  <a:pt x="209" y="331"/>
                </a:lnTo>
                <a:lnTo>
                  <a:pt x="198" y="325"/>
                </a:lnTo>
                <a:lnTo>
                  <a:pt x="189" y="319"/>
                </a:lnTo>
                <a:lnTo>
                  <a:pt x="179" y="316"/>
                </a:lnTo>
                <a:lnTo>
                  <a:pt x="170" y="310"/>
                </a:lnTo>
                <a:lnTo>
                  <a:pt x="160" y="304"/>
                </a:lnTo>
                <a:lnTo>
                  <a:pt x="151" y="298"/>
                </a:lnTo>
                <a:lnTo>
                  <a:pt x="141" y="293"/>
                </a:lnTo>
                <a:lnTo>
                  <a:pt x="133" y="289"/>
                </a:lnTo>
                <a:lnTo>
                  <a:pt x="124" y="281"/>
                </a:lnTo>
                <a:lnTo>
                  <a:pt x="114" y="276"/>
                </a:lnTo>
                <a:lnTo>
                  <a:pt x="105" y="270"/>
                </a:lnTo>
                <a:lnTo>
                  <a:pt x="95" y="264"/>
                </a:lnTo>
                <a:lnTo>
                  <a:pt x="86" y="258"/>
                </a:lnTo>
                <a:lnTo>
                  <a:pt x="78" y="251"/>
                </a:lnTo>
                <a:lnTo>
                  <a:pt x="69" y="245"/>
                </a:lnTo>
                <a:lnTo>
                  <a:pt x="59" y="239"/>
                </a:lnTo>
                <a:lnTo>
                  <a:pt x="59" y="234"/>
                </a:lnTo>
                <a:lnTo>
                  <a:pt x="59" y="232"/>
                </a:lnTo>
                <a:lnTo>
                  <a:pt x="67" y="232"/>
                </a:lnTo>
                <a:lnTo>
                  <a:pt x="75" y="234"/>
                </a:lnTo>
                <a:lnTo>
                  <a:pt x="82" y="236"/>
                </a:lnTo>
                <a:lnTo>
                  <a:pt x="90" y="239"/>
                </a:lnTo>
                <a:lnTo>
                  <a:pt x="97" y="243"/>
                </a:lnTo>
                <a:lnTo>
                  <a:pt x="105" y="245"/>
                </a:lnTo>
                <a:lnTo>
                  <a:pt x="113" y="249"/>
                </a:lnTo>
                <a:lnTo>
                  <a:pt x="120" y="253"/>
                </a:lnTo>
                <a:lnTo>
                  <a:pt x="126" y="255"/>
                </a:lnTo>
                <a:lnTo>
                  <a:pt x="135" y="258"/>
                </a:lnTo>
                <a:lnTo>
                  <a:pt x="141" y="260"/>
                </a:lnTo>
                <a:lnTo>
                  <a:pt x="151" y="264"/>
                </a:lnTo>
                <a:lnTo>
                  <a:pt x="156" y="268"/>
                </a:lnTo>
                <a:lnTo>
                  <a:pt x="166" y="272"/>
                </a:lnTo>
                <a:lnTo>
                  <a:pt x="171" y="276"/>
                </a:lnTo>
                <a:lnTo>
                  <a:pt x="179" y="279"/>
                </a:lnTo>
                <a:lnTo>
                  <a:pt x="187" y="283"/>
                </a:lnTo>
                <a:lnTo>
                  <a:pt x="194" y="287"/>
                </a:lnTo>
                <a:lnTo>
                  <a:pt x="200" y="289"/>
                </a:lnTo>
                <a:lnTo>
                  <a:pt x="208" y="293"/>
                </a:lnTo>
                <a:lnTo>
                  <a:pt x="213" y="297"/>
                </a:lnTo>
                <a:lnTo>
                  <a:pt x="221" y="300"/>
                </a:lnTo>
                <a:lnTo>
                  <a:pt x="228" y="306"/>
                </a:lnTo>
                <a:lnTo>
                  <a:pt x="236" y="310"/>
                </a:lnTo>
                <a:lnTo>
                  <a:pt x="242" y="314"/>
                </a:lnTo>
                <a:lnTo>
                  <a:pt x="249" y="317"/>
                </a:lnTo>
                <a:lnTo>
                  <a:pt x="255" y="323"/>
                </a:lnTo>
                <a:lnTo>
                  <a:pt x="263" y="327"/>
                </a:lnTo>
                <a:lnTo>
                  <a:pt x="270" y="331"/>
                </a:lnTo>
                <a:lnTo>
                  <a:pt x="278" y="335"/>
                </a:lnTo>
                <a:lnTo>
                  <a:pt x="286" y="338"/>
                </a:lnTo>
                <a:lnTo>
                  <a:pt x="291" y="344"/>
                </a:lnTo>
                <a:lnTo>
                  <a:pt x="299" y="348"/>
                </a:lnTo>
                <a:lnTo>
                  <a:pt x="305" y="354"/>
                </a:lnTo>
                <a:lnTo>
                  <a:pt x="310" y="355"/>
                </a:lnTo>
                <a:lnTo>
                  <a:pt x="318" y="361"/>
                </a:lnTo>
                <a:lnTo>
                  <a:pt x="325" y="365"/>
                </a:lnTo>
                <a:lnTo>
                  <a:pt x="333" y="371"/>
                </a:lnTo>
                <a:lnTo>
                  <a:pt x="339" y="374"/>
                </a:lnTo>
                <a:lnTo>
                  <a:pt x="346" y="380"/>
                </a:lnTo>
                <a:lnTo>
                  <a:pt x="354" y="382"/>
                </a:lnTo>
                <a:lnTo>
                  <a:pt x="360" y="388"/>
                </a:lnTo>
                <a:lnTo>
                  <a:pt x="367" y="392"/>
                </a:lnTo>
                <a:lnTo>
                  <a:pt x="375" y="397"/>
                </a:lnTo>
                <a:lnTo>
                  <a:pt x="381" y="401"/>
                </a:lnTo>
                <a:lnTo>
                  <a:pt x="388" y="405"/>
                </a:lnTo>
                <a:lnTo>
                  <a:pt x="396" y="409"/>
                </a:lnTo>
                <a:lnTo>
                  <a:pt x="403" y="414"/>
                </a:lnTo>
                <a:lnTo>
                  <a:pt x="409" y="418"/>
                </a:lnTo>
                <a:lnTo>
                  <a:pt x="417" y="422"/>
                </a:lnTo>
                <a:lnTo>
                  <a:pt x="424" y="426"/>
                </a:lnTo>
                <a:lnTo>
                  <a:pt x="430" y="430"/>
                </a:lnTo>
                <a:lnTo>
                  <a:pt x="438" y="435"/>
                </a:lnTo>
                <a:lnTo>
                  <a:pt x="445" y="439"/>
                </a:lnTo>
                <a:lnTo>
                  <a:pt x="453" y="443"/>
                </a:lnTo>
                <a:lnTo>
                  <a:pt x="459" y="447"/>
                </a:lnTo>
                <a:lnTo>
                  <a:pt x="466" y="450"/>
                </a:lnTo>
                <a:lnTo>
                  <a:pt x="474" y="454"/>
                </a:lnTo>
                <a:lnTo>
                  <a:pt x="481" y="458"/>
                </a:lnTo>
                <a:lnTo>
                  <a:pt x="489" y="462"/>
                </a:lnTo>
                <a:lnTo>
                  <a:pt x="495" y="466"/>
                </a:lnTo>
                <a:lnTo>
                  <a:pt x="502" y="470"/>
                </a:lnTo>
                <a:lnTo>
                  <a:pt x="510" y="473"/>
                </a:lnTo>
                <a:lnTo>
                  <a:pt x="519" y="479"/>
                </a:lnTo>
                <a:lnTo>
                  <a:pt x="554" y="475"/>
                </a:lnTo>
                <a:lnTo>
                  <a:pt x="592" y="473"/>
                </a:lnTo>
                <a:lnTo>
                  <a:pt x="628" y="471"/>
                </a:lnTo>
                <a:lnTo>
                  <a:pt x="664" y="470"/>
                </a:lnTo>
                <a:lnTo>
                  <a:pt x="700" y="468"/>
                </a:lnTo>
                <a:lnTo>
                  <a:pt x="736" y="466"/>
                </a:lnTo>
                <a:lnTo>
                  <a:pt x="772" y="464"/>
                </a:lnTo>
                <a:lnTo>
                  <a:pt x="810" y="464"/>
                </a:lnTo>
                <a:lnTo>
                  <a:pt x="846" y="464"/>
                </a:lnTo>
                <a:lnTo>
                  <a:pt x="882" y="462"/>
                </a:lnTo>
                <a:lnTo>
                  <a:pt x="919" y="462"/>
                </a:lnTo>
                <a:lnTo>
                  <a:pt x="957" y="462"/>
                </a:lnTo>
                <a:lnTo>
                  <a:pt x="993" y="462"/>
                </a:lnTo>
                <a:lnTo>
                  <a:pt x="1031" y="462"/>
                </a:lnTo>
                <a:lnTo>
                  <a:pt x="1067" y="462"/>
                </a:lnTo>
                <a:lnTo>
                  <a:pt x="1105" y="462"/>
                </a:lnTo>
                <a:lnTo>
                  <a:pt x="1141" y="460"/>
                </a:lnTo>
                <a:lnTo>
                  <a:pt x="1177" y="460"/>
                </a:lnTo>
                <a:lnTo>
                  <a:pt x="1215" y="460"/>
                </a:lnTo>
                <a:lnTo>
                  <a:pt x="1251" y="460"/>
                </a:lnTo>
                <a:lnTo>
                  <a:pt x="1287" y="460"/>
                </a:lnTo>
                <a:lnTo>
                  <a:pt x="1325" y="462"/>
                </a:lnTo>
                <a:lnTo>
                  <a:pt x="1362" y="462"/>
                </a:lnTo>
                <a:lnTo>
                  <a:pt x="1400" y="462"/>
                </a:lnTo>
                <a:lnTo>
                  <a:pt x="1436" y="462"/>
                </a:lnTo>
                <a:lnTo>
                  <a:pt x="1474" y="462"/>
                </a:lnTo>
                <a:lnTo>
                  <a:pt x="1510" y="464"/>
                </a:lnTo>
                <a:lnTo>
                  <a:pt x="1548" y="464"/>
                </a:lnTo>
                <a:lnTo>
                  <a:pt x="1584" y="464"/>
                </a:lnTo>
                <a:lnTo>
                  <a:pt x="1622" y="464"/>
                </a:lnTo>
                <a:lnTo>
                  <a:pt x="1658" y="466"/>
                </a:lnTo>
                <a:lnTo>
                  <a:pt x="1696" y="466"/>
                </a:lnTo>
                <a:lnTo>
                  <a:pt x="1732" y="466"/>
                </a:lnTo>
                <a:lnTo>
                  <a:pt x="1768" y="466"/>
                </a:lnTo>
                <a:lnTo>
                  <a:pt x="1805" y="466"/>
                </a:lnTo>
                <a:lnTo>
                  <a:pt x="1843" y="466"/>
                </a:lnTo>
                <a:lnTo>
                  <a:pt x="1879" y="466"/>
                </a:lnTo>
                <a:lnTo>
                  <a:pt x="1917" y="466"/>
                </a:lnTo>
                <a:lnTo>
                  <a:pt x="1953" y="466"/>
                </a:lnTo>
                <a:lnTo>
                  <a:pt x="1991" y="468"/>
                </a:lnTo>
                <a:lnTo>
                  <a:pt x="2027" y="466"/>
                </a:lnTo>
                <a:lnTo>
                  <a:pt x="2063" y="466"/>
                </a:lnTo>
                <a:lnTo>
                  <a:pt x="2099" y="466"/>
                </a:lnTo>
                <a:lnTo>
                  <a:pt x="2135" y="466"/>
                </a:lnTo>
                <a:lnTo>
                  <a:pt x="2171" y="466"/>
                </a:lnTo>
                <a:lnTo>
                  <a:pt x="2209" y="466"/>
                </a:lnTo>
                <a:lnTo>
                  <a:pt x="2246" y="466"/>
                </a:lnTo>
                <a:lnTo>
                  <a:pt x="2282" y="466"/>
                </a:lnTo>
                <a:lnTo>
                  <a:pt x="2318" y="464"/>
                </a:lnTo>
                <a:lnTo>
                  <a:pt x="2354" y="462"/>
                </a:lnTo>
                <a:lnTo>
                  <a:pt x="2390" y="462"/>
                </a:lnTo>
                <a:lnTo>
                  <a:pt x="2426" y="460"/>
                </a:lnTo>
                <a:lnTo>
                  <a:pt x="2462" y="458"/>
                </a:lnTo>
                <a:lnTo>
                  <a:pt x="2498" y="456"/>
                </a:lnTo>
                <a:lnTo>
                  <a:pt x="2535" y="454"/>
                </a:lnTo>
                <a:lnTo>
                  <a:pt x="2571" y="454"/>
                </a:lnTo>
                <a:lnTo>
                  <a:pt x="2607" y="450"/>
                </a:lnTo>
                <a:lnTo>
                  <a:pt x="2643" y="449"/>
                </a:lnTo>
                <a:lnTo>
                  <a:pt x="2679" y="445"/>
                </a:lnTo>
                <a:lnTo>
                  <a:pt x="2715" y="443"/>
                </a:lnTo>
                <a:lnTo>
                  <a:pt x="2749" y="441"/>
                </a:lnTo>
                <a:lnTo>
                  <a:pt x="2786" y="437"/>
                </a:lnTo>
                <a:lnTo>
                  <a:pt x="2822" y="433"/>
                </a:lnTo>
                <a:lnTo>
                  <a:pt x="2858" y="430"/>
                </a:lnTo>
                <a:lnTo>
                  <a:pt x="2850" y="428"/>
                </a:lnTo>
                <a:lnTo>
                  <a:pt x="2843" y="426"/>
                </a:lnTo>
                <a:lnTo>
                  <a:pt x="2835" y="424"/>
                </a:lnTo>
                <a:lnTo>
                  <a:pt x="2829" y="422"/>
                </a:lnTo>
                <a:lnTo>
                  <a:pt x="2822" y="420"/>
                </a:lnTo>
                <a:lnTo>
                  <a:pt x="2816" y="420"/>
                </a:lnTo>
                <a:lnTo>
                  <a:pt x="2808" y="420"/>
                </a:lnTo>
                <a:lnTo>
                  <a:pt x="2801" y="420"/>
                </a:lnTo>
                <a:lnTo>
                  <a:pt x="2795" y="420"/>
                </a:lnTo>
                <a:lnTo>
                  <a:pt x="2787" y="420"/>
                </a:lnTo>
                <a:lnTo>
                  <a:pt x="2780" y="420"/>
                </a:lnTo>
                <a:lnTo>
                  <a:pt x="2772" y="422"/>
                </a:lnTo>
                <a:lnTo>
                  <a:pt x="2765" y="422"/>
                </a:lnTo>
                <a:lnTo>
                  <a:pt x="2759" y="424"/>
                </a:lnTo>
                <a:lnTo>
                  <a:pt x="2751" y="424"/>
                </a:lnTo>
                <a:lnTo>
                  <a:pt x="2744" y="426"/>
                </a:lnTo>
                <a:lnTo>
                  <a:pt x="2736" y="426"/>
                </a:lnTo>
                <a:lnTo>
                  <a:pt x="2728" y="428"/>
                </a:lnTo>
                <a:lnTo>
                  <a:pt x="2721" y="428"/>
                </a:lnTo>
                <a:lnTo>
                  <a:pt x="2715" y="428"/>
                </a:lnTo>
                <a:lnTo>
                  <a:pt x="2708" y="428"/>
                </a:lnTo>
                <a:lnTo>
                  <a:pt x="2700" y="430"/>
                </a:lnTo>
                <a:lnTo>
                  <a:pt x="2694" y="430"/>
                </a:lnTo>
                <a:lnTo>
                  <a:pt x="2687" y="430"/>
                </a:lnTo>
                <a:lnTo>
                  <a:pt x="2679" y="430"/>
                </a:lnTo>
                <a:lnTo>
                  <a:pt x="2673" y="430"/>
                </a:lnTo>
                <a:lnTo>
                  <a:pt x="2668" y="428"/>
                </a:lnTo>
                <a:lnTo>
                  <a:pt x="2660" y="428"/>
                </a:lnTo>
                <a:lnTo>
                  <a:pt x="2654" y="426"/>
                </a:lnTo>
                <a:lnTo>
                  <a:pt x="2649" y="424"/>
                </a:lnTo>
                <a:lnTo>
                  <a:pt x="2643" y="422"/>
                </a:lnTo>
                <a:lnTo>
                  <a:pt x="2637" y="420"/>
                </a:lnTo>
                <a:lnTo>
                  <a:pt x="2643" y="418"/>
                </a:lnTo>
                <a:lnTo>
                  <a:pt x="2649" y="416"/>
                </a:lnTo>
                <a:lnTo>
                  <a:pt x="2656" y="414"/>
                </a:lnTo>
                <a:lnTo>
                  <a:pt x="2662" y="414"/>
                </a:lnTo>
                <a:lnTo>
                  <a:pt x="2668" y="412"/>
                </a:lnTo>
                <a:lnTo>
                  <a:pt x="2675" y="411"/>
                </a:lnTo>
                <a:lnTo>
                  <a:pt x="2681" y="411"/>
                </a:lnTo>
                <a:lnTo>
                  <a:pt x="2687" y="411"/>
                </a:lnTo>
                <a:lnTo>
                  <a:pt x="2694" y="409"/>
                </a:lnTo>
                <a:lnTo>
                  <a:pt x="2700" y="409"/>
                </a:lnTo>
                <a:lnTo>
                  <a:pt x="2706" y="407"/>
                </a:lnTo>
                <a:lnTo>
                  <a:pt x="2713" y="407"/>
                </a:lnTo>
                <a:lnTo>
                  <a:pt x="2719" y="407"/>
                </a:lnTo>
                <a:lnTo>
                  <a:pt x="2725" y="407"/>
                </a:lnTo>
                <a:lnTo>
                  <a:pt x="2732" y="405"/>
                </a:lnTo>
                <a:lnTo>
                  <a:pt x="2738" y="405"/>
                </a:lnTo>
                <a:lnTo>
                  <a:pt x="2744" y="405"/>
                </a:lnTo>
                <a:lnTo>
                  <a:pt x="2749" y="403"/>
                </a:lnTo>
                <a:lnTo>
                  <a:pt x="2755" y="401"/>
                </a:lnTo>
                <a:lnTo>
                  <a:pt x="2763" y="401"/>
                </a:lnTo>
                <a:lnTo>
                  <a:pt x="2768" y="401"/>
                </a:lnTo>
                <a:lnTo>
                  <a:pt x="2774" y="399"/>
                </a:lnTo>
                <a:lnTo>
                  <a:pt x="2782" y="399"/>
                </a:lnTo>
                <a:lnTo>
                  <a:pt x="2787" y="399"/>
                </a:lnTo>
                <a:lnTo>
                  <a:pt x="2795" y="397"/>
                </a:lnTo>
                <a:lnTo>
                  <a:pt x="2801" y="395"/>
                </a:lnTo>
                <a:lnTo>
                  <a:pt x="2806" y="393"/>
                </a:lnTo>
                <a:lnTo>
                  <a:pt x="2814" y="392"/>
                </a:lnTo>
                <a:lnTo>
                  <a:pt x="2820" y="390"/>
                </a:lnTo>
                <a:lnTo>
                  <a:pt x="2825" y="390"/>
                </a:lnTo>
                <a:lnTo>
                  <a:pt x="2833" y="388"/>
                </a:lnTo>
                <a:lnTo>
                  <a:pt x="2839" y="386"/>
                </a:lnTo>
                <a:lnTo>
                  <a:pt x="2835" y="378"/>
                </a:lnTo>
                <a:lnTo>
                  <a:pt x="2831" y="374"/>
                </a:lnTo>
                <a:lnTo>
                  <a:pt x="2827" y="371"/>
                </a:lnTo>
                <a:lnTo>
                  <a:pt x="2825" y="369"/>
                </a:lnTo>
                <a:lnTo>
                  <a:pt x="2816" y="365"/>
                </a:lnTo>
                <a:lnTo>
                  <a:pt x="2808" y="365"/>
                </a:lnTo>
                <a:lnTo>
                  <a:pt x="2799" y="365"/>
                </a:lnTo>
                <a:lnTo>
                  <a:pt x="2789" y="367"/>
                </a:lnTo>
                <a:lnTo>
                  <a:pt x="2780" y="365"/>
                </a:lnTo>
                <a:lnTo>
                  <a:pt x="2770" y="363"/>
                </a:lnTo>
                <a:lnTo>
                  <a:pt x="2770" y="359"/>
                </a:lnTo>
                <a:lnTo>
                  <a:pt x="2778" y="355"/>
                </a:lnTo>
                <a:lnTo>
                  <a:pt x="2784" y="354"/>
                </a:lnTo>
                <a:lnTo>
                  <a:pt x="2787" y="352"/>
                </a:lnTo>
                <a:lnTo>
                  <a:pt x="2793" y="348"/>
                </a:lnTo>
                <a:lnTo>
                  <a:pt x="2799" y="342"/>
                </a:lnTo>
                <a:lnTo>
                  <a:pt x="2801" y="335"/>
                </a:lnTo>
                <a:lnTo>
                  <a:pt x="2801" y="327"/>
                </a:lnTo>
                <a:lnTo>
                  <a:pt x="2799" y="319"/>
                </a:lnTo>
                <a:lnTo>
                  <a:pt x="2793" y="310"/>
                </a:lnTo>
                <a:lnTo>
                  <a:pt x="2787" y="304"/>
                </a:lnTo>
                <a:lnTo>
                  <a:pt x="2780" y="293"/>
                </a:lnTo>
                <a:lnTo>
                  <a:pt x="2770" y="287"/>
                </a:lnTo>
                <a:lnTo>
                  <a:pt x="2759" y="279"/>
                </a:lnTo>
                <a:lnTo>
                  <a:pt x="2749" y="276"/>
                </a:lnTo>
                <a:lnTo>
                  <a:pt x="2738" y="272"/>
                </a:lnTo>
                <a:lnTo>
                  <a:pt x="2728" y="270"/>
                </a:lnTo>
                <a:lnTo>
                  <a:pt x="2719" y="268"/>
                </a:lnTo>
                <a:lnTo>
                  <a:pt x="2709" y="270"/>
                </a:lnTo>
                <a:lnTo>
                  <a:pt x="2709" y="268"/>
                </a:lnTo>
                <a:lnTo>
                  <a:pt x="2717" y="266"/>
                </a:lnTo>
                <a:lnTo>
                  <a:pt x="2727" y="262"/>
                </a:lnTo>
                <a:lnTo>
                  <a:pt x="2732" y="257"/>
                </a:lnTo>
                <a:lnTo>
                  <a:pt x="2740" y="251"/>
                </a:lnTo>
                <a:lnTo>
                  <a:pt x="2744" y="243"/>
                </a:lnTo>
                <a:lnTo>
                  <a:pt x="2744" y="236"/>
                </a:lnTo>
                <a:lnTo>
                  <a:pt x="2742" y="226"/>
                </a:lnTo>
                <a:lnTo>
                  <a:pt x="2736" y="220"/>
                </a:lnTo>
                <a:lnTo>
                  <a:pt x="2728" y="226"/>
                </a:lnTo>
                <a:lnTo>
                  <a:pt x="2719" y="232"/>
                </a:lnTo>
                <a:lnTo>
                  <a:pt x="2708" y="230"/>
                </a:lnTo>
                <a:lnTo>
                  <a:pt x="2698" y="224"/>
                </a:lnTo>
                <a:lnTo>
                  <a:pt x="2698" y="220"/>
                </a:lnTo>
                <a:lnTo>
                  <a:pt x="2706" y="219"/>
                </a:lnTo>
                <a:lnTo>
                  <a:pt x="2715" y="215"/>
                </a:lnTo>
                <a:lnTo>
                  <a:pt x="2721" y="209"/>
                </a:lnTo>
                <a:lnTo>
                  <a:pt x="2725" y="203"/>
                </a:lnTo>
                <a:lnTo>
                  <a:pt x="2725" y="196"/>
                </a:lnTo>
                <a:lnTo>
                  <a:pt x="2725" y="188"/>
                </a:lnTo>
                <a:lnTo>
                  <a:pt x="2721" y="181"/>
                </a:lnTo>
                <a:lnTo>
                  <a:pt x="2713" y="173"/>
                </a:lnTo>
                <a:lnTo>
                  <a:pt x="2704" y="179"/>
                </a:lnTo>
                <a:lnTo>
                  <a:pt x="2694" y="182"/>
                </a:lnTo>
                <a:lnTo>
                  <a:pt x="2681" y="182"/>
                </a:lnTo>
                <a:lnTo>
                  <a:pt x="2675" y="177"/>
                </a:lnTo>
                <a:lnTo>
                  <a:pt x="2675" y="173"/>
                </a:lnTo>
                <a:lnTo>
                  <a:pt x="2679" y="169"/>
                </a:lnTo>
                <a:lnTo>
                  <a:pt x="2685" y="169"/>
                </a:lnTo>
                <a:lnTo>
                  <a:pt x="2689" y="169"/>
                </a:lnTo>
                <a:lnTo>
                  <a:pt x="2694" y="171"/>
                </a:lnTo>
                <a:lnTo>
                  <a:pt x="2690" y="163"/>
                </a:lnTo>
                <a:lnTo>
                  <a:pt x="2685" y="158"/>
                </a:lnTo>
                <a:lnTo>
                  <a:pt x="2677" y="154"/>
                </a:lnTo>
                <a:lnTo>
                  <a:pt x="2668" y="152"/>
                </a:lnTo>
                <a:lnTo>
                  <a:pt x="2658" y="150"/>
                </a:lnTo>
                <a:lnTo>
                  <a:pt x="2647" y="150"/>
                </a:lnTo>
                <a:lnTo>
                  <a:pt x="2635" y="148"/>
                </a:lnTo>
                <a:lnTo>
                  <a:pt x="2626" y="148"/>
                </a:lnTo>
                <a:lnTo>
                  <a:pt x="2614" y="146"/>
                </a:lnTo>
                <a:lnTo>
                  <a:pt x="2605" y="144"/>
                </a:lnTo>
                <a:lnTo>
                  <a:pt x="2595" y="143"/>
                </a:lnTo>
                <a:lnTo>
                  <a:pt x="2588" y="141"/>
                </a:lnTo>
                <a:lnTo>
                  <a:pt x="2582" y="135"/>
                </a:lnTo>
                <a:lnTo>
                  <a:pt x="2578" y="127"/>
                </a:lnTo>
                <a:lnTo>
                  <a:pt x="2578" y="122"/>
                </a:lnTo>
                <a:lnTo>
                  <a:pt x="2580" y="112"/>
                </a:lnTo>
                <a:lnTo>
                  <a:pt x="2578" y="106"/>
                </a:lnTo>
                <a:lnTo>
                  <a:pt x="2576" y="103"/>
                </a:lnTo>
                <a:lnTo>
                  <a:pt x="2571" y="106"/>
                </a:lnTo>
                <a:lnTo>
                  <a:pt x="2565" y="112"/>
                </a:lnTo>
                <a:lnTo>
                  <a:pt x="2559" y="116"/>
                </a:lnTo>
                <a:lnTo>
                  <a:pt x="2555" y="120"/>
                </a:lnTo>
                <a:lnTo>
                  <a:pt x="2550" y="122"/>
                </a:lnTo>
                <a:lnTo>
                  <a:pt x="2546" y="125"/>
                </a:lnTo>
                <a:lnTo>
                  <a:pt x="2538" y="125"/>
                </a:lnTo>
                <a:lnTo>
                  <a:pt x="2533" y="125"/>
                </a:lnTo>
                <a:lnTo>
                  <a:pt x="253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03280" y="3213000"/>
            <a:ext cx="2427480" cy="1495440"/>
          </a:xfrm>
          <a:custGeom>
            <a:avLst/>
            <a:gdLst/>
            <a:ahLst/>
            <a:rect l="l" t="t" r="r" b="b"/>
            <a:pathLst>
              <a:path w="1529" h="942">
                <a:moveTo>
                  <a:pt x="121" y="567"/>
                </a:moveTo>
                <a:lnTo>
                  <a:pt x="119" y="581"/>
                </a:lnTo>
                <a:lnTo>
                  <a:pt x="111" y="691"/>
                </a:lnTo>
                <a:lnTo>
                  <a:pt x="129" y="543"/>
                </a:lnTo>
                <a:lnTo>
                  <a:pt x="159" y="443"/>
                </a:lnTo>
                <a:lnTo>
                  <a:pt x="98" y="322"/>
                </a:lnTo>
                <a:lnTo>
                  <a:pt x="98" y="314"/>
                </a:lnTo>
                <a:lnTo>
                  <a:pt x="98" y="307"/>
                </a:lnTo>
                <a:lnTo>
                  <a:pt x="98" y="300"/>
                </a:lnTo>
                <a:lnTo>
                  <a:pt x="97" y="293"/>
                </a:lnTo>
                <a:lnTo>
                  <a:pt x="97" y="287"/>
                </a:lnTo>
                <a:lnTo>
                  <a:pt x="96" y="282"/>
                </a:lnTo>
                <a:lnTo>
                  <a:pt x="96" y="276"/>
                </a:lnTo>
                <a:lnTo>
                  <a:pt x="96" y="270"/>
                </a:lnTo>
                <a:lnTo>
                  <a:pt x="96" y="265"/>
                </a:lnTo>
                <a:lnTo>
                  <a:pt x="96" y="260"/>
                </a:lnTo>
                <a:lnTo>
                  <a:pt x="96" y="255"/>
                </a:lnTo>
                <a:lnTo>
                  <a:pt x="96" y="250"/>
                </a:lnTo>
                <a:lnTo>
                  <a:pt x="97" y="246"/>
                </a:lnTo>
                <a:lnTo>
                  <a:pt x="97" y="240"/>
                </a:lnTo>
                <a:lnTo>
                  <a:pt x="98" y="234"/>
                </a:lnTo>
                <a:lnTo>
                  <a:pt x="98" y="229"/>
                </a:lnTo>
                <a:lnTo>
                  <a:pt x="100" y="225"/>
                </a:lnTo>
                <a:lnTo>
                  <a:pt x="101" y="220"/>
                </a:lnTo>
                <a:lnTo>
                  <a:pt x="102" y="215"/>
                </a:lnTo>
                <a:lnTo>
                  <a:pt x="103" y="211"/>
                </a:lnTo>
                <a:lnTo>
                  <a:pt x="105" y="207"/>
                </a:lnTo>
                <a:lnTo>
                  <a:pt x="107" y="202"/>
                </a:lnTo>
                <a:lnTo>
                  <a:pt x="108" y="197"/>
                </a:lnTo>
                <a:lnTo>
                  <a:pt x="110" y="192"/>
                </a:lnTo>
                <a:lnTo>
                  <a:pt x="112" y="188"/>
                </a:lnTo>
                <a:lnTo>
                  <a:pt x="113" y="184"/>
                </a:lnTo>
                <a:lnTo>
                  <a:pt x="115" y="179"/>
                </a:lnTo>
                <a:lnTo>
                  <a:pt x="118" y="175"/>
                </a:lnTo>
                <a:lnTo>
                  <a:pt x="120" y="170"/>
                </a:lnTo>
                <a:lnTo>
                  <a:pt x="123" y="167"/>
                </a:lnTo>
                <a:lnTo>
                  <a:pt x="126" y="163"/>
                </a:lnTo>
                <a:lnTo>
                  <a:pt x="128" y="160"/>
                </a:lnTo>
                <a:lnTo>
                  <a:pt x="131" y="155"/>
                </a:lnTo>
                <a:lnTo>
                  <a:pt x="133" y="151"/>
                </a:lnTo>
                <a:lnTo>
                  <a:pt x="137" y="149"/>
                </a:lnTo>
                <a:lnTo>
                  <a:pt x="139" y="146"/>
                </a:lnTo>
                <a:lnTo>
                  <a:pt x="143" y="142"/>
                </a:lnTo>
                <a:lnTo>
                  <a:pt x="147" y="138"/>
                </a:lnTo>
                <a:lnTo>
                  <a:pt x="150" y="134"/>
                </a:lnTo>
                <a:lnTo>
                  <a:pt x="153" y="132"/>
                </a:lnTo>
                <a:lnTo>
                  <a:pt x="157" y="129"/>
                </a:lnTo>
                <a:lnTo>
                  <a:pt x="161" y="126"/>
                </a:lnTo>
                <a:lnTo>
                  <a:pt x="165" y="123"/>
                </a:lnTo>
                <a:lnTo>
                  <a:pt x="168" y="120"/>
                </a:lnTo>
                <a:lnTo>
                  <a:pt x="172" y="117"/>
                </a:lnTo>
                <a:lnTo>
                  <a:pt x="176" y="115"/>
                </a:lnTo>
                <a:lnTo>
                  <a:pt x="181" y="112"/>
                </a:lnTo>
                <a:lnTo>
                  <a:pt x="185" y="111"/>
                </a:lnTo>
                <a:lnTo>
                  <a:pt x="189" y="109"/>
                </a:lnTo>
                <a:lnTo>
                  <a:pt x="193" y="107"/>
                </a:lnTo>
                <a:lnTo>
                  <a:pt x="198" y="105"/>
                </a:lnTo>
                <a:lnTo>
                  <a:pt x="202" y="104"/>
                </a:lnTo>
                <a:lnTo>
                  <a:pt x="207" y="102"/>
                </a:lnTo>
                <a:lnTo>
                  <a:pt x="211" y="100"/>
                </a:lnTo>
                <a:lnTo>
                  <a:pt x="216" y="99"/>
                </a:lnTo>
                <a:lnTo>
                  <a:pt x="221" y="97"/>
                </a:lnTo>
                <a:lnTo>
                  <a:pt x="226" y="96"/>
                </a:lnTo>
                <a:lnTo>
                  <a:pt x="230" y="95"/>
                </a:lnTo>
                <a:lnTo>
                  <a:pt x="235" y="94"/>
                </a:lnTo>
                <a:lnTo>
                  <a:pt x="240" y="94"/>
                </a:lnTo>
                <a:lnTo>
                  <a:pt x="246" y="93"/>
                </a:lnTo>
                <a:lnTo>
                  <a:pt x="250" y="92"/>
                </a:lnTo>
                <a:lnTo>
                  <a:pt x="256" y="92"/>
                </a:lnTo>
                <a:lnTo>
                  <a:pt x="261" y="92"/>
                </a:lnTo>
                <a:lnTo>
                  <a:pt x="266" y="92"/>
                </a:lnTo>
                <a:lnTo>
                  <a:pt x="271" y="93"/>
                </a:lnTo>
                <a:lnTo>
                  <a:pt x="277" y="94"/>
                </a:lnTo>
                <a:lnTo>
                  <a:pt x="282" y="95"/>
                </a:lnTo>
                <a:lnTo>
                  <a:pt x="285" y="95"/>
                </a:lnTo>
                <a:lnTo>
                  <a:pt x="289" y="95"/>
                </a:lnTo>
                <a:lnTo>
                  <a:pt x="291" y="95"/>
                </a:lnTo>
                <a:lnTo>
                  <a:pt x="292" y="96"/>
                </a:lnTo>
                <a:lnTo>
                  <a:pt x="295" y="96"/>
                </a:lnTo>
                <a:lnTo>
                  <a:pt x="296" y="97"/>
                </a:lnTo>
                <a:lnTo>
                  <a:pt x="295" y="97"/>
                </a:lnTo>
                <a:lnTo>
                  <a:pt x="294" y="97"/>
                </a:lnTo>
                <a:lnTo>
                  <a:pt x="394" y="103"/>
                </a:lnTo>
                <a:lnTo>
                  <a:pt x="400" y="104"/>
                </a:lnTo>
                <a:lnTo>
                  <a:pt x="404" y="105"/>
                </a:lnTo>
                <a:lnTo>
                  <a:pt x="410" y="106"/>
                </a:lnTo>
                <a:lnTo>
                  <a:pt x="415" y="108"/>
                </a:lnTo>
                <a:lnTo>
                  <a:pt x="420" y="109"/>
                </a:lnTo>
                <a:lnTo>
                  <a:pt x="426" y="110"/>
                </a:lnTo>
                <a:lnTo>
                  <a:pt x="431" y="111"/>
                </a:lnTo>
                <a:lnTo>
                  <a:pt x="436" y="111"/>
                </a:lnTo>
                <a:lnTo>
                  <a:pt x="441" y="112"/>
                </a:lnTo>
                <a:lnTo>
                  <a:pt x="446" y="112"/>
                </a:lnTo>
                <a:lnTo>
                  <a:pt x="453" y="113"/>
                </a:lnTo>
                <a:lnTo>
                  <a:pt x="458" y="113"/>
                </a:lnTo>
                <a:lnTo>
                  <a:pt x="462" y="114"/>
                </a:lnTo>
                <a:lnTo>
                  <a:pt x="468" y="114"/>
                </a:lnTo>
                <a:lnTo>
                  <a:pt x="473" y="115"/>
                </a:lnTo>
                <a:lnTo>
                  <a:pt x="477" y="115"/>
                </a:lnTo>
                <a:lnTo>
                  <a:pt x="483" y="115"/>
                </a:lnTo>
                <a:lnTo>
                  <a:pt x="488" y="115"/>
                </a:lnTo>
                <a:lnTo>
                  <a:pt x="495" y="115"/>
                </a:lnTo>
                <a:lnTo>
                  <a:pt x="499" y="116"/>
                </a:lnTo>
                <a:lnTo>
                  <a:pt x="504" y="116"/>
                </a:lnTo>
                <a:lnTo>
                  <a:pt x="510" y="116"/>
                </a:lnTo>
                <a:lnTo>
                  <a:pt x="515" y="116"/>
                </a:lnTo>
                <a:lnTo>
                  <a:pt x="519" y="116"/>
                </a:lnTo>
                <a:lnTo>
                  <a:pt x="526" y="115"/>
                </a:lnTo>
                <a:lnTo>
                  <a:pt x="531" y="115"/>
                </a:lnTo>
                <a:lnTo>
                  <a:pt x="536" y="115"/>
                </a:lnTo>
                <a:lnTo>
                  <a:pt x="541" y="115"/>
                </a:lnTo>
                <a:lnTo>
                  <a:pt x="546" y="115"/>
                </a:lnTo>
                <a:lnTo>
                  <a:pt x="552" y="115"/>
                </a:lnTo>
                <a:lnTo>
                  <a:pt x="556" y="115"/>
                </a:lnTo>
                <a:lnTo>
                  <a:pt x="561" y="115"/>
                </a:lnTo>
                <a:lnTo>
                  <a:pt x="568" y="115"/>
                </a:lnTo>
                <a:lnTo>
                  <a:pt x="573" y="114"/>
                </a:lnTo>
                <a:lnTo>
                  <a:pt x="578" y="114"/>
                </a:lnTo>
                <a:lnTo>
                  <a:pt x="583" y="114"/>
                </a:lnTo>
                <a:lnTo>
                  <a:pt x="589" y="114"/>
                </a:lnTo>
                <a:lnTo>
                  <a:pt x="594" y="113"/>
                </a:lnTo>
                <a:lnTo>
                  <a:pt x="600" y="113"/>
                </a:lnTo>
                <a:lnTo>
                  <a:pt x="605" y="113"/>
                </a:lnTo>
                <a:lnTo>
                  <a:pt x="611" y="113"/>
                </a:lnTo>
                <a:lnTo>
                  <a:pt x="616" y="112"/>
                </a:lnTo>
                <a:lnTo>
                  <a:pt x="622" y="112"/>
                </a:lnTo>
                <a:lnTo>
                  <a:pt x="628" y="112"/>
                </a:lnTo>
                <a:lnTo>
                  <a:pt x="633" y="112"/>
                </a:lnTo>
                <a:lnTo>
                  <a:pt x="638" y="112"/>
                </a:lnTo>
                <a:lnTo>
                  <a:pt x="644" y="112"/>
                </a:lnTo>
                <a:lnTo>
                  <a:pt x="649" y="112"/>
                </a:lnTo>
                <a:lnTo>
                  <a:pt x="654" y="111"/>
                </a:lnTo>
                <a:lnTo>
                  <a:pt x="661" y="111"/>
                </a:lnTo>
                <a:lnTo>
                  <a:pt x="667" y="111"/>
                </a:lnTo>
                <a:lnTo>
                  <a:pt x="671" y="111"/>
                </a:lnTo>
                <a:lnTo>
                  <a:pt x="677" y="111"/>
                </a:lnTo>
                <a:lnTo>
                  <a:pt x="683" y="111"/>
                </a:lnTo>
                <a:lnTo>
                  <a:pt x="688" y="111"/>
                </a:lnTo>
                <a:lnTo>
                  <a:pt x="694" y="111"/>
                </a:lnTo>
                <a:lnTo>
                  <a:pt x="700" y="111"/>
                </a:lnTo>
                <a:lnTo>
                  <a:pt x="706" y="111"/>
                </a:lnTo>
                <a:lnTo>
                  <a:pt x="712" y="111"/>
                </a:lnTo>
                <a:lnTo>
                  <a:pt x="717" y="111"/>
                </a:lnTo>
                <a:lnTo>
                  <a:pt x="724" y="111"/>
                </a:lnTo>
                <a:lnTo>
                  <a:pt x="729" y="112"/>
                </a:lnTo>
                <a:lnTo>
                  <a:pt x="735" y="112"/>
                </a:lnTo>
                <a:lnTo>
                  <a:pt x="741" y="113"/>
                </a:lnTo>
                <a:lnTo>
                  <a:pt x="748" y="112"/>
                </a:lnTo>
                <a:lnTo>
                  <a:pt x="755" y="111"/>
                </a:lnTo>
                <a:lnTo>
                  <a:pt x="762" y="110"/>
                </a:lnTo>
                <a:lnTo>
                  <a:pt x="768" y="109"/>
                </a:lnTo>
                <a:lnTo>
                  <a:pt x="776" y="108"/>
                </a:lnTo>
                <a:lnTo>
                  <a:pt x="783" y="108"/>
                </a:lnTo>
                <a:lnTo>
                  <a:pt x="788" y="107"/>
                </a:lnTo>
                <a:lnTo>
                  <a:pt x="795" y="107"/>
                </a:lnTo>
                <a:lnTo>
                  <a:pt x="802" y="106"/>
                </a:lnTo>
                <a:lnTo>
                  <a:pt x="809" y="106"/>
                </a:lnTo>
                <a:lnTo>
                  <a:pt x="816" y="106"/>
                </a:lnTo>
                <a:lnTo>
                  <a:pt x="823" y="106"/>
                </a:lnTo>
                <a:lnTo>
                  <a:pt x="828" y="106"/>
                </a:lnTo>
                <a:lnTo>
                  <a:pt x="835" y="106"/>
                </a:lnTo>
                <a:lnTo>
                  <a:pt x="842" y="106"/>
                </a:lnTo>
                <a:lnTo>
                  <a:pt x="847" y="106"/>
                </a:lnTo>
                <a:lnTo>
                  <a:pt x="855" y="106"/>
                </a:lnTo>
                <a:lnTo>
                  <a:pt x="861" y="106"/>
                </a:lnTo>
                <a:lnTo>
                  <a:pt x="868" y="107"/>
                </a:lnTo>
                <a:lnTo>
                  <a:pt x="874" y="108"/>
                </a:lnTo>
                <a:lnTo>
                  <a:pt x="881" y="108"/>
                </a:lnTo>
                <a:lnTo>
                  <a:pt x="887" y="108"/>
                </a:lnTo>
                <a:lnTo>
                  <a:pt x="893" y="109"/>
                </a:lnTo>
                <a:lnTo>
                  <a:pt x="900" y="109"/>
                </a:lnTo>
                <a:lnTo>
                  <a:pt x="906" y="109"/>
                </a:lnTo>
                <a:lnTo>
                  <a:pt x="912" y="110"/>
                </a:lnTo>
                <a:lnTo>
                  <a:pt x="919" y="110"/>
                </a:lnTo>
                <a:lnTo>
                  <a:pt x="924" y="111"/>
                </a:lnTo>
                <a:lnTo>
                  <a:pt x="931" y="111"/>
                </a:lnTo>
                <a:lnTo>
                  <a:pt x="937" y="112"/>
                </a:lnTo>
                <a:lnTo>
                  <a:pt x="943" y="112"/>
                </a:lnTo>
                <a:lnTo>
                  <a:pt x="949" y="113"/>
                </a:lnTo>
                <a:lnTo>
                  <a:pt x="956" y="113"/>
                </a:lnTo>
                <a:lnTo>
                  <a:pt x="962" y="114"/>
                </a:lnTo>
                <a:lnTo>
                  <a:pt x="968" y="114"/>
                </a:lnTo>
                <a:lnTo>
                  <a:pt x="975" y="114"/>
                </a:lnTo>
                <a:lnTo>
                  <a:pt x="981" y="114"/>
                </a:lnTo>
                <a:lnTo>
                  <a:pt x="987" y="115"/>
                </a:lnTo>
                <a:lnTo>
                  <a:pt x="993" y="115"/>
                </a:lnTo>
                <a:lnTo>
                  <a:pt x="999" y="116"/>
                </a:lnTo>
                <a:lnTo>
                  <a:pt x="1005" y="116"/>
                </a:lnTo>
                <a:lnTo>
                  <a:pt x="1012" y="116"/>
                </a:lnTo>
                <a:lnTo>
                  <a:pt x="1018" y="116"/>
                </a:lnTo>
                <a:lnTo>
                  <a:pt x="1024" y="116"/>
                </a:lnTo>
                <a:lnTo>
                  <a:pt x="1030" y="116"/>
                </a:lnTo>
                <a:lnTo>
                  <a:pt x="1036" y="116"/>
                </a:lnTo>
                <a:lnTo>
                  <a:pt x="1042" y="116"/>
                </a:lnTo>
                <a:lnTo>
                  <a:pt x="1048" y="116"/>
                </a:lnTo>
                <a:lnTo>
                  <a:pt x="1054" y="115"/>
                </a:lnTo>
                <a:lnTo>
                  <a:pt x="1061" y="114"/>
                </a:lnTo>
                <a:lnTo>
                  <a:pt x="1068" y="114"/>
                </a:lnTo>
                <a:lnTo>
                  <a:pt x="1073" y="113"/>
                </a:lnTo>
                <a:lnTo>
                  <a:pt x="1079" y="112"/>
                </a:lnTo>
                <a:lnTo>
                  <a:pt x="1085" y="111"/>
                </a:lnTo>
                <a:lnTo>
                  <a:pt x="1092" y="111"/>
                </a:lnTo>
                <a:lnTo>
                  <a:pt x="1097" y="110"/>
                </a:lnTo>
                <a:lnTo>
                  <a:pt x="1104" y="109"/>
                </a:lnTo>
                <a:lnTo>
                  <a:pt x="1111" y="107"/>
                </a:lnTo>
                <a:lnTo>
                  <a:pt x="1116" y="105"/>
                </a:lnTo>
                <a:lnTo>
                  <a:pt x="1122" y="104"/>
                </a:lnTo>
                <a:lnTo>
                  <a:pt x="1129" y="102"/>
                </a:lnTo>
                <a:lnTo>
                  <a:pt x="1134" y="100"/>
                </a:lnTo>
                <a:lnTo>
                  <a:pt x="1140" y="98"/>
                </a:lnTo>
                <a:lnTo>
                  <a:pt x="1147" y="96"/>
                </a:lnTo>
                <a:lnTo>
                  <a:pt x="1150" y="92"/>
                </a:lnTo>
                <a:lnTo>
                  <a:pt x="1302" y="330"/>
                </a:lnTo>
                <a:lnTo>
                  <a:pt x="1154" y="82"/>
                </a:lnTo>
                <a:lnTo>
                  <a:pt x="1157" y="78"/>
                </a:lnTo>
                <a:lnTo>
                  <a:pt x="1159" y="74"/>
                </a:lnTo>
                <a:lnTo>
                  <a:pt x="1162" y="71"/>
                </a:lnTo>
                <a:lnTo>
                  <a:pt x="1164" y="68"/>
                </a:lnTo>
                <a:lnTo>
                  <a:pt x="1166" y="64"/>
                </a:lnTo>
                <a:lnTo>
                  <a:pt x="1169" y="61"/>
                </a:lnTo>
                <a:lnTo>
                  <a:pt x="1170" y="58"/>
                </a:lnTo>
                <a:lnTo>
                  <a:pt x="1172" y="55"/>
                </a:lnTo>
                <a:lnTo>
                  <a:pt x="1175" y="53"/>
                </a:lnTo>
                <a:lnTo>
                  <a:pt x="1180" y="49"/>
                </a:lnTo>
                <a:lnTo>
                  <a:pt x="1185" y="46"/>
                </a:lnTo>
                <a:lnTo>
                  <a:pt x="1190" y="44"/>
                </a:lnTo>
                <a:lnTo>
                  <a:pt x="1195" y="42"/>
                </a:lnTo>
                <a:lnTo>
                  <a:pt x="1199" y="41"/>
                </a:lnTo>
                <a:lnTo>
                  <a:pt x="1203" y="41"/>
                </a:lnTo>
                <a:lnTo>
                  <a:pt x="1206" y="41"/>
                </a:lnTo>
                <a:lnTo>
                  <a:pt x="1208" y="41"/>
                </a:lnTo>
                <a:lnTo>
                  <a:pt x="1213" y="41"/>
                </a:lnTo>
                <a:lnTo>
                  <a:pt x="1217" y="41"/>
                </a:lnTo>
                <a:lnTo>
                  <a:pt x="1222" y="42"/>
                </a:lnTo>
                <a:lnTo>
                  <a:pt x="1226" y="43"/>
                </a:lnTo>
                <a:lnTo>
                  <a:pt x="1230" y="44"/>
                </a:lnTo>
                <a:lnTo>
                  <a:pt x="1235" y="45"/>
                </a:lnTo>
                <a:lnTo>
                  <a:pt x="1241" y="47"/>
                </a:lnTo>
                <a:lnTo>
                  <a:pt x="1246" y="49"/>
                </a:lnTo>
                <a:lnTo>
                  <a:pt x="1249" y="46"/>
                </a:lnTo>
                <a:lnTo>
                  <a:pt x="1251" y="42"/>
                </a:lnTo>
                <a:lnTo>
                  <a:pt x="1255" y="40"/>
                </a:lnTo>
                <a:lnTo>
                  <a:pt x="1258" y="37"/>
                </a:lnTo>
                <a:lnTo>
                  <a:pt x="1261" y="34"/>
                </a:lnTo>
                <a:lnTo>
                  <a:pt x="1264" y="33"/>
                </a:lnTo>
                <a:lnTo>
                  <a:pt x="1266" y="31"/>
                </a:lnTo>
                <a:lnTo>
                  <a:pt x="1269" y="29"/>
                </a:lnTo>
                <a:lnTo>
                  <a:pt x="1272" y="27"/>
                </a:lnTo>
                <a:lnTo>
                  <a:pt x="1276" y="26"/>
                </a:lnTo>
                <a:lnTo>
                  <a:pt x="1279" y="24"/>
                </a:lnTo>
                <a:lnTo>
                  <a:pt x="1282" y="22"/>
                </a:lnTo>
                <a:lnTo>
                  <a:pt x="1285" y="21"/>
                </a:lnTo>
                <a:lnTo>
                  <a:pt x="1288" y="19"/>
                </a:lnTo>
                <a:lnTo>
                  <a:pt x="1291" y="18"/>
                </a:lnTo>
                <a:lnTo>
                  <a:pt x="1294" y="18"/>
                </a:lnTo>
                <a:lnTo>
                  <a:pt x="1298" y="16"/>
                </a:lnTo>
                <a:lnTo>
                  <a:pt x="1301" y="16"/>
                </a:lnTo>
                <a:lnTo>
                  <a:pt x="1304" y="15"/>
                </a:lnTo>
                <a:lnTo>
                  <a:pt x="1308" y="15"/>
                </a:lnTo>
                <a:lnTo>
                  <a:pt x="1311" y="14"/>
                </a:lnTo>
                <a:lnTo>
                  <a:pt x="1315" y="14"/>
                </a:lnTo>
                <a:lnTo>
                  <a:pt x="1319" y="13"/>
                </a:lnTo>
                <a:lnTo>
                  <a:pt x="1322" y="13"/>
                </a:lnTo>
                <a:lnTo>
                  <a:pt x="1325" y="13"/>
                </a:lnTo>
                <a:lnTo>
                  <a:pt x="1329" y="12"/>
                </a:lnTo>
                <a:lnTo>
                  <a:pt x="1333" y="12"/>
                </a:lnTo>
                <a:lnTo>
                  <a:pt x="1336" y="12"/>
                </a:lnTo>
                <a:lnTo>
                  <a:pt x="1340" y="12"/>
                </a:lnTo>
                <a:lnTo>
                  <a:pt x="1342" y="12"/>
                </a:lnTo>
                <a:lnTo>
                  <a:pt x="1346" y="12"/>
                </a:lnTo>
                <a:lnTo>
                  <a:pt x="1350" y="12"/>
                </a:lnTo>
                <a:lnTo>
                  <a:pt x="1354" y="12"/>
                </a:lnTo>
                <a:lnTo>
                  <a:pt x="1358" y="12"/>
                </a:lnTo>
                <a:lnTo>
                  <a:pt x="1361" y="12"/>
                </a:lnTo>
                <a:lnTo>
                  <a:pt x="1365" y="12"/>
                </a:lnTo>
                <a:lnTo>
                  <a:pt x="1369" y="12"/>
                </a:lnTo>
                <a:lnTo>
                  <a:pt x="1373" y="12"/>
                </a:lnTo>
                <a:lnTo>
                  <a:pt x="1377" y="12"/>
                </a:lnTo>
                <a:lnTo>
                  <a:pt x="1380" y="12"/>
                </a:lnTo>
                <a:lnTo>
                  <a:pt x="1384" y="12"/>
                </a:lnTo>
                <a:lnTo>
                  <a:pt x="1387" y="12"/>
                </a:lnTo>
                <a:lnTo>
                  <a:pt x="1392" y="12"/>
                </a:lnTo>
                <a:lnTo>
                  <a:pt x="1395" y="12"/>
                </a:lnTo>
                <a:lnTo>
                  <a:pt x="1399" y="12"/>
                </a:lnTo>
                <a:lnTo>
                  <a:pt x="1402" y="12"/>
                </a:lnTo>
                <a:lnTo>
                  <a:pt x="1406" y="12"/>
                </a:lnTo>
                <a:lnTo>
                  <a:pt x="1410" y="12"/>
                </a:lnTo>
                <a:lnTo>
                  <a:pt x="1414" y="12"/>
                </a:lnTo>
                <a:lnTo>
                  <a:pt x="1418" y="11"/>
                </a:lnTo>
                <a:lnTo>
                  <a:pt x="1421" y="10"/>
                </a:lnTo>
                <a:lnTo>
                  <a:pt x="1425" y="10"/>
                </a:lnTo>
                <a:lnTo>
                  <a:pt x="1429" y="10"/>
                </a:lnTo>
                <a:lnTo>
                  <a:pt x="1432" y="9"/>
                </a:lnTo>
                <a:lnTo>
                  <a:pt x="1437" y="9"/>
                </a:lnTo>
                <a:lnTo>
                  <a:pt x="1439" y="9"/>
                </a:lnTo>
                <a:lnTo>
                  <a:pt x="1444" y="8"/>
                </a:lnTo>
                <a:lnTo>
                  <a:pt x="1448" y="7"/>
                </a:lnTo>
                <a:lnTo>
                  <a:pt x="1452" y="5"/>
                </a:lnTo>
                <a:lnTo>
                  <a:pt x="1455" y="5"/>
                </a:lnTo>
                <a:lnTo>
                  <a:pt x="1458" y="4"/>
                </a:lnTo>
                <a:lnTo>
                  <a:pt x="1462" y="3"/>
                </a:lnTo>
                <a:lnTo>
                  <a:pt x="1466" y="2"/>
                </a:lnTo>
                <a:lnTo>
                  <a:pt x="1469" y="0"/>
                </a:lnTo>
                <a:lnTo>
                  <a:pt x="1470" y="4"/>
                </a:lnTo>
                <a:lnTo>
                  <a:pt x="1470" y="8"/>
                </a:lnTo>
                <a:lnTo>
                  <a:pt x="1470" y="11"/>
                </a:lnTo>
                <a:lnTo>
                  <a:pt x="1469" y="14"/>
                </a:lnTo>
                <a:lnTo>
                  <a:pt x="1468" y="18"/>
                </a:lnTo>
                <a:lnTo>
                  <a:pt x="1464" y="24"/>
                </a:lnTo>
                <a:lnTo>
                  <a:pt x="1462" y="28"/>
                </a:lnTo>
                <a:lnTo>
                  <a:pt x="1458" y="34"/>
                </a:lnTo>
                <a:lnTo>
                  <a:pt x="1456" y="36"/>
                </a:lnTo>
                <a:lnTo>
                  <a:pt x="1453" y="39"/>
                </a:lnTo>
                <a:lnTo>
                  <a:pt x="1451" y="42"/>
                </a:lnTo>
                <a:lnTo>
                  <a:pt x="1448" y="46"/>
                </a:lnTo>
                <a:lnTo>
                  <a:pt x="1448" y="47"/>
                </a:lnTo>
                <a:lnTo>
                  <a:pt x="1448" y="49"/>
                </a:lnTo>
                <a:lnTo>
                  <a:pt x="1452" y="48"/>
                </a:lnTo>
                <a:lnTo>
                  <a:pt x="1455" y="47"/>
                </a:lnTo>
                <a:lnTo>
                  <a:pt x="1458" y="47"/>
                </a:lnTo>
                <a:lnTo>
                  <a:pt x="1461" y="47"/>
                </a:lnTo>
                <a:lnTo>
                  <a:pt x="1467" y="46"/>
                </a:lnTo>
                <a:lnTo>
                  <a:pt x="1472" y="46"/>
                </a:lnTo>
                <a:lnTo>
                  <a:pt x="1477" y="45"/>
                </a:lnTo>
                <a:lnTo>
                  <a:pt x="1480" y="45"/>
                </a:lnTo>
                <a:lnTo>
                  <a:pt x="1485" y="45"/>
                </a:lnTo>
                <a:lnTo>
                  <a:pt x="1489" y="45"/>
                </a:lnTo>
                <a:lnTo>
                  <a:pt x="1493" y="44"/>
                </a:lnTo>
                <a:lnTo>
                  <a:pt x="1496" y="44"/>
                </a:lnTo>
                <a:lnTo>
                  <a:pt x="1501" y="43"/>
                </a:lnTo>
                <a:lnTo>
                  <a:pt x="1505" y="42"/>
                </a:lnTo>
                <a:lnTo>
                  <a:pt x="1511" y="41"/>
                </a:lnTo>
                <a:lnTo>
                  <a:pt x="1515" y="40"/>
                </a:lnTo>
                <a:lnTo>
                  <a:pt x="1519" y="40"/>
                </a:lnTo>
                <a:lnTo>
                  <a:pt x="1522" y="39"/>
                </a:lnTo>
                <a:lnTo>
                  <a:pt x="1525" y="39"/>
                </a:lnTo>
                <a:lnTo>
                  <a:pt x="1529" y="39"/>
                </a:lnTo>
                <a:lnTo>
                  <a:pt x="1527" y="42"/>
                </a:lnTo>
                <a:lnTo>
                  <a:pt x="1525" y="46"/>
                </a:lnTo>
                <a:lnTo>
                  <a:pt x="1524" y="50"/>
                </a:lnTo>
                <a:lnTo>
                  <a:pt x="1522" y="53"/>
                </a:lnTo>
                <a:lnTo>
                  <a:pt x="1520" y="56"/>
                </a:lnTo>
                <a:lnTo>
                  <a:pt x="1518" y="59"/>
                </a:lnTo>
                <a:lnTo>
                  <a:pt x="1517" y="63"/>
                </a:lnTo>
                <a:lnTo>
                  <a:pt x="1515" y="66"/>
                </a:lnTo>
                <a:lnTo>
                  <a:pt x="1512" y="71"/>
                </a:lnTo>
                <a:lnTo>
                  <a:pt x="1508" y="76"/>
                </a:lnTo>
                <a:lnTo>
                  <a:pt x="1503" y="80"/>
                </a:lnTo>
                <a:lnTo>
                  <a:pt x="1498" y="85"/>
                </a:lnTo>
                <a:lnTo>
                  <a:pt x="1494" y="88"/>
                </a:lnTo>
                <a:lnTo>
                  <a:pt x="1488" y="92"/>
                </a:lnTo>
                <a:lnTo>
                  <a:pt x="1485" y="92"/>
                </a:lnTo>
                <a:lnTo>
                  <a:pt x="1482" y="94"/>
                </a:lnTo>
                <a:lnTo>
                  <a:pt x="1478" y="95"/>
                </a:lnTo>
                <a:lnTo>
                  <a:pt x="1476" y="96"/>
                </a:lnTo>
                <a:lnTo>
                  <a:pt x="1472" y="97"/>
                </a:lnTo>
                <a:lnTo>
                  <a:pt x="1469" y="98"/>
                </a:lnTo>
                <a:lnTo>
                  <a:pt x="1465" y="99"/>
                </a:lnTo>
                <a:lnTo>
                  <a:pt x="1461" y="100"/>
                </a:lnTo>
                <a:lnTo>
                  <a:pt x="1458" y="100"/>
                </a:lnTo>
                <a:lnTo>
                  <a:pt x="1454" y="101"/>
                </a:lnTo>
                <a:lnTo>
                  <a:pt x="1449" y="102"/>
                </a:lnTo>
                <a:lnTo>
                  <a:pt x="1444" y="103"/>
                </a:lnTo>
                <a:lnTo>
                  <a:pt x="1443" y="107"/>
                </a:lnTo>
                <a:lnTo>
                  <a:pt x="1443" y="111"/>
                </a:lnTo>
                <a:lnTo>
                  <a:pt x="1443" y="115"/>
                </a:lnTo>
                <a:lnTo>
                  <a:pt x="1443" y="120"/>
                </a:lnTo>
                <a:lnTo>
                  <a:pt x="1444" y="124"/>
                </a:lnTo>
                <a:lnTo>
                  <a:pt x="1445" y="129"/>
                </a:lnTo>
                <a:lnTo>
                  <a:pt x="1447" y="133"/>
                </a:lnTo>
                <a:lnTo>
                  <a:pt x="1448" y="138"/>
                </a:lnTo>
                <a:lnTo>
                  <a:pt x="1451" y="143"/>
                </a:lnTo>
                <a:lnTo>
                  <a:pt x="1453" y="148"/>
                </a:lnTo>
                <a:lnTo>
                  <a:pt x="1455" y="152"/>
                </a:lnTo>
                <a:lnTo>
                  <a:pt x="1458" y="157"/>
                </a:lnTo>
                <a:lnTo>
                  <a:pt x="1460" y="162"/>
                </a:lnTo>
                <a:lnTo>
                  <a:pt x="1463" y="167"/>
                </a:lnTo>
                <a:lnTo>
                  <a:pt x="1467" y="171"/>
                </a:lnTo>
                <a:lnTo>
                  <a:pt x="1469" y="177"/>
                </a:lnTo>
                <a:lnTo>
                  <a:pt x="1474" y="182"/>
                </a:lnTo>
                <a:lnTo>
                  <a:pt x="1477" y="187"/>
                </a:lnTo>
                <a:lnTo>
                  <a:pt x="1481" y="191"/>
                </a:lnTo>
                <a:lnTo>
                  <a:pt x="1485" y="196"/>
                </a:lnTo>
                <a:lnTo>
                  <a:pt x="1489" y="201"/>
                </a:lnTo>
                <a:lnTo>
                  <a:pt x="1492" y="206"/>
                </a:lnTo>
                <a:lnTo>
                  <a:pt x="1496" y="210"/>
                </a:lnTo>
                <a:lnTo>
                  <a:pt x="1499" y="216"/>
                </a:lnTo>
                <a:lnTo>
                  <a:pt x="1504" y="221"/>
                </a:lnTo>
                <a:lnTo>
                  <a:pt x="1508" y="226"/>
                </a:lnTo>
                <a:lnTo>
                  <a:pt x="1511" y="230"/>
                </a:lnTo>
                <a:lnTo>
                  <a:pt x="1515" y="236"/>
                </a:lnTo>
                <a:lnTo>
                  <a:pt x="1517" y="241"/>
                </a:lnTo>
                <a:lnTo>
                  <a:pt x="1520" y="246"/>
                </a:lnTo>
                <a:lnTo>
                  <a:pt x="1524" y="251"/>
                </a:lnTo>
                <a:lnTo>
                  <a:pt x="1527" y="256"/>
                </a:lnTo>
                <a:lnTo>
                  <a:pt x="1527" y="262"/>
                </a:lnTo>
                <a:lnTo>
                  <a:pt x="1526" y="267"/>
                </a:lnTo>
                <a:lnTo>
                  <a:pt x="1525" y="272"/>
                </a:lnTo>
                <a:lnTo>
                  <a:pt x="1524" y="278"/>
                </a:lnTo>
                <a:lnTo>
                  <a:pt x="1524" y="282"/>
                </a:lnTo>
                <a:lnTo>
                  <a:pt x="1522" y="286"/>
                </a:lnTo>
                <a:lnTo>
                  <a:pt x="1520" y="289"/>
                </a:lnTo>
                <a:lnTo>
                  <a:pt x="1519" y="294"/>
                </a:lnTo>
                <a:lnTo>
                  <a:pt x="1517" y="297"/>
                </a:lnTo>
                <a:lnTo>
                  <a:pt x="1515" y="300"/>
                </a:lnTo>
                <a:lnTo>
                  <a:pt x="1515" y="303"/>
                </a:lnTo>
                <a:lnTo>
                  <a:pt x="1512" y="305"/>
                </a:lnTo>
                <a:lnTo>
                  <a:pt x="1508" y="310"/>
                </a:lnTo>
                <a:lnTo>
                  <a:pt x="1501" y="314"/>
                </a:lnTo>
                <a:lnTo>
                  <a:pt x="1499" y="315"/>
                </a:lnTo>
                <a:lnTo>
                  <a:pt x="1496" y="316"/>
                </a:lnTo>
                <a:lnTo>
                  <a:pt x="1494" y="317"/>
                </a:lnTo>
                <a:lnTo>
                  <a:pt x="1491" y="319"/>
                </a:lnTo>
                <a:lnTo>
                  <a:pt x="1487" y="319"/>
                </a:lnTo>
                <a:lnTo>
                  <a:pt x="1484" y="320"/>
                </a:lnTo>
                <a:lnTo>
                  <a:pt x="1481" y="320"/>
                </a:lnTo>
                <a:lnTo>
                  <a:pt x="1477" y="321"/>
                </a:lnTo>
                <a:lnTo>
                  <a:pt x="1474" y="320"/>
                </a:lnTo>
                <a:lnTo>
                  <a:pt x="1471" y="320"/>
                </a:lnTo>
                <a:lnTo>
                  <a:pt x="1467" y="320"/>
                </a:lnTo>
                <a:lnTo>
                  <a:pt x="1463" y="320"/>
                </a:lnTo>
                <a:lnTo>
                  <a:pt x="1459" y="320"/>
                </a:lnTo>
                <a:lnTo>
                  <a:pt x="1455" y="319"/>
                </a:lnTo>
                <a:lnTo>
                  <a:pt x="1452" y="319"/>
                </a:lnTo>
                <a:lnTo>
                  <a:pt x="1447" y="319"/>
                </a:lnTo>
                <a:lnTo>
                  <a:pt x="1443" y="317"/>
                </a:lnTo>
                <a:lnTo>
                  <a:pt x="1438" y="316"/>
                </a:lnTo>
                <a:lnTo>
                  <a:pt x="1435" y="315"/>
                </a:lnTo>
                <a:lnTo>
                  <a:pt x="1431" y="315"/>
                </a:lnTo>
                <a:lnTo>
                  <a:pt x="1427" y="314"/>
                </a:lnTo>
                <a:lnTo>
                  <a:pt x="1422" y="313"/>
                </a:lnTo>
                <a:lnTo>
                  <a:pt x="1419" y="312"/>
                </a:lnTo>
                <a:lnTo>
                  <a:pt x="1415" y="311"/>
                </a:lnTo>
                <a:lnTo>
                  <a:pt x="1411" y="310"/>
                </a:lnTo>
                <a:lnTo>
                  <a:pt x="1406" y="309"/>
                </a:lnTo>
                <a:lnTo>
                  <a:pt x="1402" y="307"/>
                </a:lnTo>
                <a:lnTo>
                  <a:pt x="1398" y="307"/>
                </a:lnTo>
                <a:lnTo>
                  <a:pt x="1394" y="306"/>
                </a:lnTo>
                <a:lnTo>
                  <a:pt x="1389" y="305"/>
                </a:lnTo>
                <a:lnTo>
                  <a:pt x="1385" y="304"/>
                </a:lnTo>
                <a:lnTo>
                  <a:pt x="1381" y="304"/>
                </a:lnTo>
                <a:lnTo>
                  <a:pt x="1377" y="303"/>
                </a:lnTo>
                <a:lnTo>
                  <a:pt x="1373" y="303"/>
                </a:lnTo>
                <a:lnTo>
                  <a:pt x="1369" y="302"/>
                </a:lnTo>
                <a:lnTo>
                  <a:pt x="1364" y="302"/>
                </a:lnTo>
                <a:lnTo>
                  <a:pt x="1361" y="302"/>
                </a:lnTo>
                <a:lnTo>
                  <a:pt x="1357" y="302"/>
                </a:lnTo>
                <a:lnTo>
                  <a:pt x="1353" y="302"/>
                </a:lnTo>
                <a:lnTo>
                  <a:pt x="1348" y="302"/>
                </a:lnTo>
                <a:lnTo>
                  <a:pt x="1345" y="302"/>
                </a:lnTo>
                <a:lnTo>
                  <a:pt x="1342" y="302"/>
                </a:lnTo>
                <a:lnTo>
                  <a:pt x="1338" y="302"/>
                </a:lnTo>
                <a:lnTo>
                  <a:pt x="1334" y="303"/>
                </a:lnTo>
                <a:lnTo>
                  <a:pt x="1331" y="303"/>
                </a:lnTo>
                <a:lnTo>
                  <a:pt x="1327" y="304"/>
                </a:lnTo>
                <a:lnTo>
                  <a:pt x="1141" y="89"/>
                </a:lnTo>
                <a:lnTo>
                  <a:pt x="1321" y="307"/>
                </a:lnTo>
                <a:lnTo>
                  <a:pt x="1146" y="78"/>
                </a:lnTo>
                <a:lnTo>
                  <a:pt x="1305" y="319"/>
                </a:lnTo>
                <a:lnTo>
                  <a:pt x="1301" y="323"/>
                </a:lnTo>
                <a:lnTo>
                  <a:pt x="1296" y="326"/>
                </a:lnTo>
                <a:lnTo>
                  <a:pt x="1291" y="331"/>
                </a:lnTo>
                <a:lnTo>
                  <a:pt x="1286" y="335"/>
                </a:lnTo>
                <a:lnTo>
                  <a:pt x="1282" y="340"/>
                </a:lnTo>
                <a:lnTo>
                  <a:pt x="1278" y="344"/>
                </a:lnTo>
                <a:lnTo>
                  <a:pt x="1273" y="348"/>
                </a:lnTo>
                <a:lnTo>
                  <a:pt x="1269" y="353"/>
                </a:lnTo>
                <a:lnTo>
                  <a:pt x="1265" y="358"/>
                </a:lnTo>
                <a:lnTo>
                  <a:pt x="1261" y="361"/>
                </a:lnTo>
                <a:lnTo>
                  <a:pt x="1256" y="366"/>
                </a:lnTo>
                <a:lnTo>
                  <a:pt x="1252" y="370"/>
                </a:lnTo>
                <a:lnTo>
                  <a:pt x="1248" y="375"/>
                </a:lnTo>
                <a:lnTo>
                  <a:pt x="1245" y="380"/>
                </a:lnTo>
                <a:lnTo>
                  <a:pt x="1241" y="383"/>
                </a:lnTo>
                <a:lnTo>
                  <a:pt x="1237" y="388"/>
                </a:lnTo>
                <a:lnTo>
                  <a:pt x="1233" y="393"/>
                </a:lnTo>
                <a:lnTo>
                  <a:pt x="1230" y="398"/>
                </a:lnTo>
                <a:lnTo>
                  <a:pt x="1227" y="402"/>
                </a:lnTo>
                <a:lnTo>
                  <a:pt x="1224" y="407"/>
                </a:lnTo>
                <a:lnTo>
                  <a:pt x="1220" y="412"/>
                </a:lnTo>
                <a:lnTo>
                  <a:pt x="1217" y="416"/>
                </a:lnTo>
                <a:lnTo>
                  <a:pt x="1213" y="420"/>
                </a:lnTo>
                <a:lnTo>
                  <a:pt x="1210" y="425"/>
                </a:lnTo>
                <a:lnTo>
                  <a:pt x="1208" y="430"/>
                </a:lnTo>
                <a:lnTo>
                  <a:pt x="1205" y="435"/>
                </a:lnTo>
                <a:lnTo>
                  <a:pt x="1202" y="439"/>
                </a:lnTo>
                <a:lnTo>
                  <a:pt x="1198" y="444"/>
                </a:lnTo>
                <a:lnTo>
                  <a:pt x="1195" y="450"/>
                </a:lnTo>
                <a:lnTo>
                  <a:pt x="1192" y="455"/>
                </a:lnTo>
                <a:lnTo>
                  <a:pt x="1189" y="459"/>
                </a:lnTo>
                <a:lnTo>
                  <a:pt x="1187" y="464"/>
                </a:lnTo>
                <a:lnTo>
                  <a:pt x="1185" y="469"/>
                </a:lnTo>
                <a:lnTo>
                  <a:pt x="1182" y="474"/>
                </a:lnTo>
                <a:lnTo>
                  <a:pt x="1179" y="479"/>
                </a:lnTo>
                <a:lnTo>
                  <a:pt x="1176" y="484"/>
                </a:lnTo>
                <a:lnTo>
                  <a:pt x="1173" y="489"/>
                </a:lnTo>
                <a:lnTo>
                  <a:pt x="1171" y="494"/>
                </a:lnTo>
                <a:lnTo>
                  <a:pt x="1168" y="498"/>
                </a:lnTo>
                <a:lnTo>
                  <a:pt x="1166" y="504"/>
                </a:lnTo>
                <a:lnTo>
                  <a:pt x="1163" y="509"/>
                </a:lnTo>
                <a:lnTo>
                  <a:pt x="1161" y="514"/>
                </a:lnTo>
                <a:lnTo>
                  <a:pt x="1157" y="519"/>
                </a:lnTo>
                <a:lnTo>
                  <a:pt x="1155" y="525"/>
                </a:lnTo>
                <a:lnTo>
                  <a:pt x="1152" y="530"/>
                </a:lnTo>
                <a:lnTo>
                  <a:pt x="1150" y="534"/>
                </a:lnTo>
                <a:lnTo>
                  <a:pt x="1148" y="540"/>
                </a:lnTo>
                <a:lnTo>
                  <a:pt x="1145" y="545"/>
                </a:lnTo>
                <a:lnTo>
                  <a:pt x="1142" y="551"/>
                </a:lnTo>
                <a:lnTo>
                  <a:pt x="1139" y="555"/>
                </a:lnTo>
                <a:lnTo>
                  <a:pt x="1137" y="560"/>
                </a:lnTo>
                <a:lnTo>
                  <a:pt x="1134" y="566"/>
                </a:lnTo>
                <a:lnTo>
                  <a:pt x="1131" y="572"/>
                </a:lnTo>
                <a:lnTo>
                  <a:pt x="1129" y="576"/>
                </a:lnTo>
                <a:lnTo>
                  <a:pt x="1126" y="582"/>
                </a:lnTo>
                <a:lnTo>
                  <a:pt x="1124" y="588"/>
                </a:lnTo>
                <a:lnTo>
                  <a:pt x="1120" y="593"/>
                </a:lnTo>
                <a:lnTo>
                  <a:pt x="1117" y="599"/>
                </a:lnTo>
                <a:lnTo>
                  <a:pt x="1115" y="605"/>
                </a:lnTo>
                <a:lnTo>
                  <a:pt x="1111" y="610"/>
                </a:lnTo>
                <a:lnTo>
                  <a:pt x="1109" y="616"/>
                </a:lnTo>
                <a:lnTo>
                  <a:pt x="1112" y="617"/>
                </a:lnTo>
                <a:lnTo>
                  <a:pt x="1115" y="621"/>
                </a:lnTo>
                <a:lnTo>
                  <a:pt x="1117" y="624"/>
                </a:lnTo>
                <a:lnTo>
                  <a:pt x="1117" y="629"/>
                </a:lnTo>
                <a:lnTo>
                  <a:pt x="1118" y="632"/>
                </a:lnTo>
                <a:lnTo>
                  <a:pt x="1117" y="638"/>
                </a:lnTo>
                <a:lnTo>
                  <a:pt x="1117" y="641"/>
                </a:lnTo>
                <a:lnTo>
                  <a:pt x="1116" y="643"/>
                </a:lnTo>
                <a:lnTo>
                  <a:pt x="1115" y="647"/>
                </a:lnTo>
                <a:lnTo>
                  <a:pt x="1113" y="649"/>
                </a:lnTo>
                <a:lnTo>
                  <a:pt x="1111" y="655"/>
                </a:lnTo>
                <a:lnTo>
                  <a:pt x="1110" y="661"/>
                </a:lnTo>
                <a:lnTo>
                  <a:pt x="1107" y="666"/>
                </a:lnTo>
                <a:lnTo>
                  <a:pt x="1103" y="672"/>
                </a:lnTo>
                <a:lnTo>
                  <a:pt x="1101" y="677"/>
                </a:lnTo>
                <a:lnTo>
                  <a:pt x="1098" y="682"/>
                </a:lnTo>
                <a:lnTo>
                  <a:pt x="1095" y="687"/>
                </a:lnTo>
                <a:lnTo>
                  <a:pt x="1092" y="690"/>
                </a:lnTo>
                <a:lnTo>
                  <a:pt x="1092" y="688"/>
                </a:lnTo>
                <a:lnTo>
                  <a:pt x="1093" y="685"/>
                </a:lnTo>
                <a:lnTo>
                  <a:pt x="1094" y="681"/>
                </a:lnTo>
                <a:lnTo>
                  <a:pt x="1095" y="677"/>
                </a:lnTo>
                <a:lnTo>
                  <a:pt x="1096" y="673"/>
                </a:lnTo>
                <a:lnTo>
                  <a:pt x="1097" y="669"/>
                </a:lnTo>
                <a:lnTo>
                  <a:pt x="1098" y="666"/>
                </a:lnTo>
                <a:lnTo>
                  <a:pt x="1099" y="662"/>
                </a:lnTo>
                <a:lnTo>
                  <a:pt x="1100" y="659"/>
                </a:lnTo>
                <a:lnTo>
                  <a:pt x="1101" y="654"/>
                </a:lnTo>
                <a:lnTo>
                  <a:pt x="1102" y="650"/>
                </a:lnTo>
                <a:lnTo>
                  <a:pt x="1103" y="647"/>
                </a:lnTo>
                <a:lnTo>
                  <a:pt x="1103" y="643"/>
                </a:lnTo>
                <a:lnTo>
                  <a:pt x="1105" y="640"/>
                </a:lnTo>
                <a:lnTo>
                  <a:pt x="1106" y="636"/>
                </a:lnTo>
                <a:lnTo>
                  <a:pt x="1107" y="632"/>
                </a:lnTo>
                <a:lnTo>
                  <a:pt x="1107" y="629"/>
                </a:lnTo>
                <a:lnTo>
                  <a:pt x="1104" y="628"/>
                </a:lnTo>
                <a:lnTo>
                  <a:pt x="1100" y="628"/>
                </a:lnTo>
                <a:lnTo>
                  <a:pt x="1097" y="629"/>
                </a:lnTo>
                <a:lnTo>
                  <a:pt x="1093" y="630"/>
                </a:lnTo>
                <a:lnTo>
                  <a:pt x="1090" y="630"/>
                </a:lnTo>
                <a:lnTo>
                  <a:pt x="1087" y="632"/>
                </a:lnTo>
                <a:lnTo>
                  <a:pt x="1083" y="633"/>
                </a:lnTo>
                <a:lnTo>
                  <a:pt x="1079" y="635"/>
                </a:lnTo>
                <a:lnTo>
                  <a:pt x="1079" y="640"/>
                </a:lnTo>
                <a:lnTo>
                  <a:pt x="1079" y="646"/>
                </a:lnTo>
                <a:lnTo>
                  <a:pt x="1079" y="649"/>
                </a:lnTo>
                <a:lnTo>
                  <a:pt x="1078" y="651"/>
                </a:lnTo>
                <a:lnTo>
                  <a:pt x="1078" y="654"/>
                </a:lnTo>
                <a:lnTo>
                  <a:pt x="1077" y="658"/>
                </a:lnTo>
                <a:lnTo>
                  <a:pt x="1077" y="660"/>
                </a:lnTo>
                <a:lnTo>
                  <a:pt x="1077" y="664"/>
                </a:lnTo>
                <a:lnTo>
                  <a:pt x="1076" y="666"/>
                </a:lnTo>
                <a:lnTo>
                  <a:pt x="1075" y="669"/>
                </a:lnTo>
                <a:lnTo>
                  <a:pt x="1075" y="672"/>
                </a:lnTo>
                <a:lnTo>
                  <a:pt x="1074" y="675"/>
                </a:lnTo>
                <a:lnTo>
                  <a:pt x="1073" y="678"/>
                </a:lnTo>
                <a:lnTo>
                  <a:pt x="1073" y="682"/>
                </a:lnTo>
                <a:lnTo>
                  <a:pt x="1073" y="684"/>
                </a:lnTo>
                <a:lnTo>
                  <a:pt x="1072" y="688"/>
                </a:lnTo>
                <a:lnTo>
                  <a:pt x="1071" y="690"/>
                </a:lnTo>
                <a:lnTo>
                  <a:pt x="1070" y="693"/>
                </a:lnTo>
                <a:lnTo>
                  <a:pt x="1070" y="696"/>
                </a:lnTo>
                <a:lnTo>
                  <a:pt x="1069" y="700"/>
                </a:lnTo>
                <a:lnTo>
                  <a:pt x="1068" y="703"/>
                </a:lnTo>
                <a:lnTo>
                  <a:pt x="1067" y="706"/>
                </a:lnTo>
                <a:lnTo>
                  <a:pt x="1066" y="708"/>
                </a:lnTo>
                <a:lnTo>
                  <a:pt x="1065" y="711"/>
                </a:lnTo>
                <a:lnTo>
                  <a:pt x="1065" y="715"/>
                </a:lnTo>
                <a:lnTo>
                  <a:pt x="1064" y="718"/>
                </a:lnTo>
                <a:lnTo>
                  <a:pt x="1063" y="722"/>
                </a:lnTo>
                <a:lnTo>
                  <a:pt x="1062" y="725"/>
                </a:lnTo>
                <a:lnTo>
                  <a:pt x="1061" y="727"/>
                </a:lnTo>
                <a:lnTo>
                  <a:pt x="1060" y="731"/>
                </a:lnTo>
                <a:lnTo>
                  <a:pt x="1060" y="733"/>
                </a:lnTo>
                <a:lnTo>
                  <a:pt x="1059" y="737"/>
                </a:lnTo>
                <a:lnTo>
                  <a:pt x="1059" y="740"/>
                </a:lnTo>
                <a:lnTo>
                  <a:pt x="1058" y="743"/>
                </a:lnTo>
                <a:lnTo>
                  <a:pt x="1057" y="745"/>
                </a:lnTo>
                <a:lnTo>
                  <a:pt x="1057" y="749"/>
                </a:lnTo>
                <a:lnTo>
                  <a:pt x="1056" y="752"/>
                </a:lnTo>
                <a:lnTo>
                  <a:pt x="1055" y="755"/>
                </a:lnTo>
                <a:lnTo>
                  <a:pt x="1055" y="758"/>
                </a:lnTo>
                <a:lnTo>
                  <a:pt x="1054" y="761"/>
                </a:lnTo>
                <a:lnTo>
                  <a:pt x="1054" y="764"/>
                </a:lnTo>
                <a:lnTo>
                  <a:pt x="1054" y="766"/>
                </a:lnTo>
                <a:lnTo>
                  <a:pt x="1054" y="769"/>
                </a:lnTo>
                <a:lnTo>
                  <a:pt x="1053" y="773"/>
                </a:lnTo>
                <a:lnTo>
                  <a:pt x="1053" y="776"/>
                </a:lnTo>
                <a:lnTo>
                  <a:pt x="1052" y="779"/>
                </a:lnTo>
                <a:lnTo>
                  <a:pt x="1052" y="782"/>
                </a:lnTo>
                <a:lnTo>
                  <a:pt x="1051" y="784"/>
                </a:lnTo>
                <a:lnTo>
                  <a:pt x="1051" y="787"/>
                </a:lnTo>
                <a:lnTo>
                  <a:pt x="1051" y="791"/>
                </a:lnTo>
                <a:lnTo>
                  <a:pt x="1051" y="793"/>
                </a:lnTo>
                <a:lnTo>
                  <a:pt x="1051" y="796"/>
                </a:lnTo>
                <a:lnTo>
                  <a:pt x="1051" y="800"/>
                </a:lnTo>
                <a:lnTo>
                  <a:pt x="1050" y="803"/>
                </a:lnTo>
                <a:lnTo>
                  <a:pt x="1051" y="807"/>
                </a:lnTo>
                <a:lnTo>
                  <a:pt x="1051" y="813"/>
                </a:lnTo>
                <a:lnTo>
                  <a:pt x="1051" y="819"/>
                </a:lnTo>
                <a:lnTo>
                  <a:pt x="1051" y="824"/>
                </a:lnTo>
                <a:lnTo>
                  <a:pt x="1053" y="827"/>
                </a:lnTo>
                <a:lnTo>
                  <a:pt x="1054" y="830"/>
                </a:lnTo>
                <a:lnTo>
                  <a:pt x="1055" y="833"/>
                </a:lnTo>
                <a:lnTo>
                  <a:pt x="1056" y="837"/>
                </a:lnTo>
                <a:lnTo>
                  <a:pt x="1059" y="840"/>
                </a:lnTo>
                <a:lnTo>
                  <a:pt x="1060" y="843"/>
                </a:lnTo>
                <a:lnTo>
                  <a:pt x="1062" y="847"/>
                </a:lnTo>
                <a:lnTo>
                  <a:pt x="1064" y="851"/>
                </a:lnTo>
                <a:lnTo>
                  <a:pt x="1066" y="855"/>
                </a:lnTo>
                <a:lnTo>
                  <a:pt x="1068" y="858"/>
                </a:lnTo>
                <a:lnTo>
                  <a:pt x="1069" y="861"/>
                </a:lnTo>
                <a:lnTo>
                  <a:pt x="1071" y="864"/>
                </a:lnTo>
                <a:lnTo>
                  <a:pt x="1073" y="866"/>
                </a:lnTo>
                <a:lnTo>
                  <a:pt x="1073" y="869"/>
                </a:lnTo>
                <a:lnTo>
                  <a:pt x="1075" y="871"/>
                </a:lnTo>
                <a:lnTo>
                  <a:pt x="1075" y="874"/>
                </a:lnTo>
                <a:lnTo>
                  <a:pt x="991" y="877"/>
                </a:lnTo>
                <a:lnTo>
                  <a:pt x="990" y="874"/>
                </a:lnTo>
                <a:lnTo>
                  <a:pt x="990" y="871"/>
                </a:lnTo>
                <a:lnTo>
                  <a:pt x="989" y="867"/>
                </a:lnTo>
                <a:lnTo>
                  <a:pt x="988" y="864"/>
                </a:lnTo>
                <a:lnTo>
                  <a:pt x="987" y="861"/>
                </a:lnTo>
                <a:lnTo>
                  <a:pt x="986" y="857"/>
                </a:lnTo>
                <a:lnTo>
                  <a:pt x="986" y="852"/>
                </a:lnTo>
                <a:lnTo>
                  <a:pt x="985" y="848"/>
                </a:lnTo>
                <a:lnTo>
                  <a:pt x="984" y="843"/>
                </a:lnTo>
                <a:lnTo>
                  <a:pt x="983" y="839"/>
                </a:lnTo>
                <a:lnTo>
                  <a:pt x="982" y="834"/>
                </a:lnTo>
                <a:lnTo>
                  <a:pt x="981" y="830"/>
                </a:lnTo>
                <a:lnTo>
                  <a:pt x="981" y="824"/>
                </a:lnTo>
                <a:lnTo>
                  <a:pt x="980" y="820"/>
                </a:lnTo>
                <a:lnTo>
                  <a:pt x="979" y="815"/>
                </a:lnTo>
                <a:lnTo>
                  <a:pt x="977" y="810"/>
                </a:lnTo>
                <a:lnTo>
                  <a:pt x="977" y="805"/>
                </a:lnTo>
                <a:lnTo>
                  <a:pt x="977" y="800"/>
                </a:lnTo>
                <a:lnTo>
                  <a:pt x="976" y="795"/>
                </a:lnTo>
                <a:lnTo>
                  <a:pt x="975" y="790"/>
                </a:lnTo>
                <a:lnTo>
                  <a:pt x="974" y="784"/>
                </a:lnTo>
                <a:lnTo>
                  <a:pt x="973" y="780"/>
                </a:lnTo>
                <a:lnTo>
                  <a:pt x="973" y="776"/>
                </a:lnTo>
                <a:lnTo>
                  <a:pt x="971" y="771"/>
                </a:lnTo>
                <a:lnTo>
                  <a:pt x="971" y="766"/>
                </a:lnTo>
                <a:lnTo>
                  <a:pt x="969" y="764"/>
                </a:lnTo>
                <a:lnTo>
                  <a:pt x="968" y="760"/>
                </a:lnTo>
                <a:lnTo>
                  <a:pt x="967" y="756"/>
                </a:lnTo>
                <a:lnTo>
                  <a:pt x="966" y="752"/>
                </a:lnTo>
                <a:lnTo>
                  <a:pt x="965" y="750"/>
                </a:lnTo>
                <a:lnTo>
                  <a:pt x="963" y="746"/>
                </a:lnTo>
                <a:lnTo>
                  <a:pt x="962" y="745"/>
                </a:lnTo>
                <a:lnTo>
                  <a:pt x="958" y="746"/>
                </a:lnTo>
                <a:lnTo>
                  <a:pt x="956" y="747"/>
                </a:lnTo>
                <a:lnTo>
                  <a:pt x="953" y="749"/>
                </a:lnTo>
                <a:lnTo>
                  <a:pt x="950" y="752"/>
                </a:lnTo>
                <a:lnTo>
                  <a:pt x="948" y="755"/>
                </a:lnTo>
                <a:lnTo>
                  <a:pt x="945" y="757"/>
                </a:lnTo>
                <a:lnTo>
                  <a:pt x="943" y="761"/>
                </a:lnTo>
                <a:lnTo>
                  <a:pt x="941" y="764"/>
                </a:lnTo>
                <a:lnTo>
                  <a:pt x="940" y="767"/>
                </a:lnTo>
                <a:lnTo>
                  <a:pt x="939" y="771"/>
                </a:lnTo>
                <a:lnTo>
                  <a:pt x="938" y="775"/>
                </a:lnTo>
                <a:lnTo>
                  <a:pt x="937" y="779"/>
                </a:lnTo>
                <a:lnTo>
                  <a:pt x="937" y="783"/>
                </a:lnTo>
                <a:lnTo>
                  <a:pt x="936" y="787"/>
                </a:lnTo>
                <a:lnTo>
                  <a:pt x="936" y="791"/>
                </a:lnTo>
                <a:lnTo>
                  <a:pt x="935" y="796"/>
                </a:lnTo>
                <a:lnTo>
                  <a:pt x="936" y="801"/>
                </a:lnTo>
                <a:lnTo>
                  <a:pt x="936" y="804"/>
                </a:lnTo>
                <a:lnTo>
                  <a:pt x="936" y="809"/>
                </a:lnTo>
                <a:lnTo>
                  <a:pt x="936" y="814"/>
                </a:lnTo>
                <a:lnTo>
                  <a:pt x="937" y="818"/>
                </a:lnTo>
                <a:lnTo>
                  <a:pt x="937" y="822"/>
                </a:lnTo>
                <a:lnTo>
                  <a:pt x="937" y="826"/>
                </a:lnTo>
                <a:lnTo>
                  <a:pt x="937" y="831"/>
                </a:lnTo>
                <a:lnTo>
                  <a:pt x="938" y="835"/>
                </a:lnTo>
                <a:lnTo>
                  <a:pt x="938" y="839"/>
                </a:lnTo>
                <a:lnTo>
                  <a:pt x="939" y="842"/>
                </a:lnTo>
                <a:lnTo>
                  <a:pt x="939" y="847"/>
                </a:lnTo>
                <a:lnTo>
                  <a:pt x="940" y="850"/>
                </a:lnTo>
                <a:lnTo>
                  <a:pt x="940" y="854"/>
                </a:lnTo>
                <a:lnTo>
                  <a:pt x="940" y="857"/>
                </a:lnTo>
                <a:lnTo>
                  <a:pt x="940" y="861"/>
                </a:lnTo>
                <a:lnTo>
                  <a:pt x="865" y="857"/>
                </a:lnTo>
                <a:lnTo>
                  <a:pt x="865" y="851"/>
                </a:lnTo>
                <a:lnTo>
                  <a:pt x="864" y="845"/>
                </a:lnTo>
                <a:lnTo>
                  <a:pt x="864" y="840"/>
                </a:lnTo>
                <a:lnTo>
                  <a:pt x="863" y="834"/>
                </a:lnTo>
                <a:lnTo>
                  <a:pt x="862" y="828"/>
                </a:lnTo>
                <a:lnTo>
                  <a:pt x="861" y="823"/>
                </a:lnTo>
                <a:lnTo>
                  <a:pt x="861" y="818"/>
                </a:lnTo>
                <a:lnTo>
                  <a:pt x="861" y="812"/>
                </a:lnTo>
                <a:lnTo>
                  <a:pt x="861" y="806"/>
                </a:lnTo>
                <a:lnTo>
                  <a:pt x="860" y="802"/>
                </a:lnTo>
                <a:lnTo>
                  <a:pt x="859" y="796"/>
                </a:lnTo>
                <a:lnTo>
                  <a:pt x="858" y="791"/>
                </a:lnTo>
                <a:lnTo>
                  <a:pt x="857" y="785"/>
                </a:lnTo>
                <a:lnTo>
                  <a:pt x="856" y="780"/>
                </a:lnTo>
                <a:lnTo>
                  <a:pt x="856" y="775"/>
                </a:lnTo>
                <a:lnTo>
                  <a:pt x="855" y="770"/>
                </a:lnTo>
                <a:lnTo>
                  <a:pt x="854" y="764"/>
                </a:lnTo>
                <a:lnTo>
                  <a:pt x="853" y="760"/>
                </a:lnTo>
                <a:lnTo>
                  <a:pt x="852" y="754"/>
                </a:lnTo>
                <a:lnTo>
                  <a:pt x="851" y="749"/>
                </a:lnTo>
                <a:lnTo>
                  <a:pt x="851" y="745"/>
                </a:lnTo>
                <a:lnTo>
                  <a:pt x="850" y="740"/>
                </a:lnTo>
                <a:lnTo>
                  <a:pt x="848" y="735"/>
                </a:lnTo>
                <a:lnTo>
                  <a:pt x="847" y="730"/>
                </a:lnTo>
                <a:lnTo>
                  <a:pt x="846" y="726"/>
                </a:lnTo>
                <a:lnTo>
                  <a:pt x="845" y="721"/>
                </a:lnTo>
                <a:lnTo>
                  <a:pt x="843" y="717"/>
                </a:lnTo>
                <a:lnTo>
                  <a:pt x="842" y="712"/>
                </a:lnTo>
                <a:lnTo>
                  <a:pt x="841" y="707"/>
                </a:lnTo>
                <a:lnTo>
                  <a:pt x="839" y="704"/>
                </a:lnTo>
                <a:lnTo>
                  <a:pt x="837" y="700"/>
                </a:lnTo>
                <a:lnTo>
                  <a:pt x="835" y="696"/>
                </a:lnTo>
                <a:lnTo>
                  <a:pt x="833" y="691"/>
                </a:lnTo>
                <a:lnTo>
                  <a:pt x="832" y="688"/>
                </a:lnTo>
                <a:lnTo>
                  <a:pt x="829" y="684"/>
                </a:lnTo>
                <a:lnTo>
                  <a:pt x="827" y="681"/>
                </a:lnTo>
                <a:lnTo>
                  <a:pt x="825" y="677"/>
                </a:lnTo>
                <a:lnTo>
                  <a:pt x="823" y="673"/>
                </a:lnTo>
                <a:lnTo>
                  <a:pt x="821" y="670"/>
                </a:lnTo>
                <a:lnTo>
                  <a:pt x="818" y="668"/>
                </a:lnTo>
                <a:lnTo>
                  <a:pt x="815" y="664"/>
                </a:lnTo>
                <a:lnTo>
                  <a:pt x="813" y="661"/>
                </a:lnTo>
                <a:lnTo>
                  <a:pt x="809" y="658"/>
                </a:lnTo>
                <a:lnTo>
                  <a:pt x="806" y="656"/>
                </a:lnTo>
                <a:lnTo>
                  <a:pt x="804" y="654"/>
                </a:lnTo>
                <a:lnTo>
                  <a:pt x="800" y="651"/>
                </a:lnTo>
                <a:lnTo>
                  <a:pt x="796" y="650"/>
                </a:lnTo>
                <a:lnTo>
                  <a:pt x="792" y="649"/>
                </a:lnTo>
                <a:lnTo>
                  <a:pt x="788" y="647"/>
                </a:lnTo>
                <a:lnTo>
                  <a:pt x="785" y="645"/>
                </a:lnTo>
                <a:lnTo>
                  <a:pt x="781" y="643"/>
                </a:lnTo>
                <a:lnTo>
                  <a:pt x="776" y="643"/>
                </a:lnTo>
                <a:lnTo>
                  <a:pt x="772" y="641"/>
                </a:lnTo>
                <a:lnTo>
                  <a:pt x="767" y="641"/>
                </a:lnTo>
                <a:lnTo>
                  <a:pt x="763" y="640"/>
                </a:lnTo>
                <a:lnTo>
                  <a:pt x="757" y="640"/>
                </a:lnTo>
                <a:lnTo>
                  <a:pt x="752" y="640"/>
                </a:lnTo>
                <a:lnTo>
                  <a:pt x="746" y="640"/>
                </a:lnTo>
                <a:lnTo>
                  <a:pt x="741" y="640"/>
                </a:lnTo>
                <a:lnTo>
                  <a:pt x="735" y="641"/>
                </a:lnTo>
                <a:lnTo>
                  <a:pt x="729" y="641"/>
                </a:lnTo>
                <a:lnTo>
                  <a:pt x="723" y="642"/>
                </a:lnTo>
                <a:lnTo>
                  <a:pt x="716" y="644"/>
                </a:lnTo>
                <a:lnTo>
                  <a:pt x="709" y="646"/>
                </a:lnTo>
                <a:lnTo>
                  <a:pt x="707" y="645"/>
                </a:lnTo>
                <a:lnTo>
                  <a:pt x="703" y="645"/>
                </a:lnTo>
                <a:lnTo>
                  <a:pt x="699" y="644"/>
                </a:lnTo>
                <a:lnTo>
                  <a:pt x="695" y="644"/>
                </a:lnTo>
                <a:lnTo>
                  <a:pt x="691" y="643"/>
                </a:lnTo>
                <a:lnTo>
                  <a:pt x="688" y="643"/>
                </a:lnTo>
                <a:lnTo>
                  <a:pt x="685" y="643"/>
                </a:lnTo>
                <a:lnTo>
                  <a:pt x="681" y="643"/>
                </a:lnTo>
                <a:lnTo>
                  <a:pt x="677" y="642"/>
                </a:lnTo>
                <a:lnTo>
                  <a:pt x="674" y="642"/>
                </a:lnTo>
                <a:lnTo>
                  <a:pt x="670" y="642"/>
                </a:lnTo>
                <a:lnTo>
                  <a:pt x="667" y="642"/>
                </a:lnTo>
                <a:lnTo>
                  <a:pt x="663" y="642"/>
                </a:lnTo>
                <a:lnTo>
                  <a:pt x="659" y="642"/>
                </a:lnTo>
                <a:lnTo>
                  <a:pt x="655" y="642"/>
                </a:lnTo>
                <a:lnTo>
                  <a:pt x="651" y="642"/>
                </a:lnTo>
                <a:lnTo>
                  <a:pt x="649" y="642"/>
                </a:lnTo>
                <a:lnTo>
                  <a:pt x="645" y="642"/>
                </a:lnTo>
                <a:lnTo>
                  <a:pt x="642" y="642"/>
                </a:lnTo>
                <a:lnTo>
                  <a:pt x="638" y="642"/>
                </a:lnTo>
                <a:lnTo>
                  <a:pt x="634" y="641"/>
                </a:lnTo>
                <a:lnTo>
                  <a:pt x="631" y="641"/>
                </a:lnTo>
                <a:lnTo>
                  <a:pt x="628" y="641"/>
                </a:lnTo>
                <a:lnTo>
                  <a:pt x="624" y="641"/>
                </a:lnTo>
                <a:lnTo>
                  <a:pt x="620" y="641"/>
                </a:lnTo>
                <a:lnTo>
                  <a:pt x="616" y="641"/>
                </a:lnTo>
                <a:lnTo>
                  <a:pt x="613" y="641"/>
                </a:lnTo>
                <a:lnTo>
                  <a:pt x="610" y="641"/>
                </a:lnTo>
                <a:lnTo>
                  <a:pt x="607" y="641"/>
                </a:lnTo>
                <a:lnTo>
                  <a:pt x="603" y="641"/>
                </a:lnTo>
                <a:lnTo>
                  <a:pt x="599" y="641"/>
                </a:lnTo>
                <a:lnTo>
                  <a:pt x="595" y="641"/>
                </a:lnTo>
                <a:lnTo>
                  <a:pt x="592" y="640"/>
                </a:lnTo>
                <a:lnTo>
                  <a:pt x="589" y="640"/>
                </a:lnTo>
                <a:lnTo>
                  <a:pt x="586" y="639"/>
                </a:lnTo>
                <a:lnTo>
                  <a:pt x="582" y="639"/>
                </a:lnTo>
                <a:lnTo>
                  <a:pt x="579" y="638"/>
                </a:lnTo>
                <a:lnTo>
                  <a:pt x="575" y="638"/>
                </a:lnTo>
                <a:lnTo>
                  <a:pt x="573" y="638"/>
                </a:lnTo>
                <a:lnTo>
                  <a:pt x="569" y="638"/>
                </a:lnTo>
                <a:lnTo>
                  <a:pt x="565" y="637"/>
                </a:lnTo>
                <a:lnTo>
                  <a:pt x="561" y="637"/>
                </a:lnTo>
                <a:lnTo>
                  <a:pt x="558" y="636"/>
                </a:lnTo>
                <a:lnTo>
                  <a:pt x="554" y="636"/>
                </a:lnTo>
                <a:lnTo>
                  <a:pt x="552" y="635"/>
                </a:lnTo>
                <a:lnTo>
                  <a:pt x="548" y="635"/>
                </a:lnTo>
                <a:lnTo>
                  <a:pt x="545" y="634"/>
                </a:lnTo>
                <a:lnTo>
                  <a:pt x="541" y="634"/>
                </a:lnTo>
                <a:lnTo>
                  <a:pt x="537" y="633"/>
                </a:lnTo>
                <a:lnTo>
                  <a:pt x="535" y="632"/>
                </a:lnTo>
                <a:lnTo>
                  <a:pt x="532" y="631"/>
                </a:lnTo>
                <a:lnTo>
                  <a:pt x="528" y="630"/>
                </a:lnTo>
                <a:lnTo>
                  <a:pt x="525" y="630"/>
                </a:lnTo>
                <a:lnTo>
                  <a:pt x="521" y="629"/>
                </a:lnTo>
                <a:lnTo>
                  <a:pt x="518" y="628"/>
                </a:lnTo>
                <a:lnTo>
                  <a:pt x="515" y="627"/>
                </a:lnTo>
                <a:lnTo>
                  <a:pt x="511" y="626"/>
                </a:lnTo>
                <a:lnTo>
                  <a:pt x="508" y="624"/>
                </a:lnTo>
                <a:lnTo>
                  <a:pt x="505" y="623"/>
                </a:lnTo>
                <a:lnTo>
                  <a:pt x="501" y="622"/>
                </a:lnTo>
                <a:lnTo>
                  <a:pt x="498" y="621"/>
                </a:lnTo>
                <a:lnTo>
                  <a:pt x="495" y="619"/>
                </a:lnTo>
                <a:lnTo>
                  <a:pt x="492" y="618"/>
                </a:lnTo>
                <a:lnTo>
                  <a:pt x="488" y="617"/>
                </a:lnTo>
                <a:lnTo>
                  <a:pt x="486" y="620"/>
                </a:lnTo>
                <a:lnTo>
                  <a:pt x="484" y="625"/>
                </a:lnTo>
                <a:lnTo>
                  <a:pt x="483" y="629"/>
                </a:lnTo>
                <a:lnTo>
                  <a:pt x="481" y="634"/>
                </a:lnTo>
                <a:lnTo>
                  <a:pt x="481" y="639"/>
                </a:lnTo>
                <a:lnTo>
                  <a:pt x="481" y="645"/>
                </a:lnTo>
                <a:lnTo>
                  <a:pt x="481" y="649"/>
                </a:lnTo>
                <a:lnTo>
                  <a:pt x="481" y="651"/>
                </a:lnTo>
                <a:lnTo>
                  <a:pt x="482" y="654"/>
                </a:lnTo>
                <a:lnTo>
                  <a:pt x="482" y="658"/>
                </a:lnTo>
                <a:lnTo>
                  <a:pt x="483" y="661"/>
                </a:lnTo>
                <a:lnTo>
                  <a:pt x="483" y="664"/>
                </a:lnTo>
                <a:lnTo>
                  <a:pt x="485" y="668"/>
                </a:lnTo>
                <a:lnTo>
                  <a:pt x="485" y="670"/>
                </a:lnTo>
                <a:lnTo>
                  <a:pt x="486" y="673"/>
                </a:lnTo>
                <a:lnTo>
                  <a:pt x="487" y="677"/>
                </a:lnTo>
                <a:lnTo>
                  <a:pt x="488" y="681"/>
                </a:lnTo>
                <a:lnTo>
                  <a:pt x="489" y="685"/>
                </a:lnTo>
                <a:lnTo>
                  <a:pt x="491" y="688"/>
                </a:lnTo>
                <a:lnTo>
                  <a:pt x="492" y="691"/>
                </a:lnTo>
                <a:lnTo>
                  <a:pt x="494" y="695"/>
                </a:lnTo>
                <a:lnTo>
                  <a:pt x="495" y="699"/>
                </a:lnTo>
                <a:lnTo>
                  <a:pt x="496" y="703"/>
                </a:lnTo>
                <a:lnTo>
                  <a:pt x="497" y="707"/>
                </a:lnTo>
                <a:lnTo>
                  <a:pt x="499" y="710"/>
                </a:lnTo>
                <a:lnTo>
                  <a:pt x="500" y="714"/>
                </a:lnTo>
                <a:lnTo>
                  <a:pt x="502" y="718"/>
                </a:lnTo>
                <a:lnTo>
                  <a:pt x="504" y="722"/>
                </a:lnTo>
                <a:lnTo>
                  <a:pt x="505" y="725"/>
                </a:lnTo>
                <a:lnTo>
                  <a:pt x="507" y="729"/>
                </a:lnTo>
                <a:lnTo>
                  <a:pt x="509" y="732"/>
                </a:lnTo>
                <a:lnTo>
                  <a:pt x="511" y="737"/>
                </a:lnTo>
                <a:lnTo>
                  <a:pt x="513" y="740"/>
                </a:lnTo>
                <a:lnTo>
                  <a:pt x="515" y="744"/>
                </a:lnTo>
                <a:lnTo>
                  <a:pt x="516" y="747"/>
                </a:lnTo>
                <a:lnTo>
                  <a:pt x="518" y="751"/>
                </a:lnTo>
                <a:lnTo>
                  <a:pt x="520" y="755"/>
                </a:lnTo>
                <a:lnTo>
                  <a:pt x="522" y="759"/>
                </a:lnTo>
                <a:lnTo>
                  <a:pt x="524" y="762"/>
                </a:lnTo>
                <a:lnTo>
                  <a:pt x="527" y="765"/>
                </a:lnTo>
                <a:lnTo>
                  <a:pt x="529" y="769"/>
                </a:lnTo>
                <a:lnTo>
                  <a:pt x="531" y="773"/>
                </a:lnTo>
                <a:lnTo>
                  <a:pt x="533" y="776"/>
                </a:lnTo>
                <a:lnTo>
                  <a:pt x="535" y="779"/>
                </a:lnTo>
                <a:lnTo>
                  <a:pt x="536" y="783"/>
                </a:lnTo>
                <a:lnTo>
                  <a:pt x="538" y="785"/>
                </a:lnTo>
                <a:lnTo>
                  <a:pt x="540" y="788"/>
                </a:lnTo>
                <a:lnTo>
                  <a:pt x="542" y="792"/>
                </a:lnTo>
                <a:lnTo>
                  <a:pt x="545" y="795"/>
                </a:lnTo>
                <a:lnTo>
                  <a:pt x="546" y="798"/>
                </a:lnTo>
                <a:lnTo>
                  <a:pt x="550" y="803"/>
                </a:lnTo>
                <a:lnTo>
                  <a:pt x="554" y="809"/>
                </a:lnTo>
                <a:lnTo>
                  <a:pt x="556" y="814"/>
                </a:lnTo>
                <a:lnTo>
                  <a:pt x="560" y="819"/>
                </a:lnTo>
                <a:lnTo>
                  <a:pt x="461" y="844"/>
                </a:lnTo>
                <a:lnTo>
                  <a:pt x="459" y="841"/>
                </a:lnTo>
                <a:lnTo>
                  <a:pt x="457" y="837"/>
                </a:lnTo>
                <a:lnTo>
                  <a:pt x="454" y="833"/>
                </a:lnTo>
                <a:lnTo>
                  <a:pt x="451" y="829"/>
                </a:lnTo>
                <a:lnTo>
                  <a:pt x="448" y="824"/>
                </a:lnTo>
                <a:lnTo>
                  <a:pt x="445" y="821"/>
                </a:lnTo>
                <a:lnTo>
                  <a:pt x="441" y="817"/>
                </a:lnTo>
                <a:lnTo>
                  <a:pt x="438" y="813"/>
                </a:lnTo>
                <a:lnTo>
                  <a:pt x="435" y="808"/>
                </a:lnTo>
                <a:lnTo>
                  <a:pt x="432" y="804"/>
                </a:lnTo>
                <a:lnTo>
                  <a:pt x="428" y="800"/>
                </a:lnTo>
                <a:lnTo>
                  <a:pt x="424" y="796"/>
                </a:lnTo>
                <a:lnTo>
                  <a:pt x="421" y="792"/>
                </a:lnTo>
                <a:lnTo>
                  <a:pt x="418" y="787"/>
                </a:lnTo>
                <a:lnTo>
                  <a:pt x="414" y="784"/>
                </a:lnTo>
                <a:lnTo>
                  <a:pt x="409" y="780"/>
                </a:lnTo>
                <a:lnTo>
                  <a:pt x="406" y="775"/>
                </a:lnTo>
                <a:lnTo>
                  <a:pt x="402" y="771"/>
                </a:lnTo>
                <a:lnTo>
                  <a:pt x="399" y="766"/>
                </a:lnTo>
                <a:lnTo>
                  <a:pt x="395" y="763"/>
                </a:lnTo>
                <a:lnTo>
                  <a:pt x="392" y="759"/>
                </a:lnTo>
                <a:lnTo>
                  <a:pt x="388" y="755"/>
                </a:lnTo>
                <a:lnTo>
                  <a:pt x="384" y="750"/>
                </a:lnTo>
                <a:lnTo>
                  <a:pt x="381" y="746"/>
                </a:lnTo>
                <a:lnTo>
                  <a:pt x="378" y="743"/>
                </a:lnTo>
                <a:lnTo>
                  <a:pt x="375" y="739"/>
                </a:lnTo>
                <a:lnTo>
                  <a:pt x="371" y="734"/>
                </a:lnTo>
                <a:lnTo>
                  <a:pt x="367" y="731"/>
                </a:lnTo>
                <a:lnTo>
                  <a:pt x="365" y="727"/>
                </a:lnTo>
                <a:lnTo>
                  <a:pt x="361" y="724"/>
                </a:lnTo>
                <a:lnTo>
                  <a:pt x="359" y="720"/>
                </a:lnTo>
                <a:lnTo>
                  <a:pt x="356" y="717"/>
                </a:lnTo>
                <a:lnTo>
                  <a:pt x="356" y="715"/>
                </a:lnTo>
                <a:lnTo>
                  <a:pt x="355" y="714"/>
                </a:lnTo>
                <a:lnTo>
                  <a:pt x="353" y="711"/>
                </a:lnTo>
                <a:lnTo>
                  <a:pt x="351" y="709"/>
                </a:lnTo>
                <a:lnTo>
                  <a:pt x="348" y="707"/>
                </a:lnTo>
                <a:lnTo>
                  <a:pt x="345" y="706"/>
                </a:lnTo>
                <a:lnTo>
                  <a:pt x="342" y="706"/>
                </a:lnTo>
                <a:lnTo>
                  <a:pt x="339" y="707"/>
                </a:lnTo>
                <a:lnTo>
                  <a:pt x="334" y="710"/>
                </a:lnTo>
                <a:lnTo>
                  <a:pt x="330" y="713"/>
                </a:lnTo>
                <a:lnTo>
                  <a:pt x="326" y="715"/>
                </a:lnTo>
                <a:lnTo>
                  <a:pt x="323" y="717"/>
                </a:lnTo>
                <a:lnTo>
                  <a:pt x="320" y="718"/>
                </a:lnTo>
                <a:lnTo>
                  <a:pt x="316" y="719"/>
                </a:lnTo>
                <a:lnTo>
                  <a:pt x="314" y="720"/>
                </a:lnTo>
                <a:lnTo>
                  <a:pt x="310" y="720"/>
                </a:lnTo>
                <a:lnTo>
                  <a:pt x="305" y="719"/>
                </a:lnTo>
                <a:lnTo>
                  <a:pt x="301" y="716"/>
                </a:lnTo>
                <a:lnTo>
                  <a:pt x="299" y="713"/>
                </a:lnTo>
                <a:lnTo>
                  <a:pt x="296" y="711"/>
                </a:lnTo>
                <a:lnTo>
                  <a:pt x="293" y="708"/>
                </a:lnTo>
                <a:lnTo>
                  <a:pt x="290" y="705"/>
                </a:lnTo>
                <a:lnTo>
                  <a:pt x="287" y="705"/>
                </a:lnTo>
                <a:lnTo>
                  <a:pt x="284" y="706"/>
                </a:lnTo>
                <a:lnTo>
                  <a:pt x="281" y="707"/>
                </a:lnTo>
                <a:lnTo>
                  <a:pt x="278" y="708"/>
                </a:lnTo>
                <a:lnTo>
                  <a:pt x="275" y="708"/>
                </a:lnTo>
                <a:lnTo>
                  <a:pt x="272" y="710"/>
                </a:lnTo>
                <a:lnTo>
                  <a:pt x="269" y="711"/>
                </a:lnTo>
                <a:lnTo>
                  <a:pt x="266" y="713"/>
                </a:lnTo>
                <a:lnTo>
                  <a:pt x="263" y="717"/>
                </a:lnTo>
                <a:lnTo>
                  <a:pt x="258" y="720"/>
                </a:lnTo>
                <a:lnTo>
                  <a:pt x="254" y="725"/>
                </a:lnTo>
                <a:lnTo>
                  <a:pt x="250" y="729"/>
                </a:lnTo>
                <a:lnTo>
                  <a:pt x="247" y="733"/>
                </a:lnTo>
                <a:lnTo>
                  <a:pt x="245" y="739"/>
                </a:lnTo>
                <a:lnTo>
                  <a:pt x="244" y="741"/>
                </a:lnTo>
                <a:lnTo>
                  <a:pt x="243" y="744"/>
                </a:lnTo>
                <a:lnTo>
                  <a:pt x="242" y="746"/>
                </a:lnTo>
                <a:lnTo>
                  <a:pt x="240" y="750"/>
                </a:lnTo>
                <a:lnTo>
                  <a:pt x="240" y="752"/>
                </a:lnTo>
                <a:lnTo>
                  <a:pt x="239" y="755"/>
                </a:lnTo>
                <a:lnTo>
                  <a:pt x="239" y="759"/>
                </a:lnTo>
                <a:lnTo>
                  <a:pt x="237" y="762"/>
                </a:lnTo>
                <a:lnTo>
                  <a:pt x="237" y="764"/>
                </a:lnTo>
                <a:lnTo>
                  <a:pt x="236" y="768"/>
                </a:lnTo>
                <a:lnTo>
                  <a:pt x="236" y="771"/>
                </a:lnTo>
                <a:lnTo>
                  <a:pt x="235" y="775"/>
                </a:lnTo>
                <a:lnTo>
                  <a:pt x="235" y="778"/>
                </a:lnTo>
                <a:lnTo>
                  <a:pt x="235" y="782"/>
                </a:lnTo>
                <a:lnTo>
                  <a:pt x="235" y="784"/>
                </a:lnTo>
                <a:lnTo>
                  <a:pt x="235" y="787"/>
                </a:lnTo>
                <a:lnTo>
                  <a:pt x="236" y="791"/>
                </a:lnTo>
                <a:lnTo>
                  <a:pt x="236" y="795"/>
                </a:lnTo>
                <a:lnTo>
                  <a:pt x="236" y="798"/>
                </a:lnTo>
                <a:lnTo>
                  <a:pt x="236" y="802"/>
                </a:lnTo>
                <a:lnTo>
                  <a:pt x="236" y="804"/>
                </a:lnTo>
                <a:lnTo>
                  <a:pt x="237" y="808"/>
                </a:lnTo>
                <a:lnTo>
                  <a:pt x="237" y="811"/>
                </a:lnTo>
                <a:lnTo>
                  <a:pt x="237" y="815"/>
                </a:lnTo>
                <a:lnTo>
                  <a:pt x="239" y="819"/>
                </a:lnTo>
                <a:lnTo>
                  <a:pt x="239" y="822"/>
                </a:lnTo>
                <a:lnTo>
                  <a:pt x="240" y="825"/>
                </a:lnTo>
                <a:lnTo>
                  <a:pt x="240" y="829"/>
                </a:lnTo>
                <a:lnTo>
                  <a:pt x="241" y="833"/>
                </a:lnTo>
                <a:lnTo>
                  <a:pt x="241" y="836"/>
                </a:lnTo>
                <a:lnTo>
                  <a:pt x="242" y="839"/>
                </a:lnTo>
                <a:lnTo>
                  <a:pt x="243" y="842"/>
                </a:lnTo>
                <a:lnTo>
                  <a:pt x="244" y="846"/>
                </a:lnTo>
                <a:lnTo>
                  <a:pt x="245" y="849"/>
                </a:lnTo>
                <a:lnTo>
                  <a:pt x="246" y="852"/>
                </a:lnTo>
                <a:lnTo>
                  <a:pt x="246" y="856"/>
                </a:lnTo>
                <a:lnTo>
                  <a:pt x="246" y="859"/>
                </a:lnTo>
                <a:lnTo>
                  <a:pt x="248" y="861"/>
                </a:lnTo>
                <a:lnTo>
                  <a:pt x="249" y="865"/>
                </a:lnTo>
                <a:lnTo>
                  <a:pt x="249" y="868"/>
                </a:lnTo>
                <a:lnTo>
                  <a:pt x="250" y="871"/>
                </a:lnTo>
                <a:lnTo>
                  <a:pt x="251" y="874"/>
                </a:lnTo>
                <a:lnTo>
                  <a:pt x="253" y="877"/>
                </a:lnTo>
                <a:lnTo>
                  <a:pt x="253" y="880"/>
                </a:lnTo>
                <a:lnTo>
                  <a:pt x="152" y="885"/>
                </a:lnTo>
                <a:lnTo>
                  <a:pt x="209" y="942"/>
                </a:lnTo>
                <a:lnTo>
                  <a:pt x="152" y="885"/>
                </a:lnTo>
                <a:lnTo>
                  <a:pt x="153" y="881"/>
                </a:lnTo>
                <a:lnTo>
                  <a:pt x="153" y="878"/>
                </a:lnTo>
                <a:lnTo>
                  <a:pt x="154" y="874"/>
                </a:lnTo>
                <a:lnTo>
                  <a:pt x="154" y="870"/>
                </a:lnTo>
                <a:lnTo>
                  <a:pt x="155" y="865"/>
                </a:lnTo>
                <a:lnTo>
                  <a:pt x="155" y="861"/>
                </a:lnTo>
                <a:lnTo>
                  <a:pt x="155" y="858"/>
                </a:lnTo>
                <a:lnTo>
                  <a:pt x="155" y="855"/>
                </a:lnTo>
                <a:lnTo>
                  <a:pt x="155" y="850"/>
                </a:lnTo>
                <a:lnTo>
                  <a:pt x="155" y="846"/>
                </a:lnTo>
                <a:lnTo>
                  <a:pt x="156" y="841"/>
                </a:lnTo>
                <a:lnTo>
                  <a:pt x="156" y="838"/>
                </a:lnTo>
                <a:lnTo>
                  <a:pt x="156" y="834"/>
                </a:lnTo>
                <a:lnTo>
                  <a:pt x="156" y="830"/>
                </a:lnTo>
                <a:lnTo>
                  <a:pt x="156" y="825"/>
                </a:lnTo>
                <a:lnTo>
                  <a:pt x="156" y="822"/>
                </a:lnTo>
                <a:lnTo>
                  <a:pt x="156" y="818"/>
                </a:lnTo>
                <a:lnTo>
                  <a:pt x="156" y="814"/>
                </a:lnTo>
                <a:lnTo>
                  <a:pt x="156" y="809"/>
                </a:lnTo>
                <a:lnTo>
                  <a:pt x="156" y="805"/>
                </a:lnTo>
                <a:lnTo>
                  <a:pt x="156" y="801"/>
                </a:lnTo>
                <a:lnTo>
                  <a:pt x="156" y="797"/>
                </a:lnTo>
                <a:lnTo>
                  <a:pt x="156" y="793"/>
                </a:lnTo>
                <a:lnTo>
                  <a:pt x="156" y="789"/>
                </a:lnTo>
                <a:lnTo>
                  <a:pt x="156" y="784"/>
                </a:lnTo>
                <a:lnTo>
                  <a:pt x="156" y="781"/>
                </a:lnTo>
                <a:lnTo>
                  <a:pt x="156" y="776"/>
                </a:lnTo>
                <a:lnTo>
                  <a:pt x="155" y="773"/>
                </a:lnTo>
                <a:lnTo>
                  <a:pt x="155" y="768"/>
                </a:lnTo>
                <a:lnTo>
                  <a:pt x="155" y="764"/>
                </a:lnTo>
                <a:lnTo>
                  <a:pt x="155" y="761"/>
                </a:lnTo>
                <a:lnTo>
                  <a:pt x="154" y="757"/>
                </a:lnTo>
                <a:lnTo>
                  <a:pt x="154" y="752"/>
                </a:lnTo>
                <a:lnTo>
                  <a:pt x="154" y="748"/>
                </a:lnTo>
                <a:lnTo>
                  <a:pt x="154" y="744"/>
                </a:lnTo>
                <a:lnTo>
                  <a:pt x="154" y="740"/>
                </a:lnTo>
                <a:lnTo>
                  <a:pt x="154" y="736"/>
                </a:lnTo>
                <a:lnTo>
                  <a:pt x="153" y="732"/>
                </a:lnTo>
                <a:lnTo>
                  <a:pt x="153" y="727"/>
                </a:lnTo>
                <a:lnTo>
                  <a:pt x="153" y="724"/>
                </a:lnTo>
                <a:lnTo>
                  <a:pt x="153" y="719"/>
                </a:lnTo>
                <a:lnTo>
                  <a:pt x="152" y="715"/>
                </a:lnTo>
                <a:lnTo>
                  <a:pt x="152" y="711"/>
                </a:lnTo>
                <a:lnTo>
                  <a:pt x="152" y="707"/>
                </a:lnTo>
                <a:lnTo>
                  <a:pt x="152" y="704"/>
                </a:lnTo>
                <a:lnTo>
                  <a:pt x="151" y="700"/>
                </a:lnTo>
                <a:lnTo>
                  <a:pt x="151" y="696"/>
                </a:lnTo>
                <a:lnTo>
                  <a:pt x="150" y="692"/>
                </a:lnTo>
                <a:lnTo>
                  <a:pt x="150" y="688"/>
                </a:lnTo>
                <a:lnTo>
                  <a:pt x="150" y="685"/>
                </a:lnTo>
                <a:lnTo>
                  <a:pt x="150" y="681"/>
                </a:lnTo>
                <a:lnTo>
                  <a:pt x="149" y="677"/>
                </a:lnTo>
                <a:lnTo>
                  <a:pt x="149" y="673"/>
                </a:lnTo>
                <a:lnTo>
                  <a:pt x="149" y="669"/>
                </a:lnTo>
                <a:lnTo>
                  <a:pt x="148" y="666"/>
                </a:lnTo>
                <a:lnTo>
                  <a:pt x="148" y="663"/>
                </a:lnTo>
                <a:lnTo>
                  <a:pt x="148" y="659"/>
                </a:lnTo>
                <a:lnTo>
                  <a:pt x="147" y="655"/>
                </a:lnTo>
                <a:lnTo>
                  <a:pt x="147" y="651"/>
                </a:lnTo>
                <a:lnTo>
                  <a:pt x="145" y="649"/>
                </a:lnTo>
                <a:lnTo>
                  <a:pt x="145" y="645"/>
                </a:lnTo>
                <a:lnTo>
                  <a:pt x="145" y="642"/>
                </a:lnTo>
                <a:lnTo>
                  <a:pt x="144" y="638"/>
                </a:lnTo>
                <a:lnTo>
                  <a:pt x="143" y="635"/>
                </a:lnTo>
                <a:lnTo>
                  <a:pt x="145" y="632"/>
                </a:lnTo>
                <a:lnTo>
                  <a:pt x="146" y="629"/>
                </a:lnTo>
                <a:lnTo>
                  <a:pt x="147" y="626"/>
                </a:lnTo>
                <a:lnTo>
                  <a:pt x="148" y="623"/>
                </a:lnTo>
                <a:lnTo>
                  <a:pt x="150" y="620"/>
                </a:lnTo>
                <a:lnTo>
                  <a:pt x="150" y="617"/>
                </a:lnTo>
                <a:lnTo>
                  <a:pt x="151" y="614"/>
                </a:lnTo>
                <a:lnTo>
                  <a:pt x="152" y="611"/>
                </a:lnTo>
                <a:lnTo>
                  <a:pt x="153" y="609"/>
                </a:lnTo>
                <a:lnTo>
                  <a:pt x="154" y="605"/>
                </a:lnTo>
                <a:lnTo>
                  <a:pt x="156" y="603"/>
                </a:lnTo>
                <a:lnTo>
                  <a:pt x="156" y="600"/>
                </a:lnTo>
                <a:lnTo>
                  <a:pt x="157" y="596"/>
                </a:lnTo>
                <a:lnTo>
                  <a:pt x="158" y="593"/>
                </a:lnTo>
                <a:lnTo>
                  <a:pt x="160" y="591"/>
                </a:lnTo>
                <a:lnTo>
                  <a:pt x="160" y="588"/>
                </a:lnTo>
                <a:lnTo>
                  <a:pt x="162" y="585"/>
                </a:lnTo>
                <a:lnTo>
                  <a:pt x="162" y="582"/>
                </a:lnTo>
                <a:lnTo>
                  <a:pt x="163" y="578"/>
                </a:lnTo>
                <a:lnTo>
                  <a:pt x="164" y="576"/>
                </a:lnTo>
                <a:lnTo>
                  <a:pt x="165" y="572"/>
                </a:lnTo>
                <a:lnTo>
                  <a:pt x="166" y="570"/>
                </a:lnTo>
                <a:lnTo>
                  <a:pt x="167" y="567"/>
                </a:lnTo>
                <a:lnTo>
                  <a:pt x="167" y="564"/>
                </a:lnTo>
                <a:lnTo>
                  <a:pt x="168" y="560"/>
                </a:lnTo>
                <a:lnTo>
                  <a:pt x="169" y="557"/>
                </a:lnTo>
                <a:lnTo>
                  <a:pt x="169" y="554"/>
                </a:lnTo>
                <a:lnTo>
                  <a:pt x="170" y="552"/>
                </a:lnTo>
                <a:lnTo>
                  <a:pt x="171" y="549"/>
                </a:lnTo>
                <a:lnTo>
                  <a:pt x="171" y="546"/>
                </a:lnTo>
                <a:lnTo>
                  <a:pt x="172" y="542"/>
                </a:lnTo>
                <a:lnTo>
                  <a:pt x="172" y="540"/>
                </a:lnTo>
                <a:lnTo>
                  <a:pt x="173" y="536"/>
                </a:lnTo>
                <a:lnTo>
                  <a:pt x="174" y="534"/>
                </a:lnTo>
                <a:lnTo>
                  <a:pt x="174" y="531"/>
                </a:lnTo>
                <a:lnTo>
                  <a:pt x="174" y="527"/>
                </a:lnTo>
                <a:lnTo>
                  <a:pt x="175" y="524"/>
                </a:lnTo>
                <a:lnTo>
                  <a:pt x="175" y="521"/>
                </a:lnTo>
                <a:lnTo>
                  <a:pt x="175" y="517"/>
                </a:lnTo>
                <a:lnTo>
                  <a:pt x="175" y="515"/>
                </a:lnTo>
                <a:lnTo>
                  <a:pt x="176" y="512"/>
                </a:lnTo>
                <a:lnTo>
                  <a:pt x="176" y="508"/>
                </a:lnTo>
                <a:lnTo>
                  <a:pt x="176" y="505"/>
                </a:lnTo>
                <a:lnTo>
                  <a:pt x="176" y="502"/>
                </a:lnTo>
                <a:lnTo>
                  <a:pt x="176" y="498"/>
                </a:lnTo>
                <a:lnTo>
                  <a:pt x="176" y="495"/>
                </a:lnTo>
                <a:lnTo>
                  <a:pt x="176" y="493"/>
                </a:lnTo>
                <a:lnTo>
                  <a:pt x="175" y="490"/>
                </a:lnTo>
                <a:lnTo>
                  <a:pt x="175" y="486"/>
                </a:lnTo>
                <a:lnTo>
                  <a:pt x="175" y="482"/>
                </a:lnTo>
                <a:lnTo>
                  <a:pt x="175" y="479"/>
                </a:lnTo>
                <a:lnTo>
                  <a:pt x="174" y="476"/>
                </a:lnTo>
                <a:lnTo>
                  <a:pt x="174" y="473"/>
                </a:lnTo>
                <a:lnTo>
                  <a:pt x="173" y="470"/>
                </a:lnTo>
                <a:lnTo>
                  <a:pt x="172" y="467"/>
                </a:lnTo>
                <a:lnTo>
                  <a:pt x="171" y="463"/>
                </a:lnTo>
                <a:lnTo>
                  <a:pt x="171" y="459"/>
                </a:lnTo>
                <a:lnTo>
                  <a:pt x="170" y="457"/>
                </a:lnTo>
                <a:lnTo>
                  <a:pt x="169" y="454"/>
                </a:lnTo>
                <a:lnTo>
                  <a:pt x="168" y="450"/>
                </a:lnTo>
                <a:lnTo>
                  <a:pt x="167" y="447"/>
                </a:lnTo>
                <a:lnTo>
                  <a:pt x="93" y="336"/>
                </a:lnTo>
                <a:lnTo>
                  <a:pt x="165" y="440"/>
                </a:lnTo>
                <a:lnTo>
                  <a:pt x="163" y="437"/>
                </a:lnTo>
                <a:lnTo>
                  <a:pt x="157" y="441"/>
                </a:lnTo>
                <a:lnTo>
                  <a:pt x="156" y="444"/>
                </a:lnTo>
                <a:lnTo>
                  <a:pt x="154" y="447"/>
                </a:lnTo>
                <a:lnTo>
                  <a:pt x="153" y="454"/>
                </a:lnTo>
                <a:lnTo>
                  <a:pt x="153" y="457"/>
                </a:lnTo>
                <a:lnTo>
                  <a:pt x="152" y="461"/>
                </a:lnTo>
                <a:lnTo>
                  <a:pt x="150" y="465"/>
                </a:lnTo>
                <a:lnTo>
                  <a:pt x="148" y="469"/>
                </a:lnTo>
                <a:lnTo>
                  <a:pt x="129" y="523"/>
                </a:lnTo>
                <a:lnTo>
                  <a:pt x="9" y="789"/>
                </a:lnTo>
                <a:lnTo>
                  <a:pt x="139" y="493"/>
                </a:lnTo>
                <a:lnTo>
                  <a:pt x="153" y="419"/>
                </a:lnTo>
                <a:lnTo>
                  <a:pt x="138" y="489"/>
                </a:lnTo>
                <a:lnTo>
                  <a:pt x="136" y="494"/>
                </a:lnTo>
                <a:lnTo>
                  <a:pt x="134" y="499"/>
                </a:lnTo>
                <a:lnTo>
                  <a:pt x="133" y="504"/>
                </a:lnTo>
                <a:lnTo>
                  <a:pt x="149" y="427"/>
                </a:lnTo>
                <a:lnTo>
                  <a:pt x="131" y="515"/>
                </a:lnTo>
                <a:lnTo>
                  <a:pt x="129" y="520"/>
                </a:lnTo>
                <a:lnTo>
                  <a:pt x="128" y="526"/>
                </a:lnTo>
                <a:lnTo>
                  <a:pt x="127" y="532"/>
                </a:lnTo>
                <a:lnTo>
                  <a:pt x="126" y="536"/>
                </a:lnTo>
                <a:lnTo>
                  <a:pt x="125" y="542"/>
                </a:lnTo>
                <a:lnTo>
                  <a:pt x="124" y="548"/>
                </a:lnTo>
                <a:lnTo>
                  <a:pt x="124" y="553"/>
                </a:lnTo>
                <a:lnTo>
                  <a:pt x="123" y="559"/>
                </a:lnTo>
                <a:lnTo>
                  <a:pt x="123" y="565"/>
                </a:lnTo>
                <a:lnTo>
                  <a:pt x="122" y="570"/>
                </a:lnTo>
                <a:lnTo>
                  <a:pt x="121" y="576"/>
                </a:lnTo>
                <a:lnTo>
                  <a:pt x="121" y="581"/>
                </a:lnTo>
                <a:lnTo>
                  <a:pt x="120" y="593"/>
                </a:lnTo>
                <a:lnTo>
                  <a:pt x="119" y="604"/>
                </a:lnTo>
                <a:lnTo>
                  <a:pt x="9" y="684"/>
                </a:lnTo>
                <a:lnTo>
                  <a:pt x="116" y="632"/>
                </a:lnTo>
                <a:lnTo>
                  <a:pt x="116" y="637"/>
                </a:lnTo>
                <a:lnTo>
                  <a:pt x="115" y="643"/>
                </a:lnTo>
                <a:lnTo>
                  <a:pt x="115" y="649"/>
                </a:lnTo>
                <a:lnTo>
                  <a:pt x="114" y="654"/>
                </a:lnTo>
                <a:lnTo>
                  <a:pt x="113" y="659"/>
                </a:lnTo>
                <a:lnTo>
                  <a:pt x="112" y="664"/>
                </a:lnTo>
                <a:lnTo>
                  <a:pt x="112" y="669"/>
                </a:lnTo>
                <a:lnTo>
                  <a:pt x="110" y="674"/>
                </a:lnTo>
                <a:lnTo>
                  <a:pt x="109" y="679"/>
                </a:lnTo>
                <a:lnTo>
                  <a:pt x="107" y="684"/>
                </a:lnTo>
                <a:lnTo>
                  <a:pt x="106" y="688"/>
                </a:lnTo>
                <a:lnTo>
                  <a:pt x="103" y="694"/>
                </a:lnTo>
                <a:lnTo>
                  <a:pt x="102" y="698"/>
                </a:lnTo>
                <a:lnTo>
                  <a:pt x="100" y="703"/>
                </a:lnTo>
                <a:lnTo>
                  <a:pt x="97" y="707"/>
                </a:lnTo>
                <a:lnTo>
                  <a:pt x="94" y="712"/>
                </a:lnTo>
                <a:lnTo>
                  <a:pt x="90" y="720"/>
                </a:lnTo>
                <a:lnTo>
                  <a:pt x="87" y="725"/>
                </a:lnTo>
                <a:lnTo>
                  <a:pt x="83" y="728"/>
                </a:lnTo>
                <a:lnTo>
                  <a:pt x="80" y="732"/>
                </a:lnTo>
                <a:lnTo>
                  <a:pt x="75" y="736"/>
                </a:lnTo>
                <a:lnTo>
                  <a:pt x="73" y="740"/>
                </a:lnTo>
                <a:lnTo>
                  <a:pt x="68" y="744"/>
                </a:lnTo>
                <a:lnTo>
                  <a:pt x="63" y="746"/>
                </a:lnTo>
                <a:lnTo>
                  <a:pt x="58" y="749"/>
                </a:lnTo>
                <a:lnTo>
                  <a:pt x="54" y="752"/>
                </a:lnTo>
                <a:lnTo>
                  <a:pt x="48" y="756"/>
                </a:lnTo>
                <a:lnTo>
                  <a:pt x="42" y="759"/>
                </a:lnTo>
                <a:lnTo>
                  <a:pt x="36" y="761"/>
                </a:lnTo>
                <a:lnTo>
                  <a:pt x="30" y="764"/>
                </a:lnTo>
                <a:lnTo>
                  <a:pt x="23" y="766"/>
                </a:lnTo>
                <a:lnTo>
                  <a:pt x="28" y="761"/>
                </a:lnTo>
                <a:lnTo>
                  <a:pt x="33" y="756"/>
                </a:lnTo>
                <a:lnTo>
                  <a:pt x="38" y="751"/>
                </a:lnTo>
                <a:lnTo>
                  <a:pt x="43" y="747"/>
                </a:lnTo>
                <a:lnTo>
                  <a:pt x="139" y="485"/>
                </a:lnTo>
                <a:lnTo>
                  <a:pt x="53" y="738"/>
                </a:lnTo>
                <a:lnTo>
                  <a:pt x="56" y="733"/>
                </a:lnTo>
                <a:lnTo>
                  <a:pt x="59" y="728"/>
                </a:lnTo>
                <a:lnTo>
                  <a:pt x="55" y="727"/>
                </a:lnTo>
                <a:lnTo>
                  <a:pt x="52" y="728"/>
                </a:lnTo>
                <a:lnTo>
                  <a:pt x="48" y="729"/>
                </a:lnTo>
                <a:lnTo>
                  <a:pt x="43" y="732"/>
                </a:lnTo>
                <a:lnTo>
                  <a:pt x="40" y="734"/>
                </a:lnTo>
                <a:lnTo>
                  <a:pt x="36" y="738"/>
                </a:lnTo>
                <a:lnTo>
                  <a:pt x="34" y="742"/>
                </a:lnTo>
                <a:lnTo>
                  <a:pt x="30" y="745"/>
                </a:lnTo>
                <a:lnTo>
                  <a:pt x="27" y="749"/>
                </a:lnTo>
                <a:lnTo>
                  <a:pt x="23" y="752"/>
                </a:lnTo>
                <a:lnTo>
                  <a:pt x="20" y="755"/>
                </a:lnTo>
                <a:lnTo>
                  <a:pt x="16" y="757"/>
                </a:lnTo>
                <a:lnTo>
                  <a:pt x="14" y="759"/>
                </a:lnTo>
                <a:lnTo>
                  <a:pt x="9" y="760"/>
                </a:lnTo>
                <a:lnTo>
                  <a:pt x="5" y="760"/>
                </a:lnTo>
                <a:lnTo>
                  <a:pt x="0" y="759"/>
                </a:lnTo>
                <a:lnTo>
                  <a:pt x="4" y="753"/>
                </a:lnTo>
                <a:lnTo>
                  <a:pt x="7" y="747"/>
                </a:lnTo>
                <a:lnTo>
                  <a:pt x="10" y="743"/>
                </a:lnTo>
                <a:lnTo>
                  <a:pt x="14" y="739"/>
                </a:lnTo>
                <a:lnTo>
                  <a:pt x="15" y="731"/>
                </a:lnTo>
                <a:lnTo>
                  <a:pt x="16" y="725"/>
                </a:lnTo>
                <a:lnTo>
                  <a:pt x="18" y="717"/>
                </a:lnTo>
                <a:lnTo>
                  <a:pt x="19" y="710"/>
                </a:lnTo>
                <a:lnTo>
                  <a:pt x="21" y="703"/>
                </a:lnTo>
                <a:lnTo>
                  <a:pt x="22" y="696"/>
                </a:lnTo>
                <a:lnTo>
                  <a:pt x="23" y="688"/>
                </a:lnTo>
                <a:lnTo>
                  <a:pt x="24" y="683"/>
                </a:lnTo>
                <a:lnTo>
                  <a:pt x="27" y="675"/>
                </a:lnTo>
                <a:lnTo>
                  <a:pt x="28" y="668"/>
                </a:lnTo>
                <a:lnTo>
                  <a:pt x="30" y="661"/>
                </a:lnTo>
                <a:lnTo>
                  <a:pt x="32" y="654"/>
                </a:lnTo>
                <a:lnTo>
                  <a:pt x="33" y="648"/>
                </a:lnTo>
                <a:lnTo>
                  <a:pt x="35" y="641"/>
                </a:lnTo>
                <a:lnTo>
                  <a:pt x="36" y="633"/>
                </a:lnTo>
                <a:lnTo>
                  <a:pt x="37" y="628"/>
                </a:lnTo>
                <a:lnTo>
                  <a:pt x="40" y="620"/>
                </a:lnTo>
                <a:lnTo>
                  <a:pt x="42" y="613"/>
                </a:lnTo>
                <a:lnTo>
                  <a:pt x="43" y="606"/>
                </a:lnTo>
                <a:lnTo>
                  <a:pt x="45" y="600"/>
                </a:lnTo>
                <a:lnTo>
                  <a:pt x="47" y="593"/>
                </a:lnTo>
                <a:lnTo>
                  <a:pt x="50" y="586"/>
                </a:lnTo>
                <a:lnTo>
                  <a:pt x="51" y="579"/>
                </a:lnTo>
                <a:lnTo>
                  <a:pt x="53" y="572"/>
                </a:lnTo>
                <a:lnTo>
                  <a:pt x="54" y="566"/>
                </a:lnTo>
                <a:lnTo>
                  <a:pt x="127" y="555"/>
                </a:lnTo>
                <a:lnTo>
                  <a:pt x="119" y="553"/>
                </a:lnTo>
                <a:lnTo>
                  <a:pt x="117" y="547"/>
                </a:lnTo>
                <a:lnTo>
                  <a:pt x="121" y="539"/>
                </a:lnTo>
                <a:lnTo>
                  <a:pt x="121" y="541"/>
                </a:lnTo>
                <a:lnTo>
                  <a:pt x="123" y="539"/>
                </a:lnTo>
                <a:lnTo>
                  <a:pt x="131" y="531"/>
                </a:lnTo>
                <a:lnTo>
                  <a:pt x="121" y="537"/>
                </a:lnTo>
                <a:lnTo>
                  <a:pt x="121" y="519"/>
                </a:lnTo>
                <a:lnTo>
                  <a:pt x="151" y="519"/>
                </a:lnTo>
                <a:lnTo>
                  <a:pt x="60" y="732"/>
                </a:lnTo>
                <a:lnTo>
                  <a:pt x="84" y="711"/>
                </a:lnTo>
                <a:lnTo>
                  <a:pt x="139" y="497"/>
                </a:lnTo>
                <a:lnTo>
                  <a:pt x="149" y="491"/>
                </a:lnTo>
                <a:lnTo>
                  <a:pt x="16" y="646"/>
                </a:lnTo>
                <a:lnTo>
                  <a:pt x="143" y="487"/>
                </a:lnTo>
                <a:lnTo>
                  <a:pt x="133" y="477"/>
                </a:lnTo>
                <a:lnTo>
                  <a:pt x="13" y="749"/>
                </a:lnTo>
                <a:lnTo>
                  <a:pt x="15" y="737"/>
                </a:lnTo>
                <a:lnTo>
                  <a:pt x="59" y="757"/>
                </a:lnTo>
                <a:lnTo>
                  <a:pt x="85" y="735"/>
                </a:lnTo>
                <a:lnTo>
                  <a:pt x="105" y="669"/>
                </a:lnTo>
                <a:lnTo>
                  <a:pt x="125" y="559"/>
                </a:lnTo>
                <a:lnTo>
                  <a:pt x="131" y="511"/>
                </a:lnTo>
                <a:lnTo>
                  <a:pt x="46" y="5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148440" y="3994200"/>
            <a:ext cx="84240" cy="19080"/>
          </a:xfrm>
          <a:custGeom>
            <a:avLst/>
            <a:gdLst/>
            <a:ahLst/>
            <a:rect l="l" t="t" r="r" b="b"/>
            <a:pathLst>
              <a:path w="107" h="25">
                <a:moveTo>
                  <a:pt x="33" y="4"/>
                </a:moveTo>
                <a:lnTo>
                  <a:pt x="34" y="4"/>
                </a:lnTo>
                <a:lnTo>
                  <a:pt x="42" y="4"/>
                </a:lnTo>
                <a:lnTo>
                  <a:pt x="48" y="4"/>
                </a:lnTo>
                <a:lnTo>
                  <a:pt x="54" y="4"/>
                </a:lnTo>
                <a:lnTo>
                  <a:pt x="61" y="2"/>
                </a:lnTo>
                <a:lnTo>
                  <a:pt x="67" y="2"/>
                </a:lnTo>
                <a:lnTo>
                  <a:pt x="73" y="2"/>
                </a:lnTo>
                <a:lnTo>
                  <a:pt x="80" y="2"/>
                </a:lnTo>
                <a:lnTo>
                  <a:pt x="86" y="0"/>
                </a:lnTo>
                <a:lnTo>
                  <a:pt x="92" y="2"/>
                </a:lnTo>
                <a:lnTo>
                  <a:pt x="97" y="2"/>
                </a:lnTo>
                <a:lnTo>
                  <a:pt x="101" y="4"/>
                </a:lnTo>
                <a:lnTo>
                  <a:pt x="103" y="6"/>
                </a:lnTo>
                <a:lnTo>
                  <a:pt x="107" y="12"/>
                </a:lnTo>
                <a:lnTo>
                  <a:pt x="107" y="17"/>
                </a:lnTo>
                <a:lnTo>
                  <a:pt x="107" y="25"/>
                </a:lnTo>
                <a:lnTo>
                  <a:pt x="99" y="25"/>
                </a:lnTo>
                <a:lnTo>
                  <a:pt x="93" y="25"/>
                </a:lnTo>
                <a:lnTo>
                  <a:pt x="86" y="25"/>
                </a:lnTo>
                <a:lnTo>
                  <a:pt x="80" y="25"/>
                </a:lnTo>
                <a:lnTo>
                  <a:pt x="73" y="25"/>
                </a:lnTo>
                <a:lnTo>
                  <a:pt x="65" y="25"/>
                </a:lnTo>
                <a:lnTo>
                  <a:pt x="59" y="25"/>
                </a:lnTo>
                <a:lnTo>
                  <a:pt x="54" y="25"/>
                </a:lnTo>
                <a:lnTo>
                  <a:pt x="46" y="25"/>
                </a:lnTo>
                <a:lnTo>
                  <a:pt x="38" y="25"/>
                </a:lnTo>
                <a:lnTo>
                  <a:pt x="33" y="25"/>
                </a:lnTo>
                <a:lnTo>
                  <a:pt x="27" y="25"/>
                </a:lnTo>
                <a:lnTo>
                  <a:pt x="19" y="25"/>
                </a:lnTo>
                <a:lnTo>
                  <a:pt x="12" y="25"/>
                </a:lnTo>
                <a:lnTo>
                  <a:pt x="6" y="25"/>
                </a:lnTo>
                <a:lnTo>
                  <a:pt x="0" y="25"/>
                </a:lnTo>
                <a:lnTo>
                  <a:pt x="0" y="21"/>
                </a:lnTo>
                <a:lnTo>
                  <a:pt x="0" y="19"/>
                </a:lnTo>
                <a:lnTo>
                  <a:pt x="6" y="14"/>
                </a:lnTo>
                <a:lnTo>
                  <a:pt x="14" y="12"/>
                </a:lnTo>
                <a:lnTo>
                  <a:pt x="21" y="8"/>
                </a:lnTo>
                <a:lnTo>
                  <a:pt x="33" y="4"/>
                </a:lnTo>
                <a:lnTo>
                  <a:pt x="3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066000" y="4052880"/>
            <a:ext cx="979200" cy="120600"/>
          </a:xfrm>
          <a:custGeom>
            <a:avLst/>
            <a:gdLst/>
            <a:ahLst/>
            <a:rect l="l" t="t" r="r" b="b"/>
            <a:pathLst>
              <a:path w="1233" h="153">
                <a:moveTo>
                  <a:pt x="437" y="0"/>
                </a:moveTo>
                <a:lnTo>
                  <a:pt x="448" y="2"/>
                </a:lnTo>
                <a:lnTo>
                  <a:pt x="460" y="4"/>
                </a:lnTo>
                <a:lnTo>
                  <a:pt x="471" y="4"/>
                </a:lnTo>
                <a:lnTo>
                  <a:pt x="482" y="6"/>
                </a:lnTo>
                <a:lnTo>
                  <a:pt x="494" y="8"/>
                </a:lnTo>
                <a:lnTo>
                  <a:pt x="505" y="10"/>
                </a:lnTo>
                <a:lnTo>
                  <a:pt x="517" y="12"/>
                </a:lnTo>
                <a:lnTo>
                  <a:pt x="530" y="14"/>
                </a:lnTo>
                <a:lnTo>
                  <a:pt x="541" y="14"/>
                </a:lnTo>
                <a:lnTo>
                  <a:pt x="553" y="16"/>
                </a:lnTo>
                <a:lnTo>
                  <a:pt x="564" y="18"/>
                </a:lnTo>
                <a:lnTo>
                  <a:pt x="578" y="19"/>
                </a:lnTo>
                <a:lnTo>
                  <a:pt x="589" y="19"/>
                </a:lnTo>
                <a:lnTo>
                  <a:pt x="600" y="21"/>
                </a:lnTo>
                <a:lnTo>
                  <a:pt x="612" y="23"/>
                </a:lnTo>
                <a:lnTo>
                  <a:pt x="625" y="25"/>
                </a:lnTo>
                <a:lnTo>
                  <a:pt x="636" y="25"/>
                </a:lnTo>
                <a:lnTo>
                  <a:pt x="648" y="25"/>
                </a:lnTo>
                <a:lnTo>
                  <a:pt x="659" y="27"/>
                </a:lnTo>
                <a:lnTo>
                  <a:pt x="673" y="27"/>
                </a:lnTo>
                <a:lnTo>
                  <a:pt x="684" y="27"/>
                </a:lnTo>
                <a:lnTo>
                  <a:pt x="697" y="29"/>
                </a:lnTo>
                <a:lnTo>
                  <a:pt x="709" y="31"/>
                </a:lnTo>
                <a:lnTo>
                  <a:pt x="722" y="31"/>
                </a:lnTo>
                <a:lnTo>
                  <a:pt x="733" y="31"/>
                </a:lnTo>
                <a:lnTo>
                  <a:pt x="747" y="33"/>
                </a:lnTo>
                <a:lnTo>
                  <a:pt x="758" y="33"/>
                </a:lnTo>
                <a:lnTo>
                  <a:pt x="771" y="33"/>
                </a:lnTo>
                <a:lnTo>
                  <a:pt x="783" y="33"/>
                </a:lnTo>
                <a:lnTo>
                  <a:pt x="796" y="35"/>
                </a:lnTo>
                <a:lnTo>
                  <a:pt x="809" y="35"/>
                </a:lnTo>
                <a:lnTo>
                  <a:pt x="821" y="37"/>
                </a:lnTo>
                <a:lnTo>
                  <a:pt x="832" y="37"/>
                </a:lnTo>
                <a:lnTo>
                  <a:pt x="846" y="37"/>
                </a:lnTo>
                <a:lnTo>
                  <a:pt x="859" y="37"/>
                </a:lnTo>
                <a:lnTo>
                  <a:pt x="872" y="38"/>
                </a:lnTo>
                <a:lnTo>
                  <a:pt x="884" y="38"/>
                </a:lnTo>
                <a:lnTo>
                  <a:pt x="897" y="38"/>
                </a:lnTo>
                <a:lnTo>
                  <a:pt x="910" y="38"/>
                </a:lnTo>
                <a:lnTo>
                  <a:pt x="922" y="38"/>
                </a:lnTo>
                <a:lnTo>
                  <a:pt x="935" y="38"/>
                </a:lnTo>
                <a:lnTo>
                  <a:pt x="948" y="38"/>
                </a:lnTo>
                <a:lnTo>
                  <a:pt x="960" y="38"/>
                </a:lnTo>
                <a:lnTo>
                  <a:pt x="973" y="38"/>
                </a:lnTo>
                <a:lnTo>
                  <a:pt x="986" y="38"/>
                </a:lnTo>
                <a:lnTo>
                  <a:pt x="998" y="38"/>
                </a:lnTo>
                <a:lnTo>
                  <a:pt x="1011" y="38"/>
                </a:lnTo>
                <a:lnTo>
                  <a:pt x="1024" y="38"/>
                </a:lnTo>
                <a:lnTo>
                  <a:pt x="1036" y="38"/>
                </a:lnTo>
                <a:lnTo>
                  <a:pt x="1049" y="38"/>
                </a:lnTo>
                <a:lnTo>
                  <a:pt x="1062" y="38"/>
                </a:lnTo>
                <a:lnTo>
                  <a:pt x="1076" y="38"/>
                </a:lnTo>
                <a:lnTo>
                  <a:pt x="1087" y="37"/>
                </a:lnTo>
                <a:lnTo>
                  <a:pt x="1100" y="37"/>
                </a:lnTo>
                <a:lnTo>
                  <a:pt x="1114" y="37"/>
                </a:lnTo>
                <a:lnTo>
                  <a:pt x="1127" y="37"/>
                </a:lnTo>
                <a:lnTo>
                  <a:pt x="1140" y="35"/>
                </a:lnTo>
                <a:lnTo>
                  <a:pt x="1154" y="35"/>
                </a:lnTo>
                <a:lnTo>
                  <a:pt x="1165" y="35"/>
                </a:lnTo>
                <a:lnTo>
                  <a:pt x="1180" y="35"/>
                </a:lnTo>
                <a:lnTo>
                  <a:pt x="1192" y="35"/>
                </a:lnTo>
                <a:lnTo>
                  <a:pt x="1207" y="35"/>
                </a:lnTo>
                <a:lnTo>
                  <a:pt x="1220" y="35"/>
                </a:lnTo>
                <a:lnTo>
                  <a:pt x="1233" y="35"/>
                </a:lnTo>
                <a:lnTo>
                  <a:pt x="1224" y="37"/>
                </a:lnTo>
                <a:lnTo>
                  <a:pt x="1216" y="38"/>
                </a:lnTo>
                <a:lnTo>
                  <a:pt x="1207" y="40"/>
                </a:lnTo>
                <a:lnTo>
                  <a:pt x="1199" y="44"/>
                </a:lnTo>
                <a:lnTo>
                  <a:pt x="1190" y="44"/>
                </a:lnTo>
                <a:lnTo>
                  <a:pt x="1182" y="48"/>
                </a:lnTo>
                <a:lnTo>
                  <a:pt x="1173" y="48"/>
                </a:lnTo>
                <a:lnTo>
                  <a:pt x="1165" y="50"/>
                </a:lnTo>
                <a:lnTo>
                  <a:pt x="1155" y="52"/>
                </a:lnTo>
                <a:lnTo>
                  <a:pt x="1146" y="52"/>
                </a:lnTo>
                <a:lnTo>
                  <a:pt x="1136" y="54"/>
                </a:lnTo>
                <a:lnTo>
                  <a:pt x="1129" y="56"/>
                </a:lnTo>
                <a:lnTo>
                  <a:pt x="1119" y="56"/>
                </a:lnTo>
                <a:lnTo>
                  <a:pt x="1110" y="57"/>
                </a:lnTo>
                <a:lnTo>
                  <a:pt x="1100" y="57"/>
                </a:lnTo>
                <a:lnTo>
                  <a:pt x="1093" y="59"/>
                </a:lnTo>
                <a:lnTo>
                  <a:pt x="1083" y="59"/>
                </a:lnTo>
                <a:lnTo>
                  <a:pt x="1074" y="61"/>
                </a:lnTo>
                <a:lnTo>
                  <a:pt x="1064" y="61"/>
                </a:lnTo>
                <a:lnTo>
                  <a:pt x="1055" y="61"/>
                </a:lnTo>
                <a:lnTo>
                  <a:pt x="1045" y="61"/>
                </a:lnTo>
                <a:lnTo>
                  <a:pt x="1036" y="63"/>
                </a:lnTo>
                <a:lnTo>
                  <a:pt x="1026" y="63"/>
                </a:lnTo>
                <a:lnTo>
                  <a:pt x="1017" y="63"/>
                </a:lnTo>
                <a:lnTo>
                  <a:pt x="1007" y="63"/>
                </a:lnTo>
                <a:lnTo>
                  <a:pt x="998" y="63"/>
                </a:lnTo>
                <a:lnTo>
                  <a:pt x="988" y="63"/>
                </a:lnTo>
                <a:lnTo>
                  <a:pt x="979" y="65"/>
                </a:lnTo>
                <a:lnTo>
                  <a:pt x="969" y="65"/>
                </a:lnTo>
                <a:lnTo>
                  <a:pt x="960" y="67"/>
                </a:lnTo>
                <a:lnTo>
                  <a:pt x="950" y="67"/>
                </a:lnTo>
                <a:lnTo>
                  <a:pt x="943" y="67"/>
                </a:lnTo>
                <a:lnTo>
                  <a:pt x="933" y="67"/>
                </a:lnTo>
                <a:lnTo>
                  <a:pt x="924" y="67"/>
                </a:lnTo>
                <a:lnTo>
                  <a:pt x="914" y="67"/>
                </a:lnTo>
                <a:lnTo>
                  <a:pt x="905" y="69"/>
                </a:lnTo>
                <a:lnTo>
                  <a:pt x="895" y="69"/>
                </a:lnTo>
                <a:lnTo>
                  <a:pt x="885" y="69"/>
                </a:lnTo>
                <a:lnTo>
                  <a:pt x="876" y="71"/>
                </a:lnTo>
                <a:lnTo>
                  <a:pt x="866" y="71"/>
                </a:lnTo>
                <a:lnTo>
                  <a:pt x="857" y="71"/>
                </a:lnTo>
                <a:lnTo>
                  <a:pt x="847" y="73"/>
                </a:lnTo>
                <a:lnTo>
                  <a:pt x="838" y="73"/>
                </a:lnTo>
                <a:lnTo>
                  <a:pt x="830" y="75"/>
                </a:lnTo>
                <a:lnTo>
                  <a:pt x="821" y="77"/>
                </a:lnTo>
                <a:lnTo>
                  <a:pt x="811" y="78"/>
                </a:lnTo>
                <a:lnTo>
                  <a:pt x="804" y="78"/>
                </a:lnTo>
                <a:lnTo>
                  <a:pt x="794" y="82"/>
                </a:lnTo>
                <a:lnTo>
                  <a:pt x="785" y="82"/>
                </a:lnTo>
                <a:lnTo>
                  <a:pt x="777" y="86"/>
                </a:lnTo>
                <a:lnTo>
                  <a:pt x="768" y="86"/>
                </a:lnTo>
                <a:lnTo>
                  <a:pt x="762" y="90"/>
                </a:lnTo>
                <a:lnTo>
                  <a:pt x="752" y="92"/>
                </a:lnTo>
                <a:lnTo>
                  <a:pt x="745" y="96"/>
                </a:lnTo>
                <a:lnTo>
                  <a:pt x="737" y="97"/>
                </a:lnTo>
                <a:lnTo>
                  <a:pt x="730" y="101"/>
                </a:lnTo>
                <a:lnTo>
                  <a:pt x="720" y="105"/>
                </a:lnTo>
                <a:lnTo>
                  <a:pt x="714" y="107"/>
                </a:lnTo>
                <a:lnTo>
                  <a:pt x="707" y="111"/>
                </a:lnTo>
                <a:lnTo>
                  <a:pt x="699" y="115"/>
                </a:lnTo>
                <a:lnTo>
                  <a:pt x="692" y="118"/>
                </a:lnTo>
                <a:lnTo>
                  <a:pt x="686" y="124"/>
                </a:lnTo>
                <a:lnTo>
                  <a:pt x="680" y="128"/>
                </a:lnTo>
                <a:lnTo>
                  <a:pt x="673" y="134"/>
                </a:lnTo>
                <a:lnTo>
                  <a:pt x="671" y="132"/>
                </a:lnTo>
                <a:lnTo>
                  <a:pt x="674" y="122"/>
                </a:lnTo>
                <a:lnTo>
                  <a:pt x="684" y="115"/>
                </a:lnTo>
                <a:lnTo>
                  <a:pt x="692" y="105"/>
                </a:lnTo>
                <a:lnTo>
                  <a:pt x="697" y="96"/>
                </a:lnTo>
                <a:lnTo>
                  <a:pt x="686" y="92"/>
                </a:lnTo>
                <a:lnTo>
                  <a:pt x="676" y="92"/>
                </a:lnTo>
                <a:lnTo>
                  <a:pt x="667" y="92"/>
                </a:lnTo>
                <a:lnTo>
                  <a:pt x="657" y="92"/>
                </a:lnTo>
                <a:lnTo>
                  <a:pt x="648" y="92"/>
                </a:lnTo>
                <a:lnTo>
                  <a:pt x="638" y="96"/>
                </a:lnTo>
                <a:lnTo>
                  <a:pt x="629" y="96"/>
                </a:lnTo>
                <a:lnTo>
                  <a:pt x="621" y="99"/>
                </a:lnTo>
                <a:lnTo>
                  <a:pt x="612" y="101"/>
                </a:lnTo>
                <a:lnTo>
                  <a:pt x="604" y="105"/>
                </a:lnTo>
                <a:lnTo>
                  <a:pt x="595" y="107"/>
                </a:lnTo>
                <a:lnTo>
                  <a:pt x="587" y="113"/>
                </a:lnTo>
                <a:lnTo>
                  <a:pt x="578" y="116"/>
                </a:lnTo>
                <a:lnTo>
                  <a:pt x="570" y="122"/>
                </a:lnTo>
                <a:lnTo>
                  <a:pt x="562" y="126"/>
                </a:lnTo>
                <a:lnTo>
                  <a:pt x="555" y="132"/>
                </a:lnTo>
                <a:lnTo>
                  <a:pt x="558" y="124"/>
                </a:lnTo>
                <a:lnTo>
                  <a:pt x="560" y="118"/>
                </a:lnTo>
                <a:lnTo>
                  <a:pt x="564" y="113"/>
                </a:lnTo>
                <a:lnTo>
                  <a:pt x="568" y="105"/>
                </a:lnTo>
                <a:lnTo>
                  <a:pt x="574" y="94"/>
                </a:lnTo>
                <a:lnTo>
                  <a:pt x="578" y="84"/>
                </a:lnTo>
                <a:lnTo>
                  <a:pt x="579" y="73"/>
                </a:lnTo>
                <a:lnTo>
                  <a:pt x="583" y="67"/>
                </a:lnTo>
                <a:lnTo>
                  <a:pt x="583" y="59"/>
                </a:lnTo>
                <a:lnTo>
                  <a:pt x="583" y="56"/>
                </a:lnTo>
                <a:lnTo>
                  <a:pt x="579" y="52"/>
                </a:lnTo>
                <a:lnTo>
                  <a:pt x="576" y="50"/>
                </a:lnTo>
                <a:lnTo>
                  <a:pt x="568" y="50"/>
                </a:lnTo>
                <a:lnTo>
                  <a:pt x="560" y="52"/>
                </a:lnTo>
                <a:lnTo>
                  <a:pt x="555" y="54"/>
                </a:lnTo>
                <a:lnTo>
                  <a:pt x="549" y="57"/>
                </a:lnTo>
                <a:lnTo>
                  <a:pt x="543" y="59"/>
                </a:lnTo>
                <a:lnTo>
                  <a:pt x="538" y="63"/>
                </a:lnTo>
                <a:lnTo>
                  <a:pt x="530" y="69"/>
                </a:lnTo>
                <a:lnTo>
                  <a:pt x="522" y="73"/>
                </a:lnTo>
                <a:lnTo>
                  <a:pt x="513" y="80"/>
                </a:lnTo>
                <a:lnTo>
                  <a:pt x="505" y="88"/>
                </a:lnTo>
                <a:lnTo>
                  <a:pt x="498" y="92"/>
                </a:lnTo>
                <a:lnTo>
                  <a:pt x="492" y="97"/>
                </a:lnTo>
                <a:lnTo>
                  <a:pt x="484" y="103"/>
                </a:lnTo>
                <a:lnTo>
                  <a:pt x="479" y="107"/>
                </a:lnTo>
                <a:lnTo>
                  <a:pt x="471" y="111"/>
                </a:lnTo>
                <a:lnTo>
                  <a:pt x="463" y="115"/>
                </a:lnTo>
                <a:lnTo>
                  <a:pt x="456" y="116"/>
                </a:lnTo>
                <a:lnTo>
                  <a:pt x="450" y="122"/>
                </a:lnTo>
                <a:lnTo>
                  <a:pt x="448" y="118"/>
                </a:lnTo>
                <a:lnTo>
                  <a:pt x="448" y="111"/>
                </a:lnTo>
                <a:lnTo>
                  <a:pt x="450" y="105"/>
                </a:lnTo>
                <a:lnTo>
                  <a:pt x="452" y="97"/>
                </a:lnTo>
                <a:lnTo>
                  <a:pt x="458" y="94"/>
                </a:lnTo>
                <a:lnTo>
                  <a:pt x="463" y="88"/>
                </a:lnTo>
                <a:lnTo>
                  <a:pt x="469" y="82"/>
                </a:lnTo>
                <a:lnTo>
                  <a:pt x="477" y="78"/>
                </a:lnTo>
                <a:lnTo>
                  <a:pt x="482" y="75"/>
                </a:lnTo>
                <a:lnTo>
                  <a:pt x="488" y="69"/>
                </a:lnTo>
                <a:lnTo>
                  <a:pt x="494" y="65"/>
                </a:lnTo>
                <a:lnTo>
                  <a:pt x="500" y="59"/>
                </a:lnTo>
                <a:lnTo>
                  <a:pt x="505" y="56"/>
                </a:lnTo>
                <a:lnTo>
                  <a:pt x="509" y="50"/>
                </a:lnTo>
                <a:lnTo>
                  <a:pt x="513" y="44"/>
                </a:lnTo>
                <a:lnTo>
                  <a:pt x="515" y="40"/>
                </a:lnTo>
                <a:lnTo>
                  <a:pt x="515" y="35"/>
                </a:lnTo>
                <a:lnTo>
                  <a:pt x="509" y="35"/>
                </a:lnTo>
                <a:lnTo>
                  <a:pt x="503" y="38"/>
                </a:lnTo>
                <a:lnTo>
                  <a:pt x="496" y="40"/>
                </a:lnTo>
                <a:lnTo>
                  <a:pt x="490" y="42"/>
                </a:lnTo>
                <a:lnTo>
                  <a:pt x="484" y="44"/>
                </a:lnTo>
                <a:lnTo>
                  <a:pt x="479" y="46"/>
                </a:lnTo>
                <a:lnTo>
                  <a:pt x="471" y="50"/>
                </a:lnTo>
                <a:lnTo>
                  <a:pt x="467" y="52"/>
                </a:lnTo>
                <a:lnTo>
                  <a:pt x="456" y="57"/>
                </a:lnTo>
                <a:lnTo>
                  <a:pt x="444" y="63"/>
                </a:lnTo>
                <a:lnTo>
                  <a:pt x="433" y="71"/>
                </a:lnTo>
                <a:lnTo>
                  <a:pt x="422" y="78"/>
                </a:lnTo>
                <a:lnTo>
                  <a:pt x="410" y="86"/>
                </a:lnTo>
                <a:lnTo>
                  <a:pt x="401" y="94"/>
                </a:lnTo>
                <a:lnTo>
                  <a:pt x="389" y="101"/>
                </a:lnTo>
                <a:lnTo>
                  <a:pt x="380" y="111"/>
                </a:lnTo>
                <a:lnTo>
                  <a:pt x="368" y="120"/>
                </a:lnTo>
                <a:lnTo>
                  <a:pt x="359" y="130"/>
                </a:lnTo>
                <a:lnTo>
                  <a:pt x="355" y="135"/>
                </a:lnTo>
                <a:lnTo>
                  <a:pt x="349" y="141"/>
                </a:lnTo>
                <a:lnTo>
                  <a:pt x="346" y="147"/>
                </a:lnTo>
                <a:lnTo>
                  <a:pt x="340" y="153"/>
                </a:lnTo>
                <a:lnTo>
                  <a:pt x="338" y="143"/>
                </a:lnTo>
                <a:lnTo>
                  <a:pt x="338" y="135"/>
                </a:lnTo>
                <a:lnTo>
                  <a:pt x="338" y="126"/>
                </a:lnTo>
                <a:lnTo>
                  <a:pt x="342" y="118"/>
                </a:lnTo>
                <a:lnTo>
                  <a:pt x="346" y="111"/>
                </a:lnTo>
                <a:lnTo>
                  <a:pt x="351" y="103"/>
                </a:lnTo>
                <a:lnTo>
                  <a:pt x="357" y="96"/>
                </a:lnTo>
                <a:lnTo>
                  <a:pt x="366" y="88"/>
                </a:lnTo>
                <a:lnTo>
                  <a:pt x="372" y="80"/>
                </a:lnTo>
                <a:lnTo>
                  <a:pt x="382" y="73"/>
                </a:lnTo>
                <a:lnTo>
                  <a:pt x="389" y="67"/>
                </a:lnTo>
                <a:lnTo>
                  <a:pt x="399" y="61"/>
                </a:lnTo>
                <a:lnTo>
                  <a:pt x="408" y="54"/>
                </a:lnTo>
                <a:lnTo>
                  <a:pt x="416" y="48"/>
                </a:lnTo>
                <a:lnTo>
                  <a:pt x="424" y="42"/>
                </a:lnTo>
                <a:lnTo>
                  <a:pt x="431" y="40"/>
                </a:lnTo>
                <a:lnTo>
                  <a:pt x="424" y="40"/>
                </a:lnTo>
                <a:lnTo>
                  <a:pt x="418" y="42"/>
                </a:lnTo>
                <a:lnTo>
                  <a:pt x="410" y="42"/>
                </a:lnTo>
                <a:lnTo>
                  <a:pt x="405" y="44"/>
                </a:lnTo>
                <a:lnTo>
                  <a:pt x="397" y="44"/>
                </a:lnTo>
                <a:lnTo>
                  <a:pt x="389" y="46"/>
                </a:lnTo>
                <a:lnTo>
                  <a:pt x="384" y="48"/>
                </a:lnTo>
                <a:lnTo>
                  <a:pt x="376" y="50"/>
                </a:lnTo>
                <a:lnTo>
                  <a:pt x="368" y="50"/>
                </a:lnTo>
                <a:lnTo>
                  <a:pt x="363" y="52"/>
                </a:lnTo>
                <a:lnTo>
                  <a:pt x="355" y="52"/>
                </a:lnTo>
                <a:lnTo>
                  <a:pt x="349" y="54"/>
                </a:lnTo>
                <a:lnTo>
                  <a:pt x="342" y="54"/>
                </a:lnTo>
                <a:lnTo>
                  <a:pt x="336" y="56"/>
                </a:lnTo>
                <a:lnTo>
                  <a:pt x="328" y="57"/>
                </a:lnTo>
                <a:lnTo>
                  <a:pt x="323" y="59"/>
                </a:lnTo>
                <a:lnTo>
                  <a:pt x="315" y="59"/>
                </a:lnTo>
                <a:lnTo>
                  <a:pt x="309" y="59"/>
                </a:lnTo>
                <a:lnTo>
                  <a:pt x="302" y="61"/>
                </a:lnTo>
                <a:lnTo>
                  <a:pt x="294" y="61"/>
                </a:lnTo>
                <a:lnTo>
                  <a:pt x="289" y="63"/>
                </a:lnTo>
                <a:lnTo>
                  <a:pt x="281" y="63"/>
                </a:lnTo>
                <a:lnTo>
                  <a:pt x="275" y="65"/>
                </a:lnTo>
                <a:lnTo>
                  <a:pt x="270" y="67"/>
                </a:lnTo>
                <a:lnTo>
                  <a:pt x="262" y="67"/>
                </a:lnTo>
                <a:lnTo>
                  <a:pt x="254" y="67"/>
                </a:lnTo>
                <a:lnTo>
                  <a:pt x="247" y="67"/>
                </a:lnTo>
                <a:lnTo>
                  <a:pt x="241" y="69"/>
                </a:lnTo>
                <a:lnTo>
                  <a:pt x="233" y="69"/>
                </a:lnTo>
                <a:lnTo>
                  <a:pt x="228" y="69"/>
                </a:lnTo>
                <a:lnTo>
                  <a:pt x="220" y="71"/>
                </a:lnTo>
                <a:lnTo>
                  <a:pt x="214" y="71"/>
                </a:lnTo>
                <a:lnTo>
                  <a:pt x="207" y="71"/>
                </a:lnTo>
                <a:lnTo>
                  <a:pt x="201" y="71"/>
                </a:lnTo>
                <a:lnTo>
                  <a:pt x="193" y="71"/>
                </a:lnTo>
                <a:lnTo>
                  <a:pt x="188" y="71"/>
                </a:lnTo>
                <a:lnTo>
                  <a:pt x="180" y="71"/>
                </a:lnTo>
                <a:lnTo>
                  <a:pt x="173" y="71"/>
                </a:lnTo>
                <a:lnTo>
                  <a:pt x="167" y="71"/>
                </a:lnTo>
                <a:lnTo>
                  <a:pt x="161" y="71"/>
                </a:lnTo>
                <a:lnTo>
                  <a:pt x="154" y="71"/>
                </a:lnTo>
                <a:lnTo>
                  <a:pt x="146" y="69"/>
                </a:lnTo>
                <a:lnTo>
                  <a:pt x="140" y="69"/>
                </a:lnTo>
                <a:lnTo>
                  <a:pt x="133" y="69"/>
                </a:lnTo>
                <a:lnTo>
                  <a:pt x="125" y="67"/>
                </a:lnTo>
                <a:lnTo>
                  <a:pt x="119" y="67"/>
                </a:lnTo>
                <a:lnTo>
                  <a:pt x="114" y="65"/>
                </a:lnTo>
                <a:lnTo>
                  <a:pt x="106" y="65"/>
                </a:lnTo>
                <a:lnTo>
                  <a:pt x="98" y="63"/>
                </a:lnTo>
                <a:lnTo>
                  <a:pt x="93" y="61"/>
                </a:lnTo>
                <a:lnTo>
                  <a:pt x="85" y="59"/>
                </a:lnTo>
                <a:lnTo>
                  <a:pt x="79" y="59"/>
                </a:lnTo>
                <a:lnTo>
                  <a:pt x="72" y="57"/>
                </a:lnTo>
                <a:lnTo>
                  <a:pt x="66" y="54"/>
                </a:lnTo>
                <a:lnTo>
                  <a:pt x="58" y="52"/>
                </a:lnTo>
                <a:lnTo>
                  <a:pt x="53" y="52"/>
                </a:lnTo>
                <a:lnTo>
                  <a:pt x="45" y="48"/>
                </a:lnTo>
                <a:lnTo>
                  <a:pt x="39" y="46"/>
                </a:lnTo>
                <a:lnTo>
                  <a:pt x="32" y="44"/>
                </a:lnTo>
                <a:lnTo>
                  <a:pt x="24" y="42"/>
                </a:lnTo>
                <a:lnTo>
                  <a:pt x="19" y="38"/>
                </a:lnTo>
                <a:lnTo>
                  <a:pt x="13" y="35"/>
                </a:lnTo>
                <a:lnTo>
                  <a:pt x="5" y="33"/>
                </a:lnTo>
                <a:lnTo>
                  <a:pt x="0" y="31"/>
                </a:lnTo>
                <a:lnTo>
                  <a:pt x="5" y="31"/>
                </a:lnTo>
                <a:lnTo>
                  <a:pt x="13" y="31"/>
                </a:lnTo>
                <a:lnTo>
                  <a:pt x="20" y="31"/>
                </a:lnTo>
                <a:lnTo>
                  <a:pt x="26" y="31"/>
                </a:lnTo>
                <a:lnTo>
                  <a:pt x="34" y="31"/>
                </a:lnTo>
                <a:lnTo>
                  <a:pt x="41" y="31"/>
                </a:lnTo>
                <a:lnTo>
                  <a:pt x="49" y="31"/>
                </a:lnTo>
                <a:lnTo>
                  <a:pt x="57" y="33"/>
                </a:lnTo>
                <a:lnTo>
                  <a:pt x="62" y="33"/>
                </a:lnTo>
                <a:lnTo>
                  <a:pt x="70" y="33"/>
                </a:lnTo>
                <a:lnTo>
                  <a:pt x="78" y="33"/>
                </a:lnTo>
                <a:lnTo>
                  <a:pt x="85" y="33"/>
                </a:lnTo>
                <a:lnTo>
                  <a:pt x="91" y="33"/>
                </a:lnTo>
                <a:lnTo>
                  <a:pt x="98" y="35"/>
                </a:lnTo>
                <a:lnTo>
                  <a:pt x="106" y="35"/>
                </a:lnTo>
                <a:lnTo>
                  <a:pt x="114" y="37"/>
                </a:lnTo>
                <a:lnTo>
                  <a:pt x="119" y="37"/>
                </a:lnTo>
                <a:lnTo>
                  <a:pt x="125" y="37"/>
                </a:lnTo>
                <a:lnTo>
                  <a:pt x="133" y="37"/>
                </a:lnTo>
                <a:lnTo>
                  <a:pt x="140" y="38"/>
                </a:lnTo>
                <a:lnTo>
                  <a:pt x="146" y="38"/>
                </a:lnTo>
                <a:lnTo>
                  <a:pt x="154" y="38"/>
                </a:lnTo>
                <a:lnTo>
                  <a:pt x="161" y="38"/>
                </a:lnTo>
                <a:lnTo>
                  <a:pt x="169" y="40"/>
                </a:lnTo>
                <a:lnTo>
                  <a:pt x="174" y="40"/>
                </a:lnTo>
                <a:lnTo>
                  <a:pt x="180" y="40"/>
                </a:lnTo>
                <a:lnTo>
                  <a:pt x="188" y="40"/>
                </a:lnTo>
                <a:lnTo>
                  <a:pt x="195" y="40"/>
                </a:lnTo>
                <a:lnTo>
                  <a:pt x="201" y="40"/>
                </a:lnTo>
                <a:lnTo>
                  <a:pt x="209" y="42"/>
                </a:lnTo>
                <a:lnTo>
                  <a:pt x="216" y="42"/>
                </a:lnTo>
                <a:lnTo>
                  <a:pt x="224" y="42"/>
                </a:lnTo>
                <a:lnTo>
                  <a:pt x="230" y="42"/>
                </a:lnTo>
                <a:lnTo>
                  <a:pt x="235" y="42"/>
                </a:lnTo>
                <a:lnTo>
                  <a:pt x="243" y="42"/>
                </a:lnTo>
                <a:lnTo>
                  <a:pt x="251" y="42"/>
                </a:lnTo>
                <a:lnTo>
                  <a:pt x="256" y="40"/>
                </a:lnTo>
                <a:lnTo>
                  <a:pt x="262" y="40"/>
                </a:lnTo>
                <a:lnTo>
                  <a:pt x="270" y="40"/>
                </a:lnTo>
                <a:lnTo>
                  <a:pt x="275" y="40"/>
                </a:lnTo>
                <a:lnTo>
                  <a:pt x="283" y="40"/>
                </a:lnTo>
                <a:lnTo>
                  <a:pt x="289" y="38"/>
                </a:lnTo>
                <a:lnTo>
                  <a:pt x="294" y="38"/>
                </a:lnTo>
                <a:lnTo>
                  <a:pt x="302" y="38"/>
                </a:lnTo>
                <a:lnTo>
                  <a:pt x="309" y="37"/>
                </a:lnTo>
                <a:lnTo>
                  <a:pt x="317" y="35"/>
                </a:lnTo>
                <a:lnTo>
                  <a:pt x="323" y="35"/>
                </a:lnTo>
                <a:lnTo>
                  <a:pt x="330" y="35"/>
                </a:lnTo>
                <a:lnTo>
                  <a:pt x="336" y="33"/>
                </a:lnTo>
                <a:lnTo>
                  <a:pt x="344" y="31"/>
                </a:lnTo>
                <a:lnTo>
                  <a:pt x="349" y="29"/>
                </a:lnTo>
                <a:lnTo>
                  <a:pt x="357" y="27"/>
                </a:lnTo>
                <a:lnTo>
                  <a:pt x="363" y="25"/>
                </a:lnTo>
                <a:lnTo>
                  <a:pt x="368" y="23"/>
                </a:lnTo>
                <a:lnTo>
                  <a:pt x="376" y="21"/>
                </a:lnTo>
                <a:lnTo>
                  <a:pt x="384" y="21"/>
                </a:lnTo>
                <a:lnTo>
                  <a:pt x="389" y="18"/>
                </a:lnTo>
                <a:lnTo>
                  <a:pt x="395" y="16"/>
                </a:lnTo>
                <a:lnTo>
                  <a:pt x="403" y="14"/>
                </a:lnTo>
                <a:lnTo>
                  <a:pt x="410" y="12"/>
                </a:lnTo>
                <a:lnTo>
                  <a:pt x="416" y="8"/>
                </a:lnTo>
                <a:lnTo>
                  <a:pt x="424" y="6"/>
                </a:lnTo>
                <a:lnTo>
                  <a:pt x="429" y="2"/>
                </a:lnTo>
                <a:lnTo>
                  <a:pt x="437" y="0"/>
                </a:lnTo>
                <a:lnTo>
                  <a:pt x="4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7120" y="4078440"/>
            <a:ext cx="1078200" cy="1198440"/>
          </a:xfrm>
          <a:custGeom>
            <a:avLst/>
            <a:gdLst/>
            <a:ahLst/>
            <a:rect l="l" t="t" r="r" b="b"/>
            <a:pathLst>
              <a:path w="1358" h="1509">
                <a:moveTo>
                  <a:pt x="993" y="2"/>
                </a:moveTo>
                <a:lnTo>
                  <a:pt x="1000" y="0"/>
                </a:lnTo>
                <a:lnTo>
                  <a:pt x="1006" y="0"/>
                </a:lnTo>
                <a:lnTo>
                  <a:pt x="1013" y="0"/>
                </a:lnTo>
                <a:lnTo>
                  <a:pt x="1023" y="0"/>
                </a:lnTo>
                <a:lnTo>
                  <a:pt x="1031" y="0"/>
                </a:lnTo>
                <a:lnTo>
                  <a:pt x="1038" y="0"/>
                </a:lnTo>
                <a:lnTo>
                  <a:pt x="1046" y="0"/>
                </a:lnTo>
                <a:lnTo>
                  <a:pt x="1055" y="0"/>
                </a:lnTo>
                <a:lnTo>
                  <a:pt x="1061" y="0"/>
                </a:lnTo>
                <a:lnTo>
                  <a:pt x="1069" y="0"/>
                </a:lnTo>
                <a:lnTo>
                  <a:pt x="1076" y="0"/>
                </a:lnTo>
                <a:lnTo>
                  <a:pt x="1086" y="2"/>
                </a:lnTo>
                <a:lnTo>
                  <a:pt x="1093" y="2"/>
                </a:lnTo>
                <a:lnTo>
                  <a:pt x="1101" y="5"/>
                </a:lnTo>
                <a:lnTo>
                  <a:pt x="1108" y="5"/>
                </a:lnTo>
                <a:lnTo>
                  <a:pt x="1116" y="9"/>
                </a:lnTo>
                <a:lnTo>
                  <a:pt x="1124" y="9"/>
                </a:lnTo>
                <a:lnTo>
                  <a:pt x="1131" y="11"/>
                </a:lnTo>
                <a:lnTo>
                  <a:pt x="1137" y="15"/>
                </a:lnTo>
                <a:lnTo>
                  <a:pt x="1145" y="17"/>
                </a:lnTo>
                <a:lnTo>
                  <a:pt x="1150" y="21"/>
                </a:lnTo>
                <a:lnTo>
                  <a:pt x="1158" y="24"/>
                </a:lnTo>
                <a:lnTo>
                  <a:pt x="1164" y="26"/>
                </a:lnTo>
                <a:lnTo>
                  <a:pt x="1169" y="32"/>
                </a:lnTo>
                <a:lnTo>
                  <a:pt x="1179" y="40"/>
                </a:lnTo>
                <a:lnTo>
                  <a:pt x="1190" y="53"/>
                </a:lnTo>
                <a:lnTo>
                  <a:pt x="1194" y="59"/>
                </a:lnTo>
                <a:lnTo>
                  <a:pt x="1198" y="64"/>
                </a:lnTo>
                <a:lnTo>
                  <a:pt x="1202" y="72"/>
                </a:lnTo>
                <a:lnTo>
                  <a:pt x="1205" y="82"/>
                </a:lnTo>
                <a:lnTo>
                  <a:pt x="1194" y="72"/>
                </a:lnTo>
                <a:lnTo>
                  <a:pt x="1186" y="64"/>
                </a:lnTo>
                <a:lnTo>
                  <a:pt x="1177" y="59"/>
                </a:lnTo>
                <a:lnTo>
                  <a:pt x="1169" y="55"/>
                </a:lnTo>
                <a:lnTo>
                  <a:pt x="1164" y="51"/>
                </a:lnTo>
                <a:lnTo>
                  <a:pt x="1158" y="49"/>
                </a:lnTo>
                <a:lnTo>
                  <a:pt x="1154" y="47"/>
                </a:lnTo>
                <a:lnTo>
                  <a:pt x="1152" y="49"/>
                </a:lnTo>
                <a:lnTo>
                  <a:pt x="1148" y="51"/>
                </a:lnTo>
                <a:lnTo>
                  <a:pt x="1147" y="57"/>
                </a:lnTo>
                <a:lnTo>
                  <a:pt x="1148" y="64"/>
                </a:lnTo>
                <a:lnTo>
                  <a:pt x="1154" y="74"/>
                </a:lnTo>
                <a:lnTo>
                  <a:pt x="1160" y="83"/>
                </a:lnTo>
                <a:lnTo>
                  <a:pt x="1169" y="97"/>
                </a:lnTo>
                <a:lnTo>
                  <a:pt x="1175" y="101"/>
                </a:lnTo>
                <a:lnTo>
                  <a:pt x="1181" y="106"/>
                </a:lnTo>
                <a:lnTo>
                  <a:pt x="1186" y="112"/>
                </a:lnTo>
                <a:lnTo>
                  <a:pt x="1194" y="118"/>
                </a:lnTo>
                <a:lnTo>
                  <a:pt x="1200" y="121"/>
                </a:lnTo>
                <a:lnTo>
                  <a:pt x="1207" y="127"/>
                </a:lnTo>
                <a:lnTo>
                  <a:pt x="1215" y="131"/>
                </a:lnTo>
                <a:lnTo>
                  <a:pt x="1223" y="137"/>
                </a:lnTo>
                <a:lnTo>
                  <a:pt x="1230" y="139"/>
                </a:lnTo>
                <a:lnTo>
                  <a:pt x="1238" y="142"/>
                </a:lnTo>
                <a:lnTo>
                  <a:pt x="1245" y="144"/>
                </a:lnTo>
                <a:lnTo>
                  <a:pt x="1255" y="146"/>
                </a:lnTo>
                <a:lnTo>
                  <a:pt x="1262" y="148"/>
                </a:lnTo>
                <a:lnTo>
                  <a:pt x="1272" y="154"/>
                </a:lnTo>
                <a:lnTo>
                  <a:pt x="1280" y="161"/>
                </a:lnTo>
                <a:lnTo>
                  <a:pt x="1287" y="167"/>
                </a:lnTo>
                <a:lnTo>
                  <a:pt x="1293" y="175"/>
                </a:lnTo>
                <a:lnTo>
                  <a:pt x="1302" y="182"/>
                </a:lnTo>
                <a:lnTo>
                  <a:pt x="1310" y="188"/>
                </a:lnTo>
                <a:lnTo>
                  <a:pt x="1318" y="196"/>
                </a:lnTo>
                <a:lnTo>
                  <a:pt x="1310" y="192"/>
                </a:lnTo>
                <a:lnTo>
                  <a:pt x="1300" y="190"/>
                </a:lnTo>
                <a:lnTo>
                  <a:pt x="1293" y="184"/>
                </a:lnTo>
                <a:lnTo>
                  <a:pt x="1285" y="180"/>
                </a:lnTo>
                <a:lnTo>
                  <a:pt x="1276" y="175"/>
                </a:lnTo>
                <a:lnTo>
                  <a:pt x="1268" y="171"/>
                </a:lnTo>
                <a:lnTo>
                  <a:pt x="1259" y="165"/>
                </a:lnTo>
                <a:lnTo>
                  <a:pt x="1251" y="161"/>
                </a:lnTo>
                <a:lnTo>
                  <a:pt x="1242" y="156"/>
                </a:lnTo>
                <a:lnTo>
                  <a:pt x="1232" y="152"/>
                </a:lnTo>
                <a:lnTo>
                  <a:pt x="1223" y="146"/>
                </a:lnTo>
                <a:lnTo>
                  <a:pt x="1213" y="142"/>
                </a:lnTo>
                <a:lnTo>
                  <a:pt x="1204" y="139"/>
                </a:lnTo>
                <a:lnTo>
                  <a:pt x="1196" y="135"/>
                </a:lnTo>
                <a:lnTo>
                  <a:pt x="1186" y="131"/>
                </a:lnTo>
                <a:lnTo>
                  <a:pt x="1177" y="131"/>
                </a:lnTo>
                <a:lnTo>
                  <a:pt x="1171" y="137"/>
                </a:lnTo>
                <a:lnTo>
                  <a:pt x="1169" y="144"/>
                </a:lnTo>
                <a:lnTo>
                  <a:pt x="1171" y="152"/>
                </a:lnTo>
                <a:lnTo>
                  <a:pt x="1173" y="158"/>
                </a:lnTo>
                <a:lnTo>
                  <a:pt x="1177" y="165"/>
                </a:lnTo>
                <a:lnTo>
                  <a:pt x="1181" y="173"/>
                </a:lnTo>
                <a:lnTo>
                  <a:pt x="1183" y="180"/>
                </a:lnTo>
                <a:lnTo>
                  <a:pt x="1185" y="188"/>
                </a:lnTo>
                <a:lnTo>
                  <a:pt x="1190" y="188"/>
                </a:lnTo>
                <a:lnTo>
                  <a:pt x="1196" y="190"/>
                </a:lnTo>
                <a:lnTo>
                  <a:pt x="1204" y="192"/>
                </a:lnTo>
                <a:lnTo>
                  <a:pt x="1209" y="196"/>
                </a:lnTo>
                <a:lnTo>
                  <a:pt x="1219" y="203"/>
                </a:lnTo>
                <a:lnTo>
                  <a:pt x="1230" y="217"/>
                </a:lnTo>
                <a:lnTo>
                  <a:pt x="1234" y="220"/>
                </a:lnTo>
                <a:lnTo>
                  <a:pt x="1238" y="226"/>
                </a:lnTo>
                <a:lnTo>
                  <a:pt x="1243" y="232"/>
                </a:lnTo>
                <a:lnTo>
                  <a:pt x="1247" y="239"/>
                </a:lnTo>
                <a:lnTo>
                  <a:pt x="1251" y="245"/>
                </a:lnTo>
                <a:lnTo>
                  <a:pt x="1255" y="249"/>
                </a:lnTo>
                <a:lnTo>
                  <a:pt x="1259" y="255"/>
                </a:lnTo>
                <a:lnTo>
                  <a:pt x="1262" y="260"/>
                </a:lnTo>
                <a:lnTo>
                  <a:pt x="1261" y="264"/>
                </a:lnTo>
                <a:lnTo>
                  <a:pt x="1253" y="258"/>
                </a:lnTo>
                <a:lnTo>
                  <a:pt x="1245" y="253"/>
                </a:lnTo>
                <a:lnTo>
                  <a:pt x="1238" y="247"/>
                </a:lnTo>
                <a:lnTo>
                  <a:pt x="1232" y="241"/>
                </a:lnTo>
                <a:lnTo>
                  <a:pt x="1223" y="236"/>
                </a:lnTo>
                <a:lnTo>
                  <a:pt x="1215" y="230"/>
                </a:lnTo>
                <a:lnTo>
                  <a:pt x="1207" y="224"/>
                </a:lnTo>
                <a:lnTo>
                  <a:pt x="1202" y="218"/>
                </a:lnTo>
                <a:lnTo>
                  <a:pt x="1194" y="213"/>
                </a:lnTo>
                <a:lnTo>
                  <a:pt x="1186" y="209"/>
                </a:lnTo>
                <a:lnTo>
                  <a:pt x="1177" y="203"/>
                </a:lnTo>
                <a:lnTo>
                  <a:pt x="1169" y="199"/>
                </a:lnTo>
                <a:lnTo>
                  <a:pt x="1160" y="196"/>
                </a:lnTo>
                <a:lnTo>
                  <a:pt x="1152" y="192"/>
                </a:lnTo>
                <a:lnTo>
                  <a:pt x="1143" y="190"/>
                </a:lnTo>
                <a:lnTo>
                  <a:pt x="1135" y="188"/>
                </a:lnTo>
                <a:lnTo>
                  <a:pt x="1137" y="197"/>
                </a:lnTo>
                <a:lnTo>
                  <a:pt x="1143" y="207"/>
                </a:lnTo>
                <a:lnTo>
                  <a:pt x="1148" y="217"/>
                </a:lnTo>
                <a:lnTo>
                  <a:pt x="1154" y="226"/>
                </a:lnTo>
                <a:lnTo>
                  <a:pt x="1162" y="236"/>
                </a:lnTo>
                <a:lnTo>
                  <a:pt x="1169" y="245"/>
                </a:lnTo>
                <a:lnTo>
                  <a:pt x="1177" y="253"/>
                </a:lnTo>
                <a:lnTo>
                  <a:pt x="1186" y="262"/>
                </a:lnTo>
                <a:lnTo>
                  <a:pt x="1194" y="272"/>
                </a:lnTo>
                <a:lnTo>
                  <a:pt x="1204" y="279"/>
                </a:lnTo>
                <a:lnTo>
                  <a:pt x="1211" y="287"/>
                </a:lnTo>
                <a:lnTo>
                  <a:pt x="1219" y="298"/>
                </a:lnTo>
                <a:lnTo>
                  <a:pt x="1226" y="306"/>
                </a:lnTo>
                <a:lnTo>
                  <a:pt x="1234" y="315"/>
                </a:lnTo>
                <a:lnTo>
                  <a:pt x="1238" y="325"/>
                </a:lnTo>
                <a:lnTo>
                  <a:pt x="1245" y="336"/>
                </a:lnTo>
                <a:lnTo>
                  <a:pt x="1236" y="329"/>
                </a:lnTo>
                <a:lnTo>
                  <a:pt x="1228" y="321"/>
                </a:lnTo>
                <a:lnTo>
                  <a:pt x="1219" y="315"/>
                </a:lnTo>
                <a:lnTo>
                  <a:pt x="1213" y="312"/>
                </a:lnTo>
                <a:lnTo>
                  <a:pt x="1205" y="308"/>
                </a:lnTo>
                <a:lnTo>
                  <a:pt x="1198" y="304"/>
                </a:lnTo>
                <a:lnTo>
                  <a:pt x="1192" y="300"/>
                </a:lnTo>
                <a:lnTo>
                  <a:pt x="1186" y="300"/>
                </a:lnTo>
                <a:lnTo>
                  <a:pt x="1181" y="296"/>
                </a:lnTo>
                <a:lnTo>
                  <a:pt x="1175" y="294"/>
                </a:lnTo>
                <a:lnTo>
                  <a:pt x="1169" y="294"/>
                </a:lnTo>
                <a:lnTo>
                  <a:pt x="1167" y="294"/>
                </a:lnTo>
                <a:lnTo>
                  <a:pt x="1160" y="298"/>
                </a:lnTo>
                <a:lnTo>
                  <a:pt x="1154" y="302"/>
                </a:lnTo>
                <a:lnTo>
                  <a:pt x="1152" y="306"/>
                </a:lnTo>
                <a:lnTo>
                  <a:pt x="1152" y="313"/>
                </a:lnTo>
                <a:lnTo>
                  <a:pt x="1154" y="321"/>
                </a:lnTo>
                <a:lnTo>
                  <a:pt x="1160" y="331"/>
                </a:lnTo>
                <a:lnTo>
                  <a:pt x="1164" y="336"/>
                </a:lnTo>
                <a:lnTo>
                  <a:pt x="1167" y="342"/>
                </a:lnTo>
                <a:lnTo>
                  <a:pt x="1173" y="348"/>
                </a:lnTo>
                <a:lnTo>
                  <a:pt x="1179" y="355"/>
                </a:lnTo>
                <a:lnTo>
                  <a:pt x="1186" y="363"/>
                </a:lnTo>
                <a:lnTo>
                  <a:pt x="1194" y="369"/>
                </a:lnTo>
                <a:lnTo>
                  <a:pt x="1204" y="376"/>
                </a:lnTo>
                <a:lnTo>
                  <a:pt x="1213" y="384"/>
                </a:lnTo>
                <a:lnTo>
                  <a:pt x="1219" y="384"/>
                </a:lnTo>
                <a:lnTo>
                  <a:pt x="1226" y="388"/>
                </a:lnTo>
                <a:lnTo>
                  <a:pt x="1230" y="393"/>
                </a:lnTo>
                <a:lnTo>
                  <a:pt x="1234" y="399"/>
                </a:lnTo>
                <a:lnTo>
                  <a:pt x="1238" y="405"/>
                </a:lnTo>
                <a:lnTo>
                  <a:pt x="1242" y="412"/>
                </a:lnTo>
                <a:lnTo>
                  <a:pt x="1245" y="418"/>
                </a:lnTo>
                <a:lnTo>
                  <a:pt x="1251" y="424"/>
                </a:lnTo>
                <a:lnTo>
                  <a:pt x="1247" y="429"/>
                </a:lnTo>
                <a:lnTo>
                  <a:pt x="1242" y="426"/>
                </a:lnTo>
                <a:lnTo>
                  <a:pt x="1234" y="422"/>
                </a:lnTo>
                <a:lnTo>
                  <a:pt x="1228" y="418"/>
                </a:lnTo>
                <a:lnTo>
                  <a:pt x="1223" y="412"/>
                </a:lnTo>
                <a:lnTo>
                  <a:pt x="1211" y="405"/>
                </a:lnTo>
                <a:lnTo>
                  <a:pt x="1200" y="395"/>
                </a:lnTo>
                <a:lnTo>
                  <a:pt x="1194" y="391"/>
                </a:lnTo>
                <a:lnTo>
                  <a:pt x="1188" y="386"/>
                </a:lnTo>
                <a:lnTo>
                  <a:pt x="1183" y="382"/>
                </a:lnTo>
                <a:lnTo>
                  <a:pt x="1177" y="378"/>
                </a:lnTo>
                <a:lnTo>
                  <a:pt x="1171" y="374"/>
                </a:lnTo>
                <a:lnTo>
                  <a:pt x="1164" y="372"/>
                </a:lnTo>
                <a:lnTo>
                  <a:pt x="1158" y="369"/>
                </a:lnTo>
                <a:lnTo>
                  <a:pt x="1152" y="367"/>
                </a:lnTo>
                <a:lnTo>
                  <a:pt x="1145" y="376"/>
                </a:lnTo>
                <a:lnTo>
                  <a:pt x="1145" y="386"/>
                </a:lnTo>
                <a:lnTo>
                  <a:pt x="1150" y="393"/>
                </a:lnTo>
                <a:lnTo>
                  <a:pt x="1160" y="403"/>
                </a:lnTo>
                <a:lnTo>
                  <a:pt x="1164" y="405"/>
                </a:lnTo>
                <a:lnTo>
                  <a:pt x="1171" y="410"/>
                </a:lnTo>
                <a:lnTo>
                  <a:pt x="1177" y="412"/>
                </a:lnTo>
                <a:lnTo>
                  <a:pt x="1183" y="418"/>
                </a:lnTo>
                <a:lnTo>
                  <a:pt x="1194" y="428"/>
                </a:lnTo>
                <a:lnTo>
                  <a:pt x="1204" y="437"/>
                </a:lnTo>
                <a:lnTo>
                  <a:pt x="1198" y="439"/>
                </a:lnTo>
                <a:lnTo>
                  <a:pt x="1188" y="431"/>
                </a:lnTo>
                <a:lnTo>
                  <a:pt x="1179" y="424"/>
                </a:lnTo>
                <a:lnTo>
                  <a:pt x="1167" y="420"/>
                </a:lnTo>
                <a:lnTo>
                  <a:pt x="1158" y="414"/>
                </a:lnTo>
                <a:lnTo>
                  <a:pt x="1147" y="410"/>
                </a:lnTo>
                <a:lnTo>
                  <a:pt x="1135" y="407"/>
                </a:lnTo>
                <a:lnTo>
                  <a:pt x="1126" y="403"/>
                </a:lnTo>
                <a:lnTo>
                  <a:pt x="1116" y="397"/>
                </a:lnTo>
                <a:lnTo>
                  <a:pt x="1110" y="405"/>
                </a:lnTo>
                <a:lnTo>
                  <a:pt x="1105" y="412"/>
                </a:lnTo>
                <a:lnTo>
                  <a:pt x="1097" y="420"/>
                </a:lnTo>
                <a:lnTo>
                  <a:pt x="1093" y="428"/>
                </a:lnTo>
                <a:lnTo>
                  <a:pt x="1086" y="433"/>
                </a:lnTo>
                <a:lnTo>
                  <a:pt x="1080" y="441"/>
                </a:lnTo>
                <a:lnTo>
                  <a:pt x="1074" y="448"/>
                </a:lnTo>
                <a:lnTo>
                  <a:pt x="1070" y="458"/>
                </a:lnTo>
                <a:lnTo>
                  <a:pt x="1065" y="464"/>
                </a:lnTo>
                <a:lnTo>
                  <a:pt x="1059" y="473"/>
                </a:lnTo>
                <a:lnTo>
                  <a:pt x="1055" y="479"/>
                </a:lnTo>
                <a:lnTo>
                  <a:pt x="1051" y="486"/>
                </a:lnTo>
                <a:lnTo>
                  <a:pt x="1048" y="494"/>
                </a:lnTo>
                <a:lnTo>
                  <a:pt x="1046" y="502"/>
                </a:lnTo>
                <a:lnTo>
                  <a:pt x="1042" y="509"/>
                </a:lnTo>
                <a:lnTo>
                  <a:pt x="1042" y="517"/>
                </a:lnTo>
                <a:lnTo>
                  <a:pt x="1040" y="523"/>
                </a:lnTo>
                <a:lnTo>
                  <a:pt x="1040" y="530"/>
                </a:lnTo>
                <a:lnTo>
                  <a:pt x="1038" y="536"/>
                </a:lnTo>
                <a:lnTo>
                  <a:pt x="1040" y="542"/>
                </a:lnTo>
                <a:lnTo>
                  <a:pt x="1040" y="547"/>
                </a:lnTo>
                <a:lnTo>
                  <a:pt x="1044" y="555"/>
                </a:lnTo>
                <a:lnTo>
                  <a:pt x="1048" y="559"/>
                </a:lnTo>
                <a:lnTo>
                  <a:pt x="1051" y="564"/>
                </a:lnTo>
                <a:lnTo>
                  <a:pt x="1057" y="568"/>
                </a:lnTo>
                <a:lnTo>
                  <a:pt x="1063" y="574"/>
                </a:lnTo>
                <a:lnTo>
                  <a:pt x="1069" y="578"/>
                </a:lnTo>
                <a:lnTo>
                  <a:pt x="1078" y="583"/>
                </a:lnTo>
                <a:lnTo>
                  <a:pt x="1088" y="585"/>
                </a:lnTo>
                <a:lnTo>
                  <a:pt x="1097" y="587"/>
                </a:lnTo>
                <a:lnTo>
                  <a:pt x="1105" y="589"/>
                </a:lnTo>
                <a:lnTo>
                  <a:pt x="1110" y="591"/>
                </a:lnTo>
                <a:lnTo>
                  <a:pt x="1116" y="593"/>
                </a:lnTo>
                <a:lnTo>
                  <a:pt x="1124" y="595"/>
                </a:lnTo>
                <a:lnTo>
                  <a:pt x="1131" y="597"/>
                </a:lnTo>
                <a:lnTo>
                  <a:pt x="1137" y="602"/>
                </a:lnTo>
                <a:lnTo>
                  <a:pt x="1143" y="604"/>
                </a:lnTo>
                <a:lnTo>
                  <a:pt x="1150" y="610"/>
                </a:lnTo>
                <a:lnTo>
                  <a:pt x="1156" y="614"/>
                </a:lnTo>
                <a:lnTo>
                  <a:pt x="1162" y="620"/>
                </a:lnTo>
                <a:lnTo>
                  <a:pt x="1169" y="623"/>
                </a:lnTo>
                <a:lnTo>
                  <a:pt x="1177" y="629"/>
                </a:lnTo>
                <a:lnTo>
                  <a:pt x="1183" y="633"/>
                </a:lnTo>
                <a:lnTo>
                  <a:pt x="1188" y="637"/>
                </a:lnTo>
                <a:lnTo>
                  <a:pt x="1196" y="640"/>
                </a:lnTo>
                <a:lnTo>
                  <a:pt x="1204" y="644"/>
                </a:lnTo>
                <a:lnTo>
                  <a:pt x="1209" y="648"/>
                </a:lnTo>
                <a:lnTo>
                  <a:pt x="1215" y="650"/>
                </a:lnTo>
                <a:lnTo>
                  <a:pt x="1223" y="652"/>
                </a:lnTo>
                <a:lnTo>
                  <a:pt x="1232" y="654"/>
                </a:lnTo>
                <a:lnTo>
                  <a:pt x="1223" y="656"/>
                </a:lnTo>
                <a:lnTo>
                  <a:pt x="1213" y="658"/>
                </a:lnTo>
                <a:lnTo>
                  <a:pt x="1204" y="654"/>
                </a:lnTo>
                <a:lnTo>
                  <a:pt x="1194" y="652"/>
                </a:lnTo>
                <a:lnTo>
                  <a:pt x="1183" y="648"/>
                </a:lnTo>
                <a:lnTo>
                  <a:pt x="1171" y="644"/>
                </a:lnTo>
                <a:lnTo>
                  <a:pt x="1162" y="639"/>
                </a:lnTo>
                <a:lnTo>
                  <a:pt x="1150" y="633"/>
                </a:lnTo>
                <a:lnTo>
                  <a:pt x="1145" y="629"/>
                </a:lnTo>
                <a:lnTo>
                  <a:pt x="1139" y="625"/>
                </a:lnTo>
                <a:lnTo>
                  <a:pt x="1133" y="623"/>
                </a:lnTo>
                <a:lnTo>
                  <a:pt x="1127" y="620"/>
                </a:lnTo>
                <a:lnTo>
                  <a:pt x="1116" y="614"/>
                </a:lnTo>
                <a:lnTo>
                  <a:pt x="1105" y="610"/>
                </a:lnTo>
                <a:lnTo>
                  <a:pt x="1099" y="606"/>
                </a:lnTo>
                <a:lnTo>
                  <a:pt x="1093" y="604"/>
                </a:lnTo>
                <a:lnTo>
                  <a:pt x="1088" y="602"/>
                </a:lnTo>
                <a:lnTo>
                  <a:pt x="1082" y="601"/>
                </a:lnTo>
                <a:lnTo>
                  <a:pt x="1076" y="599"/>
                </a:lnTo>
                <a:lnTo>
                  <a:pt x="1069" y="597"/>
                </a:lnTo>
                <a:lnTo>
                  <a:pt x="1065" y="597"/>
                </a:lnTo>
                <a:lnTo>
                  <a:pt x="1059" y="597"/>
                </a:lnTo>
                <a:lnTo>
                  <a:pt x="1067" y="606"/>
                </a:lnTo>
                <a:lnTo>
                  <a:pt x="1078" y="618"/>
                </a:lnTo>
                <a:lnTo>
                  <a:pt x="1082" y="621"/>
                </a:lnTo>
                <a:lnTo>
                  <a:pt x="1088" y="627"/>
                </a:lnTo>
                <a:lnTo>
                  <a:pt x="1093" y="631"/>
                </a:lnTo>
                <a:lnTo>
                  <a:pt x="1099" y="637"/>
                </a:lnTo>
                <a:lnTo>
                  <a:pt x="1105" y="640"/>
                </a:lnTo>
                <a:lnTo>
                  <a:pt x="1110" y="644"/>
                </a:lnTo>
                <a:lnTo>
                  <a:pt x="1116" y="650"/>
                </a:lnTo>
                <a:lnTo>
                  <a:pt x="1124" y="654"/>
                </a:lnTo>
                <a:lnTo>
                  <a:pt x="1129" y="658"/>
                </a:lnTo>
                <a:lnTo>
                  <a:pt x="1135" y="663"/>
                </a:lnTo>
                <a:lnTo>
                  <a:pt x="1143" y="667"/>
                </a:lnTo>
                <a:lnTo>
                  <a:pt x="1150" y="671"/>
                </a:lnTo>
                <a:lnTo>
                  <a:pt x="1156" y="675"/>
                </a:lnTo>
                <a:lnTo>
                  <a:pt x="1162" y="678"/>
                </a:lnTo>
                <a:lnTo>
                  <a:pt x="1169" y="682"/>
                </a:lnTo>
                <a:lnTo>
                  <a:pt x="1175" y="686"/>
                </a:lnTo>
                <a:lnTo>
                  <a:pt x="1181" y="690"/>
                </a:lnTo>
                <a:lnTo>
                  <a:pt x="1188" y="694"/>
                </a:lnTo>
                <a:lnTo>
                  <a:pt x="1194" y="696"/>
                </a:lnTo>
                <a:lnTo>
                  <a:pt x="1202" y="701"/>
                </a:lnTo>
                <a:lnTo>
                  <a:pt x="1207" y="703"/>
                </a:lnTo>
                <a:lnTo>
                  <a:pt x="1215" y="707"/>
                </a:lnTo>
                <a:lnTo>
                  <a:pt x="1221" y="711"/>
                </a:lnTo>
                <a:lnTo>
                  <a:pt x="1228" y="713"/>
                </a:lnTo>
                <a:lnTo>
                  <a:pt x="1234" y="716"/>
                </a:lnTo>
                <a:lnTo>
                  <a:pt x="1242" y="720"/>
                </a:lnTo>
                <a:lnTo>
                  <a:pt x="1247" y="722"/>
                </a:lnTo>
                <a:lnTo>
                  <a:pt x="1255" y="726"/>
                </a:lnTo>
                <a:lnTo>
                  <a:pt x="1255" y="728"/>
                </a:lnTo>
                <a:lnTo>
                  <a:pt x="1249" y="730"/>
                </a:lnTo>
                <a:lnTo>
                  <a:pt x="1243" y="732"/>
                </a:lnTo>
                <a:lnTo>
                  <a:pt x="1238" y="732"/>
                </a:lnTo>
                <a:lnTo>
                  <a:pt x="1232" y="732"/>
                </a:lnTo>
                <a:lnTo>
                  <a:pt x="1226" y="732"/>
                </a:lnTo>
                <a:lnTo>
                  <a:pt x="1221" y="732"/>
                </a:lnTo>
                <a:lnTo>
                  <a:pt x="1215" y="730"/>
                </a:lnTo>
                <a:lnTo>
                  <a:pt x="1209" y="730"/>
                </a:lnTo>
                <a:lnTo>
                  <a:pt x="1204" y="726"/>
                </a:lnTo>
                <a:lnTo>
                  <a:pt x="1196" y="724"/>
                </a:lnTo>
                <a:lnTo>
                  <a:pt x="1190" y="722"/>
                </a:lnTo>
                <a:lnTo>
                  <a:pt x="1185" y="722"/>
                </a:lnTo>
                <a:lnTo>
                  <a:pt x="1173" y="716"/>
                </a:lnTo>
                <a:lnTo>
                  <a:pt x="1164" y="715"/>
                </a:lnTo>
                <a:lnTo>
                  <a:pt x="1160" y="722"/>
                </a:lnTo>
                <a:lnTo>
                  <a:pt x="1158" y="730"/>
                </a:lnTo>
                <a:lnTo>
                  <a:pt x="1158" y="736"/>
                </a:lnTo>
                <a:lnTo>
                  <a:pt x="1162" y="743"/>
                </a:lnTo>
                <a:lnTo>
                  <a:pt x="1167" y="749"/>
                </a:lnTo>
                <a:lnTo>
                  <a:pt x="1173" y="756"/>
                </a:lnTo>
                <a:lnTo>
                  <a:pt x="1181" y="760"/>
                </a:lnTo>
                <a:lnTo>
                  <a:pt x="1188" y="768"/>
                </a:lnTo>
                <a:lnTo>
                  <a:pt x="1196" y="772"/>
                </a:lnTo>
                <a:lnTo>
                  <a:pt x="1204" y="777"/>
                </a:lnTo>
                <a:lnTo>
                  <a:pt x="1211" y="785"/>
                </a:lnTo>
                <a:lnTo>
                  <a:pt x="1219" y="791"/>
                </a:lnTo>
                <a:lnTo>
                  <a:pt x="1224" y="796"/>
                </a:lnTo>
                <a:lnTo>
                  <a:pt x="1226" y="802"/>
                </a:lnTo>
                <a:lnTo>
                  <a:pt x="1228" y="808"/>
                </a:lnTo>
                <a:lnTo>
                  <a:pt x="1228" y="817"/>
                </a:lnTo>
                <a:lnTo>
                  <a:pt x="1223" y="817"/>
                </a:lnTo>
                <a:lnTo>
                  <a:pt x="1217" y="815"/>
                </a:lnTo>
                <a:lnTo>
                  <a:pt x="1211" y="813"/>
                </a:lnTo>
                <a:lnTo>
                  <a:pt x="1207" y="808"/>
                </a:lnTo>
                <a:lnTo>
                  <a:pt x="1200" y="804"/>
                </a:lnTo>
                <a:lnTo>
                  <a:pt x="1196" y="800"/>
                </a:lnTo>
                <a:lnTo>
                  <a:pt x="1190" y="798"/>
                </a:lnTo>
                <a:lnTo>
                  <a:pt x="1185" y="802"/>
                </a:lnTo>
                <a:lnTo>
                  <a:pt x="1188" y="812"/>
                </a:lnTo>
                <a:lnTo>
                  <a:pt x="1196" y="821"/>
                </a:lnTo>
                <a:lnTo>
                  <a:pt x="1204" y="831"/>
                </a:lnTo>
                <a:lnTo>
                  <a:pt x="1213" y="840"/>
                </a:lnTo>
                <a:lnTo>
                  <a:pt x="1223" y="850"/>
                </a:lnTo>
                <a:lnTo>
                  <a:pt x="1230" y="859"/>
                </a:lnTo>
                <a:lnTo>
                  <a:pt x="1232" y="863"/>
                </a:lnTo>
                <a:lnTo>
                  <a:pt x="1236" y="869"/>
                </a:lnTo>
                <a:lnTo>
                  <a:pt x="1238" y="874"/>
                </a:lnTo>
                <a:lnTo>
                  <a:pt x="1240" y="880"/>
                </a:lnTo>
                <a:lnTo>
                  <a:pt x="1236" y="882"/>
                </a:lnTo>
                <a:lnTo>
                  <a:pt x="1228" y="880"/>
                </a:lnTo>
                <a:lnTo>
                  <a:pt x="1224" y="878"/>
                </a:lnTo>
                <a:lnTo>
                  <a:pt x="1223" y="880"/>
                </a:lnTo>
                <a:lnTo>
                  <a:pt x="1223" y="882"/>
                </a:lnTo>
                <a:lnTo>
                  <a:pt x="1223" y="891"/>
                </a:lnTo>
                <a:lnTo>
                  <a:pt x="1226" y="905"/>
                </a:lnTo>
                <a:lnTo>
                  <a:pt x="1226" y="908"/>
                </a:lnTo>
                <a:lnTo>
                  <a:pt x="1226" y="914"/>
                </a:lnTo>
                <a:lnTo>
                  <a:pt x="1228" y="922"/>
                </a:lnTo>
                <a:lnTo>
                  <a:pt x="1230" y="928"/>
                </a:lnTo>
                <a:lnTo>
                  <a:pt x="1232" y="937"/>
                </a:lnTo>
                <a:lnTo>
                  <a:pt x="1236" y="950"/>
                </a:lnTo>
                <a:lnTo>
                  <a:pt x="1238" y="960"/>
                </a:lnTo>
                <a:lnTo>
                  <a:pt x="1245" y="971"/>
                </a:lnTo>
                <a:lnTo>
                  <a:pt x="1255" y="971"/>
                </a:lnTo>
                <a:lnTo>
                  <a:pt x="1264" y="977"/>
                </a:lnTo>
                <a:lnTo>
                  <a:pt x="1272" y="981"/>
                </a:lnTo>
                <a:lnTo>
                  <a:pt x="1280" y="988"/>
                </a:lnTo>
                <a:lnTo>
                  <a:pt x="1287" y="996"/>
                </a:lnTo>
                <a:lnTo>
                  <a:pt x="1297" y="1004"/>
                </a:lnTo>
                <a:lnTo>
                  <a:pt x="1302" y="1009"/>
                </a:lnTo>
                <a:lnTo>
                  <a:pt x="1312" y="1017"/>
                </a:lnTo>
                <a:lnTo>
                  <a:pt x="1316" y="1005"/>
                </a:lnTo>
                <a:lnTo>
                  <a:pt x="1316" y="996"/>
                </a:lnTo>
                <a:lnTo>
                  <a:pt x="1316" y="988"/>
                </a:lnTo>
                <a:lnTo>
                  <a:pt x="1314" y="983"/>
                </a:lnTo>
                <a:lnTo>
                  <a:pt x="1312" y="977"/>
                </a:lnTo>
                <a:lnTo>
                  <a:pt x="1312" y="969"/>
                </a:lnTo>
                <a:lnTo>
                  <a:pt x="1310" y="962"/>
                </a:lnTo>
                <a:lnTo>
                  <a:pt x="1308" y="956"/>
                </a:lnTo>
                <a:lnTo>
                  <a:pt x="1306" y="950"/>
                </a:lnTo>
                <a:lnTo>
                  <a:pt x="1306" y="943"/>
                </a:lnTo>
                <a:lnTo>
                  <a:pt x="1302" y="937"/>
                </a:lnTo>
                <a:lnTo>
                  <a:pt x="1302" y="931"/>
                </a:lnTo>
                <a:lnTo>
                  <a:pt x="1300" y="924"/>
                </a:lnTo>
                <a:lnTo>
                  <a:pt x="1300" y="920"/>
                </a:lnTo>
                <a:lnTo>
                  <a:pt x="1297" y="908"/>
                </a:lnTo>
                <a:lnTo>
                  <a:pt x="1297" y="903"/>
                </a:lnTo>
                <a:lnTo>
                  <a:pt x="1299" y="897"/>
                </a:lnTo>
                <a:lnTo>
                  <a:pt x="1302" y="897"/>
                </a:lnTo>
                <a:lnTo>
                  <a:pt x="1308" y="899"/>
                </a:lnTo>
                <a:lnTo>
                  <a:pt x="1318" y="905"/>
                </a:lnTo>
                <a:lnTo>
                  <a:pt x="1321" y="908"/>
                </a:lnTo>
                <a:lnTo>
                  <a:pt x="1329" y="916"/>
                </a:lnTo>
                <a:lnTo>
                  <a:pt x="1337" y="924"/>
                </a:lnTo>
                <a:lnTo>
                  <a:pt x="1346" y="933"/>
                </a:lnTo>
                <a:lnTo>
                  <a:pt x="1350" y="943"/>
                </a:lnTo>
                <a:lnTo>
                  <a:pt x="1354" y="952"/>
                </a:lnTo>
                <a:lnTo>
                  <a:pt x="1356" y="962"/>
                </a:lnTo>
                <a:lnTo>
                  <a:pt x="1358" y="971"/>
                </a:lnTo>
                <a:lnTo>
                  <a:pt x="1358" y="979"/>
                </a:lnTo>
                <a:lnTo>
                  <a:pt x="1358" y="988"/>
                </a:lnTo>
                <a:lnTo>
                  <a:pt x="1356" y="998"/>
                </a:lnTo>
                <a:lnTo>
                  <a:pt x="1356" y="1007"/>
                </a:lnTo>
                <a:lnTo>
                  <a:pt x="1354" y="1015"/>
                </a:lnTo>
                <a:lnTo>
                  <a:pt x="1352" y="1024"/>
                </a:lnTo>
                <a:lnTo>
                  <a:pt x="1348" y="1032"/>
                </a:lnTo>
                <a:lnTo>
                  <a:pt x="1346" y="1042"/>
                </a:lnTo>
                <a:lnTo>
                  <a:pt x="1344" y="1051"/>
                </a:lnTo>
                <a:lnTo>
                  <a:pt x="1340" y="1059"/>
                </a:lnTo>
                <a:lnTo>
                  <a:pt x="1337" y="1066"/>
                </a:lnTo>
                <a:lnTo>
                  <a:pt x="1335" y="1076"/>
                </a:lnTo>
                <a:lnTo>
                  <a:pt x="1333" y="1083"/>
                </a:lnTo>
                <a:lnTo>
                  <a:pt x="1329" y="1093"/>
                </a:lnTo>
                <a:lnTo>
                  <a:pt x="1325" y="1101"/>
                </a:lnTo>
                <a:lnTo>
                  <a:pt x="1325" y="1110"/>
                </a:lnTo>
                <a:lnTo>
                  <a:pt x="1321" y="1118"/>
                </a:lnTo>
                <a:lnTo>
                  <a:pt x="1320" y="1127"/>
                </a:lnTo>
                <a:lnTo>
                  <a:pt x="1320" y="1137"/>
                </a:lnTo>
                <a:lnTo>
                  <a:pt x="1320" y="1146"/>
                </a:lnTo>
                <a:lnTo>
                  <a:pt x="1320" y="1154"/>
                </a:lnTo>
                <a:lnTo>
                  <a:pt x="1321" y="1163"/>
                </a:lnTo>
                <a:lnTo>
                  <a:pt x="1323" y="1173"/>
                </a:lnTo>
                <a:lnTo>
                  <a:pt x="1327" y="1182"/>
                </a:lnTo>
                <a:lnTo>
                  <a:pt x="1331" y="1190"/>
                </a:lnTo>
                <a:lnTo>
                  <a:pt x="1337" y="1199"/>
                </a:lnTo>
                <a:lnTo>
                  <a:pt x="1344" y="1211"/>
                </a:lnTo>
                <a:lnTo>
                  <a:pt x="1352" y="1220"/>
                </a:lnTo>
                <a:lnTo>
                  <a:pt x="1354" y="1230"/>
                </a:lnTo>
                <a:lnTo>
                  <a:pt x="1354" y="1241"/>
                </a:lnTo>
                <a:lnTo>
                  <a:pt x="1354" y="1251"/>
                </a:lnTo>
                <a:lnTo>
                  <a:pt x="1356" y="1262"/>
                </a:lnTo>
                <a:lnTo>
                  <a:pt x="1354" y="1272"/>
                </a:lnTo>
                <a:lnTo>
                  <a:pt x="1354" y="1281"/>
                </a:lnTo>
                <a:lnTo>
                  <a:pt x="1354" y="1291"/>
                </a:lnTo>
                <a:lnTo>
                  <a:pt x="1354" y="1300"/>
                </a:lnTo>
                <a:lnTo>
                  <a:pt x="1352" y="1308"/>
                </a:lnTo>
                <a:lnTo>
                  <a:pt x="1348" y="1317"/>
                </a:lnTo>
                <a:lnTo>
                  <a:pt x="1346" y="1327"/>
                </a:lnTo>
                <a:lnTo>
                  <a:pt x="1344" y="1336"/>
                </a:lnTo>
                <a:lnTo>
                  <a:pt x="1340" y="1344"/>
                </a:lnTo>
                <a:lnTo>
                  <a:pt x="1337" y="1353"/>
                </a:lnTo>
                <a:lnTo>
                  <a:pt x="1335" y="1363"/>
                </a:lnTo>
                <a:lnTo>
                  <a:pt x="1333" y="1372"/>
                </a:lnTo>
                <a:lnTo>
                  <a:pt x="1327" y="1380"/>
                </a:lnTo>
                <a:lnTo>
                  <a:pt x="1323" y="1389"/>
                </a:lnTo>
                <a:lnTo>
                  <a:pt x="1320" y="1395"/>
                </a:lnTo>
                <a:lnTo>
                  <a:pt x="1316" y="1405"/>
                </a:lnTo>
                <a:lnTo>
                  <a:pt x="1312" y="1412"/>
                </a:lnTo>
                <a:lnTo>
                  <a:pt x="1308" y="1422"/>
                </a:lnTo>
                <a:lnTo>
                  <a:pt x="1302" y="1429"/>
                </a:lnTo>
                <a:lnTo>
                  <a:pt x="1300" y="1439"/>
                </a:lnTo>
                <a:lnTo>
                  <a:pt x="1295" y="1447"/>
                </a:lnTo>
                <a:lnTo>
                  <a:pt x="1291" y="1456"/>
                </a:lnTo>
                <a:lnTo>
                  <a:pt x="1287" y="1464"/>
                </a:lnTo>
                <a:lnTo>
                  <a:pt x="1283" y="1473"/>
                </a:lnTo>
                <a:lnTo>
                  <a:pt x="1280" y="1483"/>
                </a:lnTo>
                <a:lnTo>
                  <a:pt x="1274" y="1490"/>
                </a:lnTo>
                <a:lnTo>
                  <a:pt x="1272" y="1500"/>
                </a:lnTo>
                <a:lnTo>
                  <a:pt x="1268" y="1509"/>
                </a:lnTo>
                <a:lnTo>
                  <a:pt x="1262" y="1507"/>
                </a:lnTo>
                <a:lnTo>
                  <a:pt x="1259" y="1505"/>
                </a:lnTo>
                <a:lnTo>
                  <a:pt x="1255" y="1500"/>
                </a:lnTo>
                <a:lnTo>
                  <a:pt x="1255" y="1496"/>
                </a:lnTo>
                <a:lnTo>
                  <a:pt x="1255" y="1488"/>
                </a:lnTo>
                <a:lnTo>
                  <a:pt x="1255" y="1485"/>
                </a:lnTo>
                <a:lnTo>
                  <a:pt x="1255" y="1477"/>
                </a:lnTo>
                <a:lnTo>
                  <a:pt x="1255" y="1473"/>
                </a:lnTo>
                <a:lnTo>
                  <a:pt x="1249" y="1471"/>
                </a:lnTo>
                <a:lnTo>
                  <a:pt x="1243" y="1473"/>
                </a:lnTo>
                <a:lnTo>
                  <a:pt x="1240" y="1475"/>
                </a:lnTo>
                <a:lnTo>
                  <a:pt x="1236" y="1479"/>
                </a:lnTo>
                <a:lnTo>
                  <a:pt x="1238" y="1473"/>
                </a:lnTo>
                <a:lnTo>
                  <a:pt x="1240" y="1467"/>
                </a:lnTo>
                <a:lnTo>
                  <a:pt x="1242" y="1460"/>
                </a:lnTo>
                <a:lnTo>
                  <a:pt x="1243" y="1456"/>
                </a:lnTo>
                <a:lnTo>
                  <a:pt x="1245" y="1448"/>
                </a:lnTo>
                <a:lnTo>
                  <a:pt x="1247" y="1445"/>
                </a:lnTo>
                <a:lnTo>
                  <a:pt x="1249" y="1437"/>
                </a:lnTo>
                <a:lnTo>
                  <a:pt x="1253" y="1431"/>
                </a:lnTo>
                <a:lnTo>
                  <a:pt x="1253" y="1426"/>
                </a:lnTo>
                <a:lnTo>
                  <a:pt x="1255" y="1420"/>
                </a:lnTo>
                <a:lnTo>
                  <a:pt x="1257" y="1414"/>
                </a:lnTo>
                <a:lnTo>
                  <a:pt x="1261" y="1408"/>
                </a:lnTo>
                <a:lnTo>
                  <a:pt x="1261" y="1403"/>
                </a:lnTo>
                <a:lnTo>
                  <a:pt x="1264" y="1397"/>
                </a:lnTo>
                <a:lnTo>
                  <a:pt x="1264" y="1391"/>
                </a:lnTo>
                <a:lnTo>
                  <a:pt x="1268" y="1386"/>
                </a:lnTo>
                <a:lnTo>
                  <a:pt x="1270" y="1380"/>
                </a:lnTo>
                <a:lnTo>
                  <a:pt x="1272" y="1372"/>
                </a:lnTo>
                <a:lnTo>
                  <a:pt x="1272" y="1367"/>
                </a:lnTo>
                <a:lnTo>
                  <a:pt x="1274" y="1361"/>
                </a:lnTo>
                <a:lnTo>
                  <a:pt x="1276" y="1355"/>
                </a:lnTo>
                <a:lnTo>
                  <a:pt x="1278" y="1348"/>
                </a:lnTo>
                <a:lnTo>
                  <a:pt x="1280" y="1342"/>
                </a:lnTo>
                <a:lnTo>
                  <a:pt x="1281" y="1336"/>
                </a:lnTo>
                <a:lnTo>
                  <a:pt x="1281" y="1331"/>
                </a:lnTo>
                <a:lnTo>
                  <a:pt x="1283" y="1325"/>
                </a:lnTo>
                <a:lnTo>
                  <a:pt x="1283" y="1317"/>
                </a:lnTo>
                <a:lnTo>
                  <a:pt x="1287" y="1312"/>
                </a:lnTo>
                <a:lnTo>
                  <a:pt x="1287" y="1306"/>
                </a:lnTo>
                <a:lnTo>
                  <a:pt x="1289" y="1300"/>
                </a:lnTo>
                <a:lnTo>
                  <a:pt x="1289" y="1293"/>
                </a:lnTo>
                <a:lnTo>
                  <a:pt x="1291" y="1289"/>
                </a:lnTo>
                <a:lnTo>
                  <a:pt x="1291" y="1281"/>
                </a:lnTo>
                <a:lnTo>
                  <a:pt x="1293" y="1275"/>
                </a:lnTo>
                <a:lnTo>
                  <a:pt x="1293" y="1268"/>
                </a:lnTo>
                <a:lnTo>
                  <a:pt x="1293" y="1262"/>
                </a:lnTo>
                <a:lnTo>
                  <a:pt x="1293" y="1256"/>
                </a:lnTo>
                <a:lnTo>
                  <a:pt x="1293" y="1249"/>
                </a:lnTo>
                <a:lnTo>
                  <a:pt x="1293" y="1243"/>
                </a:lnTo>
                <a:lnTo>
                  <a:pt x="1295" y="1237"/>
                </a:lnTo>
                <a:lnTo>
                  <a:pt x="1293" y="1232"/>
                </a:lnTo>
                <a:lnTo>
                  <a:pt x="1293" y="1226"/>
                </a:lnTo>
                <a:lnTo>
                  <a:pt x="1293" y="1218"/>
                </a:lnTo>
                <a:lnTo>
                  <a:pt x="1293" y="1213"/>
                </a:lnTo>
                <a:lnTo>
                  <a:pt x="1293" y="1207"/>
                </a:lnTo>
                <a:lnTo>
                  <a:pt x="1293" y="1199"/>
                </a:lnTo>
                <a:lnTo>
                  <a:pt x="1291" y="1194"/>
                </a:lnTo>
                <a:lnTo>
                  <a:pt x="1291" y="1188"/>
                </a:lnTo>
                <a:lnTo>
                  <a:pt x="1289" y="1182"/>
                </a:lnTo>
                <a:lnTo>
                  <a:pt x="1289" y="1175"/>
                </a:lnTo>
                <a:lnTo>
                  <a:pt x="1287" y="1169"/>
                </a:lnTo>
                <a:lnTo>
                  <a:pt x="1285" y="1163"/>
                </a:lnTo>
                <a:lnTo>
                  <a:pt x="1283" y="1158"/>
                </a:lnTo>
                <a:lnTo>
                  <a:pt x="1281" y="1152"/>
                </a:lnTo>
                <a:lnTo>
                  <a:pt x="1280" y="1144"/>
                </a:lnTo>
                <a:lnTo>
                  <a:pt x="1280" y="1139"/>
                </a:lnTo>
                <a:lnTo>
                  <a:pt x="1276" y="1133"/>
                </a:lnTo>
                <a:lnTo>
                  <a:pt x="1274" y="1127"/>
                </a:lnTo>
                <a:lnTo>
                  <a:pt x="1270" y="1120"/>
                </a:lnTo>
                <a:lnTo>
                  <a:pt x="1268" y="1116"/>
                </a:lnTo>
                <a:lnTo>
                  <a:pt x="1262" y="1102"/>
                </a:lnTo>
                <a:lnTo>
                  <a:pt x="1255" y="1093"/>
                </a:lnTo>
                <a:lnTo>
                  <a:pt x="1249" y="1085"/>
                </a:lnTo>
                <a:lnTo>
                  <a:pt x="1243" y="1080"/>
                </a:lnTo>
                <a:lnTo>
                  <a:pt x="1238" y="1072"/>
                </a:lnTo>
                <a:lnTo>
                  <a:pt x="1234" y="1066"/>
                </a:lnTo>
                <a:lnTo>
                  <a:pt x="1226" y="1059"/>
                </a:lnTo>
                <a:lnTo>
                  <a:pt x="1223" y="1051"/>
                </a:lnTo>
                <a:lnTo>
                  <a:pt x="1217" y="1043"/>
                </a:lnTo>
                <a:lnTo>
                  <a:pt x="1213" y="1038"/>
                </a:lnTo>
                <a:lnTo>
                  <a:pt x="1205" y="1028"/>
                </a:lnTo>
                <a:lnTo>
                  <a:pt x="1202" y="1023"/>
                </a:lnTo>
                <a:lnTo>
                  <a:pt x="1196" y="1015"/>
                </a:lnTo>
                <a:lnTo>
                  <a:pt x="1190" y="1007"/>
                </a:lnTo>
                <a:lnTo>
                  <a:pt x="1186" y="998"/>
                </a:lnTo>
                <a:lnTo>
                  <a:pt x="1181" y="992"/>
                </a:lnTo>
                <a:lnTo>
                  <a:pt x="1177" y="983"/>
                </a:lnTo>
                <a:lnTo>
                  <a:pt x="1171" y="977"/>
                </a:lnTo>
                <a:lnTo>
                  <a:pt x="1166" y="969"/>
                </a:lnTo>
                <a:lnTo>
                  <a:pt x="1162" y="962"/>
                </a:lnTo>
                <a:lnTo>
                  <a:pt x="1154" y="952"/>
                </a:lnTo>
                <a:lnTo>
                  <a:pt x="1150" y="945"/>
                </a:lnTo>
                <a:lnTo>
                  <a:pt x="1145" y="937"/>
                </a:lnTo>
                <a:lnTo>
                  <a:pt x="1141" y="931"/>
                </a:lnTo>
                <a:lnTo>
                  <a:pt x="1135" y="924"/>
                </a:lnTo>
                <a:lnTo>
                  <a:pt x="1131" y="916"/>
                </a:lnTo>
                <a:lnTo>
                  <a:pt x="1124" y="908"/>
                </a:lnTo>
                <a:lnTo>
                  <a:pt x="1120" y="901"/>
                </a:lnTo>
                <a:lnTo>
                  <a:pt x="1114" y="895"/>
                </a:lnTo>
                <a:lnTo>
                  <a:pt x="1108" y="888"/>
                </a:lnTo>
                <a:lnTo>
                  <a:pt x="1103" y="880"/>
                </a:lnTo>
                <a:lnTo>
                  <a:pt x="1099" y="874"/>
                </a:lnTo>
                <a:lnTo>
                  <a:pt x="1093" y="869"/>
                </a:lnTo>
                <a:lnTo>
                  <a:pt x="1088" y="863"/>
                </a:lnTo>
                <a:lnTo>
                  <a:pt x="1082" y="855"/>
                </a:lnTo>
                <a:lnTo>
                  <a:pt x="1076" y="850"/>
                </a:lnTo>
                <a:lnTo>
                  <a:pt x="1070" y="844"/>
                </a:lnTo>
                <a:lnTo>
                  <a:pt x="1065" y="840"/>
                </a:lnTo>
                <a:lnTo>
                  <a:pt x="1059" y="832"/>
                </a:lnTo>
                <a:lnTo>
                  <a:pt x="1051" y="829"/>
                </a:lnTo>
                <a:lnTo>
                  <a:pt x="1046" y="823"/>
                </a:lnTo>
                <a:lnTo>
                  <a:pt x="1040" y="821"/>
                </a:lnTo>
                <a:lnTo>
                  <a:pt x="1032" y="815"/>
                </a:lnTo>
                <a:lnTo>
                  <a:pt x="1025" y="812"/>
                </a:lnTo>
                <a:lnTo>
                  <a:pt x="1019" y="808"/>
                </a:lnTo>
                <a:lnTo>
                  <a:pt x="1013" y="806"/>
                </a:lnTo>
                <a:lnTo>
                  <a:pt x="1006" y="802"/>
                </a:lnTo>
                <a:lnTo>
                  <a:pt x="1000" y="800"/>
                </a:lnTo>
                <a:lnTo>
                  <a:pt x="993" y="798"/>
                </a:lnTo>
                <a:lnTo>
                  <a:pt x="985" y="796"/>
                </a:lnTo>
                <a:lnTo>
                  <a:pt x="977" y="794"/>
                </a:lnTo>
                <a:lnTo>
                  <a:pt x="970" y="794"/>
                </a:lnTo>
                <a:lnTo>
                  <a:pt x="962" y="794"/>
                </a:lnTo>
                <a:lnTo>
                  <a:pt x="954" y="794"/>
                </a:lnTo>
                <a:lnTo>
                  <a:pt x="945" y="794"/>
                </a:lnTo>
                <a:lnTo>
                  <a:pt x="937" y="794"/>
                </a:lnTo>
                <a:lnTo>
                  <a:pt x="928" y="794"/>
                </a:lnTo>
                <a:lnTo>
                  <a:pt x="920" y="798"/>
                </a:lnTo>
                <a:lnTo>
                  <a:pt x="911" y="798"/>
                </a:lnTo>
                <a:lnTo>
                  <a:pt x="901" y="802"/>
                </a:lnTo>
                <a:lnTo>
                  <a:pt x="892" y="806"/>
                </a:lnTo>
                <a:lnTo>
                  <a:pt x="884" y="810"/>
                </a:lnTo>
                <a:lnTo>
                  <a:pt x="873" y="813"/>
                </a:lnTo>
                <a:lnTo>
                  <a:pt x="863" y="817"/>
                </a:lnTo>
                <a:lnTo>
                  <a:pt x="854" y="825"/>
                </a:lnTo>
                <a:lnTo>
                  <a:pt x="844" y="831"/>
                </a:lnTo>
                <a:lnTo>
                  <a:pt x="833" y="834"/>
                </a:lnTo>
                <a:lnTo>
                  <a:pt x="823" y="838"/>
                </a:lnTo>
                <a:lnTo>
                  <a:pt x="810" y="842"/>
                </a:lnTo>
                <a:lnTo>
                  <a:pt x="800" y="848"/>
                </a:lnTo>
                <a:lnTo>
                  <a:pt x="789" y="851"/>
                </a:lnTo>
                <a:lnTo>
                  <a:pt x="778" y="855"/>
                </a:lnTo>
                <a:lnTo>
                  <a:pt x="766" y="861"/>
                </a:lnTo>
                <a:lnTo>
                  <a:pt x="755" y="865"/>
                </a:lnTo>
                <a:lnTo>
                  <a:pt x="743" y="869"/>
                </a:lnTo>
                <a:lnTo>
                  <a:pt x="734" y="874"/>
                </a:lnTo>
                <a:lnTo>
                  <a:pt x="723" y="878"/>
                </a:lnTo>
                <a:lnTo>
                  <a:pt x="713" y="886"/>
                </a:lnTo>
                <a:lnTo>
                  <a:pt x="702" y="889"/>
                </a:lnTo>
                <a:lnTo>
                  <a:pt x="690" y="895"/>
                </a:lnTo>
                <a:lnTo>
                  <a:pt x="681" y="901"/>
                </a:lnTo>
                <a:lnTo>
                  <a:pt x="671" y="907"/>
                </a:lnTo>
                <a:lnTo>
                  <a:pt x="669" y="905"/>
                </a:lnTo>
                <a:lnTo>
                  <a:pt x="675" y="895"/>
                </a:lnTo>
                <a:lnTo>
                  <a:pt x="683" y="888"/>
                </a:lnTo>
                <a:lnTo>
                  <a:pt x="690" y="878"/>
                </a:lnTo>
                <a:lnTo>
                  <a:pt x="700" y="872"/>
                </a:lnTo>
                <a:lnTo>
                  <a:pt x="707" y="865"/>
                </a:lnTo>
                <a:lnTo>
                  <a:pt x="715" y="859"/>
                </a:lnTo>
                <a:lnTo>
                  <a:pt x="724" y="853"/>
                </a:lnTo>
                <a:lnTo>
                  <a:pt x="734" y="848"/>
                </a:lnTo>
                <a:lnTo>
                  <a:pt x="743" y="842"/>
                </a:lnTo>
                <a:lnTo>
                  <a:pt x="753" y="836"/>
                </a:lnTo>
                <a:lnTo>
                  <a:pt x="762" y="832"/>
                </a:lnTo>
                <a:lnTo>
                  <a:pt x="772" y="829"/>
                </a:lnTo>
                <a:lnTo>
                  <a:pt x="781" y="825"/>
                </a:lnTo>
                <a:lnTo>
                  <a:pt x="791" y="823"/>
                </a:lnTo>
                <a:lnTo>
                  <a:pt x="802" y="821"/>
                </a:lnTo>
                <a:lnTo>
                  <a:pt x="814" y="821"/>
                </a:lnTo>
                <a:lnTo>
                  <a:pt x="806" y="819"/>
                </a:lnTo>
                <a:lnTo>
                  <a:pt x="800" y="817"/>
                </a:lnTo>
                <a:lnTo>
                  <a:pt x="795" y="817"/>
                </a:lnTo>
                <a:lnTo>
                  <a:pt x="789" y="817"/>
                </a:lnTo>
                <a:lnTo>
                  <a:pt x="781" y="817"/>
                </a:lnTo>
                <a:lnTo>
                  <a:pt x="776" y="817"/>
                </a:lnTo>
                <a:lnTo>
                  <a:pt x="770" y="819"/>
                </a:lnTo>
                <a:lnTo>
                  <a:pt x="764" y="821"/>
                </a:lnTo>
                <a:lnTo>
                  <a:pt x="759" y="821"/>
                </a:lnTo>
                <a:lnTo>
                  <a:pt x="751" y="821"/>
                </a:lnTo>
                <a:lnTo>
                  <a:pt x="745" y="821"/>
                </a:lnTo>
                <a:lnTo>
                  <a:pt x="740" y="823"/>
                </a:lnTo>
                <a:lnTo>
                  <a:pt x="734" y="823"/>
                </a:lnTo>
                <a:lnTo>
                  <a:pt x="726" y="825"/>
                </a:lnTo>
                <a:lnTo>
                  <a:pt x="721" y="827"/>
                </a:lnTo>
                <a:lnTo>
                  <a:pt x="715" y="829"/>
                </a:lnTo>
                <a:lnTo>
                  <a:pt x="709" y="831"/>
                </a:lnTo>
                <a:lnTo>
                  <a:pt x="704" y="832"/>
                </a:lnTo>
                <a:lnTo>
                  <a:pt x="696" y="832"/>
                </a:lnTo>
                <a:lnTo>
                  <a:pt x="690" y="834"/>
                </a:lnTo>
                <a:lnTo>
                  <a:pt x="685" y="836"/>
                </a:lnTo>
                <a:lnTo>
                  <a:pt x="677" y="838"/>
                </a:lnTo>
                <a:lnTo>
                  <a:pt x="671" y="840"/>
                </a:lnTo>
                <a:lnTo>
                  <a:pt x="666" y="842"/>
                </a:lnTo>
                <a:lnTo>
                  <a:pt x="658" y="844"/>
                </a:lnTo>
                <a:lnTo>
                  <a:pt x="652" y="846"/>
                </a:lnTo>
                <a:lnTo>
                  <a:pt x="645" y="848"/>
                </a:lnTo>
                <a:lnTo>
                  <a:pt x="639" y="851"/>
                </a:lnTo>
                <a:lnTo>
                  <a:pt x="633" y="853"/>
                </a:lnTo>
                <a:lnTo>
                  <a:pt x="626" y="855"/>
                </a:lnTo>
                <a:lnTo>
                  <a:pt x="620" y="857"/>
                </a:lnTo>
                <a:lnTo>
                  <a:pt x="614" y="861"/>
                </a:lnTo>
                <a:lnTo>
                  <a:pt x="607" y="861"/>
                </a:lnTo>
                <a:lnTo>
                  <a:pt x="601" y="863"/>
                </a:lnTo>
                <a:lnTo>
                  <a:pt x="595" y="865"/>
                </a:lnTo>
                <a:lnTo>
                  <a:pt x="588" y="869"/>
                </a:lnTo>
                <a:lnTo>
                  <a:pt x="582" y="870"/>
                </a:lnTo>
                <a:lnTo>
                  <a:pt x="576" y="872"/>
                </a:lnTo>
                <a:lnTo>
                  <a:pt x="569" y="874"/>
                </a:lnTo>
                <a:lnTo>
                  <a:pt x="563" y="878"/>
                </a:lnTo>
                <a:lnTo>
                  <a:pt x="555" y="878"/>
                </a:lnTo>
                <a:lnTo>
                  <a:pt x="550" y="882"/>
                </a:lnTo>
                <a:lnTo>
                  <a:pt x="542" y="882"/>
                </a:lnTo>
                <a:lnTo>
                  <a:pt x="536" y="886"/>
                </a:lnTo>
                <a:lnTo>
                  <a:pt x="531" y="888"/>
                </a:lnTo>
                <a:lnTo>
                  <a:pt x="523" y="889"/>
                </a:lnTo>
                <a:lnTo>
                  <a:pt x="517" y="891"/>
                </a:lnTo>
                <a:lnTo>
                  <a:pt x="512" y="895"/>
                </a:lnTo>
                <a:lnTo>
                  <a:pt x="504" y="895"/>
                </a:lnTo>
                <a:lnTo>
                  <a:pt x="496" y="897"/>
                </a:lnTo>
                <a:lnTo>
                  <a:pt x="491" y="897"/>
                </a:lnTo>
                <a:lnTo>
                  <a:pt x="485" y="899"/>
                </a:lnTo>
                <a:lnTo>
                  <a:pt x="477" y="901"/>
                </a:lnTo>
                <a:lnTo>
                  <a:pt x="472" y="903"/>
                </a:lnTo>
                <a:lnTo>
                  <a:pt x="466" y="905"/>
                </a:lnTo>
                <a:lnTo>
                  <a:pt x="458" y="907"/>
                </a:lnTo>
                <a:lnTo>
                  <a:pt x="453" y="907"/>
                </a:lnTo>
                <a:lnTo>
                  <a:pt x="445" y="907"/>
                </a:lnTo>
                <a:lnTo>
                  <a:pt x="439" y="907"/>
                </a:lnTo>
                <a:lnTo>
                  <a:pt x="432" y="908"/>
                </a:lnTo>
                <a:lnTo>
                  <a:pt x="426" y="908"/>
                </a:lnTo>
                <a:lnTo>
                  <a:pt x="420" y="908"/>
                </a:lnTo>
                <a:lnTo>
                  <a:pt x="413" y="910"/>
                </a:lnTo>
                <a:lnTo>
                  <a:pt x="407" y="912"/>
                </a:lnTo>
                <a:lnTo>
                  <a:pt x="413" y="908"/>
                </a:lnTo>
                <a:lnTo>
                  <a:pt x="420" y="905"/>
                </a:lnTo>
                <a:lnTo>
                  <a:pt x="428" y="901"/>
                </a:lnTo>
                <a:lnTo>
                  <a:pt x="435" y="899"/>
                </a:lnTo>
                <a:lnTo>
                  <a:pt x="441" y="895"/>
                </a:lnTo>
                <a:lnTo>
                  <a:pt x="451" y="893"/>
                </a:lnTo>
                <a:lnTo>
                  <a:pt x="458" y="891"/>
                </a:lnTo>
                <a:lnTo>
                  <a:pt x="466" y="889"/>
                </a:lnTo>
                <a:lnTo>
                  <a:pt x="474" y="886"/>
                </a:lnTo>
                <a:lnTo>
                  <a:pt x="483" y="884"/>
                </a:lnTo>
                <a:lnTo>
                  <a:pt x="491" y="880"/>
                </a:lnTo>
                <a:lnTo>
                  <a:pt x="498" y="878"/>
                </a:lnTo>
                <a:lnTo>
                  <a:pt x="506" y="874"/>
                </a:lnTo>
                <a:lnTo>
                  <a:pt x="513" y="872"/>
                </a:lnTo>
                <a:lnTo>
                  <a:pt x="521" y="870"/>
                </a:lnTo>
                <a:lnTo>
                  <a:pt x="531" y="869"/>
                </a:lnTo>
                <a:lnTo>
                  <a:pt x="538" y="865"/>
                </a:lnTo>
                <a:lnTo>
                  <a:pt x="548" y="863"/>
                </a:lnTo>
                <a:lnTo>
                  <a:pt x="555" y="859"/>
                </a:lnTo>
                <a:lnTo>
                  <a:pt x="563" y="855"/>
                </a:lnTo>
                <a:lnTo>
                  <a:pt x="570" y="851"/>
                </a:lnTo>
                <a:lnTo>
                  <a:pt x="578" y="850"/>
                </a:lnTo>
                <a:lnTo>
                  <a:pt x="586" y="846"/>
                </a:lnTo>
                <a:lnTo>
                  <a:pt x="595" y="842"/>
                </a:lnTo>
                <a:lnTo>
                  <a:pt x="601" y="836"/>
                </a:lnTo>
                <a:lnTo>
                  <a:pt x="610" y="832"/>
                </a:lnTo>
                <a:lnTo>
                  <a:pt x="616" y="829"/>
                </a:lnTo>
                <a:lnTo>
                  <a:pt x="624" y="825"/>
                </a:lnTo>
                <a:lnTo>
                  <a:pt x="631" y="819"/>
                </a:lnTo>
                <a:lnTo>
                  <a:pt x="639" y="813"/>
                </a:lnTo>
                <a:lnTo>
                  <a:pt x="645" y="808"/>
                </a:lnTo>
                <a:lnTo>
                  <a:pt x="652" y="802"/>
                </a:lnTo>
                <a:lnTo>
                  <a:pt x="645" y="802"/>
                </a:lnTo>
                <a:lnTo>
                  <a:pt x="639" y="802"/>
                </a:lnTo>
                <a:lnTo>
                  <a:pt x="631" y="804"/>
                </a:lnTo>
                <a:lnTo>
                  <a:pt x="626" y="804"/>
                </a:lnTo>
                <a:lnTo>
                  <a:pt x="618" y="806"/>
                </a:lnTo>
                <a:lnTo>
                  <a:pt x="612" y="806"/>
                </a:lnTo>
                <a:lnTo>
                  <a:pt x="605" y="808"/>
                </a:lnTo>
                <a:lnTo>
                  <a:pt x="599" y="810"/>
                </a:lnTo>
                <a:lnTo>
                  <a:pt x="591" y="810"/>
                </a:lnTo>
                <a:lnTo>
                  <a:pt x="586" y="812"/>
                </a:lnTo>
                <a:lnTo>
                  <a:pt x="578" y="813"/>
                </a:lnTo>
                <a:lnTo>
                  <a:pt x="570" y="815"/>
                </a:lnTo>
                <a:lnTo>
                  <a:pt x="565" y="815"/>
                </a:lnTo>
                <a:lnTo>
                  <a:pt x="559" y="819"/>
                </a:lnTo>
                <a:lnTo>
                  <a:pt x="551" y="821"/>
                </a:lnTo>
                <a:lnTo>
                  <a:pt x="546" y="823"/>
                </a:lnTo>
                <a:lnTo>
                  <a:pt x="538" y="825"/>
                </a:lnTo>
                <a:lnTo>
                  <a:pt x="532" y="827"/>
                </a:lnTo>
                <a:lnTo>
                  <a:pt x="527" y="829"/>
                </a:lnTo>
                <a:lnTo>
                  <a:pt x="519" y="831"/>
                </a:lnTo>
                <a:lnTo>
                  <a:pt x="512" y="832"/>
                </a:lnTo>
                <a:lnTo>
                  <a:pt x="506" y="834"/>
                </a:lnTo>
                <a:lnTo>
                  <a:pt x="500" y="836"/>
                </a:lnTo>
                <a:lnTo>
                  <a:pt x="493" y="840"/>
                </a:lnTo>
                <a:lnTo>
                  <a:pt x="485" y="842"/>
                </a:lnTo>
                <a:lnTo>
                  <a:pt x="479" y="844"/>
                </a:lnTo>
                <a:lnTo>
                  <a:pt x="474" y="846"/>
                </a:lnTo>
                <a:lnTo>
                  <a:pt x="466" y="850"/>
                </a:lnTo>
                <a:lnTo>
                  <a:pt x="460" y="851"/>
                </a:lnTo>
                <a:lnTo>
                  <a:pt x="454" y="855"/>
                </a:lnTo>
                <a:lnTo>
                  <a:pt x="447" y="857"/>
                </a:lnTo>
                <a:lnTo>
                  <a:pt x="441" y="861"/>
                </a:lnTo>
                <a:lnTo>
                  <a:pt x="434" y="861"/>
                </a:lnTo>
                <a:lnTo>
                  <a:pt x="428" y="865"/>
                </a:lnTo>
                <a:lnTo>
                  <a:pt x="420" y="865"/>
                </a:lnTo>
                <a:lnTo>
                  <a:pt x="413" y="869"/>
                </a:lnTo>
                <a:lnTo>
                  <a:pt x="407" y="870"/>
                </a:lnTo>
                <a:lnTo>
                  <a:pt x="399" y="872"/>
                </a:lnTo>
                <a:lnTo>
                  <a:pt x="394" y="874"/>
                </a:lnTo>
                <a:lnTo>
                  <a:pt x="388" y="878"/>
                </a:lnTo>
                <a:lnTo>
                  <a:pt x="380" y="880"/>
                </a:lnTo>
                <a:lnTo>
                  <a:pt x="373" y="882"/>
                </a:lnTo>
                <a:lnTo>
                  <a:pt x="365" y="884"/>
                </a:lnTo>
                <a:lnTo>
                  <a:pt x="359" y="886"/>
                </a:lnTo>
                <a:lnTo>
                  <a:pt x="352" y="888"/>
                </a:lnTo>
                <a:lnTo>
                  <a:pt x="346" y="889"/>
                </a:lnTo>
                <a:lnTo>
                  <a:pt x="339" y="891"/>
                </a:lnTo>
                <a:lnTo>
                  <a:pt x="333" y="895"/>
                </a:lnTo>
                <a:lnTo>
                  <a:pt x="325" y="895"/>
                </a:lnTo>
                <a:lnTo>
                  <a:pt x="320" y="897"/>
                </a:lnTo>
                <a:lnTo>
                  <a:pt x="312" y="897"/>
                </a:lnTo>
                <a:lnTo>
                  <a:pt x="306" y="899"/>
                </a:lnTo>
                <a:lnTo>
                  <a:pt x="299" y="901"/>
                </a:lnTo>
                <a:lnTo>
                  <a:pt x="291" y="903"/>
                </a:lnTo>
                <a:lnTo>
                  <a:pt x="283" y="905"/>
                </a:lnTo>
                <a:lnTo>
                  <a:pt x="278" y="907"/>
                </a:lnTo>
                <a:lnTo>
                  <a:pt x="270" y="907"/>
                </a:lnTo>
                <a:lnTo>
                  <a:pt x="264" y="907"/>
                </a:lnTo>
                <a:lnTo>
                  <a:pt x="257" y="907"/>
                </a:lnTo>
                <a:lnTo>
                  <a:pt x="251" y="908"/>
                </a:lnTo>
                <a:lnTo>
                  <a:pt x="243" y="908"/>
                </a:lnTo>
                <a:lnTo>
                  <a:pt x="236" y="908"/>
                </a:lnTo>
                <a:lnTo>
                  <a:pt x="228" y="910"/>
                </a:lnTo>
                <a:lnTo>
                  <a:pt x="223" y="912"/>
                </a:lnTo>
                <a:lnTo>
                  <a:pt x="228" y="907"/>
                </a:lnTo>
                <a:lnTo>
                  <a:pt x="236" y="901"/>
                </a:lnTo>
                <a:lnTo>
                  <a:pt x="243" y="899"/>
                </a:lnTo>
                <a:lnTo>
                  <a:pt x="253" y="895"/>
                </a:lnTo>
                <a:lnTo>
                  <a:pt x="262" y="891"/>
                </a:lnTo>
                <a:lnTo>
                  <a:pt x="272" y="889"/>
                </a:lnTo>
                <a:lnTo>
                  <a:pt x="281" y="888"/>
                </a:lnTo>
                <a:lnTo>
                  <a:pt x="291" y="886"/>
                </a:lnTo>
                <a:lnTo>
                  <a:pt x="301" y="882"/>
                </a:lnTo>
                <a:lnTo>
                  <a:pt x="310" y="880"/>
                </a:lnTo>
                <a:lnTo>
                  <a:pt x="320" y="878"/>
                </a:lnTo>
                <a:lnTo>
                  <a:pt x="331" y="874"/>
                </a:lnTo>
                <a:lnTo>
                  <a:pt x="340" y="872"/>
                </a:lnTo>
                <a:lnTo>
                  <a:pt x="350" y="870"/>
                </a:lnTo>
                <a:lnTo>
                  <a:pt x="359" y="869"/>
                </a:lnTo>
                <a:lnTo>
                  <a:pt x="371" y="867"/>
                </a:lnTo>
                <a:lnTo>
                  <a:pt x="363" y="861"/>
                </a:lnTo>
                <a:lnTo>
                  <a:pt x="358" y="859"/>
                </a:lnTo>
                <a:lnTo>
                  <a:pt x="352" y="855"/>
                </a:lnTo>
                <a:lnTo>
                  <a:pt x="346" y="853"/>
                </a:lnTo>
                <a:lnTo>
                  <a:pt x="340" y="851"/>
                </a:lnTo>
                <a:lnTo>
                  <a:pt x="335" y="850"/>
                </a:lnTo>
                <a:lnTo>
                  <a:pt x="327" y="850"/>
                </a:lnTo>
                <a:lnTo>
                  <a:pt x="321" y="851"/>
                </a:lnTo>
                <a:lnTo>
                  <a:pt x="314" y="851"/>
                </a:lnTo>
                <a:lnTo>
                  <a:pt x="308" y="851"/>
                </a:lnTo>
                <a:lnTo>
                  <a:pt x="301" y="853"/>
                </a:lnTo>
                <a:lnTo>
                  <a:pt x="295" y="855"/>
                </a:lnTo>
                <a:lnTo>
                  <a:pt x="287" y="857"/>
                </a:lnTo>
                <a:lnTo>
                  <a:pt x="281" y="859"/>
                </a:lnTo>
                <a:lnTo>
                  <a:pt x="274" y="863"/>
                </a:lnTo>
                <a:lnTo>
                  <a:pt x="268" y="865"/>
                </a:lnTo>
                <a:lnTo>
                  <a:pt x="259" y="869"/>
                </a:lnTo>
                <a:lnTo>
                  <a:pt x="253" y="870"/>
                </a:lnTo>
                <a:lnTo>
                  <a:pt x="243" y="872"/>
                </a:lnTo>
                <a:lnTo>
                  <a:pt x="238" y="874"/>
                </a:lnTo>
                <a:lnTo>
                  <a:pt x="228" y="878"/>
                </a:lnTo>
                <a:lnTo>
                  <a:pt x="223" y="880"/>
                </a:lnTo>
                <a:lnTo>
                  <a:pt x="215" y="882"/>
                </a:lnTo>
                <a:lnTo>
                  <a:pt x="207" y="886"/>
                </a:lnTo>
                <a:lnTo>
                  <a:pt x="200" y="886"/>
                </a:lnTo>
                <a:lnTo>
                  <a:pt x="192" y="888"/>
                </a:lnTo>
                <a:lnTo>
                  <a:pt x="185" y="888"/>
                </a:lnTo>
                <a:lnTo>
                  <a:pt x="177" y="889"/>
                </a:lnTo>
                <a:lnTo>
                  <a:pt x="169" y="889"/>
                </a:lnTo>
                <a:lnTo>
                  <a:pt x="162" y="889"/>
                </a:lnTo>
                <a:lnTo>
                  <a:pt x="154" y="888"/>
                </a:lnTo>
                <a:lnTo>
                  <a:pt x="148" y="888"/>
                </a:lnTo>
                <a:lnTo>
                  <a:pt x="154" y="882"/>
                </a:lnTo>
                <a:lnTo>
                  <a:pt x="162" y="878"/>
                </a:lnTo>
                <a:lnTo>
                  <a:pt x="169" y="872"/>
                </a:lnTo>
                <a:lnTo>
                  <a:pt x="179" y="870"/>
                </a:lnTo>
                <a:lnTo>
                  <a:pt x="186" y="865"/>
                </a:lnTo>
                <a:lnTo>
                  <a:pt x="196" y="863"/>
                </a:lnTo>
                <a:lnTo>
                  <a:pt x="205" y="861"/>
                </a:lnTo>
                <a:lnTo>
                  <a:pt x="217" y="859"/>
                </a:lnTo>
                <a:lnTo>
                  <a:pt x="226" y="855"/>
                </a:lnTo>
                <a:lnTo>
                  <a:pt x="236" y="853"/>
                </a:lnTo>
                <a:lnTo>
                  <a:pt x="245" y="851"/>
                </a:lnTo>
                <a:lnTo>
                  <a:pt x="257" y="850"/>
                </a:lnTo>
                <a:lnTo>
                  <a:pt x="266" y="848"/>
                </a:lnTo>
                <a:lnTo>
                  <a:pt x="278" y="846"/>
                </a:lnTo>
                <a:lnTo>
                  <a:pt x="287" y="844"/>
                </a:lnTo>
                <a:lnTo>
                  <a:pt x="297" y="844"/>
                </a:lnTo>
                <a:lnTo>
                  <a:pt x="293" y="836"/>
                </a:lnTo>
                <a:lnTo>
                  <a:pt x="289" y="832"/>
                </a:lnTo>
                <a:lnTo>
                  <a:pt x="283" y="827"/>
                </a:lnTo>
                <a:lnTo>
                  <a:pt x="280" y="825"/>
                </a:lnTo>
                <a:lnTo>
                  <a:pt x="270" y="821"/>
                </a:lnTo>
                <a:lnTo>
                  <a:pt x="259" y="817"/>
                </a:lnTo>
                <a:lnTo>
                  <a:pt x="251" y="817"/>
                </a:lnTo>
                <a:lnTo>
                  <a:pt x="245" y="817"/>
                </a:lnTo>
                <a:lnTo>
                  <a:pt x="238" y="817"/>
                </a:lnTo>
                <a:lnTo>
                  <a:pt x="232" y="821"/>
                </a:lnTo>
                <a:lnTo>
                  <a:pt x="224" y="821"/>
                </a:lnTo>
                <a:lnTo>
                  <a:pt x="219" y="823"/>
                </a:lnTo>
                <a:lnTo>
                  <a:pt x="211" y="825"/>
                </a:lnTo>
                <a:lnTo>
                  <a:pt x="205" y="829"/>
                </a:lnTo>
                <a:lnTo>
                  <a:pt x="196" y="831"/>
                </a:lnTo>
                <a:lnTo>
                  <a:pt x="188" y="832"/>
                </a:lnTo>
                <a:lnTo>
                  <a:pt x="181" y="834"/>
                </a:lnTo>
                <a:lnTo>
                  <a:pt x="173" y="838"/>
                </a:lnTo>
                <a:lnTo>
                  <a:pt x="166" y="840"/>
                </a:lnTo>
                <a:lnTo>
                  <a:pt x="158" y="842"/>
                </a:lnTo>
                <a:lnTo>
                  <a:pt x="150" y="844"/>
                </a:lnTo>
                <a:lnTo>
                  <a:pt x="143" y="848"/>
                </a:lnTo>
                <a:lnTo>
                  <a:pt x="135" y="850"/>
                </a:lnTo>
                <a:lnTo>
                  <a:pt x="127" y="851"/>
                </a:lnTo>
                <a:lnTo>
                  <a:pt x="120" y="851"/>
                </a:lnTo>
                <a:lnTo>
                  <a:pt x="114" y="853"/>
                </a:lnTo>
                <a:lnTo>
                  <a:pt x="107" y="853"/>
                </a:lnTo>
                <a:lnTo>
                  <a:pt x="99" y="853"/>
                </a:lnTo>
                <a:lnTo>
                  <a:pt x="93" y="853"/>
                </a:lnTo>
                <a:lnTo>
                  <a:pt x="88" y="853"/>
                </a:lnTo>
                <a:lnTo>
                  <a:pt x="93" y="850"/>
                </a:lnTo>
                <a:lnTo>
                  <a:pt x="99" y="844"/>
                </a:lnTo>
                <a:lnTo>
                  <a:pt x="107" y="840"/>
                </a:lnTo>
                <a:lnTo>
                  <a:pt x="114" y="836"/>
                </a:lnTo>
                <a:lnTo>
                  <a:pt x="122" y="832"/>
                </a:lnTo>
                <a:lnTo>
                  <a:pt x="131" y="827"/>
                </a:lnTo>
                <a:lnTo>
                  <a:pt x="139" y="825"/>
                </a:lnTo>
                <a:lnTo>
                  <a:pt x="148" y="821"/>
                </a:lnTo>
                <a:lnTo>
                  <a:pt x="158" y="817"/>
                </a:lnTo>
                <a:lnTo>
                  <a:pt x="167" y="815"/>
                </a:lnTo>
                <a:lnTo>
                  <a:pt x="177" y="812"/>
                </a:lnTo>
                <a:lnTo>
                  <a:pt x="186" y="810"/>
                </a:lnTo>
                <a:lnTo>
                  <a:pt x="194" y="808"/>
                </a:lnTo>
                <a:lnTo>
                  <a:pt x="204" y="808"/>
                </a:lnTo>
                <a:lnTo>
                  <a:pt x="213" y="808"/>
                </a:lnTo>
                <a:lnTo>
                  <a:pt x="223" y="808"/>
                </a:lnTo>
                <a:lnTo>
                  <a:pt x="219" y="798"/>
                </a:lnTo>
                <a:lnTo>
                  <a:pt x="215" y="793"/>
                </a:lnTo>
                <a:lnTo>
                  <a:pt x="209" y="787"/>
                </a:lnTo>
                <a:lnTo>
                  <a:pt x="205" y="783"/>
                </a:lnTo>
                <a:lnTo>
                  <a:pt x="200" y="779"/>
                </a:lnTo>
                <a:lnTo>
                  <a:pt x="196" y="777"/>
                </a:lnTo>
                <a:lnTo>
                  <a:pt x="188" y="774"/>
                </a:lnTo>
                <a:lnTo>
                  <a:pt x="185" y="774"/>
                </a:lnTo>
                <a:lnTo>
                  <a:pt x="177" y="772"/>
                </a:lnTo>
                <a:lnTo>
                  <a:pt x="169" y="772"/>
                </a:lnTo>
                <a:lnTo>
                  <a:pt x="162" y="772"/>
                </a:lnTo>
                <a:lnTo>
                  <a:pt x="156" y="774"/>
                </a:lnTo>
                <a:lnTo>
                  <a:pt x="148" y="774"/>
                </a:lnTo>
                <a:lnTo>
                  <a:pt x="141" y="775"/>
                </a:lnTo>
                <a:lnTo>
                  <a:pt x="133" y="777"/>
                </a:lnTo>
                <a:lnTo>
                  <a:pt x="126" y="781"/>
                </a:lnTo>
                <a:lnTo>
                  <a:pt x="116" y="781"/>
                </a:lnTo>
                <a:lnTo>
                  <a:pt x="108" y="785"/>
                </a:lnTo>
                <a:lnTo>
                  <a:pt x="99" y="787"/>
                </a:lnTo>
                <a:lnTo>
                  <a:pt x="93" y="791"/>
                </a:lnTo>
                <a:lnTo>
                  <a:pt x="84" y="793"/>
                </a:lnTo>
                <a:lnTo>
                  <a:pt x="76" y="794"/>
                </a:lnTo>
                <a:lnTo>
                  <a:pt x="67" y="796"/>
                </a:lnTo>
                <a:lnTo>
                  <a:pt x="59" y="800"/>
                </a:lnTo>
                <a:lnTo>
                  <a:pt x="51" y="800"/>
                </a:lnTo>
                <a:lnTo>
                  <a:pt x="44" y="804"/>
                </a:lnTo>
                <a:lnTo>
                  <a:pt x="34" y="804"/>
                </a:lnTo>
                <a:lnTo>
                  <a:pt x="29" y="806"/>
                </a:lnTo>
                <a:lnTo>
                  <a:pt x="21" y="806"/>
                </a:lnTo>
                <a:lnTo>
                  <a:pt x="13" y="808"/>
                </a:lnTo>
                <a:lnTo>
                  <a:pt x="6" y="808"/>
                </a:lnTo>
                <a:lnTo>
                  <a:pt x="0" y="808"/>
                </a:lnTo>
                <a:lnTo>
                  <a:pt x="8" y="800"/>
                </a:lnTo>
                <a:lnTo>
                  <a:pt x="19" y="794"/>
                </a:lnTo>
                <a:lnTo>
                  <a:pt x="29" y="789"/>
                </a:lnTo>
                <a:lnTo>
                  <a:pt x="40" y="785"/>
                </a:lnTo>
                <a:lnTo>
                  <a:pt x="50" y="779"/>
                </a:lnTo>
                <a:lnTo>
                  <a:pt x="61" y="777"/>
                </a:lnTo>
                <a:lnTo>
                  <a:pt x="69" y="775"/>
                </a:lnTo>
                <a:lnTo>
                  <a:pt x="74" y="774"/>
                </a:lnTo>
                <a:lnTo>
                  <a:pt x="80" y="772"/>
                </a:lnTo>
                <a:lnTo>
                  <a:pt x="88" y="770"/>
                </a:lnTo>
                <a:lnTo>
                  <a:pt x="93" y="768"/>
                </a:lnTo>
                <a:lnTo>
                  <a:pt x="99" y="766"/>
                </a:lnTo>
                <a:lnTo>
                  <a:pt x="105" y="762"/>
                </a:lnTo>
                <a:lnTo>
                  <a:pt x="110" y="762"/>
                </a:lnTo>
                <a:lnTo>
                  <a:pt x="116" y="758"/>
                </a:lnTo>
                <a:lnTo>
                  <a:pt x="122" y="758"/>
                </a:lnTo>
                <a:lnTo>
                  <a:pt x="129" y="755"/>
                </a:lnTo>
                <a:lnTo>
                  <a:pt x="135" y="753"/>
                </a:lnTo>
                <a:lnTo>
                  <a:pt x="145" y="747"/>
                </a:lnTo>
                <a:lnTo>
                  <a:pt x="158" y="741"/>
                </a:lnTo>
                <a:lnTo>
                  <a:pt x="167" y="734"/>
                </a:lnTo>
                <a:lnTo>
                  <a:pt x="179" y="728"/>
                </a:lnTo>
                <a:lnTo>
                  <a:pt x="171" y="724"/>
                </a:lnTo>
                <a:lnTo>
                  <a:pt x="164" y="724"/>
                </a:lnTo>
                <a:lnTo>
                  <a:pt x="158" y="724"/>
                </a:lnTo>
                <a:lnTo>
                  <a:pt x="152" y="726"/>
                </a:lnTo>
                <a:lnTo>
                  <a:pt x="145" y="726"/>
                </a:lnTo>
                <a:lnTo>
                  <a:pt x="139" y="726"/>
                </a:lnTo>
                <a:lnTo>
                  <a:pt x="133" y="728"/>
                </a:lnTo>
                <a:lnTo>
                  <a:pt x="126" y="730"/>
                </a:lnTo>
                <a:lnTo>
                  <a:pt x="120" y="732"/>
                </a:lnTo>
                <a:lnTo>
                  <a:pt x="112" y="732"/>
                </a:lnTo>
                <a:lnTo>
                  <a:pt x="107" y="734"/>
                </a:lnTo>
                <a:lnTo>
                  <a:pt x="99" y="734"/>
                </a:lnTo>
                <a:lnTo>
                  <a:pt x="93" y="734"/>
                </a:lnTo>
                <a:lnTo>
                  <a:pt x="88" y="734"/>
                </a:lnTo>
                <a:lnTo>
                  <a:pt x="80" y="734"/>
                </a:lnTo>
                <a:lnTo>
                  <a:pt x="74" y="734"/>
                </a:lnTo>
                <a:lnTo>
                  <a:pt x="74" y="730"/>
                </a:lnTo>
                <a:lnTo>
                  <a:pt x="74" y="728"/>
                </a:lnTo>
                <a:lnTo>
                  <a:pt x="82" y="724"/>
                </a:lnTo>
                <a:lnTo>
                  <a:pt x="89" y="722"/>
                </a:lnTo>
                <a:lnTo>
                  <a:pt x="99" y="718"/>
                </a:lnTo>
                <a:lnTo>
                  <a:pt x="107" y="716"/>
                </a:lnTo>
                <a:lnTo>
                  <a:pt x="114" y="713"/>
                </a:lnTo>
                <a:lnTo>
                  <a:pt x="124" y="711"/>
                </a:lnTo>
                <a:lnTo>
                  <a:pt x="131" y="709"/>
                </a:lnTo>
                <a:lnTo>
                  <a:pt x="141" y="707"/>
                </a:lnTo>
                <a:lnTo>
                  <a:pt x="148" y="703"/>
                </a:lnTo>
                <a:lnTo>
                  <a:pt x="158" y="701"/>
                </a:lnTo>
                <a:lnTo>
                  <a:pt x="166" y="699"/>
                </a:lnTo>
                <a:lnTo>
                  <a:pt x="175" y="697"/>
                </a:lnTo>
                <a:lnTo>
                  <a:pt x="185" y="696"/>
                </a:lnTo>
                <a:lnTo>
                  <a:pt x="192" y="694"/>
                </a:lnTo>
                <a:lnTo>
                  <a:pt x="200" y="692"/>
                </a:lnTo>
                <a:lnTo>
                  <a:pt x="209" y="692"/>
                </a:lnTo>
                <a:lnTo>
                  <a:pt x="204" y="686"/>
                </a:lnTo>
                <a:lnTo>
                  <a:pt x="196" y="680"/>
                </a:lnTo>
                <a:lnTo>
                  <a:pt x="188" y="678"/>
                </a:lnTo>
                <a:lnTo>
                  <a:pt x="181" y="678"/>
                </a:lnTo>
                <a:lnTo>
                  <a:pt x="171" y="677"/>
                </a:lnTo>
                <a:lnTo>
                  <a:pt x="162" y="677"/>
                </a:lnTo>
                <a:lnTo>
                  <a:pt x="154" y="678"/>
                </a:lnTo>
                <a:lnTo>
                  <a:pt x="145" y="680"/>
                </a:lnTo>
                <a:lnTo>
                  <a:pt x="135" y="680"/>
                </a:lnTo>
                <a:lnTo>
                  <a:pt x="127" y="682"/>
                </a:lnTo>
                <a:lnTo>
                  <a:pt x="118" y="684"/>
                </a:lnTo>
                <a:lnTo>
                  <a:pt x="110" y="686"/>
                </a:lnTo>
                <a:lnTo>
                  <a:pt x="99" y="686"/>
                </a:lnTo>
                <a:lnTo>
                  <a:pt x="89" y="688"/>
                </a:lnTo>
                <a:lnTo>
                  <a:pt x="82" y="688"/>
                </a:lnTo>
                <a:lnTo>
                  <a:pt x="74" y="688"/>
                </a:lnTo>
                <a:lnTo>
                  <a:pt x="76" y="678"/>
                </a:lnTo>
                <a:lnTo>
                  <a:pt x="80" y="671"/>
                </a:lnTo>
                <a:lnTo>
                  <a:pt x="84" y="663"/>
                </a:lnTo>
                <a:lnTo>
                  <a:pt x="89" y="658"/>
                </a:lnTo>
                <a:lnTo>
                  <a:pt x="97" y="652"/>
                </a:lnTo>
                <a:lnTo>
                  <a:pt x="105" y="648"/>
                </a:lnTo>
                <a:lnTo>
                  <a:pt x="112" y="644"/>
                </a:lnTo>
                <a:lnTo>
                  <a:pt x="122" y="640"/>
                </a:lnTo>
                <a:lnTo>
                  <a:pt x="129" y="639"/>
                </a:lnTo>
                <a:lnTo>
                  <a:pt x="139" y="635"/>
                </a:lnTo>
                <a:lnTo>
                  <a:pt x="148" y="631"/>
                </a:lnTo>
                <a:lnTo>
                  <a:pt x="158" y="629"/>
                </a:lnTo>
                <a:lnTo>
                  <a:pt x="166" y="625"/>
                </a:lnTo>
                <a:lnTo>
                  <a:pt x="175" y="623"/>
                </a:lnTo>
                <a:lnTo>
                  <a:pt x="185" y="621"/>
                </a:lnTo>
                <a:lnTo>
                  <a:pt x="194" y="620"/>
                </a:lnTo>
                <a:lnTo>
                  <a:pt x="194" y="616"/>
                </a:lnTo>
                <a:lnTo>
                  <a:pt x="194" y="614"/>
                </a:lnTo>
                <a:lnTo>
                  <a:pt x="185" y="610"/>
                </a:lnTo>
                <a:lnTo>
                  <a:pt x="177" y="608"/>
                </a:lnTo>
                <a:lnTo>
                  <a:pt x="167" y="608"/>
                </a:lnTo>
                <a:lnTo>
                  <a:pt x="160" y="608"/>
                </a:lnTo>
                <a:lnTo>
                  <a:pt x="150" y="608"/>
                </a:lnTo>
                <a:lnTo>
                  <a:pt x="141" y="608"/>
                </a:lnTo>
                <a:lnTo>
                  <a:pt x="131" y="606"/>
                </a:lnTo>
                <a:lnTo>
                  <a:pt x="124" y="604"/>
                </a:lnTo>
                <a:lnTo>
                  <a:pt x="127" y="595"/>
                </a:lnTo>
                <a:lnTo>
                  <a:pt x="133" y="587"/>
                </a:lnTo>
                <a:lnTo>
                  <a:pt x="141" y="580"/>
                </a:lnTo>
                <a:lnTo>
                  <a:pt x="148" y="574"/>
                </a:lnTo>
                <a:lnTo>
                  <a:pt x="154" y="566"/>
                </a:lnTo>
                <a:lnTo>
                  <a:pt x="164" y="559"/>
                </a:lnTo>
                <a:lnTo>
                  <a:pt x="171" y="551"/>
                </a:lnTo>
                <a:lnTo>
                  <a:pt x="181" y="545"/>
                </a:lnTo>
                <a:lnTo>
                  <a:pt x="188" y="538"/>
                </a:lnTo>
                <a:lnTo>
                  <a:pt x="198" y="530"/>
                </a:lnTo>
                <a:lnTo>
                  <a:pt x="205" y="523"/>
                </a:lnTo>
                <a:lnTo>
                  <a:pt x="213" y="515"/>
                </a:lnTo>
                <a:lnTo>
                  <a:pt x="217" y="505"/>
                </a:lnTo>
                <a:lnTo>
                  <a:pt x="224" y="500"/>
                </a:lnTo>
                <a:lnTo>
                  <a:pt x="228" y="490"/>
                </a:lnTo>
                <a:lnTo>
                  <a:pt x="234" y="483"/>
                </a:lnTo>
                <a:lnTo>
                  <a:pt x="223" y="483"/>
                </a:lnTo>
                <a:lnTo>
                  <a:pt x="211" y="485"/>
                </a:lnTo>
                <a:lnTo>
                  <a:pt x="200" y="486"/>
                </a:lnTo>
                <a:lnTo>
                  <a:pt x="190" y="492"/>
                </a:lnTo>
                <a:lnTo>
                  <a:pt x="181" y="498"/>
                </a:lnTo>
                <a:lnTo>
                  <a:pt x="171" y="504"/>
                </a:lnTo>
                <a:lnTo>
                  <a:pt x="162" y="511"/>
                </a:lnTo>
                <a:lnTo>
                  <a:pt x="152" y="517"/>
                </a:lnTo>
                <a:lnTo>
                  <a:pt x="141" y="523"/>
                </a:lnTo>
                <a:lnTo>
                  <a:pt x="131" y="528"/>
                </a:lnTo>
                <a:lnTo>
                  <a:pt x="122" y="534"/>
                </a:lnTo>
                <a:lnTo>
                  <a:pt x="112" y="540"/>
                </a:lnTo>
                <a:lnTo>
                  <a:pt x="103" y="543"/>
                </a:lnTo>
                <a:lnTo>
                  <a:pt x="93" y="547"/>
                </a:lnTo>
                <a:lnTo>
                  <a:pt x="84" y="551"/>
                </a:lnTo>
                <a:lnTo>
                  <a:pt x="74" y="553"/>
                </a:lnTo>
                <a:lnTo>
                  <a:pt x="74" y="547"/>
                </a:lnTo>
                <a:lnTo>
                  <a:pt x="76" y="542"/>
                </a:lnTo>
                <a:lnTo>
                  <a:pt x="78" y="536"/>
                </a:lnTo>
                <a:lnTo>
                  <a:pt x="82" y="532"/>
                </a:lnTo>
                <a:lnTo>
                  <a:pt x="88" y="523"/>
                </a:lnTo>
                <a:lnTo>
                  <a:pt x="97" y="515"/>
                </a:lnTo>
                <a:lnTo>
                  <a:pt x="105" y="509"/>
                </a:lnTo>
                <a:lnTo>
                  <a:pt x="114" y="502"/>
                </a:lnTo>
                <a:lnTo>
                  <a:pt x="126" y="496"/>
                </a:lnTo>
                <a:lnTo>
                  <a:pt x="135" y="492"/>
                </a:lnTo>
                <a:lnTo>
                  <a:pt x="145" y="485"/>
                </a:lnTo>
                <a:lnTo>
                  <a:pt x="154" y="481"/>
                </a:lnTo>
                <a:lnTo>
                  <a:pt x="164" y="475"/>
                </a:lnTo>
                <a:lnTo>
                  <a:pt x="173" y="469"/>
                </a:lnTo>
                <a:lnTo>
                  <a:pt x="179" y="464"/>
                </a:lnTo>
                <a:lnTo>
                  <a:pt x="186" y="458"/>
                </a:lnTo>
                <a:lnTo>
                  <a:pt x="190" y="450"/>
                </a:lnTo>
                <a:lnTo>
                  <a:pt x="194" y="445"/>
                </a:lnTo>
                <a:lnTo>
                  <a:pt x="186" y="447"/>
                </a:lnTo>
                <a:lnTo>
                  <a:pt x="179" y="448"/>
                </a:lnTo>
                <a:lnTo>
                  <a:pt x="171" y="450"/>
                </a:lnTo>
                <a:lnTo>
                  <a:pt x="166" y="454"/>
                </a:lnTo>
                <a:lnTo>
                  <a:pt x="158" y="456"/>
                </a:lnTo>
                <a:lnTo>
                  <a:pt x="152" y="458"/>
                </a:lnTo>
                <a:lnTo>
                  <a:pt x="145" y="460"/>
                </a:lnTo>
                <a:lnTo>
                  <a:pt x="139" y="464"/>
                </a:lnTo>
                <a:lnTo>
                  <a:pt x="129" y="466"/>
                </a:lnTo>
                <a:lnTo>
                  <a:pt x="122" y="467"/>
                </a:lnTo>
                <a:lnTo>
                  <a:pt x="114" y="469"/>
                </a:lnTo>
                <a:lnTo>
                  <a:pt x="108" y="473"/>
                </a:lnTo>
                <a:lnTo>
                  <a:pt x="99" y="475"/>
                </a:lnTo>
                <a:lnTo>
                  <a:pt x="93" y="479"/>
                </a:lnTo>
                <a:lnTo>
                  <a:pt x="86" y="483"/>
                </a:lnTo>
                <a:lnTo>
                  <a:pt x="78" y="486"/>
                </a:lnTo>
                <a:lnTo>
                  <a:pt x="76" y="485"/>
                </a:lnTo>
                <a:lnTo>
                  <a:pt x="82" y="475"/>
                </a:lnTo>
                <a:lnTo>
                  <a:pt x="88" y="467"/>
                </a:lnTo>
                <a:lnTo>
                  <a:pt x="95" y="460"/>
                </a:lnTo>
                <a:lnTo>
                  <a:pt x="105" y="454"/>
                </a:lnTo>
                <a:lnTo>
                  <a:pt x="112" y="448"/>
                </a:lnTo>
                <a:lnTo>
                  <a:pt x="122" y="443"/>
                </a:lnTo>
                <a:lnTo>
                  <a:pt x="131" y="439"/>
                </a:lnTo>
                <a:lnTo>
                  <a:pt x="141" y="437"/>
                </a:lnTo>
                <a:lnTo>
                  <a:pt x="150" y="431"/>
                </a:lnTo>
                <a:lnTo>
                  <a:pt x="158" y="428"/>
                </a:lnTo>
                <a:lnTo>
                  <a:pt x="166" y="422"/>
                </a:lnTo>
                <a:lnTo>
                  <a:pt x="173" y="416"/>
                </a:lnTo>
                <a:lnTo>
                  <a:pt x="179" y="410"/>
                </a:lnTo>
                <a:lnTo>
                  <a:pt x="186" y="403"/>
                </a:lnTo>
                <a:lnTo>
                  <a:pt x="190" y="395"/>
                </a:lnTo>
                <a:lnTo>
                  <a:pt x="194" y="388"/>
                </a:lnTo>
                <a:lnTo>
                  <a:pt x="185" y="391"/>
                </a:lnTo>
                <a:lnTo>
                  <a:pt x="175" y="393"/>
                </a:lnTo>
                <a:lnTo>
                  <a:pt x="164" y="395"/>
                </a:lnTo>
                <a:lnTo>
                  <a:pt x="154" y="395"/>
                </a:lnTo>
                <a:lnTo>
                  <a:pt x="143" y="395"/>
                </a:lnTo>
                <a:lnTo>
                  <a:pt x="131" y="395"/>
                </a:lnTo>
                <a:lnTo>
                  <a:pt x="120" y="393"/>
                </a:lnTo>
                <a:lnTo>
                  <a:pt x="110" y="395"/>
                </a:lnTo>
                <a:lnTo>
                  <a:pt x="118" y="388"/>
                </a:lnTo>
                <a:lnTo>
                  <a:pt x="126" y="384"/>
                </a:lnTo>
                <a:lnTo>
                  <a:pt x="131" y="376"/>
                </a:lnTo>
                <a:lnTo>
                  <a:pt x="139" y="372"/>
                </a:lnTo>
                <a:lnTo>
                  <a:pt x="145" y="365"/>
                </a:lnTo>
                <a:lnTo>
                  <a:pt x="150" y="359"/>
                </a:lnTo>
                <a:lnTo>
                  <a:pt x="156" y="353"/>
                </a:lnTo>
                <a:lnTo>
                  <a:pt x="162" y="348"/>
                </a:lnTo>
                <a:lnTo>
                  <a:pt x="167" y="340"/>
                </a:lnTo>
                <a:lnTo>
                  <a:pt x="171" y="332"/>
                </a:lnTo>
                <a:lnTo>
                  <a:pt x="175" y="325"/>
                </a:lnTo>
                <a:lnTo>
                  <a:pt x="179" y="319"/>
                </a:lnTo>
                <a:lnTo>
                  <a:pt x="183" y="312"/>
                </a:lnTo>
                <a:lnTo>
                  <a:pt x="186" y="304"/>
                </a:lnTo>
                <a:lnTo>
                  <a:pt x="190" y="296"/>
                </a:lnTo>
                <a:lnTo>
                  <a:pt x="194" y="291"/>
                </a:lnTo>
                <a:lnTo>
                  <a:pt x="196" y="281"/>
                </a:lnTo>
                <a:lnTo>
                  <a:pt x="200" y="274"/>
                </a:lnTo>
                <a:lnTo>
                  <a:pt x="202" y="266"/>
                </a:lnTo>
                <a:lnTo>
                  <a:pt x="205" y="258"/>
                </a:lnTo>
                <a:lnTo>
                  <a:pt x="207" y="249"/>
                </a:lnTo>
                <a:lnTo>
                  <a:pt x="209" y="241"/>
                </a:lnTo>
                <a:lnTo>
                  <a:pt x="213" y="236"/>
                </a:lnTo>
                <a:lnTo>
                  <a:pt x="215" y="228"/>
                </a:lnTo>
                <a:lnTo>
                  <a:pt x="217" y="218"/>
                </a:lnTo>
                <a:lnTo>
                  <a:pt x="219" y="211"/>
                </a:lnTo>
                <a:lnTo>
                  <a:pt x="221" y="203"/>
                </a:lnTo>
                <a:lnTo>
                  <a:pt x="224" y="196"/>
                </a:lnTo>
                <a:lnTo>
                  <a:pt x="226" y="186"/>
                </a:lnTo>
                <a:lnTo>
                  <a:pt x="228" y="180"/>
                </a:lnTo>
                <a:lnTo>
                  <a:pt x="230" y="171"/>
                </a:lnTo>
                <a:lnTo>
                  <a:pt x="234" y="165"/>
                </a:lnTo>
                <a:lnTo>
                  <a:pt x="236" y="171"/>
                </a:lnTo>
                <a:lnTo>
                  <a:pt x="238" y="177"/>
                </a:lnTo>
                <a:lnTo>
                  <a:pt x="240" y="182"/>
                </a:lnTo>
                <a:lnTo>
                  <a:pt x="242" y="190"/>
                </a:lnTo>
                <a:lnTo>
                  <a:pt x="242" y="197"/>
                </a:lnTo>
                <a:lnTo>
                  <a:pt x="242" y="207"/>
                </a:lnTo>
                <a:lnTo>
                  <a:pt x="240" y="213"/>
                </a:lnTo>
                <a:lnTo>
                  <a:pt x="238" y="222"/>
                </a:lnTo>
                <a:lnTo>
                  <a:pt x="236" y="230"/>
                </a:lnTo>
                <a:lnTo>
                  <a:pt x="234" y="239"/>
                </a:lnTo>
                <a:lnTo>
                  <a:pt x="232" y="247"/>
                </a:lnTo>
                <a:lnTo>
                  <a:pt x="230" y="256"/>
                </a:lnTo>
                <a:lnTo>
                  <a:pt x="226" y="264"/>
                </a:lnTo>
                <a:lnTo>
                  <a:pt x="226" y="272"/>
                </a:lnTo>
                <a:lnTo>
                  <a:pt x="224" y="277"/>
                </a:lnTo>
                <a:lnTo>
                  <a:pt x="223" y="285"/>
                </a:lnTo>
                <a:lnTo>
                  <a:pt x="224" y="287"/>
                </a:lnTo>
                <a:lnTo>
                  <a:pt x="228" y="291"/>
                </a:lnTo>
                <a:lnTo>
                  <a:pt x="236" y="283"/>
                </a:lnTo>
                <a:lnTo>
                  <a:pt x="245" y="277"/>
                </a:lnTo>
                <a:lnTo>
                  <a:pt x="251" y="272"/>
                </a:lnTo>
                <a:lnTo>
                  <a:pt x="259" y="264"/>
                </a:lnTo>
                <a:lnTo>
                  <a:pt x="262" y="255"/>
                </a:lnTo>
                <a:lnTo>
                  <a:pt x="268" y="247"/>
                </a:lnTo>
                <a:lnTo>
                  <a:pt x="272" y="237"/>
                </a:lnTo>
                <a:lnTo>
                  <a:pt x="278" y="228"/>
                </a:lnTo>
                <a:lnTo>
                  <a:pt x="280" y="218"/>
                </a:lnTo>
                <a:lnTo>
                  <a:pt x="283" y="209"/>
                </a:lnTo>
                <a:lnTo>
                  <a:pt x="287" y="199"/>
                </a:lnTo>
                <a:lnTo>
                  <a:pt x="291" y="190"/>
                </a:lnTo>
                <a:lnTo>
                  <a:pt x="293" y="180"/>
                </a:lnTo>
                <a:lnTo>
                  <a:pt x="297" y="171"/>
                </a:lnTo>
                <a:lnTo>
                  <a:pt x="301" y="161"/>
                </a:lnTo>
                <a:lnTo>
                  <a:pt x="308" y="154"/>
                </a:lnTo>
                <a:lnTo>
                  <a:pt x="314" y="154"/>
                </a:lnTo>
                <a:lnTo>
                  <a:pt x="314" y="159"/>
                </a:lnTo>
                <a:lnTo>
                  <a:pt x="316" y="165"/>
                </a:lnTo>
                <a:lnTo>
                  <a:pt x="318" y="173"/>
                </a:lnTo>
                <a:lnTo>
                  <a:pt x="318" y="178"/>
                </a:lnTo>
                <a:lnTo>
                  <a:pt x="318" y="184"/>
                </a:lnTo>
                <a:lnTo>
                  <a:pt x="318" y="190"/>
                </a:lnTo>
                <a:lnTo>
                  <a:pt x="318" y="196"/>
                </a:lnTo>
                <a:lnTo>
                  <a:pt x="318" y="203"/>
                </a:lnTo>
                <a:lnTo>
                  <a:pt x="316" y="213"/>
                </a:lnTo>
                <a:lnTo>
                  <a:pt x="314" y="226"/>
                </a:lnTo>
                <a:lnTo>
                  <a:pt x="312" y="230"/>
                </a:lnTo>
                <a:lnTo>
                  <a:pt x="310" y="237"/>
                </a:lnTo>
                <a:lnTo>
                  <a:pt x="310" y="241"/>
                </a:lnTo>
                <a:lnTo>
                  <a:pt x="308" y="249"/>
                </a:lnTo>
                <a:lnTo>
                  <a:pt x="302" y="258"/>
                </a:lnTo>
                <a:lnTo>
                  <a:pt x="301" y="272"/>
                </a:lnTo>
                <a:lnTo>
                  <a:pt x="295" y="281"/>
                </a:lnTo>
                <a:lnTo>
                  <a:pt x="291" y="293"/>
                </a:lnTo>
                <a:lnTo>
                  <a:pt x="289" y="304"/>
                </a:lnTo>
                <a:lnTo>
                  <a:pt x="285" y="315"/>
                </a:lnTo>
                <a:lnTo>
                  <a:pt x="283" y="321"/>
                </a:lnTo>
                <a:lnTo>
                  <a:pt x="283" y="327"/>
                </a:lnTo>
                <a:lnTo>
                  <a:pt x="283" y="332"/>
                </a:lnTo>
                <a:lnTo>
                  <a:pt x="283" y="340"/>
                </a:lnTo>
                <a:lnTo>
                  <a:pt x="293" y="336"/>
                </a:lnTo>
                <a:lnTo>
                  <a:pt x="302" y="332"/>
                </a:lnTo>
                <a:lnTo>
                  <a:pt x="310" y="327"/>
                </a:lnTo>
                <a:lnTo>
                  <a:pt x="320" y="319"/>
                </a:lnTo>
                <a:lnTo>
                  <a:pt x="325" y="310"/>
                </a:lnTo>
                <a:lnTo>
                  <a:pt x="333" y="300"/>
                </a:lnTo>
                <a:lnTo>
                  <a:pt x="339" y="291"/>
                </a:lnTo>
                <a:lnTo>
                  <a:pt x="346" y="279"/>
                </a:lnTo>
                <a:lnTo>
                  <a:pt x="348" y="274"/>
                </a:lnTo>
                <a:lnTo>
                  <a:pt x="350" y="266"/>
                </a:lnTo>
                <a:lnTo>
                  <a:pt x="352" y="260"/>
                </a:lnTo>
                <a:lnTo>
                  <a:pt x="356" y="255"/>
                </a:lnTo>
                <a:lnTo>
                  <a:pt x="358" y="249"/>
                </a:lnTo>
                <a:lnTo>
                  <a:pt x="359" y="241"/>
                </a:lnTo>
                <a:lnTo>
                  <a:pt x="361" y="236"/>
                </a:lnTo>
                <a:lnTo>
                  <a:pt x="365" y="230"/>
                </a:lnTo>
                <a:lnTo>
                  <a:pt x="365" y="224"/>
                </a:lnTo>
                <a:lnTo>
                  <a:pt x="369" y="218"/>
                </a:lnTo>
                <a:lnTo>
                  <a:pt x="371" y="213"/>
                </a:lnTo>
                <a:lnTo>
                  <a:pt x="373" y="207"/>
                </a:lnTo>
                <a:lnTo>
                  <a:pt x="377" y="196"/>
                </a:lnTo>
                <a:lnTo>
                  <a:pt x="382" y="188"/>
                </a:lnTo>
                <a:lnTo>
                  <a:pt x="390" y="190"/>
                </a:lnTo>
                <a:lnTo>
                  <a:pt x="397" y="194"/>
                </a:lnTo>
                <a:lnTo>
                  <a:pt x="401" y="199"/>
                </a:lnTo>
                <a:lnTo>
                  <a:pt x="405" y="207"/>
                </a:lnTo>
                <a:lnTo>
                  <a:pt x="407" y="213"/>
                </a:lnTo>
                <a:lnTo>
                  <a:pt x="407" y="220"/>
                </a:lnTo>
                <a:lnTo>
                  <a:pt x="407" y="230"/>
                </a:lnTo>
                <a:lnTo>
                  <a:pt x="405" y="239"/>
                </a:lnTo>
                <a:lnTo>
                  <a:pt x="401" y="249"/>
                </a:lnTo>
                <a:lnTo>
                  <a:pt x="399" y="260"/>
                </a:lnTo>
                <a:lnTo>
                  <a:pt x="394" y="272"/>
                </a:lnTo>
                <a:lnTo>
                  <a:pt x="390" y="283"/>
                </a:lnTo>
                <a:lnTo>
                  <a:pt x="384" y="293"/>
                </a:lnTo>
                <a:lnTo>
                  <a:pt x="380" y="304"/>
                </a:lnTo>
                <a:lnTo>
                  <a:pt x="377" y="310"/>
                </a:lnTo>
                <a:lnTo>
                  <a:pt x="375" y="317"/>
                </a:lnTo>
                <a:lnTo>
                  <a:pt x="373" y="321"/>
                </a:lnTo>
                <a:lnTo>
                  <a:pt x="371" y="329"/>
                </a:lnTo>
                <a:lnTo>
                  <a:pt x="363" y="338"/>
                </a:lnTo>
                <a:lnTo>
                  <a:pt x="358" y="348"/>
                </a:lnTo>
                <a:lnTo>
                  <a:pt x="354" y="355"/>
                </a:lnTo>
                <a:lnTo>
                  <a:pt x="350" y="365"/>
                </a:lnTo>
                <a:lnTo>
                  <a:pt x="346" y="372"/>
                </a:lnTo>
                <a:lnTo>
                  <a:pt x="344" y="380"/>
                </a:lnTo>
                <a:lnTo>
                  <a:pt x="342" y="386"/>
                </a:lnTo>
                <a:lnTo>
                  <a:pt x="342" y="391"/>
                </a:lnTo>
                <a:lnTo>
                  <a:pt x="344" y="397"/>
                </a:lnTo>
                <a:lnTo>
                  <a:pt x="354" y="399"/>
                </a:lnTo>
                <a:lnTo>
                  <a:pt x="358" y="395"/>
                </a:lnTo>
                <a:lnTo>
                  <a:pt x="367" y="393"/>
                </a:lnTo>
                <a:lnTo>
                  <a:pt x="373" y="390"/>
                </a:lnTo>
                <a:lnTo>
                  <a:pt x="377" y="386"/>
                </a:lnTo>
                <a:lnTo>
                  <a:pt x="384" y="384"/>
                </a:lnTo>
                <a:lnTo>
                  <a:pt x="392" y="380"/>
                </a:lnTo>
                <a:lnTo>
                  <a:pt x="397" y="369"/>
                </a:lnTo>
                <a:lnTo>
                  <a:pt x="401" y="359"/>
                </a:lnTo>
                <a:lnTo>
                  <a:pt x="407" y="350"/>
                </a:lnTo>
                <a:lnTo>
                  <a:pt x="413" y="340"/>
                </a:lnTo>
                <a:lnTo>
                  <a:pt x="418" y="329"/>
                </a:lnTo>
                <a:lnTo>
                  <a:pt x="426" y="319"/>
                </a:lnTo>
                <a:lnTo>
                  <a:pt x="432" y="310"/>
                </a:lnTo>
                <a:lnTo>
                  <a:pt x="437" y="300"/>
                </a:lnTo>
                <a:lnTo>
                  <a:pt x="445" y="289"/>
                </a:lnTo>
                <a:lnTo>
                  <a:pt x="451" y="279"/>
                </a:lnTo>
                <a:lnTo>
                  <a:pt x="458" y="270"/>
                </a:lnTo>
                <a:lnTo>
                  <a:pt x="466" y="260"/>
                </a:lnTo>
                <a:lnTo>
                  <a:pt x="474" y="251"/>
                </a:lnTo>
                <a:lnTo>
                  <a:pt x="481" y="241"/>
                </a:lnTo>
                <a:lnTo>
                  <a:pt x="489" y="232"/>
                </a:lnTo>
                <a:lnTo>
                  <a:pt x="498" y="226"/>
                </a:lnTo>
                <a:lnTo>
                  <a:pt x="498" y="232"/>
                </a:lnTo>
                <a:lnTo>
                  <a:pt x="498" y="241"/>
                </a:lnTo>
                <a:lnTo>
                  <a:pt x="496" y="249"/>
                </a:lnTo>
                <a:lnTo>
                  <a:pt x="494" y="258"/>
                </a:lnTo>
                <a:lnTo>
                  <a:pt x="493" y="266"/>
                </a:lnTo>
                <a:lnTo>
                  <a:pt x="491" y="274"/>
                </a:lnTo>
                <a:lnTo>
                  <a:pt x="487" y="283"/>
                </a:lnTo>
                <a:lnTo>
                  <a:pt x="483" y="291"/>
                </a:lnTo>
                <a:lnTo>
                  <a:pt x="477" y="298"/>
                </a:lnTo>
                <a:lnTo>
                  <a:pt x="474" y="308"/>
                </a:lnTo>
                <a:lnTo>
                  <a:pt x="470" y="313"/>
                </a:lnTo>
                <a:lnTo>
                  <a:pt x="466" y="323"/>
                </a:lnTo>
                <a:lnTo>
                  <a:pt x="460" y="331"/>
                </a:lnTo>
                <a:lnTo>
                  <a:pt x="454" y="340"/>
                </a:lnTo>
                <a:lnTo>
                  <a:pt x="449" y="348"/>
                </a:lnTo>
                <a:lnTo>
                  <a:pt x="445" y="357"/>
                </a:lnTo>
                <a:lnTo>
                  <a:pt x="439" y="365"/>
                </a:lnTo>
                <a:lnTo>
                  <a:pt x="435" y="372"/>
                </a:lnTo>
                <a:lnTo>
                  <a:pt x="430" y="380"/>
                </a:lnTo>
                <a:lnTo>
                  <a:pt x="426" y="390"/>
                </a:lnTo>
                <a:lnTo>
                  <a:pt x="420" y="397"/>
                </a:lnTo>
                <a:lnTo>
                  <a:pt x="416" y="405"/>
                </a:lnTo>
                <a:lnTo>
                  <a:pt x="413" y="412"/>
                </a:lnTo>
                <a:lnTo>
                  <a:pt x="411" y="422"/>
                </a:lnTo>
                <a:lnTo>
                  <a:pt x="407" y="429"/>
                </a:lnTo>
                <a:lnTo>
                  <a:pt x="403" y="439"/>
                </a:lnTo>
                <a:lnTo>
                  <a:pt x="401" y="447"/>
                </a:lnTo>
                <a:lnTo>
                  <a:pt x="401" y="456"/>
                </a:lnTo>
                <a:lnTo>
                  <a:pt x="401" y="466"/>
                </a:lnTo>
                <a:lnTo>
                  <a:pt x="403" y="473"/>
                </a:lnTo>
                <a:lnTo>
                  <a:pt x="403" y="483"/>
                </a:lnTo>
                <a:lnTo>
                  <a:pt x="407" y="492"/>
                </a:lnTo>
                <a:lnTo>
                  <a:pt x="409" y="485"/>
                </a:lnTo>
                <a:lnTo>
                  <a:pt x="413" y="479"/>
                </a:lnTo>
                <a:lnTo>
                  <a:pt x="416" y="471"/>
                </a:lnTo>
                <a:lnTo>
                  <a:pt x="420" y="464"/>
                </a:lnTo>
                <a:lnTo>
                  <a:pt x="426" y="456"/>
                </a:lnTo>
                <a:lnTo>
                  <a:pt x="430" y="447"/>
                </a:lnTo>
                <a:lnTo>
                  <a:pt x="435" y="439"/>
                </a:lnTo>
                <a:lnTo>
                  <a:pt x="441" y="429"/>
                </a:lnTo>
                <a:lnTo>
                  <a:pt x="447" y="420"/>
                </a:lnTo>
                <a:lnTo>
                  <a:pt x="453" y="412"/>
                </a:lnTo>
                <a:lnTo>
                  <a:pt x="458" y="403"/>
                </a:lnTo>
                <a:lnTo>
                  <a:pt x="464" y="395"/>
                </a:lnTo>
                <a:lnTo>
                  <a:pt x="470" y="388"/>
                </a:lnTo>
                <a:lnTo>
                  <a:pt x="475" y="380"/>
                </a:lnTo>
                <a:lnTo>
                  <a:pt x="481" y="374"/>
                </a:lnTo>
                <a:lnTo>
                  <a:pt x="487" y="369"/>
                </a:lnTo>
                <a:lnTo>
                  <a:pt x="493" y="363"/>
                </a:lnTo>
                <a:lnTo>
                  <a:pt x="496" y="357"/>
                </a:lnTo>
                <a:lnTo>
                  <a:pt x="500" y="353"/>
                </a:lnTo>
                <a:lnTo>
                  <a:pt x="504" y="350"/>
                </a:lnTo>
                <a:lnTo>
                  <a:pt x="512" y="346"/>
                </a:lnTo>
                <a:lnTo>
                  <a:pt x="515" y="350"/>
                </a:lnTo>
                <a:lnTo>
                  <a:pt x="515" y="351"/>
                </a:lnTo>
                <a:lnTo>
                  <a:pt x="515" y="355"/>
                </a:lnTo>
                <a:lnTo>
                  <a:pt x="513" y="363"/>
                </a:lnTo>
                <a:lnTo>
                  <a:pt x="513" y="369"/>
                </a:lnTo>
                <a:lnTo>
                  <a:pt x="510" y="378"/>
                </a:lnTo>
                <a:lnTo>
                  <a:pt x="506" y="390"/>
                </a:lnTo>
                <a:lnTo>
                  <a:pt x="504" y="395"/>
                </a:lnTo>
                <a:lnTo>
                  <a:pt x="502" y="403"/>
                </a:lnTo>
                <a:lnTo>
                  <a:pt x="498" y="410"/>
                </a:lnTo>
                <a:lnTo>
                  <a:pt x="496" y="420"/>
                </a:lnTo>
                <a:lnTo>
                  <a:pt x="489" y="429"/>
                </a:lnTo>
                <a:lnTo>
                  <a:pt x="481" y="441"/>
                </a:lnTo>
                <a:lnTo>
                  <a:pt x="474" y="450"/>
                </a:lnTo>
                <a:lnTo>
                  <a:pt x="466" y="462"/>
                </a:lnTo>
                <a:lnTo>
                  <a:pt x="464" y="467"/>
                </a:lnTo>
                <a:lnTo>
                  <a:pt x="460" y="473"/>
                </a:lnTo>
                <a:lnTo>
                  <a:pt x="456" y="479"/>
                </a:lnTo>
                <a:lnTo>
                  <a:pt x="456" y="486"/>
                </a:lnTo>
                <a:lnTo>
                  <a:pt x="454" y="492"/>
                </a:lnTo>
                <a:lnTo>
                  <a:pt x="454" y="500"/>
                </a:lnTo>
                <a:lnTo>
                  <a:pt x="454" y="505"/>
                </a:lnTo>
                <a:lnTo>
                  <a:pt x="456" y="513"/>
                </a:lnTo>
                <a:lnTo>
                  <a:pt x="458" y="513"/>
                </a:lnTo>
                <a:lnTo>
                  <a:pt x="462" y="513"/>
                </a:lnTo>
                <a:lnTo>
                  <a:pt x="472" y="504"/>
                </a:lnTo>
                <a:lnTo>
                  <a:pt x="483" y="492"/>
                </a:lnTo>
                <a:lnTo>
                  <a:pt x="493" y="483"/>
                </a:lnTo>
                <a:lnTo>
                  <a:pt x="502" y="471"/>
                </a:lnTo>
                <a:lnTo>
                  <a:pt x="510" y="460"/>
                </a:lnTo>
                <a:lnTo>
                  <a:pt x="519" y="448"/>
                </a:lnTo>
                <a:lnTo>
                  <a:pt x="527" y="439"/>
                </a:lnTo>
                <a:lnTo>
                  <a:pt x="536" y="428"/>
                </a:lnTo>
                <a:lnTo>
                  <a:pt x="544" y="416"/>
                </a:lnTo>
                <a:lnTo>
                  <a:pt x="551" y="405"/>
                </a:lnTo>
                <a:lnTo>
                  <a:pt x="561" y="393"/>
                </a:lnTo>
                <a:lnTo>
                  <a:pt x="570" y="384"/>
                </a:lnTo>
                <a:lnTo>
                  <a:pt x="578" y="372"/>
                </a:lnTo>
                <a:lnTo>
                  <a:pt x="588" y="361"/>
                </a:lnTo>
                <a:lnTo>
                  <a:pt x="599" y="350"/>
                </a:lnTo>
                <a:lnTo>
                  <a:pt x="610" y="340"/>
                </a:lnTo>
                <a:lnTo>
                  <a:pt x="610" y="348"/>
                </a:lnTo>
                <a:lnTo>
                  <a:pt x="610" y="355"/>
                </a:lnTo>
                <a:lnTo>
                  <a:pt x="610" y="365"/>
                </a:lnTo>
                <a:lnTo>
                  <a:pt x="608" y="372"/>
                </a:lnTo>
                <a:lnTo>
                  <a:pt x="605" y="380"/>
                </a:lnTo>
                <a:lnTo>
                  <a:pt x="603" y="388"/>
                </a:lnTo>
                <a:lnTo>
                  <a:pt x="601" y="395"/>
                </a:lnTo>
                <a:lnTo>
                  <a:pt x="597" y="405"/>
                </a:lnTo>
                <a:lnTo>
                  <a:pt x="593" y="410"/>
                </a:lnTo>
                <a:lnTo>
                  <a:pt x="589" y="418"/>
                </a:lnTo>
                <a:lnTo>
                  <a:pt x="584" y="426"/>
                </a:lnTo>
                <a:lnTo>
                  <a:pt x="580" y="433"/>
                </a:lnTo>
                <a:lnTo>
                  <a:pt x="576" y="439"/>
                </a:lnTo>
                <a:lnTo>
                  <a:pt x="572" y="447"/>
                </a:lnTo>
                <a:lnTo>
                  <a:pt x="569" y="454"/>
                </a:lnTo>
                <a:lnTo>
                  <a:pt x="567" y="462"/>
                </a:lnTo>
                <a:lnTo>
                  <a:pt x="563" y="467"/>
                </a:lnTo>
                <a:lnTo>
                  <a:pt x="559" y="475"/>
                </a:lnTo>
                <a:lnTo>
                  <a:pt x="557" y="481"/>
                </a:lnTo>
                <a:lnTo>
                  <a:pt x="557" y="488"/>
                </a:lnTo>
                <a:lnTo>
                  <a:pt x="555" y="494"/>
                </a:lnTo>
                <a:lnTo>
                  <a:pt x="555" y="502"/>
                </a:lnTo>
                <a:lnTo>
                  <a:pt x="557" y="507"/>
                </a:lnTo>
                <a:lnTo>
                  <a:pt x="559" y="515"/>
                </a:lnTo>
                <a:lnTo>
                  <a:pt x="561" y="521"/>
                </a:lnTo>
                <a:lnTo>
                  <a:pt x="567" y="528"/>
                </a:lnTo>
                <a:lnTo>
                  <a:pt x="570" y="534"/>
                </a:lnTo>
                <a:lnTo>
                  <a:pt x="578" y="542"/>
                </a:lnTo>
                <a:lnTo>
                  <a:pt x="586" y="549"/>
                </a:lnTo>
                <a:lnTo>
                  <a:pt x="595" y="557"/>
                </a:lnTo>
                <a:lnTo>
                  <a:pt x="601" y="559"/>
                </a:lnTo>
                <a:lnTo>
                  <a:pt x="607" y="564"/>
                </a:lnTo>
                <a:lnTo>
                  <a:pt x="614" y="566"/>
                </a:lnTo>
                <a:lnTo>
                  <a:pt x="622" y="570"/>
                </a:lnTo>
                <a:lnTo>
                  <a:pt x="626" y="570"/>
                </a:lnTo>
                <a:lnTo>
                  <a:pt x="633" y="572"/>
                </a:lnTo>
                <a:lnTo>
                  <a:pt x="639" y="574"/>
                </a:lnTo>
                <a:lnTo>
                  <a:pt x="645" y="574"/>
                </a:lnTo>
                <a:lnTo>
                  <a:pt x="650" y="574"/>
                </a:lnTo>
                <a:lnTo>
                  <a:pt x="658" y="574"/>
                </a:lnTo>
                <a:lnTo>
                  <a:pt x="662" y="574"/>
                </a:lnTo>
                <a:lnTo>
                  <a:pt x="669" y="576"/>
                </a:lnTo>
                <a:lnTo>
                  <a:pt x="679" y="574"/>
                </a:lnTo>
                <a:lnTo>
                  <a:pt x="690" y="574"/>
                </a:lnTo>
                <a:lnTo>
                  <a:pt x="700" y="574"/>
                </a:lnTo>
                <a:lnTo>
                  <a:pt x="711" y="572"/>
                </a:lnTo>
                <a:lnTo>
                  <a:pt x="721" y="568"/>
                </a:lnTo>
                <a:lnTo>
                  <a:pt x="730" y="566"/>
                </a:lnTo>
                <a:lnTo>
                  <a:pt x="738" y="563"/>
                </a:lnTo>
                <a:lnTo>
                  <a:pt x="747" y="559"/>
                </a:lnTo>
                <a:lnTo>
                  <a:pt x="755" y="555"/>
                </a:lnTo>
                <a:lnTo>
                  <a:pt x="764" y="551"/>
                </a:lnTo>
                <a:lnTo>
                  <a:pt x="772" y="545"/>
                </a:lnTo>
                <a:lnTo>
                  <a:pt x="781" y="542"/>
                </a:lnTo>
                <a:lnTo>
                  <a:pt x="789" y="534"/>
                </a:lnTo>
                <a:lnTo>
                  <a:pt x="797" y="528"/>
                </a:lnTo>
                <a:lnTo>
                  <a:pt x="804" y="523"/>
                </a:lnTo>
                <a:lnTo>
                  <a:pt x="810" y="515"/>
                </a:lnTo>
                <a:lnTo>
                  <a:pt x="818" y="509"/>
                </a:lnTo>
                <a:lnTo>
                  <a:pt x="825" y="502"/>
                </a:lnTo>
                <a:lnTo>
                  <a:pt x="831" y="494"/>
                </a:lnTo>
                <a:lnTo>
                  <a:pt x="839" y="486"/>
                </a:lnTo>
                <a:lnTo>
                  <a:pt x="844" y="477"/>
                </a:lnTo>
                <a:lnTo>
                  <a:pt x="852" y="469"/>
                </a:lnTo>
                <a:lnTo>
                  <a:pt x="859" y="460"/>
                </a:lnTo>
                <a:lnTo>
                  <a:pt x="865" y="452"/>
                </a:lnTo>
                <a:lnTo>
                  <a:pt x="873" y="443"/>
                </a:lnTo>
                <a:lnTo>
                  <a:pt x="878" y="433"/>
                </a:lnTo>
                <a:lnTo>
                  <a:pt x="886" y="424"/>
                </a:lnTo>
                <a:lnTo>
                  <a:pt x="894" y="416"/>
                </a:lnTo>
                <a:lnTo>
                  <a:pt x="888" y="412"/>
                </a:lnTo>
                <a:lnTo>
                  <a:pt x="880" y="410"/>
                </a:lnTo>
                <a:lnTo>
                  <a:pt x="873" y="410"/>
                </a:lnTo>
                <a:lnTo>
                  <a:pt x="867" y="410"/>
                </a:lnTo>
                <a:lnTo>
                  <a:pt x="859" y="410"/>
                </a:lnTo>
                <a:lnTo>
                  <a:pt x="852" y="410"/>
                </a:lnTo>
                <a:lnTo>
                  <a:pt x="846" y="410"/>
                </a:lnTo>
                <a:lnTo>
                  <a:pt x="839" y="409"/>
                </a:lnTo>
                <a:lnTo>
                  <a:pt x="839" y="405"/>
                </a:lnTo>
                <a:lnTo>
                  <a:pt x="839" y="403"/>
                </a:lnTo>
                <a:lnTo>
                  <a:pt x="846" y="401"/>
                </a:lnTo>
                <a:lnTo>
                  <a:pt x="854" y="397"/>
                </a:lnTo>
                <a:lnTo>
                  <a:pt x="861" y="395"/>
                </a:lnTo>
                <a:lnTo>
                  <a:pt x="869" y="393"/>
                </a:lnTo>
                <a:lnTo>
                  <a:pt x="877" y="390"/>
                </a:lnTo>
                <a:lnTo>
                  <a:pt x="884" y="388"/>
                </a:lnTo>
                <a:lnTo>
                  <a:pt x="892" y="386"/>
                </a:lnTo>
                <a:lnTo>
                  <a:pt x="901" y="384"/>
                </a:lnTo>
                <a:lnTo>
                  <a:pt x="909" y="378"/>
                </a:lnTo>
                <a:lnTo>
                  <a:pt x="916" y="376"/>
                </a:lnTo>
                <a:lnTo>
                  <a:pt x="922" y="372"/>
                </a:lnTo>
                <a:lnTo>
                  <a:pt x="930" y="369"/>
                </a:lnTo>
                <a:lnTo>
                  <a:pt x="935" y="363"/>
                </a:lnTo>
                <a:lnTo>
                  <a:pt x="943" y="357"/>
                </a:lnTo>
                <a:lnTo>
                  <a:pt x="947" y="350"/>
                </a:lnTo>
                <a:lnTo>
                  <a:pt x="954" y="344"/>
                </a:lnTo>
                <a:lnTo>
                  <a:pt x="943" y="340"/>
                </a:lnTo>
                <a:lnTo>
                  <a:pt x="934" y="340"/>
                </a:lnTo>
                <a:lnTo>
                  <a:pt x="926" y="338"/>
                </a:lnTo>
                <a:lnTo>
                  <a:pt x="920" y="338"/>
                </a:lnTo>
                <a:lnTo>
                  <a:pt x="915" y="338"/>
                </a:lnTo>
                <a:lnTo>
                  <a:pt x="909" y="340"/>
                </a:lnTo>
                <a:lnTo>
                  <a:pt x="903" y="340"/>
                </a:lnTo>
                <a:lnTo>
                  <a:pt x="897" y="340"/>
                </a:lnTo>
                <a:lnTo>
                  <a:pt x="890" y="340"/>
                </a:lnTo>
                <a:lnTo>
                  <a:pt x="884" y="340"/>
                </a:lnTo>
                <a:lnTo>
                  <a:pt x="878" y="338"/>
                </a:lnTo>
                <a:lnTo>
                  <a:pt x="873" y="338"/>
                </a:lnTo>
                <a:lnTo>
                  <a:pt x="867" y="338"/>
                </a:lnTo>
                <a:lnTo>
                  <a:pt x="863" y="338"/>
                </a:lnTo>
                <a:lnTo>
                  <a:pt x="863" y="334"/>
                </a:lnTo>
                <a:lnTo>
                  <a:pt x="863" y="332"/>
                </a:lnTo>
                <a:lnTo>
                  <a:pt x="869" y="331"/>
                </a:lnTo>
                <a:lnTo>
                  <a:pt x="875" y="331"/>
                </a:lnTo>
                <a:lnTo>
                  <a:pt x="880" y="329"/>
                </a:lnTo>
                <a:lnTo>
                  <a:pt x="888" y="329"/>
                </a:lnTo>
                <a:lnTo>
                  <a:pt x="892" y="329"/>
                </a:lnTo>
                <a:lnTo>
                  <a:pt x="899" y="329"/>
                </a:lnTo>
                <a:lnTo>
                  <a:pt x="905" y="327"/>
                </a:lnTo>
                <a:lnTo>
                  <a:pt x="911" y="327"/>
                </a:lnTo>
                <a:lnTo>
                  <a:pt x="916" y="325"/>
                </a:lnTo>
                <a:lnTo>
                  <a:pt x="922" y="323"/>
                </a:lnTo>
                <a:lnTo>
                  <a:pt x="928" y="323"/>
                </a:lnTo>
                <a:lnTo>
                  <a:pt x="935" y="321"/>
                </a:lnTo>
                <a:lnTo>
                  <a:pt x="939" y="319"/>
                </a:lnTo>
                <a:lnTo>
                  <a:pt x="947" y="317"/>
                </a:lnTo>
                <a:lnTo>
                  <a:pt x="953" y="315"/>
                </a:lnTo>
                <a:lnTo>
                  <a:pt x="958" y="313"/>
                </a:lnTo>
                <a:lnTo>
                  <a:pt x="958" y="312"/>
                </a:lnTo>
                <a:lnTo>
                  <a:pt x="958" y="310"/>
                </a:lnTo>
                <a:lnTo>
                  <a:pt x="947" y="308"/>
                </a:lnTo>
                <a:lnTo>
                  <a:pt x="937" y="308"/>
                </a:lnTo>
                <a:lnTo>
                  <a:pt x="928" y="306"/>
                </a:lnTo>
                <a:lnTo>
                  <a:pt x="918" y="306"/>
                </a:lnTo>
                <a:lnTo>
                  <a:pt x="909" y="304"/>
                </a:lnTo>
                <a:lnTo>
                  <a:pt x="899" y="302"/>
                </a:lnTo>
                <a:lnTo>
                  <a:pt x="890" y="300"/>
                </a:lnTo>
                <a:lnTo>
                  <a:pt x="880" y="300"/>
                </a:lnTo>
                <a:lnTo>
                  <a:pt x="871" y="296"/>
                </a:lnTo>
                <a:lnTo>
                  <a:pt x="861" y="294"/>
                </a:lnTo>
                <a:lnTo>
                  <a:pt x="852" y="293"/>
                </a:lnTo>
                <a:lnTo>
                  <a:pt x="842" y="293"/>
                </a:lnTo>
                <a:lnTo>
                  <a:pt x="831" y="291"/>
                </a:lnTo>
                <a:lnTo>
                  <a:pt x="821" y="291"/>
                </a:lnTo>
                <a:lnTo>
                  <a:pt x="812" y="291"/>
                </a:lnTo>
                <a:lnTo>
                  <a:pt x="802" y="291"/>
                </a:lnTo>
                <a:lnTo>
                  <a:pt x="802" y="287"/>
                </a:lnTo>
                <a:lnTo>
                  <a:pt x="802" y="285"/>
                </a:lnTo>
                <a:lnTo>
                  <a:pt x="808" y="283"/>
                </a:lnTo>
                <a:lnTo>
                  <a:pt x="816" y="283"/>
                </a:lnTo>
                <a:lnTo>
                  <a:pt x="823" y="281"/>
                </a:lnTo>
                <a:lnTo>
                  <a:pt x="829" y="281"/>
                </a:lnTo>
                <a:lnTo>
                  <a:pt x="837" y="281"/>
                </a:lnTo>
                <a:lnTo>
                  <a:pt x="846" y="281"/>
                </a:lnTo>
                <a:lnTo>
                  <a:pt x="854" y="281"/>
                </a:lnTo>
                <a:lnTo>
                  <a:pt x="861" y="283"/>
                </a:lnTo>
                <a:lnTo>
                  <a:pt x="869" y="283"/>
                </a:lnTo>
                <a:lnTo>
                  <a:pt x="877" y="283"/>
                </a:lnTo>
                <a:lnTo>
                  <a:pt x="884" y="283"/>
                </a:lnTo>
                <a:lnTo>
                  <a:pt x="892" y="283"/>
                </a:lnTo>
                <a:lnTo>
                  <a:pt x="899" y="281"/>
                </a:lnTo>
                <a:lnTo>
                  <a:pt x="907" y="281"/>
                </a:lnTo>
                <a:lnTo>
                  <a:pt x="915" y="281"/>
                </a:lnTo>
                <a:lnTo>
                  <a:pt x="922" y="281"/>
                </a:lnTo>
                <a:lnTo>
                  <a:pt x="922" y="277"/>
                </a:lnTo>
                <a:lnTo>
                  <a:pt x="922" y="275"/>
                </a:lnTo>
                <a:lnTo>
                  <a:pt x="915" y="268"/>
                </a:lnTo>
                <a:lnTo>
                  <a:pt x="907" y="264"/>
                </a:lnTo>
                <a:lnTo>
                  <a:pt x="897" y="260"/>
                </a:lnTo>
                <a:lnTo>
                  <a:pt x="890" y="256"/>
                </a:lnTo>
                <a:lnTo>
                  <a:pt x="882" y="253"/>
                </a:lnTo>
                <a:lnTo>
                  <a:pt x="873" y="249"/>
                </a:lnTo>
                <a:lnTo>
                  <a:pt x="865" y="247"/>
                </a:lnTo>
                <a:lnTo>
                  <a:pt x="858" y="245"/>
                </a:lnTo>
                <a:lnTo>
                  <a:pt x="848" y="241"/>
                </a:lnTo>
                <a:lnTo>
                  <a:pt x="840" y="237"/>
                </a:lnTo>
                <a:lnTo>
                  <a:pt x="831" y="236"/>
                </a:lnTo>
                <a:lnTo>
                  <a:pt x="823" y="234"/>
                </a:lnTo>
                <a:lnTo>
                  <a:pt x="814" y="230"/>
                </a:lnTo>
                <a:lnTo>
                  <a:pt x="806" y="230"/>
                </a:lnTo>
                <a:lnTo>
                  <a:pt x="797" y="226"/>
                </a:lnTo>
                <a:lnTo>
                  <a:pt x="789" y="226"/>
                </a:lnTo>
                <a:lnTo>
                  <a:pt x="793" y="217"/>
                </a:lnTo>
                <a:lnTo>
                  <a:pt x="799" y="211"/>
                </a:lnTo>
                <a:lnTo>
                  <a:pt x="806" y="203"/>
                </a:lnTo>
                <a:lnTo>
                  <a:pt x="818" y="201"/>
                </a:lnTo>
                <a:lnTo>
                  <a:pt x="821" y="199"/>
                </a:lnTo>
                <a:lnTo>
                  <a:pt x="827" y="197"/>
                </a:lnTo>
                <a:lnTo>
                  <a:pt x="833" y="196"/>
                </a:lnTo>
                <a:lnTo>
                  <a:pt x="839" y="194"/>
                </a:lnTo>
                <a:lnTo>
                  <a:pt x="846" y="194"/>
                </a:lnTo>
                <a:lnTo>
                  <a:pt x="852" y="192"/>
                </a:lnTo>
                <a:lnTo>
                  <a:pt x="859" y="192"/>
                </a:lnTo>
                <a:lnTo>
                  <a:pt x="867" y="192"/>
                </a:lnTo>
                <a:lnTo>
                  <a:pt x="873" y="192"/>
                </a:lnTo>
                <a:lnTo>
                  <a:pt x="880" y="190"/>
                </a:lnTo>
                <a:lnTo>
                  <a:pt x="888" y="190"/>
                </a:lnTo>
                <a:lnTo>
                  <a:pt x="894" y="190"/>
                </a:lnTo>
                <a:lnTo>
                  <a:pt x="901" y="188"/>
                </a:lnTo>
                <a:lnTo>
                  <a:pt x="909" y="188"/>
                </a:lnTo>
                <a:lnTo>
                  <a:pt x="916" y="186"/>
                </a:lnTo>
                <a:lnTo>
                  <a:pt x="924" y="186"/>
                </a:lnTo>
                <a:lnTo>
                  <a:pt x="930" y="186"/>
                </a:lnTo>
                <a:lnTo>
                  <a:pt x="937" y="184"/>
                </a:lnTo>
                <a:lnTo>
                  <a:pt x="943" y="184"/>
                </a:lnTo>
                <a:lnTo>
                  <a:pt x="951" y="182"/>
                </a:lnTo>
                <a:lnTo>
                  <a:pt x="956" y="180"/>
                </a:lnTo>
                <a:lnTo>
                  <a:pt x="962" y="180"/>
                </a:lnTo>
                <a:lnTo>
                  <a:pt x="968" y="178"/>
                </a:lnTo>
                <a:lnTo>
                  <a:pt x="975" y="177"/>
                </a:lnTo>
                <a:lnTo>
                  <a:pt x="968" y="171"/>
                </a:lnTo>
                <a:lnTo>
                  <a:pt x="962" y="163"/>
                </a:lnTo>
                <a:lnTo>
                  <a:pt x="954" y="158"/>
                </a:lnTo>
                <a:lnTo>
                  <a:pt x="947" y="156"/>
                </a:lnTo>
                <a:lnTo>
                  <a:pt x="937" y="152"/>
                </a:lnTo>
                <a:lnTo>
                  <a:pt x="930" y="148"/>
                </a:lnTo>
                <a:lnTo>
                  <a:pt x="920" y="146"/>
                </a:lnTo>
                <a:lnTo>
                  <a:pt x="911" y="144"/>
                </a:lnTo>
                <a:lnTo>
                  <a:pt x="901" y="142"/>
                </a:lnTo>
                <a:lnTo>
                  <a:pt x="892" y="140"/>
                </a:lnTo>
                <a:lnTo>
                  <a:pt x="882" y="139"/>
                </a:lnTo>
                <a:lnTo>
                  <a:pt x="873" y="139"/>
                </a:lnTo>
                <a:lnTo>
                  <a:pt x="863" y="137"/>
                </a:lnTo>
                <a:lnTo>
                  <a:pt x="854" y="135"/>
                </a:lnTo>
                <a:lnTo>
                  <a:pt x="846" y="131"/>
                </a:lnTo>
                <a:lnTo>
                  <a:pt x="839" y="131"/>
                </a:lnTo>
                <a:lnTo>
                  <a:pt x="846" y="127"/>
                </a:lnTo>
                <a:lnTo>
                  <a:pt x="856" y="123"/>
                </a:lnTo>
                <a:lnTo>
                  <a:pt x="865" y="121"/>
                </a:lnTo>
                <a:lnTo>
                  <a:pt x="875" y="121"/>
                </a:lnTo>
                <a:lnTo>
                  <a:pt x="884" y="121"/>
                </a:lnTo>
                <a:lnTo>
                  <a:pt x="896" y="125"/>
                </a:lnTo>
                <a:lnTo>
                  <a:pt x="901" y="125"/>
                </a:lnTo>
                <a:lnTo>
                  <a:pt x="907" y="127"/>
                </a:lnTo>
                <a:lnTo>
                  <a:pt x="913" y="129"/>
                </a:lnTo>
                <a:lnTo>
                  <a:pt x="918" y="131"/>
                </a:lnTo>
                <a:lnTo>
                  <a:pt x="930" y="135"/>
                </a:lnTo>
                <a:lnTo>
                  <a:pt x="941" y="137"/>
                </a:lnTo>
                <a:lnTo>
                  <a:pt x="947" y="139"/>
                </a:lnTo>
                <a:lnTo>
                  <a:pt x="953" y="140"/>
                </a:lnTo>
                <a:lnTo>
                  <a:pt x="958" y="142"/>
                </a:lnTo>
                <a:lnTo>
                  <a:pt x="966" y="144"/>
                </a:lnTo>
                <a:lnTo>
                  <a:pt x="972" y="144"/>
                </a:lnTo>
                <a:lnTo>
                  <a:pt x="977" y="146"/>
                </a:lnTo>
                <a:lnTo>
                  <a:pt x="983" y="148"/>
                </a:lnTo>
                <a:lnTo>
                  <a:pt x="989" y="150"/>
                </a:lnTo>
                <a:lnTo>
                  <a:pt x="994" y="150"/>
                </a:lnTo>
                <a:lnTo>
                  <a:pt x="1000" y="152"/>
                </a:lnTo>
                <a:lnTo>
                  <a:pt x="1006" y="152"/>
                </a:lnTo>
                <a:lnTo>
                  <a:pt x="1012" y="154"/>
                </a:lnTo>
                <a:lnTo>
                  <a:pt x="1006" y="148"/>
                </a:lnTo>
                <a:lnTo>
                  <a:pt x="1000" y="142"/>
                </a:lnTo>
                <a:lnTo>
                  <a:pt x="993" y="137"/>
                </a:lnTo>
                <a:lnTo>
                  <a:pt x="985" y="133"/>
                </a:lnTo>
                <a:lnTo>
                  <a:pt x="977" y="129"/>
                </a:lnTo>
                <a:lnTo>
                  <a:pt x="970" y="125"/>
                </a:lnTo>
                <a:lnTo>
                  <a:pt x="962" y="121"/>
                </a:lnTo>
                <a:lnTo>
                  <a:pt x="954" y="118"/>
                </a:lnTo>
                <a:lnTo>
                  <a:pt x="945" y="116"/>
                </a:lnTo>
                <a:lnTo>
                  <a:pt x="935" y="112"/>
                </a:lnTo>
                <a:lnTo>
                  <a:pt x="928" y="108"/>
                </a:lnTo>
                <a:lnTo>
                  <a:pt x="920" y="106"/>
                </a:lnTo>
                <a:lnTo>
                  <a:pt x="911" y="102"/>
                </a:lnTo>
                <a:lnTo>
                  <a:pt x="903" y="101"/>
                </a:lnTo>
                <a:lnTo>
                  <a:pt x="896" y="99"/>
                </a:lnTo>
                <a:lnTo>
                  <a:pt x="890" y="97"/>
                </a:lnTo>
                <a:lnTo>
                  <a:pt x="896" y="93"/>
                </a:lnTo>
                <a:lnTo>
                  <a:pt x="903" y="91"/>
                </a:lnTo>
                <a:lnTo>
                  <a:pt x="913" y="91"/>
                </a:lnTo>
                <a:lnTo>
                  <a:pt x="922" y="93"/>
                </a:lnTo>
                <a:lnTo>
                  <a:pt x="932" y="93"/>
                </a:lnTo>
                <a:lnTo>
                  <a:pt x="941" y="97"/>
                </a:lnTo>
                <a:lnTo>
                  <a:pt x="951" y="99"/>
                </a:lnTo>
                <a:lnTo>
                  <a:pt x="962" y="102"/>
                </a:lnTo>
                <a:lnTo>
                  <a:pt x="972" y="104"/>
                </a:lnTo>
                <a:lnTo>
                  <a:pt x="981" y="108"/>
                </a:lnTo>
                <a:lnTo>
                  <a:pt x="993" y="110"/>
                </a:lnTo>
                <a:lnTo>
                  <a:pt x="1004" y="114"/>
                </a:lnTo>
                <a:lnTo>
                  <a:pt x="1013" y="116"/>
                </a:lnTo>
                <a:lnTo>
                  <a:pt x="1025" y="118"/>
                </a:lnTo>
                <a:lnTo>
                  <a:pt x="1036" y="120"/>
                </a:lnTo>
                <a:lnTo>
                  <a:pt x="1048" y="120"/>
                </a:lnTo>
                <a:lnTo>
                  <a:pt x="1040" y="116"/>
                </a:lnTo>
                <a:lnTo>
                  <a:pt x="1032" y="110"/>
                </a:lnTo>
                <a:lnTo>
                  <a:pt x="1025" y="106"/>
                </a:lnTo>
                <a:lnTo>
                  <a:pt x="1019" y="101"/>
                </a:lnTo>
                <a:lnTo>
                  <a:pt x="1012" y="97"/>
                </a:lnTo>
                <a:lnTo>
                  <a:pt x="1004" y="93"/>
                </a:lnTo>
                <a:lnTo>
                  <a:pt x="996" y="87"/>
                </a:lnTo>
                <a:lnTo>
                  <a:pt x="989" y="83"/>
                </a:lnTo>
                <a:lnTo>
                  <a:pt x="981" y="80"/>
                </a:lnTo>
                <a:lnTo>
                  <a:pt x="974" y="76"/>
                </a:lnTo>
                <a:lnTo>
                  <a:pt x="964" y="72"/>
                </a:lnTo>
                <a:lnTo>
                  <a:pt x="956" y="68"/>
                </a:lnTo>
                <a:lnTo>
                  <a:pt x="949" y="64"/>
                </a:lnTo>
                <a:lnTo>
                  <a:pt x="941" y="61"/>
                </a:lnTo>
                <a:lnTo>
                  <a:pt x="934" y="57"/>
                </a:lnTo>
                <a:lnTo>
                  <a:pt x="926" y="55"/>
                </a:lnTo>
                <a:lnTo>
                  <a:pt x="916" y="49"/>
                </a:lnTo>
                <a:lnTo>
                  <a:pt x="909" y="47"/>
                </a:lnTo>
                <a:lnTo>
                  <a:pt x="899" y="44"/>
                </a:lnTo>
                <a:lnTo>
                  <a:pt x="892" y="42"/>
                </a:lnTo>
                <a:lnTo>
                  <a:pt x="882" y="38"/>
                </a:lnTo>
                <a:lnTo>
                  <a:pt x="875" y="36"/>
                </a:lnTo>
                <a:lnTo>
                  <a:pt x="865" y="34"/>
                </a:lnTo>
                <a:lnTo>
                  <a:pt x="859" y="32"/>
                </a:lnTo>
                <a:lnTo>
                  <a:pt x="848" y="28"/>
                </a:lnTo>
                <a:lnTo>
                  <a:pt x="840" y="26"/>
                </a:lnTo>
                <a:lnTo>
                  <a:pt x="833" y="24"/>
                </a:lnTo>
                <a:lnTo>
                  <a:pt x="823" y="24"/>
                </a:lnTo>
                <a:lnTo>
                  <a:pt x="816" y="23"/>
                </a:lnTo>
                <a:lnTo>
                  <a:pt x="806" y="23"/>
                </a:lnTo>
                <a:lnTo>
                  <a:pt x="799" y="23"/>
                </a:lnTo>
                <a:lnTo>
                  <a:pt x="789" y="23"/>
                </a:lnTo>
                <a:lnTo>
                  <a:pt x="789" y="19"/>
                </a:lnTo>
                <a:lnTo>
                  <a:pt x="789" y="17"/>
                </a:lnTo>
                <a:lnTo>
                  <a:pt x="795" y="15"/>
                </a:lnTo>
                <a:lnTo>
                  <a:pt x="800" y="15"/>
                </a:lnTo>
                <a:lnTo>
                  <a:pt x="806" y="13"/>
                </a:lnTo>
                <a:lnTo>
                  <a:pt x="814" y="13"/>
                </a:lnTo>
                <a:lnTo>
                  <a:pt x="820" y="11"/>
                </a:lnTo>
                <a:lnTo>
                  <a:pt x="825" y="11"/>
                </a:lnTo>
                <a:lnTo>
                  <a:pt x="833" y="11"/>
                </a:lnTo>
                <a:lnTo>
                  <a:pt x="839" y="11"/>
                </a:lnTo>
                <a:lnTo>
                  <a:pt x="844" y="11"/>
                </a:lnTo>
                <a:lnTo>
                  <a:pt x="852" y="11"/>
                </a:lnTo>
                <a:lnTo>
                  <a:pt x="858" y="11"/>
                </a:lnTo>
                <a:lnTo>
                  <a:pt x="865" y="11"/>
                </a:lnTo>
                <a:lnTo>
                  <a:pt x="871" y="11"/>
                </a:lnTo>
                <a:lnTo>
                  <a:pt x="878" y="13"/>
                </a:lnTo>
                <a:lnTo>
                  <a:pt x="884" y="13"/>
                </a:lnTo>
                <a:lnTo>
                  <a:pt x="892" y="15"/>
                </a:lnTo>
                <a:lnTo>
                  <a:pt x="897" y="13"/>
                </a:lnTo>
                <a:lnTo>
                  <a:pt x="903" y="13"/>
                </a:lnTo>
                <a:lnTo>
                  <a:pt x="911" y="13"/>
                </a:lnTo>
                <a:lnTo>
                  <a:pt x="916" y="13"/>
                </a:lnTo>
                <a:lnTo>
                  <a:pt x="922" y="11"/>
                </a:lnTo>
                <a:lnTo>
                  <a:pt x="930" y="11"/>
                </a:lnTo>
                <a:lnTo>
                  <a:pt x="935" y="11"/>
                </a:lnTo>
                <a:lnTo>
                  <a:pt x="943" y="11"/>
                </a:lnTo>
                <a:lnTo>
                  <a:pt x="949" y="11"/>
                </a:lnTo>
                <a:lnTo>
                  <a:pt x="954" y="9"/>
                </a:lnTo>
                <a:lnTo>
                  <a:pt x="962" y="9"/>
                </a:lnTo>
                <a:lnTo>
                  <a:pt x="968" y="7"/>
                </a:lnTo>
                <a:lnTo>
                  <a:pt x="974" y="5"/>
                </a:lnTo>
                <a:lnTo>
                  <a:pt x="981" y="5"/>
                </a:lnTo>
                <a:lnTo>
                  <a:pt x="987" y="2"/>
                </a:lnTo>
                <a:lnTo>
                  <a:pt x="993" y="2"/>
                </a:lnTo>
                <a:lnTo>
                  <a:pt x="99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873760" y="4700520"/>
            <a:ext cx="46080" cy="19080"/>
          </a:xfrm>
          <a:custGeom>
            <a:avLst/>
            <a:gdLst/>
            <a:ahLst/>
            <a:rect l="l" t="t" r="r" b="b"/>
            <a:pathLst>
              <a:path w="59" h="25">
                <a:moveTo>
                  <a:pt x="6" y="25"/>
                </a:moveTo>
                <a:lnTo>
                  <a:pt x="13" y="25"/>
                </a:lnTo>
                <a:lnTo>
                  <a:pt x="19" y="25"/>
                </a:lnTo>
                <a:lnTo>
                  <a:pt x="25" y="21"/>
                </a:lnTo>
                <a:lnTo>
                  <a:pt x="30" y="19"/>
                </a:lnTo>
                <a:lnTo>
                  <a:pt x="36" y="15"/>
                </a:lnTo>
                <a:lnTo>
                  <a:pt x="44" y="13"/>
                </a:lnTo>
                <a:lnTo>
                  <a:pt x="49" y="10"/>
                </a:lnTo>
                <a:lnTo>
                  <a:pt x="59" y="11"/>
                </a:lnTo>
                <a:lnTo>
                  <a:pt x="59" y="8"/>
                </a:lnTo>
                <a:lnTo>
                  <a:pt x="59" y="6"/>
                </a:lnTo>
                <a:lnTo>
                  <a:pt x="49" y="2"/>
                </a:lnTo>
                <a:lnTo>
                  <a:pt x="42" y="0"/>
                </a:lnTo>
                <a:lnTo>
                  <a:pt x="32" y="0"/>
                </a:lnTo>
                <a:lnTo>
                  <a:pt x="26" y="4"/>
                </a:lnTo>
                <a:lnTo>
                  <a:pt x="19" y="6"/>
                </a:lnTo>
                <a:lnTo>
                  <a:pt x="11" y="8"/>
                </a:lnTo>
                <a:lnTo>
                  <a:pt x="6" y="11"/>
                </a:lnTo>
                <a:lnTo>
                  <a:pt x="0" y="13"/>
                </a:lnTo>
                <a:lnTo>
                  <a:pt x="2" y="17"/>
                </a:lnTo>
                <a:lnTo>
                  <a:pt x="6" y="25"/>
                </a:lnTo>
                <a:lnTo>
                  <a:pt x="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704920" y="4172040"/>
            <a:ext cx="28440" cy="15840"/>
          </a:xfrm>
          <a:custGeom>
            <a:avLst/>
            <a:gdLst/>
            <a:ahLst/>
            <a:rect l="l" t="t" r="r" b="b"/>
            <a:pathLst>
              <a:path w="36" h="21">
                <a:moveTo>
                  <a:pt x="0" y="7"/>
                </a:moveTo>
                <a:lnTo>
                  <a:pt x="7" y="11"/>
                </a:lnTo>
                <a:lnTo>
                  <a:pt x="13" y="17"/>
                </a:lnTo>
                <a:lnTo>
                  <a:pt x="19" y="19"/>
                </a:lnTo>
                <a:lnTo>
                  <a:pt x="22" y="21"/>
                </a:lnTo>
                <a:lnTo>
                  <a:pt x="28" y="21"/>
                </a:lnTo>
                <a:lnTo>
                  <a:pt x="36" y="21"/>
                </a:lnTo>
                <a:lnTo>
                  <a:pt x="36" y="17"/>
                </a:lnTo>
                <a:lnTo>
                  <a:pt x="36" y="15"/>
                </a:lnTo>
                <a:lnTo>
                  <a:pt x="30" y="9"/>
                </a:lnTo>
                <a:lnTo>
                  <a:pt x="26" y="7"/>
                </a:lnTo>
                <a:lnTo>
                  <a:pt x="19" y="3"/>
                </a:lnTo>
                <a:lnTo>
                  <a:pt x="13" y="2"/>
                </a:lnTo>
                <a:lnTo>
                  <a:pt x="7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441400" y="4098960"/>
            <a:ext cx="99720" cy="100080"/>
          </a:xfrm>
          <a:custGeom>
            <a:avLst/>
            <a:gdLst/>
            <a:ahLst/>
            <a:rect l="l" t="t" r="r" b="b"/>
            <a:pathLst>
              <a:path w="127" h="126">
                <a:moveTo>
                  <a:pt x="0" y="0"/>
                </a:moveTo>
                <a:lnTo>
                  <a:pt x="10" y="0"/>
                </a:lnTo>
                <a:lnTo>
                  <a:pt x="21" y="2"/>
                </a:lnTo>
                <a:lnTo>
                  <a:pt x="31" y="8"/>
                </a:lnTo>
                <a:lnTo>
                  <a:pt x="44" y="14"/>
                </a:lnTo>
                <a:lnTo>
                  <a:pt x="53" y="19"/>
                </a:lnTo>
                <a:lnTo>
                  <a:pt x="63" y="27"/>
                </a:lnTo>
                <a:lnTo>
                  <a:pt x="74" y="33"/>
                </a:lnTo>
                <a:lnTo>
                  <a:pt x="84" y="44"/>
                </a:lnTo>
                <a:lnTo>
                  <a:pt x="91" y="52"/>
                </a:lnTo>
                <a:lnTo>
                  <a:pt x="101" y="61"/>
                </a:lnTo>
                <a:lnTo>
                  <a:pt x="107" y="71"/>
                </a:lnTo>
                <a:lnTo>
                  <a:pt x="114" y="82"/>
                </a:lnTo>
                <a:lnTo>
                  <a:pt x="118" y="92"/>
                </a:lnTo>
                <a:lnTo>
                  <a:pt x="122" y="103"/>
                </a:lnTo>
                <a:lnTo>
                  <a:pt x="124" y="113"/>
                </a:lnTo>
                <a:lnTo>
                  <a:pt x="127" y="126"/>
                </a:lnTo>
                <a:lnTo>
                  <a:pt x="118" y="116"/>
                </a:lnTo>
                <a:lnTo>
                  <a:pt x="110" y="109"/>
                </a:lnTo>
                <a:lnTo>
                  <a:pt x="103" y="99"/>
                </a:lnTo>
                <a:lnTo>
                  <a:pt x="93" y="92"/>
                </a:lnTo>
                <a:lnTo>
                  <a:pt x="84" y="84"/>
                </a:lnTo>
                <a:lnTo>
                  <a:pt x="76" y="75"/>
                </a:lnTo>
                <a:lnTo>
                  <a:pt x="67" y="67"/>
                </a:lnTo>
                <a:lnTo>
                  <a:pt x="57" y="59"/>
                </a:lnTo>
                <a:lnTo>
                  <a:pt x="48" y="50"/>
                </a:lnTo>
                <a:lnTo>
                  <a:pt x="38" y="40"/>
                </a:lnTo>
                <a:lnTo>
                  <a:pt x="31" y="33"/>
                </a:lnTo>
                <a:lnTo>
                  <a:pt x="23" y="27"/>
                </a:lnTo>
                <a:lnTo>
                  <a:pt x="15" y="18"/>
                </a:lnTo>
                <a:lnTo>
                  <a:pt x="10" y="12"/>
                </a:lnTo>
                <a:lnTo>
                  <a:pt x="4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4960" y="4124160"/>
            <a:ext cx="95400" cy="55800"/>
          </a:xfrm>
          <a:custGeom>
            <a:avLst/>
            <a:gdLst/>
            <a:ahLst/>
            <a:rect l="l" t="t" r="r" b="b"/>
            <a:pathLst>
              <a:path w="120" h="68">
                <a:moveTo>
                  <a:pt x="4" y="0"/>
                </a:moveTo>
                <a:lnTo>
                  <a:pt x="12" y="0"/>
                </a:lnTo>
                <a:lnTo>
                  <a:pt x="23" y="0"/>
                </a:lnTo>
                <a:lnTo>
                  <a:pt x="33" y="0"/>
                </a:lnTo>
                <a:lnTo>
                  <a:pt x="42" y="0"/>
                </a:lnTo>
                <a:lnTo>
                  <a:pt x="52" y="2"/>
                </a:lnTo>
                <a:lnTo>
                  <a:pt x="61" y="4"/>
                </a:lnTo>
                <a:lnTo>
                  <a:pt x="71" y="7"/>
                </a:lnTo>
                <a:lnTo>
                  <a:pt x="80" y="11"/>
                </a:lnTo>
                <a:lnTo>
                  <a:pt x="88" y="15"/>
                </a:lnTo>
                <a:lnTo>
                  <a:pt x="95" y="21"/>
                </a:lnTo>
                <a:lnTo>
                  <a:pt x="103" y="24"/>
                </a:lnTo>
                <a:lnTo>
                  <a:pt x="109" y="32"/>
                </a:lnTo>
                <a:lnTo>
                  <a:pt x="113" y="40"/>
                </a:lnTo>
                <a:lnTo>
                  <a:pt x="118" y="49"/>
                </a:lnTo>
                <a:lnTo>
                  <a:pt x="118" y="57"/>
                </a:lnTo>
                <a:lnTo>
                  <a:pt x="120" y="68"/>
                </a:lnTo>
                <a:lnTo>
                  <a:pt x="113" y="62"/>
                </a:lnTo>
                <a:lnTo>
                  <a:pt x="103" y="59"/>
                </a:lnTo>
                <a:lnTo>
                  <a:pt x="94" y="57"/>
                </a:lnTo>
                <a:lnTo>
                  <a:pt x="86" y="53"/>
                </a:lnTo>
                <a:lnTo>
                  <a:pt x="75" y="49"/>
                </a:lnTo>
                <a:lnTo>
                  <a:pt x="65" y="45"/>
                </a:lnTo>
                <a:lnTo>
                  <a:pt x="54" y="42"/>
                </a:lnTo>
                <a:lnTo>
                  <a:pt x="44" y="38"/>
                </a:lnTo>
                <a:lnTo>
                  <a:pt x="33" y="34"/>
                </a:lnTo>
                <a:lnTo>
                  <a:pt x="25" y="30"/>
                </a:lnTo>
                <a:lnTo>
                  <a:pt x="16" y="24"/>
                </a:lnTo>
                <a:lnTo>
                  <a:pt x="10" y="23"/>
                </a:lnTo>
                <a:lnTo>
                  <a:pt x="6" y="17"/>
                </a:lnTo>
                <a:lnTo>
                  <a:pt x="2" y="11"/>
                </a:lnTo>
                <a:lnTo>
                  <a:pt x="0" y="5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955560" y="4227480"/>
            <a:ext cx="141480" cy="131760"/>
          </a:xfrm>
          <a:custGeom>
            <a:avLst/>
            <a:gdLst/>
            <a:ahLst/>
            <a:rect l="l" t="t" r="r" b="b"/>
            <a:pathLst>
              <a:path w="177" h="165">
                <a:moveTo>
                  <a:pt x="169" y="0"/>
                </a:moveTo>
                <a:lnTo>
                  <a:pt x="175" y="9"/>
                </a:lnTo>
                <a:lnTo>
                  <a:pt x="177" y="19"/>
                </a:lnTo>
                <a:lnTo>
                  <a:pt x="171" y="29"/>
                </a:lnTo>
                <a:lnTo>
                  <a:pt x="163" y="36"/>
                </a:lnTo>
                <a:lnTo>
                  <a:pt x="158" y="40"/>
                </a:lnTo>
                <a:lnTo>
                  <a:pt x="152" y="44"/>
                </a:lnTo>
                <a:lnTo>
                  <a:pt x="144" y="48"/>
                </a:lnTo>
                <a:lnTo>
                  <a:pt x="139" y="53"/>
                </a:lnTo>
                <a:lnTo>
                  <a:pt x="131" y="57"/>
                </a:lnTo>
                <a:lnTo>
                  <a:pt x="123" y="61"/>
                </a:lnTo>
                <a:lnTo>
                  <a:pt x="114" y="65"/>
                </a:lnTo>
                <a:lnTo>
                  <a:pt x="106" y="70"/>
                </a:lnTo>
                <a:lnTo>
                  <a:pt x="97" y="72"/>
                </a:lnTo>
                <a:lnTo>
                  <a:pt x="89" y="78"/>
                </a:lnTo>
                <a:lnTo>
                  <a:pt x="80" y="84"/>
                </a:lnTo>
                <a:lnTo>
                  <a:pt x="70" y="87"/>
                </a:lnTo>
                <a:lnTo>
                  <a:pt x="63" y="93"/>
                </a:lnTo>
                <a:lnTo>
                  <a:pt x="53" y="97"/>
                </a:lnTo>
                <a:lnTo>
                  <a:pt x="46" y="105"/>
                </a:lnTo>
                <a:lnTo>
                  <a:pt x="40" y="110"/>
                </a:lnTo>
                <a:lnTo>
                  <a:pt x="32" y="116"/>
                </a:lnTo>
                <a:lnTo>
                  <a:pt x="25" y="122"/>
                </a:lnTo>
                <a:lnTo>
                  <a:pt x="19" y="127"/>
                </a:lnTo>
                <a:lnTo>
                  <a:pt x="15" y="135"/>
                </a:lnTo>
                <a:lnTo>
                  <a:pt x="9" y="141"/>
                </a:lnTo>
                <a:lnTo>
                  <a:pt x="8" y="148"/>
                </a:lnTo>
                <a:lnTo>
                  <a:pt x="4" y="156"/>
                </a:lnTo>
                <a:lnTo>
                  <a:pt x="4" y="165"/>
                </a:lnTo>
                <a:lnTo>
                  <a:pt x="2" y="160"/>
                </a:lnTo>
                <a:lnTo>
                  <a:pt x="2" y="152"/>
                </a:lnTo>
                <a:lnTo>
                  <a:pt x="0" y="146"/>
                </a:lnTo>
                <a:lnTo>
                  <a:pt x="2" y="141"/>
                </a:lnTo>
                <a:lnTo>
                  <a:pt x="2" y="133"/>
                </a:lnTo>
                <a:lnTo>
                  <a:pt x="4" y="127"/>
                </a:lnTo>
                <a:lnTo>
                  <a:pt x="8" y="122"/>
                </a:lnTo>
                <a:lnTo>
                  <a:pt x="11" y="116"/>
                </a:lnTo>
                <a:lnTo>
                  <a:pt x="15" y="110"/>
                </a:lnTo>
                <a:lnTo>
                  <a:pt x="19" y="103"/>
                </a:lnTo>
                <a:lnTo>
                  <a:pt x="25" y="97"/>
                </a:lnTo>
                <a:lnTo>
                  <a:pt x="30" y="93"/>
                </a:lnTo>
                <a:lnTo>
                  <a:pt x="36" y="86"/>
                </a:lnTo>
                <a:lnTo>
                  <a:pt x="42" y="80"/>
                </a:lnTo>
                <a:lnTo>
                  <a:pt x="49" y="76"/>
                </a:lnTo>
                <a:lnTo>
                  <a:pt x="57" y="70"/>
                </a:lnTo>
                <a:lnTo>
                  <a:pt x="63" y="65"/>
                </a:lnTo>
                <a:lnTo>
                  <a:pt x="70" y="61"/>
                </a:lnTo>
                <a:lnTo>
                  <a:pt x="78" y="53"/>
                </a:lnTo>
                <a:lnTo>
                  <a:pt x="87" y="49"/>
                </a:lnTo>
                <a:lnTo>
                  <a:pt x="93" y="44"/>
                </a:lnTo>
                <a:lnTo>
                  <a:pt x="103" y="40"/>
                </a:lnTo>
                <a:lnTo>
                  <a:pt x="108" y="34"/>
                </a:lnTo>
                <a:lnTo>
                  <a:pt x="118" y="32"/>
                </a:lnTo>
                <a:lnTo>
                  <a:pt x="123" y="27"/>
                </a:lnTo>
                <a:lnTo>
                  <a:pt x="131" y="23"/>
                </a:lnTo>
                <a:lnTo>
                  <a:pt x="137" y="19"/>
                </a:lnTo>
                <a:lnTo>
                  <a:pt x="144" y="15"/>
                </a:lnTo>
                <a:lnTo>
                  <a:pt x="152" y="11"/>
                </a:lnTo>
                <a:lnTo>
                  <a:pt x="158" y="6"/>
                </a:lnTo>
                <a:lnTo>
                  <a:pt x="163" y="4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14360" y="4238640"/>
            <a:ext cx="36360" cy="4680"/>
          </a:xfrm>
          <a:custGeom>
            <a:avLst/>
            <a:gdLst/>
            <a:ahLst/>
            <a:rect l="l" t="t" r="r" b="b"/>
            <a:pathLst>
              <a:path w="48" h="8">
                <a:moveTo>
                  <a:pt x="8" y="0"/>
                </a:moveTo>
                <a:lnTo>
                  <a:pt x="17" y="0"/>
                </a:lnTo>
                <a:lnTo>
                  <a:pt x="27" y="0"/>
                </a:lnTo>
                <a:lnTo>
                  <a:pt x="36" y="0"/>
                </a:lnTo>
                <a:lnTo>
                  <a:pt x="48" y="0"/>
                </a:lnTo>
                <a:lnTo>
                  <a:pt x="48" y="2"/>
                </a:lnTo>
                <a:lnTo>
                  <a:pt x="48" y="6"/>
                </a:lnTo>
                <a:lnTo>
                  <a:pt x="40" y="6"/>
                </a:lnTo>
                <a:lnTo>
                  <a:pt x="36" y="6"/>
                </a:lnTo>
                <a:lnTo>
                  <a:pt x="29" y="6"/>
                </a:lnTo>
                <a:lnTo>
                  <a:pt x="23" y="8"/>
                </a:lnTo>
                <a:lnTo>
                  <a:pt x="17" y="6"/>
                </a:lnTo>
                <a:lnTo>
                  <a:pt x="12" y="6"/>
                </a:lnTo>
                <a:lnTo>
                  <a:pt x="4" y="6"/>
                </a:lnTo>
                <a:lnTo>
                  <a:pt x="0" y="8"/>
                </a:lnTo>
                <a:lnTo>
                  <a:pt x="2" y="6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688000" y="4254480"/>
            <a:ext cx="114480" cy="23760"/>
          </a:xfrm>
          <a:custGeom>
            <a:avLst/>
            <a:gdLst/>
            <a:ahLst/>
            <a:rect l="l" t="t" r="r" b="b"/>
            <a:pathLst>
              <a:path w="145" h="31">
                <a:moveTo>
                  <a:pt x="55" y="4"/>
                </a:moveTo>
                <a:lnTo>
                  <a:pt x="61" y="0"/>
                </a:lnTo>
                <a:lnTo>
                  <a:pt x="67" y="0"/>
                </a:lnTo>
                <a:lnTo>
                  <a:pt x="72" y="0"/>
                </a:lnTo>
                <a:lnTo>
                  <a:pt x="78" y="0"/>
                </a:lnTo>
                <a:lnTo>
                  <a:pt x="89" y="4"/>
                </a:lnTo>
                <a:lnTo>
                  <a:pt x="99" y="8"/>
                </a:lnTo>
                <a:lnTo>
                  <a:pt x="110" y="12"/>
                </a:lnTo>
                <a:lnTo>
                  <a:pt x="122" y="17"/>
                </a:lnTo>
                <a:lnTo>
                  <a:pt x="126" y="19"/>
                </a:lnTo>
                <a:lnTo>
                  <a:pt x="131" y="23"/>
                </a:lnTo>
                <a:lnTo>
                  <a:pt x="137" y="25"/>
                </a:lnTo>
                <a:lnTo>
                  <a:pt x="145" y="27"/>
                </a:lnTo>
                <a:lnTo>
                  <a:pt x="145" y="29"/>
                </a:lnTo>
                <a:lnTo>
                  <a:pt x="135" y="29"/>
                </a:lnTo>
                <a:lnTo>
                  <a:pt x="126" y="31"/>
                </a:lnTo>
                <a:lnTo>
                  <a:pt x="116" y="31"/>
                </a:lnTo>
                <a:lnTo>
                  <a:pt x="108" y="31"/>
                </a:lnTo>
                <a:lnTo>
                  <a:pt x="99" y="29"/>
                </a:lnTo>
                <a:lnTo>
                  <a:pt x="89" y="29"/>
                </a:lnTo>
                <a:lnTo>
                  <a:pt x="80" y="27"/>
                </a:lnTo>
                <a:lnTo>
                  <a:pt x="72" y="27"/>
                </a:lnTo>
                <a:lnTo>
                  <a:pt x="63" y="25"/>
                </a:lnTo>
                <a:lnTo>
                  <a:pt x="53" y="25"/>
                </a:lnTo>
                <a:lnTo>
                  <a:pt x="44" y="23"/>
                </a:lnTo>
                <a:lnTo>
                  <a:pt x="36" y="21"/>
                </a:lnTo>
                <a:lnTo>
                  <a:pt x="27" y="19"/>
                </a:lnTo>
                <a:lnTo>
                  <a:pt x="19" y="19"/>
                </a:lnTo>
                <a:lnTo>
                  <a:pt x="10" y="19"/>
                </a:lnTo>
                <a:lnTo>
                  <a:pt x="0" y="21"/>
                </a:lnTo>
                <a:lnTo>
                  <a:pt x="0" y="17"/>
                </a:lnTo>
                <a:lnTo>
                  <a:pt x="0" y="15"/>
                </a:lnTo>
                <a:lnTo>
                  <a:pt x="6" y="14"/>
                </a:lnTo>
                <a:lnTo>
                  <a:pt x="13" y="12"/>
                </a:lnTo>
                <a:lnTo>
                  <a:pt x="21" y="12"/>
                </a:lnTo>
                <a:lnTo>
                  <a:pt x="29" y="12"/>
                </a:lnTo>
                <a:lnTo>
                  <a:pt x="34" y="10"/>
                </a:lnTo>
                <a:lnTo>
                  <a:pt x="42" y="10"/>
                </a:lnTo>
                <a:lnTo>
                  <a:pt x="48" y="6"/>
                </a:lnTo>
                <a:lnTo>
                  <a:pt x="55" y="4"/>
                </a:lnTo>
                <a:lnTo>
                  <a:pt x="5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6900120" y="4264200"/>
            <a:ext cx="150840" cy="149040"/>
          </a:xfrm>
          <a:custGeom>
            <a:avLst/>
            <a:gdLst/>
            <a:ahLst/>
            <a:rect l="l" t="t" r="r" b="b"/>
            <a:pathLst>
              <a:path w="190" h="188">
                <a:moveTo>
                  <a:pt x="150" y="2"/>
                </a:moveTo>
                <a:lnTo>
                  <a:pt x="154" y="0"/>
                </a:lnTo>
                <a:lnTo>
                  <a:pt x="160" y="2"/>
                </a:lnTo>
                <a:lnTo>
                  <a:pt x="162" y="2"/>
                </a:lnTo>
                <a:lnTo>
                  <a:pt x="163" y="3"/>
                </a:lnTo>
                <a:lnTo>
                  <a:pt x="163" y="7"/>
                </a:lnTo>
                <a:lnTo>
                  <a:pt x="162" y="17"/>
                </a:lnTo>
                <a:lnTo>
                  <a:pt x="156" y="22"/>
                </a:lnTo>
                <a:lnTo>
                  <a:pt x="150" y="32"/>
                </a:lnTo>
                <a:lnTo>
                  <a:pt x="148" y="40"/>
                </a:lnTo>
                <a:lnTo>
                  <a:pt x="150" y="47"/>
                </a:lnTo>
                <a:lnTo>
                  <a:pt x="160" y="43"/>
                </a:lnTo>
                <a:lnTo>
                  <a:pt x="169" y="43"/>
                </a:lnTo>
                <a:lnTo>
                  <a:pt x="177" y="43"/>
                </a:lnTo>
                <a:lnTo>
                  <a:pt x="182" y="43"/>
                </a:lnTo>
                <a:lnTo>
                  <a:pt x="188" y="47"/>
                </a:lnTo>
                <a:lnTo>
                  <a:pt x="190" y="53"/>
                </a:lnTo>
                <a:lnTo>
                  <a:pt x="184" y="59"/>
                </a:lnTo>
                <a:lnTo>
                  <a:pt x="175" y="68"/>
                </a:lnTo>
                <a:lnTo>
                  <a:pt x="167" y="72"/>
                </a:lnTo>
                <a:lnTo>
                  <a:pt x="162" y="78"/>
                </a:lnTo>
                <a:lnTo>
                  <a:pt x="154" y="83"/>
                </a:lnTo>
                <a:lnTo>
                  <a:pt x="146" y="89"/>
                </a:lnTo>
                <a:lnTo>
                  <a:pt x="137" y="95"/>
                </a:lnTo>
                <a:lnTo>
                  <a:pt x="127" y="100"/>
                </a:lnTo>
                <a:lnTo>
                  <a:pt x="118" y="106"/>
                </a:lnTo>
                <a:lnTo>
                  <a:pt x="108" y="114"/>
                </a:lnTo>
                <a:lnTo>
                  <a:pt x="99" y="119"/>
                </a:lnTo>
                <a:lnTo>
                  <a:pt x="89" y="125"/>
                </a:lnTo>
                <a:lnTo>
                  <a:pt x="80" y="133"/>
                </a:lnTo>
                <a:lnTo>
                  <a:pt x="70" y="140"/>
                </a:lnTo>
                <a:lnTo>
                  <a:pt x="61" y="144"/>
                </a:lnTo>
                <a:lnTo>
                  <a:pt x="51" y="152"/>
                </a:lnTo>
                <a:lnTo>
                  <a:pt x="42" y="157"/>
                </a:lnTo>
                <a:lnTo>
                  <a:pt x="36" y="163"/>
                </a:lnTo>
                <a:lnTo>
                  <a:pt x="30" y="169"/>
                </a:lnTo>
                <a:lnTo>
                  <a:pt x="25" y="176"/>
                </a:lnTo>
                <a:lnTo>
                  <a:pt x="19" y="180"/>
                </a:lnTo>
                <a:lnTo>
                  <a:pt x="15" y="188"/>
                </a:lnTo>
                <a:lnTo>
                  <a:pt x="11" y="178"/>
                </a:lnTo>
                <a:lnTo>
                  <a:pt x="13" y="169"/>
                </a:lnTo>
                <a:lnTo>
                  <a:pt x="21" y="157"/>
                </a:lnTo>
                <a:lnTo>
                  <a:pt x="25" y="148"/>
                </a:lnTo>
                <a:lnTo>
                  <a:pt x="25" y="144"/>
                </a:lnTo>
                <a:lnTo>
                  <a:pt x="23" y="142"/>
                </a:lnTo>
                <a:lnTo>
                  <a:pt x="17" y="140"/>
                </a:lnTo>
                <a:lnTo>
                  <a:pt x="11" y="142"/>
                </a:lnTo>
                <a:lnTo>
                  <a:pt x="6" y="144"/>
                </a:lnTo>
                <a:lnTo>
                  <a:pt x="2" y="148"/>
                </a:lnTo>
                <a:lnTo>
                  <a:pt x="0" y="146"/>
                </a:lnTo>
                <a:lnTo>
                  <a:pt x="6" y="135"/>
                </a:lnTo>
                <a:lnTo>
                  <a:pt x="13" y="125"/>
                </a:lnTo>
                <a:lnTo>
                  <a:pt x="21" y="116"/>
                </a:lnTo>
                <a:lnTo>
                  <a:pt x="30" y="106"/>
                </a:lnTo>
                <a:lnTo>
                  <a:pt x="38" y="97"/>
                </a:lnTo>
                <a:lnTo>
                  <a:pt x="47" y="87"/>
                </a:lnTo>
                <a:lnTo>
                  <a:pt x="57" y="79"/>
                </a:lnTo>
                <a:lnTo>
                  <a:pt x="68" y="70"/>
                </a:lnTo>
                <a:lnTo>
                  <a:pt x="78" y="60"/>
                </a:lnTo>
                <a:lnTo>
                  <a:pt x="87" y="51"/>
                </a:lnTo>
                <a:lnTo>
                  <a:pt x="97" y="43"/>
                </a:lnTo>
                <a:lnTo>
                  <a:pt x="108" y="34"/>
                </a:lnTo>
                <a:lnTo>
                  <a:pt x="118" y="26"/>
                </a:lnTo>
                <a:lnTo>
                  <a:pt x="129" y="17"/>
                </a:lnTo>
                <a:lnTo>
                  <a:pt x="139" y="9"/>
                </a:lnTo>
                <a:lnTo>
                  <a:pt x="150" y="2"/>
                </a:lnTo>
                <a:lnTo>
                  <a:pt x="15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6695280" y="4262400"/>
            <a:ext cx="311400" cy="289080"/>
          </a:xfrm>
          <a:custGeom>
            <a:avLst/>
            <a:gdLst/>
            <a:ahLst/>
            <a:rect l="l" t="t" r="r" b="b"/>
            <a:pathLst>
              <a:path w="392" h="365">
                <a:moveTo>
                  <a:pt x="352" y="4"/>
                </a:moveTo>
                <a:lnTo>
                  <a:pt x="361" y="0"/>
                </a:lnTo>
                <a:lnTo>
                  <a:pt x="371" y="0"/>
                </a:lnTo>
                <a:lnTo>
                  <a:pt x="378" y="2"/>
                </a:lnTo>
                <a:lnTo>
                  <a:pt x="386" y="5"/>
                </a:lnTo>
                <a:lnTo>
                  <a:pt x="390" y="7"/>
                </a:lnTo>
                <a:lnTo>
                  <a:pt x="392" y="15"/>
                </a:lnTo>
                <a:lnTo>
                  <a:pt x="392" y="19"/>
                </a:lnTo>
                <a:lnTo>
                  <a:pt x="392" y="23"/>
                </a:lnTo>
                <a:lnTo>
                  <a:pt x="392" y="28"/>
                </a:lnTo>
                <a:lnTo>
                  <a:pt x="392" y="34"/>
                </a:lnTo>
                <a:lnTo>
                  <a:pt x="382" y="36"/>
                </a:lnTo>
                <a:lnTo>
                  <a:pt x="375" y="38"/>
                </a:lnTo>
                <a:lnTo>
                  <a:pt x="367" y="40"/>
                </a:lnTo>
                <a:lnTo>
                  <a:pt x="361" y="42"/>
                </a:lnTo>
                <a:lnTo>
                  <a:pt x="354" y="43"/>
                </a:lnTo>
                <a:lnTo>
                  <a:pt x="346" y="47"/>
                </a:lnTo>
                <a:lnTo>
                  <a:pt x="338" y="51"/>
                </a:lnTo>
                <a:lnTo>
                  <a:pt x="333" y="53"/>
                </a:lnTo>
                <a:lnTo>
                  <a:pt x="325" y="57"/>
                </a:lnTo>
                <a:lnTo>
                  <a:pt x="317" y="61"/>
                </a:lnTo>
                <a:lnTo>
                  <a:pt x="310" y="62"/>
                </a:lnTo>
                <a:lnTo>
                  <a:pt x="304" y="66"/>
                </a:lnTo>
                <a:lnTo>
                  <a:pt x="297" y="70"/>
                </a:lnTo>
                <a:lnTo>
                  <a:pt x="289" y="74"/>
                </a:lnTo>
                <a:lnTo>
                  <a:pt x="283" y="78"/>
                </a:lnTo>
                <a:lnTo>
                  <a:pt x="278" y="83"/>
                </a:lnTo>
                <a:lnTo>
                  <a:pt x="270" y="87"/>
                </a:lnTo>
                <a:lnTo>
                  <a:pt x="262" y="91"/>
                </a:lnTo>
                <a:lnTo>
                  <a:pt x="255" y="95"/>
                </a:lnTo>
                <a:lnTo>
                  <a:pt x="249" y="99"/>
                </a:lnTo>
                <a:lnTo>
                  <a:pt x="243" y="104"/>
                </a:lnTo>
                <a:lnTo>
                  <a:pt x="236" y="108"/>
                </a:lnTo>
                <a:lnTo>
                  <a:pt x="230" y="114"/>
                </a:lnTo>
                <a:lnTo>
                  <a:pt x="224" y="118"/>
                </a:lnTo>
                <a:lnTo>
                  <a:pt x="217" y="123"/>
                </a:lnTo>
                <a:lnTo>
                  <a:pt x="211" y="127"/>
                </a:lnTo>
                <a:lnTo>
                  <a:pt x="205" y="133"/>
                </a:lnTo>
                <a:lnTo>
                  <a:pt x="198" y="138"/>
                </a:lnTo>
                <a:lnTo>
                  <a:pt x="192" y="144"/>
                </a:lnTo>
                <a:lnTo>
                  <a:pt x="186" y="150"/>
                </a:lnTo>
                <a:lnTo>
                  <a:pt x="179" y="154"/>
                </a:lnTo>
                <a:lnTo>
                  <a:pt x="173" y="161"/>
                </a:lnTo>
                <a:lnTo>
                  <a:pt x="183" y="158"/>
                </a:lnTo>
                <a:lnTo>
                  <a:pt x="194" y="154"/>
                </a:lnTo>
                <a:lnTo>
                  <a:pt x="203" y="150"/>
                </a:lnTo>
                <a:lnTo>
                  <a:pt x="215" y="144"/>
                </a:lnTo>
                <a:lnTo>
                  <a:pt x="226" y="138"/>
                </a:lnTo>
                <a:lnTo>
                  <a:pt x="238" y="133"/>
                </a:lnTo>
                <a:lnTo>
                  <a:pt x="249" y="127"/>
                </a:lnTo>
                <a:lnTo>
                  <a:pt x="260" y="121"/>
                </a:lnTo>
                <a:lnTo>
                  <a:pt x="270" y="116"/>
                </a:lnTo>
                <a:lnTo>
                  <a:pt x="281" y="110"/>
                </a:lnTo>
                <a:lnTo>
                  <a:pt x="287" y="106"/>
                </a:lnTo>
                <a:lnTo>
                  <a:pt x="295" y="106"/>
                </a:lnTo>
                <a:lnTo>
                  <a:pt x="300" y="104"/>
                </a:lnTo>
                <a:lnTo>
                  <a:pt x="306" y="102"/>
                </a:lnTo>
                <a:lnTo>
                  <a:pt x="314" y="100"/>
                </a:lnTo>
                <a:lnTo>
                  <a:pt x="319" y="99"/>
                </a:lnTo>
                <a:lnTo>
                  <a:pt x="325" y="97"/>
                </a:lnTo>
                <a:lnTo>
                  <a:pt x="333" y="97"/>
                </a:lnTo>
                <a:lnTo>
                  <a:pt x="338" y="97"/>
                </a:lnTo>
                <a:lnTo>
                  <a:pt x="344" y="97"/>
                </a:lnTo>
                <a:lnTo>
                  <a:pt x="352" y="97"/>
                </a:lnTo>
                <a:lnTo>
                  <a:pt x="359" y="99"/>
                </a:lnTo>
                <a:lnTo>
                  <a:pt x="350" y="104"/>
                </a:lnTo>
                <a:lnTo>
                  <a:pt x="338" y="112"/>
                </a:lnTo>
                <a:lnTo>
                  <a:pt x="327" y="118"/>
                </a:lnTo>
                <a:lnTo>
                  <a:pt x="317" y="123"/>
                </a:lnTo>
                <a:lnTo>
                  <a:pt x="310" y="127"/>
                </a:lnTo>
                <a:lnTo>
                  <a:pt x="306" y="131"/>
                </a:lnTo>
                <a:lnTo>
                  <a:pt x="298" y="133"/>
                </a:lnTo>
                <a:lnTo>
                  <a:pt x="295" y="137"/>
                </a:lnTo>
                <a:lnTo>
                  <a:pt x="287" y="140"/>
                </a:lnTo>
                <a:lnTo>
                  <a:pt x="281" y="142"/>
                </a:lnTo>
                <a:lnTo>
                  <a:pt x="276" y="146"/>
                </a:lnTo>
                <a:lnTo>
                  <a:pt x="270" y="150"/>
                </a:lnTo>
                <a:lnTo>
                  <a:pt x="264" y="152"/>
                </a:lnTo>
                <a:lnTo>
                  <a:pt x="259" y="156"/>
                </a:lnTo>
                <a:lnTo>
                  <a:pt x="251" y="159"/>
                </a:lnTo>
                <a:lnTo>
                  <a:pt x="245" y="161"/>
                </a:lnTo>
                <a:lnTo>
                  <a:pt x="240" y="165"/>
                </a:lnTo>
                <a:lnTo>
                  <a:pt x="232" y="169"/>
                </a:lnTo>
                <a:lnTo>
                  <a:pt x="226" y="171"/>
                </a:lnTo>
                <a:lnTo>
                  <a:pt x="221" y="175"/>
                </a:lnTo>
                <a:lnTo>
                  <a:pt x="213" y="178"/>
                </a:lnTo>
                <a:lnTo>
                  <a:pt x="207" y="180"/>
                </a:lnTo>
                <a:lnTo>
                  <a:pt x="202" y="184"/>
                </a:lnTo>
                <a:lnTo>
                  <a:pt x="194" y="188"/>
                </a:lnTo>
                <a:lnTo>
                  <a:pt x="188" y="190"/>
                </a:lnTo>
                <a:lnTo>
                  <a:pt x="181" y="196"/>
                </a:lnTo>
                <a:lnTo>
                  <a:pt x="175" y="199"/>
                </a:lnTo>
                <a:lnTo>
                  <a:pt x="169" y="203"/>
                </a:lnTo>
                <a:lnTo>
                  <a:pt x="163" y="207"/>
                </a:lnTo>
                <a:lnTo>
                  <a:pt x="158" y="209"/>
                </a:lnTo>
                <a:lnTo>
                  <a:pt x="150" y="213"/>
                </a:lnTo>
                <a:lnTo>
                  <a:pt x="144" y="216"/>
                </a:lnTo>
                <a:lnTo>
                  <a:pt x="139" y="220"/>
                </a:lnTo>
                <a:lnTo>
                  <a:pt x="131" y="224"/>
                </a:lnTo>
                <a:lnTo>
                  <a:pt x="127" y="228"/>
                </a:lnTo>
                <a:lnTo>
                  <a:pt x="122" y="234"/>
                </a:lnTo>
                <a:lnTo>
                  <a:pt x="110" y="243"/>
                </a:lnTo>
                <a:lnTo>
                  <a:pt x="99" y="251"/>
                </a:lnTo>
                <a:lnTo>
                  <a:pt x="87" y="260"/>
                </a:lnTo>
                <a:lnTo>
                  <a:pt x="78" y="272"/>
                </a:lnTo>
                <a:lnTo>
                  <a:pt x="68" y="281"/>
                </a:lnTo>
                <a:lnTo>
                  <a:pt x="59" y="291"/>
                </a:lnTo>
                <a:lnTo>
                  <a:pt x="51" y="302"/>
                </a:lnTo>
                <a:lnTo>
                  <a:pt x="46" y="313"/>
                </a:lnTo>
                <a:lnTo>
                  <a:pt x="42" y="319"/>
                </a:lnTo>
                <a:lnTo>
                  <a:pt x="38" y="325"/>
                </a:lnTo>
                <a:lnTo>
                  <a:pt x="36" y="332"/>
                </a:lnTo>
                <a:lnTo>
                  <a:pt x="32" y="338"/>
                </a:lnTo>
                <a:lnTo>
                  <a:pt x="29" y="344"/>
                </a:lnTo>
                <a:lnTo>
                  <a:pt x="27" y="351"/>
                </a:lnTo>
                <a:lnTo>
                  <a:pt x="25" y="357"/>
                </a:lnTo>
                <a:lnTo>
                  <a:pt x="23" y="365"/>
                </a:lnTo>
                <a:lnTo>
                  <a:pt x="17" y="365"/>
                </a:lnTo>
                <a:lnTo>
                  <a:pt x="13" y="365"/>
                </a:lnTo>
                <a:lnTo>
                  <a:pt x="8" y="363"/>
                </a:lnTo>
                <a:lnTo>
                  <a:pt x="0" y="363"/>
                </a:lnTo>
                <a:lnTo>
                  <a:pt x="2" y="351"/>
                </a:lnTo>
                <a:lnTo>
                  <a:pt x="6" y="342"/>
                </a:lnTo>
                <a:lnTo>
                  <a:pt x="8" y="332"/>
                </a:lnTo>
                <a:lnTo>
                  <a:pt x="9" y="323"/>
                </a:lnTo>
                <a:lnTo>
                  <a:pt x="11" y="313"/>
                </a:lnTo>
                <a:lnTo>
                  <a:pt x="13" y="304"/>
                </a:lnTo>
                <a:lnTo>
                  <a:pt x="15" y="294"/>
                </a:lnTo>
                <a:lnTo>
                  <a:pt x="17" y="285"/>
                </a:lnTo>
                <a:lnTo>
                  <a:pt x="17" y="273"/>
                </a:lnTo>
                <a:lnTo>
                  <a:pt x="19" y="264"/>
                </a:lnTo>
                <a:lnTo>
                  <a:pt x="19" y="254"/>
                </a:lnTo>
                <a:lnTo>
                  <a:pt x="21" y="245"/>
                </a:lnTo>
                <a:lnTo>
                  <a:pt x="21" y="234"/>
                </a:lnTo>
                <a:lnTo>
                  <a:pt x="21" y="224"/>
                </a:lnTo>
                <a:lnTo>
                  <a:pt x="21" y="213"/>
                </a:lnTo>
                <a:lnTo>
                  <a:pt x="21" y="201"/>
                </a:lnTo>
                <a:lnTo>
                  <a:pt x="13" y="201"/>
                </a:lnTo>
                <a:lnTo>
                  <a:pt x="6" y="207"/>
                </a:lnTo>
                <a:lnTo>
                  <a:pt x="2" y="207"/>
                </a:lnTo>
                <a:lnTo>
                  <a:pt x="0" y="205"/>
                </a:lnTo>
                <a:lnTo>
                  <a:pt x="8" y="196"/>
                </a:lnTo>
                <a:lnTo>
                  <a:pt x="13" y="188"/>
                </a:lnTo>
                <a:lnTo>
                  <a:pt x="23" y="177"/>
                </a:lnTo>
                <a:lnTo>
                  <a:pt x="32" y="165"/>
                </a:lnTo>
                <a:lnTo>
                  <a:pt x="42" y="154"/>
                </a:lnTo>
                <a:lnTo>
                  <a:pt x="51" y="144"/>
                </a:lnTo>
                <a:lnTo>
                  <a:pt x="63" y="133"/>
                </a:lnTo>
                <a:lnTo>
                  <a:pt x="72" y="123"/>
                </a:lnTo>
                <a:lnTo>
                  <a:pt x="82" y="114"/>
                </a:lnTo>
                <a:lnTo>
                  <a:pt x="93" y="106"/>
                </a:lnTo>
                <a:lnTo>
                  <a:pt x="103" y="99"/>
                </a:lnTo>
                <a:lnTo>
                  <a:pt x="114" y="97"/>
                </a:lnTo>
                <a:lnTo>
                  <a:pt x="124" y="93"/>
                </a:lnTo>
                <a:lnTo>
                  <a:pt x="133" y="95"/>
                </a:lnTo>
                <a:lnTo>
                  <a:pt x="141" y="99"/>
                </a:lnTo>
                <a:lnTo>
                  <a:pt x="150" y="106"/>
                </a:lnTo>
                <a:lnTo>
                  <a:pt x="160" y="97"/>
                </a:lnTo>
                <a:lnTo>
                  <a:pt x="171" y="89"/>
                </a:lnTo>
                <a:lnTo>
                  <a:pt x="177" y="85"/>
                </a:lnTo>
                <a:lnTo>
                  <a:pt x="184" y="80"/>
                </a:lnTo>
                <a:lnTo>
                  <a:pt x="190" y="76"/>
                </a:lnTo>
                <a:lnTo>
                  <a:pt x="196" y="72"/>
                </a:lnTo>
                <a:lnTo>
                  <a:pt x="202" y="68"/>
                </a:lnTo>
                <a:lnTo>
                  <a:pt x="207" y="64"/>
                </a:lnTo>
                <a:lnTo>
                  <a:pt x="215" y="61"/>
                </a:lnTo>
                <a:lnTo>
                  <a:pt x="221" y="59"/>
                </a:lnTo>
                <a:lnTo>
                  <a:pt x="226" y="53"/>
                </a:lnTo>
                <a:lnTo>
                  <a:pt x="234" y="51"/>
                </a:lnTo>
                <a:lnTo>
                  <a:pt x="240" y="47"/>
                </a:lnTo>
                <a:lnTo>
                  <a:pt x="245" y="43"/>
                </a:lnTo>
                <a:lnTo>
                  <a:pt x="251" y="40"/>
                </a:lnTo>
                <a:lnTo>
                  <a:pt x="259" y="36"/>
                </a:lnTo>
                <a:lnTo>
                  <a:pt x="264" y="34"/>
                </a:lnTo>
                <a:lnTo>
                  <a:pt x="270" y="30"/>
                </a:lnTo>
                <a:lnTo>
                  <a:pt x="278" y="26"/>
                </a:lnTo>
                <a:lnTo>
                  <a:pt x="283" y="24"/>
                </a:lnTo>
                <a:lnTo>
                  <a:pt x="289" y="23"/>
                </a:lnTo>
                <a:lnTo>
                  <a:pt x="297" y="19"/>
                </a:lnTo>
                <a:lnTo>
                  <a:pt x="304" y="17"/>
                </a:lnTo>
                <a:lnTo>
                  <a:pt x="310" y="13"/>
                </a:lnTo>
                <a:lnTo>
                  <a:pt x="316" y="11"/>
                </a:lnTo>
                <a:lnTo>
                  <a:pt x="323" y="9"/>
                </a:lnTo>
                <a:lnTo>
                  <a:pt x="329" y="7"/>
                </a:lnTo>
                <a:lnTo>
                  <a:pt x="336" y="5"/>
                </a:lnTo>
                <a:lnTo>
                  <a:pt x="344" y="4"/>
                </a:lnTo>
                <a:lnTo>
                  <a:pt x="352" y="4"/>
                </a:lnTo>
                <a:lnTo>
                  <a:pt x="35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7524000" y="5084640"/>
            <a:ext cx="133560" cy="665280"/>
          </a:xfrm>
          <a:custGeom>
            <a:avLst/>
            <a:gdLst/>
            <a:ahLst/>
            <a:rect l="l" t="t" r="r" b="b"/>
            <a:pathLst>
              <a:path w="167" h="836">
                <a:moveTo>
                  <a:pt x="0" y="0"/>
                </a:moveTo>
                <a:lnTo>
                  <a:pt x="4" y="7"/>
                </a:lnTo>
                <a:lnTo>
                  <a:pt x="6" y="17"/>
                </a:lnTo>
                <a:lnTo>
                  <a:pt x="8" y="24"/>
                </a:lnTo>
                <a:lnTo>
                  <a:pt x="12" y="34"/>
                </a:lnTo>
                <a:lnTo>
                  <a:pt x="13" y="43"/>
                </a:lnTo>
                <a:lnTo>
                  <a:pt x="17" y="51"/>
                </a:lnTo>
                <a:lnTo>
                  <a:pt x="19" y="60"/>
                </a:lnTo>
                <a:lnTo>
                  <a:pt x="23" y="70"/>
                </a:lnTo>
                <a:lnTo>
                  <a:pt x="23" y="79"/>
                </a:lnTo>
                <a:lnTo>
                  <a:pt x="25" y="89"/>
                </a:lnTo>
                <a:lnTo>
                  <a:pt x="27" y="98"/>
                </a:lnTo>
                <a:lnTo>
                  <a:pt x="29" y="108"/>
                </a:lnTo>
                <a:lnTo>
                  <a:pt x="31" y="117"/>
                </a:lnTo>
                <a:lnTo>
                  <a:pt x="32" y="127"/>
                </a:lnTo>
                <a:lnTo>
                  <a:pt x="34" y="136"/>
                </a:lnTo>
                <a:lnTo>
                  <a:pt x="36" y="146"/>
                </a:lnTo>
                <a:lnTo>
                  <a:pt x="38" y="155"/>
                </a:lnTo>
                <a:lnTo>
                  <a:pt x="38" y="165"/>
                </a:lnTo>
                <a:lnTo>
                  <a:pt x="40" y="174"/>
                </a:lnTo>
                <a:lnTo>
                  <a:pt x="42" y="184"/>
                </a:lnTo>
                <a:lnTo>
                  <a:pt x="44" y="193"/>
                </a:lnTo>
                <a:lnTo>
                  <a:pt x="46" y="205"/>
                </a:lnTo>
                <a:lnTo>
                  <a:pt x="46" y="214"/>
                </a:lnTo>
                <a:lnTo>
                  <a:pt x="50" y="226"/>
                </a:lnTo>
                <a:lnTo>
                  <a:pt x="50" y="235"/>
                </a:lnTo>
                <a:lnTo>
                  <a:pt x="51" y="245"/>
                </a:lnTo>
                <a:lnTo>
                  <a:pt x="51" y="254"/>
                </a:lnTo>
                <a:lnTo>
                  <a:pt x="53" y="266"/>
                </a:lnTo>
                <a:lnTo>
                  <a:pt x="55" y="275"/>
                </a:lnTo>
                <a:lnTo>
                  <a:pt x="57" y="285"/>
                </a:lnTo>
                <a:lnTo>
                  <a:pt x="59" y="296"/>
                </a:lnTo>
                <a:lnTo>
                  <a:pt x="61" y="306"/>
                </a:lnTo>
                <a:lnTo>
                  <a:pt x="61" y="317"/>
                </a:lnTo>
                <a:lnTo>
                  <a:pt x="63" y="327"/>
                </a:lnTo>
                <a:lnTo>
                  <a:pt x="63" y="336"/>
                </a:lnTo>
                <a:lnTo>
                  <a:pt x="65" y="346"/>
                </a:lnTo>
                <a:lnTo>
                  <a:pt x="67" y="355"/>
                </a:lnTo>
                <a:lnTo>
                  <a:pt x="69" y="366"/>
                </a:lnTo>
                <a:lnTo>
                  <a:pt x="71" y="376"/>
                </a:lnTo>
                <a:lnTo>
                  <a:pt x="72" y="385"/>
                </a:lnTo>
                <a:lnTo>
                  <a:pt x="74" y="395"/>
                </a:lnTo>
                <a:lnTo>
                  <a:pt x="76" y="404"/>
                </a:lnTo>
                <a:lnTo>
                  <a:pt x="78" y="414"/>
                </a:lnTo>
                <a:lnTo>
                  <a:pt x="80" y="425"/>
                </a:lnTo>
                <a:lnTo>
                  <a:pt x="82" y="435"/>
                </a:lnTo>
                <a:lnTo>
                  <a:pt x="84" y="446"/>
                </a:lnTo>
                <a:lnTo>
                  <a:pt x="88" y="456"/>
                </a:lnTo>
                <a:lnTo>
                  <a:pt x="91" y="465"/>
                </a:lnTo>
                <a:lnTo>
                  <a:pt x="93" y="475"/>
                </a:lnTo>
                <a:lnTo>
                  <a:pt x="97" y="484"/>
                </a:lnTo>
                <a:lnTo>
                  <a:pt x="99" y="494"/>
                </a:lnTo>
                <a:lnTo>
                  <a:pt x="103" y="503"/>
                </a:lnTo>
                <a:lnTo>
                  <a:pt x="107" y="513"/>
                </a:lnTo>
                <a:lnTo>
                  <a:pt x="109" y="522"/>
                </a:lnTo>
                <a:lnTo>
                  <a:pt x="112" y="532"/>
                </a:lnTo>
                <a:lnTo>
                  <a:pt x="116" y="541"/>
                </a:lnTo>
                <a:lnTo>
                  <a:pt x="120" y="549"/>
                </a:lnTo>
                <a:lnTo>
                  <a:pt x="124" y="558"/>
                </a:lnTo>
                <a:lnTo>
                  <a:pt x="128" y="568"/>
                </a:lnTo>
                <a:lnTo>
                  <a:pt x="133" y="577"/>
                </a:lnTo>
                <a:lnTo>
                  <a:pt x="137" y="587"/>
                </a:lnTo>
                <a:lnTo>
                  <a:pt x="143" y="596"/>
                </a:lnTo>
                <a:lnTo>
                  <a:pt x="147" y="604"/>
                </a:lnTo>
                <a:lnTo>
                  <a:pt x="152" y="614"/>
                </a:lnTo>
                <a:lnTo>
                  <a:pt x="154" y="623"/>
                </a:lnTo>
                <a:lnTo>
                  <a:pt x="156" y="633"/>
                </a:lnTo>
                <a:lnTo>
                  <a:pt x="158" y="642"/>
                </a:lnTo>
                <a:lnTo>
                  <a:pt x="160" y="652"/>
                </a:lnTo>
                <a:lnTo>
                  <a:pt x="162" y="661"/>
                </a:lnTo>
                <a:lnTo>
                  <a:pt x="162" y="673"/>
                </a:lnTo>
                <a:lnTo>
                  <a:pt x="164" y="684"/>
                </a:lnTo>
                <a:lnTo>
                  <a:pt x="166" y="695"/>
                </a:lnTo>
                <a:lnTo>
                  <a:pt x="166" y="705"/>
                </a:lnTo>
                <a:lnTo>
                  <a:pt x="166" y="714"/>
                </a:lnTo>
                <a:lnTo>
                  <a:pt x="166" y="726"/>
                </a:lnTo>
                <a:lnTo>
                  <a:pt x="166" y="735"/>
                </a:lnTo>
                <a:lnTo>
                  <a:pt x="166" y="747"/>
                </a:lnTo>
                <a:lnTo>
                  <a:pt x="166" y="758"/>
                </a:lnTo>
                <a:lnTo>
                  <a:pt x="166" y="764"/>
                </a:lnTo>
                <a:lnTo>
                  <a:pt x="166" y="769"/>
                </a:lnTo>
                <a:lnTo>
                  <a:pt x="166" y="775"/>
                </a:lnTo>
                <a:lnTo>
                  <a:pt x="166" y="781"/>
                </a:lnTo>
                <a:lnTo>
                  <a:pt x="162" y="781"/>
                </a:lnTo>
                <a:lnTo>
                  <a:pt x="158" y="781"/>
                </a:lnTo>
                <a:lnTo>
                  <a:pt x="156" y="771"/>
                </a:lnTo>
                <a:lnTo>
                  <a:pt x="154" y="762"/>
                </a:lnTo>
                <a:lnTo>
                  <a:pt x="152" y="756"/>
                </a:lnTo>
                <a:lnTo>
                  <a:pt x="152" y="750"/>
                </a:lnTo>
                <a:lnTo>
                  <a:pt x="147" y="743"/>
                </a:lnTo>
                <a:lnTo>
                  <a:pt x="145" y="739"/>
                </a:lnTo>
                <a:lnTo>
                  <a:pt x="139" y="739"/>
                </a:lnTo>
                <a:lnTo>
                  <a:pt x="137" y="743"/>
                </a:lnTo>
                <a:lnTo>
                  <a:pt x="133" y="749"/>
                </a:lnTo>
                <a:lnTo>
                  <a:pt x="133" y="758"/>
                </a:lnTo>
                <a:lnTo>
                  <a:pt x="129" y="766"/>
                </a:lnTo>
                <a:lnTo>
                  <a:pt x="129" y="777"/>
                </a:lnTo>
                <a:lnTo>
                  <a:pt x="129" y="783"/>
                </a:lnTo>
                <a:lnTo>
                  <a:pt x="129" y="788"/>
                </a:lnTo>
                <a:lnTo>
                  <a:pt x="131" y="794"/>
                </a:lnTo>
                <a:lnTo>
                  <a:pt x="135" y="800"/>
                </a:lnTo>
                <a:lnTo>
                  <a:pt x="139" y="809"/>
                </a:lnTo>
                <a:lnTo>
                  <a:pt x="147" y="821"/>
                </a:lnTo>
                <a:lnTo>
                  <a:pt x="148" y="825"/>
                </a:lnTo>
                <a:lnTo>
                  <a:pt x="156" y="830"/>
                </a:lnTo>
                <a:lnTo>
                  <a:pt x="162" y="832"/>
                </a:lnTo>
                <a:lnTo>
                  <a:pt x="167" y="836"/>
                </a:lnTo>
                <a:lnTo>
                  <a:pt x="162" y="834"/>
                </a:lnTo>
                <a:lnTo>
                  <a:pt x="156" y="830"/>
                </a:lnTo>
                <a:lnTo>
                  <a:pt x="150" y="827"/>
                </a:lnTo>
                <a:lnTo>
                  <a:pt x="147" y="825"/>
                </a:lnTo>
                <a:lnTo>
                  <a:pt x="137" y="817"/>
                </a:lnTo>
                <a:lnTo>
                  <a:pt x="129" y="811"/>
                </a:lnTo>
                <a:lnTo>
                  <a:pt x="122" y="804"/>
                </a:lnTo>
                <a:lnTo>
                  <a:pt x="116" y="796"/>
                </a:lnTo>
                <a:lnTo>
                  <a:pt x="110" y="787"/>
                </a:lnTo>
                <a:lnTo>
                  <a:pt x="107" y="779"/>
                </a:lnTo>
                <a:lnTo>
                  <a:pt x="103" y="769"/>
                </a:lnTo>
                <a:lnTo>
                  <a:pt x="99" y="760"/>
                </a:lnTo>
                <a:lnTo>
                  <a:pt x="97" y="750"/>
                </a:lnTo>
                <a:lnTo>
                  <a:pt x="97" y="741"/>
                </a:lnTo>
                <a:lnTo>
                  <a:pt x="93" y="730"/>
                </a:lnTo>
                <a:lnTo>
                  <a:pt x="93" y="718"/>
                </a:lnTo>
                <a:lnTo>
                  <a:pt x="93" y="709"/>
                </a:lnTo>
                <a:lnTo>
                  <a:pt x="93" y="699"/>
                </a:lnTo>
                <a:lnTo>
                  <a:pt x="93" y="693"/>
                </a:lnTo>
                <a:lnTo>
                  <a:pt x="93" y="688"/>
                </a:lnTo>
                <a:lnTo>
                  <a:pt x="93" y="680"/>
                </a:lnTo>
                <a:lnTo>
                  <a:pt x="93" y="676"/>
                </a:lnTo>
                <a:lnTo>
                  <a:pt x="93" y="665"/>
                </a:lnTo>
                <a:lnTo>
                  <a:pt x="95" y="654"/>
                </a:lnTo>
                <a:lnTo>
                  <a:pt x="95" y="642"/>
                </a:lnTo>
                <a:lnTo>
                  <a:pt x="97" y="631"/>
                </a:lnTo>
                <a:lnTo>
                  <a:pt x="97" y="619"/>
                </a:lnTo>
                <a:lnTo>
                  <a:pt x="99" y="610"/>
                </a:lnTo>
                <a:lnTo>
                  <a:pt x="97" y="598"/>
                </a:lnTo>
                <a:lnTo>
                  <a:pt x="97" y="587"/>
                </a:lnTo>
                <a:lnTo>
                  <a:pt x="97" y="576"/>
                </a:lnTo>
                <a:lnTo>
                  <a:pt x="97" y="566"/>
                </a:lnTo>
                <a:lnTo>
                  <a:pt x="95" y="557"/>
                </a:lnTo>
                <a:lnTo>
                  <a:pt x="93" y="545"/>
                </a:lnTo>
                <a:lnTo>
                  <a:pt x="91" y="536"/>
                </a:lnTo>
                <a:lnTo>
                  <a:pt x="90" y="528"/>
                </a:lnTo>
                <a:lnTo>
                  <a:pt x="82" y="519"/>
                </a:lnTo>
                <a:lnTo>
                  <a:pt x="74" y="511"/>
                </a:lnTo>
                <a:lnTo>
                  <a:pt x="69" y="501"/>
                </a:lnTo>
                <a:lnTo>
                  <a:pt x="65" y="492"/>
                </a:lnTo>
                <a:lnTo>
                  <a:pt x="59" y="479"/>
                </a:lnTo>
                <a:lnTo>
                  <a:pt x="53" y="469"/>
                </a:lnTo>
                <a:lnTo>
                  <a:pt x="51" y="458"/>
                </a:lnTo>
                <a:lnTo>
                  <a:pt x="48" y="446"/>
                </a:lnTo>
                <a:lnTo>
                  <a:pt x="44" y="439"/>
                </a:lnTo>
                <a:lnTo>
                  <a:pt x="44" y="433"/>
                </a:lnTo>
                <a:lnTo>
                  <a:pt x="42" y="427"/>
                </a:lnTo>
                <a:lnTo>
                  <a:pt x="40" y="420"/>
                </a:lnTo>
                <a:lnTo>
                  <a:pt x="38" y="412"/>
                </a:lnTo>
                <a:lnTo>
                  <a:pt x="38" y="406"/>
                </a:lnTo>
                <a:lnTo>
                  <a:pt x="36" y="401"/>
                </a:lnTo>
                <a:lnTo>
                  <a:pt x="36" y="393"/>
                </a:lnTo>
                <a:lnTo>
                  <a:pt x="34" y="385"/>
                </a:lnTo>
                <a:lnTo>
                  <a:pt x="34" y="378"/>
                </a:lnTo>
                <a:lnTo>
                  <a:pt x="32" y="370"/>
                </a:lnTo>
                <a:lnTo>
                  <a:pt x="32" y="365"/>
                </a:lnTo>
                <a:lnTo>
                  <a:pt x="32" y="357"/>
                </a:lnTo>
                <a:lnTo>
                  <a:pt x="31" y="351"/>
                </a:lnTo>
                <a:lnTo>
                  <a:pt x="31" y="344"/>
                </a:lnTo>
                <a:lnTo>
                  <a:pt x="31" y="338"/>
                </a:lnTo>
                <a:lnTo>
                  <a:pt x="29" y="328"/>
                </a:lnTo>
                <a:lnTo>
                  <a:pt x="29" y="321"/>
                </a:lnTo>
                <a:lnTo>
                  <a:pt x="27" y="313"/>
                </a:lnTo>
                <a:lnTo>
                  <a:pt x="27" y="306"/>
                </a:lnTo>
                <a:lnTo>
                  <a:pt x="27" y="300"/>
                </a:lnTo>
                <a:lnTo>
                  <a:pt x="25" y="292"/>
                </a:lnTo>
                <a:lnTo>
                  <a:pt x="25" y="285"/>
                </a:lnTo>
                <a:lnTo>
                  <a:pt x="25" y="277"/>
                </a:lnTo>
                <a:lnTo>
                  <a:pt x="25" y="270"/>
                </a:lnTo>
                <a:lnTo>
                  <a:pt x="25" y="262"/>
                </a:lnTo>
                <a:lnTo>
                  <a:pt x="23" y="254"/>
                </a:lnTo>
                <a:lnTo>
                  <a:pt x="23" y="247"/>
                </a:lnTo>
                <a:lnTo>
                  <a:pt x="23" y="239"/>
                </a:lnTo>
                <a:lnTo>
                  <a:pt x="23" y="231"/>
                </a:lnTo>
                <a:lnTo>
                  <a:pt x="23" y="226"/>
                </a:lnTo>
                <a:lnTo>
                  <a:pt x="23" y="218"/>
                </a:lnTo>
                <a:lnTo>
                  <a:pt x="21" y="211"/>
                </a:lnTo>
                <a:lnTo>
                  <a:pt x="19" y="203"/>
                </a:lnTo>
                <a:lnTo>
                  <a:pt x="19" y="195"/>
                </a:lnTo>
                <a:lnTo>
                  <a:pt x="19" y="190"/>
                </a:lnTo>
                <a:lnTo>
                  <a:pt x="17" y="182"/>
                </a:lnTo>
                <a:lnTo>
                  <a:pt x="17" y="174"/>
                </a:lnTo>
                <a:lnTo>
                  <a:pt x="17" y="167"/>
                </a:lnTo>
                <a:lnTo>
                  <a:pt x="17" y="161"/>
                </a:lnTo>
                <a:lnTo>
                  <a:pt x="15" y="154"/>
                </a:lnTo>
                <a:lnTo>
                  <a:pt x="15" y="148"/>
                </a:lnTo>
                <a:lnTo>
                  <a:pt x="13" y="140"/>
                </a:lnTo>
                <a:lnTo>
                  <a:pt x="13" y="135"/>
                </a:lnTo>
                <a:lnTo>
                  <a:pt x="10" y="129"/>
                </a:lnTo>
                <a:lnTo>
                  <a:pt x="10" y="121"/>
                </a:lnTo>
                <a:lnTo>
                  <a:pt x="8" y="116"/>
                </a:lnTo>
                <a:lnTo>
                  <a:pt x="8" y="110"/>
                </a:lnTo>
                <a:lnTo>
                  <a:pt x="8" y="102"/>
                </a:lnTo>
                <a:lnTo>
                  <a:pt x="8" y="95"/>
                </a:lnTo>
                <a:lnTo>
                  <a:pt x="8" y="87"/>
                </a:lnTo>
                <a:lnTo>
                  <a:pt x="8" y="79"/>
                </a:lnTo>
                <a:lnTo>
                  <a:pt x="8" y="72"/>
                </a:lnTo>
                <a:lnTo>
                  <a:pt x="8" y="64"/>
                </a:lnTo>
                <a:lnTo>
                  <a:pt x="6" y="57"/>
                </a:lnTo>
                <a:lnTo>
                  <a:pt x="6" y="51"/>
                </a:lnTo>
                <a:lnTo>
                  <a:pt x="4" y="43"/>
                </a:lnTo>
                <a:lnTo>
                  <a:pt x="4" y="36"/>
                </a:lnTo>
                <a:lnTo>
                  <a:pt x="2" y="30"/>
                </a:lnTo>
                <a:lnTo>
                  <a:pt x="2" y="24"/>
                </a:lnTo>
                <a:lnTo>
                  <a:pt x="0" y="17"/>
                </a:lnTo>
                <a:lnTo>
                  <a:pt x="0" y="11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479920" y="4340160"/>
            <a:ext cx="60480" cy="239760"/>
          </a:xfrm>
          <a:custGeom>
            <a:avLst/>
            <a:gdLst/>
            <a:ahLst/>
            <a:rect l="l" t="t" r="r" b="b"/>
            <a:pathLst>
              <a:path w="74" h="302">
                <a:moveTo>
                  <a:pt x="70" y="0"/>
                </a:moveTo>
                <a:lnTo>
                  <a:pt x="70" y="9"/>
                </a:lnTo>
                <a:lnTo>
                  <a:pt x="72" y="19"/>
                </a:lnTo>
                <a:lnTo>
                  <a:pt x="72" y="28"/>
                </a:lnTo>
                <a:lnTo>
                  <a:pt x="74" y="38"/>
                </a:lnTo>
                <a:lnTo>
                  <a:pt x="74" y="47"/>
                </a:lnTo>
                <a:lnTo>
                  <a:pt x="74" y="57"/>
                </a:lnTo>
                <a:lnTo>
                  <a:pt x="72" y="66"/>
                </a:lnTo>
                <a:lnTo>
                  <a:pt x="72" y="78"/>
                </a:lnTo>
                <a:lnTo>
                  <a:pt x="70" y="87"/>
                </a:lnTo>
                <a:lnTo>
                  <a:pt x="68" y="97"/>
                </a:lnTo>
                <a:lnTo>
                  <a:pt x="66" y="106"/>
                </a:lnTo>
                <a:lnTo>
                  <a:pt x="65" y="116"/>
                </a:lnTo>
                <a:lnTo>
                  <a:pt x="61" y="125"/>
                </a:lnTo>
                <a:lnTo>
                  <a:pt x="59" y="135"/>
                </a:lnTo>
                <a:lnTo>
                  <a:pt x="55" y="144"/>
                </a:lnTo>
                <a:lnTo>
                  <a:pt x="53" y="154"/>
                </a:lnTo>
                <a:lnTo>
                  <a:pt x="49" y="163"/>
                </a:lnTo>
                <a:lnTo>
                  <a:pt x="46" y="173"/>
                </a:lnTo>
                <a:lnTo>
                  <a:pt x="42" y="180"/>
                </a:lnTo>
                <a:lnTo>
                  <a:pt x="40" y="190"/>
                </a:lnTo>
                <a:lnTo>
                  <a:pt x="34" y="199"/>
                </a:lnTo>
                <a:lnTo>
                  <a:pt x="32" y="209"/>
                </a:lnTo>
                <a:lnTo>
                  <a:pt x="28" y="218"/>
                </a:lnTo>
                <a:lnTo>
                  <a:pt x="25" y="228"/>
                </a:lnTo>
                <a:lnTo>
                  <a:pt x="21" y="237"/>
                </a:lnTo>
                <a:lnTo>
                  <a:pt x="17" y="247"/>
                </a:lnTo>
                <a:lnTo>
                  <a:pt x="15" y="254"/>
                </a:lnTo>
                <a:lnTo>
                  <a:pt x="11" y="264"/>
                </a:lnTo>
                <a:lnTo>
                  <a:pt x="7" y="273"/>
                </a:lnTo>
                <a:lnTo>
                  <a:pt x="6" y="283"/>
                </a:lnTo>
                <a:lnTo>
                  <a:pt x="4" y="292"/>
                </a:lnTo>
                <a:lnTo>
                  <a:pt x="2" y="302"/>
                </a:lnTo>
                <a:lnTo>
                  <a:pt x="0" y="292"/>
                </a:lnTo>
                <a:lnTo>
                  <a:pt x="0" y="285"/>
                </a:lnTo>
                <a:lnTo>
                  <a:pt x="0" y="275"/>
                </a:lnTo>
                <a:lnTo>
                  <a:pt x="0" y="268"/>
                </a:lnTo>
                <a:lnTo>
                  <a:pt x="0" y="258"/>
                </a:lnTo>
                <a:lnTo>
                  <a:pt x="2" y="249"/>
                </a:lnTo>
                <a:lnTo>
                  <a:pt x="4" y="239"/>
                </a:lnTo>
                <a:lnTo>
                  <a:pt x="6" y="232"/>
                </a:lnTo>
                <a:lnTo>
                  <a:pt x="7" y="222"/>
                </a:lnTo>
                <a:lnTo>
                  <a:pt x="9" y="212"/>
                </a:lnTo>
                <a:lnTo>
                  <a:pt x="13" y="203"/>
                </a:lnTo>
                <a:lnTo>
                  <a:pt x="15" y="193"/>
                </a:lnTo>
                <a:lnTo>
                  <a:pt x="19" y="184"/>
                </a:lnTo>
                <a:lnTo>
                  <a:pt x="23" y="174"/>
                </a:lnTo>
                <a:lnTo>
                  <a:pt x="25" y="165"/>
                </a:lnTo>
                <a:lnTo>
                  <a:pt x="28" y="155"/>
                </a:lnTo>
                <a:lnTo>
                  <a:pt x="32" y="144"/>
                </a:lnTo>
                <a:lnTo>
                  <a:pt x="34" y="135"/>
                </a:lnTo>
                <a:lnTo>
                  <a:pt x="38" y="125"/>
                </a:lnTo>
                <a:lnTo>
                  <a:pt x="42" y="116"/>
                </a:lnTo>
                <a:lnTo>
                  <a:pt x="44" y="106"/>
                </a:lnTo>
                <a:lnTo>
                  <a:pt x="47" y="97"/>
                </a:lnTo>
                <a:lnTo>
                  <a:pt x="51" y="87"/>
                </a:lnTo>
                <a:lnTo>
                  <a:pt x="53" y="78"/>
                </a:lnTo>
                <a:lnTo>
                  <a:pt x="55" y="66"/>
                </a:lnTo>
                <a:lnTo>
                  <a:pt x="59" y="57"/>
                </a:lnTo>
                <a:lnTo>
                  <a:pt x="61" y="47"/>
                </a:lnTo>
                <a:lnTo>
                  <a:pt x="63" y="38"/>
                </a:lnTo>
                <a:lnTo>
                  <a:pt x="65" y="28"/>
                </a:lnTo>
                <a:lnTo>
                  <a:pt x="66" y="19"/>
                </a:lnTo>
                <a:lnTo>
                  <a:pt x="68" y="9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085160" y="4348080"/>
            <a:ext cx="131760" cy="147600"/>
          </a:xfrm>
          <a:custGeom>
            <a:avLst/>
            <a:gdLst/>
            <a:ahLst/>
            <a:rect l="l" t="t" r="r" b="b"/>
            <a:pathLst>
              <a:path w="165" h="186">
                <a:moveTo>
                  <a:pt x="0" y="0"/>
                </a:moveTo>
                <a:lnTo>
                  <a:pt x="9" y="8"/>
                </a:lnTo>
                <a:lnTo>
                  <a:pt x="19" y="17"/>
                </a:lnTo>
                <a:lnTo>
                  <a:pt x="24" y="23"/>
                </a:lnTo>
                <a:lnTo>
                  <a:pt x="32" y="29"/>
                </a:lnTo>
                <a:lnTo>
                  <a:pt x="38" y="32"/>
                </a:lnTo>
                <a:lnTo>
                  <a:pt x="43" y="38"/>
                </a:lnTo>
                <a:lnTo>
                  <a:pt x="51" y="44"/>
                </a:lnTo>
                <a:lnTo>
                  <a:pt x="57" y="48"/>
                </a:lnTo>
                <a:lnTo>
                  <a:pt x="62" y="53"/>
                </a:lnTo>
                <a:lnTo>
                  <a:pt x="70" y="61"/>
                </a:lnTo>
                <a:lnTo>
                  <a:pt x="76" y="65"/>
                </a:lnTo>
                <a:lnTo>
                  <a:pt x="81" y="72"/>
                </a:lnTo>
                <a:lnTo>
                  <a:pt x="89" y="78"/>
                </a:lnTo>
                <a:lnTo>
                  <a:pt x="95" y="84"/>
                </a:lnTo>
                <a:lnTo>
                  <a:pt x="100" y="89"/>
                </a:lnTo>
                <a:lnTo>
                  <a:pt x="106" y="97"/>
                </a:lnTo>
                <a:lnTo>
                  <a:pt x="110" y="101"/>
                </a:lnTo>
                <a:lnTo>
                  <a:pt x="118" y="108"/>
                </a:lnTo>
                <a:lnTo>
                  <a:pt x="123" y="114"/>
                </a:lnTo>
                <a:lnTo>
                  <a:pt x="127" y="120"/>
                </a:lnTo>
                <a:lnTo>
                  <a:pt x="133" y="127"/>
                </a:lnTo>
                <a:lnTo>
                  <a:pt x="139" y="133"/>
                </a:lnTo>
                <a:lnTo>
                  <a:pt x="142" y="139"/>
                </a:lnTo>
                <a:lnTo>
                  <a:pt x="146" y="146"/>
                </a:lnTo>
                <a:lnTo>
                  <a:pt x="148" y="152"/>
                </a:lnTo>
                <a:lnTo>
                  <a:pt x="154" y="160"/>
                </a:lnTo>
                <a:lnTo>
                  <a:pt x="156" y="165"/>
                </a:lnTo>
                <a:lnTo>
                  <a:pt x="159" y="173"/>
                </a:lnTo>
                <a:lnTo>
                  <a:pt x="161" y="179"/>
                </a:lnTo>
                <a:lnTo>
                  <a:pt x="165" y="186"/>
                </a:lnTo>
                <a:lnTo>
                  <a:pt x="156" y="181"/>
                </a:lnTo>
                <a:lnTo>
                  <a:pt x="148" y="177"/>
                </a:lnTo>
                <a:lnTo>
                  <a:pt x="142" y="173"/>
                </a:lnTo>
                <a:lnTo>
                  <a:pt x="135" y="169"/>
                </a:lnTo>
                <a:lnTo>
                  <a:pt x="127" y="164"/>
                </a:lnTo>
                <a:lnTo>
                  <a:pt x="120" y="158"/>
                </a:lnTo>
                <a:lnTo>
                  <a:pt x="112" y="152"/>
                </a:lnTo>
                <a:lnTo>
                  <a:pt x="106" y="148"/>
                </a:lnTo>
                <a:lnTo>
                  <a:pt x="99" y="143"/>
                </a:lnTo>
                <a:lnTo>
                  <a:pt x="91" y="137"/>
                </a:lnTo>
                <a:lnTo>
                  <a:pt x="85" y="131"/>
                </a:lnTo>
                <a:lnTo>
                  <a:pt x="80" y="126"/>
                </a:lnTo>
                <a:lnTo>
                  <a:pt x="72" y="120"/>
                </a:lnTo>
                <a:lnTo>
                  <a:pt x="64" y="114"/>
                </a:lnTo>
                <a:lnTo>
                  <a:pt x="61" y="108"/>
                </a:lnTo>
                <a:lnTo>
                  <a:pt x="55" y="103"/>
                </a:lnTo>
                <a:lnTo>
                  <a:pt x="49" y="97"/>
                </a:lnTo>
                <a:lnTo>
                  <a:pt x="42" y="89"/>
                </a:lnTo>
                <a:lnTo>
                  <a:pt x="36" y="84"/>
                </a:lnTo>
                <a:lnTo>
                  <a:pt x="32" y="78"/>
                </a:lnTo>
                <a:lnTo>
                  <a:pt x="26" y="70"/>
                </a:lnTo>
                <a:lnTo>
                  <a:pt x="23" y="65"/>
                </a:lnTo>
                <a:lnTo>
                  <a:pt x="19" y="57"/>
                </a:lnTo>
                <a:lnTo>
                  <a:pt x="15" y="51"/>
                </a:lnTo>
                <a:lnTo>
                  <a:pt x="11" y="44"/>
                </a:lnTo>
                <a:lnTo>
                  <a:pt x="7" y="38"/>
                </a:lnTo>
                <a:lnTo>
                  <a:pt x="5" y="32"/>
                </a:lnTo>
                <a:lnTo>
                  <a:pt x="4" y="25"/>
                </a:lnTo>
                <a:lnTo>
                  <a:pt x="2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8027640" y="3933720"/>
            <a:ext cx="628560" cy="514440"/>
            <a:chOff x="8027640" y="3933720"/>
            <a:chExt cx="628560" cy="514440"/>
          </a:xfrm>
        </p:grpSpPr>
        <p:sp>
          <p:nvSpPr>
            <p:cNvPr id="500" name=""/>
            <p:cNvSpPr/>
            <p:nvPr/>
          </p:nvSpPr>
          <p:spPr>
            <a:xfrm flipH="1">
              <a:off x="8583480" y="3941640"/>
              <a:ext cx="7272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8238960" y="3933720"/>
              <a:ext cx="27576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034840" y="3998880"/>
              <a:ext cx="20520" cy="284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8466840" y="4006800"/>
              <a:ext cx="115560" cy="3168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8103240" y="4010040"/>
              <a:ext cx="12492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383320" y="4057560"/>
              <a:ext cx="112320" cy="11592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559000" y="4075200"/>
              <a:ext cx="7740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340480" y="4138560"/>
              <a:ext cx="4392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347680" y="4195800"/>
              <a:ext cx="2340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8075520" y="4232160"/>
              <a:ext cx="7416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8027280" y="4251240"/>
              <a:ext cx="12204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8507160" y="4295880"/>
              <a:ext cx="104400" cy="7272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8293680" y="4416480"/>
              <a:ext cx="17892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H="1">
            <a:off x="5767560" y="4386240"/>
            <a:ext cx="142560" cy="139680"/>
          </a:xfrm>
          <a:custGeom>
            <a:avLst/>
            <a:gdLst/>
            <a:ahLst/>
            <a:rect l="l" t="t" r="r" b="b"/>
            <a:pathLst>
              <a:path w="181" h="176">
                <a:moveTo>
                  <a:pt x="168" y="0"/>
                </a:moveTo>
                <a:lnTo>
                  <a:pt x="169" y="0"/>
                </a:lnTo>
                <a:lnTo>
                  <a:pt x="175" y="0"/>
                </a:lnTo>
                <a:lnTo>
                  <a:pt x="179" y="0"/>
                </a:lnTo>
                <a:lnTo>
                  <a:pt x="181" y="0"/>
                </a:lnTo>
                <a:lnTo>
                  <a:pt x="175" y="5"/>
                </a:lnTo>
                <a:lnTo>
                  <a:pt x="169" y="11"/>
                </a:lnTo>
                <a:lnTo>
                  <a:pt x="166" y="17"/>
                </a:lnTo>
                <a:lnTo>
                  <a:pt x="160" y="24"/>
                </a:lnTo>
                <a:lnTo>
                  <a:pt x="156" y="32"/>
                </a:lnTo>
                <a:lnTo>
                  <a:pt x="150" y="40"/>
                </a:lnTo>
                <a:lnTo>
                  <a:pt x="147" y="47"/>
                </a:lnTo>
                <a:lnTo>
                  <a:pt x="143" y="55"/>
                </a:lnTo>
                <a:lnTo>
                  <a:pt x="139" y="62"/>
                </a:lnTo>
                <a:lnTo>
                  <a:pt x="137" y="72"/>
                </a:lnTo>
                <a:lnTo>
                  <a:pt x="131" y="79"/>
                </a:lnTo>
                <a:lnTo>
                  <a:pt x="129" y="87"/>
                </a:lnTo>
                <a:lnTo>
                  <a:pt x="124" y="95"/>
                </a:lnTo>
                <a:lnTo>
                  <a:pt x="120" y="104"/>
                </a:lnTo>
                <a:lnTo>
                  <a:pt x="116" y="112"/>
                </a:lnTo>
                <a:lnTo>
                  <a:pt x="112" y="119"/>
                </a:lnTo>
                <a:lnTo>
                  <a:pt x="109" y="125"/>
                </a:lnTo>
                <a:lnTo>
                  <a:pt x="103" y="133"/>
                </a:lnTo>
                <a:lnTo>
                  <a:pt x="97" y="138"/>
                </a:lnTo>
                <a:lnTo>
                  <a:pt x="93" y="146"/>
                </a:lnTo>
                <a:lnTo>
                  <a:pt x="88" y="152"/>
                </a:lnTo>
                <a:lnTo>
                  <a:pt x="82" y="157"/>
                </a:lnTo>
                <a:lnTo>
                  <a:pt x="76" y="161"/>
                </a:lnTo>
                <a:lnTo>
                  <a:pt x="71" y="167"/>
                </a:lnTo>
                <a:lnTo>
                  <a:pt x="63" y="169"/>
                </a:lnTo>
                <a:lnTo>
                  <a:pt x="55" y="173"/>
                </a:lnTo>
                <a:lnTo>
                  <a:pt x="48" y="175"/>
                </a:lnTo>
                <a:lnTo>
                  <a:pt x="40" y="176"/>
                </a:lnTo>
                <a:lnTo>
                  <a:pt x="31" y="176"/>
                </a:lnTo>
                <a:lnTo>
                  <a:pt x="21" y="176"/>
                </a:lnTo>
                <a:lnTo>
                  <a:pt x="10" y="176"/>
                </a:lnTo>
                <a:lnTo>
                  <a:pt x="0" y="176"/>
                </a:lnTo>
                <a:lnTo>
                  <a:pt x="2" y="169"/>
                </a:lnTo>
                <a:lnTo>
                  <a:pt x="6" y="161"/>
                </a:lnTo>
                <a:lnTo>
                  <a:pt x="10" y="155"/>
                </a:lnTo>
                <a:lnTo>
                  <a:pt x="12" y="150"/>
                </a:lnTo>
                <a:lnTo>
                  <a:pt x="21" y="136"/>
                </a:lnTo>
                <a:lnTo>
                  <a:pt x="31" y="127"/>
                </a:lnTo>
                <a:lnTo>
                  <a:pt x="40" y="116"/>
                </a:lnTo>
                <a:lnTo>
                  <a:pt x="50" y="104"/>
                </a:lnTo>
                <a:lnTo>
                  <a:pt x="55" y="98"/>
                </a:lnTo>
                <a:lnTo>
                  <a:pt x="63" y="95"/>
                </a:lnTo>
                <a:lnTo>
                  <a:pt x="69" y="89"/>
                </a:lnTo>
                <a:lnTo>
                  <a:pt x="74" y="85"/>
                </a:lnTo>
                <a:lnTo>
                  <a:pt x="80" y="78"/>
                </a:lnTo>
                <a:lnTo>
                  <a:pt x="86" y="72"/>
                </a:lnTo>
                <a:lnTo>
                  <a:pt x="91" y="68"/>
                </a:lnTo>
                <a:lnTo>
                  <a:pt x="97" y="62"/>
                </a:lnTo>
                <a:lnTo>
                  <a:pt x="103" y="57"/>
                </a:lnTo>
                <a:lnTo>
                  <a:pt x="110" y="51"/>
                </a:lnTo>
                <a:lnTo>
                  <a:pt x="116" y="45"/>
                </a:lnTo>
                <a:lnTo>
                  <a:pt x="122" y="41"/>
                </a:lnTo>
                <a:lnTo>
                  <a:pt x="128" y="36"/>
                </a:lnTo>
                <a:lnTo>
                  <a:pt x="133" y="32"/>
                </a:lnTo>
                <a:lnTo>
                  <a:pt x="139" y="24"/>
                </a:lnTo>
                <a:lnTo>
                  <a:pt x="147" y="21"/>
                </a:lnTo>
                <a:lnTo>
                  <a:pt x="156" y="9"/>
                </a:lnTo>
                <a:lnTo>
                  <a:pt x="168" y="0"/>
                </a:lnTo>
                <a:lnTo>
                  <a:pt x="1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728680" y="4394160"/>
            <a:ext cx="73080" cy="111240"/>
          </a:xfrm>
          <a:custGeom>
            <a:avLst/>
            <a:gdLst/>
            <a:ahLst/>
            <a:rect l="l" t="t" r="r" b="b"/>
            <a:pathLst>
              <a:path w="91" h="141">
                <a:moveTo>
                  <a:pt x="91" y="0"/>
                </a:moveTo>
                <a:lnTo>
                  <a:pt x="86" y="8"/>
                </a:lnTo>
                <a:lnTo>
                  <a:pt x="82" y="15"/>
                </a:lnTo>
                <a:lnTo>
                  <a:pt x="78" y="25"/>
                </a:lnTo>
                <a:lnTo>
                  <a:pt x="74" y="34"/>
                </a:lnTo>
                <a:lnTo>
                  <a:pt x="70" y="44"/>
                </a:lnTo>
                <a:lnTo>
                  <a:pt x="67" y="53"/>
                </a:lnTo>
                <a:lnTo>
                  <a:pt x="61" y="65"/>
                </a:lnTo>
                <a:lnTo>
                  <a:pt x="57" y="76"/>
                </a:lnTo>
                <a:lnTo>
                  <a:pt x="51" y="86"/>
                </a:lnTo>
                <a:lnTo>
                  <a:pt x="48" y="95"/>
                </a:lnTo>
                <a:lnTo>
                  <a:pt x="40" y="105"/>
                </a:lnTo>
                <a:lnTo>
                  <a:pt x="34" y="114"/>
                </a:lnTo>
                <a:lnTo>
                  <a:pt x="27" y="122"/>
                </a:lnTo>
                <a:lnTo>
                  <a:pt x="19" y="129"/>
                </a:lnTo>
                <a:lnTo>
                  <a:pt x="10" y="135"/>
                </a:lnTo>
                <a:lnTo>
                  <a:pt x="0" y="141"/>
                </a:lnTo>
                <a:lnTo>
                  <a:pt x="4" y="131"/>
                </a:lnTo>
                <a:lnTo>
                  <a:pt x="8" y="122"/>
                </a:lnTo>
                <a:lnTo>
                  <a:pt x="12" y="112"/>
                </a:lnTo>
                <a:lnTo>
                  <a:pt x="19" y="103"/>
                </a:lnTo>
                <a:lnTo>
                  <a:pt x="23" y="93"/>
                </a:lnTo>
                <a:lnTo>
                  <a:pt x="29" y="86"/>
                </a:lnTo>
                <a:lnTo>
                  <a:pt x="32" y="76"/>
                </a:lnTo>
                <a:lnTo>
                  <a:pt x="40" y="69"/>
                </a:lnTo>
                <a:lnTo>
                  <a:pt x="44" y="59"/>
                </a:lnTo>
                <a:lnTo>
                  <a:pt x="51" y="51"/>
                </a:lnTo>
                <a:lnTo>
                  <a:pt x="57" y="42"/>
                </a:lnTo>
                <a:lnTo>
                  <a:pt x="63" y="34"/>
                </a:lnTo>
                <a:lnTo>
                  <a:pt x="70" y="25"/>
                </a:lnTo>
                <a:lnTo>
                  <a:pt x="78" y="17"/>
                </a:lnTo>
                <a:lnTo>
                  <a:pt x="84" y="8"/>
                </a:lnTo>
                <a:lnTo>
                  <a:pt x="91" y="0"/>
                </a:lnTo>
                <a:lnTo>
                  <a:pt x="9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726240" y="4403880"/>
            <a:ext cx="255600" cy="29664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61" y="0"/>
                </a:moveTo>
                <a:lnTo>
                  <a:pt x="268" y="0"/>
                </a:lnTo>
                <a:lnTo>
                  <a:pt x="276" y="0"/>
                </a:lnTo>
                <a:lnTo>
                  <a:pt x="284" y="0"/>
                </a:lnTo>
                <a:lnTo>
                  <a:pt x="293" y="0"/>
                </a:lnTo>
                <a:lnTo>
                  <a:pt x="301" y="0"/>
                </a:lnTo>
                <a:lnTo>
                  <a:pt x="308" y="0"/>
                </a:lnTo>
                <a:lnTo>
                  <a:pt x="316" y="0"/>
                </a:lnTo>
                <a:lnTo>
                  <a:pt x="324" y="0"/>
                </a:lnTo>
                <a:lnTo>
                  <a:pt x="324" y="2"/>
                </a:lnTo>
                <a:lnTo>
                  <a:pt x="324" y="6"/>
                </a:lnTo>
                <a:lnTo>
                  <a:pt x="312" y="12"/>
                </a:lnTo>
                <a:lnTo>
                  <a:pt x="303" y="19"/>
                </a:lnTo>
                <a:lnTo>
                  <a:pt x="289" y="25"/>
                </a:lnTo>
                <a:lnTo>
                  <a:pt x="280" y="31"/>
                </a:lnTo>
                <a:lnTo>
                  <a:pt x="274" y="33"/>
                </a:lnTo>
                <a:lnTo>
                  <a:pt x="267" y="37"/>
                </a:lnTo>
                <a:lnTo>
                  <a:pt x="261" y="38"/>
                </a:lnTo>
                <a:lnTo>
                  <a:pt x="255" y="40"/>
                </a:lnTo>
                <a:lnTo>
                  <a:pt x="249" y="42"/>
                </a:lnTo>
                <a:lnTo>
                  <a:pt x="244" y="46"/>
                </a:lnTo>
                <a:lnTo>
                  <a:pt x="238" y="46"/>
                </a:lnTo>
                <a:lnTo>
                  <a:pt x="232" y="50"/>
                </a:lnTo>
                <a:lnTo>
                  <a:pt x="225" y="50"/>
                </a:lnTo>
                <a:lnTo>
                  <a:pt x="219" y="52"/>
                </a:lnTo>
                <a:lnTo>
                  <a:pt x="213" y="56"/>
                </a:lnTo>
                <a:lnTo>
                  <a:pt x="208" y="57"/>
                </a:lnTo>
                <a:lnTo>
                  <a:pt x="196" y="63"/>
                </a:lnTo>
                <a:lnTo>
                  <a:pt x="185" y="69"/>
                </a:lnTo>
                <a:lnTo>
                  <a:pt x="173" y="75"/>
                </a:lnTo>
                <a:lnTo>
                  <a:pt x="164" y="82"/>
                </a:lnTo>
                <a:lnTo>
                  <a:pt x="153" y="90"/>
                </a:lnTo>
                <a:lnTo>
                  <a:pt x="143" y="101"/>
                </a:lnTo>
                <a:lnTo>
                  <a:pt x="149" y="99"/>
                </a:lnTo>
                <a:lnTo>
                  <a:pt x="156" y="99"/>
                </a:lnTo>
                <a:lnTo>
                  <a:pt x="164" y="99"/>
                </a:lnTo>
                <a:lnTo>
                  <a:pt x="173" y="99"/>
                </a:lnTo>
                <a:lnTo>
                  <a:pt x="181" y="99"/>
                </a:lnTo>
                <a:lnTo>
                  <a:pt x="191" y="97"/>
                </a:lnTo>
                <a:lnTo>
                  <a:pt x="198" y="95"/>
                </a:lnTo>
                <a:lnTo>
                  <a:pt x="208" y="95"/>
                </a:lnTo>
                <a:lnTo>
                  <a:pt x="215" y="94"/>
                </a:lnTo>
                <a:lnTo>
                  <a:pt x="225" y="94"/>
                </a:lnTo>
                <a:lnTo>
                  <a:pt x="232" y="92"/>
                </a:lnTo>
                <a:lnTo>
                  <a:pt x="242" y="92"/>
                </a:lnTo>
                <a:lnTo>
                  <a:pt x="251" y="92"/>
                </a:lnTo>
                <a:lnTo>
                  <a:pt x="261" y="92"/>
                </a:lnTo>
                <a:lnTo>
                  <a:pt x="270" y="94"/>
                </a:lnTo>
                <a:lnTo>
                  <a:pt x="280" y="95"/>
                </a:lnTo>
                <a:lnTo>
                  <a:pt x="272" y="95"/>
                </a:lnTo>
                <a:lnTo>
                  <a:pt x="265" y="95"/>
                </a:lnTo>
                <a:lnTo>
                  <a:pt x="259" y="95"/>
                </a:lnTo>
                <a:lnTo>
                  <a:pt x="251" y="97"/>
                </a:lnTo>
                <a:lnTo>
                  <a:pt x="246" y="97"/>
                </a:lnTo>
                <a:lnTo>
                  <a:pt x="238" y="99"/>
                </a:lnTo>
                <a:lnTo>
                  <a:pt x="232" y="101"/>
                </a:lnTo>
                <a:lnTo>
                  <a:pt x="229" y="103"/>
                </a:lnTo>
                <a:lnTo>
                  <a:pt x="221" y="103"/>
                </a:lnTo>
                <a:lnTo>
                  <a:pt x="215" y="105"/>
                </a:lnTo>
                <a:lnTo>
                  <a:pt x="210" y="109"/>
                </a:lnTo>
                <a:lnTo>
                  <a:pt x="204" y="111"/>
                </a:lnTo>
                <a:lnTo>
                  <a:pt x="194" y="118"/>
                </a:lnTo>
                <a:lnTo>
                  <a:pt x="185" y="124"/>
                </a:lnTo>
                <a:lnTo>
                  <a:pt x="175" y="130"/>
                </a:lnTo>
                <a:lnTo>
                  <a:pt x="166" y="137"/>
                </a:lnTo>
                <a:lnTo>
                  <a:pt x="156" y="145"/>
                </a:lnTo>
                <a:lnTo>
                  <a:pt x="149" y="154"/>
                </a:lnTo>
                <a:lnTo>
                  <a:pt x="141" y="162"/>
                </a:lnTo>
                <a:lnTo>
                  <a:pt x="135" y="172"/>
                </a:lnTo>
                <a:lnTo>
                  <a:pt x="128" y="181"/>
                </a:lnTo>
                <a:lnTo>
                  <a:pt x="122" y="192"/>
                </a:lnTo>
                <a:lnTo>
                  <a:pt x="116" y="202"/>
                </a:lnTo>
                <a:lnTo>
                  <a:pt x="111" y="211"/>
                </a:lnTo>
                <a:lnTo>
                  <a:pt x="103" y="223"/>
                </a:lnTo>
                <a:lnTo>
                  <a:pt x="99" y="234"/>
                </a:lnTo>
                <a:lnTo>
                  <a:pt x="94" y="244"/>
                </a:lnTo>
                <a:lnTo>
                  <a:pt x="90" y="257"/>
                </a:lnTo>
                <a:lnTo>
                  <a:pt x="86" y="261"/>
                </a:lnTo>
                <a:lnTo>
                  <a:pt x="84" y="267"/>
                </a:lnTo>
                <a:lnTo>
                  <a:pt x="82" y="274"/>
                </a:lnTo>
                <a:lnTo>
                  <a:pt x="82" y="280"/>
                </a:lnTo>
                <a:lnTo>
                  <a:pt x="78" y="286"/>
                </a:lnTo>
                <a:lnTo>
                  <a:pt x="76" y="291"/>
                </a:lnTo>
                <a:lnTo>
                  <a:pt x="75" y="297"/>
                </a:lnTo>
                <a:lnTo>
                  <a:pt x="75" y="303"/>
                </a:lnTo>
                <a:lnTo>
                  <a:pt x="73" y="308"/>
                </a:lnTo>
                <a:lnTo>
                  <a:pt x="71" y="314"/>
                </a:lnTo>
                <a:lnTo>
                  <a:pt x="69" y="320"/>
                </a:lnTo>
                <a:lnTo>
                  <a:pt x="67" y="326"/>
                </a:lnTo>
                <a:lnTo>
                  <a:pt x="65" y="331"/>
                </a:lnTo>
                <a:lnTo>
                  <a:pt x="65" y="339"/>
                </a:lnTo>
                <a:lnTo>
                  <a:pt x="63" y="343"/>
                </a:lnTo>
                <a:lnTo>
                  <a:pt x="61" y="350"/>
                </a:lnTo>
                <a:lnTo>
                  <a:pt x="59" y="356"/>
                </a:lnTo>
                <a:lnTo>
                  <a:pt x="59" y="362"/>
                </a:lnTo>
                <a:lnTo>
                  <a:pt x="57" y="367"/>
                </a:lnTo>
                <a:lnTo>
                  <a:pt x="57" y="373"/>
                </a:lnTo>
                <a:lnTo>
                  <a:pt x="54" y="367"/>
                </a:lnTo>
                <a:lnTo>
                  <a:pt x="52" y="360"/>
                </a:lnTo>
                <a:lnTo>
                  <a:pt x="48" y="354"/>
                </a:lnTo>
                <a:lnTo>
                  <a:pt x="46" y="348"/>
                </a:lnTo>
                <a:lnTo>
                  <a:pt x="44" y="341"/>
                </a:lnTo>
                <a:lnTo>
                  <a:pt x="44" y="335"/>
                </a:lnTo>
                <a:lnTo>
                  <a:pt x="44" y="329"/>
                </a:lnTo>
                <a:lnTo>
                  <a:pt x="44" y="324"/>
                </a:lnTo>
                <a:lnTo>
                  <a:pt x="44" y="316"/>
                </a:lnTo>
                <a:lnTo>
                  <a:pt x="44" y="310"/>
                </a:lnTo>
                <a:lnTo>
                  <a:pt x="44" y="303"/>
                </a:lnTo>
                <a:lnTo>
                  <a:pt x="46" y="297"/>
                </a:lnTo>
                <a:lnTo>
                  <a:pt x="46" y="289"/>
                </a:lnTo>
                <a:lnTo>
                  <a:pt x="48" y="284"/>
                </a:lnTo>
                <a:lnTo>
                  <a:pt x="48" y="276"/>
                </a:lnTo>
                <a:lnTo>
                  <a:pt x="52" y="270"/>
                </a:lnTo>
                <a:lnTo>
                  <a:pt x="54" y="263"/>
                </a:lnTo>
                <a:lnTo>
                  <a:pt x="56" y="257"/>
                </a:lnTo>
                <a:lnTo>
                  <a:pt x="57" y="249"/>
                </a:lnTo>
                <a:lnTo>
                  <a:pt x="61" y="242"/>
                </a:lnTo>
                <a:lnTo>
                  <a:pt x="65" y="234"/>
                </a:lnTo>
                <a:lnTo>
                  <a:pt x="67" y="229"/>
                </a:lnTo>
                <a:lnTo>
                  <a:pt x="71" y="223"/>
                </a:lnTo>
                <a:lnTo>
                  <a:pt x="75" y="215"/>
                </a:lnTo>
                <a:lnTo>
                  <a:pt x="78" y="210"/>
                </a:lnTo>
                <a:lnTo>
                  <a:pt x="82" y="204"/>
                </a:lnTo>
                <a:lnTo>
                  <a:pt x="86" y="196"/>
                </a:lnTo>
                <a:lnTo>
                  <a:pt x="90" y="191"/>
                </a:lnTo>
                <a:lnTo>
                  <a:pt x="97" y="179"/>
                </a:lnTo>
                <a:lnTo>
                  <a:pt x="107" y="168"/>
                </a:lnTo>
                <a:lnTo>
                  <a:pt x="99" y="168"/>
                </a:lnTo>
                <a:lnTo>
                  <a:pt x="94" y="168"/>
                </a:lnTo>
                <a:lnTo>
                  <a:pt x="88" y="168"/>
                </a:lnTo>
                <a:lnTo>
                  <a:pt x="82" y="170"/>
                </a:lnTo>
                <a:lnTo>
                  <a:pt x="73" y="175"/>
                </a:lnTo>
                <a:lnTo>
                  <a:pt x="65" y="183"/>
                </a:lnTo>
                <a:lnTo>
                  <a:pt x="57" y="189"/>
                </a:lnTo>
                <a:lnTo>
                  <a:pt x="54" y="198"/>
                </a:lnTo>
                <a:lnTo>
                  <a:pt x="48" y="208"/>
                </a:lnTo>
                <a:lnTo>
                  <a:pt x="44" y="219"/>
                </a:lnTo>
                <a:lnTo>
                  <a:pt x="38" y="229"/>
                </a:lnTo>
                <a:lnTo>
                  <a:pt x="37" y="240"/>
                </a:lnTo>
                <a:lnTo>
                  <a:pt x="35" y="246"/>
                </a:lnTo>
                <a:lnTo>
                  <a:pt x="33" y="251"/>
                </a:lnTo>
                <a:lnTo>
                  <a:pt x="31" y="257"/>
                </a:lnTo>
                <a:lnTo>
                  <a:pt x="31" y="263"/>
                </a:lnTo>
                <a:lnTo>
                  <a:pt x="27" y="274"/>
                </a:lnTo>
                <a:lnTo>
                  <a:pt x="25" y="286"/>
                </a:lnTo>
                <a:lnTo>
                  <a:pt x="21" y="295"/>
                </a:lnTo>
                <a:lnTo>
                  <a:pt x="19" y="305"/>
                </a:lnTo>
                <a:lnTo>
                  <a:pt x="12" y="293"/>
                </a:lnTo>
                <a:lnTo>
                  <a:pt x="8" y="284"/>
                </a:lnTo>
                <a:lnTo>
                  <a:pt x="2" y="270"/>
                </a:lnTo>
                <a:lnTo>
                  <a:pt x="2" y="261"/>
                </a:lnTo>
                <a:lnTo>
                  <a:pt x="0" y="253"/>
                </a:lnTo>
                <a:lnTo>
                  <a:pt x="0" y="248"/>
                </a:lnTo>
                <a:lnTo>
                  <a:pt x="0" y="242"/>
                </a:lnTo>
                <a:lnTo>
                  <a:pt x="0" y="238"/>
                </a:lnTo>
                <a:lnTo>
                  <a:pt x="0" y="230"/>
                </a:lnTo>
                <a:lnTo>
                  <a:pt x="2" y="225"/>
                </a:lnTo>
                <a:lnTo>
                  <a:pt x="2" y="219"/>
                </a:lnTo>
                <a:lnTo>
                  <a:pt x="6" y="213"/>
                </a:lnTo>
                <a:lnTo>
                  <a:pt x="8" y="208"/>
                </a:lnTo>
                <a:lnTo>
                  <a:pt x="10" y="202"/>
                </a:lnTo>
                <a:lnTo>
                  <a:pt x="10" y="194"/>
                </a:lnTo>
                <a:lnTo>
                  <a:pt x="14" y="189"/>
                </a:lnTo>
                <a:lnTo>
                  <a:pt x="19" y="177"/>
                </a:lnTo>
                <a:lnTo>
                  <a:pt x="27" y="168"/>
                </a:lnTo>
                <a:lnTo>
                  <a:pt x="29" y="160"/>
                </a:lnTo>
                <a:lnTo>
                  <a:pt x="33" y="154"/>
                </a:lnTo>
                <a:lnTo>
                  <a:pt x="37" y="149"/>
                </a:lnTo>
                <a:lnTo>
                  <a:pt x="42" y="145"/>
                </a:lnTo>
                <a:lnTo>
                  <a:pt x="52" y="132"/>
                </a:lnTo>
                <a:lnTo>
                  <a:pt x="63" y="122"/>
                </a:lnTo>
                <a:lnTo>
                  <a:pt x="73" y="111"/>
                </a:lnTo>
                <a:lnTo>
                  <a:pt x="82" y="101"/>
                </a:lnTo>
                <a:lnTo>
                  <a:pt x="88" y="95"/>
                </a:lnTo>
                <a:lnTo>
                  <a:pt x="94" y="92"/>
                </a:lnTo>
                <a:lnTo>
                  <a:pt x="101" y="86"/>
                </a:lnTo>
                <a:lnTo>
                  <a:pt x="107" y="82"/>
                </a:lnTo>
                <a:lnTo>
                  <a:pt x="113" y="76"/>
                </a:lnTo>
                <a:lnTo>
                  <a:pt x="118" y="73"/>
                </a:lnTo>
                <a:lnTo>
                  <a:pt x="126" y="67"/>
                </a:lnTo>
                <a:lnTo>
                  <a:pt x="132" y="63"/>
                </a:lnTo>
                <a:lnTo>
                  <a:pt x="137" y="57"/>
                </a:lnTo>
                <a:lnTo>
                  <a:pt x="145" y="54"/>
                </a:lnTo>
                <a:lnTo>
                  <a:pt x="151" y="50"/>
                </a:lnTo>
                <a:lnTo>
                  <a:pt x="158" y="46"/>
                </a:lnTo>
                <a:lnTo>
                  <a:pt x="164" y="42"/>
                </a:lnTo>
                <a:lnTo>
                  <a:pt x="172" y="38"/>
                </a:lnTo>
                <a:lnTo>
                  <a:pt x="177" y="33"/>
                </a:lnTo>
                <a:lnTo>
                  <a:pt x="183" y="31"/>
                </a:lnTo>
                <a:lnTo>
                  <a:pt x="191" y="27"/>
                </a:lnTo>
                <a:lnTo>
                  <a:pt x="196" y="23"/>
                </a:lnTo>
                <a:lnTo>
                  <a:pt x="202" y="21"/>
                </a:lnTo>
                <a:lnTo>
                  <a:pt x="210" y="19"/>
                </a:lnTo>
                <a:lnTo>
                  <a:pt x="215" y="16"/>
                </a:lnTo>
                <a:lnTo>
                  <a:pt x="223" y="12"/>
                </a:lnTo>
                <a:lnTo>
                  <a:pt x="229" y="10"/>
                </a:lnTo>
                <a:lnTo>
                  <a:pt x="236" y="8"/>
                </a:lnTo>
                <a:lnTo>
                  <a:pt x="242" y="4"/>
                </a:lnTo>
                <a:lnTo>
                  <a:pt x="248" y="4"/>
                </a:lnTo>
                <a:lnTo>
                  <a:pt x="255" y="2"/>
                </a:lnTo>
                <a:lnTo>
                  <a:pt x="261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176880" y="4513320"/>
            <a:ext cx="76320" cy="52200"/>
          </a:xfrm>
          <a:custGeom>
            <a:avLst/>
            <a:gdLst/>
            <a:ahLst/>
            <a:rect l="l" t="t" r="r" b="b"/>
            <a:pathLst>
              <a:path w="97" h="67">
                <a:moveTo>
                  <a:pt x="59" y="2"/>
                </a:moveTo>
                <a:lnTo>
                  <a:pt x="64" y="0"/>
                </a:lnTo>
                <a:lnTo>
                  <a:pt x="68" y="2"/>
                </a:lnTo>
                <a:lnTo>
                  <a:pt x="70" y="4"/>
                </a:lnTo>
                <a:lnTo>
                  <a:pt x="72" y="10"/>
                </a:lnTo>
                <a:lnTo>
                  <a:pt x="74" y="14"/>
                </a:lnTo>
                <a:lnTo>
                  <a:pt x="74" y="19"/>
                </a:lnTo>
                <a:lnTo>
                  <a:pt x="78" y="25"/>
                </a:lnTo>
                <a:lnTo>
                  <a:pt x="81" y="29"/>
                </a:lnTo>
                <a:lnTo>
                  <a:pt x="74" y="36"/>
                </a:lnTo>
                <a:lnTo>
                  <a:pt x="66" y="36"/>
                </a:lnTo>
                <a:lnTo>
                  <a:pt x="59" y="36"/>
                </a:lnTo>
                <a:lnTo>
                  <a:pt x="49" y="40"/>
                </a:lnTo>
                <a:lnTo>
                  <a:pt x="49" y="42"/>
                </a:lnTo>
                <a:lnTo>
                  <a:pt x="55" y="46"/>
                </a:lnTo>
                <a:lnTo>
                  <a:pt x="60" y="48"/>
                </a:lnTo>
                <a:lnTo>
                  <a:pt x="66" y="50"/>
                </a:lnTo>
                <a:lnTo>
                  <a:pt x="72" y="54"/>
                </a:lnTo>
                <a:lnTo>
                  <a:pt x="78" y="55"/>
                </a:lnTo>
                <a:lnTo>
                  <a:pt x="83" y="57"/>
                </a:lnTo>
                <a:lnTo>
                  <a:pt x="91" y="59"/>
                </a:lnTo>
                <a:lnTo>
                  <a:pt x="97" y="63"/>
                </a:lnTo>
                <a:lnTo>
                  <a:pt x="97" y="67"/>
                </a:lnTo>
                <a:lnTo>
                  <a:pt x="91" y="67"/>
                </a:lnTo>
                <a:lnTo>
                  <a:pt x="83" y="67"/>
                </a:lnTo>
                <a:lnTo>
                  <a:pt x="78" y="67"/>
                </a:lnTo>
                <a:lnTo>
                  <a:pt x="72" y="67"/>
                </a:lnTo>
                <a:lnTo>
                  <a:pt x="60" y="65"/>
                </a:lnTo>
                <a:lnTo>
                  <a:pt x="49" y="65"/>
                </a:lnTo>
                <a:lnTo>
                  <a:pt x="43" y="63"/>
                </a:lnTo>
                <a:lnTo>
                  <a:pt x="36" y="61"/>
                </a:lnTo>
                <a:lnTo>
                  <a:pt x="30" y="59"/>
                </a:lnTo>
                <a:lnTo>
                  <a:pt x="24" y="59"/>
                </a:lnTo>
                <a:lnTo>
                  <a:pt x="19" y="57"/>
                </a:lnTo>
                <a:lnTo>
                  <a:pt x="13" y="57"/>
                </a:lnTo>
                <a:lnTo>
                  <a:pt x="5" y="57"/>
                </a:lnTo>
                <a:lnTo>
                  <a:pt x="0" y="57"/>
                </a:lnTo>
                <a:lnTo>
                  <a:pt x="2" y="50"/>
                </a:lnTo>
                <a:lnTo>
                  <a:pt x="5" y="46"/>
                </a:lnTo>
                <a:lnTo>
                  <a:pt x="13" y="40"/>
                </a:lnTo>
                <a:lnTo>
                  <a:pt x="19" y="40"/>
                </a:lnTo>
                <a:lnTo>
                  <a:pt x="24" y="38"/>
                </a:lnTo>
                <a:lnTo>
                  <a:pt x="32" y="38"/>
                </a:lnTo>
                <a:lnTo>
                  <a:pt x="40" y="36"/>
                </a:lnTo>
                <a:lnTo>
                  <a:pt x="47" y="36"/>
                </a:lnTo>
                <a:lnTo>
                  <a:pt x="41" y="27"/>
                </a:lnTo>
                <a:lnTo>
                  <a:pt x="40" y="17"/>
                </a:lnTo>
                <a:lnTo>
                  <a:pt x="41" y="14"/>
                </a:lnTo>
                <a:lnTo>
                  <a:pt x="45" y="10"/>
                </a:lnTo>
                <a:lnTo>
                  <a:pt x="51" y="6"/>
                </a:lnTo>
                <a:lnTo>
                  <a:pt x="59" y="2"/>
                </a:lnTo>
                <a:lnTo>
                  <a:pt x="5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121440" y="4525920"/>
            <a:ext cx="25200" cy="23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7" y="0"/>
                </a:moveTo>
                <a:lnTo>
                  <a:pt x="13" y="4"/>
                </a:lnTo>
                <a:lnTo>
                  <a:pt x="21" y="10"/>
                </a:lnTo>
                <a:lnTo>
                  <a:pt x="26" y="16"/>
                </a:lnTo>
                <a:lnTo>
                  <a:pt x="32" y="25"/>
                </a:lnTo>
                <a:lnTo>
                  <a:pt x="30" y="27"/>
                </a:lnTo>
                <a:lnTo>
                  <a:pt x="30" y="31"/>
                </a:lnTo>
                <a:lnTo>
                  <a:pt x="22" y="29"/>
                </a:lnTo>
                <a:lnTo>
                  <a:pt x="17" y="27"/>
                </a:lnTo>
                <a:lnTo>
                  <a:pt x="11" y="23"/>
                </a:lnTo>
                <a:lnTo>
                  <a:pt x="5" y="19"/>
                </a:lnTo>
                <a:lnTo>
                  <a:pt x="2" y="14"/>
                </a:lnTo>
                <a:lnTo>
                  <a:pt x="0" y="10"/>
                </a:lnTo>
                <a:lnTo>
                  <a:pt x="0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010200" y="4545000"/>
            <a:ext cx="38160" cy="4680"/>
          </a:xfrm>
          <a:custGeom>
            <a:avLst/>
            <a:gdLst/>
            <a:ahLst/>
            <a:rect l="l" t="t" r="r" b="b"/>
            <a:pathLst>
              <a:path w="48" h="8">
                <a:moveTo>
                  <a:pt x="8" y="0"/>
                </a:moveTo>
                <a:lnTo>
                  <a:pt x="17" y="0"/>
                </a:lnTo>
                <a:lnTo>
                  <a:pt x="27" y="0"/>
                </a:lnTo>
                <a:lnTo>
                  <a:pt x="36" y="0"/>
                </a:lnTo>
                <a:lnTo>
                  <a:pt x="48" y="0"/>
                </a:lnTo>
                <a:lnTo>
                  <a:pt x="48" y="2"/>
                </a:lnTo>
                <a:lnTo>
                  <a:pt x="48" y="6"/>
                </a:lnTo>
                <a:lnTo>
                  <a:pt x="42" y="6"/>
                </a:lnTo>
                <a:lnTo>
                  <a:pt x="36" y="6"/>
                </a:lnTo>
                <a:lnTo>
                  <a:pt x="31" y="6"/>
                </a:lnTo>
                <a:lnTo>
                  <a:pt x="25" y="8"/>
                </a:lnTo>
                <a:lnTo>
                  <a:pt x="19" y="6"/>
                </a:lnTo>
                <a:lnTo>
                  <a:pt x="14" y="6"/>
                </a:lnTo>
                <a:lnTo>
                  <a:pt x="6" y="6"/>
                </a:lnTo>
                <a:lnTo>
                  <a:pt x="0" y="8"/>
                </a:lnTo>
                <a:lnTo>
                  <a:pt x="2" y="4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784120" y="4559400"/>
            <a:ext cx="237960" cy="36360"/>
          </a:xfrm>
          <a:custGeom>
            <a:avLst/>
            <a:gdLst/>
            <a:ahLst/>
            <a:rect l="l" t="t" r="r" b="b"/>
            <a:pathLst>
              <a:path w="300" h="46">
                <a:moveTo>
                  <a:pt x="0" y="4"/>
                </a:moveTo>
                <a:lnTo>
                  <a:pt x="9" y="4"/>
                </a:lnTo>
                <a:lnTo>
                  <a:pt x="19" y="2"/>
                </a:lnTo>
                <a:lnTo>
                  <a:pt x="28" y="0"/>
                </a:lnTo>
                <a:lnTo>
                  <a:pt x="39" y="0"/>
                </a:lnTo>
                <a:lnTo>
                  <a:pt x="49" y="0"/>
                </a:lnTo>
                <a:lnTo>
                  <a:pt x="58" y="0"/>
                </a:lnTo>
                <a:lnTo>
                  <a:pt x="68" y="0"/>
                </a:lnTo>
                <a:lnTo>
                  <a:pt x="77" y="0"/>
                </a:lnTo>
                <a:lnTo>
                  <a:pt x="87" y="0"/>
                </a:lnTo>
                <a:lnTo>
                  <a:pt x="96" y="0"/>
                </a:lnTo>
                <a:lnTo>
                  <a:pt x="106" y="0"/>
                </a:lnTo>
                <a:lnTo>
                  <a:pt x="115" y="0"/>
                </a:lnTo>
                <a:lnTo>
                  <a:pt x="125" y="0"/>
                </a:lnTo>
                <a:lnTo>
                  <a:pt x="135" y="2"/>
                </a:lnTo>
                <a:lnTo>
                  <a:pt x="144" y="4"/>
                </a:lnTo>
                <a:lnTo>
                  <a:pt x="155" y="4"/>
                </a:lnTo>
                <a:lnTo>
                  <a:pt x="163" y="4"/>
                </a:lnTo>
                <a:lnTo>
                  <a:pt x="174" y="6"/>
                </a:lnTo>
                <a:lnTo>
                  <a:pt x="182" y="6"/>
                </a:lnTo>
                <a:lnTo>
                  <a:pt x="192" y="8"/>
                </a:lnTo>
                <a:lnTo>
                  <a:pt x="199" y="8"/>
                </a:lnTo>
                <a:lnTo>
                  <a:pt x="209" y="10"/>
                </a:lnTo>
                <a:lnTo>
                  <a:pt x="218" y="12"/>
                </a:lnTo>
                <a:lnTo>
                  <a:pt x="228" y="15"/>
                </a:lnTo>
                <a:lnTo>
                  <a:pt x="237" y="15"/>
                </a:lnTo>
                <a:lnTo>
                  <a:pt x="247" y="17"/>
                </a:lnTo>
                <a:lnTo>
                  <a:pt x="254" y="21"/>
                </a:lnTo>
                <a:lnTo>
                  <a:pt x="264" y="25"/>
                </a:lnTo>
                <a:lnTo>
                  <a:pt x="273" y="27"/>
                </a:lnTo>
                <a:lnTo>
                  <a:pt x="283" y="29"/>
                </a:lnTo>
                <a:lnTo>
                  <a:pt x="290" y="34"/>
                </a:lnTo>
                <a:lnTo>
                  <a:pt x="300" y="38"/>
                </a:lnTo>
                <a:lnTo>
                  <a:pt x="292" y="38"/>
                </a:lnTo>
                <a:lnTo>
                  <a:pt x="285" y="40"/>
                </a:lnTo>
                <a:lnTo>
                  <a:pt x="277" y="42"/>
                </a:lnTo>
                <a:lnTo>
                  <a:pt x="268" y="44"/>
                </a:lnTo>
                <a:lnTo>
                  <a:pt x="258" y="44"/>
                </a:lnTo>
                <a:lnTo>
                  <a:pt x="249" y="44"/>
                </a:lnTo>
                <a:lnTo>
                  <a:pt x="239" y="44"/>
                </a:lnTo>
                <a:lnTo>
                  <a:pt x="231" y="46"/>
                </a:lnTo>
                <a:lnTo>
                  <a:pt x="218" y="46"/>
                </a:lnTo>
                <a:lnTo>
                  <a:pt x="209" y="46"/>
                </a:lnTo>
                <a:lnTo>
                  <a:pt x="197" y="46"/>
                </a:lnTo>
                <a:lnTo>
                  <a:pt x="188" y="46"/>
                </a:lnTo>
                <a:lnTo>
                  <a:pt x="176" y="44"/>
                </a:lnTo>
                <a:lnTo>
                  <a:pt x="167" y="44"/>
                </a:lnTo>
                <a:lnTo>
                  <a:pt x="154" y="42"/>
                </a:lnTo>
                <a:lnTo>
                  <a:pt x="144" y="42"/>
                </a:lnTo>
                <a:lnTo>
                  <a:pt x="133" y="40"/>
                </a:lnTo>
                <a:lnTo>
                  <a:pt x="123" y="38"/>
                </a:lnTo>
                <a:lnTo>
                  <a:pt x="112" y="36"/>
                </a:lnTo>
                <a:lnTo>
                  <a:pt x="102" y="36"/>
                </a:lnTo>
                <a:lnTo>
                  <a:pt x="89" y="34"/>
                </a:lnTo>
                <a:lnTo>
                  <a:pt x="79" y="33"/>
                </a:lnTo>
                <a:lnTo>
                  <a:pt x="70" y="29"/>
                </a:lnTo>
                <a:lnTo>
                  <a:pt x="60" y="27"/>
                </a:lnTo>
                <a:lnTo>
                  <a:pt x="51" y="25"/>
                </a:lnTo>
                <a:lnTo>
                  <a:pt x="41" y="23"/>
                </a:lnTo>
                <a:lnTo>
                  <a:pt x="34" y="19"/>
                </a:lnTo>
                <a:lnTo>
                  <a:pt x="26" y="17"/>
                </a:lnTo>
                <a:lnTo>
                  <a:pt x="19" y="14"/>
                </a:lnTo>
                <a:lnTo>
                  <a:pt x="11" y="10"/>
                </a:lnTo>
                <a:lnTo>
                  <a:pt x="5" y="8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117480" y="4579920"/>
            <a:ext cx="157320" cy="30240"/>
          </a:xfrm>
          <a:custGeom>
            <a:avLst/>
            <a:gdLst/>
            <a:ahLst/>
            <a:rect l="l" t="t" r="r" b="b"/>
            <a:pathLst>
              <a:path w="200" h="38">
                <a:moveTo>
                  <a:pt x="0" y="0"/>
                </a:moveTo>
                <a:lnTo>
                  <a:pt x="6" y="0"/>
                </a:lnTo>
                <a:lnTo>
                  <a:pt x="12" y="2"/>
                </a:lnTo>
                <a:lnTo>
                  <a:pt x="17" y="2"/>
                </a:lnTo>
                <a:lnTo>
                  <a:pt x="25" y="2"/>
                </a:lnTo>
                <a:lnTo>
                  <a:pt x="29" y="2"/>
                </a:lnTo>
                <a:lnTo>
                  <a:pt x="36" y="4"/>
                </a:lnTo>
                <a:lnTo>
                  <a:pt x="42" y="6"/>
                </a:lnTo>
                <a:lnTo>
                  <a:pt x="48" y="6"/>
                </a:lnTo>
                <a:lnTo>
                  <a:pt x="55" y="6"/>
                </a:lnTo>
                <a:lnTo>
                  <a:pt x="61" y="7"/>
                </a:lnTo>
                <a:lnTo>
                  <a:pt x="67" y="7"/>
                </a:lnTo>
                <a:lnTo>
                  <a:pt x="74" y="9"/>
                </a:lnTo>
                <a:lnTo>
                  <a:pt x="80" y="9"/>
                </a:lnTo>
                <a:lnTo>
                  <a:pt x="88" y="9"/>
                </a:lnTo>
                <a:lnTo>
                  <a:pt x="93" y="11"/>
                </a:lnTo>
                <a:lnTo>
                  <a:pt x="99" y="13"/>
                </a:lnTo>
                <a:lnTo>
                  <a:pt x="105" y="13"/>
                </a:lnTo>
                <a:lnTo>
                  <a:pt x="110" y="15"/>
                </a:lnTo>
                <a:lnTo>
                  <a:pt x="118" y="15"/>
                </a:lnTo>
                <a:lnTo>
                  <a:pt x="124" y="17"/>
                </a:lnTo>
                <a:lnTo>
                  <a:pt x="129" y="17"/>
                </a:lnTo>
                <a:lnTo>
                  <a:pt x="137" y="19"/>
                </a:lnTo>
                <a:lnTo>
                  <a:pt x="143" y="19"/>
                </a:lnTo>
                <a:lnTo>
                  <a:pt x="148" y="21"/>
                </a:lnTo>
                <a:lnTo>
                  <a:pt x="154" y="21"/>
                </a:lnTo>
                <a:lnTo>
                  <a:pt x="162" y="25"/>
                </a:lnTo>
                <a:lnTo>
                  <a:pt x="167" y="25"/>
                </a:lnTo>
                <a:lnTo>
                  <a:pt x="173" y="26"/>
                </a:lnTo>
                <a:lnTo>
                  <a:pt x="181" y="28"/>
                </a:lnTo>
                <a:lnTo>
                  <a:pt x="186" y="30"/>
                </a:lnTo>
                <a:lnTo>
                  <a:pt x="192" y="32"/>
                </a:lnTo>
                <a:lnTo>
                  <a:pt x="200" y="36"/>
                </a:lnTo>
                <a:lnTo>
                  <a:pt x="200" y="38"/>
                </a:lnTo>
                <a:lnTo>
                  <a:pt x="192" y="36"/>
                </a:lnTo>
                <a:lnTo>
                  <a:pt x="186" y="36"/>
                </a:lnTo>
                <a:lnTo>
                  <a:pt x="181" y="36"/>
                </a:lnTo>
                <a:lnTo>
                  <a:pt x="175" y="36"/>
                </a:lnTo>
                <a:lnTo>
                  <a:pt x="167" y="36"/>
                </a:lnTo>
                <a:lnTo>
                  <a:pt x="162" y="36"/>
                </a:lnTo>
                <a:lnTo>
                  <a:pt x="154" y="36"/>
                </a:lnTo>
                <a:lnTo>
                  <a:pt x="147" y="36"/>
                </a:lnTo>
                <a:lnTo>
                  <a:pt x="139" y="36"/>
                </a:lnTo>
                <a:lnTo>
                  <a:pt x="131" y="36"/>
                </a:lnTo>
                <a:lnTo>
                  <a:pt x="124" y="34"/>
                </a:lnTo>
                <a:lnTo>
                  <a:pt x="118" y="34"/>
                </a:lnTo>
                <a:lnTo>
                  <a:pt x="109" y="34"/>
                </a:lnTo>
                <a:lnTo>
                  <a:pt x="101" y="34"/>
                </a:lnTo>
                <a:lnTo>
                  <a:pt x="93" y="34"/>
                </a:lnTo>
                <a:lnTo>
                  <a:pt x="88" y="34"/>
                </a:lnTo>
                <a:lnTo>
                  <a:pt x="80" y="30"/>
                </a:lnTo>
                <a:lnTo>
                  <a:pt x="72" y="30"/>
                </a:lnTo>
                <a:lnTo>
                  <a:pt x="65" y="28"/>
                </a:lnTo>
                <a:lnTo>
                  <a:pt x="57" y="28"/>
                </a:lnTo>
                <a:lnTo>
                  <a:pt x="51" y="26"/>
                </a:lnTo>
                <a:lnTo>
                  <a:pt x="46" y="26"/>
                </a:lnTo>
                <a:lnTo>
                  <a:pt x="38" y="25"/>
                </a:lnTo>
                <a:lnTo>
                  <a:pt x="34" y="23"/>
                </a:lnTo>
                <a:lnTo>
                  <a:pt x="27" y="21"/>
                </a:lnTo>
                <a:lnTo>
                  <a:pt x="23" y="19"/>
                </a:lnTo>
                <a:lnTo>
                  <a:pt x="17" y="15"/>
                </a:lnTo>
                <a:lnTo>
                  <a:pt x="12" y="13"/>
                </a:ln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863760" y="4589640"/>
            <a:ext cx="42840" cy="136440"/>
          </a:xfrm>
          <a:custGeom>
            <a:avLst/>
            <a:gdLst/>
            <a:ahLst/>
            <a:rect l="l" t="t" r="r" b="b"/>
            <a:pathLst>
              <a:path w="54" h="171">
                <a:moveTo>
                  <a:pt x="54" y="0"/>
                </a:moveTo>
                <a:lnTo>
                  <a:pt x="54" y="6"/>
                </a:lnTo>
                <a:lnTo>
                  <a:pt x="54" y="14"/>
                </a:lnTo>
                <a:lnTo>
                  <a:pt x="54" y="21"/>
                </a:lnTo>
                <a:lnTo>
                  <a:pt x="54" y="31"/>
                </a:lnTo>
                <a:lnTo>
                  <a:pt x="52" y="40"/>
                </a:lnTo>
                <a:lnTo>
                  <a:pt x="50" y="50"/>
                </a:lnTo>
                <a:lnTo>
                  <a:pt x="48" y="61"/>
                </a:lnTo>
                <a:lnTo>
                  <a:pt x="46" y="71"/>
                </a:lnTo>
                <a:lnTo>
                  <a:pt x="44" y="80"/>
                </a:lnTo>
                <a:lnTo>
                  <a:pt x="40" y="92"/>
                </a:lnTo>
                <a:lnTo>
                  <a:pt x="37" y="101"/>
                </a:lnTo>
                <a:lnTo>
                  <a:pt x="35" y="112"/>
                </a:lnTo>
                <a:lnTo>
                  <a:pt x="33" y="120"/>
                </a:lnTo>
                <a:lnTo>
                  <a:pt x="29" y="130"/>
                </a:lnTo>
                <a:lnTo>
                  <a:pt x="25" y="137"/>
                </a:lnTo>
                <a:lnTo>
                  <a:pt x="23" y="145"/>
                </a:lnTo>
                <a:lnTo>
                  <a:pt x="19" y="150"/>
                </a:lnTo>
                <a:lnTo>
                  <a:pt x="16" y="156"/>
                </a:lnTo>
                <a:lnTo>
                  <a:pt x="14" y="162"/>
                </a:lnTo>
                <a:lnTo>
                  <a:pt x="10" y="166"/>
                </a:lnTo>
                <a:lnTo>
                  <a:pt x="4" y="171"/>
                </a:lnTo>
                <a:lnTo>
                  <a:pt x="2" y="171"/>
                </a:lnTo>
                <a:lnTo>
                  <a:pt x="0" y="168"/>
                </a:lnTo>
                <a:lnTo>
                  <a:pt x="0" y="164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2" y="133"/>
                </a:lnTo>
                <a:lnTo>
                  <a:pt x="2" y="128"/>
                </a:lnTo>
                <a:lnTo>
                  <a:pt x="4" y="120"/>
                </a:lnTo>
                <a:lnTo>
                  <a:pt x="6" y="114"/>
                </a:lnTo>
                <a:lnTo>
                  <a:pt x="6" y="105"/>
                </a:lnTo>
                <a:lnTo>
                  <a:pt x="8" y="97"/>
                </a:lnTo>
                <a:lnTo>
                  <a:pt x="8" y="90"/>
                </a:lnTo>
                <a:lnTo>
                  <a:pt x="8" y="82"/>
                </a:lnTo>
                <a:lnTo>
                  <a:pt x="8" y="76"/>
                </a:lnTo>
                <a:lnTo>
                  <a:pt x="10" y="69"/>
                </a:lnTo>
                <a:lnTo>
                  <a:pt x="12" y="61"/>
                </a:lnTo>
                <a:lnTo>
                  <a:pt x="14" y="55"/>
                </a:lnTo>
                <a:lnTo>
                  <a:pt x="16" y="50"/>
                </a:lnTo>
                <a:lnTo>
                  <a:pt x="18" y="44"/>
                </a:lnTo>
                <a:lnTo>
                  <a:pt x="21" y="36"/>
                </a:lnTo>
                <a:lnTo>
                  <a:pt x="23" y="31"/>
                </a:lnTo>
                <a:lnTo>
                  <a:pt x="27" y="25"/>
                </a:lnTo>
                <a:lnTo>
                  <a:pt x="31" y="19"/>
                </a:lnTo>
                <a:lnTo>
                  <a:pt x="35" y="14"/>
                </a:lnTo>
                <a:lnTo>
                  <a:pt x="40" y="10"/>
                </a:lnTo>
                <a:lnTo>
                  <a:pt x="46" y="4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863680" y="4605480"/>
            <a:ext cx="177480" cy="95040"/>
          </a:xfrm>
          <a:custGeom>
            <a:avLst/>
            <a:gdLst/>
            <a:ahLst/>
            <a:rect l="l" t="t" r="r" b="b"/>
            <a:pathLst>
              <a:path w="224" h="120">
                <a:moveTo>
                  <a:pt x="0" y="6"/>
                </a:moveTo>
                <a:lnTo>
                  <a:pt x="9" y="4"/>
                </a:lnTo>
                <a:lnTo>
                  <a:pt x="19" y="2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44" y="0"/>
                </a:lnTo>
                <a:lnTo>
                  <a:pt x="47" y="0"/>
                </a:lnTo>
                <a:lnTo>
                  <a:pt x="55" y="0"/>
                </a:lnTo>
                <a:lnTo>
                  <a:pt x="61" y="0"/>
                </a:lnTo>
                <a:lnTo>
                  <a:pt x="66" y="0"/>
                </a:lnTo>
                <a:lnTo>
                  <a:pt x="74" y="0"/>
                </a:lnTo>
                <a:lnTo>
                  <a:pt x="80" y="0"/>
                </a:lnTo>
                <a:lnTo>
                  <a:pt x="85" y="0"/>
                </a:lnTo>
                <a:lnTo>
                  <a:pt x="93" y="0"/>
                </a:lnTo>
                <a:lnTo>
                  <a:pt x="99" y="0"/>
                </a:lnTo>
                <a:lnTo>
                  <a:pt x="104" y="0"/>
                </a:lnTo>
                <a:lnTo>
                  <a:pt x="110" y="0"/>
                </a:lnTo>
                <a:lnTo>
                  <a:pt x="118" y="0"/>
                </a:lnTo>
                <a:lnTo>
                  <a:pt x="123" y="0"/>
                </a:lnTo>
                <a:lnTo>
                  <a:pt x="129" y="0"/>
                </a:lnTo>
                <a:lnTo>
                  <a:pt x="137" y="2"/>
                </a:lnTo>
                <a:lnTo>
                  <a:pt x="142" y="4"/>
                </a:lnTo>
                <a:lnTo>
                  <a:pt x="148" y="4"/>
                </a:lnTo>
                <a:lnTo>
                  <a:pt x="154" y="4"/>
                </a:lnTo>
                <a:lnTo>
                  <a:pt x="160" y="4"/>
                </a:lnTo>
                <a:lnTo>
                  <a:pt x="165" y="6"/>
                </a:lnTo>
                <a:lnTo>
                  <a:pt x="177" y="6"/>
                </a:lnTo>
                <a:lnTo>
                  <a:pt x="186" y="10"/>
                </a:lnTo>
                <a:lnTo>
                  <a:pt x="194" y="10"/>
                </a:lnTo>
                <a:lnTo>
                  <a:pt x="203" y="14"/>
                </a:lnTo>
                <a:lnTo>
                  <a:pt x="209" y="15"/>
                </a:lnTo>
                <a:lnTo>
                  <a:pt x="215" y="19"/>
                </a:lnTo>
                <a:lnTo>
                  <a:pt x="222" y="25"/>
                </a:lnTo>
                <a:lnTo>
                  <a:pt x="224" y="33"/>
                </a:lnTo>
                <a:lnTo>
                  <a:pt x="220" y="36"/>
                </a:lnTo>
                <a:lnTo>
                  <a:pt x="217" y="42"/>
                </a:lnTo>
                <a:lnTo>
                  <a:pt x="211" y="46"/>
                </a:lnTo>
                <a:lnTo>
                  <a:pt x="203" y="52"/>
                </a:lnTo>
                <a:lnTo>
                  <a:pt x="198" y="53"/>
                </a:lnTo>
                <a:lnTo>
                  <a:pt x="192" y="57"/>
                </a:lnTo>
                <a:lnTo>
                  <a:pt x="186" y="59"/>
                </a:lnTo>
                <a:lnTo>
                  <a:pt x="179" y="63"/>
                </a:lnTo>
                <a:lnTo>
                  <a:pt x="173" y="67"/>
                </a:lnTo>
                <a:lnTo>
                  <a:pt x="165" y="69"/>
                </a:lnTo>
                <a:lnTo>
                  <a:pt x="156" y="73"/>
                </a:lnTo>
                <a:lnTo>
                  <a:pt x="148" y="76"/>
                </a:lnTo>
                <a:lnTo>
                  <a:pt x="139" y="78"/>
                </a:lnTo>
                <a:lnTo>
                  <a:pt x="131" y="80"/>
                </a:lnTo>
                <a:lnTo>
                  <a:pt x="121" y="82"/>
                </a:lnTo>
                <a:lnTo>
                  <a:pt x="114" y="86"/>
                </a:lnTo>
                <a:lnTo>
                  <a:pt x="106" y="88"/>
                </a:lnTo>
                <a:lnTo>
                  <a:pt x="99" y="90"/>
                </a:lnTo>
                <a:lnTo>
                  <a:pt x="91" y="93"/>
                </a:lnTo>
                <a:lnTo>
                  <a:pt x="83" y="97"/>
                </a:lnTo>
                <a:lnTo>
                  <a:pt x="74" y="99"/>
                </a:lnTo>
                <a:lnTo>
                  <a:pt x="66" y="103"/>
                </a:lnTo>
                <a:lnTo>
                  <a:pt x="57" y="105"/>
                </a:lnTo>
                <a:lnTo>
                  <a:pt x="49" y="107"/>
                </a:lnTo>
                <a:lnTo>
                  <a:pt x="42" y="111"/>
                </a:lnTo>
                <a:lnTo>
                  <a:pt x="34" y="114"/>
                </a:lnTo>
                <a:lnTo>
                  <a:pt x="26" y="116"/>
                </a:lnTo>
                <a:lnTo>
                  <a:pt x="19" y="120"/>
                </a:lnTo>
                <a:lnTo>
                  <a:pt x="23" y="111"/>
                </a:lnTo>
                <a:lnTo>
                  <a:pt x="28" y="105"/>
                </a:lnTo>
                <a:lnTo>
                  <a:pt x="34" y="97"/>
                </a:lnTo>
                <a:lnTo>
                  <a:pt x="40" y="92"/>
                </a:lnTo>
                <a:lnTo>
                  <a:pt x="45" y="86"/>
                </a:lnTo>
                <a:lnTo>
                  <a:pt x="53" y="80"/>
                </a:lnTo>
                <a:lnTo>
                  <a:pt x="61" y="76"/>
                </a:lnTo>
                <a:lnTo>
                  <a:pt x="68" y="73"/>
                </a:lnTo>
                <a:lnTo>
                  <a:pt x="74" y="67"/>
                </a:lnTo>
                <a:lnTo>
                  <a:pt x="83" y="63"/>
                </a:lnTo>
                <a:lnTo>
                  <a:pt x="89" y="57"/>
                </a:lnTo>
                <a:lnTo>
                  <a:pt x="99" y="53"/>
                </a:lnTo>
                <a:lnTo>
                  <a:pt x="104" y="48"/>
                </a:lnTo>
                <a:lnTo>
                  <a:pt x="112" y="42"/>
                </a:lnTo>
                <a:lnTo>
                  <a:pt x="118" y="36"/>
                </a:lnTo>
                <a:lnTo>
                  <a:pt x="123" y="31"/>
                </a:lnTo>
                <a:lnTo>
                  <a:pt x="116" y="27"/>
                </a:lnTo>
                <a:lnTo>
                  <a:pt x="108" y="27"/>
                </a:lnTo>
                <a:lnTo>
                  <a:pt x="99" y="27"/>
                </a:lnTo>
                <a:lnTo>
                  <a:pt x="91" y="27"/>
                </a:lnTo>
                <a:lnTo>
                  <a:pt x="80" y="27"/>
                </a:lnTo>
                <a:lnTo>
                  <a:pt x="70" y="27"/>
                </a:lnTo>
                <a:lnTo>
                  <a:pt x="61" y="27"/>
                </a:lnTo>
                <a:lnTo>
                  <a:pt x="49" y="27"/>
                </a:lnTo>
                <a:lnTo>
                  <a:pt x="40" y="27"/>
                </a:lnTo>
                <a:lnTo>
                  <a:pt x="30" y="27"/>
                </a:lnTo>
                <a:lnTo>
                  <a:pt x="21" y="25"/>
                </a:lnTo>
                <a:lnTo>
                  <a:pt x="15" y="23"/>
                </a:lnTo>
                <a:lnTo>
                  <a:pt x="9" y="19"/>
                </a:lnTo>
                <a:lnTo>
                  <a:pt x="6" y="15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086600" y="4616280"/>
            <a:ext cx="38160" cy="63720"/>
          </a:xfrm>
          <a:custGeom>
            <a:avLst/>
            <a:gdLst/>
            <a:ahLst/>
            <a:rect l="l" t="t" r="r" b="b"/>
            <a:pathLst>
              <a:path w="47" h="80">
                <a:moveTo>
                  <a:pt x="7" y="0"/>
                </a:moveTo>
                <a:lnTo>
                  <a:pt x="13" y="0"/>
                </a:lnTo>
                <a:lnTo>
                  <a:pt x="19" y="2"/>
                </a:lnTo>
                <a:lnTo>
                  <a:pt x="23" y="6"/>
                </a:lnTo>
                <a:lnTo>
                  <a:pt x="26" y="10"/>
                </a:lnTo>
                <a:lnTo>
                  <a:pt x="28" y="12"/>
                </a:lnTo>
                <a:lnTo>
                  <a:pt x="32" y="18"/>
                </a:lnTo>
                <a:lnTo>
                  <a:pt x="34" y="25"/>
                </a:lnTo>
                <a:lnTo>
                  <a:pt x="36" y="31"/>
                </a:lnTo>
                <a:lnTo>
                  <a:pt x="38" y="37"/>
                </a:lnTo>
                <a:lnTo>
                  <a:pt x="38" y="42"/>
                </a:lnTo>
                <a:lnTo>
                  <a:pt x="40" y="48"/>
                </a:lnTo>
                <a:lnTo>
                  <a:pt x="40" y="56"/>
                </a:lnTo>
                <a:lnTo>
                  <a:pt x="42" y="61"/>
                </a:lnTo>
                <a:lnTo>
                  <a:pt x="42" y="67"/>
                </a:lnTo>
                <a:lnTo>
                  <a:pt x="43" y="73"/>
                </a:lnTo>
                <a:lnTo>
                  <a:pt x="47" y="80"/>
                </a:lnTo>
                <a:lnTo>
                  <a:pt x="36" y="73"/>
                </a:lnTo>
                <a:lnTo>
                  <a:pt x="26" y="65"/>
                </a:lnTo>
                <a:lnTo>
                  <a:pt x="17" y="54"/>
                </a:lnTo>
                <a:lnTo>
                  <a:pt x="9" y="44"/>
                </a:lnTo>
                <a:lnTo>
                  <a:pt x="5" y="37"/>
                </a:lnTo>
                <a:lnTo>
                  <a:pt x="4" y="31"/>
                </a:lnTo>
                <a:lnTo>
                  <a:pt x="0" y="25"/>
                </a:lnTo>
                <a:lnTo>
                  <a:pt x="0" y="19"/>
                </a:lnTo>
                <a:lnTo>
                  <a:pt x="2" y="8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246720" y="4627440"/>
            <a:ext cx="61920" cy="33480"/>
          </a:xfrm>
          <a:custGeom>
            <a:avLst/>
            <a:gdLst/>
            <a:ahLst/>
            <a:rect l="l" t="t" r="r" b="b"/>
            <a:pathLst>
              <a:path w="78" h="42">
                <a:moveTo>
                  <a:pt x="42" y="0"/>
                </a:moveTo>
                <a:lnTo>
                  <a:pt x="52" y="4"/>
                </a:lnTo>
                <a:lnTo>
                  <a:pt x="61" y="5"/>
                </a:lnTo>
                <a:lnTo>
                  <a:pt x="67" y="9"/>
                </a:lnTo>
                <a:lnTo>
                  <a:pt x="74" y="13"/>
                </a:lnTo>
                <a:lnTo>
                  <a:pt x="78" y="19"/>
                </a:lnTo>
                <a:lnTo>
                  <a:pt x="76" y="24"/>
                </a:lnTo>
                <a:lnTo>
                  <a:pt x="71" y="30"/>
                </a:lnTo>
                <a:lnTo>
                  <a:pt x="61" y="34"/>
                </a:lnTo>
                <a:lnTo>
                  <a:pt x="55" y="36"/>
                </a:lnTo>
                <a:lnTo>
                  <a:pt x="50" y="38"/>
                </a:lnTo>
                <a:lnTo>
                  <a:pt x="44" y="40"/>
                </a:lnTo>
                <a:lnTo>
                  <a:pt x="38" y="42"/>
                </a:lnTo>
                <a:lnTo>
                  <a:pt x="33" y="42"/>
                </a:lnTo>
                <a:lnTo>
                  <a:pt x="25" y="42"/>
                </a:lnTo>
                <a:lnTo>
                  <a:pt x="19" y="42"/>
                </a:lnTo>
                <a:lnTo>
                  <a:pt x="14" y="42"/>
                </a:lnTo>
                <a:lnTo>
                  <a:pt x="6" y="38"/>
                </a:lnTo>
                <a:lnTo>
                  <a:pt x="0" y="34"/>
                </a:lnTo>
                <a:lnTo>
                  <a:pt x="0" y="28"/>
                </a:lnTo>
                <a:lnTo>
                  <a:pt x="6" y="21"/>
                </a:lnTo>
                <a:lnTo>
                  <a:pt x="12" y="15"/>
                </a:lnTo>
                <a:lnTo>
                  <a:pt x="19" y="11"/>
                </a:lnTo>
                <a:lnTo>
                  <a:pt x="23" y="9"/>
                </a:lnTo>
                <a:lnTo>
                  <a:pt x="29" y="5"/>
                </a:lnTo>
                <a:lnTo>
                  <a:pt x="35" y="2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767560" y="4645080"/>
            <a:ext cx="23760" cy="15840"/>
          </a:xfrm>
          <a:custGeom>
            <a:avLst/>
            <a:gdLst/>
            <a:ahLst/>
            <a:rect l="l" t="t" r="r" b="b"/>
            <a:pathLst>
              <a:path w="31" h="19">
                <a:moveTo>
                  <a:pt x="6" y="0"/>
                </a:moveTo>
                <a:lnTo>
                  <a:pt x="10" y="5"/>
                </a:lnTo>
                <a:lnTo>
                  <a:pt x="18" y="7"/>
                </a:lnTo>
                <a:lnTo>
                  <a:pt x="25" y="7"/>
                </a:lnTo>
                <a:lnTo>
                  <a:pt x="31" y="11"/>
                </a:lnTo>
                <a:lnTo>
                  <a:pt x="31" y="13"/>
                </a:lnTo>
                <a:lnTo>
                  <a:pt x="27" y="17"/>
                </a:lnTo>
                <a:lnTo>
                  <a:pt x="21" y="19"/>
                </a:lnTo>
                <a:lnTo>
                  <a:pt x="16" y="17"/>
                </a:lnTo>
                <a:lnTo>
                  <a:pt x="10" y="15"/>
                </a:lnTo>
                <a:lnTo>
                  <a:pt x="4" y="11"/>
                </a:lnTo>
                <a:lnTo>
                  <a:pt x="0" y="7"/>
                </a:lnTo>
                <a:lnTo>
                  <a:pt x="0" y="1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180120" y="4653000"/>
            <a:ext cx="63360" cy="33480"/>
          </a:xfrm>
          <a:custGeom>
            <a:avLst/>
            <a:gdLst/>
            <a:ahLst/>
            <a:rect l="l" t="t" r="r" b="b"/>
            <a:pathLst>
              <a:path w="80" h="42">
                <a:moveTo>
                  <a:pt x="46" y="2"/>
                </a:moveTo>
                <a:lnTo>
                  <a:pt x="51" y="0"/>
                </a:lnTo>
                <a:lnTo>
                  <a:pt x="59" y="0"/>
                </a:lnTo>
                <a:lnTo>
                  <a:pt x="65" y="0"/>
                </a:lnTo>
                <a:lnTo>
                  <a:pt x="68" y="0"/>
                </a:lnTo>
                <a:lnTo>
                  <a:pt x="76" y="2"/>
                </a:lnTo>
                <a:lnTo>
                  <a:pt x="80" y="8"/>
                </a:lnTo>
                <a:lnTo>
                  <a:pt x="80" y="10"/>
                </a:lnTo>
                <a:lnTo>
                  <a:pt x="78" y="15"/>
                </a:lnTo>
                <a:lnTo>
                  <a:pt x="76" y="21"/>
                </a:lnTo>
                <a:lnTo>
                  <a:pt x="70" y="27"/>
                </a:lnTo>
                <a:lnTo>
                  <a:pt x="63" y="32"/>
                </a:lnTo>
                <a:lnTo>
                  <a:pt x="55" y="36"/>
                </a:lnTo>
                <a:lnTo>
                  <a:pt x="46" y="38"/>
                </a:lnTo>
                <a:lnTo>
                  <a:pt x="34" y="42"/>
                </a:lnTo>
                <a:lnTo>
                  <a:pt x="25" y="42"/>
                </a:lnTo>
                <a:lnTo>
                  <a:pt x="15" y="42"/>
                </a:lnTo>
                <a:lnTo>
                  <a:pt x="6" y="38"/>
                </a:lnTo>
                <a:lnTo>
                  <a:pt x="0" y="34"/>
                </a:lnTo>
                <a:lnTo>
                  <a:pt x="2" y="25"/>
                </a:lnTo>
                <a:lnTo>
                  <a:pt x="6" y="19"/>
                </a:lnTo>
                <a:lnTo>
                  <a:pt x="11" y="15"/>
                </a:lnTo>
                <a:lnTo>
                  <a:pt x="17" y="15"/>
                </a:lnTo>
                <a:lnTo>
                  <a:pt x="23" y="12"/>
                </a:lnTo>
                <a:lnTo>
                  <a:pt x="30" y="10"/>
                </a:lnTo>
                <a:lnTo>
                  <a:pt x="38" y="6"/>
                </a:lnTo>
                <a:lnTo>
                  <a:pt x="46" y="2"/>
                </a:lnTo>
                <a:lnTo>
                  <a:pt x="4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808600" y="4653000"/>
            <a:ext cx="68400" cy="23760"/>
          </a:xfrm>
          <a:custGeom>
            <a:avLst/>
            <a:gdLst/>
            <a:ahLst/>
            <a:rect l="l" t="t" r="r" b="b"/>
            <a:pathLst>
              <a:path w="85" h="31">
                <a:moveTo>
                  <a:pt x="11" y="2"/>
                </a:moveTo>
                <a:lnTo>
                  <a:pt x="21" y="0"/>
                </a:lnTo>
                <a:lnTo>
                  <a:pt x="30" y="0"/>
                </a:lnTo>
                <a:lnTo>
                  <a:pt x="40" y="0"/>
                </a:lnTo>
                <a:lnTo>
                  <a:pt x="51" y="0"/>
                </a:lnTo>
                <a:lnTo>
                  <a:pt x="59" y="0"/>
                </a:lnTo>
                <a:lnTo>
                  <a:pt x="68" y="4"/>
                </a:lnTo>
                <a:lnTo>
                  <a:pt x="76" y="8"/>
                </a:lnTo>
                <a:lnTo>
                  <a:pt x="85" y="17"/>
                </a:lnTo>
                <a:lnTo>
                  <a:pt x="78" y="19"/>
                </a:lnTo>
                <a:lnTo>
                  <a:pt x="74" y="23"/>
                </a:lnTo>
                <a:lnTo>
                  <a:pt x="66" y="25"/>
                </a:lnTo>
                <a:lnTo>
                  <a:pt x="59" y="27"/>
                </a:lnTo>
                <a:lnTo>
                  <a:pt x="49" y="27"/>
                </a:lnTo>
                <a:lnTo>
                  <a:pt x="40" y="29"/>
                </a:lnTo>
                <a:lnTo>
                  <a:pt x="32" y="29"/>
                </a:lnTo>
                <a:lnTo>
                  <a:pt x="25" y="31"/>
                </a:lnTo>
                <a:lnTo>
                  <a:pt x="15" y="29"/>
                </a:lnTo>
                <a:lnTo>
                  <a:pt x="9" y="29"/>
                </a:lnTo>
                <a:lnTo>
                  <a:pt x="4" y="27"/>
                </a:lnTo>
                <a:lnTo>
                  <a:pt x="2" y="25"/>
                </a:lnTo>
                <a:lnTo>
                  <a:pt x="0" y="19"/>
                </a:lnTo>
                <a:lnTo>
                  <a:pt x="2" y="15"/>
                </a:lnTo>
                <a:lnTo>
                  <a:pt x="4" y="8"/>
                </a:lnTo>
                <a:lnTo>
                  <a:pt x="11" y="2"/>
                </a:lnTo>
                <a:lnTo>
                  <a:pt x="1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100360" y="4581360"/>
            <a:ext cx="393480" cy="665280"/>
          </a:xfrm>
          <a:custGeom>
            <a:avLst/>
            <a:gdLst/>
            <a:ahLst/>
            <a:rect l="l" t="t" r="r" b="b"/>
            <a:pathLst>
              <a:path w="496" h="836">
                <a:moveTo>
                  <a:pt x="0" y="0"/>
                </a:moveTo>
                <a:lnTo>
                  <a:pt x="6" y="7"/>
                </a:lnTo>
                <a:lnTo>
                  <a:pt x="10" y="13"/>
                </a:lnTo>
                <a:lnTo>
                  <a:pt x="17" y="21"/>
                </a:lnTo>
                <a:lnTo>
                  <a:pt x="23" y="28"/>
                </a:lnTo>
                <a:lnTo>
                  <a:pt x="29" y="36"/>
                </a:lnTo>
                <a:lnTo>
                  <a:pt x="36" y="42"/>
                </a:lnTo>
                <a:lnTo>
                  <a:pt x="44" y="47"/>
                </a:lnTo>
                <a:lnTo>
                  <a:pt x="52" y="55"/>
                </a:lnTo>
                <a:lnTo>
                  <a:pt x="57" y="61"/>
                </a:lnTo>
                <a:lnTo>
                  <a:pt x="63" y="66"/>
                </a:lnTo>
                <a:lnTo>
                  <a:pt x="71" y="72"/>
                </a:lnTo>
                <a:lnTo>
                  <a:pt x="78" y="78"/>
                </a:lnTo>
                <a:lnTo>
                  <a:pt x="86" y="83"/>
                </a:lnTo>
                <a:lnTo>
                  <a:pt x="93" y="87"/>
                </a:lnTo>
                <a:lnTo>
                  <a:pt x="101" y="93"/>
                </a:lnTo>
                <a:lnTo>
                  <a:pt x="111" y="101"/>
                </a:lnTo>
                <a:lnTo>
                  <a:pt x="118" y="104"/>
                </a:lnTo>
                <a:lnTo>
                  <a:pt x="126" y="108"/>
                </a:lnTo>
                <a:lnTo>
                  <a:pt x="133" y="112"/>
                </a:lnTo>
                <a:lnTo>
                  <a:pt x="143" y="116"/>
                </a:lnTo>
                <a:lnTo>
                  <a:pt x="149" y="121"/>
                </a:lnTo>
                <a:lnTo>
                  <a:pt x="158" y="125"/>
                </a:lnTo>
                <a:lnTo>
                  <a:pt x="166" y="129"/>
                </a:lnTo>
                <a:lnTo>
                  <a:pt x="175" y="133"/>
                </a:lnTo>
                <a:lnTo>
                  <a:pt x="183" y="137"/>
                </a:lnTo>
                <a:lnTo>
                  <a:pt x="190" y="140"/>
                </a:lnTo>
                <a:lnTo>
                  <a:pt x="198" y="144"/>
                </a:lnTo>
                <a:lnTo>
                  <a:pt x="208" y="148"/>
                </a:lnTo>
                <a:lnTo>
                  <a:pt x="213" y="152"/>
                </a:lnTo>
                <a:lnTo>
                  <a:pt x="223" y="156"/>
                </a:lnTo>
                <a:lnTo>
                  <a:pt x="230" y="158"/>
                </a:lnTo>
                <a:lnTo>
                  <a:pt x="240" y="163"/>
                </a:lnTo>
                <a:lnTo>
                  <a:pt x="236" y="156"/>
                </a:lnTo>
                <a:lnTo>
                  <a:pt x="232" y="148"/>
                </a:lnTo>
                <a:lnTo>
                  <a:pt x="230" y="140"/>
                </a:lnTo>
                <a:lnTo>
                  <a:pt x="227" y="135"/>
                </a:lnTo>
                <a:lnTo>
                  <a:pt x="223" y="127"/>
                </a:lnTo>
                <a:lnTo>
                  <a:pt x="219" y="121"/>
                </a:lnTo>
                <a:lnTo>
                  <a:pt x="217" y="114"/>
                </a:lnTo>
                <a:lnTo>
                  <a:pt x="213" y="108"/>
                </a:lnTo>
                <a:lnTo>
                  <a:pt x="209" y="101"/>
                </a:lnTo>
                <a:lnTo>
                  <a:pt x="208" y="93"/>
                </a:lnTo>
                <a:lnTo>
                  <a:pt x="204" y="85"/>
                </a:lnTo>
                <a:lnTo>
                  <a:pt x="204" y="80"/>
                </a:lnTo>
                <a:lnTo>
                  <a:pt x="202" y="72"/>
                </a:lnTo>
                <a:lnTo>
                  <a:pt x="202" y="64"/>
                </a:lnTo>
                <a:lnTo>
                  <a:pt x="202" y="55"/>
                </a:lnTo>
                <a:lnTo>
                  <a:pt x="204" y="47"/>
                </a:lnTo>
                <a:lnTo>
                  <a:pt x="209" y="55"/>
                </a:lnTo>
                <a:lnTo>
                  <a:pt x="215" y="64"/>
                </a:lnTo>
                <a:lnTo>
                  <a:pt x="221" y="74"/>
                </a:lnTo>
                <a:lnTo>
                  <a:pt x="228" y="83"/>
                </a:lnTo>
                <a:lnTo>
                  <a:pt x="232" y="93"/>
                </a:lnTo>
                <a:lnTo>
                  <a:pt x="240" y="104"/>
                </a:lnTo>
                <a:lnTo>
                  <a:pt x="242" y="110"/>
                </a:lnTo>
                <a:lnTo>
                  <a:pt x="246" y="116"/>
                </a:lnTo>
                <a:lnTo>
                  <a:pt x="249" y="123"/>
                </a:lnTo>
                <a:lnTo>
                  <a:pt x="253" y="129"/>
                </a:lnTo>
                <a:lnTo>
                  <a:pt x="259" y="140"/>
                </a:lnTo>
                <a:lnTo>
                  <a:pt x="266" y="150"/>
                </a:lnTo>
                <a:lnTo>
                  <a:pt x="276" y="159"/>
                </a:lnTo>
                <a:lnTo>
                  <a:pt x="285" y="171"/>
                </a:lnTo>
                <a:lnTo>
                  <a:pt x="293" y="179"/>
                </a:lnTo>
                <a:lnTo>
                  <a:pt x="304" y="186"/>
                </a:lnTo>
                <a:lnTo>
                  <a:pt x="308" y="190"/>
                </a:lnTo>
                <a:lnTo>
                  <a:pt x="314" y="194"/>
                </a:lnTo>
                <a:lnTo>
                  <a:pt x="320" y="196"/>
                </a:lnTo>
                <a:lnTo>
                  <a:pt x="325" y="199"/>
                </a:lnTo>
                <a:lnTo>
                  <a:pt x="320" y="190"/>
                </a:lnTo>
                <a:lnTo>
                  <a:pt x="316" y="182"/>
                </a:lnTo>
                <a:lnTo>
                  <a:pt x="312" y="173"/>
                </a:lnTo>
                <a:lnTo>
                  <a:pt x="308" y="163"/>
                </a:lnTo>
                <a:lnTo>
                  <a:pt x="304" y="152"/>
                </a:lnTo>
                <a:lnTo>
                  <a:pt x="303" y="142"/>
                </a:lnTo>
                <a:lnTo>
                  <a:pt x="303" y="131"/>
                </a:lnTo>
                <a:lnTo>
                  <a:pt x="303" y="121"/>
                </a:lnTo>
                <a:lnTo>
                  <a:pt x="301" y="112"/>
                </a:lnTo>
                <a:lnTo>
                  <a:pt x="301" y="101"/>
                </a:lnTo>
                <a:lnTo>
                  <a:pt x="301" y="91"/>
                </a:lnTo>
                <a:lnTo>
                  <a:pt x="303" y="82"/>
                </a:lnTo>
                <a:lnTo>
                  <a:pt x="304" y="72"/>
                </a:lnTo>
                <a:lnTo>
                  <a:pt x="306" y="63"/>
                </a:lnTo>
                <a:lnTo>
                  <a:pt x="310" y="55"/>
                </a:lnTo>
                <a:lnTo>
                  <a:pt x="312" y="47"/>
                </a:lnTo>
                <a:lnTo>
                  <a:pt x="316" y="40"/>
                </a:lnTo>
                <a:lnTo>
                  <a:pt x="320" y="34"/>
                </a:lnTo>
                <a:lnTo>
                  <a:pt x="323" y="28"/>
                </a:lnTo>
                <a:lnTo>
                  <a:pt x="329" y="25"/>
                </a:lnTo>
                <a:lnTo>
                  <a:pt x="333" y="21"/>
                </a:lnTo>
                <a:lnTo>
                  <a:pt x="339" y="19"/>
                </a:lnTo>
                <a:lnTo>
                  <a:pt x="344" y="19"/>
                </a:lnTo>
                <a:lnTo>
                  <a:pt x="350" y="19"/>
                </a:lnTo>
                <a:lnTo>
                  <a:pt x="358" y="21"/>
                </a:lnTo>
                <a:lnTo>
                  <a:pt x="363" y="23"/>
                </a:lnTo>
                <a:lnTo>
                  <a:pt x="369" y="28"/>
                </a:lnTo>
                <a:lnTo>
                  <a:pt x="379" y="36"/>
                </a:lnTo>
                <a:lnTo>
                  <a:pt x="384" y="45"/>
                </a:lnTo>
                <a:lnTo>
                  <a:pt x="394" y="55"/>
                </a:lnTo>
                <a:lnTo>
                  <a:pt x="396" y="61"/>
                </a:lnTo>
                <a:lnTo>
                  <a:pt x="400" y="68"/>
                </a:lnTo>
                <a:lnTo>
                  <a:pt x="405" y="76"/>
                </a:lnTo>
                <a:lnTo>
                  <a:pt x="409" y="83"/>
                </a:lnTo>
                <a:lnTo>
                  <a:pt x="415" y="87"/>
                </a:lnTo>
                <a:lnTo>
                  <a:pt x="420" y="91"/>
                </a:lnTo>
                <a:lnTo>
                  <a:pt x="426" y="95"/>
                </a:lnTo>
                <a:lnTo>
                  <a:pt x="434" y="99"/>
                </a:lnTo>
                <a:lnTo>
                  <a:pt x="439" y="102"/>
                </a:lnTo>
                <a:lnTo>
                  <a:pt x="445" y="108"/>
                </a:lnTo>
                <a:lnTo>
                  <a:pt x="451" y="114"/>
                </a:lnTo>
                <a:lnTo>
                  <a:pt x="457" y="121"/>
                </a:lnTo>
                <a:lnTo>
                  <a:pt x="455" y="123"/>
                </a:lnTo>
                <a:lnTo>
                  <a:pt x="447" y="120"/>
                </a:lnTo>
                <a:lnTo>
                  <a:pt x="441" y="116"/>
                </a:lnTo>
                <a:lnTo>
                  <a:pt x="434" y="114"/>
                </a:lnTo>
                <a:lnTo>
                  <a:pt x="428" y="110"/>
                </a:lnTo>
                <a:lnTo>
                  <a:pt x="422" y="106"/>
                </a:lnTo>
                <a:lnTo>
                  <a:pt x="415" y="106"/>
                </a:lnTo>
                <a:lnTo>
                  <a:pt x="407" y="104"/>
                </a:lnTo>
                <a:lnTo>
                  <a:pt x="401" y="104"/>
                </a:lnTo>
                <a:lnTo>
                  <a:pt x="405" y="114"/>
                </a:lnTo>
                <a:lnTo>
                  <a:pt x="413" y="123"/>
                </a:lnTo>
                <a:lnTo>
                  <a:pt x="417" y="131"/>
                </a:lnTo>
                <a:lnTo>
                  <a:pt x="424" y="140"/>
                </a:lnTo>
                <a:lnTo>
                  <a:pt x="430" y="146"/>
                </a:lnTo>
                <a:lnTo>
                  <a:pt x="438" y="152"/>
                </a:lnTo>
                <a:lnTo>
                  <a:pt x="445" y="159"/>
                </a:lnTo>
                <a:lnTo>
                  <a:pt x="457" y="165"/>
                </a:lnTo>
                <a:lnTo>
                  <a:pt x="455" y="169"/>
                </a:lnTo>
                <a:lnTo>
                  <a:pt x="455" y="173"/>
                </a:lnTo>
                <a:lnTo>
                  <a:pt x="445" y="169"/>
                </a:lnTo>
                <a:lnTo>
                  <a:pt x="439" y="167"/>
                </a:lnTo>
                <a:lnTo>
                  <a:pt x="434" y="163"/>
                </a:lnTo>
                <a:lnTo>
                  <a:pt x="430" y="163"/>
                </a:lnTo>
                <a:lnTo>
                  <a:pt x="422" y="163"/>
                </a:lnTo>
                <a:lnTo>
                  <a:pt x="419" y="165"/>
                </a:lnTo>
                <a:lnTo>
                  <a:pt x="417" y="167"/>
                </a:lnTo>
                <a:lnTo>
                  <a:pt x="417" y="173"/>
                </a:lnTo>
                <a:lnTo>
                  <a:pt x="420" y="179"/>
                </a:lnTo>
                <a:lnTo>
                  <a:pt x="426" y="188"/>
                </a:lnTo>
                <a:lnTo>
                  <a:pt x="432" y="194"/>
                </a:lnTo>
                <a:lnTo>
                  <a:pt x="438" y="203"/>
                </a:lnTo>
                <a:lnTo>
                  <a:pt x="445" y="211"/>
                </a:lnTo>
                <a:lnTo>
                  <a:pt x="455" y="218"/>
                </a:lnTo>
                <a:lnTo>
                  <a:pt x="462" y="222"/>
                </a:lnTo>
                <a:lnTo>
                  <a:pt x="472" y="228"/>
                </a:lnTo>
                <a:lnTo>
                  <a:pt x="479" y="232"/>
                </a:lnTo>
                <a:lnTo>
                  <a:pt x="489" y="234"/>
                </a:lnTo>
                <a:lnTo>
                  <a:pt x="481" y="237"/>
                </a:lnTo>
                <a:lnTo>
                  <a:pt x="476" y="237"/>
                </a:lnTo>
                <a:lnTo>
                  <a:pt x="470" y="237"/>
                </a:lnTo>
                <a:lnTo>
                  <a:pt x="464" y="237"/>
                </a:lnTo>
                <a:lnTo>
                  <a:pt x="458" y="234"/>
                </a:lnTo>
                <a:lnTo>
                  <a:pt x="451" y="230"/>
                </a:lnTo>
                <a:lnTo>
                  <a:pt x="445" y="226"/>
                </a:lnTo>
                <a:lnTo>
                  <a:pt x="439" y="222"/>
                </a:lnTo>
                <a:lnTo>
                  <a:pt x="432" y="215"/>
                </a:lnTo>
                <a:lnTo>
                  <a:pt x="426" y="211"/>
                </a:lnTo>
                <a:lnTo>
                  <a:pt x="419" y="205"/>
                </a:lnTo>
                <a:lnTo>
                  <a:pt x="413" y="201"/>
                </a:lnTo>
                <a:lnTo>
                  <a:pt x="407" y="196"/>
                </a:lnTo>
                <a:lnTo>
                  <a:pt x="400" y="194"/>
                </a:lnTo>
                <a:lnTo>
                  <a:pt x="394" y="194"/>
                </a:lnTo>
                <a:lnTo>
                  <a:pt x="388" y="194"/>
                </a:lnTo>
                <a:lnTo>
                  <a:pt x="390" y="199"/>
                </a:lnTo>
                <a:lnTo>
                  <a:pt x="394" y="205"/>
                </a:lnTo>
                <a:lnTo>
                  <a:pt x="398" y="211"/>
                </a:lnTo>
                <a:lnTo>
                  <a:pt x="403" y="218"/>
                </a:lnTo>
                <a:lnTo>
                  <a:pt x="409" y="222"/>
                </a:lnTo>
                <a:lnTo>
                  <a:pt x="415" y="228"/>
                </a:lnTo>
                <a:lnTo>
                  <a:pt x="422" y="232"/>
                </a:lnTo>
                <a:lnTo>
                  <a:pt x="428" y="239"/>
                </a:lnTo>
                <a:lnTo>
                  <a:pt x="434" y="243"/>
                </a:lnTo>
                <a:lnTo>
                  <a:pt x="439" y="249"/>
                </a:lnTo>
                <a:lnTo>
                  <a:pt x="445" y="253"/>
                </a:lnTo>
                <a:lnTo>
                  <a:pt x="453" y="258"/>
                </a:lnTo>
                <a:lnTo>
                  <a:pt x="457" y="264"/>
                </a:lnTo>
                <a:lnTo>
                  <a:pt x="462" y="270"/>
                </a:lnTo>
                <a:lnTo>
                  <a:pt x="466" y="277"/>
                </a:lnTo>
                <a:lnTo>
                  <a:pt x="470" y="283"/>
                </a:lnTo>
                <a:lnTo>
                  <a:pt x="468" y="285"/>
                </a:lnTo>
                <a:lnTo>
                  <a:pt x="464" y="289"/>
                </a:lnTo>
                <a:lnTo>
                  <a:pt x="457" y="287"/>
                </a:lnTo>
                <a:lnTo>
                  <a:pt x="451" y="283"/>
                </a:lnTo>
                <a:lnTo>
                  <a:pt x="445" y="279"/>
                </a:lnTo>
                <a:lnTo>
                  <a:pt x="439" y="275"/>
                </a:lnTo>
                <a:lnTo>
                  <a:pt x="434" y="270"/>
                </a:lnTo>
                <a:lnTo>
                  <a:pt x="426" y="266"/>
                </a:lnTo>
                <a:lnTo>
                  <a:pt x="419" y="266"/>
                </a:lnTo>
                <a:lnTo>
                  <a:pt x="413" y="268"/>
                </a:lnTo>
                <a:lnTo>
                  <a:pt x="419" y="275"/>
                </a:lnTo>
                <a:lnTo>
                  <a:pt x="426" y="285"/>
                </a:lnTo>
                <a:lnTo>
                  <a:pt x="432" y="294"/>
                </a:lnTo>
                <a:lnTo>
                  <a:pt x="438" y="304"/>
                </a:lnTo>
                <a:lnTo>
                  <a:pt x="439" y="313"/>
                </a:lnTo>
                <a:lnTo>
                  <a:pt x="441" y="323"/>
                </a:lnTo>
                <a:lnTo>
                  <a:pt x="443" y="332"/>
                </a:lnTo>
                <a:lnTo>
                  <a:pt x="445" y="342"/>
                </a:lnTo>
                <a:lnTo>
                  <a:pt x="445" y="352"/>
                </a:lnTo>
                <a:lnTo>
                  <a:pt x="447" y="361"/>
                </a:lnTo>
                <a:lnTo>
                  <a:pt x="449" y="371"/>
                </a:lnTo>
                <a:lnTo>
                  <a:pt x="451" y="382"/>
                </a:lnTo>
                <a:lnTo>
                  <a:pt x="453" y="391"/>
                </a:lnTo>
                <a:lnTo>
                  <a:pt x="458" y="403"/>
                </a:lnTo>
                <a:lnTo>
                  <a:pt x="462" y="412"/>
                </a:lnTo>
                <a:lnTo>
                  <a:pt x="470" y="422"/>
                </a:lnTo>
                <a:lnTo>
                  <a:pt x="464" y="428"/>
                </a:lnTo>
                <a:lnTo>
                  <a:pt x="458" y="424"/>
                </a:lnTo>
                <a:lnTo>
                  <a:pt x="455" y="420"/>
                </a:lnTo>
                <a:lnTo>
                  <a:pt x="451" y="422"/>
                </a:lnTo>
                <a:lnTo>
                  <a:pt x="449" y="428"/>
                </a:lnTo>
                <a:lnTo>
                  <a:pt x="457" y="437"/>
                </a:lnTo>
                <a:lnTo>
                  <a:pt x="464" y="448"/>
                </a:lnTo>
                <a:lnTo>
                  <a:pt x="466" y="452"/>
                </a:lnTo>
                <a:lnTo>
                  <a:pt x="470" y="460"/>
                </a:lnTo>
                <a:lnTo>
                  <a:pt x="472" y="466"/>
                </a:lnTo>
                <a:lnTo>
                  <a:pt x="476" y="471"/>
                </a:lnTo>
                <a:lnTo>
                  <a:pt x="477" y="479"/>
                </a:lnTo>
                <a:lnTo>
                  <a:pt x="479" y="485"/>
                </a:lnTo>
                <a:lnTo>
                  <a:pt x="481" y="492"/>
                </a:lnTo>
                <a:lnTo>
                  <a:pt x="485" y="500"/>
                </a:lnTo>
                <a:lnTo>
                  <a:pt x="487" y="505"/>
                </a:lnTo>
                <a:lnTo>
                  <a:pt x="489" y="515"/>
                </a:lnTo>
                <a:lnTo>
                  <a:pt x="489" y="523"/>
                </a:lnTo>
                <a:lnTo>
                  <a:pt x="491" y="530"/>
                </a:lnTo>
                <a:lnTo>
                  <a:pt x="491" y="536"/>
                </a:lnTo>
                <a:lnTo>
                  <a:pt x="493" y="545"/>
                </a:lnTo>
                <a:lnTo>
                  <a:pt x="493" y="553"/>
                </a:lnTo>
                <a:lnTo>
                  <a:pt x="495" y="561"/>
                </a:lnTo>
                <a:lnTo>
                  <a:pt x="495" y="568"/>
                </a:lnTo>
                <a:lnTo>
                  <a:pt x="495" y="578"/>
                </a:lnTo>
                <a:lnTo>
                  <a:pt x="495" y="585"/>
                </a:lnTo>
                <a:lnTo>
                  <a:pt x="496" y="595"/>
                </a:lnTo>
                <a:lnTo>
                  <a:pt x="495" y="601"/>
                </a:lnTo>
                <a:lnTo>
                  <a:pt x="495" y="610"/>
                </a:lnTo>
                <a:lnTo>
                  <a:pt x="495" y="618"/>
                </a:lnTo>
                <a:lnTo>
                  <a:pt x="495" y="627"/>
                </a:lnTo>
                <a:lnTo>
                  <a:pt x="493" y="635"/>
                </a:lnTo>
                <a:lnTo>
                  <a:pt x="493" y="644"/>
                </a:lnTo>
                <a:lnTo>
                  <a:pt x="491" y="652"/>
                </a:lnTo>
                <a:lnTo>
                  <a:pt x="491" y="661"/>
                </a:lnTo>
                <a:lnTo>
                  <a:pt x="489" y="669"/>
                </a:lnTo>
                <a:lnTo>
                  <a:pt x="487" y="677"/>
                </a:lnTo>
                <a:lnTo>
                  <a:pt x="485" y="682"/>
                </a:lnTo>
                <a:lnTo>
                  <a:pt x="483" y="692"/>
                </a:lnTo>
                <a:lnTo>
                  <a:pt x="481" y="698"/>
                </a:lnTo>
                <a:lnTo>
                  <a:pt x="479" y="707"/>
                </a:lnTo>
                <a:lnTo>
                  <a:pt x="477" y="713"/>
                </a:lnTo>
                <a:lnTo>
                  <a:pt x="474" y="720"/>
                </a:lnTo>
                <a:lnTo>
                  <a:pt x="472" y="728"/>
                </a:lnTo>
                <a:lnTo>
                  <a:pt x="468" y="736"/>
                </a:lnTo>
                <a:lnTo>
                  <a:pt x="464" y="743"/>
                </a:lnTo>
                <a:lnTo>
                  <a:pt x="462" y="751"/>
                </a:lnTo>
                <a:lnTo>
                  <a:pt x="458" y="756"/>
                </a:lnTo>
                <a:lnTo>
                  <a:pt x="455" y="762"/>
                </a:lnTo>
                <a:lnTo>
                  <a:pt x="453" y="770"/>
                </a:lnTo>
                <a:lnTo>
                  <a:pt x="449" y="775"/>
                </a:lnTo>
                <a:lnTo>
                  <a:pt x="441" y="787"/>
                </a:lnTo>
                <a:lnTo>
                  <a:pt x="434" y="796"/>
                </a:lnTo>
                <a:lnTo>
                  <a:pt x="424" y="806"/>
                </a:lnTo>
                <a:lnTo>
                  <a:pt x="415" y="815"/>
                </a:lnTo>
                <a:lnTo>
                  <a:pt x="405" y="821"/>
                </a:lnTo>
                <a:lnTo>
                  <a:pt x="394" y="827"/>
                </a:lnTo>
                <a:lnTo>
                  <a:pt x="384" y="832"/>
                </a:lnTo>
                <a:lnTo>
                  <a:pt x="373" y="836"/>
                </a:lnTo>
                <a:lnTo>
                  <a:pt x="369" y="832"/>
                </a:lnTo>
                <a:lnTo>
                  <a:pt x="367" y="823"/>
                </a:lnTo>
                <a:lnTo>
                  <a:pt x="363" y="813"/>
                </a:lnTo>
                <a:lnTo>
                  <a:pt x="360" y="810"/>
                </a:lnTo>
                <a:lnTo>
                  <a:pt x="352" y="812"/>
                </a:lnTo>
                <a:lnTo>
                  <a:pt x="342" y="817"/>
                </a:lnTo>
                <a:lnTo>
                  <a:pt x="333" y="819"/>
                </a:lnTo>
                <a:lnTo>
                  <a:pt x="325" y="821"/>
                </a:lnTo>
                <a:lnTo>
                  <a:pt x="329" y="812"/>
                </a:lnTo>
                <a:lnTo>
                  <a:pt x="335" y="802"/>
                </a:lnTo>
                <a:lnTo>
                  <a:pt x="339" y="793"/>
                </a:lnTo>
                <a:lnTo>
                  <a:pt x="346" y="785"/>
                </a:lnTo>
                <a:lnTo>
                  <a:pt x="350" y="777"/>
                </a:lnTo>
                <a:lnTo>
                  <a:pt x="356" y="770"/>
                </a:lnTo>
                <a:lnTo>
                  <a:pt x="362" y="762"/>
                </a:lnTo>
                <a:lnTo>
                  <a:pt x="367" y="756"/>
                </a:lnTo>
                <a:lnTo>
                  <a:pt x="373" y="749"/>
                </a:lnTo>
                <a:lnTo>
                  <a:pt x="379" y="743"/>
                </a:lnTo>
                <a:lnTo>
                  <a:pt x="384" y="736"/>
                </a:lnTo>
                <a:lnTo>
                  <a:pt x="390" y="730"/>
                </a:lnTo>
                <a:lnTo>
                  <a:pt x="396" y="724"/>
                </a:lnTo>
                <a:lnTo>
                  <a:pt x="400" y="717"/>
                </a:lnTo>
                <a:lnTo>
                  <a:pt x="405" y="711"/>
                </a:lnTo>
                <a:lnTo>
                  <a:pt x="413" y="705"/>
                </a:lnTo>
                <a:lnTo>
                  <a:pt x="417" y="698"/>
                </a:lnTo>
                <a:lnTo>
                  <a:pt x="420" y="692"/>
                </a:lnTo>
                <a:lnTo>
                  <a:pt x="424" y="686"/>
                </a:lnTo>
                <a:lnTo>
                  <a:pt x="430" y="678"/>
                </a:lnTo>
                <a:lnTo>
                  <a:pt x="434" y="671"/>
                </a:lnTo>
                <a:lnTo>
                  <a:pt x="438" y="665"/>
                </a:lnTo>
                <a:lnTo>
                  <a:pt x="441" y="658"/>
                </a:lnTo>
                <a:lnTo>
                  <a:pt x="443" y="650"/>
                </a:lnTo>
                <a:lnTo>
                  <a:pt x="445" y="642"/>
                </a:lnTo>
                <a:lnTo>
                  <a:pt x="447" y="633"/>
                </a:lnTo>
                <a:lnTo>
                  <a:pt x="449" y="625"/>
                </a:lnTo>
                <a:lnTo>
                  <a:pt x="449" y="616"/>
                </a:lnTo>
                <a:lnTo>
                  <a:pt x="449" y="606"/>
                </a:lnTo>
                <a:lnTo>
                  <a:pt x="449" y="597"/>
                </a:lnTo>
                <a:lnTo>
                  <a:pt x="449" y="585"/>
                </a:lnTo>
                <a:lnTo>
                  <a:pt x="447" y="576"/>
                </a:lnTo>
                <a:lnTo>
                  <a:pt x="445" y="563"/>
                </a:lnTo>
                <a:lnTo>
                  <a:pt x="445" y="553"/>
                </a:lnTo>
                <a:lnTo>
                  <a:pt x="443" y="542"/>
                </a:lnTo>
                <a:lnTo>
                  <a:pt x="441" y="532"/>
                </a:lnTo>
                <a:lnTo>
                  <a:pt x="439" y="521"/>
                </a:lnTo>
                <a:lnTo>
                  <a:pt x="436" y="509"/>
                </a:lnTo>
                <a:lnTo>
                  <a:pt x="434" y="500"/>
                </a:lnTo>
                <a:lnTo>
                  <a:pt x="432" y="488"/>
                </a:lnTo>
                <a:lnTo>
                  <a:pt x="426" y="477"/>
                </a:lnTo>
                <a:lnTo>
                  <a:pt x="422" y="467"/>
                </a:lnTo>
                <a:lnTo>
                  <a:pt x="419" y="454"/>
                </a:lnTo>
                <a:lnTo>
                  <a:pt x="415" y="445"/>
                </a:lnTo>
                <a:lnTo>
                  <a:pt x="409" y="433"/>
                </a:lnTo>
                <a:lnTo>
                  <a:pt x="405" y="422"/>
                </a:lnTo>
                <a:lnTo>
                  <a:pt x="400" y="410"/>
                </a:lnTo>
                <a:lnTo>
                  <a:pt x="396" y="399"/>
                </a:lnTo>
                <a:lnTo>
                  <a:pt x="388" y="388"/>
                </a:lnTo>
                <a:lnTo>
                  <a:pt x="384" y="378"/>
                </a:lnTo>
                <a:lnTo>
                  <a:pt x="379" y="367"/>
                </a:lnTo>
                <a:lnTo>
                  <a:pt x="375" y="355"/>
                </a:lnTo>
                <a:lnTo>
                  <a:pt x="369" y="344"/>
                </a:lnTo>
                <a:lnTo>
                  <a:pt x="365" y="332"/>
                </a:lnTo>
                <a:lnTo>
                  <a:pt x="360" y="321"/>
                </a:lnTo>
                <a:lnTo>
                  <a:pt x="356" y="312"/>
                </a:lnTo>
                <a:lnTo>
                  <a:pt x="350" y="302"/>
                </a:lnTo>
                <a:lnTo>
                  <a:pt x="346" y="291"/>
                </a:lnTo>
                <a:lnTo>
                  <a:pt x="342" y="279"/>
                </a:lnTo>
                <a:lnTo>
                  <a:pt x="341" y="270"/>
                </a:lnTo>
                <a:lnTo>
                  <a:pt x="337" y="260"/>
                </a:lnTo>
                <a:lnTo>
                  <a:pt x="335" y="251"/>
                </a:lnTo>
                <a:lnTo>
                  <a:pt x="333" y="241"/>
                </a:lnTo>
                <a:lnTo>
                  <a:pt x="331" y="234"/>
                </a:lnTo>
                <a:lnTo>
                  <a:pt x="323" y="230"/>
                </a:lnTo>
                <a:lnTo>
                  <a:pt x="316" y="230"/>
                </a:lnTo>
                <a:lnTo>
                  <a:pt x="310" y="228"/>
                </a:lnTo>
                <a:lnTo>
                  <a:pt x="304" y="226"/>
                </a:lnTo>
                <a:lnTo>
                  <a:pt x="297" y="222"/>
                </a:lnTo>
                <a:lnTo>
                  <a:pt x="289" y="222"/>
                </a:lnTo>
                <a:lnTo>
                  <a:pt x="284" y="220"/>
                </a:lnTo>
                <a:lnTo>
                  <a:pt x="276" y="218"/>
                </a:lnTo>
                <a:lnTo>
                  <a:pt x="268" y="215"/>
                </a:lnTo>
                <a:lnTo>
                  <a:pt x="263" y="215"/>
                </a:lnTo>
                <a:lnTo>
                  <a:pt x="255" y="213"/>
                </a:lnTo>
                <a:lnTo>
                  <a:pt x="249" y="211"/>
                </a:lnTo>
                <a:lnTo>
                  <a:pt x="242" y="209"/>
                </a:lnTo>
                <a:lnTo>
                  <a:pt x="236" y="207"/>
                </a:lnTo>
                <a:lnTo>
                  <a:pt x="228" y="205"/>
                </a:lnTo>
                <a:lnTo>
                  <a:pt x="223" y="203"/>
                </a:lnTo>
                <a:lnTo>
                  <a:pt x="215" y="201"/>
                </a:lnTo>
                <a:lnTo>
                  <a:pt x="209" y="199"/>
                </a:lnTo>
                <a:lnTo>
                  <a:pt x="202" y="196"/>
                </a:lnTo>
                <a:lnTo>
                  <a:pt x="194" y="194"/>
                </a:lnTo>
                <a:lnTo>
                  <a:pt x="189" y="192"/>
                </a:lnTo>
                <a:lnTo>
                  <a:pt x="183" y="188"/>
                </a:lnTo>
                <a:lnTo>
                  <a:pt x="175" y="186"/>
                </a:lnTo>
                <a:lnTo>
                  <a:pt x="169" y="184"/>
                </a:lnTo>
                <a:lnTo>
                  <a:pt x="164" y="182"/>
                </a:lnTo>
                <a:lnTo>
                  <a:pt x="156" y="179"/>
                </a:lnTo>
                <a:lnTo>
                  <a:pt x="150" y="177"/>
                </a:lnTo>
                <a:lnTo>
                  <a:pt x="145" y="175"/>
                </a:lnTo>
                <a:lnTo>
                  <a:pt x="133" y="167"/>
                </a:lnTo>
                <a:lnTo>
                  <a:pt x="122" y="163"/>
                </a:lnTo>
                <a:lnTo>
                  <a:pt x="116" y="158"/>
                </a:lnTo>
                <a:lnTo>
                  <a:pt x="109" y="156"/>
                </a:lnTo>
                <a:lnTo>
                  <a:pt x="103" y="152"/>
                </a:lnTo>
                <a:lnTo>
                  <a:pt x="99" y="148"/>
                </a:lnTo>
                <a:lnTo>
                  <a:pt x="88" y="140"/>
                </a:lnTo>
                <a:lnTo>
                  <a:pt x="78" y="133"/>
                </a:lnTo>
                <a:lnTo>
                  <a:pt x="69" y="123"/>
                </a:lnTo>
                <a:lnTo>
                  <a:pt x="57" y="116"/>
                </a:lnTo>
                <a:lnTo>
                  <a:pt x="50" y="106"/>
                </a:lnTo>
                <a:lnTo>
                  <a:pt x="42" y="97"/>
                </a:lnTo>
                <a:lnTo>
                  <a:pt x="35" y="85"/>
                </a:lnTo>
                <a:lnTo>
                  <a:pt x="27" y="76"/>
                </a:lnTo>
                <a:lnTo>
                  <a:pt x="21" y="64"/>
                </a:lnTo>
                <a:lnTo>
                  <a:pt x="15" y="53"/>
                </a:lnTo>
                <a:lnTo>
                  <a:pt x="14" y="47"/>
                </a:lnTo>
                <a:lnTo>
                  <a:pt x="10" y="40"/>
                </a:lnTo>
                <a:lnTo>
                  <a:pt x="8" y="34"/>
                </a:lnTo>
                <a:lnTo>
                  <a:pt x="6" y="28"/>
                </a:lnTo>
                <a:lnTo>
                  <a:pt x="4" y="21"/>
                </a:lnTo>
                <a:lnTo>
                  <a:pt x="4" y="13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901480" y="4672080"/>
            <a:ext cx="93960" cy="42840"/>
          </a:xfrm>
          <a:custGeom>
            <a:avLst/>
            <a:gdLst/>
            <a:ahLst/>
            <a:rect l="l" t="t" r="r" b="b"/>
            <a:pathLst>
              <a:path w="118" h="53">
                <a:moveTo>
                  <a:pt x="101" y="0"/>
                </a:moveTo>
                <a:lnTo>
                  <a:pt x="104" y="0"/>
                </a:lnTo>
                <a:lnTo>
                  <a:pt x="110" y="0"/>
                </a:lnTo>
                <a:lnTo>
                  <a:pt x="116" y="0"/>
                </a:lnTo>
                <a:lnTo>
                  <a:pt x="118" y="0"/>
                </a:lnTo>
                <a:lnTo>
                  <a:pt x="118" y="2"/>
                </a:lnTo>
                <a:lnTo>
                  <a:pt x="118" y="6"/>
                </a:lnTo>
                <a:lnTo>
                  <a:pt x="108" y="7"/>
                </a:lnTo>
                <a:lnTo>
                  <a:pt x="101" y="11"/>
                </a:lnTo>
                <a:lnTo>
                  <a:pt x="95" y="13"/>
                </a:lnTo>
                <a:lnTo>
                  <a:pt x="87" y="17"/>
                </a:lnTo>
                <a:lnTo>
                  <a:pt x="80" y="21"/>
                </a:lnTo>
                <a:lnTo>
                  <a:pt x="72" y="23"/>
                </a:lnTo>
                <a:lnTo>
                  <a:pt x="64" y="26"/>
                </a:lnTo>
                <a:lnTo>
                  <a:pt x="59" y="30"/>
                </a:lnTo>
                <a:lnTo>
                  <a:pt x="51" y="32"/>
                </a:lnTo>
                <a:lnTo>
                  <a:pt x="43" y="36"/>
                </a:lnTo>
                <a:lnTo>
                  <a:pt x="36" y="40"/>
                </a:lnTo>
                <a:lnTo>
                  <a:pt x="30" y="42"/>
                </a:lnTo>
                <a:lnTo>
                  <a:pt x="23" y="45"/>
                </a:lnTo>
                <a:lnTo>
                  <a:pt x="15" y="47"/>
                </a:lnTo>
                <a:lnTo>
                  <a:pt x="7" y="49"/>
                </a:lnTo>
                <a:lnTo>
                  <a:pt x="2" y="53"/>
                </a:lnTo>
                <a:lnTo>
                  <a:pt x="0" y="49"/>
                </a:lnTo>
                <a:lnTo>
                  <a:pt x="4" y="44"/>
                </a:lnTo>
                <a:lnTo>
                  <a:pt x="7" y="38"/>
                </a:lnTo>
                <a:lnTo>
                  <a:pt x="13" y="34"/>
                </a:lnTo>
                <a:lnTo>
                  <a:pt x="21" y="30"/>
                </a:lnTo>
                <a:lnTo>
                  <a:pt x="26" y="28"/>
                </a:lnTo>
                <a:lnTo>
                  <a:pt x="32" y="25"/>
                </a:lnTo>
                <a:lnTo>
                  <a:pt x="40" y="23"/>
                </a:lnTo>
                <a:lnTo>
                  <a:pt x="47" y="21"/>
                </a:lnTo>
                <a:lnTo>
                  <a:pt x="53" y="19"/>
                </a:lnTo>
                <a:lnTo>
                  <a:pt x="61" y="17"/>
                </a:lnTo>
                <a:lnTo>
                  <a:pt x="68" y="13"/>
                </a:lnTo>
                <a:lnTo>
                  <a:pt x="76" y="13"/>
                </a:lnTo>
                <a:lnTo>
                  <a:pt x="81" y="9"/>
                </a:lnTo>
                <a:lnTo>
                  <a:pt x="87" y="7"/>
                </a:lnTo>
                <a:lnTo>
                  <a:pt x="95" y="4"/>
                </a:lnTo>
                <a:lnTo>
                  <a:pt x="101" y="0"/>
                </a:lnTo>
                <a:lnTo>
                  <a:pt x="10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324480" y="4681440"/>
            <a:ext cx="46080" cy="17640"/>
          </a:xfrm>
          <a:custGeom>
            <a:avLst/>
            <a:gdLst/>
            <a:ahLst/>
            <a:rect l="l" t="t" r="r" b="b"/>
            <a:pathLst>
              <a:path w="59" h="21">
                <a:moveTo>
                  <a:pt x="8" y="0"/>
                </a:moveTo>
                <a:lnTo>
                  <a:pt x="14" y="0"/>
                </a:lnTo>
                <a:lnTo>
                  <a:pt x="19" y="0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6" y="0"/>
                </a:lnTo>
                <a:lnTo>
                  <a:pt x="52" y="0"/>
                </a:lnTo>
                <a:lnTo>
                  <a:pt x="59" y="0"/>
                </a:lnTo>
                <a:lnTo>
                  <a:pt x="59" y="4"/>
                </a:lnTo>
                <a:lnTo>
                  <a:pt x="59" y="8"/>
                </a:lnTo>
                <a:lnTo>
                  <a:pt x="56" y="10"/>
                </a:lnTo>
                <a:lnTo>
                  <a:pt x="52" y="15"/>
                </a:lnTo>
                <a:lnTo>
                  <a:pt x="46" y="17"/>
                </a:lnTo>
                <a:lnTo>
                  <a:pt x="42" y="19"/>
                </a:lnTo>
                <a:lnTo>
                  <a:pt x="35" y="21"/>
                </a:lnTo>
                <a:lnTo>
                  <a:pt x="29" y="21"/>
                </a:lnTo>
                <a:lnTo>
                  <a:pt x="23" y="21"/>
                </a:lnTo>
                <a:lnTo>
                  <a:pt x="17" y="21"/>
                </a:lnTo>
                <a:lnTo>
                  <a:pt x="12" y="19"/>
                </a:lnTo>
                <a:lnTo>
                  <a:pt x="6" y="19"/>
                </a:lnTo>
                <a:lnTo>
                  <a:pt x="4" y="15"/>
                </a:lnTo>
                <a:lnTo>
                  <a:pt x="0" y="14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109560" y="4689360"/>
            <a:ext cx="66600" cy="36720"/>
          </a:xfrm>
          <a:custGeom>
            <a:avLst/>
            <a:gdLst/>
            <a:ahLst/>
            <a:rect l="l" t="t" r="r" b="b"/>
            <a:pathLst>
              <a:path w="83" h="45">
                <a:moveTo>
                  <a:pt x="57" y="2"/>
                </a:moveTo>
                <a:lnTo>
                  <a:pt x="66" y="0"/>
                </a:lnTo>
                <a:lnTo>
                  <a:pt x="72" y="5"/>
                </a:lnTo>
                <a:lnTo>
                  <a:pt x="76" y="11"/>
                </a:lnTo>
                <a:lnTo>
                  <a:pt x="83" y="19"/>
                </a:lnTo>
                <a:lnTo>
                  <a:pt x="74" y="21"/>
                </a:lnTo>
                <a:lnTo>
                  <a:pt x="64" y="24"/>
                </a:lnTo>
                <a:lnTo>
                  <a:pt x="55" y="26"/>
                </a:lnTo>
                <a:lnTo>
                  <a:pt x="45" y="30"/>
                </a:lnTo>
                <a:lnTo>
                  <a:pt x="36" y="34"/>
                </a:lnTo>
                <a:lnTo>
                  <a:pt x="26" y="36"/>
                </a:lnTo>
                <a:lnTo>
                  <a:pt x="17" y="40"/>
                </a:lnTo>
                <a:lnTo>
                  <a:pt x="7" y="45"/>
                </a:lnTo>
                <a:lnTo>
                  <a:pt x="2" y="36"/>
                </a:lnTo>
                <a:lnTo>
                  <a:pt x="0" y="30"/>
                </a:lnTo>
                <a:lnTo>
                  <a:pt x="0" y="26"/>
                </a:lnTo>
                <a:lnTo>
                  <a:pt x="0" y="23"/>
                </a:lnTo>
                <a:lnTo>
                  <a:pt x="5" y="17"/>
                </a:lnTo>
                <a:lnTo>
                  <a:pt x="15" y="15"/>
                </a:lnTo>
                <a:lnTo>
                  <a:pt x="19" y="13"/>
                </a:lnTo>
                <a:lnTo>
                  <a:pt x="26" y="11"/>
                </a:lnTo>
                <a:lnTo>
                  <a:pt x="30" y="11"/>
                </a:lnTo>
                <a:lnTo>
                  <a:pt x="38" y="11"/>
                </a:lnTo>
                <a:lnTo>
                  <a:pt x="47" y="7"/>
                </a:lnTo>
                <a:lnTo>
                  <a:pt x="57" y="2"/>
                </a:lnTo>
                <a:lnTo>
                  <a:pt x="5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660280" y="4691160"/>
            <a:ext cx="58680" cy="42840"/>
          </a:xfrm>
          <a:custGeom>
            <a:avLst/>
            <a:gdLst/>
            <a:ahLst/>
            <a:rect l="l" t="t" r="r" b="b"/>
            <a:pathLst>
              <a:path w="74" h="55">
                <a:moveTo>
                  <a:pt x="0" y="0"/>
                </a:moveTo>
                <a:lnTo>
                  <a:pt x="11" y="3"/>
                </a:lnTo>
                <a:lnTo>
                  <a:pt x="22" y="7"/>
                </a:lnTo>
                <a:lnTo>
                  <a:pt x="28" y="7"/>
                </a:lnTo>
                <a:lnTo>
                  <a:pt x="34" y="11"/>
                </a:lnTo>
                <a:lnTo>
                  <a:pt x="40" y="13"/>
                </a:lnTo>
                <a:lnTo>
                  <a:pt x="45" y="17"/>
                </a:lnTo>
                <a:lnTo>
                  <a:pt x="55" y="22"/>
                </a:lnTo>
                <a:lnTo>
                  <a:pt x="62" y="28"/>
                </a:lnTo>
                <a:lnTo>
                  <a:pt x="66" y="32"/>
                </a:lnTo>
                <a:lnTo>
                  <a:pt x="68" y="38"/>
                </a:lnTo>
                <a:lnTo>
                  <a:pt x="72" y="43"/>
                </a:lnTo>
                <a:lnTo>
                  <a:pt x="74" y="51"/>
                </a:lnTo>
                <a:lnTo>
                  <a:pt x="72" y="53"/>
                </a:lnTo>
                <a:lnTo>
                  <a:pt x="70" y="55"/>
                </a:lnTo>
                <a:lnTo>
                  <a:pt x="60" y="49"/>
                </a:lnTo>
                <a:lnTo>
                  <a:pt x="49" y="43"/>
                </a:lnTo>
                <a:lnTo>
                  <a:pt x="43" y="41"/>
                </a:lnTo>
                <a:lnTo>
                  <a:pt x="38" y="38"/>
                </a:lnTo>
                <a:lnTo>
                  <a:pt x="32" y="34"/>
                </a:lnTo>
                <a:lnTo>
                  <a:pt x="26" y="32"/>
                </a:lnTo>
                <a:lnTo>
                  <a:pt x="15" y="22"/>
                </a:lnTo>
                <a:lnTo>
                  <a:pt x="7" y="15"/>
                </a:lnTo>
                <a:lnTo>
                  <a:pt x="2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267600" y="4700520"/>
            <a:ext cx="55440" cy="22320"/>
          </a:xfrm>
          <a:custGeom>
            <a:avLst/>
            <a:gdLst/>
            <a:ahLst/>
            <a:rect l="l" t="t" r="r" b="b"/>
            <a:pathLst>
              <a:path w="71" h="29">
                <a:moveTo>
                  <a:pt x="33" y="0"/>
                </a:moveTo>
                <a:lnTo>
                  <a:pt x="42" y="0"/>
                </a:lnTo>
                <a:lnTo>
                  <a:pt x="52" y="2"/>
                </a:lnTo>
                <a:lnTo>
                  <a:pt x="59" y="2"/>
                </a:lnTo>
                <a:lnTo>
                  <a:pt x="65" y="4"/>
                </a:lnTo>
                <a:lnTo>
                  <a:pt x="71" y="8"/>
                </a:lnTo>
                <a:lnTo>
                  <a:pt x="71" y="13"/>
                </a:lnTo>
                <a:lnTo>
                  <a:pt x="67" y="15"/>
                </a:lnTo>
                <a:lnTo>
                  <a:pt x="59" y="21"/>
                </a:lnTo>
                <a:lnTo>
                  <a:pt x="50" y="23"/>
                </a:lnTo>
                <a:lnTo>
                  <a:pt x="40" y="27"/>
                </a:lnTo>
                <a:lnTo>
                  <a:pt x="33" y="27"/>
                </a:lnTo>
                <a:lnTo>
                  <a:pt x="29" y="27"/>
                </a:lnTo>
                <a:lnTo>
                  <a:pt x="21" y="27"/>
                </a:lnTo>
                <a:lnTo>
                  <a:pt x="17" y="29"/>
                </a:lnTo>
                <a:lnTo>
                  <a:pt x="10" y="27"/>
                </a:lnTo>
                <a:lnTo>
                  <a:pt x="4" y="27"/>
                </a:lnTo>
                <a:lnTo>
                  <a:pt x="0" y="23"/>
                </a:lnTo>
                <a:lnTo>
                  <a:pt x="4" y="17"/>
                </a:lnTo>
                <a:lnTo>
                  <a:pt x="8" y="13"/>
                </a:lnTo>
                <a:lnTo>
                  <a:pt x="15" y="10"/>
                </a:lnTo>
                <a:lnTo>
                  <a:pt x="21" y="4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204960" y="4730760"/>
            <a:ext cx="66600" cy="19080"/>
          </a:xfrm>
          <a:custGeom>
            <a:avLst/>
            <a:gdLst/>
            <a:ahLst/>
            <a:rect l="l" t="t" r="r" b="b"/>
            <a:pathLst>
              <a:path w="83" h="25">
                <a:moveTo>
                  <a:pt x="30" y="0"/>
                </a:moveTo>
                <a:lnTo>
                  <a:pt x="38" y="0"/>
                </a:lnTo>
                <a:lnTo>
                  <a:pt x="44" y="0"/>
                </a:lnTo>
                <a:lnTo>
                  <a:pt x="49" y="0"/>
                </a:lnTo>
                <a:lnTo>
                  <a:pt x="57" y="0"/>
                </a:lnTo>
                <a:lnTo>
                  <a:pt x="63" y="0"/>
                </a:lnTo>
                <a:lnTo>
                  <a:pt x="68" y="0"/>
                </a:lnTo>
                <a:lnTo>
                  <a:pt x="76" y="0"/>
                </a:lnTo>
                <a:lnTo>
                  <a:pt x="83" y="0"/>
                </a:lnTo>
                <a:lnTo>
                  <a:pt x="83" y="2"/>
                </a:lnTo>
                <a:lnTo>
                  <a:pt x="83" y="4"/>
                </a:lnTo>
                <a:lnTo>
                  <a:pt x="72" y="11"/>
                </a:lnTo>
                <a:lnTo>
                  <a:pt x="61" y="17"/>
                </a:lnTo>
                <a:lnTo>
                  <a:pt x="51" y="21"/>
                </a:lnTo>
                <a:lnTo>
                  <a:pt x="42" y="23"/>
                </a:lnTo>
                <a:lnTo>
                  <a:pt x="30" y="25"/>
                </a:lnTo>
                <a:lnTo>
                  <a:pt x="21" y="25"/>
                </a:lnTo>
                <a:lnTo>
                  <a:pt x="9" y="23"/>
                </a:lnTo>
                <a:lnTo>
                  <a:pt x="0" y="21"/>
                </a:lnTo>
                <a:lnTo>
                  <a:pt x="0" y="15"/>
                </a:lnTo>
                <a:lnTo>
                  <a:pt x="0" y="11"/>
                </a:lnTo>
                <a:lnTo>
                  <a:pt x="4" y="10"/>
                </a:lnTo>
                <a:lnTo>
                  <a:pt x="13" y="6"/>
                </a:lnTo>
                <a:lnTo>
                  <a:pt x="21" y="4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527160" y="4782960"/>
            <a:ext cx="27000" cy="98640"/>
          </a:xfrm>
          <a:custGeom>
            <a:avLst/>
            <a:gdLst/>
            <a:ahLst/>
            <a:rect l="l" t="t" r="r" b="b"/>
            <a:pathLst>
              <a:path w="35" h="123">
                <a:moveTo>
                  <a:pt x="29" y="0"/>
                </a:moveTo>
                <a:lnTo>
                  <a:pt x="29" y="7"/>
                </a:lnTo>
                <a:lnTo>
                  <a:pt x="29" y="13"/>
                </a:lnTo>
                <a:lnTo>
                  <a:pt x="31" y="20"/>
                </a:lnTo>
                <a:lnTo>
                  <a:pt x="33" y="30"/>
                </a:lnTo>
                <a:lnTo>
                  <a:pt x="33" y="40"/>
                </a:lnTo>
                <a:lnTo>
                  <a:pt x="33" y="47"/>
                </a:lnTo>
                <a:lnTo>
                  <a:pt x="35" y="57"/>
                </a:lnTo>
                <a:lnTo>
                  <a:pt x="35" y="66"/>
                </a:lnTo>
                <a:lnTo>
                  <a:pt x="33" y="74"/>
                </a:lnTo>
                <a:lnTo>
                  <a:pt x="33" y="81"/>
                </a:lnTo>
                <a:lnTo>
                  <a:pt x="29" y="91"/>
                </a:lnTo>
                <a:lnTo>
                  <a:pt x="27" y="98"/>
                </a:lnTo>
                <a:lnTo>
                  <a:pt x="21" y="104"/>
                </a:lnTo>
                <a:lnTo>
                  <a:pt x="18" y="112"/>
                </a:lnTo>
                <a:lnTo>
                  <a:pt x="10" y="117"/>
                </a:lnTo>
                <a:lnTo>
                  <a:pt x="2" y="123"/>
                </a:lnTo>
                <a:lnTo>
                  <a:pt x="0" y="121"/>
                </a:lnTo>
                <a:lnTo>
                  <a:pt x="2" y="114"/>
                </a:lnTo>
                <a:lnTo>
                  <a:pt x="6" y="106"/>
                </a:lnTo>
                <a:lnTo>
                  <a:pt x="6" y="98"/>
                </a:lnTo>
                <a:lnTo>
                  <a:pt x="8" y="91"/>
                </a:lnTo>
                <a:lnTo>
                  <a:pt x="8" y="81"/>
                </a:lnTo>
                <a:lnTo>
                  <a:pt x="8" y="74"/>
                </a:lnTo>
                <a:lnTo>
                  <a:pt x="8" y="64"/>
                </a:lnTo>
                <a:lnTo>
                  <a:pt x="8" y="57"/>
                </a:lnTo>
                <a:lnTo>
                  <a:pt x="8" y="47"/>
                </a:lnTo>
                <a:lnTo>
                  <a:pt x="8" y="38"/>
                </a:lnTo>
                <a:lnTo>
                  <a:pt x="10" y="30"/>
                </a:lnTo>
                <a:lnTo>
                  <a:pt x="12" y="24"/>
                </a:lnTo>
                <a:lnTo>
                  <a:pt x="16" y="17"/>
                </a:lnTo>
                <a:lnTo>
                  <a:pt x="19" y="9"/>
                </a:lnTo>
                <a:lnTo>
                  <a:pt x="23" y="3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853320" y="4792680"/>
            <a:ext cx="33120" cy="15840"/>
          </a:xfrm>
          <a:custGeom>
            <a:avLst/>
            <a:gdLst/>
            <a:ahLst/>
            <a:rect l="l" t="t" r="r" b="b"/>
            <a:pathLst>
              <a:path w="44" h="19">
                <a:moveTo>
                  <a:pt x="6" y="0"/>
                </a:moveTo>
                <a:lnTo>
                  <a:pt x="15" y="0"/>
                </a:lnTo>
                <a:lnTo>
                  <a:pt x="25" y="4"/>
                </a:lnTo>
                <a:lnTo>
                  <a:pt x="29" y="6"/>
                </a:lnTo>
                <a:lnTo>
                  <a:pt x="33" y="7"/>
                </a:lnTo>
                <a:lnTo>
                  <a:pt x="38" y="9"/>
                </a:lnTo>
                <a:lnTo>
                  <a:pt x="44" y="11"/>
                </a:lnTo>
                <a:lnTo>
                  <a:pt x="44" y="13"/>
                </a:lnTo>
                <a:lnTo>
                  <a:pt x="38" y="17"/>
                </a:lnTo>
                <a:lnTo>
                  <a:pt x="31" y="19"/>
                </a:lnTo>
                <a:lnTo>
                  <a:pt x="25" y="17"/>
                </a:lnTo>
                <a:lnTo>
                  <a:pt x="19" y="15"/>
                </a:lnTo>
                <a:lnTo>
                  <a:pt x="10" y="7"/>
                </a:lnTo>
                <a:lnTo>
                  <a:pt x="0" y="7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718960" y="4811760"/>
            <a:ext cx="34920" cy="17280"/>
          </a:xfrm>
          <a:custGeom>
            <a:avLst/>
            <a:gdLst/>
            <a:ahLst/>
            <a:rect l="l" t="t" r="r" b="b"/>
            <a:pathLst>
              <a:path w="44" h="23">
                <a:moveTo>
                  <a:pt x="8" y="2"/>
                </a:moveTo>
                <a:lnTo>
                  <a:pt x="17" y="0"/>
                </a:lnTo>
                <a:lnTo>
                  <a:pt x="27" y="2"/>
                </a:lnTo>
                <a:lnTo>
                  <a:pt x="36" y="7"/>
                </a:lnTo>
                <a:lnTo>
                  <a:pt x="44" y="13"/>
                </a:lnTo>
                <a:lnTo>
                  <a:pt x="42" y="19"/>
                </a:lnTo>
                <a:lnTo>
                  <a:pt x="42" y="23"/>
                </a:lnTo>
                <a:lnTo>
                  <a:pt x="34" y="21"/>
                </a:lnTo>
                <a:lnTo>
                  <a:pt x="28" y="21"/>
                </a:lnTo>
                <a:lnTo>
                  <a:pt x="25" y="17"/>
                </a:lnTo>
                <a:lnTo>
                  <a:pt x="19" y="15"/>
                </a:lnTo>
                <a:lnTo>
                  <a:pt x="9" y="9"/>
                </a:lnTo>
                <a:lnTo>
                  <a:pt x="0" y="9"/>
                </a:lnTo>
                <a:lnTo>
                  <a:pt x="2" y="5"/>
                </a:lnTo>
                <a:lnTo>
                  <a:pt x="8" y="2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8172000" y="5516640"/>
            <a:ext cx="262440" cy="228600"/>
            <a:chOff x="8172000" y="5516640"/>
            <a:chExt cx="262440" cy="228600"/>
          </a:xfrm>
        </p:grpSpPr>
        <p:sp>
          <p:nvSpPr>
            <p:cNvPr id="539" name=""/>
            <p:cNvSpPr/>
            <p:nvPr/>
          </p:nvSpPr>
          <p:spPr>
            <a:xfrm flipH="1">
              <a:off x="8224920" y="5516640"/>
              <a:ext cx="20952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8171640" y="5651640"/>
              <a:ext cx="3492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H="1">
            <a:off x="8387640" y="4797360"/>
            <a:ext cx="98280" cy="389160"/>
          </a:xfrm>
          <a:custGeom>
            <a:avLst/>
            <a:gdLst/>
            <a:ahLst/>
            <a:rect l="l" t="t" r="r" b="b"/>
            <a:pathLst>
              <a:path w="123" h="491">
                <a:moveTo>
                  <a:pt x="24" y="0"/>
                </a:moveTo>
                <a:lnTo>
                  <a:pt x="32" y="4"/>
                </a:lnTo>
                <a:lnTo>
                  <a:pt x="38" y="8"/>
                </a:lnTo>
                <a:lnTo>
                  <a:pt x="45" y="13"/>
                </a:lnTo>
                <a:lnTo>
                  <a:pt x="51" y="17"/>
                </a:lnTo>
                <a:lnTo>
                  <a:pt x="55" y="23"/>
                </a:lnTo>
                <a:lnTo>
                  <a:pt x="60" y="31"/>
                </a:lnTo>
                <a:lnTo>
                  <a:pt x="66" y="36"/>
                </a:lnTo>
                <a:lnTo>
                  <a:pt x="72" y="44"/>
                </a:lnTo>
                <a:lnTo>
                  <a:pt x="74" y="50"/>
                </a:lnTo>
                <a:lnTo>
                  <a:pt x="79" y="57"/>
                </a:lnTo>
                <a:lnTo>
                  <a:pt x="83" y="63"/>
                </a:lnTo>
                <a:lnTo>
                  <a:pt x="89" y="71"/>
                </a:lnTo>
                <a:lnTo>
                  <a:pt x="93" y="76"/>
                </a:lnTo>
                <a:lnTo>
                  <a:pt x="98" y="84"/>
                </a:lnTo>
                <a:lnTo>
                  <a:pt x="106" y="90"/>
                </a:lnTo>
                <a:lnTo>
                  <a:pt x="112" y="97"/>
                </a:lnTo>
                <a:lnTo>
                  <a:pt x="108" y="101"/>
                </a:lnTo>
                <a:lnTo>
                  <a:pt x="102" y="101"/>
                </a:lnTo>
                <a:lnTo>
                  <a:pt x="95" y="101"/>
                </a:lnTo>
                <a:lnTo>
                  <a:pt x="91" y="105"/>
                </a:lnTo>
                <a:lnTo>
                  <a:pt x="93" y="112"/>
                </a:lnTo>
                <a:lnTo>
                  <a:pt x="98" y="118"/>
                </a:lnTo>
                <a:lnTo>
                  <a:pt x="106" y="124"/>
                </a:lnTo>
                <a:lnTo>
                  <a:pt x="112" y="131"/>
                </a:lnTo>
                <a:lnTo>
                  <a:pt x="108" y="135"/>
                </a:lnTo>
                <a:lnTo>
                  <a:pt x="102" y="135"/>
                </a:lnTo>
                <a:lnTo>
                  <a:pt x="95" y="135"/>
                </a:lnTo>
                <a:lnTo>
                  <a:pt x="91" y="139"/>
                </a:lnTo>
                <a:lnTo>
                  <a:pt x="97" y="148"/>
                </a:lnTo>
                <a:lnTo>
                  <a:pt x="102" y="160"/>
                </a:lnTo>
                <a:lnTo>
                  <a:pt x="108" y="169"/>
                </a:lnTo>
                <a:lnTo>
                  <a:pt x="112" y="181"/>
                </a:lnTo>
                <a:lnTo>
                  <a:pt x="116" y="192"/>
                </a:lnTo>
                <a:lnTo>
                  <a:pt x="119" y="204"/>
                </a:lnTo>
                <a:lnTo>
                  <a:pt x="121" y="213"/>
                </a:lnTo>
                <a:lnTo>
                  <a:pt x="123" y="224"/>
                </a:lnTo>
                <a:lnTo>
                  <a:pt x="123" y="236"/>
                </a:lnTo>
                <a:lnTo>
                  <a:pt x="123" y="245"/>
                </a:lnTo>
                <a:lnTo>
                  <a:pt x="123" y="257"/>
                </a:lnTo>
                <a:lnTo>
                  <a:pt x="123" y="268"/>
                </a:lnTo>
                <a:lnTo>
                  <a:pt x="119" y="280"/>
                </a:lnTo>
                <a:lnTo>
                  <a:pt x="119" y="289"/>
                </a:lnTo>
                <a:lnTo>
                  <a:pt x="117" y="301"/>
                </a:lnTo>
                <a:lnTo>
                  <a:pt x="116" y="312"/>
                </a:lnTo>
                <a:lnTo>
                  <a:pt x="110" y="321"/>
                </a:lnTo>
                <a:lnTo>
                  <a:pt x="108" y="333"/>
                </a:lnTo>
                <a:lnTo>
                  <a:pt x="104" y="344"/>
                </a:lnTo>
                <a:lnTo>
                  <a:pt x="100" y="356"/>
                </a:lnTo>
                <a:lnTo>
                  <a:pt x="97" y="365"/>
                </a:lnTo>
                <a:lnTo>
                  <a:pt x="93" y="377"/>
                </a:lnTo>
                <a:lnTo>
                  <a:pt x="89" y="388"/>
                </a:lnTo>
                <a:lnTo>
                  <a:pt x="85" y="399"/>
                </a:lnTo>
                <a:lnTo>
                  <a:pt x="79" y="409"/>
                </a:lnTo>
                <a:lnTo>
                  <a:pt x="76" y="420"/>
                </a:lnTo>
                <a:lnTo>
                  <a:pt x="72" y="432"/>
                </a:lnTo>
                <a:lnTo>
                  <a:pt x="68" y="443"/>
                </a:lnTo>
                <a:lnTo>
                  <a:pt x="64" y="449"/>
                </a:lnTo>
                <a:lnTo>
                  <a:pt x="64" y="455"/>
                </a:lnTo>
                <a:lnTo>
                  <a:pt x="62" y="460"/>
                </a:lnTo>
                <a:lnTo>
                  <a:pt x="60" y="466"/>
                </a:lnTo>
                <a:lnTo>
                  <a:pt x="59" y="472"/>
                </a:lnTo>
                <a:lnTo>
                  <a:pt x="59" y="477"/>
                </a:lnTo>
                <a:lnTo>
                  <a:pt x="55" y="483"/>
                </a:lnTo>
                <a:lnTo>
                  <a:pt x="55" y="491"/>
                </a:lnTo>
                <a:lnTo>
                  <a:pt x="7" y="477"/>
                </a:lnTo>
                <a:lnTo>
                  <a:pt x="3" y="470"/>
                </a:lnTo>
                <a:lnTo>
                  <a:pt x="0" y="464"/>
                </a:lnTo>
                <a:lnTo>
                  <a:pt x="0" y="456"/>
                </a:lnTo>
                <a:lnTo>
                  <a:pt x="0" y="449"/>
                </a:lnTo>
                <a:lnTo>
                  <a:pt x="0" y="439"/>
                </a:lnTo>
                <a:lnTo>
                  <a:pt x="3" y="432"/>
                </a:lnTo>
                <a:lnTo>
                  <a:pt x="5" y="424"/>
                </a:lnTo>
                <a:lnTo>
                  <a:pt x="9" y="415"/>
                </a:lnTo>
                <a:lnTo>
                  <a:pt x="13" y="405"/>
                </a:lnTo>
                <a:lnTo>
                  <a:pt x="19" y="396"/>
                </a:lnTo>
                <a:lnTo>
                  <a:pt x="22" y="384"/>
                </a:lnTo>
                <a:lnTo>
                  <a:pt x="28" y="375"/>
                </a:lnTo>
                <a:lnTo>
                  <a:pt x="34" y="365"/>
                </a:lnTo>
                <a:lnTo>
                  <a:pt x="40" y="356"/>
                </a:lnTo>
                <a:lnTo>
                  <a:pt x="45" y="344"/>
                </a:lnTo>
                <a:lnTo>
                  <a:pt x="51" y="335"/>
                </a:lnTo>
                <a:lnTo>
                  <a:pt x="55" y="323"/>
                </a:lnTo>
                <a:lnTo>
                  <a:pt x="60" y="314"/>
                </a:lnTo>
                <a:lnTo>
                  <a:pt x="64" y="302"/>
                </a:lnTo>
                <a:lnTo>
                  <a:pt x="68" y="293"/>
                </a:lnTo>
                <a:lnTo>
                  <a:pt x="70" y="282"/>
                </a:lnTo>
                <a:lnTo>
                  <a:pt x="74" y="272"/>
                </a:lnTo>
                <a:lnTo>
                  <a:pt x="74" y="261"/>
                </a:lnTo>
                <a:lnTo>
                  <a:pt x="76" y="251"/>
                </a:lnTo>
                <a:lnTo>
                  <a:pt x="74" y="242"/>
                </a:lnTo>
                <a:lnTo>
                  <a:pt x="72" y="232"/>
                </a:lnTo>
                <a:lnTo>
                  <a:pt x="68" y="223"/>
                </a:lnTo>
                <a:lnTo>
                  <a:pt x="64" y="213"/>
                </a:lnTo>
                <a:lnTo>
                  <a:pt x="59" y="204"/>
                </a:lnTo>
                <a:lnTo>
                  <a:pt x="51" y="194"/>
                </a:lnTo>
                <a:lnTo>
                  <a:pt x="41" y="186"/>
                </a:lnTo>
                <a:lnTo>
                  <a:pt x="30" y="179"/>
                </a:lnTo>
                <a:lnTo>
                  <a:pt x="28" y="171"/>
                </a:lnTo>
                <a:lnTo>
                  <a:pt x="26" y="166"/>
                </a:lnTo>
                <a:lnTo>
                  <a:pt x="26" y="160"/>
                </a:lnTo>
                <a:lnTo>
                  <a:pt x="26" y="154"/>
                </a:lnTo>
                <a:lnTo>
                  <a:pt x="26" y="143"/>
                </a:lnTo>
                <a:lnTo>
                  <a:pt x="26" y="131"/>
                </a:lnTo>
                <a:lnTo>
                  <a:pt x="26" y="120"/>
                </a:lnTo>
                <a:lnTo>
                  <a:pt x="26" y="109"/>
                </a:lnTo>
                <a:lnTo>
                  <a:pt x="26" y="97"/>
                </a:lnTo>
                <a:lnTo>
                  <a:pt x="26" y="88"/>
                </a:lnTo>
                <a:lnTo>
                  <a:pt x="26" y="76"/>
                </a:lnTo>
                <a:lnTo>
                  <a:pt x="26" y="67"/>
                </a:lnTo>
                <a:lnTo>
                  <a:pt x="26" y="53"/>
                </a:lnTo>
                <a:lnTo>
                  <a:pt x="28" y="44"/>
                </a:lnTo>
                <a:lnTo>
                  <a:pt x="26" y="32"/>
                </a:lnTo>
                <a:lnTo>
                  <a:pt x="26" y="21"/>
                </a:lnTo>
                <a:lnTo>
                  <a:pt x="26" y="12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035760" y="4896000"/>
            <a:ext cx="226800" cy="137880"/>
          </a:xfrm>
          <a:custGeom>
            <a:avLst/>
            <a:gdLst/>
            <a:ahLst/>
            <a:rect l="l" t="t" r="r" b="b"/>
            <a:pathLst>
              <a:path w="285" h="173">
                <a:moveTo>
                  <a:pt x="266" y="0"/>
                </a:moveTo>
                <a:lnTo>
                  <a:pt x="274" y="2"/>
                </a:lnTo>
                <a:lnTo>
                  <a:pt x="280" y="8"/>
                </a:lnTo>
                <a:lnTo>
                  <a:pt x="280" y="12"/>
                </a:lnTo>
                <a:lnTo>
                  <a:pt x="284" y="17"/>
                </a:lnTo>
                <a:lnTo>
                  <a:pt x="284" y="23"/>
                </a:lnTo>
                <a:lnTo>
                  <a:pt x="285" y="31"/>
                </a:lnTo>
                <a:lnTo>
                  <a:pt x="284" y="34"/>
                </a:lnTo>
                <a:lnTo>
                  <a:pt x="284" y="42"/>
                </a:lnTo>
                <a:lnTo>
                  <a:pt x="284" y="50"/>
                </a:lnTo>
                <a:lnTo>
                  <a:pt x="282" y="57"/>
                </a:lnTo>
                <a:lnTo>
                  <a:pt x="280" y="63"/>
                </a:lnTo>
                <a:lnTo>
                  <a:pt x="278" y="72"/>
                </a:lnTo>
                <a:lnTo>
                  <a:pt x="274" y="80"/>
                </a:lnTo>
                <a:lnTo>
                  <a:pt x="272" y="90"/>
                </a:lnTo>
                <a:lnTo>
                  <a:pt x="268" y="97"/>
                </a:lnTo>
                <a:lnTo>
                  <a:pt x="265" y="105"/>
                </a:lnTo>
                <a:lnTo>
                  <a:pt x="261" y="112"/>
                </a:lnTo>
                <a:lnTo>
                  <a:pt x="257" y="120"/>
                </a:lnTo>
                <a:lnTo>
                  <a:pt x="251" y="126"/>
                </a:lnTo>
                <a:lnTo>
                  <a:pt x="247" y="133"/>
                </a:lnTo>
                <a:lnTo>
                  <a:pt x="242" y="141"/>
                </a:lnTo>
                <a:lnTo>
                  <a:pt x="238" y="148"/>
                </a:lnTo>
                <a:lnTo>
                  <a:pt x="228" y="158"/>
                </a:lnTo>
                <a:lnTo>
                  <a:pt x="219" y="166"/>
                </a:lnTo>
                <a:lnTo>
                  <a:pt x="207" y="171"/>
                </a:lnTo>
                <a:lnTo>
                  <a:pt x="198" y="173"/>
                </a:lnTo>
                <a:lnTo>
                  <a:pt x="198" y="167"/>
                </a:lnTo>
                <a:lnTo>
                  <a:pt x="198" y="166"/>
                </a:lnTo>
                <a:lnTo>
                  <a:pt x="204" y="156"/>
                </a:lnTo>
                <a:lnTo>
                  <a:pt x="207" y="150"/>
                </a:lnTo>
                <a:lnTo>
                  <a:pt x="204" y="143"/>
                </a:lnTo>
                <a:lnTo>
                  <a:pt x="198" y="139"/>
                </a:lnTo>
                <a:lnTo>
                  <a:pt x="192" y="135"/>
                </a:lnTo>
                <a:lnTo>
                  <a:pt x="187" y="131"/>
                </a:lnTo>
                <a:lnTo>
                  <a:pt x="179" y="129"/>
                </a:lnTo>
                <a:lnTo>
                  <a:pt x="173" y="129"/>
                </a:lnTo>
                <a:lnTo>
                  <a:pt x="166" y="126"/>
                </a:lnTo>
                <a:lnTo>
                  <a:pt x="158" y="124"/>
                </a:lnTo>
                <a:lnTo>
                  <a:pt x="149" y="122"/>
                </a:lnTo>
                <a:lnTo>
                  <a:pt x="141" y="122"/>
                </a:lnTo>
                <a:lnTo>
                  <a:pt x="130" y="120"/>
                </a:lnTo>
                <a:lnTo>
                  <a:pt x="120" y="118"/>
                </a:lnTo>
                <a:lnTo>
                  <a:pt x="111" y="116"/>
                </a:lnTo>
                <a:lnTo>
                  <a:pt x="101" y="116"/>
                </a:lnTo>
                <a:lnTo>
                  <a:pt x="92" y="116"/>
                </a:lnTo>
                <a:lnTo>
                  <a:pt x="82" y="114"/>
                </a:lnTo>
                <a:lnTo>
                  <a:pt x="72" y="114"/>
                </a:lnTo>
                <a:lnTo>
                  <a:pt x="63" y="114"/>
                </a:lnTo>
                <a:lnTo>
                  <a:pt x="53" y="114"/>
                </a:lnTo>
                <a:lnTo>
                  <a:pt x="44" y="114"/>
                </a:lnTo>
                <a:lnTo>
                  <a:pt x="34" y="114"/>
                </a:lnTo>
                <a:lnTo>
                  <a:pt x="27" y="114"/>
                </a:lnTo>
                <a:lnTo>
                  <a:pt x="19" y="114"/>
                </a:lnTo>
                <a:lnTo>
                  <a:pt x="12" y="114"/>
                </a:lnTo>
                <a:lnTo>
                  <a:pt x="6" y="114"/>
                </a:lnTo>
                <a:lnTo>
                  <a:pt x="0" y="116"/>
                </a:lnTo>
                <a:lnTo>
                  <a:pt x="6" y="109"/>
                </a:lnTo>
                <a:lnTo>
                  <a:pt x="12" y="105"/>
                </a:lnTo>
                <a:lnTo>
                  <a:pt x="17" y="101"/>
                </a:lnTo>
                <a:lnTo>
                  <a:pt x="25" y="97"/>
                </a:lnTo>
                <a:lnTo>
                  <a:pt x="31" y="95"/>
                </a:lnTo>
                <a:lnTo>
                  <a:pt x="38" y="93"/>
                </a:lnTo>
                <a:lnTo>
                  <a:pt x="46" y="91"/>
                </a:lnTo>
                <a:lnTo>
                  <a:pt x="53" y="91"/>
                </a:lnTo>
                <a:lnTo>
                  <a:pt x="59" y="90"/>
                </a:lnTo>
                <a:lnTo>
                  <a:pt x="69" y="90"/>
                </a:lnTo>
                <a:lnTo>
                  <a:pt x="76" y="91"/>
                </a:lnTo>
                <a:lnTo>
                  <a:pt x="84" y="93"/>
                </a:lnTo>
                <a:lnTo>
                  <a:pt x="93" y="93"/>
                </a:lnTo>
                <a:lnTo>
                  <a:pt x="101" y="93"/>
                </a:lnTo>
                <a:lnTo>
                  <a:pt x="111" y="95"/>
                </a:lnTo>
                <a:lnTo>
                  <a:pt x="120" y="97"/>
                </a:lnTo>
                <a:lnTo>
                  <a:pt x="128" y="97"/>
                </a:lnTo>
                <a:lnTo>
                  <a:pt x="135" y="99"/>
                </a:lnTo>
                <a:lnTo>
                  <a:pt x="145" y="99"/>
                </a:lnTo>
                <a:lnTo>
                  <a:pt x="152" y="101"/>
                </a:lnTo>
                <a:lnTo>
                  <a:pt x="160" y="101"/>
                </a:lnTo>
                <a:lnTo>
                  <a:pt x="169" y="101"/>
                </a:lnTo>
                <a:lnTo>
                  <a:pt x="177" y="101"/>
                </a:lnTo>
                <a:lnTo>
                  <a:pt x="187" y="103"/>
                </a:lnTo>
                <a:lnTo>
                  <a:pt x="194" y="101"/>
                </a:lnTo>
                <a:lnTo>
                  <a:pt x="202" y="101"/>
                </a:lnTo>
                <a:lnTo>
                  <a:pt x="209" y="99"/>
                </a:lnTo>
                <a:lnTo>
                  <a:pt x="217" y="97"/>
                </a:lnTo>
                <a:lnTo>
                  <a:pt x="225" y="95"/>
                </a:lnTo>
                <a:lnTo>
                  <a:pt x="232" y="93"/>
                </a:lnTo>
                <a:lnTo>
                  <a:pt x="240" y="90"/>
                </a:lnTo>
                <a:lnTo>
                  <a:pt x="247" y="86"/>
                </a:lnTo>
                <a:lnTo>
                  <a:pt x="236" y="82"/>
                </a:lnTo>
                <a:lnTo>
                  <a:pt x="225" y="80"/>
                </a:lnTo>
                <a:lnTo>
                  <a:pt x="215" y="80"/>
                </a:lnTo>
                <a:lnTo>
                  <a:pt x="204" y="80"/>
                </a:lnTo>
                <a:lnTo>
                  <a:pt x="198" y="80"/>
                </a:lnTo>
                <a:lnTo>
                  <a:pt x="192" y="80"/>
                </a:lnTo>
                <a:lnTo>
                  <a:pt x="187" y="80"/>
                </a:lnTo>
                <a:lnTo>
                  <a:pt x="181" y="80"/>
                </a:lnTo>
                <a:lnTo>
                  <a:pt x="169" y="80"/>
                </a:lnTo>
                <a:lnTo>
                  <a:pt x="158" y="82"/>
                </a:lnTo>
                <a:lnTo>
                  <a:pt x="152" y="80"/>
                </a:lnTo>
                <a:lnTo>
                  <a:pt x="147" y="80"/>
                </a:lnTo>
                <a:lnTo>
                  <a:pt x="141" y="80"/>
                </a:lnTo>
                <a:lnTo>
                  <a:pt x="135" y="80"/>
                </a:lnTo>
                <a:lnTo>
                  <a:pt x="124" y="80"/>
                </a:lnTo>
                <a:lnTo>
                  <a:pt x="112" y="80"/>
                </a:lnTo>
                <a:lnTo>
                  <a:pt x="103" y="76"/>
                </a:lnTo>
                <a:lnTo>
                  <a:pt x="93" y="72"/>
                </a:lnTo>
                <a:lnTo>
                  <a:pt x="84" y="69"/>
                </a:lnTo>
                <a:lnTo>
                  <a:pt x="74" y="63"/>
                </a:lnTo>
                <a:lnTo>
                  <a:pt x="82" y="57"/>
                </a:lnTo>
                <a:lnTo>
                  <a:pt x="90" y="53"/>
                </a:lnTo>
                <a:lnTo>
                  <a:pt x="97" y="50"/>
                </a:lnTo>
                <a:lnTo>
                  <a:pt x="105" y="50"/>
                </a:lnTo>
                <a:lnTo>
                  <a:pt x="114" y="46"/>
                </a:lnTo>
                <a:lnTo>
                  <a:pt x="124" y="46"/>
                </a:lnTo>
                <a:lnTo>
                  <a:pt x="133" y="46"/>
                </a:lnTo>
                <a:lnTo>
                  <a:pt x="143" y="46"/>
                </a:lnTo>
                <a:lnTo>
                  <a:pt x="150" y="46"/>
                </a:lnTo>
                <a:lnTo>
                  <a:pt x="160" y="46"/>
                </a:lnTo>
                <a:lnTo>
                  <a:pt x="169" y="46"/>
                </a:lnTo>
                <a:lnTo>
                  <a:pt x="179" y="46"/>
                </a:lnTo>
                <a:lnTo>
                  <a:pt x="188" y="44"/>
                </a:lnTo>
                <a:lnTo>
                  <a:pt x="198" y="44"/>
                </a:lnTo>
                <a:lnTo>
                  <a:pt x="209" y="44"/>
                </a:lnTo>
                <a:lnTo>
                  <a:pt x="219" y="44"/>
                </a:lnTo>
                <a:lnTo>
                  <a:pt x="219" y="40"/>
                </a:lnTo>
                <a:lnTo>
                  <a:pt x="219" y="36"/>
                </a:lnTo>
                <a:lnTo>
                  <a:pt x="211" y="32"/>
                </a:lnTo>
                <a:lnTo>
                  <a:pt x="204" y="32"/>
                </a:lnTo>
                <a:lnTo>
                  <a:pt x="196" y="32"/>
                </a:lnTo>
                <a:lnTo>
                  <a:pt x="188" y="32"/>
                </a:lnTo>
                <a:lnTo>
                  <a:pt x="181" y="32"/>
                </a:lnTo>
                <a:lnTo>
                  <a:pt x="173" y="32"/>
                </a:lnTo>
                <a:lnTo>
                  <a:pt x="168" y="31"/>
                </a:lnTo>
                <a:lnTo>
                  <a:pt x="160" y="31"/>
                </a:lnTo>
                <a:lnTo>
                  <a:pt x="160" y="27"/>
                </a:lnTo>
                <a:lnTo>
                  <a:pt x="160" y="25"/>
                </a:lnTo>
                <a:lnTo>
                  <a:pt x="166" y="21"/>
                </a:lnTo>
                <a:lnTo>
                  <a:pt x="173" y="17"/>
                </a:lnTo>
                <a:lnTo>
                  <a:pt x="179" y="13"/>
                </a:lnTo>
                <a:lnTo>
                  <a:pt x="185" y="13"/>
                </a:lnTo>
                <a:lnTo>
                  <a:pt x="192" y="12"/>
                </a:lnTo>
                <a:lnTo>
                  <a:pt x="198" y="12"/>
                </a:lnTo>
                <a:lnTo>
                  <a:pt x="206" y="12"/>
                </a:lnTo>
                <a:lnTo>
                  <a:pt x="213" y="12"/>
                </a:lnTo>
                <a:lnTo>
                  <a:pt x="219" y="12"/>
                </a:lnTo>
                <a:lnTo>
                  <a:pt x="225" y="12"/>
                </a:lnTo>
                <a:lnTo>
                  <a:pt x="232" y="10"/>
                </a:lnTo>
                <a:lnTo>
                  <a:pt x="240" y="10"/>
                </a:lnTo>
                <a:lnTo>
                  <a:pt x="245" y="8"/>
                </a:lnTo>
                <a:lnTo>
                  <a:pt x="251" y="6"/>
                </a:lnTo>
                <a:lnTo>
                  <a:pt x="259" y="4"/>
                </a:lnTo>
                <a:lnTo>
                  <a:pt x="266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811280" y="4869000"/>
            <a:ext cx="219240" cy="342720"/>
          </a:xfrm>
          <a:custGeom>
            <a:avLst/>
            <a:gdLst/>
            <a:ahLst/>
            <a:rect l="l" t="t" r="r" b="b"/>
            <a:pathLst>
              <a:path w="276" h="431">
                <a:moveTo>
                  <a:pt x="232" y="0"/>
                </a:moveTo>
                <a:lnTo>
                  <a:pt x="238" y="0"/>
                </a:lnTo>
                <a:lnTo>
                  <a:pt x="242" y="1"/>
                </a:lnTo>
                <a:lnTo>
                  <a:pt x="247" y="3"/>
                </a:lnTo>
                <a:lnTo>
                  <a:pt x="251" y="5"/>
                </a:lnTo>
                <a:lnTo>
                  <a:pt x="259" y="11"/>
                </a:lnTo>
                <a:lnTo>
                  <a:pt x="266" y="17"/>
                </a:lnTo>
                <a:lnTo>
                  <a:pt x="270" y="22"/>
                </a:lnTo>
                <a:lnTo>
                  <a:pt x="272" y="28"/>
                </a:lnTo>
                <a:lnTo>
                  <a:pt x="274" y="34"/>
                </a:lnTo>
                <a:lnTo>
                  <a:pt x="276" y="41"/>
                </a:lnTo>
                <a:lnTo>
                  <a:pt x="276" y="49"/>
                </a:lnTo>
                <a:lnTo>
                  <a:pt x="274" y="57"/>
                </a:lnTo>
                <a:lnTo>
                  <a:pt x="272" y="64"/>
                </a:lnTo>
                <a:lnTo>
                  <a:pt x="272" y="74"/>
                </a:lnTo>
                <a:lnTo>
                  <a:pt x="270" y="81"/>
                </a:lnTo>
                <a:lnTo>
                  <a:pt x="270" y="91"/>
                </a:lnTo>
                <a:lnTo>
                  <a:pt x="270" y="100"/>
                </a:lnTo>
                <a:lnTo>
                  <a:pt x="272" y="110"/>
                </a:lnTo>
                <a:lnTo>
                  <a:pt x="274" y="117"/>
                </a:lnTo>
                <a:lnTo>
                  <a:pt x="276" y="127"/>
                </a:lnTo>
                <a:lnTo>
                  <a:pt x="276" y="135"/>
                </a:lnTo>
                <a:lnTo>
                  <a:pt x="276" y="144"/>
                </a:lnTo>
                <a:lnTo>
                  <a:pt x="272" y="152"/>
                </a:lnTo>
                <a:lnTo>
                  <a:pt x="272" y="161"/>
                </a:lnTo>
                <a:lnTo>
                  <a:pt x="268" y="171"/>
                </a:lnTo>
                <a:lnTo>
                  <a:pt x="266" y="182"/>
                </a:lnTo>
                <a:lnTo>
                  <a:pt x="261" y="192"/>
                </a:lnTo>
                <a:lnTo>
                  <a:pt x="257" y="201"/>
                </a:lnTo>
                <a:lnTo>
                  <a:pt x="249" y="211"/>
                </a:lnTo>
                <a:lnTo>
                  <a:pt x="244" y="220"/>
                </a:lnTo>
                <a:lnTo>
                  <a:pt x="238" y="230"/>
                </a:lnTo>
                <a:lnTo>
                  <a:pt x="230" y="239"/>
                </a:lnTo>
                <a:lnTo>
                  <a:pt x="223" y="249"/>
                </a:lnTo>
                <a:lnTo>
                  <a:pt x="217" y="258"/>
                </a:lnTo>
                <a:lnTo>
                  <a:pt x="207" y="268"/>
                </a:lnTo>
                <a:lnTo>
                  <a:pt x="200" y="277"/>
                </a:lnTo>
                <a:lnTo>
                  <a:pt x="192" y="287"/>
                </a:lnTo>
                <a:lnTo>
                  <a:pt x="183" y="296"/>
                </a:lnTo>
                <a:lnTo>
                  <a:pt x="173" y="306"/>
                </a:lnTo>
                <a:lnTo>
                  <a:pt x="166" y="315"/>
                </a:lnTo>
                <a:lnTo>
                  <a:pt x="156" y="325"/>
                </a:lnTo>
                <a:lnTo>
                  <a:pt x="148" y="334"/>
                </a:lnTo>
                <a:lnTo>
                  <a:pt x="139" y="344"/>
                </a:lnTo>
                <a:lnTo>
                  <a:pt x="131" y="353"/>
                </a:lnTo>
                <a:lnTo>
                  <a:pt x="122" y="363"/>
                </a:lnTo>
                <a:lnTo>
                  <a:pt x="114" y="372"/>
                </a:lnTo>
                <a:lnTo>
                  <a:pt x="109" y="382"/>
                </a:lnTo>
                <a:lnTo>
                  <a:pt x="101" y="391"/>
                </a:lnTo>
                <a:lnTo>
                  <a:pt x="93" y="401"/>
                </a:lnTo>
                <a:lnTo>
                  <a:pt x="88" y="410"/>
                </a:lnTo>
                <a:lnTo>
                  <a:pt x="80" y="418"/>
                </a:lnTo>
                <a:lnTo>
                  <a:pt x="72" y="425"/>
                </a:lnTo>
                <a:lnTo>
                  <a:pt x="63" y="429"/>
                </a:lnTo>
                <a:lnTo>
                  <a:pt x="53" y="431"/>
                </a:lnTo>
                <a:lnTo>
                  <a:pt x="55" y="425"/>
                </a:lnTo>
                <a:lnTo>
                  <a:pt x="57" y="422"/>
                </a:lnTo>
                <a:lnTo>
                  <a:pt x="57" y="416"/>
                </a:lnTo>
                <a:lnTo>
                  <a:pt x="57" y="414"/>
                </a:lnTo>
                <a:lnTo>
                  <a:pt x="55" y="408"/>
                </a:lnTo>
                <a:lnTo>
                  <a:pt x="50" y="406"/>
                </a:lnTo>
                <a:lnTo>
                  <a:pt x="44" y="406"/>
                </a:lnTo>
                <a:lnTo>
                  <a:pt x="36" y="406"/>
                </a:lnTo>
                <a:lnTo>
                  <a:pt x="27" y="406"/>
                </a:lnTo>
                <a:lnTo>
                  <a:pt x="19" y="408"/>
                </a:lnTo>
                <a:lnTo>
                  <a:pt x="10" y="408"/>
                </a:lnTo>
                <a:lnTo>
                  <a:pt x="4" y="408"/>
                </a:lnTo>
                <a:lnTo>
                  <a:pt x="0" y="406"/>
                </a:lnTo>
                <a:lnTo>
                  <a:pt x="0" y="405"/>
                </a:lnTo>
                <a:lnTo>
                  <a:pt x="0" y="399"/>
                </a:lnTo>
                <a:lnTo>
                  <a:pt x="8" y="391"/>
                </a:lnTo>
                <a:lnTo>
                  <a:pt x="12" y="385"/>
                </a:lnTo>
                <a:lnTo>
                  <a:pt x="19" y="380"/>
                </a:lnTo>
                <a:lnTo>
                  <a:pt x="27" y="372"/>
                </a:lnTo>
                <a:lnTo>
                  <a:pt x="38" y="366"/>
                </a:lnTo>
                <a:lnTo>
                  <a:pt x="44" y="361"/>
                </a:lnTo>
                <a:lnTo>
                  <a:pt x="50" y="357"/>
                </a:lnTo>
                <a:lnTo>
                  <a:pt x="55" y="353"/>
                </a:lnTo>
                <a:lnTo>
                  <a:pt x="63" y="349"/>
                </a:lnTo>
                <a:lnTo>
                  <a:pt x="72" y="342"/>
                </a:lnTo>
                <a:lnTo>
                  <a:pt x="84" y="332"/>
                </a:lnTo>
                <a:lnTo>
                  <a:pt x="93" y="323"/>
                </a:lnTo>
                <a:lnTo>
                  <a:pt x="103" y="313"/>
                </a:lnTo>
                <a:lnTo>
                  <a:pt x="110" y="304"/>
                </a:lnTo>
                <a:lnTo>
                  <a:pt x="120" y="294"/>
                </a:lnTo>
                <a:lnTo>
                  <a:pt x="122" y="287"/>
                </a:lnTo>
                <a:lnTo>
                  <a:pt x="126" y="283"/>
                </a:lnTo>
                <a:lnTo>
                  <a:pt x="129" y="275"/>
                </a:lnTo>
                <a:lnTo>
                  <a:pt x="131" y="270"/>
                </a:lnTo>
                <a:lnTo>
                  <a:pt x="139" y="258"/>
                </a:lnTo>
                <a:lnTo>
                  <a:pt x="145" y="249"/>
                </a:lnTo>
                <a:lnTo>
                  <a:pt x="147" y="241"/>
                </a:lnTo>
                <a:lnTo>
                  <a:pt x="148" y="235"/>
                </a:lnTo>
                <a:lnTo>
                  <a:pt x="150" y="230"/>
                </a:lnTo>
                <a:lnTo>
                  <a:pt x="154" y="224"/>
                </a:lnTo>
                <a:lnTo>
                  <a:pt x="156" y="216"/>
                </a:lnTo>
                <a:lnTo>
                  <a:pt x="160" y="211"/>
                </a:lnTo>
                <a:lnTo>
                  <a:pt x="162" y="205"/>
                </a:lnTo>
                <a:lnTo>
                  <a:pt x="166" y="199"/>
                </a:lnTo>
                <a:lnTo>
                  <a:pt x="166" y="192"/>
                </a:lnTo>
                <a:lnTo>
                  <a:pt x="167" y="186"/>
                </a:lnTo>
                <a:lnTo>
                  <a:pt x="169" y="178"/>
                </a:lnTo>
                <a:lnTo>
                  <a:pt x="173" y="173"/>
                </a:lnTo>
                <a:lnTo>
                  <a:pt x="173" y="167"/>
                </a:lnTo>
                <a:lnTo>
                  <a:pt x="175" y="159"/>
                </a:lnTo>
                <a:lnTo>
                  <a:pt x="177" y="154"/>
                </a:lnTo>
                <a:lnTo>
                  <a:pt x="179" y="148"/>
                </a:lnTo>
                <a:lnTo>
                  <a:pt x="181" y="140"/>
                </a:lnTo>
                <a:lnTo>
                  <a:pt x="183" y="133"/>
                </a:lnTo>
                <a:lnTo>
                  <a:pt x="185" y="127"/>
                </a:lnTo>
                <a:lnTo>
                  <a:pt x="186" y="121"/>
                </a:lnTo>
                <a:lnTo>
                  <a:pt x="186" y="114"/>
                </a:lnTo>
                <a:lnTo>
                  <a:pt x="190" y="108"/>
                </a:lnTo>
                <a:lnTo>
                  <a:pt x="192" y="102"/>
                </a:lnTo>
                <a:lnTo>
                  <a:pt x="194" y="95"/>
                </a:lnTo>
                <a:lnTo>
                  <a:pt x="196" y="87"/>
                </a:lnTo>
                <a:lnTo>
                  <a:pt x="198" y="81"/>
                </a:lnTo>
                <a:lnTo>
                  <a:pt x="198" y="76"/>
                </a:lnTo>
                <a:lnTo>
                  <a:pt x="202" y="68"/>
                </a:lnTo>
                <a:lnTo>
                  <a:pt x="204" y="62"/>
                </a:lnTo>
                <a:lnTo>
                  <a:pt x="205" y="57"/>
                </a:lnTo>
                <a:lnTo>
                  <a:pt x="207" y="49"/>
                </a:lnTo>
                <a:lnTo>
                  <a:pt x="211" y="45"/>
                </a:lnTo>
                <a:lnTo>
                  <a:pt x="213" y="38"/>
                </a:lnTo>
                <a:lnTo>
                  <a:pt x="215" y="32"/>
                </a:lnTo>
                <a:lnTo>
                  <a:pt x="217" y="24"/>
                </a:lnTo>
                <a:lnTo>
                  <a:pt x="221" y="20"/>
                </a:lnTo>
                <a:lnTo>
                  <a:pt x="224" y="9"/>
                </a:lnTo>
                <a:lnTo>
                  <a:pt x="232" y="0"/>
                </a:lnTo>
                <a:lnTo>
                  <a:pt x="2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303240" y="4913280"/>
            <a:ext cx="198360" cy="50760"/>
          </a:xfrm>
          <a:custGeom>
            <a:avLst/>
            <a:gdLst/>
            <a:ahLst/>
            <a:rect l="l" t="t" r="r" b="b"/>
            <a:pathLst>
              <a:path w="251" h="63">
                <a:moveTo>
                  <a:pt x="148" y="0"/>
                </a:moveTo>
                <a:lnTo>
                  <a:pt x="154" y="0"/>
                </a:lnTo>
                <a:lnTo>
                  <a:pt x="162" y="0"/>
                </a:lnTo>
                <a:lnTo>
                  <a:pt x="167" y="0"/>
                </a:lnTo>
                <a:lnTo>
                  <a:pt x="173" y="0"/>
                </a:lnTo>
                <a:lnTo>
                  <a:pt x="181" y="0"/>
                </a:lnTo>
                <a:lnTo>
                  <a:pt x="186" y="0"/>
                </a:lnTo>
                <a:lnTo>
                  <a:pt x="192" y="0"/>
                </a:lnTo>
                <a:lnTo>
                  <a:pt x="200" y="0"/>
                </a:lnTo>
                <a:lnTo>
                  <a:pt x="205" y="0"/>
                </a:lnTo>
                <a:lnTo>
                  <a:pt x="211" y="0"/>
                </a:lnTo>
                <a:lnTo>
                  <a:pt x="219" y="0"/>
                </a:lnTo>
                <a:lnTo>
                  <a:pt x="224" y="0"/>
                </a:lnTo>
                <a:lnTo>
                  <a:pt x="230" y="0"/>
                </a:lnTo>
                <a:lnTo>
                  <a:pt x="238" y="0"/>
                </a:lnTo>
                <a:lnTo>
                  <a:pt x="243" y="0"/>
                </a:lnTo>
                <a:lnTo>
                  <a:pt x="251" y="0"/>
                </a:lnTo>
                <a:lnTo>
                  <a:pt x="251" y="2"/>
                </a:lnTo>
                <a:lnTo>
                  <a:pt x="251" y="6"/>
                </a:lnTo>
                <a:lnTo>
                  <a:pt x="241" y="4"/>
                </a:lnTo>
                <a:lnTo>
                  <a:pt x="234" y="4"/>
                </a:lnTo>
                <a:lnTo>
                  <a:pt x="222" y="4"/>
                </a:lnTo>
                <a:lnTo>
                  <a:pt x="213" y="8"/>
                </a:lnTo>
                <a:lnTo>
                  <a:pt x="207" y="8"/>
                </a:lnTo>
                <a:lnTo>
                  <a:pt x="201" y="9"/>
                </a:lnTo>
                <a:lnTo>
                  <a:pt x="194" y="9"/>
                </a:lnTo>
                <a:lnTo>
                  <a:pt x="190" y="11"/>
                </a:lnTo>
                <a:lnTo>
                  <a:pt x="182" y="13"/>
                </a:lnTo>
                <a:lnTo>
                  <a:pt x="179" y="15"/>
                </a:lnTo>
                <a:lnTo>
                  <a:pt x="171" y="17"/>
                </a:lnTo>
                <a:lnTo>
                  <a:pt x="165" y="19"/>
                </a:lnTo>
                <a:lnTo>
                  <a:pt x="160" y="21"/>
                </a:lnTo>
                <a:lnTo>
                  <a:pt x="154" y="23"/>
                </a:lnTo>
                <a:lnTo>
                  <a:pt x="146" y="23"/>
                </a:lnTo>
                <a:lnTo>
                  <a:pt x="141" y="27"/>
                </a:lnTo>
                <a:lnTo>
                  <a:pt x="135" y="28"/>
                </a:lnTo>
                <a:lnTo>
                  <a:pt x="127" y="30"/>
                </a:lnTo>
                <a:lnTo>
                  <a:pt x="122" y="32"/>
                </a:lnTo>
                <a:lnTo>
                  <a:pt x="116" y="36"/>
                </a:lnTo>
                <a:lnTo>
                  <a:pt x="108" y="36"/>
                </a:lnTo>
                <a:lnTo>
                  <a:pt x="103" y="38"/>
                </a:lnTo>
                <a:lnTo>
                  <a:pt x="97" y="40"/>
                </a:lnTo>
                <a:lnTo>
                  <a:pt x="91" y="44"/>
                </a:lnTo>
                <a:lnTo>
                  <a:pt x="80" y="48"/>
                </a:lnTo>
                <a:lnTo>
                  <a:pt x="68" y="51"/>
                </a:lnTo>
                <a:lnTo>
                  <a:pt x="57" y="53"/>
                </a:lnTo>
                <a:lnTo>
                  <a:pt x="47" y="57"/>
                </a:lnTo>
                <a:lnTo>
                  <a:pt x="36" y="59"/>
                </a:lnTo>
                <a:lnTo>
                  <a:pt x="30" y="61"/>
                </a:lnTo>
                <a:lnTo>
                  <a:pt x="21" y="61"/>
                </a:lnTo>
                <a:lnTo>
                  <a:pt x="15" y="63"/>
                </a:lnTo>
                <a:lnTo>
                  <a:pt x="8" y="61"/>
                </a:lnTo>
                <a:lnTo>
                  <a:pt x="6" y="61"/>
                </a:lnTo>
                <a:lnTo>
                  <a:pt x="0" y="57"/>
                </a:lnTo>
                <a:lnTo>
                  <a:pt x="0" y="55"/>
                </a:lnTo>
                <a:lnTo>
                  <a:pt x="0" y="49"/>
                </a:lnTo>
                <a:lnTo>
                  <a:pt x="2" y="46"/>
                </a:lnTo>
                <a:lnTo>
                  <a:pt x="4" y="38"/>
                </a:lnTo>
                <a:lnTo>
                  <a:pt x="9" y="30"/>
                </a:lnTo>
                <a:lnTo>
                  <a:pt x="15" y="21"/>
                </a:lnTo>
                <a:lnTo>
                  <a:pt x="25" y="11"/>
                </a:lnTo>
                <a:lnTo>
                  <a:pt x="32" y="9"/>
                </a:lnTo>
                <a:lnTo>
                  <a:pt x="40" y="9"/>
                </a:lnTo>
                <a:lnTo>
                  <a:pt x="46" y="9"/>
                </a:lnTo>
                <a:lnTo>
                  <a:pt x="55" y="9"/>
                </a:lnTo>
                <a:lnTo>
                  <a:pt x="63" y="9"/>
                </a:lnTo>
                <a:lnTo>
                  <a:pt x="70" y="11"/>
                </a:lnTo>
                <a:lnTo>
                  <a:pt x="80" y="11"/>
                </a:lnTo>
                <a:lnTo>
                  <a:pt x="87" y="11"/>
                </a:lnTo>
                <a:lnTo>
                  <a:pt x="95" y="11"/>
                </a:lnTo>
                <a:lnTo>
                  <a:pt x="105" y="11"/>
                </a:lnTo>
                <a:lnTo>
                  <a:pt x="110" y="9"/>
                </a:lnTo>
                <a:lnTo>
                  <a:pt x="120" y="9"/>
                </a:lnTo>
                <a:lnTo>
                  <a:pt x="127" y="8"/>
                </a:lnTo>
                <a:lnTo>
                  <a:pt x="135" y="6"/>
                </a:lnTo>
                <a:lnTo>
                  <a:pt x="141" y="2"/>
                </a:lnTo>
                <a:lnTo>
                  <a:pt x="148" y="0"/>
                </a:lnTo>
                <a:lnTo>
                  <a:pt x="1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326280" y="5156280"/>
            <a:ext cx="31680" cy="22320"/>
          </a:xfrm>
          <a:custGeom>
            <a:avLst/>
            <a:gdLst/>
            <a:ahLst/>
            <a:rect l="l" t="t" r="r" b="b"/>
            <a:pathLst>
              <a:path w="40" h="29">
                <a:moveTo>
                  <a:pt x="40" y="0"/>
                </a:moveTo>
                <a:lnTo>
                  <a:pt x="40" y="4"/>
                </a:lnTo>
                <a:lnTo>
                  <a:pt x="40" y="8"/>
                </a:lnTo>
                <a:lnTo>
                  <a:pt x="35" y="12"/>
                </a:lnTo>
                <a:lnTo>
                  <a:pt x="29" y="15"/>
                </a:lnTo>
                <a:lnTo>
                  <a:pt x="21" y="19"/>
                </a:lnTo>
                <a:lnTo>
                  <a:pt x="16" y="23"/>
                </a:lnTo>
                <a:lnTo>
                  <a:pt x="8" y="25"/>
                </a:lnTo>
                <a:lnTo>
                  <a:pt x="2" y="29"/>
                </a:lnTo>
                <a:lnTo>
                  <a:pt x="0" y="27"/>
                </a:lnTo>
                <a:lnTo>
                  <a:pt x="2" y="19"/>
                </a:lnTo>
                <a:lnTo>
                  <a:pt x="6" y="15"/>
                </a:lnTo>
                <a:lnTo>
                  <a:pt x="10" y="12"/>
                </a:lnTo>
                <a:lnTo>
                  <a:pt x="18" y="10"/>
                </a:lnTo>
                <a:lnTo>
                  <a:pt x="21" y="8"/>
                </a:lnTo>
                <a:lnTo>
                  <a:pt x="29" y="8"/>
                </a:lnTo>
                <a:lnTo>
                  <a:pt x="35" y="4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21680" y="5219640"/>
            <a:ext cx="55440" cy="20520"/>
          </a:xfrm>
          <a:custGeom>
            <a:avLst/>
            <a:gdLst/>
            <a:ahLst/>
            <a:rect l="l" t="t" r="r" b="b"/>
            <a:pathLst>
              <a:path w="71" h="25">
                <a:moveTo>
                  <a:pt x="54" y="0"/>
                </a:moveTo>
                <a:lnTo>
                  <a:pt x="59" y="0"/>
                </a:lnTo>
                <a:lnTo>
                  <a:pt x="63" y="0"/>
                </a:lnTo>
                <a:lnTo>
                  <a:pt x="69" y="0"/>
                </a:lnTo>
                <a:lnTo>
                  <a:pt x="71" y="0"/>
                </a:lnTo>
                <a:lnTo>
                  <a:pt x="63" y="8"/>
                </a:lnTo>
                <a:lnTo>
                  <a:pt x="57" y="15"/>
                </a:lnTo>
                <a:lnTo>
                  <a:pt x="50" y="19"/>
                </a:lnTo>
                <a:lnTo>
                  <a:pt x="40" y="25"/>
                </a:lnTo>
                <a:lnTo>
                  <a:pt x="29" y="25"/>
                </a:lnTo>
                <a:lnTo>
                  <a:pt x="19" y="25"/>
                </a:lnTo>
                <a:lnTo>
                  <a:pt x="10" y="23"/>
                </a:lnTo>
                <a:lnTo>
                  <a:pt x="0" y="21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14" y="9"/>
                </a:lnTo>
                <a:lnTo>
                  <a:pt x="19" y="9"/>
                </a:lnTo>
                <a:lnTo>
                  <a:pt x="29" y="9"/>
                </a:lnTo>
                <a:lnTo>
                  <a:pt x="35" y="8"/>
                </a:lnTo>
                <a:lnTo>
                  <a:pt x="42" y="6"/>
                </a:lnTo>
                <a:lnTo>
                  <a:pt x="48" y="2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104880" y="5219640"/>
            <a:ext cx="841320" cy="217440"/>
          </a:xfrm>
          <a:custGeom>
            <a:avLst/>
            <a:gdLst/>
            <a:ahLst/>
            <a:rect l="l" t="t" r="r" b="b"/>
            <a:pathLst>
              <a:path w="1061" h="274">
                <a:moveTo>
                  <a:pt x="783" y="0"/>
                </a:moveTo>
                <a:lnTo>
                  <a:pt x="787" y="8"/>
                </a:lnTo>
                <a:lnTo>
                  <a:pt x="787" y="15"/>
                </a:lnTo>
                <a:lnTo>
                  <a:pt x="783" y="21"/>
                </a:lnTo>
                <a:lnTo>
                  <a:pt x="780" y="27"/>
                </a:lnTo>
                <a:lnTo>
                  <a:pt x="774" y="30"/>
                </a:lnTo>
                <a:lnTo>
                  <a:pt x="768" y="36"/>
                </a:lnTo>
                <a:lnTo>
                  <a:pt x="759" y="42"/>
                </a:lnTo>
                <a:lnTo>
                  <a:pt x="751" y="47"/>
                </a:lnTo>
                <a:lnTo>
                  <a:pt x="742" y="51"/>
                </a:lnTo>
                <a:lnTo>
                  <a:pt x="734" y="57"/>
                </a:lnTo>
                <a:lnTo>
                  <a:pt x="726" y="63"/>
                </a:lnTo>
                <a:lnTo>
                  <a:pt x="719" y="70"/>
                </a:lnTo>
                <a:lnTo>
                  <a:pt x="713" y="76"/>
                </a:lnTo>
                <a:lnTo>
                  <a:pt x="709" y="84"/>
                </a:lnTo>
                <a:lnTo>
                  <a:pt x="707" y="91"/>
                </a:lnTo>
                <a:lnTo>
                  <a:pt x="709" y="103"/>
                </a:lnTo>
                <a:lnTo>
                  <a:pt x="719" y="99"/>
                </a:lnTo>
                <a:lnTo>
                  <a:pt x="732" y="97"/>
                </a:lnTo>
                <a:lnTo>
                  <a:pt x="742" y="93"/>
                </a:lnTo>
                <a:lnTo>
                  <a:pt x="753" y="91"/>
                </a:lnTo>
                <a:lnTo>
                  <a:pt x="764" y="87"/>
                </a:lnTo>
                <a:lnTo>
                  <a:pt x="776" y="84"/>
                </a:lnTo>
                <a:lnTo>
                  <a:pt x="787" y="82"/>
                </a:lnTo>
                <a:lnTo>
                  <a:pt x="799" y="78"/>
                </a:lnTo>
                <a:lnTo>
                  <a:pt x="808" y="74"/>
                </a:lnTo>
                <a:lnTo>
                  <a:pt x="820" y="70"/>
                </a:lnTo>
                <a:lnTo>
                  <a:pt x="831" y="66"/>
                </a:lnTo>
                <a:lnTo>
                  <a:pt x="842" y="65"/>
                </a:lnTo>
                <a:lnTo>
                  <a:pt x="854" y="61"/>
                </a:lnTo>
                <a:lnTo>
                  <a:pt x="865" y="57"/>
                </a:lnTo>
                <a:lnTo>
                  <a:pt x="871" y="55"/>
                </a:lnTo>
                <a:lnTo>
                  <a:pt x="877" y="55"/>
                </a:lnTo>
                <a:lnTo>
                  <a:pt x="882" y="53"/>
                </a:lnTo>
                <a:lnTo>
                  <a:pt x="888" y="53"/>
                </a:lnTo>
                <a:lnTo>
                  <a:pt x="899" y="49"/>
                </a:lnTo>
                <a:lnTo>
                  <a:pt x="909" y="47"/>
                </a:lnTo>
                <a:lnTo>
                  <a:pt x="920" y="46"/>
                </a:lnTo>
                <a:lnTo>
                  <a:pt x="932" y="46"/>
                </a:lnTo>
                <a:lnTo>
                  <a:pt x="943" y="44"/>
                </a:lnTo>
                <a:lnTo>
                  <a:pt x="955" y="42"/>
                </a:lnTo>
                <a:lnTo>
                  <a:pt x="964" y="42"/>
                </a:lnTo>
                <a:lnTo>
                  <a:pt x="975" y="44"/>
                </a:lnTo>
                <a:lnTo>
                  <a:pt x="987" y="44"/>
                </a:lnTo>
                <a:lnTo>
                  <a:pt x="998" y="44"/>
                </a:lnTo>
                <a:lnTo>
                  <a:pt x="1008" y="46"/>
                </a:lnTo>
                <a:lnTo>
                  <a:pt x="1019" y="47"/>
                </a:lnTo>
                <a:lnTo>
                  <a:pt x="1029" y="49"/>
                </a:lnTo>
                <a:lnTo>
                  <a:pt x="1040" y="53"/>
                </a:lnTo>
                <a:lnTo>
                  <a:pt x="1050" y="57"/>
                </a:lnTo>
                <a:lnTo>
                  <a:pt x="1061" y="63"/>
                </a:lnTo>
                <a:lnTo>
                  <a:pt x="1051" y="65"/>
                </a:lnTo>
                <a:lnTo>
                  <a:pt x="1046" y="66"/>
                </a:lnTo>
                <a:lnTo>
                  <a:pt x="1036" y="66"/>
                </a:lnTo>
                <a:lnTo>
                  <a:pt x="1029" y="70"/>
                </a:lnTo>
                <a:lnTo>
                  <a:pt x="1021" y="72"/>
                </a:lnTo>
                <a:lnTo>
                  <a:pt x="1013" y="74"/>
                </a:lnTo>
                <a:lnTo>
                  <a:pt x="1006" y="76"/>
                </a:lnTo>
                <a:lnTo>
                  <a:pt x="1000" y="80"/>
                </a:lnTo>
                <a:lnTo>
                  <a:pt x="991" y="80"/>
                </a:lnTo>
                <a:lnTo>
                  <a:pt x="983" y="82"/>
                </a:lnTo>
                <a:lnTo>
                  <a:pt x="975" y="84"/>
                </a:lnTo>
                <a:lnTo>
                  <a:pt x="968" y="87"/>
                </a:lnTo>
                <a:lnTo>
                  <a:pt x="962" y="89"/>
                </a:lnTo>
                <a:lnTo>
                  <a:pt x="955" y="91"/>
                </a:lnTo>
                <a:lnTo>
                  <a:pt x="947" y="95"/>
                </a:lnTo>
                <a:lnTo>
                  <a:pt x="939" y="99"/>
                </a:lnTo>
                <a:lnTo>
                  <a:pt x="932" y="101"/>
                </a:lnTo>
                <a:lnTo>
                  <a:pt x="924" y="103"/>
                </a:lnTo>
                <a:lnTo>
                  <a:pt x="916" y="104"/>
                </a:lnTo>
                <a:lnTo>
                  <a:pt x="909" y="108"/>
                </a:lnTo>
                <a:lnTo>
                  <a:pt x="901" y="110"/>
                </a:lnTo>
                <a:lnTo>
                  <a:pt x="894" y="112"/>
                </a:lnTo>
                <a:lnTo>
                  <a:pt x="886" y="116"/>
                </a:lnTo>
                <a:lnTo>
                  <a:pt x="880" y="120"/>
                </a:lnTo>
                <a:lnTo>
                  <a:pt x="873" y="122"/>
                </a:lnTo>
                <a:lnTo>
                  <a:pt x="865" y="125"/>
                </a:lnTo>
                <a:lnTo>
                  <a:pt x="858" y="127"/>
                </a:lnTo>
                <a:lnTo>
                  <a:pt x="852" y="131"/>
                </a:lnTo>
                <a:lnTo>
                  <a:pt x="844" y="135"/>
                </a:lnTo>
                <a:lnTo>
                  <a:pt x="837" y="137"/>
                </a:lnTo>
                <a:lnTo>
                  <a:pt x="829" y="141"/>
                </a:lnTo>
                <a:lnTo>
                  <a:pt x="823" y="144"/>
                </a:lnTo>
                <a:lnTo>
                  <a:pt x="814" y="146"/>
                </a:lnTo>
                <a:lnTo>
                  <a:pt x="806" y="148"/>
                </a:lnTo>
                <a:lnTo>
                  <a:pt x="799" y="152"/>
                </a:lnTo>
                <a:lnTo>
                  <a:pt x="793" y="156"/>
                </a:lnTo>
                <a:lnTo>
                  <a:pt x="785" y="158"/>
                </a:lnTo>
                <a:lnTo>
                  <a:pt x="778" y="161"/>
                </a:lnTo>
                <a:lnTo>
                  <a:pt x="770" y="163"/>
                </a:lnTo>
                <a:lnTo>
                  <a:pt x="764" y="167"/>
                </a:lnTo>
                <a:lnTo>
                  <a:pt x="757" y="171"/>
                </a:lnTo>
                <a:lnTo>
                  <a:pt x="749" y="173"/>
                </a:lnTo>
                <a:lnTo>
                  <a:pt x="742" y="177"/>
                </a:lnTo>
                <a:lnTo>
                  <a:pt x="736" y="181"/>
                </a:lnTo>
                <a:lnTo>
                  <a:pt x="728" y="182"/>
                </a:lnTo>
                <a:lnTo>
                  <a:pt x="721" y="186"/>
                </a:lnTo>
                <a:lnTo>
                  <a:pt x="713" y="190"/>
                </a:lnTo>
                <a:lnTo>
                  <a:pt x="707" y="192"/>
                </a:lnTo>
                <a:lnTo>
                  <a:pt x="698" y="196"/>
                </a:lnTo>
                <a:lnTo>
                  <a:pt x="690" y="200"/>
                </a:lnTo>
                <a:lnTo>
                  <a:pt x="685" y="201"/>
                </a:lnTo>
                <a:lnTo>
                  <a:pt x="677" y="205"/>
                </a:lnTo>
                <a:lnTo>
                  <a:pt x="669" y="209"/>
                </a:lnTo>
                <a:lnTo>
                  <a:pt x="662" y="211"/>
                </a:lnTo>
                <a:lnTo>
                  <a:pt x="654" y="215"/>
                </a:lnTo>
                <a:lnTo>
                  <a:pt x="648" y="219"/>
                </a:lnTo>
                <a:lnTo>
                  <a:pt x="641" y="220"/>
                </a:lnTo>
                <a:lnTo>
                  <a:pt x="633" y="224"/>
                </a:lnTo>
                <a:lnTo>
                  <a:pt x="626" y="228"/>
                </a:lnTo>
                <a:lnTo>
                  <a:pt x="620" y="230"/>
                </a:lnTo>
                <a:lnTo>
                  <a:pt x="612" y="234"/>
                </a:lnTo>
                <a:lnTo>
                  <a:pt x="605" y="238"/>
                </a:lnTo>
                <a:lnTo>
                  <a:pt x="597" y="239"/>
                </a:lnTo>
                <a:lnTo>
                  <a:pt x="591" y="243"/>
                </a:lnTo>
                <a:lnTo>
                  <a:pt x="597" y="238"/>
                </a:lnTo>
                <a:lnTo>
                  <a:pt x="605" y="232"/>
                </a:lnTo>
                <a:lnTo>
                  <a:pt x="610" y="226"/>
                </a:lnTo>
                <a:lnTo>
                  <a:pt x="618" y="222"/>
                </a:lnTo>
                <a:lnTo>
                  <a:pt x="624" y="217"/>
                </a:lnTo>
                <a:lnTo>
                  <a:pt x="631" y="211"/>
                </a:lnTo>
                <a:lnTo>
                  <a:pt x="639" y="207"/>
                </a:lnTo>
                <a:lnTo>
                  <a:pt x="647" y="201"/>
                </a:lnTo>
                <a:lnTo>
                  <a:pt x="652" y="198"/>
                </a:lnTo>
                <a:lnTo>
                  <a:pt x="660" y="192"/>
                </a:lnTo>
                <a:lnTo>
                  <a:pt x="667" y="188"/>
                </a:lnTo>
                <a:lnTo>
                  <a:pt x="677" y="182"/>
                </a:lnTo>
                <a:lnTo>
                  <a:pt x="685" y="177"/>
                </a:lnTo>
                <a:lnTo>
                  <a:pt x="692" y="173"/>
                </a:lnTo>
                <a:lnTo>
                  <a:pt x="700" y="167"/>
                </a:lnTo>
                <a:lnTo>
                  <a:pt x="707" y="165"/>
                </a:lnTo>
                <a:lnTo>
                  <a:pt x="715" y="160"/>
                </a:lnTo>
                <a:lnTo>
                  <a:pt x="723" y="156"/>
                </a:lnTo>
                <a:lnTo>
                  <a:pt x="730" y="152"/>
                </a:lnTo>
                <a:lnTo>
                  <a:pt x="740" y="148"/>
                </a:lnTo>
                <a:lnTo>
                  <a:pt x="745" y="144"/>
                </a:lnTo>
                <a:lnTo>
                  <a:pt x="755" y="139"/>
                </a:lnTo>
                <a:lnTo>
                  <a:pt x="762" y="137"/>
                </a:lnTo>
                <a:lnTo>
                  <a:pt x="772" y="133"/>
                </a:lnTo>
                <a:lnTo>
                  <a:pt x="780" y="129"/>
                </a:lnTo>
                <a:lnTo>
                  <a:pt x="787" y="127"/>
                </a:lnTo>
                <a:lnTo>
                  <a:pt x="797" y="123"/>
                </a:lnTo>
                <a:lnTo>
                  <a:pt x="804" y="122"/>
                </a:lnTo>
                <a:lnTo>
                  <a:pt x="812" y="118"/>
                </a:lnTo>
                <a:lnTo>
                  <a:pt x="821" y="118"/>
                </a:lnTo>
                <a:lnTo>
                  <a:pt x="829" y="116"/>
                </a:lnTo>
                <a:lnTo>
                  <a:pt x="839" y="116"/>
                </a:lnTo>
                <a:lnTo>
                  <a:pt x="833" y="112"/>
                </a:lnTo>
                <a:lnTo>
                  <a:pt x="825" y="112"/>
                </a:lnTo>
                <a:lnTo>
                  <a:pt x="820" y="112"/>
                </a:lnTo>
                <a:lnTo>
                  <a:pt x="816" y="112"/>
                </a:lnTo>
                <a:lnTo>
                  <a:pt x="808" y="112"/>
                </a:lnTo>
                <a:lnTo>
                  <a:pt x="802" y="112"/>
                </a:lnTo>
                <a:lnTo>
                  <a:pt x="797" y="112"/>
                </a:lnTo>
                <a:lnTo>
                  <a:pt x="791" y="112"/>
                </a:lnTo>
                <a:lnTo>
                  <a:pt x="785" y="112"/>
                </a:lnTo>
                <a:lnTo>
                  <a:pt x="780" y="112"/>
                </a:lnTo>
                <a:lnTo>
                  <a:pt x="774" y="112"/>
                </a:lnTo>
                <a:lnTo>
                  <a:pt x="768" y="114"/>
                </a:lnTo>
                <a:lnTo>
                  <a:pt x="757" y="116"/>
                </a:lnTo>
                <a:lnTo>
                  <a:pt x="745" y="120"/>
                </a:lnTo>
                <a:lnTo>
                  <a:pt x="740" y="120"/>
                </a:lnTo>
                <a:lnTo>
                  <a:pt x="734" y="122"/>
                </a:lnTo>
                <a:lnTo>
                  <a:pt x="728" y="123"/>
                </a:lnTo>
                <a:lnTo>
                  <a:pt x="723" y="125"/>
                </a:lnTo>
                <a:lnTo>
                  <a:pt x="717" y="125"/>
                </a:lnTo>
                <a:lnTo>
                  <a:pt x="709" y="129"/>
                </a:lnTo>
                <a:lnTo>
                  <a:pt x="705" y="129"/>
                </a:lnTo>
                <a:lnTo>
                  <a:pt x="700" y="133"/>
                </a:lnTo>
                <a:lnTo>
                  <a:pt x="694" y="135"/>
                </a:lnTo>
                <a:lnTo>
                  <a:pt x="688" y="137"/>
                </a:lnTo>
                <a:lnTo>
                  <a:pt x="681" y="139"/>
                </a:lnTo>
                <a:lnTo>
                  <a:pt x="677" y="142"/>
                </a:lnTo>
                <a:lnTo>
                  <a:pt x="666" y="146"/>
                </a:lnTo>
                <a:lnTo>
                  <a:pt x="654" y="154"/>
                </a:lnTo>
                <a:lnTo>
                  <a:pt x="648" y="156"/>
                </a:lnTo>
                <a:lnTo>
                  <a:pt x="641" y="158"/>
                </a:lnTo>
                <a:lnTo>
                  <a:pt x="635" y="160"/>
                </a:lnTo>
                <a:lnTo>
                  <a:pt x="631" y="163"/>
                </a:lnTo>
                <a:lnTo>
                  <a:pt x="624" y="165"/>
                </a:lnTo>
                <a:lnTo>
                  <a:pt x="618" y="167"/>
                </a:lnTo>
                <a:lnTo>
                  <a:pt x="612" y="171"/>
                </a:lnTo>
                <a:lnTo>
                  <a:pt x="607" y="175"/>
                </a:lnTo>
                <a:lnTo>
                  <a:pt x="595" y="181"/>
                </a:lnTo>
                <a:lnTo>
                  <a:pt x="586" y="186"/>
                </a:lnTo>
                <a:lnTo>
                  <a:pt x="574" y="192"/>
                </a:lnTo>
                <a:lnTo>
                  <a:pt x="563" y="200"/>
                </a:lnTo>
                <a:lnTo>
                  <a:pt x="557" y="201"/>
                </a:lnTo>
                <a:lnTo>
                  <a:pt x="550" y="203"/>
                </a:lnTo>
                <a:lnTo>
                  <a:pt x="546" y="207"/>
                </a:lnTo>
                <a:lnTo>
                  <a:pt x="540" y="211"/>
                </a:lnTo>
                <a:lnTo>
                  <a:pt x="529" y="217"/>
                </a:lnTo>
                <a:lnTo>
                  <a:pt x="517" y="222"/>
                </a:lnTo>
                <a:lnTo>
                  <a:pt x="506" y="228"/>
                </a:lnTo>
                <a:lnTo>
                  <a:pt x="494" y="232"/>
                </a:lnTo>
                <a:lnTo>
                  <a:pt x="483" y="238"/>
                </a:lnTo>
                <a:lnTo>
                  <a:pt x="474" y="243"/>
                </a:lnTo>
                <a:lnTo>
                  <a:pt x="477" y="236"/>
                </a:lnTo>
                <a:lnTo>
                  <a:pt x="483" y="228"/>
                </a:lnTo>
                <a:lnTo>
                  <a:pt x="489" y="220"/>
                </a:lnTo>
                <a:lnTo>
                  <a:pt x="494" y="215"/>
                </a:lnTo>
                <a:lnTo>
                  <a:pt x="502" y="207"/>
                </a:lnTo>
                <a:lnTo>
                  <a:pt x="510" y="200"/>
                </a:lnTo>
                <a:lnTo>
                  <a:pt x="515" y="192"/>
                </a:lnTo>
                <a:lnTo>
                  <a:pt x="525" y="186"/>
                </a:lnTo>
                <a:lnTo>
                  <a:pt x="531" y="179"/>
                </a:lnTo>
                <a:lnTo>
                  <a:pt x="540" y="171"/>
                </a:lnTo>
                <a:lnTo>
                  <a:pt x="548" y="165"/>
                </a:lnTo>
                <a:lnTo>
                  <a:pt x="557" y="158"/>
                </a:lnTo>
                <a:lnTo>
                  <a:pt x="565" y="152"/>
                </a:lnTo>
                <a:lnTo>
                  <a:pt x="574" y="144"/>
                </a:lnTo>
                <a:lnTo>
                  <a:pt x="582" y="139"/>
                </a:lnTo>
                <a:lnTo>
                  <a:pt x="591" y="135"/>
                </a:lnTo>
                <a:lnTo>
                  <a:pt x="586" y="135"/>
                </a:lnTo>
                <a:lnTo>
                  <a:pt x="578" y="135"/>
                </a:lnTo>
                <a:lnTo>
                  <a:pt x="574" y="137"/>
                </a:lnTo>
                <a:lnTo>
                  <a:pt x="569" y="139"/>
                </a:lnTo>
                <a:lnTo>
                  <a:pt x="557" y="142"/>
                </a:lnTo>
                <a:lnTo>
                  <a:pt x="546" y="144"/>
                </a:lnTo>
                <a:lnTo>
                  <a:pt x="534" y="148"/>
                </a:lnTo>
                <a:lnTo>
                  <a:pt x="523" y="154"/>
                </a:lnTo>
                <a:lnTo>
                  <a:pt x="512" y="158"/>
                </a:lnTo>
                <a:lnTo>
                  <a:pt x="502" y="163"/>
                </a:lnTo>
                <a:lnTo>
                  <a:pt x="491" y="165"/>
                </a:lnTo>
                <a:lnTo>
                  <a:pt x="481" y="171"/>
                </a:lnTo>
                <a:lnTo>
                  <a:pt x="468" y="175"/>
                </a:lnTo>
                <a:lnTo>
                  <a:pt x="458" y="182"/>
                </a:lnTo>
                <a:lnTo>
                  <a:pt x="449" y="186"/>
                </a:lnTo>
                <a:lnTo>
                  <a:pt x="437" y="192"/>
                </a:lnTo>
                <a:lnTo>
                  <a:pt x="428" y="198"/>
                </a:lnTo>
                <a:lnTo>
                  <a:pt x="418" y="201"/>
                </a:lnTo>
                <a:lnTo>
                  <a:pt x="407" y="207"/>
                </a:lnTo>
                <a:lnTo>
                  <a:pt x="396" y="211"/>
                </a:lnTo>
                <a:lnTo>
                  <a:pt x="384" y="215"/>
                </a:lnTo>
                <a:lnTo>
                  <a:pt x="375" y="219"/>
                </a:lnTo>
                <a:lnTo>
                  <a:pt x="365" y="222"/>
                </a:lnTo>
                <a:lnTo>
                  <a:pt x="354" y="226"/>
                </a:lnTo>
                <a:lnTo>
                  <a:pt x="344" y="228"/>
                </a:lnTo>
                <a:lnTo>
                  <a:pt x="335" y="232"/>
                </a:lnTo>
                <a:lnTo>
                  <a:pt x="323" y="232"/>
                </a:lnTo>
                <a:lnTo>
                  <a:pt x="314" y="236"/>
                </a:lnTo>
                <a:lnTo>
                  <a:pt x="304" y="236"/>
                </a:lnTo>
                <a:lnTo>
                  <a:pt x="295" y="238"/>
                </a:lnTo>
                <a:lnTo>
                  <a:pt x="283" y="238"/>
                </a:lnTo>
                <a:lnTo>
                  <a:pt x="272" y="238"/>
                </a:lnTo>
                <a:lnTo>
                  <a:pt x="262" y="236"/>
                </a:lnTo>
                <a:lnTo>
                  <a:pt x="253" y="234"/>
                </a:lnTo>
                <a:lnTo>
                  <a:pt x="247" y="236"/>
                </a:lnTo>
                <a:lnTo>
                  <a:pt x="242" y="239"/>
                </a:lnTo>
                <a:lnTo>
                  <a:pt x="238" y="245"/>
                </a:lnTo>
                <a:lnTo>
                  <a:pt x="236" y="249"/>
                </a:lnTo>
                <a:lnTo>
                  <a:pt x="234" y="258"/>
                </a:lnTo>
                <a:lnTo>
                  <a:pt x="242" y="270"/>
                </a:lnTo>
                <a:lnTo>
                  <a:pt x="238" y="274"/>
                </a:lnTo>
                <a:lnTo>
                  <a:pt x="230" y="268"/>
                </a:lnTo>
                <a:lnTo>
                  <a:pt x="224" y="268"/>
                </a:lnTo>
                <a:lnTo>
                  <a:pt x="219" y="268"/>
                </a:lnTo>
                <a:lnTo>
                  <a:pt x="213" y="268"/>
                </a:lnTo>
                <a:lnTo>
                  <a:pt x="211" y="264"/>
                </a:lnTo>
                <a:lnTo>
                  <a:pt x="211" y="258"/>
                </a:lnTo>
                <a:lnTo>
                  <a:pt x="209" y="251"/>
                </a:lnTo>
                <a:lnTo>
                  <a:pt x="209" y="243"/>
                </a:lnTo>
                <a:lnTo>
                  <a:pt x="207" y="234"/>
                </a:lnTo>
                <a:lnTo>
                  <a:pt x="207" y="226"/>
                </a:lnTo>
                <a:lnTo>
                  <a:pt x="207" y="220"/>
                </a:lnTo>
                <a:lnTo>
                  <a:pt x="207" y="220"/>
                </a:lnTo>
                <a:lnTo>
                  <a:pt x="202" y="219"/>
                </a:lnTo>
                <a:lnTo>
                  <a:pt x="196" y="220"/>
                </a:lnTo>
                <a:lnTo>
                  <a:pt x="188" y="222"/>
                </a:lnTo>
                <a:lnTo>
                  <a:pt x="181" y="226"/>
                </a:lnTo>
                <a:lnTo>
                  <a:pt x="175" y="228"/>
                </a:lnTo>
                <a:lnTo>
                  <a:pt x="167" y="232"/>
                </a:lnTo>
                <a:lnTo>
                  <a:pt x="160" y="238"/>
                </a:lnTo>
                <a:lnTo>
                  <a:pt x="154" y="241"/>
                </a:lnTo>
                <a:lnTo>
                  <a:pt x="148" y="241"/>
                </a:lnTo>
                <a:lnTo>
                  <a:pt x="143" y="245"/>
                </a:lnTo>
                <a:lnTo>
                  <a:pt x="137" y="243"/>
                </a:lnTo>
                <a:lnTo>
                  <a:pt x="135" y="243"/>
                </a:lnTo>
                <a:lnTo>
                  <a:pt x="133" y="239"/>
                </a:lnTo>
                <a:lnTo>
                  <a:pt x="133" y="234"/>
                </a:lnTo>
                <a:lnTo>
                  <a:pt x="133" y="230"/>
                </a:lnTo>
                <a:lnTo>
                  <a:pt x="137" y="226"/>
                </a:lnTo>
                <a:lnTo>
                  <a:pt x="139" y="220"/>
                </a:lnTo>
                <a:lnTo>
                  <a:pt x="141" y="215"/>
                </a:lnTo>
                <a:lnTo>
                  <a:pt x="135" y="211"/>
                </a:lnTo>
                <a:lnTo>
                  <a:pt x="129" y="213"/>
                </a:lnTo>
                <a:lnTo>
                  <a:pt x="122" y="215"/>
                </a:lnTo>
                <a:lnTo>
                  <a:pt x="116" y="220"/>
                </a:lnTo>
                <a:lnTo>
                  <a:pt x="109" y="226"/>
                </a:lnTo>
                <a:lnTo>
                  <a:pt x="103" y="230"/>
                </a:lnTo>
                <a:lnTo>
                  <a:pt x="97" y="236"/>
                </a:lnTo>
                <a:lnTo>
                  <a:pt x="93" y="239"/>
                </a:lnTo>
                <a:lnTo>
                  <a:pt x="91" y="230"/>
                </a:lnTo>
                <a:lnTo>
                  <a:pt x="88" y="220"/>
                </a:lnTo>
                <a:lnTo>
                  <a:pt x="84" y="213"/>
                </a:lnTo>
                <a:lnTo>
                  <a:pt x="82" y="203"/>
                </a:lnTo>
                <a:lnTo>
                  <a:pt x="76" y="194"/>
                </a:lnTo>
                <a:lnTo>
                  <a:pt x="72" y="186"/>
                </a:lnTo>
                <a:lnTo>
                  <a:pt x="67" y="177"/>
                </a:lnTo>
                <a:lnTo>
                  <a:pt x="63" y="171"/>
                </a:lnTo>
                <a:lnTo>
                  <a:pt x="55" y="163"/>
                </a:lnTo>
                <a:lnTo>
                  <a:pt x="48" y="156"/>
                </a:lnTo>
                <a:lnTo>
                  <a:pt x="40" y="150"/>
                </a:lnTo>
                <a:lnTo>
                  <a:pt x="34" y="146"/>
                </a:lnTo>
                <a:lnTo>
                  <a:pt x="27" y="141"/>
                </a:lnTo>
                <a:lnTo>
                  <a:pt x="17" y="139"/>
                </a:lnTo>
                <a:lnTo>
                  <a:pt x="8" y="137"/>
                </a:lnTo>
                <a:lnTo>
                  <a:pt x="0" y="137"/>
                </a:lnTo>
                <a:lnTo>
                  <a:pt x="0" y="133"/>
                </a:lnTo>
                <a:lnTo>
                  <a:pt x="0" y="131"/>
                </a:lnTo>
                <a:lnTo>
                  <a:pt x="8" y="127"/>
                </a:lnTo>
                <a:lnTo>
                  <a:pt x="17" y="125"/>
                </a:lnTo>
                <a:lnTo>
                  <a:pt x="25" y="123"/>
                </a:lnTo>
                <a:lnTo>
                  <a:pt x="32" y="125"/>
                </a:lnTo>
                <a:lnTo>
                  <a:pt x="40" y="127"/>
                </a:lnTo>
                <a:lnTo>
                  <a:pt x="48" y="129"/>
                </a:lnTo>
                <a:lnTo>
                  <a:pt x="55" y="133"/>
                </a:lnTo>
                <a:lnTo>
                  <a:pt x="63" y="139"/>
                </a:lnTo>
                <a:lnTo>
                  <a:pt x="69" y="144"/>
                </a:lnTo>
                <a:lnTo>
                  <a:pt x="74" y="150"/>
                </a:lnTo>
                <a:lnTo>
                  <a:pt x="80" y="158"/>
                </a:lnTo>
                <a:lnTo>
                  <a:pt x="86" y="165"/>
                </a:lnTo>
                <a:lnTo>
                  <a:pt x="88" y="171"/>
                </a:lnTo>
                <a:lnTo>
                  <a:pt x="93" y="179"/>
                </a:lnTo>
                <a:lnTo>
                  <a:pt x="95" y="186"/>
                </a:lnTo>
                <a:lnTo>
                  <a:pt x="99" y="194"/>
                </a:lnTo>
                <a:lnTo>
                  <a:pt x="105" y="190"/>
                </a:lnTo>
                <a:lnTo>
                  <a:pt x="110" y="184"/>
                </a:lnTo>
                <a:lnTo>
                  <a:pt x="118" y="181"/>
                </a:lnTo>
                <a:lnTo>
                  <a:pt x="126" y="175"/>
                </a:lnTo>
                <a:lnTo>
                  <a:pt x="131" y="169"/>
                </a:lnTo>
                <a:lnTo>
                  <a:pt x="141" y="163"/>
                </a:lnTo>
                <a:lnTo>
                  <a:pt x="147" y="160"/>
                </a:lnTo>
                <a:lnTo>
                  <a:pt x="156" y="156"/>
                </a:lnTo>
                <a:lnTo>
                  <a:pt x="162" y="154"/>
                </a:lnTo>
                <a:lnTo>
                  <a:pt x="167" y="152"/>
                </a:lnTo>
                <a:lnTo>
                  <a:pt x="173" y="152"/>
                </a:lnTo>
                <a:lnTo>
                  <a:pt x="179" y="154"/>
                </a:lnTo>
                <a:lnTo>
                  <a:pt x="181" y="156"/>
                </a:lnTo>
                <a:lnTo>
                  <a:pt x="185" y="163"/>
                </a:lnTo>
                <a:lnTo>
                  <a:pt x="185" y="165"/>
                </a:lnTo>
                <a:lnTo>
                  <a:pt x="185" y="171"/>
                </a:lnTo>
                <a:lnTo>
                  <a:pt x="185" y="177"/>
                </a:lnTo>
                <a:lnTo>
                  <a:pt x="186" y="184"/>
                </a:lnTo>
                <a:lnTo>
                  <a:pt x="188" y="182"/>
                </a:lnTo>
                <a:lnTo>
                  <a:pt x="192" y="181"/>
                </a:lnTo>
                <a:lnTo>
                  <a:pt x="196" y="177"/>
                </a:lnTo>
                <a:lnTo>
                  <a:pt x="202" y="175"/>
                </a:lnTo>
                <a:lnTo>
                  <a:pt x="207" y="177"/>
                </a:lnTo>
                <a:lnTo>
                  <a:pt x="215" y="181"/>
                </a:lnTo>
                <a:lnTo>
                  <a:pt x="221" y="184"/>
                </a:lnTo>
                <a:lnTo>
                  <a:pt x="226" y="188"/>
                </a:lnTo>
                <a:lnTo>
                  <a:pt x="234" y="188"/>
                </a:lnTo>
                <a:lnTo>
                  <a:pt x="240" y="190"/>
                </a:lnTo>
                <a:lnTo>
                  <a:pt x="245" y="192"/>
                </a:lnTo>
                <a:lnTo>
                  <a:pt x="253" y="194"/>
                </a:lnTo>
                <a:lnTo>
                  <a:pt x="259" y="194"/>
                </a:lnTo>
                <a:lnTo>
                  <a:pt x="266" y="194"/>
                </a:lnTo>
                <a:lnTo>
                  <a:pt x="272" y="194"/>
                </a:lnTo>
                <a:lnTo>
                  <a:pt x="278" y="196"/>
                </a:lnTo>
                <a:lnTo>
                  <a:pt x="285" y="194"/>
                </a:lnTo>
                <a:lnTo>
                  <a:pt x="291" y="194"/>
                </a:lnTo>
                <a:lnTo>
                  <a:pt x="297" y="194"/>
                </a:lnTo>
                <a:lnTo>
                  <a:pt x="304" y="194"/>
                </a:lnTo>
                <a:lnTo>
                  <a:pt x="310" y="192"/>
                </a:lnTo>
                <a:lnTo>
                  <a:pt x="316" y="192"/>
                </a:lnTo>
                <a:lnTo>
                  <a:pt x="323" y="190"/>
                </a:lnTo>
                <a:lnTo>
                  <a:pt x="329" y="188"/>
                </a:lnTo>
                <a:lnTo>
                  <a:pt x="335" y="184"/>
                </a:lnTo>
                <a:lnTo>
                  <a:pt x="342" y="182"/>
                </a:lnTo>
                <a:lnTo>
                  <a:pt x="348" y="181"/>
                </a:lnTo>
                <a:lnTo>
                  <a:pt x="354" y="179"/>
                </a:lnTo>
                <a:lnTo>
                  <a:pt x="361" y="175"/>
                </a:lnTo>
                <a:lnTo>
                  <a:pt x="367" y="173"/>
                </a:lnTo>
                <a:lnTo>
                  <a:pt x="373" y="169"/>
                </a:lnTo>
                <a:lnTo>
                  <a:pt x="380" y="167"/>
                </a:lnTo>
                <a:lnTo>
                  <a:pt x="386" y="163"/>
                </a:lnTo>
                <a:lnTo>
                  <a:pt x="392" y="161"/>
                </a:lnTo>
                <a:lnTo>
                  <a:pt x="399" y="158"/>
                </a:lnTo>
                <a:lnTo>
                  <a:pt x="407" y="154"/>
                </a:lnTo>
                <a:lnTo>
                  <a:pt x="411" y="150"/>
                </a:lnTo>
                <a:lnTo>
                  <a:pt x="418" y="146"/>
                </a:lnTo>
                <a:lnTo>
                  <a:pt x="424" y="142"/>
                </a:lnTo>
                <a:lnTo>
                  <a:pt x="430" y="139"/>
                </a:lnTo>
                <a:lnTo>
                  <a:pt x="437" y="135"/>
                </a:lnTo>
                <a:lnTo>
                  <a:pt x="443" y="129"/>
                </a:lnTo>
                <a:lnTo>
                  <a:pt x="449" y="125"/>
                </a:lnTo>
                <a:lnTo>
                  <a:pt x="456" y="123"/>
                </a:lnTo>
                <a:lnTo>
                  <a:pt x="462" y="118"/>
                </a:lnTo>
                <a:lnTo>
                  <a:pt x="468" y="112"/>
                </a:lnTo>
                <a:lnTo>
                  <a:pt x="475" y="108"/>
                </a:lnTo>
                <a:lnTo>
                  <a:pt x="481" y="106"/>
                </a:lnTo>
                <a:lnTo>
                  <a:pt x="487" y="101"/>
                </a:lnTo>
                <a:lnTo>
                  <a:pt x="494" y="97"/>
                </a:lnTo>
                <a:lnTo>
                  <a:pt x="500" y="93"/>
                </a:lnTo>
                <a:lnTo>
                  <a:pt x="506" y="89"/>
                </a:lnTo>
                <a:lnTo>
                  <a:pt x="512" y="84"/>
                </a:lnTo>
                <a:lnTo>
                  <a:pt x="519" y="80"/>
                </a:lnTo>
                <a:lnTo>
                  <a:pt x="525" y="76"/>
                </a:lnTo>
                <a:lnTo>
                  <a:pt x="531" y="72"/>
                </a:lnTo>
                <a:lnTo>
                  <a:pt x="538" y="68"/>
                </a:lnTo>
                <a:lnTo>
                  <a:pt x="544" y="65"/>
                </a:lnTo>
                <a:lnTo>
                  <a:pt x="550" y="61"/>
                </a:lnTo>
                <a:lnTo>
                  <a:pt x="557" y="57"/>
                </a:lnTo>
                <a:lnTo>
                  <a:pt x="561" y="53"/>
                </a:lnTo>
                <a:lnTo>
                  <a:pt x="569" y="49"/>
                </a:lnTo>
                <a:lnTo>
                  <a:pt x="574" y="47"/>
                </a:lnTo>
                <a:lnTo>
                  <a:pt x="580" y="44"/>
                </a:lnTo>
                <a:lnTo>
                  <a:pt x="586" y="40"/>
                </a:lnTo>
                <a:lnTo>
                  <a:pt x="593" y="38"/>
                </a:lnTo>
                <a:lnTo>
                  <a:pt x="599" y="36"/>
                </a:lnTo>
                <a:lnTo>
                  <a:pt x="605" y="34"/>
                </a:lnTo>
                <a:lnTo>
                  <a:pt x="601" y="40"/>
                </a:lnTo>
                <a:lnTo>
                  <a:pt x="595" y="47"/>
                </a:lnTo>
                <a:lnTo>
                  <a:pt x="589" y="55"/>
                </a:lnTo>
                <a:lnTo>
                  <a:pt x="584" y="63"/>
                </a:lnTo>
                <a:lnTo>
                  <a:pt x="576" y="68"/>
                </a:lnTo>
                <a:lnTo>
                  <a:pt x="569" y="74"/>
                </a:lnTo>
                <a:lnTo>
                  <a:pt x="561" y="82"/>
                </a:lnTo>
                <a:lnTo>
                  <a:pt x="551" y="89"/>
                </a:lnTo>
                <a:lnTo>
                  <a:pt x="542" y="93"/>
                </a:lnTo>
                <a:lnTo>
                  <a:pt x="532" y="101"/>
                </a:lnTo>
                <a:lnTo>
                  <a:pt x="523" y="106"/>
                </a:lnTo>
                <a:lnTo>
                  <a:pt x="515" y="110"/>
                </a:lnTo>
                <a:lnTo>
                  <a:pt x="506" y="116"/>
                </a:lnTo>
                <a:lnTo>
                  <a:pt x="496" y="120"/>
                </a:lnTo>
                <a:lnTo>
                  <a:pt x="489" y="125"/>
                </a:lnTo>
                <a:lnTo>
                  <a:pt x="481" y="129"/>
                </a:lnTo>
                <a:lnTo>
                  <a:pt x="491" y="127"/>
                </a:lnTo>
                <a:lnTo>
                  <a:pt x="498" y="127"/>
                </a:lnTo>
                <a:lnTo>
                  <a:pt x="506" y="125"/>
                </a:lnTo>
                <a:lnTo>
                  <a:pt x="515" y="123"/>
                </a:lnTo>
                <a:lnTo>
                  <a:pt x="525" y="120"/>
                </a:lnTo>
                <a:lnTo>
                  <a:pt x="532" y="118"/>
                </a:lnTo>
                <a:lnTo>
                  <a:pt x="542" y="114"/>
                </a:lnTo>
                <a:lnTo>
                  <a:pt x="551" y="110"/>
                </a:lnTo>
                <a:lnTo>
                  <a:pt x="561" y="106"/>
                </a:lnTo>
                <a:lnTo>
                  <a:pt x="570" y="101"/>
                </a:lnTo>
                <a:lnTo>
                  <a:pt x="580" y="97"/>
                </a:lnTo>
                <a:lnTo>
                  <a:pt x="589" y="93"/>
                </a:lnTo>
                <a:lnTo>
                  <a:pt x="599" y="87"/>
                </a:lnTo>
                <a:lnTo>
                  <a:pt x="608" y="82"/>
                </a:lnTo>
                <a:lnTo>
                  <a:pt x="618" y="76"/>
                </a:lnTo>
                <a:lnTo>
                  <a:pt x="628" y="72"/>
                </a:lnTo>
                <a:lnTo>
                  <a:pt x="637" y="65"/>
                </a:lnTo>
                <a:lnTo>
                  <a:pt x="647" y="61"/>
                </a:lnTo>
                <a:lnTo>
                  <a:pt x="656" y="53"/>
                </a:lnTo>
                <a:lnTo>
                  <a:pt x="666" y="47"/>
                </a:lnTo>
                <a:lnTo>
                  <a:pt x="675" y="42"/>
                </a:lnTo>
                <a:lnTo>
                  <a:pt x="685" y="38"/>
                </a:lnTo>
                <a:lnTo>
                  <a:pt x="694" y="32"/>
                </a:lnTo>
                <a:lnTo>
                  <a:pt x="704" y="28"/>
                </a:lnTo>
                <a:lnTo>
                  <a:pt x="713" y="23"/>
                </a:lnTo>
                <a:lnTo>
                  <a:pt x="723" y="19"/>
                </a:lnTo>
                <a:lnTo>
                  <a:pt x="732" y="13"/>
                </a:lnTo>
                <a:lnTo>
                  <a:pt x="743" y="9"/>
                </a:lnTo>
                <a:lnTo>
                  <a:pt x="753" y="8"/>
                </a:lnTo>
                <a:lnTo>
                  <a:pt x="762" y="4"/>
                </a:lnTo>
                <a:lnTo>
                  <a:pt x="772" y="0"/>
                </a:lnTo>
                <a:lnTo>
                  <a:pt x="783" y="0"/>
                </a:lnTo>
                <a:lnTo>
                  <a:pt x="78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895360" y="5240160"/>
            <a:ext cx="129960" cy="59040"/>
          </a:xfrm>
          <a:custGeom>
            <a:avLst/>
            <a:gdLst/>
            <a:ahLst/>
            <a:rect l="l" t="t" r="r" b="b"/>
            <a:pathLst>
              <a:path w="163" h="74">
                <a:moveTo>
                  <a:pt x="163" y="0"/>
                </a:moveTo>
                <a:lnTo>
                  <a:pt x="163" y="3"/>
                </a:lnTo>
                <a:lnTo>
                  <a:pt x="163" y="11"/>
                </a:lnTo>
                <a:lnTo>
                  <a:pt x="161" y="17"/>
                </a:lnTo>
                <a:lnTo>
                  <a:pt x="158" y="22"/>
                </a:lnTo>
                <a:lnTo>
                  <a:pt x="152" y="28"/>
                </a:lnTo>
                <a:lnTo>
                  <a:pt x="146" y="36"/>
                </a:lnTo>
                <a:lnTo>
                  <a:pt x="139" y="40"/>
                </a:lnTo>
                <a:lnTo>
                  <a:pt x="131" y="45"/>
                </a:lnTo>
                <a:lnTo>
                  <a:pt x="119" y="49"/>
                </a:lnTo>
                <a:lnTo>
                  <a:pt x="110" y="55"/>
                </a:lnTo>
                <a:lnTo>
                  <a:pt x="100" y="57"/>
                </a:lnTo>
                <a:lnTo>
                  <a:pt x="89" y="62"/>
                </a:lnTo>
                <a:lnTo>
                  <a:pt x="78" y="64"/>
                </a:lnTo>
                <a:lnTo>
                  <a:pt x="68" y="66"/>
                </a:lnTo>
                <a:lnTo>
                  <a:pt x="59" y="68"/>
                </a:lnTo>
                <a:lnTo>
                  <a:pt x="49" y="72"/>
                </a:lnTo>
                <a:lnTo>
                  <a:pt x="38" y="72"/>
                </a:lnTo>
                <a:lnTo>
                  <a:pt x="28" y="74"/>
                </a:lnTo>
                <a:lnTo>
                  <a:pt x="21" y="74"/>
                </a:lnTo>
                <a:lnTo>
                  <a:pt x="15" y="74"/>
                </a:lnTo>
                <a:lnTo>
                  <a:pt x="7" y="74"/>
                </a:lnTo>
                <a:lnTo>
                  <a:pt x="4" y="72"/>
                </a:lnTo>
                <a:lnTo>
                  <a:pt x="0" y="70"/>
                </a:lnTo>
                <a:lnTo>
                  <a:pt x="0" y="68"/>
                </a:lnTo>
                <a:lnTo>
                  <a:pt x="0" y="66"/>
                </a:lnTo>
                <a:lnTo>
                  <a:pt x="4" y="62"/>
                </a:lnTo>
                <a:lnTo>
                  <a:pt x="7" y="59"/>
                </a:lnTo>
                <a:lnTo>
                  <a:pt x="17" y="55"/>
                </a:lnTo>
                <a:lnTo>
                  <a:pt x="19" y="51"/>
                </a:lnTo>
                <a:lnTo>
                  <a:pt x="26" y="47"/>
                </a:lnTo>
                <a:lnTo>
                  <a:pt x="32" y="45"/>
                </a:lnTo>
                <a:lnTo>
                  <a:pt x="40" y="41"/>
                </a:lnTo>
                <a:lnTo>
                  <a:pt x="45" y="40"/>
                </a:lnTo>
                <a:lnTo>
                  <a:pt x="55" y="36"/>
                </a:lnTo>
                <a:lnTo>
                  <a:pt x="62" y="32"/>
                </a:lnTo>
                <a:lnTo>
                  <a:pt x="74" y="30"/>
                </a:lnTo>
                <a:lnTo>
                  <a:pt x="80" y="28"/>
                </a:lnTo>
                <a:lnTo>
                  <a:pt x="85" y="26"/>
                </a:lnTo>
                <a:lnTo>
                  <a:pt x="91" y="24"/>
                </a:lnTo>
                <a:lnTo>
                  <a:pt x="97" y="22"/>
                </a:lnTo>
                <a:lnTo>
                  <a:pt x="102" y="21"/>
                </a:lnTo>
                <a:lnTo>
                  <a:pt x="108" y="21"/>
                </a:lnTo>
                <a:lnTo>
                  <a:pt x="114" y="19"/>
                </a:lnTo>
                <a:lnTo>
                  <a:pt x="119" y="17"/>
                </a:lnTo>
                <a:lnTo>
                  <a:pt x="131" y="13"/>
                </a:lnTo>
                <a:lnTo>
                  <a:pt x="142" y="9"/>
                </a:lnTo>
                <a:lnTo>
                  <a:pt x="152" y="3"/>
                </a:lnTo>
                <a:lnTo>
                  <a:pt x="163" y="0"/>
                </a:lnTo>
                <a:lnTo>
                  <a:pt x="16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7389000" y="5246640"/>
            <a:ext cx="57240" cy="25560"/>
          </a:xfrm>
          <a:custGeom>
            <a:avLst/>
            <a:gdLst/>
            <a:ahLst/>
            <a:rect l="l" t="t" r="r" b="b"/>
            <a:pathLst>
              <a:path w="72" h="33">
                <a:moveTo>
                  <a:pt x="32" y="2"/>
                </a:moveTo>
                <a:lnTo>
                  <a:pt x="38" y="2"/>
                </a:lnTo>
                <a:lnTo>
                  <a:pt x="47" y="2"/>
                </a:lnTo>
                <a:lnTo>
                  <a:pt x="55" y="0"/>
                </a:lnTo>
                <a:lnTo>
                  <a:pt x="61" y="2"/>
                </a:lnTo>
                <a:lnTo>
                  <a:pt x="66" y="2"/>
                </a:lnTo>
                <a:lnTo>
                  <a:pt x="72" y="6"/>
                </a:lnTo>
                <a:lnTo>
                  <a:pt x="72" y="14"/>
                </a:lnTo>
                <a:lnTo>
                  <a:pt x="72" y="23"/>
                </a:lnTo>
                <a:lnTo>
                  <a:pt x="61" y="21"/>
                </a:lnTo>
                <a:lnTo>
                  <a:pt x="51" y="21"/>
                </a:lnTo>
                <a:lnTo>
                  <a:pt x="42" y="23"/>
                </a:lnTo>
                <a:lnTo>
                  <a:pt x="36" y="25"/>
                </a:lnTo>
                <a:lnTo>
                  <a:pt x="26" y="29"/>
                </a:lnTo>
                <a:lnTo>
                  <a:pt x="19" y="31"/>
                </a:lnTo>
                <a:lnTo>
                  <a:pt x="9" y="33"/>
                </a:lnTo>
                <a:lnTo>
                  <a:pt x="0" y="33"/>
                </a:lnTo>
                <a:lnTo>
                  <a:pt x="4" y="23"/>
                </a:lnTo>
                <a:lnTo>
                  <a:pt x="13" y="15"/>
                </a:lnTo>
                <a:lnTo>
                  <a:pt x="17" y="12"/>
                </a:lnTo>
                <a:lnTo>
                  <a:pt x="23" y="8"/>
                </a:lnTo>
                <a:lnTo>
                  <a:pt x="28" y="4"/>
                </a:lnTo>
                <a:lnTo>
                  <a:pt x="32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925680" y="5248440"/>
            <a:ext cx="144360" cy="156960"/>
          </a:xfrm>
          <a:custGeom>
            <a:avLst/>
            <a:gdLst/>
            <a:ahLst/>
            <a:rect l="l" t="t" r="r" b="b"/>
            <a:pathLst>
              <a:path w="183" h="200">
                <a:moveTo>
                  <a:pt x="0" y="0"/>
                </a:moveTo>
                <a:lnTo>
                  <a:pt x="8" y="4"/>
                </a:lnTo>
                <a:lnTo>
                  <a:pt x="15" y="6"/>
                </a:lnTo>
                <a:lnTo>
                  <a:pt x="21" y="12"/>
                </a:lnTo>
                <a:lnTo>
                  <a:pt x="29" y="15"/>
                </a:lnTo>
                <a:lnTo>
                  <a:pt x="34" y="21"/>
                </a:lnTo>
                <a:lnTo>
                  <a:pt x="42" y="27"/>
                </a:lnTo>
                <a:lnTo>
                  <a:pt x="50" y="31"/>
                </a:lnTo>
                <a:lnTo>
                  <a:pt x="57" y="36"/>
                </a:lnTo>
                <a:lnTo>
                  <a:pt x="63" y="42"/>
                </a:lnTo>
                <a:lnTo>
                  <a:pt x="71" y="48"/>
                </a:lnTo>
                <a:lnTo>
                  <a:pt x="76" y="53"/>
                </a:lnTo>
                <a:lnTo>
                  <a:pt x="84" y="59"/>
                </a:lnTo>
                <a:lnTo>
                  <a:pt x="91" y="65"/>
                </a:lnTo>
                <a:lnTo>
                  <a:pt x="97" y="72"/>
                </a:lnTo>
                <a:lnTo>
                  <a:pt x="103" y="78"/>
                </a:lnTo>
                <a:lnTo>
                  <a:pt x="111" y="86"/>
                </a:lnTo>
                <a:lnTo>
                  <a:pt x="116" y="91"/>
                </a:lnTo>
                <a:lnTo>
                  <a:pt x="122" y="99"/>
                </a:lnTo>
                <a:lnTo>
                  <a:pt x="128" y="105"/>
                </a:lnTo>
                <a:lnTo>
                  <a:pt x="133" y="112"/>
                </a:lnTo>
                <a:lnTo>
                  <a:pt x="139" y="118"/>
                </a:lnTo>
                <a:lnTo>
                  <a:pt x="145" y="126"/>
                </a:lnTo>
                <a:lnTo>
                  <a:pt x="149" y="133"/>
                </a:lnTo>
                <a:lnTo>
                  <a:pt x="154" y="141"/>
                </a:lnTo>
                <a:lnTo>
                  <a:pt x="158" y="147"/>
                </a:lnTo>
                <a:lnTo>
                  <a:pt x="162" y="154"/>
                </a:lnTo>
                <a:lnTo>
                  <a:pt x="166" y="162"/>
                </a:lnTo>
                <a:lnTo>
                  <a:pt x="169" y="169"/>
                </a:lnTo>
                <a:lnTo>
                  <a:pt x="173" y="177"/>
                </a:lnTo>
                <a:lnTo>
                  <a:pt x="175" y="185"/>
                </a:lnTo>
                <a:lnTo>
                  <a:pt x="179" y="192"/>
                </a:lnTo>
                <a:lnTo>
                  <a:pt x="183" y="200"/>
                </a:lnTo>
                <a:lnTo>
                  <a:pt x="177" y="194"/>
                </a:lnTo>
                <a:lnTo>
                  <a:pt x="171" y="186"/>
                </a:lnTo>
                <a:lnTo>
                  <a:pt x="166" y="181"/>
                </a:lnTo>
                <a:lnTo>
                  <a:pt x="160" y="175"/>
                </a:lnTo>
                <a:lnTo>
                  <a:pt x="154" y="167"/>
                </a:lnTo>
                <a:lnTo>
                  <a:pt x="149" y="162"/>
                </a:lnTo>
                <a:lnTo>
                  <a:pt x="143" y="156"/>
                </a:lnTo>
                <a:lnTo>
                  <a:pt x="137" y="150"/>
                </a:lnTo>
                <a:lnTo>
                  <a:pt x="131" y="143"/>
                </a:lnTo>
                <a:lnTo>
                  <a:pt x="124" y="137"/>
                </a:lnTo>
                <a:lnTo>
                  <a:pt x="118" y="131"/>
                </a:lnTo>
                <a:lnTo>
                  <a:pt x="112" y="124"/>
                </a:lnTo>
                <a:lnTo>
                  <a:pt x="105" y="118"/>
                </a:lnTo>
                <a:lnTo>
                  <a:pt x="99" y="112"/>
                </a:lnTo>
                <a:lnTo>
                  <a:pt x="93" y="105"/>
                </a:lnTo>
                <a:lnTo>
                  <a:pt x="88" y="101"/>
                </a:lnTo>
                <a:lnTo>
                  <a:pt x="82" y="93"/>
                </a:lnTo>
                <a:lnTo>
                  <a:pt x="74" y="88"/>
                </a:lnTo>
                <a:lnTo>
                  <a:pt x="69" y="82"/>
                </a:lnTo>
                <a:lnTo>
                  <a:pt x="63" y="74"/>
                </a:lnTo>
                <a:lnTo>
                  <a:pt x="55" y="69"/>
                </a:lnTo>
                <a:lnTo>
                  <a:pt x="50" y="63"/>
                </a:lnTo>
                <a:lnTo>
                  <a:pt x="44" y="55"/>
                </a:lnTo>
                <a:lnTo>
                  <a:pt x="38" y="50"/>
                </a:lnTo>
                <a:lnTo>
                  <a:pt x="33" y="42"/>
                </a:lnTo>
                <a:lnTo>
                  <a:pt x="27" y="36"/>
                </a:lnTo>
                <a:lnTo>
                  <a:pt x="21" y="31"/>
                </a:lnTo>
                <a:lnTo>
                  <a:pt x="17" y="23"/>
                </a:lnTo>
                <a:lnTo>
                  <a:pt x="12" y="17"/>
                </a:lnTo>
                <a:lnTo>
                  <a:pt x="8" y="12"/>
                </a:lnTo>
                <a:lnTo>
                  <a:pt x="4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7038360" y="5265720"/>
            <a:ext cx="166680" cy="144360"/>
          </a:xfrm>
          <a:custGeom>
            <a:avLst/>
            <a:gdLst/>
            <a:ahLst/>
            <a:rect l="l" t="t" r="r" b="b"/>
            <a:pathLst>
              <a:path w="209" h="182">
                <a:moveTo>
                  <a:pt x="0" y="0"/>
                </a:moveTo>
                <a:lnTo>
                  <a:pt x="10" y="6"/>
                </a:lnTo>
                <a:lnTo>
                  <a:pt x="21" y="9"/>
                </a:lnTo>
                <a:lnTo>
                  <a:pt x="27" y="13"/>
                </a:lnTo>
                <a:lnTo>
                  <a:pt x="32" y="15"/>
                </a:lnTo>
                <a:lnTo>
                  <a:pt x="40" y="19"/>
                </a:lnTo>
                <a:lnTo>
                  <a:pt x="46" y="23"/>
                </a:lnTo>
                <a:lnTo>
                  <a:pt x="51" y="25"/>
                </a:lnTo>
                <a:lnTo>
                  <a:pt x="57" y="28"/>
                </a:lnTo>
                <a:lnTo>
                  <a:pt x="63" y="32"/>
                </a:lnTo>
                <a:lnTo>
                  <a:pt x="68" y="34"/>
                </a:lnTo>
                <a:lnTo>
                  <a:pt x="74" y="38"/>
                </a:lnTo>
                <a:lnTo>
                  <a:pt x="80" y="42"/>
                </a:lnTo>
                <a:lnTo>
                  <a:pt x="87" y="44"/>
                </a:lnTo>
                <a:lnTo>
                  <a:pt x="93" y="49"/>
                </a:lnTo>
                <a:lnTo>
                  <a:pt x="105" y="55"/>
                </a:lnTo>
                <a:lnTo>
                  <a:pt x="116" y="63"/>
                </a:lnTo>
                <a:lnTo>
                  <a:pt x="126" y="72"/>
                </a:lnTo>
                <a:lnTo>
                  <a:pt x="135" y="82"/>
                </a:lnTo>
                <a:lnTo>
                  <a:pt x="141" y="87"/>
                </a:lnTo>
                <a:lnTo>
                  <a:pt x="145" y="91"/>
                </a:lnTo>
                <a:lnTo>
                  <a:pt x="148" y="97"/>
                </a:lnTo>
                <a:lnTo>
                  <a:pt x="152" y="104"/>
                </a:lnTo>
                <a:lnTo>
                  <a:pt x="154" y="108"/>
                </a:lnTo>
                <a:lnTo>
                  <a:pt x="158" y="116"/>
                </a:lnTo>
                <a:lnTo>
                  <a:pt x="162" y="122"/>
                </a:lnTo>
                <a:lnTo>
                  <a:pt x="165" y="129"/>
                </a:lnTo>
                <a:lnTo>
                  <a:pt x="171" y="127"/>
                </a:lnTo>
                <a:lnTo>
                  <a:pt x="177" y="127"/>
                </a:lnTo>
                <a:lnTo>
                  <a:pt x="179" y="127"/>
                </a:lnTo>
                <a:lnTo>
                  <a:pt x="184" y="131"/>
                </a:lnTo>
                <a:lnTo>
                  <a:pt x="188" y="135"/>
                </a:lnTo>
                <a:lnTo>
                  <a:pt x="194" y="144"/>
                </a:lnTo>
                <a:lnTo>
                  <a:pt x="198" y="152"/>
                </a:lnTo>
                <a:lnTo>
                  <a:pt x="200" y="162"/>
                </a:lnTo>
                <a:lnTo>
                  <a:pt x="203" y="171"/>
                </a:lnTo>
                <a:lnTo>
                  <a:pt x="209" y="179"/>
                </a:lnTo>
                <a:lnTo>
                  <a:pt x="205" y="182"/>
                </a:lnTo>
                <a:lnTo>
                  <a:pt x="198" y="175"/>
                </a:lnTo>
                <a:lnTo>
                  <a:pt x="192" y="169"/>
                </a:lnTo>
                <a:lnTo>
                  <a:pt x="186" y="162"/>
                </a:lnTo>
                <a:lnTo>
                  <a:pt x="179" y="154"/>
                </a:lnTo>
                <a:lnTo>
                  <a:pt x="171" y="148"/>
                </a:lnTo>
                <a:lnTo>
                  <a:pt x="165" y="143"/>
                </a:lnTo>
                <a:lnTo>
                  <a:pt x="158" y="135"/>
                </a:lnTo>
                <a:lnTo>
                  <a:pt x="152" y="129"/>
                </a:lnTo>
                <a:lnTo>
                  <a:pt x="143" y="124"/>
                </a:lnTo>
                <a:lnTo>
                  <a:pt x="135" y="116"/>
                </a:lnTo>
                <a:lnTo>
                  <a:pt x="129" y="110"/>
                </a:lnTo>
                <a:lnTo>
                  <a:pt x="122" y="104"/>
                </a:lnTo>
                <a:lnTo>
                  <a:pt x="112" y="97"/>
                </a:lnTo>
                <a:lnTo>
                  <a:pt x="107" y="91"/>
                </a:lnTo>
                <a:lnTo>
                  <a:pt x="97" y="87"/>
                </a:lnTo>
                <a:lnTo>
                  <a:pt x="91" y="82"/>
                </a:lnTo>
                <a:lnTo>
                  <a:pt x="84" y="76"/>
                </a:lnTo>
                <a:lnTo>
                  <a:pt x="76" y="70"/>
                </a:lnTo>
                <a:lnTo>
                  <a:pt x="68" y="65"/>
                </a:lnTo>
                <a:lnTo>
                  <a:pt x="61" y="59"/>
                </a:lnTo>
                <a:lnTo>
                  <a:pt x="55" y="53"/>
                </a:lnTo>
                <a:lnTo>
                  <a:pt x="48" y="47"/>
                </a:lnTo>
                <a:lnTo>
                  <a:pt x="40" y="42"/>
                </a:lnTo>
                <a:lnTo>
                  <a:pt x="36" y="38"/>
                </a:lnTo>
                <a:lnTo>
                  <a:pt x="29" y="32"/>
                </a:lnTo>
                <a:lnTo>
                  <a:pt x="23" y="28"/>
                </a:lnTo>
                <a:lnTo>
                  <a:pt x="17" y="23"/>
                </a:lnTo>
                <a:lnTo>
                  <a:pt x="13" y="19"/>
                </a:lnTo>
                <a:lnTo>
                  <a:pt x="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6987600" y="5265720"/>
            <a:ext cx="129960" cy="136440"/>
          </a:xfrm>
          <a:custGeom>
            <a:avLst/>
            <a:gdLst/>
            <a:ahLst/>
            <a:rect l="l" t="t" r="r" b="b"/>
            <a:pathLst>
              <a:path w="164" h="171">
                <a:moveTo>
                  <a:pt x="0" y="0"/>
                </a:moveTo>
                <a:lnTo>
                  <a:pt x="6" y="2"/>
                </a:lnTo>
                <a:lnTo>
                  <a:pt x="14" y="6"/>
                </a:lnTo>
                <a:lnTo>
                  <a:pt x="21" y="8"/>
                </a:lnTo>
                <a:lnTo>
                  <a:pt x="29" y="11"/>
                </a:lnTo>
                <a:lnTo>
                  <a:pt x="35" y="15"/>
                </a:lnTo>
                <a:lnTo>
                  <a:pt x="40" y="19"/>
                </a:lnTo>
                <a:lnTo>
                  <a:pt x="48" y="23"/>
                </a:lnTo>
                <a:lnTo>
                  <a:pt x="54" y="28"/>
                </a:lnTo>
                <a:lnTo>
                  <a:pt x="65" y="38"/>
                </a:lnTo>
                <a:lnTo>
                  <a:pt x="76" y="49"/>
                </a:lnTo>
                <a:lnTo>
                  <a:pt x="80" y="53"/>
                </a:lnTo>
                <a:lnTo>
                  <a:pt x="86" y="61"/>
                </a:lnTo>
                <a:lnTo>
                  <a:pt x="90" y="66"/>
                </a:lnTo>
                <a:lnTo>
                  <a:pt x="95" y="72"/>
                </a:lnTo>
                <a:lnTo>
                  <a:pt x="99" y="78"/>
                </a:lnTo>
                <a:lnTo>
                  <a:pt x="105" y="85"/>
                </a:lnTo>
                <a:lnTo>
                  <a:pt x="109" y="91"/>
                </a:lnTo>
                <a:lnTo>
                  <a:pt x="114" y="97"/>
                </a:lnTo>
                <a:lnTo>
                  <a:pt x="116" y="104"/>
                </a:lnTo>
                <a:lnTo>
                  <a:pt x="122" y="110"/>
                </a:lnTo>
                <a:lnTo>
                  <a:pt x="126" y="116"/>
                </a:lnTo>
                <a:lnTo>
                  <a:pt x="131" y="124"/>
                </a:lnTo>
                <a:lnTo>
                  <a:pt x="133" y="127"/>
                </a:lnTo>
                <a:lnTo>
                  <a:pt x="139" y="135"/>
                </a:lnTo>
                <a:lnTo>
                  <a:pt x="143" y="141"/>
                </a:lnTo>
                <a:lnTo>
                  <a:pt x="149" y="146"/>
                </a:lnTo>
                <a:lnTo>
                  <a:pt x="150" y="152"/>
                </a:lnTo>
                <a:lnTo>
                  <a:pt x="154" y="160"/>
                </a:lnTo>
                <a:lnTo>
                  <a:pt x="160" y="165"/>
                </a:lnTo>
                <a:lnTo>
                  <a:pt x="164" y="171"/>
                </a:lnTo>
                <a:lnTo>
                  <a:pt x="158" y="167"/>
                </a:lnTo>
                <a:lnTo>
                  <a:pt x="152" y="163"/>
                </a:lnTo>
                <a:lnTo>
                  <a:pt x="145" y="162"/>
                </a:lnTo>
                <a:lnTo>
                  <a:pt x="141" y="158"/>
                </a:lnTo>
                <a:lnTo>
                  <a:pt x="133" y="154"/>
                </a:lnTo>
                <a:lnTo>
                  <a:pt x="130" y="150"/>
                </a:lnTo>
                <a:lnTo>
                  <a:pt x="122" y="144"/>
                </a:lnTo>
                <a:lnTo>
                  <a:pt x="116" y="141"/>
                </a:lnTo>
                <a:lnTo>
                  <a:pt x="105" y="131"/>
                </a:lnTo>
                <a:lnTo>
                  <a:pt x="95" y="120"/>
                </a:lnTo>
                <a:lnTo>
                  <a:pt x="88" y="114"/>
                </a:lnTo>
                <a:lnTo>
                  <a:pt x="84" y="108"/>
                </a:lnTo>
                <a:lnTo>
                  <a:pt x="78" y="101"/>
                </a:lnTo>
                <a:lnTo>
                  <a:pt x="74" y="97"/>
                </a:lnTo>
                <a:lnTo>
                  <a:pt x="67" y="89"/>
                </a:lnTo>
                <a:lnTo>
                  <a:pt x="61" y="84"/>
                </a:lnTo>
                <a:lnTo>
                  <a:pt x="57" y="78"/>
                </a:lnTo>
                <a:lnTo>
                  <a:pt x="52" y="70"/>
                </a:lnTo>
                <a:lnTo>
                  <a:pt x="46" y="65"/>
                </a:lnTo>
                <a:lnTo>
                  <a:pt x="42" y="59"/>
                </a:lnTo>
                <a:lnTo>
                  <a:pt x="36" y="51"/>
                </a:lnTo>
                <a:lnTo>
                  <a:pt x="33" y="46"/>
                </a:lnTo>
                <a:lnTo>
                  <a:pt x="29" y="40"/>
                </a:lnTo>
                <a:lnTo>
                  <a:pt x="23" y="34"/>
                </a:lnTo>
                <a:lnTo>
                  <a:pt x="19" y="27"/>
                </a:lnTo>
                <a:lnTo>
                  <a:pt x="16" y="23"/>
                </a:lnTo>
                <a:lnTo>
                  <a:pt x="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53880" y="5264280"/>
            <a:ext cx="444600" cy="168120"/>
          </a:xfrm>
          <a:custGeom>
            <a:avLst/>
            <a:gdLst/>
            <a:ahLst/>
            <a:rect l="l" t="t" r="r" b="b"/>
            <a:pathLst>
              <a:path w="559" h="213">
                <a:moveTo>
                  <a:pt x="542" y="2"/>
                </a:moveTo>
                <a:lnTo>
                  <a:pt x="548" y="0"/>
                </a:lnTo>
                <a:lnTo>
                  <a:pt x="553" y="0"/>
                </a:lnTo>
                <a:lnTo>
                  <a:pt x="557" y="0"/>
                </a:lnTo>
                <a:lnTo>
                  <a:pt x="559" y="6"/>
                </a:lnTo>
                <a:lnTo>
                  <a:pt x="557" y="11"/>
                </a:lnTo>
                <a:lnTo>
                  <a:pt x="557" y="25"/>
                </a:lnTo>
                <a:lnTo>
                  <a:pt x="548" y="25"/>
                </a:lnTo>
                <a:lnTo>
                  <a:pt x="538" y="25"/>
                </a:lnTo>
                <a:lnTo>
                  <a:pt x="529" y="27"/>
                </a:lnTo>
                <a:lnTo>
                  <a:pt x="519" y="27"/>
                </a:lnTo>
                <a:lnTo>
                  <a:pt x="510" y="29"/>
                </a:lnTo>
                <a:lnTo>
                  <a:pt x="500" y="30"/>
                </a:lnTo>
                <a:lnTo>
                  <a:pt x="491" y="32"/>
                </a:lnTo>
                <a:lnTo>
                  <a:pt x="483" y="34"/>
                </a:lnTo>
                <a:lnTo>
                  <a:pt x="473" y="34"/>
                </a:lnTo>
                <a:lnTo>
                  <a:pt x="464" y="36"/>
                </a:lnTo>
                <a:lnTo>
                  <a:pt x="454" y="38"/>
                </a:lnTo>
                <a:lnTo>
                  <a:pt x="447" y="40"/>
                </a:lnTo>
                <a:lnTo>
                  <a:pt x="437" y="42"/>
                </a:lnTo>
                <a:lnTo>
                  <a:pt x="428" y="44"/>
                </a:lnTo>
                <a:lnTo>
                  <a:pt x="420" y="46"/>
                </a:lnTo>
                <a:lnTo>
                  <a:pt x="411" y="49"/>
                </a:lnTo>
                <a:lnTo>
                  <a:pt x="401" y="51"/>
                </a:lnTo>
                <a:lnTo>
                  <a:pt x="392" y="53"/>
                </a:lnTo>
                <a:lnTo>
                  <a:pt x="384" y="55"/>
                </a:lnTo>
                <a:lnTo>
                  <a:pt x="375" y="59"/>
                </a:lnTo>
                <a:lnTo>
                  <a:pt x="365" y="61"/>
                </a:lnTo>
                <a:lnTo>
                  <a:pt x="358" y="65"/>
                </a:lnTo>
                <a:lnTo>
                  <a:pt x="348" y="68"/>
                </a:lnTo>
                <a:lnTo>
                  <a:pt x="340" y="70"/>
                </a:lnTo>
                <a:lnTo>
                  <a:pt x="331" y="74"/>
                </a:lnTo>
                <a:lnTo>
                  <a:pt x="321" y="78"/>
                </a:lnTo>
                <a:lnTo>
                  <a:pt x="314" y="80"/>
                </a:lnTo>
                <a:lnTo>
                  <a:pt x="306" y="84"/>
                </a:lnTo>
                <a:lnTo>
                  <a:pt x="297" y="87"/>
                </a:lnTo>
                <a:lnTo>
                  <a:pt x="289" y="89"/>
                </a:lnTo>
                <a:lnTo>
                  <a:pt x="280" y="93"/>
                </a:lnTo>
                <a:lnTo>
                  <a:pt x="272" y="97"/>
                </a:lnTo>
                <a:lnTo>
                  <a:pt x="262" y="101"/>
                </a:lnTo>
                <a:lnTo>
                  <a:pt x="255" y="103"/>
                </a:lnTo>
                <a:lnTo>
                  <a:pt x="245" y="106"/>
                </a:lnTo>
                <a:lnTo>
                  <a:pt x="238" y="110"/>
                </a:lnTo>
                <a:lnTo>
                  <a:pt x="228" y="112"/>
                </a:lnTo>
                <a:lnTo>
                  <a:pt x="221" y="116"/>
                </a:lnTo>
                <a:lnTo>
                  <a:pt x="211" y="120"/>
                </a:lnTo>
                <a:lnTo>
                  <a:pt x="204" y="124"/>
                </a:lnTo>
                <a:lnTo>
                  <a:pt x="194" y="127"/>
                </a:lnTo>
                <a:lnTo>
                  <a:pt x="186" y="129"/>
                </a:lnTo>
                <a:lnTo>
                  <a:pt x="177" y="135"/>
                </a:lnTo>
                <a:lnTo>
                  <a:pt x="169" y="139"/>
                </a:lnTo>
                <a:lnTo>
                  <a:pt x="160" y="143"/>
                </a:lnTo>
                <a:lnTo>
                  <a:pt x="152" y="145"/>
                </a:lnTo>
                <a:lnTo>
                  <a:pt x="143" y="148"/>
                </a:lnTo>
                <a:lnTo>
                  <a:pt x="135" y="154"/>
                </a:lnTo>
                <a:lnTo>
                  <a:pt x="126" y="156"/>
                </a:lnTo>
                <a:lnTo>
                  <a:pt x="118" y="160"/>
                </a:lnTo>
                <a:lnTo>
                  <a:pt x="108" y="164"/>
                </a:lnTo>
                <a:lnTo>
                  <a:pt x="103" y="167"/>
                </a:lnTo>
                <a:lnTo>
                  <a:pt x="93" y="171"/>
                </a:lnTo>
                <a:lnTo>
                  <a:pt x="84" y="175"/>
                </a:lnTo>
                <a:lnTo>
                  <a:pt x="76" y="179"/>
                </a:lnTo>
                <a:lnTo>
                  <a:pt x="69" y="183"/>
                </a:lnTo>
                <a:lnTo>
                  <a:pt x="59" y="186"/>
                </a:lnTo>
                <a:lnTo>
                  <a:pt x="50" y="190"/>
                </a:lnTo>
                <a:lnTo>
                  <a:pt x="42" y="194"/>
                </a:lnTo>
                <a:lnTo>
                  <a:pt x="34" y="198"/>
                </a:lnTo>
                <a:lnTo>
                  <a:pt x="25" y="202"/>
                </a:lnTo>
                <a:lnTo>
                  <a:pt x="15" y="203"/>
                </a:lnTo>
                <a:lnTo>
                  <a:pt x="8" y="209"/>
                </a:lnTo>
                <a:lnTo>
                  <a:pt x="0" y="213"/>
                </a:lnTo>
                <a:lnTo>
                  <a:pt x="6" y="207"/>
                </a:lnTo>
                <a:lnTo>
                  <a:pt x="13" y="200"/>
                </a:lnTo>
                <a:lnTo>
                  <a:pt x="19" y="194"/>
                </a:lnTo>
                <a:lnTo>
                  <a:pt x="25" y="188"/>
                </a:lnTo>
                <a:lnTo>
                  <a:pt x="32" y="183"/>
                </a:lnTo>
                <a:lnTo>
                  <a:pt x="40" y="177"/>
                </a:lnTo>
                <a:lnTo>
                  <a:pt x="48" y="173"/>
                </a:lnTo>
                <a:lnTo>
                  <a:pt x="55" y="167"/>
                </a:lnTo>
                <a:lnTo>
                  <a:pt x="61" y="164"/>
                </a:lnTo>
                <a:lnTo>
                  <a:pt x="69" y="158"/>
                </a:lnTo>
                <a:lnTo>
                  <a:pt x="76" y="154"/>
                </a:lnTo>
                <a:lnTo>
                  <a:pt x="84" y="148"/>
                </a:lnTo>
                <a:lnTo>
                  <a:pt x="91" y="145"/>
                </a:lnTo>
                <a:lnTo>
                  <a:pt x="99" y="141"/>
                </a:lnTo>
                <a:lnTo>
                  <a:pt x="107" y="137"/>
                </a:lnTo>
                <a:lnTo>
                  <a:pt x="116" y="133"/>
                </a:lnTo>
                <a:lnTo>
                  <a:pt x="124" y="129"/>
                </a:lnTo>
                <a:lnTo>
                  <a:pt x="131" y="126"/>
                </a:lnTo>
                <a:lnTo>
                  <a:pt x="139" y="120"/>
                </a:lnTo>
                <a:lnTo>
                  <a:pt x="148" y="118"/>
                </a:lnTo>
                <a:lnTo>
                  <a:pt x="156" y="112"/>
                </a:lnTo>
                <a:lnTo>
                  <a:pt x="164" y="110"/>
                </a:lnTo>
                <a:lnTo>
                  <a:pt x="173" y="106"/>
                </a:lnTo>
                <a:lnTo>
                  <a:pt x="183" y="103"/>
                </a:lnTo>
                <a:lnTo>
                  <a:pt x="190" y="101"/>
                </a:lnTo>
                <a:lnTo>
                  <a:pt x="200" y="97"/>
                </a:lnTo>
                <a:lnTo>
                  <a:pt x="207" y="93"/>
                </a:lnTo>
                <a:lnTo>
                  <a:pt x="217" y="91"/>
                </a:lnTo>
                <a:lnTo>
                  <a:pt x="226" y="87"/>
                </a:lnTo>
                <a:lnTo>
                  <a:pt x="234" y="86"/>
                </a:lnTo>
                <a:lnTo>
                  <a:pt x="243" y="82"/>
                </a:lnTo>
                <a:lnTo>
                  <a:pt x="253" y="80"/>
                </a:lnTo>
                <a:lnTo>
                  <a:pt x="262" y="78"/>
                </a:lnTo>
                <a:lnTo>
                  <a:pt x="270" y="74"/>
                </a:lnTo>
                <a:lnTo>
                  <a:pt x="280" y="70"/>
                </a:lnTo>
                <a:lnTo>
                  <a:pt x="289" y="68"/>
                </a:lnTo>
                <a:lnTo>
                  <a:pt x="297" y="65"/>
                </a:lnTo>
                <a:lnTo>
                  <a:pt x="306" y="63"/>
                </a:lnTo>
                <a:lnTo>
                  <a:pt x="316" y="61"/>
                </a:lnTo>
                <a:lnTo>
                  <a:pt x="325" y="59"/>
                </a:lnTo>
                <a:lnTo>
                  <a:pt x="335" y="55"/>
                </a:lnTo>
                <a:lnTo>
                  <a:pt x="344" y="53"/>
                </a:lnTo>
                <a:lnTo>
                  <a:pt x="354" y="51"/>
                </a:lnTo>
                <a:lnTo>
                  <a:pt x="363" y="49"/>
                </a:lnTo>
                <a:lnTo>
                  <a:pt x="371" y="46"/>
                </a:lnTo>
                <a:lnTo>
                  <a:pt x="380" y="44"/>
                </a:lnTo>
                <a:lnTo>
                  <a:pt x="390" y="42"/>
                </a:lnTo>
                <a:lnTo>
                  <a:pt x="399" y="40"/>
                </a:lnTo>
                <a:lnTo>
                  <a:pt x="409" y="36"/>
                </a:lnTo>
                <a:lnTo>
                  <a:pt x="416" y="34"/>
                </a:lnTo>
                <a:lnTo>
                  <a:pt x="426" y="32"/>
                </a:lnTo>
                <a:lnTo>
                  <a:pt x="435" y="30"/>
                </a:lnTo>
                <a:lnTo>
                  <a:pt x="445" y="27"/>
                </a:lnTo>
                <a:lnTo>
                  <a:pt x="453" y="27"/>
                </a:lnTo>
                <a:lnTo>
                  <a:pt x="462" y="23"/>
                </a:lnTo>
                <a:lnTo>
                  <a:pt x="472" y="21"/>
                </a:lnTo>
                <a:lnTo>
                  <a:pt x="481" y="19"/>
                </a:lnTo>
                <a:lnTo>
                  <a:pt x="489" y="17"/>
                </a:lnTo>
                <a:lnTo>
                  <a:pt x="496" y="15"/>
                </a:lnTo>
                <a:lnTo>
                  <a:pt x="506" y="11"/>
                </a:lnTo>
                <a:lnTo>
                  <a:pt x="515" y="10"/>
                </a:lnTo>
                <a:lnTo>
                  <a:pt x="523" y="8"/>
                </a:lnTo>
                <a:lnTo>
                  <a:pt x="532" y="6"/>
                </a:lnTo>
                <a:lnTo>
                  <a:pt x="542" y="2"/>
                </a:lnTo>
                <a:lnTo>
                  <a:pt x="54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246640" y="5265720"/>
            <a:ext cx="30240" cy="14400"/>
          </a:xfrm>
          <a:custGeom>
            <a:avLst/>
            <a:gdLst/>
            <a:ahLst/>
            <a:rect l="l" t="t" r="r" b="b"/>
            <a:pathLst>
              <a:path w="38" h="19">
                <a:moveTo>
                  <a:pt x="9" y="0"/>
                </a:moveTo>
                <a:lnTo>
                  <a:pt x="15" y="0"/>
                </a:lnTo>
                <a:lnTo>
                  <a:pt x="23" y="0"/>
                </a:lnTo>
                <a:lnTo>
                  <a:pt x="28" y="0"/>
                </a:lnTo>
                <a:lnTo>
                  <a:pt x="38" y="0"/>
                </a:lnTo>
                <a:lnTo>
                  <a:pt x="38" y="4"/>
                </a:lnTo>
                <a:lnTo>
                  <a:pt x="38" y="6"/>
                </a:lnTo>
                <a:lnTo>
                  <a:pt x="30" y="13"/>
                </a:lnTo>
                <a:lnTo>
                  <a:pt x="24" y="17"/>
                </a:lnTo>
                <a:lnTo>
                  <a:pt x="15" y="19"/>
                </a:lnTo>
                <a:lnTo>
                  <a:pt x="9" y="19"/>
                </a:lnTo>
                <a:lnTo>
                  <a:pt x="2" y="17"/>
                </a:lnTo>
                <a:lnTo>
                  <a:pt x="0" y="13"/>
                </a:lnTo>
                <a:lnTo>
                  <a:pt x="2" y="6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384880" y="5292720"/>
            <a:ext cx="495360" cy="139680"/>
          </a:xfrm>
          <a:custGeom>
            <a:avLst/>
            <a:gdLst/>
            <a:ahLst/>
            <a:rect l="l" t="t" r="r" b="b"/>
            <a:pathLst>
              <a:path w="626" h="177">
                <a:moveTo>
                  <a:pt x="536" y="0"/>
                </a:moveTo>
                <a:lnTo>
                  <a:pt x="540" y="0"/>
                </a:lnTo>
                <a:lnTo>
                  <a:pt x="548" y="2"/>
                </a:lnTo>
                <a:lnTo>
                  <a:pt x="553" y="2"/>
                </a:lnTo>
                <a:lnTo>
                  <a:pt x="561" y="2"/>
                </a:lnTo>
                <a:lnTo>
                  <a:pt x="569" y="0"/>
                </a:lnTo>
                <a:lnTo>
                  <a:pt x="576" y="0"/>
                </a:lnTo>
                <a:lnTo>
                  <a:pt x="584" y="0"/>
                </a:lnTo>
                <a:lnTo>
                  <a:pt x="591" y="0"/>
                </a:lnTo>
                <a:lnTo>
                  <a:pt x="597" y="0"/>
                </a:lnTo>
                <a:lnTo>
                  <a:pt x="605" y="0"/>
                </a:lnTo>
                <a:lnTo>
                  <a:pt x="610" y="0"/>
                </a:lnTo>
                <a:lnTo>
                  <a:pt x="616" y="2"/>
                </a:lnTo>
                <a:lnTo>
                  <a:pt x="620" y="6"/>
                </a:lnTo>
                <a:lnTo>
                  <a:pt x="624" y="10"/>
                </a:lnTo>
                <a:lnTo>
                  <a:pt x="624" y="15"/>
                </a:lnTo>
                <a:lnTo>
                  <a:pt x="626" y="21"/>
                </a:lnTo>
                <a:lnTo>
                  <a:pt x="618" y="21"/>
                </a:lnTo>
                <a:lnTo>
                  <a:pt x="610" y="21"/>
                </a:lnTo>
                <a:lnTo>
                  <a:pt x="603" y="21"/>
                </a:lnTo>
                <a:lnTo>
                  <a:pt x="595" y="23"/>
                </a:lnTo>
                <a:lnTo>
                  <a:pt x="586" y="23"/>
                </a:lnTo>
                <a:lnTo>
                  <a:pt x="580" y="25"/>
                </a:lnTo>
                <a:lnTo>
                  <a:pt x="572" y="25"/>
                </a:lnTo>
                <a:lnTo>
                  <a:pt x="565" y="27"/>
                </a:lnTo>
                <a:lnTo>
                  <a:pt x="557" y="27"/>
                </a:lnTo>
                <a:lnTo>
                  <a:pt x="550" y="27"/>
                </a:lnTo>
                <a:lnTo>
                  <a:pt x="542" y="29"/>
                </a:lnTo>
                <a:lnTo>
                  <a:pt x="536" y="29"/>
                </a:lnTo>
                <a:lnTo>
                  <a:pt x="529" y="31"/>
                </a:lnTo>
                <a:lnTo>
                  <a:pt x="521" y="32"/>
                </a:lnTo>
                <a:lnTo>
                  <a:pt x="514" y="32"/>
                </a:lnTo>
                <a:lnTo>
                  <a:pt x="508" y="34"/>
                </a:lnTo>
                <a:lnTo>
                  <a:pt x="500" y="34"/>
                </a:lnTo>
                <a:lnTo>
                  <a:pt x="493" y="36"/>
                </a:lnTo>
                <a:lnTo>
                  <a:pt x="485" y="36"/>
                </a:lnTo>
                <a:lnTo>
                  <a:pt x="479" y="38"/>
                </a:lnTo>
                <a:lnTo>
                  <a:pt x="472" y="40"/>
                </a:lnTo>
                <a:lnTo>
                  <a:pt x="464" y="42"/>
                </a:lnTo>
                <a:lnTo>
                  <a:pt x="457" y="42"/>
                </a:lnTo>
                <a:lnTo>
                  <a:pt x="449" y="44"/>
                </a:lnTo>
                <a:lnTo>
                  <a:pt x="443" y="46"/>
                </a:lnTo>
                <a:lnTo>
                  <a:pt x="436" y="48"/>
                </a:lnTo>
                <a:lnTo>
                  <a:pt x="428" y="48"/>
                </a:lnTo>
                <a:lnTo>
                  <a:pt x="422" y="51"/>
                </a:lnTo>
                <a:lnTo>
                  <a:pt x="415" y="51"/>
                </a:lnTo>
                <a:lnTo>
                  <a:pt x="407" y="53"/>
                </a:lnTo>
                <a:lnTo>
                  <a:pt x="401" y="55"/>
                </a:lnTo>
                <a:lnTo>
                  <a:pt x="394" y="57"/>
                </a:lnTo>
                <a:lnTo>
                  <a:pt x="388" y="57"/>
                </a:lnTo>
                <a:lnTo>
                  <a:pt x="380" y="61"/>
                </a:lnTo>
                <a:lnTo>
                  <a:pt x="373" y="61"/>
                </a:lnTo>
                <a:lnTo>
                  <a:pt x="365" y="63"/>
                </a:lnTo>
                <a:lnTo>
                  <a:pt x="360" y="65"/>
                </a:lnTo>
                <a:lnTo>
                  <a:pt x="352" y="67"/>
                </a:lnTo>
                <a:lnTo>
                  <a:pt x="344" y="67"/>
                </a:lnTo>
                <a:lnTo>
                  <a:pt x="337" y="70"/>
                </a:lnTo>
                <a:lnTo>
                  <a:pt x="331" y="70"/>
                </a:lnTo>
                <a:lnTo>
                  <a:pt x="323" y="72"/>
                </a:lnTo>
                <a:lnTo>
                  <a:pt x="316" y="74"/>
                </a:lnTo>
                <a:lnTo>
                  <a:pt x="310" y="76"/>
                </a:lnTo>
                <a:lnTo>
                  <a:pt x="303" y="78"/>
                </a:lnTo>
                <a:lnTo>
                  <a:pt x="295" y="82"/>
                </a:lnTo>
                <a:lnTo>
                  <a:pt x="289" y="82"/>
                </a:lnTo>
                <a:lnTo>
                  <a:pt x="282" y="86"/>
                </a:lnTo>
                <a:lnTo>
                  <a:pt x="276" y="86"/>
                </a:lnTo>
                <a:lnTo>
                  <a:pt x="268" y="90"/>
                </a:lnTo>
                <a:lnTo>
                  <a:pt x="261" y="91"/>
                </a:lnTo>
                <a:lnTo>
                  <a:pt x="253" y="93"/>
                </a:lnTo>
                <a:lnTo>
                  <a:pt x="245" y="93"/>
                </a:lnTo>
                <a:lnTo>
                  <a:pt x="240" y="97"/>
                </a:lnTo>
                <a:lnTo>
                  <a:pt x="234" y="99"/>
                </a:lnTo>
                <a:lnTo>
                  <a:pt x="226" y="101"/>
                </a:lnTo>
                <a:lnTo>
                  <a:pt x="221" y="103"/>
                </a:lnTo>
                <a:lnTo>
                  <a:pt x="213" y="105"/>
                </a:lnTo>
                <a:lnTo>
                  <a:pt x="206" y="107"/>
                </a:lnTo>
                <a:lnTo>
                  <a:pt x="198" y="109"/>
                </a:lnTo>
                <a:lnTo>
                  <a:pt x="192" y="110"/>
                </a:lnTo>
                <a:lnTo>
                  <a:pt x="185" y="112"/>
                </a:lnTo>
                <a:lnTo>
                  <a:pt x="179" y="116"/>
                </a:lnTo>
                <a:lnTo>
                  <a:pt x="173" y="118"/>
                </a:lnTo>
                <a:lnTo>
                  <a:pt x="173" y="122"/>
                </a:lnTo>
                <a:lnTo>
                  <a:pt x="177" y="126"/>
                </a:lnTo>
                <a:lnTo>
                  <a:pt x="185" y="128"/>
                </a:lnTo>
                <a:lnTo>
                  <a:pt x="194" y="128"/>
                </a:lnTo>
                <a:lnTo>
                  <a:pt x="202" y="128"/>
                </a:lnTo>
                <a:lnTo>
                  <a:pt x="209" y="126"/>
                </a:lnTo>
                <a:lnTo>
                  <a:pt x="217" y="126"/>
                </a:lnTo>
                <a:lnTo>
                  <a:pt x="223" y="126"/>
                </a:lnTo>
                <a:lnTo>
                  <a:pt x="230" y="129"/>
                </a:lnTo>
                <a:lnTo>
                  <a:pt x="230" y="135"/>
                </a:lnTo>
                <a:lnTo>
                  <a:pt x="223" y="137"/>
                </a:lnTo>
                <a:lnTo>
                  <a:pt x="215" y="139"/>
                </a:lnTo>
                <a:lnTo>
                  <a:pt x="207" y="139"/>
                </a:lnTo>
                <a:lnTo>
                  <a:pt x="202" y="139"/>
                </a:lnTo>
                <a:lnTo>
                  <a:pt x="194" y="139"/>
                </a:lnTo>
                <a:lnTo>
                  <a:pt x="188" y="137"/>
                </a:lnTo>
                <a:lnTo>
                  <a:pt x="183" y="137"/>
                </a:lnTo>
                <a:lnTo>
                  <a:pt x="175" y="135"/>
                </a:lnTo>
                <a:lnTo>
                  <a:pt x="168" y="133"/>
                </a:lnTo>
                <a:lnTo>
                  <a:pt x="162" y="131"/>
                </a:lnTo>
                <a:lnTo>
                  <a:pt x="156" y="129"/>
                </a:lnTo>
                <a:lnTo>
                  <a:pt x="149" y="129"/>
                </a:lnTo>
                <a:lnTo>
                  <a:pt x="141" y="128"/>
                </a:lnTo>
                <a:lnTo>
                  <a:pt x="135" y="128"/>
                </a:lnTo>
                <a:lnTo>
                  <a:pt x="130" y="128"/>
                </a:lnTo>
                <a:lnTo>
                  <a:pt x="122" y="129"/>
                </a:lnTo>
                <a:lnTo>
                  <a:pt x="122" y="133"/>
                </a:lnTo>
                <a:lnTo>
                  <a:pt x="122" y="137"/>
                </a:lnTo>
                <a:lnTo>
                  <a:pt x="128" y="139"/>
                </a:lnTo>
                <a:lnTo>
                  <a:pt x="133" y="139"/>
                </a:lnTo>
                <a:lnTo>
                  <a:pt x="139" y="139"/>
                </a:lnTo>
                <a:lnTo>
                  <a:pt x="143" y="143"/>
                </a:lnTo>
                <a:lnTo>
                  <a:pt x="143" y="145"/>
                </a:lnTo>
                <a:lnTo>
                  <a:pt x="133" y="147"/>
                </a:lnTo>
                <a:lnTo>
                  <a:pt x="126" y="148"/>
                </a:lnTo>
                <a:lnTo>
                  <a:pt x="118" y="150"/>
                </a:lnTo>
                <a:lnTo>
                  <a:pt x="109" y="154"/>
                </a:lnTo>
                <a:lnTo>
                  <a:pt x="99" y="156"/>
                </a:lnTo>
                <a:lnTo>
                  <a:pt x="91" y="158"/>
                </a:lnTo>
                <a:lnTo>
                  <a:pt x="82" y="160"/>
                </a:lnTo>
                <a:lnTo>
                  <a:pt x="72" y="162"/>
                </a:lnTo>
                <a:lnTo>
                  <a:pt x="63" y="164"/>
                </a:lnTo>
                <a:lnTo>
                  <a:pt x="53" y="166"/>
                </a:lnTo>
                <a:lnTo>
                  <a:pt x="44" y="166"/>
                </a:lnTo>
                <a:lnTo>
                  <a:pt x="36" y="169"/>
                </a:lnTo>
                <a:lnTo>
                  <a:pt x="27" y="171"/>
                </a:lnTo>
                <a:lnTo>
                  <a:pt x="17" y="173"/>
                </a:lnTo>
                <a:lnTo>
                  <a:pt x="8" y="173"/>
                </a:lnTo>
                <a:lnTo>
                  <a:pt x="0" y="177"/>
                </a:lnTo>
                <a:lnTo>
                  <a:pt x="6" y="171"/>
                </a:lnTo>
                <a:lnTo>
                  <a:pt x="14" y="166"/>
                </a:lnTo>
                <a:lnTo>
                  <a:pt x="21" y="160"/>
                </a:lnTo>
                <a:lnTo>
                  <a:pt x="29" y="156"/>
                </a:lnTo>
                <a:lnTo>
                  <a:pt x="34" y="150"/>
                </a:lnTo>
                <a:lnTo>
                  <a:pt x="44" y="147"/>
                </a:lnTo>
                <a:lnTo>
                  <a:pt x="50" y="141"/>
                </a:lnTo>
                <a:lnTo>
                  <a:pt x="59" y="139"/>
                </a:lnTo>
                <a:lnTo>
                  <a:pt x="65" y="133"/>
                </a:lnTo>
                <a:lnTo>
                  <a:pt x="74" y="129"/>
                </a:lnTo>
                <a:lnTo>
                  <a:pt x="82" y="126"/>
                </a:lnTo>
                <a:lnTo>
                  <a:pt x="90" y="122"/>
                </a:lnTo>
                <a:lnTo>
                  <a:pt x="97" y="118"/>
                </a:lnTo>
                <a:lnTo>
                  <a:pt x="105" y="114"/>
                </a:lnTo>
                <a:lnTo>
                  <a:pt x="112" y="110"/>
                </a:lnTo>
                <a:lnTo>
                  <a:pt x="122" y="109"/>
                </a:lnTo>
                <a:lnTo>
                  <a:pt x="130" y="103"/>
                </a:lnTo>
                <a:lnTo>
                  <a:pt x="137" y="101"/>
                </a:lnTo>
                <a:lnTo>
                  <a:pt x="145" y="97"/>
                </a:lnTo>
                <a:lnTo>
                  <a:pt x="152" y="93"/>
                </a:lnTo>
                <a:lnTo>
                  <a:pt x="160" y="91"/>
                </a:lnTo>
                <a:lnTo>
                  <a:pt x="169" y="88"/>
                </a:lnTo>
                <a:lnTo>
                  <a:pt x="177" y="84"/>
                </a:lnTo>
                <a:lnTo>
                  <a:pt x="187" y="82"/>
                </a:lnTo>
                <a:lnTo>
                  <a:pt x="194" y="80"/>
                </a:lnTo>
                <a:lnTo>
                  <a:pt x="204" y="76"/>
                </a:lnTo>
                <a:lnTo>
                  <a:pt x="211" y="72"/>
                </a:lnTo>
                <a:lnTo>
                  <a:pt x="221" y="70"/>
                </a:lnTo>
                <a:lnTo>
                  <a:pt x="230" y="67"/>
                </a:lnTo>
                <a:lnTo>
                  <a:pt x="238" y="65"/>
                </a:lnTo>
                <a:lnTo>
                  <a:pt x="245" y="63"/>
                </a:lnTo>
                <a:lnTo>
                  <a:pt x="255" y="61"/>
                </a:lnTo>
                <a:lnTo>
                  <a:pt x="263" y="57"/>
                </a:lnTo>
                <a:lnTo>
                  <a:pt x="272" y="55"/>
                </a:lnTo>
                <a:lnTo>
                  <a:pt x="280" y="53"/>
                </a:lnTo>
                <a:lnTo>
                  <a:pt x="289" y="51"/>
                </a:lnTo>
                <a:lnTo>
                  <a:pt x="299" y="48"/>
                </a:lnTo>
                <a:lnTo>
                  <a:pt x="306" y="46"/>
                </a:lnTo>
                <a:lnTo>
                  <a:pt x="316" y="44"/>
                </a:lnTo>
                <a:lnTo>
                  <a:pt x="325" y="44"/>
                </a:lnTo>
                <a:lnTo>
                  <a:pt x="333" y="40"/>
                </a:lnTo>
                <a:lnTo>
                  <a:pt x="342" y="38"/>
                </a:lnTo>
                <a:lnTo>
                  <a:pt x="350" y="36"/>
                </a:lnTo>
                <a:lnTo>
                  <a:pt x="360" y="34"/>
                </a:lnTo>
                <a:lnTo>
                  <a:pt x="369" y="32"/>
                </a:lnTo>
                <a:lnTo>
                  <a:pt x="377" y="31"/>
                </a:lnTo>
                <a:lnTo>
                  <a:pt x="384" y="29"/>
                </a:lnTo>
                <a:lnTo>
                  <a:pt x="394" y="27"/>
                </a:lnTo>
                <a:lnTo>
                  <a:pt x="403" y="25"/>
                </a:lnTo>
                <a:lnTo>
                  <a:pt x="411" y="23"/>
                </a:lnTo>
                <a:lnTo>
                  <a:pt x="420" y="21"/>
                </a:lnTo>
                <a:lnTo>
                  <a:pt x="430" y="19"/>
                </a:lnTo>
                <a:lnTo>
                  <a:pt x="437" y="17"/>
                </a:lnTo>
                <a:lnTo>
                  <a:pt x="447" y="17"/>
                </a:lnTo>
                <a:lnTo>
                  <a:pt x="457" y="15"/>
                </a:lnTo>
                <a:lnTo>
                  <a:pt x="466" y="13"/>
                </a:lnTo>
                <a:lnTo>
                  <a:pt x="474" y="12"/>
                </a:lnTo>
                <a:lnTo>
                  <a:pt x="483" y="10"/>
                </a:lnTo>
                <a:lnTo>
                  <a:pt x="491" y="8"/>
                </a:lnTo>
                <a:lnTo>
                  <a:pt x="500" y="8"/>
                </a:lnTo>
                <a:lnTo>
                  <a:pt x="510" y="6"/>
                </a:lnTo>
                <a:lnTo>
                  <a:pt x="519" y="4"/>
                </a:lnTo>
                <a:lnTo>
                  <a:pt x="527" y="2"/>
                </a:lnTo>
                <a:lnTo>
                  <a:pt x="536" y="0"/>
                </a:lnTo>
                <a:lnTo>
                  <a:pt x="5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218920" y="5292720"/>
            <a:ext cx="27000" cy="22320"/>
          </a:xfrm>
          <a:custGeom>
            <a:avLst/>
            <a:gdLst/>
            <a:ahLst/>
            <a:rect l="l" t="t" r="r" b="b"/>
            <a:pathLst>
              <a:path w="34" h="29">
                <a:moveTo>
                  <a:pt x="21" y="0"/>
                </a:moveTo>
                <a:lnTo>
                  <a:pt x="28" y="2"/>
                </a:lnTo>
                <a:lnTo>
                  <a:pt x="34" y="6"/>
                </a:lnTo>
                <a:lnTo>
                  <a:pt x="34" y="10"/>
                </a:lnTo>
                <a:lnTo>
                  <a:pt x="34" y="13"/>
                </a:lnTo>
                <a:lnTo>
                  <a:pt x="26" y="19"/>
                </a:lnTo>
                <a:lnTo>
                  <a:pt x="17" y="27"/>
                </a:lnTo>
                <a:lnTo>
                  <a:pt x="5" y="29"/>
                </a:lnTo>
                <a:lnTo>
                  <a:pt x="0" y="27"/>
                </a:lnTo>
                <a:lnTo>
                  <a:pt x="0" y="21"/>
                </a:lnTo>
                <a:lnTo>
                  <a:pt x="4" y="17"/>
                </a:lnTo>
                <a:lnTo>
                  <a:pt x="5" y="12"/>
                </a:lnTo>
                <a:lnTo>
                  <a:pt x="9" y="10"/>
                </a:lnTo>
                <a:lnTo>
                  <a:pt x="15" y="6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050880" y="5303880"/>
            <a:ext cx="284040" cy="147600"/>
          </a:xfrm>
          <a:custGeom>
            <a:avLst/>
            <a:gdLst/>
            <a:ahLst/>
            <a:rect l="l" t="t" r="r" b="b"/>
            <a:pathLst>
              <a:path w="359" h="187">
                <a:moveTo>
                  <a:pt x="359" y="0"/>
                </a:moveTo>
                <a:lnTo>
                  <a:pt x="350" y="6"/>
                </a:lnTo>
                <a:lnTo>
                  <a:pt x="342" y="14"/>
                </a:lnTo>
                <a:lnTo>
                  <a:pt x="335" y="21"/>
                </a:lnTo>
                <a:lnTo>
                  <a:pt x="325" y="27"/>
                </a:lnTo>
                <a:lnTo>
                  <a:pt x="316" y="33"/>
                </a:lnTo>
                <a:lnTo>
                  <a:pt x="306" y="38"/>
                </a:lnTo>
                <a:lnTo>
                  <a:pt x="297" y="42"/>
                </a:lnTo>
                <a:lnTo>
                  <a:pt x="285" y="48"/>
                </a:lnTo>
                <a:lnTo>
                  <a:pt x="280" y="50"/>
                </a:lnTo>
                <a:lnTo>
                  <a:pt x="274" y="52"/>
                </a:lnTo>
                <a:lnTo>
                  <a:pt x="268" y="54"/>
                </a:lnTo>
                <a:lnTo>
                  <a:pt x="262" y="57"/>
                </a:lnTo>
                <a:lnTo>
                  <a:pt x="257" y="57"/>
                </a:lnTo>
                <a:lnTo>
                  <a:pt x="249" y="61"/>
                </a:lnTo>
                <a:lnTo>
                  <a:pt x="243" y="61"/>
                </a:lnTo>
                <a:lnTo>
                  <a:pt x="238" y="65"/>
                </a:lnTo>
                <a:lnTo>
                  <a:pt x="232" y="67"/>
                </a:lnTo>
                <a:lnTo>
                  <a:pt x="224" y="69"/>
                </a:lnTo>
                <a:lnTo>
                  <a:pt x="219" y="71"/>
                </a:lnTo>
                <a:lnTo>
                  <a:pt x="213" y="73"/>
                </a:lnTo>
                <a:lnTo>
                  <a:pt x="205" y="73"/>
                </a:lnTo>
                <a:lnTo>
                  <a:pt x="200" y="77"/>
                </a:lnTo>
                <a:lnTo>
                  <a:pt x="194" y="78"/>
                </a:lnTo>
                <a:lnTo>
                  <a:pt x="186" y="80"/>
                </a:lnTo>
                <a:lnTo>
                  <a:pt x="179" y="82"/>
                </a:lnTo>
                <a:lnTo>
                  <a:pt x="173" y="84"/>
                </a:lnTo>
                <a:lnTo>
                  <a:pt x="167" y="86"/>
                </a:lnTo>
                <a:lnTo>
                  <a:pt x="160" y="88"/>
                </a:lnTo>
                <a:lnTo>
                  <a:pt x="152" y="90"/>
                </a:lnTo>
                <a:lnTo>
                  <a:pt x="146" y="92"/>
                </a:lnTo>
                <a:lnTo>
                  <a:pt x="141" y="94"/>
                </a:lnTo>
                <a:lnTo>
                  <a:pt x="133" y="97"/>
                </a:lnTo>
                <a:lnTo>
                  <a:pt x="127" y="99"/>
                </a:lnTo>
                <a:lnTo>
                  <a:pt x="122" y="101"/>
                </a:lnTo>
                <a:lnTo>
                  <a:pt x="114" y="103"/>
                </a:lnTo>
                <a:lnTo>
                  <a:pt x="108" y="107"/>
                </a:lnTo>
                <a:lnTo>
                  <a:pt x="103" y="109"/>
                </a:lnTo>
                <a:lnTo>
                  <a:pt x="95" y="113"/>
                </a:lnTo>
                <a:lnTo>
                  <a:pt x="89" y="115"/>
                </a:lnTo>
                <a:lnTo>
                  <a:pt x="84" y="118"/>
                </a:lnTo>
                <a:lnTo>
                  <a:pt x="78" y="122"/>
                </a:lnTo>
                <a:lnTo>
                  <a:pt x="72" y="124"/>
                </a:lnTo>
                <a:lnTo>
                  <a:pt x="65" y="128"/>
                </a:lnTo>
                <a:lnTo>
                  <a:pt x="59" y="132"/>
                </a:lnTo>
                <a:lnTo>
                  <a:pt x="48" y="137"/>
                </a:lnTo>
                <a:lnTo>
                  <a:pt x="38" y="147"/>
                </a:lnTo>
                <a:lnTo>
                  <a:pt x="27" y="154"/>
                </a:lnTo>
                <a:lnTo>
                  <a:pt x="17" y="164"/>
                </a:lnTo>
                <a:lnTo>
                  <a:pt x="12" y="170"/>
                </a:lnTo>
                <a:lnTo>
                  <a:pt x="8" y="173"/>
                </a:lnTo>
                <a:lnTo>
                  <a:pt x="2" y="181"/>
                </a:lnTo>
                <a:lnTo>
                  <a:pt x="0" y="187"/>
                </a:lnTo>
                <a:lnTo>
                  <a:pt x="2" y="181"/>
                </a:lnTo>
                <a:lnTo>
                  <a:pt x="4" y="173"/>
                </a:lnTo>
                <a:lnTo>
                  <a:pt x="8" y="168"/>
                </a:lnTo>
                <a:lnTo>
                  <a:pt x="12" y="162"/>
                </a:lnTo>
                <a:lnTo>
                  <a:pt x="17" y="153"/>
                </a:lnTo>
                <a:lnTo>
                  <a:pt x="27" y="143"/>
                </a:lnTo>
                <a:lnTo>
                  <a:pt x="34" y="134"/>
                </a:lnTo>
                <a:lnTo>
                  <a:pt x="42" y="124"/>
                </a:lnTo>
                <a:lnTo>
                  <a:pt x="51" y="115"/>
                </a:lnTo>
                <a:lnTo>
                  <a:pt x="63" y="107"/>
                </a:lnTo>
                <a:lnTo>
                  <a:pt x="72" y="99"/>
                </a:lnTo>
                <a:lnTo>
                  <a:pt x="82" y="92"/>
                </a:lnTo>
                <a:lnTo>
                  <a:pt x="93" y="86"/>
                </a:lnTo>
                <a:lnTo>
                  <a:pt x="105" y="78"/>
                </a:lnTo>
                <a:lnTo>
                  <a:pt x="110" y="77"/>
                </a:lnTo>
                <a:lnTo>
                  <a:pt x="116" y="73"/>
                </a:lnTo>
                <a:lnTo>
                  <a:pt x="122" y="69"/>
                </a:lnTo>
                <a:lnTo>
                  <a:pt x="129" y="67"/>
                </a:lnTo>
                <a:lnTo>
                  <a:pt x="135" y="63"/>
                </a:lnTo>
                <a:lnTo>
                  <a:pt x="141" y="61"/>
                </a:lnTo>
                <a:lnTo>
                  <a:pt x="148" y="59"/>
                </a:lnTo>
                <a:lnTo>
                  <a:pt x="154" y="57"/>
                </a:lnTo>
                <a:lnTo>
                  <a:pt x="160" y="54"/>
                </a:lnTo>
                <a:lnTo>
                  <a:pt x="167" y="50"/>
                </a:lnTo>
                <a:lnTo>
                  <a:pt x="173" y="48"/>
                </a:lnTo>
                <a:lnTo>
                  <a:pt x="179" y="46"/>
                </a:lnTo>
                <a:lnTo>
                  <a:pt x="186" y="42"/>
                </a:lnTo>
                <a:lnTo>
                  <a:pt x="192" y="40"/>
                </a:lnTo>
                <a:lnTo>
                  <a:pt x="198" y="38"/>
                </a:lnTo>
                <a:lnTo>
                  <a:pt x="205" y="38"/>
                </a:lnTo>
                <a:lnTo>
                  <a:pt x="211" y="35"/>
                </a:lnTo>
                <a:lnTo>
                  <a:pt x="217" y="33"/>
                </a:lnTo>
                <a:lnTo>
                  <a:pt x="224" y="31"/>
                </a:lnTo>
                <a:lnTo>
                  <a:pt x="232" y="31"/>
                </a:lnTo>
                <a:lnTo>
                  <a:pt x="238" y="29"/>
                </a:lnTo>
                <a:lnTo>
                  <a:pt x="243" y="27"/>
                </a:lnTo>
                <a:lnTo>
                  <a:pt x="251" y="25"/>
                </a:lnTo>
                <a:lnTo>
                  <a:pt x="259" y="23"/>
                </a:lnTo>
                <a:lnTo>
                  <a:pt x="264" y="21"/>
                </a:lnTo>
                <a:lnTo>
                  <a:pt x="270" y="19"/>
                </a:lnTo>
                <a:lnTo>
                  <a:pt x="278" y="18"/>
                </a:lnTo>
                <a:lnTo>
                  <a:pt x="283" y="16"/>
                </a:lnTo>
                <a:lnTo>
                  <a:pt x="289" y="14"/>
                </a:lnTo>
                <a:lnTo>
                  <a:pt x="297" y="14"/>
                </a:lnTo>
                <a:lnTo>
                  <a:pt x="302" y="12"/>
                </a:lnTo>
                <a:lnTo>
                  <a:pt x="310" y="12"/>
                </a:lnTo>
                <a:lnTo>
                  <a:pt x="316" y="8"/>
                </a:lnTo>
                <a:lnTo>
                  <a:pt x="321" y="8"/>
                </a:lnTo>
                <a:lnTo>
                  <a:pt x="327" y="6"/>
                </a:lnTo>
                <a:lnTo>
                  <a:pt x="335" y="4"/>
                </a:lnTo>
                <a:lnTo>
                  <a:pt x="340" y="2"/>
                </a:lnTo>
                <a:lnTo>
                  <a:pt x="346" y="2"/>
                </a:lnTo>
                <a:lnTo>
                  <a:pt x="352" y="0"/>
                </a:lnTo>
                <a:lnTo>
                  <a:pt x="359" y="0"/>
                </a:lnTo>
                <a:lnTo>
                  <a:pt x="3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647680" y="5303880"/>
            <a:ext cx="399960" cy="120600"/>
          </a:xfrm>
          <a:custGeom>
            <a:avLst/>
            <a:gdLst/>
            <a:ahLst/>
            <a:rect l="l" t="t" r="r" b="b"/>
            <a:pathLst>
              <a:path w="504" h="153">
                <a:moveTo>
                  <a:pt x="401" y="0"/>
                </a:moveTo>
                <a:lnTo>
                  <a:pt x="407" y="0"/>
                </a:lnTo>
                <a:lnTo>
                  <a:pt x="415" y="0"/>
                </a:lnTo>
                <a:lnTo>
                  <a:pt x="420" y="0"/>
                </a:lnTo>
                <a:lnTo>
                  <a:pt x="426" y="0"/>
                </a:lnTo>
                <a:lnTo>
                  <a:pt x="434" y="0"/>
                </a:lnTo>
                <a:lnTo>
                  <a:pt x="439" y="0"/>
                </a:lnTo>
                <a:lnTo>
                  <a:pt x="445" y="0"/>
                </a:lnTo>
                <a:lnTo>
                  <a:pt x="453" y="0"/>
                </a:lnTo>
                <a:lnTo>
                  <a:pt x="458" y="0"/>
                </a:lnTo>
                <a:lnTo>
                  <a:pt x="464" y="0"/>
                </a:lnTo>
                <a:lnTo>
                  <a:pt x="472" y="0"/>
                </a:lnTo>
                <a:lnTo>
                  <a:pt x="477" y="0"/>
                </a:lnTo>
                <a:lnTo>
                  <a:pt x="483" y="0"/>
                </a:lnTo>
                <a:lnTo>
                  <a:pt x="491" y="0"/>
                </a:lnTo>
                <a:lnTo>
                  <a:pt x="496" y="0"/>
                </a:lnTo>
                <a:lnTo>
                  <a:pt x="504" y="0"/>
                </a:lnTo>
                <a:lnTo>
                  <a:pt x="504" y="2"/>
                </a:lnTo>
                <a:lnTo>
                  <a:pt x="504" y="6"/>
                </a:lnTo>
                <a:lnTo>
                  <a:pt x="495" y="6"/>
                </a:lnTo>
                <a:lnTo>
                  <a:pt x="487" y="8"/>
                </a:lnTo>
                <a:lnTo>
                  <a:pt x="479" y="10"/>
                </a:lnTo>
                <a:lnTo>
                  <a:pt x="472" y="12"/>
                </a:lnTo>
                <a:lnTo>
                  <a:pt x="462" y="14"/>
                </a:lnTo>
                <a:lnTo>
                  <a:pt x="455" y="16"/>
                </a:lnTo>
                <a:lnTo>
                  <a:pt x="447" y="16"/>
                </a:lnTo>
                <a:lnTo>
                  <a:pt x="439" y="19"/>
                </a:lnTo>
                <a:lnTo>
                  <a:pt x="432" y="19"/>
                </a:lnTo>
                <a:lnTo>
                  <a:pt x="424" y="21"/>
                </a:lnTo>
                <a:lnTo>
                  <a:pt x="415" y="23"/>
                </a:lnTo>
                <a:lnTo>
                  <a:pt x="407" y="25"/>
                </a:lnTo>
                <a:lnTo>
                  <a:pt x="399" y="29"/>
                </a:lnTo>
                <a:lnTo>
                  <a:pt x="392" y="31"/>
                </a:lnTo>
                <a:lnTo>
                  <a:pt x="384" y="33"/>
                </a:lnTo>
                <a:lnTo>
                  <a:pt x="377" y="35"/>
                </a:lnTo>
                <a:lnTo>
                  <a:pt x="367" y="37"/>
                </a:lnTo>
                <a:lnTo>
                  <a:pt x="360" y="38"/>
                </a:lnTo>
                <a:lnTo>
                  <a:pt x="352" y="40"/>
                </a:lnTo>
                <a:lnTo>
                  <a:pt x="344" y="44"/>
                </a:lnTo>
                <a:lnTo>
                  <a:pt x="335" y="46"/>
                </a:lnTo>
                <a:lnTo>
                  <a:pt x="329" y="48"/>
                </a:lnTo>
                <a:lnTo>
                  <a:pt x="320" y="50"/>
                </a:lnTo>
                <a:lnTo>
                  <a:pt x="312" y="54"/>
                </a:lnTo>
                <a:lnTo>
                  <a:pt x="304" y="56"/>
                </a:lnTo>
                <a:lnTo>
                  <a:pt x="297" y="57"/>
                </a:lnTo>
                <a:lnTo>
                  <a:pt x="287" y="59"/>
                </a:lnTo>
                <a:lnTo>
                  <a:pt x="282" y="63"/>
                </a:lnTo>
                <a:lnTo>
                  <a:pt x="274" y="65"/>
                </a:lnTo>
                <a:lnTo>
                  <a:pt x="266" y="67"/>
                </a:lnTo>
                <a:lnTo>
                  <a:pt x="257" y="71"/>
                </a:lnTo>
                <a:lnTo>
                  <a:pt x="251" y="73"/>
                </a:lnTo>
                <a:lnTo>
                  <a:pt x="242" y="77"/>
                </a:lnTo>
                <a:lnTo>
                  <a:pt x="236" y="78"/>
                </a:lnTo>
                <a:lnTo>
                  <a:pt x="226" y="80"/>
                </a:lnTo>
                <a:lnTo>
                  <a:pt x="219" y="84"/>
                </a:lnTo>
                <a:lnTo>
                  <a:pt x="211" y="86"/>
                </a:lnTo>
                <a:lnTo>
                  <a:pt x="204" y="88"/>
                </a:lnTo>
                <a:lnTo>
                  <a:pt x="196" y="90"/>
                </a:lnTo>
                <a:lnTo>
                  <a:pt x="188" y="94"/>
                </a:lnTo>
                <a:lnTo>
                  <a:pt x="181" y="96"/>
                </a:lnTo>
                <a:lnTo>
                  <a:pt x="173" y="97"/>
                </a:lnTo>
                <a:lnTo>
                  <a:pt x="164" y="99"/>
                </a:lnTo>
                <a:lnTo>
                  <a:pt x="156" y="103"/>
                </a:lnTo>
                <a:lnTo>
                  <a:pt x="148" y="105"/>
                </a:lnTo>
                <a:lnTo>
                  <a:pt x="141" y="107"/>
                </a:lnTo>
                <a:lnTo>
                  <a:pt x="133" y="111"/>
                </a:lnTo>
                <a:lnTo>
                  <a:pt x="126" y="115"/>
                </a:lnTo>
                <a:lnTo>
                  <a:pt x="118" y="116"/>
                </a:lnTo>
                <a:lnTo>
                  <a:pt x="110" y="118"/>
                </a:lnTo>
                <a:lnTo>
                  <a:pt x="101" y="120"/>
                </a:lnTo>
                <a:lnTo>
                  <a:pt x="93" y="124"/>
                </a:lnTo>
                <a:lnTo>
                  <a:pt x="86" y="126"/>
                </a:lnTo>
                <a:lnTo>
                  <a:pt x="78" y="128"/>
                </a:lnTo>
                <a:lnTo>
                  <a:pt x="71" y="130"/>
                </a:lnTo>
                <a:lnTo>
                  <a:pt x="63" y="134"/>
                </a:lnTo>
                <a:lnTo>
                  <a:pt x="55" y="135"/>
                </a:lnTo>
                <a:lnTo>
                  <a:pt x="48" y="137"/>
                </a:lnTo>
                <a:lnTo>
                  <a:pt x="38" y="139"/>
                </a:lnTo>
                <a:lnTo>
                  <a:pt x="33" y="143"/>
                </a:lnTo>
                <a:lnTo>
                  <a:pt x="23" y="145"/>
                </a:lnTo>
                <a:lnTo>
                  <a:pt x="15" y="147"/>
                </a:lnTo>
                <a:lnTo>
                  <a:pt x="8" y="151"/>
                </a:lnTo>
                <a:lnTo>
                  <a:pt x="0" y="153"/>
                </a:lnTo>
                <a:lnTo>
                  <a:pt x="10" y="145"/>
                </a:lnTo>
                <a:lnTo>
                  <a:pt x="23" y="137"/>
                </a:lnTo>
                <a:lnTo>
                  <a:pt x="27" y="135"/>
                </a:lnTo>
                <a:lnTo>
                  <a:pt x="33" y="132"/>
                </a:lnTo>
                <a:lnTo>
                  <a:pt x="38" y="128"/>
                </a:lnTo>
                <a:lnTo>
                  <a:pt x="46" y="126"/>
                </a:lnTo>
                <a:lnTo>
                  <a:pt x="55" y="118"/>
                </a:lnTo>
                <a:lnTo>
                  <a:pt x="69" y="113"/>
                </a:lnTo>
                <a:lnTo>
                  <a:pt x="74" y="109"/>
                </a:lnTo>
                <a:lnTo>
                  <a:pt x="80" y="107"/>
                </a:lnTo>
                <a:lnTo>
                  <a:pt x="88" y="103"/>
                </a:lnTo>
                <a:lnTo>
                  <a:pt x="93" y="101"/>
                </a:lnTo>
                <a:lnTo>
                  <a:pt x="99" y="97"/>
                </a:lnTo>
                <a:lnTo>
                  <a:pt x="105" y="96"/>
                </a:lnTo>
                <a:lnTo>
                  <a:pt x="110" y="92"/>
                </a:lnTo>
                <a:lnTo>
                  <a:pt x="116" y="90"/>
                </a:lnTo>
                <a:lnTo>
                  <a:pt x="122" y="86"/>
                </a:lnTo>
                <a:lnTo>
                  <a:pt x="129" y="84"/>
                </a:lnTo>
                <a:lnTo>
                  <a:pt x="135" y="82"/>
                </a:lnTo>
                <a:lnTo>
                  <a:pt x="143" y="80"/>
                </a:lnTo>
                <a:lnTo>
                  <a:pt x="148" y="77"/>
                </a:lnTo>
                <a:lnTo>
                  <a:pt x="154" y="75"/>
                </a:lnTo>
                <a:lnTo>
                  <a:pt x="162" y="73"/>
                </a:lnTo>
                <a:lnTo>
                  <a:pt x="168" y="71"/>
                </a:lnTo>
                <a:lnTo>
                  <a:pt x="173" y="67"/>
                </a:lnTo>
                <a:lnTo>
                  <a:pt x="181" y="65"/>
                </a:lnTo>
                <a:lnTo>
                  <a:pt x="187" y="63"/>
                </a:lnTo>
                <a:lnTo>
                  <a:pt x="192" y="61"/>
                </a:lnTo>
                <a:lnTo>
                  <a:pt x="200" y="59"/>
                </a:lnTo>
                <a:lnTo>
                  <a:pt x="206" y="57"/>
                </a:lnTo>
                <a:lnTo>
                  <a:pt x="211" y="54"/>
                </a:lnTo>
                <a:lnTo>
                  <a:pt x="219" y="52"/>
                </a:lnTo>
                <a:lnTo>
                  <a:pt x="225" y="50"/>
                </a:lnTo>
                <a:lnTo>
                  <a:pt x="230" y="48"/>
                </a:lnTo>
                <a:lnTo>
                  <a:pt x="238" y="44"/>
                </a:lnTo>
                <a:lnTo>
                  <a:pt x="244" y="44"/>
                </a:lnTo>
                <a:lnTo>
                  <a:pt x="249" y="40"/>
                </a:lnTo>
                <a:lnTo>
                  <a:pt x="257" y="40"/>
                </a:lnTo>
                <a:lnTo>
                  <a:pt x="263" y="37"/>
                </a:lnTo>
                <a:lnTo>
                  <a:pt x="268" y="35"/>
                </a:lnTo>
                <a:lnTo>
                  <a:pt x="276" y="33"/>
                </a:lnTo>
                <a:lnTo>
                  <a:pt x="282" y="31"/>
                </a:lnTo>
                <a:lnTo>
                  <a:pt x="287" y="29"/>
                </a:lnTo>
                <a:lnTo>
                  <a:pt x="295" y="29"/>
                </a:lnTo>
                <a:lnTo>
                  <a:pt x="302" y="25"/>
                </a:lnTo>
                <a:lnTo>
                  <a:pt x="308" y="23"/>
                </a:lnTo>
                <a:lnTo>
                  <a:pt x="314" y="21"/>
                </a:lnTo>
                <a:lnTo>
                  <a:pt x="322" y="21"/>
                </a:lnTo>
                <a:lnTo>
                  <a:pt x="327" y="18"/>
                </a:lnTo>
                <a:lnTo>
                  <a:pt x="335" y="16"/>
                </a:lnTo>
                <a:lnTo>
                  <a:pt x="341" y="14"/>
                </a:lnTo>
                <a:lnTo>
                  <a:pt x="348" y="14"/>
                </a:lnTo>
                <a:lnTo>
                  <a:pt x="354" y="12"/>
                </a:lnTo>
                <a:lnTo>
                  <a:pt x="361" y="10"/>
                </a:lnTo>
                <a:lnTo>
                  <a:pt x="367" y="8"/>
                </a:lnTo>
                <a:lnTo>
                  <a:pt x="373" y="6"/>
                </a:lnTo>
                <a:lnTo>
                  <a:pt x="380" y="4"/>
                </a:lnTo>
                <a:lnTo>
                  <a:pt x="388" y="4"/>
                </a:lnTo>
                <a:lnTo>
                  <a:pt x="394" y="2"/>
                </a:lnTo>
                <a:lnTo>
                  <a:pt x="401" y="0"/>
                </a:lnTo>
                <a:lnTo>
                  <a:pt x="40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17560" y="5310360"/>
            <a:ext cx="141480" cy="80640"/>
          </a:xfrm>
          <a:custGeom>
            <a:avLst/>
            <a:gdLst/>
            <a:ahLst/>
            <a:rect l="l" t="t" r="r" b="b"/>
            <a:pathLst>
              <a:path w="178" h="101">
                <a:moveTo>
                  <a:pt x="5" y="2"/>
                </a:moveTo>
                <a:lnTo>
                  <a:pt x="9" y="0"/>
                </a:lnTo>
                <a:lnTo>
                  <a:pt x="17" y="0"/>
                </a:lnTo>
                <a:lnTo>
                  <a:pt x="22" y="2"/>
                </a:lnTo>
                <a:lnTo>
                  <a:pt x="28" y="2"/>
                </a:lnTo>
                <a:lnTo>
                  <a:pt x="34" y="2"/>
                </a:lnTo>
                <a:lnTo>
                  <a:pt x="41" y="4"/>
                </a:lnTo>
                <a:lnTo>
                  <a:pt x="47" y="6"/>
                </a:lnTo>
                <a:lnTo>
                  <a:pt x="53" y="8"/>
                </a:lnTo>
                <a:lnTo>
                  <a:pt x="64" y="11"/>
                </a:lnTo>
                <a:lnTo>
                  <a:pt x="76" y="17"/>
                </a:lnTo>
                <a:lnTo>
                  <a:pt x="87" y="23"/>
                </a:lnTo>
                <a:lnTo>
                  <a:pt x="98" y="30"/>
                </a:lnTo>
                <a:lnTo>
                  <a:pt x="108" y="36"/>
                </a:lnTo>
                <a:lnTo>
                  <a:pt x="117" y="44"/>
                </a:lnTo>
                <a:lnTo>
                  <a:pt x="127" y="51"/>
                </a:lnTo>
                <a:lnTo>
                  <a:pt x="138" y="61"/>
                </a:lnTo>
                <a:lnTo>
                  <a:pt x="148" y="70"/>
                </a:lnTo>
                <a:lnTo>
                  <a:pt x="157" y="80"/>
                </a:lnTo>
                <a:lnTo>
                  <a:pt x="167" y="89"/>
                </a:lnTo>
                <a:lnTo>
                  <a:pt x="178" y="99"/>
                </a:lnTo>
                <a:lnTo>
                  <a:pt x="175" y="101"/>
                </a:lnTo>
                <a:lnTo>
                  <a:pt x="163" y="93"/>
                </a:lnTo>
                <a:lnTo>
                  <a:pt x="154" y="86"/>
                </a:lnTo>
                <a:lnTo>
                  <a:pt x="142" y="78"/>
                </a:lnTo>
                <a:lnTo>
                  <a:pt x="133" y="72"/>
                </a:lnTo>
                <a:lnTo>
                  <a:pt x="119" y="65"/>
                </a:lnTo>
                <a:lnTo>
                  <a:pt x="110" y="59"/>
                </a:lnTo>
                <a:lnTo>
                  <a:pt x="98" y="53"/>
                </a:lnTo>
                <a:lnTo>
                  <a:pt x="89" y="47"/>
                </a:lnTo>
                <a:lnTo>
                  <a:pt x="78" y="42"/>
                </a:lnTo>
                <a:lnTo>
                  <a:pt x="66" y="36"/>
                </a:lnTo>
                <a:lnTo>
                  <a:pt x="55" y="30"/>
                </a:lnTo>
                <a:lnTo>
                  <a:pt x="43" y="27"/>
                </a:lnTo>
                <a:lnTo>
                  <a:pt x="32" y="23"/>
                </a:lnTo>
                <a:lnTo>
                  <a:pt x="22" y="19"/>
                </a:lnTo>
                <a:lnTo>
                  <a:pt x="9" y="15"/>
                </a:lnTo>
                <a:lnTo>
                  <a:pt x="0" y="11"/>
                </a:lnTo>
                <a:lnTo>
                  <a:pt x="0" y="8"/>
                </a:lnTo>
                <a:lnTo>
                  <a:pt x="5" y="2"/>
                </a:ln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5188680" y="5340240"/>
            <a:ext cx="33480" cy="14400"/>
          </a:xfrm>
          <a:custGeom>
            <a:avLst/>
            <a:gdLst/>
            <a:ahLst/>
            <a:rect l="l" t="t" r="r" b="b"/>
            <a:pathLst>
              <a:path w="42" h="17">
                <a:moveTo>
                  <a:pt x="4" y="0"/>
                </a:moveTo>
                <a:lnTo>
                  <a:pt x="12" y="0"/>
                </a:lnTo>
                <a:lnTo>
                  <a:pt x="21" y="0"/>
                </a:lnTo>
                <a:lnTo>
                  <a:pt x="32" y="0"/>
                </a:lnTo>
                <a:lnTo>
                  <a:pt x="42" y="0"/>
                </a:lnTo>
                <a:lnTo>
                  <a:pt x="42" y="2"/>
                </a:lnTo>
                <a:lnTo>
                  <a:pt x="42" y="6"/>
                </a:lnTo>
                <a:lnTo>
                  <a:pt x="36" y="11"/>
                </a:lnTo>
                <a:lnTo>
                  <a:pt x="31" y="15"/>
                </a:lnTo>
                <a:lnTo>
                  <a:pt x="23" y="17"/>
                </a:lnTo>
                <a:lnTo>
                  <a:pt x="15" y="17"/>
                </a:lnTo>
                <a:lnTo>
                  <a:pt x="6" y="13"/>
                </a:lnTo>
                <a:lnTo>
                  <a:pt x="2" y="9"/>
                </a:lnTo>
                <a:lnTo>
                  <a:pt x="0" y="4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344560" y="5349960"/>
            <a:ext cx="330120" cy="46080"/>
          </a:xfrm>
          <a:custGeom>
            <a:avLst/>
            <a:gdLst/>
            <a:ahLst/>
            <a:rect l="l" t="t" r="r" b="b"/>
            <a:pathLst>
              <a:path w="416" h="57">
                <a:moveTo>
                  <a:pt x="313" y="0"/>
                </a:moveTo>
                <a:lnTo>
                  <a:pt x="319" y="0"/>
                </a:lnTo>
                <a:lnTo>
                  <a:pt x="327" y="0"/>
                </a:lnTo>
                <a:lnTo>
                  <a:pt x="332" y="0"/>
                </a:lnTo>
                <a:lnTo>
                  <a:pt x="338" y="0"/>
                </a:lnTo>
                <a:lnTo>
                  <a:pt x="346" y="0"/>
                </a:lnTo>
                <a:lnTo>
                  <a:pt x="351" y="0"/>
                </a:lnTo>
                <a:lnTo>
                  <a:pt x="359" y="0"/>
                </a:lnTo>
                <a:lnTo>
                  <a:pt x="365" y="0"/>
                </a:lnTo>
                <a:lnTo>
                  <a:pt x="371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6" y="0"/>
                </a:lnTo>
                <a:lnTo>
                  <a:pt x="416" y="2"/>
                </a:lnTo>
                <a:lnTo>
                  <a:pt x="416" y="4"/>
                </a:lnTo>
                <a:lnTo>
                  <a:pt x="410" y="6"/>
                </a:lnTo>
                <a:lnTo>
                  <a:pt x="403" y="8"/>
                </a:lnTo>
                <a:lnTo>
                  <a:pt x="397" y="10"/>
                </a:lnTo>
                <a:lnTo>
                  <a:pt x="391" y="12"/>
                </a:lnTo>
                <a:lnTo>
                  <a:pt x="384" y="12"/>
                </a:lnTo>
                <a:lnTo>
                  <a:pt x="378" y="14"/>
                </a:lnTo>
                <a:lnTo>
                  <a:pt x="372" y="16"/>
                </a:lnTo>
                <a:lnTo>
                  <a:pt x="365" y="18"/>
                </a:lnTo>
                <a:lnTo>
                  <a:pt x="359" y="19"/>
                </a:lnTo>
                <a:lnTo>
                  <a:pt x="353" y="19"/>
                </a:lnTo>
                <a:lnTo>
                  <a:pt x="346" y="21"/>
                </a:lnTo>
                <a:lnTo>
                  <a:pt x="340" y="23"/>
                </a:lnTo>
                <a:lnTo>
                  <a:pt x="334" y="25"/>
                </a:lnTo>
                <a:lnTo>
                  <a:pt x="327" y="25"/>
                </a:lnTo>
                <a:lnTo>
                  <a:pt x="321" y="27"/>
                </a:lnTo>
                <a:lnTo>
                  <a:pt x="315" y="29"/>
                </a:lnTo>
                <a:lnTo>
                  <a:pt x="308" y="29"/>
                </a:lnTo>
                <a:lnTo>
                  <a:pt x="300" y="29"/>
                </a:lnTo>
                <a:lnTo>
                  <a:pt x="294" y="29"/>
                </a:lnTo>
                <a:lnTo>
                  <a:pt x="289" y="31"/>
                </a:lnTo>
                <a:lnTo>
                  <a:pt x="281" y="31"/>
                </a:lnTo>
                <a:lnTo>
                  <a:pt x="275" y="31"/>
                </a:lnTo>
                <a:lnTo>
                  <a:pt x="268" y="33"/>
                </a:lnTo>
                <a:lnTo>
                  <a:pt x="262" y="35"/>
                </a:lnTo>
                <a:lnTo>
                  <a:pt x="255" y="35"/>
                </a:lnTo>
                <a:lnTo>
                  <a:pt x="249" y="35"/>
                </a:lnTo>
                <a:lnTo>
                  <a:pt x="241" y="35"/>
                </a:lnTo>
                <a:lnTo>
                  <a:pt x="236" y="37"/>
                </a:lnTo>
                <a:lnTo>
                  <a:pt x="230" y="37"/>
                </a:lnTo>
                <a:lnTo>
                  <a:pt x="222" y="37"/>
                </a:lnTo>
                <a:lnTo>
                  <a:pt x="217" y="38"/>
                </a:lnTo>
                <a:lnTo>
                  <a:pt x="211" y="38"/>
                </a:lnTo>
                <a:lnTo>
                  <a:pt x="203" y="38"/>
                </a:lnTo>
                <a:lnTo>
                  <a:pt x="196" y="38"/>
                </a:lnTo>
                <a:lnTo>
                  <a:pt x="188" y="38"/>
                </a:lnTo>
                <a:lnTo>
                  <a:pt x="182" y="40"/>
                </a:lnTo>
                <a:lnTo>
                  <a:pt x="175" y="40"/>
                </a:lnTo>
                <a:lnTo>
                  <a:pt x="169" y="40"/>
                </a:lnTo>
                <a:lnTo>
                  <a:pt x="161" y="40"/>
                </a:lnTo>
                <a:lnTo>
                  <a:pt x="156" y="40"/>
                </a:lnTo>
                <a:lnTo>
                  <a:pt x="148" y="40"/>
                </a:lnTo>
                <a:lnTo>
                  <a:pt x="142" y="40"/>
                </a:lnTo>
                <a:lnTo>
                  <a:pt x="135" y="40"/>
                </a:lnTo>
                <a:lnTo>
                  <a:pt x="129" y="42"/>
                </a:lnTo>
                <a:lnTo>
                  <a:pt x="121" y="42"/>
                </a:lnTo>
                <a:lnTo>
                  <a:pt x="116" y="44"/>
                </a:lnTo>
                <a:lnTo>
                  <a:pt x="110" y="44"/>
                </a:lnTo>
                <a:lnTo>
                  <a:pt x="102" y="44"/>
                </a:lnTo>
                <a:lnTo>
                  <a:pt x="95" y="44"/>
                </a:lnTo>
                <a:lnTo>
                  <a:pt x="89" y="44"/>
                </a:lnTo>
                <a:lnTo>
                  <a:pt x="83" y="46"/>
                </a:lnTo>
                <a:lnTo>
                  <a:pt x="76" y="46"/>
                </a:lnTo>
                <a:lnTo>
                  <a:pt x="70" y="46"/>
                </a:lnTo>
                <a:lnTo>
                  <a:pt x="64" y="46"/>
                </a:lnTo>
                <a:lnTo>
                  <a:pt x="57" y="48"/>
                </a:lnTo>
                <a:lnTo>
                  <a:pt x="51" y="48"/>
                </a:lnTo>
                <a:lnTo>
                  <a:pt x="45" y="48"/>
                </a:lnTo>
                <a:lnTo>
                  <a:pt x="38" y="50"/>
                </a:lnTo>
                <a:lnTo>
                  <a:pt x="32" y="50"/>
                </a:lnTo>
                <a:lnTo>
                  <a:pt x="26" y="52"/>
                </a:lnTo>
                <a:lnTo>
                  <a:pt x="19" y="54"/>
                </a:lnTo>
                <a:lnTo>
                  <a:pt x="13" y="54"/>
                </a:lnTo>
                <a:lnTo>
                  <a:pt x="7" y="56"/>
                </a:lnTo>
                <a:lnTo>
                  <a:pt x="0" y="57"/>
                </a:lnTo>
                <a:lnTo>
                  <a:pt x="7" y="54"/>
                </a:lnTo>
                <a:lnTo>
                  <a:pt x="17" y="50"/>
                </a:lnTo>
                <a:lnTo>
                  <a:pt x="26" y="48"/>
                </a:lnTo>
                <a:lnTo>
                  <a:pt x="36" y="46"/>
                </a:lnTo>
                <a:lnTo>
                  <a:pt x="44" y="42"/>
                </a:lnTo>
                <a:lnTo>
                  <a:pt x="53" y="40"/>
                </a:lnTo>
                <a:lnTo>
                  <a:pt x="63" y="38"/>
                </a:lnTo>
                <a:lnTo>
                  <a:pt x="74" y="37"/>
                </a:lnTo>
                <a:lnTo>
                  <a:pt x="83" y="35"/>
                </a:lnTo>
                <a:lnTo>
                  <a:pt x="93" y="35"/>
                </a:lnTo>
                <a:lnTo>
                  <a:pt x="102" y="31"/>
                </a:lnTo>
                <a:lnTo>
                  <a:pt x="112" y="31"/>
                </a:lnTo>
                <a:lnTo>
                  <a:pt x="121" y="29"/>
                </a:lnTo>
                <a:lnTo>
                  <a:pt x="133" y="29"/>
                </a:lnTo>
                <a:lnTo>
                  <a:pt x="142" y="27"/>
                </a:lnTo>
                <a:lnTo>
                  <a:pt x="154" y="27"/>
                </a:lnTo>
                <a:lnTo>
                  <a:pt x="163" y="25"/>
                </a:lnTo>
                <a:lnTo>
                  <a:pt x="173" y="23"/>
                </a:lnTo>
                <a:lnTo>
                  <a:pt x="184" y="21"/>
                </a:lnTo>
                <a:lnTo>
                  <a:pt x="194" y="21"/>
                </a:lnTo>
                <a:lnTo>
                  <a:pt x="203" y="19"/>
                </a:lnTo>
                <a:lnTo>
                  <a:pt x="215" y="18"/>
                </a:lnTo>
                <a:lnTo>
                  <a:pt x="224" y="18"/>
                </a:lnTo>
                <a:lnTo>
                  <a:pt x="236" y="16"/>
                </a:lnTo>
                <a:lnTo>
                  <a:pt x="245" y="14"/>
                </a:lnTo>
                <a:lnTo>
                  <a:pt x="255" y="12"/>
                </a:lnTo>
                <a:lnTo>
                  <a:pt x="264" y="10"/>
                </a:lnTo>
                <a:lnTo>
                  <a:pt x="275" y="10"/>
                </a:lnTo>
                <a:lnTo>
                  <a:pt x="285" y="6"/>
                </a:lnTo>
                <a:lnTo>
                  <a:pt x="294" y="4"/>
                </a:lnTo>
                <a:lnTo>
                  <a:pt x="304" y="2"/>
                </a:lnTo>
                <a:lnTo>
                  <a:pt x="313" y="0"/>
                </a:lnTo>
                <a:lnTo>
                  <a:pt x="3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47080" y="5369040"/>
            <a:ext cx="317520" cy="158760"/>
          </a:xfrm>
          <a:custGeom>
            <a:avLst/>
            <a:gdLst/>
            <a:ahLst/>
            <a:rect l="l" t="t" r="r" b="b"/>
            <a:pathLst>
              <a:path w="401" h="202">
                <a:moveTo>
                  <a:pt x="6" y="0"/>
                </a:moveTo>
                <a:lnTo>
                  <a:pt x="10" y="2"/>
                </a:lnTo>
                <a:lnTo>
                  <a:pt x="17" y="4"/>
                </a:lnTo>
                <a:lnTo>
                  <a:pt x="23" y="6"/>
                </a:lnTo>
                <a:lnTo>
                  <a:pt x="30" y="8"/>
                </a:lnTo>
                <a:lnTo>
                  <a:pt x="36" y="8"/>
                </a:lnTo>
                <a:lnTo>
                  <a:pt x="42" y="12"/>
                </a:lnTo>
                <a:lnTo>
                  <a:pt x="49" y="14"/>
                </a:lnTo>
                <a:lnTo>
                  <a:pt x="55" y="15"/>
                </a:lnTo>
                <a:lnTo>
                  <a:pt x="61" y="17"/>
                </a:lnTo>
                <a:lnTo>
                  <a:pt x="67" y="21"/>
                </a:lnTo>
                <a:lnTo>
                  <a:pt x="72" y="23"/>
                </a:lnTo>
                <a:lnTo>
                  <a:pt x="80" y="25"/>
                </a:lnTo>
                <a:lnTo>
                  <a:pt x="86" y="27"/>
                </a:lnTo>
                <a:lnTo>
                  <a:pt x="91" y="31"/>
                </a:lnTo>
                <a:lnTo>
                  <a:pt x="99" y="33"/>
                </a:lnTo>
                <a:lnTo>
                  <a:pt x="105" y="34"/>
                </a:lnTo>
                <a:lnTo>
                  <a:pt x="110" y="36"/>
                </a:lnTo>
                <a:lnTo>
                  <a:pt x="116" y="40"/>
                </a:lnTo>
                <a:lnTo>
                  <a:pt x="122" y="42"/>
                </a:lnTo>
                <a:lnTo>
                  <a:pt x="127" y="44"/>
                </a:lnTo>
                <a:lnTo>
                  <a:pt x="135" y="46"/>
                </a:lnTo>
                <a:lnTo>
                  <a:pt x="141" y="50"/>
                </a:lnTo>
                <a:lnTo>
                  <a:pt x="146" y="52"/>
                </a:lnTo>
                <a:lnTo>
                  <a:pt x="154" y="53"/>
                </a:lnTo>
                <a:lnTo>
                  <a:pt x="160" y="55"/>
                </a:lnTo>
                <a:lnTo>
                  <a:pt x="165" y="59"/>
                </a:lnTo>
                <a:lnTo>
                  <a:pt x="171" y="61"/>
                </a:lnTo>
                <a:lnTo>
                  <a:pt x="177" y="65"/>
                </a:lnTo>
                <a:lnTo>
                  <a:pt x="183" y="67"/>
                </a:lnTo>
                <a:lnTo>
                  <a:pt x="190" y="71"/>
                </a:lnTo>
                <a:lnTo>
                  <a:pt x="196" y="72"/>
                </a:lnTo>
                <a:lnTo>
                  <a:pt x="202" y="76"/>
                </a:lnTo>
                <a:lnTo>
                  <a:pt x="207" y="78"/>
                </a:lnTo>
                <a:lnTo>
                  <a:pt x="213" y="82"/>
                </a:lnTo>
                <a:lnTo>
                  <a:pt x="219" y="84"/>
                </a:lnTo>
                <a:lnTo>
                  <a:pt x="226" y="88"/>
                </a:lnTo>
                <a:lnTo>
                  <a:pt x="230" y="90"/>
                </a:lnTo>
                <a:lnTo>
                  <a:pt x="238" y="91"/>
                </a:lnTo>
                <a:lnTo>
                  <a:pt x="243" y="95"/>
                </a:lnTo>
                <a:lnTo>
                  <a:pt x="249" y="99"/>
                </a:lnTo>
                <a:lnTo>
                  <a:pt x="255" y="103"/>
                </a:lnTo>
                <a:lnTo>
                  <a:pt x="262" y="105"/>
                </a:lnTo>
                <a:lnTo>
                  <a:pt x="266" y="109"/>
                </a:lnTo>
                <a:lnTo>
                  <a:pt x="274" y="112"/>
                </a:lnTo>
                <a:lnTo>
                  <a:pt x="280" y="114"/>
                </a:lnTo>
                <a:lnTo>
                  <a:pt x="285" y="118"/>
                </a:lnTo>
                <a:lnTo>
                  <a:pt x="293" y="122"/>
                </a:lnTo>
                <a:lnTo>
                  <a:pt x="299" y="124"/>
                </a:lnTo>
                <a:lnTo>
                  <a:pt x="304" y="126"/>
                </a:lnTo>
                <a:lnTo>
                  <a:pt x="310" y="129"/>
                </a:lnTo>
                <a:lnTo>
                  <a:pt x="316" y="133"/>
                </a:lnTo>
                <a:lnTo>
                  <a:pt x="321" y="135"/>
                </a:lnTo>
                <a:lnTo>
                  <a:pt x="327" y="139"/>
                </a:lnTo>
                <a:lnTo>
                  <a:pt x="333" y="143"/>
                </a:lnTo>
                <a:lnTo>
                  <a:pt x="340" y="145"/>
                </a:lnTo>
                <a:lnTo>
                  <a:pt x="346" y="148"/>
                </a:lnTo>
                <a:lnTo>
                  <a:pt x="352" y="152"/>
                </a:lnTo>
                <a:lnTo>
                  <a:pt x="357" y="154"/>
                </a:lnTo>
                <a:lnTo>
                  <a:pt x="363" y="158"/>
                </a:lnTo>
                <a:lnTo>
                  <a:pt x="369" y="162"/>
                </a:lnTo>
                <a:lnTo>
                  <a:pt x="376" y="166"/>
                </a:lnTo>
                <a:lnTo>
                  <a:pt x="382" y="169"/>
                </a:lnTo>
                <a:lnTo>
                  <a:pt x="388" y="171"/>
                </a:lnTo>
                <a:lnTo>
                  <a:pt x="395" y="177"/>
                </a:lnTo>
                <a:lnTo>
                  <a:pt x="395" y="181"/>
                </a:lnTo>
                <a:lnTo>
                  <a:pt x="395" y="188"/>
                </a:lnTo>
                <a:lnTo>
                  <a:pt x="395" y="196"/>
                </a:lnTo>
                <a:lnTo>
                  <a:pt x="401" y="202"/>
                </a:lnTo>
                <a:lnTo>
                  <a:pt x="394" y="200"/>
                </a:lnTo>
                <a:lnTo>
                  <a:pt x="386" y="198"/>
                </a:lnTo>
                <a:lnTo>
                  <a:pt x="380" y="196"/>
                </a:lnTo>
                <a:lnTo>
                  <a:pt x="375" y="196"/>
                </a:lnTo>
                <a:lnTo>
                  <a:pt x="367" y="192"/>
                </a:lnTo>
                <a:lnTo>
                  <a:pt x="361" y="190"/>
                </a:lnTo>
                <a:lnTo>
                  <a:pt x="356" y="188"/>
                </a:lnTo>
                <a:lnTo>
                  <a:pt x="348" y="188"/>
                </a:lnTo>
                <a:lnTo>
                  <a:pt x="342" y="185"/>
                </a:lnTo>
                <a:lnTo>
                  <a:pt x="337" y="183"/>
                </a:lnTo>
                <a:lnTo>
                  <a:pt x="329" y="179"/>
                </a:lnTo>
                <a:lnTo>
                  <a:pt x="323" y="177"/>
                </a:lnTo>
                <a:lnTo>
                  <a:pt x="318" y="173"/>
                </a:lnTo>
                <a:lnTo>
                  <a:pt x="310" y="171"/>
                </a:lnTo>
                <a:lnTo>
                  <a:pt x="304" y="169"/>
                </a:lnTo>
                <a:lnTo>
                  <a:pt x="299" y="168"/>
                </a:lnTo>
                <a:lnTo>
                  <a:pt x="291" y="164"/>
                </a:lnTo>
                <a:lnTo>
                  <a:pt x="285" y="162"/>
                </a:lnTo>
                <a:lnTo>
                  <a:pt x="278" y="158"/>
                </a:lnTo>
                <a:lnTo>
                  <a:pt x="272" y="154"/>
                </a:lnTo>
                <a:lnTo>
                  <a:pt x="266" y="152"/>
                </a:lnTo>
                <a:lnTo>
                  <a:pt x="259" y="148"/>
                </a:lnTo>
                <a:lnTo>
                  <a:pt x="253" y="145"/>
                </a:lnTo>
                <a:lnTo>
                  <a:pt x="247" y="143"/>
                </a:lnTo>
                <a:lnTo>
                  <a:pt x="241" y="139"/>
                </a:lnTo>
                <a:lnTo>
                  <a:pt x="236" y="135"/>
                </a:lnTo>
                <a:lnTo>
                  <a:pt x="228" y="131"/>
                </a:lnTo>
                <a:lnTo>
                  <a:pt x="222" y="128"/>
                </a:lnTo>
                <a:lnTo>
                  <a:pt x="217" y="124"/>
                </a:lnTo>
                <a:lnTo>
                  <a:pt x="211" y="122"/>
                </a:lnTo>
                <a:lnTo>
                  <a:pt x="205" y="118"/>
                </a:lnTo>
                <a:lnTo>
                  <a:pt x="200" y="114"/>
                </a:lnTo>
                <a:lnTo>
                  <a:pt x="194" y="110"/>
                </a:lnTo>
                <a:lnTo>
                  <a:pt x="188" y="107"/>
                </a:lnTo>
                <a:lnTo>
                  <a:pt x="181" y="103"/>
                </a:lnTo>
                <a:lnTo>
                  <a:pt x="175" y="99"/>
                </a:lnTo>
                <a:lnTo>
                  <a:pt x="169" y="95"/>
                </a:lnTo>
                <a:lnTo>
                  <a:pt x="162" y="91"/>
                </a:lnTo>
                <a:lnTo>
                  <a:pt x="156" y="88"/>
                </a:lnTo>
                <a:lnTo>
                  <a:pt x="150" y="84"/>
                </a:lnTo>
                <a:lnTo>
                  <a:pt x="145" y="80"/>
                </a:lnTo>
                <a:lnTo>
                  <a:pt x="137" y="76"/>
                </a:lnTo>
                <a:lnTo>
                  <a:pt x="131" y="72"/>
                </a:lnTo>
                <a:lnTo>
                  <a:pt x="126" y="69"/>
                </a:lnTo>
                <a:lnTo>
                  <a:pt x="118" y="65"/>
                </a:lnTo>
                <a:lnTo>
                  <a:pt x="112" y="63"/>
                </a:lnTo>
                <a:lnTo>
                  <a:pt x="107" y="59"/>
                </a:lnTo>
                <a:lnTo>
                  <a:pt x="101" y="55"/>
                </a:lnTo>
                <a:lnTo>
                  <a:pt x="95" y="52"/>
                </a:lnTo>
                <a:lnTo>
                  <a:pt x="88" y="50"/>
                </a:lnTo>
                <a:lnTo>
                  <a:pt x="82" y="44"/>
                </a:lnTo>
                <a:lnTo>
                  <a:pt x="74" y="42"/>
                </a:lnTo>
                <a:lnTo>
                  <a:pt x="68" y="38"/>
                </a:lnTo>
                <a:lnTo>
                  <a:pt x="63" y="34"/>
                </a:lnTo>
                <a:lnTo>
                  <a:pt x="55" y="33"/>
                </a:lnTo>
                <a:lnTo>
                  <a:pt x="49" y="29"/>
                </a:lnTo>
                <a:lnTo>
                  <a:pt x="44" y="25"/>
                </a:lnTo>
                <a:lnTo>
                  <a:pt x="36" y="23"/>
                </a:lnTo>
                <a:lnTo>
                  <a:pt x="30" y="19"/>
                </a:lnTo>
                <a:lnTo>
                  <a:pt x="25" y="17"/>
                </a:lnTo>
                <a:lnTo>
                  <a:pt x="17" y="14"/>
                </a:lnTo>
                <a:lnTo>
                  <a:pt x="11" y="12"/>
                </a:lnTo>
                <a:lnTo>
                  <a:pt x="6" y="10"/>
                </a:lnTo>
                <a:lnTo>
                  <a:pt x="0" y="8"/>
                </a:lnTo>
                <a:lnTo>
                  <a:pt x="0" y="4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158800" y="5367240"/>
            <a:ext cx="36360" cy="28800"/>
          </a:xfrm>
          <a:custGeom>
            <a:avLst/>
            <a:gdLst/>
            <a:ahLst/>
            <a:rect l="l" t="t" r="r" b="b"/>
            <a:pathLst>
              <a:path w="46" h="36">
                <a:moveTo>
                  <a:pt x="6" y="2"/>
                </a:moveTo>
                <a:lnTo>
                  <a:pt x="14" y="0"/>
                </a:lnTo>
                <a:lnTo>
                  <a:pt x="19" y="0"/>
                </a:lnTo>
                <a:lnTo>
                  <a:pt x="27" y="4"/>
                </a:lnTo>
                <a:lnTo>
                  <a:pt x="35" y="8"/>
                </a:lnTo>
                <a:lnTo>
                  <a:pt x="40" y="12"/>
                </a:lnTo>
                <a:lnTo>
                  <a:pt x="44" y="19"/>
                </a:lnTo>
                <a:lnTo>
                  <a:pt x="46" y="25"/>
                </a:lnTo>
                <a:lnTo>
                  <a:pt x="46" y="35"/>
                </a:lnTo>
                <a:lnTo>
                  <a:pt x="36" y="36"/>
                </a:lnTo>
                <a:lnTo>
                  <a:pt x="27" y="35"/>
                </a:lnTo>
                <a:lnTo>
                  <a:pt x="19" y="33"/>
                </a:lnTo>
                <a:lnTo>
                  <a:pt x="10" y="27"/>
                </a:lnTo>
                <a:lnTo>
                  <a:pt x="2" y="19"/>
                </a:lnTo>
                <a:lnTo>
                  <a:pt x="0" y="14"/>
                </a:lnTo>
                <a:lnTo>
                  <a:pt x="0" y="6"/>
                </a:lnTo>
                <a:lnTo>
                  <a:pt x="6" y="2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315760" y="5396040"/>
            <a:ext cx="446040" cy="72720"/>
          </a:xfrm>
          <a:custGeom>
            <a:avLst/>
            <a:gdLst/>
            <a:ahLst/>
            <a:rect l="l" t="t" r="r" b="b"/>
            <a:pathLst>
              <a:path w="562" h="94">
                <a:moveTo>
                  <a:pt x="484" y="0"/>
                </a:moveTo>
                <a:lnTo>
                  <a:pt x="494" y="0"/>
                </a:lnTo>
                <a:lnTo>
                  <a:pt x="503" y="0"/>
                </a:lnTo>
                <a:lnTo>
                  <a:pt x="513" y="0"/>
                </a:lnTo>
                <a:lnTo>
                  <a:pt x="524" y="0"/>
                </a:lnTo>
                <a:lnTo>
                  <a:pt x="534" y="0"/>
                </a:lnTo>
                <a:lnTo>
                  <a:pt x="543" y="0"/>
                </a:lnTo>
                <a:lnTo>
                  <a:pt x="553" y="0"/>
                </a:lnTo>
                <a:lnTo>
                  <a:pt x="562" y="0"/>
                </a:lnTo>
                <a:lnTo>
                  <a:pt x="562" y="4"/>
                </a:lnTo>
                <a:lnTo>
                  <a:pt x="562" y="8"/>
                </a:lnTo>
                <a:lnTo>
                  <a:pt x="553" y="10"/>
                </a:lnTo>
                <a:lnTo>
                  <a:pt x="545" y="12"/>
                </a:lnTo>
                <a:lnTo>
                  <a:pt x="536" y="12"/>
                </a:lnTo>
                <a:lnTo>
                  <a:pt x="526" y="16"/>
                </a:lnTo>
                <a:lnTo>
                  <a:pt x="517" y="16"/>
                </a:lnTo>
                <a:lnTo>
                  <a:pt x="509" y="18"/>
                </a:lnTo>
                <a:lnTo>
                  <a:pt x="500" y="19"/>
                </a:lnTo>
                <a:lnTo>
                  <a:pt x="492" y="21"/>
                </a:lnTo>
                <a:lnTo>
                  <a:pt x="482" y="21"/>
                </a:lnTo>
                <a:lnTo>
                  <a:pt x="473" y="23"/>
                </a:lnTo>
                <a:lnTo>
                  <a:pt x="465" y="25"/>
                </a:lnTo>
                <a:lnTo>
                  <a:pt x="456" y="27"/>
                </a:lnTo>
                <a:lnTo>
                  <a:pt x="446" y="27"/>
                </a:lnTo>
                <a:lnTo>
                  <a:pt x="439" y="29"/>
                </a:lnTo>
                <a:lnTo>
                  <a:pt x="429" y="29"/>
                </a:lnTo>
                <a:lnTo>
                  <a:pt x="422" y="31"/>
                </a:lnTo>
                <a:lnTo>
                  <a:pt x="412" y="31"/>
                </a:lnTo>
                <a:lnTo>
                  <a:pt x="403" y="33"/>
                </a:lnTo>
                <a:lnTo>
                  <a:pt x="395" y="35"/>
                </a:lnTo>
                <a:lnTo>
                  <a:pt x="385" y="37"/>
                </a:lnTo>
                <a:lnTo>
                  <a:pt x="376" y="37"/>
                </a:lnTo>
                <a:lnTo>
                  <a:pt x="368" y="37"/>
                </a:lnTo>
                <a:lnTo>
                  <a:pt x="359" y="38"/>
                </a:lnTo>
                <a:lnTo>
                  <a:pt x="351" y="40"/>
                </a:lnTo>
                <a:lnTo>
                  <a:pt x="342" y="40"/>
                </a:lnTo>
                <a:lnTo>
                  <a:pt x="332" y="42"/>
                </a:lnTo>
                <a:lnTo>
                  <a:pt x="323" y="42"/>
                </a:lnTo>
                <a:lnTo>
                  <a:pt x="315" y="44"/>
                </a:lnTo>
                <a:lnTo>
                  <a:pt x="306" y="44"/>
                </a:lnTo>
                <a:lnTo>
                  <a:pt x="296" y="46"/>
                </a:lnTo>
                <a:lnTo>
                  <a:pt x="288" y="46"/>
                </a:lnTo>
                <a:lnTo>
                  <a:pt x="279" y="48"/>
                </a:lnTo>
                <a:lnTo>
                  <a:pt x="269" y="48"/>
                </a:lnTo>
                <a:lnTo>
                  <a:pt x="260" y="50"/>
                </a:lnTo>
                <a:lnTo>
                  <a:pt x="252" y="52"/>
                </a:lnTo>
                <a:lnTo>
                  <a:pt x="243" y="52"/>
                </a:lnTo>
                <a:lnTo>
                  <a:pt x="233" y="54"/>
                </a:lnTo>
                <a:lnTo>
                  <a:pt x="226" y="54"/>
                </a:lnTo>
                <a:lnTo>
                  <a:pt x="216" y="56"/>
                </a:lnTo>
                <a:lnTo>
                  <a:pt x="209" y="57"/>
                </a:lnTo>
                <a:lnTo>
                  <a:pt x="199" y="57"/>
                </a:lnTo>
                <a:lnTo>
                  <a:pt x="190" y="59"/>
                </a:lnTo>
                <a:lnTo>
                  <a:pt x="182" y="59"/>
                </a:lnTo>
                <a:lnTo>
                  <a:pt x="173" y="61"/>
                </a:lnTo>
                <a:lnTo>
                  <a:pt x="163" y="63"/>
                </a:lnTo>
                <a:lnTo>
                  <a:pt x="155" y="63"/>
                </a:lnTo>
                <a:lnTo>
                  <a:pt x="146" y="65"/>
                </a:lnTo>
                <a:lnTo>
                  <a:pt x="138" y="67"/>
                </a:lnTo>
                <a:lnTo>
                  <a:pt x="129" y="67"/>
                </a:lnTo>
                <a:lnTo>
                  <a:pt x="119" y="69"/>
                </a:lnTo>
                <a:lnTo>
                  <a:pt x="112" y="71"/>
                </a:lnTo>
                <a:lnTo>
                  <a:pt x="102" y="73"/>
                </a:lnTo>
                <a:lnTo>
                  <a:pt x="93" y="73"/>
                </a:lnTo>
                <a:lnTo>
                  <a:pt x="85" y="75"/>
                </a:lnTo>
                <a:lnTo>
                  <a:pt x="76" y="76"/>
                </a:lnTo>
                <a:lnTo>
                  <a:pt x="68" y="78"/>
                </a:lnTo>
                <a:lnTo>
                  <a:pt x="58" y="80"/>
                </a:lnTo>
                <a:lnTo>
                  <a:pt x="49" y="82"/>
                </a:lnTo>
                <a:lnTo>
                  <a:pt x="41" y="82"/>
                </a:lnTo>
                <a:lnTo>
                  <a:pt x="34" y="84"/>
                </a:lnTo>
                <a:lnTo>
                  <a:pt x="24" y="88"/>
                </a:lnTo>
                <a:lnTo>
                  <a:pt x="17" y="90"/>
                </a:lnTo>
                <a:lnTo>
                  <a:pt x="7" y="92"/>
                </a:lnTo>
                <a:lnTo>
                  <a:pt x="0" y="94"/>
                </a:lnTo>
                <a:lnTo>
                  <a:pt x="7" y="92"/>
                </a:lnTo>
                <a:lnTo>
                  <a:pt x="13" y="88"/>
                </a:lnTo>
                <a:lnTo>
                  <a:pt x="19" y="84"/>
                </a:lnTo>
                <a:lnTo>
                  <a:pt x="26" y="82"/>
                </a:lnTo>
                <a:lnTo>
                  <a:pt x="34" y="80"/>
                </a:lnTo>
                <a:lnTo>
                  <a:pt x="39" y="78"/>
                </a:lnTo>
                <a:lnTo>
                  <a:pt x="47" y="75"/>
                </a:lnTo>
                <a:lnTo>
                  <a:pt x="55" y="73"/>
                </a:lnTo>
                <a:lnTo>
                  <a:pt x="62" y="71"/>
                </a:lnTo>
                <a:lnTo>
                  <a:pt x="68" y="69"/>
                </a:lnTo>
                <a:lnTo>
                  <a:pt x="76" y="65"/>
                </a:lnTo>
                <a:lnTo>
                  <a:pt x="83" y="63"/>
                </a:lnTo>
                <a:lnTo>
                  <a:pt x="91" y="61"/>
                </a:lnTo>
                <a:lnTo>
                  <a:pt x="96" y="61"/>
                </a:lnTo>
                <a:lnTo>
                  <a:pt x="104" y="57"/>
                </a:lnTo>
                <a:lnTo>
                  <a:pt x="114" y="57"/>
                </a:lnTo>
                <a:lnTo>
                  <a:pt x="119" y="56"/>
                </a:lnTo>
                <a:lnTo>
                  <a:pt x="127" y="54"/>
                </a:lnTo>
                <a:lnTo>
                  <a:pt x="135" y="52"/>
                </a:lnTo>
                <a:lnTo>
                  <a:pt x="142" y="52"/>
                </a:lnTo>
                <a:lnTo>
                  <a:pt x="150" y="48"/>
                </a:lnTo>
                <a:lnTo>
                  <a:pt x="157" y="48"/>
                </a:lnTo>
                <a:lnTo>
                  <a:pt x="165" y="46"/>
                </a:lnTo>
                <a:lnTo>
                  <a:pt x="173" y="44"/>
                </a:lnTo>
                <a:lnTo>
                  <a:pt x="180" y="42"/>
                </a:lnTo>
                <a:lnTo>
                  <a:pt x="188" y="42"/>
                </a:lnTo>
                <a:lnTo>
                  <a:pt x="195" y="40"/>
                </a:lnTo>
                <a:lnTo>
                  <a:pt x="203" y="38"/>
                </a:lnTo>
                <a:lnTo>
                  <a:pt x="211" y="38"/>
                </a:lnTo>
                <a:lnTo>
                  <a:pt x="220" y="37"/>
                </a:lnTo>
                <a:lnTo>
                  <a:pt x="226" y="37"/>
                </a:lnTo>
                <a:lnTo>
                  <a:pt x="235" y="37"/>
                </a:lnTo>
                <a:lnTo>
                  <a:pt x="241" y="35"/>
                </a:lnTo>
                <a:lnTo>
                  <a:pt x="250" y="33"/>
                </a:lnTo>
                <a:lnTo>
                  <a:pt x="258" y="31"/>
                </a:lnTo>
                <a:lnTo>
                  <a:pt x="266" y="31"/>
                </a:lnTo>
                <a:lnTo>
                  <a:pt x="271" y="29"/>
                </a:lnTo>
                <a:lnTo>
                  <a:pt x="281" y="29"/>
                </a:lnTo>
                <a:lnTo>
                  <a:pt x="288" y="27"/>
                </a:lnTo>
                <a:lnTo>
                  <a:pt x="296" y="27"/>
                </a:lnTo>
                <a:lnTo>
                  <a:pt x="304" y="25"/>
                </a:lnTo>
                <a:lnTo>
                  <a:pt x="311" y="25"/>
                </a:lnTo>
                <a:lnTo>
                  <a:pt x="319" y="21"/>
                </a:lnTo>
                <a:lnTo>
                  <a:pt x="327" y="21"/>
                </a:lnTo>
                <a:lnTo>
                  <a:pt x="334" y="21"/>
                </a:lnTo>
                <a:lnTo>
                  <a:pt x="344" y="19"/>
                </a:lnTo>
                <a:lnTo>
                  <a:pt x="351" y="19"/>
                </a:lnTo>
                <a:lnTo>
                  <a:pt x="359" y="19"/>
                </a:lnTo>
                <a:lnTo>
                  <a:pt x="366" y="18"/>
                </a:lnTo>
                <a:lnTo>
                  <a:pt x="374" y="16"/>
                </a:lnTo>
                <a:lnTo>
                  <a:pt x="382" y="16"/>
                </a:lnTo>
                <a:lnTo>
                  <a:pt x="389" y="14"/>
                </a:lnTo>
                <a:lnTo>
                  <a:pt x="397" y="12"/>
                </a:lnTo>
                <a:lnTo>
                  <a:pt x="406" y="12"/>
                </a:lnTo>
                <a:lnTo>
                  <a:pt x="414" y="10"/>
                </a:lnTo>
                <a:lnTo>
                  <a:pt x="422" y="10"/>
                </a:lnTo>
                <a:lnTo>
                  <a:pt x="429" y="8"/>
                </a:lnTo>
                <a:lnTo>
                  <a:pt x="437" y="6"/>
                </a:lnTo>
                <a:lnTo>
                  <a:pt x="444" y="6"/>
                </a:lnTo>
                <a:lnTo>
                  <a:pt x="452" y="4"/>
                </a:lnTo>
                <a:lnTo>
                  <a:pt x="460" y="2"/>
                </a:lnTo>
                <a:lnTo>
                  <a:pt x="469" y="2"/>
                </a:lnTo>
                <a:lnTo>
                  <a:pt x="475" y="0"/>
                </a:lnTo>
                <a:lnTo>
                  <a:pt x="484" y="0"/>
                </a:lnTo>
                <a:lnTo>
                  <a:pt x="4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166720" y="5504040"/>
            <a:ext cx="447480" cy="58680"/>
          </a:xfrm>
          <a:custGeom>
            <a:avLst/>
            <a:gdLst/>
            <a:ahLst/>
            <a:rect l="l" t="t" r="r" b="b"/>
            <a:pathLst>
              <a:path w="564" h="74">
                <a:moveTo>
                  <a:pt x="188" y="6"/>
                </a:moveTo>
                <a:lnTo>
                  <a:pt x="199" y="6"/>
                </a:lnTo>
                <a:lnTo>
                  <a:pt x="211" y="6"/>
                </a:lnTo>
                <a:lnTo>
                  <a:pt x="215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39" y="6"/>
                </a:lnTo>
                <a:lnTo>
                  <a:pt x="247" y="6"/>
                </a:lnTo>
                <a:lnTo>
                  <a:pt x="251" y="6"/>
                </a:lnTo>
                <a:lnTo>
                  <a:pt x="258" y="6"/>
                </a:lnTo>
                <a:lnTo>
                  <a:pt x="262" y="6"/>
                </a:lnTo>
                <a:lnTo>
                  <a:pt x="270" y="6"/>
                </a:lnTo>
                <a:lnTo>
                  <a:pt x="275" y="6"/>
                </a:lnTo>
                <a:lnTo>
                  <a:pt x="283" y="6"/>
                </a:lnTo>
                <a:lnTo>
                  <a:pt x="287" y="6"/>
                </a:lnTo>
                <a:lnTo>
                  <a:pt x="295" y="6"/>
                </a:lnTo>
                <a:lnTo>
                  <a:pt x="298" y="4"/>
                </a:lnTo>
                <a:lnTo>
                  <a:pt x="306" y="4"/>
                </a:lnTo>
                <a:lnTo>
                  <a:pt x="312" y="4"/>
                </a:lnTo>
                <a:lnTo>
                  <a:pt x="317" y="4"/>
                </a:lnTo>
                <a:lnTo>
                  <a:pt x="323" y="4"/>
                </a:lnTo>
                <a:lnTo>
                  <a:pt x="331" y="4"/>
                </a:lnTo>
                <a:lnTo>
                  <a:pt x="334" y="2"/>
                </a:lnTo>
                <a:lnTo>
                  <a:pt x="342" y="2"/>
                </a:lnTo>
                <a:lnTo>
                  <a:pt x="348" y="2"/>
                </a:lnTo>
                <a:lnTo>
                  <a:pt x="353" y="2"/>
                </a:lnTo>
                <a:lnTo>
                  <a:pt x="361" y="2"/>
                </a:lnTo>
                <a:lnTo>
                  <a:pt x="367" y="2"/>
                </a:lnTo>
                <a:lnTo>
                  <a:pt x="372" y="2"/>
                </a:lnTo>
                <a:lnTo>
                  <a:pt x="380" y="2"/>
                </a:lnTo>
                <a:lnTo>
                  <a:pt x="386" y="0"/>
                </a:lnTo>
                <a:lnTo>
                  <a:pt x="391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4" y="0"/>
                </a:lnTo>
                <a:lnTo>
                  <a:pt x="422" y="0"/>
                </a:lnTo>
                <a:lnTo>
                  <a:pt x="428" y="0"/>
                </a:lnTo>
                <a:lnTo>
                  <a:pt x="433" y="0"/>
                </a:lnTo>
                <a:lnTo>
                  <a:pt x="439" y="0"/>
                </a:lnTo>
                <a:lnTo>
                  <a:pt x="445" y="0"/>
                </a:lnTo>
                <a:lnTo>
                  <a:pt x="450" y="0"/>
                </a:lnTo>
                <a:lnTo>
                  <a:pt x="456" y="0"/>
                </a:lnTo>
                <a:lnTo>
                  <a:pt x="462" y="2"/>
                </a:lnTo>
                <a:lnTo>
                  <a:pt x="469" y="2"/>
                </a:lnTo>
                <a:lnTo>
                  <a:pt x="475" y="2"/>
                </a:lnTo>
                <a:lnTo>
                  <a:pt x="487" y="2"/>
                </a:lnTo>
                <a:lnTo>
                  <a:pt x="498" y="6"/>
                </a:lnTo>
                <a:lnTo>
                  <a:pt x="502" y="6"/>
                </a:lnTo>
                <a:lnTo>
                  <a:pt x="509" y="6"/>
                </a:lnTo>
                <a:lnTo>
                  <a:pt x="515" y="8"/>
                </a:lnTo>
                <a:lnTo>
                  <a:pt x="521" y="10"/>
                </a:lnTo>
                <a:lnTo>
                  <a:pt x="530" y="12"/>
                </a:lnTo>
                <a:lnTo>
                  <a:pt x="544" y="16"/>
                </a:lnTo>
                <a:lnTo>
                  <a:pt x="553" y="19"/>
                </a:lnTo>
                <a:lnTo>
                  <a:pt x="564" y="23"/>
                </a:lnTo>
                <a:lnTo>
                  <a:pt x="557" y="23"/>
                </a:lnTo>
                <a:lnTo>
                  <a:pt x="549" y="23"/>
                </a:lnTo>
                <a:lnTo>
                  <a:pt x="542" y="23"/>
                </a:lnTo>
                <a:lnTo>
                  <a:pt x="534" y="23"/>
                </a:lnTo>
                <a:lnTo>
                  <a:pt x="525" y="23"/>
                </a:lnTo>
                <a:lnTo>
                  <a:pt x="517" y="23"/>
                </a:lnTo>
                <a:lnTo>
                  <a:pt x="509" y="25"/>
                </a:lnTo>
                <a:lnTo>
                  <a:pt x="502" y="25"/>
                </a:lnTo>
                <a:lnTo>
                  <a:pt x="494" y="25"/>
                </a:lnTo>
                <a:lnTo>
                  <a:pt x="487" y="25"/>
                </a:lnTo>
                <a:lnTo>
                  <a:pt x="479" y="27"/>
                </a:lnTo>
                <a:lnTo>
                  <a:pt x="471" y="27"/>
                </a:lnTo>
                <a:lnTo>
                  <a:pt x="464" y="27"/>
                </a:lnTo>
                <a:lnTo>
                  <a:pt x="456" y="29"/>
                </a:lnTo>
                <a:lnTo>
                  <a:pt x="449" y="29"/>
                </a:lnTo>
                <a:lnTo>
                  <a:pt x="443" y="31"/>
                </a:lnTo>
                <a:lnTo>
                  <a:pt x="433" y="31"/>
                </a:lnTo>
                <a:lnTo>
                  <a:pt x="426" y="31"/>
                </a:lnTo>
                <a:lnTo>
                  <a:pt x="418" y="33"/>
                </a:lnTo>
                <a:lnTo>
                  <a:pt x="412" y="35"/>
                </a:lnTo>
                <a:lnTo>
                  <a:pt x="405" y="35"/>
                </a:lnTo>
                <a:lnTo>
                  <a:pt x="397" y="35"/>
                </a:lnTo>
                <a:lnTo>
                  <a:pt x="390" y="36"/>
                </a:lnTo>
                <a:lnTo>
                  <a:pt x="382" y="36"/>
                </a:lnTo>
                <a:lnTo>
                  <a:pt x="374" y="36"/>
                </a:lnTo>
                <a:lnTo>
                  <a:pt x="367" y="38"/>
                </a:lnTo>
                <a:lnTo>
                  <a:pt x="359" y="38"/>
                </a:lnTo>
                <a:lnTo>
                  <a:pt x="352" y="42"/>
                </a:lnTo>
                <a:lnTo>
                  <a:pt x="344" y="42"/>
                </a:lnTo>
                <a:lnTo>
                  <a:pt x="338" y="44"/>
                </a:lnTo>
                <a:lnTo>
                  <a:pt x="331" y="44"/>
                </a:lnTo>
                <a:lnTo>
                  <a:pt x="323" y="46"/>
                </a:lnTo>
                <a:lnTo>
                  <a:pt x="315" y="46"/>
                </a:lnTo>
                <a:lnTo>
                  <a:pt x="308" y="48"/>
                </a:lnTo>
                <a:lnTo>
                  <a:pt x="300" y="48"/>
                </a:lnTo>
                <a:lnTo>
                  <a:pt x="293" y="50"/>
                </a:lnTo>
                <a:lnTo>
                  <a:pt x="285" y="50"/>
                </a:lnTo>
                <a:lnTo>
                  <a:pt x="277" y="52"/>
                </a:lnTo>
                <a:lnTo>
                  <a:pt x="270" y="52"/>
                </a:lnTo>
                <a:lnTo>
                  <a:pt x="262" y="54"/>
                </a:lnTo>
                <a:lnTo>
                  <a:pt x="255" y="54"/>
                </a:lnTo>
                <a:lnTo>
                  <a:pt x="247" y="55"/>
                </a:lnTo>
                <a:lnTo>
                  <a:pt x="239" y="55"/>
                </a:lnTo>
                <a:lnTo>
                  <a:pt x="234" y="57"/>
                </a:lnTo>
                <a:lnTo>
                  <a:pt x="224" y="57"/>
                </a:lnTo>
                <a:lnTo>
                  <a:pt x="218" y="61"/>
                </a:lnTo>
                <a:lnTo>
                  <a:pt x="211" y="61"/>
                </a:lnTo>
                <a:lnTo>
                  <a:pt x="203" y="63"/>
                </a:lnTo>
                <a:lnTo>
                  <a:pt x="196" y="63"/>
                </a:lnTo>
                <a:lnTo>
                  <a:pt x="188" y="63"/>
                </a:lnTo>
                <a:lnTo>
                  <a:pt x="180" y="65"/>
                </a:lnTo>
                <a:lnTo>
                  <a:pt x="173" y="65"/>
                </a:lnTo>
                <a:lnTo>
                  <a:pt x="165" y="65"/>
                </a:lnTo>
                <a:lnTo>
                  <a:pt x="158" y="67"/>
                </a:lnTo>
                <a:lnTo>
                  <a:pt x="150" y="67"/>
                </a:lnTo>
                <a:lnTo>
                  <a:pt x="144" y="69"/>
                </a:lnTo>
                <a:lnTo>
                  <a:pt x="135" y="69"/>
                </a:lnTo>
                <a:lnTo>
                  <a:pt x="127" y="71"/>
                </a:lnTo>
                <a:lnTo>
                  <a:pt x="120" y="71"/>
                </a:lnTo>
                <a:lnTo>
                  <a:pt x="112" y="73"/>
                </a:lnTo>
                <a:lnTo>
                  <a:pt x="104" y="73"/>
                </a:lnTo>
                <a:lnTo>
                  <a:pt x="99" y="73"/>
                </a:lnTo>
                <a:lnTo>
                  <a:pt x="89" y="74"/>
                </a:lnTo>
                <a:lnTo>
                  <a:pt x="83" y="74"/>
                </a:lnTo>
                <a:lnTo>
                  <a:pt x="83" y="65"/>
                </a:lnTo>
                <a:lnTo>
                  <a:pt x="91" y="57"/>
                </a:lnTo>
                <a:lnTo>
                  <a:pt x="82" y="55"/>
                </a:lnTo>
                <a:lnTo>
                  <a:pt x="74" y="55"/>
                </a:lnTo>
                <a:lnTo>
                  <a:pt x="68" y="54"/>
                </a:lnTo>
                <a:lnTo>
                  <a:pt x="63" y="54"/>
                </a:lnTo>
                <a:lnTo>
                  <a:pt x="55" y="52"/>
                </a:lnTo>
                <a:lnTo>
                  <a:pt x="47" y="52"/>
                </a:lnTo>
                <a:lnTo>
                  <a:pt x="44" y="50"/>
                </a:lnTo>
                <a:lnTo>
                  <a:pt x="38" y="50"/>
                </a:lnTo>
                <a:lnTo>
                  <a:pt x="28" y="48"/>
                </a:lnTo>
                <a:lnTo>
                  <a:pt x="21" y="46"/>
                </a:lnTo>
                <a:lnTo>
                  <a:pt x="15" y="44"/>
                </a:lnTo>
                <a:lnTo>
                  <a:pt x="9" y="42"/>
                </a:lnTo>
                <a:lnTo>
                  <a:pt x="2" y="36"/>
                </a:lnTo>
                <a:lnTo>
                  <a:pt x="0" y="33"/>
                </a:lnTo>
                <a:lnTo>
                  <a:pt x="2" y="27"/>
                </a:lnTo>
                <a:lnTo>
                  <a:pt x="7" y="25"/>
                </a:lnTo>
                <a:lnTo>
                  <a:pt x="11" y="21"/>
                </a:lnTo>
                <a:lnTo>
                  <a:pt x="15" y="19"/>
                </a:lnTo>
                <a:lnTo>
                  <a:pt x="21" y="17"/>
                </a:lnTo>
                <a:lnTo>
                  <a:pt x="26" y="16"/>
                </a:lnTo>
                <a:lnTo>
                  <a:pt x="34" y="14"/>
                </a:lnTo>
                <a:lnTo>
                  <a:pt x="40" y="12"/>
                </a:lnTo>
                <a:lnTo>
                  <a:pt x="47" y="12"/>
                </a:lnTo>
                <a:lnTo>
                  <a:pt x="57" y="12"/>
                </a:lnTo>
                <a:lnTo>
                  <a:pt x="66" y="10"/>
                </a:lnTo>
                <a:lnTo>
                  <a:pt x="76" y="10"/>
                </a:lnTo>
                <a:lnTo>
                  <a:pt x="85" y="10"/>
                </a:lnTo>
                <a:lnTo>
                  <a:pt x="95" y="10"/>
                </a:lnTo>
                <a:lnTo>
                  <a:pt x="104" y="10"/>
                </a:lnTo>
                <a:lnTo>
                  <a:pt x="116" y="12"/>
                </a:lnTo>
                <a:lnTo>
                  <a:pt x="127" y="12"/>
                </a:lnTo>
                <a:lnTo>
                  <a:pt x="139" y="16"/>
                </a:lnTo>
                <a:lnTo>
                  <a:pt x="144" y="14"/>
                </a:lnTo>
                <a:lnTo>
                  <a:pt x="150" y="14"/>
                </a:lnTo>
                <a:lnTo>
                  <a:pt x="156" y="14"/>
                </a:lnTo>
                <a:lnTo>
                  <a:pt x="163" y="14"/>
                </a:lnTo>
                <a:lnTo>
                  <a:pt x="169" y="12"/>
                </a:lnTo>
                <a:lnTo>
                  <a:pt x="177" y="10"/>
                </a:lnTo>
                <a:lnTo>
                  <a:pt x="182" y="8"/>
                </a:lnTo>
                <a:lnTo>
                  <a:pt x="188" y="6"/>
                </a:lnTo>
                <a:lnTo>
                  <a:pt x="18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058080" y="5526000"/>
            <a:ext cx="1063440" cy="74880"/>
          </a:xfrm>
          <a:custGeom>
            <a:avLst/>
            <a:gdLst/>
            <a:ahLst/>
            <a:rect l="l" t="t" r="r" b="b"/>
            <a:pathLst>
              <a:path w="1340" h="93">
                <a:moveTo>
                  <a:pt x="482" y="0"/>
                </a:moveTo>
                <a:lnTo>
                  <a:pt x="496" y="0"/>
                </a:lnTo>
                <a:lnTo>
                  <a:pt x="507" y="0"/>
                </a:lnTo>
                <a:lnTo>
                  <a:pt x="520" y="0"/>
                </a:lnTo>
                <a:lnTo>
                  <a:pt x="534" y="0"/>
                </a:lnTo>
                <a:lnTo>
                  <a:pt x="545" y="0"/>
                </a:lnTo>
                <a:lnTo>
                  <a:pt x="558" y="0"/>
                </a:lnTo>
                <a:lnTo>
                  <a:pt x="572" y="0"/>
                </a:lnTo>
                <a:lnTo>
                  <a:pt x="585" y="2"/>
                </a:lnTo>
                <a:lnTo>
                  <a:pt x="598" y="2"/>
                </a:lnTo>
                <a:lnTo>
                  <a:pt x="610" y="2"/>
                </a:lnTo>
                <a:lnTo>
                  <a:pt x="623" y="2"/>
                </a:lnTo>
                <a:lnTo>
                  <a:pt x="636" y="2"/>
                </a:lnTo>
                <a:lnTo>
                  <a:pt x="650" y="2"/>
                </a:lnTo>
                <a:lnTo>
                  <a:pt x="663" y="2"/>
                </a:lnTo>
                <a:lnTo>
                  <a:pt x="676" y="2"/>
                </a:lnTo>
                <a:lnTo>
                  <a:pt x="692" y="2"/>
                </a:lnTo>
                <a:lnTo>
                  <a:pt x="703" y="2"/>
                </a:lnTo>
                <a:lnTo>
                  <a:pt x="716" y="2"/>
                </a:lnTo>
                <a:lnTo>
                  <a:pt x="730" y="2"/>
                </a:lnTo>
                <a:lnTo>
                  <a:pt x="745" y="2"/>
                </a:lnTo>
                <a:lnTo>
                  <a:pt x="756" y="2"/>
                </a:lnTo>
                <a:lnTo>
                  <a:pt x="769" y="2"/>
                </a:lnTo>
                <a:lnTo>
                  <a:pt x="785" y="2"/>
                </a:lnTo>
                <a:lnTo>
                  <a:pt x="798" y="4"/>
                </a:lnTo>
                <a:lnTo>
                  <a:pt x="811" y="4"/>
                </a:lnTo>
                <a:lnTo>
                  <a:pt x="825" y="4"/>
                </a:lnTo>
                <a:lnTo>
                  <a:pt x="838" y="4"/>
                </a:lnTo>
                <a:lnTo>
                  <a:pt x="851" y="4"/>
                </a:lnTo>
                <a:lnTo>
                  <a:pt x="865" y="4"/>
                </a:lnTo>
                <a:lnTo>
                  <a:pt x="878" y="4"/>
                </a:lnTo>
                <a:lnTo>
                  <a:pt x="893" y="4"/>
                </a:lnTo>
                <a:lnTo>
                  <a:pt x="906" y="6"/>
                </a:lnTo>
                <a:lnTo>
                  <a:pt x="920" y="6"/>
                </a:lnTo>
                <a:lnTo>
                  <a:pt x="933" y="6"/>
                </a:lnTo>
                <a:lnTo>
                  <a:pt x="948" y="6"/>
                </a:lnTo>
                <a:lnTo>
                  <a:pt x="961" y="6"/>
                </a:lnTo>
                <a:lnTo>
                  <a:pt x="973" y="6"/>
                </a:lnTo>
                <a:lnTo>
                  <a:pt x="988" y="6"/>
                </a:lnTo>
                <a:lnTo>
                  <a:pt x="1001" y="6"/>
                </a:lnTo>
                <a:lnTo>
                  <a:pt x="1015" y="7"/>
                </a:lnTo>
                <a:lnTo>
                  <a:pt x="1028" y="7"/>
                </a:lnTo>
                <a:lnTo>
                  <a:pt x="1041" y="7"/>
                </a:lnTo>
                <a:lnTo>
                  <a:pt x="1055" y="7"/>
                </a:lnTo>
                <a:lnTo>
                  <a:pt x="1070" y="9"/>
                </a:lnTo>
                <a:lnTo>
                  <a:pt x="1081" y="9"/>
                </a:lnTo>
                <a:lnTo>
                  <a:pt x="1096" y="9"/>
                </a:lnTo>
                <a:lnTo>
                  <a:pt x="1110" y="11"/>
                </a:lnTo>
                <a:lnTo>
                  <a:pt x="1125" y="13"/>
                </a:lnTo>
                <a:lnTo>
                  <a:pt x="1136" y="13"/>
                </a:lnTo>
                <a:lnTo>
                  <a:pt x="1152" y="13"/>
                </a:lnTo>
                <a:lnTo>
                  <a:pt x="1163" y="15"/>
                </a:lnTo>
                <a:lnTo>
                  <a:pt x="1176" y="15"/>
                </a:lnTo>
                <a:lnTo>
                  <a:pt x="1190" y="15"/>
                </a:lnTo>
                <a:lnTo>
                  <a:pt x="1203" y="17"/>
                </a:lnTo>
                <a:lnTo>
                  <a:pt x="1218" y="17"/>
                </a:lnTo>
                <a:lnTo>
                  <a:pt x="1231" y="19"/>
                </a:lnTo>
                <a:lnTo>
                  <a:pt x="1245" y="21"/>
                </a:lnTo>
                <a:lnTo>
                  <a:pt x="1258" y="23"/>
                </a:lnTo>
                <a:lnTo>
                  <a:pt x="1271" y="25"/>
                </a:lnTo>
                <a:lnTo>
                  <a:pt x="1285" y="26"/>
                </a:lnTo>
                <a:lnTo>
                  <a:pt x="1298" y="26"/>
                </a:lnTo>
                <a:lnTo>
                  <a:pt x="1311" y="28"/>
                </a:lnTo>
                <a:lnTo>
                  <a:pt x="1325" y="30"/>
                </a:lnTo>
                <a:lnTo>
                  <a:pt x="1340" y="34"/>
                </a:lnTo>
                <a:lnTo>
                  <a:pt x="1319" y="34"/>
                </a:lnTo>
                <a:lnTo>
                  <a:pt x="1298" y="38"/>
                </a:lnTo>
                <a:lnTo>
                  <a:pt x="1277" y="38"/>
                </a:lnTo>
                <a:lnTo>
                  <a:pt x="1258" y="42"/>
                </a:lnTo>
                <a:lnTo>
                  <a:pt x="1237" y="44"/>
                </a:lnTo>
                <a:lnTo>
                  <a:pt x="1218" y="45"/>
                </a:lnTo>
                <a:lnTo>
                  <a:pt x="1195" y="45"/>
                </a:lnTo>
                <a:lnTo>
                  <a:pt x="1176" y="47"/>
                </a:lnTo>
                <a:lnTo>
                  <a:pt x="1155" y="47"/>
                </a:lnTo>
                <a:lnTo>
                  <a:pt x="1136" y="49"/>
                </a:lnTo>
                <a:lnTo>
                  <a:pt x="1115" y="51"/>
                </a:lnTo>
                <a:lnTo>
                  <a:pt x="1096" y="51"/>
                </a:lnTo>
                <a:lnTo>
                  <a:pt x="1074" y="51"/>
                </a:lnTo>
                <a:lnTo>
                  <a:pt x="1055" y="53"/>
                </a:lnTo>
                <a:lnTo>
                  <a:pt x="1034" y="53"/>
                </a:lnTo>
                <a:lnTo>
                  <a:pt x="1015" y="53"/>
                </a:lnTo>
                <a:lnTo>
                  <a:pt x="992" y="53"/>
                </a:lnTo>
                <a:lnTo>
                  <a:pt x="973" y="53"/>
                </a:lnTo>
                <a:lnTo>
                  <a:pt x="952" y="53"/>
                </a:lnTo>
                <a:lnTo>
                  <a:pt x="931" y="53"/>
                </a:lnTo>
                <a:lnTo>
                  <a:pt x="910" y="53"/>
                </a:lnTo>
                <a:lnTo>
                  <a:pt x="889" y="53"/>
                </a:lnTo>
                <a:lnTo>
                  <a:pt x="868" y="53"/>
                </a:lnTo>
                <a:lnTo>
                  <a:pt x="849" y="53"/>
                </a:lnTo>
                <a:lnTo>
                  <a:pt x="828" y="51"/>
                </a:lnTo>
                <a:lnTo>
                  <a:pt x="809" y="51"/>
                </a:lnTo>
                <a:lnTo>
                  <a:pt x="787" y="51"/>
                </a:lnTo>
                <a:lnTo>
                  <a:pt x="768" y="51"/>
                </a:lnTo>
                <a:lnTo>
                  <a:pt x="747" y="51"/>
                </a:lnTo>
                <a:lnTo>
                  <a:pt x="726" y="51"/>
                </a:lnTo>
                <a:lnTo>
                  <a:pt x="705" y="51"/>
                </a:lnTo>
                <a:lnTo>
                  <a:pt x="686" y="51"/>
                </a:lnTo>
                <a:lnTo>
                  <a:pt x="665" y="49"/>
                </a:lnTo>
                <a:lnTo>
                  <a:pt x="644" y="49"/>
                </a:lnTo>
                <a:lnTo>
                  <a:pt x="623" y="47"/>
                </a:lnTo>
                <a:lnTo>
                  <a:pt x="602" y="47"/>
                </a:lnTo>
                <a:lnTo>
                  <a:pt x="581" y="47"/>
                </a:lnTo>
                <a:lnTo>
                  <a:pt x="562" y="47"/>
                </a:lnTo>
                <a:lnTo>
                  <a:pt x="541" y="47"/>
                </a:lnTo>
                <a:lnTo>
                  <a:pt x="520" y="47"/>
                </a:lnTo>
                <a:lnTo>
                  <a:pt x="500" y="47"/>
                </a:lnTo>
                <a:lnTo>
                  <a:pt x="479" y="47"/>
                </a:lnTo>
                <a:lnTo>
                  <a:pt x="458" y="47"/>
                </a:lnTo>
                <a:lnTo>
                  <a:pt x="439" y="47"/>
                </a:lnTo>
                <a:lnTo>
                  <a:pt x="416" y="47"/>
                </a:lnTo>
                <a:lnTo>
                  <a:pt x="397" y="49"/>
                </a:lnTo>
                <a:lnTo>
                  <a:pt x="376" y="51"/>
                </a:lnTo>
                <a:lnTo>
                  <a:pt x="357" y="53"/>
                </a:lnTo>
                <a:lnTo>
                  <a:pt x="336" y="53"/>
                </a:lnTo>
                <a:lnTo>
                  <a:pt x="315" y="55"/>
                </a:lnTo>
                <a:lnTo>
                  <a:pt x="294" y="55"/>
                </a:lnTo>
                <a:lnTo>
                  <a:pt x="273" y="57"/>
                </a:lnTo>
                <a:lnTo>
                  <a:pt x="252" y="59"/>
                </a:lnTo>
                <a:lnTo>
                  <a:pt x="233" y="61"/>
                </a:lnTo>
                <a:lnTo>
                  <a:pt x="212" y="63"/>
                </a:lnTo>
                <a:lnTo>
                  <a:pt x="193" y="66"/>
                </a:lnTo>
                <a:lnTo>
                  <a:pt x="173" y="68"/>
                </a:lnTo>
                <a:lnTo>
                  <a:pt x="153" y="70"/>
                </a:lnTo>
                <a:lnTo>
                  <a:pt x="133" y="74"/>
                </a:lnTo>
                <a:lnTo>
                  <a:pt x="114" y="78"/>
                </a:lnTo>
                <a:lnTo>
                  <a:pt x="93" y="82"/>
                </a:lnTo>
                <a:lnTo>
                  <a:pt x="74" y="83"/>
                </a:lnTo>
                <a:lnTo>
                  <a:pt x="53" y="89"/>
                </a:lnTo>
                <a:lnTo>
                  <a:pt x="34" y="93"/>
                </a:lnTo>
                <a:lnTo>
                  <a:pt x="28" y="91"/>
                </a:lnTo>
                <a:lnTo>
                  <a:pt x="22" y="87"/>
                </a:lnTo>
                <a:lnTo>
                  <a:pt x="17" y="85"/>
                </a:lnTo>
                <a:lnTo>
                  <a:pt x="15" y="83"/>
                </a:lnTo>
                <a:lnTo>
                  <a:pt x="7" y="80"/>
                </a:lnTo>
                <a:lnTo>
                  <a:pt x="3" y="76"/>
                </a:lnTo>
                <a:lnTo>
                  <a:pt x="0" y="68"/>
                </a:lnTo>
                <a:lnTo>
                  <a:pt x="5" y="63"/>
                </a:lnTo>
                <a:lnTo>
                  <a:pt x="7" y="59"/>
                </a:lnTo>
                <a:lnTo>
                  <a:pt x="15" y="55"/>
                </a:lnTo>
                <a:lnTo>
                  <a:pt x="22" y="53"/>
                </a:lnTo>
                <a:lnTo>
                  <a:pt x="32" y="51"/>
                </a:lnTo>
                <a:lnTo>
                  <a:pt x="39" y="47"/>
                </a:lnTo>
                <a:lnTo>
                  <a:pt x="51" y="47"/>
                </a:lnTo>
                <a:lnTo>
                  <a:pt x="55" y="45"/>
                </a:lnTo>
                <a:lnTo>
                  <a:pt x="62" y="45"/>
                </a:lnTo>
                <a:lnTo>
                  <a:pt x="68" y="44"/>
                </a:lnTo>
                <a:lnTo>
                  <a:pt x="74" y="44"/>
                </a:lnTo>
                <a:lnTo>
                  <a:pt x="79" y="42"/>
                </a:lnTo>
                <a:lnTo>
                  <a:pt x="87" y="42"/>
                </a:lnTo>
                <a:lnTo>
                  <a:pt x="93" y="40"/>
                </a:lnTo>
                <a:lnTo>
                  <a:pt x="98" y="40"/>
                </a:lnTo>
                <a:lnTo>
                  <a:pt x="106" y="38"/>
                </a:lnTo>
                <a:lnTo>
                  <a:pt x="112" y="38"/>
                </a:lnTo>
                <a:lnTo>
                  <a:pt x="119" y="36"/>
                </a:lnTo>
                <a:lnTo>
                  <a:pt x="127" y="36"/>
                </a:lnTo>
                <a:lnTo>
                  <a:pt x="133" y="36"/>
                </a:lnTo>
                <a:lnTo>
                  <a:pt x="138" y="34"/>
                </a:lnTo>
                <a:lnTo>
                  <a:pt x="146" y="34"/>
                </a:lnTo>
                <a:lnTo>
                  <a:pt x="153" y="34"/>
                </a:lnTo>
                <a:lnTo>
                  <a:pt x="159" y="32"/>
                </a:lnTo>
                <a:lnTo>
                  <a:pt x="167" y="32"/>
                </a:lnTo>
                <a:lnTo>
                  <a:pt x="173" y="32"/>
                </a:lnTo>
                <a:lnTo>
                  <a:pt x="180" y="32"/>
                </a:lnTo>
                <a:lnTo>
                  <a:pt x="186" y="30"/>
                </a:lnTo>
                <a:lnTo>
                  <a:pt x="192" y="28"/>
                </a:lnTo>
                <a:lnTo>
                  <a:pt x="199" y="28"/>
                </a:lnTo>
                <a:lnTo>
                  <a:pt x="205" y="28"/>
                </a:lnTo>
                <a:lnTo>
                  <a:pt x="216" y="26"/>
                </a:lnTo>
                <a:lnTo>
                  <a:pt x="228" y="26"/>
                </a:lnTo>
                <a:lnTo>
                  <a:pt x="237" y="25"/>
                </a:lnTo>
                <a:lnTo>
                  <a:pt x="247" y="25"/>
                </a:lnTo>
                <a:lnTo>
                  <a:pt x="254" y="23"/>
                </a:lnTo>
                <a:lnTo>
                  <a:pt x="262" y="23"/>
                </a:lnTo>
                <a:lnTo>
                  <a:pt x="268" y="19"/>
                </a:lnTo>
                <a:lnTo>
                  <a:pt x="275" y="17"/>
                </a:lnTo>
                <a:lnTo>
                  <a:pt x="281" y="15"/>
                </a:lnTo>
                <a:lnTo>
                  <a:pt x="287" y="13"/>
                </a:lnTo>
                <a:lnTo>
                  <a:pt x="294" y="11"/>
                </a:lnTo>
                <a:lnTo>
                  <a:pt x="302" y="9"/>
                </a:lnTo>
                <a:lnTo>
                  <a:pt x="309" y="9"/>
                </a:lnTo>
                <a:lnTo>
                  <a:pt x="315" y="9"/>
                </a:lnTo>
                <a:lnTo>
                  <a:pt x="323" y="9"/>
                </a:lnTo>
                <a:lnTo>
                  <a:pt x="328" y="9"/>
                </a:lnTo>
                <a:lnTo>
                  <a:pt x="336" y="9"/>
                </a:lnTo>
                <a:lnTo>
                  <a:pt x="344" y="9"/>
                </a:lnTo>
                <a:lnTo>
                  <a:pt x="349" y="9"/>
                </a:lnTo>
                <a:lnTo>
                  <a:pt x="359" y="9"/>
                </a:lnTo>
                <a:lnTo>
                  <a:pt x="365" y="9"/>
                </a:lnTo>
                <a:lnTo>
                  <a:pt x="374" y="11"/>
                </a:lnTo>
                <a:lnTo>
                  <a:pt x="380" y="11"/>
                </a:lnTo>
                <a:lnTo>
                  <a:pt x="387" y="11"/>
                </a:lnTo>
                <a:lnTo>
                  <a:pt x="393" y="11"/>
                </a:lnTo>
                <a:lnTo>
                  <a:pt x="401" y="11"/>
                </a:lnTo>
                <a:lnTo>
                  <a:pt x="406" y="9"/>
                </a:lnTo>
                <a:lnTo>
                  <a:pt x="414" y="9"/>
                </a:lnTo>
                <a:lnTo>
                  <a:pt x="422" y="9"/>
                </a:lnTo>
                <a:lnTo>
                  <a:pt x="429" y="9"/>
                </a:lnTo>
                <a:lnTo>
                  <a:pt x="435" y="9"/>
                </a:lnTo>
                <a:lnTo>
                  <a:pt x="442" y="7"/>
                </a:lnTo>
                <a:lnTo>
                  <a:pt x="448" y="7"/>
                </a:lnTo>
                <a:lnTo>
                  <a:pt x="456" y="6"/>
                </a:lnTo>
                <a:lnTo>
                  <a:pt x="461" y="4"/>
                </a:lnTo>
                <a:lnTo>
                  <a:pt x="469" y="2"/>
                </a:lnTo>
                <a:lnTo>
                  <a:pt x="475" y="0"/>
                </a:lnTo>
                <a:lnTo>
                  <a:pt x="482" y="0"/>
                </a:lnTo>
                <a:lnTo>
                  <a:pt x="4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620640"/>
            <a:ext cx="2427120" cy="1495440"/>
          </a:xfrm>
          <a:custGeom>
            <a:avLst/>
            <a:gdLst/>
            <a:ahLst/>
            <a:rect l="l" t="t" r="r" b="b"/>
            <a:pathLst>
              <a:path w="1529" h="942">
                <a:moveTo>
                  <a:pt x="121" y="567"/>
                </a:moveTo>
                <a:lnTo>
                  <a:pt x="119" y="581"/>
                </a:lnTo>
                <a:lnTo>
                  <a:pt x="111" y="691"/>
                </a:lnTo>
                <a:lnTo>
                  <a:pt x="129" y="543"/>
                </a:lnTo>
                <a:lnTo>
                  <a:pt x="159" y="443"/>
                </a:lnTo>
                <a:lnTo>
                  <a:pt x="98" y="322"/>
                </a:lnTo>
                <a:lnTo>
                  <a:pt x="98" y="314"/>
                </a:lnTo>
                <a:lnTo>
                  <a:pt x="98" y="307"/>
                </a:lnTo>
                <a:lnTo>
                  <a:pt x="98" y="300"/>
                </a:lnTo>
                <a:lnTo>
                  <a:pt x="97" y="293"/>
                </a:lnTo>
                <a:lnTo>
                  <a:pt x="97" y="287"/>
                </a:lnTo>
                <a:lnTo>
                  <a:pt x="96" y="282"/>
                </a:lnTo>
                <a:lnTo>
                  <a:pt x="96" y="276"/>
                </a:lnTo>
                <a:lnTo>
                  <a:pt x="96" y="270"/>
                </a:lnTo>
                <a:lnTo>
                  <a:pt x="96" y="265"/>
                </a:lnTo>
                <a:lnTo>
                  <a:pt x="96" y="260"/>
                </a:lnTo>
                <a:lnTo>
                  <a:pt x="96" y="255"/>
                </a:lnTo>
                <a:lnTo>
                  <a:pt x="96" y="250"/>
                </a:lnTo>
                <a:lnTo>
                  <a:pt x="97" y="246"/>
                </a:lnTo>
                <a:lnTo>
                  <a:pt x="97" y="240"/>
                </a:lnTo>
                <a:lnTo>
                  <a:pt x="98" y="234"/>
                </a:lnTo>
                <a:lnTo>
                  <a:pt x="98" y="229"/>
                </a:lnTo>
                <a:lnTo>
                  <a:pt x="100" y="225"/>
                </a:lnTo>
                <a:lnTo>
                  <a:pt x="101" y="220"/>
                </a:lnTo>
                <a:lnTo>
                  <a:pt x="102" y="215"/>
                </a:lnTo>
                <a:lnTo>
                  <a:pt x="103" y="211"/>
                </a:lnTo>
                <a:lnTo>
                  <a:pt x="105" y="207"/>
                </a:lnTo>
                <a:lnTo>
                  <a:pt x="107" y="202"/>
                </a:lnTo>
                <a:lnTo>
                  <a:pt x="108" y="197"/>
                </a:lnTo>
                <a:lnTo>
                  <a:pt x="110" y="192"/>
                </a:lnTo>
                <a:lnTo>
                  <a:pt x="112" y="188"/>
                </a:lnTo>
                <a:lnTo>
                  <a:pt x="113" y="184"/>
                </a:lnTo>
                <a:lnTo>
                  <a:pt x="115" y="179"/>
                </a:lnTo>
                <a:lnTo>
                  <a:pt x="118" y="175"/>
                </a:lnTo>
                <a:lnTo>
                  <a:pt x="120" y="170"/>
                </a:lnTo>
                <a:lnTo>
                  <a:pt x="123" y="167"/>
                </a:lnTo>
                <a:lnTo>
                  <a:pt x="126" y="163"/>
                </a:lnTo>
                <a:lnTo>
                  <a:pt x="128" y="160"/>
                </a:lnTo>
                <a:lnTo>
                  <a:pt x="131" y="155"/>
                </a:lnTo>
                <a:lnTo>
                  <a:pt x="133" y="151"/>
                </a:lnTo>
                <a:lnTo>
                  <a:pt x="137" y="149"/>
                </a:lnTo>
                <a:lnTo>
                  <a:pt x="139" y="146"/>
                </a:lnTo>
                <a:lnTo>
                  <a:pt x="143" y="142"/>
                </a:lnTo>
                <a:lnTo>
                  <a:pt x="147" y="138"/>
                </a:lnTo>
                <a:lnTo>
                  <a:pt x="150" y="134"/>
                </a:lnTo>
                <a:lnTo>
                  <a:pt x="153" y="132"/>
                </a:lnTo>
                <a:lnTo>
                  <a:pt x="157" y="129"/>
                </a:lnTo>
                <a:lnTo>
                  <a:pt x="161" y="126"/>
                </a:lnTo>
                <a:lnTo>
                  <a:pt x="165" y="123"/>
                </a:lnTo>
                <a:lnTo>
                  <a:pt x="168" y="120"/>
                </a:lnTo>
                <a:lnTo>
                  <a:pt x="172" y="117"/>
                </a:lnTo>
                <a:lnTo>
                  <a:pt x="176" y="115"/>
                </a:lnTo>
                <a:lnTo>
                  <a:pt x="181" y="112"/>
                </a:lnTo>
                <a:lnTo>
                  <a:pt x="185" y="111"/>
                </a:lnTo>
                <a:lnTo>
                  <a:pt x="189" y="109"/>
                </a:lnTo>
                <a:lnTo>
                  <a:pt x="193" y="107"/>
                </a:lnTo>
                <a:lnTo>
                  <a:pt x="198" y="105"/>
                </a:lnTo>
                <a:lnTo>
                  <a:pt x="202" y="104"/>
                </a:lnTo>
                <a:lnTo>
                  <a:pt x="207" y="102"/>
                </a:lnTo>
                <a:lnTo>
                  <a:pt x="211" y="100"/>
                </a:lnTo>
                <a:lnTo>
                  <a:pt x="216" y="99"/>
                </a:lnTo>
                <a:lnTo>
                  <a:pt x="221" y="97"/>
                </a:lnTo>
                <a:lnTo>
                  <a:pt x="226" y="96"/>
                </a:lnTo>
                <a:lnTo>
                  <a:pt x="230" y="95"/>
                </a:lnTo>
                <a:lnTo>
                  <a:pt x="235" y="94"/>
                </a:lnTo>
                <a:lnTo>
                  <a:pt x="240" y="94"/>
                </a:lnTo>
                <a:lnTo>
                  <a:pt x="246" y="93"/>
                </a:lnTo>
                <a:lnTo>
                  <a:pt x="250" y="92"/>
                </a:lnTo>
                <a:lnTo>
                  <a:pt x="256" y="92"/>
                </a:lnTo>
                <a:lnTo>
                  <a:pt x="261" y="92"/>
                </a:lnTo>
                <a:lnTo>
                  <a:pt x="266" y="92"/>
                </a:lnTo>
                <a:lnTo>
                  <a:pt x="271" y="93"/>
                </a:lnTo>
                <a:lnTo>
                  <a:pt x="277" y="94"/>
                </a:lnTo>
                <a:lnTo>
                  <a:pt x="282" y="95"/>
                </a:lnTo>
                <a:lnTo>
                  <a:pt x="285" y="95"/>
                </a:lnTo>
                <a:lnTo>
                  <a:pt x="289" y="95"/>
                </a:lnTo>
                <a:lnTo>
                  <a:pt x="291" y="95"/>
                </a:lnTo>
                <a:lnTo>
                  <a:pt x="292" y="96"/>
                </a:lnTo>
                <a:lnTo>
                  <a:pt x="295" y="96"/>
                </a:lnTo>
                <a:lnTo>
                  <a:pt x="296" y="97"/>
                </a:lnTo>
                <a:lnTo>
                  <a:pt x="295" y="97"/>
                </a:lnTo>
                <a:lnTo>
                  <a:pt x="294" y="97"/>
                </a:lnTo>
                <a:lnTo>
                  <a:pt x="394" y="103"/>
                </a:lnTo>
                <a:lnTo>
                  <a:pt x="400" y="104"/>
                </a:lnTo>
                <a:lnTo>
                  <a:pt x="404" y="105"/>
                </a:lnTo>
                <a:lnTo>
                  <a:pt x="410" y="106"/>
                </a:lnTo>
                <a:lnTo>
                  <a:pt x="415" y="108"/>
                </a:lnTo>
                <a:lnTo>
                  <a:pt x="420" y="109"/>
                </a:lnTo>
                <a:lnTo>
                  <a:pt x="426" y="110"/>
                </a:lnTo>
                <a:lnTo>
                  <a:pt x="431" y="111"/>
                </a:lnTo>
                <a:lnTo>
                  <a:pt x="436" y="111"/>
                </a:lnTo>
                <a:lnTo>
                  <a:pt x="441" y="112"/>
                </a:lnTo>
                <a:lnTo>
                  <a:pt x="446" y="112"/>
                </a:lnTo>
                <a:lnTo>
                  <a:pt x="453" y="113"/>
                </a:lnTo>
                <a:lnTo>
                  <a:pt x="458" y="113"/>
                </a:lnTo>
                <a:lnTo>
                  <a:pt x="462" y="114"/>
                </a:lnTo>
                <a:lnTo>
                  <a:pt x="468" y="114"/>
                </a:lnTo>
                <a:lnTo>
                  <a:pt x="473" y="115"/>
                </a:lnTo>
                <a:lnTo>
                  <a:pt x="477" y="115"/>
                </a:lnTo>
                <a:lnTo>
                  <a:pt x="483" y="115"/>
                </a:lnTo>
                <a:lnTo>
                  <a:pt x="488" y="115"/>
                </a:lnTo>
                <a:lnTo>
                  <a:pt x="495" y="115"/>
                </a:lnTo>
                <a:lnTo>
                  <a:pt x="499" y="116"/>
                </a:lnTo>
                <a:lnTo>
                  <a:pt x="504" y="116"/>
                </a:lnTo>
                <a:lnTo>
                  <a:pt x="510" y="116"/>
                </a:lnTo>
                <a:lnTo>
                  <a:pt x="515" y="116"/>
                </a:lnTo>
                <a:lnTo>
                  <a:pt x="519" y="116"/>
                </a:lnTo>
                <a:lnTo>
                  <a:pt x="526" y="115"/>
                </a:lnTo>
                <a:lnTo>
                  <a:pt x="531" y="115"/>
                </a:lnTo>
                <a:lnTo>
                  <a:pt x="536" y="115"/>
                </a:lnTo>
                <a:lnTo>
                  <a:pt x="541" y="115"/>
                </a:lnTo>
                <a:lnTo>
                  <a:pt x="546" y="115"/>
                </a:lnTo>
                <a:lnTo>
                  <a:pt x="552" y="115"/>
                </a:lnTo>
                <a:lnTo>
                  <a:pt x="556" y="115"/>
                </a:lnTo>
                <a:lnTo>
                  <a:pt x="561" y="115"/>
                </a:lnTo>
                <a:lnTo>
                  <a:pt x="568" y="115"/>
                </a:lnTo>
                <a:lnTo>
                  <a:pt x="573" y="114"/>
                </a:lnTo>
                <a:lnTo>
                  <a:pt x="578" y="114"/>
                </a:lnTo>
                <a:lnTo>
                  <a:pt x="583" y="114"/>
                </a:lnTo>
                <a:lnTo>
                  <a:pt x="589" y="114"/>
                </a:lnTo>
                <a:lnTo>
                  <a:pt x="594" y="113"/>
                </a:lnTo>
                <a:lnTo>
                  <a:pt x="600" y="113"/>
                </a:lnTo>
                <a:lnTo>
                  <a:pt x="605" y="113"/>
                </a:lnTo>
                <a:lnTo>
                  <a:pt x="611" y="113"/>
                </a:lnTo>
                <a:lnTo>
                  <a:pt x="616" y="112"/>
                </a:lnTo>
                <a:lnTo>
                  <a:pt x="622" y="112"/>
                </a:lnTo>
                <a:lnTo>
                  <a:pt x="628" y="112"/>
                </a:lnTo>
                <a:lnTo>
                  <a:pt x="633" y="112"/>
                </a:lnTo>
                <a:lnTo>
                  <a:pt x="638" y="112"/>
                </a:lnTo>
                <a:lnTo>
                  <a:pt x="644" y="112"/>
                </a:lnTo>
                <a:lnTo>
                  <a:pt x="649" y="112"/>
                </a:lnTo>
                <a:lnTo>
                  <a:pt x="654" y="111"/>
                </a:lnTo>
                <a:lnTo>
                  <a:pt x="661" y="111"/>
                </a:lnTo>
                <a:lnTo>
                  <a:pt x="667" y="111"/>
                </a:lnTo>
                <a:lnTo>
                  <a:pt x="671" y="111"/>
                </a:lnTo>
                <a:lnTo>
                  <a:pt x="677" y="111"/>
                </a:lnTo>
                <a:lnTo>
                  <a:pt x="683" y="111"/>
                </a:lnTo>
                <a:lnTo>
                  <a:pt x="688" y="111"/>
                </a:lnTo>
                <a:lnTo>
                  <a:pt x="694" y="111"/>
                </a:lnTo>
                <a:lnTo>
                  <a:pt x="700" y="111"/>
                </a:lnTo>
                <a:lnTo>
                  <a:pt x="706" y="111"/>
                </a:lnTo>
                <a:lnTo>
                  <a:pt x="712" y="111"/>
                </a:lnTo>
                <a:lnTo>
                  <a:pt x="717" y="111"/>
                </a:lnTo>
                <a:lnTo>
                  <a:pt x="724" y="111"/>
                </a:lnTo>
                <a:lnTo>
                  <a:pt x="729" y="112"/>
                </a:lnTo>
                <a:lnTo>
                  <a:pt x="735" y="112"/>
                </a:lnTo>
                <a:lnTo>
                  <a:pt x="741" y="113"/>
                </a:lnTo>
                <a:lnTo>
                  <a:pt x="748" y="112"/>
                </a:lnTo>
                <a:lnTo>
                  <a:pt x="755" y="111"/>
                </a:lnTo>
                <a:lnTo>
                  <a:pt x="762" y="110"/>
                </a:lnTo>
                <a:lnTo>
                  <a:pt x="768" y="109"/>
                </a:lnTo>
                <a:lnTo>
                  <a:pt x="776" y="108"/>
                </a:lnTo>
                <a:lnTo>
                  <a:pt x="783" y="108"/>
                </a:lnTo>
                <a:lnTo>
                  <a:pt x="788" y="107"/>
                </a:lnTo>
                <a:lnTo>
                  <a:pt x="795" y="107"/>
                </a:lnTo>
                <a:lnTo>
                  <a:pt x="802" y="106"/>
                </a:lnTo>
                <a:lnTo>
                  <a:pt x="809" y="106"/>
                </a:lnTo>
                <a:lnTo>
                  <a:pt x="816" y="106"/>
                </a:lnTo>
                <a:lnTo>
                  <a:pt x="823" y="106"/>
                </a:lnTo>
                <a:lnTo>
                  <a:pt x="828" y="106"/>
                </a:lnTo>
                <a:lnTo>
                  <a:pt x="835" y="106"/>
                </a:lnTo>
                <a:lnTo>
                  <a:pt x="842" y="106"/>
                </a:lnTo>
                <a:lnTo>
                  <a:pt x="847" y="106"/>
                </a:lnTo>
                <a:lnTo>
                  <a:pt x="855" y="106"/>
                </a:lnTo>
                <a:lnTo>
                  <a:pt x="861" y="106"/>
                </a:lnTo>
                <a:lnTo>
                  <a:pt x="868" y="107"/>
                </a:lnTo>
                <a:lnTo>
                  <a:pt x="874" y="108"/>
                </a:lnTo>
                <a:lnTo>
                  <a:pt x="881" y="108"/>
                </a:lnTo>
                <a:lnTo>
                  <a:pt x="887" y="108"/>
                </a:lnTo>
                <a:lnTo>
                  <a:pt x="893" y="109"/>
                </a:lnTo>
                <a:lnTo>
                  <a:pt x="900" y="109"/>
                </a:lnTo>
                <a:lnTo>
                  <a:pt x="906" y="109"/>
                </a:lnTo>
                <a:lnTo>
                  <a:pt x="912" y="110"/>
                </a:lnTo>
                <a:lnTo>
                  <a:pt x="919" y="110"/>
                </a:lnTo>
                <a:lnTo>
                  <a:pt x="924" y="111"/>
                </a:lnTo>
                <a:lnTo>
                  <a:pt x="931" y="111"/>
                </a:lnTo>
                <a:lnTo>
                  <a:pt x="937" y="112"/>
                </a:lnTo>
                <a:lnTo>
                  <a:pt x="943" y="112"/>
                </a:lnTo>
                <a:lnTo>
                  <a:pt x="949" y="113"/>
                </a:lnTo>
                <a:lnTo>
                  <a:pt x="956" y="113"/>
                </a:lnTo>
                <a:lnTo>
                  <a:pt x="962" y="114"/>
                </a:lnTo>
                <a:lnTo>
                  <a:pt x="968" y="114"/>
                </a:lnTo>
                <a:lnTo>
                  <a:pt x="975" y="114"/>
                </a:lnTo>
                <a:lnTo>
                  <a:pt x="981" y="114"/>
                </a:lnTo>
                <a:lnTo>
                  <a:pt x="987" y="115"/>
                </a:lnTo>
                <a:lnTo>
                  <a:pt x="993" y="115"/>
                </a:lnTo>
                <a:lnTo>
                  <a:pt x="999" y="116"/>
                </a:lnTo>
                <a:lnTo>
                  <a:pt x="1005" y="116"/>
                </a:lnTo>
                <a:lnTo>
                  <a:pt x="1012" y="116"/>
                </a:lnTo>
                <a:lnTo>
                  <a:pt x="1018" y="116"/>
                </a:lnTo>
                <a:lnTo>
                  <a:pt x="1024" y="116"/>
                </a:lnTo>
                <a:lnTo>
                  <a:pt x="1030" y="116"/>
                </a:lnTo>
                <a:lnTo>
                  <a:pt x="1036" y="116"/>
                </a:lnTo>
                <a:lnTo>
                  <a:pt x="1042" y="116"/>
                </a:lnTo>
                <a:lnTo>
                  <a:pt x="1048" y="116"/>
                </a:lnTo>
                <a:lnTo>
                  <a:pt x="1054" y="115"/>
                </a:lnTo>
                <a:lnTo>
                  <a:pt x="1061" y="114"/>
                </a:lnTo>
                <a:lnTo>
                  <a:pt x="1068" y="114"/>
                </a:lnTo>
                <a:lnTo>
                  <a:pt x="1073" y="113"/>
                </a:lnTo>
                <a:lnTo>
                  <a:pt x="1079" y="112"/>
                </a:lnTo>
                <a:lnTo>
                  <a:pt x="1085" y="111"/>
                </a:lnTo>
                <a:lnTo>
                  <a:pt x="1092" y="111"/>
                </a:lnTo>
                <a:lnTo>
                  <a:pt x="1097" y="110"/>
                </a:lnTo>
                <a:lnTo>
                  <a:pt x="1104" y="109"/>
                </a:lnTo>
                <a:lnTo>
                  <a:pt x="1111" y="107"/>
                </a:lnTo>
                <a:lnTo>
                  <a:pt x="1116" y="105"/>
                </a:lnTo>
                <a:lnTo>
                  <a:pt x="1122" y="104"/>
                </a:lnTo>
                <a:lnTo>
                  <a:pt x="1129" y="102"/>
                </a:lnTo>
                <a:lnTo>
                  <a:pt x="1134" y="100"/>
                </a:lnTo>
                <a:lnTo>
                  <a:pt x="1140" y="98"/>
                </a:lnTo>
                <a:lnTo>
                  <a:pt x="1147" y="96"/>
                </a:lnTo>
                <a:lnTo>
                  <a:pt x="1150" y="92"/>
                </a:lnTo>
                <a:lnTo>
                  <a:pt x="1302" y="330"/>
                </a:lnTo>
                <a:lnTo>
                  <a:pt x="1154" y="82"/>
                </a:lnTo>
                <a:lnTo>
                  <a:pt x="1157" y="78"/>
                </a:lnTo>
                <a:lnTo>
                  <a:pt x="1159" y="74"/>
                </a:lnTo>
                <a:lnTo>
                  <a:pt x="1162" y="71"/>
                </a:lnTo>
                <a:lnTo>
                  <a:pt x="1164" y="68"/>
                </a:lnTo>
                <a:lnTo>
                  <a:pt x="1166" y="64"/>
                </a:lnTo>
                <a:lnTo>
                  <a:pt x="1169" y="61"/>
                </a:lnTo>
                <a:lnTo>
                  <a:pt x="1170" y="58"/>
                </a:lnTo>
                <a:lnTo>
                  <a:pt x="1172" y="55"/>
                </a:lnTo>
                <a:lnTo>
                  <a:pt x="1175" y="53"/>
                </a:lnTo>
                <a:lnTo>
                  <a:pt x="1180" y="49"/>
                </a:lnTo>
                <a:lnTo>
                  <a:pt x="1185" y="46"/>
                </a:lnTo>
                <a:lnTo>
                  <a:pt x="1190" y="44"/>
                </a:lnTo>
                <a:lnTo>
                  <a:pt x="1195" y="42"/>
                </a:lnTo>
                <a:lnTo>
                  <a:pt x="1199" y="41"/>
                </a:lnTo>
                <a:lnTo>
                  <a:pt x="1203" y="41"/>
                </a:lnTo>
                <a:lnTo>
                  <a:pt x="1206" y="41"/>
                </a:lnTo>
                <a:lnTo>
                  <a:pt x="1208" y="41"/>
                </a:lnTo>
                <a:lnTo>
                  <a:pt x="1213" y="41"/>
                </a:lnTo>
                <a:lnTo>
                  <a:pt x="1217" y="41"/>
                </a:lnTo>
                <a:lnTo>
                  <a:pt x="1222" y="42"/>
                </a:lnTo>
                <a:lnTo>
                  <a:pt x="1226" y="43"/>
                </a:lnTo>
                <a:lnTo>
                  <a:pt x="1230" y="44"/>
                </a:lnTo>
                <a:lnTo>
                  <a:pt x="1235" y="45"/>
                </a:lnTo>
                <a:lnTo>
                  <a:pt x="1241" y="47"/>
                </a:lnTo>
                <a:lnTo>
                  <a:pt x="1246" y="49"/>
                </a:lnTo>
                <a:lnTo>
                  <a:pt x="1249" y="46"/>
                </a:lnTo>
                <a:lnTo>
                  <a:pt x="1251" y="42"/>
                </a:lnTo>
                <a:lnTo>
                  <a:pt x="1255" y="40"/>
                </a:lnTo>
                <a:lnTo>
                  <a:pt x="1258" y="37"/>
                </a:lnTo>
                <a:lnTo>
                  <a:pt x="1261" y="34"/>
                </a:lnTo>
                <a:lnTo>
                  <a:pt x="1264" y="33"/>
                </a:lnTo>
                <a:lnTo>
                  <a:pt x="1266" y="31"/>
                </a:lnTo>
                <a:lnTo>
                  <a:pt x="1269" y="29"/>
                </a:lnTo>
                <a:lnTo>
                  <a:pt x="1272" y="27"/>
                </a:lnTo>
                <a:lnTo>
                  <a:pt x="1276" y="26"/>
                </a:lnTo>
                <a:lnTo>
                  <a:pt x="1279" y="24"/>
                </a:lnTo>
                <a:lnTo>
                  <a:pt x="1282" y="22"/>
                </a:lnTo>
                <a:lnTo>
                  <a:pt x="1285" y="21"/>
                </a:lnTo>
                <a:lnTo>
                  <a:pt x="1288" y="19"/>
                </a:lnTo>
                <a:lnTo>
                  <a:pt x="1291" y="18"/>
                </a:lnTo>
                <a:lnTo>
                  <a:pt x="1294" y="18"/>
                </a:lnTo>
                <a:lnTo>
                  <a:pt x="1298" y="16"/>
                </a:lnTo>
                <a:lnTo>
                  <a:pt x="1301" y="16"/>
                </a:lnTo>
                <a:lnTo>
                  <a:pt x="1304" y="15"/>
                </a:lnTo>
                <a:lnTo>
                  <a:pt x="1308" y="15"/>
                </a:lnTo>
                <a:lnTo>
                  <a:pt x="1311" y="14"/>
                </a:lnTo>
                <a:lnTo>
                  <a:pt x="1315" y="14"/>
                </a:lnTo>
                <a:lnTo>
                  <a:pt x="1319" y="13"/>
                </a:lnTo>
                <a:lnTo>
                  <a:pt x="1322" y="13"/>
                </a:lnTo>
                <a:lnTo>
                  <a:pt x="1325" y="13"/>
                </a:lnTo>
                <a:lnTo>
                  <a:pt x="1329" y="12"/>
                </a:lnTo>
                <a:lnTo>
                  <a:pt x="1333" y="12"/>
                </a:lnTo>
                <a:lnTo>
                  <a:pt x="1336" y="12"/>
                </a:lnTo>
                <a:lnTo>
                  <a:pt x="1340" y="12"/>
                </a:lnTo>
                <a:lnTo>
                  <a:pt x="1342" y="12"/>
                </a:lnTo>
                <a:lnTo>
                  <a:pt x="1346" y="12"/>
                </a:lnTo>
                <a:lnTo>
                  <a:pt x="1350" y="12"/>
                </a:lnTo>
                <a:lnTo>
                  <a:pt x="1354" y="12"/>
                </a:lnTo>
                <a:lnTo>
                  <a:pt x="1358" y="12"/>
                </a:lnTo>
                <a:lnTo>
                  <a:pt x="1361" y="12"/>
                </a:lnTo>
                <a:lnTo>
                  <a:pt x="1365" y="12"/>
                </a:lnTo>
                <a:lnTo>
                  <a:pt x="1369" y="12"/>
                </a:lnTo>
                <a:lnTo>
                  <a:pt x="1373" y="12"/>
                </a:lnTo>
                <a:lnTo>
                  <a:pt x="1377" y="12"/>
                </a:lnTo>
                <a:lnTo>
                  <a:pt x="1380" y="12"/>
                </a:lnTo>
                <a:lnTo>
                  <a:pt x="1384" y="12"/>
                </a:lnTo>
                <a:lnTo>
                  <a:pt x="1387" y="12"/>
                </a:lnTo>
                <a:lnTo>
                  <a:pt x="1392" y="12"/>
                </a:lnTo>
                <a:lnTo>
                  <a:pt x="1395" y="12"/>
                </a:lnTo>
                <a:lnTo>
                  <a:pt x="1399" y="12"/>
                </a:lnTo>
                <a:lnTo>
                  <a:pt x="1402" y="12"/>
                </a:lnTo>
                <a:lnTo>
                  <a:pt x="1406" y="12"/>
                </a:lnTo>
                <a:lnTo>
                  <a:pt x="1410" y="12"/>
                </a:lnTo>
                <a:lnTo>
                  <a:pt x="1414" y="12"/>
                </a:lnTo>
                <a:lnTo>
                  <a:pt x="1418" y="11"/>
                </a:lnTo>
                <a:lnTo>
                  <a:pt x="1421" y="10"/>
                </a:lnTo>
                <a:lnTo>
                  <a:pt x="1425" y="10"/>
                </a:lnTo>
                <a:lnTo>
                  <a:pt x="1429" y="10"/>
                </a:lnTo>
                <a:lnTo>
                  <a:pt x="1432" y="9"/>
                </a:lnTo>
                <a:lnTo>
                  <a:pt x="1437" y="9"/>
                </a:lnTo>
                <a:lnTo>
                  <a:pt x="1439" y="9"/>
                </a:lnTo>
                <a:lnTo>
                  <a:pt x="1444" y="8"/>
                </a:lnTo>
                <a:lnTo>
                  <a:pt x="1448" y="7"/>
                </a:lnTo>
                <a:lnTo>
                  <a:pt x="1452" y="5"/>
                </a:lnTo>
                <a:lnTo>
                  <a:pt x="1455" y="5"/>
                </a:lnTo>
                <a:lnTo>
                  <a:pt x="1458" y="4"/>
                </a:lnTo>
                <a:lnTo>
                  <a:pt x="1462" y="3"/>
                </a:lnTo>
                <a:lnTo>
                  <a:pt x="1466" y="2"/>
                </a:lnTo>
                <a:lnTo>
                  <a:pt x="1469" y="0"/>
                </a:lnTo>
                <a:lnTo>
                  <a:pt x="1470" y="4"/>
                </a:lnTo>
                <a:lnTo>
                  <a:pt x="1470" y="8"/>
                </a:lnTo>
                <a:lnTo>
                  <a:pt x="1470" y="11"/>
                </a:lnTo>
                <a:lnTo>
                  <a:pt x="1469" y="14"/>
                </a:lnTo>
                <a:lnTo>
                  <a:pt x="1468" y="18"/>
                </a:lnTo>
                <a:lnTo>
                  <a:pt x="1464" y="24"/>
                </a:lnTo>
                <a:lnTo>
                  <a:pt x="1462" y="28"/>
                </a:lnTo>
                <a:lnTo>
                  <a:pt x="1458" y="34"/>
                </a:lnTo>
                <a:lnTo>
                  <a:pt x="1456" y="36"/>
                </a:lnTo>
                <a:lnTo>
                  <a:pt x="1453" y="39"/>
                </a:lnTo>
                <a:lnTo>
                  <a:pt x="1451" y="42"/>
                </a:lnTo>
                <a:lnTo>
                  <a:pt x="1448" y="46"/>
                </a:lnTo>
                <a:lnTo>
                  <a:pt x="1448" y="47"/>
                </a:lnTo>
                <a:lnTo>
                  <a:pt x="1448" y="49"/>
                </a:lnTo>
                <a:lnTo>
                  <a:pt x="1452" y="48"/>
                </a:lnTo>
                <a:lnTo>
                  <a:pt x="1455" y="47"/>
                </a:lnTo>
                <a:lnTo>
                  <a:pt x="1458" y="47"/>
                </a:lnTo>
                <a:lnTo>
                  <a:pt x="1461" y="47"/>
                </a:lnTo>
                <a:lnTo>
                  <a:pt x="1467" y="46"/>
                </a:lnTo>
                <a:lnTo>
                  <a:pt x="1472" y="46"/>
                </a:lnTo>
                <a:lnTo>
                  <a:pt x="1477" y="45"/>
                </a:lnTo>
                <a:lnTo>
                  <a:pt x="1480" y="45"/>
                </a:lnTo>
                <a:lnTo>
                  <a:pt x="1485" y="45"/>
                </a:lnTo>
                <a:lnTo>
                  <a:pt x="1489" y="45"/>
                </a:lnTo>
                <a:lnTo>
                  <a:pt x="1493" y="44"/>
                </a:lnTo>
                <a:lnTo>
                  <a:pt x="1496" y="44"/>
                </a:lnTo>
                <a:lnTo>
                  <a:pt x="1501" y="43"/>
                </a:lnTo>
                <a:lnTo>
                  <a:pt x="1505" y="42"/>
                </a:lnTo>
                <a:lnTo>
                  <a:pt x="1511" y="41"/>
                </a:lnTo>
                <a:lnTo>
                  <a:pt x="1515" y="40"/>
                </a:lnTo>
                <a:lnTo>
                  <a:pt x="1519" y="40"/>
                </a:lnTo>
                <a:lnTo>
                  <a:pt x="1522" y="39"/>
                </a:lnTo>
                <a:lnTo>
                  <a:pt x="1525" y="39"/>
                </a:lnTo>
                <a:lnTo>
                  <a:pt x="1529" y="39"/>
                </a:lnTo>
                <a:lnTo>
                  <a:pt x="1527" y="42"/>
                </a:lnTo>
                <a:lnTo>
                  <a:pt x="1525" y="46"/>
                </a:lnTo>
                <a:lnTo>
                  <a:pt x="1524" y="50"/>
                </a:lnTo>
                <a:lnTo>
                  <a:pt x="1522" y="53"/>
                </a:lnTo>
                <a:lnTo>
                  <a:pt x="1520" y="56"/>
                </a:lnTo>
                <a:lnTo>
                  <a:pt x="1518" y="59"/>
                </a:lnTo>
                <a:lnTo>
                  <a:pt x="1517" y="63"/>
                </a:lnTo>
                <a:lnTo>
                  <a:pt x="1515" y="66"/>
                </a:lnTo>
                <a:lnTo>
                  <a:pt x="1512" y="71"/>
                </a:lnTo>
                <a:lnTo>
                  <a:pt x="1508" y="76"/>
                </a:lnTo>
                <a:lnTo>
                  <a:pt x="1503" y="80"/>
                </a:lnTo>
                <a:lnTo>
                  <a:pt x="1498" y="85"/>
                </a:lnTo>
                <a:lnTo>
                  <a:pt x="1494" y="88"/>
                </a:lnTo>
                <a:lnTo>
                  <a:pt x="1488" y="92"/>
                </a:lnTo>
                <a:lnTo>
                  <a:pt x="1485" y="92"/>
                </a:lnTo>
                <a:lnTo>
                  <a:pt x="1482" y="94"/>
                </a:lnTo>
                <a:lnTo>
                  <a:pt x="1478" y="95"/>
                </a:lnTo>
                <a:lnTo>
                  <a:pt x="1476" y="96"/>
                </a:lnTo>
                <a:lnTo>
                  <a:pt x="1472" y="97"/>
                </a:lnTo>
                <a:lnTo>
                  <a:pt x="1469" y="98"/>
                </a:lnTo>
                <a:lnTo>
                  <a:pt x="1465" y="99"/>
                </a:lnTo>
                <a:lnTo>
                  <a:pt x="1461" y="100"/>
                </a:lnTo>
                <a:lnTo>
                  <a:pt x="1458" y="100"/>
                </a:lnTo>
                <a:lnTo>
                  <a:pt x="1454" y="101"/>
                </a:lnTo>
                <a:lnTo>
                  <a:pt x="1449" y="102"/>
                </a:lnTo>
                <a:lnTo>
                  <a:pt x="1444" y="103"/>
                </a:lnTo>
                <a:lnTo>
                  <a:pt x="1443" y="107"/>
                </a:lnTo>
                <a:lnTo>
                  <a:pt x="1443" y="111"/>
                </a:lnTo>
                <a:lnTo>
                  <a:pt x="1443" y="115"/>
                </a:lnTo>
                <a:lnTo>
                  <a:pt x="1443" y="120"/>
                </a:lnTo>
                <a:lnTo>
                  <a:pt x="1444" y="124"/>
                </a:lnTo>
                <a:lnTo>
                  <a:pt x="1445" y="129"/>
                </a:lnTo>
                <a:lnTo>
                  <a:pt x="1447" y="133"/>
                </a:lnTo>
                <a:lnTo>
                  <a:pt x="1448" y="138"/>
                </a:lnTo>
                <a:lnTo>
                  <a:pt x="1451" y="143"/>
                </a:lnTo>
                <a:lnTo>
                  <a:pt x="1453" y="148"/>
                </a:lnTo>
                <a:lnTo>
                  <a:pt x="1455" y="152"/>
                </a:lnTo>
                <a:lnTo>
                  <a:pt x="1458" y="157"/>
                </a:lnTo>
                <a:lnTo>
                  <a:pt x="1460" y="162"/>
                </a:lnTo>
                <a:lnTo>
                  <a:pt x="1463" y="167"/>
                </a:lnTo>
                <a:lnTo>
                  <a:pt x="1467" y="171"/>
                </a:lnTo>
                <a:lnTo>
                  <a:pt x="1469" y="177"/>
                </a:lnTo>
                <a:lnTo>
                  <a:pt x="1474" y="182"/>
                </a:lnTo>
                <a:lnTo>
                  <a:pt x="1477" y="187"/>
                </a:lnTo>
                <a:lnTo>
                  <a:pt x="1481" y="191"/>
                </a:lnTo>
                <a:lnTo>
                  <a:pt x="1485" y="196"/>
                </a:lnTo>
                <a:lnTo>
                  <a:pt x="1489" y="201"/>
                </a:lnTo>
                <a:lnTo>
                  <a:pt x="1492" y="206"/>
                </a:lnTo>
                <a:lnTo>
                  <a:pt x="1496" y="210"/>
                </a:lnTo>
                <a:lnTo>
                  <a:pt x="1499" y="216"/>
                </a:lnTo>
                <a:lnTo>
                  <a:pt x="1504" y="221"/>
                </a:lnTo>
                <a:lnTo>
                  <a:pt x="1508" y="226"/>
                </a:lnTo>
                <a:lnTo>
                  <a:pt x="1511" y="230"/>
                </a:lnTo>
                <a:lnTo>
                  <a:pt x="1515" y="236"/>
                </a:lnTo>
                <a:lnTo>
                  <a:pt x="1517" y="241"/>
                </a:lnTo>
                <a:lnTo>
                  <a:pt x="1520" y="246"/>
                </a:lnTo>
                <a:lnTo>
                  <a:pt x="1524" y="251"/>
                </a:lnTo>
                <a:lnTo>
                  <a:pt x="1527" y="256"/>
                </a:lnTo>
                <a:lnTo>
                  <a:pt x="1527" y="262"/>
                </a:lnTo>
                <a:lnTo>
                  <a:pt x="1526" y="267"/>
                </a:lnTo>
                <a:lnTo>
                  <a:pt x="1525" y="272"/>
                </a:lnTo>
                <a:lnTo>
                  <a:pt x="1524" y="278"/>
                </a:lnTo>
                <a:lnTo>
                  <a:pt x="1524" y="282"/>
                </a:lnTo>
                <a:lnTo>
                  <a:pt x="1522" y="286"/>
                </a:lnTo>
                <a:lnTo>
                  <a:pt x="1520" y="289"/>
                </a:lnTo>
                <a:lnTo>
                  <a:pt x="1519" y="294"/>
                </a:lnTo>
                <a:lnTo>
                  <a:pt x="1517" y="297"/>
                </a:lnTo>
                <a:lnTo>
                  <a:pt x="1515" y="300"/>
                </a:lnTo>
                <a:lnTo>
                  <a:pt x="1515" y="303"/>
                </a:lnTo>
                <a:lnTo>
                  <a:pt x="1512" y="305"/>
                </a:lnTo>
                <a:lnTo>
                  <a:pt x="1508" y="310"/>
                </a:lnTo>
                <a:lnTo>
                  <a:pt x="1501" y="314"/>
                </a:lnTo>
                <a:lnTo>
                  <a:pt x="1499" y="315"/>
                </a:lnTo>
                <a:lnTo>
                  <a:pt x="1496" y="316"/>
                </a:lnTo>
                <a:lnTo>
                  <a:pt x="1494" y="317"/>
                </a:lnTo>
                <a:lnTo>
                  <a:pt x="1491" y="319"/>
                </a:lnTo>
                <a:lnTo>
                  <a:pt x="1487" y="319"/>
                </a:lnTo>
                <a:lnTo>
                  <a:pt x="1484" y="320"/>
                </a:lnTo>
                <a:lnTo>
                  <a:pt x="1481" y="320"/>
                </a:lnTo>
                <a:lnTo>
                  <a:pt x="1477" y="321"/>
                </a:lnTo>
                <a:lnTo>
                  <a:pt x="1474" y="320"/>
                </a:lnTo>
                <a:lnTo>
                  <a:pt x="1471" y="320"/>
                </a:lnTo>
                <a:lnTo>
                  <a:pt x="1467" y="320"/>
                </a:lnTo>
                <a:lnTo>
                  <a:pt x="1463" y="320"/>
                </a:lnTo>
                <a:lnTo>
                  <a:pt x="1459" y="320"/>
                </a:lnTo>
                <a:lnTo>
                  <a:pt x="1455" y="319"/>
                </a:lnTo>
                <a:lnTo>
                  <a:pt x="1452" y="319"/>
                </a:lnTo>
                <a:lnTo>
                  <a:pt x="1447" y="319"/>
                </a:lnTo>
                <a:lnTo>
                  <a:pt x="1443" y="317"/>
                </a:lnTo>
                <a:lnTo>
                  <a:pt x="1438" y="316"/>
                </a:lnTo>
                <a:lnTo>
                  <a:pt x="1435" y="315"/>
                </a:lnTo>
                <a:lnTo>
                  <a:pt x="1431" y="315"/>
                </a:lnTo>
                <a:lnTo>
                  <a:pt x="1427" y="314"/>
                </a:lnTo>
                <a:lnTo>
                  <a:pt x="1422" y="313"/>
                </a:lnTo>
                <a:lnTo>
                  <a:pt x="1419" y="312"/>
                </a:lnTo>
                <a:lnTo>
                  <a:pt x="1415" y="311"/>
                </a:lnTo>
                <a:lnTo>
                  <a:pt x="1411" y="310"/>
                </a:lnTo>
                <a:lnTo>
                  <a:pt x="1406" y="309"/>
                </a:lnTo>
                <a:lnTo>
                  <a:pt x="1402" y="307"/>
                </a:lnTo>
                <a:lnTo>
                  <a:pt x="1398" y="307"/>
                </a:lnTo>
                <a:lnTo>
                  <a:pt x="1394" y="306"/>
                </a:lnTo>
                <a:lnTo>
                  <a:pt x="1389" y="305"/>
                </a:lnTo>
                <a:lnTo>
                  <a:pt x="1385" y="304"/>
                </a:lnTo>
                <a:lnTo>
                  <a:pt x="1381" y="304"/>
                </a:lnTo>
                <a:lnTo>
                  <a:pt x="1377" y="303"/>
                </a:lnTo>
                <a:lnTo>
                  <a:pt x="1373" y="303"/>
                </a:lnTo>
                <a:lnTo>
                  <a:pt x="1369" y="302"/>
                </a:lnTo>
                <a:lnTo>
                  <a:pt x="1364" y="302"/>
                </a:lnTo>
                <a:lnTo>
                  <a:pt x="1361" y="302"/>
                </a:lnTo>
                <a:lnTo>
                  <a:pt x="1357" y="302"/>
                </a:lnTo>
                <a:lnTo>
                  <a:pt x="1353" y="302"/>
                </a:lnTo>
                <a:lnTo>
                  <a:pt x="1348" y="302"/>
                </a:lnTo>
                <a:lnTo>
                  <a:pt x="1345" y="302"/>
                </a:lnTo>
                <a:lnTo>
                  <a:pt x="1342" y="302"/>
                </a:lnTo>
                <a:lnTo>
                  <a:pt x="1338" y="302"/>
                </a:lnTo>
                <a:lnTo>
                  <a:pt x="1334" y="303"/>
                </a:lnTo>
                <a:lnTo>
                  <a:pt x="1331" y="303"/>
                </a:lnTo>
                <a:lnTo>
                  <a:pt x="1327" y="304"/>
                </a:lnTo>
                <a:lnTo>
                  <a:pt x="1141" y="89"/>
                </a:lnTo>
                <a:lnTo>
                  <a:pt x="1321" y="307"/>
                </a:lnTo>
                <a:lnTo>
                  <a:pt x="1146" y="78"/>
                </a:lnTo>
                <a:lnTo>
                  <a:pt x="1305" y="319"/>
                </a:lnTo>
                <a:lnTo>
                  <a:pt x="1301" y="323"/>
                </a:lnTo>
                <a:lnTo>
                  <a:pt x="1296" y="326"/>
                </a:lnTo>
                <a:lnTo>
                  <a:pt x="1291" y="331"/>
                </a:lnTo>
                <a:lnTo>
                  <a:pt x="1286" y="335"/>
                </a:lnTo>
                <a:lnTo>
                  <a:pt x="1282" y="340"/>
                </a:lnTo>
                <a:lnTo>
                  <a:pt x="1278" y="344"/>
                </a:lnTo>
                <a:lnTo>
                  <a:pt x="1273" y="348"/>
                </a:lnTo>
                <a:lnTo>
                  <a:pt x="1269" y="353"/>
                </a:lnTo>
                <a:lnTo>
                  <a:pt x="1265" y="358"/>
                </a:lnTo>
                <a:lnTo>
                  <a:pt x="1261" y="361"/>
                </a:lnTo>
                <a:lnTo>
                  <a:pt x="1256" y="366"/>
                </a:lnTo>
                <a:lnTo>
                  <a:pt x="1252" y="370"/>
                </a:lnTo>
                <a:lnTo>
                  <a:pt x="1248" y="375"/>
                </a:lnTo>
                <a:lnTo>
                  <a:pt x="1245" y="380"/>
                </a:lnTo>
                <a:lnTo>
                  <a:pt x="1241" y="383"/>
                </a:lnTo>
                <a:lnTo>
                  <a:pt x="1237" y="388"/>
                </a:lnTo>
                <a:lnTo>
                  <a:pt x="1233" y="393"/>
                </a:lnTo>
                <a:lnTo>
                  <a:pt x="1230" y="398"/>
                </a:lnTo>
                <a:lnTo>
                  <a:pt x="1227" y="402"/>
                </a:lnTo>
                <a:lnTo>
                  <a:pt x="1224" y="407"/>
                </a:lnTo>
                <a:lnTo>
                  <a:pt x="1220" y="412"/>
                </a:lnTo>
                <a:lnTo>
                  <a:pt x="1217" y="416"/>
                </a:lnTo>
                <a:lnTo>
                  <a:pt x="1213" y="420"/>
                </a:lnTo>
                <a:lnTo>
                  <a:pt x="1210" y="425"/>
                </a:lnTo>
                <a:lnTo>
                  <a:pt x="1208" y="430"/>
                </a:lnTo>
                <a:lnTo>
                  <a:pt x="1205" y="435"/>
                </a:lnTo>
                <a:lnTo>
                  <a:pt x="1202" y="439"/>
                </a:lnTo>
                <a:lnTo>
                  <a:pt x="1198" y="444"/>
                </a:lnTo>
                <a:lnTo>
                  <a:pt x="1195" y="450"/>
                </a:lnTo>
                <a:lnTo>
                  <a:pt x="1192" y="455"/>
                </a:lnTo>
                <a:lnTo>
                  <a:pt x="1189" y="459"/>
                </a:lnTo>
                <a:lnTo>
                  <a:pt x="1187" y="464"/>
                </a:lnTo>
                <a:lnTo>
                  <a:pt x="1185" y="469"/>
                </a:lnTo>
                <a:lnTo>
                  <a:pt x="1182" y="474"/>
                </a:lnTo>
                <a:lnTo>
                  <a:pt x="1179" y="479"/>
                </a:lnTo>
                <a:lnTo>
                  <a:pt x="1176" y="484"/>
                </a:lnTo>
                <a:lnTo>
                  <a:pt x="1173" y="489"/>
                </a:lnTo>
                <a:lnTo>
                  <a:pt x="1171" y="494"/>
                </a:lnTo>
                <a:lnTo>
                  <a:pt x="1168" y="498"/>
                </a:lnTo>
                <a:lnTo>
                  <a:pt x="1166" y="504"/>
                </a:lnTo>
                <a:lnTo>
                  <a:pt x="1163" y="509"/>
                </a:lnTo>
                <a:lnTo>
                  <a:pt x="1161" y="514"/>
                </a:lnTo>
                <a:lnTo>
                  <a:pt x="1157" y="519"/>
                </a:lnTo>
                <a:lnTo>
                  <a:pt x="1155" y="525"/>
                </a:lnTo>
                <a:lnTo>
                  <a:pt x="1152" y="530"/>
                </a:lnTo>
                <a:lnTo>
                  <a:pt x="1150" y="534"/>
                </a:lnTo>
                <a:lnTo>
                  <a:pt x="1148" y="540"/>
                </a:lnTo>
                <a:lnTo>
                  <a:pt x="1145" y="545"/>
                </a:lnTo>
                <a:lnTo>
                  <a:pt x="1142" y="551"/>
                </a:lnTo>
                <a:lnTo>
                  <a:pt x="1139" y="555"/>
                </a:lnTo>
                <a:lnTo>
                  <a:pt x="1137" y="560"/>
                </a:lnTo>
                <a:lnTo>
                  <a:pt x="1134" y="566"/>
                </a:lnTo>
                <a:lnTo>
                  <a:pt x="1131" y="572"/>
                </a:lnTo>
                <a:lnTo>
                  <a:pt x="1129" y="576"/>
                </a:lnTo>
                <a:lnTo>
                  <a:pt x="1126" y="582"/>
                </a:lnTo>
                <a:lnTo>
                  <a:pt x="1124" y="588"/>
                </a:lnTo>
                <a:lnTo>
                  <a:pt x="1120" y="593"/>
                </a:lnTo>
                <a:lnTo>
                  <a:pt x="1117" y="599"/>
                </a:lnTo>
                <a:lnTo>
                  <a:pt x="1115" y="605"/>
                </a:lnTo>
                <a:lnTo>
                  <a:pt x="1111" y="610"/>
                </a:lnTo>
                <a:lnTo>
                  <a:pt x="1109" y="616"/>
                </a:lnTo>
                <a:lnTo>
                  <a:pt x="1112" y="617"/>
                </a:lnTo>
                <a:lnTo>
                  <a:pt x="1115" y="621"/>
                </a:lnTo>
                <a:lnTo>
                  <a:pt x="1117" y="624"/>
                </a:lnTo>
                <a:lnTo>
                  <a:pt x="1117" y="629"/>
                </a:lnTo>
                <a:lnTo>
                  <a:pt x="1118" y="632"/>
                </a:lnTo>
                <a:lnTo>
                  <a:pt x="1117" y="638"/>
                </a:lnTo>
                <a:lnTo>
                  <a:pt x="1117" y="641"/>
                </a:lnTo>
                <a:lnTo>
                  <a:pt x="1116" y="643"/>
                </a:lnTo>
                <a:lnTo>
                  <a:pt x="1115" y="647"/>
                </a:lnTo>
                <a:lnTo>
                  <a:pt x="1113" y="649"/>
                </a:lnTo>
                <a:lnTo>
                  <a:pt x="1111" y="655"/>
                </a:lnTo>
                <a:lnTo>
                  <a:pt x="1110" y="661"/>
                </a:lnTo>
                <a:lnTo>
                  <a:pt x="1107" y="666"/>
                </a:lnTo>
                <a:lnTo>
                  <a:pt x="1103" y="672"/>
                </a:lnTo>
                <a:lnTo>
                  <a:pt x="1101" y="677"/>
                </a:lnTo>
                <a:lnTo>
                  <a:pt x="1098" y="682"/>
                </a:lnTo>
                <a:lnTo>
                  <a:pt x="1095" y="687"/>
                </a:lnTo>
                <a:lnTo>
                  <a:pt x="1092" y="690"/>
                </a:lnTo>
                <a:lnTo>
                  <a:pt x="1092" y="688"/>
                </a:lnTo>
                <a:lnTo>
                  <a:pt x="1093" y="685"/>
                </a:lnTo>
                <a:lnTo>
                  <a:pt x="1094" y="681"/>
                </a:lnTo>
                <a:lnTo>
                  <a:pt x="1095" y="677"/>
                </a:lnTo>
                <a:lnTo>
                  <a:pt x="1096" y="673"/>
                </a:lnTo>
                <a:lnTo>
                  <a:pt x="1097" y="669"/>
                </a:lnTo>
                <a:lnTo>
                  <a:pt x="1098" y="666"/>
                </a:lnTo>
                <a:lnTo>
                  <a:pt x="1099" y="662"/>
                </a:lnTo>
                <a:lnTo>
                  <a:pt x="1100" y="659"/>
                </a:lnTo>
                <a:lnTo>
                  <a:pt x="1101" y="654"/>
                </a:lnTo>
                <a:lnTo>
                  <a:pt x="1102" y="650"/>
                </a:lnTo>
                <a:lnTo>
                  <a:pt x="1103" y="647"/>
                </a:lnTo>
                <a:lnTo>
                  <a:pt x="1103" y="643"/>
                </a:lnTo>
                <a:lnTo>
                  <a:pt x="1105" y="640"/>
                </a:lnTo>
                <a:lnTo>
                  <a:pt x="1106" y="636"/>
                </a:lnTo>
                <a:lnTo>
                  <a:pt x="1107" y="632"/>
                </a:lnTo>
                <a:lnTo>
                  <a:pt x="1107" y="629"/>
                </a:lnTo>
                <a:lnTo>
                  <a:pt x="1104" y="628"/>
                </a:lnTo>
                <a:lnTo>
                  <a:pt x="1100" y="628"/>
                </a:lnTo>
                <a:lnTo>
                  <a:pt x="1097" y="629"/>
                </a:lnTo>
                <a:lnTo>
                  <a:pt x="1093" y="630"/>
                </a:lnTo>
                <a:lnTo>
                  <a:pt x="1090" y="630"/>
                </a:lnTo>
                <a:lnTo>
                  <a:pt x="1087" y="632"/>
                </a:lnTo>
                <a:lnTo>
                  <a:pt x="1083" y="633"/>
                </a:lnTo>
                <a:lnTo>
                  <a:pt x="1079" y="635"/>
                </a:lnTo>
                <a:lnTo>
                  <a:pt x="1079" y="640"/>
                </a:lnTo>
                <a:lnTo>
                  <a:pt x="1079" y="646"/>
                </a:lnTo>
                <a:lnTo>
                  <a:pt x="1079" y="649"/>
                </a:lnTo>
                <a:lnTo>
                  <a:pt x="1078" y="651"/>
                </a:lnTo>
                <a:lnTo>
                  <a:pt x="1078" y="654"/>
                </a:lnTo>
                <a:lnTo>
                  <a:pt x="1077" y="658"/>
                </a:lnTo>
                <a:lnTo>
                  <a:pt x="1077" y="660"/>
                </a:lnTo>
                <a:lnTo>
                  <a:pt x="1077" y="664"/>
                </a:lnTo>
                <a:lnTo>
                  <a:pt x="1076" y="666"/>
                </a:lnTo>
                <a:lnTo>
                  <a:pt x="1075" y="669"/>
                </a:lnTo>
                <a:lnTo>
                  <a:pt x="1075" y="672"/>
                </a:lnTo>
                <a:lnTo>
                  <a:pt x="1074" y="675"/>
                </a:lnTo>
                <a:lnTo>
                  <a:pt x="1073" y="678"/>
                </a:lnTo>
                <a:lnTo>
                  <a:pt x="1073" y="682"/>
                </a:lnTo>
                <a:lnTo>
                  <a:pt x="1073" y="684"/>
                </a:lnTo>
                <a:lnTo>
                  <a:pt x="1072" y="688"/>
                </a:lnTo>
                <a:lnTo>
                  <a:pt x="1071" y="690"/>
                </a:lnTo>
                <a:lnTo>
                  <a:pt x="1070" y="693"/>
                </a:lnTo>
                <a:lnTo>
                  <a:pt x="1070" y="696"/>
                </a:lnTo>
                <a:lnTo>
                  <a:pt x="1069" y="700"/>
                </a:lnTo>
                <a:lnTo>
                  <a:pt x="1068" y="703"/>
                </a:lnTo>
                <a:lnTo>
                  <a:pt x="1067" y="706"/>
                </a:lnTo>
                <a:lnTo>
                  <a:pt x="1066" y="708"/>
                </a:lnTo>
                <a:lnTo>
                  <a:pt x="1065" y="711"/>
                </a:lnTo>
                <a:lnTo>
                  <a:pt x="1065" y="715"/>
                </a:lnTo>
                <a:lnTo>
                  <a:pt x="1064" y="718"/>
                </a:lnTo>
                <a:lnTo>
                  <a:pt x="1063" y="722"/>
                </a:lnTo>
                <a:lnTo>
                  <a:pt x="1062" y="725"/>
                </a:lnTo>
                <a:lnTo>
                  <a:pt x="1061" y="727"/>
                </a:lnTo>
                <a:lnTo>
                  <a:pt x="1060" y="731"/>
                </a:lnTo>
                <a:lnTo>
                  <a:pt x="1060" y="733"/>
                </a:lnTo>
                <a:lnTo>
                  <a:pt x="1059" y="737"/>
                </a:lnTo>
                <a:lnTo>
                  <a:pt x="1059" y="740"/>
                </a:lnTo>
                <a:lnTo>
                  <a:pt x="1058" y="743"/>
                </a:lnTo>
                <a:lnTo>
                  <a:pt x="1057" y="745"/>
                </a:lnTo>
                <a:lnTo>
                  <a:pt x="1057" y="749"/>
                </a:lnTo>
                <a:lnTo>
                  <a:pt x="1056" y="752"/>
                </a:lnTo>
                <a:lnTo>
                  <a:pt x="1055" y="755"/>
                </a:lnTo>
                <a:lnTo>
                  <a:pt x="1055" y="758"/>
                </a:lnTo>
                <a:lnTo>
                  <a:pt x="1054" y="761"/>
                </a:lnTo>
                <a:lnTo>
                  <a:pt x="1054" y="764"/>
                </a:lnTo>
                <a:lnTo>
                  <a:pt x="1054" y="766"/>
                </a:lnTo>
                <a:lnTo>
                  <a:pt x="1054" y="769"/>
                </a:lnTo>
                <a:lnTo>
                  <a:pt x="1053" y="773"/>
                </a:lnTo>
                <a:lnTo>
                  <a:pt x="1053" y="776"/>
                </a:lnTo>
                <a:lnTo>
                  <a:pt x="1052" y="779"/>
                </a:lnTo>
                <a:lnTo>
                  <a:pt x="1052" y="782"/>
                </a:lnTo>
                <a:lnTo>
                  <a:pt x="1051" y="784"/>
                </a:lnTo>
                <a:lnTo>
                  <a:pt x="1051" y="787"/>
                </a:lnTo>
                <a:lnTo>
                  <a:pt x="1051" y="791"/>
                </a:lnTo>
                <a:lnTo>
                  <a:pt x="1051" y="793"/>
                </a:lnTo>
                <a:lnTo>
                  <a:pt x="1051" y="796"/>
                </a:lnTo>
                <a:lnTo>
                  <a:pt x="1051" y="800"/>
                </a:lnTo>
                <a:lnTo>
                  <a:pt x="1050" y="803"/>
                </a:lnTo>
                <a:lnTo>
                  <a:pt x="1051" y="807"/>
                </a:lnTo>
                <a:lnTo>
                  <a:pt x="1051" y="813"/>
                </a:lnTo>
                <a:lnTo>
                  <a:pt x="1051" y="819"/>
                </a:lnTo>
                <a:lnTo>
                  <a:pt x="1051" y="824"/>
                </a:lnTo>
                <a:lnTo>
                  <a:pt x="1053" y="827"/>
                </a:lnTo>
                <a:lnTo>
                  <a:pt x="1054" y="830"/>
                </a:lnTo>
                <a:lnTo>
                  <a:pt x="1055" y="833"/>
                </a:lnTo>
                <a:lnTo>
                  <a:pt x="1056" y="837"/>
                </a:lnTo>
                <a:lnTo>
                  <a:pt x="1059" y="840"/>
                </a:lnTo>
                <a:lnTo>
                  <a:pt x="1060" y="843"/>
                </a:lnTo>
                <a:lnTo>
                  <a:pt x="1062" y="847"/>
                </a:lnTo>
                <a:lnTo>
                  <a:pt x="1064" y="851"/>
                </a:lnTo>
                <a:lnTo>
                  <a:pt x="1066" y="855"/>
                </a:lnTo>
                <a:lnTo>
                  <a:pt x="1068" y="858"/>
                </a:lnTo>
                <a:lnTo>
                  <a:pt x="1069" y="861"/>
                </a:lnTo>
                <a:lnTo>
                  <a:pt x="1071" y="864"/>
                </a:lnTo>
                <a:lnTo>
                  <a:pt x="1073" y="866"/>
                </a:lnTo>
                <a:lnTo>
                  <a:pt x="1073" y="869"/>
                </a:lnTo>
                <a:lnTo>
                  <a:pt x="1075" y="871"/>
                </a:lnTo>
                <a:lnTo>
                  <a:pt x="1075" y="874"/>
                </a:lnTo>
                <a:lnTo>
                  <a:pt x="991" y="877"/>
                </a:lnTo>
                <a:lnTo>
                  <a:pt x="990" y="874"/>
                </a:lnTo>
                <a:lnTo>
                  <a:pt x="990" y="871"/>
                </a:lnTo>
                <a:lnTo>
                  <a:pt x="989" y="867"/>
                </a:lnTo>
                <a:lnTo>
                  <a:pt x="988" y="864"/>
                </a:lnTo>
                <a:lnTo>
                  <a:pt x="987" y="861"/>
                </a:lnTo>
                <a:lnTo>
                  <a:pt x="986" y="857"/>
                </a:lnTo>
                <a:lnTo>
                  <a:pt x="986" y="852"/>
                </a:lnTo>
                <a:lnTo>
                  <a:pt x="985" y="848"/>
                </a:lnTo>
                <a:lnTo>
                  <a:pt x="984" y="843"/>
                </a:lnTo>
                <a:lnTo>
                  <a:pt x="983" y="839"/>
                </a:lnTo>
                <a:lnTo>
                  <a:pt x="982" y="834"/>
                </a:lnTo>
                <a:lnTo>
                  <a:pt x="981" y="830"/>
                </a:lnTo>
                <a:lnTo>
                  <a:pt x="981" y="824"/>
                </a:lnTo>
                <a:lnTo>
                  <a:pt x="980" y="820"/>
                </a:lnTo>
                <a:lnTo>
                  <a:pt x="979" y="815"/>
                </a:lnTo>
                <a:lnTo>
                  <a:pt x="977" y="810"/>
                </a:lnTo>
                <a:lnTo>
                  <a:pt x="977" y="805"/>
                </a:lnTo>
                <a:lnTo>
                  <a:pt x="977" y="800"/>
                </a:lnTo>
                <a:lnTo>
                  <a:pt x="976" y="795"/>
                </a:lnTo>
                <a:lnTo>
                  <a:pt x="975" y="790"/>
                </a:lnTo>
                <a:lnTo>
                  <a:pt x="974" y="784"/>
                </a:lnTo>
                <a:lnTo>
                  <a:pt x="973" y="780"/>
                </a:lnTo>
                <a:lnTo>
                  <a:pt x="973" y="776"/>
                </a:lnTo>
                <a:lnTo>
                  <a:pt x="971" y="771"/>
                </a:lnTo>
                <a:lnTo>
                  <a:pt x="971" y="766"/>
                </a:lnTo>
                <a:lnTo>
                  <a:pt x="969" y="764"/>
                </a:lnTo>
                <a:lnTo>
                  <a:pt x="968" y="760"/>
                </a:lnTo>
                <a:lnTo>
                  <a:pt x="967" y="756"/>
                </a:lnTo>
                <a:lnTo>
                  <a:pt x="966" y="752"/>
                </a:lnTo>
                <a:lnTo>
                  <a:pt x="965" y="750"/>
                </a:lnTo>
                <a:lnTo>
                  <a:pt x="963" y="746"/>
                </a:lnTo>
                <a:lnTo>
                  <a:pt x="962" y="745"/>
                </a:lnTo>
                <a:lnTo>
                  <a:pt x="958" y="746"/>
                </a:lnTo>
                <a:lnTo>
                  <a:pt x="956" y="747"/>
                </a:lnTo>
                <a:lnTo>
                  <a:pt x="953" y="749"/>
                </a:lnTo>
                <a:lnTo>
                  <a:pt x="950" y="752"/>
                </a:lnTo>
                <a:lnTo>
                  <a:pt x="948" y="755"/>
                </a:lnTo>
                <a:lnTo>
                  <a:pt x="945" y="757"/>
                </a:lnTo>
                <a:lnTo>
                  <a:pt x="943" y="761"/>
                </a:lnTo>
                <a:lnTo>
                  <a:pt x="941" y="764"/>
                </a:lnTo>
                <a:lnTo>
                  <a:pt x="940" y="767"/>
                </a:lnTo>
                <a:lnTo>
                  <a:pt x="939" y="771"/>
                </a:lnTo>
                <a:lnTo>
                  <a:pt x="938" y="775"/>
                </a:lnTo>
                <a:lnTo>
                  <a:pt x="937" y="779"/>
                </a:lnTo>
                <a:lnTo>
                  <a:pt x="937" y="783"/>
                </a:lnTo>
                <a:lnTo>
                  <a:pt x="936" y="787"/>
                </a:lnTo>
                <a:lnTo>
                  <a:pt x="936" y="791"/>
                </a:lnTo>
                <a:lnTo>
                  <a:pt x="935" y="796"/>
                </a:lnTo>
                <a:lnTo>
                  <a:pt x="936" y="801"/>
                </a:lnTo>
                <a:lnTo>
                  <a:pt x="936" y="804"/>
                </a:lnTo>
                <a:lnTo>
                  <a:pt x="936" y="809"/>
                </a:lnTo>
                <a:lnTo>
                  <a:pt x="936" y="814"/>
                </a:lnTo>
                <a:lnTo>
                  <a:pt x="937" y="818"/>
                </a:lnTo>
                <a:lnTo>
                  <a:pt x="937" y="822"/>
                </a:lnTo>
                <a:lnTo>
                  <a:pt x="937" y="826"/>
                </a:lnTo>
                <a:lnTo>
                  <a:pt x="937" y="831"/>
                </a:lnTo>
                <a:lnTo>
                  <a:pt x="938" y="835"/>
                </a:lnTo>
                <a:lnTo>
                  <a:pt x="938" y="839"/>
                </a:lnTo>
                <a:lnTo>
                  <a:pt x="939" y="842"/>
                </a:lnTo>
                <a:lnTo>
                  <a:pt x="939" y="847"/>
                </a:lnTo>
                <a:lnTo>
                  <a:pt x="940" y="850"/>
                </a:lnTo>
                <a:lnTo>
                  <a:pt x="940" y="854"/>
                </a:lnTo>
                <a:lnTo>
                  <a:pt x="940" y="857"/>
                </a:lnTo>
                <a:lnTo>
                  <a:pt x="940" y="861"/>
                </a:lnTo>
                <a:lnTo>
                  <a:pt x="865" y="857"/>
                </a:lnTo>
                <a:lnTo>
                  <a:pt x="865" y="851"/>
                </a:lnTo>
                <a:lnTo>
                  <a:pt x="864" y="845"/>
                </a:lnTo>
                <a:lnTo>
                  <a:pt x="864" y="840"/>
                </a:lnTo>
                <a:lnTo>
                  <a:pt x="863" y="834"/>
                </a:lnTo>
                <a:lnTo>
                  <a:pt x="862" y="828"/>
                </a:lnTo>
                <a:lnTo>
                  <a:pt x="861" y="823"/>
                </a:lnTo>
                <a:lnTo>
                  <a:pt x="861" y="818"/>
                </a:lnTo>
                <a:lnTo>
                  <a:pt x="861" y="812"/>
                </a:lnTo>
                <a:lnTo>
                  <a:pt x="861" y="806"/>
                </a:lnTo>
                <a:lnTo>
                  <a:pt x="860" y="802"/>
                </a:lnTo>
                <a:lnTo>
                  <a:pt x="859" y="796"/>
                </a:lnTo>
                <a:lnTo>
                  <a:pt x="858" y="791"/>
                </a:lnTo>
                <a:lnTo>
                  <a:pt x="857" y="785"/>
                </a:lnTo>
                <a:lnTo>
                  <a:pt x="856" y="780"/>
                </a:lnTo>
                <a:lnTo>
                  <a:pt x="856" y="775"/>
                </a:lnTo>
                <a:lnTo>
                  <a:pt x="855" y="770"/>
                </a:lnTo>
                <a:lnTo>
                  <a:pt x="854" y="764"/>
                </a:lnTo>
                <a:lnTo>
                  <a:pt x="853" y="760"/>
                </a:lnTo>
                <a:lnTo>
                  <a:pt x="852" y="754"/>
                </a:lnTo>
                <a:lnTo>
                  <a:pt x="851" y="749"/>
                </a:lnTo>
                <a:lnTo>
                  <a:pt x="851" y="745"/>
                </a:lnTo>
                <a:lnTo>
                  <a:pt x="850" y="740"/>
                </a:lnTo>
                <a:lnTo>
                  <a:pt x="848" y="735"/>
                </a:lnTo>
                <a:lnTo>
                  <a:pt x="847" y="730"/>
                </a:lnTo>
                <a:lnTo>
                  <a:pt x="846" y="726"/>
                </a:lnTo>
                <a:lnTo>
                  <a:pt x="845" y="721"/>
                </a:lnTo>
                <a:lnTo>
                  <a:pt x="843" y="717"/>
                </a:lnTo>
                <a:lnTo>
                  <a:pt x="842" y="712"/>
                </a:lnTo>
                <a:lnTo>
                  <a:pt x="841" y="707"/>
                </a:lnTo>
                <a:lnTo>
                  <a:pt x="839" y="704"/>
                </a:lnTo>
                <a:lnTo>
                  <a:pt x="837" y="700"/>
                </a:lnTo>
                <a:lnTo>
                  <a:pt x="835" y="696"/>
                </a:lnTo>
                <a:lnTo>
                  <a:pt x="833" y="691"/>
                </a:lnTo>
                <a:lnTo>
                  <a:pt x="832" y="688"/>
                </a:lnTo>
                <a:lnTo>
                  <a:pt x="829" y="684"/>
                </a:lnTo>
                <a:lnTo>
                  <a:pt x="827" y="681"/>
                </a:lnTo>
                <a:lnTo>
                  <a:pt x="825" y="677"/>
                </a:lnTo>
                <a:lnTo>
                  <a:pt x="823" y="673"/>
                </a:lnTo>
                <a:lnTo>
                  <a:pt x="821" y="670"/>
                </a:lnTo>
                <a:lnTo>
                  <a:pt x="818" y="668"/>
                </a:lnTo>
                <a:lnTo>
                  <a:pt x="815" y="664"/>
                </a:lnTo>
                <a:lnTo>
                  <a:pt x="813" y="661"/>
                </a:lnTo>
                <a:lnTo>
                  <a:pt x="809" y="658"/>
                </a:lnTo>
                <a:lnTo>
                  <a:pt x="806" y="656"/>
                </a:lnTo>
                <a:lnTo>
                  <a:pt x="804" y="654"/>
                </a:lnTo>
                <a:lnTo>
                  <a:pt x="800" y="651"/>
                </a:lnTo>
                <a:lnTo>
                  <a:pt x="796" y="650"/>
                </a:lnTo>
                <a:lnTo>
                  <a:pt x="792" y="649"/>
                </a:lnTo>
                <a:lnTo>
                  <a:pt x="788" y="647"/>
                </a:lnTo>
                <a:lnTo>
                  <a:pt x="785" y="645"/>
                </a:lnTo>
                <a:lnTo>
                  <a:pt x="781" y="643"/>
                </a:lnTo>
                <a:lnTo>
                  <a:pt x="776" y="643"/>
                </a:lnTo>
                <a:lnTo>
                  <a:pt x="772" y="641"/>
                </a:lnTo>
                <a:lnTo>
                  <a:pt x="767" y="641"/>
                </a:lnTo>
                <a:lnTo>
                  <a:pt x="763" y="640"/>
                </a:lnTo>
                <a:lnTo>
                  <a:pt x="757" y="640"/>
                </a:lnTo>
                <a:lnTo>
                  <a:pt x="752" y="640"/>
                </a:lnTo>
                <a:lnTo>
                  <a:pt x="746" y="640"/>
                </a:lnTo>
                <a:lnTo>
                  <a:pt x="741" y="640"/>
                </a:lnTo>
                <a:lnTo>
                  <a:pt x="735" y="641"/>
                </a:lnTo>
                <a:lnTo>
                  <a:pt x="729" y="641"/>
                </a:lnTo>
                <a:lnTo>
                  <a:pt x="723" y="642"/>
                </a:lnTo>
                <a:lnTo>
                  <a:pt x="716" y="644"/>
                </a:lnTo>
                <a:lnTo>
                  <a:pt x="709" y="646"/>
                </a:lnTo>
                <a:lnTo>
                  <a:pt x="707" y="645"/>
                </a:lnTo>
                <a:lnTo>
                  <a:pt x="703" y="645"/>
                </a:lnTo>
                <a:lnTo>
                  <a:pt x="699" y="644"/>
                </a:lnTo>
                <a:lnTo>
                  <a:pt x="695" y="644"/>
                </a:lnTo>
                <a:lnTo>
                  <a:pt x="691" y="643"/>
                </a:lnTo>
                <a:lnTo>
                  <a:pt x="688" y="643"/>
                </a:lnTo>
                <a:lnTo>
                  <a:pt x="685" y="643"/>
                </a:lnTo>
                <a:lnTo>
                  <a:pt x="681" y="643"/>
                </a:lnTo>
                <a:lnTo>
                  <a:pt x="677" y="642"/>
                </a:lnTo>
                <a:lnTo>
                  <a:pt x="674" y="642"/>
                </a:lnTo>
                <a:lnTo>
                  <a:pt x="670" y="642"/>
                </a:lnTo>
                <a:lnTo>
                  <a:pt x="667" y="642"/>
                </a:lnTo>
                <a:lnTo>
                  <a:pt x="663" y="642"/>
                </a:lnTo>
                <a:lnTo>
                  <a:pt x="659" y="642"/>
                </a:lnTo>
                <a:lnTo>
                  <a:pt x="655" y="642"/>
                </a:lnTo>
                <a:lnTo>
                  <a:pt x="651" y="642"/>
                </a:lnTo>
                <a:lnTo>
                  <a:pt x="649" y="642"/>
                </a:lnTo>
                <a:lnTo>
                  <a:pt x="645" y="642"/>
                </a:lnTo>
                <a:lnTo>
                  <a:pt x="642" y="642"/>
                </a:lnTo>
                <a:lnTo>
                  <a:pt x="638" y="642"/>
                </a:lnTo>
                <a:lnTo>
                  <a:pt x="634" y="641"/>
                </a:lnTo>
                <a:lnTo>
                  <a:pt x="631" y="641"/>
                </a:lnTo>
                <a:lnTo>
                  <a:pt x="628" y="641"/>
                </a:lnTo>
                <a:lnTo>
                  <a:pt x="624" y="641"/>
                </a:lnTo>
                <a:lnTo>
                  <a:pt x="620" y="641"/>
                </a:lnTo>
                <a:lnTo>
                  <a:pt x="616" y="641"/>
                </a:lnTo>
                <a:lnTo>
                  <a:pt x="613" y="641"/>
                </a:lnTo>
                <a:lnTo>
                  <a:pt x="610" y="641"/>
                </a:lnTo>
                <a:lnTo>
                  <a:pt x="607" y="641"/>
                </a:lnTo>
                <a:lnTo>
                  <a:pt x="603" y="641"/>
                </a:lnTo>
                <a:lnTo>
                  <a:pt x="599" y="641"/>
                </a:lnTo>
                <a:lnTo>
                  <a:pt x="595" y="641"/>
                </a:lnTo>
                <a:lnTo>
                  <a:pt x="592" y="640"/>
                </a:lnTo>
                <a:lnTo>
                  <a:pt x="589" y="640"/>
                </a:lnTo>
                <a:lnTo>
                  <a:pt x="586" y="639"/>
                </a:lnTo>
                <a:lnTo>
                  <a:pt x="582" y="639"/>
                </a:lnTo>
                <a:lnTo>
                  <a:pt x="579" y="638"/>
                </a:lnTo>
                <a:lnTo>
                  <a:pt x="575" y="638"/>
                </a:lnTo>
                <a:lnTo>
                  <a:pt x="573" y="638"/>
                </a:lnTo>
                <a:lnTo>
                  <a:pt x="569" y="638"/>
                </a:lnTo>
                <a:lnTo>
                  <a:pt x="565" y="637"/>
                </a:lnTo>
                <a:lnTo>
                  <a:pt x="561" y="637"/>
                </a:lnTo>
                <a:lnTo>
                  <a:pt x="558" y="636"/>
                </a:lnTo>
                <a:lnTo>
                  <a:pt x="554" y="636"/>
                </a:lnTo>
                <a:lnTo>
                  <a:pt x="552" y="635"/>
                </a:lnTo>
                <a:lnTo>
                  <a:pt x="548" y="635"/>
                </a:lnTo>
                <a:lnTo>
                  <a:pt x="545" y="634"/>
                </a:lnTo>
                <a:lnTo>
                  <a:pt x="541" y="634"/>
                </a:lnTo>
                <a:lnTo>
                  <a:pt x="537" y="633"/>
                </a:lnTo>
                <a:lnTo>
                  <a:pt x="535" y="632"/>
                </a:lnTo>
                <a:lnTo>
                  <a:pt x="532" y="631"/>
                </a:lnTo>
                <a:lnTo>
                  <a:pt x="528" y="630"/>
                </a:lnTo>
                <a:lnTo>
                  <a:pt x="525" y="630"/>
                </a:lnTo>
                <a:lnTo>
                  <a:pt x="521" y="629"/>
                </a:lnTo>
                <a:lnTo>
                  <a:pt x="518" y="628"/>
                </a:lnTo>
                <a:lnTo>
                  <a:pt x="515" y="627"/>
                </a:lnTo>
                <a:lnTo>
                  <a:pt x="511" y="626"/>
                </a:lnTo>
                <a:lnTo>
                  <a:pt x="508" y="624"/>
                </a:lnTo>
                <a:lnTo>
                  <a:pt x="505" y="623"/>
                </a:lnTo>
                <a:lnTo>
                  <a:pt x="501" y="622"/>
                </a:lnTo>
                <a:lnTo>
                  <a:pt x="498" y="621"/>
                </a:lnTo>
                <a:lnTo>
                  <a:pt x="495" y="619"/>
                </a:lnTo>
                <a:lnTo>
                  <a:pt x="492" y="618"/>
                </a:lnTo>
                <a:lnTo>
                  <a:pt x="488" y="617"/>
                </a:lnTo>
                <a:lnTo>
                  <a:pt x="486" y="620"/>
                </a:lnTo>
                <a:lnTo>
                  <a:pt x="484" y="625"/>
                </a:lnTo>
                <a:lnTo>
                  <a:pt x="483" y="629"/>
                </a:lnTo>
                <a:lnTo>
                  <a:pt x="481" y="634"/>
                </a:lnTo>
                <a:lnTo>
                  <a:pt x="481" y="639"/>
                </a:lnTo>
                <a:lnTo>
                  <a:pt x="481" y="645"/>
                </a:lnTo>
                <a:lnTo>
                  <a:pt x="481" y="649"/>
                </a:lnTo>
                <a:lnTo>
                  <a:pt x="481" y="651"/>
                </a:lnTo>
                <a:lnTo>
                  <a:pt x="482" y="654"/>
                </a:lnTo>
                <a:lnTo>
                  <a:pt x="482" y="658"/>
                </a:lnTo>
                <a:lnTo>
                  <a:pt x="483" y="661"/>
                </a:lnTo>
                <a:lnTo>
                  <a:pt x="483" y="664"/>
                </a:lnTo>
                <a:lnTo>
                  <a:pt x="485" y="668"/>
                </a:lnTo>
                <a:lnTo>
                  <a:pt x="485" y="670"/>
                </a:lnTo>
                <a:lnTo>
                  <a:pt x="486" y="673"/>
                </a:lnTo>
                <a:lnTo>
                  <a:pt x="487" y="677"/>
                </a:lnTo>
                <a:lnTo>
                  <a:pt x="488" y="681"/>
                </a:lnTo>
                <a:lnTo>
                  <a:pt x="489" y="685"/>
                </a:lnTo>
                <a:lnTo>
                  <a:pt x="491" y="688"/>
                </a:lnTo>
                <a:lnTo>
                  <a:pt x="492" y="691"/>
                </a:lnTo>
                <a:lnTo>
                  <a:pt x="494" y="695"/>
                </a:lnTo>
                <a:lnTo>
                  <a:pt x="495" y="699"/>
                </a:lnTo>
                <a:lnTo>
                  <a:pt x="496" y="703"/>
                </a:lnTo>
                <a:lnTo>
                  <a:pt x="497" y="707"/>
                </a:lnTo>
                <a:lnTo>
                  <a:pt x="499" y="710"/>
                </a:lnTo>
                <a:lnTo>
                  <a:pt x="500" y="714"/>
                </a:lnTo>
                <a:lnTo>
                  <a:pt x="502" y="718"/>
                </a:lnTo>
                <a:lnTo>
                  <a:pt x="504" y="722"/>
                </a:lnTo>
                <a:lnTo>
                  <a:pt x="505" y="725"/>
                </a:lnTo>
                <a:lnTo>
                  <a:pt x="507" y="729"/>
                </a:lnTo>
                <a:lnTo>
                  <a:pt x="509" y="732"/>
                </a:lnTo>
                <a:lnTo>
                  <a:pt x="511" y="737"/>
                </a:lnTo>
                <a:lnTo>
                  <a:pt x="513" y="740"/>
                </a:lnTo>
                <a:lnTo>
                  <a:pt x="515" y="744"/>
                </a:lnTo>
                <a:lnTo>
                  <a:pt x="516" y="747"/>
                </a:lnTo>
                <a:lnTo>
                  <a:pt x="518" y="751"/>
                </a:lnTo>
                <a:lnTo>
                  <a:pt x="520" y="755"/>
                </a:lnTo>
                <a:lnTo>
                  <a:pt x="522" y="759"/>
                </a:lnTo>
                <a:lnTo>
                  <a:pt x="524" y="762"/>
                </a:lnTo>
                <a:lnTo>
                  <a:pt x="527" y="765"/>
                </a:lnTo>
                <a:lnTo>
                  <a:pt x="529" y="769"/>
                </a:lnTo>
                <a:lnTo>
                  <a:pt x="531" y="773"/>
                </a:lnTo>
                <a:lnTo>
                  <a:pt x="533" y="776"/>
                </a:lnTo>
                <a:lnTo>
                  <a:pt x="535" y="779"/>
                </a:lnTo>
                <a:lnTo>
                  <a:pt x="536" y="783"/>
                </a:lnTo>
                <a:lnTo>
                  <a:pt x="538" y="785"/>
                </a:lnTo>
                <a:lnTo>
                  <a:pt x="540" y="788"/>
                </a:lnTo>
                <a:lnTo>
                  <a:pt x="542" y="792"/>
                </a:lnTo>
                <a:lnTo>
                  <a:pt x="545" y="795"/>
                </a:lnTo>
                <a:lnTo>
                  <a:pt x="546" y="798"/>
                </a:lnTo>
                <a:lnTo>
                  <a:pt x="550" y="803"/>
                </a:lnTo>
                <a:lnTo>
                  <a:pt x="554" y="809"/>
                </a:lnTo>
                <a:lnTo>
                  <a:pt x="556" y="814"/>
                </a:lnTo>
                <a:lnTo>
                  <a:pt x="560" y="819"/>
                </a:lnTo>
                <a:lnTo>
                  <a:pt x="461" y="844"/>
                </a:lnTo>
                <a:lnTo>
                  <a:pt x="459" y="841"/>
                </a:lnTo>
                <a:lnTo>
                  <a:pt x="457" y="837"/>
                </a:lnTo>
                <a:lnTo>
                  <a:pt x="454" y="833"/>
                </a:lnTo>
                <a:lnTo>
                  <a:pt x="451" y="829"/>
                </a:lnTo>
                <a:lnTo>
                  <a:pt x="448" y="824"/>
                </a:lnTo>
                <a:lnTo>
                  <a:pt x="445" y="821"/>
                </a:lnTo>
                <a:lnTo>
                  <a:pt x="441" y="817"/>
                </a:lnTo>
                <a:lnTo>
                  <a:pt x="438" y="813"/>
                </a:lnTo>
                <a:lnTo>
                  <a:pt x="435" y="808"/>
                </a:lnTo>
                <a:lnTo>
                  <a:pt x="432" y="804"/>
                </a:lnTo>
                <a:lnTo>
                  <a:pt x="428" y="800"/>
                </a:lnTo>
                <a:lnTo>
                  <a:pt x="424" y="796"/>
                </a:lnTo>
                <a:lnTo>
                  <a:pt x="421" y="792"/>
                </a:lnTo>
                <a:lnTo>
                  <a:pt x="418" y="787"/>
                </a:lnTo>
                <a:lnTo>
                  <a:pt x="414" y="784"/>
                </a:lnTo>
                <a:lnTo>
                  <a:pt x="409" y="780"/>
                </a:lnTo>
                <a:lnTo>
                  <a:pt x="406" y="775"/>
                </a:lnTo>
                <a:lnTo>
                  <a:pt x="402" y="771"/>
                </a:lnTo>
                <a:lnTo>
                  <a:pt x="399" y="766"/>
                </a:lnTo>
                <a:lnTo>
                  <a:pt x="395" y="763"/>
                </a:lnTo>
                <a:lnTo>
                  <a:pt x="392" y="759"/>
                </a:lnTo>
                <a:lnTo>
                  <a:pt x="388" y="755"/>
                </a:lnTo>
                <a:lnTo>
                  <a:pt x="384" y="750"/>
                </a:lnTo>
                <a:lnTo>
                  <a:pt x="381" y="746"/>
                </a:lnTo>
                <a:lnTo>
                  <a:pt x="378" y="743"/>
                </a:lnTo>
                <a:lnTo>
                  <a:pt x="375" y="739"/>
                </a:lnTo>
                <a:lnTo>
                  <a:pt x="371" y="734"/>
                </a:lnTo>
                <a:lnTo>
                  <a:pt x="367" y="731"/>
                </a:lnTo>
                <a:lnTo>
                  <a:pt x="365" y="727"/>
                </a:lnTo>
                <a:lnTo>
                  <a:pt x="361" y="724"/>
                </a:lnTo>
                <a:lnTo>
                  <a:pt x="359" y="720"/>
                </a:lnTo>
                <a:lnTo>
                  <a:pt x="356" y="717"/>
                </a:lnTo>
                <a:lnTo>
                  <a:pt x="356" y="715"/>
                </a:lnTo>
                <a:lnTo>
                  <a:pt x="355" y="714"/>
                </a:lnTo>
                <a:lnTo>
                  <a:pt x="353" y="711"/>
                </a:lnTo>
                <a:lnTo>
                  <a:pt x="351" y="709"/>
                </a:lnTo>
                <a:lnTo>
                  <a:pt x="348" y="707"/>
                </a:lnTo>
                <a:lnTo>
                  <a:pt x="345" y="706"/>
                </a:lnTo>
                <a:lnTo>
                  <a:pt x="342" y="706"/>
                </a:lnTo>
                <a:lnTo>
                  <a:pt x="339" y="707"/>
                </a:lnTo>
                <a:lnTo>
                  <a:pt x="334" y="710"/>
                </a:lnTo>
                <a:lnTo>
                  <a:pt x="330" y="713"/>
                </a:lnTo>
                <a:lnTo>
                  <a:pt x="326" y="715"/>
                </a:lnTo>
                <a:lnTo>
                  <a:pt x="323" y="717"/>
                </a:lnTo>
                <a:lnTo>
                  <a:pt x="320" y="718"/>
                </a:lnTo>
                <a:lnTo>
                  <a:pt x="316" y="719"/>
                </a:lnTo>
                <a:lnTo>
                  <a:pt x="314" y="720"/>
                </a:lnTo>
                <a:lnTo>
                  <a:pt x="310" y="720"/>
                </a:lnTo>
                <a:lnTo>
                  <a:pt x="305" y="719"/>
                </a:lnTo>
                <a:lnTo>
                  <a:pt x="301" y="716"/>
                </a:lnTo>
                <a:lnTo>
                  <a:pt x="299" y="713"/>
                </a:lnTo>
                <a:lnTo>
                  <a:pt x="296" y="711"/>
                </a:lnTo>
                <a:lnTo>
                  <a:pt x="293" y="708"/>
                </a:lnTo>
                <a:lnTo>
                  <a:pt x="290" y="705"/>
                </a:lnTo>
                <a:lnTo>
                  <a:pt x="287" y="705"/>
                </a:lnTo>
                <a:lnTo>
                  <a:pt x="284" y="706"/>
                </a:lnTo>
                <a:lnTo>
                  <a:pt x="281" y="707"/>
                </a:lnTo>
                <a:lnTo>
                  <a:pt x="278" y="708"/>
                </a:lnTo>
                <a:lnTo>
                  <a:pt x="275" y="708"/>
                </a:lnTo>
                <a:lnTo>
                  <a:pt x="272" y="710"/>
                </a:lnTo>
                <a:lnTo>
                  <a:pt x="269" y="711"/>
                </a:lnTo>
                <a:lnTo>
                  <a:pt x="266" y="713"/>
                </a:lnTo>
                <a:lnTo>
                  <a:pt x="263" y="717"/>
                </a:lnTo>
                <a:lnTo>
                  <a:pt x="258" y="720"/>
                </a:lnTo>
                <a:lnTo>
                  <a:pt x="254" y="725"/>
                </a:lnTo>
                <a:lnTo>
                  <a:pt x="250" y="729"/>
                </a:lnTo>
                <a:lnTo>
                  <a:pt x="247" y="733"/>
                </a:lnTo>
                <a:lnTo>
                  <a:pt x="245" y="739"/>
                </a:lnTo>
                <a:lnTo>
                  <a:pt x="244" y="741"/>
                </a:lnTo>
                <a:lnTo>
                  <a:pt x="243" y="744"/>
                </a:lnTo>
                <a:lnTo>
                  <a:pt x="242" y="746"/>
                </a:lnTo>
                <a:lnTo>
                  <a:pt x="240" y="750"/>
                </a:lnTo>
                <a:lnTo>
                  <a:pt x="240" y="752"/>
                </a:lnTo>
                <a:lnTo>
                  <a:pt x="239" y="755"/>
                </a:lnTo>
                <a:lnTo>
                  <a:pt x="239" y="759"/>
                </a:lnTo>
                <a:lnTo>
                  <a:pt x="237" y="762"/>
                </a:lnTo>
                <a:lnTo>
                  <a:pt x="237" y="764"/>
                </a:lnTo>
                <a:lnTo>
                  <a:pt x="236" y="768"/>
                </a:lnTo>
                <a:lnTo>
                  <a:pt x="236" y="771"/>
                </a:lnTo>
                <a:lnTo>
                  <a:pt x="235" y="775"/>
                </a:lnTo>
                <a:lnTo>
                  <a:pt x="235" y="778"/>
                </a:lnTo>
                <a:lnTo>
                  <a:pt x="235" y="782"/>
                </a:lnTo>
                <a:lnTo>
                  <a:pt x="235" y="784"/>
                </a:lnTo>
                <a:lnTo>
                  <a:pt x="235" y="787"/>
                </a:lnTo>
                <a:lnTo>
                  <a:pt x="236" y="791"/>
                </a:lnTo>
                <a:lnTo>
                  <a:pt x="236" y="795"/>
                </a:lnTo>
                <a:lnTo>
                  <a:pt x="236" y="798"/>
                </a:lnTo>
                <a:lnTo>
                  <a:pt x="236" y="802"/>
                </a:lnTo>
                <a:lnTo>
                  <a:pt x="236" y="804"/>
                </a:lnTo>
                <a:lnTo>
                  <a:pt x="237" y="808"/>
                </a:lnTo>
                <a:lnTo>
                  <a:pt x="237" y="811"/>
                </a:lnTo>
                <a:lnTo>
                  <a:pt x="237" y="815"/>
                </a:lnTo>
                <a:lnTo>
                  <a:pt x="239" y="819"/>
                </a:lnTo>
                <a:lnTo>
                  <a:pt x="239" y="822"/>
                </a:lnTo>
                <a:lnTo>
                  <a:pt x="240" y="825"/>
                </a:lnTo>
                <a:lnTo>
                  <a:pt x="240" y="829"/>
                </a:lnTo>
                <a:lnTo>
                  <a:pt x="241" y="833"/>
                </a:lnTo>
                <a:lnTo>
                  <a:pt x="241" y="836"/>
                </a:lnTo>
                <a:lnTo>
                  <a:pt x="242" y="839"/>
                </a:lnTo>
                <a:lnTo>
                  <a:pt x="243" y="842"/>
                </a:lnTo>
                <a:lnTo>
                  <a:pt x="244" y="846"/>
                </a:lnTo>
                <a:lnTo>
                  <a:pt x="245" y="849"/>
                </a:lnTo>
                <a:lnTo>
                  <a:pt x="246" y="852"/>
                </a:lnTo>
                <a:lnTo>
                  <a:pt x="246" y="856"/>
                </a:lnTo>
                <a:lnTo>
                  <a:pt x="246" y="859"/>
                </a:lnTo>
                <a:lnTo>
                  <a:pt x="248" y="861"/>
                </a:lnTo>
                <a:lnTo>
                  <a:pt x="249" y="865"/>
                </a:lnTo>
                <a:lnTo>
                  <a:pt x="249" y="868"/>
                </a:lnTo>
                <a:lnTo>
                  <a:pt x="250" y="871"/>
                </a:lnTo>
                <a:lnTo>
                  <a:pt x="251" y="874"/>
                </a:lnTo>
                <a:lnTo>
                  <a:pt x="253" y="877"/>
                </a:lnTo>
                <a:lnTo>
                  <a:pt x="253" y="880"/>
                </a:lnTo>
                <a:lnTo>
                  <a:pt x="152" y="885"/>
                </a:lnTo>
                <a:lnTo>
                  <a:pt x="209" y="942"/>
                </a:lnTo>
                <a:lnTo>
                  <a:pt x="152" y="885"/>
                </a:lnTo>
                <a:lnTo>
                  <a:pt x="153" y="881"/>
                </a:lnTo>
                <a:lnTo>
                  <a:pt x="153" y="878"/>
                </a:lnTo>
                <a:lnTo>
                  <a:pt x="154" y="874"/>
                </a:lnTo>
                <a:lnTo>
                  <a:pt x="154" y="870"/>
                </a:lnTo>
                <a:lnTo>
                  <a:pt x="155" y="865"/>
                </a:lnTo>
                <a:lnTo>
                  <a:pt x="155" y="861"/>
                </a:lnTo>
                <a:lnTo>
                  <a:pt x="155" y="858"/>
                </a:lnTo>
                <a:lnTo>
                  <a:pt x="155" y="855"/>
                </a:lnTo>
                <a:lnTo>
                  <a:pt x="155" y="850"/>
                </a:lnTo>
                <a:lnTo>
                  <a:pt x="155" y="846"/>
                </a:lnTo>
                <a:lnTo>
                  <a:pt x="156" y="841"/>
                </a:lnTo>
                <a:lnTo>
                  <a:pt x="156" y="838"/>
                </a:lnTo>
                <a:lnTo>
                  <a:pt x="156" y="834"/>
                </a:lnTo>
                <a:lnTo>
                  <a:pt x="156" y="830"/>
                </a:lnTo>
                <a:lnTo>
                  <a:pt x="156" y="825"/>
                </a:lnTo>
                <a:lnTo>
                  <a:pt x="156" y="822"/>
                </a:lnTo>
                <a:lnTo>
                  <a:pt x="156" y="818"/>
                </a:lnTo>
                <a:lnTo>
                  <a:pt x="156" y="814"/>
                </a:lnTo>
                <a:lnTo>
                  <a:pt x="156" y="809"/>
                </a:lnTo>
                <a:lnTo>
                  <a:pt x="156" y="805"/>
                </a:lnTo>
                <a:lnTo>
                  <a:pt x="156" y="801"/>
                </a:lnTo>
                <a:lnTo>
                  <a:pt x="156" y="797"/>
                </a:lnTo>
                <a:lnTo>
                  <a:pt x="156" y="793"/>
                </a:lnTo>
                <a:lnTo>
                  <a:pt x="156" y="789"/>
                </a:lnTo>
                <a:lnTo>
                  <a:pt x="156" y="784"/>
                </a:lnTo>
                <a:lnTo>
                  <a:pt x="156" y="781"/>
                </a:lnTo>
                <a:lnTo>
                  <a:pt x="156" y="776"/>
                </a:lnTo>
                <a:lnTo>
                  <a:pt x="155" y="773"/>
                </a:lnTo>
                <a:lnTo>
                  <a:pt x="155" y="768"/>
                </a:lnTo>
                <a:lnTo>
                  <a:pt x="155" y="764"/>
                </a:lnTo>
                <a:lnTo>
                  <a:pt x="155" y="761"/>
                </a:lnTo>
                <a:lnTo>
                  <a:pt x="154" y="757"/>
                </a:lnTo>
                <a:lnTo>
                  <a:pt x="154" y="752"/>
                </a:lnTo>
                <a:lnTo>
                  <a:pt x="154" y="748"/>
                </a:lnTo>
                <a:lnTo>
                  <a:pt x="154" y="744"/>
                </a:lnTo>
                <a:lnTo>
                  <a:pt x="154" y="740"/>
                </a:lnTo>
                <a:lnTo>
                  <a:pt x="154" y="736"/>
                </a:lnTo>
                <a:lnTo>
                  <a:pt x="153" y="732"/>
                </a:lnTo>
                <a:lnTo>
                  <a:pt x="153" y="727"/>
                </a:lnTo>
                <a:lnTo>
                  <a:pt x="153" y="724"/>
                </a:lnTo>
                <a:lnTo>
                  <a:pt x="153" y="719"/>
                </a:lnTo>
                <a:lnTo>
                  <a:pt x="152" y="715"/>
                </a:lnTo>
                <a:lnTo>
                  <a:pt x="152" y="711"/>
                </a:lnTo>
                <a:lnTo>
                  <a:pt x="152" y="707"/>
                </a:lnTo>
                <a:lnTo>
                  <a:pt x="152" y="704"/>
                </a:lnTo>
                <a:lnTo>
                  <a:pt x="151" y="700"/>
                </a:lnTo>
                <a:lnTo>
                  <a:pt x="151" y="696"/>
                </a:lnTo>
                <a:lnTo>
                  <a:pt x="150" y="692"/>
                </a:lnTo>
                <a:lnTo>
                  <a:pt x="150" y="688"/>
                </a:lnTo>
                <a:lnTo>
                  <a:pt x="150" y="685"/>
                </a:lnTo>
                <a:lnTo>
                  <a:pt x="150" y="681"/>
                </a:lnTo>
                <a:lnTo>
                  <a:pt x="149" y="677"/>
                </a:lnTo>
                <a:lnTo>
                  <a:pt x="149" y="673"/>
                </a:lnTo>
                <a:lnTo>
                  <a:pt x="149" y="669"/>
                </a:lnTo>
                <a:lnTo>
                  <a:pt x="148" y="666"/>
                </a:lnTo>
                <a:lnTo>
                  <a:pt x="148" y="663"/>
                </a:lnTo>
                <a:lnTo>
                  <a:pt x="148" y="659"/>
                </a:lnTo>
                <a:lnTo>
                  <a:pt x="147" y="655"/>
                </a:lnTo>
                <a:lnTo>
                  <a:pt x="147" y="651"/>
                </a:lnTo>
                <a:lnTo>
                  <a:pt x="145" y="649"/>
                </a:lnTo>
                <a:lnTo>
                  <a:pt x="145" y="645"/>
                </a:lnTo>
                <a:lnTo>
                  <a:pt x="145" y="642"/>
                </a:lnTo>
                <a:lnTo>
                  <a:pt x="144" y="638"/>
                </a:lnTo>
                <a:lnTo>
                  <a:pt x="143" y="635"/>
                </a:lnTo>
                <a:lnTo>
                  <a:pt x="145" y="632"/>
                </a:lnTo>
                <a:lnTo>
                  <a:pt x="146" y="629"/>
                </a:lnTo>
                <a:lnTo>
                  <a:pt x="147" y="626"/>
                </a:lnTo>
                <a:lnTo>
                  <a:pt x="148" y="623"/>
                </a:lnTo>
                <a:lnTo>
                  <a:pt x="150" y="620"/>
                </a:lnTo>
                <a:lnTo>
                  <a:pt x="150" y="617"/>
                </a:lnTo>
                <a:lnTo>
                  <a:pt x="151" y="614"/>
                </a:lnTo>
                <a:lnTo>
                  <a:pt x="152" y="611"/>
                </a:lnTo>
                <a:lnTo>
                  <a:pt x="153" y="609"/>
                </a:lnTo>
                <a:lnTo>
                  <a:pt x="154" y="605"/>
                </a:lnTo>
                <a:lnTo>
                  <a:pt x="156" y="603"/>
                </a:lnTo>
                <a:lnTo>
                  <a:pt x="156" y="600"/>
                </a:lnTo>
                <a:lnTo>
                  <a:pt x="157" y="596"/>
                </a:lnTo>
                <a:lnTo>
                  <a:pt x="158" y="593"/>
                </a:lnTo>
                <a:lnTo>
                  <a:pt x="160" y="591"/>
                </a:lnTo>
                <a:lnTo>
                  <a:pt x="160" y="588"/>
                </a:lnTo>
                <a:lnTo>
                  <a:pt x="162" y="585"/>
                </a:lnTo>
                <a:lnTo>
                  <a:pt x="162" y="582"/>
                </a:lnTo>
                <a:lnTo>
                  <a:pt x="163" y="578"/>
                </a:lnTo>
                <a:lnTo>
                  <a:pt x="164" y="576"/>
                </a:lnTo>
                <a:lnTo>
                  <a:pt x="165" y="572"/>
                </a:lnTo>
                <a:lnTo>
                  <a:pt x="166" y="570"/>
                </a:lnTo>
                <a:lnTo>
                  <a:pt x="167" y="567"/>
                </a:lnTo>
                <a:lnTo>
                  <a:pt x="167" y="564"/>
                </a:lnTo>
                <a:lnTo>
                  <a:pt x="168" y="560"/>
                </a:lnTo>
                <a:lnTo>
                  <a:pt x="169" y="557"/>
                </a:lnTo>
                <a:lnTo>
                  <a:pt x="169" y="554"/>
                </a:lnTo>
                <a:lnTo>
                  <a:pt x="170" y="552"/>
                </a:lnTo>
                <a:lnTo>
                  <a:pt x="171" y="549"/>
                </a:lnTo>
                <a:lnTo>
                  <a:pt x="171" y="546"/>
                </a:lnTo>
                <a:lnTo>
                  <a:pt x="172" y="542"/>
                </a:lnTo>
                <a:lnTo>
                  <a:pt x="172" y="540"/>
                </a:lnTo>
                <a:lnTo>
                  <a:pt x="173" y="536"/>
                </a:lnTo>
                <a:lnTo>
                  <a:pt x="174" y="534"/>
                </a:lnTo>
                <a:lnTo>
                  <a:pt x="174" y="531"/>
                </a:lnTo>
                <a:lnTo>
                  <a:pt x="174" y="527"/>
                </a:lnTo>
                <a:lnTo>
                  <a:pt x="175" y="524"/>
                </a:lnTo>
                <a:lnTo>
                  <a:pt x="175" y="521"/>
                </a:lnTo>
                <a:lnTo>
                  <a:pt x="175" y="517"/>
                </a:lnTo>
                <a:lnTo>
                  <a:pt x="175" y="515"/>
                </a:lnTo>
                <a:lnTo>
                  <a:pt x="176" y="512"/>
                </a:lnTo>
                <a:lnTo>
                  <a:pt x="176" y="508"/>
                </a:lnTo>
                <a:lnTo>
                  <a:pt x="176" y="505"/>
                </a:lnTo>
                <a:lnTo>
                  <a:pt x="176" y="502"/>
                </a:lnTo>
                <a:lnTo>
                  <a:pt x="176" y="498"/>
                </a:lnTo>
                <a:lnTo>
                  <a:pt x="176" y="495"/>
                </a:lnTo>
                <a:lnTo>
                  <a:pt x="176" y="493"/>
                </a:lnTo>
                <a:lnTo>
                  <a:pt x="175" y="490"/>
                </a:lnTo>
                <a:lnTo>
                  <a:pt x="175" y="486"/>
                </a:lnTo>
                <a:lnTo>
                  <a:pt x="175" y="482"/>
                </a:lnTo>
                <a:lnTo>
                  <a:pt x="175" y="479"/>
                </a:lnTo>
                <a:lnTo>
                  <a:pt x="174" y="476"/>
                </a:lnTo>
                <a:lnTo>
                  <a:pt x="174" y="473"/>
                </a:lnTo>
                <a:lnTo>
                  <a:pt x="173" y="470"/>
                </a:lnTo>
                <a:lnTo>
                  <a:pt x="172" y="467"/>
                </a:lnTo>
                <a:lnTo>
                  <a:pt x="171" y="463"/>
                </a:lnTo>
                <a:lnTo>
                  <a:pt x="171" y="459"/>
                </a:lnTo>
                <a:lnTo>
                  <a:pt x="170" y="457"/>
                </a:lnTo>
                <a:lnTo>
                  <a:pt x="169" y="454"/>
                </a:lnTo>
                <a:lnTo>
                  <a:pt x="168" y="450"/>
                </a:lnTo>
                <a:lnTo>
                  <a:pt x="167" y="447"/>
                </a:lnTo>
                <a:lnTo>
                  <a:pt x="93" y="336"/>
                </a:lnTo>
                <a:lnTo>
                  <a:pt x="165" y="440"/>
                </a:lnTo>
                <a:lnTo>
                  <a:pt x="163" y="437"/>
                </a:lnTo>
                <a:lnTo>
                  <a:pt x="157" y="441"/>
                </a:lnTo>
                <a:lnTo>
                  <a:pt x="156" y="444"/>
                </a:lnTo>
                <a:lnTo>
                  <a:pt x="154" y="447"/>
                </a:lnTo>
                <a:lnTo>
                  <a:pt x="153" y="454"/>
                </a:lnTo>
                <a:lnTo>
                  <a:pt x="153" y="457"/>
                </a:lnTo>
                <a:lnTo>
                  <a:pt x="152" y="461"/>
                </a:lnTo>
                <a:lnTo>
                  <a:pt x="150" y="465"/>
                </a:lnTo>
                <a:lnTo>
                  <a:pt x="148" y="469"/>
                </a:lnTo>
                <a:lnTo>
                  <a:pt x="129" y="523"/>
                </a:lnTo>
                <a:lnTo>
                  <a:pt x="9" y="789"/>
                </a:lnTo>
                <a:lnTo>
                  <a:pt x="139" y="493"/>
                </a:lnTo>
                <a:lnTo>
                  <a:pt x="153" y="419"/>
                </a:lnTo>
                <a:lnTo>
                  <a:pt x="138" y="489"/>
                </a:lnTo>
                <a:lnTo>
                  <a:pt x="136" y="494"/>
                </a:lnTo>
                <a:lnTo>
                  <a:pt x="134" y="499"/>
                </a:lnTo>
                <a:lnTo>
                  <a:pt x="133" y="504"/>
                </a:lnTo>
                <a:lnTo>
                  <a:pt x="149" y="427"/>
                </a:lnTo>
                <a:lnTo>
                  <a:pt x="131" y="515"/>
                </a:lnTo>
                <a:lnTo>
                  <a:pt x="129" y="520"/>
                </a:lnTo>
                <a:lnTo>
                  <a:pt x="128" y="526"/>
                </a:lnTo>
                <a:lnTo>
                  <a:pt x="127" y="532"/>
                </a:lnTo>
                <a:lnTo>
                  <a:pt x="126" y="536"/>
                </a:lnTo>
                <a:lnTo>
                  <a:pt x="125" y="542"/>
                </a:lnTo>
                <a:lnTo>
                  <a:pt x="124" y="548"/>
                </a:lnTo>
                <a:lnTo>
                  <a:pt x="124" y="553"/>
                </a:lnTo>
                <a:lnTo>
                  <a:pt x="123" y="559"/>
                </a:lnTo>
                <a:lnTo>
                  <a:pt x="123" y="565"/>
                </a:lnTo>
                <a:lnTo>
                  <a:pt x="122" y="570"/>
                </a:lnTo>
                <a:lnTo>
                  <a:pt x="121" y="576"/>
                </a:lnTo>
                <a:lnTo>
                  <a:pt x="121" y="581"/>
                </a:lnTo>
                <a:lnTo>
                  <a:pt x="120" y="593"/>
                </a:lnTo>
                <a:lnTo>
                  <a:pt x="119" y="604"/>
                </a:lnTo>
                <a:lnTo>
                  <a:pt x="9" y="684"/>
                </a:lnTo>
                <a:lnTo>
                  <a:pt x="116" y="632"/>
                </a:lnTo>
                <a:lnTo>
                  <a:pt x="116" y="637"/>
                </a:lnTo>
                <a:lnTo>
                  <a:pt x="115" y="643"/>
                </a:lnTo>
                <a:lnTo>
                  <a:pt x="115" y="649"/>
                </a:lnTo>
                <a:lnTo>
                  <a:pt x="114" y="654"/>
                </a:lnTo>
                <a:lnTo>
                  <a:pt x="113" y="659"/>
                </a:lnTo>
                <a:lnTo>
                  <a:pt x="112" y="664"/>
                </a:lnTo>
                <a:lnTo>
                  <a:pt x="112" y="669"/>
                </a:lnTo>
                <a:lnTo>
                  <a:pt x="110" y="674"/>
                </a:lnTo>
                <a:lnTo>
                  <a:pt x="109" y="679"/>
                </a:lnTo>
                <a:lnTo>
                  <a:pt x="107" y="684"/>
                </a:lnTo>
                <a:lnTo>
                  <a:pt x="106" y="688"/>
                </a:lnTo>
                <a:lnTo>
                  <a:pt x="103" y="694"/>
                </a:lnTo>
                <a:lnTo>
                  <a:pt x="102" y="698"/>
                </a:lnTo>
                <a:lnTo>
                  <a:pt x="100" y="703"/>
                </a:lnTo>
                <a:lnTo>
                  <a:pt x="97" y="707"/>
                </a:lnTo>
                <a:lnTo>
                  <a:pt x="94" y="712"/>
                </a:lnTo>
                <a:lnTo>
                  <a:pt x="90" y="720"/>
                </a:lnTo>
                <a:lnTo>
                  <a:pt x="87" y="725"/>
                </a:lnTo>
                <a:lnTo>
                  <a:pt x="83" y="728"/>
                </a:lnTo>
                <a:lnTo>
                  <a:pt x="80" y="732"/>
                </a:lnTo>
                <a:lnTo>
                  <a:pt x="75" y="736"/>
                </a:lnTo>
                <a:lnTo>
                  <a:pt x="73" y="740"/>
                </a:lnTo>
                <a:lnTo>
                  <a:pt x="68" y="744"/>
                </a:lnTo>
                <a:lnTo>
                  <a:pt x="63" y="746"/>
                </a:lnTo>
                <a:lnTo>
                  <a:pt x="58" y="749"/>
                </a:lnTo>
                <a:lnTo>
                  <a:pt x="54" y="752"/>
                </a:lnTo>
                <a:lnTo>
                  <a:pt x="48" y="756"/>
                </a:lnTo>
                <a:lnTo>
                  <a:pt x="42" y="759"/>
                </a:lnTo>
                <a:lnTo>
                  <a:pt x="36" y="761"/>
                </a:lnTo>
                <a:lnTo>
                  <a:pt x="30" y="764"/>
                </a:lnTo>
                <a:lnTo>
                  <a:pt x="23" y="766"/>
                </a:lnTo>
                <a:lnTo>
                  <a:pt x="28" y="761"/>
                </a:lnTo>
                <a:lnTo>
                  <a:pt x="33" y="756"/>
                </a:lnTo>
                <a:lnTo>
                  <a:pt x="38" y="751"/>
                </a:lnTo>
                <a:lnTo>
                  <a:pt x="43" y="747"/>
                </a:lnTo>
                <a:lnTo>
                  <a:pt x="139" y="485"/>
                </a:lnTo>
                <a:lnTo>
                  <a:pt x="53" y="738"/>
                </a:lnTo>
                <a:lnTo>
                  <a:pt x="56" y="733"/>
                </a:lnTo>
                <a:lnTo>
                  <a:pt x="59" y="728"/>
                </a:lnTo>
                <a:lnTo>
                  <a:pt x="55" y="727"/>
                </a:lnTo>
                <a:lnTo>
                  <a:pt x="52" y="728"/>
                </a:lnTo>
                <a:lnTo>
                  <a:pt x="48" y="729"/>
                </a:lnTo>
                <a:lnTo>
                  <a:pt x="43" y="732"/>
                </a:lnTo>
                <a:lnTo>
                  <a:pt x="40" y="734"/>
                </a:lnTo>
                <a:lnTo>
                  <a:pt x="36" y="738"/>
                </a:lnTo>
                <a:lnTo>
                  <a:pt x="34" y="742"/>
                </a:lnTo>
                <a:lnTo>
                  <a:pt x="30" y="745"/>
                </a:lnTo>
                <a:lnTo>
                  <a:pt x="27" y="749"/>
                </a:lnTo>
                <a:lnTo>
                  <a:pt x="23" y="752"/>
                </a:lnTo>
                <a:lnTo>
                  <a:pt x="20" y="755"/>
                </a:lnTo>
                <a:lnTo>
                  <a:pt x="16" y="757"/>
                </a:lnTo>
                <a:lnTo>
                  <a:pt x="14" y="759"/>
                </a:lnTo>
                <a:lnTo>
                  <a:pt x="9" y="760"/>
                </a:lnTo>
                <a:lnTo>
                  <a:pt x="5" y="760"/>
                </a:lnTo>
                <a:lnTo>
                  <a:pt x="0" y="759"/>
                </a:lnTo>
                <a:lnTo>
                  <a:pt x="4" y="753"/>
                </a:lnTo>
                <a:lnTo>
                  <a:pt x="7" y="747"/>
                </a:lnTo>
                <a:lnTo>
                  <a:pt x="10" y="743"/>
                </a:lnTo>
                <a:lnTo>
                  <a:pt x="14" y="739"/>
                </a:lnTo>
                <a:lnTo>
                  <a:pt x="15" y="731"/>
                </a:lnTo>
                <a:lnTo>
                  <a:pt x="16" y="725"/>
                </a:lnTo>
                <a:lnTo>
                  <a:pt x="18" y="717"/>
                </a:lnTo>
                <a:lnTo>
                  <a:pt x="19" y="710"/>
                </a:lnTo>
                <a:lnTo>
                  <a:pt x="21" y="703"/>
                </a:lnTo>
                <a:lnTo>
                  <a:pt x="22" y="696"/>
                </a:lnTo>
                <a:lnTo>
                  <a:pt x="23" y="688"/>
                </a:lnTo>
                <a:lnTo>
                  <a:pt x="24" y="683"/>
                </a:lnTo>
                <a:lnTo>
                  <a:pt x="27" y="675"/>
                </a:lnTo>
                <a:lnTo>
                  <a:pt x="28" y="668"/>
                </a:lnTo>
                <a:lnTo>
                  <a:pt x="30" y="661"/>
                </a:lnTo>
                <a:lnTo>
                  <a:pt x="32" y="654"/>
                </a:lnTo>
                <a:lnTo>
                  <a:pt x="33" y="648"/>
                </a:lnTo>
                <a:lnTo>
                  <a:pt x="35" y="641"/>
                </a:lnTo>
                <a:lnTo>
                  <a:pt x="36" y="633"/>
                </a:lnTo>
                <a:lnTo>
                  <a:pt x="37" y="628"/>
                </a:lnTo>
                <a:lnTo>
                  <a:pt x="40" y="620"/>
                </a:lnTo>
                <a:lnTo>
                  <a:pt x="42" y="613"/>
                </a:lnTo>
                <a:lnTo>
                  <a:pt x="43" y="606"/>
                </a:lnTo>
                <a:lnTo>
                  <a:pt x="45" y="600"/>
                </a:lnTo>
                <a:lnTo>
                  <a:pt x="47" y="593"/>
                </a:lnTo>
                <a:lnTo>
                  <a:pt x="50" y="586"/>
                </a:lnTo>
                <a:lnTo>
                  <a:pt x="51" y="579"/>
                </a:lnTo>
                <a:lnTo>
                  <a:pt x="53" y="572"/>
                </a:lnTo>
                <a:lnTo>
                  <a:pt x="54" y="566"/>
                </a:lnTo>
                <a:lnTo>
                  <a:pt x="127" y="555"/>
                </a:lnTo>
                <a:lnTo>
                  <a:pt x="119" y="553"/>
                </a:lnTo>
                <a:lnTo>
                  <a:pt x="117" y="547"/>
                </a:lnTo>
                <a:lnTo>
                  <a:pt x="121" y="539"/>
                </a:lnTo>
                <a:lnTo>
                  <a:pt x="121" y="541"/>
                </a:lnTo>
                <a:lnTo>
                  <a:pt x="123" y="539"/>
                </a:lnTo>
                <a:lnTo>
                  <a:pt x="131" y="531"/>
                </a:lnTo>
                <a:lnTo>
                  <a:pt x="121" y="537"/>
                </a:lnTo>
                <a:lnTo>
                  <a:pt x="121" y="519"/>
                </a:lnTo>
                <a:lnTo>
                  <a:pt x="151" y="519"/>
                </a:lnTo>
                <a:lnTo>
                  <a:pt x="60" y="732"/>
                </a:lnTo>
                <a:lnTo>
                  <a:pt x="84" y="711"/>
                </a:lnTo>
                <a:lnTo>
                  <a:pt x="139" y="497"/>
                </a:lnTo>
                <a:lnTo>
                  <a:pt x="149" y="491"/>
                </a:lnTo>
                <a:lnTo>
                  <a:pt x="16" y="646"/>
                </a:lnTo>
                <a:lnTo>
                  <a:pt x="143" y="487"/>
                </a:lnTo>
                <a:lnTo>
                  <a:pt x="133" y="477"/>
                </a:lnTo>
                <a:lnTo>
                  <a:pt x="13" y="749"/>
                </a:lnTo>
                <a:lnTo>
                  <a:pt x="15" y="737"/>
                </a:lnTo>
                <a:lnTo>
                  <a:pt x="59" y="757"/>
                </a:lnTo>
                <a:lnTo>
                  <a:pt x="85" y="735"/>
                </a:lnTo>
                <a:lnTo>
                  <a:pt x="105" y="669"/>
                </a:lnTo>
                <a:lnTo>
                  <a:pt x="125" y="559"/>
                </a:lnTo>
                <a:lnTo>
                  <a:pt x="131" y="511"/>
                </a:lnTo>
                <a:lnTo>
                  <a:pt x="46" y="599"/>
                </a:lnTo>
                <a:lnTo>
                  <a:pt x="178" y="6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9:47:22Z</dcterms:created>
  <dc:creator>MSO</dc:creator>
  <dc:description/>
  <dc:language>en-US</dc:language>
  <cp:lastModifiedBy>MSO</cp:lastModifiedBy>
  <dcterms:modified xsi:type="dcterms:W3CDTF">2009-05-05T23:07:33Z</dcterms:modified>
  <cp:revision>55</cp:revision>
  <dc:subject/>
  <dc:title>Slide 1</dc:title>
</cp:coreProperties>
</file>