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3D49-F07C-4304-B0F8-76AC714E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6F47-0AE6-4AB8-8069-8B5CCEC3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3D98-D47A-4E89-BE3C-A06FAFFD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96F6-CC4A-4D4E-B32A-384D33D7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A22A-7EE3-4169-8356-B8CB0A09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A840-399E-4044-900F-E7ABA754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741C-B0CE-40A3-A5C4-0271A2EA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6F33-AF43-44D8-9B42-F8E31A7F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3959-D672-493B-8535-5E643A66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09F6-C324-4C22-AA5C-31CE40D4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C74F-8B2D-4E4F-9BA0-4DD4FE92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095E-444A-428A-8D6E-6C608F47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4097-24A7-4185-832E-839CCE03D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9840" y="63295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75250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9840" y="63295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-1274" t="-2169" r="0" b="0"/>
          <a:stretch/>
        </p:blipFill>
        <p:spPr>
          <a:xfrm>
            <a:off x="1322280" y="1187280"/>
            <a:ext cx="63928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9840" y="63295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-1060" r="0" b="-1060"/>
          <a:stretch/>
        </p:blipFill>
        <p:spPr>
          <a:xfrm>
            <a:off x="1258920" y="2108160"/>
            <a:ext cx="647064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00:21:31Z</dcterms:created>
  <dc:creator>MSO</dc:creator>
  <dc:description/>
  <dc:language>en-US</dc:language>
  <cp:lastModifiedBy>MSO</cp:lastModifiedBy>
  <dcterms:modified xsi:type="dcterms:W3CDTF">2008-12-15T22:37:20Z</dcterms:modified>
  <cp:revision>7</cp:revision>
  <dc:subject/>
  <dc:title>Slide 1</dc:title>
</cp:coreProperties>
</file>