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FDEC-034B-4DDC-AA58-A6CAE7C3E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FB48-8288-4C45-8621-C68E1D3E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689D-AD6A-4D0E-A1C0-4E5416594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E887-0A9F-415A-8248-98F36179D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C3E6-EF97-4D8A-8264-A9C16EA77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CEB2-AA86-422A-B9FC-E8C524F6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384B-618A-4AD2-A415-387C277A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3069-4285-4F23-9C8A-386A268D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E974-EA91-4078-AD51-42E62625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C908-9B84-4C74-B087-6D130410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CC27-8638-4AA3-9ADE-B0102101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A6C4-BAB9-4259-92AD-C725B5B0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C66DA-E964-4515-944C-C9C1EF686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9840" y="63295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75250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9840" y="63295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rcRect l="-1274" t="-2169" r="0" b="0"/>
          <a:stretch/>
        </p:blipFill>
        <p:spPr>
          <a:xfrm>
            <a:off x="1322280" y="1187280"/>
            <a:ext cx="6392880" cy="37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59840" y="6329520"/>
            <a:ext cx="107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-1060" r="0" b="-1060"/>
          <a:stretch/>
        </p:blipFill>
        <p:spPr>
          <a:xfrm>
            <a:off x="1258920" y="2108160"/>
            <a:ext cx="6470640" cy="25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00:21:31Z</dcterms:created>
  <dc:creator>MSO</dc:creator>
  <dc:description/>
  <dc:language>en-US</dc:language>
  <cp:lastModifiedBy>MSO</cp:lastModifiedBy>
  <dcterms:modified xsi:type="dcterms:W3CDTF">2008-12-15T22:37:20Z</dcterms:modified>
  <cp:revision>7</cp:revision>
  <dc:subject/>
  <dc:title>Slide 1</dc:title>
</cp:coreProperties>
</file>