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699250" cy="4176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EA59-349B-43EF-9F84-09B10D3C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602460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6240" y="2414160"/>
            <a:ext cx="602460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74A-54E2-4FB9-9B33-DB373D1D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3240" y="97452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6240" y="241416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3240" y="241416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27C6-4618-40F8-88D7-16B6F53F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193968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73120" y="974520"/>
            <a:ext cx="193968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10360" y="974520"/>
            <a:ext cx="193968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6240" y="2414160"/>
            <a:ext cx="193968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73120" y="2414160"/>
            <a:ext cx="193968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10360" y="2414160"/>
            <a:ext cx="193968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F70-9C2D-43AC-B29C-D3255C06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6240" y="974520"/>
            <a:ext cx="6024600" cy="27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3F3-9855-4C03-B92B-3AA01219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6024600" cy="27558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0FE3-7AEB-456A-82E5-A13AC8CA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2939760" cy="27558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23240" y="974520"/>
            <a:ext cx="2939760" cy="27558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400-4D93-4EDA-AD56-F3FE2994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860-F519-4DE3-87CF-3754C989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36240" y="166680"/>
            <a:ext cx="602460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424-3428-49F6-A569-E2A516EB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23240" y="974520"/>
            <a:ext cx="2939760" cy="27558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6240" y="241416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321-F5B6-4C6C-9C38-A61B6827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2939760" cy="27558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23240" y="97452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3240" y="241416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D3BF-AB82-4A75-BBA5-0D770BE4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3240" y="97452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6240" y="2414160"/>
            <a:ext cx="602460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3A8-CE0C-49F3-9E47-9D15EB7C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974520"/>
            <a:ext cx="6024600" cy="27558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 fontScale="97000"/>
          </a:bodyPr>
          <a:p>
            <a:pPr marL="2260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9240" indent="-187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150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54800" indent="-150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356480" indent="-150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356480" indent="-150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356480" indent="-150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36240" y="3803400"/>
            <a:ext cx="1560600" cy="2905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Autofit/>
          </a:bodyPr>
          <a:lstStyle>
            <a:lvl1pPr indent="0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8880" y="3803400"/>
            <a:ext cx="2119320" cy="2905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00240" y="3803400"/>
            <a:ext cx="1560600" cy="2905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fld id="{42BD652C-E705-4283-88F5-B723CC92CF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680" y="1440"/>
            <a:ext cx="6705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8:54:01Z</dcterms:created>
  <dc:creator>MSO</dc:creator>
  <dc:description/>
  <dc:language>en-US</dc:language>
  <cp:lastModifiedBy>MSO</cp:lastModifiedBy>
  <dcterms:modified xsi:type="dcterms:W3CDTF">2006-12-15T18:57:20Z</dcterms:modified>
  <cp:revision>1</cp:revision>
  <dc:subject/>
  <dc:title>Slide 1</dc:title>
</cp:coreProperties>
</file>